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2CE-D7DD-404E-AE4B-A8EB3479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BC7-C529-43DA-84A7-C15FA79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85B-2769-4BE1-B03F-B48263DD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E79-FB1F-49F4-A1AE-2F512D4A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FDD4-9C7C-409E-A34D-3D512251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B6CA-51DC-4D89-A731-F90E57DE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D134-C74C-4130-9CB1-2DBC30EC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E0E1-79EB-4A19-8CCA-158271AF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6E5E-1280-4094-8283-4E28BCCB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A603-44E0-4225-806E-8BE0E26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DC1E-BA08-4834-B6BF-B92A253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D85-4AA8-4767-BA7D-D7505B6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9EE-260C-415E-BA19-3147E76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50A3-F834-4A27-BE81-53BC929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92FF-5CF6-4564-90AE-9652C39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B0CF-0180-4896-83F6-B5CA3896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25DC-68AF-4417-8597-2945BD75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23E7-E550-4C70-A3FA-FD37CD9E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E19E-0027-4806-A792-F3B51E56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D941-EA47-43BD-A813-8BAD735D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BDAE-7D84-4E1E-8267-00B380B5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0F44-B965-47F5-89B9-1DFD2F09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FE7-5A76-4BCB-946B-C0A223F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6EFE-98DE-472F-9F1A-A4E6A41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2CB5-50B0-4470-9A29-B1D0FE1E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99A9-0174-44C1-83BD-7611D8E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4E7C-BE4B-4740-9BD1-F5052C8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0C54-C253-496C-917D-67AE4304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65E2-31F8-4B24-8687-62E0BE68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931F-2CA7-45B8-AC29-6316C056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C2B9-3286-4A08-BEBF-31735255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271D-80EB-410F-994E-489FE342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0885-3F85-44C5-A814-9860506B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766-1435-422B-97E9-31C789FE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84B5-C187-49FB-BBC4-E934A5A9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785B-3426-47BE-B6CA-E6A1A6A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DFBC-A9F3-4DF5-A25E-C59BDE63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8383-C898-4127-A692-1B09583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0198-A66B-46F3-8D46-A2D4FC6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BBE8B-483D-433E-A509-B5EE4F5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93C7-5AF7-4108-B88A-8E1B93E3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9FA2-D905-44AC-9AC6-CE0FD182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810C-E4B5-4182-BCD2-CE50E75D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FDC-5823-4714-B587-AD05D68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881-CDC2-454A-A417-68B459FA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769-8219-4D73-BF5F-513FD88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D89-4022-47B6-9DA1-05D416F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68C-AFD4-41B6-8961-6DADECC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4028-1828-4E5D-8DAD-986713EF561F}" type="slidenum">
              <a:rPr b="0" lang="hr-HR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C9BC-57DF-4E68-BF25-42DEABA110CE}" type="slidenum">
              <a:rPr b="0" lang="hr-HR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309-23F2-40F7-A861-28D4E310BC18}" type="slidenum">
              <a:rPr b="0" lang="hr-HR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9632-3CC5-4F0F-8ECE-CB62231AE8E0}" type="slidenum">
              <a:rPr b="0" lang="hr-HR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484280"/>
            <a:ext cx="5722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Provedba školskih preventivnih programa (ŠPP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6920" y="4076280"/>
            <a:ext cx="6157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5e9c"/>
                </a:solidFill>
                <a:latin typeface="Franklin Gothic Book"/>
              </a:rPr>
              <a:t>Vlatka Baretić, prof.psihol.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5e9c"/>
                </a:solidFill>
                <a:latin typeface="Franklin Gothic Book"/>
              </a:rPr>
              <a:t> </a:t>
            </a:r>
            <a:r>
              <a:rPr b="0" lang="hr-HR" sz="3200" spc="-1" strike="noStrike">
                <a:solidFill>
                  <a:srgbClr val="465e9c"/>
                </a:solidFill>
                <a:latin typeface="Franklin Gothic Book"/>
              </a:rPr>
              <a:t>ožujak 2015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5480" y="620280"/>
            <a:ext cx="7221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Što svatko od nas čini ili može učiniti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Constantia"/>
              </a:rPr>
              <a:t>preventivno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 na svom satu?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( u ulozi prof.,  razrednika, stručnog suradnika)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Constantia"/>
              </a:rPr>
              <a:t>Provježbajmo sada!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99640" y="3357360"/>
            <a:ext cx="381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Jačati zaštitne faktore škole, adolescent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Umanjiti rizične faktore škole, adolescent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POKUŠAJTE NAPISATI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63800" y="3357720"/>
            <a:ext cx="3652920" cy="23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Ja ka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profesor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Ja ka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razrednik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Ja ka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stručni suradnik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3 Vrste prevecij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00000" y="1628640"/>
            <a:ext cx="73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Primarna prevencija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(namijenjena zdravoj populaciji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SVI JU RADIMO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Sekundarna prevencija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(za one već u riziku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aa2b1e"/>
                </a:solidFill>
                <a:latin typeface="Franklin Gothic Book"/>
              </a:rPr>
              <a:t>RAZREDNICI</a:t>
            </a:r>
            <a:r>
              <a:rPr b="0" lang="hr-HR" sz="2600" spc="-1" strike="noStrike">
                <a:solidFill>
                  <a:srgbClr val="aa2b1e"/>
                </a:solidFill>
                <a:latin typeface="Franklin Gothic Book"/>
              </a:rPr>
              <a:t>,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STRUČNI SURADNICI U ŠKOLI  i 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DR. INSTITUCIJE (STRUČNJACI) VAN ŠKOLE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Tercijarna prevencija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(za bolesne, liječenje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LIJEČNICI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Sekundarna prevencija 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za rizičnu djecu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Razrednici :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jako važni, identifikacija rizične dje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Prof. TZK-a: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 vide što ostali prof. ne vide (modrice i sl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RV: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posebno prof. hrvatskog jezika, stranih 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jezika, filozofije (eseji, pisani radovi)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ali i svi drugi “osjetljivi” i brižni profesor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Za takvu djecu se izrađuju tzv.</a:t>
            </a:r>
            <a:r>
              <a:rPr b="0" lang="hr-H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hr-HR" sz="2400" spc="-1" strike="noStrike">
                <a:solidFill>
                  <a:srgbClr val="aa2b1e"/>
                </a:solidFill>
                <a:latin typeface="Franklin Gothic Book"/>
              </a:rPr>
              <a:t>Diskretni zaštitini preventivni programi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 (DZPP)</a:t>
            </a:r>
            <a:r>
              <a:rPr b="0" lang="hr-HR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Izrađuju ga i provode:  stručni suradnici škole u suradnji s 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  razrednikom i cijelim RV-o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marL="220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714852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Kakva prevencija je učinkovita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3440" indent="-25344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Specifična (namijenjena učenicima 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  konkretne škole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3440" indent="-25344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Konkretna (programi i intervencije 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   koje se rade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3440" indent="-25344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Mjerljiva (problemi evaluacije PP-ama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nstantia"/>
              </a:rPr>
              <a:t>Tko su nosioci PP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16000" y="1989000"/>
            <a:ext cx="6696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Svi profesori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Stručni suradnici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Vanjski suradnici škole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Franklin Gothic Book"/>
              </a:rPr>
              <a:t>Učenici („peer education” tzv. vršnjačka edukacija)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Suma summarum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5640" y="198864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Uvijek možemo biti preventivni,  ali na žalost i rizični faktori u školi!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Važno je adolescentu pokazati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Vježbanje socijalnih vješti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Vježbanje donošenje odluk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Kritičko mišljenj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nstantia"/>
              </a:rPr>
              <a:t>I zapamtit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19320"/>
            <a:ext cx="70567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c00000"/>
                </a:solidFill>
                <a:latin typeface="Franklin Gothic Book"/>
              </a:rPr>
              <a:t>ZNANJE NIJE MOĆ, ZNANJE JE VRLINA!</a:t>
            </a: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aa2b1e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aa2b1e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aa2b1e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aa2b1e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aa2b1e"/>
                </a:solidFill>
                <a:latin typeface="Franklin Gothic Book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aa2b1e"/>
                </a:solidFill>
                <a:latin typeface="Franklin Gothic Book"/>
              </a:rPr>
              <a:t>PROFESOR NIJE ZANIMANJE NEGO ZVANJ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Što je prevencija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63400" y="2119320"/>
            <a:ext cx="619596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to prevent (engl.) – spriječit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Što se nastoji spriječiti PP-ima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nepovoljno, loš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nezdravo (bolesno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neprihvatljiv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nenormalno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RIZIČNO ponašanj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Vježb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Nabrojite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svoja</a:t>
            </a: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 rizična ponašanja u zadnjih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tjedan da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godinu da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cijeli živo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Rizično - dobro ili loše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640" y="1915920"/>
            <a:ext cx="7632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Svi ulazimo u razne rizike tj. ponašamo se s vremena na vrijeme manje ili više rizično!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Franklin Gothic Book"/>
              </a:rPr>
              <a:t>Je li to dobro ili loše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just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nije nužno loše – iskušavanje vlastitih mogućnosti, znatiželja, kreativno izlaženje iz rizičnih situacija, otvorenost prema  iskustvu…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Zaštitni čimbenic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1"/>
          <a:stretch/>
        </p:blipFill>
        <p:spPr>
          <a:xfrm>
            <a:off x="1359000" y="2048040"/>
            <a:ext cx="67784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817560"/>
            <a:ext cx="7561440" cy="23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Rizično vs. Zaštitino tj.  PREVENTIVNO</a:t>
            </a:r>
            <a:br>
              <a:rPr sz="40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(ili čimbenici rizika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vs. čimb. zaštite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tj. preventivni čimb.</a:t>
            </a:r>
            <a:r>
              <a:rPr b="0" lang="hr-HR" sz="29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3644640"/>
            <a:ext cx="61959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Apsurdno!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čimbenici rizika su ujedno i </a:t>
            </a: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čimbenici zaštit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(samo na drugi način – kvalitativno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48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Constantia"/>
              </a:rPr>
              <a:t>RIZIČNI - PREVENTIVNI FAKTORI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97040" y="1792440"/>
            <a:ext cx="2324160" cy="2052360"/>
          </a:xfrm>
          <a:prstGeom prst="rect">
            <a:avLst/>
          </a:prstGeom>
          <a:ln w="0">
            <a:noFill/>
          </a:ln>
        </p:spPr>
      </p:pic>
      <p:sp>
        <p:nvSpPr>
          <p:cNvPr id="238" name="Oval 4"/>
          <p:cNvSpPr/>
          <p:nvPr/>
        </p:nvSpPr>
        <p:spPr>
          <a:xfrm>
            <a:off x="826920" y="3413160"/>
            <a:ext cx="2232360" cy="2050920"/>
          </a:xfrm>
          <a:prstGeom prst="ellipse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3409920" y="4176720"/>
            <a:ext cx="2379600" cy="21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6004080" y="3679920"/>
            <a:ext cx="2309760" cy="2039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4"/>
          <a:stretch/>
        </p:blipFill>
        <p:spPr>
          <a:xfrm>
            <a:off x="5554800" y="1484280"/>
            <a:ext cx="2344680" cy="2073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8"/>
          <p:cNvSpPr/>
          <p:nvPr/>
        </p:nvSpPr>
        <p:spPr>
          <a:xfrm>
            <a:off x="1187280" y="41767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2771640" y="2394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OSOB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6219720" y="450360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VRŠNJ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3765600" y="49244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DRUŠ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5"/>
          <p:cNvSpPr/>
          <p:nvPr/>
        </p:nvSpPr>
        <p:spPr>
          <a:xfrm>
            <a:off x="5910120" y="2259000"/>
            <a:ext cx="16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OBITE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Rizično u adolescencij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920" y="1989000"/>
            <a:ext cx="74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Franklin Gothic Book"/>
              </a:rPr>
              <a:t>Sama adolescencija je rizična!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Formiranje osobnost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Nerazvijen frontalni kortek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Nepovezivanje ponašanja i posljedica ponašanj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Slamanje autoriteta odraslih (roditelja, profesora.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- individualizacija i separacija adolescent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Emocionalna bura i oluj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9472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ODGOJ JE RED FRUSTRACIJE PA RED 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hr-HR" sz="2600" spc="-1" strike="noStrike">
                <a:solidFill>
                  <a:srgbClr val="c00000"/>
                </a:solidFill>
                <a:latin typeface="Franklin Gothic Book"/>
              </a:rPr>
              <a:t>GRATIFIKACIJE!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848720" cy="13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Škola kao faktor rizika odnosno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zaštite (prevencije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5280" y="1988640"/>
            <a:ext cx="4032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Rizično u školi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Frustracija – imperativ uspjeha iskazan isključivo ocjenom (mjera znanj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Nezadovoljstvo sobom, profesorom, drugima – prijateljima, vršnjacim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Osjećaj manje vrijednost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( na kognitivnom, socijalnom ili  emocionalnom planu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87640" y="1988640"/>
            <a:ext cx="352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Zaštitno u školi</a:t>
            </a: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Gratifikacij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Zadovoljstvo sobom, prof., drugim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Osjećaj vrijednost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Škola bez neuspjeh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Razred (kao TZ ev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Vezanost za školu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Franklin Gothic Book"/>
              </a:rPr>
              <a:t>(razne manifestacije koje potiču zajedništvo u školi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20:04:43Z</dcterms:created>
  <dc:creator>Martin</dc:creator>
  <dc:description/>
  <dc:language>en-US</dc:language>
  <cp:lastModifiedBy>Katarina</cp:lastModifiedBy>
  <dcterms:modified xsi:type="dcterms:W3CDTF">2015-04-10T06:52:34Z</dcterms:modified>
  <cp:revision>53</cp:revision>
  <dc:subject/>
  <dc:title>PowerPoint Presentation</dc:title>
</cp:coreProperties>
</file>