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5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076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260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2EF9-3899-4F09-A60F-C33C3939E1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4BFA-E04B-4D7B-B15B-EC8A884EEB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8E01-E737-4B04-BCCA-CF941D9EB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944-CF5B-43C6-BBD0-368493AD9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0C89-E278-4F9B-AEE0-F5A73C35BC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24BE-5973-4266-A861-386FABBDF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5840" y="741240"/>
            <a:ext cx="4929480" cy="3697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9A98-AB37-4EE9-A88F-47A060B54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41240"/>
            <a:ext cx="4929480" cy="3697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848A-CCE3-4233-A568-B7B1BCF09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EA77-BDF1-42DE-9D44-6556F1B7F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5840" y="741240"/>
            <a:ext cx="4929480" cy="36975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6BC1-2079-4D75-8FF5-00717C6BA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5840" y="741240"/>
            <a:ext cx="4929480" cy="36975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30760" y="9374040"/>
            <a:ext cx="29289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E609-6723-4D26-B6BC-72CF9C06D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5840" y="741240"/>
            <a:ext cx="4929480" cy="3697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F11-BEF3-4FF7-AC98-739E0277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596-8475-4DB0-A47D-2DD1C66C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69B-B20C-4FDA-A8ED-9342521D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4AE-C7D9-4BA3-96FE-84B16B9F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A92-88DB-4AF6-8B5A-9BF03D03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43D-8DF6-4EA7-82B1-8D79B4FB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C48-3CEE-4B9D-810B-4F2E41FC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9E3-6241-4D38-8571-4650168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130-AE40-4E05-931A-3934EAD0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994-340D-44EE-9A30-1B020E2B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DC8-7006-4CF3-A17D-8C886FD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73E-7737-4ECD-96E2-6F92CA42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E187-2596-4D12-ABB1-EC62386E7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os-gjuro-ester-koprivnica.skole.hr/upload/os-gjuro-ester-koprivnica" TargetMode="External"/><Relationship Id="rId2" Type="http://schemas.openxmlformats.org/officeDocument/2006/relationships/hyperlink" Target="http://os-gjuro-ester-koprivnica.skole.hr/upload/os-gjuro-ester-koprivnica" TargetMode="External"/><Relationship Id="rId3" Type="http://schemas.openxmlformats.org/officeDocument/2006/relationships/hyperlink" Target="http://os-gjuro-ester-koprivnica.skole.hr/upload/os-gjuro-ester-koprivnica" TargetMode="External"/><Relationship Id="rId4" Type="http://schemas.openxmlformats.org/officeDocument/2006/relationships/hyperlink" Target="http://os-gjuro-ester-koprivnica.skole.hr/upload/os-gjuro-ester-koprivnica" TargetMode="External"/><Relationship Id="rId5" Type="http://schemas.openxmlformats.org/officeDocument/2006/relationships/hyperlink" Target="http://os-gjuro-ester-koprivnica.skole.hr/upload/os-gjuro-ester-koprivnica" TargetMode="External"/><Relationship Id="rId6" Type="http://schemas.openxmlformats.org/officeDocument/2006/relationships/hyperlink" Target="http://os-gjuro-ester-koprivnica.skole.hr/upload/os-gjuro-ester-koprivnica" TargetMode="External"/><Relationship Id="rId7" Type="http://schemas.openxmlformats.org/officeDocument/2006/relationships/hyperlink" Target="http://os-gjuro-ester-koprivnica.skole.hr/upload/os-gjuro-ester-koprivnica" TargetMode="External"/><Relationship Id="rId8" Type="http://schemas.openxmlformats.org/officeDocument/2006/relationships/hyperlink" Target="http://os-gjuro-ester-koprivnica.skole.hr/upload/os-gjuro-ester-koprivnica" TargetMode="External"/><Relationship Id="rId9" Type="http://schemas.openxmlformats.org/officeDocument/2006/relationships/hyperlink" Target="http://os-gjuro-ester-koprivnica.skole.hr/upload/os-gjuro-ester-koprivnica" TargetMode="External"/><Relationship Id="rId10" Type="http://schemas.openxmlformats.org/officeDocument/2006/relationships/hyperlink" Target="http://os-gjuro-ester-koprivnica.skole.hr/upload/os-gjuro-ester-koprivnica" TargetMode="External"/><Relationship Id="rId11" Type="http://schemas.openxmlformats.org/officeDocument/2006/relationships/hyperlink" Target="http://os-gjuro-ester-koprivnica.skole.hr/upload/os-gjuro-ester-koprivnica" TargetMode="External"/><Relationship Id="rId12" Type="http://schemas.openxmlformats.org/officeDocument/2006/relationships/hyperlink" Target="http://os-gjuro-ester-koprivnica.skole.hr/upload/os-gjuro-ester-koprivnica" TargetMode="External"/><Relationship Id="rId13" Type="http://schemas.openxmlformats.org/officeDocument/2006/relationships/hyperlink" Target="http://os-gjuro-ester-koprivnica.skole.hr/upload/os-gjuro-ester-koprivnica" TargetMode="Externa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26920" y="1341360"/>
            <a:ext cx="762012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SENZIBILIZACIJA DISKRIMINACIJE U ŠKOLSKOM OKRUŽENJ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Zagreb;  03. 201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36480" y="3789360"/>
            <a:ext cx="52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66ff"/>
                </a:solidFill>
                <a:latin typeface="Arial"/>
              </a:rPr>
              <a:t>Anton Vukel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66ff"/>
                </a:solidFill>
                <a:latin typeface="Arial"/>
              </a:rPr>
              <a:t>Filozofski fakultet u Zagre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66ff"/>
                </a:solidFill>
                <a:latin typeface="Arial"/>
              </a:rPr>
              <a:t>Katedra za sociologiju obraz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50920" y="333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  <a:ea typeface="Arial"/>
              </a:rPr>
              <a:t>DISKRIMINACIJA U HRVATSKOM DRUŠTVU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324000" y="3218040"/>
            <a:ext cx="1258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ounded Rectangle 2"/>
          <p:cNvSpPr/>
          <p:nvPr/>
        </p:nvSpPr>
        <p:spPr>
          <a:xfrm>
            <a:off x="179280" y="1125360"/>
            <a:ext cx="3024360" cy="1008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JA SOCIJALNA SKUP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ounded Rectangle 4"/>
          <p:cNvSpPr/>
          <p:nvPr/>
        </p:nvSpPr>
        <p:spPr>
          <a:xfrm>
            <a:off x="6012000" y="981000"/>
            <a:ext cx="2952720" cy="128124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JE PODRUČJE SOCIJALN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ŽIVOTA 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2268360" y="400536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MPIRIJSKO pit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straži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atističke anal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lučaje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enzibilizacija ja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ounded Rectangle 2"/>
          <p:cNvSpPr/>
          <p:nvPr/>
        </p:nvSpPr>
        <p:spPr>
          <a:xfrm>
            <a:off x="2843280" y="2421000"/>
            <a:ext cx="2878200" cy="1295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RITERIJI ŠTO JE DISKRIMIN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miley Face 3"/>
          <p:cNvSpPr/>
          <p:nvPr/>
        </p:nvSpPr>
        <p:spPr>
          <a:xfrm>
            <a:off x="2484360" y="1628640"/>
            <a:ext cx="4175280" cy="316872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90760" y="380880"/>
            <a:ext cx="46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ŠTO JE DISKRIMINACIJ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541680" y="90504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iscriminare: odvajati, praviti razl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99880" y="3173400"/>
            <a:ext cx="837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iskriminacij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je ponašanje u kojima se član jedne skupine (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favorizirana, najčešće označena kao manjin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hr-HR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tretira nepovoljnije nego članovi druge skupin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vorizirana, većin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a koji se nalaze u sličnoj situaciji, te stoga trpi nepoželjne ili negativne posljed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059280" y="547992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OSNOVA JE „DUBLJA“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temelj: vrijednosni stavovi o određenoj skup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iped Right Arrow 1"/>
          <p:cNvSpPr/>
          <p:nvPr/>
        </p:nvSpPr>
        <p:spPr>
          <a:xfrm rot="1662000">
            <a:off x="1215720" y="5832000"/>
            <a:ext cx="1473120" cy="486000"/>
          </a:xfrm>
          <a:custGeom>
            <a:avLst/>
            <a:gdLst>
              <a:gd name="textAreaLeft" fmla="*/ 75600 w 1473120"/>
              <a:gd name="textAreaRight" fmla="*/ 1351800 w 14731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1473200" h="485775">
                <a:moveTo>
                  <a:pt x="0" y="121444"/>
                </a:moveTo>
                <a:lnTo>
                  <a:pt x="15180" y="121444"/>
                </a:lnTo>
                <a:lnTo>
                  <a:pt x="15180" y="364331"/>
                </a:lnTo>
                <a:lnTo>
                  <a:pt x="0" y="364331"/>
                </a:lnTo>
                <a:close/>
                <a:moveTo>
                  <a:pt x="30361" y="121444"/>
                </a:moveTo>
                <a:lnTo>
                  <a:pt x="60722" y="121444"/>
                </a:lnTo>
                <a:lnTo>
                  <a:pt x="60722" y="364331"/>
                </a:lnTo>
                <a:lnTo>
                  <a:pt x="30361" y="364331"/>
                </a:lnTo>
                <a:close/>
                <a:moveTo>
                  <a:pt x="75902" y="121444"/>
                </a:moveTo>
                <a:lnTo>
                  <a:pt x="1230313" y="121444"/>
                </a:lnTo>
                <a:lnTo>
                  <a:pt x="1230313" y="0"/>
                </a:lnTo>
                <a:lnTo>
                  <a:pt x="1473200" y="242888"/>
                </a:lnTo>
                <a:lnTo>
                  <a:pt x="1230313" y="485775"/>
                </a:lnTo>
                <a:lnTo>
                  <a:pt x="1230313" y="364331"/>
                </a:lnTo>
                <a:lnTo>
                  <a:pt x="75902" y="3643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99880" y="1557360"/>
            <a:ext cx="800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iskriminacija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i="1" lang="hr-HR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 neopravdan negativan ili štetan postupak prema članu grupe, jednostavno zbog njegove pripadnosti toj gru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miley Face 3"/>
          <p:cNvSpPr/>
          <p:nvPr/>
        </p:nvSpPr>
        <p:spPr>
          <a:xfrm>
            <a:off x="2484360" y="1628640"/>
            <a:ext cx="4175280" cy="316872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566640" y="363600"/>
            <a:ext cx="45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OBLICI DISKRIMINACIJ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39640" y="1268280"/>
            <a:ext cx="8353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AMJERNA DISKRIMIN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ENAMJERNA ILI NEIZRAVNA DISKRIMIN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izravna diskriminacija postoji kada bi naizgled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tralna odredba, kriterij ili praks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ogla staviti osobe određenog rasnog ili etničkog podrijetl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specifično nepovoljniji položa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 odnosu na druge os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85920" y="371628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TATISTIČKA DISKRIMIN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tistička diskriminacija ili profiliranje kad se pripadnik pojedine skupine diskriminira samo zato što je vjerojatnost nepoželjnog ponašanja u njegovoj skupini već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ounded Rectangle 1"/>
          <p:cNvSpPr/>
          <p:nvPr/>
        </p:nvSpPr>
        <p:spPr>
          <a:xfrm>
            <a:off x="395280" y="534960"/>
            <a:ext cx="8137440" cy="23893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:</a:t>
            </a:r>
            <a:r>
              <a:rPr b="1" lang="hr-H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i="1" lang="hr-H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Ja se ne želim družiti s Darisom jer je on Ciganin te je vrlo vjerojatno da će me prevariti ili okrasti. Naime,  Cigani su više skloni krađi i lažima; češće su optuženi za krađe nego drug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17600" y="692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DISKRIMINACIJA PO UČIN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417600" y="1916280"/>
            <a:ext cx="8137440" cy="2388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:</a:t>
            </a:r>
            <a:r>
              <a:rPr b="1" lang="hr-H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poslodavac koji inače nema negativne stavove o pojedinoj manjini ali ih ne zapošljava uvažavajući dominantne stereotipe određene društvene sredine ili opravdavajući to željama klij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20840" y="522936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KUMULATIVNA (VIŠESTRUKA) DISKRIMIN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57120" y="602136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SEKUNDARNA VIKTIMIZ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20840" y="3357720"/>
            <a:ext cx="81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POZITIVNA DISKRIMINAC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, mjera ili odluka u cilju poboljšanja položaja etničkih, vjerskih, jezičnih ili drugih manjina ili sloj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57120" y="390600"/>
            <a:ext cx="8693280" cy="24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DISKRIMIN</a:t>
            </a: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CIJA IZ “PROPUŠTANJA RAZUMNE PRILAGODB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etiranje neravnopravnih osoba na jednak nač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pr. diskriminacijom se smatra propust da se osobam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p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 invaliditetom, sukladno njihovim posebnim potrebama, omogući korištenje javno dostupnih resur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miley Face 3"/>
          <p:cNvSpPr/>
          <p:nvPr/>
        </p:nvSpPr>
        <p:spPr>
          <a:xfrm>
            <a:off x="2484360" y="1628640"/>
            <a:ext cx="4175280" cy="3168720"/>
          </a:xfrm>
          <a:prstGeom prst="smileyFace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95280" y="2491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OSNOVA DISKRIMINACIJE ILI KRITERIJ RAZLIK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79440" y="1425600"/>
            <a:ext cx="3168720" cy="54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sa ili etnička pripadnost ili boja kož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z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j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čko ili drugo uvjer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cionalno ili socijalno podrijet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ovinsko st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članstvo u sindika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148360" y="404640"/>
            <a:ext cx="37447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razo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štveni položaj</a:t>
            </a: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čni ili obiteljski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dravstveno st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valid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tsko naslijeđ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zražavanje rodnog ident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 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ksualna orijent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995640" y="60040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Zakon o suzbijanju diskriminacije</a:t>
            </a:r>
            <a:r>
              <a:rPr b="1" lang="hr-HR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RH)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532800" y="40464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 li ste se sreli s diskriminacijom ili diskriminacijsk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vovima  u školi, u život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avedite i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šite situacij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ko se diskriminira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 li danas ima više ili manje diskriminaci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539640" y="476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npr. Tjelesna težin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o osnova diskrimin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miley Face 3"/>
          <p:cNvSpPr/>
          <p:nvPr/>
        </p:nvSpPr>
        <p:spPr>
          <a:xfrm>
            <a:off x="2484360" y="1628640"/>
            <a:ext cx="4175280" cy="3168720"/>
          </a:xfrm>
          <a:prstGeom prst="smileyFace">
            <a:avLst>
              <a:gd name="adj" fmla="val 9282"/>
            </a:avLst>
          </a:prstGeom>
          <a:solidFill>
            <a:srgbClr val="2d2db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miley Face 1"/>
          <p:cNvSpPr/>
          <p:nvPr/>
        </p:nvSpPr>
        <p:spPr>
          <a:xfrm>
            <a:off x="5745240" y="4653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893240" y="20829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ntenzitet st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6360" y="2631960"/>
            <a:ext cx="39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gnitivna, emocionalna i ponašajna kompon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39760" y="3789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izražavanje društveno poželjnih od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927680" y="1413000"/>
            <a:ext cx="40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upnjevi različitog ponašanja, od verbalnog izražavanja do aktivnog izražavanja netrpeljivosti i mrž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140360" y="3384720"/>
            <a:ext cx="504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  <a:ea typeface="Arial"/>
              </a:rPr>
              <a:t>VERBALNO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prijetnje,izrugivanje,dobacivanj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rijeđan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  <a:ea typeface="Arial"/>
              </a:rPr>
              <a:t>FIZIČK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(udaranje,guranje, uništavanje ili krađa stv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  <a:ea typeface="Arial"/>
              </a:rPr>
              <a:t>SOCIJALNO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pojedincu se nastoji naštetiti nanoseći mu neugodnosti i rušeći ugled u okolini,ogovaranje ignoriran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  <a:ea typeface="Arial"/>
              </a:rPr>
              <a:t>PSIHOLOŠK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(prijeteći pogledi,komentari ismijavanje)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39640" y="4797360"/>
            <a:ext cx="26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SITUACIJSKA KOMPON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755640" y="580536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Pierre, 193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straživanj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ounded Rectangle 11"/>
          <p:cNvSpPr/>
          <p:nvPr/>
        </p:nvSpPr>
        <p:spPr>
          <a:xfrm>
            <a:off x="4770360" y="260280"/>
            <a:ext cx="4008600" cy="122724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 Black"/>
              </a:rPr>
              <a:t>DISKRIMINACIJA (PONAŠA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ounded Rectangle 12"/>
          <p:cNvSpPr/>
          <p:nvPr/>
        </p:nvSpPr>
        <p:spPr>
          <a:xfrm>
            <a:off x="684360" y="260280"/>
            <a:ext cx="2466720" cy="1584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 Black"/>
              </a:rPr>
              <a:t>DISKRIMI-NACIJSKI STAV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edrasuda: emocionalna sastav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95280" y="1700280"/>
            <a:ext cx="800100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Predrasud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e neprijateljski ili negativan stav prem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epoznatljivoj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upi ljudi, koji se zasniva isključivo na njihovu članstvu u toj grup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Predrasudni ljudi usmjeravaju svoje predrasude prema članovima grupe kao cjelini, zanemarujući obilježja</a:t>
            </a:r>
            <a:r>
              <a:rPr b="1" lang="hr-HR" sz="2400" spc="-1" strike="noStrike">
                <a:solidFill>
                  <a:srgbClr val="3333cc"/>
                </a:solidFill>
                <a:latin typeface="Arial"/>
                <a:ea typeface="Arial"/>
              </a:rPr>
              <a:t> po kojima se ti ljudi razliku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395280" y="981000"/>
            <a:ext cx="800100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jude grupirano u kategorije odnosno gr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rezultir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nemar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vanj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zlik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zmeđu članov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upe i prenaglašav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j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zlik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zmeđu članova različitih gru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95280" y="260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Kategorizacij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558880" y="4724280"/>
            <a:ext cx="59868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Pristranost 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prem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vlastit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oj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grup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i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ročito pozitivn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jećaj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poseban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n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ema osoba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j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 shvaćam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o dio vlastite gr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484360" y="2852640"/>
            <a:ext cx="6201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Homogenost vanjske gru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cepcija da su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lanov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njsk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up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đusobno sličniji nego što st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no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je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iped Right Arrow 1"/>
          <p:cNvSpPr/>
          <p:nvPr/>
        </p:nvSpPr>
        <p:spPr>
          <a:xfrm>
            <a:off x="250920" y="3789360"/>
            <a:ext cx="1627200" cy="484200"/>
          </a:xfrm>
          <a:custGeom>
            <a:avLst/>
            <a:gdLst>
              <a:gd name="textAreaLeft" fmla="*/ 75600 w 1627200"/>
              <a:gd name="textAreaRight" fmla="*/ 1506240 w 162720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1627188" h="484187">
                <a:moveTo>
                  <a:pt x="0" y="121047"/>
                </a:moveTo>
                <a:lnTo>
                  <a:pt x="15131" y="121047"/>
                </a:lnTo>
                <a:lnTo>
                  <a:pt x="15131" y="363140"/>
                </a:lnTo>
                <a:lnTo>
                  <a:pt x="0" y="363140"/>
                </a:lnTo>
                <a:close/>
                <a:moveTo>
                  <a:pt x="30262" y="121047"/>
                </a:moveTo>
                <a:lnTo>
                  <a:pt x="60523" y="121047"/>
                </a:lnTo>
                <a:lnTo>
                  <a:pt x="60523" y="363140"/>
                </a:lnTo>
                <a:lnTo>
                  <a:pt x="30262" y="363140"/>
                </a:lnTo>
                <a:close/>
                <a:moveTo>
                  <a:pt x="75654" y="121047"/>
                </a:moveTo>
                <a:lnTo>
                  <a:pt x="1385095" y="121047"/>
                </a:lnTo>
                <a:lnTo>
                  <a:pt x="1385095" y="0"/>
                </a:lnTo>
                <a:lnTo>
                  <a:pt x="1627188" y="242094"/>
                </a:lnTo>
                <a:lnTo>
                  <a:pt x="1385095" y="484187"/>
                </a:lnTo>
                <a:lnTo>
                  <a:pt x="1385095" y="363140"/>
                </a:lnTo>
                <a:lnTo>
                  <a:pt x="75654" y="36314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iped Right Arrow 5"/>
          <p:cNvSpPr/>
          <p:nvPr/>
        </p:nvSpPr>
        <p:spPr>
          <a:xfrm>
            <a:off x="279360" y="5389560"/>
            <a:ext cx="1627200" cy="484200"/>
          </a:xfrm>
          <a:custGeom>
            <a:avLst/>
            <a:gdLst>
              <a:gd name="textAreaLeft" fmla="*/ 75600 w 1627200"/>
              <a:gd name="textAreaRight" fmla="*/ 1506240 w 162720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1627188" h="484187">
                <a:moveTo>
                  <a:pt x="0" y="121047"/>
                </a:moveTo>
                <a:lnTo>
                  <a:pt x="15131" y="121047"/>
                </a:lnTo>
                <a:lnTo>
                  <a:pt x="15131" y="363140"/>
                </a:lnTo>
                <a:lnTo>
                  <a:pt x="0" y="363140"/>
                </a:lnTo>
                <a:close/>
                <a:moveTo>
                  <a:pt x="30262" y="121047"/>
                </a:moveTo>
                <a:lnTo>
                  <a:pt x="60523" y="121047"/>
                </a:lnTo>
                <a:lnTo>
                  <a:pt x="60523" y="363140"/>
                </a:lnTo>
                <a:lnTo>
                  <a:pt x="30262" y="363140"/>
                </a:lnTo>
                <a:close/>
                <a:moveTo>
                  <a:pt x="75654" y="121047"/>
                </a:moveTo>
                <a:lnTo>
                  <a:pt x="1385095" y="121047"/>
                </a:lnTo>
                <a:lnTo>
                  <a:pt x="1385095" y="0"/>
                </a:lnTo>
                <a:lnTo>
                  <a:pt x="1627188" y="242094"/>
                </a:lnTo>
                <a:lnTo>
                  <a:pt x="1385095" y="484187"/>
                </a:lnTo>
                <a:lnTo>
                  <a:pt x="1385095" y="363140"/>
                </a:lnTo>
                <a:lnTo>
                  <a:pt x="75654" y="36314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ounded Rectangle 1"/>
          <p:cNvSpPr/>
          <p:nvPr/>
        </p:nvSpPr>
        <p:spPr>
          <a:xfrm>
            <a:off x="324000" y="620640"/>
            <a:ext cx="813744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imjer:</a:t>
            </a:r>
            <a:r>
              <a:rPr b="1" lang="hr-H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Duboko religijsko vjerovanje npr. Hare Krish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ounded Rectangle 1"/>
          <p:cNvSpPr/>
          <p:nvPr/>
        </p:nvSpPr>
        <p:spPr>
          <a:xfrm>
            <a:off x="1979640" y="2924280"/>
            <a:ext cx="4248000" cy="21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Arial"/>
              </a:rPr>
              <a:t>Svjetonazori kao vrijednosni susta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569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hr-HR" sz="2800" spc="-1" strike="noStrike" u="sng">
                <a:solidFill>
                  <a:srgbClr val="0066ff"/>
                </a:solidFill>
                <a:uFillTx/>
                <a:latin typeface="Arial"/>
              </a:rPr>
              <a:t>vrijednosni sustavi</a:t>
            </a:r>
            <a:r>
              <a:rPr b="1" lang="hr-HR" sz="2800" spc="-1" strike="noStrike">
                <a:solidFill>
                  <a:srgbClr val="0066ff"/>
                </a:solidFill>
                <a:latin typeface="Arial"/>
              </a:rPr>
              <a:t> postoje nezavisni jedni od drugih, postoje na vlastitim pretpostavkama, kategorijama, pojmovima, stav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66ff"/>
                </a:solidFill>
                <a:latin typeface="Arial"/>
              </a:rPr>
              <a:t>reflektiraju se na percepciju, pamć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Arial"/>
              </a:rPr>
              <a:t>vlastita logika interpretacije pojedinih činje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Arial"/>
              </a:rPr>
              <a:t>jedan vrijednosni sustav može se kritizirati s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ukazujući na njegove pretpostav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ukazujući na njegove intencionalne ili neintencionalne posljed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navodeći “neuklopljive” činje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miley Face 3"/>
          <p:cNvSpPr/>
          <p:nvPr/>
        </p:nvSpPr>
        <p:spPr>
          <a:xfrm>
            <a:off x="2484360" y="1628640"/>
            <a:ext cx="4175280" cy="3168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78136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Kako smanjiti ……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25272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Kako smanjiti ……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6000" cy="28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oblematiziranjem  vlastiti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i tuđih identite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Ukazivanjem na različit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573480" y="40464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ako ćete reagirati na situaciju u kojoj učenik kaž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11280" y="1197000"/>
            <a:ext cx="62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vaj učenik je ciganin, a zna se da cigani  puno više lažu, kradu i najčešće se ne peru, ja ne želim sjediti s nj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715320" y="2637000"/>
            <a:ext cx="59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rbi su četnici ili ………….Hrvati su ustaš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757800" y="335772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Ženama je mjesto u kući, pa to je bar jas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818280" y="4797360"/>
            <a:ext cx="47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janci su potpune bud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781560" y="4076640"/>
            <a:ext cx="41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Židovi su najveće ljudsko z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41680" y="5589720"/>
            <a:ext cx="69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 Boga vjeruju sa neprosvijećeni ljudi i neznal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95280" y="189000"/>
            <a:ext cx="828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 Black"/>
              </a:rPr>
              <a:t>Vježba: Razlike oko 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daci: –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uočavanje razlik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đu ljudima u neposrednoj okolini (obitelj, vršnjaci, susjedst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hvaćanje razlika kao zajedničkog bogats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cc"/>
                </a:solidFill>
                <a:latin typeface="Arial Black"/>
              </a:rPr>
              <a:t>izrađuju liste razlik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Razlike u našem razred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Razlike u našim obiteljim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Razlike u našem susjedstv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3333cc"/>
                </a:solidFill>
                <a:latin typeface="Arial Black"/>
              </a:rPr>
              <a:t>Razlike među nam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spol (muško-žensko); – dob (djeca-mladi-odras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ebljina (mršavi-debeli); bogatstvo (bogati-siromašni) i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2d2db9"/>
                </a:solidFill>
                <a:latin typeface="Times New Roman"/>
              </a:rPr>
              <a:t>Parovi riječ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Žena se od muškarca razlikuje po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Učiteljica se razlikuje od krojačice po …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što je važno upoznati razlike među nama?; *Zašto je potrebno njegovati te razlike? ; *Zašto ih trebamo poštivat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11556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 Black"/>
              </a:rPr>
              <a:t>Vježba: Razlike u mojoj domov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poznavanje razlika među ljudima kao razlika među društvenim grupama, upoznavanje posebnosti kultura u svojoj domovini;  “pripadnik većinskog naroda” i “pripadnik nacionalne manji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vještavanje razlika unutar pojedine gr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Zadatak im je istražiti razlike između pripadnika većinskog naroda i nacionalnih manjina koji žive u Hrvatsk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je razlike/sličnosti najčešće nalazimo i jesu li razlike unutar iste grupe veće ili manje od razlika među grupama? Objasnite. Zadatak mogu započeti učenici manj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8208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 Black"/>
              </a:rPr>
              <a:t>Vježba: Razlike u svij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Zadaci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produbljivanje spoznaja o razlikama među društvenim grup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poznavanje posebnosti kultura drugih naroda i zemal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Učenici i učenice koriste tehniku oluje ideja za nabrajanje razlika koje se mogu naći među ljudima u Europi i svijetu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npr. boja kože, jezik, vjeroispovijest, nacionalna pripadnost, kontinentalna pripadnost i sl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360" y="115920"/>
            <a:ext cx="8208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 Black"/>
              </a:rPr>
              <a:t>Vježba: Da živim na Sjevernom po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Zadatak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umijevanje veze između prirodnog okoliša i načina života lju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a živim u malom selu ;Da živim u velikom gr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a živim u nomadskoj obitelji ; Da živim na Ekva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a živim na Sjevernom polu; Da živim u pustinji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U čemu bi se tvoj život promijenio u odnosu na sadašnji?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Zaš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ja nova znanja i vještine bi tada morao steć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Što bi bile prednosti takvog načina života u odnosu na sadašnji, a što nedostac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drugom dijelu aktivnosti učenici i učenice otkrivaju što imaju zajedničko s djecom koja žive u drugačijim prirodnim (klimatskim) uvjet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 Black"/>
              </a:rPr>
              <a:t>Vježba: Sve naše Nove go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Zadaci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upoznavanje razlika i sličnosti među kulturama u običajima vezanim za neke važne datume u go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obilježavanje blagdana koji su značajni za druge k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 Black"/>
              </a:rPr>
              <a:t>Vježba: Isto ime na različitim jezic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Zadaci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produbljivanje spoznaja o razlikama i sličnostima među kultu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istraživanje vlastitog imena u drugim jezicim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pism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 Black"/>
              </a:rPr>
              <a:t>Vježba: Religije različite – ideja 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Zadaci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produbljivanje spoznaja o sličnostima među kultu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očavanje sličnosti među velikim relig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icanje otvorenosti prema različitim religij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Zadatak učenika i učenica je da u aktivnosti koja slijedi istraže neke razlike i sličnosti među značajnijim religijama svij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oluje ideja za nabrajanje različitih reli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Po čemu se religije međusobno najviše razlikuju? *Što imaju zajedničk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ŠĆANSTVO –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U svemu čini drugima ono što bi htio da oni tebi čin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LAM –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e može biti vjernik onaj koji za svoga brata ne želi ono što želi za seb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ŽIDOVSTVO –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Ono što mrziš, ne čini svojim bližnjim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UDIZAM –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e povrijedi drugoga na način koji bi i tebe povrij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 Black"/>
              </a:rPr>
              <a:t>Vježba: Riječi mudr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Zadaci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produbljivanje spoznaja o razlikama i sličnostima među kultu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– </a:t>
            </a: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upoznavanje mudrih izreka (poslovica) koje pripadaju različitim narod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određivanje vrijednosti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je se prenose poruk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 Black"/>
              </a:rPr>
              <a:t>Vježba: Širenje riječi svije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Zadaci: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 uočavanje veza među različitim kultu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– </a:t>
            </a: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razumijevanje razloga širenja riječi među kultu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– </a:t>
            </a: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usvajanje pojmova “širenje riječi” i “posuđivanje riječi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ereotipi: kognitivna sastav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9640" y="2060640"/>
            <a:ext cx="80010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tereoti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e generalizacij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vjerenj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grupi ljudi kojom se istovjetna obilježja pripisuju praktički svim članovima grupe, neovisno o stvarnim varijacijama između člano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Raspravljanje i ukazivanje  na predrasude i stereot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Analiza i razumijevanje vlastitih stavova i predras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263680" y="19940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47680" y="260280"/>
            <a:ext cx="4032360" cy="2009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E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ISKRIMINACIJ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059280" y="2997360"/>
            <a:ext cx="5500440" cy="36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E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VRIJEDNOSTI, STAVOVI, PREDRASUDE, STEREOTIPI  I VRIJEDNOSNI SUSTA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Bent Arrow 6"/>
          <p:cNvSpPr/>
          <p:nvPr/>
        </p:nvSpPr>
        <p:spPr>
          <a:xfrm rot="6450600">
            <a:off x="4761720" y="430200"/>
            <a:ext cx="1511640" cy="2181240"/>
          </a:xfrm>
          <a:custGeom>
            <a:avLst/>
            <a:gdLst/>
            <a:ahLst/>
            <a:rect l="l" t="t" r="r" b="b"/>
            <a:pathLst>
              <a:path w="1511300" h="2181225">
                <a:moveTo>
                  <a:pt x="0" y="2181225"/>
                </a:moveTo>
                <a:lnTo>
                  <a:pt x="0" y="850106"/>
                </a:lnTo>
                <a:lnTo>
                  <a:pt x="0" y="850106"/>
                </a:lnTo>
                <a:arcTo wR="661194" hR="661194" stAng="-10799995" swAng="5400000"/>
                <a:lnTo>
                  <a:pt x="1133475" y="188913"/>
                </a:lnTo>
                <a:lnTo>
                  <a:pt x="1133475" y="0"/>
                </a:lnTo>
                <a:lnTo>
                  <a:pt x="1511300" y="377825"/>
                </a:lnTo>
                <a:lnTo>
                  <a:pt x="1133475" y="755650"/>
                </a:lnTo>
                <a:lnTo>
                  <a:pt x="1133475" y="566738"/>
                </a:lnTo>
                <a:lnTo>
                  <a:pt x="661194" y="566738"/>
                </a:lnTo>
                <a:lnTo>
                  <a:pt x="661194" y="566738"/>
                </a:lnTo>
                <a:arcTo wR="283369" hR="283369" stAng="-5400000" swAng="-5400000"/>
                <a:lnTo>
                  <a:pt x="377825" y="21812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6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1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Sunce sja, a meni dan tmu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6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8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upoznavanje razlika između činjenica i osobnih stav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umijevanje posljedica neutemeljenih stavova o drug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ispred svake tvrdnje stave slov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Č" ako pro-cijene da je riječ o činjenici, a slovo "S" ako smatraju da je riječ o osobnom st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kad</a:t>
            </a:r>
            <a:r>
              <a:rPr b="1" lang="hr-HR" sz="2400" spc="-1" strike="noStrike">
                <a:solidFill>
                  <a:srgbClr val="2d2db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 stav nije potkrijepljen činjenic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što ljudi ponekad iznose stavove koji nisu potkrijepljeni činjenic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1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Djevojcice su brbljave, a djecaci su divlj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čavan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ještavanje svojih  stereotipa i predrasud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umijevanje procesa nastanka stereotipa i predrasu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Učitelj/učiteljica na ploči ili panou nacrta tablicu podijeljenu u četiri stupca. Iznad prvog stupca napiše </a:t>
            </a:r>
            <a:r>
              <a:rPr b="1" i="1" lang="en-US" sz="2400" spc="-1" strike="noStrike">
                <a:solidFill>
                  <a:srgbClr val="2d2db9"/>
                </a:solidFill>
                <a:latin typeface="Times New Roman"/>
              </a:rPr>
              <a:t>osobine,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znad drugoga - </a:t>
            </a:r>
            <a:r>
              <a:rPr b="1" i="1" lang="en-US" sz="2400" spc="-1" strike="noStrike">
                <a:solidFill>
                  <a:srgbClr val="2d2db9"/>
                </a:solidFill>
                <a:latin typeface="Times New Roman"/>
              </a:rPr>
              <a:t>dječaci,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znad trećega - </a:t>
            </a:r>
            <a:r>
              <a:rPr b="1" i="1" lang="en-US" sz="2400" spc="-1" strike="noStrike">
                <a:solidFill>
                  <a:srgbClr val="2d2db9"/>
                </a:solidFill>
                <a:latin typeface="Times New Roman"/>
              </a:rPr>
              <a:t>djevojčice,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 iznad četvrtoga - </a:t>
            </a:r>
            <a:r>
              <a:rPr b="1" i="1" lang="en-US" sz="2400" spc="-1" strike="noStrike">
                <a:solidFill>
                  <a:srgbClr val="2d2db9"/>
                </a:solidFill>
                <a:latin typeface="Times New Roman"/>
              </a:rPr>
              <a:t>obo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ištenjem oluje ideja za nabrajanje riječ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ljivi/marlj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rubi/grube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ježni/njež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zgodni/zgod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žljivi/lažlj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stojni/pristojne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ski/drs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le li da pojedina osobina više odgovara dječacima u razredu ili djevojčicama, ili im je zajednič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000" y="188640"/>
            <a:ext cx="8351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Koje ste osobine pripisal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ječacima u razredu? Koje djevojčicam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je su osobine zajedničk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Da li se odgovori dječaka razlikuju od odgo-vora djevojč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čemu? *Koja grupa sebe vidi u ljepšem svjetlu? Što to znač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o se ne slaže s podjelom u tablici? Zaš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ripadaju li sve osobine koje pripisujemo dječacima (djevojčicama) u razredu svakom pojedinom dječak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jevojčici)?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što nije opravdano osobine grupe pripisivati pojedinc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i učenice sad procjenjuju </a:t>
            </a:r>
            <a:r>
              <a:rPr b="1" lang="en-US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koliko se pojedina osobina odnosi na nji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5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Crvenkapica naglava</a:t>
            </a: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č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5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6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osvještavanje stereotipa i predras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tkrivanje načina na koji se oslobađa od stereotipa i predrasu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zosjećajna Crvenka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o jednom jedan vuk koji se osjećao usamljeno i koji je žudio za društvom. Kako je Crvenkapičina baka bila jedino zanimljivo biće u šumi, krenuo je njezinoj kući u nadi da će u njoj naći prijateljicu. Putem je vidio Crvenkapicu i još se više obradovao, jer mu se djevojčica učinila blagom i sućutnom. No kad je došao na vrata, baka je, umjesto dobrodošlice, uzela veliku toljagu i krenula vičući prema njemu, dok ju je Crvenkapica bodrila. Kako vuk to nije očekivao, ostao je na mjestu kao ukopan i dobio batina. Izudaran i tužan, vratio se u šumu samov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žno je da učenici shvate da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svoje stavove moraju potkrjepljivati činjenica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dnosno prei-spitivati, osobito kad se oni odnose na negativne osobine drugih ljudi, jer u protivnom postaju žrtve stereotipa i predras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žno da smo ih svjesni i da smo ih spremni, prikupljanjem novih informacija, preispitati i mijenj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 informacije i znanja osobito su nam potrebni kad imamo negativne stavove o određenim grupama ljudi (npr. Romi, crnc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crne Snjeguljice" i "bijele maćeh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Kad mama nece biti d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bljivanje spoznaja o stereotipima i predrasud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osvještavanje rodnih stereotipa i predrasu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obitel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hvaćanje načela rodne jednakosti (ravnopravnos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plan akcije" kojim brat i sestra određuju tko što u obitelji treba čin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26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Muško-ženski posl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dubljivanje spoznaja o rodnim stereotipima i predrasud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ještavanje raširenosti rodnih stereotipa i predras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čavanje promjena u rodnim stereotipima i predrasud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Na jednom će u što kraćem vremenu napisati sve poslove za koje smatraju da ih trebaju obavljati muškarci, na drugom one za koje sma-traju da ih trebaju obavljati žene, a na trećem one koje mogu obavljati podjednak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itelj/učiteljica pripremi fotografije na kojima su žene u tipično "muškim" ulogama, a muškarci u "žensk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lov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ne mogu raditi kao...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znad dru-gog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škarci mogu raditi kao...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kon toga u stupce upisuju poslove koje žene jednako uspješno obavljaju kao muškarci, i obrat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Kad predrasude vode u diskriminac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8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svještavanje stereotipa i predrasuda o drug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razumijevanje veze između predrasuda i diskrimin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vajanje pojma "diskriminacija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hvaćanje načela jednakosti i nediskriminaci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 aktivnost treba učenike i učenice dovesti do razumijevanja veze između pre­drasuda o nekoj grupi i diskriminacije pojedinca koji pripada toj gru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čice ili fotografije s primjerima diskriminacije pojedinca, priče o diskriminaciji (npr. o životu Martina Luthera Kinga ili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Pismo indijanskog poglavice predsjedniku SAD-a i sl.), pojednostavnjene verzije </a:t>
            </a:r>
            <a:r>
              <a:rPr b="1" i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Opće deklaracije o ljudskim pravima, Konven-cije o pravima djet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nastavku se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čitaju priče o stradanj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naca (npr. iz života Martina Luthera Kinga) ili Indijanaca (npr. Pismo indijanskog poglavice predsjedniku SAD-a i sl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pisi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o za bijelce. Zabranjen ulaz crncima. Ograničavanje obrazovanja djevojčica. Posebni razred za Rome. Djeca s posebnim potrebama nemaju predn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Koga poz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2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očavanje veze između stereotipa/predrasuda i isključivanja drugih -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suočavanje s vlastitim </a:t>
            </a:r>
            <a:r>
              <a:rPr b="1" lang="hr-H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tereotipima</a:t>
            </a:r>
            <a:r>
              <a:rPr b="1" lang="hr-H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predrasudama u odlučivanj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ih dana pripremam proslavu svog rođendana. Za stolom u mojoj sobi ima mjesta samo za četvero pa moram odlučiti koga od djece u zgradi pozvati. Nakon dužeg razmišljanja, odlučio/ odlučila sam pozvati sljedećih četvero djece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miley Face 3"/>
          <p:cNvSpPr/>
          <p:nvPr/>
        </p:nvSpPr>
        <p:spPr>
          <a:xfrm>
            <a:off x="2484360" y="1628640"/>
            <a:ext cx="4175280" cy="3168720"/>
          </a:xfrm>
          <a:prstGeom prst="smileyFace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000" y="188640"/>
            <a:ext cx="8351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Istosvi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 produbljivanje spoznaje o razlikama kao bogatstv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jačanje osjećaja pripadnosti pluralnoj zajedn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juč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ječi:.različitost, jednakost, zajednica, pripadan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t Klo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Planetu Klonova žive bića koja izgledaju isto, misle isto, osjećaju isto i vole, odnosno ne vole isto. Svi nose istu odjeću, žive u istim kućama i hrane se samo jednom vrstom biljke. Djeca Klonovi se od odraslih razlikuju samo po vis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dakle dolazi hrana s mog st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dubljivanje razumijevanja veza među ljudima i grup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osvještavanje povezanosti i ovisnosti u svij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hvaćanje međuovisnosti kao uvjeta općeljudskog razv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Širenje iz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zumijevanje važnosti razmjene iz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kovanje korisnih od štetnih iz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hvaćanje međuovisnosti kao uvjeta općeljudskog razv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Razliciti i jednakopra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3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dubljivanje spoznaja o sličnostima i razlikama među ljud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3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zumijevanje odnosa između različitosti i jednakosti svih ljudi u temeljnim pravima i slobod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vi koji imaju svijetlu (plavu ili svjetlosmeđu) kosu stanu uz ploču, na crtu s lijeve strane, a svi koji imaju tamnu kosu, na crtu s desne strane. Objasni im da početna crta predstavlja njihovo rođenje te da polazak obje grupe s iste crte znači da se svi rađaju s jednakim pravima i slobod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Pravedno ili nepraved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zumijevanje pojmova "pravda" i "nepravda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ještavanje posljedica neprav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opisivanje osjećaja i odgovora na neprav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ječak u kući nalazi kolač i sam ga pojede, iako ga njegov mlađi brat moli da i njemu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avi dio. Je li to praved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 se situacijama postupilo pravedn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0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Nemamo svi iste moguc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življavanje iskustva neprav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dubljivanje razumijevanja osjećaja i ponašanja koji se javljaju kao posljedica neprav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a grup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iva nož, bijeli stolnjak, jedno bijelo pecivo i s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a grupa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iva nož, crno i bijelo pecivo, salamu, sir, stolnjak, papirnate salvete,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čkalice i mas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ća grupa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iva žlicu, bananu, čaše, sokove i sala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a grupa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iva papirnate salvete, vilicu, margarin, crno pecivo i kuhana j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Bijela v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6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očavanje važnosti afirmacije pojedinca u gru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zumijevanje osjećaja prihvaćenosti i neprihvaćenosti (izoliranosti) u gru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Što znači biti izdvojen iz grup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Kako se osjećamo kad smo izdvojeni? *Kako se osjećamo kao dio grupe? *Jeste li kao član grupe primijetili da je netko izdvoj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Jeste li razmišljali o tome kako se izdvojeni/izdvojena osjeća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Što u takvim situacijama treba učiniti? *Što znači biti prihvaćen i priznat u grupi? *Zašto nam je to važ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Slijepac i š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2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6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razumijevanje važnosti povjerenja u drugu oso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svještavanje veze između povjerenja, pouzdanosti i sigur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Što znači osloniti se na nešto ili nekoga? *Kad nam je to potrebno? *Možemo li se osloniti na nekoga ako u njega nemamo povjerenja? *Zašto je povjerenje važn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</a:rPr>
              <a:t>Vježba: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Živimo s invalid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dac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svještavanje potreba i problema invalida i drugih osoba s posebnim potreb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voj pozitivnih stavova i osjećaja odgovornosti prema invalid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d2d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roživljavanje problema gluhonijemih i slijepih oso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25272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Kako smanjiti ……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40" y="1125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Kontaktima različitih grup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7000" y="1628640"/>
            <a:ext cx="80010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ituacija u kojoj dvije ili više grupa trebaju jedna drugu i moraju se oslanjati jedna na drugu kako bi postigle cilj koji im je važan naziva se međusobna ovisn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042920" y="2978280"/>
            <a:ext cx="8001000" cy="39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33cc"/>
                </a:solidFill>
                <a:latin typeface="Arial"/>
                <a:ea typeface="Arial"/>
              </a:rPr>
              <a:t>Slagalica u učionic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kruženje u razredu osmišljeno za smanjivanje predrasuda i podizanje samopoštovanja djece njihovim smještanjem u male desegregirane grupe pri čemu svako dijete da bi naučilo gradivo i u razredu postiglo dobre rezultate ovisi o drugoj djeci u gru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cc"/>
                </a:solidFill>
                <a:latin typeface="Arial"/>
                <a:ea typeface="Arial"/>
              </a:rPr>
              <a:t>Nadvadati podjelu na mi i 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cc"/>
                </a:solidFill>
                <a:latin typeface="Arial"/>
                <a:ea typeface="Arial"/>
              </a:rPr>
              <a:t>Situacija činjenja usluga i empat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5272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Kako smanjiti ……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080" y="1125360"/>
            <a:ext cx="872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9000"/>
          </a:bodyPr>
          <a:p>
            <a:pPr marL="99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Razvijanjem empat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Promicati toleran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Analiza filmova, sudbina, skupina i pjes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468360" y="34128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DRUŠTVENE OKOLNOSTI:</a:t>
            </a:r>
            <a:r>
              <a:rPr b="0" lang="hr-HR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  <a:ea typeface="Arial"/>
              </a:rPr>
              <a:t>suvremeni socijalni kontekst hrvatskog dru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EMOKRATSKA DRUŠTVA, PRAVNI I ETIČKI STANDAR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 školama neprihvatljivi: homofobije, netolera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LURALISTIČKA DRUŠTVA, HETEROGENA DRUŠTVA, POSTMODERNIZ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luralizam vrijed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U: PROŠLOST  I NJEZINI SUVREMENI  ZAHTJE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25272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Kako smanjiti ……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080" y="1125360"/>
            <a:ext cx="872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9000"/>
          </a:bodyPr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Propitivanjem i analiziranjem „socijalne distan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Socio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Postaviti ih u tuđu pozi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U slučajevima diskriminacije: uključiti učenike, učenički parlament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miley Face 3"/>
          <p:cNvSpPr/>
          <p:nvPr/>
        </p:nvSpPr>
        <p:spPr>
          <a:xfrm>
            <a:off x="2484360" y="1628640"/>
            <a:ext cx="4175280" cy="3168720"/>
          </a:xfrm>
          <a:prstGeom prst="smileyFace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68360" y="363600"/>
            <a:ext cx="7777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stvoriti sigurno okruženje u razredu (bez osjećaja inferiornosti ili superiornosti kod djec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poticati djecu da uđu u kontakt s pripadnicima različitih skup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naučiti ih da se stave u tuđu poziciju i da vide da li se i sami ponašaju onako kako bi voljeli da se drugi ponašaju prema nji­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2d2d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prepoznavati predrasude i razvijati njihove sposobnosti da se suprotstave tim predrasudama i diskriminaci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1125360"/>
            <a:ext cx="871380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slučaju diskriminacije  neophodn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ivna i mirna analiza osobnih stavova koje neće stvoriti klimu odbijanja i otp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R. Predrasuda prema djeci s poteškoćama u razvoj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. kora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zdvojite dio koji ukazuj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rasudu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ktivan, miran nač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 ponovite)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ogi smatraju da su djeca s poteškoćama u razvoju teret društvu i da bi trebali pohađati specijalizirane škol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900000" y="428760"/>
            <a:ext cx="71280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. kora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irno, sigurno i jasno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iznijet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stiti stav 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znesenom mišljenju)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je me iskustvo uči da ako se nastava dobro organizira, to može biti pozitivno iskustvo za djecu s poteškoćama i učenike bez poteškoća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.kora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znesite neku pozitivnu osobinu grupe kojoj j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rasu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la upućena)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jete s poteškoćama stvara kod ostale djece primjer prijateljstva, zaštite, odgovornosti i razvija mnoge važne ljudske kvalitete.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4. kora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lago skrenite razgovor 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itiv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jer, na novu tem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miley Face 3"/>
          <p:cNvSpPr/>
          <p:nvPr/>
        </p:nvSpPr>
        <p:spPr>
          <a:xfrm>
            <a:off x="2484360" y="1628640"/>
            <a:ext cx="4175280" cy="3168720"/>
          </a:xfrm>
          <a:prstGeom prst="smileyFace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611280" y="404640"/>
            <a:ext cx="82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a li u školi ima učenika koji su različiti od već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ako se drugi ophode prema njima (sociogr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ada  i u kojim slučajevima je dozvoljena i poželjna pozitivna diskrimin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učenici odgovorni da se suprotstave  slučajevima diskrimin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zgovor s nast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zmatranje slučajeva diskriminacije u razr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zgovori s roditel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miley Face 3"/>
          <p:cNvSpPr/>
          <p:nvPr/>
        </p:nvSpPr>
        <p:spPr>
          <a:xfrm>
            <a:off x="1116000" y="333360"/>
            <a:ext cx="4175280" cy="3168720"/>
          </a:xfrm>
          <a:prstGeom prst="smileyFace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14760" y="5013360"/>
            <a:ext cx="91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os-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juro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-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ster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koprivnica.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kole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hr/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upload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os-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gjuro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ester</a:t>
            </a: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kopriv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cc"/>
                </a:solidFill>
                <a:latin typeface="Times New Roman"/>
              </a:rPr>
              <a:t>/images/static3/1268/attachment/Poucavati_prava_i_slobode_2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miley Face 3"/>
          <p:cNvSpPr/>
          <p:nvPr/>
        </p:nvSpPr>
        <p:spPr>
          <a:xfrm>
            <a:off x="2484360" y="1628640"/>
            <a:ext cx="4175280" cy="3168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198360"/>
            <a:ext cx="9118440" cy="54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  <a:ea typeface="Arial"/>
              </a:rPr>
              <a:t>NASTAVNICI I NJIHOVA ULOGA U FORMIRANJU UČENIČKIH VRIJEDNOSTI, STAVOVA I SVJETONA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KOLA  - SEKUNDARNA SOCIJALIZ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JETLJIVA, FORMATIVNA DOB UČENIČKE POPU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SzPct val="1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IREKTIVE I PREPORUKE MEĐUNARODNIH INSTITUCIJA O ULOZI NASTAVNI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miley Face 3"/>
          <p:cNvSpPr/>
          <p:nvPr/>
        </p:nvSpPr>
        <p:spPr>
          <a:xfrm>
            <a:off x="2484360" y="1628640"/>
            <a:ext cx="4175280" cy="316872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21:46:22Z</dcterms:created>
  <dc:creator>Armada</dc:creator>
  <dc:description/>
  <dc:language>en-US</dc:language>
  <cp:lastModifiedBy>user</cp:lastModifiedBy>
  <cp:lastPrinted>2003-12-01T11:56:28Z</cp:lastPrinted>
  <dcterms:modified xsi:type="dcterms:W3CDTF">2015-03-30T08:33:09Z</dcterms:modified>
  <cp:revision>193</cp:revision>
  <dc:subject/>
  <dc:title>No Slide Title</dc:title>
</cp:coreProperties>
</file>