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BA4D-D001-4E42-9E1E-0A8C2B9F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E05-FE76-4BDD-A9CD-A6000368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3F1-D051-4A48-A97A-0A81037D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7C93-2199-426C-AB42-035336BC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B09-87C0-4F8E-8B88-8501E401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D81-1754-4DF2-B5AE-6178259E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CC7-679A-40B1-89C0-A7183276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586-1724-4860-8CE4-ADFAD86B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497-18A0-4535-8EA7-C50F32C2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CD9-75AE-4B7E-943C-7F9539D2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7CE-F468-450C-A178-F63AE160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6CD-EFC6-4459-9E8D-A1427410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3D97-6EB8-4528-932C-011675072384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549360"/>
            <a:ext cx="70167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GRAĐANSKA  POLITIČKA PARTICIPACI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AKTIVIZ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Šibenik, 30.03.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539640" y="306864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. Vukel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LITIČKA GRAĐANSKA PARTICIP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đanska  participacija (aktivizam) </a:t>
            </a:r>
            <a:r>
              <a:rPr b="1" lang="hr-HR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preširoka kategor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uhvaća mnoštvo različitih aktivnosti, grupacija, ciljeva/svrha i u različitim društvenim okolnostim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onvencional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Nekonvencional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rote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čini koji s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galni i legitim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legaln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protesti i protestne aktivnosti (peticije,  pojedini štrajkovi, demonstracije, civilna i građanska neposluš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zbo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zvan izborno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udruge, referendu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čko izravno djel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čko uključi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čko djelovanj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«political action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jelovanja građana na vlast i politik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zborno potpo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htjevno potraž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ntrolno krit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Oblici političke participacij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lasovanje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na izbor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udjelovanje u stranačkoj kampanji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pohađanje skupova, agitiranje, osnivanje fondova, sakupljanje nova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Kontaktiranje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politič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rupne aktivnosti ili protestiran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potpisivanje peticija; pohađanje protestnih skupova, organiziranje peticija, politički štrajkovi, protestni marševi, politički bojkoti, blokiranje prometa, fizičko nasilj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kvalitete participac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nvencionalna participacij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čita, razgovara, rad za stranku, uvjerava druge, kontaktira javne dužnosnik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testni potencij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d potpisivanja peticija, bojkota do divljih štrajk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d neaktivnih preko konformiste, reformista do prosvjed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čina pritiska, posljedica, opsega, količine konfli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Koliko ima participacije u društv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mjer izlaska na izb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778040" y="54000"/>
          <a:ext cx="5589720" cy="6600960"/>
        </p:xfrm>
        <a:graphic>
          <a:graphicData uri="http://schemas.openxmlformats.org/drawingml/2006/table">
            <a:tbl>
              <a:tblPr/>
              <a:tblGrid>
                <a:gridCol w="662040"/>
                <a:gridCol w="907920"/>
                <a:gridCol w="1035000"/>
                <a:gridCol w="1143000"/>
                <a:gridCol w="978120"/>
                <a:gridCol w="8636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H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d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sjednič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lamentar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kaln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sj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1116000" y="549360"/>
          <a:ext cx="7561440" cy="60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49360"/>
                    <a:ext cx="7561440" cy="60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5"/>
          <p:cNvSpPr/>
          <p:nvPr/>
        </p:nvSpPr>
        <p:spPr>
          <a:xfrm>
            <a:off x="955440" y="65160"/>
            <a:ext cx="41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laznost na izbore i referendume RH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EFERE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cijalna suprotstavljenost dvaju instituta:  referenduma i parlamentarne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dum o odluci parla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posredno izjašnjavanja građ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Često korišten u diktatorskim i autokratskim poretci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 svrhu nužnog osiguranja legitim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dložnost referenduma manipulaciji kako bi stekla legitim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dum kao uspješan kontrolni mehanizam i korektiv političke el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imjeri: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poleon, SAD – kod promjene ustava; Švicar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dvajanje Norveške od Švedske, Islanda od Danske, Hrvatske od SFRJ (savjetodavni karakter), ulazak RH u EU (obvezni referend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etpostavka  ozakonjenje i općeg i jednakog prava gl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dum –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sigurava dodatnu legitim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ekida normalni život,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datna napetost neizvjes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ednost referendu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soki stupanj legitim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lik neposredne demokr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vjerenje u sposobnosti slobodnog organiziranog pojedi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tavljenje onih tema i problema koje elite izbjegava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manjuje apatiju i otuđenje građ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većava spremnost da sudjeluju u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ZADATAK: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vedite primjere građanskog aktivizma ili participac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PIT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puštate li šatoraše na Savskoj cesti u Zagreb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liko je participacije potrebno u društv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ko treba participira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 koji način treba participira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ko participira u nekom društv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ašto i zbog čega se participi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je su posljedice participaci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Protiv referendu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grožava demokratske institucije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višestranačkog političkog sust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dluke mogu biti suprotne odlukama parlame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labi i derogira sustav predstavničke vla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Bipolarna demokracija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– dovodi do grubog i otvorenog suprotstavljanja polariziranih altern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emogućnost traženja kompromis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, ustupaka i pogod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ema mogućnost odgode odluke poradi prikupljanja novih informacija i s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Bit referenduma: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dluka kao izbor, selekcija a ne put do 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4928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naži </a:t>
            </a:r>
            <a:r>
              <a:rPr b="0" lang="hr-HR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konfrontaciju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mi ili oni, crno ili bijelo, da ili n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jeli građane na </a:t>
            </a:r>
            <a:r>
              <a:rPr b="0" lang="hr-HR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pobjednike i pobijeđen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bijeđeni mogu biti vrlo „razočarani“ a pobjednici marginalno zainteresira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dnos manjine i već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lasuju </a:t>
            </a:r>
            <a:r>
              <a:rPr b="0" lang="hr-HR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nekompetentni građa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Šteti se javnim politikama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koje zahtijevaju kontinuitet i stabil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atičan postupak postavljanja referendumskog pitanja s opcijama </a:t>
            </a:r>
            <a:r>
              <a:rPr b="0" lang="hr-HR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DA ili 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Tko ima moć postavljanja pi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Brojne simplifikacije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spcBef>
                <a:spcPts val="550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333399"/>
                </a:solidFill>
                <a:latin typeface="Arial"/>
                <a:ea typeface="Times New Roman"/>
              </a:rPr>
              <a:t>Gušenje demokratskog razgov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Liberalna 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predstavnička demokr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abljenje legitimnosti u očima građ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dostaci: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povjerenje prema političkoj k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manjkanje orijentacije prema općem dob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manjenje participacije građ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jentelistička prak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dlučivanje u paradržavna tij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transparentnost odluči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tonomni odb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9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tiha demokracija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 javnost ne želi biti zamarana pojedinostima oko javnih poli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vnost nema interesa i volje za prakticiranje svoje demokratske moć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puštaju eli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okracija samo borba za glasove bira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mirna cirkulacija el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8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rači procjenjuju elite i kažnjavaju one elite koje nisu ispunila očekivanja građ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8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pr. Senat bira zakonodavna tijela u SAD-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8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tav prihvaća ustavna konven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8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ce vrhovnog suda bira sabor 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8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8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lamentarna demokracija: stvoreni sustav ima visoke standarde razboritosti i kvalitete mišljenja protiv tiranije već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dostaci izravne demokraci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referendum; pučka inicij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ključenje široke javnosti  - udaljavanje od kompetentnih (?!) odluka el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birač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STRAST I INTERESI, OPASNE FRAKCIJE, POLARIZ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trasti ili interes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koji stvaraj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frakci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pa 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olar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buđene strati i interesi masovne ja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larizacija – sklonost ekstremnim stajališ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brasci poznati iz socijalne psiholo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NEINFORMIRANOST, NEKOMPETENTNOST, NEZAINTERESIRA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nedostatno informiran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za politička pitanj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javnost nedostatno informi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racionalno nezn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oj glas je jedan od milijun zašto bih se uopće trudio, potrošio vrijeme i energiju na  spoznaju dodatnih i relevantnih informacija kako bih odabrao informiran iz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birači su nekompetentni za stručna pi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ma smisla pitati javnost za kompleksna socijalna i politička pi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Nestavovi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jer: public affairs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stavovi :top of the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irači nemaju interesa uključiti se u javnu raspr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oviji oblici demokracije: Deliber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liberare – odmjeriti, odvagnuti, promozg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liberacija: dogovaranje, razmišljanje, rasuđivanje, pre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liberativna demokr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lektivno odluči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prezentativnost – mini-javnost - uključe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cionalna komunikacija (informiranost) - razborit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dopu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dstavničkoj demokr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 se do zaključaka dođe smirenim promišljanjem, međusobnim dogovaranj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isoko reprezentativni stav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mišljene prosud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mireno i neprist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zmotriti valjanost i sadržaj argume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ravnoteženost argume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ace to face komunik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ove inform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tpostavka deliberativne demokracije da bolja informiranost i promišljanje dovodi do kvalitetnijeg izb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kupine za raspr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amoizabrani  iskreno promišljaju određenu t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maju materijale, informacije, diskutir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stoji mod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imjeri građanskog aktivizma ili participacije u Hrvatsko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djelovanje na izbo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djelovanje i potpora političkim kampan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Šatora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tišatora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GBT skup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Štrajk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kupljanje potpisa za refere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lokada fakult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lokada cesta trakto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gađanja naroda  krajem osamdeseti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Je li to poželjno ili 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isi o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čkim/vrijednosnim stavovim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vaćanju demokr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O DEMOKRA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dostaci demokracij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 smislu vladavine „narod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hnički i financijski proble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upitne odlu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okracija nije samo vladavina naro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va osnovna modela demokrac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ARTICIPATIVNA DEMOKR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LITISTIČKA ILI FORMALNO REPREZENTATIV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edstavnička parlamentarna demokracij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ra biti osnovni stup, procedura demokratskih sustava,  građanska participacija je samo nadopuna, protuteža, korektiv naveden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dostatke demokracije mogu se prevladati samo s više demokracij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Demokracija su mehanizmi, procedure i pravo koje netko može konzumir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ki od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a demokraci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ko odrediti solucij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ko odrediti pravila ponašanja i međusobnih odno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kcija inte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 odnosa većine i manjine, problem zaštite manj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bilnost institucija DEMOKRATSKOG DRUŠTVA ne može počivati samo na jednom  aspektu konstitucije već na tri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žavi, tržištu, zajed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Društveni  kapital građa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oznajne, i moralne, vrijednosne dispozicije građ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vjerenje u sugrađ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vjerenje u strukture vl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vjerenje u mehanizme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akticiranje umijeća udruži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rinu se za javne poslove i 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dostatnosti uspostave formalnih demokratskih formi  za stabilno, pravedno, i kvalitetno funkcioniranje društ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java korupcija, klijentelizma i s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na je kultura civilnosti  ili demokratska politička kultura a osobito POLITIČKA KULTURA E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čki  aktivnije građanstv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tječe na veću odgovornost političkih i drugih lidera /e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tječe na politička prava, na jednak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čki aktivniji u SAD-u iz viših sloj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itne strukture i vlast sve više podijeljene i  pluralistič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ljedica: poteškoće u odluči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tjecaj pluralizacije moći, mediji, protesti, razne elite, opozicije, civilno društvo, osjetljive na izbore birača, ograničenja zakona, problem legitim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IKASNOST VLASTI mora biti upotpunjena KOSENZUSOM I LEGITIMACIJ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rasli protestni potencijali građ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ahtijeva se politička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4:05:11Z</dcterms:created>
  <dc:creator>korisnik</dc:creator>
  <dc:description/>
  <dc:language>en-US</dc:language>
  <cp:lastModifiedBy>Katarina</cp:lastModifiedBy>
  <dcterms:modified xsi:type="dcterms:W3CDTF">2015-03-31T09:05:43Z</dcterms:modified>
  <cp:revision>33</cp:revision>
  <dc:subject/>
  <dc:title>Slide 1</dc:title>
</cp:coreProperties>
</file>