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  <p:sldId id="291" r:id="rId60"/>
    <p:sldId id="292" r:id="rId61"/>
    <p:sldId id="293" r:id="rId62"/>
    <p:sldId id="294" r:id="rId63"/>
    <p:sldId id="295" r:id="rId64"/>
    <p:sldId id="296" r:id="rId65"/>
    <p:sldId id="297" r:id="rId66"/>
    <p:sldId id="298" r:id="rId67"/>
    <p:sldId id="299" r:id="rId68"/>
    <p:sldId id="300" r:id="rId69"/>
    <p:sldId id="301" r:id="rId70"/>
    <p:sldId id="302" r:id="rId71"/>
    <p:sldId id="30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slide" Target="slides/slide36.xml"/><Relationship Id="rId61" Type="http://schemas.openxmlformats.org/officeDocument/2006/relationships/slide" Target="slides/slide37.xml"/><Relationship Id="rId62" Type="http://schemas.openxmlformats.org/officeDocument/2006/relationships/slide" Target="slides/slide38.xml"/><Relationship Id="rId63" Type="http://schemas.openxmlformats.org/officeDocument/2006/relationships/slide" Target="slides/slide39.xml"/><Relationship Id="rId64" Type="http://schemas.openxmlformats.org/officeDocument/2006/relationships/slide" Target="slides/slide40.xml"/><Relationship Id="rId65" Type="http://schemas.openxmlformats.org/officeDocument/2006/relationships/slide" Target="slides/slide41.xml"/><Relationship Id="rId66" Type="http://schemas.openxmlformats.org/officeDocument/2006/relationships/slide" Target="slides/slide42.xml"/><Relationship Id="rId67" Type="http://schemas.openxmlformats.org/officeDocument/2006/relationships/slide" Target="slides/slide43.xml"/><Relationship Id="rId68" Type="http://schemas.openxmlformats.org/officeDocument/2006/relationships/slide" Target="slides/slide44.xml"/><Relationship Id="rId69" Type="http://schemas.openxmlformats.org/officeDocument/2006/relationships/slide" Target="slides/slide45.xml"/><Relationship Id="rId70" Type="http://schemas.openxmlformats.org/officeDocument/2006/relationships/slide" Target="slides/slide46.xml"/><Relationship Id="rId71" Type="http://schemas.openxmlformats.org/officeDocument/2006/relationships/slide" Target="slides/slide47.xml"/><Relationship Id="rId72" Type="http://schemas.openxmlformats.org/officeDocument/2006/relationships/slide" Target="slides/slide4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A2B6A-DB2B-4A23-A22E-ABF9A50C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839B-2E5F-4CBD-9046-A6EA38E2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0D11-FD41-446A-85A7-5B638085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A65CA-BEA9-49BB-9F74-BD565A20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0F71-069A-423A-95EC-AAD707C0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F7A8E-6F88-440E-B58D-EC5C804F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9BF7-4771-47A5-9484-61E7914F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6E940-C41A-4077-813A-52D0CD9C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554EC-E9F2-4AD0-8B4A-E7FA0DBF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96AA7-175A-4145-AC76-EF196370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70FBA-1A6D-4608-8615-1195B3BD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6879B-94C6-482C-88EB-40541A1D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0E7A5-6A1C-47B2-BBFD-C583047C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73439-A813-491E-A336-D433448B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8E279-427D-4387-A44A-BC6A4E0B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D5077-DD0E-4B88-90B3-3A852544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5F6E2-B2D5-4EE1-A3F3-4197E81D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40E6B-8D6B-4FAB-9296-0BDB8DBE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ABAD5-C3EC-48F3-9B74-90DC3F8D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B12EB-4B69-4EDE-87E5-C1F6F0C6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2913A-65E4-4657-8D9F-C0D3EBCC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9148E-25C6-46C8-B812-E9A7639B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FC295-3D46-4C84-91EA-EA624401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7AADC-65CA-40D2-88A7-74C92BD7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2051B-2AB7-412A-AE74-5FC036E4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F40F2-F712-4230-A563-F81B0465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DFAE4-7B8D-4A12-87C3-C7058411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9139B-19C2-4AB1-9A07-0249D044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347F1-4A89-4108-BA4C-649F4D8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B43A3-D3B4-4348-B953-176FAA67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9C522-5A6D-40A2-94ED-D7A12341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C2355-DD52-4B22-B8E3-FD59C34C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F3630-1E47-4F81-9765-377D0588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07A1E-7433-42F8-8DBC-555D880D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93141-E4BC-4E12-AC4D-D57EF0E9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6FFFA-69E8-4C28-BF38-8E17101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EFB51-9219-4791-B248-B5EFA931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AC5EC-B52F-4695-A6E1-2E5EC7A4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0322D-D726-449A-9CC9-E921147D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211E8-52FD-4DB8-8274-442FE723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A1179-E332-4821-AA37-F0C4452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B5299-A2CC-4059-9416-F4E57098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58201-EBAE-4ED5-8E37-30060DBC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F4997-7836-46D8-AF1E-61998FF5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56B0D-6464-4D38-A788-42AA5B06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94468-089C-4477-96F9-66DAED64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ADF1E-2649-4C55-8066-254D6EF1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E883C-A06E-4095-BE20-6C567774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AC53A-4877-43AA-BACB-F0EC731B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A8668-3DAC-421F-9BE5-25F6682E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0F9A3-90D6-446D-A26B-02418F6E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89ABE-56E7-4AF4-A424-BCE7C2C9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EA1B8-33CD-4995-BC40-344D2C95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73153-D453-4460-8961-5D7D980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0C0D0-7D40-4E4F-A700-6AECAC18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ED923-449F-4174-9ACA-9E411BEE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2B463-FDA5-48D6-9674-2AF2033F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CAAD8-85AE-4778-98D1-F7935910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91057-28D7-449C-AAA7-886421F7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35BA3-9DCC-4102-9736-CD94E5F6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03197-A8D0-43C0-A5AB-2C604B82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E7B90-6A1D-41D9-A199-C5869C26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4E989-E70C-4D8B-8ACB-B277AD74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737D3-6F67-4B0B-9864-5DB6504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8A772-0F0A-4003-A406-7FBF1FB4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E85A7-12C7-463F-992F-78018466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82F0E-170D-47BD-88A8-DD8152B7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411FC-426F-4EB7-B643-8DAEBC4E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DBEB2-D9B8-408F-84C3-AD866F0C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DA863-A94D-48DE-8D5E-AA4A3041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6F8DD-A608-4D38-AC86-1D15F21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A57F9-73DC-44B5-A38F-654C8E1E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E0125-AAAE-44C3-8F2A-BB4F2A56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6B168-82A1-4F0F-B4B1-D4C52BF2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5698A-D048-4BCB-ACF9-E23F90B5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B2F1C-D27F-44E4-B1D6-C95925A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C2B37-56B6-4356-90F8-1C27FDD4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D697A-1675-4D88-A1E7-9DDD338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97EB4-9025-4527-A7B7-A47777C9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09C10-95DD-484A-AE23-B9510EBE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D2BB8-6E38-444A-A6CF-5329BF07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0AB27-5F12-47C4-89B8-788328A4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26A91-46ED-46D0-B357-248CDD9F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C3F32-D0CB-4CDE-8157-19949CE5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F7BFD-2ABD-499C-BB56-86DD3935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3191C-8AAD-4C5D-9F69-35C9F4B9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90BD7-F474-4342-9320-1151BBBE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EFBBC-95C7-4EE5-8DC9-08C0789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1AEF7-8B00-4187-ABE3-ACE801A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18B3C-9571-4518-94DB-513D3F35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7C38D-65E7-45D6-BFD2-0C1BF6B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DD6B6-E4F4-4868-8EA0-0348D1CC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47112-3EC9-4AB4-8C2E-F7BF19D9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D8DD5-9321-42CC-BF81-60EABA89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48B49-33AB-46BA-A428-67C43FEC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CE9D0-AD12-4640-9951-B1D09535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EB7F0-B314-44E8-9CAC-D30283DD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3B076-29D7-497C-B953-A2B97DFA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3A040-6913-40C8-AB05-FB5B7052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2C49E-11B3-4D37-98D1-9F77809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D2619-0DE9-4439-96B6-F415F8A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B2603-9B14-49D7-BFB7-A610AAF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5BA2D-5F73-4BCB-A523-DAE4C344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EFF60-1EAB-46BB-BDD8-0D3EA65B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60447-9BA2-4F21-A659-1E4DA9CB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62BC2-C32E-4D73-8E78-E6AE3396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CC503-B2CA-4AB5-860D-557B7718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F3BEB-BA36-4EB4-8168-5DF3DC5C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164285-D430-4A2E-BBC9-D5CBCCE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74A7C-5668-48F8-BE42-6DEE25F4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C04B3-C855-4B11-9466-2E8B937D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7F1D3-5F21-44C1-9961-9DFD9CE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AE22E-0C0A-4D04-9065-BB10F26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2694A-6689-4DAF-9A59-A190372D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F1ACA-65DB-4CC5-A391-474D10F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15F98-2C93-4570-A46C-88C68181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FD252-4572-491A-BF8D-75EE5E58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0C490-152E-418D-91E6-39D8B4F1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7D594-22B9-4977-A0BA-4B991D9A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59066-6085-4F51-B6C0-11474753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99B6E-1A33-4C00-82E2-0F4B02CA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03DCA-B380-4B05-960E-419C04F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8B11E-0121-4B84-BF9D-142BFDFE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71666-9F44-4B13-9CE3-8341840A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9D91F-E31C-4118-8DB6-60DF644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982F5-E536-4612-8E63-61BA5DB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F439D-2FDF-443E-A3A6-6EED73E3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7F355-D617-4330-B3BA-B8921E41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F2FFA-9411-4097-BEA5-7C1C3280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05E8A-68D4-4799-9B2C-181DEF6E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411E3-2987-48D1-8DF7-B6D40599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10982-001D-4E60-9075-EBF2CCC5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99F05-0079-4D65-BB2A-CF9EF102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4E7E57-3976-4B91-9C7C-4580473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91AEE-7EA1-4128-B46A-52905E15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6AD94-05C3-401B-A494-012ACBEB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180FE-284B-4D53-BA12-B1913555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F62A5-A36E-4559-AEC0-DDE0DC3A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4570A-220E-4DD5-8D23-ECB3325F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22D7D-0E21-4AC4-8E86-A02EF725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9984A-8327-438F-B8B3-33680D72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26D65C-64DC-4A7A-8CCD-EBECDD25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C454D-B62B-4D1D-BDCA-25554765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CDF22-5C2B-49F4-982E-DBAF51D1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4D75B7-A73D-4FEB-89D3-495ABFEF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A057E-F3B7-464E-B350-96C47ADE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AA9BF-555E-4B0D-8DB5-83FCCF31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11D88-6D04-4FF5-8BEF-AC05F83A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10A7C-F561-4B7A-960E-C8688683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D24319-C152-4C88-B766-6DCB1B3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8FDE7-9C28-4AA7-8DE4-F1CA4273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1F9E4-11E1-4466-AF26-97AD9766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4F247-428E-487C-8033-4CB5AD6E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6920C-2FD7-446A-A7A9-403128F1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F5111-74CE-462F-AF8E-88900CA1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2CBC2-8395-455B-A013-EB0D3010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BCF52-C0B3-4D94-B1CE-9DE19ACD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9A26CA-76C7-496D-9290-C9C1903D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A2F38-F837-44B5-B9F5-F1B459C7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80E95-EB41-4D63-96A6-ED8F344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290DA-2969-45F6-A0DB-0B6FE19B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E091B-96B7-4C44-B320-D6B942E8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B2687-3AC0-49AB-860C-3642B4CB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92305-FE6F-4D2C-AECB-16F87C3A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032A4-82F8-40E7-B3B1-80A1F73E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16C0B2-004D-4228-9BB3-AB030ECF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7FDF8-468A-44E6-AA72-122138E8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F4AEB2-1581-4E4A-B819-BC61F5AF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2DE2B4-1BA4-450A-A6F5-B57F8550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2E51AA-1B2E-4E0D-973A-DDD9E076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DE5ED-9B74-42FB-BCAE-EDAD02BB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128E6A-EED9-4A08-8C08-0DDBEF67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34B25-92BE-4C0E-AD25-8D7CEC50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A818EE-5C22-49BE-B1C2-27C11FA6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13931-408B-4ADC-A9C8-A5FC9426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E2F20-414D-4B4A-A8D3-D43119F6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D9471-A6C9-4C27-8F0D-F72D7EAC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321-F241-4001-8801-E64101D3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6C8-DCF3-4CF8-A1E4-815FE849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D19-1768-4BEB-9AC7-D8DA6EA8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234-376D-436A-B243-FB5EA1F0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359-93E7-4060-B865-010176F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D80-24D0-4DBE-A287-DE256F5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56D-178F-4DE0-96DE-951DCAC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558-BAFA-4F50-9057-37C0BA7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A81-7EAF-4C61-A2FD-E9D14387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574-6DDD-48B8-BE90-2D3D52BB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DFF-CEFB-4AC4-838F-1197FD18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546-68B6-44C3-A0F1-92454773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A7FD-8979-4184-A808-F08834E1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A8A7-21B8-4224-8602-5215C1DF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04CC-6942-43FC-80F0-900CEAC6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893F-FBDF-4D94-A6D8-593E7FC4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A04F-5429-4E69-80DA-22A1DAC8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268A-81C2-442E-9FFF-594A792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6C0B-E26D-4639-8118-D0C5137F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26C7-310F-46A0-AEAA-C89163A0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6F88-6723-46B7-85C3-74A4D02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D3E0-3F56-4448-94D7-5FFD4143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9693-7231-468E-B358-93201077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8749-2142-4CB5-8060-0146E601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3E37-62E7-4575-B8BC-8891DEFD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D535-F763-4473-86A8-0C1B5C38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9A9F-A9B2-4BCF-85C4-79EE97CB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C251-984F-4389-AA35-4CB5077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AEE3-FE05-465A-B604-979A2C28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3D55D-DD31-4E7F-AA3A-2A59F310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226B-12C9-4099-B287-536A6C5F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CEA1-C4F9-4F70-8F70-9A580C84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A71D-CB90-4194-A560-133EEE69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4594-8566-4DAC-8D25-4894A4E2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3540-3CD5-4239-9205-A2C65E7B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0916-B9FE-4BC9-8340-177F14EF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CA51-008E-4912-AE42-CE85816B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D57F-D845-4059-8DBB-E3C2C448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568A-124E-4999-B430-9DEEACB0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D6C0-7497-4724-8B6E-18918153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5F06-7A46-42D5-BB3A-C6A6E31A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79B7-FA99-4BD2-A512-E0896600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030C2-827B-4AB7-90A2-C284EE2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990ED-9445-4EF8-B6E9-6BEE906E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EFE9-ED66-4EE8-9903-AA406D6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31801-6034-49BD-92FD-DA97E2BA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10B4-D13F-437F-8050-DE2EE08F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CBEA-DC92-41CE-B917-42702220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6958-971B-43F5-9117-FD5E94DA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A4D15-00A8-48F6-AB29-1872E42A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AA5E1-3D9A-4EFA-BF25-E6D74858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0F4FB-51D0-4D1C-9357-961F4E9E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89D27-7EFE-4001-91CF-93CE69AC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19850-F98A-439C-ABBD-3201B3AE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47C9F-C084-48C2-AD95-E22535F7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1278-6A67-48FD-AE81-7DBC41FB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1B24-C54C-48DE-B1CB-0C2FF23E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4A2A-820F-4863-93EA-752ED45F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56E4-2E4F-42CA-9102-DD8FBC93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2F33F-AC2D-479B-99B5-E165F31D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1A946-6C7C-4001-B327-ED853C64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55FED-CDA8-47AE-B216-9669C0DE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98453-D856-4925-981A-018B1E70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32EB-10D4-472B-ADC7-A3662D9E468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B824-DA42-4FEB-A964-575A69000BD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9025-954B-4226-A844-BCDA1B514D0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C15C-892D-410D-8BBB-3736EA7DD15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95AB-EC0A-4974-90EC-44B5DEB88F10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653-34EB-48CD-8811-7D0EC23B5C8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B53C-00C4-41D3-A385-AC599475C72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5A0E-8161-432D-8FBA-2989C4568E8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E21F-B817-4FD6-A519-ABDB1B4EA89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96EA-C699-4ECC-9622-C68B27F2604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4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4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1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9FA9-FF42-47D0-8D0A-00B5B1E1AB8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5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41E-C65C-46CE-A776-B64200EB8C7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9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30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C523-FDE8-4268-88A5-86F4BD2413D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3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08C3-BAA0-4E67-8B35-515C28ED661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84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F7BF-60B2-48DC-B51F-0902BFC87A8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EF56-2904-419B-BF95-9434A1C2F3E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8366-A09F-4A72-9D26-5D5EC3C0BD9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2A49-C066-4929-B80C-A1CB9B903B7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DC9D-3FDB-4FE3-BFB2-48797C50C3E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8604-9287-4DE6-9F77-0717E85B104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OGREŠKE I PROPUSTI U RADU RAVNATELJA SREDNJIH ŠKOLA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iši savjetnik Mario Rogač, pro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gencija za odgoj i obrazo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jel za stručno-pedagoški nadz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pri raskidanju ugovora o rad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savjetuje radničko vijeće prije otk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poštuje propisane kriterije za tehnološ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iš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širivanje kriterija za tehnološki viš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greške vezane uz ugovor o rad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tuzakonit ugov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sti radnik ima nekoliko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 ugovor o rad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lizija ugovora i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lizija ugovora i ra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starjeli i netočni pod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vezane uz rješenja o zaduženju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avilno ili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potpuno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napisana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isu izdana u propisanom ro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 skladu s Pravilnik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 skladu s člankom 104. st.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eće pogreš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javljen prekovremeni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an prekovremeni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laćanje prekovremenog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usklađenost zaduženj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eće pogreš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ravnatelj ne vrši uvid u na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ravnatelj loše vrši uvid u na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premalo u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nema analize rad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izbacivanje učenika s nastave iz učio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slanje učenika kuć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dežurstva radnika – sigurnost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eće pogrešk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kraćivanje trajanja sata (čl. 51. st. 4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kraćivanje nast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mjena Nastavnog plana i program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na šte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svih podzakonskih ak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poraba neodobrenih udžb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e pogreš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znavanje uredskog poslovanja (Uredba o uredskom poslovanju (NN, broj 7/0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dovoljno poznavanje propisa (ZUP, ZOR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ežurstva učenika (čl. 61. st. 2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kolektivne naplate št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kupljanje nov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ve što se plaća nije obvez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rganizacija rada i nastave</a:t>
            </a: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pedagoga samo prije p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pedagoga samo u jednoj smj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ravnatelja samo prije p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kasno upoznavanje roditelja s promjenama u ustroju (čl. 49. st. 5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rganizacija rada i nastave 2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abir razredn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rganizacijska neprecizn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državanje rasporeda sa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organiziranje zamjen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stava HJ blok sat četvrtak i pet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rganizacija rada i nastav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rmin za primanje stran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rmin informacija za rodite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bez pl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avljenje nevažnim ili manje važnim stva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Razlozi izlag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elik broj ravnatelja u prvom man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očene pogreške i propusti u stručno-pedagoškim i inspekcijskim nadzo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vakodnevna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jedice pogreš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 škol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GPIPR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donesen u propisanom ro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provedena rasprava na N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provedena rasprava na vijeću rodi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čl. 137. st. 4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školskog kurikul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dostupan ili objavljen na propisani nač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razrađeno stručno usavrša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razrađena zaduženj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rasporeda dežurnih 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lanskih elemenat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o planir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 preventivnog  programa ili je nerazrađ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 programa  za suzbijanje  nasilja ili je nerazrađ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samovred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h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dokaza o provedenim aktivnostim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GPIPR ravnatelja škol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lana i programa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koji je praktično neupotreblj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je nepotp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je zastario (napisan prije 10 i više god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GPIPR ravnatelja škol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nije razrađen po mjesec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nema planske ele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planiran (ili nedovoljno planiran) posjet nast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piše stručna suradnica pedagogi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GPIP rada škol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vješće o realizaciji GPIP rad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mjene i dopune GPIP rad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lozi GPIP rad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vezane uz popravne ispit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laniranje 1. roka popravnog isp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dokumentacije o popravnim ispi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a dokument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nepotpunog povjerens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vezane uz popravne ispit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isanog traga da li je učenik znao, djelomično znao ili nije zn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ečata, potpisa, dat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štivanje Pravilnika (kolizija Statuta i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mjerena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više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ljučna ocjena čl. 73. st. 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javno, u razrednom odjelu, na kraju)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ljučna ocjena koja je nestručno izved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pisane 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kasno“ upisivanje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malo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kažnjavanje ocjen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risanje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jivanje učenika koji nije pris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11“ na jednom s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zaključnu ocjenu utvrdio ravnatel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čl. 73. st. 3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oblem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ripremnog osposobljavanja prije stupanja na dužnost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mentorske pomoći tijekom rada u prvom man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postoji pomoćnik ravnatelja kao prvi surad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raćenja i vrednovanja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licenciranj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 rubriku za ocjene upisivati samo 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koristiti korekturni 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upisivati običnom olov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spekcijske primjedbe“ (+, -, ?, /, 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4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upisivanje ocjene u neodgovarajuću rubr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cjenjivanje gradiva koje nije obrađ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cjenjivanje gradiva koje nije predviđeno NP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5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objektivno ocjenjiva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 kriteriji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kriterija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argumentirana ocjena iz vlad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6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a komunikacija nastavnika (u vezi ocje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obavještavanje roditelj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davanje pisanih radova na uv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čuvanje pisanih rad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ff0000"/>
                </a:solidFill>
                <a:uFillTx/>
                <a:latin typeface="Calibri"/>
              </a:rPr>
              <a:t>Ravnatelj ne prati provođenje Pravilnika tijekom godine (čl. 16. st. 2.)</a:t>
            </a:r>
            <a:r>
              <a:rPr b="0" lang="hr-HR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ažni iskazi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grešno postupanje ili nepostupanje u slučaju ozljed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a provedba Pravilnika o načinima, postupcima i elementima vrednovanj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ežurstva nastavnika i drugih radnik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zivanje na izjavu umjesto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uporište u propisu i pisanu dokument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poduzimanje mjer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učenik, nastavnik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obavještavanje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roditelja, policije itd.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isanih tragova i dok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egledana pedagoška dokumentac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na vrijeme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analize odgojno-obrazovnog stanj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sveobuhvatne analize uspjeh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prosječna ocjena nije dovoljan pokazatelj)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 4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evidencije o neprihvatljivim oblicima ponašanja učenika (čl. 67. al. 7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izricanje pedagoških mj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formalni i pravni propu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mjerena uporaba školskih računal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nadzorom u zadnjih šest mjese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ipreme za maturu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htjev za preispitivanje ocjene nije obavilo nastavničko vijeće (čl. 76. st. 1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vjerenstvo za polaganje ispita nije odredilo nastavničko vijeće (čl. 76. st. 4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nadzorom u zadnjih šest mjesec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sazvano vijeće roditelja niti jedan 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sazvano vijeće učenika niti jedan 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održan niti jedan roditeljski sastan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 prvom polugodiš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mali broj roditeljskih sastana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3 najmanje, čl. 16. st. 3.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DZOR U ŠKOLSTV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rste nadz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porišta u propis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vlasti inspekcije i Agen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nadzorom u zadnjih šest mjeseci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vremenika pisanih radov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vremenik nije objavljen na propisani način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u propisanom roku (čl. 10. st. 2.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ije imenovana osoba za zaštitu dostojanstva radnik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anak 293. st. 1. al. 28.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OR-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reporu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dobra komunikacij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oticajno rukovođenje i upravlj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vjera usklađenosti svjedodžbe, matične knjige i imenik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gledavati pedagošku dokumentaciju, praviti pisane bilješke, poduzimati mj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eporu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kontrola odnosa obrade, ponavljanja i ispitivanj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kontrola planova i progr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ntrola ocjena i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gledati neke bilježnic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eporuk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mati potvrdu o primitku pisanog dop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vjera osobnih dosjea 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steklo zvanje mentora ili savjet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Teži prekršaji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bez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bez rješenja o zaduže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zakonito zapošljavanje (uvje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taškavanje težih inciden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Financijski prekršaji 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 zakup pro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ovčane malverzaci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a isplata pla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a isplata dodataka na plać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a isplata dnev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teži prekršaji ravnatelja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alsificiranje dokument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alsificiranje potp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alsificiranje javne isp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teži prekršaji ravnatelj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zakonit raskid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izvršavanje mjer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nalaz, rješen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Ravnateljica nije poduzela niš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državno odvjetništvo poduzima kazneni prog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Calibri"/>
              </a:rPr>
              <a:t>Hvala!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Članak 125. Zakon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1) Ravnatelj je </a:t>
            </a:r>
            <a:r>
              <a:rPr b="1" lang="hr-HR" sz="3200" spc="-1" strike="noStrike" u="sng">
                <a:solidFill>
                  <a:srgbClr val="ff0000"/>
                </a:solidFill>
                <a:uFillTx/>
                <a:latin typeface="Calibri"/>
              </a:rPr>
              <a:t>poslovodni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3200" spc="-1" strike="noStrike">
                <a:solidFill>
                  <a:srgbClr val="0000ff"/>
                </a:solidFill>
                <a:latin typeface="Calibri"/>
              </a:rPr>
              <a:t>stručni voditelj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školske ustan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2) Ravnatelj je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dgovoran za </a:t>
            </a:r>
            <a:r>
              <a:rPr b="1" lang="hr-HR" sz="3200" spc="-1" strike="noStrike" u="sng">
                <a:solidFill>
                  <a:srgbClr val="ff0000"/>
                </a:solidFill>
                <a:uFillTx/>
                <a:latin typeface="Calibri"/>
              </a:rPr>
              <a:t>zakonitost rada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hr-HR" sz="3200" spc="-1" strike="noStrike">
                <a:solidFill>
                  <a:srgbClr val="0000ff"/>
                </a:solidFill>
                <a:latin typeface="Calibri"/>
              </a:rPr>
              <a:t>stručni rad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školske ustan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ravnatelja vezane uz djelatnost AZO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tažiranje i stručni isp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tručno-pedagoški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predovanja i obnove z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i propusti kod stažir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dovoljna briga pripravnici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u nekim slučajevima ništa, posljedice…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 ne nadzire stažira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to radi stručna suradnica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skakanje“ pripravničkog staža (čl. 108.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Veće pogreške i propusti kod stažir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imenovano povjerenstvo za stažir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prijavljeno stažir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izrađen program staži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realiziran program staži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entor ne ispunjava svoje obve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odgovarajuća stručna sprema pripravnik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apsolvent ili nestručna osoba)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 vezi zasnivanja radnog odnos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zakonito zasnivanje radnog odn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vrstu spreme (neodređeno vrije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širivanje propisanih uvjeta za zasnivanje radnog odno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no zasnivanje radnog odnosa na određeno vrij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suglasnost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41:54Z</dcterms:created>
  <dc:creator>Željka</dc:creator>
  <dc:description/>
  <dc:language>en-US</dc:language>
  <cp:lastModifiedBy>mrogac</cp:lastModifiedBy>
  <dcterms:modified xsi:type="dcterms:W3CDTF">2015-02-09T08:57:51Z</dcterms:modified>
  <cp:revision>79</cp:revision>
  <dc:subject/>
  <dc:title>Slide 1</dc:title>
</cp:coreProperties>
</file>