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CE12-7057-4D04-B624-41C0353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ECFE-7782-4B01-8459-30209AD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B547-69FE-4AEF-AE5D-FD5EFCD9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444B-667A-4767-B157-2C8E6CC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EAAB-04E3-42CF-91B3-F53CEF4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6B74-D011-4251-8BD7-096529D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4B21-A6FE-408A-8F1E-4340BBE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48F4-8BDD-4BF1-AEA0-6BF6DBA6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0EEB8-D9C2-44E6-BD46-63B2361D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ABE3-64D6-4456-BF40-EC9F4288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F1414-A922-410C-868B-DDE4733B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D0AE-60E0-48A8-ADEB-F89D7246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825D-CDC1-45C7-9A44-C660962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15FD-F30A-4DAA-B09A-433CAA0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E9D95-A8A1-4C24-9A0C-1E06054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E6E2-5D63-4E81-9F43-AF523A4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3B95-1B4A-4009-9138-2944E0C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474E8-A4D3-4F1E-AA30-C3A1201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897D-B4E0-4993-869E-54EFDAA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E819-09AE-4D4A-89E1-CB6EB0E8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4ED6-CA63-4F3B-9A15-6557CF03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1BBBF-9B29-4368-960F-F12ADD25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100A-2EFD-424B-AF5B-2117EF79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6460-FBC7-49E5-BD20-5A8DD13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4EFE5-37C3-47E5-950E-21FAC8E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1935-20B7-4BC4-ADF9-AE2018F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4534E-283F-4DFE-8EA6-C855F20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349D-FD77-41A6-B7FE-97483A5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BFAA-8ADE-47F8-88E8-8EB7598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F14FD-450D-4FC7-834E-679F5DE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CAF63-E29E-4ECC-A0D4-03D43C1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D595-D78F-4128-918F-33D7A57C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0822-3C3C-46E5-9C6D-16C6978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43463-2DA1-4150-B1D4-C30F9E26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8E203-C3BE-4755-ABDD-7BE0393B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E3D01-36B6-45B0-8BAC-1823926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C5B98-F8D6-49AE-83D5-BF7B8CE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3746-ADCF-4D62-B4A1-A620356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53C0-50E4-4FF2-9629-F255437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A65D0-D420-482E-B9B3-C12D332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78030-EAB5-40C4-B8F1-FE2377D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7326-385D-4657-BC96-234DE671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E6ACE-2809-4C3D-A21E-2F76F2C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ACF96-11A4-43E6-9124-DC2D1C8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F435-0894-4AAD-914E-09A4A2F6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D0749-EBBD-430B-A4D2-8AA8580E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E711-0EED-43BE-948F-BF3D3D4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8B3EA-2833-45FC-86F6-09003A8E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46F29-0A9E-42E4-84F2-75AEC0D1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07AD0-25BA-4F7C-9470-DA0D502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2D74F-6CF6-4F23-8334-A1118E3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865AD-4B98-4165-B522-9D1F19A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07D04-F204-4668-83A6-446DDD3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F07E-537A-47B4-BD5C-C494683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BC605-A4BB-4937-B840-D5C182A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B0101-BEE0-4927-B0BC-1F992AE2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3FE92-58B5-494A-85BA-362314FC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AA272-3F62-4EEE-BC59-F3498996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64D3-5070-49AF-8D7D-46B95196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75BB-1094-478D-A995-DB35F8F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D523F-12DC-4CE0-A974-2DF8A5E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3CD72-4295-409E-8C13-85E04C82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4832A-27CA-4CFC-B40C-B6BD42D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5438-F1C2-4EF0-ACD6-CAB9965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BC973-1F46-407E-9E10-E0ACE01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236A-7BC6-4D6E-9F52-FB293AB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BEFBC-1D60-43B1-85C3-4D322E6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BACAB-3EAB-4CE4-BF8C-283E31BC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CDA96-2D1D-4D49-9379-CE46D18D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89859-7181-4D14-A162-63416318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37B1-A229-4886-A440-08C25BE7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A796-40A8-45BD-9CA5-D4A500A4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254B9-D746-44A3-A752-A149532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975F1-1462-4DA4-BDDE-66542EE0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74E49-9012-4CB0-A7D0-79ECF095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C9CD-0F18-48B2-AEDC-C15C789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64054-9624-4D82-8B1A-E758A97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9DB56-37B3-4032-BDEA-EFABB2A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52B38-C98F-4071-A628-F299A822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78A7F-4352-4BB3-8242-902E6D56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57DFE-FB3D-4B80-B1A9-9B924E01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BCBF7-4743-4193-913A-B36EB675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2EFC7-C759-42DB-9FBB-64408F38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10432-A5EF-49EE-B01B-225E6782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15B20-6282-45DE-8230-771F4B6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602BC-5C7B-455C-A592-BB76EE8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63DAE-2843-4AC8-A057-E2681C8C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1EA65-899B-4EC9-A9CC-BECD1EC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85F60-55E8-474B-8BCE-435CC95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31E93-4678-4619-8638-732145D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BEBFD-E73B-41B2-9923-6FC0F81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F386C-2445-4758-8C2E-EC1783EC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23A6B-511A-4A16-9054-4128A5E1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15FFC-752B-4B3B-9690-F35CDAB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2994E-D850-425C-A996-03ABEE5E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4E953-43D9-4B79-B4CC-76218C7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A185A-9BB0-4A46-9FF3-6C69A7E0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FB023-E0A5-4E6A-82C3-44BD23D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A67E2-1EE8-4DD6-94D2-7081B3F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9B1BB-3039-48E9-8C8E-849AE55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8A3F4-24E9-40DC-B274-DB39F87E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EBD24-A940-4B86-A336-57D8DF7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5C6C8-EFF1-4382-9130-24D069C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22B03-BD7C-4B16-A58E-938AB107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38B01-5750-4099-A596-AAAEC8D2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04BED-8269-4F3E-A326-6387187C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5AA02-7756-4EFF-ADE6-D7309FE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122DB-4EF2-4877-A84D-113A2B4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FA401-700D-4EB0-BBD5-8C90C6AC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7D593-B60F-4232-9C39-CCF0C521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5AB8E-FEDE-4182-8342-0D68EEEF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76AE3-46D6-436D-9917-9FCD267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C56B9-978C-4B42-A3C1-EAD04C3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706F3-7124-4DAB-AF0E-766AB69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3D511-2E75-43E0-B0DD-6505F2A7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42DE7-309C-4764-813A-90ED1A8B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C04BC-2A1A-4F28-89DC-D47BC6B7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63F62-E4F5-4FD6-BCBC-C4E5E2DF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2132A-B183-43B8-AEC6-65CDB7AB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6EE13-EB29-4713-BF4D-A0C3F94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B7017-F5DA-4AC0-914D-EC57756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5585F-14E2-4A98-9591-F7E55AB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F76FE-7D22-45C9-A2BC-572CE26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18BF8-A092-476B-9AB0-A6051A1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F093B-3716-4314-872A-D8B8536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0D16C-0CE3-4267-B74E-E119FF3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965EF-5D5A-4198-95B3-8FC0B1D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16AFC-9EF7-4D6B-A69A-9BA8F579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34CDD-C482-46A6-94F2-6B382F87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9873F-7411-428E-A305-51756F50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117DA-03EA-4A73-BF1C-AD429BD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57911-77E7-4903-ABA5-82C848FC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A536E-FDE7-40C4-AC91-B24E264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6217D-2F16-408F-AAF4-0FD135C1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A9A54-235E-485B-82A7-79FCEA9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D62BA-2AA7-43A6-AC65-2D30FFB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98F54-053A-49FE-B9E4-59B39B7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4E542-E8DE-491B-BBD8-D8F3614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EE1E0-70DC-4A86-B239-C121059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81CDD-7667-4611-889C-33DD8F8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174B7-1392-4C0F-BD8C-451FB53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C37C6-9ED7-43DD-85C7-F0EB30DD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A3FB0-5FC4-4E02-AF1D-24C35F8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90222-AF82-4674-B3E9-B0F9024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92338-8743-4472-B9AB-13E05A1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2043C-90D1-4C6F-862E-A92067D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21CE9-C726-4486-906C-71B1ECE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AB150-A2D6-4275-8392-55E8A724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017C4-008D-46C0-9B75-5C3E07F6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C8EA1-5C7C-4FE4-B12B-43215CF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18266-70DC-4AAF-A2FC-086CBE0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02499-73BF-4C32-AC25-B252C8B9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14AA6-F049-4C39-A18A-78358EF2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9A573-048E-4A6F-9EE3-2DB53D8C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CC42E-5845-4DC5-BE88-3E3B8A4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0B570-F229-4DD2-858D-ED72336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0A6DE-D883-40FA-8410-8D108B1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08F09-699B-4B15-B5FD-6D110F4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DAD27-1F7F-490F-8630-F36867FC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28431-8A5C-458D-B2C4-C11F18C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4042C-68C9-4F21-AC62-26125D0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9F8C0-4329-4774-98FB-C6197A9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8AB39-E465-4856-9F9C-01D8C2C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EC8B7-E015-4E33-A4F3-860140FB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55807-A746-4463-A13A-EFC534C2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078C1-DDD3-4DEC-8B07-69CA0A0F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26571-3032-42E3-A06F-2B2F9FAE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B12E9-194A-4118-BE16-9B51F0C6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07265-CC76-46FB-9935-B1FB1BD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DEBBE-A648-4C61-86A1-BECE92F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5E854-E946-43BA-9A91-321ADC4D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4EA059-64B0-4792-AEC5-E1833B6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69192-03D4-47EF-93E7-D48F69F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02D54-2BC4-4607-A0C9-C0E4631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97D3E-07A9-4888-B315-301CAAA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DB361-4454-4CA2-8E56-880A11FF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ADCDA-C48E-4D3F-A87C-FBDB7162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6C2-EC0A-4EF8-89C2-86F57510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62C-AE47-4FB8-9AEA-12E0EC3C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99C-84AE-42EE-84E3-B9EA380D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AF8-46FB-4F39-ACDF-31CC982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9BF-7428-4CB8-BC85-EF74B2B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3BF-1335-40BB-80F8-24CFE70F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431-7F06-4133-A289-265AA00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7FC-723B-4931-96ED-B84F427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58E-894B-4415-A515-C7F1B40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D0A-D7EB-465B-A751-AC36E64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3F9-B6C0-422B-BFB8-76DE9B8E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1DF-9EA9-4312-9C56-A77FA010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159A-2872-4FE6-A4E4-F963D323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1C73-F14C-4C0B-962C-6590FC1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618-51E4-4FB5-883A-E7DA5648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703-1A80-4CBE-858E-17B9FBD8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053-1F6D-4D6A-A7A3-F4ACF21D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6B1A-777A-4FF3-B9D0-C63524F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6688-DA6C-4B41-BB6E-290F297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0564-85AA-465C-B064-587A2CD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93E7-8401-4328-874C-D426CE5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ECE-AD23-496A-B4A6-D050C55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4EA7-C676-4255-9547-74F02B12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BBD-D2DA-41F1-AB70-CE071155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C756-C9FC-400D-B81F-C371C7D1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30B7-C73E-4B52-ACFA-47B3D86B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3609-66F7-4AF7-8367-8068239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051D-F992-4664-948A-1DB9AD3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705D-9649-4AD8-B85C-A08FC9B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DF2D-EA9F-4F53-85D7-EF01574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F69C-B0AA-4477-97ED-2DDCC0B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9A02-BC28-409A-A86B-C2F944A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D42C-C9F0-45FD-B5A3-B71A013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669B-8178-4866-8B4C-E2AE3731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5208-3B20-4E61-9DB2-1EF407B4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9630-5A4B-4A6D-A39F-53F696D0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FD11-1FFD-4A39-8D10-50D156BF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2AAB-7348-4E47-8484-28FB07D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C064-296B-4584-9A7A-8B5B6EA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AD1B-5362-40F6-B3CF-0F96031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F899-4B35-4A40-B046-586D11B9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569C-ABF8-4EA4-98DE-46C364B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0507-891F-48BD-9FD6-16D81FB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44174-5C16-4F90-B8EC-479C537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39B9-66A3-4B8F-A491-1258052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9B1D-BF4B-4432-A8F7-F267CFD5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A25A-B5FE-4BD7-8056-723ED95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7342-24CC-46BF-9F2E-5ED2AC43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1F81-55BC-43E5-B38B-9106C7F5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C926-DB3B-4929-BAD6-819CD576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F0E33-CD50-49DE-A748-E461F4D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3D885-9DCD-431A-B858-B6DB7DD3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921B-0A40-4C84-B901-027B719F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810B-6B0D-4D27-AF2C-85D65FA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365BF-5663-4BF9-B3CA-A432662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34B9-BA58-4AF7-9BFF-BCFD0EA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E0C6-5115-4F15-99D6-C7A562F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424B6-F207-4F5B-AEFC-7402848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C1C8-EBB6-4113-8300-C105271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A8D9-3006-4B1E-8694-7FE359C7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D66F-44E5-483B-B0BB-D1687686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1C3D-25F6-4840-B9AE-14835333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FC01-37D5-4768-A4FE-B57579A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6AD-5590-460F-9784-4676835C64BD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2960-97E0-48C3-8A55-FA0CD89388BF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514-156A-4ABB-9F7A-8CED38FAE73B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ABD-AA31-4494-B4F7-2937589991A0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CE9-B444-4854-BB86-9E78A26BBEF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FF0F-D2AD-4817-8BD6-0522B8F1493B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D1E-95A3-4563-85EF-4D93D45BF398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70B-3CFB-4FD7-ABA1-2DC544BE9D47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4E5-7936-4AAD-B360-C41D7E142390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8094-0AEC-42D8-895A-A06B02DF8CC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1EB7-682C-4FFC-B3B8-7E5481998CF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40A-DF81-44D2-BA85-794CCB25B31A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E9D-6854-4E64-BDF5-F5CF9CB785E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E5D-72FF-4609-A8BC-AA6409A68A2B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FDE-7FF6-43DB-821A-89B918CE3DE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323-363E-40F8-A7D9-F6F692615880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5F7-49FF-4F62-8FF8-85A0889767D1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5674-3048-457B-8EDB-42D10AFB1558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B94-834F-46BE-9F08-A6BDDBF3791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CEE-80EE-45A0-BD66-1E95628C3538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c00000"/>
                </a:solidFill>
                <a:uFillTx/>
                <a:latin typeface="Calibri"/>
              </a:rPr>
              <a:t>Rad ravnatelja srednje škole u prvom mandatu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viši savjet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Mario Rogač, pro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imenovanja ravnatel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stav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sebnih kriterija za izbo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četnog osposoblj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rije stupanja na duž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aćenja i vrednovanj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voljno decentralizacij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napredovanj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licenciran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abe ovlasti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dostatak pravne zašt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lo iskorišteni najbolj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riješeni odlazak ravnatelj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avjetnici za ravnatel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kada (puno, pa nitko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ebalo bi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ložaj ravnatelja u škol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bre i loše strane pos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i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igon za iskušavan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a okoline prema ravnatel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ažnost dobrog poče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ne ulo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mostalnost i kreativ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vnatelji u svijet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ličita rješenja ime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razine: državna, pokrajinska, lokal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posobljavanje prije početka rada i licenciranje (uglavn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i odnos u većini zema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nzivno usavršavanje i praćenje rad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dovito praćenje i vrednovanje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užanje stručne pomoći i informaci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užanje pomo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AZOO, MZOS, UHSR, GLOS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oditelji ŽSV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kusni i uspješn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i s NSO licen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rnetske stranice, AZOO, UHSR, MZOS, ZNAMEN, UTIRUŠ, ESH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njige i tekstovi (namijenjeni ravnatelji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SO ravnatelji 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uzana Hitre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 Rašan-Križana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n Puljiz,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ražen Blažeka, Čakov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lan Labus, Zapre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edomir Ružić, La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nježana Barabaš-Seršić, Osij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senija Beljan, Opat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ravnateljski“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lekcija i delegiranje pos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acija rada i praćenje realiz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ćenje rada, ispravljanje pogrešaka i propusta, pravovremeno izvješć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stavnika, pedagoške dokumentacij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ova i programa)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dministrativna pism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redsko poslovanje (Uredba, ZU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obraćanja i pis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učavanje pr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cedure i proto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fina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igu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tragovi (dopisi, obavijesti, izvješća, službene bilješke, zapisnici,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vrda o primitku dopi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isani odgovori na pisane podnes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tužbe, prigovori,žalbe, službeni odgovor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snivanje i raskidanje radnog odnos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2800"/>
            </a:b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 u prvom mandatu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ambicioz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hrabr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optereće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kreativ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ažn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eventivni program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ogram za suzbijanje nasilj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avještavanje nadležnih institu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ZOS, AZOO, CSS, DORH, POLIC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dokumentacija o rješavanju nasi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stručno usavršavanje sebe i drug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ažno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pozivi roditelj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a o NOPU (čl 67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a učenika (čl. 61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OO stanja u razrednom odje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remeni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pis posl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rasci i koncep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nutarnji dogovori i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i kurik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klađenost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ulaza i iz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pored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opterećenje učenika, rupe u raspore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grami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i kurik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alizacija program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grami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kvirni i izvedbeni progr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lanovi i programi rada razrednik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alizacija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Uče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avilnik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o načinima, postupcima i elementima vrednovanja učenika u osnovnoj i srednjoj školi (Narodne novine, broj 112/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Vreme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i bilj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ostanc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imjena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a važn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redmet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izletima i ekskurzijama učenik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a pedagošk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tične knji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pomenic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redna knj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u prvom mandatu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amljeni (prepušteni sami seb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sigur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bun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stre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pre)velika oček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tpuno novi pos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lika odgov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i podzakonski akti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atut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tički kodeks (čl. 58. st. 1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ućni  (školski) red (čl. 58. st. 2. i 3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avilnici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avilnik  o 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na  ra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d  pož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koliš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promicanju  spoznaja o štetnosti  duhanskih proizv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i pravil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e  knji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og  sportskog  klu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legijalnih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nastavničkog vijeć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razrednih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slov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misije za stažiranje (Glasnik MPŠ, br. 5, 30. 4. 1996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pis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razrednih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 vijeća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vije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struktura zapis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Evidenci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o suradnji s roditel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o neprihvatljivim oblicima ponašanja uče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a zamjene nenazočnih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rada izvannastavnih aktivnost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radnog vre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t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orabna dozv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ješenja MZOS-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stručnih su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tajniš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WEB stranic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tički razmotriti rad pretho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vjeriti osobne dosjee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oslanjati se na usmene por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važnije rješavati odmah ili u najkraćem roku (priorite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ajnica škole mora znati gdje je ravna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davati lažne isk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drediti razine k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smjeriti rješavanje problema na Šk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Hitnost postupanja u posebnim situ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žnost svjedoka, ovjerenih pres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tvarati nepotrebne neprija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ti prisutan kada je važ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“bježati” od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ložaj ravnatelja u RH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ložaj 1. vr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Uredba VR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slovodni i stručni voditelj ško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čl. 125. st. 1. Zakon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ati jasne i realne plan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kušati imati što veću podr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prvom mandatu što više čitati i uč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ti uz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aziti na izj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bro vođenje sjednica i sasta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tivacija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biti najpametniji i najzasluž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ati jasne priorit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ažnije 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čuvajte zdravlje i živ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sao je važan, ali nije najvaž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raditi premalo ni previ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ekirati se oko stvari na koji nemate utjecaj ili nisu u vašoj ingerenc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uzimati “prevelike zaloga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ko doista ne ide bolje je odus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a opasnos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znena odgovornost u raznim zako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zneni 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O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pravobranitelju za dje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INANCIJSKO POSL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i izvori proble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oša komunik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e i način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trateški ciljevi i taktički planov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š (“novi”)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Što želite posti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ko ćete to posti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je su potencijalne opas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ime postignuće možete dokaz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čuvn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Kako bi trebalo biti ?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no mjesto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asni kriteriji za izbo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sposobljavanje prije početk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učna pomoć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ćenje i vrednovanje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gućnost napredovanj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će ovlasti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moćnik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dgovornost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25. st. 2. 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dgovoran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za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zakonitost rad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stručni rad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e ustano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ašto vi dozvolit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nate li d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Što ste poduzel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tatus 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: funkcija, položaj ili radno mjesto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tuacija u zadnjih dvadesetak god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ministar, skupština, školski od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nekad sa, nekad bez suglasnosti mini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dan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movinski r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obilizacija, prognanici i izbjeglice, poslijeratno razdobl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e dužnosnika u nadležnom Ministarstvu (10  ministara  od 1990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e prosvjetne polit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inistr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latko Pavlet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sna Girardi-Jurk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jilja Vok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ožidar Pugeln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nsi Ivaniše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ladimir Str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ragan Primor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dovan Fuc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Željko Jov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dran Morn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izdvajanje za školstvo (postotak BN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tatus i pla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broj visokoobrazovanih u R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nema sustavnog praćenja i vrednov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5-02-09T09:08:55Z</dcterms:modified>
  <cp:revision>42</cp:revision>
  <dc:subject/>
  <dc:title>Slide 1</dc:title>
</cp:coreProperties>
</file>