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6643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6636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6"/>
          </p:nvPr>
        </p:nvSpPr>
        <p:spPr>
          <a:xfrm>
            <a:off x="3773160" y="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855720" y="742680"/>
            <a:ext cx="495144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7"/>
          </p:nvPr>
        </p:nvSpPr>
        <p:spPr>
          <a:xfrm>
            <a:off x="-36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8"/>
          </p:nvPr>
        </p:nvSpPr>
        <p:spPr>
          <a:xfrm>
            <a:off x="377316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F349-3516-42B4-B121-E81A75A55DE4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77352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657E3EFD-1DCB-4FD5-BCD4-8959564F8B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1440" cy="37148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08BB-B8D8-4622-A11D-F25E58496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6AB1-B826-4A1E-997F-DE5B626E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5308-5BA2-4300-B3EB-5717BCAE5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5D59-A191-46A6-8D33-5A735CEF0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E980-5A79-473E-834A-0DE0714F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5BF6-6293-463C-9896-2CA0AB5A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D4B9-9CA4-4AD5-B38B-AB8A28A7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C790-B9BE-4C75-9933-ED1EFD31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4FD3-2811-4F0E-A08E-A5D1A8B9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A967-BC3F-4C48-8328-C2AA4446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08FF-25C1-440F-BCE8-D95E2D7A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41E4-48D8-4D5D-9D3E-118486B6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A63A-822A-46C2-B24A-377FDE42A5B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d3481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b2d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28e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6251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memorandum_head_idiz.jpg"/>
          <p:cNvPicPr/>
          <p:nvPr/>
        </p:nvPicPr>
        <p:blipFill>
          <a:blip r:embed="rId1"/>
          <a:stretch/>
        </p:blipFill>
        <p:spPr>
          <a:xfrm>
            <a:off x="155520" y="5419800"/>
            <a:ext cx="8891640" cy="1438200"/>
          </a:xfrm>
          <a:prstGeom prst="rect">
            <a:avLst/>
          </a:prstGeom>
          <a:ln w="0">
            <a:noFill/>
          </a:ln>
        </p:spPr>
      </p:pic>
      <p:sp>
        <p:nvSpPr>
          <p:cNvPr id="92" name="Subtitle 2"/>
          <p:cNvSpPr/>
          <p:nvPr/>
        </p:nvSpPr>
        <p:spPr>
          <a:xfrm>
            <a:off x="826920" y="1268280"/>
            <a:ext cx="792180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93" name="Subtitle 2"/>
          <p:cNvSpPr/>
          <p:nvPr/>
        </p:nvSpPr>
        <p:spPr>
          <a:xfrm>
            <a:off x="979560" y="1420920"/>
            <a:ext cx="79214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94" name="Title 1"/>
          <p:cNvSpPr/>
          <p:nvPr/>
        </p:nvSpPr>
        <p:spPr>
          <a:xfrm>
            <a:off x="826920" y="333360"/>
            <a:ext cx="79171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95" name="Title 1"/>
          <p:cNvSpPr/>
          <p:nvPr/>
        </p:nvSpPr>
        <p:spPr>
          <a:xfrm>
            <a:off x="784080" y="2205000"/>
            <a:ext cx="763272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Calibri"/>
                <a:ea typeface="Arial"/>
              </a:rPr>
              <a:t>Istraživačko učenje – mogućnosti učenika i izazovi prirodoznanstvenog obrazovanja</a:t>
            </a:r>
            <a:endParaRPr b="0" lang="en-US" sz="3600" spc="-1" strike="noStrike">
              <a:solidFill>
                <a:srgbClr val="000000"/>
              </a:solidFill>
              <a:latin typeface="Myriad Pr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  <a:ea typeface="Arial"/>
              </a:rPr>
              <a:t>Zrinka Ristić Dedić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56920" y="1557360"/>
            <a:ext cx="8280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U većini europskih zemalja (i drugih zemalja) pristup nije zadovoljavajuće implementir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Pristupi učenju i poučavanju u školama znatno odstupaju od vizija postavljenih u dokumentima obrazovne politi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Dominantni pristupi su i dalje uglavnom deduktivni, ograničeni na prijenos znanja i orijentirani na sadržaje (činjenic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Pokusi koji se provode u nastavi ne odražavaju ključne odrednice znanstvenog istraživ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Pokusi služe uglavnom kao ilustracija nastavnikovih tvrdnji ili ih učenici provode «po receptu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250920" y="260280"/>
            <a:ext cx="8893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  <a:ea typeface="Arial"/>
              </a:rPr>
              <a:t>Implementacija u školsku praksu</a:t>
            </a:r>
            <a:endParaRPr b="0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11280" y="1483920"/>
            <a:ext cx="8136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Nedovoljna opremljenost ško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Organizacijski proble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Nedostatno vrijeme potrebno za provedbu poku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Zahtjevi plana i progr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Nedovoljna obučenost nastavni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Dominantna kultura poučavanja znanosti u škol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250920" y="260280"/>
            <a:ext cx="8893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  <a:ea typeface="Arial"/>
              </a:rPr>
              <a:t>Implementacijski problemi</a:t>
            </a:r>
            <a:endParaRPr b="0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395280" y="2276640"/>
            <a:ext cx="845964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  <a:ea typeface="Arial"/>
              </a:rPr>
              <a:t>ISTRAŽIVANJA ISTRAŽIVAČKOG UČENJA</a:t>
            </a:r>
            <a:endParaRPr b="0" lang="en-US" sz="4400" spc="-1" strike="noStrike">
              <a:solidFill>
                <a:srgbClr val="000000"/>
              </a:solidFill>
              <a:latin typeface="Myriad Pro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Mogućnosti razvoja znanstvenog razmišljanja kod djece i adolescenata</a:t>
            </a: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C:\Users\ZRINKA\Documents\ostali projekti\strucno usavrsavanje prirodoslovnih nastavnika\istrazivacko ucenje\1185573_10201912017512801_901994395_n.jpg"/>
          <p:cNvPicPr/>
          <p:nvPr/>
        </p:nvPicPr>
        <p:blipFill>
          <a:blip r:embed="rId1"/>
          <a:stretch/>
        </p:blipFill>
        <p:spPr>
          <a:xfrm>
            <a:off x="2354400" y="0"/>
            <a:ext cx="443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560" y="1628280"/>
            <a:ext cx="856908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500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Zadaci samostalno ili djelomično vođenog eksperimentir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500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Učenici uobičajeno sudjeluju u svim fazama istraživačkog proce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500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Od učenika se zahtijeva osmišljavanje i provođenje eksperimenata i donošenje zaključaka o odnosima između NZV i Z</a:t>
            </a:r>
            <a:r>
              <a:rPr b="0" lang="en-GB" sz="2400" spc="-1" strike="noStrike">
                <a:solidFill>
                  <a:srgbClr val="7f7f7f"/>
                </a:solidFill>
                <a:latin typeface="Calibri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500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Uobičajeno se koristi model s više NZV i jednom Z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500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7f7f7f"/>
                </a:solidFill>
                <a:latin typeface="Calibri"/>
              </a:rPr>
              <a:t>Hands-on</a:t>
            </a: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 ili računalni zadata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500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Rad učenika nije pod neposrednom kontrolom i vođenjem istraživač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250920" y="260280"/>
            <a:ext cx="8893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  <a:ea typeface="Arial"/>
              </a:rPr>
              <a:t>Istraživačko učenje u okviru istraživanja znanstvenog razmišljanja</a:t>
            </a:r>
            <a:endParaRPr b="0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Zahtjevi zadatk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569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Zadaci zahtijevaju aktivno, samoregulirano učen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Učenik sam prikuplja podatke i odlučuje o istraživačkom pristupu i trajanju rada (bira razine/ kategorije nezavisnih varijabli, redoslijed i broj eksperimenat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>
              <a:lnSpc>
                <a:spcPct val="90000"/>
              </a:lnSpc>
              <a:spcBef>
                <a:spcPts val="601"/>
              </a:spcBef>
              <a:spcAft>
                <a:spcPts val="700"/>
              </a:spcAft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Zadaci zahtijevaju primjenu različitih istraživačkih vještina i strategi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ef4b6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7f7f7f"/>
                </a:solidFill>
                <a:latin typeface="Calibri"/>
              </a:rPr>
              <a:t>Postavljanje istraživačkog pita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ef4b6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7f7f7f"/>
                </a:solidFill>
                <a:latin typeface="Calibri"/>
              </a:rPr>
              <a:t>Postavljanje hipotez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ef4b6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7f7f7f"/>
                </a:solidFill>
                <a:latin typeface="Calibri"/>
              </a:rPr>
              <a:t>Eksperimentiran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ef4b6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7f7f7f"/>
                </a:solidFill>
                <a:latin typeface="Calibri"/>
              </a:rPr>
              <a:t>Zaključivanje o odnosima između varijab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>
              <a:lnSpc>
                <a:spcPct val="90000"/>
              </a:lnSpc>
              <a:spcBef>
                <a:spcPts val="601"/>
              </a:spcBef>
              <a:spcAft>
                <a:spcPts val="700"/>
              </a:spcAft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Valjan rad podrazumijeva sustavan i promišljen pristup, planiranje, organizaciju i kontinuirano praćenje od strane učeni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>
              <a:lnSpc>
                <a:spcPct val="90000"/>
              </a:lnSpc>
              <a:spcBef>
                <a:spcPts val="601"/>
              </a:spcBef>
              <a:spcAft>
                <a:spcPts val="700"/>
              </a:spcAft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Ulaganje truda i ustrajnost su također ključni za uspjeh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755640" y="278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  <a:ea typeface="Arial"/>
              </a:rPr>
              <a:t>Primjer zadatka</a:t>
            </a:r>
            <a:endParaRPr b="0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8"/>
          <p:cNvSpPr/>
          <p:nvPr/>
        </p:nvSpPr>
        <p:spPr>
          <a:xfrm>
            <a:off x="3238560" y="4941720"/>
            <a:ext cx="5905440" cy="863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FILE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  <a:ea typeface="Arial"/>
              </a:rPr>
              <a:t> -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Flexible Inquiry Learning Environment</a:t>
            </a:r>
            <a:r>
              <a:rPr b="1" lang="hr-HR" sz="29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hr-HR" sz="1400" spc="-1" strike="noStrike">
                <a:solidFill>
                  <a:srgbClr val="000000"/>
                </a:solidFill>
                <a:latin typeface="Calibri"/>
                <a:ea typeface="Arial"/>
              </a:rPr>
              <a:t>(Hulshof i sur., 2005)</a:t>
            </a:r>
            <a:endParaRPr b="0" lang="en-US" sz="1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3238560" y="5950080"/>
            <a:ext cx="5905440" cy="647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696464"/>
                </a:solidFill>
                <a:latin typeface="Calibri"/>
                <a:ea typeface="Arial"/>
              </a:rPr>
              <a:t>“</a:t>
            </a:r>
            <a:r>
              <a:rPr b="1" lang="hr-HR" sz="1800" spc="-1" strike="noStrike">
                <a:solidFill>
                  <a:srgbClr val="696464"/>
                </a:solidFill>
                <a:latin typeface="Calibri"/>
                <a:ea typeface="Arial"/>
              </a:rPr>
              <a:t>Treba pronaći što ima, a što nema utjecaj na uništenje šuma”</a:t>
            </a: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SzPct val="8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Kako učenici rješavaju ovakve zadatk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497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Učenici imaju problema u različitim fazama istraživačkog procesa (pregled istraživanja u Zimmerman, 2005, 2007, 200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ef4b6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7f7f7f"/>
                </a:solidFill>
                <a:latin typeface="Calibri"/>
              </a:rPr>
              <a:t>Planiranje pojedinog eksperiment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ef4b6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7f7f7f"/>
                </a:solidFill>
                <a:latin typeface="Calibri"/>
              </a:rPr>
              <a:t>Postavljanje hipotez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ef4b6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7f7f7f"/>
                </a:solidFill>
                <a:latin typeface="Calibri"/>
              </a:rPr>
              <a:t>Eksperimentiran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ef4b6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7f7f7f"/>
                </a:solidFill>
                <a:latin typeface="Calibri"/>
              </a:rPr>
              <a:t>Zaključivanje o odnosima između varijab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700"/>
              </a:spcAft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Učenici imaju nedostatno razvijene istraživačke vještine potrebne za optimalno istraživačko učen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700"/>
              </a:spcAft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Međutim, rad na zadacima istraživačkog učenja unaprjeđuje istraživačke vješt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Znanstveno razmišljanje je zahtjev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55640" y="1484280"/>
          <a:ext cx="7416720" cy="3849840"/>
        </p:xfrm>
        <a:graphic>
          <a:graphicData uri="http://schemas.openxmlformats.org/drawingml/2006/table">
            <a:tbl>
              <a:tblPr/>
              <a:tblGrid>
                <a:gridCol w="3708360"/>
                <a:gridCol w="3708360"/>
              </a:tblGrid>
              <a:tr h="646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vakodnevno zaključivan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yriad 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nanstveno razmišljan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yriad 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kustve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yriad 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stavno, analitičk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yriad 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8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svjes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yriad 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jesno kontroli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yriad 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vija se bez ulaganja tru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yriad 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htijeva ulaganje tru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yriad 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matizi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yriad 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lj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yriad 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z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yriad 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išlje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yriad 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lističk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yriad 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tičk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yriad 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uitivno/ spont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yriad 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leksiv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yriad 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STRUKTURA IZLAGANJ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01400" y="1699920"/>
            <a:ext cx="859284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Što je istraživačko učenje i koji je njegov značaj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Što istraživanja govore o mogućnostima učenika za istraživačko učenj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Koje su implikacije za obrazovnu praksu (uvjeti potrebni za uspješno učenje)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memorandum_head_idiz.jpg"/>
          <p:cNvPicPr/>
          <p:nvPr/>
        </p:nvPicPr>
        <p:blipFill>
          <a:blip r:embed="rId1"/>
          <a:stretch/>
        </p:blipFill>
        <p:spPr>
          <a:xfrm>
            <a:off x="252360" y="5419800"/>
            <a:ext cx="889164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395280" y="2708280"/>
            <a:ext cx="845964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alibri"/>
                <a:ea typeface="Arial"/>
              </a:rPr>
              <a:t>ISTRAŽIVAČKE VJEŠTINE</a:t>
            </a:r>
            <a:endParaRPr b="0" lang="en-US" sz="4000" spc="-1" strike="noStrike">
              <a:solidFill>
                <a:srgbClr val="000000"/>
              </a:solidFill>
              <a:latin typeface="Myriad Pro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  <a:ea typeface="Arial"/>
              </a:rPr>
              <a:t>Kako tijekom rada na zadatku istraživačkog učenja razvijaju istraživačke vještine i strategije učenika?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Planiranje svrhe pojedinog eksperimen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73"/>
          <p:cNvSpPr/>
          <p:nvPr/>
        </p:nvSpPr>
        <p:spPr>
          <a:xfrm>
            <a:off x="539640" y="191376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04040"/>
                </a:solidFill>
                <a:latin typeface="Calibri"/>
              </a:rPr>
              <a:t>Na početku učenja: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Učenici uglavnom nemaju cilj istražiti učinak pojedinih nezavisnih varijabli, već žele proizvesti neki učinak.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Eksperimenti se često izvode bez jasnog plana, </a:t>
            </a:r>
            <a:r>
              <a:rPr b="0" i="1" lang="hr-HR" sz="2400" spc="-1" strike="noStrike">
                <a:solidFill>
                  <a:srgbClr val="7f7f7f"/>
                </a:solidFill>
                <a:latin typeface="Calibri"/>
              </a:rPr>
              <a:t>samo da se isproba</a:t>
            </a: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04040"/>
                </a:solidFill>
                <a:latin typeface="Calibri"/>
              </a:rPr>
              <a:t>U kasnijim fazama, sa stjecanjem istraživačkog iskustva: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Pomak prema znanstvenom pristupu – cilj je ispitati učinak nezavisnih varijabli.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Dio učenika spontano počinje iskazivati namjeru istraživanja složenijih odnosa nezavisnih varijabli.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Postavljanje hipotez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497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840" indent="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04040"/>
                </a:solidFill>
                <a:latin typeface="Calibri"/>
              </a:rPr>
              <a:t>Na početku uče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584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Iako učenici od početka imaju prilično jasna očekivanja („teorije”) o učinku pojedinih NZV na ZV, uglavnom ne izražavaju hipotez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584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Brojnije su hipoteze kad učenici očekuju da NZV ima učinak na ZV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584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Kad učenici očekuju da NZV nema učinak, nema postavljanja hipotez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5840" indent="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04040"/>
                </a:solidFill>
                <a:latin typeface="Calibri"/>
              </a:rPr>
              <a:t>U kasnijim fazama, sa stjecanjem istraživačkog iskustva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584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Hipoteze se postavljaju sve češće, posebno one o nepostojanju učinka NZV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584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Malo interakcijskih hipoteza – poteškoće u opisivanju očekivanja o interakcijskim odnosi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552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Vještine eksperimentiranj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1"/>
          <p:cNvSpPr/>
          <p:nvPr/>
        </p:nvSpPr>
        <p:spPr>
          <a:xfrm>
            <a:off x="588960" y="1413000"/>
            <a:ext cx="806436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84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04040"/>
                </a:solidFill>
                <a:latin typeface="Calibri"/>
              </a:rPr>
              <a:t>Na početku učenja: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1584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Učenici uglavnom mijenjaju više od jedne nezavisne varijable – ne koriste strategiju kontrole varijabli.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1584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04040"/>
                </a:solidFill>
                <a:latin typeface="Calibri"/>
              </a:rPr>
              <a:t>U kasnijim fazama, sa stjecanjem istraživačkog iskustva:  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1584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Raste sustavnost eksperimentiranja i korištenje kontrolirane usporedbe.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1584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Ipak, ne baš uvijek, i ne baš kod svih učenika!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1584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Nekonzistentnost je pravilo, a ne iznimka.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1584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468360" y="1700280"/>
            <a:ext cx="8207280" cy="50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04040"/>
                </a:solidFill>
                <a:latin typeface="Calibri"/>
              </a:rPr>
              <a:t>Na početku učenja: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Učenici donose mnogo nevaljanih zaključaka o postojanju učinka pojedine NZV na ZV (</a:t>
            </a:r>
            <a:r>
              <a:rPr b="0" i="1" lang="hr-HR" sz="2400" spc="-1" strike="noStrike">
                <a:solidFill>
                  <a:srgbClr val="7f7f7f"/>
                </a:solidFill>
                <a:latin typeface="Calibri"/>
              </a:rPr>
              <a:t>„sve ima veze”</a:t>
            </a: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Nevaljani zaključci su netočni zaključci, kao i zaključci koji su doneseni na nekontroliran način.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Učenici donose mnogo više zaključaka koji govore o postojanju, nego o nepostojanju učinka pojedine NZV. </a:t>
            </a:r>
            <a:r>
              <a:rPr b="0" i="1" lang="hr-HR" sz="2400" spc="-1" strike="noStrike">
                <a:solidFill>
                  <a:srgbClr val="7f7f7f"/>
                </a:solidFill>
                <a:latin typeface="Calibri"/>
              </a:rPr>
              <a:t>(</a:t>
            </a:r>
            <a:r>
              <a:rPr b="0" i="1" lang="hr-HR" sz="2000" spc="-1" strike="noStrike">
                <a:solidFill>
                  <a:srgbClr val="7f7f7f"/>
                </a:solidFill>
                <a:latin typeface="Myriad Pro"/>
              </a:rPr>
              <a:t>nekontrolirana usporedba pruža više mogućnosti za donošenje takvih zaključaka, veća usmjerenost na kauzalne čimbenike, pristranost potvrđivanja u skladu s teorijama, lako stvaranje kauzalnih teorija)</a:t>
            </a:r>
            <a:endParaRPr b="0" lang="en-US" sz="20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Prvi valjani zaključci uobičajeno se donose relativno brzo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Prvi valjani zaključci se često donose bez plana, na temelju analize „neobičnog” rezultata. 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324000" y="228600"/>
            <a:ext cx="8712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  <a:ea typeface="Arial"/>
              </a:rPr>
              <a:t>Vještine zaključivanja o odnosima među varijablama 1</a:t>
            </a:r>
            <a:endParaRPr b="0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468360" y="1844640"/>
            <a:ext cx="799308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04040"/>
                </a:solidFill>
                <a:latin typeface="Calibri"/>
              </a:rPr>
              <a:t>U kasnijim fazama, sa stjecanjem istraživačkog iskustva: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Smanjuje se broj nevaljanih zaključaka koji govore o učinku pojedine NZV na ZV.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Ipak, dio učenika ne uspijeva ostvariti zadovoljavajuću </a:t>
            </a:r>
            <a:r>
              <a:rPr b="0" lang="hr-HR" sz="2400" spc="-1" strike="noStrike">
                <a:solidFill>
                  <a:srgbClr val="808080"/>
                </a:solidFill>
                <a:latin typeface="Calibri"/>
              </a:rPr>
              <a:t>razinu valjanosti zaključaka o postojanju učinka NZV.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Neki učenici imaju problema s odbacivanjem vlastitih teorija o postojanju učinka NZV pa izbjegavaju donošenje zaključaka o nepostojanju veze ili donose nevaljane zaključke o postojanju učinka NZV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324000" y="228600"/>
            <a:ext cx="8712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  <a:ea typeface="Arial"/>
              </a:rPr>
              <a:t>Vještine zaključivanja o odnosima među varijablama 2</a:t>
            </a:r>
            <a:endParaRPr b="0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395280" y="2708280"/>
            <a:ext cx="8459640" cy="21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alibri"/>
                <a:ea typeface="Arial"/>
              </a:rPr>
              <a:t>STEČENO ZNANJE </a:t>
            </a:r>
            <a:endParaRPr b="0" lang="en-US" sz="4000" spc="-1" strike="noStrike">
              <a:solidFill>
                <a:srgbClr val="000000"/>
              </a:solidFill>
              <a:latin typeface="Myriad Pro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  <a:ea typeface="Arial"/>
              </a:rPr>
              <a:t>Što su učenici naučili o odnosima NZV i ZV kroz rad na zadatku istraživačkog učenja?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Razumijevanje odnosa NZV I Z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179280" y="126828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22440" indent="-443160">
              <a:lnSpc>
                <a:spcPct val="10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96464"/>
                </a:solidFill>
                <a:latin typeface="Calibri"/>
                <a:ea typeface="Arial"/>
              </a:rPr>
              <a:t>Učenici uglavnom uspješno otkrivaju jednostavne učinke NZV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lvl="1" marL="622440" indent="-443160">
              <a:lnSpc>
                <a:spcPct val="10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96464"/>
                </a:solidFill>
                <a:latin typeface="Calibri"/>
                <a:ea typeface="Arial"/>
              </a:rPr>
              <a:t>Znanje o odnosima između varijabli je potpuno samo za dio učenika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042920" y="2708280"/>
          <a:ext cx="6769080" cy="2665440"/>
        </p:xfrm>
        <a:graphic>
          <a:graphicData uri="http://schemas.openxmlformats.org/drawingml/2006/table">
            <a:tbl>
              <a:tblPr/>
              <a:tblGrid>
                <a:gridCol w="2754360"/>
                <a:gridCol w="2006640"/>
                <a:gridCol w="2008080"/>
              </a:tblGrid>
              <a:tr h="684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yriad Pro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tvrda teori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yriad Pro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ovrgavanje teori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yriad Pro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1015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etna teorija učenika govori o </a:t>
                      </a:r>
                      <a:r>
                        <a:rPr b="0" lang="hr-HR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ostojanju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činka NZ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yriad Pro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yriad Pro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yriad Pro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etna teorija učenika govori o </a:t>
                      </a:r>
                      <a:r>
                        <a:rPr b="0" lang="hr-HR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nepostojanju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činka NZ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yriad Pro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yriad Pro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yriad Pro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Rectangle 65"/>
          <p:cNvSpPr/>
          <p:nvPr/>
        </p:nvSpPr>
        <p:spPr>
          <a:xfrm>
            <a:off x="324000" y="558972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23960" indent="-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96464"/>
                </a:solidFill>
                <a:latin typeface="Calibri"/>
                <a:ea typeface="Arial"/>
              </a:rPr>
              <a:t>Znatne poteškoće u otkrivanju interakcijskih i nelinearnih odnosa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59" name="Rectangle 1"/>
          <p:cNvSpPr/>
          <p:nvPr/>
        </p:nvSpPr>
        <p:spPr>
          <a:xfrm>
            <a:off x="3967200" y="3573360"/>
            <a:ext cx="173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9933"/>
                </a:solidFill>
                <a:latin typeface="Calibri"/>
                <a:ea typeface="Arial"/>
              </a:rPr>
              <a:t>Jednostavno za učenike</a:t>
            </a: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5840280" y="3573360"/>
            <a:ext cx="19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ef4b6e"/>
                </a:solidFill>
                <a:latin typeface="Calibri"/>
                <a:ea typeface="Arial"/>
              </a:rPr>
              <a:t>Problematično za znatan dio učenika</a:t>
            </a: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3941640" y="4552920"/>
            <a:ext cx="16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cc99"/>
                </a:solidFill>
                <a:latin typeface="Calibri"/>
                <a:ea typeface="Arial"/>
              </a:rPr>
              <a:t>Uglavnom nije problematično </a:t>
            </a: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5689440" y="44146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cc99"/>
                </a:solidFill>
                <a:latin typeface="Calibri"/>
                <a:ea typeface="Arial"/>
              </a:rPr>
              <a:t>Nije problematično (lako izgrađuju novu teoriju)</a:t>
            </a: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395280" y="2492280"/>
            <a:ext cx="8459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alibri"/>
                <a:ea typeface="Arial"/>
              </a:rPr>
              <a:t>ŠTO JE KLJUČNO ZA USPJEŠAN RAD UČENIKA NA ZADACIMA ISTRAŽIVAČKOG UČENJA?</a:t>
            </a:r>
            <a:br>
              <a:rPr sz="2400"/>
            </a:br>
            <a:endParaRPr b="0" lang="en-US" sz="40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80c06"/>
                </a:solidFill>
                <a:latin typeface="Calibri"/>
              </a:rPr>
              <a:t>1. </a:t>
            </a: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Razumijevanje zahtjeva zadatk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3516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Dva elementa su ključn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601"/>
              </a:spcBef>
              <a:buClr>
                <a:srgbClr val="ef4b6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Razumijevanje cilja zadat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601"/>
              </a:spcBef>
              <a:buClr>
                <a:srgbClr val="ef4b6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Razumijevanje strategija rada na zadat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Značaj samo po sebi, kao obrazovni cilj u prirodoznanstvenom obrazovanju, vezan uz poznavanje i razumijevanje znanstvene metode i procesa zna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Učenicima često nedostaje razumijevanje cilja i strategija rada nužno za uspješno istraživačko uče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Učenici koji pokazuju bolje razumijevanje zadatka valjanije eksperimentiraju i zaključuju te stječu više znanja o odnosima između NZV i ZV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5822280" y="5877000"/>
            <a:ext cx="318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cc99"/>
                </a:solidFill>
                <a:latin typeface="Comic Sans MS"/>
                <a:ea typeface="Arial"/>
              </a:rPr>
              <a:t>OBRAZOVNI CILJ?</a:t>
            </a:r>
            <a:r>
              <a:rPr b="0" lang="hr-HR" sz="2800" spc="-1" strike="noStrike">
                <a:solidFill>
                  <a:srgbClr val="00cc99"/>
                </a:solidFill>
                <a:latin typeface="Harringto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1605240" y="1358280"/>
            <a:ext cx="375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9933"/>
                </a:solidFill>
                <a:latin typeface="Comic Sans MS"/>
                <a:ea typeface="Arial"/>
              </a:rPr>
              <a:t>Eksperiment/ Pokus?</a:t>
            </a:r>
            <a:r>
              <a:rPr b="0" lang="hr-HR" sz="2800" spc="-1" strike="noStrike">
                <a:solidFill>
                  <a:srgbClr val="ff9933"/>
                </a:solidFill>
                <a:latin typeface="Myriad Pro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2674080" y="5156280"/>
            <a:ext cx="423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ff"/>
                </a:solidFill>
                <a:latin typeface="Comic Sans MS"/>
                <a:ea typeface="Arial"/>
              </a:rPr>
              <a:t>METODA POUČAVANJA?</a:t>
            </a:r>
            <a:r>
              <a:rPr b="0" lang="hr-HR" sz="2800" spc="-1" strike="noStrike">
                <a:solidFill>
                  <a:srgbClr val="0000ff"/>
                </a:solidFill>
                <a:latin typeface="Myriad Pro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578880" y="4363920"/>
            <a:ext cx="32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c0504d"/>
                </a:solidFill>
                <a:latin typeface="Comic Sans MS"/>
                <a:ea typeface="Arial"/>
              </a:rPr>
              <a:t>METODA UČENJA?</a:t>
            </a:r>
            <a:r>
              <a:rPr b="0" lang="hr-HR" sz="2800" spc="-1" strike="noStrike">
                <a:solidFill>
                  <a:srgbClr val="c0504d"/>
                </a:solidFill>
                <a:latin typeface="Myriad Pro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4724640" y="764280"/>
            <a:ext cx="379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cc00ff"/>
                </a:solidFill>
                <a:latin typeface="Comic Sans MS"/>
                <a:ea typeface="Arial"/>
              </a:rPr>
              <a:t>Problemska nastava?</a:t>
            </a:r>
            <a:r>
              <a:rPr b="0" lang="hr-HR" sz="2800" spc="-1" strike="noStrike">
                <a:solidFill>
                  <a:srgbClr val="cc00ff"/>
                </a:solidFill>
                <a:latin typeface="Myriad Pro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624960" y="2355120"/>
            <a:ext cx="34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Projektna nastava?</a:t>
            </a:r>
            <a:r>
              <a:rPr b="0" lang="hr-HR" sz="2800" spc="-1" strike="noStrike">
                <a:solidFill>
                  <a:srgbClr val="000000"/>
                </a:solidFill>
                <a:latin typeface="Myriad Pro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411480" y="403920"/>
            <a:ext cx="365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9933"/>
                </a:solidFill>
                <a:latin typeface="Comic Sans MS"/>
                <a:ea typeface="Arial"/>
              </a:rPr>
              <a:t>Učenje otkrivanjem?</a:t>
            </a:r>
            <a:r>
              <a:rPr b="0" lang="hr-HR" sz="2800" spc="-1" strike="noStrike">
                <a:solidFill>
                  <a:srgbClr val="339933"/>
                </a:solidFill>
                <a:latin typeface="Myriad Pro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4421160" y="2093760"/>
            <a:ext cx="26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58ed5"/>
                </a:solidFill>
                <a:latin typeface="Comic Sans MS"/>
              </a:rPr>
              <a:t>Praktičan rad?</a:t>
            </a:r>
            <a:r>
              <a:rPr b="0" lang="hr-HR" sz="2800" spc="-1" strike="noStrike">
                <a:solidFill>
                  <a:srgbClr val="558ed5"/>
                </a:solidFill>
                <a:latin typeface="Myriad Pr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Razumijevanje cilja zadatk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129"/>
          <p:cNvSpPr/>
          <p:nvPr/>
        </p:nvSpPr>
        <p:spPr>
          <a:xfrm>
            <a:off x="561960" y="2708280"/>
            <a:ext cx="7970760" cy="642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Myriad Pro"/>
                <a:ea typeface="Arial"/>
              </a:rPr>
              <a:t>Od inženjerskog pristupa prema analizi učinaka čimbenika koji dovode do ishoda</a:t>
            </a: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</p:txBody>
      </p:sp>
      <p:pic>
        <p:nvPicPr>
          <p:cNvPr id="168" name="Diagram 1" descr=""/>
          <p:cNvPicPr/>
          <p:nvPr/>
        </p:nvPicPr>
        <p:blipFill>
          <a:blip r:embed="rId1"/>
          <a:stretch/>
        </p:blipFill>
        <p:spPr>
          <a:xfrm>
            <a:off x="938160" y="1401840"/>
            <a:ext cx="7182000" cy="10494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"/>
          <p:cNvSpPr/>
          <p:nvPr/>
        </p:nvSpPr>
        <p:spPr>
          <a:xfrm>
            <a:off x="369720" y="3357720"/>
            <a:ext cx="8355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  <a:ea typeface="Arial"/>
              </a:rPr>
              <a:t>Razumijevanje strategija rada</a:t>
            </a:r>
            <a:endParaRPr b="0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70" name="Rectangle 128"/>
          <p:cNvSpPr/>
          <p:nvPr/>
        </p:nvSpPr>
        <p:spPr>
          <a:xfrm>
            <a:off x="709560" y="6327720"/>
            <a:ext cx="7344000" cy="642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58920" indent="-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Myriad Pro"/>
                <a:ea typeface="Arial"/>
              </a:rPr>
              <a:t>Razumijevanje potrebe korištenja SKV tek kod manjeg dijela ispitanika!</a:t>
            </a: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</p:txBody>
      </p:sp>
      <p:pic>
        <p:nvPicPr>
          <p:cNvPr id="171" name="Diagram 10" descr=""/>
          <p:cNvPicPr/>
          <p:nvPr/>
        </p:nvPicPr>
        <p:blipFill>
          <a:blip r:embed="rId2"/>
          <a:stretch/>
        </p:blipFill>
        <p:spPr>
          <a:xfrm>
            <a:off x="957240" y="4138560"/>
            <a:ext cx="3602160" cy="1884240"/>
          </a:xfrm>
          <a:prstGeom prst="rect">
            <a:avLst/>
          </a:prstGeom>
          <a:ln w="0">
            <a:noFill/>
          </a:ln>
        </p:spPr>
      </p:pic>
      <p:pic>
        <p:nvPicPr>
          <p:cNvPr id="172" name="Diagram 11" descr=""/>
          <p:cNvPicPr/>
          <p:nvPr/>
        </p:nvPicPr>
        <p:blipFill>
          <a:blip r:embed="rId3"/>
          <a:stretch/>
        </p:blipFill>
        <p:spPr>
          <a:xfrm>
            <a:off x="4705200" y="4091040"/>
            <a:ext cx="3621240" cy="19447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28"/>
          <p:cNvSpPr/>
          <p:nvPr/>
        </p:nvSpPr>
        <p:spPr>
          <a:xfrm>
            <a:off x="826920" y="4162320"/>
            <a:ext cx="1119240" cy="368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Myriad Pro"/>
                <a:ea typeface="Arial"/>
              </a:rPr>
              <a:t>Prije</a:t>
            </a: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74" name="Rectangle 128"/>
          <p:cNvSpPr/>
          <p:nvPr/>
        </p:nvSpPr>
        <p:spPr>
          <a:xfrm>
            <a:off x="4859280" y="4141800"/>
            <a:ext cx="1119240" cy="368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Myriad Pro"/>
                <a:ea typeface="Arial"/>
              </a:rPr>
              <a:t>Poslije</a:t>
            </a: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552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Važnost razumijevanja zahtjeva zadatk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468360" y="2060640"/>
            <a:ext cx="82249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675"/>
              </a:spcBef>
              <a:buClr>
                <a:srgbClr val="69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yriad Pro"/>
            </a:endParaRPr>
          </a:p>
          <a:p>
            <a:pPr lvl="1" marL="63972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468360" y="1268280"/>
            <a:ext cx="822492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700"/>
              </a:spcAft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Razumijevanje zahtjeva zadatka (barem na određenoj razini) je nužan uvjet uspješnog istraživačkog učenja.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700"/>
              </a:spcAft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Razumijevanje zadatka se može očekivati tek onda kad učenici pristupe radu na zadatku.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700"/>
              </a:spcAft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Učenici pokazuju napredak (više u cilju, nego u strategijama).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700"/>
              </a:spcAft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Mnogi učenici pokazuju nedostatno razumijevanje, čak i na poslije učenja. 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700"/>
              </a:spcAft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Učenici ne uspijevaju primijeniti novo stečeno razumijevanje na novi, sličan zadatak - dobitci stečeni kroz rad na zadatku su osjetljivi i ograničeni samo na neposrednu situaciju učenja. 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700"/>
              </a:spcAft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Ponavljani rad na zadatku može unaprijediti razumijevanje zadatka, ali su jače intervencije potrebne za prijenos u druge situacije.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80c06"/>
                </a:solidFill>
                <a:latin typeface="Calibri"/>
              </a:rPr>
              <a:t>2. </a:t>
            </a: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Planski, sustavno organiziran rad na zadatk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7138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spcAft>
                <a:spcPts val="700"/>
              </a:spcAft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Rezultati učenja ovise o tome koliko učenik planira i kako organizira rad na zadatku, koliko sustavno eksperimentira i koliko prati i upravlja procesom učenj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spcAft>
                <a:spcPts val="700"/>
              </a:spcAft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Učenici koji rade planski koriste valjanije strategije eksperimentiranja i zaključivanja i stječu više znanja o odnosima između varijabli od učenika koji nemaju plan ili samo lokalno ulančavaju susjedne eksperimen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25800" indent="-325800">
              <a:spcBef>
                <a:spcPts val="601"/>
              </a:spcBef>
              <a:spcAft>
                <a:spcPts val="700"/>
              </a:spcAft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Tijekom učenja dolazi do poboljšanja u planiranju i organiziranju učenja, sustavnijem eksperimentiranju i refleksivnijem zaključivanj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395280" y="2205000"/>
            <a:ext cx="845964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alibri"/>
                <a:ea typeface="Arial"/>
              </a:rPr>
              <a:t>ZAKLJUČAK</a:t>
            </a:r>
            <a:endParaRPr b="0" lang="en-US" sz="4000" spc="-1" strike="noStrike">
              <a:solidFill>
                <a:srgbClr val="000000"/>
              </a:solidFill>
              <a:latin typeface="Myriad Pr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  <a:ea typeface="Arial"/>
              </a:rPr>
              <a:t>Što nam spoznaje o prirodi i razvoju istraživačko učenje govore o potencijalima učenika za znanstveno razmišljanje?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  <a:ea typeface="Arial"/>
              </a:rPr>
              <a:t>Koje su implikacije za obrazovnu praksu?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3534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Nije opravdano pretpostaviti da učenici već posjeduju vještine potrebne za rad na istraživačkim zadaci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Te vještine se ne razvijaju same od sebe, bez prikladnog obrazovnog iskustva         Zadatak je nastavnika učenicima pomoći u razvoju tih vješt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Najprikladnije obrazovno iskustvo je upravo neposredno sudjelovanje učenika u istraživačkim aktivnostima koja, barem u temeljnim crtama, odgovaraju znanstvenim istraživanji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Naglasak prirodoznanstvenog obrazovanja staviti upravo na osiguravanju prilika za kontinuirano i neposredno iskustvo sudjelovanja u istraživačkim aktivnosti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250920" y="260280"/>
            <a:ext cx="8893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  <a:ea typeface="Arial"/>
              </a:rPr>
              <a:t>Zaključak 1</a:t>
            </a:r>
            <a:endParaRPr b="0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cxnSp>
        <p:nvCxnSpPr>
          <p:cNvPr id="183" name="Straight Arrow Connector 2"/>
          <p:cNvCxnSpPr/>
          <p:nvPr/>
        </p:nvCxnSpPr>
        <p:spPr>
          <a:xfrm>
            <a:off x="3419280" y="2781000"/>
            <a:ext cx="361080" cy="10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5"/>
          <p:cNvSpPr/>
          <p:nvPr/>
        </p:nvSpPr>
        <p:spPr>
          <a:xfrm>
            <a:off x="250920" y="1111320"/>
            <a:ext cx="842472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1500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Ponavljani rad na zadatku je sam po sebi dovoljan za poticanje promjena - učenici stječu relevantne vještine i znanja i uče o procesima znanosti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355680" indent="-355680">
              <a:lnSpc>
                <a:spcPct val="100000"/>
              </a:lnSpc>
              <a:spcBef>
                <a:spcPts val="1500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Većina učenika napreduje u znanjima, vještinama i strategijama istraživačkog učenja, ali ne svi (značajne razlike između učenika) </a:t>
            </a:r>
            <a:r>
              <a:rPr b="0" lang="hr-HR" sz="2400" spc="-1" strike="noStrike">
                <a:solidFill>
                  <a:srgbClr val="7f7f7f"/>
                </a:solidFill>
                <a:latin typeface="Wingdings"/>
                <a:ea typeface="Wingdings"/>
              </a:rPr>
              <a:t></a:t>
            </a: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 napredovanje daleko od optimalnog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355680" indent="-355680">
              <a:lnSpc>
                <a:spcPct val="100000"/>
              </a:lnSpc>
              <a:spcBef>
                <a:spcPts val="1500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Svi su učenici sposobni izvesti barem poneku valjanu usporedbu i donijeti valjani zaključak o učinku NZV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355680" indent="-355680">
              <a:lnSpc>
                <a:spcPct val="100000"/>
              </a:lnSpc>
              <a:spcBef>
                <a:spcPts val="1500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Većinu učenika karakterizira paralelno korištenje valjanih i nevaljanih istraživačkih strategija (razlike unutar učenika)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355680" indent="-355680">
              <a:lnSpc>
                <a:spcPct val="100000"/>
              </a:lnSpc>
              <a:spcBef>
                <a:spcPts val="1500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Nema naglog i nepovratnog prijelaza s nevaljanih na valjani istraživački pristup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250920" y="260280"/>
            <a:ext cx="8893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  <a:ea typeface="Arial"/>
              </a:rPr>
              <a:t>Zaključak 2</a:t>
            </a:r>
            <a:endParaRPr b="0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228600"/>
            <a:ext cx="8640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Zaključak 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468360" y="2060640"/>
            <a:ext cx="82249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675"/>
              </a:spcBef>
              <a:buClr>
                <a:srgbClr val="69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yriad Pro"/>
            </a:endParaRPr>
          </a:p>
          <a:p>
            <a:pPr lvl="1" marL="63972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260280" y="1270080"/>
            <a:ext cx="8640720" cy="55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spcBef>
                <a:spcPts val="1500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Istraživačke vještine i uvide učenici ne mogu steći kroz predavačku nastavu, kroz promatranje demonstracijskih pokusa koje izvodi nastavnik i kroz izvođenje pokusa „po receptu”.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318960" indent="-318960">
              <a:lnSpc>
                <a:spcPct val="100000"/>
              </a:lnSpc>
              <a:spcBef>
                <a:spcPts val="1500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Međutim, nije dovoljno samo osigurati sudjelovanje učenika u istraživačkim aktivnostima. 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318960" indent="-318960">
              <a:lnSpc>
                <a:spcPct val="100000"/>
              </a:lnSpc>
              <a:spcBef>
                <a:spcPts val="1500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Za ostvarivanje snažnijih promjena, napredovanje svih učenika i prijenos na nove situacije učenja važno je djelovanje nastavnika.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318960" indent="-318960">
              <a:lnSpc>
                <a:spcPct val="100000"/>
              </a:lnSpc>
              <a:spcBef>
                <a:spcPts val="1500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Ostvariv obrazovni cilj uz prikladnu podršku nastavnika i suvremene obrazovne tehnologije.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318960" indent="-318960">
              <a:lnSpc>
                <a:spcPct val="100000"/>
              </a:lnSpc>
              <a:spcBef>
                <a:spcPts val="1500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Pri uključivanju učenika u istraživačko učenje nužno je: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ef4b6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  <a:ea typeface="Arial"/>
              </a:rPr>
              <a:t>Prilagoditi zahtjeve zadataka njihovim razvojnim kapacitetima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ef4b6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  <a:ea typeface="Arial"/>
              </a:rPr>
              <a:t>Direktno podučavati učenike istraživačkim vještinama i strategijama 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4247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300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Naučiti izvoditi pojedine istraživačke aktivnosti, ali i inzistirati na razumijevanju toga kada, kako i zašto ih koristiti u odgovaranju na zahtjeve zadatka, što olakšava i prijenos na nove situacije učenj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Direktno jačanje razumijevanja zahtjeva zadatka može se postići putem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ef4b6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vođenog reflektiranja i (samo)vrednovanja proces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ef4b6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raspravljanja o procesima u parovima ili u skupinama učeni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ef4b6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direktnog poučavanja o strategijama rada na istraživačkim zadaci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Rasprave i refleksije su važne i zato što omogućuju razvijanje prikladnog znanstvenog rječnik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250920" y="260280"/>
            <a:ext cx="8893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  <a:ea typeface="Arial"/>
              </a:rPr>
              <a:t>Zaključak 4</a:t>
            </a:r>
            <a:endParaRPr b="0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Calibri"/>
              </a:rPr>
              <a:t>Hvala na pažnji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21a0b1"/>
                </a:solidFill>
                <a:latin typeface="Calibri"/>
              </a:rPr>
              <a:t>zrinka@idi.h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04040"/>
                </a:solidFill>
                <a:latin typeface="Calibri"/>
              </a:rPr>
              <a:t>01/48-25-05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123840" y="5419800"/>
            <a:ext cx="889488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5280" y="1628280"/>
            <a:ext cx="85694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Obrazovni pristup koji stavlja učenike u poziciju provođenja „pravih“ istraživanja kakva prakticiraju znanstvenici kad stvaraju novo znan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Učenici se uvode u aktivnosti koje od njih zahtijevaju provođenje različitih faza istraživačkog rada i upravljanje istraživačkim procesi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Učenici stječu znanje o području istraživanja i o znanosti, a istovremeno razvijaju istraživačke vještine i strateg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Dvostruki značaj istraživačkog učenja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7f7f7f"/>
                </a:solidFill>
                <a:latin typeface="Calibri"/>
              </a:rPr>
              <a:t>Sredstvo prirodoznanstvenog obrazovanja, metoda učenja i poučava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7f7f7f"/>
                </a:solidFill>
                <a:latin typeface="Calibri"/>
              </a:rPr>
              <a:t>Obrazovni cilj sam po sebi (razumijevanje procesa znanost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250920" y="260280"/>
            <a:ext cx="8893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  <a:ea typeface="Arial"/>
              </a:rPr>
              <a:t>Što se ovdje podrazumijeva pod istraživačkim učenjem?</a:t>
            </a:r>
            <a:endParaRPr b="0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250920" y="260280"/>
            <a:ext cx="8893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  <a:ea typeface="Arial"/>
              </a:rPr>
              <a:t>Eksperiment</a:t>
            </a:r>
            <a:endParaRPr b="0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12920" y="2492280"/>
            <a:ext cx="856908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  <a:ea typeface="Arial"/>
              </a:rPr>
              <a:t>Temeljna znanstvena metoda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  <a:ea typeface="Arial"/>
              </a:rPr>
              <a:t>Namjerno se u kontroliranim i ponovljivim uvjetima izaziva neka pojava u svrhu njenog opažanja i mjerenja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  <a:ea typeface="Arial"/>
              </a:rPr>
              <a:t>Procedura se provodi s ciljem utvrđivanja valjanosti hipoteze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  <a:ea typeface="Arial"/>
              </a:rPr>
              <a:t>Mijenja li se i kako zavisna varijabla (ZV) ovisno o promjenama u nezavisnoj varijabli (NZV)?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  <a:ea typeface="Arial"/>
              </a:rPr>
              <a:t>Pruža se uvid u uzročno-posljedični odnos između NZV i ZV zbog korištenja kontrolirane usporedbe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390600" y="1203480"/>
            <a:ext cx="8893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13e1d"/>
                </a:solidFill>
                <a:latin typeface="Calibri"/>
                <a:ea typeface="Arial"/>
              </a:rPr>
              <a:t>Asocijacije? Ključni pojmovi?</a:t>
            </a: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Diagram 4" descr=""/>
          <p:cNvPicPr/>
          <p:nvPr/>
        </p:nvPicPr>
        <p:blipFill>
          <a:blip r:embed="rId1"/>
          <a:stretch/>
        </p:blipFill>
        <p:spPr>
          <a:xfrm>
            <a:off x="1042920" y="622440"/>
            <a:ext cx="7199280" cy="56862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7"/>
          <p:cNvSpPr/>
          <p:nvPr/>
        </p:nvSpPr>
        <p:spPr>
          <a:xfrm>
            <a:off x="4869000" y="1476360"/>
            <a:ext cx="172872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ff0000"/>
                </a:solidFill>
                <a:latin typeface="Calibri"/>
              </a:rPr>
              <a:t>Pregled literature/ Opažanja i uvidi iz svakodnevnog života</a:t>
            </a:r>
            <a:endParaRPr b="0" lang="en-US" sz="11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ff0000"/>
                </a:solidFill>
                <a:latin typeface="Calibri"/>
              </a:rPr>
              <a:t>Postavljanje istraživačkog pitanja 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(o učinku NZV na ZV)</a:t>
            </a:r>
            <a:endParaRPr b="0" lang="en-US" sz="11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ff0000"/>
                </a:solidFill>
                <a:latin typeface="Calibri"/>
              </a:rPr>
              <a:t>Predviđanje</a:t>
            </a:r>
            <a:endParaRPr b="0" lang="en-US" sz="11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- Postavljanje hipoteze o  U-P vezi između varijabli</a:t>
            </a:r>
            <a:endParaRPr b="0" lang="en-US" sz="11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- Predviđanje rezultata na temelju hipoteze</a:t>
            </a:r>
            <a:endParaRPr b="0" lang="en-US" sz="11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2900520" y="1644480"/>
            <a:ext cx="172872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ff0000"/>
                </a:solidFill>
                <a:latin typeface="Calibri"/>
              </a:rPr>
              <a:t>Zapis i organiziranje podataka</a:t>
            </a:r>
            <a:endParaRPr b="0" lang="en-US" sz="11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- Opis podataka</a:t>
            </a:r>
            <a:endParaRPr b="0" lang="en-US" sz="11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- Grafički, tabelarni prikazi</a:t>
            </a:r>
            <a:endParaRPr b="0" lang="en-US" sz="11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ff0000"/>
                </a:solidFill>
                <a:latin typeface="Calibri"/>
              </a:rPr>
              <a:t>Interpretiranje rezultata</a:t>
            </a:r>
            <a:endParaRPr b="0" lang="en-US" sz="11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Analiza podataka</a:t>
            </a:r>
            <a:endParaRPr b="0" lang="en-US" sz="11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Identificiranje obrazaca i trendova</a:t>
            </a:r>
            <a:endParaRPr b="0" lang="en-US" sz="11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Razvoj objašnjenja</a:t>
            </a:r>
            <a:endParaRPr b="0" lang="en-US" sz="11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Zaključivanje - potvrđuje li se ili opovrgava hipoteza?</a:t>
            </a:r>
            <a:endParaRPr b="0" lang="en-US" sz="11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15" name="TextBox 9"/>
          <p:cNvSpPr/>
          <p:nvPr/>
        </p:nvSpPr>
        <p:spPr>
          <a:xfrm rot="19356000">
            <a:off x="1290240" y="1351080"/>
            <a:ext cx="2279520" cy="3682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Calibri"/>
              </a:rPr>
              <a:t>Vrednovanje hipoteze</a:t>
            </a: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16" name="TextBox 10"/>
          <p:cNvSpPr/>
          <p:nvPr/>
        </p:nvSpPr>
        <p:spPr>
          <a:xfrm rot="2681400">
            <a:off x="5840640" y="1522440"/>
            <a:ext cx="2227320" cy="3682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Calibri"/>
              </a:rPr>
              <a:t>Postavljanje hipoteze</a:t>
            </a: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17" name="TextBox 11"/>
          <p:cNvSpPr/>
          <p:nvPr/>
        </p:nvSpPr>
        <p:spPr>
          <a:xfrm>
            <a:off x="3695760" y="6161040"/>
            <a:ext cx="1955880" cy="6426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Calibri"/>
              </a:rPr>
              <a:t>Testiranje hipoteze</a:t>
            </a: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18" name="TextBox 12"/>
          <p:cNvSpPr/>
          <p:nvPr/>
        </p:nvSpPr>
        <p:spPr>
          <a:xfrm>
            <a:off x="3924360" y="3917880"/>
            <a:ext cx="1727280" cy="17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ff0000"/>
                </a:solidFill>
                <a:latin typeface="Calibri"/>
              </a:rPr>
              <a:t>Eksperimentalni dizajn</a:t>
            </a:r>
            <a:endParaRPr b="0" lang="en-US" sz="11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Identificiranje varijabli</a:t>
            </a:r>
            <a:endParaRPr b="0" lang="en-US" sz="11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Uzorkovanje</a:t>
            </a:r>
            <a:endParaRPr b="0" lang="en-US" sz="11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Kontrolna skupina</a:t>
            </a:r>
            <a:endParaRPr b="0" lang="en-US" sz="11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Postupak i instrumenti</a:t>
            </a:r>
            <a:endParaRPr b="0" lang="en-US" sz="11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ff0000"/>
                </a:solidFill>
                <a:latin typeface="Calibri"/>
              </a:rPr>
              <a:t>Provođenje eksperimenta</a:t>
            </a:r>
            <a:endParaRPr b="0" lang="en-US" sz="11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Mjerenje </a:t>
            </a:r>
            <a:endParaRPr b="0" lang="en-US" sz="11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Ponavljana mjerenja</a:t>
            </a:r>
            <a:endParaRPr b="0" lang="en-US" sz="11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Bilježenje podataka</a:t>
            </a:r>
            <a:endParaRPr b="0" lang="en-US" sz="11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9280" y="1267920"/>
            <a:ext cx="8496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Korištenje i razvijanje šireg spektra vješt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7f7f7f"/>
                </a:solidFill>
                <a:latin typeface="Calibri"/>
              </a:rPr>
              <a:t>Dublje razumijevanje znanstvenih koncepata, konstrukcija vlastitog razumijevanja svije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7f7f7f"/>
                </a:solidFill>
                <a:latin typeface="Calibri"/>
              </a:rPr>
              <a:t>Istovremeno stjecanje istraživačkih vještina i strate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7f7f7f"/>
                </a:solidFill>
                <a:latin typeface="Calibri"/>
              </a:rPr>
              <a:t>Stjecanje vještina samoreguliranog uče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7f7f7f"/>
                </a:solidFill>
                <a:latin typeface="Calibri"/>
              </a:rPr>
              <a:t>Jačanje komunikacijskih vještina, vještina rada u grup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7f7f7f"/>
                </a:solidFill>
                <a:latin typeface="Calibri"/>
              </a:rPr>
              <a:t>Poticanje prirodne znatižel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7f7f7f"/>
                </a:solidFill>
                <a:latin typeface="Calibri"/>
              </a:rPr>
              <a:t>Rast interesa učenika za zna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7f7f7f"/>
                </a:solidFill>
                <a:latin typeface="Calibri"/>
              </a:rPr>
              <a:t>Promoviranje znanstvene aktivnosti kao intelektualne vrijedn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Relevantno učenje za sve učeni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Nije samo za manji dio učenika koji žele nastaviti svoj profesionalni put u znanstvenim disciplina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250920" y="260280"/>
            <a:ext cx="8893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  <a:ea typeface="Arial"/>
              </a:rPr>
              <a:t>Zašto je istraživačko učenje važno?</a:t>
            </a:r>
            <a:endParaRPr b="0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9280" y="1557360"/>
            <a:ext cx="82090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U svim razvijenim sustavima suvremeni programi postavljaju sudjelovanje učenika u istraživačkim aktivnostima kao obrazovni cilj u prirodoznanstvenom području (već u nižim razredim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Kvalitetno učenje i poučavanje u području prirodoslovlja često izjednačuje s korištenjem istraživačkog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Postojeći nastavni planovi i programi za osnovnu školu u RH postuliraju izvođenje pokusa jednom od glavnih zadaća koja se mora ostvariti u prirodoslovnim predmeti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250920" y="260280"/>
            <a:ext cx="8893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  <a:ea typeface="Arial"/>
              </a:rPr>
              <a:t>Istraživačko učenje u dokumentima obrazovne politike</a:t>
            </a:r>
            <a:endParaRPr b="0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539640" y="1413000"/>
            <a:ext cx="784872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1500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Već u trećem razredu u predmetu Priroda i društvo uvodi se tema „Pokus”, unutar koje je obrazovno postignuće </a:t>
            </a:r>
            <a:r>
              <a:rPr b="0" i="1" lang="hr-HR" sz="2400" spc="-1" strike="noStrike">
                <a:solidFill>
                  <a:srgbClr val="7f7f7f"/>
                </a:solidFill>
                <a:latin typeface="Calibri"/>
              </a:rPr>
              <a:t>„izvoditi jednostavne pokuse i zaključke o pojavnim oblicima vode”</a:t>
            </a: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355680" indent="-355680">
              <a:lnSpc>
                <a:spcPct val="100000"/>
              </a:lnSpc>
              <a:spcBef>
                <a:spcPts val="1500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Zadaće predmeta Priroda su (između ostaloga) „</a:t>
            </a:r>
            <a:r>
              <a:rPr b="0" i="1" lang="hr-HR" sz="2400" spc="-1" strike="noStrike">
                <a:solidFill>
                  <a:srgbClr val="7f7f7f"/>
                </a:solidFill>
                <a:latin typeface="Calibri"/>
              </a:rPr>
              <a:t>omogućiti samostalno i točno izvođenje pokusa i praktičnih radova te razvijati i njegovati kritičko mišljenje i zaključivanje na temelju opažanja”.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355680" indent="-355680">
              <a:lnSpc>
                <a:spcPct val="100000"/>
              </a:lnSpc>
              <a:spcBef>
                <a:spcPts val="1500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Calibri"/>
              </a:rPr>
              <a:t>Cilj predmeta Biologija je (između ostaloga) „</a:t>
            </a:r>
            <a:r>
              <a:rPr b="0" i="1" lang="hr-HR" sz="2400" spc="-1" strike="noStrike">
                <a:solidFill>
                  <a:srgbClr val="7f7f7f"/>
                </a:solidFill>
                <a:latin typeface="Calibri"/>
              </a:rPr>
              <a:t>da učenici razviju prirodoznanstveni način mišljenja i upoznaju metode istraživanja prirode”. 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250920" y="260280"/>
            <a:ext cx="8893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  <a:ea typeface="Arial"/>
              </a:rPr>
              <a:t>Nastavni plan i program za osnovnu školu (MZOS, 2006)</a:t>
            </a:r>
            <a:endParaRPr b="0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09:30:11Z</dcterms:created>
  <dc:creator>IRIS</dc:creator>
  <dc:description/>
  <dc:language>en-US</dc:language>
  <cp:lastModifiedBy>ZRINKA</cp:lastModifiedBy>
  <cp:lastPrinted>2013-08-28T12:13:47Z</cp:lastPrinted>
  <dcterms:modified xsi:type="dcterms:W3CDTF">2014-01-06T08:04:57Z</dcterms:modified>
  <cp:revision>172</cp:revision>
  <dc:subject/>
  <dc:title>Slide 1</dc:title>
</cp:coreProperties>
</file>