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BDE-CC1F-4EAC-A647-14B89A82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62F-B8C4-445F-B3AA-420E638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B12-48BA-4D84-BE3C-47B2E7F7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5A4-BA93-4D41-9FD0-785D2AD6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1B7-A6EE-4B5C-8584-146B491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F40-1B14-40B6-AC2F-F5E76F9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902-C220-4923-8F98-40CF365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940-19A3-48D3-8C6F-3D9A7B41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3E0-281D-4328-8D75-34DFE90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154-F797-4A65-9197-E986E06F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764-2016-47D9-8C21-1B281BA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113-0F69-4974-B735-923F2DD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0652-587B-4F09-A23E-941CC78C947B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mnesty.hr/" TargetMode="External"/><Relationship Id="rId2" Type="http://schemas.openxmlformats.org/officeDocument/2006/relationships/hyperlink" Target="http://unicef.interactive1.hr/upload/dfile/113/56630/FILENAME/Konvencija%20o%20pravima%20djeteta.pdf" TargetMode="External"/><Relationship Id="rId3" Type="http://schemas.openxmlformats.org/officeDocument/2006/relationships/hyperlink" Target="http://www.hzos.hr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269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692280"/>
            <a:ext cx="691200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3.Nacionalni kurikulum,nastavni planovi i programi te oblici 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nacionalni kurikulum,nastavni plan i program,školski kurikulum i godišnji plan i program rada školskih ustanova,eksperimentalni program,alternativni program,umjetnički i školski program,posebni program,dopunska nastava,dodatna nastava,izvannastavne aktivnosti, izvanškolske aktivnosti,učenička zadruga,učenički klubovi i društva,vježbaonica za studente,nastava u kući,odnosno zdravstvenoj ustanovi,dopunska nastava , hrvatska nastava u inozemst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54936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Organizacija rada šk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škola,knjižnica,udžbenici,suradnja školskih ustanova,kućni red, zabrana promidžbe i prod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Učen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čenici s posebnim odgojno-obrazovnim potrebama,daroviti učenici,učenici s teškoćama,prestanak statusa učenika,sigurnost i zaštita zdravlja u školskim ustanovama,prehrana učenika,prijevoz učenika,obvezna zaštita učenika,vijeće učen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16000" y="76500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6.Praćenje i ocjenjivanje učeničkih postignuć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 ocjenjivanje,državna m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7.Pedagoške mj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8.Vanjsko vrednovanje i samovrednovanje školskih ustanova( vijeće za nacionalni kurik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549360"/>
            <a:ext cx="72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9.Osnivanje i prestanak rada školske ustan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.Radnici školskih ustanova  ( uvijeti za zasnivanje radnog odnosa,zapreka za zasnivanje radnog odnosa,zasnivanje r.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1.Prestanak radnog odn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2.Stručno osposobljavanje,usavršavanje,napredovanje i izdavanje lic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765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Upravljanje školskom ustanov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školski odbor, ravnatel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Učenički 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Prava i obveze rodite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Školska dokumentacija i evide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,Financiranje školskih ust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Nadz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Kaznene odred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oni i provedbeni propisi u području odgo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ći zakoni:Zakon o radu,Zakon o ustanovama,Zakon o upravnim sporovima,Obiteljski zak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vjetni zakoni:Zakon o prosvjetnoj inspekciji,Zakon o sportu,zakon o tehničkoj kulturi,Zakon o udžbenicima,Zakon o knjižnicama,Zakon o Agenciji za odgoj i obrazovan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edbeni prop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oviti ( Pravilnik o osnovnoškolskom odgoju i obrazovanju darovitih učen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ebne potrebe.Pravilnik o osnovnoškolskom odgoju i obrazovanju učenika s TUR-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skurzije:Pravila za provedbu školskih izleta i ekskurz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iti: Pravilnik o polaganju predmetnih i razrednih is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endar rada: Pravilnik o kalendaru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ivni ugov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jenjivanje:Pravilnik o načinu praćenja i ocjenjivanja učenika u osnovnoj i srednjoj š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isi: pravilnik o upisu djece u osnovnu ško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jelatnost i ustroj odgojno-obrazovne organiz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ći akti: Statut,pravilnici,poslovnici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iv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jelatn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kolski od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nate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tij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slenici šk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JNO OBRAZOVNI SUSTAV Republike Hrvats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ijelovi su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remenska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edagošk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iljevi obrazovne politike RH ( Nacionalni kurikul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osioci obrazovne poli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ka pi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sjednik Republike Hrvats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ada Republike Hrvats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dležnost Sabora Republike Hrvats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tavni zakon o ljudskim prav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jelokrug rada stručnih organa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kumentacija trajne vrijednosti u šk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ko je organiziran odgojno-obrazovni sustav u Republici Hrvatsk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lendar rada 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ko se u Ustavu Republike Hrvatske spominje škol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liko školska godina ima radnih tjed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ranje ravnatelja 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išnji plan i program 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čenicima u osnovnoj šk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6360" y="836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edagoški standard osnovnoškolskog sust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ravilnik o broju učenika u razrednom odjelu te odgojno-obrazovnoj gru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ropisana pedagoška dokument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Statut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Stručni organi u osnovnoj šk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Školska godina i nastavna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Učiteljsko vije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Upravljanje škol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ravilnik o načinu praćenja i ocjenjivanja učenik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Školski odbor Školski kurik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bvezna pedagoška dokumentacija u šk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pći akti u šk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pišite kadrovsku strukturu 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edagoške mjere koje se izrič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jerovali ili ne, možete pročit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siam vravjolea da zpravao mgou rzmjaueti ono što čtaim.Zaahvljhuujći neobniečoj mćoi ljdskuog mgzoa.Njie vžano kjoim su roedsljedoem npiasnaa slvoa u rčijei,jdieno je btino da se pvro i zdanje sovlo u rčijei nlaaze na sovm msjteu.Otasla solva mgou btii u ptponum nerdeu i bez ozibra na ovu oloknost,tkest mžeote čtiati bez pobre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vo je zobg tgoa što ljduksi mzoak ne čtia savko slvoo pnaooosb,već rčijei prmraota kao clejni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o je TIPOGLIKEMIJ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rodne novine http://www.nn.h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judska prava 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mnesty.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ava djeteta 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unicef.interactive1.hr/upload/dfile/113/56630/FILENAME/Konvencija%20o%20pravima%20djetet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pisi:http://www.mzos.hr/;http://www.azoo.hr; 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hzos.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pit: Bajer-Mrkić,Priručnik za stručni ispit pripravnika u osnovnom i srednjem školstvu opći dio,Zagreb,Zadružna štampa,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rnce mudr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ajveća greška koju u životu možete napraviti je biti u konstantnom strahu da ćete učiniti jed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.Hubb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ći dio stručnog isp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znavanje Ustava Republike Hrvatsk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pća deklaracija o ljudskim prav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vencija protiv diskriminacije u obrazovanj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vencija o pravima djete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konski i podzakonski akti iz područja osnovnog obrazovan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jelatnost i ustroj odgojno-obrazovne ustanove,obveze i prava učitelja,stručna tijela šk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tav Republike Hrvatske-pročišćeni tekst(NN41/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ne os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eljne odred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eljne slobode i prava čovje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trojstvo državne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tavni sud Republike Hrvats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trojstvo lokalne samoup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đunarodni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jena ust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eljne slobode i prava čovjeka i građ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obne i političke slobode i pr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spodarska,socijalna i kulturna pr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jalna (pomoć socijalno ugroženima,invalidima ,pravo na štrajk,obitelj zaštiće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spodarska (pravo vlasništva, nasljeđivanja,poduzetnička i tržišna slob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lturna pr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boda znanstvenog,kulturnog i umjetničkog stvarala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l.65.66.i67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o školovanje je obvezatno i besplatno,a srednjoškolsko i visokoškolsko obrazovanje dostupno svakom pod jednakim uvjetima sukladno sposobnostima i mogućnostim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Osnivanje privatnih šk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utonomija sveuč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klaracija o ljudskim prav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Građanska i politička pr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(ponekad se zovu prava prve generacije). Ona su “usmjerena na slobodu” i uključuju pravo na život, slobodu i sigurnost pojedinca/ke; slobodu od mučenja i ropstva; političku participaciju; slobodu uvjerenja, izražavanja, mišljenja, savjesti i vjere; slobodu udruživanja i okupljan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Ekonomska i socijalna pr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(ponekad nazvana prava druge generacije). To su prava “usmjerena na sigurnost”, npr. pravo na rad; obrazovanje; prikladan životni standard; hranu; stanovanje i zdravstvenu zašti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avo na zdrav okoliš, kulturna prava i prava na razvo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(prava treće generacije). Ona uključuju prava da se živi u okolišu koji je čist i zaštićen od uništavanja; grupe ili 'narodi' imaju pravo na kulturni, politički i ekonomski razvo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Zakon oodgoju i obrazovanju u osnovnim i srednjim školam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(NN 87 /08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.Opće odredbe(predmet zakona,odgojno-obrazovna djelatnost, ciljevi i načela odgoja i obrazovanja,državni pedagoški standard,nastava na hrvatskom jeziku,nastava na jezikui pismu nacionalnih manjina,nastava na stranom jezik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2.Mreža školskih ustanova i programa odgoja i obrazovanja te upis učenika u školsku ustanovu (mreža školskih ustanova i programa,trajanje i vrsta škole,upisno područ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20.Prijelazne i završne odred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Djelatnost osnovnog školst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Zdravstvena i socijalna skrb učen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Učitelji i stručni suradn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Osnovno školovanje odrasl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Upravljanje škol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Obvezna dokument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Kaznene odred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rijelazne i završne odred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22:00Z</dcterms:created>
  <dc:creator>Anic</dc:creator>
  <dc:description/>
  <dc:language>en-US</dc:language>
  <cp:lastModifiedBy>Korisnik</cp:lastModifiedBy>
  <dcterms:modified xsi:type="dcterms:W3CDTF">2011-04-29T07:38:42Z</dcterms:modified>
  <cp:revision>8</cp:revision>
  <dc:subject/>
  <dc:title>Opći dio stručnog ispita</dc:title>
</cp:coreProperties>
</file>