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E0B6-4015-4709-B543-2BB4B4F0B28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3CCC-11A1-45A2-AC4D-0D247FF5091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9A52-1D5A-4171-AFBC-3EC6C8B1F98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D0F6-9F72-4051-B882-E03B2785B45B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A4F6-B47C-4E9A-B987-FC569DFEE269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1AEC-6583-4719-B8DF-1FB886C4AFD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0CA9-5D17-4D98-B752-F4A90EDE768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32E-32D2-42C0-A9D7-CC13627F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E155-C7B3-421B-BF9B-69202E89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984-A5FE-4895-AEB6-48426E31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D335-4C88-4FF6-8CF1-63F6CE5F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2B40-2032-445F-ABA7-47368C37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1838-112F-4191-981D-375C8CF6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FDDA-BE85-4816-B378-CEF15D97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2B4C-7589-40ED-B570-D69BB33B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D742-E624-43B1-9BD0-725E2544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F702-60A5-4B0A-B673-59B47EB6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4FBB-6087-4236-AEB5-2344257E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A7B3-D690-4D9D-ACF6-6172A16F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653C-8A56-489C-B70D-C02F8477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CEAE-76CE-43AC-BACC-557DB114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9373-6EFC-4231-ABDA-11AD31C8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5F76-47C1-470D-89C6-4EC8D20E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C2BC-0C17-40E5-87E0-A683A251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6A759-A805-4644-A506-3B873383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D91A8-1528-458C-9687-BC78B6B2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AC1EB-391E-4CBA-BAD4-2783E0E8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1F8A4-060D-44B8-B44D-596DE806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D35B8-0190-4AD0-9302-85A27BDF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5EA2-CE78-43DF-8C52-C61435E0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52B11-1134-4377-9AAC-9ABDB36E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0917B-0868-4313-B90B-229EF34B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40F58-C9B8-48EC-BC57-E2A07E14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9DC60-39E0-4F47-BB5C-E4CE8694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3083B-C2B7-4F17-8EC2-57B2014F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E6E3-DFE4-4541-84E9-8351F150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0F3A1-E09E-4886-ACE6-E53AC7E1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4B9AA-F46C-4F2B-AE2F-309148BE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AA08E-E785-47B0-AC5F-7850689A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8E8DA-126B-436B-B06E-63189D58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8B7-763F-4325-8F97-BD7353EA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3AB6E-7EDD-45CB-BA12-C406DD36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C2D08-7A04-4D2C-9672-735E9711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3BCFD-80E8-4269-A772-27DA70A1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F265F-4F30-43C7-9A4C-CDFB6617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46DBF-2ABA-4E17-8C24-FF767F96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8FCFE-5B84-4FC7-B436-5C45A421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1E083-27A0-4388-870F-F10B5052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6B890-66D7-4DFD-BD84-C0B26704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9EAB2-134B-44A0-AF1A-80F56875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0AFC1-6AB5-4137-9020-B0921BA9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32E-CB9F-4643-807B-CA39C0D7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468CF-ACE2-4AF9-A755-9E4086EC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E1970-4B5C-4C2F-B9D4-6D8A938F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57986-F4C5-47F0-9966-2B883974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2D9CB-329E-4FB4-BD6A-618790A9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CCAAA-D8AD-4074-B4AD-6B8AF280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36D10-9AC1-45F7-8C92-56CF2BFB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A90BB-9C16-4377-BC68-93ABC26D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E9F2D-D4FE-4325-8F58-A10E06FB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54C73-FCC0-4F99-BA0B-DF3DF206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ABA11-9983-4805-8CDA-67554C5C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76D-B04B-454F-AA0F-3EDA9F33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593E7-725C-4F59-9B32-38C2E244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F3F6A-9B08-4596-B88A-ED2EBB28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8D216-16CC-45F9-B682-38D6BD2F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F6BD1-F058-4FF1-9806-892978DD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F3E00-0195-438C-B8DB-F0C183A9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37AF1-F735-49DF-98A7-F92EBD62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210D8-971F-443F-9268-9709E94E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B3ACE-4AE7-4E91-8D5D-EEB27E8B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43AB3-6595-4623-9E2A-77B21BA2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44F4E-A8E1-4892-BBAC-02F5DEA4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595-D018-4C2D-920A-16C2D064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988E7-782E-4C4B-884B-64AFDAA3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C339F-1451-4D31-83C2-FC0FA060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0C056-F7F2-46E0-9A9A-2618F613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97D-EE05-4855-9371-8B0012B5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83B-D0E6-46DD-82C8-8E8C285B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5DB9-A176-4D85-8D27-B60831B17622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ECCF-C47D-49EB-812E-740FF0CDDBAE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6BFC-51BF-4ECB-AB92-AD36F26DA4CC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95C3-F8F5-4D91-8343-075B125DCE83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38B4-F12E-4F75-8768-F2A16CDC08D8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F7ED-6A1A-4EDE-AF27-9FE01ECAEBEB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696464"/>
                </a:solidFill>
                <a:latin typeface="Perpetua"/>
              </a:rPr>
              <a:t>Ivana Petanjek, prof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96464"/>
                </a:solidFill>
                <a:latin typeface="Perpetua"/>
              </a:rPr>
              <a:t>viša savjetnica za defektologe/eduk. rehabilitato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96464"/>
                </a:solidFill>
                <a:latin typeface="Perpetua"/>
              </a:rPr>
              <a:t>Agencija za odgoj i obrazovanj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ffffff"/>
                </a:solidFill>
                <a:latin typeface="Franklin Gothic Book"/>
              </a:rPr>
              <a:t>Stručno usavršavanje i profesionalni razvoj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696464"/>
                </a:solidFill>
                <a:latin typeface="Perpetua"/>
              </a:rPr>
              <a:t>KOJIM METODAMA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696464"/>
                </a:solidFill>
                <a:latin typeface="Perpetua"/>
              </a:rPr>
              <a:t>ŠTO VAS JE MOTIVIRALO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Franklin Gothic Book"/>
              </a:rPr>
              <a:t>PRISJETITE SE ŠTO STE ZADNJE UČILI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7427880" cy="576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hr-HR" sz="29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hr-HR" sz="2900" spc="-1" strike="noStrike">
                <a:solidFill>
                  <a:srgbClr val="696464"/>
                </a:solidFill>
                <a:latin typeface="Franklin Gothic Book"/>
              </a:rPr>
              <a:t>Aktivnosti profesionalnog razvoja</a:t>
            </a: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68360" y="1628640"/>
          <a:ext cx="8064360" cy="5137200"/>
        </p:xfrm>
        <a:graphic>
          <a:graphicData uri="http://schemas.openxmlformats.org/drawingml/2006/table">
            <a:tbl>
              <a:tblPr/>
              <a:tblGrid>
                <a:gridCol w="2679480"/>
                <a:gridCol w="3135600"/>
                <a:gridCol w="2249280"/>
              </a:tblGrid>
              <a:tr h="31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ividualne aktiv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a9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ktivnosti u pa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a9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upne aktiv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a9a9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čitanje lit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ospitiranj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. timovi - projek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zrada biljež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aćenje izvođenja nastave kole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msko rje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probl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čenje iz svojih pogre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aćenje nastave priprav./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zrada materij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stavljanje pit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vanje/primanje povratne informacij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stavljanje izvje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leksija i samoevaluac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aliza promatranog s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straživački projek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matranje i praće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zvođenje nastavne jedinice u pa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zmjena iskustva s kole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isanje (članaka,.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lu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je/prihvaćanje različit. mi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j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aliza video zap. nast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vođenje/praćenje novih met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zmjena ideja/mi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jenja,dobre praks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aliza primjene meto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straživanje (akcijsko istr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ženje i prihvaćanje pomoći/savje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aliza testo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čenje činjen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zrada materijala, testova, priručni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uradnja u IKT forum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iprema za rad s  pripravni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minari, konferen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iprema preda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čni skupovi ŽSV-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stematiziraje svoga rada rad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moviranja u zvanja M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696464"/>
                </a:solidFill>
                <a:latin typeface="Perpetua"/>
              </a:rPr>
              <a:t>Što Vas pokreće i motivira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696464"/>
                </a:solidFill>
                <a:latin typeface="Perpetua"/>
              </a:rPr>
              <a:t>Poteškoće i izazovi u “loncu”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ffffff"/>
                </a:solidFill>
                <a:latin typeface="Franklin Gothic Book"/>
              </a:rPr>
              <a:t>Motivacija za usavršavanje i profesionalni razvoj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700" spc="-1" strike="noStrike">
                <a:solidFill>
                  <a:srgbClr val="696464"/>
                </a:solidFill>
                <a:latin typeface="Franklin Gothic Book"/>
              </a:rPr>
              <a:t>Koliko je sati u mojem profesionalnom životu?</a:t>
            </a:r>
            <a:endParaRPr b="0" lang="en-US" sz="47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696464"/>
                </a:solidFill>
                <a:latin typeface="Perpetua"/>
              </a:rPr>
              <a:t>Ništa se neće dogoditi samo od sebe, zato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696464"/>
                </a:solidFill>
                <a:latin typeface="Perpetua"/>
              </a:rPr>
              <a:t>PODUZIMAJTE I PLANIRAJTE! </a:t>
            </a:r>
            <a:r>
              <a:rPr b="0" lang="hr-HR" sz="1700" spc="-1" strike="noStrike">
                <a:solidFill>
                  <a:srgbClr val="696464"/>
                </a:solidFill>
                <a:latin typeface="Perpetua"/>
              </a:rPr>
              <a:t>(Srića, 2009.)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hr-HR" sz="3000" spc="-1" strike="noStrike">
                <a:solidFill>
                  <a:srgbClr val="696464"/>
                </a:solidFill>
                <a:latin typeface="Perpetua"/>
              </a:rPr>
              <a:t>A TKO ĆE AKO NEĆEMO</a:t>
            </a:r>
            <a:r>
              <a:rPr b="0" lang="hr-HR" sz="22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hr-HR" sz="3000" spc="-1" strike="noStrike">
                <a:solidFill>
                  <a:srgbClr val="696464"/>
                </a:solidFill>
                <a:latin typeface="Perpetua"/>
              </a:rPr>
              <a:t>MI?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Franklin Gothic Book"/>
              </a:rPr>
              <a:t>Bez nove odluke nema promjene!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696464"/>
                </a:solidFill>
                <a:latin typeface="Perpetua"/>
              </a:rPr>
              <a:t>PUNO USPJEHA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700" spc="-1" strike="noStrike">
                <a:solidFill>
                  <a:srgbClr val="ffffff"/>
                </a:solidFill>
                <a:latin typeface="Franklin Gothic Book"/>
              </a:rPr>
              <a:t>…</a:t>
            </a:r>
            <a:r>
              <a:rPr b="0" lang="hr-HR" sz="4400" spc="-1" strike="noStrike">
                <a:solidFill>
                  <a:srgbClr val="ffffff"/>
                </a:solidFill>
                <a:latin typeface="Franklin Gothic Book"/>
              </a:rPr>
              <a:t>NE ZABORAVITE PROVJERAVATI KAKO SE PLAN OSTVARUJE!!!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786800" cy="847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696464"/>
                </a:solidFill>
                <a:latin typeface="Franklin Gothic Book"/>
              </a:rPr>
              <a:t>                    </a:t>
            </a:r>
            <a:r>
              <a:rPr b="0" lang="hr-HR" sz="1400" spc="-1" strike="noStrike">
                <a:solidFill>
                  <a:srgbClr val="ff0000"/>
                </a:solidFill>
                <a:latin typeface="Franklin Gothic Book"/>
              </a:rPr>
              <a:t>http://www.azoo.hr/tekst/zbornik-radova-strucno-usavrsavanje-i-profesionalni-razvoj-/2510</a:t>
            </a:r>
            <a:endParaRPr b="0" lang="en-US" sz="1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17" name="Object 3" descr=""/>
          <p:cNvPicPr/>
          <p:nvPr/>
        </p:nvPicPr>
        <p:blipFill>
          <a:blip r:embed="rId1"/>
          <a:stretch/>
        </p:blipFill>
        <p:spPr>
          <a:xfrm>
            <a:off x="914400" y="2278080"/>
            <a:ext cx="374976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696464"/>
                </a:solidFill>
                <a:latin typeface="Perpetua"/>
              </a:rPr>
              <a:t>Hvala na pažnji!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696464"/>
                </a:solidFill>
                <a:latin typeface="Perpetua"/>
              </a:rPr>
              <a:t>Ivana Petanjek,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696464"/>
                </a:solidFill>
                <a:latin typeface="Perpetua"/>
              </a:rPr>
              <a:t>viša savjetnica za stručne suradnike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696464"/>
                </a:solidFill>
                <a:latin typeface="Perpetua"/>
              </a:rPr>
              <a:t>031/284-906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Franklin Gothic Book"/>
              </a:rPr>
              <a:t>Mogućnosti?</a:t>
            </a:r>
            <a:br>
              <a:rPr sz="4000"/>
            </a:br>
            <a:r>
              <a:rPr b="0" lang="hr-HR" sz="4000" spc="-1" strike="noStrike">
                <a:solidFill>
                  <a:srgbClr val="ffffff"/>
                </a:solidFill>
                <a:latin typeface="Franklin Gothic Book"/>
              </a:rPr>
              <a:t>Supervizija!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96464"/>
                </a:solidFill>
                <a:latin typeface="Comic Sans MS"/>
              </a:rPr>
              <a:t>Najkraće o superviziji: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08000" y="177300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omoć stručnjacima da korištenjem i proširivanjem svoga znanja, uz pomoć stručnjaka (supervizora) i 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stalne grupe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dođu do svojih 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vlastitih rješenja problema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s kojima se susreću u radu te djelotvornije nose sa stresom (10-12 susreta godišnje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Očekivanja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reflektiranje o svom radu i pomicanje granica profesionalnog djelovanj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razvijanje osobnih i profesionalnih potencijal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lakše nošenje s teškim situacijama i psihičkim opterećenjima na poslu radom na primjerima iz praks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uspješnije rješavanje problema u međuljudskim odnosima u radnoj sredini i povećanje otvorenosti za kolegijalnu razmjenu i suradnju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reduciranje burn-out sindrom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smanjivanje osjećaja profesionalne osamljenosti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96464"/>
                </a:solidFill>
                <a:latin typeface="Franklin Gothic Book"/>
              </a:rPr>
              <a:t>OVO SAM JA…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Na jednom listu papira nacrtajte/upišit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U sredini – svoje i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Gornji lijevi ugao – simbol koji vas predstavlj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Gornji desni ugao – S kime najradije učite?...sami, u paru, u manjoj skupini, u većoj skupini…prikažite simbol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Donji lijevi ugao – Koja osjetila najčešće koristite pri učenju? …oko, uho, usta,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Donji desni ugao – na neki način prikažite ili napišite svoj moto učenja ili poučavanj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cc0000"/>
                </a:solidFill>
                <a:latin typeface="Perpetua"/>
              </a:rPr>
              <a:t>Promjena sustava je obvezna,</a:t>
            </a:r>
            <a:br>
              <a:rPr sz="3000"/>
            </a:br>
            <a:r>
              <a:rPr b="0" i="1" lang="hr-HR" sz="3000" spc="-1" strike="noStrike">
                <a:solidFill>
                  <a:srgbClr val="cc0000"/>
                </a:solidFill>
                <a:latin typeface="Perpetua"/>
              </a:rPr>
              <a:t>ali razvoj pojedinca je</a:t>
            </a:r>
            <a:br>
              <a:rPr sz="3000"/>
            </a:br>
            <a:r>
              <a:rPr b="0" i="1" lang="hr-HR" sz="3000" spc="-1" strike="noStrike">
                <a:solidFill>
                  <a:srgbClr val="cc0000"/>
                </a:solidFill>
                <a:latin typeface="Perpetua"/>
              </a:rPr>
              <a:t> dobrovoljan</a:t>
            </a:r>
            <a:r>
              <a:rPr b="0" lang="hr-HR" sz="3000" spc="-1" strike="noStrike">
                <a:solidFill>
                  <a:srgbClr val="cc0000"/>
                </a:solidFill>
                <a:latin typeface="Perpetua"/>
              </a:rPr>
              <a:t>. </a:t>
            </a:r>
            <a:br>
              <a:rPr sz="3000"/>
            </a:br>
            <a:r>
              <a:rPr b="0" lang="hr-HR" sz="1500" spc="-1" strike="noStrike">
                <a:solidFill>
                  <a:srgbClr val="696464"/>
                </a:solidFill>
                <a:latin typeface="Perpetua"/>
              </a:rPr>
              <a:t>Michael Fullan, 1990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Franklin Gothic Book"/>
              </a:rPr>
              <a:t>Stručno usavršavanje –</a:t>
            </a:r>
            <a:br>
              <a:rPr sz="4000"/>
            </a:br>
            <a:r>
              <a:rPr b="0" lang="hr-HR" sz="4000" spc="-1" strike="noStrike">
                <a:solidFill>
                  <a:srgbClr val="ffffff"/>
                </a:solidFill>
                <a:latin typeface="Franklin Gothic Book"/>
              </a:rPr>
              <a:t>PRAVO I OBVEZA</a:t>
            </a:r>
            <a:r>
              <a:rPr b="0" lang="hr-HR" sz="3600" spc="-1" strike="noStrike">
                <a:solidFill>
                  <a:srgbClr val="ffffff"/>
                </a:solidFill>
                <a:latin typeface="Franklin Gothic Book"/>
              </a:rPr>
              <a:t>!</a:t>
            </a:r>
            <a:br>
              <a:rPr sz="2200"/>
            </a:br>
            <a:r>
              <a:rPr b="0" lang="hr-HR" sz="1800" spc="-1" strike="noStrike">
                <a:solidFill>
                  <a:srgbClr val="ffffff"/>
                </a:solidFill>
                <a:latin typeface="Franklin Gothic Book"/>
              </a:rPr>
              <a:t>(ČL. 115. Zakona o odgoju i obrazovanju u osnovnoj i srednjoj školi)</a:t>
            </a:r>
            <a:endParaRPr b="0" lang="en-US" sz="1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696464"/>
                </a:solidFill>
                <a:latin typeface="Perpetua"/>
              </a:rPr>
              <a:t>usponi i padovi na Vašem prof. putu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696464"/>
                </a:solidFill>
                <a:latin typeface="Perpetua"/>
              </a:rPr>
              <a:t>Što/tko je bio motivacija da nastavit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696464"/>
                </a:solidFill>
                <a:latin typeface="Perpetua"/>
              </a:rPr>
              <a:t>ispričajte prof. put svoje kolegice!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696464"/>
                </a:solidFill>
                <a:latin typeface="Perpetua"/>
              </a:rPr>
              <a:t>rad u paru (5 min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Franklin Gothic Book"/>
              </a:rPr>
              <a:t>Nacrtajte svoj profesionalni put!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96464"/>
                </a:solidFill>
                <a:latin typeface="Franklin Gothic Book"/>
              </a:rPr>
              <a:t>Profesionalna karijer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Profesionalna karijera je </a:t>
            </a:r>
            <a:r>
              <a:rPr b="0" lang="hr-HR" sz="2400" spc="-1" strike="noStrike">
                <a:solidFill>
                  <a:srgbClr val="cc0000"/>
                </a:solidFill>
                <a:latin typeface="Perpetua"/>
              </a:rPr>
              <a:t>kontinuirani proces osobnog i profesionalnog razvoja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učitelja koji uključuje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Perpetua"/>
              </a:rPr>
              <a:t>znanja i vještine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stečene tijekom obrazovanja, osposobljavanja, stručnog usavršavanj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Perpetua"/>
              </a:rPr>
              <a:t>osobu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sa svim svojim vrijednostima, uvjerenjima, idejam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unutar </a:t>
            </a:r>
            <a:r>
              <a:rPr b="0" lang="hr-HR" sz="2400" spc="-1" strike="noStrike">
                <a:solidFill>
                  <a:srgbClr val="cc0000"/>
                </a:solidFill>
                <a:latin typeface="Perpetua"/>
              </a:rPr>
              <a:t>konteksta (ustanove/sustava)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u kojoj rad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Perpetua"/>
              </a:rPr>
              <a:t>(Hargreaves i Fullan, 1992.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885080" cy="10526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00000"/>
                </a:solidFill>
                <a:latin typeface="Franklin Gothic Book"/>
              </a:rPr>
              <a:t>Razdoblja profesionalne karije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07880" y="1541520"/>
          <a:ext cx="8736120" cy="4983120"/>
        </p:xfrm>
        <a:graphic>
          <a:graphicData uri="http://schemas.openxmlformats.org/drawingml/2006/table">
            <a:tbl>
              <a:tblPr/>
              <a:tblGrid>
                <a:gridCol w="1144800"/>
                <a:gridCol w="759132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azdoblja profesionalne karijere (karakteristik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 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 -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 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 - 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3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uvođenje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initiation) </a:t>
                      </a:r>
                      <a:r>
                        <a:rPr b="1" lang="hr-HR" sz="1400" spc="-1" strike="noStrike">
                          <a:solidFill>
                            <a:srgbClr val="c00000"/>
                          </a:solidFill>
                          <a:latin typeface="Verdana"/>
                          <a:ea typeface="Times New Roman"/>
                        </a:rPr>
                        <a:t>– </a:t>
                      </a:r>
                      <a:r>
                        <a:rPr b="1" lang="hr-HR" sz="1400" spc="-1" strike="noStrike">
                          <a:solidFill>
                            <a:srgbClr val="c00000"/>
                          </a:solidFill>
                          <a:latin typeface="Verdana"/>
                          <a:ea typeface="Times New Roman"/>
                        </a:rPr>
                        <a:t>PRIPRAVNICI I </a:t>
                      </a:r>
                      <a:r>
                        <a:rPr b="1" lang="hr-HR" sz="1400" spc="-1" strike="noStrike">
                          <a:solidFill>
                            <a:srgbClr val="cc0000"/>
                          </a:solidFill>
                          <a:latin typeface="Verdana"/>
                          <a:ea typeface="Times New Roman"/>
                        </a:rPr>
                        <a:t>POČETN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šok realnosti, otkrivanje, opstan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stabilnost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stability) - </a:t>
                      </a:r>
                      <a:r>
                        <a:rPr b="1" lang="hr-HR" sz="1400" spc="-1" strike="noStrike">
                          <a:solidFill>
                            <a:srgbClr val="c00000"/>
                          </a:solidFill>
                          <a:latin typeface="Verdana"/>
                          <a:ea typeface="Times New Roman"/>
                        </a:rPr>
                        <a:t>PROFESIONAL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urnost, entuzijazam, zrel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razilaženje</a:t>
                      </a:r>
                      <a:r>
                        <a:rPr b="0" lang="hr-HR" sz="1600" spc="-1" strike="noStrike">
                          <a:solidFill>
                            <a:srgbClr val="9b2d1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hr-HR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(+)</a:t>
                      </a:r>
                      <a:r>
                        <a:rPr b="1" lang="hr-HR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1" lang="hr-HR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hr-HR" sz="1600" spc="-1" strike="noStrike">
                          <a:solidFill>
                            <a:srgbClr val="9b2d1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hr-HR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razilaženje</a:t>
                      </a:r>
                      <a:r>
                        <a:rPr b="0" lang="hr-HR" sz="1600" spc="-1" strike="noStrike">
                          <a:solidFill>
                            <a:srgbClr val="9b2d1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hr-HR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(-)</a:t>
                      </a:r>
                      <a:r>
                        <a:rPr b="0" lang="hr-HR" sz="1600" spc="-1" strike="noStrike">
                          <a:solidFill>
                            <a:srgbClr val="9b2d1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svećenost, entuzijazam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  razočarenj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u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9b2d1f"/>
                          </a:solidFill>
                          <a:latin typeface="Verdana"/>
                          <a:ea typeface="Times New Roman"/>
                        </a:rPr>
                        <a:t>                   </a:t>
                      </a:r>
                      <a:r>
                        <a:rPr b="1" lang="hr-HR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spokojnost</a:t>
                      </a:r>
                      <a:r>
                        <a:rPr b="0" lang="hr-HR" sz="1600" spc="-1" strike="noStrike">
                          <a:solidFill>
                            <a:srgbClr val="9b2d1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(serenity)</a:t>
                      </a:r>
                      <a:r>
                        <a:rPr b="0" lang="hr-HR" sz="1600" spc="-1" strike="noStrike">
                          <a:solidFill>
                            <a:srgbClr val="9b2d1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hr-HR" sz="1400" spc="-1" strike="noStrike">
                          <a:solidFill>
                            <a:srgbClr val="c00000"/>
                          </a:solidFill>
                          <a:latin typeface="Verdana"/>
                          <a:ea typeface="Times New Roman"/>
                        </a:rPr>
                        <a:t>- EKSPER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leksivnost, osobno zadovoljst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povrat interesa</a:t>
                      </a:r>
                      <a:r>
                        <a:rPr b="1" lang="hr-HR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1" lang="hr-HR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1" lang="hr-HR" sz="1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 isključivanj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bnovljen entuzijazam        povlačenje, zasiće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Line 72"/>
          <p:cNvSpPr/>
          <p:nvPr/>
        </p:nvSpPr>
        <p:spPr>
          <a:xfrm>
            <a:off x="6877080" y="2349360"/>
            <a:ext cx="0" cy="35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Line 73"/>
          <p:cNvSpPr/>
          <p:nvPr/>
        </p:nvSpPr>
        <p:spPr>
          <a:xfrm flipH="1">
            <a:off x="2843280" y="3068640"/>
            <a:ext cx="520560" cy="32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Line 74"/>
          <p:cNvSpPr/>
          <p:nvPr/>
        </p:nvSpPr>
        <p:spPr>
          <a:xfrm>
            <a:off x="6877080" y="3068640"/>
            <a:ext cx="217440" cy="32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77"/>
          <p:cNvSpPr/>
          <p:nvPr/>
        </p:nvSpPr>
        <p:spPr>
          <a:xfrm>
            <a:off x="3419640" y="4076640"/>
            <a:ext cx="92844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78"/>
          <p:cNvSpPr/>
          <p:nvPr/>
        </p:nvSpPr>
        <p:spPr>
          <a:xfrm flipH="1">
            <a:off x="5580000" y="4076640"/>
            <a:ext cx="78264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79"/>
          <p:cNvSpPr/>
          <p:nvPr/>
        </p:nvSpPr>
        <p:spPr>
          <a:xfrm>
            <a:off x="399564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80"/>
          <p:cNvSpPr/>
          <p:nvPr/>
        </p:nvSpPr>
        <p:spPr>
          <a:xfrm>
            <a:off x="6588000" y="5084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zervirano mjesto podnožj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Perpetua"/>
              </a:rPr>
              <a:t>Sanja Milović - viša savjetnica za međunarodnu suradnj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3" descr="stepping ston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304920" y="285264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U kojem ste V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azdoblju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profesionalne karijere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96464"/>
                </a:solidFill>
                <a:latin typeface="Perpetua"/>
              </a:rPr>
              <a:t>Profesionalni razvoj!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Franklin Gothic Book"/>
              </a:rPr>
              <a:t>Stručno usavršavanje!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zervirano mjesto podnožja 4"/>
          <p:cNvSpPr/>
          <p:nvPr/>
        </p:nvSpPr>
        <p:spPr>
          <a:xfrm>
            <a:off x="1403280" y="6308640"/>
            <a:ext cx="6337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0000"/>
                </a:solidFill>
                <a:latin typeface="Arial"/>
              </a:rPr>
              <a:t>JESU LI STRUČNI SKUPOVI DOVOLJNI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573960" cy="1268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00000"/>
                </a:solidFill>
                <a:latin typeface="Franklin Gothic Book"/>
              </a:rPr>
              <a:t>Stručno usavršavanje i </a:t>
            </a:r>
            <a:br>
              <a:rPr sz="3600"/>
            </a:br>
            <a:r>
              <a:rPr b="0" lang="hr-HR" sz="3600" spc="-1" strike="noStrike">
                <a:solidFill>
                  <a:srgbClr val="c00000"/>
                </a:solidFill>
                <a:latin typeface="Franklin Gothic Book"/>
              </a:rPr>
              <a:t>profesionalni razvoj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0" y="1447920"/>
          <a:ext cx="8229600" cy="5037120"/>
        </p:xfrm>
        <a:graphic>
          <a:graphicData uri="http://schemas.openxmlformats.org/drawingml/2006/table">
            <a:tbl>
              <a:tblPr/>
              <a:tblGrid>
                <a:gridCol w="3862440"/>
                <a:gridCol w="43671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tručno usavr</a:t>
                      </a: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vanje kroz stručne skupov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a9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fesionalni razvoj nastavn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a9a9">
                        <a:alpha val="50000"/>
                      </a:srgbClr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remenski ograniče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ontinuitet neovisan o seminari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visi o financijskim mogućnostim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erni proces, ne ovisi o financij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često nametnuto (obvezn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brovol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ođeno potrebama promjena u sustav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zultat je osobna promj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čekuje se "prijenos" predstavljenih znan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čekivani rezultat je osobni i profesionalni razvo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visno o voditelju stručnog usavr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ovisan o voditelju stručnog usavr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guće samo u grup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 osnovi individualan pro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dabir tema podređen prioritetima drug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dabir tema prema interesu pojedin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azi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 je pretpostavka "manjka" znanja, kompeten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ijentacija je razvojna, uvažava i nadograđuje dosada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ja znanja, kompetencije pojedin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dgovornost je na drugima (predavač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dgovornost je u potpunosti na pojedinc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9:10:47Z</dcterms:created>
  <dc:creator>ipetanjek</dc:creator>
  <dc:description/>
  <dc:language>en-US</dc:language>
  <cp:lastModifiedBy>ipetanjek</cp:lastModifiedBy>
  <dcterms:modified xsi:type="dcterms:W3CDTF">2014-10-23T12:35:02Z</dcterms:modified>
  <cp:revision>49</cp:revision>
  <dc:subject/>
  <dc:title>Stručno usavršavanje i profesionalni razvoj</dc:title>
</cp:coreProperties>
</file>