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6A99-1FDC-46C0-9B0C-2ECC2A22271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651C-5790-4A4C-BB03-A42A000C8A1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393B-2744-4E4E-91A3-4FE9793F214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CC0A-3038-4817-B777-EA397369CB2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 u="sng">
                <a:solidFill>
                  <a:srgbClr val="000000"/>
                </a:solidFill>
                <a:uFillTx/>
                <a:latin typeface="Calibri"/>
              </a:rPr>
              <a:t>Galerijsk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Male grupe označene brojevima; zatim velike od predstavnika svih malih; obilaze se pojedina radna mjesta, predstavnik svake male grupe objašnjava svima; pomicanje npr. u smjeru kazaljke na satu; ograničeno vrij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 u="sng">
                <a:solidFill>
                  <a:srgbClr val="000000"/>
                </a:solidFill>
                <a:uFillTx/>
                <a:latin typeface="Calibri"/>
              </a:rPr>
              <a:t>Nakon izlaganj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čenici pišu zaključno izvješć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ije prezentacije pišu tri važna pitanja na koja će odgovori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smeno odgovar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D99C-5593-41FB-A50D-63A4F13472E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KONSTRUKCIJA – važno je da učitelj ne prenosi znanje učeniku; svatko tko uči najprije konstruira značenje (smisao) na što ga potiču zadatci na nastavnim materijalima. U ovoj se fazi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konstrukcije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edznanje povezuje s novim znanj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D0B3-3536-49DA-A997-EDE8C7BF321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51AF-F65E-4D5E-B930-8F2E552F81B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6B3F-ED49-40B6-A133-3DF3BD7B302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aza – faza individualne obrade (konstrukcija) – rad u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matičnoj grupi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ili za domaću zadaću; </a:t>
            </a:r>
            <a:r>
              <a:rPr b="1" i="1" lang="hr-HR" sz="1200" spc="-1" strike="noStrike">
                <a:solidFill>
                  <a:srgbClr val="000000"/>
                </a:solidFill>
                <a:latin typeface="Calibri"/>
              </a:rPr>
              <a:t>što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prenijeti, </a:t>
            </a:r>
            <a:r>
              <a:rPr b="1" i="1" lang="hr-HR" sz="1200" spc="-1" strike="noStrike">
                <a:solidFill>
                  <a:srgbClr val="000000"/>
                </a:solidFill>
                <a:latin typeface="Calibri"/>
              </a:rPr>
              <a:t>kako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prenijeti i kako konsolidirati zn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aza – faza suradničke obrade (sukonstrukcija) – rad u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stručnoj gru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jedan prezentira, drugi dopunjuju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- jedan od temeljnih oblika razmjene; učenici rješavaju raznovrsne zadatk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aza – faza prenošenja (instrukcija) – rad u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matičnoj gru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stručnjaci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preuzimaju ulogu nastavni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harearound” -  jedan od temeljnih oblika razmjene; učenici rješavaju istovrsne zadatke; prezentacija u smjeru kazaljke na sa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aza – faza prezentacije i integracije – frontalni r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ozvani prezentiraju o područjima koja nisu obrađivali u stručnim grupama; nastavnik može putem nastavnoga razgovora s učenicima napraviti skicu na ploči koja prikazuje najvažnije rezul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Napome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Zadaci trebaju biti podjednako teški (obimn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pute trebaju biti jasne i jednostavne, a materijal dobro označ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AFC2-F4CD-4DC7-9AC7-74B1C5F6F11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FCD1-3887-4A33-8DAB-45379CE3B00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005A-59D4-49ED-9AC2-C3640C3BC18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A99B-CA0E-4127-A9B4-B9C0469E31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7761-7CFD-46EA-AE5D-399FD4884D5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2997-5132-45B4-9B8C-D6B0C8DA37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309D-FAC2-4893-86DF-5CD06BF6C0F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 u="sng">
                <a:solidFill>
                  <a:srgbClr val="000000"/>
                </a:solidFill>
                <a:uFillTx/>
                <a:latin typeface="Calibri"/>
              </a:rPr>
              <a:t>Praktične upu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 Veliki papir je privlačniji za r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redina papira se može izrezati (i poslužiti za razredni poster ili plan ploč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Na sredinu se može staviti prozirn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ako nema velikog papira mogu se upotrijebiti mali, za svakog učenika (kružna razmjena) i jedan zajednič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A934-E1D5-42DD-B0AA-D0931C1BB84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54C6-E784-4A16-BBE7-FDB2AA15FE3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D5E4-32C7-444B-B12A-86E80B26FF1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21E7-A671-4110-B83A-B234AAD41A7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42D-99BE-40F3-85FB-F3BAA5B9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B01-B4C2-42EF-90F6-5862E227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2AB-F693-40AF-BF7B-172B17BC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5E7-D88D-49F5-94A9-A88BE467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63E1-CDD6-4569-B5BD-EDD07C2B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0EB9-051F-4C0E-9584-2EDB4C66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447B-62FE-4776-A1B2-58E516BA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5A31-9B9F-462B-846A-5E544506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FFCC-B778-4417-A49D-51A188AD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4B27-A26D-43E0-B8F8-0C12ADE3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18A8-6E82-4C0A-94C4-54BE252F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E64-720F-45C2-9460-DD58B250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CD41-973A-4E1B-BE05-241E8EBB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A04F-E0E8-41F8-908D-99627665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ED41-A66A-4DD4-BE76-40694BAE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4946-2FC7-41BB-AC99-F0B1D172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5AC0-71B1-4164-A98C-82B04439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8B20B-7211-4E85-8867-2674F61C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7D1C-6B54-44BD-8A5A-F786A094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DDD9F-575E-4E82-9078-8D5F54ED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2D470-DA05-4F70-BA37-20FE154A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402F-90FD-49F3-9090-E9FA3387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31F-1DE9-40D4-BA7D-71EC9D4D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0D561-15D8-418F-BDF6-619B48A9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41C86-C9D3-47BF-BFA6-EEF6A546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0109-DBE5-4B40-A270-3CEB2D48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F4A4E-67CB-46D5-952F-DD9AEB81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9CFA-4594-4D69-B590-10A74858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65319-395E-48B4-B82E-43347692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6C460-1D19-454F-9F58-CBC58446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1D1D9-34F1-46E5-97FB-72407D27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99007-8AC6-460A-B2AE-7A59C3E8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6B5D7-2A42-4E1E-A541-C9F54B9B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87A-7D0B-40B6-BB85-A7927F73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60E15-99F8-4BA3-BDCA-1993F00B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0CB57-676E-4A9C-A825-90481D8B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837CE-287F-42D6-B682-D60C5E59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14A69-6C10-4F44-BE75-5DAB6D69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AC609-F2BB-4CDD-A802-95E0BC85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F10D9-48A8-45B3-BBF1-7FEB7ED4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7CC58-09F6-409C-893A-95A440AB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A2D09-4999-4015-A5CF-F31C755E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2C1AA-841D-4491-B51C-07FB8114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000-6D51-4525-BA18-D62E9516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B01-CFA1-4D60-8E9B-ED8D7F24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62B-37FE-4DAD-B3FD-4387FCC4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892-7A22-461E-95D1-C035D6C0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EAE-3F99-48FE-89CD-6E04676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5C93-B0AE-4244-91AA-8FEBB5A6C193}" type="slidenum"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E787-C425-41C5-BCB1-8A2F066FEB43}" type="slidenum"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4C15-04AE-4B14-A76E-5FD1189568F4}" type="slidenum"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B387-9806-430C-856E-5ABCB44E9FF8}" type="slidenum"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hyperlink" Target="http://www.google.hr/url?sa=i&amp;rct=j&amp;q=&amp;esrc=s&amp;frm=1&amp;source=images&amp;cd=&amp;cad=rja&amp;docid=exSA7XykMyS1eM&amp;tbnid=2s149mfQNPTwHM:&amp;ved=0CAUQjRw&amp;url=http://www.edudemic.com/2013/04/27-things-teachers-do-best/&amp;ei=pzv2UZ7CGY7mtQbvx4DwAw&amp;psig=AFQjCNEoXZSdPnO6n9u4urOlQX7olLF40g&amp;ust=1375177908034515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Marina Niš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Viša savjetnica za biologij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AZOO, Podružnica Osijek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FAZA RAZMJENE</a:t>
            </a:r>
            <a:br>
              <a:rPr sz="4000"/>
            </a:br>
            <a:r>
              <a:rPr b="0" lang="hr-HR" sz="3200" spc="-1" strike="noStrike">
                <a:solidFill>
                  <a:srgbClr val="646b86"/>
                </a:solidFill>
                <a:latin typeface="Calibri"/>
              </a:rPr>
              <a:t>Temeljni oblici razmjene</a:t>
            </a:r>
            <a:endParaRPr b="0" lang="en-US" sz="32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8" name="Quad Arrow Callout 5"/>
          <p:cNvSpPr/>
          <p:nvPr/>
        </p:nvSpPr>
        <p:spPr>
          <a:xfrm>
            <a:off x="762120" y="2971800"/>
            <a:ext cx="1216080" cy="1216080"/>
          </a:xfrm>
          <a:custGeom>
            <a:avLst/>
            <a:gdLst>
              <a:gd name="textAreaLeft" fmla="*/ 315360 w 1216080"/>
              <a:gd name="textAreaRight" fmla="*/ 900720 w 1216080"/>
              <a:gd name="textAreaTop" fmla="*/ 315360 h 1216080"/>
              <a:gd name="textAreaBottom" fmla="*/ 900720 h 1216080"/>
            </a:gdLst>
            <a:ahLst/>
            <a:rect l="textAreaLeft" t="textAreaTop" r="textAreaRight" b="textAreaBottom"/>
            <a:pathLst>
              <a:path w="1216025" h="1216025">
                <a:moveTo>
                  <a:pt x="0" y="608013"/>
                </a:moveTo>
                <a:lnTo>
                  <a:pt x="225147" y="382865"/>
                </a:lnTo>
                <a:lnTo>
                  <a:pt x="225147" y="495439"/>
                </a:lnTo>
                <a:lnTo>
                  <a:pt x="315419" y="495439"/>
                </a:lnTo>
                <a:lnTo>
                  <a:pt x="315419" y="315419"/>
                </a:lnTo>
                <a:lnTo>
                  <a:pt x="495439" y="315419"/>
                </a:lnTo>
                <a:lnTo>
                  <a:pt x="495439" y="225147"/>
                </a:lnTo>
                <a:lnTo>
                  <a:pt x="382865" y="225147"/>
                </a:lnTo>
                <a:lnTo>
                  <a:pt x="608013" y="0"/>
                </a:lnTo>
                <a:lnTo>
                  <a:pt x="833160" y="225147"/>
                </a:lnTo>
                <a:lnTo>
                  <a:pt x="720586" y="225147"/>
                </a:lnTo>
                <a:lnTo>
                  <a:pt x="720586" y="315419"/>
                </a:lnTo>
                <a:lnTo>
                  <a:pt x="900606" y="315419"/>
                </a:lnTo>
                <a:lnTo>
                  <a:pt x="900606" y="495439"/>
                </a:lnTo>
                <a:lnTo>
                  <a:pt x="990878" y="495439"/>
                </a:lnTo>
                <a:lnTo>
                  <a:pt x="990878" y="382865"/>
                </a:lnTo>
                <a:lnTo>
                  <a:pt x="1216025" y="608013"/>
                </a:lnTo>
                <a:lnTo>
                  <a:pt x="990878" y="833160"/>
                </a:lnTo>
                <a:lnTo>
                  <a:pt x="990878" y="720586"/>
                </a:lnTo>
                <a:lnTo>
                  <a:pt x="900606" y="720586"/>
                </a:lnTo>
                <a:lnTo>
                  <a:pt x="900606" y="900606"/>
                </a:lnTo>
                <a:lnTo>
                  <a:pt x="720586" y="900606"/>
                </a:lnTo>
                <a:lnTo>
                  <a:pt x="720586" y="990878"/>
                </a:lnTo>
                <a:lnTo>
                  <a:pt x="833160" y="990878"/>
                </a:lnTo>
                <a:lnTo>
                  <a:pt x="608013" y="1216025"/>
                </a:lnTo>
                <a:lnTo>
                  <a:pt x="382865" y="990878"/>
                </a:lnTo>
                <a:lnTo>
                  <a:pt x="495439" y="990878"/>
                </a:lnTo>
                <a:lnTo>
                  <a:pt x="495439" y="900606"/>
                </a:lnTo>
                <a:lnTo>
                  <a:pt x="315419" y="900606"/>
                </a:lnTo>
                <a:lnTo>
                  <a:pt x="315419" y="720586"/>
                </a:lnTo>
                <a:lnTo>
                  <a:pt x="225147" y="720586"/>
                </a:lnTo>
                <a:lnTo>
                  <a:pt x="225147" y="833160"/>
                </a:lnTo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lowchart: Connector 6"/>
          <p:cNvSpPr/>
          <p:nvPr/>
        </p:nvSpPr>
        <p:spPr>
          <a:xfrm>
            <a:off x="990720" y="2133720"/>
            <a:ext cx="761760" cy="76176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lowchart: Connector 9"/>
          <p:cNvSpPr/>
          <p:nvPr/>
        </p:nvSpPr>
        <p:spPr>
          <a:xfrm>
            <a:off x="2057400" y="335268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lowchart: Connector 10"/>
          <p:cNvSpPr/>
          <p:nvPr/>
        </p:nvSpPr>
        <p:spPr>
          <a:xfrm>
            <a:off x="3352680" y="32767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owchart: Connector 11"/>
          <p:cNvSpPr/>
          <p:nvPr/>
        </p:nvSpPr>
        <p:spPr>
          <a:xfrm>
            <a:off x="228600" y="335268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Quad Arrow Callout 12"/>
          <p:cNvSpPr/>
          <p:nvPr/>
        </p:nvSpPr>
        <p:spPr>
          <a:xfrm>
            <a:off x="3886200" y="2895480"/>
            <a:ext cx="1216080" cy="1216080"/>
          </a:xfrm>
          <a:custGeom>
            <a:avLst/>
            <a:gdLst>
              <a:gd name="textAreaLeft" fmla="*/ 315360 w 1216080"/>
              <a:gd name="textAreaRight" fmla="*/ 900720 w 1216080"/>
              <a:gd name="textAreaTop" fmla="*/ 315360 h 1216080"/>
              <a:gd name="textAreaBottom" fmla="*/ 900720 h 1216080"/>
            </a:gdLst>
            <a:ahLst/>
            <a:rect l="textAreaLeft" t="textAreaTop" r="textAreaRight" b="textAreaBottom"/>
            <a:pathLst>
              <a:path w="1216025" h="1216025">
                <a:moveTo>
                  <a:pt x="0" y="608013"/>
                </a:moveTo>
                <a:lnTo>
                  <a:pt x="225147" y="382865"/>
                </a:lnTo>
                <a:lnTo>
                  <a:pt x="225147" y="495439"/>
                </a:lnTo>
                <a:lnTo>
                  <a:pt x="315419" y="495439"/>
                </a:lnTo>
                <a:lnTo>
                  <a:pt x="315419" y="315419"/>
                </a:lnTo>
                <a:lnTo>
                  <a:pt x="495439" y="315419"/>
                </a:lnTo>
                <a:lnTo>
                  <a:pt x="495439" y="225147"/>
                </a:lnTo>
                <a:lnTo>
                  <a:pt x="382865" y="225147"/>
                </a:lnTo>
                <a:lnTo>
                  <a:pt x="608013" y="0"/>
                </a:lnTo>
                <a:lnTo>
                  <a:pt x="833160" y="225147"/>
                </a:lnTo>
                <a:lnTo>
                  <a:pt x="720586" y="225147"/>
                </a:lnTo>
                <a:lnTo>
                  <a:pt x="720586" y="315419"/>
                </a:lnTo>
                <a:lnTo>
                  <a:pt x="900606" y="315419"/>
                </a:lnTo>
                <a:lnTo>
                  <a:pt x="900606" y="495439"/>
                </a:lnTo>
                <a:lnTo>
                  <a:pt x="990878" y="495439"/>
                </a:lnTo>
                <a:lnTo>
                  <a:pt x="990878" y="382865"/>
                </a:lnTo>
                <a:lnTo>
                  <a:pt x="1216025" y="608013"/>
                </a:lnTo>
                <a:lnTo>
                  <a:pt x="990878" y="833160"/>
                </a:lnTo>
                <a:lnTo>
                  <a:pt x="990878" y="720586"/>
                </a:lnTo>
                <a:lnTo>
                  <a:pt x="900606" y="720586"/>
                </a:lnTo>
                <a:lnTo>
                  <a:pt x="900606" y="900606"/>
                </a:lnTo>
                <a:lnTo>
                  <a:pt x="720586" y="900606"/>
                </a:lnTo>
                <a:lnTo>
                  <a:pt x="720586" y="990878"/>
                </a:lnTo>
                <a:lnTo>
                  <a:pt x="833160" y="990878"/>
                </a:lnTo>
                <a:lnTo>
                  <a:pt x="608013" y="1216025"/>
                </a:lnTo>
                <a:lnTo>
                  <a:pt x="382865" y="990878"/>
                </a:lnTo>
                <a:lnTo>
                  <a:pt x="495439" y="990878"/>
                </a:lnTo>
                <a:lnTo>
                  <a:pt x="495439" y="900606"/>
                </a:lnTo>
                <a:lnTo>
                  <a:pt x="315419" y="900606"/>
                </a:lnTo>
                <a:lnTo>
                  <a:pt x="315419" y="720586"/>
                </a:lnTo>
                <a:lnTo>
                  <a:pt x="225147" y="720586"/>
                </a:lnTo>
                <a:lnTo>
                  <a:pt x="225147" y="833160"/>
                </a:lnTo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Quad Arrow Callout 13"/>
          <p:cNvSpPr/>
          <p:nvPr/>
        </p:nvSpPr>
        <p:spPr>
          <a:xfrm>
            <a:off x="7010280" y="2895480"/>
            <a:ext cx="1216080" cy="1216080"/>
          </a:xfrm>
          <a:custGeom>
            <a:avLst/>
            <a:gdLst>
              <a:gd name="textAreaLeft" fmla="*/ 315360 w 1216080"/>
              <a:gd name="textAreaRight" fmla="*/ 900720 w 1216080"/>
              <a:gd name="textAreaTop" fmla="*/ 315360 h 1216080"/>
              <a:gd name="textAreaBottom" fmla="*/ 900720 h 1216080"/>
            </a:gdLst>
            <a:ahLst/>
            <a:rect l="textAreaLeft" t="textAreaTop" r="textAreaRight" b="textAreaBottom"/>
            <a:pathLst>
              <a:path w="1216025" h="1216025">
                <a:moveTo>
                  <a:pt x="0" y="608013"/>
                </a:moveTo>
                <a:lnTo>
                  <a:pt x="225147" y="382865"/>
                </a:lnTo>
                <a:lnTo>
                  <a:pt x="225147" y="495439"/>
                </a:lnTo>
                <a:lnTo>
                  <a:pt x="315419" y="495439"/>
                </a:lnTo>
                <a:lnTo>
                  <a:pt x="315419" y="315419"/>
                </a:lnTo>
                <a:lnTo>
                  <a:pt x="495439" y="315419"/>
                </a:lnTo>
                <a:lnTo>
                  <a:pt x="495439" y="225147"/>
                </a:lnTo>
                <a:lnTo>
                  <a:pt x="382865" y="225147"/>
                </a:lnTo>
                <a:lnTo>
                  <a:pt x="608013" y="0"/>
                </a:lnTo>
                <a:lnTo>
                  <a:pt x="833160" y="225147"/>
                </a:lnTo>
                <a:lnTo>
                  <a:pt x="720586" y="225147"/>
                </a:lnTo>
                <a:lnTo>
                  <a:pt x="720586" y="315419"/>
                </a:lnTo>
                <a:lnTo>
                  <a:pt x="900606" y="315419"/>
                </a:lnTo>
                <a:lnTo>
                  <a:pt x="900606" y="495439"/>
                </a:lnTo>
                <a:lnTo>
                  <a:pt x="990878" y="495439"/>
                </a:lnTo>
                <a:lnTo>
                  <a:pt x="990878" y="382865"/>
                </a:lnTo>
                <a:lnTo>
                  <a:pt x="1216025" y="608013"/>
                </a:lnTo>
                <a:lnTo>
                  <a:pt x="990878" y="833160"/>
                </a:lnTo>
                <a:lnTo>
                  <a:pt x="990878" y="720586"/>
                </a:lnTo>
                <a:lnTo>
                  <a:pt x="900606" y="720586"/>
                </a:lnTo>
                <a:lnTo>
                  <a:pt x="900606" y="900606"/>
                </a:lnTo>
                <a:lnTo>
                  <a:pt x="720586" y="900606"/>
                </a:lnTo>
                <a:lnTo>
                  <a:pt x="720586" y="990878"/>
                </a:lnTo>
                <a:lnTo>
                  <a:pt x="833160" y="990878"/>
                </a:lnTo>
                <a:lnTo>
                  <a:pt x="608013" y="1216025"/>
                </a:lnTo>
                <a:lnTo>
                  <a:pt x="382865" y="990878"/>
                </a:lnTo>
                <a:lnTo>
                  <a:pt x="495439" y="990878"/>
                </a:lnTo>
                <a:lnTo>
                  <a:pt x="495439" y="900606"/>
                </a:lnTo>
                <a:lnTo>
                  <a:pt x="315419" y="900606"/>
                </a:lnTo>
                <a:lnTo>
                  <a:pt x="315419" y="720586"/>
                </a:lnTo>
                <a:lnTo>
                  <a:pt x="225147" y="720586"/>
                </a:lnTo>
                <a:lnTo>
                  <a:pt x="225147" y="833160"/>
                </a:lnTo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lowchart: Connector 14"/>
          <p:cNvSpPr/>
          <p:nvPr/>
        </p:nvSpPr>
        <p:spPr>
          <a:xfrm>
            <a:off x="4114800" y="2057400"/>
            <a:ext cx="762120" cy="76212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lowchart: Connector 15"/>
          <p:cNvSpPr/>
          <p:nvPr/>
        </p:nvSpPr>
        <p:spPr>
          <a:xfrm>
            <a:off x="5181480" y="32767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owchart: Connector 16"/>
          <p:cNvSpPr/>
          <p:nvPr/>
        </p:nvSpPr>
        <p:spPr>
          <a:xfrm>
            <a:off x="4267080" y="41911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lowchart: Connector 17"/>
          <p:cNvSpPr/>
          <p:nvPr/>
        </p:nvSpPr>
        <p:spPr>
          <a:xfrm>
            <a:off x="7391520" y="426708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lowchart: Connector 18"/>
          <p:cNvSpPr/>
          <p:nvPr/>
        </p:nvSpPr>
        <p:spPr>
          <a:xfrm>
            <a:off x="6477120" y="32767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lowchart: Connector 19"/>
          <p:cNvSpPr/>
          <p:nvPr/>
        </p:nvSpPr>
        <p:spPr>
          <a:xfrm>
            <a:off x="8305920" y="32767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owchart: Connector 20"/>
          <p:cNvSpPr/>
          <p:nvPr/>
        </p:nvSpPr>
        <p:spPr>
          <a:xfrm>
            <a:off x="7391520" y="23623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lowchart: Connector 21"/>
          <p:cNvSpPr/>
          <p:nvPr/>
        </p:nvSpPr>
        <p:spPr>
          <a:xfrm>
            <a:off x="1143000" y="426708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Straight Arrow Connector 38"/>
          <p:cNvCxnSpPr/>
          <p:nvPr/>
        </p:nvCxnSpPr>
        <p:spPr>
          <a:xfrm>
            <a:off x="1752120" y="2819520"/>
            <a:ext cx="381960" cy="457920"/>
          </a:xfrm>
          <a:prstGeom prst="straightConnector1">
            <a:avLst/>
          </a:prstGeom>
          <a:ln w="38160">
            <a:solidFill>
              <a:srgbClr val="e3a192"/>
            </a:solidFill>
            <a:miter/>
            <a:tailEnd len="med" type="arrow" w="med"/>
          </a:ln>
        </p:spPr>
      </p:cxnSp>
      <p:cxnSp>
        <p:nvCxnSpPr>
          <p:cNvPr id="254" name="Straight Arrow Connector 39"/>
          <p:cNvCxnSpPr/>
          <p:nvPr/>
        </p:nvCxnSpPr>
        <p:spPr>
          <a:xfrm flipH="1">
            <a:off x="533160" y="2819520"/>
            <a:ext cx="457920" cy="457920"/>
          </a:xfrm>
          <a:prstGeom prst="straightConnector1">
            <a:avLst/>
          </a:prstGeom>
          <a:ln w="38160">
            <a:solidFill>
              <a:srgbClr val="e3a192"/>
            </a:solidFill>
            <a:miter/>
            <a:tailEnd len="med" type="arrow" w="med"/>
          </a:ln>
        </p:spPr>
      </p:cxnSp>
      <p:cxnSp>
        <p:nvCxnSpPr>
          <p:cNvPr id="255" name="Straight Arrow Connector 42"/>
          <p:cNvCxnSpPr>
            <a:stCxn id="238" idx="0"/>
          </p:cNvCxnSpPr>
          <p:nvPr/>
        </p:nvCxnSpPr>
        <p:spPr>
          <a:xfrm>
            <a:off x="1370160" y="2971800"/>
            <a:ext cx="2160" cy="838800"/>
          </a:xfrm>
          <a:prstGeom prst="straightConnector1">
            <a:avLst/>
          </a:prstGeom>
          <a:ln w="38160">
            <a:solidFill>
              <a:srgbClr val="e3a192"/>
            </a:solidFill>
            <a:miter/>
            <a:tailEnd len="med" type="arrow" w="med"/>
          </a:ln>
        </p:spPr>
      </p:cxnSp>
      <p:cxnSp>
        <p:nvCxnSpPr>
          <p:cNvPr id="256" name="Straight Arrow Connector 46"/>
          <p:cNvCxnSpPr/>
          <p:nvPr/>
        </p:nvCxnSpPr>
        <p:spPr>
          <a:xfrm>
            <a:off x="4876560" y="2819520"/>
            <a:ext cx="229320" cy="30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7" name="Straight Arrow Connector 47"/>
          <p:cNvCxnSpPr/>
          <p:nvPr/>
        </p:nvCxnSpPr>
        <p:spPr>
          <a:xfrm flipH="1">
            <a:off x="3962160" y="2819520"/>
            <a:ext cx="305280" cy="30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8" name="Straight Arrow Connector 50"/>
          <p:cNvCxnSpPr/>
          <p:nvPr/>
        </p:nvCxnSpPr>
        <p:spPr>
          <a:xfrm flipH="1">
            <a:off x="4952520" y="3809880"/>
            <a:ext cx="4579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Straight Arrow Connector 55"/>
          <p:cNvCxnSpPr/>
          <p:nvPr/>
        </p:nvCxnSpPr>
        <p:spPr>
          <a:xfrm flipH="1" flipV="1">
            <a:off x="3657240" y="3809520"/>
            <a:ext cx="4579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0" name="Straight Arrow Connector 59"/>
          <p:cNvCxnSpPr/>
          <p:nvPr/>
        </p:nvCxnSpPr>
        <p:spPr>
          <a:xfrm>
            <a:off x="4495320" y="2895480"/>
            <a:ext cx="1080" cy="534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1" name="Straight Arrow Connector 65"/>
          <p:cNvCxnSpPr/>
          <p:nvPr/>
        </p:nvCxnSpPr>
        <p:spPr>
          <a:xfrm flipV="1">
            <a:off x="3504960" y="2590200"/>
            <a:ext cx="53388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2" name="Straight Arrow Connector 70"/>
          <p:cNvCxnSpPr/>
          <p:nvPr/>
        </p:nvCxnSpPr>
        <p:spPr>
          <a:xfrm>
            <a:off x="7924320" y="2743200"/>
            <a:ext cx="38196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3" name="Straight Arrow Connector 71"/>
          <p:cNvCxnSpPr/>
          <p:nvPr/>
        </p:nvCxnSpPr>
        <p:spPr>
          <a:xfrm>
            <a:off x="6934320" y="3809880"/>
            <a:ext cx="38160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4" name="Straight Arrow Connector 72"/>
          <p:cNvCxnSpPr/>
          <p:nvPr/>
        </p:nvCxnSpPr>
        <p:spPr>
          <a:xfrm flipV="1">
            <a:off x="7010280" y="3429000"/>
            <a:ext cx="534240" cy="76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5" name="Straight Arrow Connector 75"/>
          <p:cNvCxnSpPr/>
          <p:nvPr/>
        </p:nvCxnSpPr>
        <p:spPr>
          <a:xfrm flipH="1" flipV="1">
            <a:off x="7466760" y="3580920"/>
            <a:ext cx="229320" cy="610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6" name="Straight Arrow Connector 77"/>
          <p:cNvCxnSpPr/>
          <p:nvPr/>
        </p:nvCxnSpPr>
        <p:spPr>
          <a:xfrm flipH="1">
            <a:off x="7771680" y="3428640"/>
            <a:ext cx="531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7" name="Straight Arrow Connector 81"/>
          <p:cNvCxnSpPr/>
          <p:nvPr/>
        </p:nvCxnSpPr>
        <p:spPr>
          <a:xfrm flipH="1">
            <a:off x="7162560" y="2895480"/>
            <a:ext cx="3052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8" name="TextBox 87"/>
          <p:cNvSpPr/>
          <p:nvPr/>
        </p:nvSpPr>
        <p:spPr>
          <a:xfrm>
            <a:off x="304920" y="51055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Jedan izlaže, ostali dopunjav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9"/>
          <p:cNvSpPr/>
          <p:nvPr/>
        </p:nvSpPr>
        <p:spPr>
          <a:xfrm>
            <a:off x="3581280" y="510552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Izlaganje u smjeru kazaljke na s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2"/>
          <p:cNvSpPr/>
          <p:nvPr/>
        </p:nvSpPr>
        <p:spPr>
          <a:xfrm>
            <a:off x="6781680" y="51055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Slobodna diskus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Govorne kar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93"/>
          <p:cNvCxnSpPr/>
          <p:nvPr/>
        </p:nvCxnSpPr>
        <p:spPr>
          <a:xfrm flipV="1">
            <a:off x="1752480" y="3656880"/>
            <a:ext cx="76680" cy="762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46b86"/>
                </a:solidFill>
                <a:latin typeface="Calibri"/>
              </a:rPr>
              <a:t>Razmjena: Intervju</a:t>
            </a:r>
            <a:br>
              <a:rPr sz="3600"/>
            </a:br>
            <a:endParaRPr b="0" lang="en-US" sz="3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ntervju u tri korak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ntervju s promatračem u tročlanim grupam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ntervju s analitičarem u četveročlanim grupam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FAZA IZLAGANJ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912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moću grafičkih prikaza (važnost vizualiziranja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alerijski obilaza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Nakon izlaganj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ratak učenik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ažetak nastavnik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76" name="Straight Arrow Connector 6"/>
          <p:cNvCxnSpPr/>
          <p:nvPr/>
        </p:nvCxnSpPr>
        <p:spPr>
          <a:xfrm flipH="1">
            <a:off x="2819160" y="4571640"/>
            <a:ext cx="838800" cy="305640"/>
          </a:xfrm>
          <a:prstGeom prst="straightConnector1">
            <a:avLst/>
          </a:prstGeom>
          <a:ln w="63360">
            <a:solidFill>
              <a:srgbClr val="9b4632"/>
            </a:solidFill>
            <a:miter/>
            <a:tailEnd len="med" type="triangle" w="med"/>
          </a:ln>
        </p:spPr>
      </p:cxnSp>
      <p:cxnSp>
        <p:nvCxnSpPr>
          <p:cNvPr id="277" name="Straight Arrow Connector 8"/>
          <p:cNvCxnSpPr/>
          <p:nvPr/>
        </p:nvCxnSpPr>
        <p:spPr>
          <a:xfrm>
            <a:off x="5791320" y="4648320"/>
            <a:ext cx="838800" cy="381600"/>
          </a:xfrm>
          <a:prstGeom prst="straightConnector1">
            <a:avLst/>
          </a:prstGeom>
          <a:ln w="63360">
            <a:solidFill>
              <a:srgbClr val="9b463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Konstruktivistička teorija učenj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76520"/>
            <a:ext cx="25909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200400" y="167652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6172200" y="1295280"/>
            <a:ext cx="2743200" cy="5334120"/>
          </a:xfrm>
          <a:prstGeom prst="rect">
            <a:avLst/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nstantia"/>
              </a:rPr>
              <a:t>INSTRU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6477120" y="1371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INSTR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048120" y="1295280"/>
            <a:ext cx="2971800" cy="533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nstantia"/>
              </a:rPr>
              <a:t>(u fazi razmjene); učenik razmjenjuje spoznaje s partnerom ili grupom učenika; uspoređuje svoje s njihovim konstrukcijama i preispituje svoje konstrukcije; posljedica je ispravljanje ili proširivanje vlastitog znanja (sukonstruk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3200400" y="12952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SUKONSTRUKCIJA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152280" y="1295280"/>
            <a:ext cx="2743200" cy="533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533520" y="13716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KONSTR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2"/>
          <p:cNvSpPr/>
          <p:nvPr/>
        </p:nvSpPr>
        <p:spPr>
          <a:xfrm>
            <a:off x="152280" y="1600200"/>
            <a:ext cx="28195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u fazi razmišljanja tijekom individualnog ra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enik konstruira značenje (konstrukcija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ovo se znanje povezuje s postojećim znanjem i iskustv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UČ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Elbow Connector 14"/>
          <p:cNvCxnSpPr/>
          <p:nvPr/>
        </p:nvCxnSpPr>
        <p:spPr>
          <a:xfrm flipH="1" rot="16200000">
            <a:off x="1561320" y="5524200"/>
            <a:ext cx="457920" cy="229320"/>
          </a:xfrm>
          <a:prstGeom prst="bentConnector3">
            <a:avLst>
              <a:gd name="adj1" fmla="val 49960"/>
            </a:avLst>
          </a:prstGeom>
          <a:ln w="19080">
            <a:solidFill>
              <a:srgbClr val="9b4632"/>
            </a:solidFill>
            <a:miter/>
            <a:tailEnd len="med" type="triangle" w="med"/>
          </a:ln>
        </p:spPr>
      </p:cxnSp>
      <p:sp>
        <p:nvSpPr>
          <p:cNvPr id="289" name="TextBox 15"/>
          <p:cNvSpPr/>
          <p:nvPr/>
        </p:nvSpPr>
        <p:spPr>
          <a:xfrm>
            <a:off x="1066680" y="205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3048120" y="1905120"/>
            <a:ext cx="289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fazi razmje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enik razmjenjuje spoznaje s partnerom ili grupom učenik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spoređuje i preispituje svoje konstrukci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S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LI  PROŠIRIVANJE VLASTITOG ZNANJA (SUKONSTRUKC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Elbow Connector 18"/>
          <p:cNvCxnSpPr/>
          <p:nvPr/>
        </p:nvCxnSpPr>
        <p:spPr>
          <a:xfrm flipH="1" rot="16200000">
            <a:off x="4647240" y="4419360"/>
            <a:ext cx="457920" cy="305640"/>
          </a:xfrm>
          <a:prstGeom prst="bentConnector3">
            <a:avLst>
              <a:gd name="adj1" fmla="val 49960"/>
            </a:avLst>
          </a:prstGeom>
          <a:ln w="19080">
            <a:solidFill>
              <a:srgbClr val="9b4632"/>
            </a:solidFill>
            <a:miter/>
            <a:tailEnd len="med" type="triangle" w="med"/>
          </a:ln>
        </p:spPr>
      </p:cxnSp>
      <p:sp>
        <p:nvSpPr>
          <p:cNvPr id="292" name="TextBox 31"/>
          <p:cNvSpPr/>
          <p:nvPr/>
        </p:nvSpPr>
        <p:spPr>
          <a:xfrm>
            <a:off x="6172200" y="762120"/>
            <a:ext cx="27432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fazi prezentaci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gradnja u svoju mentalnu mrež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jedinci ili grupe instruiraju druge iznoseći rezultate svoga 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NSTRUK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Elbow Connector 33"/>
          <p:cNvCxnSpPr/>
          <p:nvPr/>
        </p:nvCxnSpPr>
        <p:spPr>
          <a:xfrm flipH="1" rot="16200000">
            <a:off x="7391160" y="4571640"/>
            <a:ext cx="762840" cy="305280"/>
          </a:xfrm>
          <a:prstGeom prst="bentConnector3">
            <a:avLst>
              <a:gd name="adj1" fmla="val 50000"/>
            </a:avLst>
          </a:prstGeom>
          <a:ln w="19080">
            <a:solidFill>
              <a:srgbClr val="9b463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	</a:t>
            </a: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Aktiviranje svih učenik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Prijedlog: GRUPNA SLAGALICA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(engl. Jigsaw–Classroom – “metoda pilice”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etoda ili organizacijski oblik suradničkoga učen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4" descr="images"/>
          <p:cNvPicPr/>
          <p:nvPr/>
        </p:nvPicPr>
        <p:blipFill>
          <a:blip r:embed="rId1"/>
          <a:stretch/>
        </p:blipFill>
        <p:spPr>
          <a:xfrm>
            <a:off x="7467480" y="838080"/>
            <a:ext cx="12240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Zadatak: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468520"/>
            <a:ext cx="8229600" cy="37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dijeliti se u grupe od 4 do 6 sudion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vatko u grupi dobije radni list s različitim broj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očitati i smisliti kratak prika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ložiti nove grupe (svi isti brojevi) i raspraviti o prikazu (što je najvažnije reći i na koji nači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ratiti se u prvobitne grupe i kratko informirati ostale članove (prvobitne grup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Frontalno – rasprava o nejasnoća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Picture 4" descr="images"/>
          <p:cNvPicPr/>
          <p:nvPr/>
        </p:nvPicPr>
        <p:blipFill>
          <a:blip r:embed="rId1"/>
          <a:stretch/>
        </p:blipFill>
        <p:spPr>
          <a:xfrm>
            <a:off x="7391520" y="990720"/>
            <a:ext cx="122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Content Placeholder 19" descr=""/>
          <p:cNvPicPr/>
          <p:nvPr/>
        </p:nvPicPr>
        <p:blipFill>
          <a:blip r:embed="rId1"/>
          <a:stretch/>
        </p:blipFill>
        <p:spPr>
          <a:xfrm>
            <a:off x="450720" y="1925640"/>
            <a:ext cx="8242560" cy="4408560"/>
          </a:xfrm>
          <a:prstGeom prst="rect">
            <a:avLst/>
          </a:prstGeom>
          <a:ln w="0">
            <a:noFill/>
          </a:ln>
        </p:spPr>
      </p:pic>
      <p:sp>
        <p:nvSpPr>
          <p:cNvPr id="301" name="Rounded Rectangle 21"/>
          <p:cNvSpPr/>
          <p:nvPr/>
        </p:nvSpPr>
        <p:spPr>
          <a:xfrm>
            <a:off x="6553080" y="1371600"/>
            <a:ext cx="609840" cy="6094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22"/>
          <p:cNvSpPr/>
          <p:nvPr/>
        </p:nvSpPr>
        <p:spPr>
          <a:xfrm>
            <a:off x="27432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ounded Rectangle 23"/>
          <p:cNvSpPr/>
          <p:nvPr/>
        </p:nvSpPr>
        <p:spPr>
          <a:xfrm>
            <a:off x="45720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ounded Rectangle 29"/>
          <p:cNvSpPr/>
          <p:nvPr/>
        </p:nvSpPr>
        <p:spPr>
          <a:xfrm>
            <a:off x="7391520" y="403848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ounded Rectangle 30"/>
          <p:cNvSpPr/>
          <p:nvPr/>
        </p:nvSpPr>
        <p:spPr>
          <a:xfrm>
            <a:off x="2895480" y="41148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31"/>
          <p:cNvSpPr/>
          <p:nvPr/>
        </p:nvSpPr>
        <p:spPr>
          <a:xfrm>
            <a:off x="7010280" y="40384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ounded Rectangle 33"/>
          <p:cNvSpPr/>
          <p:nvPr/>
        </p:nvSpPr>
        <p:spPr>
          <a:xfrm>
            <a:off x="762120" y="37339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ounded Rectangle 34"/>
          <p:cNvSpPr/>
          <p:nvPr/>
        </p:nvSpPr>
        <p:spPr>
          <a:xfrm>
            <a:off x="2971800" y="54864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ounded Rectangle 35"/>
          <p:cNvSpPr/>
          <p:nvPr/>
        </p:nvSpPr>
        <p:spPr>
          <a:xfrm>
            <a:off x="7467480" y="54100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36"/>
          <p:cNvSpPr/>
          <p:nvPr/>
        </p:nvSpPr>
        <p:spPr>
          <a:xfrm>
            <a:off x="1143000" y="58672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37"/>
          <p:cNvSpPr/>
          <p:nvPr/>
        </p:nvSpPr>
        <p:spPr>
          <a:xfrm>
            <a:off x="5105520" y="53341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40"/>
          <p:cNvSpPr/>
          <p:nvPr/>
        </p:nvSpPr>
        <p:spPr>
          <a:xfrm>
            <a:off x="1143000" y="41148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41"/>
          <p:cNvSpPr/>
          <p:nvPr/>
        </p:nvSpPr>
        <p:spPr>
          <a:xfrm>
            <a:off x="5562720" y="37339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42"/>
          <p:cNvSpPr/>
          <p:nvPr/>
        </p:nvSpPr>
        <p:spPr>
          <a:xfrm>
            <a:off x="2895480" y="37339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le 45"/>
          <p:cNvSpPr/>
          <p:nvPr/>
        </p:nvSpPr>
        <p:spPr>
          <a:xfrm>
            <a:off x="16002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ounded Rectangle 53"/>
          <p:cNvSpPr/>
          <p:nvPr/>
        </p:nvSpPr>
        <p:spPr>
          <a:xfrm>
            <a:off x="762120" y="41148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ounded Rectangle 54"/>
          <p:cNvSpPr/>
          <p:nvPr/>
        </p:nvSpPr>
        <p:spPr>
          <a:xfrm>
            <a:off x="3276720" y="41148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ounded Rectangle 55"/>
          <p:cNvSpPr/>
          <p:nvPr/>
        </p:nvSpPr>
        <p:spPr>
          <a:xfrm>
            <a:off x="7010280" y="36576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57"/>
          <p:cNvSpPr/>
          <p:nvPr/>
        </p:nvSpPr>
        <p:spPr>
          <a:xfrm>
            <a:off x="1143000" y="37339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ounded Rectangle 58"/>
          <p:cNvSpPr/>
          <p:nvPr/>
        </p:nvSpPr>
        <p:spPr>
          <a:xfrm>
            <a:off x="3276720" y="37339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ounded Rectangle 59"/>
          <p:cNvSpPr/>
          <p:nvPr/>
        </p:nvSpPr>
        <p:spPr>
          <a:xfrm>
            <a:off x="5181480" y="37339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ounded Rectangle 63"/>
          <p:cNvSpPr/>
          <p:nvPr/>
        </p:nvSpPr>
        <p:spPr>
          <a:xfrm>
            <a:off x="5486400" y="53341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ounded Rectangle 64"/>
          <p:cNvSpPr/>
          <p:nvPr/>
        </p:nvSpPr>
        <p:spPr>
          <a:xfrm>
            <a:off x="3352680" y="54864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65"/>
          <p:cNvSpPr/>
          <p:nvPr/>
        </p:nvSpPr>
        <p:spPr>
          <a:xfrm>
            <a:off x="7467480" y="57913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ounded Rectangle 67"/>
          <p:cNvSpPr/>
          <p:nvPr/>
        </p:nvSpPr>
        <p:spPr>
          <a:xfrm>
            <a:off x="762120" y="586728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ounded Rectangle 68"/>
          <p:cNvSpPr/>
          <p:nvPr/>
        </p:nvSpPr>
        <p:spPr>
          <a:xfrm>
            <a:off x="2971800" y="58672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69"/>
          <p:cNvSpPr/>
          <p:nvPr/>
        </p:nvSpPr>
        <p:spPr>
          <a:xfrm>
            <a:off x="5486400" y="57913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71"/>
          <p:cNvSpPr/>
          <p:nvPr/>
        </p:nvSpPr>
        <p:spPr>
          <a:xfrm>
            <a:off x="762120" y="54864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ounded Rectangle 72"/>
          <p:cNvSpPr/>
          <p:nvPr/>
        </p:nvSpPr>
        <p:spPr>
          <a:xfrm>
            <a:off x="3352680" y="58672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ounded Rectangle 73"/>
          <p:cNvSpPr/>
          <p:nvPr/>
        </p:nvSpPr>
        <p:spPr>
          <a:xfrm>
            <a:off x="5105520" y="57913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ounded Rectangle 83"/>
          <p:cNvSpPr/>
          <p:nvPr/>
        </p:nvSpPr>
        <p:spPr>
          <a:xfrm>
            <a:off x="7086600" y="54100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84"/>
          <p:cNvSpPr/>
          <p:nvPr/>
        </p:nvSpPr>
        <p:spPr>
          <a:xfrm>
            <a:off x="1143000" y="54864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85"/>
          <p:cNvSpPr/>
          <p:nvPr/>
        </p:nvSpPr>
        <p:spPr>
          <a:xfrm>
            <a:off x="5562720" y="41148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86"/>
          <p:cNvSpPr/>
          <p:nvPr/>
        </p:nvSpPr>
        <p:spPr>
          <a:xfrm>
            <a:off x="7391520" y="36576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87"/>
          <p:cNvSpPr/>
          <p:nvPr/>
        </p:nvSpPr>
        <p:spPr>
          <a:xfrm>
            <a:off x="7086600" y="57913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90"/>
          <p:cNvSpPr/>
          <p:nvPr/>
        </p:nvSpPr>
        <p:spPr>
          <a:xfrm>
            <a:off x="5181480" y="41148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ounded Rectangle 91"/>
          <p:cNvSpPr/>
          <p:nvPr/>
        </p:nvSpPr>
        <p:spPr>
          <a:xfrm>
            <a:off x="533520" y="990720"/>
            <a:ext cx="7848360" cy="2057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le 92"/>
          <p:cNvSpPr/>
          <p:nvPr/>
        </p:nvSpPr>
        <p:spPr>
          <a:xfrm>
            <a:off x="533520" y="3429000"/>
            <a:ext cx="7772400" cy="1371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ounded Rectangle 93"/>
          <p:cNvSpPr/>
          <p:nvPr/>
        </p:nvSpPr>
        <p:spPr>
          <a:xfrm>
            <a:off x="609480" y="5181480"/>
            <a:ext cx="7772400" cy="1371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ounded Rectangle 45"/>
          <p:cNvSpPr/>
          <p:nvPr/>
        </p:nvSpPr>
        <p:spPr>
          <a:xfrm>
            <a:off x="9144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45"/>
          <p:cNvSpPr/>
          <p:nvPr/>
        </p:nvSpPr>
        <p:spPr>
          <a:xfrm>
            <a:off x="16002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ounded Rectangle 45"/>
          <p:cNvSpPr/>
          <p:nvPr/>
        </p:nvSpPr>
        <p:spPr>
          <a:xfrm>
            <a:off x="9144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22"/>
          <p:cNvSpPr/>
          <p:nvPr/>
        </p:nvSpPr>
        <p:spPr>
          <a:xfrm>
            <a:off x="34290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ounded Rectangle 22"/>
          <p:cNvSpPr/>
          <p:nvPr/>
        </p:nvSpPr>
        <p:spPr>
          <a:xfrm>
            <a:off x="34290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ounded Rectangle 22"/>
          <p:cNvSpPr/>
          <p:nvPr/>
        </p:nvSpPr>
        <p:spPr>
          <a:xfrm>
            <a:off x="27432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e947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23"/>
          <p:cNvSpPr/>
          <p:nvPr/>
        </p:nvSpPr>
        <p:spPr>
          <a:xfrm>
            <a:off x="5257800" y="13716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ounded Rectangle 23"/>
          <p:cNvSpPr/>
          <p:nvPr/>
        </p:nvSpPr>
        <p:spPr>
          <a:xfrm>
            <a:off x="45720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ounded Rectangle 23"/>
          <p:cNvSpPr/>
          <p:nvPr/>
        </p:nvSpPr>
        <p:spPr>
          <a:xfrm>
            <a:off x="5257800" y="20574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ounded Rectangle 21"/>
          <p:cNvSpPr/>
          <p:nvPr/>
        </p:nvSpPr>
        <p:spPr>
          <a:xfrm>
            <a:off x="7238880" y="1371600"/>
            <a:ext cx="609840" cy="6094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21"/>
          <p:cNvSpPr/>
          <p:nvPr/>
        </p:nvSpPr>
        <p:spPr>
          <a:xfrm>
            <a:off x="6553080" y="2057400"/>
            <a:ext cx="609840" cy="6094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ounded Rectangle 21"/>
          <p:cNvSpPr/>
          <p:nvPr/>
        </p:nvSpPr>
        <p:spPr>
          <a:xfrm>
            <a:off x="7238880" y="2057400"/>
            <a:ext cx="609840" cy="6094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Koristi: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uža sigurnost slabijim/mirnijim učenicim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tiče individualnu odgovornost za rezultate učenj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tiče na promišljanje i pozitivnu te sustavno usmjerenu  komunikacij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ećava se broj sudionika u nastavi...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Preduvjeti uspješnog suradničkog učenj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. Socijalne vješti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. Rad u malim grupam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3. Pozitivna uzajamna ovisnos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4. Individualna odgovornos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5. Promišljanje grupnog radnog proce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Oblici suradničkog učenja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. rad u par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. grupni rad (skupinski rad; rad u skupinama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3. timsko učenj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4. radionički oblik rad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Plan rada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vodna aktivnost: Želim svima reći ..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radnja - vježb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radničko učenje – vježba i malo teorij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radnja i suradničko učenje – praktičan ra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vršna aktivnost: Znala/znao sam, a bilo mi je novo ..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8077320" y="3886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7543800" y="3429000"/>
            <a:ext cx="633240" cy="692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3"/>
          <a:stretch/>
        </p:blipFill>
        <p:spPr>
          <a:xfrm>
            <a:off x="1828800" y="5410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4"/>
          <a:stretch/>
        </p:blipFill>
        <p:spPr>
          <a:xfrm>
            <a:off x="2362320" y="5410080"/>
            <a:ext cx="685800" cy="533520"/>
          </a:xfrm>
          <a:prstGeom prst="rect">
            <a:avLst/>
          </a:prstGeom>
          <a:ln w="0">
            <a:noFill/>
          </a:ln>
        </p:spPr>
      </p:pic>
      <p:pic>
        <p:nvPicPr>
          <p:cNvPr id="210" name="irc_mi" descr="http://www.edudemic.com/wp-content/uploads/2013/06/teachers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2362320"/>
            <a:ext cx="609840" cy="533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imagesCAY0TT37.jpg"/>
          <p:cNvPicPr/>
          <p:nvPr/>
        </p:nvPicPr>
        <p:blipFill>
          <a:blip r:embed="rId7"/>
          <a:stretch/>
        </p:blipFill>
        <p:spPr>
          <a:xfrm>
            <a:off x="3733920" y="3048120"/>
            <a:ext cx="6858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646b86"/>
                </a:solidFill>
                <a:latin typeface="Calibri"/>
                <a:ea typeface="Calibri"/>
              </a:rPr>
              <a:t>Literatura</a:t>
            </a:r>
            <a:endParaRPr b="0" lang="en-US" sz="54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359" name="Picture 2" descr="\\azoo.hr\Osijek\Korisnici\mnist\My Documents\My Pictures\16-suradnickim-ucenjem-do-uspjesne-nastave.jpg"/>
          <p:cNvPicPr/>
          <p:nvPr/>
        </p:nvPicPr>
        <p:blipFill>
          <a:blip r:embed="rId1"/>
          <a:stretch/>
        </p:blipFill>
        <p:spPr>
          <a:xfrm>
            <a:off x="3132000" y="2090880"/>
            <a:ext cx="288000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646b86"/>
                </a:solidFill>
                <a:latin typeface="Calibri"/>
              </a:rPr>
              <a:t>Znala sam …, a bilo mi je novo …</a:t>
            </a:r>
            <a:endParaRPr b="0" lang="en-US" sz="4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dionici pišu na svoj dio na place matu i razmijene unutar svoje grup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46b86"/>
                </a:solidFill>
                <a:latin typeface="Calibri"/>
                <a:ea typeface="Calibri"/>
              </a:rPr>
              <a:t>Literatura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142640" y="1643040"/>
            <a:ext cx="776916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Bruning L. I T. Saum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Suradničkim učenjem do uspješne nastave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 Naklada Kosinj, 2008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esforges, Ch.(ur.)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Uspješno učenje i poučavanje: psihologijski pristupi,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Zagreb, Educa, 2001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Jensen, E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Super-nastava. Nastavne strategije za kvalitetnu školu i uspješno učenje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 Educa, 2003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Klippert, H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Kako uspješno učiti u timu: zbirka praktičnih primjer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 Educa, 2001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Kyriacou, K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Temeljna nastavna umijeć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 Educa, 2001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Meyer, H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Didaktika razredne kvake- rasprave o didaktici, metodici i razvoju škole, Zagreb, Educa, 2002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laviček, M.; Lukša, Ž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Primjena HNOSa u osnovnoj škol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Zagreb, Školska knjiga, 2006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rića, V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Život kao igr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Algoritam, 2009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Terhart, E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Metode poučavanja i učenja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Zagreb, Educa, 2001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238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Uvodna aktivnost: Želim svima reći ...</a:t>
            </a:r>
            <a:br>
              <a:rPr sz="5400"/>
            </a:b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2743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olim vikend provesti u prirodi i društv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olim društvene ig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ado odlazim na koncer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adije kažem: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Odradi ti svoj dio posla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go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Mogu sa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ado bih radila nastavu u pa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Vježba: Place mat</a:t>
            </a:r>
            <a:r>
              <a:rPr b="0" lang="hr-HR" sz="5400" spc="-1" strike="noStrike">
                <a:solidFill>
                  <a:srgbClr val="646b86"/>
                </a:solidFill>
                <a:latin typeface="Calibri"/>
              </a:rPr>
              <a:t> </a:t>
            </a:r>
            <a:r>
              <a:rPr b="0" lang="hr-HR" sz="3600" spc="-1" strike="noStrike">
                <a:solidFill>
                  <a:srgbClr val="646b86"/>
                </a:solidFill>
                <a:latin typeface="Calibri"/>
              </a:rPr>
              <a:t>(podmetač/podložak)</a:t>
            </a:r>
            <a:endParaRPr b="0" lang="en-US" sz="3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2666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jela u skupi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jela papira (zajednički + osobni prostor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radničko učenje je 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otacija + zajednički di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vjestitelj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500" spc="-1" strike="noStrike">
                <a:solidFill>
                  <a:srgbClr val="646b86"/>
                </a:solidFill>
                <a:latin typeface="Calibri"/>
              </a:rPr>
              <a:t>Place mat </a:t>
            </a:r>
            <a:r>
              <a:rPr b="0" lang="hr-HR" sz="4500" spc="-1" strike="noStrike">
                <a:solidFill>
                  <a:srgbClr val="646b86"/>
                </a:solidFill>
                <a:latin typeface="Calibri"/>
              </a:rPr>
              <a:t>postupak</a:t>
            </a:r>
            <a:br>
              <a:rPr sz="3600"/>
            </a:br>
            <a:r>
              <a:rPr b="0" lang="hr-HR" sz="3200" spc="-1" strike="noStrike">
                <a:solidFill>
                  <a:srgbClr val="646b86"/>
                </a:solidFill>
                <a:latin typeface="Calibri"/>
              </a:rPr>
              <a:t>(podmetač/podložak)</a:t>
            </a:r>
            <a:endParaRPr b="0" lang="en-US" sz="32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217" name="Content Placeholder 3" descr=""/>
          <p:cNvPicPr/>
          <p:nvPr/>
        </p:nvPicPr>
        <p:blipFill>
          <a:blip r:embed="rId1"/>
          <a:stretch/>
        </p:blipFill>
        <p:spPr>
          <a:xfrm>
            <a:off x="158760" y="1566720"/>
            <a:ext cx="88264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46b86"/>
                </a:solidFill>
                <a:latin typeface="Calibri"/>
              </a:rPr>
              <a:t>Prepoznavanje suradničkog učenja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ad pomoću radnog list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Suradničko učenje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352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uhvaća sve nastavne oblike s ciljem poticanja svih učenica i učenika na ra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546d7a"/>
                </a:solidFill>
                <a:latin typeface="Calibri"/>
              </a:rPr>
              <a:t>Oblici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d u par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rupni rad (skupinski; rad u skupinama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imsko učenj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dionički oblik rad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646b86"/>
                </a:solidFill>
                <a:latin typeface="Calibri"/>
              </a:rPr>
              <a:t>Temeljno načelo suradničkog učenja</a:t>
            </a:r>
            <a:endParaRPr b="0" lang="en-US" sz="45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223" name="Content Placeholder 3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565164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12"/>
          <p:cNvGrpSpPr/>
          <p:nvPr/>
        </p:nvGrpSpPr>
        <p:grpSpPr>
          <a:xfrm>
            <a:off x="5715000" y="1752480"/>
            <a:ext cx="1905120" cy="1143000"/>
            <a:chOff x="5715000" y="1752480"/>
            <a:chExt cx="1905120" cy="1143000"/>
          </a:xfrm>
        </p:grpSpPr>
        <p:sp>
          <p:nvSpPr>
            <p:cNvPr id="225" name="Oval 4"/>
            <p:cNvSpPr/>
            <p:nvPr/>
          </p:nvSpPr>
          <p:spPr>
            <a:xfrm>
              <a:off x="5715000" y="1752480"/>
              <a:ext cx="1905120" cy="1143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47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Constantia"/>
                </a:rPr>
                <a:t>samostal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"/>
            <p:cNvSpPr/>
            <p:nvPr/>
          </p:nvSpPr>
          <p:spPr>
            <a:xfrm>
              <a:off x="6023880" y="213336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alibri"/>
                </a:rPr>
                <a:t>samostal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3"/>
          <p:cNvGrpSpPr/>
          <p:nvPr/>
        </p:nvGrpSpPr>
        <p:grpSpPr>
          <a:xfrm>
            <a:off x="7238880" y="3657600"/>
            <a:ext cx="1905120" cy="1447920"/>
            <a:chOff x="7238880" y="3657600"/>
            <a:chExt cx="1905120" cy="1447920"/>
          </a:xfrm>
        </p:grpSpPr>
        <p:sp>
          <p:nvSpPr>
            <p:cNvPr id="228" name="Oval 6"/>
            <p:cNvSpPr/>
            <p:nvPr/>
          </p:nvSpPr>
          <p:spPr>
            <a:xfrm>
              <a:off x="7238880" y="3657600"/>
              <a:ext cx="1752840" cy="1447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47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Constantia"/>
                </a:rPr>
                <a:t>(u paru ili maloj gru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7"/>
            <p:cNvSpPr/>
            <p:nvPr/>
          </p:nvSpPr>
          <p:spPr>
            <a:xfrm>
              <a:off x="7238880" y="40384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nstantia"/>
                </a:rPr>
                <a:t>       </a:t>
              </a:r>
              <a:r>
                <a:rPr b="0" lang="hr-HR" sz="1800" spc="-1" strike="noStrike">
                  <a:solidFill>
                    <a:srgbClr val="000000"/>
                  </a:solidFill>
                  <a:latin typeface="Constantia"/>
                </a:rPr>
                <a:t>u pa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hr-HR" sz="1800" spc="-1" strike="noStrike">
                  <a:solidFill>
                    <a:srgbClr val="000000"/>
                  </a:solidFill>
                  <a:latin typeface="Constantia"/>
                </a:rPr>
                <a:t>ili maloj gru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4"/>
          <p:cNvGrpSpPr/>
          <p:nvPr/>
        </p:nvGrpSpPr>
        <p:grpSpPr>
          <a:xfrm>
            <a:off x="152280" y="3505320"/>
            <a:ext cx="1981440" cy="1447560"/>
            <a:chOff x="152280" y="3505320"/>
            <a:chExt cx="1981440" cy="1447560"/>
          </a:xfrm>
        </p:grpSpPr>
        <p:sp>
          <p:nvSpPr>
            <p:cNvPr id="231" name="Oval 8"/>
            <p:cNvSpPr/>
            <p:nvPr/>
          </p:nvSpPr>
          <p:spPr>
            <a:xfrm>
              <a:off x="152280" y="3505320"/>
              <a:ext cx="1981440" cy="1447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47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9"/>
            <p:cNvSpPr/>
            <p:nvPr/>
          </p:nvSpPr>
          <p:spPr>
            <a:xfrm>
              <a:off x="380880" y="3809880"/>
              <a:ext cx="1371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alibri"/>
                </a:rPr>
                <a:t>najčešće samostalno pa diskus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Down Arrow 10"/>
          <p:cNvSpPr/>
          <p:nvPr/>
        </p:nvSpPr>
        <p:spPr>
          <a:xfrm rot="19943400">
            <a:off x="5641920" y="3641760"/>
            <a:ext cx="370080" cy="43488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own Arrow 11"/>
          <p:cNvSpPr/>
          <p:nvPr/>
        </p:nvSpPr>
        <p:spPr>
          <a:xfrm rot="5635800">
            <a:off x="4572720" y="5182920"/>
            <a:ext cx="381240" cy="37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FAZA INDIVIDUALNOGA RAD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50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Što je važno na početku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Sadrži li nastavni sat uvijek i fazu individualnoga rada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Individualna odgovornost i pouzdanos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Individualni rad je individualni ra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štivanje zadanog vremena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romatranj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stizanje jasnoć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Za početak jednostavne metode!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rina</dc:creator>
  <dc:description/>
  <dc:language>en-US</dc:language>
  <cp:lastModifiedBy>mnist</cp:lastModifiedBy>
  <dcterms:modified xsi:type="dcterms:W3CDTF">2014-10-20T11:19:50Z</dcterms:modified>
  <cp:revision>122</cp:revision>
  <dc:subject/>
  <dc:title>Suradničko učenje i timski rad</dc:title>
</cp:coreProperties>
</file>