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CFF6-7741-47C6-ABC5-67DD91191A2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DA25-D8B1-4F6E-912E-780900DED66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3535-8C64-4D30-B8D1-6DF43C96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D9B1-0F6C-49F6-B82F-0012D914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0D7-B012-42DF-A167-4EE5AB32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3B3E-9CB0-42DB-9FDD-D35FC2BB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A54C-E8D9-46A5-9FD7-57C1CFAC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3803-1A1E-4750-BAEC-04FE95C8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B12E-797B-4FA0-B0B4-7F73862B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BF71-F44E-4748-A76B-29CFE454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975F-A17E-4D40-8186-3680434E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B119-62CA-478C-9349-296AE234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AFFB-5281-462F-B4F4-650AD48F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546D-5AF9-4FF5-A807-4E8B0BE1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0F3C-BCAD-4746-8A16-A0CD4B58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DD64-225F-43D9-938B-F77C2297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1A49-BAAB-488B-97F7-77C48309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BDD1-43B9-4030-A97F-23CBB5AF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0F2E-5D7B-48B9-A587-99647E9A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0B23E-5EA2-4A83-A34A-232ED6DE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3E7F4E-F9C7-402F-9ADB-84D733CE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9CC06-8067-4DC1-BB5B-71964B67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337AE-C4E8-4E61-8667-24704D92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AFFFD-A87B-4EB9-B27C-582F17EB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8967-4F0C-421B-A62D-9CD69C65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2F822-647D-4EE9-8347-82D14F53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80E7F-CD6D-4D13-ABAB-02048D38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941A3-F02F-465A-A0EA-0C90ECC6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EEBA3-DE26-43DD-8826-58866BD4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708F7-368D-4C28-A44C-CCCA152E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B00A0-C15E-4FD0-96C8-9C206BA7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7FE137-3B55-47AF-B7C4-DFDFC54D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C61D6-0B83-486D-9238-240ED813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6009D-ADF7-498E-B8F2-1B3ED2E9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1CFF3-A40E-4838-A2AD-AA01F0E6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274C-F823-41E9-8AB9-1C693AEE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8B659-089B-426D-953F-87297982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E5D05-EA4A-416B-B60B-27AE95B7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A8117-D8AF-4546-83F9-F25EE8FB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C38A2-A366-4080-9377-78B3FC33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3B6A7-52FB-4A7E-8C17-330F24A0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8EF6F-4961-483A-937A-84A76FC2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486EE-7087-4D6E-8611-94E0955E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DBA60-CA95-4A1D-BAFB-207CCDDF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E3809-E3E2-4596-9222-11D1D2A9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649C75-5206-432F-A241-A71788CA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62B-0DFC-460A-AC5D-11032968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152464-C1C6-4FD4-88AB-7E73B0BA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B4E21D-CCE5-43D6-9AA5-F4A50B45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6F0251-108F-4D99-ADE2-045CC8D9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87FA5C-1AAC-444B-BD05-377E4C45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FA777D-F706-4ECA-BAA5-AFDA172C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AC9A1E-A62B-4CD8-9AAD-52A57E56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9CB3B1-3180-4C3D-9EBC-2BE0BEA0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B80B94-A164-4228-A5FC-EAED4EF1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7A2144-1073-4DD4-B455-478CE83A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8C32F6-3C00-4F8B-84A7-FB7D4F69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1BEB-7D97-4EC1-AEC1-989B4B7A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06D55B-3E75-4586-B685-A76C7899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847429-C3CD-4C10-8C15-DE0944C2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8D4F58-11EB-491F-91C9-319069E9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E975BA-2698-48E2-8E84-395076F4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2430C8-3D14-481A-BD12-7572EE16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E22DE1-EAE7-42B1-8A84-B5F1587C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B24247-F38F-4F51-8A88-3B07A1BB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547BBE-8728-4678-816B-4270A7AB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A4CF4C-1278-4922-ACFF-E02CA828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7E43C0-E26F-43C8-93DD-25FA7CD4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25FD-4437-4970-B9CE-27582BE1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4B64C5-99CC-4234-BA58-9C5F3C34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345B97-30C7-4825-8ED0-A8CC10F1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6FC846-E00C-4399-8035-E59897C9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87A3FC-7590-4785-A920-5E92F62D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C9B617-B504-4191-9B78-0422CED1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5982AA-ED8A-4411-B7F4-898E2B48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4052FA-C57C-42CD-9933-BE904286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7E477C-9F06-44E8-B2A3-3FD19614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94C9C1-2815-4242-9735-33FD317A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5F337B-6D30-41D2-A8F7-9EDDD6F0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E20D-625A-4311-A904-2F63BBA4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E545B9-9552-4937-8940-D99100C2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7E08EB-687A-4B8C-A9DF-2421C56B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479611-8569-4186-BC7B-76CA8D77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B5827D-F075-46B5-A8A1-C54FE4FD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02D979-D171-4725-B7A9-FB214224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88A-C1B8-4F06-978C-130CBD8F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avni poveznik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avni poveznik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avni poveznik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avokutni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avni poveznik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C14D-D929-4BC6-9295-F0AC80A5747C}" type="slidenum">
              <a:rPr b="1" lang="hr-H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kutnik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ravokutnik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ravokutnik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ravokutni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avni poveznik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avni poveznik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avni poveznik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avni poveznik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avni poveznik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avni poveznik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avokutni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6E6E-155A-46DD-AAD3-4AD3A8BDDA23}" type="slidenum">
              <a:rPr b="1" lang="hr-H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avni poveznik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avni poveznik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avni poveznik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avokutni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avni poveznik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00D0-B4D3-4AE9-8A6D-90C59B091E43}" type="slidenum">
              <a:rPr b="1" lang="hr-H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ravokutnik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ravokutnik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ravokutnik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ravokutnik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avni poveznik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avni poveznik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avni poveznik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avni poveznik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avni poveznik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ravokutnik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avni poveznik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CB12-E0FC-4769-A868-41F9C1A731FF}" type="slidenum">
              <a:rPr b="1" lang="hr-H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avni poveznik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avni poveznik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avni poveznik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ravokutni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avni poveznik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199E-A796-4D84-BD71-E8179F37A09B}" type="slidenum">
              <a:rPr b="1" lang="hr-H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avni poveznik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avni poveznik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avni poveznik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avni poveznik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ravokutnik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avni poveznik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4BC9-8CAD-4E0E-A376-7F26C308BF7D}" type="slidenum">
              <a:rPr b="1" lang="hr-H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avni poveznik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avni poveznik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ravokutnik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avni poveznik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avni poveznik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avni poveznik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4C58-A610-41A7-9460-235DE189AD1E}" type="slidenum">
              <a:rPr b="1" lang="hr-H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31640" y="691920"/>
            <a:ext cx="740556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82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75f6d"/>
                </a:solidFill>
                <a:latin typeface="Century Schoolbook"/>
              </a:rPr>
              <a:t>STAVOVI ODGOJITELJA PREMA INKLUZIJI </a:t>
            </a:r>
            <a:br>
              <a:rPr sz="2400"/>
            </a:br>
            <a:r>
              <a:rPr b="1" lang="hr-HR" sz="2400" spc="-1" strike="noStrike">
                <a:solidFill>
                  <a:srgbClr val="575f6d"/>
                </a:solidFill>
                <a:latin typeface="Century Schoolbook"/>
              </a:rPr>
              <a:t>I IZAZOVI U STVARANJU </a:t>
            </a:r>
            <a:br>
              <a:rPr sz="2400"/>
            </a:br>
            <a:r>
              <a:rPr b="1" lang="hr-HR" sz="2400" spc="-1" strike="noStrike">
                <a:solidFill>
                  <a:srgbClr val="575f6d"/>
                </a:solidFill>
                <a:latin typeface="Century Schoolbook"/>
              </a:rPr>
              <a:t>INKLUZIVNOG VRTIĆA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431720" y="2421000"/>
            <a:ext cx="7407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575f6d"/>
                </a:solidFill>
                <a:latin typeface="Century Schoolbook"/>
              </a:rPr>
              <a:t>Ivana Milo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575f6d"/>
                </a:solidFill>
                <a:latin typeface="Century Schoolbook"/>
              </a:rPr>
              <a:t>Vlatka Vrbić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575f6d"/>
                </a:solidFill>
                <a:latin typeface="Century Schoolbook"/>
              </a:rPr>
              <a:t>Velika Gorica, Hrvatsk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Slika 7" descr=""/>
          <p:cNvPicPr/>
          <p:nvPr/>
        </p:nvPicPr>
        <p:blipFill>
          <a:blip r:embed="rId1"/>
          <a:stretch/>
        </p:blipFill>
        <p:spPr>
          <a:xfrm>
            <a:off x="3376440" y="3833640"/>
            <a:ext cx="347508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68000" y="26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itanje: „Koje teškoće odnosno posebne potrebe djeteta su za Vas bile posebno zahtjevne?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Objekt 5" descr=""/>
          <p:cNvPicPr/>
          <p:nvPr/>
        </p:nvPicPr>
        <p:blipFill>
          <a:blip r:embed="rId1"/>
          <a:stretch/>
        </p:blipFill>
        <p:spPr>
          <a:xfrm>
            <a:off x="128520" y="1217520"/>
            <a:ext cx="823932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8000" y="259920"/>
            <a:ext cx="74674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itanje:”Kako procjenjujete uspješnost inkluzije u Vašoj skupini?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Objekt 3" descr=""/>
          <p:cNvPicPr/>
          <p:nvPr/>
        </p:nvPicPr>
        <p:blipFill>
          <a:blip r:embed="rId1"/>
          <a:stretch/>
        </p:blipFill>
        <p:spPr>
          <a:xfrm>
            <a:off x="128520" y="1397160"/>
            <a:ext cx="82598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259920"/>
            <a:ext cx="746748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itanje:”Što je otežavalo uspješnost inkluzije u Vašoj skupini?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Objekt 3" descr=""/>
          <p:cNvPicPr/>
          <p:nvPr/>
        </p:nvPicPr>
        <p:blipFill>
          <a:blip r:embed="rId1"/>
          <a:stretch/>
        </p:blipFill>
        <p:spPr>
          <a:xfrm>
            <a:off x="301680" y="1197000"/>
            <a:ext cx="80866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8000" y="260280"/>
            <a:ext cx="746748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itanje:”Što bi Vam u ostvarivanju inkluzije najviše pomoglo?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Objekt 3" descr=""/>
          <p:cNvPicPr/>
          <p:nvPr/>
        </p:nvPicPr>
        <p:blipFill>
          <a:blip r:embed="rId1"/>
          <a:stretch/>
        </p:blipFill>
        <p:spPr>
          <a:xfrm>
            <a:off x="536400" y="992160"/>
            <a:ext cx="7615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PROBLEMI U STVARANJU </a:t>
            </a:r>
            <a:br>
              <a:rPr sz="3000"/>
            </a:b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INKLUZIVNOG VRTIĆ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tvaranje optimalnih uvjeta iziskuje materijalna sredstv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ostupak utvrđivanja vrste i stupnja teškoće (vještačenje pri CZSS) uvjet je za ostvarivanje mnogih prav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Nedovoljan kapacitet vrtića otežava prilagodbu broja djece u skupina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Dodiplomsko obrazovanje odgojitelja ne prati zahtjeve prakse – potreba cjeloživotnog učenj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Nemogućnost ostvarivanja specifičnih terapijskih sadržaja u vrtiću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Još uvijek nailazimo na negativne stavove pojedinih sudionika proces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ZAKLJUČA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8000" y="105228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Ukoliko je cilj odgoja i obrazovanja socijalizacija, tada se inkluzija nameće kao jedini mogući mode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Uspješnost inkluzije uvelike ovisi o stavovi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Uloga odgojitelja je ključna – potrebna podršk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Anketa: odgojitelji imaju generalno pozitivan stav prema inkluziji, ali sumnjaju u svoje kompetenci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roblemi u organizacijskom i materijalnom kontekstu ne smiju biti izgovor za neuključivanje djece s TU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Rezultati ankete potaknuli su promišljanja o dodatnim sustavima pomoći - formiranje grupa podrške za odgojitel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entury Schoolbook"/>
              </a:rPr>
              <a:t>Ivana Miloš                                                 Vlatka Vrbić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entury Schoolbook"/>
              </a:rPr>
              <a:t>prof. rehabilitator                                       prof.defektolo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entury Schoolbook"/>
              </a:rPr>
              <a:t>Dječji vrtić Žirek                                         Dječji vrtić Lojtrica    www.dv-zirek.hr</a:t>
            </a:r>
            <a:r>
              <a:rPr b="0" lang="hr-HR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entury Schoolbook"/>
              </a:rPr>
              <a:t>                              www.dv-lojtrica.h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2340000" y="658800"/>
            <a:ext cx="3933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INTEGRACIJA ILI INKLUZIJA 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ntegracija i inkluzija  često se shvaćaju kao sinonim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U dječjim vrtićima još uvijek prevladava integracijski model – dijete se prilagođava sustavu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Državni pedagoški standard  (2007.) podržava uključivanje djece samo s lakšim teškoćama – u suprotnosti s filozofijom inkluzi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nkluzija – koncept kojem težimo, implicira promjene u sustavu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MIJENJANJE PRAK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oticaj za promjene: nova mreža dječjih vrtića u Velikoj Gorici (2010.) – osnivaju se 2 nova vrtića (DV Žirek i DV Lojtrica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Novi ravnatelji i članovi timova uspostavljaju dobru suradnju u stvaranju inkluzivnih vrtić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nkluzivni vrtić = mjesto koje je prilagodljivo svi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remještanje fokusa s TUR na promjene u okruženju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DJECA S TUR U VRTIĆIMA </a:t>
            </a:r>
            <a:br>
              <a:rPr sz="3000"/>
            </a:b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ŽIREK I LOJTR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Dječji vrtići Žirek i Lojtrica čine gotovo polovicu kapaciteta predškolskih ustanova grada Velike Gorice (oko 950-990 djece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U sustavu predškolskog odgoja u RH ima oko 2 % djece s TUR (Vlada RH, 2007. godina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U našim vrtićima postotak djece s TUR je ok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6 %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DJECA S TUR U VRTIĆIMA </a:t>
            </a:r>
            <a:br>
              <a:rPr sz="3000"/>
            </a:b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ŽIREK I LOJTR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95280" y="2361960"/>
            <a:ext cx="3719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988 djece ukupn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55 djece s TUR (6%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Vrste TUR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motorička oštećenj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PUP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PA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zdravstvene teškoć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oštećenja vid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intelektualne teškoć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višestruke teškoć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oštećenja sluh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955 djece ukupn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60 djece s TUR (6%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Vrste TUR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motorička oštećenj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PA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PUP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višestruke teškoć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zdravstvene teškoć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oštećenja vid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intelektualne teškoć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oštećenja sluh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88160" y="1600920"/>
            <a:ext cx="3595680" cy="5731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 u="sng">
                <a:solidFill>
                  <a:srgbClr val="000000"/>
                </a:solidFill>
                <a:uFillTx/>
                <a:latin typeface="Century Schoolbook"/>
              </a:rPr>
              <a:t>Godina 2011./12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 u="sng">
                <a:solidFill>
                  <a:srgbClr val="000000"/>
                </a:solidFill>
                <a:uFillTx/>
                <a:latin typeface="Century Schoolbook"/>
              </a:rPr>
              <a:t>Godina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lang="hr-HR" sz="1900" spc="-1" strike="noStrike" u="sng">
                <a:solidFill>
                  <a:srgbClr val="000000"/>
                </a:solidFill>
                <a:uFillTx/>
                <a:latin typeface="Century Schoolbook"/>
              </a:rPr>
              <a:t>2012./13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UPIS DJECE S TUR U VRTIĆ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Zakon o predškolskom odgoju i obrazovanju (1997. i 2013.) i Pravilnik o upisu djece u dječji vrtić (Grad Velika Gorica, 2011.): djeca s TUR ostvaruju prednost pri upisu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va djeca s teškoćama koja predaju zahtjev za upis uključuju se u vrtić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Nasuprot nekadašnjoj praksi "pripreme" - stvaranje ozračja gdje se prihvaćanje različitosti podrazumijev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PODRŠKA UKLJUČIVANJU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Rana intervencija počinje odmah – dijagnostika nije uvjet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Organizacijski i materijalni kontekst se prilagođava potrebama djetet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Edukacija i senzibilizacija svih djelatnik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Transformacija posebnog programa za djecu s TUR: usluge koriste i djeca iz redovnog programa (stručnjaci, prostor i rehabilitacijski programi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Suradnja sa specijaliziranim ustanovama: mobilni timovi, edukacije, rehabilitacijski programi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Dodatni odgojitelj u skupini („treći odgojitelj”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Roditelj kao aktivni sudionik (obostrana edukacija, gost u skupini…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Stvaranje inkluzivne kulture: svi su jednako odgovorni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ODGOJITELJ U INKLUZIVNOJ GRUP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U inkluzivnim grupama uloga odgojitelja postaje zahtjevnija, a može je olakšati senzibilitet za djecu s TU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U lipnju 2013. proveli smo ispitivanje primjenom anket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Cilj: utvrditi stavove prema inkluziji i utvrditi probleme s kojima se odgojitelji susreću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Anketa je sadržavala 5 pitanj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spunile su je 53 odgojiteljice koje su u tekućoj pedagoškoj godini imale dijete s TUR u skupin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REZULTAT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599840"/>
            <a:ext cx="746748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itanje „Trebaju li sva djeca s TUR biti uključena u redovite skupine zajedno s drugom djecom?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Objekt 4" descr=""/>
          <p:cNvPicPr/>
          <p:nvPr/>
        </p:nvPicPr>
        <p:blipFill>
          <a:blip r:embed="rId1"/>
          <a:stretch/>
        </p:blipFill>
        <p:spPr>
          <a:xfrm>
            <a:off x="1425600" y="229860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13:50:00Z</dcterms:created>
  <dc:creator>lojtricalap</dc:creator>
  <dc:description/>
  <dc:language>en-US</dc:language>
  <cp:lastModifiedBy>lojtricalap</cp:lastModifiedBy>
  <dcterms:modified xsi:type="dcterms:W3CDTF">2014-10-14T11:49:06Z</dcterms:modified>
  <cp:revision>48</cp:revision>
  <dc:subject/>
  <dc:title>Stavovi odgojitelja prema inkluziji  i problemi u stvaranju inkluzivnog vrtića</dc:title>
</cp:coreProperties>
</file>