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8598-341B-40FC-B082-8B100F487B99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  <a:ea typeface="Aharoni"/>
              </a:rPr>
              <a:t>Projekt omogućava da djeca oštećena sluha uz pomoć tumača znakovnog jezika lakše pohađaju nastavu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  <a:ea typeface="Aharoni"/>
              </a:rPr>
              <a:t> i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  <a:ea typeface="Aharoni"/>
              </a:rPr>
              <a:t> i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  <a:ea typeface="Aharoni"/>
              </a:rPr>
              <a:t>z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  <a:ea typeface="Aharoni"/>
              </a:rPr>
              <a:t>vannastavne aktivnosti.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  <a:ea typeface="Aharon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  <a:ea typeface="Aharoni"/>
              </a:rPr>
              <a:t>Značajno je naglasiti da uloga tumača HZJ nije samo tumačenje nastave. Tumač također pomaže učeniku u  uključivanju  u kreativne procese omogućene od strane škole-omogućivši mu da iskaže sve svoje tale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4924-DF7A-4DB9-B79A-6AB288EA341D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Rado se i često uključuje u aktivnosti na pametnoj ploč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Slušanje ili čitanje teksta prati na način da taj isti tekst čita u sebi a popratne zadatke rješava kao i ostali učenici (odgovaranje na pitanja, nadopunjavanje, povezivanje, T/F rečenice,...)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Učenik se javlja za davanje točnog odgovora s time da taj odgovor pročita asistentica ili učiteljica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Pisani zadaci su obično sastavci vođeni pitanjima, natuknicama ili sličnim smjernicama. Recitiranje pjesmice napamet također se ocjenjuje na način da ju piše na papir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Diktate piše na način da asistentica pokazuje tekst znakovno a učenik zapisuje na engleskom jeziku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pri ocjenjivanju u obzir uzimam točnost napisane riječ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Gramatičke sadržaje savladava na način da nauči pravilo koje primjenjuje u raznim zadacima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Pri učenju glagolskih vremena poteškoće mu stvaraju određivanje lica/osobe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Ključno je slušni materijal učeniku predočiti u pisanom obliku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govorne aktivnosti modificirati i prilagoditi u pisani oblik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U grupni rad se uključuje pisanjem ili ostalim aktivnostima koje podrazumijevaju napisanu riječ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Pisani zadaci su obično sastavci vođeni pitanjima, natuknicama ili sličnim smjernicama. Recitiranje pjesmice napamet također se ocjenjuje na način da ju piše na papir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Diktate piše na način da asistentica pokazuje tekst znakovno a učenik zapisuje na engleskom jeziku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pri ocjenjivanju u obzir uzimam točnost napisane riječ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Gramatičke sadržaje savladava na način da nauči pravilo koje primjenjuje u raznim zadacima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Pri učenju glagolskih vremena poteškoće mu stvaraju određivanje lica/osobe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Ključno je slušni materijal učeniku predočiti u pisanom obliku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govorne aktivnosti modificirati i prilagoditi u pisani oblik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U grupni rad se uključuje pisanjem ili ostalim aktivnostima koje podrazumijevaju napisanu riječ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2B3E-7419-478C-91B1-225110FE6077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C9A7-03DF-451D-938B-A4FDD698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2C00-4E2C-43D2-A212-A7392D25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D7FD-7C16-460A-8E62-D4D144940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7C8A-4C3B-47C1-A5EA-B93E4F162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6BEF-7162-45F8-B845-D0F03B88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BDEC-61F1-40CF-B082-CFB5A2FD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DB8E-8FA6-44C0-A612-BB2FCFC6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4821-C801-4BD5-BF0F-67610D96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5100-311E-437C-9200-46C6EFEC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D725-A5D5-4FE6-A0BA-2A574BF0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71DA-8B2A-49A5-8754-41809887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CD2C-F184-40B0-8897-DC95F27E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AEDF-91B7-4917-8227-19C6D5097FF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cvYuSyhz3hk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8280"/>
            <a:ext cx="7772400" cy="26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Tibor - Integracija učenika s oštećenjem sluha u redovnoj osnovnoj škol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898989"/>
                </a:solidFill>
                <a:latin typeface="Calibri"/>
              </a:rPr>
              <a:t>Osnovna škola Vladimira Nazora Paz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898989"/>
                </a:solidFill>
                <a:latin typeface="Calibri"/>
              </a:rPr>
              <a:t>Ana Juriči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898989"/>
                </a:solidFill>
                <a:latin typeface="Calibri"/>
              </a:rPr>
              <a:t>Profesor rehabilit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898989"/>
                </a:solidFill>
                <a:latin typeface="Calibri"/>
              </a:rPr>
              <a:t>ana.juricic@skole.h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2286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Učitelj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 radu koriste princip zornosti obogaćeno vizualnim sredstvima i metod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ilagodbe u nastavnom proces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Daju kratke i jasne up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oduljeno vrijeme za rješavanje pisanih i usmenih zadataka ako je potreb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ilagođavaju nastavne sadržaje kod ponavljanja  - sažeci uz slikovni materijal, isticanje bitno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preuzmi (1).jpg"/>
          <p:cNvPicPr/>
          <p:nvPr/>
        </p:nvPicPr>
        <p:blipFill>
          <a:blip r:embed="rId1"/>
          <a:stretch/>
        </p:blipFill>
        <p:spPr>
          <a:xfrm>
            <a:off x="5346720" y="171360"/>
            <a:ext cx="359568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grades-sm.gif"/>
          <p:cNvPicPr/>
          <p:nvPr/>
        </p:nvPicPr>
        <p:blipFill>
          <a:blip r:embed="rId1"/>
          <a:stretch/>
        </p:blipFill>
        <p:spPr>
          <a:xfrm>
            <a:off x="0" y="404640"/>
            <a:ext cx="1692360" cy="13240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Vrednovanje učenikovih zna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štuje se učenikovu osob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tiče samopouzdanje i učenikov napred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tiče se aktivno sudjelovanje u nastavi i izvannastavnim aktivnost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ovjere znanja su uglavnom pisane, ali i usm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ovjeravaju se manje cjeline, koriste se jednostavna i kratka pitanja kao i metoda razgov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Zajednic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Grad Pazin koji je osnivač škole od osigurao je financijska sredstva za pomoćnika u nasta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Djelatnici škole i drugih ustanova u gradu završili su tečaj znakovnog jez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snovana je Udruga gluhih i nagluhih u Pazi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Članovi udruge prodaju svoje radove u sklopu Božićnog saj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večano je obilježen Međunarodni dan gluhi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images (4).jpg"/>
          <p:cNvPicPr/>
          <p:nvPr/>
        </p:nvPicPr>
        <p:blipFill>
          <a:blip r:embed="rId1"/>
          <a:stretch/>
        </p:blipFill>
        <p:spPr>
          <a:xfrm>
            <a:off x="250920" y="297000"/>
            <a:ext cx="259848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Financiranje prevoditel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Calibri"/>
                <a:ea typeface="Aharoni"/>
              </a:rPr>
              <a:t>Grad Pazi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Calibri"/>
                <a:ea typeface="Aharoni"/>
              </a:rPr>
              <a:t>Udruga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  <a:ea typeface="Aharoni"/>
              </a:rPr>
              <a:t> gluhih i nagluhih Istarske županije</a:t>
            </a:r>
            <a:r>
              <a:rPr b="0" lang="vi-VN" sz="3200" spc="-1" strike="noStrike">
                <a:solidFill>
                  <a:srgbClr val="000000"/>
                </a:solidFill>
                <a:latin typeface="Calibri"/>
                <a:ea typeface="Aharoni"/>
              </a:rPr>
              <a:t> provodi trogodišnji projekt koji financira Ministarstvo socijalne politike i mladi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pazin1.jpg"/>
          <p:cNvPicPr/>
          <p:nvPr/>
        </p:nvPicPr>
        <p:blipFill>
          <a:blip r:embed="rId1"/>
          <a:stretch/>
        </p:blipFill>
        <p:spPr>
          <a:xfrm>
            <a:off x="539640" y="4076640"/>
            <a:ext cx="82296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Iz medij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usret kazališnih amaterskih grupa Istre (SKAGI) očito odgovara publici koja je u petak gotovo u potpunosti ispunila veliku dvoranu Spomen doma te s pozornošću pratila nastupe 13. susreta koji se održao 30.svibnja 201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agradu za kreativno promicanje znakovnog jezika dobila je predstava “Priča o ljubavi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SONY fotoaparat 246.jpg"/>
          <p:cNvPicPr/>
          <p:nvPr/>
        </p:nvPicPr>
        <p:blipFill>
          <a:blip r:embed="rId1"/>
          <a:stretch/>
        </p:blipFill>
        <p:spPr>
          <a:xfrm>
            <a:off x="250920" y="243000"/>
            <a:ext cx="489744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Obožava Dinamo i trenira nogom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06280" y="1773360"/>
            <a:ext cx="878220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42800" y="348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Gostovo je u emisiji "Misija zajedno" na Hrvatskoj televiziji i bio proglašen osobom mjese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om prilikom upoznao je cijelu momčad Dinama i odradio s njima jedan dio trenin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c7f3e1392f251708055635ed7d8e7674.jpg"/>
          <p:cNvPicPr/>
          <p:nvPr/>
        </p:nvPicPr>
        <p:blipFill>
          <a:blip r:embed="rId1"/>
          <a:stretch/>
        </p:blipFill>
        <p:spPr>
          <a:xfrm>
            <a:off x="1258920" y="692280"/>
            <a:ext cx="661176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Obitelj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Živi blizu Pazin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oditelji su gluhe osobe, ima mlađu sestru koja je sad krenula u prvi razred - naglu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državaju ga u nogome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tiču ga na obavljanje svih školskih aktiv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udjeluju u životu svoje zajed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ba roditelja sudjeluju u brizi oko dje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297a08_3d528e29445439f6af2819393c30efbf.png"/>
          <p:cNvPicPr/>
          <p:nvPr/>
        </p:nvPicPr>
        <p:blipFill>
          <a:blip r:embed="rId1"/>
          <a:stretch/>
        </p:blipFill>
        <p:spPr>
          <a:xfrm>
            <a:off x="6780240" y="566640"/>
            <a:ext cx="2124000" cy="13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I za kra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ijekom cijelog kontinuuma obrazovanja uspješnost integracije važni su učitelji i drugi sudionici koji su edukacijom i iskustvom izgradili pozitivan sav prema učeniku i njegovom uspješnom inkluzivnom  obrazovanj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Slika 3" descr="vladimir nazor.png"/>
          <p:cNvPicPr/>
          <p:nvPr/>
        </p:nvPicPr>
        <p:blipFill>
          <a:blip r:embed="rId1"/>
          <a:stretch/>
        </p:blipFill>
        <p:spPr>
          <a:xfrm>
            <a:off x="7093080" y="4508640"/>
            <a:ext cx="158904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3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cvYuSyhz3h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Gluhi učenik integriran u redovan program osnovne ško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96056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Tibor – 6. razr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Oštećenje sluha (90 db) obostra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Školuje se po redovnom programu uz individualizirani pristu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Uključen je u edukacijsko-rehabilitacijsku potpor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Logopedski tretm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Govor je u razvoj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Pomoćnik u nastavi – prevoditelj znakovnog  jezik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Znakovni jezik – materinji jezi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OZP-1.4.gif"/>
          <p:cNvPicPr/>
          <p:nvPr/>
        </p:nvPicPr>
        <p:blipFill>
          <a:blip r:embed="rId1"/>
          <a:stretch/>
        </p:blipFill>
        <p:spPr>
          <a:xfrm>
            <a:off x="6732720" y="1413000"/>
            <a:ext cx="22888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Cilj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azvoj učenikovih kognitivnih, socijalnih i emocionalnih potencija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siguravanje uspješnog uključivanja u redoviti sustav odgoja i obrazovanja kroz različite vrste podrš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znakovi2.gif"/>
          <p:cNvPicPr/>
          <p:nvPr/>
        </p:nvPicPr>
        <p:blipFill>
          <a:blip r:embed="rId1"/>
          <a:stretch/>
        </p:blipFill>
        <p:spPr>
          <a:xfrm>
            <a:off x="5051520" y="4238640"/>
            <a:ext cx="265752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Jezično govorni poremeća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43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Govor nije razvijen u potpunost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Napreduje u pisanom i usmenom izražavanj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Povezuje gradivo gramatike te na taj način nadograđuje svoju pismeno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Pisano razumijevanje je razvijeno, osim u prenesenom značenju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Iako je agramatičan u pisanju se koristi i jednostavnim i složenim rečenica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images (1).jpg"/>
          <p:cNvPicPr/>
          <p:nvPr/>
        </p:nvPicPr>
        <p:blipFill>
          <a:blip r:embed="rId1"/>
          <a:stretch/>
        </p:blipFill>
        <p:spPr>
          <a:xfrm>
            <a:off x="5292720" y="5600880"/>
            <a:ext cx="340524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Moja neobična obitelj</a:t>
            </a:r>
            <a:br>
              <a:rPr sz="4000"/>
            </a:b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(sastavak na kraju 5. razreda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560" y="1600200"/>
            <a:ext cx="85453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Jednog smo dana planirali da obitelji idu u Španjolsku. Planiranje je trajalo 3 godin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Mi idemo u Španjolsku zato jer jedan član od obitelji želi raditi kao trener u Barceloni. Ja sam pitao tatu da li idemo u avion ili ne. On je rekao da idemo u avion, sad jer da ne zakasnimo. Mi smo ušli u avion i letjeli smo jedan dan. Hej, obitelji! Mi smo u Barceloni! – reče veselo tata. A mi smo zaspali i kad smo </a:t>
            </a:r>
            <a:r>
              <a:rPr b="1" lang="hr-HR" sz="2700" spc="-1" strike="noStrike">
                <a:solidFill>
                  <a:srgbClr val="000000"/>
                </a:solidFill>
                <a:latin typeface="Calibri"/>
              </a:rPr>
              <a:t>čuli</a:t>
            </a: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, odmah smo ustali. Vidjeli smo stadion Barcelonu. I upoznali se s igračima Barcelone. Već smo živjeli u Barceloni oko 3 mjeseca i šetamo grad, putujemo. Bilo je jako puno ljudi i lijep grad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Moju je obitelj usrećio tata jer je želio raditi u Barceloni kao trener nogomet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images (3).jpg"/>
          <p:cNvPicPr/>
          <p:nvPr/>
        </p:nvPicPr>
        <p:blipFill>
          <a:blip r:embed="rId1"/>
          <a:stretch/>
        </p:blipFill>
        <p:spPr>
          <a:xfrm>
            <a:off x="231840" y="981000"/>
            <a:ext cx="1670040" cy="9572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Rad s prevoditeljem znakovnog jezik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9640" y="20235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čenik je samostalan u ra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astavu prati vrlo pažljivo i koncentrira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evoditeljica mu prevodi tijek sata na znakovnom jeziku, pojednostavljuje i objašnjava gradi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d obrade novih sadržaja, provjerava razumijevanje te povezuje s već naučenim, koristeći primjere svakodne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images.jpg"/>
          <p:cNvPicPr/>
          <p:nvPr/>
        </p:nvPicPr>
        <p:blipFill>
          <a:blip r:embed="rId1"/>
          <a:stretch/>
        </p:blipFill>
        <p:spPr>
          <a:xfrm>
            <a:off x="395280" y="1125360"/>
            <a:ext cx="1584360" cy="11224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Komunikacija s ostalim učenici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42800" y="1819080"/>
            <a:ext cx="8353440" cy="48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municira služeći se znakovnim jezik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nakovni jezik su svladali svi učenici njegovog razre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i komunikaciji najčešće koriste dvoručnu abece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čenje su započeli od prvog razre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spješno čita s us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images.png"/>
          <p:cNvPicPr/>
          <p:nvPr/>
        </p:nvPicPr>
        <p:blipFill>
          <a:blip r:embed="rId1"/>
          <a:stretch/>
        </p:blipFill>
        <p:spPr>
          <a:xfrm>
            <a:off x="6724800" y="73080"/>
            <a:ext cx="2266920" cy="23526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Engleski jez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risti samo pism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svaja predviđeno gradiv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ibor uspješno usvaja većinu novog vokabula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teškoće mu stvaraju apstraktniji pojmovi, figurativan jezi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smeno izražavanje se kod učenika ne ocjenju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Škol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Organizirana je edukacija za Učiteljsko vijeće početkom prvog razreda u suradnji s Agencijom za odgoj i obrazovanj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Također je organizirano predavanje prilikom prelaska u peti razr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Nekoliko je učiteljica završilo početni stupanj Hrvatskog znakovnog jezik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Izvannastavne aktivnosti – grupa znakovnog jezika – “Mali svijet znakova” – sudjelujemo na svim priredbama u škol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6T19:46:19Z</dcterms:created>
  <dc:creator>User</dc:creator>
  <dc:description/>
  <dc:language>en-US</dc:language>
  <cp:lastModifiedBy>OSPazin</cp:lastModifiedBy>
  <dcterms:modified xsi:type="dcterms:W3CDTF">2014-10-20T11:32:59Z</dcterms:modified>
  <cp:revision>72</cp:revision>
  <dc:subject/>
  <dc:title>"Tibor - Integracija učenika s  oštećenjem sluha u redovnoj osnovnoj školi"</dc:title>
</cp:coreProperties>
</file>