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1049-C153-44E0-978A-4CE9D01A327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54EB-7C49-4102-9C56-7AA2BA5AA0B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1B5A-2033-4F00-8854-42AF1AEE596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F82-B036-460B-B6A7-EB6F4245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8F0-13D4-4148-BD12-9355E3A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ED5-5357-4D56-85DE-B1C63EC8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BEE-604D-4B59-B58F-71A94DB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C36B-CBE0-4757-AC9F-166532FD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ED1-4C75-4F84-95FA-03F39B7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0BA8-31F8-4245-8B2F-DAB26C3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29ED-0AC1-4AC8-B4F0-CE985F9C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062-1DE3-42B2-8D7C-BC812CF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CD7-7E45-40A8-B018-A90EDE6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7562-99C8-4EC0-815D-7BEB3CC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7FD-0D24-4FA7-92D8-153B5CD7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141F-E762-45EF-9BFD-AC7698E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CA3-E5BA-4B8C-987B-3CF155A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C299-AE63-487E-9B9A-1D5B21C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9DF-0B10-4315-9FCE-BCCAD193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40C5-C3F9-486F-8799-CD40768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4434A-F73B-4F2E-B457-37DDABA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E3524-C7C0-486E-840A-CAE001B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23B9F-04BF-4135-A7E5-C4DE0EC4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32C6-222E-45D7-88E2-882DAA03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621FA-9C61-4524-90E7-3AE970B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869-C3B6-404E-BF14-C22A3FB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0CFF1-883C-4AF7-84E5-85774394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F07A-7CA9-417F-AD8A-836DCB9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99D07-B6AF-45D7-A133-72F08C8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19124-7231-4D6F-8F5F-04E3945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12C7D-14C0-4CA8-A55C-41C6A99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FEEB2-F288-4298-B25A-4F385CC7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ADF7C-1BAA-4124-BD11-B3997ECD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82C2-84E8-4A23-80A3-49BAA495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BE59-DCF7-41A7-BC17-EF414F2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2626-5CD0-4A60-8A67-F38D645A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078-DD49-412D-9128-3739AA41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DF42-E7E8-4655-A202-6F64235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FCA7-5614-47FF-807D-CDF2B72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5D38-9E3D-4155-AFE4-BDF9FD50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B893-3F3B-4202-99BB-092F8DB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CA8F-4420-4E33-A12E-4591442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D3EB-58CF-4BEF-A492-71C14E3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626B-C024-4BBB-8826-1A225583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B1F5-DBED-4965-8AEE-57ED61CE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DCDA-4C6A-42E6-92CE-463D97FA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567-5B5C-423E-A9E5-4D4198C3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E28-AF27-407D-8955-2F8FAA9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B69-A539-4654-BEC5-836EF42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5B4-16C9-480D-B29C-7D521FDC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FEA-2BF3-46E1-87D9-8F58DEE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kutni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ravokutni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ravokutni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ravokutni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ravokutni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Zaobljeni pravokutni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Zaobljeni pravokutni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ravokutni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ravokutni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ravokutni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ravokutni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ravokutni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ravokutni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43808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0A13-8FE0-43E5-9119-BB60067776CB}" type="datetime">
              <a:rPr b="0" lang="sr-Latn-CS" sz="800" spc="-1" strike="noStrike">
                <a:solidFill>
                  <a:srgbClr val="438086"/>
                </a:solidFill>
                <a:latin typeface="Verdan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C65D-49D8-4AD9-BE92-42FC73E484EB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avokutni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ravokutni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ravokutni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ravokutni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ravokutni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Zaobljeni pravokutni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Zaobljeni pravokutni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ravokutni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ravokutni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ravokutni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ravokutni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43808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4BB0-EE19-49CD-B7C7-CAD5E74928EA}" type="datetime">
              <a:rPr b="0" lang="sr-Latn-CS" sz="800" spc="-1" strike="noStrike">
                <a:solidFill>
                  <a:srgbClr val="438086"/>
                </a:solidFill>
                <a:latin typeface="Verdan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686-3531-4D72-A2EF-E16835FA893D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avokutni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ravokutni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ravokutni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ravokutni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ravokutni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Zaobljeni pravokutni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aobljeni pravokutni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ravokutni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ravokutni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ravokutni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ravokutni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ravokutni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ravokutni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43808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AA60-A277-4599-AC3E-35D70F4183C5}" type="datetime">
              <a:rPr b="0" lang="sr-Latn-CS" sz="800" spc="-1" strike="noStrike">
                <a:solidFill>
                  <a:srgbClr val="438086"/>
                </a:solidFill>
                <a:latin typeface="Verdan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80D9-BB70-46ED-BCE3-D359AA052FDA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avokutni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ravokutni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ravokutni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ravokutni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ravokutni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Zaobljeni pravokutni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Zaobljeni pravokutni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ravokutni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ravokutni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ravokutni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ravokutni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ravokutni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ravokutni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43808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F2E5-8F4E-4C89-89DB-82FE281B7F7A}" type="datetime">
              <a:rPr b="0" lang="sr-Latn-CS" sz="800" spc="-1" strike="noStrike">
                <a:solidFill>
                  <a:srgbClr val="438086"/>
                </a:solidFill>
                <a:latin typeface="Verdan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D99B-C147-4F2B-BABB-D6345E45FDD2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zervirano mjesto broja slajda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8B9-3B0B-43B2-8958-664ACEF8F364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050920" y="4671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MJERI DOBRE PRAKSE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33" descr=""/>
          <p:cNvPicPr/>
          <p:nvPr/>
        </p:nvPicPr>
        <p:blipFill>
          <a:blip r:embed="rId1"/>
          <a:srcRect l="29591" t="10336" r="28759" b="38224"/>
          <a:stretch/>
        </p:blipFill>
        <p:spPr>
          <a:xfrm>
            <a:off x="3297240" y="2276640"/>
            <a:ext cx="2077920" cy="19335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611280" y="4692960"/>
            <a:ext cx="8281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 SURADNJI S LOKALNOM ZAJEDNI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anka Mijić, dipl. soc. ped.; stručni suradnik men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uzana Babić, dipl. soc. ped.; učitelj men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0" descr="https://encrypted-tbn2.gstatic.com/images?q=tbn:ANd9GcTSLwUyRIoqSWwI84F4tXrTIfwmgjhnGZ9FRRa1ffxiOtP0rrQq_w"/>
          <p:cNvPicPr/>
          <p:nvPr/>
        </p:nvPicPr>
        <p:blipFill>
          <a:blip r:embed="rId2"/>
          <a:stretch/>
        </p:blipFill>
        <p:spPr>
          <a:xfrm>
            <a:off x="6373800" y="857160"/>
            <a:ext cx="2031840" cy="1995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Judo klub osoba s invaliditetom &quot;Fuji&quot;"/>
          <p:cNvPicPr/>
          <p:nvPr/>
        </p:nvPicPr>
        <p:blipFill>
          <a:blip r:embed="rId3"/>
          <a:stretch/>
        </p:blipFill>
        <p:spPr>
          <a:xfrm>
            <a:off x="785880" y="857160"/>
            <a:ext cx="17701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52840" y="571320"/>
            <a:ext cx="3576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br>
              <a:rPr sz="1800"/>
            </a:br>
            <a:r>
              <a:rPr b="1" lang="hr-HR" sz="1800" spc="-1" strike="noStrike">
                <a:solidFill>
                  <a:srgbClr val="424456"/>
                </a:solidFill>
                <a:latin typeface="Arial Unicode MS"/>
                <a:ea typeface="Arial Unicode MS"/>
              </a:rPr>
              <a:t>  </a:t>
            </a:r>
            <a:r>
              <a:rPr b="1" lang="hr-HR" sz="1800" spc="-1" strike="noStrike">
                <a:solidFill>
                  <a:srgbClr val="424456"/>
                </a:solidFill>
                <a:latin typeface="Arial Unicode MS"/>
                <a:ea typeface="Arial Unicode MS"/>
              </a:rPr>
              <a:t>Centar za  odgoj i obrazovanje  </a:t>
            </a:r>
            <a:br>
              <a:rPr sz="1800"/>
            </a:br>
            <a:r>
              <a:rPr b="1" lang="hr-HR" sz="1800" spc="-1" strike="noStrike">
                <a:solidFill>
                  <a:srgbClr val="424456"/>
                </a:solidFill>
                <a:latin typeface="Arial Unicode MS"/>
                <a:ea typeface="Arial Unicode MS"/>
              </a:rPr>
              <a:t>  Velika Gorica , Zagrebačka  90</a:t>
            </a:r>
            <a:br>
              <a:rPr sz="1600"/>
            </a:br>
            <a:r>
              <a:rPr b="1" lang="hr-HR" sz="1600" spc="-1" strike="noStrike">
                <a:solidFill>
                  <a:srgbClr val="424456"/>
                </a:solidFill>
                <a:latin typeface="Arial Unicode MS"/>
                <a:ea typeface="Arial Unicode MS"/>
              </a:rPr>
              <a:t>                                </a:t>
            </a:r>
            <a:br>
              <a:rPr sz="11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52840" y="1642680"/>
            <a:ext cx="35766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najstariji je dom sa školom z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djecu i mlade s intelektualni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teškoćam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nalazimo  se u sustav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ocijalne skrb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Djelatnost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brazovanje, odgoj 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sihosocijalna rehabilitacija kroz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azličite oblike smještaja i boravk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hr-HR" sz="1600" spc="-1" strike="noStrike" u="sng">
                <a:solidFill>
                  <a:srgbClr val="53548a"/>
                </a:solidFill>
                <a:uFillTx/>
                <a:latin typeface="Arial"/>
                <a:ea typeface="Arial"/>
              </a:rPr>
              <a:t>STRATEGIJA RAZVOJA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Centar podrške za Veliku Goricu 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grebačku županiju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1920" y="928440"/>
            <a:ext cx="51022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zervirano mjesto broja slajd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F459-A9A6-411C-B9AB-10CC285FF412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1" descr="PICT0008"/>
          <p:cNvPicPr/>
          <p:nvPr/>
        </p:nvPicPr>
        <p:blipFill>
          <a:blip r:embed="rId1"/>
          <a:srcRect l="0" t="20228" r="0" b="20228"/>
          <a:stretch/>
        </p:blipFill>
        <p:spPr>
          <a:xfrm>
            <a:off x="142920" y="928800"/>
            <a:ext cx="5143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 </a:t>
            </a:r>
            <a:r>
              <a:rPr b="0" lang="hr-HR" sz="2400" spc="-1" strike="noStrike">
                <a:solidFill>
                  <a:srgbClr val="424456"/>
                </a:solidFill>
                <a:latin typeface="Arial"/>
                <a:ea typeface="Arial"/>
              </a:rPr>
              <a:t>Programi Centra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35728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snovnoškolski program za djecu    s lakim intelektualnim teškoćam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snovnoškolski program za djecu i mlade   s umjerenim intelektualnim teškoćam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za odrasle osobe s intelektualnim teškoćama - RP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pošljavanje uz podršku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ko škola i Učenička zadrug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0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0" y="2428560"/>
            <a:ext cx="4114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ad kroz aktivnosti MST-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dukacijsko rehabilitacijska podrška djeci u integraciji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- psihosocijalna podrška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avjetovalište za osobe 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nvaliditetom grada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Velika Goric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grami prevencije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školskog neuspjeh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9E1E-3466-4292-ADA3-F5DA27666CF2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Centar za odgoj i obrazovanje Velika Gorica"/>
          <p:cNvPicPr/>
          <p:nvPr/>
        </p:nvPicPr>
        <p:blipFill>
          <a:blip r:embed="rId1"/>
          <a:stretch/>
        </p:blipFill>
        <p:spPr>
          <a:xfrm>
            <a:off x="785880" y="642960"/>
            <a:ext cx="2071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3073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24456"/>
                </a:solidFill>
                <a:latin typeface="Arial"/>
                <a:ea typeface="Arial"/>
              </a:rPr>
              <a:t>Judo - “nježni put”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52840" y="1500120"/>
            <a:ext cx="357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3548a"/>
                </a:solidFill>
                <a:latin typeface="Arial"/>
                <a:ea typeface="Arial"/>
              </a:rPr>
              <a:t>JUDO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borilačka vješti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limpijski spor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3548a"/>
                </a:solidFill>
                <a:latin typeface="Arial"/>
                <a:ea typeface="Arial"/>
              </a:rPr>
              <a:t>OSNOVNI CILJEVI JUDA –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3548a"/>
                </a:solidFill>
                <a:latin typeface="Arial"/>
                <a:ea typeface="Arial"/>
              </a:rPr>
              <a:t>JAČANJE DUHA I TIJEL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azvoj osobnosti kroz  samodisciplinu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amopoštovanje 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oštivanje drugi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53548a"/>
                </a:solidFill>
                <a:latin typeface="Arial"/>
                <a:ea typeface="Arial"/>
              </a:rPr>
              <a:t>     </a:t>
            </a:r>
            <a:r>
              <a:rPr b="1" lang="hr-HR" sz="1600" spc="-1" strike="noStrike">
                <a:solidFill>
                  <a:srgbClr val="53548a"/>
                </a:solidFill>
                <a:latin typeface="Arial"/>
                <a:ea typeface="Arial"/>
              </a:rPr>
              <a:t>Postati bolji član zajednice 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Judo je u Velikoj Gorici prisutan od 1994. godine kroz Judo klub Pink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://static.wixstatic.com/media/e80704_d6149458b84f4f9cbd8927b00eeea47e.jpg_srz_960_640_85_22_0.50_1.20_0.00_jpg_srz"/>
          <p:cNvPicPr/>
          <p:nvPr/>
        </p:nvPicPr>
        <p:blipFill>
          <a:blip r:embed="rId1"/>
          <a:stretch/>
        </p:blipFill>
        <p:spPr>
          <a:xfrm>
            <a:off x="357120" y="1571760"/>
            <a:ext cx="4643640" cy="4214520"/>
          </a:xfrm>
          <a:prstGeom prst="rect">
            <a:avLst/>
          </a:prstGeom>
          <a:ln w="0">
            <a:noFill/>
          </a:ln>
        </p:spPr>
      </p:pic>
      <p:sp>
        <p:nvSpPr>
          <p:cNvPr id="240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F070-31C7-41A0-81AF-AA5FF91CA888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24456"/>
                </a:solidFill>
                <a:latin typeface="Arial"/>
                <a:ea typeface="Arial"/>
              </a:rPr>
              <a:t>   </a:t>
            </a:r>
            <a:r>
              <a:rPr b="1" lang="pl-PL" sz="2000" spc="-1" strike="noStrike">
                <a:solidFill>
                  <a:srgbClr val="424456"/>
                </a:solidFill>
                <a:latin typeface="Arial"/>
                <a:ea typeface="Arial"/>
              </a:rPr>
              <a:t>JUDO KLUB OSOBA S </a:t>
            </a:r>
            <a:br>
              <a:rPr sz="2000"/>
            </a:br>
            <a:r>
              <a:rPr b="1" lang="pl-PL" sz="2000" spc="-1" strike="noStrike">
                <a:solidFill>
                  <a:srgbClr val="424456"/>
                </a:solidFill>
                <a:latin typeface="Arial"/>
                <a:ea typeface="Arial"/>
              </a:rPr>
              <a:t>      INVALIDITETOM</a:t>
            </a:r>
            <a:br>
              <a:rPr sz="2000"/>
            </a:br>
            <a:r>
              <a:rPr b="1" lang="pl-PL" sz="2000" spc="-1" strike="noStrike">
                <a:solidFill>
                  <a:srgbClr val="424456"/>
                </a:solidFill>
                <a:latin typeface="Arial"/>
                <a:ea typeface="Arial"/>
              </a:rPr>
              <a:t>                "FUJI" </a:t>
            </a:r>
            <a:br>
              <a:rPr sz="1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52840" y="2571840"/>
            <a:ext cx="33829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012. godine osnovan je Judo klub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inky za osobe sa invaliditetom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013. je preimenovan u JK Fuji  na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nicijativu judašice – treneric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Marine Draškovi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Misija JK Fuji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uključiti što veći broj djece s teškoćama u rad kluba, obogatiti im život i pružiti šansu za kvalitetniju budućnost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3DE-C7CF-4302-BD8C-F83E97FEEBCC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5" descr="judozasve1.jpg"/>
          <p:cNvPicPr/>
          <p:nvPr/>
        </p:nvPicPr>
        <p:blipFill>
          <a:blip r:embed="rId1"/>
          <a:stretch/>
        </p:blipFill>
        <p:spPr>
          <a:xfrm>
            <a:off x="152280" y="1357200"/>
            <a:ext cx="51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28760" y="642600"/>
            <a:ext cx="38070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3548a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53548a"/>
                </a:solidFill>
                <a:latin typeface="Arial"/>
                <a:ea typeface="Arial"/>
              </a:rPr>
              <a:t>K</a:t>
            </a:r>
            <a:r>
              <a:rPr b="0" lang="fi-FI" sz="2400" spc="-1" strike="noStrike">
                <a:solidFill>
                  <a:srgbClr val="53548a"/>
                </a:solidFill>
                <a:latin typeface="Arial"/>
                <a:ea typeface="Arial"/>
              </a:rPr>
              <a:t>ako je sve krenulo</a:t>
            </a:r>
            <a:r>
              <a:rPr b="0" lang="hr-HR" sz="2400" spc="-1" strike="noStrike">
                <a:solidFill>
                  <a:srgbClr val="53548a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52840" y="1213920"/>
            <a:ext cx="338292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90520" indent="-282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U ljeto 2009. godine životna priča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raće Ivana i Nikole pokreć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tručnjake Centra na traženje mogućnosti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Treninzi  tijekom srpnja i kolovoza, dva puta tjedno u Judo klubu uz trenericu Marinu Draškovi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  <a:ea typeface="Arial"/>
              </a:rPr>
              <a:t>K</a:t>
            </a:r>
            <a:r>
              <a:rPr b="0" lang="fi-FI" sz="2400" spc="-1" strike="noStrike">
                <a:solidFill>
                  <a:srgbClr val="0070c0"/>
                </a:solidFill>
                <a:latin typeface="Arial"/>
                <a:ea typeface="Arial"/>
              </a:rPr>
              <a:t>ako </a:t>
            </a:r>
            <a:r>
              <a:rPr b="0" lang="hr-HR" sz="2400" spc="-1" strike="noStrike">
                <a:solidFill>
                  <a:srgbClr val="0070c0"/>
                </a:solidFill>
                <a:latin typeface="Arial"/>
                <a:ea typeface="Arial"/>
              </a:rPr>
              <a:t>se nastavilo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Uključivanjem pet učenika stalnog smještaja petkom u pet na treninge sa grupom vršnjak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f0"/>
                </a:solidFill>
                <a:latin typeface="Arial"/>
                <a:ea typeface="Arial"/>
              </a:rPr>
              <a:t>Što to znači dje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zlazak iz Centr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Vlastiti kimo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lupska iskaznic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Druženje s vršnjacim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-2829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Zadovoljstv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0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B3C9-43D8-4BBD-9A4A-F1CBDE97ECBA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Rezervirano mjesto sadržaja 6" descr="http://www.guiainfantil.com/images/articulos/1400/1473/001.jpg"/>
          <p:cNvPicPr/>
          <p:nvPr/>
        </p:nvPicPr>
        <p:blipFill>
          <a:blip r:embed="rId1"/>
          <a:stretch/>
        </p:blipFill>
        <p:spPr>
          <a:xfrm>
            <a:off x="480960" y="928800"/>
            <a:ext cx="444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57520" y="571680"/>
            <a:ext cx="338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Arial"/>
                <a:ea typeface="Arial"/>
              </a:rPr>
              <a:t>      </a:t>
            </a:r>
            <a:r>
              <a:rPr b="0" lang="hr-HR" sz="2400" spc="-1" strike="noStrike">
                <a:solidFill>
                  <a:srgbClr val="0070c0"/>
                </a:solidFill>
                <a:latin typeface="Arial"/>
                <a:ea typeface="Arial"/>
              </a:rPr>
              <a:t>Što smo dobili ?</a:t>
            </a:r>
            <a:br>
              <a:rPr sz="18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00440" y="1341360"/>
            <a:ext cx="32353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Redovne treninge s vršnjacima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članovima Judo kluba Pinky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tijekom cijele godin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Turnire i natjecanj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olaganje za poja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udjelovanje u različitim klupskim manifestacijam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70c0"/>
                </a:solidFill>
                <a:latin typeface="Arial"/>
                <a:ea typeface="Arial"/>
              </a:rPr>
              <a:t>Što još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Osjećaj pripadnost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Važnost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igurnost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Nova prijateljstv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zlet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395-DEC7-4D66-A431-831010C25D38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2" descr="https://scontent-b-mxp.xx.fbcdn.net/hphotos-xfp1/v/t1.0-9/s720x720/10325583_492939730839866_2034063675710869392_n.jpg?oh=40c70607a8fb3c0ec1543b1d1cbed650&amp;oe=54B745B4"/>
          <p:cNvPicPr/>
          <p:nvPr/>
        </p:nvPicPr>
        <p:blipFill>
          <a:blip r:embed="rId1"/>
          <a:stretch/>
        </p:blipFill>
        <p:spPr>
          <a:xfrm>
            <a:off x="142920" y="500040"/>
            <a:ext cx="5143320" cy="2857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korisnik\Desktop\judo fuji (64).JPG"/>
          <p:cNvPicPr/>
          <p:nvPr/>
        </p:nvPicPr>
        <p:blipFill>
          <a:blip r:embed="rId2"/>
          <a:stretch/>
        </p:blipFill>
        <p:spPr>
          <a:xfrm>
            <a:off x="142920" y="3357720"/>
            <a:ext cx="51433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57520" y="642960"/>
            <a:ext cx="3382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24456"/>
                </a:solidFill>
                <a:latin typeface="Arial"/>
                <a:ea typeface="Arial"/>
              </a:rPr>
              <a:t>ŠTO SMO POKRENULI …</a:t>
            </a:r>
            <a:br>
              <a:rPr sz="1800"/>
            </a:br>
            <a:r>
              <a:rPr b="1" lang="hr-HR" sz="1800" spc="-1" strike="noStrike">
                <a:solidFill>
                  <a:srgbClr val="424456"/>
                </a:solidFill>
                <a:latin typeface="Arial"/>
                <a:ea typeface="Arial"/>
              </a:rPr>
              <a:t>                         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52840" y="1628640"/>
            <a:ext cx="33829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ruštvena itegracija djece s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teškoćam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Uklanjanje predrasud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azvoj senzibilitet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omagačke vješti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3760" indent="-2858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rijateljski odnos temeljen na međusobnom poticanju i motiviranj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754-D53C-45CB-8F95-C7C7154A262A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http://static.wixstatic.com/media/e80704_50b09f3750a24a7dbb886de80440e9c0.jpg_srz_643_408_85_22_0.50_1.20_0.00_jpg_srz"/>
          <p:cNvPicPr/>
          <p:nvPr/>
        </p:nvPicPr>
        <p:blipFill>
          <a:blip r:embed="rId1"/>
          <a:stretch/>
        </p:blipFill>
        <p:spPr>
          <a:xfrm>
            <a:off x="611280" y="1571760"/>
            <a:ext cx="43210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460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24456"/>
                </a:solidFill>
                <a:latin typeface="Arial"/>
                <a:ea typeface="Arial"/>
              </a:rPr>
              <a:t>HVALA NA PAŽNJ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EE7-6232-4278-875C-1E557C7D796A}" type="slidenum">
              <a:rPr b="0" lang="hr-HR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454040" y="2133720"/>
            <a:ext cx="62359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risnik</dc:creator>
  <dc:description/>
  <dc:language>en-US</dc:language>
  <cp:lastModifiedBy>ipetanjek</cp:lastModifiedBy>
  <dcterms:modified xsi:type="dcterms:W3CDTF">2014-10-27T07:13:49Z</dcterms:modified>
  <cp:revision>221</cp:revision>
  <dc:subject/>
  <dc:title>Standardi kvalitete</dc:title>
</cp:coreProperties>
</file>