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DE3-C804-4DF3-8F71-5B31EB91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534-19A7-43FD-B420-D51EE66E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2E2-4779-405C-9FB7-F783C5EF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317-083B-4B8A-BD58-4E9906AA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2C8D-A8A7-4E17-8414-E7973ACB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DAF0-A44E-4C10-AC25-B97A301E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53D9-70BB-44B6-9553-EC15FCED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B04F-7D83-423A-A542-2DA164E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3838-E0AA-4330-9873-DC36343F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DB2A-41C2-4430-A0CF-F28F06B8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B2EA-98FA-4D14-A4FD-77E2113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BF1-C03B-4F06-9D80-0589C8C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008B-B6E7-41BF-A4FC-546ED6D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B04A-46F5-4AF7-9F07-E1BEC9DF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E6F7-775E-4153-BA69-542F26D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9A0D-3662-498A-A0A2-9620E0E0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7B3D-59B2-4558-98BB-AD108AC7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ACD5-521F-4972-B01D-FBD70279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889E0-D62B-4009-8718-693640EB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FD88-1B35-4AA3-B46A-D3FF2675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0E51-FDC2-4246-8192-4FC9E4B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0B37-3D7F-4DE9-B541-119B9827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5B8-AEE0-4089-8CB5-F608D2D0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F96A-2419-4C8B-9312-6209B9A6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2AB3-20F6-4B3F-AF6F-C706AD8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66A8-29ED-4BCC-AFCD-1ACF33E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3705-7396-47C5-86B1-4D00C88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F0D7-7E8A-4D0E-B2EC-0DD859BE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D12C-2FEB-4C2A-938C-BDD38B54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5321-E9F5-44F6-9595-3BF4B8BF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CADCE-91FE-440A-A523-5BDAA9DB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764C-EC57-4452-814E-231413A6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D792-F679-44F8-9E7E-F451569F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A53-1B36-48E2-AC7C-95442011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50E05-4456-4AB9-970C-E94AC1F7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BFE4E-9474-4405-94C0-6E950EF9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68AE-EB57-4D20-81AD-F9C0CFAA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9086E-706B-4E8E-916D-F5E6BDA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4A5D-45D1-4CC4-AD6D-03EF3F8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74E02-7EC7-4249-BCF0-634D949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D0A0-1A04-4126-8083-E625D026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E927-2095-43CF-9A7A-E500A5D5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710B-FB77-44E3-82AC-ABDA6C30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8E3-056E-4E12-9AC6-B1A5362A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4A0-2337-4F5E-8C46-2B9CC8D5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4B9-FB66-40B1-A226-79903D0F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B12-3179-42FC-B36E-33C243F1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13A-07F0-4819-A75D-990FEFDC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fe863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7598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668c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eb68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fe863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fe863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fe8637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e863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3D340-49CC-4F83-9012-5265D7593F04}" type="slidenum">
              <a:rPr b="0" lang="en-US" sz="900" spc="-1" strike="noStrike">
                <a:solidFill>
                  <a:srgbClr val="fe8637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fe863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7598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668c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eb68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fe863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fe863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fe8637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e863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31AF2-5F47-4BE5-8D89-019FCC1915CD}" type="slidenum">
              <a:rPr b="0" lang="en-US" sz="900" spc="-1" strike="noStrike">
                <a:solidFill>
                  <a:srgbClr val="fe8637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fe863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7598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668c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eb68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fe863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fe863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fe8637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eb687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eb687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e863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9F1B7-AA6A-488D-9BF9-69F8AC80370B}" type="slidenum">
              <a:rPr b="0" lang="en-US" sz="900" spc="-1" strike="noStrike">
                <a:solidFill>
                  <a:srgbClr val="fe8637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fe863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7598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668c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eb68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fe863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fe863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fe8637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eb687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eb687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e863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13351-4CCF-4031-A612-241325EE1BA7}" type="slidenum">
              <a:rPr b="0" lang="en-US" sz="900" spc="-1" strike="noStrike">
                <a:solidFill>
                  <a:srgbClr val="fe8637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5400" spc="-1" strike="noStrike">
                <a:solidFill>
                  <a:srgbClr val="244583"/>
                </a:solidFill>
                <a:latin typeface="Trebuchet MS"/>
              </a:rPr>
              <a:t>Izazovi u radu školskog liječnika- djeca s teškoćama</a:t>
            </a:r>
            <a:endParaRPr b="0" lang="en-US" sz="54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451560" y="5389200"/>
            <a:ext cx="374976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Trebuchet MS"/>
              </a:rPr>
              <a:t>Nataša Dragaš-Zubalj, dr.m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Trebuchet MS"/>
              </a:rPr>
              <a:t>Bruna Sokolić, mag.sestrinst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736560" y="4460760"/>
            <a:ext cx="1859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1240" y="-36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Izazovi rada u povjerenstvu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3840" y="964800"/>
            <a:ext cx="859644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rebuchet MS"/>
              </a:rPr>
              <a:t>1. Zakoni, Pravilnici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Zakon o odgoju i obrazovanju u osnovnoj i srednjoj školi </a:t>
            </a:r>
            <a:r>
              <a:rPr b="0" lang="hr-HR" sz="1600" spc="-1" strike="noStrike">
                <a:solidFill>
                  <a:srgbClr val="404040"/>
                </a:solidFill>
                <a:latin typeface="Trebuchet MS"/>
              </a:rPr>
              <a:t>(NN 87/08, 86/09,92/10,105/10,90/11,16/12,86/12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Pravilnik o osnovnoškolskom odgoju i obrazovanju učenika s teškoćama u razvoju </a:t>
            </a:r>
            <a:r>
              <a:rPr b="0" lang="hr-HR" sz="1600" spc="-1" strike="noStrike">
                <a:solidFill>
                  <a:srgbClr val="404040"/>
                </a:solidFill>
                <a:latin typeface="Trebuchet MS"/>
              </a:rPr>
              <a:t>(NN 23/91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Pravilnik o postupku utvrđivanja psihofizičkog stanja djeteta,učenika te sastavu stručnog povjerenstva </a:t>
            </a:r>
            <a:r>
              <a:rPr b="0" lang="hr-HR" sz="1600" spc="-1" strike="noStrike">
                <a:solidFill>
                  <a:srgbClr val="404040"/>
                </a:solidFill>
                <a:latin typeface="Trebuchet MS"/>
              </a:rPr>
              <a:t>(NN67/14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Državni pedagoški standard </a:t>
            </a:r>
            <a:r>
              <a:rPr b="0" lang="hr-HR" sz="1600" spc="-1" strike="noStrike">
                <a:solidFill>
                  <a:srgbClr val="404040"/>
                </a:solidFill>
                <a:latin typeface="Trebuchet MS"/>
              </a:rPr>
              <a:t>(NN90/10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Pravilnik o srednjoškolskom obrazovanju učenika s teškoćama i većim teškoćama u razvoju </a:t>
            </a:r>
            <a:r>
              <a:rPr b="0" lang="hr-HR" sz="1600" spc="-1" strike="noStrike">
                <a:solidFill>
                  <a:srgbClr val="404040"/>
                </a:solidFill>
                <a:latin typeface="Trebuchet MS"/>
              </a:rPr>
              <a:t>(NN 86/92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Ustav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Obiteljski zakon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Konvencija o pravima djece (1989.) /Svjetska konferencija o posebnim obrazovnim potrebama (1994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Konvencija o pravima osoba s invaliditetom / Nacionalna strategija izjednačavanja mogućnosti za osobe s invaliditetom </a:t>
            </a:r>
            <a:r>
              <a:rPr b="0" lang="hr-HR" sz="1600" spc="-1" strike="noStrike">
                <a:solidFill>
                  <a:srgbClr val="404040"/>
                </a:solidFill>
                <a:latin typeface="Trebuchet MS"/>
              </a:rPr>
              <a:t>od 2007.do 2015</a:t>
            </a:r>
            <a:r>
              <a:rPr b="1" lang="hr-HR" sz="16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3" descr="pazzle.jpg"/>
          <p:cNvPicPr/>
          <p:nvPr/>
        </p:nvPicPr>
        <p:blipFill>
          <a:blip r:embed="rId1"/>
          <a:stretch/>
        </p:blipFill>
        <p:spPr>
          <a:xfrm>
            <a:off x="9917280" y="4514760"/>
            <a:ext cx="2133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Izazovi...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1456920"/>
            <a:ext cx="85964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rebuchet MS"/>
              </a:rPr>
              <a:t>2. Integracija učenika s poteškoćama u sustav školovanj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244583"/>
                </a:solidFill>
                <a:latin typeface="Trebuchet MS"/>
              </a:rPr>
              <a:t>gdje?</a:t>
            </a: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- redovne osnovne škole ili posebne ustanove u drugim organizacijama- zdravstvo, socijalna skrb; </a:t>
            </a: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cilj?</a:t>
            </a: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- ishodi završenog razreda(ocjena) ili samo socijalna integracija (definirati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244583"/>
                </a:solidFill>
                <a:latin typeface="Trebuchet MS"/>
              </a:rPr>
              <a:t>uloga povjerenstava za procjenu psihofizičkog stanja djeteta </a:t>
            </a: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(nalazi/ mišljenja pojedinih članova, osvješćivanje vlastite kompetentnosti, kasni početak dijagnostičke obrade u svrhu primjerenog oblika školovanja, dugotrajno čekanje na dokumentaciju, administrativne zapreke u provođenju postupka, </a:t>
            </a:r>
            <a:r>
              <a:rPr b="0" lang="hr-HR" sz="1800" spc="-1" strike="noStrike" u="sng">
                <a:solidFill>
                  <a:srgbClr val="404040"/>
                </a:solidFill>
                <a:uFillTx/>
                <a:latin typeface="Trebuchet MS"/>
              </a:rPr>
              <a:t>prijedlog rješenja mora biti u korist djeteta s poteškoćama !, </a:t>
            </a: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“susret “ sa odlukom drugostupanjskog povjerenstva.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404040"/>
                </a:solidFill>
                <a:latin typeface="Trebuchet MS"/>
              </a:rPr>
              <a:t>uloga stručnjaka/ specijalista</a:t>
            </a: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- stručno mišljenje o statusu djeteta, poznavanje zakonske regulative vezane uz oblik školovanja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404040"/>
                </a:solidFill>
                <a:latin typeface="Trebuchet MS"/>
              </a:rPr>
              <a:t>pravo i obveze roditelja </a:t>
            </a: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djeteta s poteškoćam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404040"/>
                </a:solidFill>
                <a:latin typeface="Trebuchet MS"/>
              </a:rPr>
              <a:t>prava ostale djece </a:t>
            </a: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u okruženju učenika s poteškoća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60200" y="-1028880"/>
            <a:ext cx="58104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djeca,as.jpg"/>
          <p:cNvPicPr/>
          <p:nvPr/>
        </p:nvPicPr>
        <p:blipFill>
          <a:blip r:embed="rId1"/>
          <a:stretch/>
        </p:blipFill>
        <p:spPr>
          <a:xfrm>
            <a:off x="10090080" y="21924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pomoćnik.jpg"/>
          <p:cNvPicPr/>
          <p:nvPr/>
        </p:nvPicPr>
        <p:blipFill>
          <a:blip r:embed="rId2"/>
          <a:stretch/>
        </p:blipFill>
        <p:spPr>
          <a:xfrm>
            <a:off x="10071000" y="5264280"/>
            <a:ext cx="1943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Izazovi...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77520" y="1352520"/>
            <a:ext cx="85964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3394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c00000"/>
                </a:solidFill>
                <a:latin typeface="Trebuchet MS"/>
              </a:rPr>
              <a:t>3. </a:t>
            </a:r>
            <a:r>
              <a:rPr b="1" lang="hr-HR" sz="1700" spc="-1" strike="noStrike">
                <a:solidFill>
                  <a:srgbClr val="c00000"/>
                </a:solidFill>
                <a:latin typeface="Trebuchet MS"/>
              </a:rPr>
              <a:t>Pomoćnik u nastavi, osobni asistent </a:t>
            </a:r>
            <a:r>
              <a:rPr b="0" lang="hr-HR" sz="1700" spc="-1" strike="noStrike">
                <a:solidFill>
                  <a:srgbClr val="404040"/>
                </a:solidFill>
                <a:latin typeface="Trebuchet MS"/>
              </a:rPr>
              <a:t>(definiranje uloga, definiranje oblika pomoći, edukacija pomoćnika, medicinska izobrazba...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47840" indent="-3394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Trebuchet MS"/>
              </a:rPr>
              <a:t>Državni pedagoški standard-</a:t>
            </a:r>
            <a:r>
              <a:rPr b="1" lang="hr-HR" sz="1700" spc="-1" strike="noStrike">
                <a:solidFill>
                  <a:srgbClr val="404040"/>
                </a:solidFill>
                <a:latin typeface="Trebuchet MS"/>
                <a:ea typeface="Arial"/>
              </a:rPr>
              <a:t> </a:t>
            </a:r>
            <a:r>
              <a:rPr b="0" lang="hr-HR" sz="1700" spc="-1" strike="noStrike">
                <a:solidFill>
                  <a:srgbClr val="404040"/>
                </a:solidFill>
                <a:latin typeface="Trebuchet MS"/>
                <a:ea typeface="Arial"/>
              </a:rPr>
              <a:t>Članak 15. Ostali radnici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4784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1700" spc="-1" strike="noStrike">
                <a:solidFill>
                  <a:srgbClr val="404040"/>
                </a:solidFill>
                <a:latin typeface="Arial"/>
              </a:rPr>
              <a:t>7) Škola može osigurati pomoćnika u nastavi , prevoditelja znakovnog</a:t>
            </a:r>
            <a:r>
              <a:rPr b="0" lang="hr-HR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vi-VN" sz="1700" spc="-1" strike="noStrike">
                <a:solidFill>
                  <a:srgbClr val="404040"/>
                </a:solidFill>
                <a:latin typeface="Arial"/>
              </a:rPr>
              <a:t> jezika i posebnog pomoćnika učenicima kojima je rješenjem o primjerenom obliku školovanja potrebna pomoć u učenju,  kretanju i obavljanju školskih aktivnosti i zadataka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4784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47840" indent="-3394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e75c01"/>
                </a:solidFill>
                <a:latin typeface="Trebuchet MS"/>
              </a:rPr>
              <a:t>4. </a:t>
            </a:r>
            <a:r>
              <a:rPr b="1" lang="hr-HR" sz="1700" spc="-1" strike="noStrike">
                <a:solidFill>
                  <a:srgbClr val="e75c01"/>
                </a:solidFill>
                <a:latin typeface="Trebuchet MS"/>
              </a:rPr>
              <a:t>Upis u srednju školu </a:t>
            </a:r>
            <a:r>
              <a:rPr b="1" lang="hr-HR" sz="17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1" lang="hr-HR" sz="1700" spc="-1" strike="noStrike" u="sng">
                <a:solidFill>
                  <a:srgbClr val="404040"/>
                </a:solidFill>
                <a:uFillTx/>
                <a:latin typeface="Trebuchet MS"/>
              </a:rPr>
              <a:t>- A</a:t>
            </a:r>
            <a:r>
              <a:rPr b="1" lang="hr-HR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hr-HR" sz="1700" spc="-1" strike="noStrike">
                <a:solidFill>
                  <a:srgbClr val="404040"/>
                </a:solidFill>
                <a:latin typeface="Trebuchet MS"/>
              </a:rPr>
              <a:t>(učenici sa rješenjima o primjerenom obliku školovanja), </a:t>
            </a:r>
            <a:r>
              <a:rPr b="1" lang="hr-HR" sz="1700" spc="-1" strike="noStrike" u="sng">
                <a:solidFill>
                  <a:srgbClr val="404040"/>
                </a:solidFill>
                <a:uFillTx/>
                <a:latin typeface="Trebuchet MS"/>
              </a:rPr>
              <a:t>B</a:t>
            </a:r>
            <a:r>
              <a:rPr b="0" lang="hr-HR" sz="1700" spc="-1" strike="noStrike" u="sng">
                <a:solidFill>
                  <a:srgbClr val="404040"/>
                </a:solidFill>
                <a:uFillTx/>
                <a:latin typeface="Trebuchet MS"/>
              </a:rPr>
              <a:t> </a:t>
            </a:r>
            <a:r>
              <a:rPr b="0" lang="hr-HR" sz="1700" spc="-1" strike="noStrike">
                <a:solidFill>
                  <a:srgbClr val="404040"/>
                </a:solidFill>
                <a:latin typeface="Trebuchet MS"/>
              </a:rPr>
              <a:t>(učenici koji zbog zdravstvenih poteškoća nisu ostvarili svoj potencijal- DG., izostanci sa nastave, reducirani programi TZK) i </a:t>
            </a:r>
            <a:r>
              <a:rPr b="1" lang="hr-HR" sz="1700" spc="-1" strike="noStrike" u="sng">
                <a:solidFill>
                  <a:srgbClr val="404040"/>
                </a:solidFill>
                <a:uFillTx/>
                <a:latin typeface="Trebuchet MS"/>
              </a:rPr>
              <a:t>C</a:t>
            </a:r>
            <a:r>
              <a:rPr b="0" lang="hr-HR" sz="1700" spc="-1" strike="noStrike" u="sng">
                <a:solidFill>
                  <a:srgbClr val="404040"/>
                </a:solidFill>
                <a:uFillTx/>
                <a:latin typeface="Trebuchet MS"/>
              </a:rPr>
              <a:t> (</a:t>
            </a:r>
            <a:r>
              <a:rPr b="0" lang="hr-HR" sz="1700" spc="-1" strike="noStrike">
                <a:solidFill>
                  <a:srgbClr val="404040"/>
                </a:solidFill>
                <a:latin typeface="Trebuchet MS"/>
              </a:rPr>
              <a:t>učenici koji imaju manjh zdravstvenih poteškoća, koje ih ne ograničavaju u ostvarivanju punog potencijala, no čiji roditelji imaju „želje“)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47840" indent="-3394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Trebuchet MS"/>
              </a:rPr>
              <a:t>Služba za profesionalnu orijentaciju ( A, B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47840" indent="-3394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Trebuchet MS"/>
              </a:rPr>
              <a:t>Ured državne uprave- priorotetni upis (A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47840" indent="-3394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404040"/>
                </a:solidFill>
                <a:latin typeface="Trebuchet MS"/>
              </a:rPr>
              <a:t>Srednje škole- programi za učenike sa poteškoćama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47840" indent="-3394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47840" indent="-3394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Picture 3" descr="sš.jpg"/>
          <p:cNvPicPr/>
          <p:nvPr/>
        </p:nvPicPr>
        <p:blipFill>
          <a:blip r:embed="rId1"/>
          <a:stretch/>
        </p:blipFill>
        <p:spPr>
          <a:xfrm>
            <a:off x="9690120" y="4071960"/>
            <a:ext cx="1933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10541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Izazovi drugostupanjskog povjerenstva...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77520" y="1501560"/>
            <a:ext cx="859644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Trebuchet MS"/>
              </a:rPr>
              <a:t>najveći broj žalbi je zbog članaka 7 i 12 Pravilnik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Trebuchet MS"/>
              </a:rPr>
              <a:t>žalbe preko odvjetničkih ured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Trebuchet MS"/>
              </a:rPr>
              <a:t>formalne pogrešk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Trebuchet MS"/>
              </a:rPr>
              <a:t>nedovoljno poznavanje odredbi Pravilnika-tumačenje pojedinih odredb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Trebuchet MS"/>
              </a:rPr>
              <a:t>raskorak između predloženog programa i upisanih ocjena u imenik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Trebuchet MS"/>
              </a:rPr>
              <a:t>nepotpuna dokumentacij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Trebuchet MS"/>
              </a:rPr>
              <a:t>„</a:t>
            </a:r>
            <a:r>
              <a:rPr b="0" lang="hr-HR" sz="2400" spc="-1" strike="noStrike">
                <a:solidFill>
                  <a:srgbClr val="404040"/>
                </a:solidFill>
                <a:latin typeface="Trebuchet MS"/>
              </a:rPr>
              <a:t>tendenciozna„ dokumentacij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8"/>
          <p:cNvSpPr/>
          <p:nvPr/>
        </p:nvSpPr>
        <p:spPr>
          <a:xfrm>
            <a:off x="10191600" y="571968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f2f2f2"/>
                </a:solidFill>
                <a:latin typeface="Trebuchet MS"/>
              </a:rPr>
              <a:t>Imamo pravo na različitost, zar 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IMG_3260.JPG"/>
          <p:cNvPicPr/>
          <p:nvPr/>
        </p:nvPicPr>
        <p:blipFill>
          <a:blip r:embed="rId2"/>
          <a:stretch/>
        </p:blipFill>
        <p:spPr>
          <a:xfrm>
            <a:off x="5165640" y="0"/>
            <a:ext cx="6299280" cy="4724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djeca.jpg"/>
          <p:cNvPicPr/>
          <p:nvPr/>
        </p:nvPicPr>
        <p:blipFill>
          <a:blip r:embed="rId3"/>
          <a:stretch/>
        </p:blipFill>
        <p:spPr>
          <a:xfrm>
            <a:off x="5661000" y="5167440"/>
            <a:ext cx="3495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Zaključno...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200" spc="-1" strike="noStrike">
                <a:solidFill>
                  <a:srgbClr val="404040"/>
                </a:solidFill>
                <a:latin typeface="Trebuchet MS"/>
              </a:rPr>
              <a:t>Moramo osigurati jednake mogućnosti svakom djetetu,ali ne tako da svi postanu jednaki, nego da se prepoznaju njihove jedinstvene sposobnosti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404040"/>
                </a:solidFill>
                <a:latin typeface="Trebuchet MS"/>
              </a:rPr>
              <a:t>                                  </a:t>
            </a:r>
            <a:r>
              <a:rPr b="0" lang="hr-HR" sz="3200" spc="-1" strike="noStrike">
                <a:solidFill>
                  <a:srgbClr val="404040"/>
                </a:solidFill>
                <a:latin typeface="Trebuchet MS"/>
              </a:rPr>
              <a:t>John Fischer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7956720" y="4680000"/>
            <a:ext cx="3944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519120" y="927000"/>
            <a:ext cx="10726560" cy="58644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641520" y="136440"/>
            <a:ext cx="103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Učenici s teškoćama u razvoju u redovnim osnovnim školama u RH u školskoj godini 2011./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0840" y="609120"/>
            <a:ext cx="11887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Učenici sa poteškoćama u OŠ-a PGŽ, šk.g.2014./2015.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520" y="1828440"/>
            <a:ext cx="859644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Trebuchet MS"/>
              </a:rPr>
              <a:t>Uk. broj učenika u OŠ PGŽ- </a:t>
            </a:r>
            <a:r>
              <a:rPr b="1" lang="hr-HR" sz="1800" spc="-1" strike="noStrike">
                <a:solidFill>
                  <a:srgbClr val="3668c4"/>
                </a:solidFill>
                <a:latin typeface="Trebuchet MS"/>
              </a:rPr>
              <a:t>19.18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Trebuchet MS"/>
              </a:rPr>
              <a:t>Uk. broj učenika sa rješenjem o primjerenom obliku školovanja-</a:t>
            </a:r>
            <a:r>
              <a:rPr b="1" lang="hr-HR" sz="1800" spc="-1" strike="noStrike">
                <a:solidFill>
                  <a:srgbClr val="3668c4"/>
                </a:solidFill>
                <a:latin typeface="Trebuchet MS"/>
              </a:rPr>
              <a:t>1.434 </a:t>
            </a:r>
            <a:r>
              <a:rPr b="0" lang="hr-HR" sz="1800" spc="-1" strike="noStrike">
                <a:solidFill>
                  <a:srgbClr val="3668c4"/>
                </a:solidFill>
                <a:latin typeface="Trebuchet MS"/>
              </a:rPr>
              <a:t>(7,47%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19" name="Chart 7"/>
          <p:cNvGraphicFramePr/>
          <p:nvPr/>
        </p:nvGraphicFramePr>
        <p:xfrm>
          <a:off x="2111400" y="3075120"/>
          <a:ext cx="486720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3075120"/>
                    <a:ext cx="486720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18432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Učenici s poteškoćama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150480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Lucida Sans Unicode"/>
              </a:rPr>
              <a:t>Broj učenika s poteškoćama prema </a:t>
            </a:r>
            <a:r>
              <a:rPr b="1" lang="hr-HR" sz="1800" spc="-1" strike="noStrike">
                <a:solidFill>
                  <a:srgbClr val="3668c4"/>
                </a:solidFill>
                <a:latin typeface="Lucida Sans Unicode"/>
              </a:rPr>
              <a:t>spolu</a:t>
            </a:r>
            <a:r>
              <a:rPr b="0" lang="hr-HR" sz="1800" spc="-1" strike="noStrike">
                <a:solidFill>
                  <a:srgbClr val="3668c4"/>
                </a:solidFill>
                <a:latin typeface="Lucida Sans Unicode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Lucida Sans Unicode"/>
              </a:rPr>
              <a:t>Učenice-474 (33%); Učenici-960 (67%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Chart 7" descr=""/>
          <p:cNvPicPr/>
          <p:nvPr/>
        </p:nvPicPr>
        <p:blipFill>
          <a:blip r:embed="rId1"/>
          <a:stretch/>
        </p:blipFill>
        <p:spPr>
          <a:xfrm>
            <a:off x="2031840" y="2665440"/>
            <a:ext cx="564372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Klasifikacija poteškoća - Orijentacijska lista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1929960"/>
            <a:ext cx="1126332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3668c4"/>
                </a:solidFill>
                <a:latin typeface="Trebuchet MS"/>
              </a:rPr>
              <a:t>T.1-vid -7 učenik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3668c4"/>
                </a:solidFill>
                <a:latin typeface="Trebuchet MS"/>
              </a:rPr>
              <a:t>T.2- sluh- 7 učenik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T.3-govor- 582 učenika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Trebuchet MS"/>
              </a:rPr>
              <a:t>(RH 2011./2012.-32%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3668c4"/>
                </a:solidFill>
                <a:latin typeface="Trebuchet MS"/>
              </a:rPr>
              <a:t>T.4- CP,TI-17 učenik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3668c4"/>
                </a:solidFill>
                <a:latin typeface="Trebuchet MS"/>
              </a:rPr>
              <a:t>T.5- MR-11 učenik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T.6-Poremećaji u ponašanju-102 učenika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Trebuchet MS"/>
              </a:rPr>
              <a:t>(organski uvj.PUP, ADHD,..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3668c4"/>
                </a:solidFill>
                <a:latin typeface="Trebuchet MS"/>
              </a:rPr>
              <a:t>T.7- Autizam- 27 učenik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T.8- kombinirane poteškoće- 557 učenika 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e75c01"/>
                </a:solidFill>
                <a:latin typeface="Trebuchet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Trebuchet MS"/>
              </a:rPr>
              <a:t>(RH 2011./2012.- 26%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Primjereni oblici školovanja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77880" y="2160720"/>
            <a:ext cx="569448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3668c4"/>
                </a:solidFill>
                <a:latin typeface="Trebuchet MS"/>
              </a:rPr>
              <a:t>1</a:t>
            </a:r>
            <a:r>
              <a:rPr b="1" lang="hr-HR" sz="2000" spc="-1" strike="noStrike">
                <a:solidFill>
                  <a:srgbClr val="c00000"/>
                </a:solidFill>
                <a:latin typeface="Trebuchet MS"/>
              </a:rPr>
              <a:t>. redovni program, čl.4- 780 učenik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3668c4"/>
                </a:solidFill>
                <a:latin typeface="Trebuchet MS"/>
              </a:rPr>
              <a:t>2. </a:t>
            </a:r>
            <a:r>
              <a:rPr b="1" lang="hr-HR" sz="2000" spc="-1" strike="noStrike">
                <a:solidFill>
                  <a:srgbClr val="c00000"/>
                </a:solidFill>
                <a:latin typeface="Trebuchet MS"/>
              </a:rPr>
              <a:t>prilagođeni program, čl.4 i čl.6.-351 učen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3668c4"/>
                </a:solidFill>
                <a:latin typeface="Trebuchet MS"/>
              </a:rPr>
              <a:t>3. školovanje prema čl.7- 7 učenika (PGŽ, Rijeka-0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3668c4"/>
                </a:solidFill>
                <a:latin typeface="Trebuchet MS"/>
              </a:rPr>
              <a:t>4.školovanje prema čl. 10- 17 učenik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3668c4"/>
                </a:solidFill>
                <a:latin typeface="Trebuchet MS"/>
              </a:rPr>
              <a:t>5. </a:t>
            </a:r>
            <a:r>
              <a:rPr b="1" lang="hr-HR" sz="2000" spc="-1" strike="noStrike">
                <a:solidFill>
                  <a:srgbClr val="c00000"/>
                </a:solidFill>
                <a:latin typeface="Trebuchet MS"/>
              </a:rPr>
              <a:t>školovanje prema čl.12- 155 učenik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Chart 7" descr=""/>
          <p:cNvPicPr/>
          <p:nvPr/>
        </p:nvPicPr>
        <p:blipFill>
          <a:blip r:embed="rId1"/>
          <a:stretch/>
        </p:blipFill>
        <p:spPr>
          <a:xfrm>
            <a:off x="6656400" y="2160720"/>
            <a:ext cx="5235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Potpora edukacijsko-rehabilitacijskih stručnjaka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rebuchet MS"/>
              </a:rPr>
              <a:t>Logopeda- 568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rebuchet MS"/>
              </a:rPr>
              <a:t>Logopeda+socijalnog pedagoga- 32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rebuchet MS"/>
              </a:rPr>
              <a:t>Socijalnog pedagoga- 117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Trebuchet MS"/>
              </a:rPr>
              <a:t>Edukacijski rehabilitator+logoped- 3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Trebuchet MS"/>
              </a:rPr>
              <a:t>Edukacijski rehabilitator-2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Trebuchet MS"/>
              </a:rPr>
              <a:t>PSP-CP-2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Trebuchet MS"/>
              </a:rPr>
              <a:t>Edukacijski rehabilitator+logoped+socijalni pedagog-2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Trebuchet MS"/>
              </a:rPr>
              <a:t>PSP-vid-8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3668c4"/>
                </a:solidFill>
                <a:latin typeface="Trebuchet MS"/>
              </a:rPr>
              <a:t>PSP-sluh-8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4" descr="logoped.jpg"/>
          <p:cNvPicPr/>
          <p:nvPr/>
        </p:nvPicPr>
        <p:blipFill>
          <a:blip r:embed="rId1"/>
          <a:stretch/>
        </p:blipFill>
        <p:spPr>
          <a:xfrm>
            <a:off x="9505800" y="489744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440" y="110880"/>
            <a:ext cx="9390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Ostali oblici pomoći djeci s poteškoćama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9080" y="2160360"/>
            <a:ext cx="4079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rebuchet MS"/>
              </a:rPr>
              <a:t>Pomoćnik u nastavi/ osobni asist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PGŽ- dobiveni podatak je </a:t>
            </a:r>
            <a:r>
              <a:rPr b="1" lang="hr-HR" sz="1800" spc="-1" strike="noStrike">
                <a:solidFill>
                  <a:srgbClr val="404040"/>
                </a:solidFill>
                <a:latin typeface="Trebuchet MS"/>
              </a:rPr>
              <a:t>61</a:t>
            </a:r>
            <a:r>
              <a:rPr b="0" lang="hr-HR" sz="1800" spc="-1" strike="noStrike">
                <a:solidFill>
                  <a:srgbClr val="404040"/>
                </a:solidFill>
                <a:latin typeface="Trebuchet MS"/>
              </a:rPr>
              <a:t>, ali nije toč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3" descr="as.jpg"/>
          <p:cNvPicPr/>
          <p:nvPr/>
        </p:nvPicPr>
        <p:blipFill>
          <a:blip r:embed="rId1"/>
          <a:stretch/>
        </p:blipFill>
        <p:spPr>
          <a:xfrm>
            <a:off x="1027080" y="4925880"/>
            <a:ext cx="1695600" cy="1714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6913440" y="2295360"/>
            <a:ext cx="4316400" cy="4524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6805440" y="1236600"/>
            <a:ext cx="45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roj odobrenih osobnih pomoćnika/ pomoćnika u nastavi po županijama šk. god. 2011./201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244583"/>
                </a:solidFill>
                <a:latin typeface="Trebuchet MS"/>
              </a:rPr>
              <a:t>Primjedbe školskih liječnika</a:t>
            </a:r>
            <a:endParaRPr b="0" lang="en-US" sz="3600" spc="-1" strike="noStrike">
              <a:solidFill>
                <a:srgbClr val="fe8637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701360"/>
            <a:ext cx="8596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Na pitanje školskim liječnicima da li je oblik školovanja i oblici pomoći odgovarajući, dio njih je dao negativan odgovor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rebuchet MS"/>
              </a:rPr>
              <a:t>Dio učenika nema primjereni oblik školovanja unatoč rješenju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Trebuchet MS"/>
              </a:rPr>
              <a:t>Primjedbe</a:t>
            </a:r>
            <a:r>
              <a:rPr b="0" lang="hr-HR" sz="1800" spc="-1" strike="noStrike">
                <a:solidFill>
                  <a:srgbClr val="c00000"/>
                </a:solidFill>
                <a:latin typeface="Trebuchet MS"/>
              </a:rPr>
              <a:t>-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potreban je pomoćnik u nastavi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nedostupna je pomoć edukacijskog rehabilitatora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logoped je jako udaljen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PSP nema omogućenu fizikalnu terapiju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 </a:t>
            </a: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u školi nema lifta, nema potrebne prilagod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nema logopeda (područje Gorskog kotara, Viškovo, otoci..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244583"/>
                </a:solidFill>
                <a:latin typeface="Trebuchet MS"/>
              </a:rPr>
              <a:t>rješenje nije odgovarajuće (roditelj se protivi promjeni oblika školovanja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3" descr="školski liječnik.jpg"/>
          <p:cNvPicPr/>
          <p:nvPr/>
        </p:nvPicPr>
        <p:blipFill>
          <a:blip r:embed="rId1"/>
          <a:stretch/>
        </p:blipFill>
        <p:spPr>
          <a:xfrm>
            <a:off x="9648720" y="4567320"/>
            <a:ext cx="22957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7:11:39Z</dcterms:created>
  <dc:creator>HDSSM</dc:creator>
  <dc:description/>
  <dc:language>en-US</dc:language>
  <cp:lastModifiedBy> </cp:lastModifiedBy>
  <dcterms:modified xsi:type="dcterms:W3CDTF">2014-10-24T08:12:23Z</dcterms:modified>
  <cp:revision>38</cp:revision>
  <dc:subject/>
  <dc:title>Izazovi u radu školskog liječnika- djeca sa poteškoćama</dc:title>
</cp:coreProperties>
</file>