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6054-8454-4443-8991-BBE41F07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E770-29BB-488F-AB76-061751DF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C2FE-7A3E-413B-8590-3C0075F7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36FD-23D8-4A2B-B91B-FE35F1543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BAF7-AEDF-47FA-A12D-A92895ADA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877D-424C-4FF7-A92C-8CFA1E95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B619-972A-4075-8BC9-D2540745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11DA-66E7-41C1-AB1B-9CBB6B12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A649-D559-40B2-958F-52102959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C399-B261-43FF-9EE8-7AEA8615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0213-9E4C-44EA-B4C8-3670268A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DAE2-AA85-4A41-98DF-DF397CD0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ABCC-DD75-4F7F-81CF-E81329847214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469800" y="2017800"/>
            <a:ext cx="8345520" cy="1590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itle 1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242560" cy="1622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viđa mi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 sviđa mi 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odlučan/na s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tent Placeholder 5" descr=""/>
          <p:cNvPicPr/>
          <p:nvPr/>
        </p:nvPicPr>
        <p:blipFill>
          <a:blip r:embed="rId1"/>
          <a:stretch/>
        </p:blipFill>
        <p:spPr>
          <a:xfrm>
            <a:off x="878040" y="1735200"/>
            <a:ext cx="7745400" cy="39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itle 1" descr=""/>
          <p:cNvPicPr/>
          <p:nvPr/>
        </p:nvPicPr>
        <p:blipFill>
          <a:blip r:embed="rId1"/>
          <a:stretch/>
        </p:blipFill>
        <p:spPr>
          <a:xfrm>
            <a:off x="212760" y="-42840"/>
            <a:ext cx="8729640" cy="1622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mo učen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mo učitel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jedno učenici i učitel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1235160" y="2021040"/>
            <a:ext cx="7459560" cy="39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1" descr=""/>
          <p:cNvPicPr/>
          <p:nvPr/>
        </p:nvPicPr>
        <p:blipFill>
          <a:blip r:embed="rId1"/>
          <a:stretch/>
        </p:blipFill>
        <p:spPr>
          <a:xfrm>
            <a:off x="244440" y="-42840"/>
            <a:ext cx="8826480" cy="1622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zradu praktičnog 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ezentaciju rezult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govor i osvrt na kraju integriranog        d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1" descr=""/>
          <p:cNvPicPr/>
          <p:nvPr/>
        </p:nvPicPr>
        <p:blipFill>
          <a:blip r:embed="rId1"/>
          <a:stretch/>
        </p:blipFill>
        <p:spPr>
          <a:xfrm>
            <a:off x="450720" y="-42840"/>
            <a:ext cx="8242560" cy="1622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irodne grupe predm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uštvene grupe predme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Kombinira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3" descr=""/>
          <p:cNvPicPr/>
          <p:nvPr/>
        </p:nvPicPr>
        <p:blipFill>
          <a:blip r:embed="rId1"/>
          <a:stretch/>
        </p:blipFill>
        <p:spPr>
          <a:xfrm>
            <a:off x="1092240" y="1806480"/>
            <a:ext cx="781668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7T13:32:07Z</dcterms:created>
  <dc:creator>Korisnik</dc:creator>
  <dc:description/>
  <dc:language>en-US</dc:language>
  <cp:lastModifiedBy>Učitelj</cp:lastModifiedBy>
  <dcterms:modified xsi:type="dcterms:W3CDTF">2014-12-08T09:01:17Z</dcterms:modified>
  <cp:revision>7</cp:revision>
  <dc:subject/>
  <dc:title>ANKETA O INTEGRIRANOM DANU OSMAŠA</dc:title>
</cp:coreProperties>
</file>