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7C3F-9BD2-4EB5-A3E4-D68B272DB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B5A-F897-4CB0-B02F-68BFCCF5B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1D5-7069-4AFE-AF44-68A2D367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9D5A-8CDC-450D-9CFE-0E8B5187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8758-4C67-4325-B754-02C8D6A14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F576-B769-471C-9B6A-C75D867E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58F5-0595-472A-9D9E-8F28EC1AE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8F43-7E0A-4B76-B79E-DA077C79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0923-9EA1-4AD4-9423-3099A839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2093-CC6C-4750-B35C-1EF8C744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A952-BBDA-408C-80DF-4AA51189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0DA-D93D-483F-BD75-D1362A5E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3BFBA-0DBE-4C3C-86B7-2537412C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513F-CA4D-49C3-8ADA-E743B4F4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9BCC0-1C16-4B86-8689-8DEF2D9C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7ADD-FD8B-4F61-91D3-37F3F337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FB89-CBFB-4BBD-9CAD-EE90A7AA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61F90-5982-452E-AC26-8110A77E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A5A1D-5B95-469F-9C4A-CEF31EE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E6B2-EDFD-4EAD-9696-3872D12C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B1BED-F9CE-4F92-B724-F508BB20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D668B-462E-4E12-9D9A-8B2405DA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FC14-9F7C-4CF8-A926-27C7BB8C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56F6B-1CD7-44A4-BBC9-16E94B8B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F55F7-CA1E-4910-956B-8D937E4E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A465F-3AD9-45DC-A9FC-3B1AB97E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AFD42-F2D9-4BC9-8504-4D9D4172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111C-A983-475B-A3B3-BE1F67E8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15578-2C13-4FCE-B89A-22445BF1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9B602-BB3D-474F-A886-617A1FBF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9A665-B404-41BB-8D96-5D5C2041A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0F678-4FA1-49E1-9518-6281FC79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084C9-807E-44D5-9A84-FF1E3D3E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B140-7094-4C22-82B2-3D36359D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0FC36-B8E1-40AE-BEEA-1E25C729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664A-5293-48B6-BEF6-AA86DBE1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3B016-C12C-46BD-A34A-C74FC8A1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5FD13-A90C-4BF2-B34E-6920C98A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D4C62-2E51-4295-A50C-A2DCFB9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6CD69-522A-4E09-9A9A-BECB8D17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96738-A0B6-4F32-BA37-93B3E3656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D7C68-8D33-4E77-A141-3642962EC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59E1C-0959-479D-A937-739E835A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E52429-21F3-4232-8938-CE84E5F4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29A-3ABB-413C-98EF-39673A02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849CD-0061-42E8-92C1-95C6E9DC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6E996-EB7B-4E2E-BC9B-40B8D8BA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1B20E-2165-48B1-B7F8-787D3631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63A4B-FB14-4B4D-82C5-7C0002F8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CAF4E-075A-463D-8F0D-20B105D2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6AE03-48D9-4B15-9712-014AA3F1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61655-0369-4500-8876-25C5C5BF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B803C-FE40-4D40-8C01-AF168E6C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4B831-516B-4D22-B5CD-3277BAF6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63EE3-7DD6-47BD-A649-DF49B3F4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32FE-57EF-4EC6-998D-E12B244C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8555-5349-4995-B612-9AB51CD5F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155AB-F783-4C5F-8EF6-8E83CCF7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8EDC4-B4A3-44BB-BA10-82412672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EE245-2309-44E5-BB05-3D52D13A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D80403-EAD3-4615-A674-F0114412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DAAE2-9FE8-49E7-AB4A-E382920F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FD37A-41D6-448D-95A7-45B01D9C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7DD4F-D44A-4F43-9186-361B84FA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97264-1061-4DC2-BC7C-B3CAEE05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FFF6F-3AFA-4CC8-96FA-3B2427B0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8228-7445-462C-B72C-49AA9BB2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B0CD1-0767-4D4C-BAB2-73E9E9F6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E415A-E3E2-4CCB-A9CE-46E4E967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27867-DB91-45B8-928B-7E9D7F50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18BC2-AC0A-4F13-B6E4-5BE93DB2E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F9C7E4-A888-4EE7-9648-A1D62D11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D5CA0-0CF9-4C09-96BE-FDFF4890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C4AEF-1EA9-497C-811A-57F1F54D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B60E1-8822-45BA-B522-A4FD6E7A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2E11D-65C2-4459-807E-37385BD04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BAF69-D267-4D8D-B94A-7DD457DE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076E-03B3-412F-A294-651B8DAF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EBE3C-2BBA-4DB1-B9AE-74E194A9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29F50-F050-4F6F-8DC2-9E25AB4D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D14D1-8833-4244-ADC8-A27AA4FE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02C351-21C2-42AF-905E-5224DEAF2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16DEF-9494-49A6-A2A3-2DC7339B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F591D-8F35-4130-8B21-5EF95580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9D50A-86E2-489C-8DF2-E2132EEC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6D2F3-7369-450A-AD06-AB95F681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C6BC0-80BF-4251-ABC9-F60625F9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F6B49-EACF-41C8-BAF8-68D2A794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0E32-8093-41C2-8B2D-BB5787C1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9E0BB-C857-4B21-80DD-6761F68A9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4826F-C57C-4B52-8EAB-530D71E5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6FCE38-792F-4BA9-A594-111D95A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DE5EE-4D1B-4430-8EBE-E122826F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41D1C-428D-452F-BE22-F7071AE8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2BEB2-E12E-4218-B9CA-72B4DDFC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93E8A-091D-4803-965C-8E89BA3A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ravokutni trokut 13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" name="Ravni poveznik 14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DD34-338E-4335-B1AB-742B8B4DCB54}" type="datetime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299DB-BD67-42CA-BEF0-868F6CAC3B3F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ravokutni trokut 9"/>
          <p:cNvSpPr/>
          <p:nvPr/>
        </p:nvSpPr>
        <p:spPr>
          <a:xfrm>
            <a:off x="0" y="4664160"/>
            <a:ext cx="9150480" cy="360"/>
          </a:xfrm>
          <a:custGeom>
            <a:avLst/>
            <a:gdLst/>
            <a:ahLst/>
            <a:rect l="l" t="t" r="r" b="b"/>
            <a:pathLst>
              <a:path w="9151086" h="0">
                <a:moveTo>
                  <a:pt x="0" y="1"/>
                </a:moveTo>
                <a:lnTo>
                  <a:pt x="0" y="0"/>
                </a:lnTo>
                <a:lnTo>
                  <a:pt x="9151086" y="1"/>
                </a:lnTo>
                <a:close/>
              </a:path>
            </a:pathLst>
          </a:cu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Grupa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7" name="Prostoručno 6"/>
            <p:cNvSpPr/>
            <p:nvPr/>
          </p:nvSpPr>
          <p:spPr>
            <a:xfrm>
              <a:off x="1688760" y="4952880"/>
              <a:ext cx="7449480" cy="48672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Prostoručno 7"/>
            <p:cNvSpPr/>
            <p:nvPr/>
          </p:nvSpPr>
          <p:spPr>
            <a:xfrm>
              <a:off x="38160" y="5236560"/>
              <a:ext cx="9099720" cy="78624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" name="Prostoručno 10"/>
            <p:cNvGrpSpPr/>
            <p:nvPr/>
          </p:nvGrpSpPr>
          <p:grpSpPr>
            <a:xfrm>
              <a:off x="-3240" y="4992120"/>
              <a:ext cx="9147240" cy="1872360"/>
              <a:chOff x="-3240" y="4992120"/>
              <a:chExt cx="9147240" cy="1872360"/>
            </a:xfrm>
          </p:grpSpPr>
          <p:pic>
            <p:nvPicPr>
              <p:cNvPr id="50" name="Prostoručno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-3240" y="4992120"/>
                <a:ext cx="914724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2520" y="5000400"/>
                <a:ext cx="9135360" cy="185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52" name="Ravni poveznik 11"/>
            <p:cNvCxnSpPr/>
            <p:nvPr/>
          </p:nvCxnSpPr>
          <p:spPr>
            <a:xfrm>
              <a:off x="-720" y="4996800"/>
              <a:ext cx="9139680" cy="788760"/>
            </a:xfrm>
            <a:prstGeom prst="straightConnector1">
              <a:avLst/>
            </a:prstGeom>
            <a:ln w="12240">
              <a:solidFill>
                <a:srgbClr val="156d83"/>
              </a:solidFill>
              <a:miter/>
            </a:ln>
          </p:spPr>
        </p:cxn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ADA3-A59F-45C6-9246-7C382F4E6BE8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3229-A209-4E42-96E7-6BAEE1A22DE7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ravokutni trokut 13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Ravni poveznik 14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98" name="Š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880" h="228600">
                <a:moveTo>
                  <a:pt x="0" y="0"/>
                </a:moveTo>
                <a:lnTo>
                  <a:pt x="91440" y="0"/>
                </a:lnTo>
                <a:lnTo>
                  <a:pt x="182880" y="114300"/>
                </a:lnTo>
                <a:lnTo>
                  <a:pt x="91440" y="228600"/>
                </a:lnTo>
                <a:lnTo>
                  <a:pt x="0" y="228600"/>
                </a:lnTo>
                <a:lnTo>
                  <a:pt x="91440" y="1143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50b8da"/>
              </a:gs>
            </a:gsLst>
            <a:lin ang="16200000"/>
          </a:gradFill>
          <a:ln w="3240">
            <a:solidFill>
              <a:srgbClr val="1e768c"/>
            </a:solidFill>
            <a:round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Š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880" h="228600">
                <a:moveTo>
                  <a:pt x="0" y="0"/>
                </a:moveTo>
                <a:lnTo>
                  <a:pt x="91440" y="0"/>
                </a:lnTo>
                <a:lnTo>
                  <a:pt x="182880" y="114300"/>
                </a:lnTo>
                <a:lnTo>
                  <a:pt x="91440" y="228600"/>
                </a:lnTo>
                <a:lnTo>
                  <a:pt x="0" y="228600"/>
                </a:lnTo>
                <a:lnTo>
                  <a:pt x="91440" y="1143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50b8da"/>
              </a:gs>
            </a:gsLst>
            <a:lin ang="16200000"/>
          </a:gradFill>
          <a:ln w="3240">
            <a:solidFill>
              <a:srgbClr val="1e768c"/>
            </a:solidFill>
            <a:round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C7B4-57F8-4DE9-8D2D-C674AA851CCF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52BB-D294-40F4-B5B4-E8ADEBC78402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ravokutni trokut 13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4" name="Ravni poveznik 14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2374-D834-4CFD-94E0-0A4269D1E884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37C8-2C40-4658-B5DE-41FEF5638747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B532-213C-4D4D-9A22-4BCA4C9BA094}" type="datetime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731F-12A8-4ADE-9AA1-475E7BA91244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rostoručno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ravokutni trokut 13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30" name="Ravni poveznik 14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D599-9CB0-4ACA-A2FF-F2CC00A99D4D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FC4E-2AE6-446B-BC55-AAA4DFC945AE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08F85-76EF-4C3C-9897-0EF2998655F9}" type="datetime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1049-EEF8-4E80-9971-4FDEF5DE0625}" type="slidenum">
              <a:rPr b="0" lang="hr-H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rostoručno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rostoručno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ravokutni trokut 9"/>
          <p:cNvSpPr/>
          <p:nvPr/>
        </p:nvSpPr>
        <p:spPr>
          <a:xfrm>
            <a:off x="-6480" y="5791320"/>
            <a:ext cx="3402000" cy="1081080"/>
          </a:xfrm>
          <a:custGeom>
            <a:avLst/>
            <a:gdLst>
              <a:gd name="textAreaLeft" fmla="*/ 283320 w 3402000"/>
              <a:gd name="textAreaRight" fmla="*/ 1984680 w 3402000"/>
              <a:gd name="textAreaTop" fmla="*/ 630720 h 1081080"/>
              <a:gd name="textAreaBottom" fmla="*/ 991080 h 1081080"/>
            </a:gdLst>
            <a:ahLst/>
            <a:rect l="textAreaLeft" t="textAreaTop" r="textAreaRight" b="textAreaBottom"/>
            <a:pathLst>
              <a:path w="3402317" h="1080866">
                <a:moveTo>
                  <a:pt x="0" y="1080866"/>
                </a:moveTo>
                <a:lnTo>
                  <a:pt x="0" y="0"/>
                </a:lnTo>
                <a:lnTo>
                  <a:pt x="3402317" y="108086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16" name="Ravni poveznik 10"/>
          <p:cNvCxnSpPr/>
          <p:nvPr/>
        </p:nvCxnSpPr>
        <p:spPr>
          <a:xfrm>
            <a:off x="-9360" y="5788080"/>
            <a:ext cx="3405600" cy="1085040"/>
          </a:xfrm>
          <a:prstGeom prst="straightConnector1">
            <a:avLst/>
          </a:prstGeom>
          <a:ln w="12240">
            <a:solidFill>
              <a:srgbClr val="156d83"/>
            </a:solidFill>
            <a:miter/>
          </a:ln>
        </p:spPr>
      </p:cxnSp>
      <p:sp>
        <p:nvSpPr>
          <p:cNvPr id="317" name="Š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880" h="228600">
                <a:moveTo>
                  <a:pt x="0" y="0"/>
                </a:moveTo>
                <a:lnTo>
                  <a:pt x="91440" y="0"/>
                </a:lnTo>
                <a:lnTo>
                  <a:pt x="182880" y="114300"/>
                </a:lnTo>
                <a:lnTo>
                  <a:pt x="91440" y="228600"/>
                </a:lnTo>
                <a:lnTo>
                  <a:pt x="0" y="228600"/>
                </a:lnTo>
                <a:lnTo>
                  <a:pt x="91440" y="1143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50b8da"/>
              </a:gs>
            </a:gsLst>
            <a:lin ang="16200000"/>
          </a:gradFill>
          <a:ln w="3240">
            <a:solidFill>
              <a:srgbClr val="1e768c"/>
            </a:solidFill>
            <a:round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Š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82880" h="228600">
                <a:moveTo>
                  <a:pt x="0" y="0"/>
                </a:moveTo>
                <a:lnTo>
                  <a:pt x="91440" y="0"/>
                </a:lnTo>
                <a:lnTo>
                  <a:pt x="182880" y="114300"/>
                </a:lnTo>
                <a:lnTo>
                  <a:pt x="91440" y="228600"/>
                </a:lnTo>
                <a:lnTo>
                  <a:pt x="0" y="228600"/>
                </a:lnTo>
                <a:lnTo>
                  <a:pt x="91440" y="1143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50b8da"/>
              </a:gs>
            </a:gsLst>
            <a:lin ang="16200000"/>
          </a:gradFill>
          <a:ln w="3240">
            <a:solidFill>
              <a:srgbClr val="1e768c"/>
            </a:solidFill>
            <a:round/>
          </a:ln>
          <a:effectLst>
            <a:outerShdw dist="255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6726240" y="6407280"/>
            <a:ext cx="19209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850A3-AD47-48CF-A7FF-AB20FC016DFF}" type="datetime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4379400" y="6407280"/>
            <a:ext cx="235116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7280"/>
            <a:ext cx="365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8C5F-4DD3-4343-B11F-E73688BD6A2C}" type="slidenum">
              <a:rPr b="0" lang="hr-H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83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464646"/>
                </a:solidFill>
                <a:latin typeface="Lucida Sans Unicode"/>
              </a:rPr>
              <a:t>UGLJIKOV DIOKSID</a:t>
            </a:r>
            <a:br>
              <a:rPr sz="4800"/>
            </a:br>
            <a:r>
              <a:rPr b="1" lang="hr-HR" sz="4800" spc="-1" strike="noStrike">
                <a:solidFill>
                  <a:srgbClr val="464646"/>
                </a:solidFill>
                <a:latin typeface="Lucida Sans Unicode"/>
              </a:rPr>
              <a:t>CO</a:t>
            </a:r>
            <a:r>
              <a:rPr b="1" lang="hr-HR" sz="2000" spc="-1" strike="noStrike">
                <a:solidFill>
                  <a:srgbClr val="464646"/>
                </a:solidFill>
                <a:latin typeface="Lucida Sans Unicode"/>
              </a:rPr>
              <a:t>2</a:t>
            </a:r>
            <a:endParaRPr b="1" lang="en-US" sz="20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UGLJIKOV DIOKSID U SVAKODNEVNICI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1870 god.             290 ppm= 290 x 10 = 2.9 x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1970god.             330 ppm= 330 x 10 = 3.3 x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2000god.            370ppm= 370 x 10 = 3.7 x 10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VOLUMNI UDIO CO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  </a:t>
            </a: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IZRAŽEN U ppm (PART PER MILION) U ATMOSFERI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cxnSp>
        <p:nvCxnSpPr>
          <p:cNvPr id="364" name="Ravni poveznik sa strelicom 6"/>
          <p:cNvCxnSpPr/>
          <p:nvPr/>
        </p:nvCxnSpPr>
        <p:spPr>
          <a:xfrm>
            <a:off x="2071440" y="1856880"/>
            <a:ext cx="857880" cy="2520"/>
          </a:xfrm>
          <a:prstGeom prst="straightConnector1">
            <a:avLst/>
          </a:prstGeom>
          <a:ln w="63360">
            <a:solidFill>
              <a:srgbClr val="da1f28"/>
            </a:solidFill>
            <a:miter/>
            <a:tailEnd len="med" type="arrow" w="med"/>
          </a:ln>
        </p:spPr>
      </p:cxnSp>
      <p:sp>
        <p:nvSpPr>
          <p:cNvPr id="365" name="TekstniOkvir 7"/>
          <p:cNvSpPr/>
          <p:nvPr/>
        </p:nvSpPr>
        <p:spPr>
          <a:xfrm>
            <a:off x="6572160" y="1428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TekstniOkvir 8"/>
          <p:cNvSpPr/>
          <p:nvPr/>
        </p:nvSpPr>
        <p:spPr>
          <a:xfrm>
            <a:off x="8572680" y="142884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7" name="Ravni poveznik sa strelicom 10"/>
          <p:cNvCxnSpPr/>
          <p:nvPr/>
        </p:nvCxnSpPr>
        <p:spPr>
          <a:xfrm flipV="1">
            <a:off x="2071440" y="2785680"/>
            <a:ext cx="857880" cy="21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sp>
        <p:nvSpPr>
          <p:cNvPr id="368" name="TekstniOkvir 14"/>
          <p:cNvSpPr/>
          <p:nvPr/>
        </p:nvSpPr>
        <p:spPr>
          <a:xfrm>
            <a:off x="6429240" y="2286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kstniOkvir 15"/>
          <p:cNvSpPr/>
          <p:nvPr/>
        </p:nvSpPr>
        <p:spPr>
          <a:xfrm>
            <a:off x="8429760" y="235728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0" name="Ravni poveznik sa strelicom 17"/>
          <p:cNvCxnSpPr/>
          <p:nvPr/>
        </p:nvCxnSpPr>
        <p:spPr>
          <a:xfrm>
            <a:off x="2071440" y="3642840"/>
            <a:ext cx="857880" cy="2520"/>
          </a:xfrm>
          <a:prstGeom prst="straightConnector1">
            <a:avLst/>
          </a:prstGeom>
          <a:ln w="63360">
            <a:solidFill>
              <a:srgbClr val="474b78"/>
            </a:solidFill>
            <a:miter/>
            <a:tailEnd len="med" type="arrow" w="med"/>
          </a:ln>
        </p:spPr>
      </p:cxnSp>
      <p:sp>
        <p:nvSpPr>
          <p:cNvPr id="371" name="TekstniOkvir 18"/>
          <p:cNvSpPr/>
          <p:nvPr/>
        </p:nvSpPr>
        <p:spPr>
          <a:xfrm>
            <a:off x="6215040" y="32860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kstniOkvir 19"/>
          <p:cNvSpPr/>
          <p:nvPr/>
        </p:nvSpPr>
        <p:spPr>
          <a:xfrm>
            <a:off x="8072280" y="32860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kstniOkvir 21"/>
          <p:cNvSpPr/>
          <p:nvPr/>
        </p:nvSpPr>
        <p:spPr>
          <a:xfrm>
            <a:off x="214200" y="4572000"/>
            <a:ext cx="871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Volumni udio CO</a:t>
            </a: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2 </a:t>
            </a: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 u zadnjih 30 godina se povećao jednako koliko prije 100 godina. Što pokazuje veliko zagađenje atmosf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Ugljikov dioksid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04% od 500 m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0004 x 0.5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hr-H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0.0002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Kis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21% od 500m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21 x 0.5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1" lang="hr-H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hr-H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0.105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Iz zraka udišemo 0.04% CO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 </a:t>
            </a: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, 21% O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 </a:t>
            </a: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i 78% N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</a:t>
            </a:r>
            <a:r>
              <a:rPr b="1" lang="hr-HR" sz="3600" spc="-1" strike="noStrike">
                <a:solidFill>
                  <a:srgbClr val="464646"/>
                </a:solidFill>
                <a:latin typeface="Lucida Sans Unicode"/>
              </a:rPr>
              <a:t>.Ako čovjek prilikom udisaja udahne 500ml zraka. Koliko otpada na CO</a:t>
            </a:r>
            <a:r>
              <a:rPr b="1" lang="hr-HR" sz="1600" spc="-1" strike="noStrike">
                <a:solidFill>
                  <a:srgbClr val="464646"/>
                </a:solidFill>
                <a:latin typeface="Lucida Sans Unicode"/>
              </a:rPr>
              <a:t>2</a:t>
            </a:r>
            <a:r>
              <a:rPr b="1" lang="hr-HR" sz="2900" spc="-1" strike="noStrike">
                <a:solidFill>
                  <a:srgbClr val="464646"/>
                </a:solidFill>
                <a:latin typeface="Lucida Sans Unicode"/>
              </a:rPr>
              <a:t>, </a:t>
            </a:r>
            <a:r>
              <a:rPr b="1" lang="hr-HR" sz="3600" spc="-1" strike="noStrike">
                <a:solidFill>
                  <a:srgbClr val="464646"/>
                </a:solidFill>
                <a:latin typeface="Lucida Sans Unicode"/>
              </a:rPr>
              <a:t>O</a:t>
            </a:r>
            <a:r>
              <a:rPr b="1" lang="hr-HR" sz="1600" spc="-1" strike="noStrike">
                <a:solidFill>
                  <a:srgbClr val="464646"/>
                </a:solidFill>
                <a:latin typeface="Lucida Sans Unicode"/>
              </a:rPr>
              <a:t>2</a:t>
            </a:r>
            <a:r>
              <a:rPr b="1" lang="hr-HR" sz="3600" spc="-1" strike="noStrike">
                <a:solidFill>
                  <a:srgbClr val="464646"/>
                </a:solidFill>
                <a:latin typeface="Lucida Sans Unicode"/>
              </a:rPr>
              <a:t>,N</a:t>
            </a:r>
            <a:r>
              <a:rPr b="1" lang="hr-HR" sz="1800" spc="-1" strike="noStrike">
                <a:solidFill>
                  <a:srgbClr val="464646"/>
                </a:solidFill>
                <a:latin typeface="Lucida Sans Unicode"/>
              </a:rPr>
              <a:t>2</a:t>
            </a:r>
            <a:endParaRPr b="1" lang="en-US" sz="1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Duš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78% od 500m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78 x 0.5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hr-HR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0.39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1" lang="hr-HR" sz="2700" spc="-1" strike="noStrike">
                <a:solidFill>
                  <a:srgbClr val="000000"/>
                </a:solidFill>
                <a:latin typeface="Lucida Sans Unicode"/>
              </a:rPr>
              <a:t>a) 1 mjese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300l        24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 l         720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:300 =720:2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24x = 216000/:2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=9000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U mirovanju čovjek potroši 300l kisika u 24h. Koliko litara kisika potroši za: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cxnSp>
        <p:nvCxnSpPr>
          <p:cNvPr id="379" name="Ravni poveznik sa strelicom 4"/>
          <p:cNvCxnSpPr/>
          <p:nvPr/>
        </p:nvCxnSpPr>
        <p:spPr>
          <a:xfrm>
            <a:off x="2143080" y="2142720"/>
            <a:ext cx="572400" cy="252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Ravni poveznik sa strelicom 6"/>
          <p:cNvCxnSpPr/>
          <p:nvPr/>
        </p:nvCxnSpPr>
        <p:spPr>
          <a:xfrm>
            <a:off x="2143080" y="2571840"/>
            <a:ext cx="57240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Ravni poveznik 8"/>
          <p:cNvCxnSpPr/>
          <p:nvPr/>
        </p:nvCxnSpPr>
        <p:spPr>
          <a:xfrm>
            <a:off x="928800" y="2857680"/>
            <a:ext cx="2929680" cy="216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382" name="Ravni poveznik sa strelicom 10"/>
          <p:cNvCxnSpPr/>
          <p:nvPr/>
        </p:nvCxnSpPr>
        <p:spPr>
          <a:xfrm flipV="1">
            <a:off x="3857760" y="1928160"/>
            <a:ext cx="2160" cy="85788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3" name="Ravni poveznik sa strelicom 12"/>
          <p:cNvCxnSpPr/>
          <p:nvPr/>
        </p:nvCxnSpPr>
        <p:spPr>
          <a:xfrm flipV="1">
            <a:off x="927720" y="1999440"/>
            <a:ext cx="1080" cy="856440"/>
          </a:xfrm>
          <a:prstGeom prst="straightConnector1">
            <a:avLst/>
          </a:prstGeom>
          <a:ln w="63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4" name="TekstniOkvir 16"/>
          <p:cNvSpPr/>
          <p:nvPr/>
        </p:nvSpPr>
        <p:spPr>
          <a:xfrm>
            <a:off x="4714920" y="1714680"/>
            <a:ext cx="4000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Lucida Sans Unicode"/>
              </a:rPr>
              <a:t>b) 1 godi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Lucida Sans Unicode"/>
              </a:rPr>
              <a:t>Jednakim postupkom smo riješili ovaj zadatak i dobili rješenje 109500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28400" y="3500280"/>
            <a:ext cx="8715240" cy="40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3% od 500m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003 x 0.5l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0.0015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Petnaestdesetisućinki litre izaziva gubitak svijesti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168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Ugljikov monoksid zdravstveno je jako opasan. Količina od 0.2%-0.4% može izazvati gubitak svijesti. Ako udahnemo 500ml zraka, kolika količina može izazvati gubitak svijesti?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0" y="28576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10mg = 10 x 10 g= 10 x 10 x 10  kg = 10 x 10 kg= 10 k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Jednakim postupkom smo dobili da u 23mg ima 2.3 x 10  kg ugljikova monoksid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Koncetracija ugljikova monoksida u cigareti je 10-23mg. Napiši taj podatak znanstvenom obliku i pretvori u kilograme.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TekstniOkvir 3"/>
          <p:cNvSpPr/>
          <p:nvPr/>
        </p:nvSpPr>
        <p:spPr>
          <a:xfrm>
            <a:off x="2857680" y="271476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kstniOkvir 4"/>
          <p:cNvSpPr/>
          <p:nvPr/>
        </p:nvSpPr>
        <p:spPr>
          <a:xfrm>
            <a:off x="4857840" y="26431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kstniOkvir 5"/>
          <p:cNvSpPr/>
          <p:nvPr/>
        </p:nvSpPr>
        <p:spPr>
          <a:xfrm>
            <a:off x="5643720" y="2643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kstniOkvir 6"/>
          <p:cNvSpPr/>
          <p:nvPr/>
        </p:nvSpPr>
        <p:spPr>
          <a:xfrm>
            <a:off x="7143840" y="2714760"/>
            <a:ext cx="2643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kstniOkvir 7"/>
          <p:cNvSpPr/>
          <p:nvPr/>
        </p:nvSpPr>
        <p:spPr>
          <a:xfrm>
            <a:off x="8001000" y="2714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kstniOkvir 9"/>
          <p:cNvSpPr/>
          <p:nvPr/>
        </p:nvSpPr>
        <p:spPr>
          <a:xfrm>
            <a:off x="642960" y="314316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kstniOkvir 10"/>
          <p:cNvSpPr/>
          <p:nvPr/>
        </p:nvSpPr>
        <p:spPr>
          <a:xfrm>
            <a:off x="1714680" y="450072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Lucida Sans Unicode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42960" y="1571760"/>
            <a:ext cx="8115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720 puta        1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 puta         24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:720= 24:1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x=17280 pu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Jednakim postupkom smo izračunali da u jednom satu čovjek udahne 720 put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168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700" spc="-1" strike="noStrike">
                <a:solidFill>
                  <a:srgbClr val="464646"/>
                </a:solidFill>
                <a:latin typeface="Lucida Sans Unicode"/>
              </a:rPr>
              <a:t>Čovjek udahne 12 puta u minuti. Koliko puta udahne u jednom danu?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cxnSp>
        <p:nvCxnSpPr>
          <p:cNvPr id="398" name="Ravni poveznik sa strelicom 4"/>
          <p:cNvCxnSpPr/>
          <p:nvPr/>
        </p:nvCxnSpPr>
        <p:spPr>
          <a:xfrm>
            <a:off x="2857320" y="1785960"/>
            <a:ext cx="643320" cy="21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399" name="Ravni poveznik sa strelicom 6"/>
          <p:cNvCxnSpPr/>
          <p:nvPr/>
        </p:nvCxnSpPr>
        <p:spPr>
          <a:xfrm>
            <a:off x="2857320" y="2214720"/>
            <a:ext cx="643320" cy="216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0" name="Ravni poveznik 8"/>
          <p:cNvCxnSpPr/>
          <p:nvPr/>
        </p:nvCxnSpPr>
        <p:spPr>
          <a:xfrm>
            <a:off x="1071720" y="2499840"/>
            <a:ext cx="3358080" cy="2520"/>
          </a:xfrm>
          <a:prstGeom prst="straightConnector1">
            <a:avLst/>
          </a:prstGeom>
          <a:ln w="63360">
            <a:solidFill>
              <a:srgbClr val="2da2bf"/>
            </a:solidFill>
            <a:miter/>
          </a:ln>
        </p:spPr>
      </p:cxnSp>
      <p:cxnSp>
        <p:nvCxnSpPr>
          <p:cNvPr id="401" name="Ravni poveznik sa strelicom 11"/>
          <p:cNvCxnSpPr/>
          <p:nvPr/>
        </p:nvCxnSpPr>
        <p:spPr>
          <a:xfrm flipV="1">
            <a:off x="999000" y="1571400"/>
            <a:ext cx="2520" cy="100080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  <p:cxnSp>
        <p:nvCxnSpPr>
          <p:cNvPr id="402" name="Ravni poveznik sa strelicom 13"/>
          <p:cNvCxnSpPr/>
          <p:nvPr/>
        </p:nvCxnSpPr>
        <p:spPr>
          <a:xfrm flipV="1">
            <a:off x="4356720" y="1428480"/>
            <a:ext cx="1080" cy="1072080"/>
          </a:xfrm>
          <a:prstGeom prst="straightConnector1">
            <a:avLst/>
          </a:prstGeom>
          <a:ln w="63360">
            <a:solidFill>
              <a:srgbClr val="2da2bf"/>
            </a:solidFill>
            <a:miter/>
            <a:tailEnd len="med" type="arrow" w="med"/>
          </a:ln>
        </p:spPr>
      </p:cxn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,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,9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IZRADILI:Berislav Simoni,Nikola Sokol i Franko Šem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MENTOR:prof.Alen Andrijić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100" spc="-1" strike="noStrike">
                <a:solidFill>
                  <a:srgbClr val="464646"/>
                </a:solidFill>
                <a:latin typeface="Lucida Sans Unicode"/>
              </a:rPr>
              <a:t>KRAAAAAJ!!!!!!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7T07:20:26Z</dcterms:created>
  <dc:creator>Osnovna skola Blato</dc:creator>
  <dc:description/>
  <dc:language>en-US</dc:language>
  <cp:lastModifiedBy>Učitelj</cp:lastModifiedBy>
  <dcterms:modified xsi:type="dcterms:W3CDTF">2014-12-09T08:41:30Z</dcterms:modified>
  <cp:revision>14</cp:revision>
  <dc:subject/>
  <dc:title>UGLJIKOV DIOKSID CO</dc:title>
</cp:coreProperties>
</file>