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3C9-10E0-4F87-AD8E-DE396576E393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32F0-1B04-4459-906D-551D234D7292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CF4F-B27A-4638-9CA9-A9885625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8265-0D76-4183-864F-6CF6CB63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0CF-4C0A-47D0-91B3-19DAAE12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118-4A29-4442-9610-8D778BC1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64E4-68AF-4076-9E85-313F843B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FFE-80EB-4458-B62A-F4DAF4B0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041-AD6C-4084-81F5-EA1C2E45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7F13-762D-4102-A349-C5038BA5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A85D-40F9-43D6-A2AE-97CD7B2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BA4-0E0A-4C02-AB11-99E45C7E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33E7-EDF6-49A8-93E3-568AADC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E05-33B1-4497-B796-5B34F7B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Picture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45F8F-DE96-47B4-927C-7D4697045ECB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"/>
          <p:cNvSpPr/>
          <p:nvPr/>
        </p:nvSpPr>
        <p:spPr>
          <a:xfrm>
            <a:off x="0" y="6336000"/>
            <a:ext cx="9144000" cy="5202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7f7f7f"/>
                </a:solidFill>
                <a:latin typeface="Arial Narrow"/>
                <a:ea typeface="Times New Roman"/>
              </a:rPr>
              <a:t>ŽSV odgoj  za ljudska prava i demokratsko građanstvo ( 3-11-09): </a:t>
            </a:r>
            <a:r>
              <a:rPr b="0" lang="hr-HR" sz="1400" spc="-1" strike="noStrike">
                <a:solidFill>
                  <a:srgbClr val="bfbfbf"/>
                </a:solidFill>
                <a:latin typeface="Arial Narrow"/>
                <a:ea typeface="Times New Roman"/>
              </a:rPr>
              <a:t>Razvijanje temeljnih kompetencija i uvođenje sustava upravljanja kvalitetom u odgojno – obrazovni rad učeničkih dom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zos.hr/" TargetMode="External"/><Relationship Id="rId2" Type="http://schemas.openxmlformats.org/officeDocument/2006/relationships/hyperlink" Target="http://www.azoo.hr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od.carnet.hr/index.php?q=watch&amp;id=1365" TargetMode="External"/><Relationship Id="rId2" Type="http://schemas.openxmlformats.org/officeDocument/2006/relationships/hyperlink" Target="http://mod.carnet.hr/index.php?q=watch&amp;id=1364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abor.hr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azoo.hr/" TargetMode="External"/><Relationship Id="rId2" Type="http://schemas.openxmlformats.org/officeDocument/2006/relationships/hyperlink" Target="http://www.azoo.hr/" TargetMode="External"/><Relationship Id="rId3" Type="http://schemas.openxmlformats.org/officeDocument/2006/relationships/hyperlink" Target="http://www.azoo.hr/" TargetMode="External"/><Relationship Id="rId4" Type="http://schemas.openxmlformats.org/officeDocument/2006/relationships/hyperlink" Target="http://www.azoo.hr/" TargetMode="External"/><Relationship Id="rId5" Type="http://schemas.openxmlformats.org/officeDocument/2006/relationships/hyperlink" Target="http://www.azoo.hr/" TargetMode="External"/><Relationship Id="rId6" Type="http://schemas.openxmlformats.org/officeDocument/2006/relationships/hyperlink" Target="http://www.azoo.hr/" TargetMode="External"/><Relationship Id="rId7" Type="http://schemas.openxmlformats.org/officeDocument/2006/relationships/hyperlink" Target="http://www.azoo.hr/" TargetMode="External"/><Relationship Id="rId8" Type="http://schemas.openxmlformats.org/officeDocument/2006/relationships/hyperlink" Target="http://www.azoo.hr/" TargetMode="External"/><Relationship Id="rId9" Type="http://schemas.openxmlformats.org/officeDocument/2006/relationships/hyperlink" Target="http://www.azoo.hr/" TargetMode="External"/><Relationship Id="rId10" Type="http://schemas.openxmlformats.org/officeDocument/2006/relationships/hyperlink" Target="http://www.azoo.hr/" TargetMode="External"/><Relationship Id="rId11" Type="http://schemas.openxmlformats.org/officeDocument/2006/relationships/hyperlink" Target="http://www.azoo.hr/" TargetMode="External"/><Relationship Id="rId12" Type="http://schemas.openxmlformats.org/officeDocument/2006/relationships/hyperlink" Target="http://www.azoo.hr/" TargetMode="External"/><Relationship Id="rId13" Type="http://schemas.openxmlformats.org/officeDocument/2006/relationships/hyperlink" Target="http://www.azoo.hr/" TargetMode="External"/><Relationship Id="rId14" Type="http://schemas.openxmlformats.org/officeDocument/2006/relationships/hyperlink" Target="http://www.azoo.hr/" TargetMode="External"/><Relationship Id="rId15" Type="http://schemas.openxmlformats.org/officeDocument/2006/relationships/hyperlink" Target="http://www.azoo.hr/" TargetMode="External"/><Relationship Id="rId16" Type="http://schemas.openxmlformats.org/officeDocument/2006/relationships/hyperlink" Target="http://www.azoo.hr/" TargetMode="External"/><Relationship Id="rId17" Type="http://schemas.openxmlformats.org/officeDocument/2006/relationships/hyperlink" Target="http://www.azoo.hr/" TargetMode="External"/><Relationship Id="rId18" Type="http://schemas.openxmlformats.org/officeDocument/2006/relationships/hyperlink" Target="http://www.azoo.hr/" TargetMode="External"/><Relationship Id="rId19" Type="http://schemas.openxmlformats.org/officeDocument/2006/relationships/hyperlink" Target="http://www.azoo.hr/" TargetMode="External"/><Relationship Id="rId20" Type="http://schemas.openxmlformats.org/officeDocument/2006/relationships/hyperlink" Target="http://www.azoo.hr/" TargetMode="External"/><Relationship Id="rId21" Type="http://schemas.openxmlformats.org/officeDocument/2006/relationships/hyperlink" Target="http://www.azoo.hr/" TargetMode="External"/><Relationship Id="rId22" Type="http://schemas.openxmlformats.org/officeDocument/2006/relationships/hyperlink" Target="http://www.azoo.hr/" TargetMode="External"/><Relationship Id="rId23" Type="http://schemas.openxmlformats.org/officeDocument/2006/relationships/hyperlink" Target="http://www.azoo.hr/" TargetMode="External"/><Relationship Id="rId24" Type="http://schemas.openxmlformats.org/officeDocument/2006/relationships/hyperlink" Target="http://www.azoo.hr/" TargetMode="External"/><Relationship Id="rId2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ba Građanskog odgoja i obrazovanja u 2014./15. školskoj godini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Nevenka Lončarić Jelači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viša savjetnica za nacionalne progr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</a:rPr>
              <a:t>Agencija za odgoj i obrazovan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8920" y="1600200"/>
            <a:ext cx="38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emu programa za obvezno međupredmetno provođenje  u osnovnim i srednjim školama odradili su savjetnici Agencije za odgoj i obrazovanj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kument je još jednom stavljen na javnu raspravu u razdoblju od 18. srpnja do 19. kolovoza 201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140000" y="404280"/>
            <a:ext cx="46796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javnoj raspravi pristiglo je 90-ta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dbi.  Primjedbe su razmotrene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rađene te su još jednom izvršene manje dorade u Program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ka o Programu i sam  </a:t>
            </a:r>
            <a:r>
              <a:rPr b="1" i="1" lang="hr-HR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međupredmetnih i  interdisciplinarni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adržaja Građanskog odgoja 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2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razovanja za osnovne i srednje ško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avljena je  U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odnim novinama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. 104 od 28. kolovoza 2014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je dostupan na mrežni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nicama Agencije i Ministarstva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mzos.hr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hr-HR" sz="2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azoo.h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9280" y="1413000"/>
            <a:ext cx="5616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proteklih 15 godin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jeni su brojni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mjeri dobre prak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u, između ostalog, omogućili razvo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a 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jene su brojne met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ktivnog učenja i poučav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raju se školske, županijske 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žavne smotre iz ovog područj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vijeni su nastavni materij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ena stručna usavršava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435280" y="260280"/>
            <a:ext cx="32511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i intelektualni alati za učitelje i učenike prikladni za učenje i poučavanje GOO-a koji vode iskustvenom učenj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raznih oblika grupnog r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suradničkog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radioničkog uče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D:\backup\Pictures\Slike 2013\Vijece ucenika 6 11 2012\104OLYMP\PB065871.JPG"/>
          <p:cNvPicPr/>
          <p:nvPr/>
        </p:nvPicPr>
        <p:blipFill>
          <a:blip r:embed="rId1"/>
          <a:stretch/>
        </p:blipFill>
        <p:spPr>
          <a:xfrm>
            <a:off x="250920" y="1989000"/>
            <a:ext cx="3313080" cy="3360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76" name="Picture 2" descr="C:\Users\Drazen\Desktop\Slike Ana 18 06 2013\DSCF0364.JPG"/>
          <p:cNvPicPr/>
          <p:nvPr/>
        </p:nvPicPr>
        <p:blipFill>
          <a:blip r:embed="rId2"/>
          <a:stretch/>
        </p:blipFill>
        <p:spPr>
          <a:xfrm>
            <a:off x="3635280" y="1916280"/>
            <a:ext cx="4471920" cy="35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644720" y="404280"/>
            <a:ext cx="4041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0920" y="1628280"/>
            <a:ext cx="374472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projektnog rješava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problema i poduzetnosti  u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društvenom, prirodoslovnom 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tehničkom području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 suradnji s roditeljim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građanima,stručnjacim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i predstavnicima lokalnih vlast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rganizacijama civilnog društv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razvojnim centrima gospodarsk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tvrtki i znanstvenim istraživačk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centr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Slika 4" descr="image004"/>
          <p:cNvPicPr/>
          <p:nvPr/>
        </p:nvPicPr>
        <p:blipFill>
          <a:blip r:embed="rId1"/>
          <a:stretch/>
        </p:blipFill>
        <p:spPr>
          <a:xfrm>
            <a:off x="4211640" y="1413000"/>
            <a:ext cx="468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00360" y="260280"/>
            <a:ext cx="439236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</a:rPr>
              <a:t>Želimo pokazati da je vrijedno boriti se i stvarati i u vrijeme krize i kad je malodušnost uz siromaštvo evidentna.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Želimo uz rasvjetu postaviti modernu atletsku podlogu te po istom principu osuvremeniti dva košarkaška i malonogometno igralište.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Sredinom prosinca učenici će projekt, kao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jedan od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najizvrsniji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u državi u segmentu Građanskog odgoja i obrazovanja, predstaviti u Hrvatskom saboru pred 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orom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za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znanost</a:t>
            </a:r>
            <a:r>
              <a:rPr b="0" lang="hr-H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obrazovanje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 Mnogo radimo i nosi nas krilatica </a:t>
            </a:r>
            <a:r>
              <a:rPr b="0" i="1" lang="vi-VN" sz="2000" spc="-1" strike="noStrike">
                <a:solidFill>
                  <a:srgbClr val="000000"/>
                </a:solidFill>
                <a:latin typeface="Times New Roman"/>
              </a:rPr>
              <a:t>Nek' su šanse jedan prema sto, uspjeti moramo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</a:rPr>
              <a:t>, osjećamo to!”.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- kaže 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A. </a:t>
            </a:r>
            <a:r>
              <a:rPr b="0" lang="vi-VN" sz="1800" spc="-1" strike="noStrike">
                <a:solidFill>
                  <a:srgbClr val="000000"/>
                </a:solidFill>
                <a:latin typeface="Times New Roman"/>
              </a:rPr>
              <a:t>Cvijetović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čenici</a:t>
            </a:r>
            <a:r>
              <a:rPr b="0" lang="hr-HR" sz="1800" spc="-1" strike="noStrike">
                <a:solidFill>
                  <a:srgbClr val="000000"/>
                </a:solidFill>
                <a:latin typeface="Calibri"/>
              </a:rPr>
              <a:t>, SŠ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Isidora Kršnjavog” iz Naši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tl00_cphBody1_TabContainer1_tabPanelFoto_img" descr="http://www.glas-slavonije.hr/Slike/2014/11/152014.jpg"/>
          <p:cNvPicPr/>
          <p:nvPr/>
        </p:nvPicPr>
        <p:blipFill>
          <a:blip r:embed="rId1"/>
          <a:stretch/>
        </p:blipFill>
        <p:spPr>
          <a:xfrm>
            <a:off x="457200" y="2205000"/>
            <a:ext cx="403848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8920" y="1557000"/>
            <a:ext cx="39610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Metoda simuliranih suđe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 suradnji s pravosudnim sustavom radi boljeg razumijevanja načela pravne države i učinka istih na živote građana kao i boljeg razumijevanja sustava zaštite ljudskih prava u Republici Hrvatsko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720" y="333000"/>
            <a:ext cx="45352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Slika 1" descr="image002"/>
          <p:cNvPicPr/>
          <p:nvPr/>
        </p:nvPicPr>
        <p:blipFill>
          <a:blip r:embed="rId1"/>
          <a:stretch/>
        </p:blipFill>
        <p:spPr>
          <a:xfrm>
            <a:off x="4500720" y="1557360"/>
            <a:ext cx="4105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30081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Metoda volonterskog rada,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suradnji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 predstavnicima civilnog sektora (volonterski centri, Crveni križ, CARITA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7" descr="I:\P3221205.JPG"/>
          <p:cNvPicPr/>
          <p:nvPr/>
        </p:nvPicPr>
        <p:blipFill>
          <a:blip r:embed="rId1"/>
          <a:stretch/>
        </p:blipFill>
        <p:spPr>
          <a:xfrm>
            <a:off x="3882960" y="1390680"/>
            <a:ext cx="485316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413000"/>
            <a:ext cx="4186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mirotvornog rad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osposobljavanje učitelja miritelja i učenika miritelja – medijac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Tijekom proteklog desetljeća velik broj učitelja/nastavnika osposobljen je za medijaciju. Oni u školama osnivaju klubove učenika medijatora ili jednostavno koriste komunikacijske vještine u radu s učenicim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000" spc="-1" strike="noStrike">
                <a:solidFill>
                  <a:srgbClr val="000000"/>
                </a:solidFill>
                <a:latin typeface="Times New Roman"/>
              </a:rPr>
              <a:t>Metoda radionice budućnosti –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učenici stječu iskustvo aktivnog , kreativnog  i inovativnog učenja; stječu iskustvo osobnog otkrivanja buduć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4720" y="189000"/>
            <a:ext cx="404172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lektualni alati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ata uma) sastoje se od skupine pitanja ovisno o vrsti problema koje je potrebno riješit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 je jedinstven po obrazovanju koje pruža učenicima u smislu korištenja intelektualnih alata 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i se mogu uvijek iznova primjenjivati na sve odluke  koje tijekom života trebamo donijeti vezano za pitanja vlasti, privatnosti, pravde, odgovornosti , rješavanja društvenih problema i sl.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ati uma pomažu u razumijevanju problema, donošenju argumentiranih odluka, planiranju aktivnosti, razvijanju osobnih i grupnih interakcija neophodnih za uspješno društveno i političko sudjelovanje u demokracij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nkovite strategije postavljanja pit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Primjeri dobre prakse: školske, županijske i državne smotre iz Građanskog odgoja i obrazo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ake godine u organizaciji Agencije i MZOŠ-a održavaju se školske, županijske i državn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tre iz Građanskog odgoja i obrazov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motra </a:t>
            </a:r>
            <a:r>
              <a:rPr b="1" i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rojekt građanin</a:t>
            </a: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koje učenici prepoznaju, istražuju i predlažu rješenje problema svoje lokalne zajednice održava se redovito od 1998. do 2014. godine. U tim smotrama godišnje sudjeluje oko 500 učenika razredne nastave, predmetne nastave i srednjih škola, što znači da je ukupno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000 učenik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lo uključeno u ove građanske aktivnosti. Osim toga, svake godine sudjeluju i dječji vrtići s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-tak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ata.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tr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u razredu – prema kulturi vladavine prava i demokracij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u suradnji školskog i pravosudnog sustava. </a:t>
            </a: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imulirana suđenj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rednjoškolske učenike – simulacija sudskog postupka u kojem učenici razvijaju svoju demokratsku pravnu pismenost, odnosno znanja, vještine i vrijednosti vladavine prava, uključujući i značenje zakonske ovlasti u demokraciji, uloge sudaca, sudskog postupka i sudskih presuda. Dostupno na internetskoj adresi: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://mod.carnet.hr/index.php?q=watch&amp;id=1365</a:t>
            </a:r>
            <a:r>
              <a:rPr b="0" lang="hr-HR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mod.carnet.hr/index.php?q=watch&amp;id=1364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građanskog odgoja i obrazovanja u hrvatskom odgojno-obrazovnom sustavu i stručne pripreme za redovno uvođe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v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program odgoja i obrazovanja za ljudska prava izrađen je, objavljen i upućen svim školama u Republici Hrvatskoj 1999. godi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da Republike Hrvatske u svojoj odluci od 14. listopada 1999. godine obvezala je Ministarstvo znanosti obrazovanja i sporta na njegovo provođenje (Klasa: 004-01/99-01/05, urbroj: 5030108-99-18), on se provodio na dobrovoljnoj osnov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temelju navedene odluke Vlade i Nacionalnog programa, Građanski odgoj i obrazovanje postupno se uvodio u odgojno-obrazovni sustav, što je razvidno iz sljedećih dokumenat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tra „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irana sjednica Hrvatskog sabora za učenike srednjih škol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imka sjednica i dokumenti koje su izradili i usvojili učenici nalaze se na mrežnim stranicama  Hrvatskog sabora, Služba za građane </a:t>
            </a:r>
            <a:r>
              <a:rPr b="0" lang="hr-HR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sabor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edlog mjera za zapošljavanje mladih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- 2013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jere za osposobljavanje mladih u obrazovnom sustavu za pristup fondovima Europske unij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2014.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\\azoo.hr\zagreb\Korisnici\nljelacic\My Documents\My Pictures\galerija (12).jpg"/>
          <p:cNvPicPr/>
          <p:nvPr/>
        </p:nvPicPr>
        <p:blipFill>
          <a:blip r:embed="rId2"/>
          <a:stretch/>
        </p:blipFill>
        <p:spPr>
          <a:xfrm>
            <a:off x="4500720" y="1341360"/>
            <a:ext cx="446400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tra „</a:t>
            </a:r>
            <a:r>
              <a:rPr b="1" i="1" lang="hr-HR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a sam zastupnik/zastupnica u Hrvatskom saboru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 za učeni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nih škol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C:\Documents and Settings\nljelaci\Desktop\SMOTRA\fotke smotra\da_sam_ja_zastupnik 03.jpg"/>
          <p:cNvPicPr/>
          <p:nvPr/>
        </p:nvPicPr>
        <p:blipFill>
          <a:blip r:embed="rId1"/>
          <a:stretch/>
        </p:blipFill>
        <p:spPr>
          <a:xfrm>
            <a:off x="1403280" y="2133720"/>
            <a:ext cx="6337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Nastavni materijali - izvori učenja i poučavanja dostupni na mrežnim stranicama Agenci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Program međupredmetnih i interdisciplinarnih sadržaja Građanskog odgoja i obrazovanja za osnovne i srednje škole, NN br. 104/201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ode prikladne za učenje i poučavanje u Građanskom odgoju i obrazovanju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1999, 2011, 2014 ): Agencija za odgoj i obrazovanje (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www.azoo.hr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Intelektualni alati za učitelje i učenike (2014);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a za odgoj i obrazovanje, Zagreb (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.azoo.hr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edni medvjedići uče o pravednosti, Priručnik o osnovama demokracije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), Zagreb: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a za odgoj i obrazovanje (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www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azoo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nove demokracije: Vlast, pravda, odgovornost, privatnost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0), Zagreb: Agencija za odgoj i obrazovanje: 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8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 građanin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riručnik za nastavnike (2007), Zagreb: Agencija za odgoj i obrazovanje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9"/>
              </a:rPr>
              <a:t>www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1"/>
              </a:rPr>
              <a:t>azoo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2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3"/>
              </a:rPr>
              <a:t>h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Zakon u razredu – prema kulturi vladavine prava i demokracije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2),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greb: Agencija za odgoj i obrazovanje (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4"/>
              </a:rPr>
              <a:t>www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6"/>
              </a:rPr>
              <a:t>azoo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7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8"/>
              </a:rPr>
              <a:t>h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Zaštita potrošača: Priručnik za učitelje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11)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džbenik za učenike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1), Zagreb: Agencija za odgoj i obrazovanje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9"/>
              </a:rPr>
              <a:t>www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0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1"/>
              </a:rPr>
              <a:t>azoo</a:t>
            </a:r>
            <a:r>
              <a:rPr b="0" lang="hr-HR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2"/>
              </a:rPr>
              <a:t>.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3"/>
              </a:rPr>
              <a:t>h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jela knjiga o međukulturnom dijalogu „Živjeti zajedno jednaki u dostojanstvu“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2011), Zagreb: 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a za odgoj i obrazovanje (</a:t>
            </a:r>
            <a:r>
              <a:rPr b="0" lang="pl-PL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4"/>
              </a:rPr>
              <a:t>www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zoo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1" lang="pl-PL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r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 Alain de Benoist (2014), </a:t>
            </a:r>
            <a:r>
              <a:rPr b="1" i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je to identitet? Matica hrvatska,Vijenac 526, www.azoo.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</a:t>
            </a:r>
            <a:r>
              <a:rPr b="1" i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velja Vijeća Europe o obrazovanju za demokratsko građanstvo i ljudska prava 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/Rec (2010.) 7, Odjel za obrazovanje Vijeća Europe, 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coe.int/edc</a:t>
            </a:r>
            <a:r>
              <a:rPr b="1" lang="hr-H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zoo.h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r.sc. Božo Skoko (2009)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oljublje, patriotizam, nacionalizam, šovinizam. Država kao brend – upravljanje nacionalnim identitet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atica hrvatska, Zagreb, str. 15-42.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ww.azoo.h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</a:t>
            </a:r>
            <a:r>
              <a:rPr b="0" i="1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 svi nastavnici mogu poduprijeti odgoj i obrazovanje za demokratsko građanstvo i ljudska prava: okvir za razvoj kompetencija </a:t>
            </a:r>
            <a:r>
              <a:rPr b="0" lang="hr-H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3), Agencija za odgoj i obrazovanje, </a:t>
            </a:r>
            <a:r>
              <a:rPr b="0" lang="hr-H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zoo.h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ima, nastavnicima, stručnim suradnicima i ravnateljima osnovnih i srednjih škola  podijeljeno je (besplatno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upno  32. 500 primjeraka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ručnika iz  pojedinih tema Građanskog odgoja i obrazovanja  kroz sustav stručnog usavršavanja  za što su bila osigurana sredstva iz projekata međunarodne suradnje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i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ka Hrvatska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v Republike Hrvatsk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tavni zakon o ljudskim pravima i slobodama i pravima nacionalnih manj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odgoju i obrazovanju u osnovnoj i srednjoj ško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odgoju i obrazovanju na jeziku i pismu nacionalnih manji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borni zakoni Republike Hrvats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Sab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jednika, lokalnu upravu i samouprav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volonterstvu i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ti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č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i kodeks volont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iteljski zak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ravnopravnosti spolov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kon o 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i i 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anju kulturnih dobar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opunski materijal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pis iz Kneževa dvora u Dubrovniku „Obliti privatorum publica curate“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ti slobodnih hrvatskih gradov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nodolski zakon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brov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tatut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j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tatut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 statuti i odredbe o z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a od nasil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ktivna karta baštinskih ustanova (http://kultura.h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rvatska kulturna baština – zbirke po regijama (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kultura.h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terijalna dobra upisana na UNESCO-vu Listu svjetske baštine (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kultura.hr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ivotopisi i djela - Ruđer Bošković, Marko Marulić, Marko Polo, Ivan Meštrović, Ladislav Ružićka, Eduard S. Penkala, Dragutin Kramberger, Vućetić, Nikola Tesla i drug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đunarodni dokumen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ća deklaracija o ljudskim pravima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Universal Declaration of Human Rights), UN, 1948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ncija o pravima djeteta (Convention on the Rights of the Child), UN, 1989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ncija Ujedinjenih naroda o pravima osoba s invaliditetom (Convention on the Rights of Persons with Disabilities), UN, 200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ska konvencija o ljudskim pravima i temeljnim slobodama (European Convention on Human Rights and Fundamental Freedoms), VE, 195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vencija protiv diskriminacije u odgoju i obrazovanju (Convention against Discrimination in Education), UNESCO, 196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ena stručna usavršavanja </a:t>
            </a:r>
            <a:br>
              <a:rPr sz="2800"/>
            </a:b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1999. godine do 2013. i daljnji plan usavršavan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veznim  stručnim usavršavanjem kojeg provod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a za odgoj i obrazovanje sveukupno je obuhvaćeno od 1999. godine do 2013. godine 29. 685 sudioni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ena su stručna usavršavanja za sve nastavnike škola u kojima se eksperimentalno provodio Kurikulum GOO-a i koje su bile pod stručnim vodstvom Agencije za odgoj i obrazovanj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i i nastavnici iz eksperimentalnih škola razvili su primjere dobre prakse međuperedmetnog planiranja i poučavanja i sudjeluju u stručnim usavršavanjima i diseminaciji svoje prak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irano je stručno usavršavanje savjetnika AZOO-a za provođenje stručnog usavršavanja za međupredmetno provođenje GOO-a u pojedinim predmetima (Dani Agencije za odgoj i obrazovanje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državnim stručnim skupovima za ravnatelje osnovnih i srednjih škola i na skupovima za ravnatelje voditelje ŽSV-a ravnatelja, upoznati su svi prisutni ravnatelji s Kurikulumom GOO-a i  njihovom ulogom u provedbi spomenutog Kurikulu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ovana su 32 voditelja županijskih stručnih vijeća za  građanski odgoj i obrazovanje koji organiziraju 3 do 4 županijska skupa godišnje na kojima sudjeluje 30 do 60 nastavnik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premljen je program stručnog usavršavanja u 2014/2015. za sve učitelje/nastavnike za primjenu kurikuluma GOO-a i razvoj građanske kompetencije kod učenika (školska, županijska, međužupanijska i državna razin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vija s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a međunarodna suradnj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azmjena iskustava u ovom području (Vijeće Europe, EU program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j i obrazovanje 2020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te sudjelovanje u povlačenju sredstava iz europskih fondov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6840" y="1700280"/>
            <a:ext cx="40402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om planu i programu za osnovnu školu iz 2006.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str. 24., navodi se d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i program odgoja i obrazovanja za ljudska prava: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4720" y="476280"/>
            <a:ext cx="404172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obvezuje sve nastavnike”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a se može provoditi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roz sve predmete koji sadrže programske teme koje su bliske temama ljudskih prava”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ao izborni predmet”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roz izvannastavne aktivnosti u vidu projekata”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roz izvanškolske aktivnosti” te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“</a:t>
            </a:r>
            <a:r>
              <a:rPr b="1" lang="hr-HR" sz="23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ustavno kroz cjelokupni školski plan i program.”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2012. godine sudjelovanje savjetnika AZOO-a iz područja nacionalnih programa u periodičnom i redovitom  komparativnom istraživanju o provođenju građanskog odgoja i obrazovanja u obrazovnom sustavu Republike Hrvatske za EURIDICE - istraživačku mrežu Europske unije koja istražuje i komparativno prikazuje obrazovne podatke u zemljama članicama E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i pristup u provedbi GOO-a temelji se na načelu racionalizacije, integracije i korelaci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i pristup usmjeren na ishode i postignuća učenika,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nači napuštanje praks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kratnog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k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vnog učenja i poučavanja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sciplinarno odvojenih sadržaja. Umjesto toga, učenje i poučavanje u različitim područjima postaje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rizontalno i vertikalno 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vezano i usmjereno na razvoj cjelovite osobe učenik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e postiže upotrebom interaktivnih nastavnih metod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i čemu se</a:t>
            </a: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kustvenim, timskim, suradničkim i radioničkim učenjem, povezano s istraživanjem, analiziranjem i zaključivanjem, rješava problem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tječe i razvija znanje, vještine i vrijednos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 postaje subjekt procesa učenja jer samostalno propituje i zaključuje o predmetu učenja, analizira u suradnji s drugim učenicima i iskušava mogućnosti primjene. Takvo učenje učeniku osigurava dublje razumijevanje i trajnije pamćenje onoga što uči te vodi do znanja koje je provjereno i koje se može dalje unaprjeđivati. </a:t>
            </a:r>
            <a:r>
              <a:rPr b="1" lang="vi-V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je otvoren koncept cjeloživotnog učenj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iralno-razvojni plan i program GOO-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provedbi programa GOO-a potrebno je osigurati horizontalno i vertikalno povezivanje odgojno-obrazovnih ishoda i postignuća učenik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a, odnosno ishod koji se počeo razvijati na početku školske godine može se nastaviti razvijati na kraju školske godine i u sljedećim školskim godinam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ma ponavljanja istog i preklapanja već se postignuća učenika sustavno razvijaju, proširuju i nadograđuju primjereno njihovoj dobi i mogućnostim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je razlog zbog kojeg učitelji/nastavnici ne mogu samostojno planirati nastavu GOO-a već u suradnji s drugim učiteljima/nastavnici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ruke za </a:t>
            </a:r>
            <a:br>
              <a:rPr sz="2400"/>
            </a:b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đenje Programa međupredmetnih i interdisciplinarnih sadržaja Građanskog odgoja i obrazovanja za osnovne i srednje škole u školskoj godini 2014./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133720"/>
            <a:ext cx="83628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 odgojno-obrazovni radnici u školi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ju se upozna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om međupredmetnih i interdisciplinarnih sadržaja Građanskog odgoja i obrazovanja za osnovne i srednje škol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koji je dostupan na mrežnoj stranici Agencije za odgoj i obrazovanje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zoo.hr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upno na poveznici:  </a:t>
            </a:r>
            <a:r>
              <a:rPr b="0" lang="hr-H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azoo.hr/images/strucni2014/Građanski_odgoj-program-2014_08_104_2019.p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133720"/>
            <a:ext cx="403848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okviru školskih stručnih vijeća potrebno je izraditi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beni školski program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predmetnih i interdisciplinarnih sadržaja Građanskog odgoja i obrazovanja za godišnji plan i program rada školske ustanov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8320" y="1989000"/>
            <a:ext cx="403848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beni školski program međupredmetnih i interdisciplinarnih sadržaja 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ra se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nastavni plan i program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e i u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kolski kurikulum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načelu racionalizacije, integracije i korelacij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4920" y="160020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O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ovne i srednje škole koje još nisu izradil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beni školski program međupredmetnih i interdisciplinarnih sadržaja Građanskog odgoja i obrazovanja za godišnji plan i program rada školske ustanov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imo da priprem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mjene i dopun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dišnjeg plana i programa rada školske ustanov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rebno j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čki planirati i programirati ishod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em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nalaženjem i usklađivanjem međupredmetnih poveznica u pojedinim predmetima (nastavnim jedinicama) te izvanučioničkim aktivnostim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oručamo da se tijekom školske godine kontinuirano provod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i sastanci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cilju pripreme međupredmetnih planiranja i programiranja ishod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Učiteljima/nastavnicima preporučamo da jednom mjesečno uključ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govore s učenicim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njihovim postignućima i očekivanjima iz područ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vnateljicama i ravnateljima preporučamo da na razini škole imenuju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ordinator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za provođenje međupremetnog planiranj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pr. iz reda učitelja/nastavnika promoviranih u zvanja mentora i savjetnika, voditelja stručnih školskih vijeća (aktiva), voditelja županijskih stručnih vijeća i stručnih suradnik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</a:t>
            </a: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đusobna pomoć učitelja/nastavnika -</a:t>
            </a:r>
            <a:br>
              <a:rPr sz="2800"/>
            </a:b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tpostavka za uspješnu provedbu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školskoj razni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jedničko/timsko planiranje i programiranj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avanje kolega na školskim stručnim vijećima razredne i predmetne nastave radi predstavljanja primjera dobre prakse na sjednicama učiteljskog vijeć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mjenjivanje priprema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ljučivanje učitelja/nastavnika škole kao predavača na stručnim skupovima u organizaciji voditelja županijskih stručnih vijeća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nje aktivnosti u provedbi </a:t>
            </a:r>
            <a:r>
              <a:rPr b="0" i="1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aktivnosti učenika u zajednici na mrežnoj stranici škole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mjena stručne literature;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stavljanje metoda rada prikladnih za pripremu i provedbu </a:t>
            </a:r>
            <a:r>
              <a:rPr b="0" i="1" lang="hr-HR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o stručno usavršavanje učitelja/nastavni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tpostavka za provedbu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goja i obrazovanj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e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inuiran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o usavršavanj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a/nastavnik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 području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iranja i programiranja usmjerenog na ishode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ktivnih metoda učenja i poučavanja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umijevanja ključnih pojmova iz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880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./2015.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a za odgoj i obrazovanj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će za sve odgojno-obrazovne radnike organizirati stručna usavršavanja 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upanijskoj i državnoj razin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cije o kontinuiranom stručnom usavršavanju na temu </a:t>
            </a:r>
            <a:r>
              <a:rPr b="1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tupne su na internetskim stranicama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azoo.hr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i </a:t>
            </a:r>
            <a:r>
              <a:rPr b="1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etta</a:t>
            </a:r>
            <a:r>
              <a:rPr b="0" lang="hr-H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du.eu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6840" y="1700280"/>
            <a:ext cx="296244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cija “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se provoditi”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čila je d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ba nije na obveznoj već na dobrovoljnoj osnov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92000" y="333000"/>
            <a:ext cx="52563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nom okvirnom kurikulumu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predškolski odgoj i obrazovanje te opće obvezno i srednjoškolsko obrazovanje (NOK)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 2010. godine nastavlja se s uključivanjem građanskog odgoja i obrazovanja ka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ljučne kompetencije za cjeloživotno učenje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osebne međupredmetne teme u OŠ i SŠ (str. 23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kultativnog predmeta u O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 obveznog predmeta u srednjoj školi (str. 152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Na internetskim stranicam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e za odgoj i obrazovanje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te  pronaći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teratur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čne materijale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formacije o aktivnostima vezanim za pripremu i provedb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. Pozivamo Vas da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ovito pratite internetske stranic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cije za odgoj i obrazo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NA KNJIGA</a:t>
            </a:r>
            <a:br>
              <a:rPr sz="2400"/>
            </a:br>
            <a:r>
              <a:rPr b="1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enik učenika i učenica – praćenje i ocjenjivanj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svakom predmetu razvijaj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ishodi GOO-a 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ran i interdisciplinar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(znanja, vještine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nosti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kladno tome planira se 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irana provjera postignuć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a na način da to bu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icajno za učenik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419640" y="1268280"/>
            <a:ext cx="5473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ože biti </a:t>
            </a:r>
            <a:r>
              <a:rPr b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isno praćenje 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je utječe na donošenje ocjene iz predmeta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ci koji se ne zalažu u aktivnostima GOO-a, nemaju iskazano opisno praćenj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završno vrednovanje iz pojedinog predmeta uključuje se i provjera postignuća iz GOO-a koja se temelji na provjeri kompetencija koje je učitelj/ učiteljica razvijala kod učenika, što je vidljivo iz pripreme za nastavni sat, sat razrednika, izvanučioničke aktivnosti, te </a:t>
            </a:r>
            <a:r>
              <a:rPr b="0" i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e mape osobnog razvoja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79280" y="1600200"/>
            <a:ext cx="309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ba li posebna rubrik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nekim predmetima već postoje rubrike u kojima se na integrirani način može vrednovati postignuće iz GOO-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 Povijesti,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čavanje uzročno-posljedičnih veza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 Prirodi, 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ktični rad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u Kemiji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Rješavanje problema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419280" y="765000"/>
            <a:ext cx="526716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kod nekih predmeta  postoji prazna rubrika,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ubrike</a:t>
            </a:r>
            <a:r>
              <a:rPr b="0" i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zvannastavne i izvanškolske aktivn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žno je da učitelji kad dogovaraju ishode koje će međupredmetno  i izvanučionički razvijati kod učenika dogovore </a:t>
            </a: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čin na koji će integrirati  vrednovanje  učenikova postignuća  iz GOO-a, te da učenicima kažu što se od njih očekuje i kako mogu utjecati na poboljšanje svoje ocjene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ubriku bilježaka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imeniku upisuju se samo ona zapažanja koja su učitelju/nastavniku u praćenju napredovanja učenika uočljiva, učeniku i roditelju razumljiva te koja učitelju/nastavniku mogu pomoći u konačnom vrednovanju postignuća učenika u Građanskom odgoju i obrazovanj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se vrednuj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a kompetencija koja se sastoji od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nanja 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činjenično znanje o programskim sadržajima/ pojmovima GOO-a)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ještina za primjenu tog znanja (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edbeno znanje; primjena znanja kroz usvojene vještine; praktični radovi, rješavanje problema, usvojenost komunikacijskih vještina koja se pokazuju u grupnom radu, u izgradnji demokratskih odnosa u razredu kroz provedbu dogovorenih pravila razreda i druge aktivnosti i vještine utvrđene u Programu GOO-a);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rijednosti</a:t>
            </a:r>
            <a:r>
              <a:rPr b="0" lang="hr-H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skazivanje kroz učenikovo djelovanje; rezultat usvojenih znanja i vještina – vrijednosti se ne smiju vrednovati odvojeno ili zasebno već kao sastavni dio učenikove kompetencije koja se pokazuje i dokazuje učenikovim djelovanjem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što se vrednuj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bog priznavanja važnosti građanske kompetencije za život učenika i razvoj društva  t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poticajna komponenta za dobar učenikov rad, zalaganje ili dobro obavljenu aktivnost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o dio elementa ocjene pojedinog predme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itelji/nastavnici trebaju upoznati učenike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elementima praćenja i in tegriranog ocjenjivanja postignuć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ma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vilniku o načinima, postupcima i elementima vrednovanja postignuća učenika u osnovnoj i srednjoj školi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arodne novine broj: 87/08., 86/09., 92/10. i 105/10.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na knjiga - Dnevnik rada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vesti nastavnu jedinicu prema planu i programu predmeta (npr. povijesti, hrvatskog jezika, stranog jezika itd.) i označiti da je obrađena tema/ishod iz Građanskog odgoja i obrazovanja kraticom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ubrici bilježaka navesti temu, ključni pojam ili ishod Građanskog odgoja i obrazovanja koji je obrađen, odnosno razvijen ishod na integrirani način u predmetnoj tem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zredna mapa Građanskog odgoja i obrazovanj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razrednu mapu Građanskog odgoja i obrazovanja ulaže s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zvedbeni školski program međupredmetnih i interdisciplinarnih sadržaja GOO-a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ma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u međupredmetnih i interdisciplinarnih sadržaja Građanskog odgoja i obrazovanja za osnovne i srednje škole,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rodne novine broj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04/14.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pija pripreme za izvođenje nastave nastavnog predmeta u kojoj su jasno označene (podvučene) teme i ishodi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đanskog odgoja i obrazovanj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 najuspješniji uradci učenika, materijali vezani za izvanučioničke aktivnosti, projekti i slično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razini razreda formira se jedna mapa s odjeljcima:  na primjer, 1.a, 1.b, 1.c. U školama koje imaju uvjete mapu mogu formirati  i u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oblik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i="1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a mapa osobnog razvoja u Građanskom odgoju i obrazovanj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 je osmišljeno nadgledanje vođenja učeničke mape u GO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o ako učenik npr. ne vodi mapu? 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lažemo sljedeć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a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eba motivirati i objasni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je evidentiranje i dokumentiranje njegovih postignuća važno za njega i da mu može koristiti kao podloga u profesionalnom usmjeravanju i zapošljavanj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evidentira što je otkrio tijekom učenja;  što je od toga bitno za njegov odnos prema drugim ljudima i sebi i kakva su mu očekivanja, što treba učiniti da bi ih ostvari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navodi razloge za svoje postupanj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stavnici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 trebaju dogovoriti da vode učenike daljnjem otkrivanju znanja stečenih u okviru pojedinih predmeta 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oz praktično, inovativno, izvanučioničko učenj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oz istraživanje i rješavanje problema u društvenoj zajednic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oz otkrivanje mogućnosti praktične primjene znanosti  u stvarnom živo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r. skupina učenika dobije zadaću da prikupi podatke i izradi prikaz (PPT) o inovativnim projektima koje su pokrenuli mladi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uga skupina napiše članak o tome što je utjecalo ili bilo uvjet da postanu inovatori i objavi g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ća skupina pozove nekoga od inovatora ili znanstvenika s priznatim inovacijama u razred ili mu se obrati pismom i td.  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oz povezivanje  kemije, biologije i drugih predmeta s praktičnim istraživanjem u zaštiti  potrošača, zaštiti okoliša (priručnici za zaštitu potrošača nalaze se na webu azoo) i slično, kako je opisano u Programu međupredmetnih i interdisciplinarnih sadržaja GOO-a za osnovne i srednje šk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ko motivirati slabe učenike koji ne pišu ni domaće zadaće,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ako od njih tražiti da vode  mape osobnog razvoja, kad nisu ni u čemu pokazali svoje mogućnosti i uspjeh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ođenje Građanskog odgoja i obrazovanja u osnovne i srednje škole vezano je i za provođenje mjera najnovije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ategije obrazovanja, znanosti i tehnologij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N br. 124/20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. Izraditi i uvesti nacionalne kurikulu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uvođenje Građanskog odgoja i obrazovanja u odgojno-obrazovne institucije kako bi 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im učenicim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o razvoj građanske kompetencije.“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vi učenici će u praktičnim aktivnostima iskušati drugi način učenja – povezan sa životom te kroz uspješno rješavanje problema u suradnji s drugim učenicima  iskusiti da i oni mogu biti uspješni. To može biti izvor motivacije za bolje učenje ali i prilika da evidentiraju svoje postignuće.  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a tvrdnja temelji se na  povratnim informacijama nastavnika koji su s učenicima provodili takve oblike učenja u proteklih 15 godina kada Građanski odgoj i obrazovanje nije bio obvezan već izborni sadržaj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kle, svrha je mape da služi kao podloga za profesionalno usmjeravanje učenika, motivator za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krivanje i dokumentiranje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lastitih sposobnosti kroz njegovo društveno angažiranje i praktične aktivnosti, te za planiranje učenja i osobnog razvoj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čku mapu osobnog razvoja u Građanskom odgoju i obrazovanju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e poslužiti: bilježnica ili fascikl, odnosno, učenik može sam kreirati korice za umetanje uradaka i dokumena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čenik mapu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i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nadograđuje 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cijelog školovanja sukladno razvoju i postignućima  - u nju unosi osvrte , zapažanja , potvrde,  pohvalnice, priznanja, dokumente o završenim tečajevima, volontiranju i sl. Nakon što mu više nisu neposredno potrebni taj dio mape čuva kod kuć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HVALJUJEM NA POZORNOSTI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datne informacije, materijal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azoo.hr/progra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širnije na webu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ttp://ec.europa.eu/education/index_en.ht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ttp://www.coe.int/T/E/Cultural_Co-operation/edu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jekom 2010. godine Ministarstvo znanosti, obrazovanja i športa započelo je s izradom kurikuluma građanskog odgoja i obrazovanja kako bi s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ogućio sustavni odgoj i obrazovanje svih učenika u ovome području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iguralo svim učenicima pravo i mogućnost da budu opremljeni neophodnim životnim kompetencijama u svim područjima društvenog živo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ravnopravni s drugim učenicima europskih zemalja s kojima će trebati surađivati i natjecati se na zajedničkom europskom tržišt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648320" y="476280"/>
            <a:ext cx="403848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z stručni tim u izradi Kurikuluma Građanskog odgoja i obrazovanja sudjelovalo je preko 1100 odgojno-obrazovn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nika osnovnih i srednjih škola koji su se odazvali pozivu Agencije za odgoj i obrazovanje na stručne skupove na kojima 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filirao kurikulum p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jecajem primjera dobre prak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C:\Documents and Settings\nljelaci\Desktop\FOTKE\PA036888.JPG"/>
          <p:cNvPicPr/>
          <p:nvPr/>
        </p:nvPicPr>
        <p:blipFill>
          <a:blip r:embed="rId1"/>
          <a:stretch/>
        </p:blipFill>
        <p:spPr>
          <a:xfrm>
            <a:off x="250920" y="1989000"/>
            <a:ext cx="4249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arstvo znanosti obrazovanja i sporta donijelo je 2012. godine </a:t>
            </a:r>
            <a:r>
              <a:rPr b="0" i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luku o eksperimentalnoj provedbi i praćenju provedbe Kurikuluma građanskog odgoja i obrazovanja u dvanaest osnovnih i srednjih škola u 2012./2013. i 2013./2014. školskoj godini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kon eksperimentalne provedbe Kurikuluma GOO-a u 12 osnovni i srednjih škola, Ministarstvo znanosti, obrazovanja i sporta imenovalo je (30. prosinca 2013.) stručno povjerenstvo za pripremu provedbe Građanskog odgoja i obrazovanja u školskoj godini 2014/201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250560" y="1600200"/>
            <a:ext cx="302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lijedila je javna rasprava nakon koje je Povjerenstvo za pripremu uvođenja Građanskog odgoja i obrazovanja donijelo 27. lipnja 2014. sljedeće zaključk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348000" y="404280"/>
            <a:ext cx="5338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Građanski odgoj i obrazovanje uvodi se od školske godine 2014./2015.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vezno međupredmetno u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ve razrede osnovne  i srednje ško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Građanski odgoj i obrazovanje uvodi se kao poseban obvezan predmet u 8. razred osnovne škole te u 1. i 2. razred srednje škole, školske godine 2015./2016., odnosno kad se stvore sve pravne i kurikularne pretpostav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Građanski odgoj i obrazovanje dalje će se eksperimentalno provoditi u zainteresiranim  školama kao izborni predmet i srednjim školama kao fakultativni predme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2T10:24:59Z</dcterms:created>
  <dc:creator>Sinisa</dc:creator>
  <dc:description/>
  <dc:language>en-US</dc:language>
  <cp:lastModifiedBy>Helena</cp:lastModifiedBy>
  <dcterms:modified xsi:type="dcterms:W3CDTF">2015-01-06T17:06:21Z</dcterms:modified>
  <cp:revision>319</cp:revision>
  <dc:subject/>
  <dc:title>Slide 1</dc:title>
</cp:coreProperties>
</file>