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99FC-DD86-4A81-B37A-C5326078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8D52-92A6-4201-ADB7-8850177D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0179-0DC9-410A-A639-F9D7917E9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238A-0B78-4088-8263-3D8FE4D06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A1C9-1B2F-4B98-B8B1-C0BE8008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0720-E80B-49E4-AC0B-48E3A5AB8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DE3A-06C9-4888-8E8F-C4C354DC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C7F7-3BAF-44BF-A925-34168059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7871-4D39-47B3-A04B-085E3FF7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24CC-276A-4B18-AEF4-E3398ED3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3581-4E61-42E4-814D-0BF6B2C4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EB25-8A43-4840-81A7-3057A965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0947-B0DE-40EE-B637-FC2959C7544C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2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čitelj</dc:creator>
  <dc:description/>
  <dc:language>en-US</dc:language>
  <cp:lastModifiedBy>Učitelj</cp:lastModifiedBy>
  <dcterms:modified xsi:type="dcterms:W3CDTF">2014-12-05T09:08:3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