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FB2-7E90-44AE-8219-650AF697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FA5-DE41-41A4-93F3-D2284096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3CB-97E8-4DFB-B351-5A2B2647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C78-99CD-4DAA-8155-239C00D5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3D9-7A46-4647-8504-1237825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D06-80AA-4ADF-AC62-78A2C69E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B43-55C2-4FB8-A700-EB0391A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C37-838F-4AC5-9D3B-458C8D4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C2A-66AB-426F-AFCC-D6C5AD8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F60-AC71-4065-9DD0-3C29C06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800-957F-464D-9761-89A2559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B22-0345-4B81-B1CF-5DCFCAE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F6E9-376A-4873-BAED-AD5494C67DA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čitelj</dc:creator>
  <dc:description/>
  <dc:language>en-US</dc:language>
  <cp:lastModifiedBy>Učitelj</cp:lastModifiedBy>
  <dcterms:modified xsi:type="dcterms:W3CDTF">2014-12-05T09:08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