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DAF-B9AA-4DA1-95EC-A15A9717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161-C258-4406-B24D-96A4E49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A62-B1D9-450C-AF9E-D329A4C5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6D5-0311-4FD8-93EB-8960096D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224-4E5A-4D9C-8DBE-ABAF76D0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DC51-2126-40BE-96D8-14979C10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E2ED-22DF-45B3-BFA3-76945CA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098-D101-4B40-89B3-E63EE8D7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AEF-FF7C-4FB5-B13A-7798AF1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42F-5A7F-4351-BA0A-3426A08D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08E6-B10B-407F-B598-C0032C73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DD-D9B7-44BF-8ACE-86B2DC7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DC4-07D3-418F-BD87-0593F7C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A782-3E17-47B5-B313-7578C09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F202-F173-4D85-B05F-8B8789C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4F8-3F57-4397-B64D-95E03400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13B-15FE-4616-9C27-A8B2B73D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B6AB-F86B-4E76-B7CF-CF30E072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B8BF-C222-423F-AB0A-8B73C82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F19B-D68C-4957-82C1-BE10772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EA63-B866-4037-921F-A1416D6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4F28-2036-41CE-830B-580CC44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DFC-6708-4C53-B7EE-0FB4B34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0674-F98B-41FD-8969-1E48ACB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C496-FF64-40DA-8A2C-A4BEAAF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288D-73ED-42AB-BA1A-2B774A8A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03A4-8B09-4850-ADF8-86E7335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2B67-2B54-458D-BABD-E2015F50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C793-F6AE-41B6-BEF9-99F57B60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B766-BD96-4052-9FB6-473CBF71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71A7-606D-42CC-ABDA-1484FE29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4870-9833-4AB8-A989-0A0F8979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9F9D-5268-4804-9BF5-B03FA34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DD9-CCB3-44D3-9653-6A8DD911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5207-E9CD-4DF2-89E9-09A0A6F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0146-A048-4A24-96B1-4CCBB6A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D05D-A1E4-424D-B3D6-6F9D9BE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1141-A4C3-4907-AAB5-DFB9C81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AD7C-982D-496C-B98B-E9F241A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D30C-4137-45B5-A2C5-025246A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4687-6347-489E-814F-73E6448E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1F5B-B43D-433A-BDD9-7F80FE61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DD5D-BBF2-4C81-A164-77DE7E4A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A9D8-4B3D-429A-9701-1662DAF4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6B2-9011-4EE8-88AA-5FAE48D0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8643-117B-4C54-8116-C15F763E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2454-6D37-4E9A-AC51-F19AF0A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9477-5D51-476F-992A-670EB97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B3F1-4423-4276-9B59-221CE1C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7023-32FD-499E-9B56-22D8327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5B6B-C479-453B-98D1-2F7B3C8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B100-5B1D-496C-A94B-F4866A6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FC86-9E43-4204-AD5B-F7CEE8C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FBB3-4863-4A4D-B21A-647223E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77BF-28F4-450C-9D79-F64D8070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3EA-D2BC-465C-AFF0-8500781F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CE2E-4292-4C98-97F5-D03628B8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720C-44DD-4158-9F41-D3B074EA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0E415-A990-451A-B761-8C40C566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D115-4227-42FB-9209-85679D0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DE44-C980-4418-A962-C74C15E7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E81A-6A20-425B-8376-5D528B06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97B3-7FE9-4091-9B55-1AFA4A1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FA65-2C2D-4DBC-8778-2ACD166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EBBF-9A12-4996-912C-BED16F6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77F6-8A7D-4ED9-80F3-CB8D65F1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A8A-3855-4FAD-9805-CE759EE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1111-A3A6-47C8-9CB0-9D012426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B0B6-322A-408A-A2EE-2431BB77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82DF9-81F1-40FE-B8C6-6313B721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631B-1AA9-4B8E-A79A-FDCC7DD8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61A5A-32AB-47D8-8FEC-2794E568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395B-BF0D-471A-83C7-490B90F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ECE4-66B5-45B9-992F-82986E38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984B-4684-4B84-9E58-F2EA74D5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5472-B3F9-4A7C-A95B-B365EA54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3D87-962E-47BC-9728-BE0F2F8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75B-9D02-42FE-B0DE-358B31B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5FAD-14F5-4B1C-A170-6EF73DB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CDD9-CC2C-476F-9FEA-5DCAD00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8CF3-C72B-48CF-8774-722B1496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5F9C-D735-46AE-9319-7CF7B922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F897B-E001-486D-B331-26608DDB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C1D3E-6073-4435-A7B5-DFB94A8A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257D-EAA6-43BB-ABD5-7B45BB6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277F-F4F0-48AB-8907-A2984B80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DDF2-78E9-4A1B-8294-301F642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897C-F497-41B1-8B13-FEB44D84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46C-CA13-4B72-8CF2-092CC42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E0C7F-3EF2-4C11-AC31-3515C4B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6918F-49F9-4BE8-9547-66FC03D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D325-8B6D-426E-B870-C51FA452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4380-084E-4B32-A3F2-DE8EB28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139D-44EC-4FA5-A3B4-6E50554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05EB-E10C-4498-8D98-5283D57D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8E4CF-1929-452C-AFA0-97FEE1B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5E5-01C0-456C-A037-795522B535A7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FC2E-05D1-47DE-912F-29B86F30493D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ravokutni trokut 9"/>
          <p:cNvSpPr/>
          <p:nvPr/>
        </p:nvSpPr>
        <p:spPr>
          <a:xfrm>
            <a:off x="0" y="4664160"/>
            <a:ext cx="9150480" cy="360"/>
          </a:xfrm>
          <a:custGeom>
            <a:avLst/>
            <a:gdLst/>
            <a:ahLst/>
            <a:rect l="l" t="t" r="r" b="b"/>
            <a:pathLst>
              <a:path w="9151086" h="0">
                <a:moveTo>
                  <a:pt x="0" y="1"/>
                </a:moveTo>
                <a:lnTo>
                  <a:pt x="0" y="0"/>
                </a:lnTo>
                <a:lnTo>
                  <a:pt x="9151086" y="1"/>
                </a:lnTo>
                <a:close/>
              </a:path>
            </a:pathLst>
          </a:cu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a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Prostoručno 6"/>
            <p:cNvSpPr/>
            <p:nvPr/>
          </p:nvSpPr>
          <p:spPr>
            <a:xfrm>
              <a:off x="1688760" y="4952880"/>
              <a:ext cx="7449480" cy="48672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rostoručno 7"/>
            <p:cNvSpPr/>
            <p:nvPr/>
          </p:nvSpPr>
          <p:spPr>
            <a:xfrm>
              <a:off x="38160" y="5236560"/>
              <a:ext cx="9099720" cy="78624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Prostoručno 10"/>
            <p:cNvGrpSpPr/>
            <p:nvPr/>
          </p:nvGrpSpPr>
          <p:grpSpPr>
            <a:xfrm>
              <a:off x="-3240" y="4992120"/>
              <a:ext cx="9147240" cy="1872360"/>
              <a:chOff x="-3240" y="4992120"/>
              <a:chExt cx="9147240" cy="1872360"/>
            </a:xfrm>
          </p:grpSpPr>
          <p:pic>
            <p:nvPicPr>
              <p:cNvPr id="50" name="Prostoručno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4992120"/>
                <a:ext cx="91472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520" y="5000400"/>
                <a:ext cx="913536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52" name="Ravni poveznik 11"/>
            <p:cNvCxnSpPr/>
            <p:nvPr/>
          </p:nvCxnSpPr>
          <p:spPr>
            <a:xfrm>
              <a:off x="-720" y="4996800"/>
              <a:ext cx="9139680" cy="788760"/>
            </a:xfrm>
            <a:prstGeom prst="straightConnector1">
              <a:avLst/>
            </a:prstGeom>
            <a:ln w="12240">
              <a:solidFill>
                <a:srgbClr val="156d83"/>
              </a:solidFill>
              <a:miter/>
            </a:ln>
          </p:spPr>
        </p:cxn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C87-369B-4FE5-B7A2-01C567F81126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379-4F7E-47BE-9D75-AA00E57488A1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98" name="Š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Š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37A-24E4-474F-9DC3-F2D463AE7EFC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04E-F4C3-42F1-9153-7F98E8A2D066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828A-2446-4B85-A352-0239CB3BBBFA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EF8-366D-4141-A187-04A32BB2B7B8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818-897A-4725-AA84-0476681CA4FA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521A-2870-45F9-985C-9083720E99D2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0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31C8-464F-45E2-9083-4A06B7C56199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41FA-AACD-4DA2-8D0C-17D1BFB4AF1B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079-60E9-4040-AE89-72416DA53CEA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EB9-BB9F-48BE-ABA9-A439FC172214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rostoručno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ravokutni trokut 9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Ravni poveznik 10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317" name="Š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Š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2F8-F878-4B94-8433-23DF9F0687DC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DB90-A4F1-4459-BD0A-AC2BCCF06386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464646"/>
                </a:solidFill>
                <a:latin typeface="Lucida Sans Unicode"/>
              </a:rPr>
              <a:t>UGLJIKOV DIOKSID</a:t>
            </a:r>
            <a:br>
              <a:rPr sz="4800"/>
            </a:br>
            <a:r>
              <a:rPr b="1" lang="hr-HR" sz="4800" spc="-1" strike="noStrike">
                <a:solidFill>
                  <a:srgbClr val="464646"/>
                </a:solidFill>
                <a:latin typeface="Lucida Sans Unicode"/>
              </a:rPr>
              <a:t>CO</a:t>
            </a:r>
            <a:r>
              <a:rPr b="1" lang="hr-HR" sz="2000" spc="-1" strike="noStrike">
                <a:solidFill>
                  <a:srgbClr val="464646"/>
                </a:solidFill>
                <a:latin typeface="Lucida Sans Unicode"/>
              </a:rPr>
              <a:t>2</a:t>
            </a:r>
            <a:endParaRPr b="1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UGLJIKOV DIOKSID U SVAKODNEVN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870 god.             290 ppm= 290 x 10 = 2.9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970god.             330 ppm= 330 x 10 = 3.3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000god.            370ppm= 370 x 10 = 3.7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VOLUMNI UDIO C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ZRAŽEN U ppm (PART PER MILION) U ATMOSFERI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64" name="Ravni poveznik sa strelicom 6"/>
          <p:cNvCxnSpPr/>
          <p:nvPr/>
        </p:nvCxnSpPr>
        <p:spPr>
          <a:xfrm>
            <a:off x="2071440" y="1856880"/>
            <a:ext cx="85788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65" name="TekstniOkvir 7"/>
          <p:cNvSpPr/>
          <p:nvPr/>
        </p:nvSpPr>
        <p:spPr>
          <a:xfrm>
            <a:off x="6572160" y="1428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kstniOkvir 8"/>
          <p:cNvSpPr/>
          <p:nvPr/>
        </p:nvSpPr>
        <p:spPr>
          <a:xfrm>
            <a:off x="8572680" y="14288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7" name="Ravni poveznik sa strelicom 10"/>
          <p:cNvCxnSpPr/>
          <p:nvPr/>
        </p:nvCxnSpPr>
        <p:spPr>
          <a:xfrm flipV="1">
            <a:off x="2071440" y="2785680"/>
            <a:ext cx="85788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68" name="TekstniOkvir 14"/>
          <p:cNvSpPr/>
          <p:nvPr/>
        </p:nvSpPr>
        <p:spPr>
          <a:xfrm>
            <a:off x="6429240" y="2286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kstniOkvir 15"/>
          <p:cNvSpPr/>
          <p:nvPr/>
        </p:nvSpPr>
        <p:spPr>
          <a:xfrm>
            <a:off x="8429760" y="2357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0" name="Ravni poveznik sa strelicom 17"/>
          <p:cNvCxnSpPr/>
          <p:nvPr/>
        </p:nvCxnSpPr>
        <p:spPr>
          <a:xfrm>
            <a:off x="2071440" y="3642840"/>
            <a:ext cx="857880" cy="2520"/>
          </a:xfrm>
          <a:prstGeom prst="straightConnector1">
            <a:avLst/>
          </a:prstGeom>
          <a:ln w="63360">
            <a:solidFill>
              <a:srgbClr val="474b78"/>
            </a:solidFill>
            <a:miter/>
            <a:tailEnd len="med" type="arrow" w="med"/>
          </a:ln>
        </p:spPr>
      </p:cxnSp>
      <p:sp>
        <p:nvSpPr>
          <p:cNvPr id="371" name="TekstniOkvir 18"/>
          <p:cNvSpPr/>
          <p:nvPr/>
        </p:nvSpPr>
        <p:spPr>
          <a:xfrm>
            <a:off x="6215040" y="32860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kstniOkvir 19"/>
          <p:cNvSpPr/>
          <p:nvPr/>
        </p:nvSpPr>
        <p:spPr>
          <a:xfrm>
            <a:off x="8072280" y="32860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kstniOkvir 21"/>
          <p:cNvSpPr/>
          <p:nvPr/>
        </p:nvSpPr>
        <p:spPr>
          <a:xfrm>
            <a:off x="214200" y="457200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Volumni udio CO</a:t>
            </a: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 u zadnjih 30 godina se povećao jednako koliko prije 100 godina. Što pokazuje veliko zagađenje atmosf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Ugljikov dioksid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4% od 500 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04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0002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Kis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1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21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105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z zraka udišemo 0.04% C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, 21% 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 78% N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.Ako čovjek prilikom udisaja udahne 500ml zraka. Koliko otpada na CO</a:t>
            </a:r>
            <a:r>
              <a:rPr b="1" lang="hr-HR" sz="16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29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O</a:t>
            </a:r>
            <a:r>
              <a:rPr b="1" lang="hr-HR" sz="16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,N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</a:t>
            </a:r>
            <a:endParaRPr b="1" lang="en-US" sz="1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Duš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78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78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39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a) 1 mjese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300l        24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 l         720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:300 =720:2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4x = 216000/:2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=9000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U mirovanju čovjek potroši 300l kisika u 24h. Koliko litara kisika potroši za: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79" name="Ravni poveznik sa strelicom 4"/>
          <p:cNvCxnSpPr/>
          <p:nvPr/>
        </p:nvCxnSpPr>
        <p:spPr>
          <a:xfrm>
            <a:off x="2143080" y="2142720"/>
            <a:ext cx="5724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Ravni poveznik sa strelicom 6"/>
          <p:cNvCxnSpPr/>
          <p:nvPr/>
        </p:nvCxnSpPr>
        <p:spPr>
          <a:xfrm>
            <a:off x="2143080" y="2571840"/>
            <a:ext cx="5724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Ravni poveznik 8"/>
          <p:cNvCxnSpPr/>
          <p:nvPr/>
        </p:nvCxnSpPr>
        <p:spPr>
          <a:xfrm>
            <a:off x="928800" y="2857680"/>
            <a:ext cx="29296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82" name="Ravni poveznik sa strelicom 10"/>
          <p:cNvCxnSpPr/>
          <p:nvPr/>
        </p:nvCxnSpPr>
        <p:spPr>
          <a:xfrm flipV="1">
            <a:off x="3857760" y="192816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Ravni poveznik sa strelicom 12"/>
          <p:cNvCxnSpPr/>
          <p:nvPr/>
        </p:nvCxnSpPr>
        <p:spPr>
          <a:xfrm flipV="1">
            <a:off x="927720" y="1999440"/>
            <a:ext cx="1080" cy="8564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4" name="TekstniOkvir 16"/>
          <p:cNvSpPr/>
          <p:nvPr/>
        </p:nvSpPr>
        <p:spPr>
          <a:xfrm>
            <a:off x="4714920" y="1714680"/>
            <a:ext cx="4000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Lucida Sans Unicode"/>
              </a:rPr>
              <a:t>b) 1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Jednakim postupkom smo riješili ovaj zadatak i dobili rješenje 109500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400" y="3500280"/>
            <a:ext cx="871524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3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3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15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Petnaestdesetisućinki litre izaziva gubitak svijes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Ugljikov monoksid zdravstveno je jako opasan. Količina od 0.2%-0.4% može izazvati gubitak svijesti. Ako udahnemo 500ml zraka, kolika količina može izazvati gubitak svijesti?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285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0mg = 10 x 10 g= 10 x 10 x 10  kg = 10 x 10 kg= 10 k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Jednakim postupkom smo dobili da u 23mg ima 2.3 x 10  kg ugljikova monoksid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Koncetracija ugljikova monoksida u cigareti je 10-23mg. Napiši taj podatak znanstvenom obliku i pretvori u kilograme.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TekstniOkvir 3"/>
          <p:cNvSpPr/>
          <p:nvPr/>
        </p:nvSpPr>
        <p:spPr>
          <a:xfrm>
            <a:off x="2857680" y="27147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kstniOkvir 4"/>
          <p:cNvSpPr/>
          <p:nvPr/>
        </p:nvSpPr>
        <p:spPr>
          <a:xfrm>
            <a:off x="4857840" y="2643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kstniOkvir 5"/>
          <p:cNvSpPr/>
          <p:nvPr/>
        </p:nvSpPr>
        <p:spPr>
          <a:xfrm>
            <a:off x="5643720" y="2643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kstniOkvir 6"/>
          <p:cNvSpPr/>
          <p:nvPr/>
        </p:nvSpPr>
        <p:spPr>
          <a:xfrm>
            <a:off x="7143840" y="271476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kstniOkvir 7"/>
          <p:cNvSpPr/>
          <p:nvPr/>
        </p:nvSpPr>
        <p:spPr>
          <a:xfrm>
            <a:off x="8001000" y="2714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kstniOkvir 9"/>
          <p:cNvSpPr/>
          <p:nvPr/>
        </p:nvSpPr>
        <p:spPr>
          <a:xfrm>
            <a:off x="642960" y="3143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kstniOkvir 10"/>
          <p:cNvSpPr/>
          <p:nvPr/>
        </p:nvSpPr>
        <p:spPr>
          <a:xfrm>
            <a:off x="1714680" y="4500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42960" y="157176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720 puta        1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 puta         24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:720= 24: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=17280 pu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Jednakim postupkom smo izračunali da u jednom satu čovjek udahne 720 pu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Čovjek udahne 12 puta u minuti. Koliko puta udahne u jednom danu?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98" name="Ravni poveznik sa strelicom 4"/>
          <p:cNvCxnSpPr/>
          <p:nvPr/>
        </p:nvCxnSpPr>
        <p:spPr>
          <a:xfrm>
            <a:off x="2857320" y="1785960"/>
            <a:ext cx="64332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Ravni poveznik sa strelicom 6"/>
          <p:cNvCxnSpPr/>
          <p:nvPr/>
        </p:nvCxnSpPr>
        <p:spPr>
          <a:xfrm>
            <a:off x="2857320" y="2214720"/>
            <a:ext cx="64332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Ravni poveznik 8"/>
          <p:cNvCxnSpPr/>
          <p:nvPr/>
        </p:nvCxnSpPr>
        <p:spPr>
          <a:xfrm>
            <a:off x="1071720" y="2499840"/>
            <a:ext cx="3358080" cy="2520"/>
          </a:xfrm>
          <a:prstGeom prst="straightConnector1">
            <a:avLst/>
          </a:prstGeom>
          <a:ln w="63360">
            <a:solidFill>
              <a:srgbClr val="2da2bf"/>
            </a:solidFill>
            <a:miter/>
          </a:ln>
        </p:spPr>
      </p:cxnSp>
      <p:cxnSp>
        <p:nvCxnSpPr>
          <p:cNvPr id="401" name="Ravni poveznik sa strelicom 11"/>
          <p:cNvCxnSpPr/>
          <p:nvPr/>
        </p:nvCxnSpPr>
        <p:spPr>
          <a:xfrm flipV="1">
            <a:off x="999000" y="1571400"/>
            <a:ext cx="2520" cy="10008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2" name="Ravni poveznik sa strelicom 13"/>
          <p:cNvCxnSpPr/>
          <p:nvPr/>
        </p:nvCxnSpPr>
        <p:spPr>
          <a:xfrm flipV="1">
            <a:off x="4356720" y="1428480"/>
            <a:ext cx="1080" cy="1072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ZRADILI:Berislav Simoni,Nikola Sokol i Franko Šem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ENTOR:prof.Alen Andriji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464646"/>
                </a:solidFill>
                <a:latin typeface="Lucida Sans Unicode"/>
              </a:rPr>
              <a:t>KRAAAAAJ!!!!!!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7:20:26Z</dcterms:created>
  <dc:creator>Osnovna skola Blato</dc:creator>
  <dc:description/>
  <dc:language>en-US</dc:language>
  <cp:lastModifiedBy>Učitelj</cp:lastModifiedBy>
  <dcterms:modified xsi:type="dcterms:W3CDTF">2014-12-09T08:41:30Z</dcterms:modified>
  <cp:revision>14</cp:revision>
  <dc:subject/>
  <dc:title>UGLJIKOV DIOKSID CO</dc:title>
</cp:coreProperties>
</file>