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51E-0ED2-45FF-A26D-E47AA555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E1D-EBF0-493E-93DE-E601E9C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CCC-567F-42C5-AB33-E7259BCB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A16-6240-4CD2-97B6-4021CF48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965-0181-45DD-A44B-CBEE4E4B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5E8-7544-4509-8178-05D93B14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B59-8F4B-412C-89F5-DF583322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1CC-27B3-46FA-8DF3-D1FD7CC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3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131-9FA8-4A3E-B5B7-B662A1C3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F42-8C57-485F-9C8C-B825195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DDC-0D63-4674-85EA-AAC9F13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AB0-1A66-4973-8E3C-525EF29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57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c5755"/>
                </a:solidFill>
                <a:latin typeface="Helvetica Neue"/>
              </a:rPr>
              <a:t>Click to edit the title text format</a:t>
            </a: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A5D20-39F1-40C7-87CA-1E6BC1C5C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04E37-9A2E-410F-8B52-557018AC6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Wellcome-Epidemics-logo.jpg"/>
          <p:cNvPicPr/>
          <p:nvPr/>
        </p:nvPicPr>
        <p:blipFill>
          <a:blip r:embed="rId2"/>
          <a:stretch/>
        </p:blipFill>
        <p:spPr>
          <a:xfrm>
            <a:off x="7607160" y="27468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4400280"/>
            <a:ext cx="507996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400" spc="-1" strike="noStrike">
                <a:solidFill>
                  <a:srgbClr val="1c5755"/>
                </a:solidFill>
                <a:latin typeface="Helvetica Neue"/>
              </a:rPr>
              <a:t>Razumijevanje modela</a:t>
            </a:r>
            <a:endParaRPr b="1" lang="en-US" sz="4400" spc="-1" strike="noStrike">
              <a:solidFill>
                <a:srgbClr val="1c5755"/>
              </a:solidFill>
              <a:latin typeface="Helvetica Neue"/>
            </a:endParaRPr>
          </a:p>
        </p:txBody>
      </p:sp>
      <p:pic>
        <p:nvPicPr>
          <p:cNvPr id="43" name="Subtitle 2" descr=""/>
          <p:cNvPicPr/>
          <p:nvPr/>
        </p:nvPicPr>
        <p:blipFill>
          <a:blip r:embed="rId1"/>
          <a:stretch/>
        </p:blipFill>
        <p:spPr>
          <a:xfrm>
            <a:off x="6297480" y="281160"/>
            <a:ext cx="1225800" cy="559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-CounterPlague.png"/>
          <p:cNvPicPr/>
          <p:nvPr/>
        </p:nvPicPr>
        <p:blipFill>
          <a:blip r:embed="rId2"/>
          <a:stretch/>
        </p:blipFill>
        <p:spPr>
          <a:xfrm>
            <a:off x="685800" y="285840"/>
            <a:ext cx="5079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Ubrzo će nestati jer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 lvl="1" marL="4572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Očekivana je brzina širenja zaraze manja od 1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lvl="1" marL="4572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To znači da u prosijeku svaka osoba zarazi manje od jedne osobe.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90" name="Content Placeholder 10" descr="e-CounterPlague-1.png"/>
          <p:cNvPicPr/>
          <p:nvPr/>
        </p:nvPicPr>
        <p:blipFill>
          <a:blip r:embed="rId1"/>
          <a:srcRect l="0" t="-39432" r="0" b="-39432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1c5755"/>
                </a:solidFill>
                <a:latin typeface="Helvetica Neue"/>
              </a:rPr>
              <a:t>Ovo se dogodilo</a:t>
            </a:r>
            <a:r>
              <a:rPr b="1" lang="en-US" sz="2400" spc="-1" strike="noStrike">
                <a:solidFill>
                  <a:srgbClr val="1c5755"/>
                </a:solidFill>
                <a:latin typeface="Helvetica Neue"/>
              </a:rPr>
              <a:t>.</a:t>
            </a:r>
            <a:br>
              <a:rPr sz="2400"/>
            </a:br>
            <a:r>
              <a:rPr b="1" lang="hr-HR" sz="2400" spc="-1" strike="noStrike">
                <a:solidFill>
                  <a:srgbClr val="1c5755"/>
                </a:solidFill>
                <a:latin typeface="Helvetica Neue"/>
              </a:rPr>
              <a:t>Jeste li imali pravo?</a:t>
            </a:r>
            <a:endParaRPr b="1" lang="en-US" sz="2400" spc="-1" strike="noStrike">
              <a:solidFill>
                <a:srgbClr val="1c5755"/>
              </a:solidFill>
              <a:latin typeface="Helvetica Neue"/>
            </a:endParaRPr>
          </a:p>
        </p:txBody>
      </p:sp>
      <p:pic>
        <p:nvPicPr>
          <p:cNvPr id="92" name="Content Placeholder 4" descr="e-CounterPlague-2.png"/>
          <p:cNvPicPr/>
          <p:nvPr/>
        </p:nvPicPr>
        <p:blipFill>
          <a:blip r:embed="rId1"/>
          <a:srcRect l="0" t="-28280" r="0" b="-28280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Helvetica Neue"/>
              </a:rPr>
              <a:t>Možete li objasniti što se dogodilo u svakom stadiju epidemije s pomoću grafa u donjem desnom uglu slike?</a:t>
            </a:r>
            <a:endParaRPr b="0" lang="en-US" sz="21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Helvetica Neue"/>
              </a:rPr>
              <a:t>Prvotno je zaražena jedna osoba.</a:t>
            </a:r>
            <a:endParaRPr b="0" lang="en-US" sz="21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Helvetica Neue"/>
              </a:rPr>
              <a:t>U sljedećem je koraku zaražena druga osoba.</a:t>
            </a:r>
            <a:endParaRPr b="0" lang="en-US" sz="21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Helvetica Neue"/>
              </a:rPr>
              <a:t>Bolest se više nije širila, stoga imamo 2 imune osobe i 28 osoba koje nisu oboljele</a:t>
            </a: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000" spc="-1" strike="noStrike">
                <a:solidFill>
                  <a:srgbClr val="1c5755"/>
                </a:solidFill>
                <a:latin typeface="Helvetica Neue"/>
              </a:rPr>
              <a:t>Što bi se moglo dogoditi</a:t>
            </a:r>
            <a:r>
              <a:rPr b="1" lang="en-US" sz="4000" spc="-1" strike="noStrike">
                <a:solidFill>
                  <a:srgbClr val="1c5755"/>
                </a:solidFill>
                <a:latin typeface="Helvetica Neue"/>
              </a:rPr>
              <a:t>?</a:t>
            </a:r>
            <a:endParaRPr b="1" lang="en-US" sz="4000" spc="-1" strike="noStrike">
              <a:solidFill>
                <a:srgbClr val="1c5755"/>
              </a:solidFill>
              <a:latin typeface="Helvetica Neue"/>
            </a:endParaRPr>
          </a:p>
        </p:txBody>
      </p:sp>
      <p:pic>
        <p:nvPicPr>
          <p:cNvPr id="95" name="Content Placeholder 9" descr="e-CounterPlague-3.png"/>
          <p:cNvPicPr/>
          <p:nvPr/>
        </p:nvPicPr>
        <p:blipFill>
          <a:blip r:embed="rId1"/>
          <a:srcRect l="0" t="-16630" r="0" b="-16630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10" descr="e-CounterPlague-5.png"/>
          <p:cNvPicPr/>
          <p:nvPr/>
        </p:nvPicPr>
        <p:blipFill>
          <a:blip r:embed="rId2"/>
          <a:srcRect l="0" t="-16497" r="0" b="-16497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04148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Hoće li se ova epidemija raširiti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Zašto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04148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Hoće li se ova epidemija raširiti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Zašto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000" spc="-1" strike="noStrike">
                <a:solidFill>
                  <a:srgbClr val="1c5755"/>
                </a:solidFill>
                <a:latin typeface="Helvetica Neue"/>
              </a:rPr>
              <a:t>Što bi se moglo dogoditi</a:t>
            </a:r>
            <a:r>
              <a:rPr b="1" lang="en-US" sz="4000" spc="-1" strike="noStrike">
                <a:solidFill>
                  <a:srgbClr val="1c5755"/>
                </a:solidFill>
                <a:latin typeface="Helvetica Neue"/>
              </a:rPr>
              <a:t>?</a:t>
            </a:r>
            <a:endParaRPr b="1" lang="en-US" sz="4000" spc="-1" strike="noStrike">
              <a:solidFill>
                <a:srgbClr val="1c5755"/>
              </a:solidFill>
              <a:latin typeface="Helvetica Neue"/>
            </a:endParaRPr>
          </a:p>
        </p:txBody>
      </p:sp>
      <p:pic>
        <p:nvPicPr>
          <p:cNvPr id="100" name="Content Placeholder 9" descr="e-CounterPlague-3.png"/>
          <p:cNvPicPr/>
          <p:nvPr/>
        </p:nvPicPr>
        <p:blipFill>
          <a:blip r:embed="rId1"/>
          <a:srcRect l="0" t="-16630" r="0" b="-16630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10" descr="e-CounterPlague-5.png"/>
          <p:cNvPicPr/>
          <p:nvPr/>
        </p:nvPicPr>
        <p:blipFill>
          <a:blip r:embed="rId2"/>
          <a:srcRect l="0" t="-16497" r="0" b="-16497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04148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Ova se epidemija NEĆE raširiti jer je očekivana brzina širenja zaraze manja od 1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04148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Ova se epidemija HOĆE raširiti jer je očekivana brzina širenja zaraze veća od 1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32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4000" spc="-1" strike="noStrike">
                <a:solidFill>
                  <a:srgbClr val="1c5755"/>
                </a:solidFill>
                <a:latin typeface="Helvetica Neue"/>
              </a:rPr>
              <a:t>Što bi se moglo dogoditi</a:t>
            </a:r>
            <a:r>
              <a:rPr b="1" lang="en-US" sz="4000" spc="-1" strike="noStrike">
                <a:solidFill>
                  <a:srgbClr val="1c5755"/>
                </a:solidFill>
                <a:latin typeface="Helvetica Neue"/>
              </a:rPr>
              <a:t>?</a:t>
            </a:r>
            <a:endParaRPr b="1" lang="en-US" sz="4000" spc="-1" strike="noStrike">
              <a:solidFill>
                <a:srgbClr val="1c5755"/>
              </a:solidFill>
              <a:latin typeface="Helvetica Neue"/>
            </a:endParaRPr>
          </a:p>
        </p:txBody>
      </p:sp>
      <p:pic>
        <p:nvPicPr>
          <p:cNvPr id="105" name="Content Placeholder 9" descr="e-CounterPlague-3.png"/>
          <p:cNvPicPr/>
          <p:nvPr/>
        </p:nvPicPr>
        <p:blipFill>
          <a:blip r:embed="rId1"/>
          <a:srcRect l="0" t="-16630" r="0" b="-16630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10" descr="e-CounterPlague-5.png"/>
          <p:cNvPicPr/>
          <p:nvPr/>
        </p:nvPicPr>
        <p:blipFill>
          <a:blip r:embed="rId2"/>
          <a:srcRect l="0" t="-16497" r="0" b="-16497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04148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U prosjeku svaka zaražena osoba zarazi </a:t>
            </a:r>
            <a:r>
              <a:rPr b="1" lang="hr-HR" sz="2200" spc="-1" strike="noStrike">
                <a:solidFill>
                  <a:srgbClr val="ffffff"/>
                </a:solidFill>
                <a:latin typeface="Helvetica Neue"/>
              </a:rPr>
              <a:t>manje od jedne </a:t>
            </a: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osobe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04148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U prosijeku svaka zaražena osoba zarazi </a:t>
            </a:r>
            <a:r>
              <a:rPr b="1" lang="hr-HR" sz="2200" spc="-1" strike="noStrike">
                <a:solidFill>
                  <a:srgbClr val="ffffff"/>
                </a:solidFill>
                <a:latin typeface="Helvetica Neue"/>
              </a:rPr>
              <a:t>više od jedne </a:t>
            </a: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osobe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Koliko je ljudi u ovome razredu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Koliko je ljudi prvotno zaraženo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Koliko ih je bolesno u ovome stadiju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Koliko ih je preboljelo bolest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Koliko ih je u početku bilo imuno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47" name="Content Placeholder 10" descr="e-CounterPlague-1.png"/>
          <p:cNvPicPr/>
          <p:nvPr/>
        </p:nvPicPr>
        <p:blipFill>
          <a:blip r:embed="rId1"/>
          <a:srcRect l="0" t="-39432" r="0" b="-39432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29 + 1 = 30 </a:t>
            </a: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ljudi u razredu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 </a:t>
            </a: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je prvotno zaražen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 </a:t>
            </a: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je bolestan u ovome stadiju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 </a:t>
            </a: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je prebolio bolest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Nitko nije bio imun u početku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50" name="Content Placeholder 10" descr="e-CounterPlague-1.png"/>
          <p:cNvPicPr/>
          <p:nvPr/>
        </p:nvPicPr>
        <p:blipFill>
          <a:blip r:embed="rId1"/>
          <a:srcRect l="0" t="-39432" r="0" b="-39432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8"/>
          <p:cNvCxnSpPr/>
          <p:nvPr/>
        </p:nvCxnSpPr>
        <p:spPr>
          <a:xfrm>
            <a:off x="2981160" y="2135160"/>
            <a:ext cx="594720" cy="191520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52" name="Straight Arrow Connector 13"/>
          <p:cNvCxnSpPr/>
          <p:nvPr/>
        </p:nvCxnSpPr>
        <p:spPr>
          <a:xfrm>
            <a:off x="2484360" y="2852280"/>
            <a:ext cx="1091520" cy="135036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53" name="Straight Arrow Connector 17"/>
          <p:cNvCxnSpPr/>
          <p:nvPr/>
        </p:nvCxnSpPr>
        <p:spPr>
          <a:xfrm flipV="1">
            <a:off x="2484360" y="2851920"/>
            <a:ext cx="4750560" cy="75492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54" name="Straight Arrow Connector 20"/>
          <p:cNvCxnSpPr/>
          <p:nvPr/>
        </p:nvCxnSpPr>
        <p:spPr>
          <a:xfrm flipV="1">
            <a:off x="2981160" y="2134800"/>
            <a:ext cx="3517200" cy="191520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55" name="Straight Arrow Connector 23"/>
          <p:cNvCxnSpPr/>
          <p:nvPr/>
        </p:nvCxnSpPr>
        <p:spPr>
          <a:xfrm flipV="1">
            <a:off x="2153880" y="4730400"/>
            <a:ext cx="1421640" cy="25776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Koliko će se ljudi zaraziti ako se kockica okrene na 1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A na 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2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3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4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5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6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Helvetica Neu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58" name="Content Placeholder 10" descr="e-CounterPlague-1.png"/>
          <p:cNvPicPr/>
          <p:nvPr/>
        </p:nvPicPr>
        <p:blipFill>
          <a:blip r:embed="rId1"/>
          <a:srcRect l="0" t="-39432" r="0" b="-39432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cxnSp>
        <p:nvCxnSpPr>
          <p:cNvPr id="59" name="Straight Arrow Connector 6"/>
          <p:cNvCxnSpPr/>
          <p:nvPr/>
        </p:nvCxnSpPr>
        <p:spPr>
          <a:xfrm flipV="1">
            <a:off x="1969560" y="2079360"/>
            <a:ext cx="1605960" cy="24048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60" name="Straight Arrow Connector 9"/>
          <p:cNvCxnSpPr/>
          <p:nvPr/>
        </p:nvCxnSpPr>
        <p:spPr>
          <a:xfrm flipV="1">
            <a:off x="2723760" y="2556720"/>
            <a:ext cx="741960" cy="22284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61" name="Straight Arrow Connector 14"/>
          <p:cNvCxnSpPr/>
          <p:nvPr/>
        </p:nvCxnSpPr>
        <p:spPr>
          <a:xfrm flipV="1">
            <a:off x="1454040" y="2778840"/>
            <a:ext cx="2121480" cy="66276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62" name="Straight Arrow Connector 22"/>
          <p:cNvCxnSpPr/>
          <p:nvPr/>
        </p:nvCxnSpPr>
        <p:spPr>
          <a:xfrm flipV="1">
            <a:off x="1453680" y="3164760"/>
            <a:ext cx="2012040" cy="95796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63" name="Straight Arrow Connector 26"/>
          <p:cNvCxnSpPr/>
          <p:nvPr/>
        </p:nvCxnSpPr>
        <p:spPr>
          <a:xfrm flipV="1">
            <a:off x="1453680" y="3441240"/>
            <a:ext cx="2012040" cy="145512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64" name="Straight Arrow Connector 29"/>
          <p:cNvCxnSpPr>
            <a:endCxn id="57" idx="3"/>
          </p:cNvCxnSpPr>
          <p:nvPr/>
        </p:nvCxnSpPr>
        <p:spPr>
          <a:xfrm flipV="1">
            <a:off x="1453680" y="3781080"/>
            <a:ext cx="2012040" cy="1776960"/>
          </a:xfrm>
          <a:prstGeom prst="straightConnector1">
            <a:avLst/>
          </a:prstGeom>
          <a:ln cap="rnd" w="507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Ako se kockica baca samo jednom, koliki su izgledi za zarazu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67" name="Content Placeholder 10" descr="e-CounterPlague-1.png"/>
          <p:cNvPicPr/>
          <p:nvPr/>
        </p:nvPicPr>
        <p:blipFill>
          <a:blip r:embed="rId1"/>
          <a:srcRect l="0" t="-39432" r="0" b="-39432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2"/>
          <p:cNvGraphicFramePr/>
          <p:nvPr/>
        </p:nvGraphicFramePr>
        <p:xfrm>
          <a:off x="1270080" y="3625920"/>
          <a:ext cx="13968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080" y="3625920"/>
                    <a:ext cx="13968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pic>
        <p:nvPicPr>
          <p:cNvPr id="71" name="Content Placeholder 4" descr="e-CounterPlague-3.png"/>
          <p:cNvPicPr/>
          <p:nvPr/>
        </p:nvPicPr>
        <p:blipFill>
          <a:blip r:embed="rId1"/>
          <a:srcRect l="0" t="-28021" r="0" b="-28021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Ovdje se promijenio omjer brzine zaraze, ali sve je ostalo i dalje isto.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Ako jednom bacimo kockicu, koliki su izgledi da će doći do zaraze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257480" y="4697280"/>
          <a:ext cx="13968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4697280"/>
                    <a:ext cx="13968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Ako jednom bacimo kockicu, koliki su izgledi da će doći do zaraze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Možete li to objasniti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Znači li to da će se netko svakako zaraziti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1344600" y="3036960"/>
          <a:ext cx="12225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3036960"/>
                    <a:ext cx="12225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Content Placeholder 6" descr="e-CounterPlague-4.png"/>
          <p:cNvPicPr/>
          <p:nvPr/>
        </p:nvPicPr>
        <p:blipFill>
          <a:blip r:embed="rId3"/>
          <a:srcRect l="0" t="-28021" r="0" b="-28021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Ako jednom bacimo kockicu, koliki su izgledi da će doći do zaraze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Možete li to objasniti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Helvetica Neue"/>
              </a:rPr>
              <a:t>Znači li to da će se netko svakako zaraziti?</a:t>
            </a:r>
            <a:endParaRPr b="0" lang="en-US" sz="2200" spc="-1" strike="noStrike">
              <a:solidFill>
                <a:srgbClr val="ffffff"/>
              </a:solidFill>
              <a:latin typeface="Helvetica Neue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1147680" y="3092400"/>
          <a:ext cx="161604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3092400"/>
                    <a:ext cx="161604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Content Placeholder 7" descr="e-CounterPlague-5.png"/>
          <p:cNvPicPr/>
          <p:nvPr/>
        </p:nvPicPr>
        <p:blipFill>
          <a:blip r:embed="rId3"/>
          <a:srcRect l="0" t="-27883" r="0" b="-27883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1c5755"/>
                </a:solidFill>
                <a:latin typeface="Helvetica Neue"/>
              </a:rPr>
              <a:t>Online aplikacija Zaraze žetona</a:t>
            </a:r>
            <a:endParaRPr b="1" lang="en-US" sz="2800" spc="-1" strike="noStrike">
              <a:solidFill>
                <a:srgbClr val="1c5755"/>
              </a:solidFill>
              <a:latin typeface="Helvetica Neu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solidFill>
            <a:srgbClr val="2c3ec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Helvetica Neue"/>
              </a:rPr>
              <a:t>Mislite li da će se ova bolest raširiti ili će ubrzo nestati?</a:t>
            </a:r>
            <a:endParaRPr b="0" lang="en-US" sz="24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87" name="Content Placeholder 10" descr="e-CounterPlague-1.png"/>
          <p:cNvPicPr/>
          <p:nvPr/>
        </p:nvPicPr>
        <p:blipFill>
          <a:blip r:embed="rId1"/>
          <a:srcRect l="0" t="-39432" r="0" b="-39432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6:27:40Z</dcterms:created>
  <dc:creator>Jenny Gage</dc:creator>
  <dc:description/>
  <dc:language>en-US</dc:language>
  <cp:lastModifiedBy>acmaric</cp:lastModifiedBy>
  <dcterms:modified xsi:type="dcterms:W3CDTF">2015-02-17T11:58:11Z</dcterms:modified>
  <cp:revision>18</cp:revision>
  <dc:subject/>
  <dc:title>Interpreting the Model</dc:title>
</cp:coreProperties>
</file>