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BD0-78D4-4DE3-A7F7-A5A942D7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EB6-288B-40C0-9208-D32E1D31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E93-F855-4786-B439-CF128529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E0B-B612-49C5-A100-E6669333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6D4-3B2F-4568-B642-196B49B6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008-D991-44BD-97B9-C4DE22CD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095-B8DF-4161-A960-A1A91863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268-AEDD-42E9-83FE-BE006175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199-8980-4571-B337-E4967ADF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10C-6974-4433-99F5-7556AB13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449-6ED8-4467-AA1C-2EE6459A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64D-77C6-4E60-B707-6CD6A58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874E-B716-4A44-A83E-20D4AB3580AE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469800" y="2017800"/>
            <a:ext cx="8345520" cy="159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62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iđa mi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 sviđa mi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odlučan/na s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5" descr=""/>
          <p:cNvPicPr/>
          <p:nvPr/>
        </p:nvPicPr>
        <p:blipFill>
          <a:blip r:embed="rId1"/>
          <a:stretch/>
        </p:blipFill>
        <p:spPr>
          <a:xfrm>
            <a:off x="878040" y="1735200"/>
            <a:ext cx="77454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itle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162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 uče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 učite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jedno učenici i učite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235160" y="2021040"/>
            <a:ext cx="74595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244440" y="-42840"/>
            <a:ext cx="8826480" cy="162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radu praktičn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zentaciju rezult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govor i osvrt na kraju integriranog       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62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rodne grupe predm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uštvene grupe predm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binir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"/>
          <p:cNvPicPr/>
          <p:nvPr/>
        </p:nvPicPr>
        <p:blipFill>
          <a:blip r:embed="rId1"/>
          <a:stretch/>
        </p:blipFill>
        <p:spPr>
          <a:xfrm>
            <a:off x="1092240" y="1806480"/>
            <a:ext cx="781668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3:32:07Z</dcterms:created>
  <dc:creator>Korisnik</dc:creator>
  <dc:description/>
  <dc:language>en-US</dc:language>
  <cp:lastModifiedBy>Učitelj</cp:lastModifiedBy>
  <dcterms:modified xsi:type="dcterms:W3CDTF">2014-12-08T09:01:17Z</dcterms:modified>
  <cp:revision>7</cp:revision>
  <dc:subject/>
  <dc:title>ANKETA O INTEGRIRANOM DANU OSMAŠA</dc:title>
</cp:coreProperties>
</file>