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09A-D79B-4EEC-851E-19DF5E20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1A7-EA2E-4F98-8834-CBEC0621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81D-4B67-4E7F-8CE4-3F95958F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41D-C595-406D-AFAB-918F5AAF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0B1-95B5-4B67-8AE3-DAE36F23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D7A0-B229-492C-B686-4EF76F84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37B0-8F65-443D-B819-26048933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9CB-62F5-4D5D-AB31-B6892AC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F30A-116D-4EDD-834B-B4F7879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FCD9-8A02-4A3F-ADF6-0010897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F733-00CF-45AC-8FB3-5787CCE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0A2-9CD0-401E-B864-320358D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7AD9-97B1-4C9E-BCA5-9325983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609-7EFB-421E-A746-B8E88FA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1E5C-953C-4DFB-87E1-2D41482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DC5-796A-4AD7-85F6-2EBA63B6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417F-68A1-4FAA-A3D5-0BFDFFE9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00C-0660-4148-9586-3DE29EDB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E46-28FF-4C80-94F8-F7FA936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9AC-69EA-4B1B-B8E8-AA0D18E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9D1-7317-4E6D-9D2A-2A126DDF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64F-755C-4CC8-A29D-A984481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D65-7A0C-4719-B36D-007C2E7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01A-7536-4496-B104-91057F3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ac0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1B13C8F4-7DAD-46DE-B7C1-86E081F81C40}" type="slidenum"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b6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CA4D0698-FC44-4A0D-B982-3B0D5B549D21}" type="slidenum">
              <a:rPr b="0" lang="hr-HR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ac0ea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1a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Prilagodba procesa poučavanja u srednjoj školi zahtjevima NOK-a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761760" y="3962160"/>
            <a:ext cx="60958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Državni stručni skup za učitelje matematik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Opatija, siječanj 2012.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638680"/>
            <a:ext cx="38102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Arial"/>
              </a:rPr>
              <a:t>Sanja Rukavina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Arial"/>
              </a:rPr>
              <a:t>Odjel za matematiku Sveučilišta u Rijeci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Arial"/>
              </a:rPr>
              <a:t>sanjar@math.uniri.h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dizajnu kurikulum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metodama poučavanj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načinu praćenja, vrjednovanja i ocjenjivanj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u dizajnu kurikuluma</a:t>
            </a:r>
            <a:br>
              <a:rPr sz="2400"/>
            </a:b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(ishodi učenja, pomak prema kompetencijama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1905120"/>
          <a:ext cx="7772400" cy="4205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učavanje usmjereno na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Na kraju ovog obrazovnog razdoblja učenik će moći: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drediti rješenja sustava dviju jednadžbi s dvije nepoznanic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- Razlikovati vrste trokuta s obzirom na duljine stranic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radicionalno poučavanje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dmet pokriva sljedeće sadržaje: 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- Sustavi dviju jednadžbi s dvije nepoznanic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- Vrste trokuta s obzirom na duljine stranic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metoda poučavanja (1) </a:t>
            </a:r>
            <a:br>
              <a:rPr sz="2400"/>
            </a:b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(strategije poučavanja usmjerene na učenika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a aktivnost učenika u stjecanju znanja i vještina; vježbe na satu, terenski rad, uporaba elektronskih sustava za učenj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a “svjesnost” učenika o tome što rade i zašto to rad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i stupanj interakcije među učenicima; grupni rad, međusobno pomaganj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Veći stupanj razvoja “prijenosnih vještina”; pomaganje drugim učenicima, prezentacija radova, vođenje bilješki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metoda poučavanja (2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1600200"/>
          <a:ext cx="7772400" cy="5129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ijekom nastavnog sat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Rad/diskusija u parovim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Rad/diskusija u grupam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izovi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zentacija učeničkih radov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isanje komentara o naučenome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zentacije poster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zrada mentalnih map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zvan  nastavnog sat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zrada projekat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erenski rad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Vođenje dnevnika o radu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Međusobna pomoć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Diskusije u grupam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poraba elektronskih sustava za učenje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99"/>
                </a:solidFill>
                <a:latin typeface="Tahoma"/>
              </a:rPr>
              <a:t>U svakom razrednom odjeljenju susrećemo mnoštvo različitih matematičkih osobnosti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poznati osnovne karakteristike različitih matematičkih osobnosti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poznati vlastitu matematičku osobnost i način poučavanja prilagoditi različitim matematičkim osobnostim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99"/>
                </a:solidFill>
                <a:latin typeface="Tahoma"/>
              </a:rPr>
              <a:t>Matematika bez suza: kako pomoći djetetu s teškoćama u učenju matematike</a:t>
            </a:r>
            <a:r>
              <a:rPr b="0" lang="hr-HR" sz="1800" spc="-1" strike="noStrike">
                <a:solidFill>
                  <a:srgbClr val="006699"/>
                </a:solidFill>
                <a:latin typeface="Tahoma"/>
              </a:rPr>
              <a:t>, prema Mahesh C. Sharma sastavila i pripremila I. Posokhova, Lekenik: Ostvarenje, 2001.</a:t>
            </a: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38080" y="1600200"/>
          <a:ext cx="7772400" cy="4780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nt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brađuje informaciju postupno, metodično, korak po korak, dio po dio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 zadatku prvo obrađuje verbalnu, lingvističku informaciju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i lakše putem kvantitativnog didaktičkog materijal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ferira deduktivnu i sistematično organiziranu metodologiju poduča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l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brađuje informaciju holistički, vizualno, od cjeline prema dijelovim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 zadatku prvo obrađuje neverbalnu, nejezičnu informaciju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i lakše putem vizualno-prostornog, kvalitativnog didaktičkog materijal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ferira induktivan način nastav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38080" y="1523880"/>
          <a:ext cx="7772400" cy="4853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nt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spješan u aritmetici, djelomično u algebri i u onom dijelu geometrije koji se oslanja na sustavne postupke i aksiome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ma poteškoća sa zadacima koji imaju nekoliko načina rješa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Traži specifične formule i “recepte” pri rješavanju problema 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Kvalitativna matematička osobnost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 učenju aritmetike, algebre i geometrije uočava međuodnose koncepat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Ima poteškoća s proceduralnim radnjama i dugotrajnim računanjima, ne uvježbava dovoljno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spješan u prepoznavanju modela i povezivanju različitih koncepata i ide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načina praćenja, vrjednovanja i ocjenjivanja (1) </a:t>
            </a:r>
            <a:br>
              <a:rPr sz="2400"/>
            </a:b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ostojeći nedostaci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Ocjenjivanje, odnosno davanje ocjena, je prenaglašeno, a premalo je naglaska na davanju savjeta s ciljem postizanja boljih obrazovnih postignuć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čenike se uspoređuje međusobno što naglašava nadmetanje, a ne osobni razvoj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Ispitivanje je “tehnika moći” kroz koju su učenici kontrolirani sustavom “mikro-kazni”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Ocjena pisanih ispita ne sadrži informaciju o greškama i područjima koja zahtijevaju dodatni rad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Prilagodba načina praćenja, vrjednovanja i ocjenjivanja (2)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2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ključivanje učenika kod postavljanja zadatka: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dabir zadatk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stavljanje zadatk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Diskusija o kriterijima ocjenji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stavljanje kriterija ocjenjivanj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ključivanje učenika nakon izvršenja zadatka: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amoocjenjivanje”: 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isanje komentara vlastitog uratka ili uratka drugih učenika,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dlaganje ocjene,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regovaranje” o ocjeni,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amoocjenjivanje, 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1abcb"/>
                        </a:buClr>
                        <a:buSzPct val="9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ocjenjivanje drugih učenika</a:t>
                      </a: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Tahoma"/>
              </a:rPr>
              <a:t>Opasnosti “nepromišljenih” promjena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aziti da se ne dogodi “druga krajnost”; potpuna usmjerenost na pojedinca i zanemarivanje potreba razrednog odjela kao grupe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Voditi računa o dostupnosti resurs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romjene u “kulturi učenja” i uvjerenjima se ne događaju naglo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ostizanje odgovarajućih obrazovnih postignuća u matematici, odnosno praćenje, vrjednovanje i ocjenjivanje u kurikulumski organiziranom obrazovnom sustavu zahtijeva i promjenu, odnosno prilagodbu, u procesu poučavanja.</a:t>
            </a:r>
            <a:r>
              <a:rPr b="0" lang="hr-HR" sz="3200" spc="-1" strike="noStrike">
                <a:solidFill>
                  <a:srgbClr val="003d6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d62"/>
                </a:solidFill>
                <a:latin typeface="Tahoma"/>
              </a:rPr>
              <a:t>Nacionalni okvirni kurikulum za predškolski odgoj i obrazovanje te opće obvezno i srednjojškolsko obrazovanje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 , http://public.mzos.hr/Default.aspx?sec=2685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O’Neill, G., McMahon, T., </a:t>
            </a:r>
            <a:r>
              <a:rPr b="1" lang="hr-HR" sz="1600" spc="-1" strike="noStrike">
                <a:solidFill>
                  <a:srgbClr val="003d62"/>
                </a:solidFill>
                <a:latin typeface="Tahoma"/>
              </a:rPr>
              <a:t>“Student-Centred Learning: What does it mean for students and lecturers?”,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 in </a:t>
            </a:r>
            <a:r>
              <a:rPr b="0" i="1" lang="hr-HR" sz="1600" spc="-1" strike="noStrike">
                <a:solidFill>
                  <a:srgbClr val="003d62"/>
                </a:solidFill>
                <a:latin typeface="Tahoma"/>
              </a:rPr>
              <a:t>Emerging Issues in the Practice of University Learning and Teaching, 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O’Neill, G., Moore, S., McMullin, B. (Eds)., Dublin: AISHE, 2005.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d62"/>
                </a:solidFill>
                <a:latin typeface="Tahoma"/>
              </a:rPr>
              <a:t>Matematika bez suza: kako pomoći djetetu s teškoćama u učenju matematike</a:t>
            </a:r>
            <a:r>
              <a:rPr b="0" lang="hr-HR" sz="1600" spc="-1" strike="noStrike">
                <a:solidFill>
                  <a:srgbClr val="003d62"/>
                </a:solidFill>
                <a:latin typeface="Tahoma"/>
              </a:rPr>
              <a:t>, prema Mahesh C. Sharma sastavila i pripremila I. Posokhova, Lekenik: Ostvarenje, 2001.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Nacionalni okvirni kurikulum (1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3d62"/>
                </a:solidFill>
                <a:latin typeface="Tahoma"/>
              </a:rPr>
              <a:t>Nacionalni okvirni kurikulum </a:t>
            </a: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omiče odgoj i obrazovanje usmjeren na dijete i učenika. Oni podrazumijevaju: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ilagođivanje odgojno-obrazovnih i nastavnih oblika, metoda i sredstava rada pojedinačnim potrebama i sposobnostima učenika, kako bi se osigurao odgojno-obrazovni uspjeh svakoga pojedinca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odabir i primjenu odgojno-obrazovnih oblika, metoda i sredstava koji će poticajno djelovati na razvoj svih područja djetetove, odnosno učenikove osobnosti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laniranje i pripremu školskoga i nastavnoga rada prema sposobnostima učenika, pripremajući različite sadržaje, različitu organizaciju i tempo nastave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Nacionalni okvirni kurikulum (2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ihvaćanje različitih stilova učenja djeteta, odnosno učenika, kao i razvojnih razlika između dječaka i djevojčica te između pojedinih učenika općenito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uvođenje primjerenih oblika i metoda poučavanja i učenja koji će omogućiti aktivno, samostalno učenje i praktičnu primjenu naučenoga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uporabu različitih relevantnih izvora znanja i nastavnih sredstava koji potiču sudjelovanje, promatranje, samostalno istraživanje, eksperimentiranje, otkrivanje, zaključivanje, znatiželju te učenje </a:t>
            </a:r>
            <a:r>
              <a:rPr b="0" i="1" lang="hr-HR" sz="2000" spc="-1" strike="noStrike">
                <a:solidFill>
                  <a:srgbClr val="003d62"/>
                </a:solidFill>
                <a:latin typeface="Tahoma"/>
              </a:rPr>
              <a:t>kako učiti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99"/>
                </a:solidFill>
                <a:latin typeface="Tahoma"/>
              </a:rPr>
              <a:t>Nacionalni okvirni kurikulum (3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stvaranje ugodna odgojno-obrazovnoga, razrednoga i školskoga ozračja koje će poticati zanimanje i motivaciju djeteta, odnosno učenika za učenje te će mu pružiti osjećaj sigurnosti i međusobnoga poštivanja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epoznavanje i praćenje darovite djece i učenika, odnosno djece i učenika s teškoćama u učenju i ponašanju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d62"/>
                </a:solidFill>
                <a:latin typeface="Tahoma"/>
              </a:rPr>
              <a:t>pružanje pomoći djeci i učenicima s teškoćama i senzibiliziranje ostale djece i učenika za njihove potrebe, pružanje pomoći i suradnju.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Uočavamo da se kao osnovna ideja  ističe “usmjerenost na učenika” (student-centered learning). 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Na koji način izvršiti prilagodbu procesa poučavanja zahtjevima NOK-a?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99"/>
                </a:solidFill>
                <a:latin typeface="Tahoma"/>
              </a:rPr>
              <a:t>O’Neill, G., McMahon, T., </a:t>
            </a:r>
            <a:r>
              <a:rPr b="1" lang="hr-HR" sz="1600" spc="-1" strike="noStrike">
                <a:solidFill>
                  <a:srgbClr val="006699"/>
                </a:solidFill>
                <a:latin typeface="Tahoma"/>
              </a:rPr>
              <a:t>“Student-Centred Learning: What does it mean for students and lecturers?”,</a:t>
            </a:r>
            <a:r>
              <a:rPr b="0" lang="hr-HR" sz="1600" spc="-1" strike="noStrike">
                <a:solidFill>
                  <a:srgbClr val="006699"/>
                </a:solidFill>
                <a:latin typeface="Tahoma"/>
              </a:rPr>
              <a:t> in </a:t>
            </a:r>
            <a:r>
              <a:rPr b="0" i="1" lang="hr-HR" sz="1600" spc="-1" strike="noStrike">
                <a:solidFill>
                  <a:srgbClr val="006699"/>
                </a:solidFill>
                <a:latin typeface="Tahoma"/>
              </a:rPr>
              <a:t>Emerging Issues in the Practice of University Learning and Teaching, </a:t>
            </a:r>
            <a:r>
              <a:rPr b="0" lang="hr-HR" sz="1600" spc="-1" strike="noStrike">
                <a:solidFill>
                  <a:srgbClr val="006699"/>
                </a:solidFill>
                <a:latin typeface="Tahoma"/>
              </a:rPr>
              <a:t>O’Neill, G., Moore, S., McMullin, B. (Eds)., Dublin: AISHE, 2005.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usmjerenost na učenika” (student-centred learning) je izraz kojega često srećemo pri čemu se ne podrazumijeva uvijek u potpunosti isto značenje 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koncept “usmjerenosti na učenika” pojavljuje se početkom 20. stoljeća, a intenzivno se promovira i uvodi krajem 20. stoljeć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d62"/>
                </a:solidFill>
                <a:latin typeface="Tahoma"/>
              </a:rPr>
              <a:t>početkom 21. stoljeća imamo situaciju da mnoge institucije i nastavnici tvrde kako provode obrazovanje usmjereno na učenika, ali to zapravo ne čine 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“</a:t>
            </a: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poučavanje usmjereno na učenika” nasuprot “poučavanja usmjerenog na učitelja/sadržaj”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d62"/>
                </a:solidFill>
                <a:latin typeface="Tahoma"/>
              </a:rPr>
              <a:t>izbor (što, kada, zašto), aktivnost (ishodi učenja u terminima učeničkih postignuća), odnos snaga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Tahoma"/>
              </a:rPr>
              <a:t>Kako provoditi “poučavanje usmjereno na učenika”?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2120" y="1600200"/>
          <a:ext cx="7772400" cy="4179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2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učavanje usmjereno na učitelja/sadržaj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Niska razina učeničkog izbor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enik je pasivan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naga” je prvenstveno na strani učitelj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d62"/>
                      </a:solidFill>
                    </a:lnL>
                    <a:lnR w="576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Poučavanje usmjereno na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Visoka razina učeničkog izbor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Učenik je aktivan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hr-HR" sz="2400" spc="-1" strike="noStrike">
                          <a:solidFill>
                            <a:srgbClr val="003d62"/>
                          </a:solidFill>
                          <a:latin typeface="Tahoma"/>
                          <a:ea typeface="Tahoma"/>
                        </a:rPr>
                        <a:t>Snaga” je prvenstveno na strani učenika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d62"/>
                      </a:solidFill>
                    </a:lnL>
                    <a:lnR w="13680">
                      <a:solidFill>
                        <a:srgbClr val="003d62"/>
                      </a:solidFill>
                    </a:lnR>
                    <a:lnT w="13680">
                      <a:solidFill>
                        <a:srgbClr val="003d62"/>
                      </a:solidFill>
                    </a:lnT>
                    <a:lnB w="13680">
                      <a:solidFill>
                        <a:srgbClr val="003d6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362320" y="5791320"/>
            <a:ext cx="4647960" cy="485640"/>
          </a:xfrm>
          <a:prstGeom prst="leftRightArrow">
            <a:avLst>
              <a:gd name="adj1" fmla="val 50000"/>
              <a:gd name="adj2" fmla="val 190529"/>
            </a:avLst>
          </a:prstGeom>
          <a:solidFill>
            <a:srgbClr val="9ac0ea"/>
          </a:solidFill>
          <a:ln w="93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. siječanj 2012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lesar</cp:lastModifiedBy>
  <dcterms:modified xsi:type="dcterms:W3CDTF">2012-01-23T07:53:15Z</dcterms:modified>
  <cp:revision>33</cp:revision>
  <dc:subject/>
  <dc:title>Prilagodba procesa poučavanja u osnovnoj školi zahtjevima NOK-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51033</vt:lpwstr>
  </property>
</Properties>
</file>