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F0D9-B4F9-42FB-ABAE-8235D646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8CCB-9D1B-431D-AE08-504D08D2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9C6-EDEA-449D-AC06-76A5AC64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66AC-A959-4E71-8909-E3450F91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87A2-5768-417B-808E-3A877278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D841-4553-4A4B-ADC4-33AB0DF2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DB71-B159-4181-A77F-DB192796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FE91-0492-44E1-9981-17677627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6ED5-2B8D-4162-A44F-4973FCCF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57F6-AE1E-4FC2-B45E-AF5F9A07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11F3-DF61-4CC3-9F7A-5A719223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7CF-F504-4BD1-8BFB-E309FDEF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07F2-BCCF-4BBF-82A7-43B7470A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479D-2ADB-4C68-AEB0-B6EAA971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025A-D11A-454A-80C6-60F2895A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7BD8-792A-4262-905D-B20156E7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2DC9-04F0-4271-882C-D11E9D3B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D50D5-3126-40FB-B207-4466DDF4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39DB2-27BC-4754-A70A-9D9A0E17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58BBD-B64E-42C5-BBA6-69CDB676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69623-59B5-4625-9A34-7F6091D7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27B7D-8F5D-4587-A136-A98FEEA9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B8A-C403-4ED4-B882-30BC32B1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BB3B7-E0B8-4CB7-B7E7-F70BED48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4A4C8-C336-41C9-8E69-78B2DAC4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B591A-ECEF-4338-9652-9C1A85A5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6D1D8-1AA2-49A5-83BD-D4DD2719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3D13B-9D77-4E2F-8E66-BF001762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DA753-E696-4209-8196-FB460D06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0B221-ECCB-4396-825C-3E1CE7F7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DCA32-1885-4D4C-B068-A1A0519D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9BD1B-B257-433C-A09C-116FFA23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16D34-88F3-4716-A635-4E2D1DBB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C4B2-C395-4C03-A80C-363D30DC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7C3FE-24FD-4EDA-A57E-03D12C97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BA44A-3AC9-458A-AD6D-630C3E15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3A326-9360-4362-9FC5-55D278B8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E3B72-3A38-4CD4-BE11-B5330087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54B52-1787-4B19-9F23-2040371B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F4E08-BFF3-4334-8F1C-44E6C71D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7767E-8A7F-42DD-97BB-0A4FD756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780B8-3C7E-4C0D-8D01-39F3A935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F197D-B21A-47CD-8790-8E3F7B49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5A9F-8A87-4367-9592-AA6C8AE7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DFA5-03C4-4F04-BFE6-BBFD8EE1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B3AE-0D40-4C44-B2AF-4A99F0C4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4510-5430-461F-B9B9-ABB8A932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FC9-1557-4846-8530-8F54BA8F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6f8d8c">
                  <a:alpha val="45098"/>
                </a:srgbClr>
              </a:gs>
              <a:gs pos="100000">
                <a:srgbClr val="d8ce4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59e42">
                  <a:alpha val="45098"/>
                </a:srgbClr>
              </a:gs>
              <a:gs pos="100000">
                <a:srgbClr val="83ada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9a57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eb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cb6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95a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2f2b2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2f2b2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62594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62594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62594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20A4-8DE4-4635-AC5F-64DCAEB8415F}" type="slidenum">
              <a:rPr b="0" lang="hr-HR" sz="1200" spc="-1" strike="noStrike">
                <a:solidFill>
                  <a:srgbClr val="62594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Calibri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6f8d8c">
                  <a:alpha val="45098"/>
                </a:srgbClr>
              </a:gs>
              <a:gs pos="100000">
                <a:srgbClr val="d8ce4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59e42">
                  <a:alpha val="45098"/>
                </a:srgbClr>
              </a:gs>
              <a:gs pos="100000">
                <a:srgbClr val="83ada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Calibri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fdcb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fdcb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9a57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eb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cb6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95a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5d2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d5d2a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5d2a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3237-85DC-4505-8359-C95CA038BA63}" type="slidenum">
              <a:rPr b="0" lang="hr-HR" sz="1200" spc="-1" strike="noStrike">
                <a:solidFill>
                  <a:srgbClr val="d5d2a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6f8d8c">
                  <a:alpha val="45098"/>
                </a:srgbClr>
              </a:gs>
              <a:gs pos="100000">
                <a:srgbClr val="d8ce4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59e42">
                  <a:alpha val="45098"/>
                </a:srgbClr>
              </a:gs>
              <a:gs pos="100000">
                <a:srgbClr val="83ada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Calibri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fdcb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fdcb7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9a57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eb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cb6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95a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5d2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d5d2a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5d2a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5054-8031-4E41-AC85-F89E3C9608DB}" type="slidenum">
              <a:rPr b="0" lang="hr-HR" sz="1200" spc="-1" strike="noStrike">
                <a:solidFill>
                  <a:srgbClr val="d5d2a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6f8d8c">
                  <a:alpha val="45098"/>
                </a:srgbClr>
              </a:gs>
              <a:gs pos="100000">
                <a:srgbClr val="d8ce4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59e42">
                  <a:alpha val="45098"/>
                </a:srgbClr>
              </a:gs>
              <a:gs pos="100000">
                <a:srgbClr val="83ada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9a57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eb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cb6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95a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2f2b2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2f2b2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62594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62594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62594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3FBD-89D6-4AD6-AC1C-462AB7D1FE2A}" type="slidenum">
              <a:rPr b="0" lang="hr-HR" sz="1200" spc="-1" strike="noStrike">
                <a:solidFill>
                  <a:srgbClr val="62594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291960" y="1371600"/>
            <a:ext cx="8650440" cy="2120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940000" y="5013000"/>
            <a:ext cx="2592360" cy="1127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Željka Zorić, prof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PMF, Spli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75e47"/>
                </a:solidFill>
                <a:latin typeface="Calibri"/>
              </a:rPr>
              <a:t>Bloom-ova taksonomija</a:t>
            </a: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kvalitativno strukturira različite vrste mišljenj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tri domene intelektualnog ponašanj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a9a57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2b20"/>
                </a:solidFill>
                <a:latin typeface="Constantia"/>
              </a:rPr>
              <a:t>kognitivna (znanje i razumijevanje)</a:t>
            </a: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a9a57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2b20"/>
                </a:solidFill>
                <a:latin typeface="Constantia"/>
              </a:rPr>
              <a:t>afektivna (stavovi i uvjerenja)</a:t>
            </a: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a9a57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2b20"/>
                </a:solidFill>
                <a:latin typeface="Constantia"/>
              </a:rPr>
              <a:t>psihomotorička (vještine i umijeća)</a:t>
            </a: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hijerarhijska struktur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aktivni glagoli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6226200" y="3429000"/>
            <a:ext cx="22795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500" spc="-1" strike="noStrike">
                <a:solidFill>
                  <a:srgbClr val="675e47"/>
                </a:solidFill>
                <a:latin typeface="Calibri"/>
              </a:rPr>
              <a:t>Kognitivna domena </a:t>
            </a:r>
            <a:br>
              <a:rPr sz="4500"/>
            </a:br>
            <a:endParaRPr b="0" lang="en-US" sz="4500" spc="-1" strike="noStrike">
              <a:solidFill>
                <a:srgbClr val="675e47"/>
              </a:solidFill>
              <a:latin typeface="Calibri"/>
            </a:endParaRPr>
          </a:p>
        </p:txBody>
      </p:sp>
      <p:pic>
        <p:nvPicPr>
          <p:cNvPr id="220" name="Content Placeholder 4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7137360" cy="33019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"/>
          <p:cNvSpPr/>
          <p:nvPr/>
        </p:nvSpPr>
        <p:spPr>
          <a:xfrm>
            <a:off x="3419640" y="5864400"/>
            <a:ext cx="53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2f2b20"/>
                </a:solidFill>
                <a:latin typeface="Calibri"/>
              </a:rPr>
              <a:t>(Anderson i Krathwohl, 2001.)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75e47"/>
                </a:solidFill>
                <a:latin typeface="Calibri"/>
              </a:rPr>
              <a:t>Kognitivna domena </a:t>
            </a:r>
            <a:r>
              <a:rPr b="0" i="1" lang="hr-HR" sz="2800" spc="-1" strike="noStrike">
                <a:solidFill>
                  <a:srgbClr val="675e47"/>
                </a:solidFill>
                <a:latin typeface="Calibri"/>
              </a:rPr>
              <a:t>(Anderson i Krathwohl, 2001.)</a:t>
            </a:r>
            <a:endParaRPr b="0" lang="en-US" sz="28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44360" y="907920"/>
          <a:ext cx="8855280" cy="5781960"/>
        </p:xfrm>
        <a:graphic>
          <a:graphicData uri="http://schemas.openxmlformats.org/drawingml/2006/table">
            <a:tbl>
              <a:tblPr/>
              <a:tblGrid>
                <a:gridCol w="4283280"/>
                <a:gridCol w="45720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Razina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Tipični aktivni glagoli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929160">
                <a:tc>
                  <a:txBody>
                    <a:bodyPr lIns="114120" rIns="11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ZAPAMTITI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čenici mogu reproducirati ili prepoznati informacije, ideje, koncepte i principe u obliku sličnom onome u kojem su ih učili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efinirati, opisati, identificirati, prepoznati, označiti, nabrojati, povezati, imenovati, ponoviti, reproducirati, izreći, odabrati, navesti, iskazati, poredati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f2b20"/>
                          </a:solidFill>
                          <a:latin typeface="Constantia"/>
                          <a:ea typeface="Arial"/>
                        </a:rPr>
                        <a:t>RAZUMJE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f2b20"/>
                          </a:solidFill>
                          <a:latin typeface="Constantia"/>
                          <a:ea typeface="Arial"/>
                        </a:rPr>
                        <a:t>učenici razumiju i mogu objasniti ili interpretirati informacije zasnovane na prethodno stečenim znanjim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bjasniti, dati primjer, grupirati, pretvoriti, obraniti, razlikovati,  procijeniti, izvesti, zaključiti, predvidjeti, rezimirati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f2b20"/>
                          </a:solidFill>
                          <a:latin typeface="Constantia"/>
                          <a:ea typeface="Arial"/>
                        </a:rPr>
                        <a:t>PRIMIJENI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f2b20"/>
                          </a:solidFill>
                          <a:latin typeface="Constantia"/>
                          <a:ea typeface="Arial"/>
                        </a:rPr>
                        <a:t>učenici odabiru i upotrebljavaju naučene koncepte, principe, teorije i metode kako bi riješili problem ili zadatak u konkretnoj i novoj situaciji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imijeniti, izračunati,  prilagoditi, riješiti, otkriti, demonstrirati,baratati,pripremiti,koristiti, upotrijebiti, proizvesti, povezati, pokazati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f2b20"/>
                          </a:solidFill>
                          <a:latin typeface="Constantia"/>
                          <a:ea typeface="Arial"/>
                        </a:rPr>
                        <a:t>ANALIZIRA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f2b20"/>
                          </a:solidFill>
                          <a:latin typeface="Constantia"/>
                          <a:ea typeface="Arial"/>
                        </a:rPr>
                        <a:t>učenici su u stanju raščlaniti materijal na osnovne sastavnice tako da se može razumjeti njegova organizacijska struktur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alizirati, raščlaniti, skicirati, razlikovati, izdvojiti, identificirati, prikazati, ukazati na,  staviti u odnos sa, klasificirati, sortira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716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f2b20"/>
                          </a:solidFill>
                          <a:latin typeface="Constantia"/>
                          <a:ea typeface="Arial"/>
                        </a:rPr>
                        <a:t>PROCIJENI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čenici imaju sposobnost prosudbe vrijednosti materijala za određenu namjenu, u skladu s odabranim kriterijim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ocijeniti, ocijeniti, usporediti, zaključiti, suprotstaviti, kritizirati, opravdati, odabrati, podržati, preporučiti, argumentira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29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f2b20"/>
                          </a:solidFill>
                          <a:latin typeface="Constantia"/>
                          <a:ea typeface="Arial"/>
                        </a:rPr>
                        <a:t>KREIRA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čenici su u stanju objediniti (povezati, integrirati) dijelove (rezultate, znanja i vještine) u novu funkcionalnu cjelinu ili strukturu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vezati, integrirati, kreirati, razviti, kombinirati, prikupiti, dizajnirati, generirati, modificirati, organizirati, planirati, preurediti, napisati, konstruirati, revidirati, rekonstruira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75e47"/>
                </a:solidFill>
                <a:latin typeface="Calibri"/>
              </a:rPr>
              <a:t>Afektivna domena </a:t>
            </a:r>
            <a:r>
              <a:rPr b="0" i="1" lang="hr-HR" sz="2800" spc="-1" strike="noStrike">
                <a:solidFill>
                  <a:srgbClr val="675e47"/>
                </a:solidFill>
                <a:latin typeface="Calibri"/>
              </a:rPr>
              <a:t>(Krathwohl i suradnici, 1964.)</a:t>
            </a:r>
            <a:endParaRPr b="0" lang="en-US" sz="28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79280" y="1125360"/>
          <a:ext cx="8856720" cy="5529600"/>
        </p:xfrm>
        <a:graphic>
          <a:graphicData uri="http://schemas.openxmlformats.org/drawingml/2006/table">
            <a:tbl>
              <a:tblPr/>
              <a:tblGrid>
                <a:gridCol w="4283280"/>
                <a:gridCol w="457344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Razina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Tipični aktivni glagol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682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PRIHVAĆANJE 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čenici svjesno i pažljivo prate i žele čuti 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pitati, izabrati, opisati, dati, držati, identificirati, smjestiti, imenovati, ukazati, izabrati, odgovoriti, koristiti, slijediti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759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REAGIRANJE / ODGOVARANJE 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čenici aktivno sudjeluju, pažljivo prate i reagiraju, motivirani su 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odgovoriti, pomoći, sastaviti, prilagoditi se, raspraviti, pozdraviti, označiti, izvesti, prakticirati, predstaviti, čitati, izvijestiti, izdvojiti, reći, napisati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214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SVAJANJE VRIJEDNOSTI 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čenici poštuju ili vrednuju osobu vezanu s određenim objektom, događajem ili ponašanjem, u rasponu od prihvaćanja do složenijeg stanja posvećivanja 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dovršiti, opisati, razlikovati, objasniti, slijediti, oblikovati, inicirati, pozvati, uključiti, opravdati, prosuditi, predložiti, izvijestiti, odabrati, podijeliti, proučiti, izraditi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441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ORGANIZIRANJE VRIJEDNOSTI 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čenik organizira vrijednosti po prioritetima proučavanjem kontrasta među različitim vrijednostima, rješavajući konflikt među njima; stvara jedinstveni sustav vrijednosti; naglasak je na usporedbi, proučavanju odnosa i sintezi vrijednosti 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slijediti, prihvatiti, mijenjati, urediti, kombinirati, usporediti, dopuniti, obraniti, objasniti, generalizirati,  identificirati, integrirati, modificirati, organizirati,  pripremiti, sintetizirati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986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SVAJANJE SUSTAVA VRIJEDNOSTI / INTEGRITET 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čenik posjeduje sustav vrijednosti koji kontrolira njegovo ponašanje (karakter) i predstavlja njegovu osobnost 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3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djelovati, razlikovati, prikazati, utjecati, slušati, modificirati, prilagoditi, izvesti, primijeniti, predložiti, kvalificirati, ispitati, revidirati, poslužiti, riješiti, koristiti, vrednovati </a:t>
                      </a:r>
                      <a:endParaRPr b="0" lang="en-US" sz="13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75e47"/>
                </a:solidFill>
                <a:latin typeface="Calibri"/>
              </a:rPr>
              <a:t>Psihomotorička domena </a:t>
            </a:r>
            <a:r>
              <a:rPr b="0" i="1" lang="hr-HR" sz="2800" spc="-1" strike="noStrike">
                <a:solidFill>
                  <a:srgbClr val="675e47"/>
                </a:solidFill>
                <a:latin typeface="Calibri"/>
              </a:rPr>
              <a:t>(Simpson, 1972.)</a:t>
            </a:r>
            <a:endParaRPr b="0" lang="en-US" sz="28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44360" y="981000"/>
          <a:ext cx="8855280" cy="5565960"/>
        </p:xfrm>
        <a:graphic>
          <a:graphicData uri="http://schemas.openxmlformats.org/drawingml/2006/table">
            <a:tbl>
              <a:tblPr/>
              <a:tblGrid>
                <a:gridCol w="4283280"/>
                <a:gridCol w="45720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Razina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Tipični aktivni glagoli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811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PERCEPCIJA / MOĆ ZAPAŽANJA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čenik upotrebljava osjetila kao vodstvo u motoričkim aktivnostima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izabrati, prepoznati, uočiti, izdvojiti, povezati, čuti, slušati, primijetiti, prepoznati, vidjeti, osjetiti, namirisati, okusiti, gledati, prati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11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SPREMNOST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čenik je mentalno, emotivno i fizički spreman za aktivnost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početi, objasniti, pokrenuti, nastaviti, reagirati, odgovori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811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VOĐENI RAZGOVOR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čenik oponaša i razvija vještine (vježba), često diskretnim koracima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oponašati, kopirati, duplicirati, udvojiti, baratati uz vodstvo, izvršiti uz nadzor, vježbati, pokušati, ponoviti, prirediti, rastaviti, razdvojiti, sastavi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11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AUTOMATIZIRANI ODGOVOR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čenik s povećanom efikasnošću, sigurnošću i okretnošću izvršava radnj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izvesti, konstruirati, podići, provesti, voditi, izvršiti, ubrzati, proizves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73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SLOŽENA OPERACIJA (AUTOMATIZACIJA)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čenik automatizirano izvršava radnj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popraviti, izgraditi, upravljati, demonstrirati, kontrolirati, upravljati, voditi, održavati efikasnost, ovlada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11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PRILAGODBA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čenik prilagođava vještine problemskoj situacij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prilagoditi, uskladiti, preokrenuti, revidirati reorganizirati, promijeni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811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ORGANIZACIJA / STVARANJ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učenik stvara nove obrasce za posebne situacije ili slučajev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izgraditi, konstruirati, urediti, sastaviti, izumiti, konstruirati, dizajnirati, kombinirati, inovirat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75e47"/>
                </a:solidFill>
                <a:latin typeface="Calibri"/>
              </a:rPr>
              <a:t>Kako formulirati ishode učenja </a:t>
            </a:r>
            <a:br>
              <a:rPr sz="3600"/>
            </a:br>
            <a:r>
              <a:rPr b="0" lang="hr-HR" sz="3600" spc="-1" strike="noStrike">
                <a:solidFill>
                  <a:srgbClr val="675e47"/>
                </a:solidFill>
                <a:latin typeface="Calibri"/>
              </a:rPr>
              <a:t>Preporuke...</a:t>
            </a:r>
            <a:endParaRPr b="0" lang="en-US" sz="3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učeničke aktivnosti izričemo aktivnim glagolim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izbjegavati neprecizne glagole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258920" y="2924280"/>
          <a:ext cx="6624720" cy="2879640"/>
        </p:xfrm>
        <a:graphic>
          <a:graphicData uri="http://schemas.openxmlformats.org/drawingml/2006/table">
            <a:tbl>
              <a:tblPr/>
              <a:tblGrid>
                <a:gridCol w="3313080"/>
                <a:gridCol w="3311640"/>
              </a:tblGrid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Aktivni glagoli (ishodi)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Neprecizni glagoli (ciljevi)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9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analizira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pisa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efinira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napravi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usporedi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azlikova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argumentira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zna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azumje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cijeni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zapamti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upozna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nauči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svijestiti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75e47"/>
                </a:solidFill>
                <a:latin typeface="Calibri"/>
              </a:rPr>
              <a:t>Kako formulirati ishode učenja? </a:t>
            </a:r>
            <a:br>
              <a:rPr sz="3600"/>
            </a:br>
            <a:r>
              <a:rPr b="0" lang="hr-HR" sz="3600" spc="-1" strike="noStrike">
                <a:solidFill>
                  <a:srgbClr val="675e47"/>
                </a:solidFill>
                <a:latin typeface="Calibri"/>
              </a:rPr>
              <a:t>Preporuke...</a:t>
            </a:r>
            <a:endParaRPr b="0" lang="en-US" sz="3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15640" y="1507680"/>
            <a:ext cx="87138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učeničke aktivnosti izričemo aktivnim glagolim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izbjegavati neprecizne glagole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ishode uvijek započeti sa "Učenici će...."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odabrati između 4 – 8 ishoda za pojedinu jedinicu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fokusirati se na bitno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izbjegavati složene jezične konstrukcije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izbjegavati kompariranje više / manje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719280" y="5877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2b20"/>
                </a:solidFill>
                <a:latin typeface="Calibri"/>
              </a:rPr>
              <a:t>Pr.1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2340000" y="51674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2b20"/>
                </a:solidFill>
                <a:latin typeface="Calibri"/>
              </a:rPr>
              <a:t>Pr.2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4211640" y="58262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2b20"/>
                </a:solidFill>
                <a:latin typeface="Calibri"/>
              </a:rPr>
              <a:t>Pr.3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6084720" y="5156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2b20"/>
                </a:solidFill>
                <a:latin typeface="Calibri"/>
              </a:rPr>
              <a:t>Pr.4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766764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2b20"/>
                </a:solidFill>
                <a:latin typeface="Calibri"/>
              </a:rPr>
              <a:t>Pr.5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75e47"/>
                </a:solidFill>
                <a:latin typeface="Calibri"/>
              </a:rPr>
              <a:t>Kreiranje testa </a:t>
            </a: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836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idealno vrijeme – planiranje nastave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trebamo identificirati :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1" marL="735120" indent="-343080">
              <a:spcBef>
                <a:spcPts val="601"/>
              </a:spcBef>
              <a:buClr>
                <a:srgbClr val="a9a57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2b20"/>
                </a:solidFill>
                <a:latin typeface="Constantia"/>
              </a:rPr>
              <a:t>osnovne činjenice</a:t>
            </a: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  <a:p>
            <a:pPr lvl="1" marL="735120" indent="-343080">
              <a:spcBef>
                <a:spcPts val="601"/>
              </a:spcBef>
              <a:buClr>
                <a:srgbClr val="a9a57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2b20"/>
                </a:solidFill>
                <a:latin typeface="Constantia"/>
              </a:rPr>
              <a:t>sposobnosti</a:t>
            </a: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  <a:p>
            <a:pPr lvl="1" marL="735120" indent="-343080">
              <a:spcBef>
                <a:spcPts val="601"/>
              </a:spcBef>
              <a:buClr>
                <a:srgbClr val="a9a57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2b20"/>
                </a:solidFill>
                <a:latin typeface="Constantia"/>
              </a:rPr>
              <a:t>koncepte</a:t>
            </a: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artikulacija ishod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1" marL="735120" indent="-343080">
              <a:spcBef>
                <a:spcPts val="601"/>
              </a:spcBef>
              <a:buClr>
                <a:srgbClr val="a9a57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2b20"/>
                </a:solidFill>
                <a:latin typeface="Constantia"/>
              </a:rPr>
              <a:t>Što će moji učenici znati?</a:t>
            </a: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  <a:p>
            <a:pPr lvl="1" marL="735120" indent="-343080">
              <a:spcBef>
                <a:spcPts val="601"/>
              </a:spcBef>
              <a:buClr>
                <a:srgbClr val="a9a57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2b20"/>
                </a:solidFill>
                <a:latin typeface="Constantia"/>
              </a:rPr>
              <a:t>Što će moji učenici moći napraviti?</a:t>
            </a: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75e47"/>
                </a:solidFill>
                <a:latin typeface="Calibri"/>
              </a:rPr>
              <a:t>Što je to dobro sastavljen test?</a:t>
            </a: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5000"/>
            <a:ext cx="82296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600" spc="-1" strike="noStrike">
                <a:solidFill>
                  <a:srgbClr val="2f2b20"/>
                </a:solidFill>
                <a:latin typeface="Constantia"/>
              </a:rPr>
              <a:t>pouzdan</a:t>
            </a:r>
            <a:r>
              <a:rPr b="0" lang="hr-HR" sz="3600" spc="-1" strike="noStrike">
                <a:solidFill>
                  <a:srgbClr val="2f2b20"/>
                </a:solidFill>
                <a:latin typeface="Constantia"/>
              </a:rPr>
              <a:t> </a:t>
            </a: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– rezultati konzistentni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600" spc="-1" strike="noStrike">
                <a:solidFill>
                  <a:srgbClr val="2f2b20"/>
                </a:solidFill>
                <a:latin typeface="Constantia"/>
              </a:rPr>
              <a:t>valjan</a:t>
            </a:r>
            <a:r>
              <a:rPr b="0" lang="hr-HR" sz="3600" spc="-1" strike="noStrike">
                <a:solidFill>
                  <a:srgbClr val="2f2b20"/>
                </a:solidFill>
                <a:latin typeface="Constantia"/>
              </a:rPr>
              <a:t> </a:t>
            </a: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– provjerava ono što bi i trebao provjeravati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600" spc="-1" strike="noStrike">
                <a:solidFill>
                  <a:srgbClr val="2f2b20"/>
                </a:solidFill>
                <a:latin typeface="Constantia"/>
              </a:rPr>
              <a:t>pošten</a:t>
            </a:r>
            <a:r>
              <a:rPr b="0" lang="hr-HR" sz="3600" spc="-1" strike="noStrike">
                <a:solidFill>
                  <a:srgbClr val="2f2b20"/>
                </a:solidFill>
                <a:latin typeface="Constantia"/>
              </a:rPr>
              <a:t> </a:t>
            </a: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– provjerava učenicima poznato gradivo, napisan je učenicima poznatim jezikom, bez dvosmislenosti, bez igri riječima i bez dodavanja nepotrebnih informacij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2"/>
          <a:srcRect l="17320" t="21106" r="9249" b="20128"/>
          <a:stretch/>
        </p:blipFill>
        <p:spPr>
          <a:xfrm>
            <a:off x="1104840" y="5646600"/>
            <a:ext cx="1930320" cy="5637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"/>
          <p:cNvPicPr/>
          <p:nvPr/>
        </p:nvPicPr>
        <p:blipFill>
          <a:blip r:embed="rId3"/>
          <a:srcRect l="23795" t="16554" r="11329" b="26787"/>
          <a:stretch/>
        </p:blipFill>
        <p:spPr>
          <a:xfrm>
            <a:off x="4421160" y="6059520"/>
            <a:ext cx="1357200" cy="542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4"/>
          <a:srcRect l="20571" t="15350" r="7901" b="20617"/>
          <a:stretch/>
        </p:blipFill>
        <p:spPr>
          <a:xfrm>
            <a:off x="6470640" y="5315040"/>
            <a:ext cx="158760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500" spc="-1" strike="noStrike">
                <a:solidFill>
                  <a:srgbClr val="675e47"/>
                </a:solidFill>
                <a:latin typeface="Calibri"/>
              </a:rPr>
              <a:t>Čestice testa (zadaci)</a:t>
            </a:r>
            <a:endParaRPr b="0" lang="en-US" sz="45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8360" y="15508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slobodni esej, činjenični esej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pitanja s kratkim odgovorima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čestice nadopunjavanja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čestice višestrukog izbora (s jednim ili više točnih odgovora)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čestice ili tvrdnje koje treba upariti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nepotpune rečenice ili nepotpuni dijagrami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točno/netočno tvrdnje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pitanja otvorenog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pitanja zatvorenog tipa.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247" name="TextBox 3"/>
          <p:cNvSpPr/>
          <p:nvPr/>
        </p:nvSpPr>
        <p:spPr>
          <a:xfrm rot="20034600">
            <a:off x="5590080" y="5127480"/>
            <a:ext cx="33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2f2b20"/>
                </a:solidFill>
                <a:latin typeface="Constantia"/>
              </a:rPr>
              <a:t>Prikupiti što više informacija na najekonomičniji način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08000" y="1197000"/>
            <a:ext cx="86342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„</a:t>
            </a:r>
            <a:r>
              <a:rPr b="0" i="1" lang="hr-HR" sz="2600" spc="-1" strike="noStrike">
                <a:solidFill>
                  <a:srgbClr val="2f2b20"/>
                </a:solidFill>
                <a:latin typeface="Constantia"/>
              </a:rPr>
              <a:t>Većina učitelja trati vrijeme postavljajući pitanja s namjerom da otkrije što učenik ne zna, 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2f2b20"/>
                </a:solidFill>
                <a:latin typeface="Constantia"/>
              </a:rPr>
              <a:t>dok je pravo umijeće ispitivanja 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2f2b20"/>
                </a:solidFill>
                <a:latin typeface="Constantia"/>
              </a:rPr>
              <a:t>otkriti što učenik zna ili je sposoban saznati.“</a:t>
            </a: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Albert Einstein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2276640" y="3357720"/>
            <a:ext cx="2863800" cy="27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75e47"/>
                </a:solidFill>
                <a:latin typeface="Calibri"/>
              </a:rPr>
              <a:t>Koliko težak treba biti test?</a:t>
            </a: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testom želimo provjeriti jesu li učenici naučili gradivo ili ne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balansiranje nastavnik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pretežak – obeshrabrenje, demotivacij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prelagan – nerelevantni rezultati 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pripaziti na bodovanje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vrijeme potrebno za rješavanje test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broj, složenost i povezanost zadatak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usklađenost bodovanja kod ispravljanj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325116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75e47"/>
                </a:solidFill>
                <a:latin typeface="Calibri"/>
              </a:rPr>
              <a:t>I za kraj...</a:t>
            </a: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pic>
        <p:nvPicPr>
          <p:cNvPr id="251" name="Content Placeholder 3" descr=""/>
          <p:cNvPicPr/>
          <p:nvPr/>
        </p:nvPicPr>
        <p:blipFill>
          <a:blip r:embed="rId2"/>
          <a:stretch/>
        </p:blipFill>
        <p:spPr>
          <a:xfrm>
            <a:off x="906480" y="1628640"/>
            <a:ext cx="689292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605916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75e47"/>
                </a:solidFill>
                <a:latin typeface="Calibri"/>
              </a:rPr>
              <a:t>7. razred, Linearna funkcija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50920" y="636480"/>
          <a:ext cx="8713800" cy="6251760"/>
        </p:xfrm>
        <a:graphic>
          <a:graphicData uri="http://schemas.openxmlformats.org/drawingml/2006/table">
            <a:tbl>
              <a:tblPr/>
              <a:tblGrid>
                <a:gridCol w="1373040"/>
                <a:gridCol w="2438280"/>
                <a:gridCol w="490248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Nastavna tema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Ključni pojmovi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Ishodi učenja: učenik će znati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195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Linearna funkcija  (2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linearna funkcija, vrijednost funkcije, pravilo linearne funkcije, argument, parametri linearne funkcije, zavisna i nezavisna varijabl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epoznati linearnu funkciju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zapisati  pravilom linearnu funkciju zadanu parametrima i tablično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izračunati vrijednost linearne funkcije za zadani argument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izračunati argument funkcije ako je zadana njezina vrijednost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91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Graf linearne funkcije, jednadžba pravca  (5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graf linearne funkcije, eksplicitni i implicitni oblik jednadžbe pravca, nagib pravca, nultočka linearne funkcije, sjecište s osi </a:t>
                      </a:r>
                      <a:r>
                        <a:rPr b="0" i="1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x</a:t>
                      </a: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 , odsječak na osi </a:t>
                      </a:r>
                      <a:r>
                        <a:rPr b="0" i="1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y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nacrtati graf linearne funkcij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jednadžbu pravca funkcije prikazane grafom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pripadnost zadane točke grafu funkcij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čitavati vrijednosti funkcije s graf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uočiti prednosti određenog oblika jednadžbe pravc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nul-točku i odsječak zadane linearne funkcije – računski i grafičk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jednadžbu pravca zadanog točkom i koeficijentom smjer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jednadžbu pravca zadanog dvjema točka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6058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75e47"/>
                </a:solidFill>
                <a:latin typeface="Calibri"/>
              </a:rPr>
              <a:t>7. razred, Linearna funkcija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57200" y="1052640"/>
          <a:ext cx="8229600" cy="4305240"/>
        </p:xfrm>
        <a:graphic>
          <a:graphicData uri="http://schemas.openxmlformats.org/drawingml/2006/table">
            <a:tbl>
              <a:tblPr/>
              <a:tblGrid>
                <a:gridCol w="1676520"/>
                <a:gridCol w="2592360"/>
                <a:gridCol w="3960720"/>
              </a:tblGrid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Nastavna te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Ključni pojmov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Ishodi učenja: učenik će znat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1398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Tok linearne funkcije (1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koeficijent smjera, rastuća i padajuća funkcija, brzina rasta – pada, konstantna funkci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geometrijski interpretirati utjecaj parametara na tok funkcij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398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Usporedni i okomiti pravci (2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usporedni i okomiti pravc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međusobni odnos dva pravc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iz poznatih uvjeta odrediti jednadžbu usporednog ili okomitog pravca na zadani pravac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95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Grafičko rješavanje sustava linearnih jednadžbi (2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esjek pravaca, sjecište, koordinate sjecišta, grafički prikaz sustava linearnih jednadžbi, nemoguće rješenje, beskonačno mnogo rješen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grafički riješiti sustav linearnih jednadžbi i provjeriti rješenje računsk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ema grafičkom prikazu odrediti vrstu rješenja sustava linearnih jednadžb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  <p:sp>
        <p:nvSpPr>
          <p:cNvPr id="256" name="TextBox 3"/>
          <p:cNvSpPr/>
          <p:nvPr/>
        </p:nvSpPr>
        <p:spPr>
          <a:xfrm>
            <a:off x="8101080" y="74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2b20"/>
                </a:solidFill>
                <a:latin typeface="Calibri"/>
              </a:rPr>
              <a:t>naza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250920" y="1413000"/>
          <a:ext cx="8642160" cy="5057640"/>
        </p:xfrm>
        <a:graphic>
          <a:graphicData uri="http://schemas.openxmlformats.org/drawingml/2006/table">
            <a:tbl>
              <a:tblPr/>
              <a:tblGrid>
                <a:gridCol w="1685880"/>
                <a:gridCol w="1638360"/>
                <a:gridCol w="5317920"/>
              </a:tblGrid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Nastavna te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Ključni pojmov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Ishodi učenja: učenik će znat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195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Višekratnik. Djelitelj (3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višekratnik, djelitelj, biti djeljiv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Times New Roman"/>
                        </a:rPr>
                        <a:t>dati primjer</a:t>
                      </a: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 i objasniti pojam višekratnik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nekoliko višekratnika zadanog bro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Times New Roman"/>
                        </a:rPr>
                        <a:t>dati primjer</a:t>
                      </a: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</a:rPr>
                        <a:t> i objasniti pojam djelitel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</a:rPr>
                        <a:t>objasniti što znači da je broj djeljiv  nekim brojem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</a:rPr>
                        <a:t>odrediti djelitelje zadanog bro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</a:rPr>
                        <a:t>provjeriti je li neki broj djelitelj/višekratnik danog bro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67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Svojstva djeljivosti (2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jeljivost zbroja, djeljivost razlike, djeljivost umnošk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pisati, prepoznati i primijeniti svojstva djeljivosti zbroja , razlike, umnoška na zadaci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83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jeljivost s 10, 5, 2, 3 i 9 (3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avila djeljivosti s 10, 5, 2, 3 i 9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iskazati, objasniti i primijeniti pravila za djeljivost s 10, 5, 2, 3, 9 (bez dijeljenja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3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osti i složeni brojevi (2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osti broj, složeni broj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efinirati proste brojev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efinirati složene brojev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ovjeriti je li broj prost ili složen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sp>
        <p:nvSpPr>
          <p:cNvPr id="258" name="Title 1"/>
          <p:cNvSpPr/>
          <p:nvPr/>
        </p:nvSpPr>
        <p:spPr>
          <a:xfrm>
            <a:off x="179280" y="246240"/>
            <a:ext cx="7705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75e47"/>
                </a:solidFill>
                <a:latin typeface="Calibri"/>
              </a:rPr>
              <a:t>5. razred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75e47"/>
                </a:solidFill>
                <a:latin typeface="Calibri"/>
              </a:rPr>
              <a:t>Djeljivost na skupu prirodnih brojeva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50920" y="1413000"/>
          <a:ext cx="8642160" cy="4586040"/>
        </p:xfrm>
        <a:graphic>
          <a:graphicData uri="http://schemas.openxmlformats.org/drawingml/2006/table">
            <a:tbl>
              <a:tblPr/>
              <a:tblGrid>
                <a:gridCol w="1749240"/>
                <a:gridCol w="1851120"/>
                <a:gridCol w="50418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Nastavna te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Ključni pojmov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Ishodi učenja: učenik će znat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112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astavljanje broja na proste faktore (2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astav broja na faktore, rastav broja na proste faktor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astaviti broj na faktor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astaviti broj na proste faktor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68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Zajednički djelitelj. Najveći zajednički djelitelj (2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zajednički djelitelj, najveći zajednički djelitelj, relativno prosti brojev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efinirati, opisati i odrediti zajednički djelitelj brojev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bjasniti, simbolički zapisati i odrediti najveći zajednički djelitelj brojev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efinirati i provjeriti  jesu li zadani brojevi relativno prost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0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Zajednički višekratnik. Najmanji zajednički višekratnik (2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zajednički višekratnik, najmanji zajednički višekratnik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efinirati, opisati i odrediti zajednički višekratnik brojev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bjasniti, simbolički zapisati i odrediti najmanji zajednički višekratnik brojev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  <p:sp>
        <p:nvSpPr>
          <p:cNvPr id="260" name="TextBox 3"/>
          <p:cNvSpPr/>
          <p:nvPr/>
        </p:nvSpPr>
        <p:spPr>
          <a:xfrm>
            <a:off x="7885080" y="260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2b20"/>
                </a:solidFill>
                <a:latin typeface="Calibri"/>
              </a:rPr>
              <a:t>naza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1" name="Title 1"/>
          <p:cNvSpPr/>
          <p:nvPr/>
        </p:nvSpPr>
        <p:spPr>
          <a:xfrm>
            <a:off x="179280" y="714240"/>
            <a:ext cx="8785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75e47"/>
                </a:solidFill>
                <a:latin typeface="Calibri"/>
              </a:rPr>
              <a:t>5. razred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75e47"/>
                </a:solidFill>
                <a:latin typeface="Calibri"/>
              </a:rPr>
              <a:t>Djeljivost na skupu prirodnih brojeva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79280" y="765000"/>
          <a:ext cx="8785440" cy="5619960"/>
        </p:xfrm>
        <a:graphic>
          <a:graphicData uri="http://schemas.openxmlformats.org/drawingml/2006/table">
            <a:tbl>
              <a:tblPr/>
              <a:tblGrid>
                <a:gridCol w="1548000"/>
                <a:gridCol w="1998720"/>
                <a:gridCol w="5238720"/>
              </a:tblGrid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Nastavna te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Ključni pojmov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Ishodi učenja: učenik će znat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195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acionalni brojevi (2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acionalni broj, skup racionalnih brojeva, pozitivni i negativni racionalni brojevi, standardni zapis racionalnog bro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napisati razlomak u standardnom obliku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etvarati razlomak u decimalni oblik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azlikovati konačne i beskonačne periodičke decimalne brojev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imenovati dijelove beskonačnog periodičkog decimalnog broja (cijeli dio, pred period i period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398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ikazivanje racionalnih brojeva na pravcu (2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brojevni pravac, apsolutna vrijednost racionalnog broja, suprotni brojev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ikazati racionalni broj na brojevnom pravcu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udaljenost racionalnog broja i ishodišta na brojevnom pravcu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izračunati apsolutnu vrijednost racionalnog bro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suprotan broj racionalnom broju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2238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Uspoređivanje racionalnih brojeva (2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uspoređivanje pozitivnog i negativnog racionalnog broja, uspoređivanje negativnih racionalnih brojev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usporediti racionalne brojeve suprotnih predznaka i simbolički zapisati rezultat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usporediti racionalne brojeve istih predznaka i simbolički zapisati rezultat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(racionalni brojevi- standardi oblik, decimalni zapis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605916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75e47"/>
                </a:solidFill>
                <a:latin typeface="Calibri"/>
              </a:rPr>
              <a:t>6. razred, Racionalni brojevi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179280" y="765000"/>
          <a:ext cx="8785440" cy="5900760"/>
        </p:xfrm>
        <a:graphic>
          <a:graphicData uri="http://schemas.openxmlformats.org/drawingml/2006/table">
            <a:tbl>
              <a:tblPr/>
              <a:tblGrid>
                <a:gridCol w="1548000"/>
                <a:gridCol w="1998720"/>
                <a:gridCol w="5238720"/>
              </a:tblGrid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Nastavna te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Ključni pojmov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Ishodi učenja: učenik će znat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2517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Zbrajanje i oduzimanje racionalnih brojeva (4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zbrajanje i oduzimanje racionalnih brojeva, zbroj i razlika racionalnih brojeva, svojstva zbrajanja racionalnih brojev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zbrajati/oduzimati racionalne brojeve zapisane u standardnom (decimalnom) obliku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izračunati zbroj/razliku racionalnih brojeva u standardnom (decimalnom) obliku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nabrojati, opisati i primijeniti svojstva zbrajanja racionalnih brojeva na zadatk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67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Množenje racionalnih brojeva (2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množenje racionalnih brojeva, umnožak racionalnih brojev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množiti racionalne brojeve zapisane u standardnom (decimalnom) obliku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nabrojati, opisati i primijeniti svojstva množenja racionalnih brojeva na zadatk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imijeniti odgovarajući redoslijed računskih operacija u zadaci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67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ecipročni brojevi. Dijeljenje racionalnih brojeva (3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ecipročan broj, dijeljenje racionalnih brojeva, količnik racionalnih brojev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recipročan broj racionalnog bro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bjasniti svojstva racionalnih brojev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ijeliti racionalne brojeve zapisane u standardnom (decimalnom) obliku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imijeniti odgovarajući redoslijed računskih operacija u zadaci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  <p:sp>
        <p:nvSpPr>
          <p:cNvPr id="265" name="TextBox 3"/>
          <p:cNvSpPr/>
          <p:nvPr/>
        </p:nvSpPr>
        <p:spPr>
          <a:xfrm>
            <a:off x="7885080" y="260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2b20"/>
                </a:solidFill>
                <a:latin typeface="Calibri"/>
              </a:rPr>
              <a:t>naza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605916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75e47"/>
                </a:solidFill>
                <a:latin typeface="Calibri"/>
              </a:rPr>
              <a:t>6. razred, Racionalni brojevi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480" y="1270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75e47"/>
                </a:solidFill>
                <a:latin typeface="Calibri"/>
              </a:rPr>
              <a:t>2. razred (SŠ), Kvadratna jednadžba</a:t>
            </a:r>
            <a:endParaRPr b="0" lang="en-US" sz="44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79280" y="1052640"/>
          <a:ext cx="8785440" cy="5429160"/>
        </p:xfrm>
        <a:graphic>
          <a:graphicData uri="http://schemas.openxmlformats.org/drawingml/2006/table">
            <a:tbl>
              <a:tblPr/>
              <a:tblGrid>
                <a:gridCol w="2086200"/>
                <a:gridCol w="2230200"/>
                <a:gridCol w="4469040"/>
              </a:tblGrid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Nastavna te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Ključni pojmov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Ishodi učenja: učenik će znat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2238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Kvadratna jednadžb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kvadratna jednadžba, vodeći koeficijent, slobodni koeficijent, čista kvadratna jednadžba, prikra</a:t>
                      </a: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Times New Roman"/>
                        </a:rPr>
                        <a:t>ć</a:t>
                      </a: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</a:rPr>
                        <a:t>ena kvadratna jednadžba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epoznati kvadratnu jednadžbu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koeficijente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ješavati čiste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ješavati prikraćene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ješavati kvadratne jednadžbe rastavljanjem na faktor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63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ješenja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svođenje na potpuni kvadrat, normirani oblik, rješenja kvadratne jednadžbe, problemi drugog stupn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efinirati , prepoznati i odrediti  normirani oblik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bjasniti princip svođenja na potpuni kvadrat pri rješavanju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izvesti i primijeniti formulu za rješavanje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ovjeriti je li dani broj rješenje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transformirati i riješiti zadanu jednadžbu u obliku kvadratne jednadžbe 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tekstualni zadatak prikazati i riješiti pomoću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480" y="1270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75e47"/>
                </a:solidFill>
                <a:latin typeface="Calibri"/>
              </a:rPr>
              <a:t>2. razred (SŠ), Kvadratna jednadžba</a:t>
            </a:r>
            <a:endParaRPr b="0" lang="en-US" sz="44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79280" y="1052640"/>
          <a:ext cx="8785440" cy="5709960"/>
        </p:xfrm>
        <a:graphic>
          <a:graphicData uri="http://schemas.openxmlformats.org/drawingml/2006/table">
            <a:tbl>
              <a:tblPr/>
              <a:tblGrid>
                <a:gridCol w="1800360"/>
                <a:gridCol w="2160720"/>
                <a:gridCol w="4824360"/>
              </a:tblGrid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Nastavna te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Ključni pojmov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Ishodi učenja: učenik će znat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1398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iskriminanta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iskriminanta kvadratne jednadžbe, priroda rješenja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izračunati diskriminantu i opisati prirodu rješenja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iz prirode rješenja kvadratne jednadžbe procijeniti i donijeti zaključke o diskriminant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07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Vieteove formul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Vieteove formule,  zbroj i umnožak rješenja kvadratne jednadžbe, faktorizacija kvadratnog trino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definirati , opisati i računati  Vieteove formul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imijeniti Vieteove formule na računanje složenijih algebarskih izraza sa rješenji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imijeniti Vieteove formule za određivanje kvadratne jednadžbe kojoj su zadana rješenja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imijeniti Vieteove formule za određivanje rješenja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imijeniti Vieteove formule na faktorizaciju kvadratnog trino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95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Jednadžbe koje se svode na kvadratn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metoda supstitucije, bikvadratna jednadžba, sustav linearne i kvadratne jednadžbe, iracional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epoznati i metodom supstitucije riješiti bikvadratnu jednadžbu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iješiti sustav linearne i kvadratne jednadžb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riješiti iracionalnu jednadžbu i argumentirati njena rješen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  <p:sp>
        <p:nvSpPr>
          <p:cNvPr id="271" name="TextBox 3"/>
          <p:cNvSpPr/>
          <p:nvPr/>
        </p:nvSpPr>
        <p:spPr>
          <a:xfrm>
            <a:off x="8172360" y="619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2b20"/>
                </a:solidFill>
                <a:latin typeface="Calibri"/>
              </a:rPr>
              <a:t>naza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500" spc="-1" strike="noStrike">
                <a:solidFill>
                  <a:srgbClr val="675e47"/>
                </a:solidFill>
                <a:latin typeface="Calibri"/>
              </a:rPr>
              <a:t>Vrednovanje postignuća učenika</a:t>
            </a:r>
            <a:endParaRPr b="0" lang="en-US" sz="45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2f2b2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razlike među pojmovim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a9a57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2b20"/>
                </a:solidFill>
                <a:latin typeface="Constantia"/>
              </a:rPr>
              <a:t>ciljevi</a:t>
            </a: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a9a57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2b20"/>
                </a:solidFill>
                <a:latin typeface="Constantia"/>
              </a:rPr>
              <a:t>ishodi učenja</a:t>
            </a: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a9a57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2b20"/>
                </a:solidFill>
                <a:latin typeface="Constantia"/>
              </a:rPr>
              <a:t>kompetencije</a:t>
            </a: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proces određivanja ishoda učenj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primjeri ishoda učenja na gradivu osnovne/srednje škole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objektivno provjeravanje i vrednovanje ishod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19120" y="27576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75e47"/>
                </a:solidFill>
                <a:latin typeface="Calibri"/>
              </a:rPr>
              <a:t>1. razred (SŠ), Linearna funkcija</a:t>
            </a:r>
            <a:endParaRPr b="0" lang="en-US" sz="44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16000" y="1197000"/>
          <a:ext cx="8712000" cy="5057640"/>
        </p:xfrm>
        <a:graphic>
          <a:graphicData uri="http://schemas.openxmlformats.org/drawingml/2006/table">
            <a:tbl>
              <a:tblPr/>
              <a:tblGrid>
                <a:gridCol w="2465280"/>
                <a:gridCol w="2465280"/>
                <a:gridCol w="3781440"/>
              </a:tblGrid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Nastavna te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Ključni pojmov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Ishodi učenja: učenik će znat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2238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Linearna funkci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linearna funkcija, vrijednost funkcije, pravilo linearne funkcije, argument, parametri linearne funkcije, zavisna i nezavisna varijabl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prepoznati linearnu funkciju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zapisati pravilom linearnu funkciju zadanu parametrima i tablično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izračunati vrijednost linearne funkcije za zadani argument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izračunati argument funkcije ako je zadana njezina vrijednost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357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Graf linearne funkcij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graf linearne funkcije, nagib pravca, nul-točka linearne funkcije, sjecište s osi </a:t>
                      </a:r>
                      <a:r>
                        <a:rPr b="0" i="1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x</a:t>
                      </a: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 , odsječak na osi </a:t>
                      </a:r>
                      <a:r>
                        <a:rPr b="0" i="1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y,</a:t>
                      </a: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 rastuća i padajuća funkcija, brzina rasta – pada, konstantna funkci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nacrtati graf linearne funkcij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jednadžbu funkcije prikazane grafom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pripadnost zadane točke grafu funkcij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čitavati vrijednosti funkcije s graf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nul-točku i odsječak zadane linearne funkcije – računski i grafičk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geometrijski interpretirati utjecaj parametara na tok funkcije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921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75e47"/>
                </a:solidFill>
                <a:latin typeface="Calibri"/>
              </a:rPr>
              <a:t>1. razred (SŠ), Linearna funkcija</a:t>
            </a:r>
            <a:endParaRPr b="0" lang="en-US" sz="4400" spc="-1" strike="noStrike">
              <a:solidFill>
                <a:srgbClr val="675e47"/>
              </a:solidFill>
              <a:latin typeface="Calibri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16000" y="836640"/>
          <a:ext cx="8712000" cy="5900760"/>
        </p:xfrm>
        <a:graphic>
          <a:graphicData uri="http://schemas.openxmlformats.org/drawingml/2006/table">
            <a:tbl>
              <a:tblPr/>
              <a:tblGrid>
                <a:gridCol w="1871640"/>
                <a:gridCol w="2305080"/>
                <a:gridCol w="4535280"/>
              </a:tblGrid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Nastavna te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Ključni pojmov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Constantia"/>
                          <a:ea typeface="Calibri"/>
                        </a:rPr>
                        <a:t>Ishodi učenja: učenik će znat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36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blici jednadžbe pravc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eksplicitni, implicitni i segmentni  oblik jednadžbe pravca, koeficijent smjera, segmenti na koordinatnim osima, usporedni i okomiti pravci,  presjek pravaca, sjecište, koordinate sjecišt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uočiti prednosti određenog oblika jednadžbe pravc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površinu trokuta što ga pravac zatvara s koordinatnim osi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jednadžbu pravca zadanog točkom i koeficijentom smjer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jednadžbu pravca zadanog dvjema točka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sjecište pravaca – računski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odrediti međusobni odnos dva pravc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iz poznatih uvjeta odrediti jednadžbu usporednog ili okomitog pravca na zadani pravac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2238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Grafovi nekih funkcij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graf razlomljene funkcije, graf funkcije modul od </a:t>
                      </a:r>
                      <a:r>
                        <a:rPr b="0" i="1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nacrtati graf funkcije modul od </a:t>
                      </a:r>
                      <a:r>
                        <a:rPr b="0" i="1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nacrtati graf razlomljene funkcij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nacrtati grafove funkcija s modulima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nacrtati graf funkcije s modulima koristeći se svojstvima modula (brzo crtanje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2f2b20"/>
                        </a:buClr>
                        <a:buSzPct val="95000"/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2f2b20"/>
                          </a:solidFill>
                          <a:latin typeface="Constantia"/>
                          <a:ea typeface="Calibri"/>
                        </a:rPr>
                        <a:t>sa grafa očitati najmanju i/ili najveću vrijednost funkcij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3"/>
          <p:cNvSpPr/>
          <p:nvPr/>
        </p:nvSpPr>
        <p:spPr>
          <a:xfrm>
            <a:off x="7885080" y="260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2b20"/>
                </a:solidFill>
                <a:latin typeface="Calibri"/>
              </a:rPr>
              <a:t>naza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Title 1" descr=""/>
          <p:cNvPicPr/>
          <p:nvPr/>
        </p:nvPicPr>
        <p:blipFill>
          <a:blip r:embed="rId2"/>
          <a:stretch/>
        </p:blipFill>
        <p:spPr>
          <a:xfrm>
            <a:off x="682560" y="2639880"/>
            <a:ext cx="82296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75e47"/>
                </a:solidFill>
                <a:latin typeface="Calibri"/>
              </a:rPr>
              <a:t>Ciljevi </a:t>
            </a:r>
            <a:r>
              <a:rPr b="0" i="1" lang="hr-HR" sz="3600" spc="-1" strike="noStrike">
                <a:solidFill>
                  <a:srgbClr val="675e47"/>
                </a:solidFill>
                <a:latin typeface="Calibri"/>
              </a:rPr>
              <a:t>(eng. objectives)</a:t>
            </a:r>
            <a:endParaRPr b="0" lang="en-US" sz="3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Ciljevi nastave matematike u gimnaziji su: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2b20"/>
                </a:solidFill>
                <a:latin typeface="Constantia"/>
              </a:rPr>
              <a:t>stjecanje temeljnih matematičkih znanja nužnih za nastavak daljnje izobrazbe, praćenje suvremenoga društveno-gospodarskog i znanstveno-tehnološkog razvoja i buduće djelatnosti,</a:t>
            </a:r>
            <a:endParaRPr b="0" lang="en-US" sz="20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2b20"/>
                </a:solidFill>
                <a:latin typeface="Constantia"/>
              </a:rPr>
              <a:t>razvijanje logičkoga mišljenja i zaključivanja, matematičke intuicije, mašte i stvaralaštva,</a:t>
            </a:r>
            <a:endParaRPr b="0" lang="en-US" sz="20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2b20"/>
                </a:solidFill>
                <a:latin typeface="Constantia"/>
              </a:rPr>
              <a:t>stjecanje navika i umijeća, kao što su sistematičnost, ustrajnost, preciznost i postupnost,</a:t>
            </a:r>
            <a:endParaRPr b="0" lang="en-US" sz="20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2b20"/>
                </a:solidFill>
                <a:latin typeface="Constantia"/>
              </a:rPr>
              <a:t>usvajanje metoda matematičkog mišljenja koje se očituje u preciznom formuliranju pojmova i algoritamskom rješavanju problema,</a:t>
            </a:r>
            <a:endParaRPr b="0" lang="en-US" sz="20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2b20"/>
                </a:solidFill>
                <a:latin typeface="Constantia"/>
              </a:rPr>
              <a:t>stjecanje sposobnosti matematičkoga oblikovanja i predočavanja problema na znakovima i jeziku matematike, naglašeno u grafičkom smislu.</a:t>
            </a:r>
            <a:endParaRPr b="0" lang="en-US" sz="2000" spc="-1" strike="noStrike">
              <a:solidFill>
                <a:srgbClr val="2f2b20"/>
              </a:solidFill>
              <a:latin typeface="Constantia"/>
            </a:endParaRPr>
          </a:p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onstantia"/>
            </a:endParaRPr>
          </a:p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2f2b20"/>
                </a:solidFill>
                <a:latin typeface="Constantia"/>
              </a:rPr>
              <a:t>(</a:t>
            </a:r>
            <a:r>
              <a:rPr b="0" i="1" lang="hr-HR" sz="1900" spc="-1" strike="noStrike">
                <a:solidFill>
                  <a:srgbClr val="2f2b20"/>
                </a:solidFill>
                <a:latin typeface="Constantia"/>
              </a:rPr>
              <a:t>nastavni programi za gimnazije , Glasnik Ministarstva kulture i prosvjete, 1994.)</a:t>
            </a:r>
            <a:endParaRPr b="0" lang="en-US" sz="19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2b2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75e47"/>
                </a:solidFill>
                <a:latin typeface="Calibri"/>
              </a:rPr>
              <a:t>Ciljevi </a:t>
            </a:r>
            <a:r>
              <a:rPr b="0" i="1" lang="hr-HR" sz="3600" spc="-1" strike="noStrike">
                <a:solidFill>
                  <a:srgbClr val="675e47"/>
                </a:solidFill>
                <a:latin typeface="Calibri"/>
              </a:rPr>
              <a:t>(eng. objectives)</a:t>
            </a:r>
            <a:endParaRPr b="0" lang="en-US" sz="3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560" y="1600200"/>
            <a:ext cx="45370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2b20"/>
                </a:solidFill>
                <a:latin typeface="Constantia"/>
              </a:rPr>
              <a:t>Cilj nastave matematike je stjecanje temeljnih matematičkih znanja potrebnih za razumijevanje pojava i zakonitosti u prirodi i društvu, stjecanje osnovne matematičke pismenosti i razvijanje sposobnosti i umijeća rješavanja matematičkih problema. </a:t>
            </a: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2f2b20"/>
                </a:solidFill>
                <a:latin typeface="Constantia"/>
              </a:rPr>
              <a:t>(HNOS, 2006.)</a:t>
            </a:r>
            <a:endParaRPr b="0" lang="en-US" sz="20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148000" y="1915920"/>
            <a:ext cx="388764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2b20"/>
                </a:solidFill>
                <a:latin typeface="Constantia"/>
              </a:rPr>
              <a:t>Cilj označava očekivano, zamišljeno, buduće stanje koje želimo postići određenim aktivnostima i sredstvima (sadržajima).  </a:t>
            </a: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onstantia"/>
            </a:endParaRPr>
          </a:p>
        </p:txBody>
      </p:sp>
      <p:sp>
        <p:nvSpPr>
          <p:cNvPr id="206" name="Content Placeholder 4"/>
          <p:cNvSpPr/>
          <p:nvPr/>
        </p:nvSpPr>
        <p:spPr>
          <a:xfrm>
            <a:off x="539640" y="5445000"/>
            <a:ext cx="82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2f2b20"/>
                </a:solidFill>
                <a:latin typeface="Constantia"/>
              </a:rPr>
              <a:t>Ciljevi učenja određuju što bi nastavnik htio da učenik nauči i razumije</a:t>
            </a:r>
            <a:r>
              <a:rPr b="0" lang="hr-HR" sz="3200" spc="-1" strike="noStrike">
                <a:solidFill>
                  <a:srgbClr val="2f2b20"/>
                </a:solidFill>
                <a:latin typeface="Constantia"/>
              </a:rPr>
              <a:t>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56908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500" spc="-1" strike="noStrike">
                <a:solidFill>
                  <a:srgbClr val="675e47"/>
                </a:solidFill>
                <a:latin typeface="Calibri"/>
              </a:rPr>
              <a:t>Ishodi učenja </a:t>
            </a:r>
            <a:r>
              <a:rPr b="0" i="1" lang="hr-HR" sz="3600" spc="-1" strike="noStrike">
                <a:solidFill>
                  <a:srgbClr val="675e47"/>
                </a:solidFill>
                <a:latin typeface="Calibri"/>
              </a:rPr>
              <a:t>(eng. learning outcomes)</a:t>
            </a:r>
            <a:endParaRPr b="0" lang="en-US" sz="3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50560" y="162864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2f2b20"/>
                </a:solidFill>
                <a:latin typeface="Constantia"/>
              </a:rPr>
              <a:t>Ishodi učenja su tvrdnje kojima se izražava što učenik treba znati, razumjeti, što učenik može napraviti ili vrednovati kao rezultat procesa učenja. 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formulira nastavnik, odnose se na učenika 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nastavnik – definira što se od učenika očekuje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učenik – zna što se od njega očekuje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	</a:t>
            </a: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      – </a:t>
            </a: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olakšan proces učenja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75e47"/>
                </a:solidFill>
                <a:latin typeface="Calibri"/>
              </a:rPr>
              <a:t>Kompetencije </a:t>
            </a:r>
            <a:r>
              <a:rPr b="0" i="1" lang="hr-HR" sz="3600" spc="-1" strike="noStrike">
                <a:solidFill>
                  <a:srgbClr val="675e47"/>
                </a:solidFill>
                <a:latin typeface="Calibri"/>
              </a:rPr>
              <a:t>(eng. competences)</a:t>
            </a:r>
            <a:endParaRPr b="0" lang="en-US" sz="3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50920" y="148392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"Kompetencija ili skup kompetencija znači da osoba upotrebljava određenu sposobnost ili vještinu za obavljanje zadatka na takav način koji dopušta procjenu njegove ili njezine razine postignuća. 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Kompetencije se mogu utvrđivati i razvijati. </a:t>
            </a: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2b20"/>
                </a:solidFill>
                <a:latin typeface="Constantia"/>
              </a:rPr>
              <a:t>To znači da osoba ne posjeduju kompetencije u apsolutnom smislu, več u određ</a:t>
            </a:r>
            <a:r>
              <a:rPr b="0" lang="hr-HR" sz="2800" spc="-1" strike="noStrike">
                <a:solidFill>
                  <a:srgbClr val="2f2b20"/>
                </a:solidFill>
                <a:latin typeface="Constantia"/>
              </a:rPr>
              <a:t>enom stupnju koji se može smjestiti na kontinuumu razvijenosti, te razvijati vježbom i obrazovanjem" </a:t>
            </a:r>
            <a:br>
              <a:rPr sz="2800"/>
            </a:br>
            <a:endParaRPr b="0" lang="en-US" sz="2800" spc="-1" strike="noStrike">
              <a:solidFill>
                <a:srgbClr val="2f2b20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2f2b20"/>
                </a:solidFill>
                <a:latin typeface="Constantia"/>
              </a:rPr>
              <a:t>(Tuning, 2006., 1).</a:t>
            </a:r>
            <a:endParaRPr b="0" lang="en-US" sz="20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75e47"/>
                </a:solidFill>
                <a:latin typeface="Calibri"/>
              </a:rPr>
              <a:t>Kompetencije </a:t>
            </a:r>
            <a:r>
              <a:rPr b="0" i="1" lang="hr-HR" sz="3600" spc="-1" strike="noStrike">
                <a:solidFill>
                  <a:srgbClr val="675e47"/>
                </a:solidFill>
                <a:latin typeface="Calibri"/>
              </a:rPr>
              <a:t>(eng. competences)</a:t>
            </a:r>
            <a:endParaRPr b="0" lang="en-US" sz="3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2f2b20"/>
                </a:solidFill>
                <a:latin typeface="Constantia"/>
              </a:rPr>
              <a:t>Kompetencije podrazumijevaju znanja, vještine i stavove pomoću kojih je pojedinac osposobljen za izvršavanje određenog posla. 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ishodi učenja su opisi kompetencija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vrednovanje je utvrđivanje jesu li ishodi učenja ostvareni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d2cb6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2f2b20"/>
                </a:solidFill>
                <a:latin typeface="Constantia"/>
              </a:rPr>
              <a:t>ocjenjivanje vrednovanje kvalitete </a:t>
            </a:r>
            <a:endParaRPr b="0" lang="en-US" sz="2600" spc="-1" strike="noStrike">
              <a:solidFill>
                <a:srgbClr val="2f2b2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75e47"/>
                </a:solidFill>
                <a:latin typeface="Calibri"/>
              </a:rPr>
              <a:t>U moje vrijeme ...</a:t>
            </a:r>
            <a:endParaRPr b="0" lang="en-US" sz="5000" spc="-1" strike="noStrike">
              <a:solidFill>
                <a:srgbClr val="675e47"/>
              </a:solidFill>
              <a:latin typeface="Calibri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2"/>
          <a:stretch/>
        </p:blipFill>
        <p:spPr>
          <a:xfrm>
            <a:off x="457200" y="1557360"/>
            <a:ext cx="8229600" cy="34876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1"/>
          <p:cNvSpPr/>
          <p:nvPr/>
        </p:nvSpPr>
        <p:spPr>
          <a:xfrm>
            <a:off x="900000" y="5589720"/>
            <a:ext cx="73440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f2b20"/>
                </a:solidFill>
                <a:latin typeface="Calibri"/>
              </a:rPr>
              <a:t>Suvremen pristup – ishodi učenja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21:46:05Z</dcterms:created>
  <dc:creator>Denis</dc:creator>
  <dc:description/>
  <dc:language>en-US</dc:language>
  <cp:lastModifiedBy>nlesar</cp:lastModifiedBy>
  <cp:lastPrinted>2012-01-08T20:39:59Z</cp:lastPrinted>
  <dcterms:modified xsi:type="dcterms:W3CDTF">2012-01-23T07:54:12Z</dcterms:modified>
  <cp:revision>44</cp:revision>
  <dc:subject/>
  <dc:title>PowerPoint Presentation</dc:title>
</cp:coreProperties>
</file>