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1001553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C9F-ED7C-4151-8F39-FB239B2D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39E-2C88-487F-9F8F-9C3626A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7973-6DE1-4DA2-9739-56D6EBF7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6A4CD-89B9-49BE-B330-8D1D0818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191C-A651-4730-B96C-6D4222D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2A753-12BC-4C62-810B-41249E9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73A2-4F81-4A90-817D-6E00CF26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7AC2-B3BF-4EF9-803F-AA3E6A1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E8FB7-7731-466D-8CFB-40641FB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E58AE-D536-4922-BD87-D0AC9343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8816F-6509-49CE-B684-2E80C550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4C63-81F2-4AEE-A351-C24E3496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FCA-12FA-493E-AE90-26ECD21C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7A97D-D3E9-4705-BCB7-D65D446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575E7-2B79-481C-897C-C35905EA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2D730-DBFE-4274-96A4-4E630B8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334AA-A0D6-44ED-A9C5-A5859AE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5493-5B38-4A3D-A61C-9DA1B10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D4A90-ABC3-4951-ADCB-087625C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C2B10-B193-4FDF-9F2F-3EDA65F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12551-A2B8-48C6-9907-0E762A6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656B-5E5D-4D83-B710-1D54754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502D5-B6BD-4043-8791-CD2B0598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780-551B-4D0E-A93C-5A543CE3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D24F8-348D-4490-A9DE-A414D6BD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82BC-CA7B-4AF3-81CA-DA86BEC8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0AF-6CB6-4BD8-89A0-055D921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CADA-81E2-4CB6-B224-192E889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8F8-7543-41FA-9752-90054D6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ABF-1C80-410C-8223-346FE299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3B08-E608-41CF-AA27-BC83CBB0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9F7A-9D7A-44A2-BD2F-91D25FB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D0A-4883-42BB-9BDD-B12565C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9D3-68A3-495F-87A7-E4E103C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DBB6-F2CE-42AF-85AB-6D7D6E1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9B3-D081-4010-AA19-D51C705E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74F7-07DA-4149-BE10-03974C90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0432-32D2-42E4-AA3D-AC363BB8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19BA-615C-4E61-BBB4-5D95B1C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B80A-9F4B-4CBE-AA3F-59442EA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E4EC-0002-43B6-87E3-649A04A6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B58D-38B8-40A9-AD04-34FF3140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B202-C380-40CA-90CB-366BDBA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1E5-E154-43F1-81C0-8DAB2CC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2A49-E00C-49E4-BEFA-7990B93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8D74-EBAC-486E-B38E-2BAC43F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CAFD-EE60-4B37-A90F-3CAE762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E2B0-A320-4940-9F8B-6529D209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47EE-B6BF-4D78-A5D0-6AA29455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6289-FC8C-4458-8F1B-AA39AE92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4894-3B75-4D01-B3AE-94F4C799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2974-E934-4032-951E-C7DB2658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740A-409C-4666-9E06-19DC97E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517B-8733-4698-8CC6-8A2A1B2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6F0-7D2A-4AF0-9042-A546A9A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4F0D-A174-47B6-8613-4C18D4A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8048-981E-43D6-BED5-BCED5114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DE2E-EB92-445B-A039-4B2A496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5942-547D-42D5-BB4C-66D984F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7561-AEF9-4432-A65C-23747A8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E45F-2B81-4C80-8CFF-AED809F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203A-2445-4707-B5C8-AE03BC9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84B0-9ADB-4626-B6ED-091993C5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EC75-EA0A-4467-A8F0-FA68057A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57F3E-8AF9-44B3-B439-01CD8513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383-84D7-4F87-B58D-602C58A1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8D44-B456-4F0F-9A4A-ADC0343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4F3A-4BFC-44D5-91BC-B417081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06B1-978D-4101-BF64-652F571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6238B-B9C6-4BB7-B5CD-74FC4F1D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977B-8CFC-4C87-B71D-4EE27CE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A1B7-502A-47A8-A5BA-7798BE3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A3554-DD8C-48E0-B8D3-CF65AD4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04F0F-A535-4C95-848E-1FEEA57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EB53-F52E-439F-8E90-8D529AF6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49756-EF1F-435E-94EE-FAA4CEA8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682-C1E2-45D0-A3EF-3EB2F0F3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F87A-B48F-4EB3-9DFA-021C7D28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6380-E5E0-45DA-9DD5-B1BE2C55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3C38-F14D-4FF2-8ACF-82F7DE5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8868-04DA-49DE-B1A5-3424976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166D-9C9D-4A39-87CB-3607AF7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BE3C-804B-4C9F-A1C0-F30F405F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C732-537E-440E-8EA2-C67288E8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4216-9961-4344-9D94-112E7B0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4D82-E037-44B1-A504-3AD56DE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66CB-91F1-4BA6-9BC4-887CCB3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83E-0A15-4303-B50E-9FAB4AC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AB37-FC04-49BA-9028-05D9E59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E7A9-CA7B-4BF6-9FD6-99EC87C1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59F3-9844-46AE-9AF5-EA8C25C4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6608F-CF24-4DD8-AE2E-D2B2B7C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0AD7-9B6C-40F0-A8A1-C168E78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882C6-C81D-4D29-A75E-4C45EFC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AF967-2A5F-44C3-8B78-CFB718D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C6715-51A6-4E37-AB8C-1BA0EC2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42B2-A7EF-4A9F-80AB-31DE97B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EB00-DF14-4FAA-B7E3-6A93CC5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9E9-BD7C-45B3-B7D9-5B9EAAD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1493-E002-4447-B35E-7A296E0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2F150-BCE0-4EA6-916A-4C6E567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A66D-CFC2-4387-BFC0-AA55CF3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B2E4-41D1-4C6D-95D6-8BF19C89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B792-5EA0-4BCC-8951-A8202221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07C98-E965-4F75-9468-ECE1790D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67F2-4B0A-4F65-9A55-5BAA5849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6452-3578-42A3-A088-40E25ED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4E78-B4FA-4974-8CC7-C185005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01830-A0E4-4A2E-BD73-B4E6DDD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F57-C756-4C4D-AD29-7E761BF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D34B-CC72-436F-B159-DBDD9E6C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C2EC1-B34D-4EE7-978F-2CD0440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A8350-E6D5-45B4-8A85-3971127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009B-7A0E-4751-927B-1B65B69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1294-E784-4084-9A01-EB0741C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1F1A-0278-4919-8A29-374ACCFE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5697-80DC-4282-9D50-FE32622C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4E7C3-1C2D-4B4B-95B7-BC0DCECE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72F56-B448-419C-A9CB-04E0279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08430-5053-4066-8AFF-391F1EC4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6B2D-6E23-4650-8D01-0AEE2664AB96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B8C-5815-4382-9C26-0F36B3B1322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28E-4895-4893-A340-187A3E31611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3967-CFD5-4C80-8889-7302C72FC5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571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mmarenic\Desktop\Logo_ncvvo_1.jpg"/>
          <p:cNvPicPr/>
          <p:nvPr/>
        </p:nvPicPr>
        <p:blipFill>
          <a:blip r:embed="rId3"/>
          <a:stretch/>
        </p:blipFill>
        <p:spPr>
          <a:xfrm>
            <a:off x="179280" y="216000"/>
            <a:ext cx="1997280" cy="97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8A86-E21A-4E8C-B16D-19736C9A6CF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0A4-53B2-46C2-B657-F7D8E9B985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20520" y="1341360"/>
            <a:ext cx="9144000" cy="571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marenic\Desktop\Logo_ncvvo_1.jpg"/>
          <p:cNvPicPr/>
          <p:nvPr/>
        </p:nvPicPr>
        <p:blipFill>
          <a:blip r:embed="rId3"/>
          <a:stretch/>
        </p:blipFill>
        <p:spPr>
          <a:xfrm>
            <a:off x="200160" y="390600"/>
            <a:ext cx="199692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2227-F00A-4CE9-A2F2-A57BD6A1520C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4E7-353D-4DB1-9EE9-C0EC584025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466-EC80-40B9-BFB9-04965280E6AD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A75D-C737-4393-9BAC-E9D50B4B4E4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311-43C6-40B1-A16B-8C0471C9358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23A4-CB4D-4F5B-81F8-4613042F41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1542-1262-4550-8A9C-ABA4012ADBD7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F53E-C7BB-43DB-B728-2B647A29DD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CA31-3BBC-4DE4-976C-A40B49F0FAC7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764-6594-4AD1-AD04-F56F9FE73E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DBC-52B1-472A-8DE2-A35EF9FCEA6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4BD1-A1F4-4661-B40E-9DDA725B04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2D4-7DAC-4BDD-8418-18E79FA7DE2D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6F47-6A29-470C-B631-3BAB72614B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2060"/>
                </a:solidFill>
                <a:latin typeface="Cambria"/>
                <a:ea typeface="JasmineUPC"/>
              </a:rPr>
              <a:t>Matematika - projekti NCVVO-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2060"/>
                </a:solidFill>
                <a:latin typeface="Cambria"/>
              </a:rPr>
              <a:t>Zlatko Zadelj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2060"/>
                </a:solidFill>
                <a:latin typeface="Cambria"/>
              </a:rPr>
              <a:t>viši stručni savjetnik u Odjelu za ispitne materijal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2060"/>
                </a:solidFill>
                <a:latin typeface="Cambria"/>
              </a:rPr>
              <a:t>Nacionalni centar za vanjsko vrednovanje obrazovanj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2060"/>
                </a:solidFill>
                <a:latin typeface="Cambria"/>
              </a:rPr>
              <a:t>Opatija, 11. – 13. siječnja 2012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9262-C981-4D69-BBD5-5ED83E5A4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0000"/>
                </a:solidFill>
                <a:latin typeface="Calibri"/>
              </a:rPr>
              <a:t>Nacionalni ispiti u </a:t>
            </a:r>
            <a:br>
              <a:rPr sz="4000"/>
            </a:br>
            <a:r>
              <a:rPr b="0" i="1" lang="hr-HR" sz="4000" spc="-1" strike="noStrike">
                <a:solidFill>
                  <a:srgbClr val="000000"/>
                </a:solidFill>
                <a:latin typeface="Calibri"/>
              </a:rPr>
              <a:t>osnovnim škol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460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trajanju od 2011. do 2014. godine sveobuhvatan je projekt kojemu je cilj obuhvatiti ne samo trenutne razine znanja, vještina i sposobnosti učenika iz područja matematike na kraju osnovnoškolskog obrazovanja, već i utvrditi potencijalne probleme u usvajanju znanja i kompetencija iz matematike  tijekom osnovnoškolskog obrazovanj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sim navedenoga, kao ciljevi projekta postavljeni su i utvrđivanje faktora utjecaja na stjecanje razina znanja, vještina i sposobnosti iz matematike, uspostavljanje kriterija razine znanja, vještina i sposobnosti na kraju osnovnoškolskoga obrazovanja iz matematike, uspostava procedura i standardizacija postupaka u provedbi nacionalnih ispita, kao i izrada baze zadatak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7C13-E2AC-4128-B686-4C0E9FEBA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0000"/>
                </a:solidFill>
                <a:latin typeface="Calibri"/>
              </a:rPr>
              <a:t>Nacionalni ispiti u osnovnim školama - Ciljevi projekt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76508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detaljno procijeniti razine znanja, vještina i sposobnosti učenika osmih razreda osnovne škole iz matematik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utvrditi potencijalne probleme u stjecanju znanja, vještina i sposobnosti iz matematike  tijekom osnovnoškolskoga obrazovanj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utvrditi opće i specifične faktore utjecaja na stjecanje znanja i razvoj vještina i sposobnosti iz matematike tijekom osnovnoškolskoga obrazovanj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uspostaviti kriterije potrebnih razina matematičkih znanja i vještina na kraju osnovnoškolskoga obrazovanj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uspostaviti procedure i standardizaciju postupaka provedbe nacionalnih ispi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izraditi bazu zadata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ight Arrow 5"/>
          <p:cNvSpPr/>
          <p:nvPr/>
        </p:nvSpPr>
        <p:spPr>
          <a:xfrm rot="16200000">
            <a:off x="7735320" y="5861520"/>
            <a:ext cx="990360" cy="468360"/>
          </a:xfrm>
          <a:prstGeom prst="rightArrow">
            <a:avLst>
              <a:gd name="adj1" fmla="val 25046"/>
              <a:gd name="adj2" fmla="val 45815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018-200C-4C43-AF0E-372F854B6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eđunarodna testir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hr-HR" sz="2000" spc="-1" strike="noStrike">
                <a:solidFill>
                  <a:srgbClr val="002060"/>
                </a:solidFill>
                <a:latin typeface="Calibri"/>
              </a:rPr>
              <a:t>Svako dijete ima pravo na kvalitetno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186000" y="2604960"/>
            <a:ext cx="51404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Regionalni i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EU-ov projekt za međunarodnu procjenu učenika (Bosna i Hercegovina, Crna Gora, Makedonija i Srbij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na kraju osnovne ško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rijentiran kurikularn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rojek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Razvoj metodologije i instrumenata regionalno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testiran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Faza projekt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Izrada zajedničkog testa za završetak osnovno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brazovan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ight Arrow 5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71E-91E2-4E52-819D-E9DB0E30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ECD-ov program za međunarodnu procjenu učeni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rijentirana tržišn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osnovao OECD radi predikcije ekonomskog razvo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86E-658F-4591-9721-D1633FA5B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425520" y="274680"/>
            <a:ext cx="83930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IS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- Programme for International Student Assess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500" spc="-1" strike="noStrike">
                <a:solidFill>
                  <a:srgbClr val="000000"/>
                </a:solidFill>
                <a:latin typeface="Arial"/>
              </a:rPr>
              <a:t>Koja su glavna obilježja ovoga OECD-ova programa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usmjerenost na politiku obrazovanja - PISA-in nacrt, konceptualni okvir i metode izvješćivanja rezultata usmjereni su na informiranje vlada o njihovim obrazovnim politikama i praksa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inovativni koncept „pismenosti“ - odnosi se na sposobnost učenika da primijene znanja i vještine iz ključnih predmetnih područja i da analiziraju, logički zaključuju i djelotvorno komuniciraju kod postavljanja, rješavanja i interpretiranja problema u različitim situacijama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važnost cjeloživotnog učenja - PISA nije ograničena samo na procjenjivanje znanja i vještina učenika, već od njih traži podatke i o njihovoj vlastitoj motivaciji za učenje, o njihovom samopoimanju i njihovim stavovima prema onome što uč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redovito praćenje kroz trogodišnje vremenske cikluse, što zemljama omogućava praćenje napretka u postizanju ključnih obrazovnih ciljeva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velika geografska pokrivenost - 30 zemalja članica OECD-a i 27 zemalja partnerica koje su do sada sudjelovale u PISA istraživanjima čine gotovo 90% svjetskog gospodarstva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000000"/>
                </a:solidFill>
                <a:latin typeface="Arial"/>
              </a:rPr>
              <a:t>tri tipa rezultata - osnovni indikatori koji daju profil znanja i vještina učenika, kontekstualni indikatori koji pokazuju kakva je veza između postignuća i demografskih, socijalnih, ekonomskih i obrazovnih varijabli, te indikatori trenda koji proizlaze iz kontinuirane prirode prikupljanja podataka i pokazuju promjene u razinama i distribucijama postignuć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ight Arrow 5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595-C94B-4DBB-9714-2C86E4CAC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IS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- Programme for International Student Assess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5-godišnjaci (škola+razred=uzorak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ategije poučavanja i vrednovanja – vrednovati koncept , vrednovati ono što je učenik naprav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zanost s čitalačkom kompetencij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na zn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nimljivi zadatci i diza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ight Arrow 5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310-7472-44D0-A9CD-6EEDC2BC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mjeri iz geometr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redite jednadžbu tangente na kružnicu  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+ (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− 2)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= 10 koja dira kružnicu u točki iz III. kvadranta i usporedna je s pravcem 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=  ̶  1/3 </a:t>
            </a:r>
            <a:r>
              <a:rPr b="0" i="1" lang="hr-HR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A72-1D88-4EB6-AD30-09327201F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755-DE84-4B34-8B20-110998811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rcRect l="18023" t="24869" r="25757" b="3968"/>
          <a:stretch/>
        </p:blipFill>
        <p:spPr>
          <a:xfrm>
            <a:off x="825480" y="304920"/>
            <a:ext cx="76582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oveznica sa svakodnevnim život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 = 1523 cm</a:t>
            </a: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3                                                 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 = 1 d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= 1.523 dm</a:t>
            </a: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= 1.523 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1A6-31DC-479D-B778-F9C954194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64000" cy="2946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918040" y="1981080"/>
            <a:ext cx="18288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SVRHA UVOĐENJA VANJSKOG 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Razvoj sustava za praćenje, analiziranje, unapređivanje i osiguravanje kvalitete obraz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Postavljanje jasnih i transparentnih standarda postignuća u obrazova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Podizanje razine odgovornosti svih sudionika u sustavu obraz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oveznica sa svakodnevnim život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 = 1523 cm</a:t>
            </a: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3                                                 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V = 1 d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= 1.523 dm</a:t>
            </a: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baseline="30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= 1.523 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8EF-B324-4C9D-8C13-DC9C62794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64000" cy="2946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"/>
          <p:cNvPicPr/>
          <p:nvPr/>
        </p:nvPicPr>
        <p:blipFill>
          <a:blip r:embed="rId2"/>
          <a:srcRect l="29598" t="26456" r="51882" b="17461"/>
          <a:stretch/>
        </p:blipFill>
        <p:spPr>
          <a:xfrm>
            <a:off x="5753160" y="193032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TIMSS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- Procjena učeničkih postignuća iz    Matematike i Prirode i društva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rijentiran prema kurikul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imjena zn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uspoređivanj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programa i nastavnih praksa podučav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datci se ne objavljuju na razini pojedinog učenik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ight Arrow 4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23C-9019-44C6-A52A-5802E424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0-godišnjaci (škola+razred=uzora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otivacija = predstavljaju svoju zeml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ight Arrow 4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D20F-13AB-48BA-9468-517268EAC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7" descr=""/>
          <p:cNvPicPr/>
          <p:nvPr/>
        </p:nvPicPr>
        <p:blipFill>
          <a:blip r:embed="rId1"/>
          <a:srcRect l="33493" t="16077" r="31579" b="55090"/>
          <a:stretch/>
        </p:blipFill>
        <p:spPr>
          <a:xfrm>
            <a:off x="660240" y="523800"/>
            <a:ext cx="7570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tražit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http://www.ncvvo.hr/drzavnamatura/web/public/h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http://www.pisa.h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http://www.ncvvo.hr/drzavnamatura/web/public/tim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C:\Users\zzadelj\AppData\Local\Microsoft\Windows\Temporary Internet Files\Content.IE5\2TBJSZRT\MC900088888[1].wmf"/>
          <p:cNvPicPr/>
          <p:nvPr/>
        </p:nvPicPr>
        <p:blipFill>
          <a:blip r:embed="rId1"/>
          <a:stretch/>
        </p:blipFill>
        <p:spPr>
          <a:xfrm>
            <a:off x="5003640" y="2200320"/>
            <a:ext cx="3265560" cy="46450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6"/>
          <p:cNvSpPr/>
          <p:nvPr/>
        </p:nvSpPr>
        <p:spPr>
          <a:xfrm>
            <a:off x="900000" y="2200320"/>
            <a:ext cx="3959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504d"/>
                </a:solidFill>
                <a:latin typeface="Castellar"/>
              </a:rPr>
              <a:t>   </a:t>
            </a:r>
            <a:r>
              <a:rPr b="1" lang="hr-HR" sz="4000" spc="-1" strike="noStrike">
                <a:solidFill>
                  <a:srgbClr val="c0504d"/>
                </a:solidFill>
                <a:latin typeface="Castellar"/>
              </a:rPr>
              <a:t>Sret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4f81bd"/>
                </a:solidFill>
                <a:uFillTx/>
                <a:latin typeface="Arial"/>
              </a:rPr>
              <a:t>zlatko.zadelj@ncvvo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ON I STAT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entar obavlja poslove vanjskog vrednovanja u odgojno-obrazovnom sustavu Republike Hrvatske i poslove provođenja ispita temeljenih na nacionalnim standard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snivač Centra je Republika Hrvat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va i dužnosti osnivača Centra obavlja Vlada Republike Hrvats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210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VANJSKO VREDNOVANJE OBRAZOVNIH POSTIGNU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000" y="2285640"/>
            <a:ext cx="80024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DRŽAVNA MA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ACIONALNI ISPI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ZAVRŠNI ISPITI NA KRAJU OBRAZOVNOG CIKL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MEĐUNARODNA ISPITIVANJA U OBRAZOV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NCV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anjsko vrednovanje: cijela popula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kuje se u ciljevima i postupcima 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nutarnjeg 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kontekst ispitivanj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razredni odj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ormativno, pojedinač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ight Arrow 4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BD8-2E17-40A0-A98B-CEE283C89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Content Placeholder 3" descr=""/>
          <p:cNvPicPr/>
          <p:nvPr/>
        </p:nvPicPr>
        <p:blipFill>
          <a:blip r:embed="rId1"/>
          <a:stretch/>
        </p:blipFill>
        <p:spPr>
          <a:xfrm>
            <a:off x="201600" y="1133640"/>
            <a:ext cx="8667720" cy="54324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457200" y="44784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pperplate Gothic Bold"/>
              </a:rPr>
              <a:t>Nacionalni centar za vanjsko vrednovanje obraz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7326-E531-4A1E-A171-7E26B22E4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ržavna m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vije razine ispita (osnovna i viš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služi za uspoređivanje škola niti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ight Arrow 5"/>
          <p:cNvSpPr/>
          <p:nvPr/>
        </p:nvSpPr>
        <p:spPr>
          <a:xfrm rot="16200000">
            <a:off x="7969680" y="5639400"/>
            <a:ext cx="990720" cy="468360"/>
          </a:xfrm>
          <a:prstGeom prst="rightArrow">
            <a:avLst>
              <a:gd name="adj1" fmla="val 25046"/>
              <a:gd name="adj2" fmla="val 45831"/>
            </a:avLst>
          </a:prstGeom>
          <a:solidFill>
            <a:srgbClr val="eeece1"/>
          </a:solidFill>
          <a:ln w="9360">
            <a:solidFill>
              <a:srgbClr val="59595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6D55-FA90-40B8-A17A-E222CA77F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ržavna m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itni katalog nepromijenjen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T A (ljetni rok 2011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Brojevi i algebra ...................  7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Funkcije ................................ 48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Geometrija ........................... 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Jednadžbe i nejednadžbe .....  50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libri"/>
              </a:rPr>
              <a:t>Modeliranje .......................... 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kupno ................................. 5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reporuke za rješavanje ispita iz Matemat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CV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07D-00E7-4915-936F-F8D4B0D7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DRŽAVNA MATURA – NACIONALNI IS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le 4"/>
          <p:cNvSpPr/>
          <p:nvPr/>
        </p:nvSpPr>
        <p:spPr>
          <a:xfrm>
            <a:off x="395280" y="1628640"/>
            <a:ext cx="3889440" cy="482472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824720"/>
              <a:gd name="textAreaBottom" fmla="*/ 4635000 h 4824720"/>
            </a:gdLst>
            <a:ahLst/>
            <a:rect l="textAreaLeft" t="textAreaTop" r="textAreaRight" b="textAreaBottom"/>
            <a:pathLst>
              <a:path w="21600" h="26794">
                <a:moveTo>
                  <a:pt x="3600" y="0"/>
                </a:moveTo>
                <a:arcTo wR="3600" hR="3600" stAng="16200000" swAng="-5400000"/>
                <a:lnTo>
                  <a:pt x="0" y="23194"/>
                </a:lnTo>
                <a:arcTo wR="3600" hR="3600" stAng="10800000" swAng="-5400000"/>
                <a:lnTo>
                  <a:pt x="18000" y="26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253f"/>
                </a:solidFill>
                <a:latin typeface="Calibri"/>
              </a:rPr>
              <a:t>ISPIT VISOKOG RI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253f"/>
                </a:solidFill>
                <a:latin typeface="Calibri"/>
              </a:rPr>
              <a:t>ZAVRŠETAK ŠKO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253f"/>
                </a:solidFill>
                <a:latin typeface="Calibri"/>
              </a:rPr>
              <a:t>RAZREDBENI POSTU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253f"/>
                </a:solidFill>
                <a:latin typeface="Calibri"/>
              </a:rPr>
              <a:t>(ispit zrel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5"/>
          <p:cNvSpPr/>
          <p:nvPr/>
        </p:nvSpPr>
        <p:spPr>
          <a:xfrm>
            <a:off x="4788000" y="1628640"/>
            <a:ext cx="3887640" cy="482472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4824720"/>
              <a:gd name="textAreaBottom" fmla="*/ 4635000 h 4824720"/>
            </a:gdLst>
            <a:ahLst/>
            <a:rect l="textAreaLeft" t="textAreaTop" r="textAreaRight" b="textAreaBottom"/>
            <a:pathLst>
              <a:path w="21600" h="26806">
                <a:moveTo>
                  <a:pt x="3600" y="0"/>
                </a:moveTo>
                <a:arcTo wR="3600" hR="3600" stAng="16200000" swAng="-5400000"/>
                <a:lnTo>
                  <a:pt x="0" y="23206"/>
                </a:lnTo>
                <a:arcTo wR="3600" hR="3600" stAng="10800000" swAng="-5400000"/>
                <a:lnTo>
                  <a:pt x="18000" y="26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10253f"/>
                </a:solidFill>
                <a:latin typeface="Calibri"/>
              </a:rPr>
              <a:t>R</a:t>
            </a:r>
            <a:r>
              <a:rPr b="1" lang="hr-HR" sz="2200" spc="-1" strike="noStrike">
                <a:solidFill>
                  <a:srgbClr val="10253f"/>
                </a:solidFill>
                <a:latin typeface="Calibri"/>
              </a:rPr>
              <a:t>AZVOJ I PROMJENA KURIKULU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10253f"/>
                </a:solidFill>
                <a:latin typeface="Calibri"/>
              </a:rPr>
              <a:t>P</a:t>
            </a:r>
            <a:r>
              <a:rPr b="1" lang="hr-HR" sz="2200" spc="-1" strike="noStrike">
                <a:solidFill>
                  <a:srgbClr val="10253f"/>
                </a:solidFill>
                <a:latin typeface="Calibri"/>
              </a:rPr>
              <a:t>ROCJENA I PROVJERA KURIKULU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10253f"/>
                </a:solidFill>
                <a:latin typeface="Calibri"/>
              </a:rPr>
              <a:t>S</a:t>
            </a:r>
            <a:r>
              <a:rPr b="1" lang="hr-HR" sz="2200" spc="-1" strike="noStrike">
                <a:solidFill>
                  <a:srgbClr val="10253f"/>
                </a:solidFill>
                <a:latin typeface="Calibri"/>
              </a:rPr>
              <a:t>MJERNICE ZA NASTAV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10253f"/>
                </a:solidFill>
                <a:latin typeface="Calibri"/>
              </a:rPr>
              <a:t>U</a:t>
            </a:r>
            <a:r>
              <a:rPr b="1" lang="hr-HR" sz="2200" spc="-1" strike="noStrike">
                <a:solidFill>
                  <a:srgbClr val="10253f"/>
                </a:solidFill>
                <a:latin typeface="Calibri"/>
              </a:rPr>
              <a:t>NAPRJEĐENJE RAD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58:13Z</dcterms:created>
  <dc:creator>Pisa</dc:creator>
  <dc:description/>
  <dc:language>en-US</dc:language>
  <cp:lastModifiedBy>nlesar</cp:lastModifiedBy>
  <cp:lastPrinted>2011-10-21T11:54:39Z</cp:lastPrinted>
  <dcterms:modified xsi:type="dcterms:W3CDTF">2012-01-23T07:59:15Z</dcterms:modified>
  <cp:revision>172</cp:revision>
  <dc:subject/>
  <dc:title>Slide 1</dc:title>
</cp:coreProperties>
</file>