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62FD-62C0-44AC-873C-29B892CC8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2D7-2B3D-4485-8485-A91E8810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15A-8A66-403F-AF9F-E8021A7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2B6-ABB2-456F-8B05-7EB53625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F72-3C77-4F29-9FB1-514EE1B1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E926-2858-417F-BC0E-ABA96E3B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9892-CB8A-4054-89BB-B756F35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1A26-1714-4F47-91C4-B99B81B3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9502-9255-4328-8E41-872ADC80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6467-4C7F-4B44-9AF2-5E5CA2C8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9F73-67BA-4B9B-BF35-EA79D76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7DF1-D056-45BE-8D30-D44E433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63A-ED1D-49F7-9356-0FB8CD4F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6E66-9E4F-4168-9856-35B130A0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1503-0C35-4369-B2D4-42D0B17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0363-03F3-4D29-A3C9-34EAF41C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7199-9272-450D-987D-90284F02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BEFE-093C-43F7-8F5E-39EF7B3F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E4B-6996-4B9D-AF61-5E1B3CC7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BFF-A920-4271-B1F4-C3443A5A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BAD-8DA5-4A68-B46E-32592BA3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BB5-F800-4389-9858-78B23D3C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3CC-71EB-4937-A7D4-96DE171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5AE-93C1-4C49-B10B-373B1E92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BF8-2FF1-4AC4-8699-59766BB9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6AF-1483-4D95-8BBF-1D5D992096EB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7764-0AB6-4BC7-9BB6-BB0F6E42C9F4}" type="slidenum">
              <a:rPr b="0" lang="hr-HR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100" spc="-1" strike="noStrike">
                <a:solidFill>
                  <a:srgbClr val="ffffcc"/>
                </a:solidFill>
                <a:latin typeface="Arial"/>
              </a:rPr>
              <a:t>Usporedba rezultata na državnoj maturi 2009./2010. i uspjeha tijekom školovanja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57120" y="3733920"/>
            <a:ext cx="8786880" cy="21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Anastazija Pažanin, 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prof. savjetnik, III. gimnazija Spli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Snježana Serdar, 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prof. savjetnik, III. gimnazija Spli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aeaea"/>
                </a:solidFill>
                <a:latin typeface="Verdana"/>
              </a:rPr>
              <a:t>Kako radimo?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Fond sati  matematike u III. gimnaziji je  5 sati tjedno u prvom i drugom razredu, te 6 sati tjedno u trećem i četvrtom, dakle sveukupno tijekom školovanja, učenik odsluša </a:t>
            </a:r>
            <a:r>
              <a:rPr b="0" lang="hr-HR" sz="2800" spc="-1" strike="noStrike">
                <a:solidFill>
                  <a:srgbClr val="ff00ff"/>
                </a:solidFill>
                <a:latin typeface="Verdana"/>
              </a:rPr>
              <a:t>752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sata matematik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Ocjene se donose unutar dogovorene bodovne shem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0-44 nedovoljan; 45-59 dovoljan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60-74 dobar;   75-89  vrlodobar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90 -100 odlič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Vlastiti pismeni ispiti znanj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( uvijek 90 minuta), nakon svake nastavne cjel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Apsolutna profesionalana sloboda svakog nastavnika u okviru zadanog plana i program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Na satu se njeguje matematička konverzacija i čistoća matematičkih rečenic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Usmene provjere znanja – povremen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( ovisno o cjelini 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Zaključna ocjena se okvirno donosi kao aritmetička sredina, po već prije spomenutoj bodovnoj shem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eaeaea"/>
                </a:solidFill>
                <a:latin typeface="Verdana"/>
              </a:rPr>
              <a:t>Uzlazni niz ocjena – motivacija za učenje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eaeaea"/>
                </a:solidFill>
                <a:latin typeface="Verdana"/>
              </a:rPr>
              <a:t>U svakoj učionici internet, projektor, fotokopirni aparat u kabinetu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eaeaea"/>
                </a:solidFill>
                <a:latin typeface="Verdana"/>
              </a:rPr>
              <a:t>Stručna literatura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r-HR" sz="4400" spc="-1" strike="noStrike">
                <a:solidFill>
                  <a:srgbClr val="eaeaea"/>
                </a:solidFill>
                <a:latin typeface="Verdana"/>
              </a:rPr>
              <a:t>Kako pripremamo učenike za polaganje državne mature?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I ovaj dio našeg posla ima vrlo individualan pristup.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Neki od nas smatraju da je ovoliki broj sati matematike i više nego dovoljan za ostvarenje izvrsnih rezultata na državnoj maturi (što se pokazalo istinitim), pa ne rade ništa dodatno s učenicima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aeaea"/>
                </a:solidFill>
                <a:latin typeface="Verdana"/>
              </a:rPr>
              <a:t>Neki od nas smatraju da unatoč velikom fondu sati i bitno zahtjevnijim zadacima koje učenici moraju svladati po planu i programu, treba vježbati ciljano zadatke primjerene državnoj maturi ( i ova tvrdnja je istinita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I ta vrsta vježbanja se provodi individualno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r>
              <a:rPr b="0" lang="hr-HR" sz="3400" spc="-1" strike="noStrike">
                <a:solidFill>
                  <a:srgbClr val="eaeaea"/>
                </a:solidFill>
                <a:latin typeface="Wingdings"/>
                <a:ea typeface="Wingdings"/>
              </a:rPr>
              <a:t></a:t>
            </a: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Ali nikada subotom ili izvan satnicom predviđenog sata matematike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Profesori koji ovako rade su prilagodili svoj plan i program na način da im je svaki šesti sat u tjednu sistematizacija gradiva.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aeaea"/>
                </a:solidFill>
                <a:latin typeface="Verdana"/>
              </a:rPr>
              <a:t>Preko “buketa” sličnih zadataka ponavlja se cjelokupno gradivo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r-HR" sz="3600" spc="-1" strike="noStrike">
                <a:solidFill>
                  <a:srgbClr val="eaeaea"/>
                </a:solidFill>
                <a:latin typeface="Verdana"/>
              </a:rPr>
              <a:t>Učenici zadatke dobivaju tjedno, na fotokopijam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aeaea"/>
                </a:solidFill>
                <a:latin typeface="Verdana"/>
              </a:rPr>
              <a:t>Rješavaju ih kao obvezni domaći ra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aeaea"/>
                </a:solidFill>
                <a:latin typeface="Verdana"/>
              </a:rPr>
              <a:t>Na satu se raspravlja o “težim” zadacima ili o načinu rješavanj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Na početku godine učenicima se podijeli knjižica formula, koju mogu koristiti i na pismenim ispitima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Svaki drugi, treći tjedan piše se višeminutni  ispit znanja  samo iz tih zadataka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Ocjena iz tih ispita se pridodaje konačnoj ocjeni i uglavnom je motivacijska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aeaea"/>
                </a:solidFill>
                <a:latin typeface="Verdana"/>
              </a:rPr>
              <a:t>Analiziranjem uspjeha na državnoj maturi 2009./2010. pokušali smo pronaći vezu između ocjena postignutih na maturi i ocjena iz matematike tijekom školovanj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Pred kraj školske godine, kad su ocjene već definirane, napravimo simulaciju državne mature (modele ispita sastavljaju sami profesori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Simulacija se piše točno po uvjetima DM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Nakon svega provedenog, sam čin polaganja DM nije traumatičan; zadaci na DM su bitno laganiji od onih na kojima se učenici pripremaju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Uspoređujući rezultate na DM s ocjenama u razredu, uočili smo da nema nikakvih pravilnosti, osim što su ocjene barem za jednu veće na DM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Imali smo učenicu koja je imala prosječnu ocjenu iz matematike 3,25 u razredu, a na maturi je ostvarila uspjeh od 100%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KAKVO JE STANJE PROŠLE GODIN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00080" y="2708280"/>
          <a:ext cx="6715080" cy="2292480"/>
        </p:xfrm>
        <a:graphic>
          <a:graphicData uri="http://schemas.openxmlformats.org/drawingml/2006/table">
            <a:tbl>
              <a:tblPr/>
              <a:tblGrid>
                <a:gridCol w="2238480"/>
                <a:gridCol w="2238480"/>
                <a:gridCol w="223812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CJE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OSTOTA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765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009./10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.2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77.8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010./11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.1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80.2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aeaea"/>
                </a:solidFill>
                <a:latin typeface="Verdana"/>
              </a:rPr>
              <a:t>I na kraju....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Ovakav način održavanja nastave zahtijeva popriličnu sistematičnost, radnu energiju i naravno, neizbježni entuzijazam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eaeaea"/>
                </a:solidFill>
                <a:latin typeface="Verdana"/>
              </a:rPr>
              <a:t>Nastavnici koji ovako pripremaju učenike, svoj način rada ne nameću kao standard ostalim kolegama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Sve što smo individualno napravili za naše učenike, sati rada na pripremama, sve je to isključivo  uvijek naša dobra volja i želja za izvrsnošć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U nadi da će se izvrsnost početi uočavati i vrednovati drugačije, srdačan pozdrav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A. Pažanin, S. Serd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r>
              <a:rPr b="0" lang="hr-HR" sz="2400" spc="-1" strike="noStrike">
                <a:solidFill>
                  <a:srgbClr val="eaeaea"/>
                </a:solidFill>
                <a:latin typeface="Verdana"/>
              </a:rPr>
              <a:t>III. Gimnazij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r>
              <a:rPr b="0" lang="hr-HR" sz="2400" spc="-1" strike="noStrike">
                <a:solidFill>
                  <a:srgbClr val="eaeaea"/>
                </a:solidFill>
                <a:latin typeface="Verdana"/>
              </a:rPr>
              <a:t>S P L I 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III. gimnazija u Splitu je prirodoslovno-matematičk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Škola ima 24 razre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U svakom razredu isti profesor predaje matematiku sve četiri godi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Svi učenici (njih 178) su pristupili višoj razin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ffffcc"/>
                </a:solidFill>
                <a:uFillTx/>
                <a:latin typeface="Arial"/>
              </a:rPr>
              <a:t>Uspjeh iz matematike tijekom školovanja </a:t>
            </a:r>
            <a:r>
              <a:rPr b="0" lang="hr-HR" sz="2800" spc="-1" strike="noStrike" u="sng">
                <a:solidFill>
                  <a:srgbClr val="ffffcc"/>
                </a:solidFill>
                <a:uFillTx/>
                <a:latin typeface="Arial"/>
              </a:rPr>
              <a:t>(po razredim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29988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43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4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4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7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4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3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7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Jedina uočena zakonitost je najniža srednja ocjena iz matematike u trećem razredu  </a:t>
            </a:r>
            <a:r>
              <a:rPr b="0" lang="hr-H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Arial"/>
              </a:rPr>
              <a:t>Državna matura šk.god. 2009./10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4038480" cy="48481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Svi pristupnici na višoj razini u Republici Hrvatskoj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84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962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841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dličn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52 </a:t>
                      </a: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9.89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rlodobr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776</a:t>
                      </a: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18.45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obr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119</a:t>
                      </a: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32.4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ovoljn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980</a:t>
                      </a: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30.96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dovoljn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99</a:t>
                      </a: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8.3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648320" y="1600200"/>
          <a:ext cx="4038480" cy="48038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Pristupnici u III.gimnaziji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84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7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841"/>
                    </a:solidFill>
                  </a:tcPr>
                </a:tc>
              </a:tr>
              <a:tr h="75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dličn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0 </a:t>
                      </a: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44.94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rlodobr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3 </a:t>
                      </a: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35.39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obr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1 </a:t>
                      </a: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17.41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ovoljn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 </a:t>
                      </a: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2.24%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dovoljn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Uspjeh na DM po razredim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37497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 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 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 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 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 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 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201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rednja ocjena iz matem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ve četiri godine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9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4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jena na D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4.7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1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.6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6.0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.8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.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.9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.6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i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.0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.0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.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.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.0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.9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Postignuta ocjena na DM je veća, negdje čak i bitno, od ocjene ostvarene u razred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Grafička usporedba prema srednjoj ocjen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936720" y="1728720"/>
          <a:ext cx="662472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1728720"/>
                    <a:ext cx="662472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Usporedba uspjeha na maturi i srednje ocjene iz matematike po broju učeni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dlični na maturi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dlični u razredu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26000" bIns="12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 ( 1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 ( 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( 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 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 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 8)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rlo dobri na maturi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lo dobri u razredu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( 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 1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 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( 1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( 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 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bri na maturi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i u razredu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( 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 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 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 1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( 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 1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voljni na maturi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ovoljni u razredu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 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(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 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( 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( 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eaeaea"/>
                </a:solidFill>
                <a:latin typeface="Verdana"/>
              </a:rPr>
              <a:t>Bitno veći broj odličnih i vrlodobrih rezultata na DM od onih ostvarenih u razredu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Usporedba s probnom maturom 2009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557360"/>
          <a:ext cx="8229600" cy="340344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5e855b"/>
                    </a:solidFill>
                  </a:tcPr>
                </a:tc>
              </a:tr>
              <a:tr h="907920"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ROBNA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.66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.92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.15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.74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.33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11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000080"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DRŽAVNA MATURA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.66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06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.89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.16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.98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. 55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23920"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ZLIKA N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 M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cbc841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1 % 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cbc841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3.14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cbc841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3.74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cbc841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3.42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cbc841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4.65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cbc841"/>
                    </a:solidFill>
                  </a:tcPr>
                </a:tc>
                <a:tc>
                  <a:txBody>
                    <a:bodyPr lIns="90000" rIns="90000" tIns="180000" bIns="18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1.44 %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cbc84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09:08:34Z</dcterms:created>
  <dc:creator>Korisnik</dc:creator>
  <dc:description/>
  <dc:language>en-US</dc:language>
  <cp:lastModifiedBy>nlesar</cp:lastModifiedBy>
  <dcterms:modified xsi:type="dcterms:W3CDTF">2012-01-23T07:51:24Z</dcterms:modified>
  <cp:revision>38</cp:revision>
  <dc:subject/>
  <dc:title>Uspjeh iz matematike po razredima</dc:title>
</cp:coreProperties>
</file>