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7A94-DFDA-4271-8C1C-EF1201A8E04A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5E5D-3B0E-4A1B-9AC7-D13539760B0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048E-3BB2-4942-B9D5-C2D81C01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DDE-17A4-4337-9F12-832F1810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429-BDB1-4253-8E50-C0CFDEF1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5693-4FF4-4C05-8B3E-FF4237C2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07E-746C-41E1-A81E-76BFAD8C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E9C-ABA6-4619-83AD-2584D680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414-85A2-46A3-97AE-2FA71EBD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DCE-5AD7-4AE5-BAAB-BB36968B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E633-5F58-4014-9511-C5990F89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ED75-6B84-4B85-9CA1-D06A2F1C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A46-9C54-4FDB-99C9-EAF1F95E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54A-DBDC-4939-ADC4-FE6EFA11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BFB7-7368-45E0-A489-5E4A2BB83185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773360"/>
            <a:ext cx="8569080" cy="29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0000"/>
                </a:solidFill>
                <a:latin typeface="Arial"/>
              </a:rPr>
              <a:t>VREDNOVANJE POSTIGNUĆA UČENIKA S TEŠKOĆA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395280" y="4495680"/>
          <a:ext cx="234648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95680"/>
                    <a:ext cx="23464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4"/>
          <p:cNvGraphicFramePr/>
          <p:nvPr/>
        </p:nvGraphicFramePr>
        <p:xfrm>
          <a:off x="3780000" y="189000"/>
          <a:ext cx="167616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189000"/>
                    <a:ext cx="16761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5"/>
          <p:cNvSpPr/>
          <p:nvPr/>
        </p:nvSpPr>
        <p:spPr>
          <a:xfrm>
            <a:off x="3276720" y="5445000"/>
            <a:ext cx="550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Times New Roman"/>
              </a:rPr>
              <a:t>Elvira Nimac, prof. psiholog</a:t>
            </a:r>
            <a:br>
              <a:rPr sz="2800"/>
            </a:br>
            <a:r>
              <a:rPr b="0" i="1" lang="hr-HR" sz="2800" spc="-1" strike="noStrike">
                <a:solidFill>
                  <a:srgbClr val="000000"/>
                </a:solidFill>
                <a:latin typeface="Times New Roman"/>
              </a:rPr>
              <a:t>OŠ dr. Ante Starčevića, Zagr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964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9"/>
              </a:spcBef>
              <a:spcAft>
                <a:spcPts val="30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za svakog učenik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zraditi individualizirani odgojno obrazovni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spcAft>
                <a:spcPts val="30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sastavni dio j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laniranje načina za vrednovan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postignuć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a temelj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nicijalne provjer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znanja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najmanje 3 tjedna, opisna ocjena)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9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aučeni sadržaji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ključni pojmov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9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razina zn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9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sposobnosti učenja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što učenik </a:t>
            </a:r>
            <a:r>
              <a:rPr b="0" i="1" lang="hr-HR" sz="2200" spc="-1" strike="noStrike" u="sng">
                <a:solidFill>
                  <a:srgbClr val="000000"/>
                </a:solidFill>
                <a:uFillTx/>
                <a:latin typeface="Times New Roman"/>
              </a:rPr>
              <a:t>može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9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nter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9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otre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68360" y="260280"/>
            <a:ext cx="7991280" cy="10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Individualizirani odgojno obrazovni program</a:t>
            </a:r>
            <a:br>
              <a:rPr sz="2800"/>
            </a:b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I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96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Učenik se otežano snalazi u razumijevanju određenih sadržaja. U radu je nesamostalan i potrebna mu je pomoć vršnjaka i učitelja. Djelomično usvojena temeljna znanj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68360" y="260280"/>
            <a:ext cx="799128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Primjer </a:t>
            </a:r>
            <a:r>
              <a:rPr b="1" i="1" lang="hr-HR" sz="2800" spc="-1" strike="noStrike" u="sng">
                <a:solidFill>
                  <a:srgbClr val="ff0000"/>
                </a:solidFill>
                <a:uFillTx/>
                <a:latin typeface="Times New Roman"/>
              </a:rPr>
              <a:t>neupotrebljive</a:t>
            </a: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 inicijalne procj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700360" y="2708280"/>
            <a:ext cx="410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Zašto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je neupotrebljiv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79280" y="3357720"/>
            <a:ext cx="89647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Aft>
                <a:spcPts val="2064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Nije konkretna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Aft>
                <a:spcPts val="2064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ema opisa usvojenih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sadržaja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ključnih pojmova)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ni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razine zn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Aft>
                <a:spcPts val="2064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e znamo kakva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konkretna pomoć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mu je potreb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Aft>
                <a:spcPts val="3988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e znamo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interese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i jake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strane djete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0000"/>
                </a:solidFill>
                <a:uFillTx/>
                <a:latin typeface="Arial"/>
              </a:rPr>
              <a:t>NE ZNAMO “ODAKLE POČE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Usvojio cijele brojev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Kod zadataka s više računskih operacija često griješi u redosljedu računskih operacij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Samostalno rješava jednostavnije zadatke s razlomci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Složenije zadatke s razlomcima rješava uz individualno vođenj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Jednostavnije primjere jednadžbi s jednom nepoznanicom tipa x+a=b rješava uz povremenu pomoć tako da mu se usmjerava pažnja na pogrešno prepisane brojeve ili ispuštene dijelove zadatk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Složenije primjere ne uspijeva riješiti jer nije usvojio pravila rješavanj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Radi uz česte poticaj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Brzo se umara i odustaj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Pomoć ne traži, ali ju prihvać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Pažnja lako otklonjiva a koncentracija kratkotrajn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Pribor za rad donosi rijetk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Domaću zadaću rijetko rješa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260280"/>
            <a:ext cx="7991280" cy="5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Primjer </a:t>
            </a:r>
            <a:r>
              <a:rPr b="1" i="1" lang="hr-HR" sz="2800" spc="-1" strike="noStrike" u="sng">
                <a:solidFill>
                  <a:srgbClr val="ff0000"/>
                </a:solidFill>
                <a:uFillTx/>
                <a:latin typeface="Times New Roman"/>
              </a:rPr>
              <a:t>upotrebljive</a:t>
            </a: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 inicijalne procj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ormalne intelektualne sposobnost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ADH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disleksija, disgraf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emocionalne teškoć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poremećaji u ponašanj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oštećenja vida i slu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motorički poremećaj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89"/>
              </a:spcBef>
              <a:spcAft>
                <a:spcPts val="3025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kronične bole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spcAft>
                <a:spcPts val="30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mogu postići </a:t>
            </a: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sve razin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znanja i savladati </a:t>
            </a: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sve sadrža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spcAft>
                <a:spcPts val="30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vjet: </a:t>
            </a: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“prilagoditi” aktivnosti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okruženje)</a:t>
            </a:r>
            <a:r>
              <a:rPr b="1" i="1" lang="hr-HR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koje će im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mogućiti korišten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mišljenja više raz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340000" y="189000"/>
            <a:ext cx="4608360" cy="57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Individualizirani pri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6480" y="85680"/>
          <a:ext cx="9461520" cy="668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0" y="85680"/>
                    <a:ext cx="9461520" cy="668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4"/>
          <p:cNvGraphicFramePr/>
          <p:nvPr/>
        </p:nvGraphicFramePr>
        <p:xfrm>
          <a:off x="36360" y="471600"/>
          <a:ext cx="9107640" cy="63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471600"/>
                    <a:ext cx="9107640" cy="63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5000"/>
              </a:lnSpc>
              <a:spcBef>
                <a:spcPts val="2064"/>
              </a:spcBef>
              <a:spcAft>
                <a:spcPts val="2064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nižene intelektualn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sposobnosti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granična, LM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5000"/>
              </a:lnSpc>
              <a:spcBef>
                <a:spcPts val="206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ajviša razina znan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u pravil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graničen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 indent="-35100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funkcioniraju na razini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konkretnih operaci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 indent="-35100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maj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manjen kapacitet radne memori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efikasno  obrađuju manje količine informacij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 indent="-351000">
              <a:lnSpc>
                <a:spcPct val="95000"/>
              </a:lnSpc>
              <a:spcBef>
                <a:spcPts val="2064"/>
              </a:spcBef>
              <a:spcAft>
                <a:spcPts val="2064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trebaj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više ponavljan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da bi zapamti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5000"/>
              </a:lnSpc>
              <a:spcBef>
                <a:spcPts val="2064"/>
              </a:spcBef>
              <a:spcAft>
                <a:spcPts val="2064"/>
              </a:spcAft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ostavljanje </a:t>
            </a:r>
            <a:r>
              <a:rPr b="1" lang="hr-HR" sz="2400" spc="-1" strike="noStrike" u="sng">
                <a:solidFill>
                  <a:srgbClr val="ff0000"/>
                </a:solidFill>
                <a:uFillTx/>
                <a:latin typeface="Arial"/>
              </a:rPr>
              <a:t>nižih ciljev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očekuju se niže razine znanja)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/i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5000"/>
              </a:lnSpc>
              <a:spcBef>
                <a:spcPts val="2064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0000"/>
                </a:solidFill>
                <a:uFillTx/>
                <a:latin typeface="Arial"/>
              </a:rPr>
              <a:t>smanjuje se količin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nastavnih sadržaja koje trebaju savladati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i kod djece prosječnih sposobnosti ako su psihomotorno usporen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556000" y="260280"/>
            <a:ext cx="3887640" cy="57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Prilagođeni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5400" spc="-1" strike="noStrike">
                <a:solidFill>
                  <a:srgbClr val="ff0000"/>
                </a:solidFill>
                <a:latin typeface="Times New Roman"/>
              </a:rPr>
              <a:t>Koraci pripreme vrednovanja</a:t>
            </a:r>
            <a:br>
              <a:rPr sz="5400"/>
            </a:br>
            <a:r>
              <a:rPr b="1" i="1" lang="hr-HR" sz="3400" spc="-1" strike="noStrike">
                <a:solidFill>
                  <a:srgbClr val="000000"/>
                </a:solidFill>
                <a:latin typeface="Times New Roman"/>
              </a:rPr>
              <a:t>Nakon inicijalne procje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2276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901800" indent="-184320">
              <a:spcAft>
                <a:spcPts val="2750"/>
              </a:spcAft>
              <a:buClr>
                <a:srgbClr val="ff0000"/>
              </a:buClr>
              <a:buFont typeface="Arial"/>
              <a:buChar char="-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ognitivno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akademsk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4320">
              <a:spcAft>
                <a:spcPts val="2750"/>
              </a:spcAft>
              <a:buClr>
                <a:srgbClr val="ff0000"/>
              </a:buClr>
              <a:buFont typeface="Arial"/>
              <a:buChar char="-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afektivno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stavovi, uvjerenja, sustav vrijednosti, ponašanje)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4320">
              <a:spcAft>
                <a:spcPts val="2750"/>
              </a:spcAft>
              <a:buClr>
                <a:srgbClr val="ff0000"/>
              </a:buClr>
              <a:buFont typeface="Arial"/>
              <a:buChar char="-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sihomotoričk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0">
              <a:spcAft>
                <a:spcPts val="2750"/>
              </a:spcAft>
              <a:buNone/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Aft>
                <a:spcPts val="2750"/>
              </a:spcAft>
              <a:buNone/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ravnopravna, jednakovrijed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395280" y="1628640"/>
            <a:ext cx="34560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3300"/>
                </a:solidFill>
                <a:uFillTx/>
                <a:latin typeface="Arial"/>
              </a:rPr>
              <a:t>Područja uč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24000" y="620640"/>
            <a:ext cx="8424720" cy="57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500" spc="-1" strike="noStrike">
                <a:solidFill>
                  <a:srgbClr val="ff0000"/>
                </a:solidFill>
                <a:latin typeface="Times New Roman"/>
              </a:rPr>
              <a:t>1) Definiranje općih ciljeva </a:t>
            </a:r>
            <a:r>
              <a:rPr b="0" i="1" lang="hr-HR" sz="2500" spc="-1" strike="noStrike">
                <a:solidFill>
                  <a:srgbClr val="000000"/>
                </a:solidFill>
                <a:latin typeface="Times New Roman"/>
              </a:rPr>
              <a:t>(neakademski i akademsk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395280" y="2781360"/>
            <a:ext cx="835344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ff0000"/>
                </a:solidFill>
                <a:latin typeface="Times New Roman"/>
              </a:rPr>
              <a:t>Akademski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3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8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Usvojiti korisne </a:t>
            </a:r>
            <a:r>
              <a:rPr b="1" i="1" lang="hr-HR" sz="2300" spc="-1" strike="noStrike" u="sng">
                <a:solidFill>
                  <a:srgbClr val="ff0000"/>
                </a:solidFill>
                <a:uFillTx/>
                <a:latin typeface="Times New Roman"/>
              </a:rPr>
              <a:t>radne navike</a:t>
            </a: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Usvojiti prihvatljive </a:t>
            </a:r>
            <a:r>
              <a:rPr b="1" i="1" lang="hr-HR" sz="2300" spc="-1" strike="noStrike" u="sng">
                <a:solidFill>
                  <a:srgbClr val="ff0000"/>
                </a:solidFill>
                <a:uFillTx/>
                <a:latin typeface="Times New Roman"/>
              </a:rPr>
              <a:t>navike ponašanja</a:t>
            </a: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1" lang="hr-HR" sz="2100" spc="-1" strike="noStrike">
                <a:solidFill>
                  <a:srgbClr val="000000"/>
                </a:solidFill>
                <a:latin typeface="Arial"/>
              </a:rPr>
              <a:t>Zajedničko svim predmeti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8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Biti sposoban za </a:t>
            </a:r>
            <a:r>
              <a:rPr b="1" i="1" lang="hr-HR" sz="2300" spc="-1" strike="noStrike" u="sng">
                <a:solidFill>
                  <a:srgbClr val="ff0000"/>
                </a:solidFill>
                <a:uFillTx/>
                <a:latin typeface="Times New Roman"/>
              </a:rPr>
              <a:t>rad u timu</a:t>
            </a: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8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It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24000" y="620640"/>
            <a:ext cx="8424720" cy="57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500" spc="-1" strike="noStrike">
                <a:solidFill>
                  <a:srgbClr val="ff0000"/>
                </a:solidFill>
                <a:latin typeface="Times New Roman"/>
              </a:rPr>
              <a:t>1) Definiranje općih ciljev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79280" y="3213000"/>
            <a:ext cx="482436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340000" y="2997000"/>
            <a:ext cx="63468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Darovit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če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čenici s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teškoć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684360" y="620640"/>
            <a:ext cx="79200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ff0000"/>
                </a:solidFill>
                <a:latin typeface="Times New Roman"/>
              </a:rPr>
              <a:t>Učenici s posebnim obrazovnim potrebama</a:t>
            </a:r>
            <a:br>
              <a:rPr sz="3200"/>
            </a:b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Zakon o odgoju i obrazovanju u osnovnoj i srednjoj školi (čl. 62.)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250920" y="260280"/>
            <a:ext cx="849636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500" spc="-1" strike="noStrike">
                <a:solidFill>
                  <a:srgbClr val="ff0000"/>
                </a:solidFill>
                <a:latin typeface="Times New Roman"/>
              </a:rPr>
              <a:t>2) Operacionaliziranje ciljeva  </a:t>
            </a:r>
            <a:r>
              <a:rPr b="0" i="1" lang="hr-HR" sz="2500" spc="-1" strike="noStrike">
                <a:solidFill>
                  <a:srgbClr val="000000"/>
                </a:solidFill>
                <a:latin typeface="Times New Roman"/>
              </a:rPr>
              <a:t>definiranje ishoda učen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24000" y="1197000"/>
            <a:ext cx="86756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185760">
              <a:lnSpc>
                <a:spcPct val="9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 u="sng">
                <a:solidFill>
                  <a:srgbClr val="ff0000"/>
                </a:solidFill>
                <a:uFillTx/>
                <a:latin typeface="Times New Roman"/>
              </a:rPr>
              <a:t>Radne navik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Redovito i točno pisati domaće zadać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Redovito donositi pribor za r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Raditi na postavljenim zadaci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Biti ustrajan pri rješavanju proble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 u="sng">
                <a:solidFill>
                  <a:srgbClr val="ff0000"/>
                </a:solidFill>
                <a:uFillTx/>
                <a:latin typeface="Times New Roman"/>
              </a:rPr>
              <a:t>Sposobnost suradnje</a:t>
            </a:r>
            <a:r>
              <a:rPr b="1" i="1" lang="hr-HR" sz="23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Slušati druge</a:t>
            </a:r>
            <a:r>
              <a:rPr b="0" i="1" lang="hr-HR" sz="2300" spc="-1" strike="noStrike">
                <a:solidFill>
                  <a:srgbClr val="000000"/>
                </a:solidFill>
                <a:latin typeface="Times New Roman"/>
              </a:rPr>
              <a:t> (Uzimati u obzir tuđe prijedlog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Dogovarati se</a:t>
            </a:r>
            <a:r>
              <a:rPr b="0" i="1" lang="hr-HR" sz="2300" spc="-1" strike="noStrike">
                <a:solidFill>
                  <a:srgbClr val="000000"/>
                </a:solidFill>
                <a:latin typeface="Times New Roman"/>
              </a:rPr>
              <a:t> (Argumentirano i asertivno raspravljat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Pomagati drugima u slučaju potreb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Preuzimati odgovornost</a:t>
            </a:r>
            <a:r>
              <a:rPr b="0" i="1" lang="hr-HR" sz="2300" spc="-1" strike="noStrike">
                <a:solidFill>
                  <a:srgbClr val="000000"/>
                </a:solidFill>
                <a:latin typeface="Times New Roman"/>
              </a:rPr>
              <a:t> (za vlastite postupke i rezultate svoga rad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 u="sng">
                <a:solidFill>
                  <a:srgbClr val="ff0000"/>
                </a:solidFill>
                <a:uFillTx/>
                <a:latin typeface="Times New Roman"/>
              </a:rPr>
              <a:t>Navike ponašanja</a:t>
            </a:r>
            <a:r>
              <a:rPr b="1" i="1" lang="hr-HR" sz="23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Pridržavati se pravila kućnog re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185760">
              <a:lnSpc>
                <a:spcPct val="90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000000"/>
                </a:solidFill>
                <a:latin typeface="Times New Roman"/>
              </a:rPr>
              <a:t>S poštovanjem se ponašati prema drugim ljudi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79280" y="1700280"/>
            <a:ext cx="8964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39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očekuju s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sta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temeljna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našan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kao 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d ostalih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učenik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3988"/>
              </a:spcAft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za njih se definiraj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sti cljev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3988"/>
              </a:spcAft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sti način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se vrednuje njihova ostvare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826920" y="620640"/>
            <a:ext cx="734544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Koje ciljeve definirati na afektivnom područj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39640" y="4292640"/>
            <a:ext cx="777744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072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veća teškoća </a:t>
            </a:r>
            <a:r>
              <a:rPr b="1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veći naglasak na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odgojnoj kompon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89"/>
              </a:spcBef>
              <a:spcAft>
                <a:spcPts val="2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slabom ocjenom </a:t>
            </a: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ne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sankcionirat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ponašanje koj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 može kontrolirat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manifestacija poremećaj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8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razlikovati „namjerna“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ponašanja od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“nenamjernih”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bilježja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koja dijet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metaju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u funkcioniranj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vrpoljenje, nepažljivost, zaboravnost, nestrpljivost (ADH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689"/>
              </a:spcBef>
              <a:spcAft>
                <a:spcPts val="27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nepažljivost i zaboravnost učenika s emocionalnim problem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89"/>
              </a:spcBef>
              <a:spcAft>
                <a:spcPts val="2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ako pokazuj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štovan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prema drugima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na poticaj korigira ponašanje)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navljan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„loših“ ponašanja s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 sankcionir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, a učenika s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dučava kontroliranju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ometajuće osob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onašanja koja učenik može kontrolirat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smiju s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pravdavati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jegovim poremećajem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npr. omalovažavanje i vrijeđanje drugih osoba od učenika s ADHD-om, agresivno ponašanje, 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187280" y="189000"/>
            <a:ext cx="6912000" cy="57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Razlikovanje “poremećaja” od “neposluh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1628640"/>
            <a:ext cx="8893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1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cilj školovan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riprema za </a:t>
            </a: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rješavanje životnih problema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1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ije dovoljno dosjećanje i reproduk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1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ticati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da razvijaju što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širi raspon potencij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1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astavu i provjeru kvalitete ishoda osmisliti tako da i učenici s intelektualnim teškoćama dosegn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barem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razinu </a:t>
            </a: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jednostavne primjene</a:t>
            </a:r>
            <a:r>
              <a:rPr b="1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rutinskog proceduralnog znanj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619280" y="476280"/>
            <a:ext cx="583236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Očekivana razina akademskog zn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490160" cy="5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Mogućnost poticanja kognitivnog razv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rema Piagetovoj teoriji dijet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 može ovladat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nekim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jmom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dok mu to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biološka zrelost ne dopu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straživanja </a:t>
            </a:r>
            <a:r>
              <a:rPr b="1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uz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dgovarajuće zadatk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djeca mog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stići viš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od očekivanog s obzirom na razvojni stupanj na kojem se nala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možemo ih </a:t>
            </a: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“istrenirati” da koriste pojedine operacije mišljen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ako im se daj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dgovarajući zadac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jednostav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životn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: povezani sa iskustvom, razumljivi, realistič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 ako se njihova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poznaja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gradi s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orak po kora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može s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ubrzati kognitivni razvoj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većati kapacitet za uče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89308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akon operacionalizaci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ciljeva (definiranja </a:t>
            </a:r>
            <a:r>
              <a:rPr b="1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ishoda učen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6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mogući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načini vrednovanja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čenikovog postignuć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53880">
              <a:spcBef>
                <a:spcPts val="1650"/>
              </a:spcBef>
              <a:spcAft>
                <a:spcPts val="1375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dobij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cjenu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ovisno o zadovoljenim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riterijima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53880">
              <a:spcBef>
                <a:spcPts val="16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kali procjen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se uz svaku tvrdnju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operacionalizirani cilj)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znač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tupanj ostvarenosti cil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53880">
              <a:spcBef>
                <a:spcPts val="1650"/>
              </a:spcBef>
              <a:buClr>
                <a:srgbClr val="ff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rubr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53880">
              <a:spcBef>
                <a:spcPts val="165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t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16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79280" y="1484280"/>
            <a:ext cx="878544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3) Određivanje pokazatelja uspješ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2987640" y="404640"/>
            <a:ext cx="3384720" cy="57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Kriteriji ocjenj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24000" y="1413000"/>
            <a:ext cx="8820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trebaju bit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jasni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reciz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mogu bit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sti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kao za učenike bez teškoća, ali su </a:t>
            </a: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ciljevi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individualno definiran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rilagođen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su </a:t>
            </a: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metode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provjeravanja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zn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učenike upoznat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s njima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pravilima, očekivanjima) 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veća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bjektivnost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rocjene 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jasnija komunika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8930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8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ticati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da u okviru ostvarivih ciljeva postiž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što bolje rezultat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što viša / izvrsnija razina izvedb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8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stjecanj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avik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da ono što rad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rade kvalitet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78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ačel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stupci kvalitetnog vrednovan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koji se odnose na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ve učen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556000" y="333360"/>
            <a:ext cx="3889080" cy="57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Načelo izvrs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4724280"/>
            <a:ext cx="9144000" cy="151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kvaliteta znanja učenika s teškoćama može biti opisana                       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vim ocjenam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od 1 do 5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ovisno o tom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u kojoj mjer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stvaren </a:t>
            </a: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individualno definirani cil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62644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3300"/>
                </a:solidFill>
                <a:latin typeface="Times New Roman"/>
              </a:rPr>
              <a:t>Štetnost poklanjanja dvoj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64"/>
              </a:spcBef>
              <a:spcAft>
                <a:spcPts val="178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mozak se obliku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ovisno o vrsti i količini upora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64"/>
              </a:spcBef>
              <a:spcAft>
                <a:spcPts val="178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zahtjevi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poticaj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z okruženja mogu utjecati na 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IQ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za 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+/- 20 bodov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raspon od 40 bodova)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64"/>
              </a:spcBef>
              <a:spcAft>
                <a:spcPts val="178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zahtjevni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izazovnija nastav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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bogatij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složeniji mozak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rast mozga stimuliraju novi i teži zadac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6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nezahtjevna nastav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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dosad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„izležavanje mozga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064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učenici koji </a:t>
            </a:r>
            <a:r>
              <a:rPr b="0" i="1" lang="hr-HR" sz="2200" spc="-1" strike="noStrike">
                <a:solidFill>
                  <a:srgbClr val="ff3300"/>
                </a:solidFill>
                <a:latin typeface="Times New Roman"/>
              </a:rPr>
              <a:t>završe školu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 imaju </a:t>
            </a:r>
            <a:r>
              <a:rPr b="0" i="1" lang="hr-HR" sz="2200" spc="-1" strike="noStrike">
                <a:solidFill>
                  <a:srgbClr val="ff3300"/>
                </a:solidFill>
                <a:latin typeface="Times New Roman"/>
              </a:rPr>
              <a:t>40% više veza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 u mozgu od onih koji su prekinuli školov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064"/>
              </a:spcBef>
              <a:spcAft>
                <a:spcPts val="414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mozgovi onih koji se </a:t>
            </a:r>
            <a:r>
              <a:rPr b="0" i="1" lang="hr-HR" sz="2200" spc="-1" strike="noStrike">
                <a:solidFill>
                  <a:srgbClr val="ff3300"/>
                </a:solidFill>
                <a:latin typeface="Times New Roman"/>
              </a:rPr>
              <a:t>provlače kroz razrede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 imaju </a:t>
            </a:r>
            <a:r>
              <a:rPr b="0" i="1" lang="hr-HR" sz="2200" spc="-1" strike="noStrike">
                <a:solidFill>
                  <a:srgbClr val="ff3300"/>
                </a:solidFill>
                <a:latin typeface="Times New Roman"/>
              </a:rPr>
              <a:t>manje veza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 od mozgova onih koji ulažu napor u savladavanje gradiv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835280" y="260280"/>
            <a:ext cx="568800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Kriteriji za USTRAJNOST u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684360" y="1343160"/>
          <a:ext cx="748980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3160"/>
                    <a:ext cx="74898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4"/>
          <p:cNvSpPr/>
          <p:nvPr/>
        </p:nvSpPr>
        <p:spPr>
          <a:xfrm>
            <a:off x="250920" y="5516640"/>
            <a:ext cx="889308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64"/>
              </a:spcBef>
              <a:spcAft>
                <a:spcPts val="178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ADD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li 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ADHD </a:t>
            </a:r>
            <a:r>
              <a:rPr b="1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 modificirati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kriterij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pažnja im povremeno “odluta” i tada ih treba “potaknuti” = usmjeriti pažnj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820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čenici s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teškoćama u razvoj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čenici s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teškoćama u učenju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roblemima u ponašanju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emocionalnim problem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čenici s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teškoćama uvjetovanim odgojnim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ocijalnim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ekonomskim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ulturalnim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 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jezičnim čimbenic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ff0000"/>
                </a:solidFill>
                <a:latin typeface="Times New Roman"/>
              </a:rPr>
              <a:t>10%</a:t>
            </a:r>
            <a:r>
              <a:rPr b="1" i="1" lang="hr-HR" sz="2200" spc="-1" strike="noStrike">
                <a:solidFill>
                  <a:srgbClr val="000000"/>
                </a:solidFill>
                <a:latin typeface="Times New Roman"/>
              </a:rPr>
              <a:t> populaci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ff0000"/>
                </a:solidFill>
                <a:latin typeface="Times New Roman"/>
              </a:rPr>
              <a:t>3-4%</a:t>
            </a:r>
            <a:r>
              <a:rPr b="1" i="1" lang="hr-HR" sz="2200" spc="-1" strike="noStrike">
                <a:solidFill>
                  <a:srgbClr val="000000"/>
                </a:solidFill>
                <a:latin typeface="Times New Roman"/>
              </a:rPr>
              <a:t> učenika je </a:t>
            </a:r>
            <a:r>
              <a:rPr b="1" i="1" lang="hr-HR" sz="2200" spc="-1" strike="noStrike">
                <a:solidFill>
                  <a:srgbClr val="ff0000"/>
                </a:solidFill>
                <a:latin typeface="Times New Roman"/>
              </a:rPr>
              <a:t>usporenog kognitivnog razvo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684360" y="333360"/>
            <a:ext cx="792000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ff0000"/>
                </a:solidFill>
                <a:latin typeface="Times New Roman"/>
              </a:rPr>
              <a:t>Učenici s teškoćama</a:t>
            </a:r>
            <a:br>
              <a:rPr sz="3200"/>
            </a:b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Zakon o odgoju i obrazovanju u osnovnoj i srednjoj školi (čl. 62.)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2"/>
          <p:cNvGraphicFramePr/>
          <p:nvPr/>
        </p:nvGraphicFramePr>
        <p:xfrm>
          <a:off x="15840" y="1130400"/>
          <a:ext cx="8929800" cy="60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1130400"/>
                    <a:ext cx="892980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3"/>
          <p:cNvSpPr/>
          <p:nvPr/>
        </p:nvSpPr>
        <p:spPr>
          <a:xfrm>
            <a:off x="395280" y="333360"/>
            <a:ext cx="8280360" cy="5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Kriteriji za VLADANJE </a:t>
            </a:r>
            <a:r>
              <a:rPr b="0" i="1" lang="hr-HR" sz="2800" spc="-1" strike="noStrike">
                <a:solidFill>
                  <a:srgbClr val="ff0000"/>
                </a:solidFill>
                <a:latin typeface="Times New Roman"/>
              </a:rPr>
              <a:t>(primjerenost ponašan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2"/>
          <p:cNvGraphicFramePr/>
          <p:nvPr/>
        </p:nvGraphicFramePr>
        <p:xfrm>
          <a:off x="611280" y="1989000"/>
          <a:ext cx="8084880" cy="244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89000"/>
                    <a:ext cx="8084880" cy="24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3"/>
          <p:cNvSpPr/>
          <p:nvPr/>
        </p:nvSpPr>
        <p:spPr>
          <a:xfrm>
            <a:off x="395280" y="981000"/>
            <a:ext cx="8280360" cy="5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Napomena uz kriterije za ocjenjivanje vlad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2"/>
          <p:cNvGraphicFramePr/>
          <p:nvPr/>
        </p:nvGraphicFramePr>
        <p:xfrm>
          <a:off x="395280" y="1197000"/>
          <a:ext cx="820584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0584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3"/>
          <p:cNvSpPr/>
          <p:nvPr/>
        </p:nvSpPr>
        <p:spPr>
          <a:xfrm>
            <a:off x="1835280" y="260280"/>
            <a:ext cx="5689440" cy="5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Skala procjene za VLAD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804000" y="162864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7740720" y="2133720"/>
            <a:ext cx="565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740720" y="270828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7740720" y="321300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7740720" y="378936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6732720" y="4437000"/>
            <a:ext cx="564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6804000" y="515772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7740720" y="566100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0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omogućuj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recizno i poticajno „mjerenje“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postignuća učenik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088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vidi s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a kojim kompetencijam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u kojoj mjer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treba radi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088"/>
              </a:spcBef>
              <a:spcAft>
                <a:spcPts val="2750"/>
              </a:spcAft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brojčana ocjen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 sadrž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taj podat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088"/>
              </a:spcBef>
              <a:spcAft>
                <a:spcPts val="2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a temelj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valitativne analiz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„profila postignuća“ može se odredit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brojčana ocjen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gruba mjera uspješnost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40000" y="549360"/>
            <a:ext cx="4465440" cy="57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Korisnost </a:t>
            </a:r>
            <a:r>
              <a:rPr b="1" i="1" lang="hr-HR" sz="2800" spc="-1" strike="noStrike" u="sng">
                <a:solidFill>
                  <a:srgbClr val="ff0000"/>
                </a:solidFill>
                <a:uFillTx/>
                <a:latin typeface="Times New Roman"/>
              </a:rPr>
              <a:t>skala procj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395280" y="1197000"/>
          <a:ext cx="820584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0584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3"/>
          <p:cNvSpPr/>
          <p:nvPr/>
        </p:nvSpPr>
        <p:spPr>
          <a:xfrm>
            <a:off x="1332000" y="333360"/>
            <a:ext cx="6553080" cy="5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Kako biste ocijenili vladanje ovog učeni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804000" y="162864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7740720" y="2133720"/>
            <a:ext cx="565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7740720" y="270828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740720" y="321300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7740720" y="378936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6732720" y="4437000"/>
            <a:ext cx="564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6804000" y="515772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7740720" y="5661000"/>
            <a:ext cx="565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6227640" y="6165720"/>
            <a:ext cx="2016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ff0000"/>
                </a:solidFill>
                <a:latin typeface="Times New Roman"/>
              </a:rPr>
              <a:t>Uzo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324000" y="3068640"/>
            <a:ext cx="5184720" cy="86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4"/>
          <p:cNvSpPr/>
          <p:nvPr/>
        </p:nvSpPr>
        <p:spPr>
          <a:xfrm>
            <a:off x="395280" y="5516640"/>
            <a:ext cx="5184720" cy="86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5"/>
          <p:cNvSpPr/>
          <p:nvPr/>
        </p:nvSpPr>
        <p:spPr>
          <a:xfrm>
            <a:off x="468360" y="1989000"/>
            <a:ext cx="5184720" cy="865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64"/>
              </a:spcBef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voditi račun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o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64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stilovima učenja i iskazivanja zn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64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sposobnostima uče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64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karakteristikama pojedine grupe teškoća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strategije podrške – prilagodba postupak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64"/>
              </a:spcBef>
              <a:spcAft>
                <a:spcPts val="13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ripremiti 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nekoliko različitih aktivnost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za provjeru ostvarenosti istih cilje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64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79280" y="549360"/>
            <a:ext cx="8210520" cy="57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4) Odabir aktivnosti za provjeru kvalitete zn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2124000" y="6308640"/>
            <a:ext cx="6769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Times New Roman"/>
              </a:rPr>
              <a:t>Snježana Kedačić, učiteljica matematike, OŠ dr. Ante Starčević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5"/>
          <p:cNvGraphicFramePr/>
          <p:nvPr/>
        </p:nvGraphicFramePr>
        <p:xfrm>
          <a:off x="0" y="-528480"/>
          <a:ext cx="9275760" cy="673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528480"/>
                    <a:ext cx="9275760" cy="67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-263520">
              <a:lnSpc>
                <a:spcPct val="95000"/>
              </a:lnSpc>
              <a:spcBef>
                <a:spcPts val="2614"/>
              </a:spcBef>
              <a:spcAft>
                <a:spcPts val="165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tempo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razvoja 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maksimalna razin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sposobnost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predvidi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95000"/>
              </a:lnSpc>
              <a:spcBef>
                <a:spcPts val="2614"/>
              </a:spcBef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važno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 limitirati razvoj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sposobnosti ni jednog učen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95000"/>
              </a:lnSpc>
              <a:spcBef>
                <a:spcPts val="2614"/>
              </a:spcBef>
              <a:spcAft>
                <a:spcPts val="165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nuditi obavezne zadatke do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razin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jednostavne primjene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zadaci iz prve tri razin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95000"/>
              </a:lnSpc>
              <a:spcBef>
                <a:spcPts val="26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kada ih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riješ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, može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izabrat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zadatak na razin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reativne primje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2614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ako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 riješ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, to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 utječ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cje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2614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ako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riješ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, može dobit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„ekstra“ odličnu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ocjenu -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“može više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900000" y="189000"/>
            <a:ext cx="7201080" cy="57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Utvrđivanje tempa razvoja i razine sp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ako učenik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 uspije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užno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noviti obradu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uvježbavanje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rovje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ako ponovo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 uspi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, to može značiti da smo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-22860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ostavil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revisoke cilje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-22860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odabral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adekvatne metod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poučavanje, provjer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uzroke neuspjeh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možemo utvrdi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-22860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ndividualnom radu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-228600">
              <a:spcBef>
                <a:spcPts val="550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ombinirajući različite metod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da bi se postavljal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zadaci optimalne težin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, nužno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ustavno praćen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napredovanja i pravljenje bilješk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835280" y="260280"/>
            <a:ext cx="5040360" cy="57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Utvrđivanje uzroka neuspjeh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ećini uče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ukućani </a:t>
            </a:r>
            <a:r>
              <a:rPr b="1" lang="hr-HR" sz="3200" spc="-1" strike="noStrike" u="sng">
                <a:solidFill>
                  <a:srgbClr val="ff0000"/>
                </a:solidFill>
                <a:uFillTx/>
                <a:latin typeface="Arial"/>
              </a:rPr>
              <a:t>NE MOGU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 pomoći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90000"/>
              </a:lnSpc>
              <a:spcBef>
                <a:spcPts val="3200"/>
              </a:spcBef>
              <a:spcAft>
                <a:spcPts val="6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 učenju gradi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ažno </a:t>
            </a:r>
            <a:r>
              <a:rPr b="1" lang="hr-HR" sz="3200" spc="-1" strike="noStrike" u="sng">
                <a:solidFill>
                  <a:srgbClr val="ff0000"/>
                </a:solidFill>
                <a:uFillTx/>
                <a:latin typeface="Arial"/>
              </a:rPr>
              <a:t>OSIGURATI PODRŠKU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 šk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362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st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za sv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učenik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7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3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stjecanje </a:t>
            </a:r>
            <a:r>
              <a:rPr b="1" lang="hr-HR" sz="2600" spc="-1" strike="noStrike">
                <a:solidFill>
                  <a:srgbClr val="ff0000"/>
                </a:solidFill>
                <a:latin typeface="Arial"/>
              </a:rPr>
              <a:t>VAŽNIH KOMPETENCI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059280" y="476280"/>
            <a:ext cx="302544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Cilj škol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700280"/>
            <a:ext cx="80755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7000" spc="-1" strike="noStrike">
                <a:solidFill>
                  <a:srgbClr val="000000"/>
                </a:solidFill>
                <a:latin typeface="Times New Roman"/>
              </a:rPr>
              <a:t>Kraj!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5000" spc="-1" strike="noStrike">
                <a:solidFill>
                  <a:srgbClr val="000000"/>
                </a:solidFill>
                <a:latin typeface="Times New Roman"/>
              </a:rPr>
              <a:t>EVALUACIJ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4000" y="1916280"/>
            <a:ext cx="8820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st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za sv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učenik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tvrdit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što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ako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znaj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taknut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h na još kvalitetniji r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7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RIMARNI CILJ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vrednovanja u OSNOVNOJ i SREDNJOJ školi j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TICAN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učenika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a ne selekcij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619280" y="692280"/>
            <a:ext cx="6337440" cy="57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Cilj vrednovanja postignuća uče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Aft>
                <a:spcPts val="11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ste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kao kod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ostalih učenika</a:t>
            </a:r>
            <a:r>
              <a:rPr b="0" i="1" lang="hr-HR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povremeno ponoviti – podsjetiti 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koristiti </a:t>
            </a: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različite postupke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i kroz </a:t>
            </a: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neformalne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(ispitne) situacije u opuštenoj atmosfer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dati </a:t>
            </a: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dovoljno vremena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za promišljanje odgovo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dati </a:t>
            </a: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priliku da poprave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ocjenu i postignu željene rezult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poticati </a:t>
            </a: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suradničku atmosferu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prije obrade sadržaja/teme </a:t>
            </a: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informirati o očekivanjima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(operacionaliziranim obrazovnim postignućim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a prije provjere znanja </a:t>
            </a: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o kriterijima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ocjenjiv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najaviti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ispit i informirati o segmentima gradiva i načinu ispitiv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ocjenjivati </a:t>
            </a: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nakon vježbanja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sadržaja i načina ispitivanja, te informiranja o kvaliteti postignuć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sustavno </a:t>
            </a: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pratiti napredak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u važnim područjima i voditi bilješk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uključiti učenike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u proces vrednovanja i ocjenjiv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pomoći im da naprave </a:t>
            </a: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plan napredovanja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u važnim područji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ocjenu iz predmeta </a:t>
            </a:r>
            <a:r>
              <a:rPr b="0" i="1" lang="hr-HR" sz="1700" spc="-1" strike="noStrike">
                <a:solidFill>
                  <a:srgbClr val="ff0000"/>
                </a:solidFill>
                <a:latin typeface="Times New Roman"/>
              </a:rPr>
              <a:t>zaključiti na temelju kvalitativne analize</a:t>
            </a:r>
            <a:r>
              <a:rPr b="0" i="1" lang="hr-HR" sz="1700" spc="-1" strike="noStrike">
                <a:solidFill>
                  <a:srgbClr val="000000"/>
                </a:solidFill>
                <a:latin typeface="Times New Roman"/>
              </a:rPr>
              <a:t> ocjena i bilješki o napredovanju (ne kao srednju ocjenu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što češć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provjeravati znanj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manjih segmenat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grad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a način koji učenik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više odgov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što češće davati konkretn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vratnu informaciju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o kvaliteti postignuća i pristup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908000" y="189000"/>
            <a:ext cx="5400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Aktivnosti za ostvarenje ci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1375"/>
              </a:spcBef>
              <a:spcAft>
                <a:spcPts val="453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mozak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djeluje na temelj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vratne informaci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odlučuje što će raditi na temelju onoga što je napravi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375"/>
              </a:spcBef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ovratna informacija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manjuje nesigurnost i stres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veći osjećaj kontrole nad situacijom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40000" indent="-439920">
              <a:lnSpc>
                <a:spcPct val="90000"/>
              </a:lnSpc>
              <a:spcBef>
                <a:spcPts val="1375"/>
              </a:spcBef>
              <a:spcAft>
                <a:spcPts val="1100"/>
              </a:spcAft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otpušta s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manje hormona stres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katekolam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55760" indent="-228600">
              <a:lnSpc>
                <a:spcPct val="90000"/>
              </a:lnSpc>
              <a:spcBef>
                <a:spcPts val="1375"/>
              </a:spcBef>
              <a:spcAft>
                <a:spcPts val="4538"/>
              </a:spcAft>
              <a:buClr>
                <a:srgbClr val="000000"/>
              </a:buClr>
              <a:buFont typeface="Wingdings" charset="2"/>
              <a:buChar char="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veća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posobnost suočavan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s problem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375"/>
              </a:spcBef>
              <a:spcAft>
                <a:spcPts val="11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onkretni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povratna informacija </a:t>
            </a:r>
            <a:r>
              <a:rPr b="1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već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zitivniji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tjeca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375"/>
              </a:spcBef>
              <a:spcAft>
                <a:spcPts val="11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mogućnost promjen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izvedbe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ispravka)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već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zitivniji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tjeca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547640" y="404640"/>
            <a:ext cx="6337440" cy="57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Važnost neposredne povratne inform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06472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Važnost postavljanja </a:t>
            </a:r>
            <a:r>
              <a:rPr b="1" i="1" lang="hr-HR" sz="2800" spc="-1" strike="noStrike" u="sng">
                <a:solidFill>
                  <a:srgbClr val="ff0000"/>
                </a:solidFill>
                <a:uFillTx/>
                <a:latin typeface="Times New Roman"/>
              </a:rPr>
              <a:t>razvojno primjerenih</a:t>
            </a:r>
            <a:r>
              <a:rPr b="1" i="1" lang="hr-HR" sz="2800" spc="-1" strike="noStrike">
                <a:solidFill>
                  <a:srgbClr val="ff0000"/>
                </a:solidFill>
                <a:latin typeface="Times New Roman"/>
              </a:rPr>
              <a:t> za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ajčešć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uzrok neuspjeh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(i kod djece bez teškoća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739880" indent="-380880">
              <a:spcAft>
                <a:spcPts val="1925"/>
              </a:spcAft>
              <a:buClr>
                <a:srgbClr val="ff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zadaci neprilagođen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razvojnim mogućnosti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739880" indent="-380880">
              <a:spcAft>
                <a:spcPts val="1925"/>
              </a:spcAft>
              <a:buClr>
                <a:srgbClr val="ff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eprimjerene metod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poučav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739880" indent="0">
              <a:spcAft>
                <a:spcPts val="19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da bi zadaci bili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razvojno primjeren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treba voditi računa 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739880" indent="-380880">
              <a:spcAft>
                <a:spcPts val="1925"/>
              </a:spcAft>
              <a:buClr>
                <a:srgbClr val="ff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posobnostima učenja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razina kognitivnog razvoj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739880" indent="-380880">
              <a:spcAft>
                <a:spcPts val="1925"/>
              </a:spcAft>
              <a:buClr>
                <a:srgbClr val="ff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til uče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739880" indent="-380880">
              <a:spcAft>
                <a:spcPts val="1925"/>
              </a:spcAft>
              <a:buClr>
                <a:srgbClr val="ff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redznanje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životna iskustva i spoznaje s kojima djeca dolaze u škol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739880" indent="-380880">
              <a:spcAft>
                <a:spcPts val="1925"/>
              </a:spcAft>
              <a:buClr>
                <a:srgbClr val="ff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nteres i motiva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187280" y="4076640"/>
            <a:ext cx="7345440" cy="576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554508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3300"/>
                </a:solidFill>
                <a:latin typeface="Times New Roman"/>
              </a:rPr>
              <a:t>Održavanje motivacije za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1375"/>
              </a:spcBef>
              <a:spcAft>
                <a:spcPts val="123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motivirani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za rad s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ptimalno teškim zadacima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ni prelagani, ni preteški)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– nešto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malo iznad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trenutnog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poznajnog stup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28600">
              <a:spcBef>
                <a:spcPts val="1375"/>
              </a:spcBef>
              <a:spcAft>
                <a:spcPts val="550"/>
              </a:spcAft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relagani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zadaci  </a:t>
            </a:r>
            <a:r>
              <a:rPr b="1" lang="hr-HR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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dos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28600">
              <a:spcBef>
                <a:spcPts val="1375"/>
              </a:spcBef>
              <a:spcAft>
                <a:spcPts val="550"/>
              </a:spcAft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reteški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zadaci  </a:t>
            </a:r>
            <a:r>
              <a:rPr b="1" lang="hr-HR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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dustajanje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(ne mogu ih riješiti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28600">
              <a:spcBef>
                <a:spcPts val="1375"/>
              </a:spcBef>
              <a:spcAft>
                <a:spcPts val="825"/>
              </a:spcAft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navljani neuspjeh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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gubitak samopouzdan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nte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375"/>
              </a:spcBef>
              <a:spcAft>
                <a:spcPts val="123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stepeno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se daju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ve zahtjevniji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zadac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28600">
              <a:spcBef>
                <a:spcPts val="1375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ostepeno s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diže razina misaonog funkcioniranj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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otiče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lang="hr-HR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razvoj mozg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28600">
              <a:spcBef>
                <a:spcPts val="1375"/>
              </a:spcBef>
              <a:spcAft>
                <a:spcPts val="2475"/>
              </a:spcAft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držav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se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motivacija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za r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08:14:22Z</dcterms:created>
  <dc:creator>Korisnik</dc:creator>
  <dc:description/>
  <dc:language>en-US</dc:language>
  <cp:lastModifiedBy>nlesar</cp:lastModifiedBy>
  <dcterms:modified xsi:type="dcterms:W3CDTF">2012-01-23T07:57:24Z</dcterms:modified>
  <cp:revision>605</cp:revision>
  <dc:subject/>
  <dc:title>VREDNOVANJE POSTIGNUĆA UČENIKA S POSEBNIM POTREBAMA</dc:title>
</cp:coreProperties>
</file>