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DF15-679F-40E6-9AF8-B43245F76B7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8842-2310-4BE7-AF39-B160AA1D3C45}" type="slidenum">
              <a:rPr b="0" lang="hr-H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D78D-1452-4D85-BD5A-DB20D98B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66AE-7EB7-4E36-A8FE-EA0EAFD7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64D-D836-4846-AA3E-E39E7B33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5C4C-5CD2-4925-8D94-E387DB3F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F9EC-A638-4A93-B109-7E206AA1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230D-9BFA-48AE-88D0-1116029F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9236-3EB8-4064-82E1-6A6B35AA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48B5-C62E-4915-AE02-98C10B2F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0D46-B2E5-4E46-AA54-A5837351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A291-7F44-43C4-9367-514E17C5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B0D7-125E-4283-8B98-F4EF291D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C19-FA6B-4C7D-AAE1-DBB1BDF5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3403-7EB1-4079-9EE8-39D4FC02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B60A-6B5C-40EB-9049-900C91BF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E020-3B98-4232-B51C-725CBB59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3E14-2050-4BE0-A58F-8358119C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2973-2574-4D3D-B40F-E3C67872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9A5-FCE3-4F7C-91E5-EE3A548E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511-A5D0-4118-9716-2E2909BA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345-E35B-45C8-A954-3784FB9F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E1A-5CAF-4787-9887-5AEC6478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115-B052-487E-A527-863A4605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7936-3268-4D0E-9F3F-50737783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5B79-650B-4D57-AE8E-2C1713BF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823B-83E5-4E2E-8505-136DB630FCC0}" type="slidenum">
              <a:rPr b="0" lang="hr-H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0397-8B06-4AA6-952E-56F6C09E895A}" type="slidenum">
              <a:rPr b="0" lang="hr-H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hud.hr/" TargetMode="External"/><Relationship Id="rId2" Type="http://schemas.openxmlformats.org/officeDocument/2006/relationships/hyperlink" Target="http://www.idem.hr/" TargetMode="External"/><Relationship Id="rId3" Type="http://schemas.openxmlformats.org/officeDocument/2006/relationships/hyperlink" Target="http://www.roda.hr/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ijagram toka: Bušena vrpca 4"/>
          <p:cNvSpPr/>
          <p:nvPr/>
        </p:nvSpPr>
        <p:spPr>
          <a:xfrm>
            <a:off x="1258920" y="1557360"/>
            <a:ext cx="6913440" cy="273528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20840" y="2356920"/>
            <a:ext cx="69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JECA I UČENICI S POSEBNIM ODGOJNO-OBRAZOVNIM POTREBAMA I MATEMATIK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9280" y="2924280"/>
            <a:ext cx="1656000" cy="1657080"/>
          </a:xfrm>
          <a:prstGeom prst="rect">
            <a:avLst/>
          </a:prstGeom>
          <a:ln w="0">
            <a:noFill/>
          </a:ln>
        </p:spPr>
      </p:pic>
      <p:sp>
        <p:nvSpPr>
          <p:cNvPr id="92" name="TekstniOkvir 6"/>
          <p:cNvSpPr/>
          <p:nvPr/>
        </p:nvSpPr>
        <p:spPr>
          <a:xfrm>
            <a:off x="1536120" y="4581360"/>
            <a:ext cx="764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LITA MESARIĆ, učiteljica matemati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A ŠKOLA SVIBOVEC, VARAŽDINSKE TOPL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lita.mesaric1@skole.h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1295280" cy="1647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7448400" y="189000"/>
            <a:ext cx="1305000" cy="1655640"/>
          </a:xfrm>
          <a:prstGeom prst="rect">
            <a:avLst/>
          </a:prstGeom>
          <a:ln w="0">
            <a:noFill/>
          </a:ln>
        </p:spPr>
      </p:pic>
      <p:sp>
        <p:nvSpPr>
          <p:cNvPr id="95" name="TekstniOkvir 8"/>
          <p:cNvSpPr/>
          <p:nvPr/>
        </p:nvSpPr>
        <p:spPr>
          <a:xfrm>
            <a:off x="3068640" y="622764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patija, 11. siječnja 20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ravokutnik s dijagonalno zaobljenim kutom 4"/>
          <p:cNvSpPr/>
          <p:nvPr/>
        </p:nvSpPr>
        <p:spPr>
          <a:xfrm>
            <a:off x="250920" y="3429000"/>
            <a:ext cx="8424720" cy="792000"/>
          </a:xfrm>
          <a:custGeom>
            <a:avLst/>
            <a:gdLst>
              <a:gd name="textAreaLeft" fmla="*/ 38520 w 8424720"/>
              <a:gd name="textAreaRight" fmla="*/ 8386200 w 8424720"/>
              <a:gd name="textAreaTop" fmla="*/ 38520 h 792000"/>
              <a:gd name="textAreaBottom" fmla="*/ 753480 h 792000"/>
            </a:gdLst>
            <a:ahLst/>
            <a:rect l="textAreaLeft" t="textAreaTop" r="textAreaRight" b="textAreaBottom"/>
            <a:pathLst>
              <a:path w="8424863" h="792163">
                <a:moveTo>
                  <a:pt x="132030" y="0"/>
                </a:moveTo>
                <a:lnTo>
                  <a:pt x="8424863" y="0"/>
                </a:lnTo>
                <a:lnTo>
                  <a:pt x="8424863" y="660133"/>
                </a:lnTo>
                <a:lnTo>
                  <a:pt x="8424863" y="660133"/>
                </a:lnTo>
                <a:arcTo wR="132030" hR="132030" stAng="0" swAng="5400000"/>
                <a:lnTo>
                  <a:pt x="0" y="792163"/>
                </a:lnTo>
                <a:lnTo>
                  <a:pt x="0" y="132030"/>
                </a:lnTo>
                <a:lnTo>
                  <a:pt x="0" y="132030"/>
                </a:lnTo>
                <a:arcTo wR="132030" hR="132030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ravokutnik s dijagonalno zaobljenim kutom 3"/>
          <p:cNvSpPr/>
          <p:nvPr/>
        </p:nvSpPr>
        <p:spPr>
          <a:xfrm>
            <a:off x="250920" y="333360"/>
            <a:ext cx="8424720" cy="1224000"/>
          </a:xfrm>
          <a:custGeom>
            <a:avLst/>
            <a:gdLst>
              <a:gd name="textAreaLeft" fmla="*/ 59400 w 8424720"/>
              <a:gd name="textAreaRight" fmla="*/ 8365320 w 8424720"/>
              <a:gd name="textAreaTop" fmla="*/ 59760 h 1224000"/>
              <a:gd name="textAreaBottom" fmla="*/ 1164240 h 1224000"/>
            </a:gdLst>
            <a:ahLst/>
            <a:rect l="textAreaLeft" t="textAreaTop" r="textAreaRight" b="textAreaBottom"/>
            <a:pathLst>
              <a:path w="8424863" h="1223963">
                <a:moveTo>
                  <a:pt x="203998" y="0"/>
                </a:moveTo>
                <a:lnTo>
                  <a:pt x="8424863" y="0"/>
                </a:lnTo>
                <a:lnTo>
                  <a:pt x="8424863" y="1019965"/>
                </a:lnTo>
                <a:lnTo>
                  <a:pt x="8424863" y="1019965"/>
                </a:lnTo>
                <a:arcTo wR="203998" hR="203998" stAng="0" swAng="5400000"/>
                <a:lnTo>
                  <a:pt x="0" y="1223963"/>
                </a:lnTo>
                <a:lnTo>
                  <a:pt x="0" y="203998"/>
                </a:lnTo>
                <a:lnTo>
                  <a:pt x="0" y="203998"/>
                </a:lnTo>
                <a:arcTo wR="203998" hR="203998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ravokutnik 1"/>
          <p:cNvSpPr/>
          <p:nvPr/>
        </p:nvSpPr>
        <p:spPr>
          <a:xfrm>
            <a:off x="468360" y="399960"/>
            <a:ext cx="8280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acije, inverzije, zamjene, izostavljanja, dodavanja, premještanja znamenka u brojevima, teškoće u usvajanju vizualnog izgleda pojedinih simb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 2. Kada broj 185 postane 8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škoće u usvajanju pojma mjesne vrijednosti, odnosa među brojevima i teškoće u upotrebi brojevne c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 3. Zrcalno crtanje brojevnog pra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916360" y="4221000"/>
            <a:ext cx="3024000" cy="191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2556000" y="1671480"/>
            <a:ext cx="3311280" cy="13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ravokutnik s dijagonalno zaobljenim kutom 5"/>
          <p:cNvSpPr/>
          <p:nvPr/>
        </p:nvSpPr>
        <p:spPr>
          <a:xfrm>
            <a:off x="108000" y="3213000"/>
            <a:ext cx="8567640" cy="1295640"/>
          </a:xfrm>
          <a:custGeom>
            <a:avLst/>
            <a:gdLst>
              <a:gd name="textAreaLeft" fmla="*/ 63000 w 8567640"/>
              <a:gd name="textAreaRight" fmla="*/ 8504640 w 8567640"/>
              <a:gd name="textAreaTop" fmla="*/ 63000 h 1295640"/>
              <a:gd name="textAreaBottom" fmla="*/ 1232640 h 1295640"/>
            </a:gdLst>
            <a:ahLst/>
            <a:rect l="textAreaLeft" t="textAreaTop" r="textAreaRight" b="textAreaBottom"/>
            <a:pathLst>
              <a:path w="8567738" h="1295400">
                <a:moveTo>
                  <a:pt x="215904" y="0"/>
                </a:moveTo>
                <a:lnTo>
                  <a:pt x="8567738" y="0"/>
                </a:lnTo>
                <a:lnTo>
                  <a:pt x="8567738" y="1079496"/>
                </a:lnTo>
                <a:lnTo>
                  <a:pt x="8567738" y="1079496"/>
                </a:lnTo>
                <a:arcTo wR="215904" hR="215904" stAng="0" swAng="5400000"/>
                <a:lnTo>
                  <a:pt x="0" y="1295400"/>
                </a:lnTo>
                <a:lnTo>
                  <a:pt x="0" y="215904"/>
                </a:lnTo>
                <a:lnTo>
                  <a:pt x="0" y="215904"/>
                </a:lnTo>
                <a:arcTo wR="215904" hR="215904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ravokutnik s dijagonalno zaobljenim kutom 4"/>
          <p:cNvSpPr/>
          <p:nvPr/>
        </p:nvSpPr>
        <p:spPr>
          <a:xfrm>
            <a:off x="179280" y="1628640"/>
            <a:ext cx="8280360" cy="1008360"/>
          </a:xfrm>
          <a:custGeom>
            <a:avLst/>
            <a:gdLst>
              <a:gd name="textAreaLeft" fmla="*/ 48960 w 8280360"/>
              <a:gd name="textAreaRight" fmla="*/ 8231400 w 828036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8280400" h="1008063">
                <a:moveTo>
                  <a:pt x="168014" y="0"/>
                </a:moveTo>
                <a:lnTo>
                  <a:pt x="8280400" y="0"/>
                </a:lnTo>
                <a:lnTo>
                  <a:pt x="8280400" y="840049"/>
                </a:lnTo>
                <a:lnTo>
                  <a:pt x="8280400" y="840049"/>
                </a:lnTo>
                <a:arcTo wR="168014" hR="168014" stAng="0" swAng="5400000"/>
                <a:lnTo>
                  <a:pt x="0" y="1008063"/>
                </a:lnTo>
                <a:lnTo>
                  <a:pt x="0" y="168014"/>
                </a:lnTo>
                <a:lnTo>
                  <a:pt x="0" y="168014"/>
                </a:lnTo>
                <a:arcTo wR="168014" hR="168014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ravokutnik s dijagonalno zaobljenim kutom 2"/>
          <p:cNvSpPr/>
          <p:nvPr/>
        </p:nvSpPr>
        <p:spPr>
          <a:xfrm>
            <a:off x="179280" y="189000"/>
            <a:ext cx="8280360" cy="1008000"/>
          </a:xfrm>
          <a:custGeom>
            <a:avLst/>
            <a:gdLst>
              <a:gd name="textAreaLeft" fmla="*/ 48960 w 8280360"/>
              <a:gd name="textAreaRight" fmla="*/ 8231400 w 8280360"/>
              <a:gd name="textAreaTop" fmla="*/ 48960 h 1008000"/>
              <a:gd name="textAreaBottom" fmla="*/ 959040 h 1008000"/>
            </a:gdLst>
            <a:ahLst/>
            <a:rect l="textAreaLeft" t="textAreaTop" r="textAreaRight" b="textAreaBottom"/>
            <a:pathLst>
              <a:path w="8280400" h="1008062">
                <a:moveTo>
                  <a:pt x="168014" y="0"/>
                </a:moveTo>
                <a:lnTo>
                  <a:pt x="8280400" y="0"/>
                </a:lnTo>
                <a:lnTo>
                  <a:pt x="8280400" y="840048"/>
                </a:lnTo>
                <a:lnTo>
                  <a:pt x="8280400" y="840048"/>
                </a:lnTo>
                <a:arcTo wR="168014" hR="168014" stAng="0" swAng="5400000"/>
                <a:lnTo>
                  <a:pt x="0" y="1008062"/>
                </a:lnTo>
                <a:lnTo>
                  <a:pt x="0" y="168014"/>
                </a:lnTo>
                <a:lnTo>
                  <a:pt x="0" y="168014"/>
                </a:lnTo>
                <a:arcTo wR="168014" hR="168014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kstniOkvir 3"/>
          <p:cNvSpPr/>
          <p:nvPr/>
        </p:nvSpPr>
        <p:spPr>
          <a:xfrm>
            <a:off x="179280" y="333360"/>
            <a:ext cx="46590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teškoće u pamćenju i automatiziranom reproduciranju svih vr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umeričkih nizo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teškoće u učenju, pamćenju i reproduciranju aritmetičkih tabl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npr. tablice množenj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škoće u učenju, pamćenju i reproduciranju redoslijeda postupak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algoritmima (pa su zbog toga česte proceduralne pogreške 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stavnim računskim radnjam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ravokutnik s dijagonalno zaobljenim kutom 3"/>
          <p:cNvSpPr/>
          <p:nvPr/>
        </p:nvSpPr>
        <p:spPr>
          <a:xfrm>
            <a:off x="179280" y="2637000"/>
            <a:ext cx="8569440" cy="2304720"/>
          </a:xfrm>
          <a:custGeom>
            <a:avLst/>
            <a:gdLst>
              <a:gd name="textAreaLeft" fmla="*/ 112320 w 8569440"/>
              <a:gd name="textAreaRight" fmla="*/ 8457120 w 8569440"/>
              <a:gd name="textAreaTop" fmla="*/ 112320 h 2304720"/>
              <a:gd name="textAreaBottom" fmla="*/ 2192400 h 2304720"/>
            </a:gdLst>
            <a:ahLst/>
            <a:rect l="textAreaLeft" t="textAreaTop" r="textAreaRight" b="textAreaBottom"/>
            <a:pathLst>
              <a:path w="8569325" h="2305050">
                <a:moveTo>
                  <a:pt x="384183" y="0"/>
                </a:moveTo>
                <a:lnTo>
                  <a:pt x="8569325" y="0"/>
                </a:lnTo>
                <a:lnTo>
                  <a:pt x="8569325" y="1920867"/>
                </a:lnTo>
                <a:lnTo>
                  <a:pt x="8569325" y="1920867"/>
                </a:lnTo>
                <a:arcTo wR="384183" hR="384183" stAng="0" swAng="5400000"/>
                <a:lnTo>
                  <a:pt x="0" y="2305050"/>
                </a:lnTo>
                <a:lnTo>
                  <a:pt x="0" y="384183"/>
                </a:lnTo>
                <a:lnTo>
                  <a:pt x="0" y="384183"/>
                </a:lnTo>
                <a:arcTo wR="384183" hR="384183" stAng="10800000" swAng="5400009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ravokutnik s dijagonalno zaobljenim kutom 2"/>
          <p:cNvSpPr/>
          <p:nvPr/>
        </p:nvSpPr>
        <p:spPr>
          <a:xfrm>
            <a:off x="179280" y="189000"/>
            <a:ext cx="8640720" cy="2016000"/>
          </a:xfrm>
          <a:custGeom>
            <a:avLst/>
            <a:gdLst>
              <a:gd name="textAreaLeft" fmla="*/ 98280 w 8640720"/>
              <a:gd name="textAreaRight" fmla="*/ 8542440 w 8640720"/>
              <a:gd name="textAreaTop" fmla="*/ 98280 h 2016000"/>
              <a:gd name="textAreaBottom" fmla="*/ 1917720 h 2016000"/>
            </a:gdLst>
            <a:ahLst/>
            <a:rect l="textAreaLeft" t="textAreaTop" r="textAreaRight" b="textAreaBottom"/>
            <a:pathLst>
              <a:path w="8640762" h="2016125">
                <a:moveTo>
                  <a:pt x="336028" y="0"/>
                </a:moveTo>
                <a:lnTo>
                  <a:pt x="8640762" y="0"/>
                </a:lnTo>
                <a:lnTo>
                  <a:pt x="8640762" y="1680097"/>
                </a:lnTo>
                <a:lnTo>
                  <a:pt x="8640762" y="1680097"/>
                </a:lnTo>
                <a:arcTo wR="336028" hR="336028" stAng="0" swAng="5400000"/>
                <a:lnTo>
                  <a:pt x="0" y="2016125"/>
                </a:lnTo>
                <a:lnTo>
                  <a:pt x="0" y="336028"/>
                </a:lnTo>
                <a:lnTo>
                  <a:pt x="0" y="336028"/>
                </a:lnTo>
                <a:arcTo wR="336028" hR="336028" stAng="10800000" swAng="540001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ravokutnik 1"/>
          <p:cNvSpPr/>
          <p:nvPr/>
        </p:nvSpPr>
        <p:spPr>
          <a:xfrm>
            <a:off x="539640" y="54936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škoće u automatiziranoj aktualizaciji matematičkih podataka i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ije (npr. da bi dalo odgovor "Koliko je 6 x 7 ?" dijete 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leksijom nije se u stanju odmah sjetiti gotovog automatizirano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a "42", nego treba provesti cijeli postupak računanj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škoće u usvajanju mnogih aritmetičkih koncepata i postupaka koje se temelje na razumijevanju i poznavanju vremenskih i prostornih odnosa (redoslijed obavljanja računskih radnji i smjer računanja, upotreba znakova "&lt;" i "&gt;", mjerenje vremena i računanje s jedinicama za vrije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avokutnik 3"/>
          <p:cNvSpPr/>
          <p:nvPr/>
        </p:nvSpPr>
        <p:spPr>
          <a:xfrm>
            <a:off x="2195640" y="260280"/>
            <a:ext cx="4321080" cy="865080"/>
          </a:xfrm>
          <a:prstGeom prst="rect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kstniOkvir 1"/>
          <p:cNvSpPr/>
          <p:nvPr/>
        </p:nvSpPr>
        <p:spPr>
          <a:xfrm>
            <a:off x="3265560" y="404640"/>
            <a:ext cx="20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ISGRAF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ravokutnik 2"/>
          <p:cNvSpPr/>
          <p:nvPr/>
        </p:nvSpPr>
        <p:spPr>
          <a:xfrm>
            <a:off x="395280" y="1327320"/>
            <a:ext cx="810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Disgrafija je stabilna nesposobnost djeteta da svlada vještinu pisanja (prema pravopisnim načelima određenoga jezika), koja se očituje u mnogobrojnim, trajnim i tipičnim pogreškama. Teškoće, tj. pogreške, nisu povezane s neznanjem pravopisa, i trajno su zastupljene bez obzira na dovoljan stupanj intelektualnog i govornog razvoja, normalno stanje osjetila sluha i vida te redovito školovan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Vodoravni svitak 9"/>
          <p:cNvSpPr/>
          <p:nvPr/>
        </p:nvSpPr>
        <p:spPr>
          <a:xfrm>
            <a:off x="395280" y="115920"/>
            <a:ext cx="8280360" cy="86508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ravokutnik s dijagonalno zaobljenim kutom 4"/>
          <p:cNvSpPr/>
          <p:nvPr/>
        </p:nvSpPr>
        <p:spPr>
          <a:xfrm>
            <a:off x="179280" y="3573360"/>
            <a:ext cx="8785440" cy="792360"/>
          </a:xfrm>
          <a:custGeom>
            <a:avLst/>
            <a:gdLst>
              <a:gd name="textAreaLeft" fmla="*/ 38520 w 8785440"/>
              <a:gd name="textAreaRight" fmla="*/ 8746920 w 8785440"/>
              <a:gd name="textAreaTop" fmla="*/ 38520 h 792360"/>
              <a:gd name="textAreaBottom" fmla="*/ 753840 h 792360"/>
            </a:gdLst>
            <a:ahLst/>
            <a:rect l="textAreaLeft" t="textAreaTop" r="textAreaRight" b="textAreaBottom"/>
            <a:pathLst>
              <a:path w="8785225" h="792162">
                <a:moveTo>
                  <a:pt x="132030" y="0"/>
                </a:moveTo>
                <a:lnTo>
                  <a:pt x="8785225" y="0"/>
                </a:lnTo>
                <a:lnTo>
                  <a:pt x="8785225" y="660132"/>
                </a:lnTo>
                <a:lnTo>
                  <a:pt x="8785225" y="660132"/>
                </a:lnTo>
                <a:arcTo wR="132030" hR="132030" stAng="0" swAng="5400000"/>
                <a:lnTo>
                  <a:pt x="0" y="792162"/>
                </a:lnTo>
                <a:lnTo>
                  <a:pt x="0" y="132030"/>
                </a:lnTo>
                <a:lnTo>
                  <a:pt x="0" y="132030"/>
                </a:lnTo>
                <a:arcTo wR="132030" hR="132030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ravokutnik s dijagonalno zaobljenim kutom 3"/>
          <p:cNvSpPr/>
          <p:nvPr/>
        </p:nvSpPr>
        <p:spPr>
          <a:xfrm>
            <a:off x="179280" y="1052640"/>
            <a:ext cx="7201080" cy="576000"/>
          </a:xfrm>
          <a:custGeom>
            <a:avLst/>
            <a:gdLst>
              <a:gd name="textAreaLeft" fmla="*/ 28080 w 7201080"/>
              <a:gd name="textAreaRight" fmla="*/ 7173000 w 7201080"/>
              <a:gd name="textAreaTop" fmla="*/ 28080 h 576000"/>
              <a:gd name="textAreaBottom" fmla="*/ 547920 h 576000"/>
            </a:gdLst>
            <a:ahLst/>
            <a:rect l="textAreaLeft" t="textAreaTop" r="textAreaRight" b="textAreaBottom"/>
            <a:pathLst>
              <a:path w="7200900" h="576262">
                <a:moveTo>
                  <a:pt x="96046" y="0"/>
                </a:moveTo>
                <a:lnTo>
                  <a:pt x="7200900" y="0"/>
                </a:lnTo>
                <a:lnTo>
                  <a:pt x="7200900" y="480216"/>
                </a:lnTo>
                <a:lnTo>
                  <a:pt x="7200900" y="480216"/>
                </a:lnTo>
                <a:arcTo wR="96046" hR="96046" stAng="0" swAng="5400000"/>
                <a:lnTo>
                  <a:pt x="0" y="576262"/>
                </a:lnTo>
                <a:lnTo>
                  <a:pt x="0" y="96046"/>
                </a:lnTo>
                <a:lnTo>
                  <a:pt x="0" y="96046"/>
                </a:lnTo>
                <a:arcTo wR="96046" hR="96046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ravokutnik 1"/>
          <p:cNvSpPr/>
          <p:nvPr/>
        </p:nvSpPr>
        <p:spPr>
          <a:xfrm>
            <a:off x="539640" y="260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eškoće u matematici koje mogu imati djeca s disgrafij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"/>
          <p:cNvSpPr/>
          <p:nvPr/>
        </p:nvSpPr>
        <p:spPr>
          <a:xfrm flipV="1" rot="10800000">
            <a:off x="394920" y="1115640"/>
            <a:ext cx="864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ete zrcalno piše znamenk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 4. Dijete zrcalno piše znamenku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ete remeti oblik geometrijskih likova ili tijela (likovi/tijela nerijetko imaju "uši" u svakom kutu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Slika 10" descr=""/>
          <p:cNvPicPr/>
          <p:nvPr/>
        </p:nvPicPr>
        <p:blipFill>
          <a:blip r:embed="rId1"/>
          <a:stretch/>
        </p:blipFill>
        <p:spPr>
          <a:xfrm>
            <a:off x="3203640" y="1773360"/>
            <a:ext cx="2305080" cy="14396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Slika 6" descr=""/>
          <p:cNvPicPr/>
          <p:nvPr/>
        </p:nvPicPr>
        <p:blipFill>
          <a:blip r:embed="rId2"/>
          <a:stretch/>
        </p:blipFill>
        <p:spPr>
          <a:xfrm>
            <a:off x="3276720" y="4437000"/>
            <a:ext cx="3135240" cy="1656000"/>
          </a:xfrm>
          <a:prstGeom prst="rect">
            <a:avLst/>
          </a:prstGeom>
          <a:ln w="0">
            <a:noFill/>
          </a:ln>
        </p:spPr>
      </p:pic>
      <p:sp>
        <p:nvSpPr>
          <p:cNvPr id="144" name="TekstniOkvir 14"/>
          <p:cNvSpPr/>
          <p:nvPr/>
        </p:nvSpPr>
        <p:spPr>
          <a:xfrm>
            <a:off x="3787200" y="616572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 5. Kvad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ravokutnik s dijagonalno zaobljenim kutom 1"/>
          <p:cNvSpPr/>
          <p:nvPr/>
        </p:nvSpPr>
        <p:spPr>
          <a:xfrm>
            <a:off x="324000" y="2637000"/>
            <a:ext cx="8424720" cy="792000"/>
          </a:xfrm>
          <a:custGeom>
            <a:avLst/>
            <a:gdLst>
              <a:gd name="textAreaLeft" fmla="*/ 38520 w 8424720"/>
              <a:gd name="textAreaRight" fmla="*/ 8386200 w 8424720"/>
              <a:gd name="textAreaTop" fmla="*/ 38520 h 792000"/>
              <a:gd name="textAreaBottom" fmla="*/ 753480 h 792000"/>
            </a:gdLst>
            <a:ahLst/>
            <a:rect l="textAreaLeft" t="textAreaTop" r="textAreaRight" b="textAreaBottom"/>
            <a:pathLst>
              <a:path w="8424863" h="792162">
                <a:moveTo>
                  <a:pt x="132030" y="0"/>
                </a:moveTo>
                <a:lnTo>
                  <a:pt x="8424863" y="0"/>
                </a:lnTo>
                <a:lnTo>
                  <a:pt x="8424863" y="660132"/>
                </a:lnTo>
                <a:lnTo>
                  <a:pt x="8424863" y="660132"/>
                </a:lnTo>
                <a:arcTo wR="132030" hR="132030" stAng="0" swAng="5400000"/>
                <a:lnTo>
                  <a:pt x="0" y="792162"/>
                </a:lnTo>
                <a:lnTo>
                  <a:pt x="0" y="132030"/>
                </a:lnTo>
                <a:lnTo>
                  <a:pt x="0" y="132030"/>
                </a:lnTo>
                <a:arcTo wR="132030" hR="132030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ravokutnik s dijagonalno zaobljenim kutom 2"/>
          <p:cNvSpPr/>
          <p:nvPr/>
        </p:nvSpPr>
        <p:spPr>
          <a:xfrm>
            <a:off x="324000" y="1916280"/>
            <a:ext cx="7200720" cy="576000"/>
          </a:xfrm>
          <a:custGeom>
            <a:avLst/>
            <a:gdLst>
              <a:gd name="textAreaLeft" fmla="*/ 28080 w 7200720"/>
              <a:gd name="textAreaRight" fmla="*/ 7172640 w 7200720"/>
              <a:gd name="textAreaTop" fmla="*/ 28080 h 576000"/>
              <a:gd name="textAreaBottom" fmla="*/ 547920 h 576000"/>
            </a:gdLst>
            <a:ahLst/>
            <a:rect l="textAreaLeft" t="textAreaTop" r="textAreaRight" b="textAreaBottom"/>
            <a:pathLst>
              <a:path w="7200900" h="576262">
                <a:moveTo>
                  <a:pt x="96046" y="0"/>
                </a:moveTo>
                <a:lnTo>
                  <a:pt x="7200900" y="0"/>
                </a:lnTo>
                <a:lnTo>
                  <a:pt x="7200900" y="480216"/>
                </a:lnTo>
                <a:lnTo>
                  <a:pt x="7200900" y="480216"/>
                </a:lnTo>
                <a:arcTo wR="96046" hR="96046" stAng="0" swAng="5400000"/>
                <a:lnTo>
                  <a:pt x="0" y="576262"/>
                </a:lnTo>
                <a:lnTo>
                  <a:pt x="0" y="96046"/>
                </a:lnTo>
                <a:lnTo>
                  <a:pt x="0" y="96046"/>
                </a:lnTo>
                <a:arcTo wR="96046" hR="96046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ravokutnik s dijagonalno zaobljenim kutom 3"/>
          <p:cNvSpPr/>
          <p:nvPr/>
        </p:nvSpPr>
        <p:spPr>
          <a:xfrm>
            <a:off x="324000" y="1125360"/>
            <a:ext cx="7200720" cy="574920"/>
          </a:xfrm>
          <a:custGeom>
            <a:avLst/>
            <a:gdLst>
              <a:gd name="textAreaLeft" fmla="*/ 27720 w 7200720"/>
              <a:gd name="textAreaRight" fmla="*/ 7173000 w 7200720"/>
              <a:gd name="textAreaTop" fmla="*/ 28080 h 574920"/>
              <a:gd name="textAreaBottom" fmla="*/ 546840 h 574920"/>
            </a:gdLst>
            <a:ahLst/>
            <a:rect l="textAreaLeft" t="textAreaTop" r="textAreaRight" b="textAreaBottom"/>
            <a:pathLst>
              <a:path w="7200900" h="574675">
                <a:moveTo>
                  <a:pt x="95781" y="0"/>
                </a:moveTo>
                <a:lnTo>
                  <a:pt x="7200900" y="0"/>
                </a:lnTo>
                <a:lnTo>
                  <a:pt x="7200900" y="478894"/>
                </a:lnTo>
                <a:lnTo>
                  <a:pt x="7200900" y="478894"/>
                </a:lnTo>
                <a:arcTo wR="95781" hR="95781" stAng="0" swAng="5400000"/>
                <a:lnTo>
                  <a:pt x="0" y="574675"/>
                </a:lnTo>
                <a:lnTo>
                  <a:pt x="0" y="95781"/>
                </a:lnTo>
                <a:lnTo>
                  <a:pt x="0" y="95781"/>
                </a:lnTo>
                <a:arcTo wR="95781" hR="95781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ravokutnik s dijagonalno zaobljenim kutom 4"/>
          <p:cNvSpPr/>
          <p:nvPr/>
        </p:nvSpPr>
        <p:spPr>
          <a:xfrm>
            <a:off x="324000" y="404640"/>
            <a:ext cx="7200720" cy="576360"/>
          </a:xfrm>
          <a:custGeom>
            <a:avLst/>
            <a:gdLst>
              <a:gd name="textAreaLeft" fmla="*/ 28080 w 7200720"/>
              <a:gd name="textAreaRight" fmla="*/ 7172640 w 720072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7200900" h="576262">
                <a:moveTo>
                  <a:pt x="96046" y="0"/>
                </a:moveTo>
                <a:lnTo>
                  <a:pt x="7200900" y="0"/>
                </a:lnTo>
                <a:lnTo>
                  <a:pt x="7200900" y="480216"/>
                </a:lnTo>
                <a:lnTo>
                  <a:pt x="7200900" y="480216"/>
                </a:lnTo>
                <a:arcTo wR="96046" hR="96046" stAng="0" swAng="5400000"/>
                <a:lnTo>
                  <a:pt x="0" y="576262"/>
                </a:lnTo>
                <a:lnTo>
                  <a:pt x="0" y="96046"/>
                </a:lnTo>
                <a:lnTo>
                  <a:pt x="0" y="96046"/>
                </a:lnTo>
                <a:arcTo wR="96046" hR="96046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ravokutnik 5"/>
          <p:cNvSpPr/>
          <p:nvPr/>
        </p:nvSpPr>
        <p:spPr>
          <a:xfrm>
            <a:off x="468360" y="453960"/>
            <a:ext cx="777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ete ne dovršava crtanje lika (linija ostaje otvore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škoće u reproduciranju zapamćenih liko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alne pogreške u pismenim radov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ci na dnu stranice su obavljeni mnogo lošije nego na počet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ravokutnik s dijagonalno zaobljenim kutom 5"/>
          <p:cNvSpPr/>
          <p:nvPr/>
        </p:nvSpPr>
        <p:spPr>
          <a:xfrm>
            <a:off x="395280" y="5732640"/>
            <a:ext cx="8424720" cy="649080"/>
          </a:xfrm>
          <a:custGeom>
            <a:avLst/>
            <a:gdLst>
              <a:gd name="textAreaLeft" fmla="*/ 31680 w 8424720"/>
              <a:gd name="textAreaRight" fmla="*/ 8393040 w 8424720"/>
              <a:gd name="textAreaTop" fmla="*/ 31680 h 649080"/>
              <a:gd name="textAreaBottom" fmla="*/ 617400 h 649080"/>
            </a:gdLst>
            <a:ahLst/>
            <a:rect l="textAreaLeft" t="textAreaTop" r="textAreaRight" b="textAreaBottom"/>
            <a:pathLst>
              <a:path w="8424862" h="649287">
                <a:moveTo>
                  <a:pt x="108217" y="0"/>
                </a:moveTo>
                <a:lnTo>
                  <a:pt x="8424862" y="0"/>
                </a:lnTo>
                <a:lnTo>
                  <a:pt x="8424862" y="541070"/>
                </a:lnTo>
                <a:lnTo>
                  <a:pt x="8424862" y="541070"/>
                </a:lnTo>
                <a:arcTo wR="108217" hR="108217" stAng="0" swAng="5400000"/>
                <a:lnTo>
                  <a:pt x="0" y="649287"/>
                </a:lnTo>
                <a:lnTo>
                  <a:pt x="0" y="108217"/>
                </a:lnTo>
                <a:lnTo>
                  <a:pt x="0" y="108217"/>
                </a:lnTo>
                <a:arcTo wR="108217" hR="108217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ravokutnik s dijagonalno zaobljenim kutom 4"/>
          <p:cNvSpPr/>
          <p:nvPr/>
        </p:nvSpPr>
        <p:spPr>
          <a:xfrm>
            <a:off x="324000" y="4653000"/>
            <a:ext cx="8569080" cy="1008000"/>
          </a:xfrm>
          <a:custGeom>
            <a:avLst/>
            <a:gdLst>
              <a:gd name="textAreaLeft" fmla="*/ 48960 w 8569080"/>
              <a:gd name="textAreaRight" fmla="*/ 8520120 w 8569080"/>
              <a:gd name="textAreaTop" fmla="*/ 48960 h 1008000"/>
              <a:gd name="textAreaBottom" fmla="*/ 959040 h 1008000"/>
            </a:gdLst>
            <a:ahLst/>
            <a:rect l="textAreaLeft" t="textAreaTop" r="textAreaRight" b="textAreaBottom"/>
            <a:pathLst>
              <a:path w="8569325" h="1008062">
                <a:moveTo>
                  <a:pt x="168014" y="0"/>
                </a:moveTo>
                <a:lnTo>
                  <a:pt x="8569325" y="0"/>
                </a:lnTo>
                <a:lnTo>
                  <a:pt x="8569325" y="840048"/>
                </a:lnTo>
                <a:lnTo>
                  <a:pt x="8569325" y="840048"/>
                </a:lnTo>
                <a:arcTo wR="168014" hR="168014" stAng="0" swAng="5400000"/>
                <a:lnTo>
                  <a:pt x="0" y="1008062"/>
                </a:lnTo>
                <a:lnTo>
                  <a:pt x="0" y="168014"/>
                </a:lnTo>
                <a:lnTo>
                  <a:pt x="0" y="168014"/>
                </a:lnTo>
                <a:arcTo wR="168014" hR="168014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ravokutnik s dijagonalno zaobljenim kutom 3"/>
          <p:cNvSpPr/>
          <p:nvPr/>
        </p:nvSpPr>
        <p:spPr>
          <a:xfrm>
            <a:off x="324000" y="1557360"/>
            <a:ext cx="8064360" cy="1008000"/>
          </a:xfrm>
          <a:custGeom>
            <a:avLst/>
            <a:gdLst>
              <a:gd name="textAreaLeft" fmla="*/ 48960 w 8064360"/>
              <a:gd name="textAreaRight" fmla="*/ 8015400 w 8064360"/>
              <a:gd name="textAreaTop" fmla="*/ 48960 h 1008000"/>
              <a:gd name="textAreaBottom" fmla="*/ 959040 h 1008000"/>
            </a:gdLst>
            <a:ahLst/>
            <a:rect l="textAreaLeft" t="textAreaTop" r="textAreaRight" b="textAreaBottom"/>
            <a:pathLst>
              <a:path w="8064500" h="1008062">
                <a:moveTo>
                  <a:pt x="168014" y="0"/>
                </a:moveTo>
                <a:lnTo>
                  <a:pt x="8064500" y="0"/>
                </a:lnTo>
                <a:lnTo>
                  <a:pt x="8064500" y="840048"/>
                </a:lnTo>
                <a:lnTo>
                  <a:pt x="8064500" y="840048"/>
                </a:lnTo>
                <a:arcTo wR="168014" hR="168014" stAng="0" swAng="5400000"/>
                <a:lnTo>
                  <a:pt x="0" y="1008062"/>
                </a:lnTo>
                <a:lnTo>
                  <a:pt x="0" y="168014"/>
                </a:lnTo>
                <a:lnTo>
                  <a:pt x="0" y="168014"/>
                </a:lnTo>
                <a:arcTo wR="168014" hR="168014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ravokutnik s dijagonalno zaobljenim kutom 2"/>
          <p:cNvSpPr/>
          <p:nvPr/>
        </p:nvSpPr>
        <p:spPr>
          <a:xfrm>
            <a:off x="324000" y="907920"/>
            <a:ext cx="7200720" cy="576360"/>
          </a:xfrm>
          <a:custGeom>
            <a:avLst/>
            <a:gdLst>
              <a:gd name="textAreaLeft" fmla="*/ 28080 w 7200720"/>
              <a:gd name="textAreaRight" fmla="*/ 7172640 w 720072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7200900" h="576263">
                <a:moveTo>
                  <a:pt x="96046" y="0"/>
                </a:moveTo>
                <a:lnTo>
                  <a:pt x="7200900" y="0"/>
                </a:lnTo>
                <a:lnTo>
                  <a:pt x="7200900" y="480217"/>
                </a:lnTo>
                <a:lnTo>
                  <a:pt x="7200900" y="480217"/>
                </a:lnTo>
                <a:arcTo wR="96046" hR="96046" stAng="0" swAng="5400000"/>
                <a:lnTo>
                  <a:pt x="0" y="576263"/>
                </a:lnTo>
                <a:lnTo>
                  <a:pt x="0" y="96046"/>
                </a:lnTo>
                <a:lnTo>
                  <a:pt x="0" y="96046"/>
                </a:lnTo>
                <a:arcTo wR="96046" hR="96046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ravokutnik 1"/>
          <p:cNvSpPr/>
          <p:nvPr/>
        </p:nvSpPr>
        <p:spPr>
          <a:xfrm>
            <a:off x="485640" y="563400"/>
            <a:ext cx="8407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ete zapisuje jedno, a čita nešto sasvim dr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škoće u pisanom računanju - u zapisivanju brojeva u stupce, tablice mjesnih vrijednosti i s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 6. Problemi pri pismenom množenj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škoće u svim zadacima koji zahtijevaju manipuliranje sitnim predmetima (pogreške u brojenju u početnoj fazi učenja aritmetik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škoće u razvrstavanju predmeta prema obliku, veličini, boji i d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Slika 6" descr="disgrafija4.jpg"/>
          <p:cNvPicPr/>
          <p:nvPr/>
        </p:nvPicPr>
        <p:blipFill>
          <a:blip r:embed="rId1"/>
          <a:stretch/>
        </p:blipFill>
        <p:spPr>
          <a:xfrm>
            <a:off x="3438360" y="2610000"/>
            <a:ext cx="226728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ravokutnik 3"/>
          <p:cNvSpPr/>
          <p:nvPr/>
        </p:nvSpPr>
        <p:spPr>
          <a:xfrm>
            <a:off x="2268360" y="115920"/>
            <a:ext cx="4464360" cy="865080"/>
          </a:xfrm>
          <a:prstGeom prst="rect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kstniOkvir 1"/>
          <p:cNvSpPr/>
          <p:nvPr/>
        </p:nvSpPr>
        <p:spPr>
          <a:xfrm>
            <a:off x="3084840" y="260280"/>
            <a:ext cx="24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ISKALKUL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ravokutnik 2"/>
          <p:cNvSpPr/>
          <p:nvPr/>
        </p:nvSpPr>
        <p:spPr>
          <a:xfrm>
            <a:off x="108000" y="974880"/>
            <a:ext cx="903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ološki razlikujemo diskalkuliju i akalkuliju.</a:t>
            </a:r>
            <a:br>
              <a:rPr sz="2400"/>
            </a:br>
            <a:br>
              <a:rPr sz="2400"/>
            </a:b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kalkulija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djelomičan poremećaj u procesu usvajanja matematike, koji se može pojavljivati u svim ili samo određenim matematičkim područjima. Dijete pri tome napreduje u usvajanju matematike, ali mnogo sporije od svojih vršnjaka i neadekvatno svojoj mentalnoj dobi.</a:t>
            </a:r>
            <a:br>
              <a:rPr sz="2400"/>
            </a:br>
            <a:br>
              <a:rPr sz="2400"/>
            </a:b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alkulija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- "bez", "potpuno nedostajanje") je pojam koji označuje potpunu nesposobnost usvajanja gradiva iz matematike, tj. potpunu odsutnost matematičkog mišljenj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6588000" y="404640"/>
            <a:ext cx="2168640" cy="1305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81000" y="189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Vodoravni svitak 8"/>
          <p:cNvSpPr/>
          <p:nvPr/>
        </p:nvSpPr>
        <p:spPr>
          <a:xfrm>
            <a:off x="324000" y="260280"/>
            <a:ext cx="8280360" cy="86508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ravokutnik s dijagonalno zaobljenim kutom 7"/>
          <p:cNvSpPr/>
          <p:nvPr/>
        </p:nvSpPr>
        <p:spPr>
          <a:xfrm>
            <a:off x="250920" y="4869000"/>
            <a:ext cx="8424720" cy="647640"/>
          </a:xfrm>
          <a:custGeom>
            <a:avLst/>
            <a:gdLst>
              <a:gd name="textAreaLeft" fmla="*/ 31320 w 8424720"/>
              <a:gd name="textAreaRight" fmla="*/ 8393400 w 8424720"/>
              <a:gd name="textAreaTop" fmla="*/ 31320 h 647640"/>
              <a:gd name="textAreaBottom" fmla="*/ 616320 h 647640"/>
            </a:gdLst>
            <a:ahLst/>
            <a:rect l="textAreaLeft" t="textAreaTop" r="textAreaRight" b="textAreaBottom"/>
            <a:pathLst>
              <a:path w="8424863" h="647700">
                <a:moveTo>
                  <a:pt x="107952" y="0"/>
                </a:moveTo>
                <a:lnTo>
                  <a:pt x="8424863" y="0"/>
                </a:lnTo>
                <a:lnTo>
                  <a:pt x="8424863" y="539748"/>
                </a:lnTo>
                <a:lnTo>
                  <a:pt x="8424863" y="539748"/>
                </a:lnTo>
                <a:arcTo wR="107952" hR="107952" stAng="0" swAng="5400000"/>
                <a:lnTo>
                  <a:pt x="0" y="647700"/>
                </a:lnTo>
                <a:lnTo>
                  <a:pt x="0" y="107952"/>
                </a:lnTo>
                <a:lnTo>
                  <a:pt x="0" y="107952"/>
                </a:lnTo>
                <a:arcTo wR="107952" hR="107952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ravokutnik s dijagonalno zaobljenim kutom 6"/>
          <p:cNvSpPr/>
          <p:nvPr/>
        </p:nvSpPr>
        <p:spPr>
          <a:xfrm>
            <a:off x="250920" y="4076640"/>
            <a:ext cx="8424720" cy="647640"/>
          </a:xfrm>
          <a:custGeom>
            <a:avLst/>
            <a:gdLst>
              <a:gd name="textAreaLeft" fmla="*/ 31320 w 8424720"/>
              <a:gd name="textAreaRight" fmla="*/ 8393400 w 8424720"/>
              <a:gd name="textAreaTop" fmla="*/ 31320 h 647640"/>
              <a:gd name="textAreaBottom" fmla="*/ 616320 h 647640"/>
            </a:gdLst>
            <a:ahLst/>
            <a:rect l="textAreaLeft" t="textAreaTop" r="textAreaRight" b="textAreaBottom"/>
            <a:pathLst>
              <a:path w="8424863" h="647700">
                <a:moveTo>
                  <a:pt x="107952" y="0"/>
                </a:moveTo>
                <a:lnTo>
                  <a:pt x="8424863" y="0"/>
                </a:lnTo>
                <a:lnTo>
                  <a:pt x="8424863" y="539748"/>
                </a:lnTo>
                <a:lnTo>
                  <a:pt x="8424863" y="539748"/>
                </a:lnTo>
                <a:arcTo wR="107952" hR="107952" stAng="0" swAng="5400000"/>
                <a:lnTo>
                  <a:pt x="0" y="647700"/>
                </a:lnTo>
                <a:lnTo>
                  <a:pt x="0" y="107952"/>
                </a:lnTo>
                <a:lnTo>
                  <a:pt x="0" y="107952"/>
                </a:lnTo>
                <a:arcTo wR="107952" hR="107952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ravokutnik s dijagonalno zaobljenim kutom 5"/>
          <p:cNvSpPr/>
          <p:nvPr/>
        </p:nvSpPr>
        <p:spPr>
          <a:xfrm>
            <a:off x="250920" y="3068640"/>
            <a:ext cx="8424720" cy="792000"/>
          </a:xfrm>
          <a:custGeom>
            <a:avLst/>
            <a:gdLst>
              <a:gd name="textAreaLeft" fmla="*/ 38520 w 8424720"/>
              <a:gd name="textAreaRight" fmla="*/ 8386200 w 8424720"/>
              <a:gd name="textAreaTop" fmla="*/ 38520 h 792000"/>
              <a:gd name="textAreaBottom" fmla="*/ 753480 h 792000"/>
            </a:gdLst>
            <a:ahLst/>
            <a:rect l="textAreaLeft" t="textAreaTop" r="textAreaRight" b="textAreaBottom"/>
            <a:pathLst>
              <a:path w="8424863" h="792162">
                <a:moveTo>
                  <a:pt x="132030" y="0"/>
                </a:moveTo>
                <a:lnTo>
                  <a:pt x="8424863" y="0"/>
                </a:lnTo>
                <a:lnTo>
                  <a:pt x="8424863" y="660132"/>
                </a:lnTo>
                <a:lnTo>
                  <a:pt x="8424863" y="660132"/>
                </a:lnTo>
                <a:arcTo wR="132030" hR="132030" stAng="0" swAng="5400000"/>
                <a:lnTo>
                  <a:pt x="0" y="792162"/>
                </a:lnTo>
                <a:lnTo>
                  <a:pt x="0" y="132030"/>
                </a:lnTo>
                <a:lnTo>
                  <a:pt x="0" y="132030"/>
                </a:lnTo>
                <a:arcTo wR="132030" hR="132030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ravokutnik s dijagonalno zaobljenim kutom 4"/>
          <p:cNvSpPr/>
          <p:nvPr/>
        </p:nvSpPr>
        <p:spPr>
          <a:xfrm>
            <a:off x="179280" y="2205000"/>
            <a:ext cx="8425080" cy="647640"/>
          </a:xfrm>
          <a:custGeom>
            <a:avLst/>
            <a:gdLst>
              <a:gd name="textAreaLeft" fmla="*/ 31320 w 8425080"/>
              <a:gd name="textAreaRight" fmla="*/ 8393760 w 8425080"/>
              <a:gd name="textAreaTop" fmla="*/ 31320 h 647640"/>
              <a:gd name="textAreaBottom" fmla="*/ 616320 h 647640"/>
            </a:gdLst>
            <a:ahLst/>
            <a:rect l="textAreaLeft" t="textAreaTop" r="textAreaRight" b="textAreaBottom"/>
            <a:pathLst>
              <a:path w="8424862" h="647700">
                <a:moveTo>
                  <a:pt x="107952" y="0"/>
                </a:moveTo>
                <a:lnTo>
                  <a:pt x="8424862" y="0"/>
                </a:lnTo>
                <a:lnTo>
                  <a:pt x="8424862" y="539748"/>
                </a:lnTo>
                <a:lnTo>
                  <a:pt x="8424862" y="539748"/>
                </a:lnTo>
                <a:arcTo wR="107952" hR="107952" stAng="0" swAng="5400000"/>
                <a:lnTo>
                  <a:pt x="0" y="647700"/>
                </a:lnTo>
                <a:lnTo>
                  <a:pt x="0" y="107952"/>
                </a:lnTo>
                <a:lnTo>
                  <a:pt x="0" y="107952"/>
                </a:lnTo>
                <a:arcTo wR="107952" hR="107952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ravokutnik s dijagonalno zaobljenim kutom 3"/>
          <p:cNvSpPr/>
          <p:nvPr/>
        </p:nvSpPr>
        <p:spPr>
          <a:xfrm>
            <a:off x="179280" y="1125360"/>
            <a:ext cx="8640720" cy="935280"/>
          </a:xfrm>
          <a:custGeom>
            <a:avLst/>
            <a:gdLst>
              <a:gd name="textAreaLeft" fmla="*/ 45360 w 8640720"/>
              <a:gd name="textAreaRight" fmla="*/ 8595360 w 8640720"/>
              <a:gd name="textAreaTop" fmla="*/ 45360 h 935280"/>
              <a:gd name="textAreaBottom" fmla="*/ 889920 h 935280"/>
            </a:gdLst>
            <a:ahLst/>
            <a:rect l="textAreaLeft" t="textAreaTop" r="textAreaRight" b="textAreaBottom"/>
            <a:pathLst>
              <a:path w="8640762" h="935037">
                <a:moveTo>
                  <a:pt x="155843" y="0"/>
                </a:moveTo>
                <a:lnTo>
                  <a:pt x="8640762" y="0"/>
                </a:lnTo>
                <a:lnTo>
                  <a:pt x="8640762" y="779194"/>
                </a:lnTo>
                <a:lnTo>
                  <a:pt x="8640762" y="779194"/>
                </a:lnTo>
                <a:arcTo wR="155843" hR="155843" stAng="0" swAng="5400000"/>
                <a:lnTo>
                  <a:pt x="0" y="935037"/>
                </a:lnTo>
                <a:lnTo>
                  <a:pt x="0" y="155843"/>
                </a:lnTo>
                <a:lnTo>
                  <a:pt x="0" y="155843"/>
                </a:lnTo>
                <a:arcTo wR="155843" hR="155843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ravokutnik 1"/>
          <p:cNvSpPr/>
          <p:nvPr/>
        </p:nvSpPr>
        <p:spPr>
          <a:xfrm>
            <a:off x="395280" y="4478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eškoće u matematici koje mogu imati djeca s diskalkulij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kstniOkvir 2"/>
          <p:cNvSpPr/>
          <p:nvPr/>
        </p:nvSpPr>
        <p:spPr>
          <a:xfrm>
            <a:off x="248760" y="1197000"/>
            <a:ext cx="8643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škoće u svladavanju aritmetike ( pojam broja, količine, snalaže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brojevnoj crti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škoće s jednostavnim matematičkim operacij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škoće u razumijevanju i pamćenju matematičkih pojmova 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upa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škoće u nalaženju rješenja matematičkih probl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ost u usvajanju svakog raspore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659640" y="4657680"/>
            <a:ext cx="20764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2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2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ravokutnik s dijagonalno zaobljenim kutom 4"/>
          <p:cNvSpPr/>
          <p:nvPr/>
        </p:nvSpPr>
        <p:spPr>
          <a:xfrm>
            <a:off x="324000" y="1628640"/>
            <a:ext cx="8424720" cy="936720"/>
          </a:xfrm>
          <a:custGeom>
            <a:avLst/>
            <a:gdLst>
              <a:gd name="textAreaLeft" fmla="*/ 45720 w 8424720"/>
              <a:gd name="textAreaRight" fmla="*/ 8379000 w 8424720"/>
              <a:gd name="textAreaTop" fmla="*/ 45720 h 936720"/>
              <a:gd name="textAreaBottom" fmla="*/ 891000 h 936720"/>
            </a:gdLst>
            <a:ahLst/>
            <a:rect l="textAreaLeft" t="textAreaTop" r="textAreaRight" b="textAreaBottom"/>
            <a:pathLst>
              <a:path w="8424863" h="936625">
                <a:moveTo>
                  <a:pt x="156107" y="0"/>
                </a:moveTo>
                <a:lnTo>
                  <a:pt x="8424863" y="0"/>
                </a:lnTo>
                <a:lnTo>
                  <a:pt x="8424863" y="780518"/>
                </a:lnTo>
                <a:lnTo>
                  <a:pt x="8424863" y="780518"/>
                </a:lnTo>
                <a:arcTo wR="156107" hR="156107" stAng="0" swAng="5400000"/>
                <a:lnTo>
                  <a:pt x="0" y="936625"/>
                </a:lnTo>
                <a:lnTo>
                  <a:pt x="0" y="156107"/>
                </a:lnTo>
                <a:lnTo>
                  <a:pt x="0" y="156107"/>
                </a:lnTo>
                <a:arcTo wR="156107" hR="156107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ravokutnik s dijagonalno zaobljenim kutom 3"/>
          <p:cNvSpPr/>
          <p:nvPr/>
        </p:nvSpPr>
        <p:spPr>
          <a:xfrm>
            <a:off x="324000" y="549360"/>
            <a:ext cx="8424720" cy="863640"/>
          </a:xfrm>
          <a:custGeom>
            <a:avLst/>
            <a:gdLst>
              <a:gd name="textAreaLeft" fmla="*/ 42120 w 8424720"/>
              <a:gd name="textAreaRight" fmla="*/ 8382600 w 8424720"/>
              <a:gd name="textAreaTop" fmla="*/ 42120 h 863640"/>
              <a:gd name="textAreaBottom" fmla="*/ 821520 h 863640"/>
            </a:gdLst>
            <a:ahLst/>
            <a:rect l="textAreaLeft" t="textAreaTop" r="textAreaRight" b="textAreaBottom"/>
            <a:pathLst>
              <a:path w="8424863" h="863600">
                <a:moveTo>
                  <a:pt x="143936" y="0"/>
                </a:moveTo>
                <a:lnTo>
                  <a:pt x="8424863" y="0"/>
                </a:lnTo>
                <a:lnTo>
                  <a:pt x="8424863" y="719664"/>
                </a:lnTo>
                <a:lnTo>
                  <a:pt x="8424863" y="719664"/>
                </a:lnTo>
                <a:arcTo wR="143936" hR="143936" stAng="0" swAng="5400000"/>
                <a:lnTo>
                  <a:pt x="0" y="863600"/>
                </a:lnTo>
                <a:lnTo>
                  <a:pt x="0" y="143936"/>
                </a:lnTo>
                <a:lnTo>
                  <a:pt x="0" y="143936"/>
                </a:lnTo>
                <a:arcTo wR="143936" hR="143936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kstniOkvir 1"/>
          <p:cNvSpPr/>
          <p:nvPr/>
        </p:nvSpPr>
        <p:spPr>
          <a:xfrm>
            <a:off x="279000" y="2708280"/>
            <a:ext cx="863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jeca s diskalkulijom pokazuju posebnu zabrinut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 pisanja matematičkih testova i kontrolnih ispit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ebice kad trebaju rješavati duže zadatke 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stavljanjem broje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taju se truditi i napišu tek “bilo što” u nadi da će barem pokaz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ko se tr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vi postupci vode ih do neuspjeha jer njihov rad obilu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greškama, a motivacija i samopouzdanje naglo im opadaj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jeca s dislakulijom brzo zaboravljaju iako im se matematika č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vatljivom i razumljivom što na njih djeluje obeshrabrujuć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ravokutnik 2"/>
          <p:cNvSpPr/>
          <p:nvPr/>
        </p:nvSpPr>
        <p:spPr>
          <a:xfrm>
            <a:off x="324000" y="54936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posobnost pamćenja reda brojeva i povezivanja s brojenjem 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teškoćom kod dvaju brojeva razlikuju veći od manjeg, nemaj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sobnost procj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6948360" y="2852640"/>
            <a:ext cx="18687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kstniOkvir 3"/>
          <p:cNvSpPr/>
          <p:nvPr/>
        </p:nvSpPr>
        <p:spPr>
          <a:xfrm>
            <a:off x="250920" y="18900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jeca, koja imaju negativne poglede na svoj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stignuća i sposobnosti, općenito neće biti sklona učenju i školi. Za takvu djecu možda će se smatrati da predstavljaju ‘problem u ponašanju’, jer odbijaju zadatke ili ih ne ispunjavaju, bježe iz škole (obično starija djeca) i svađaju se s učiteljima i roditeljim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tivirana i samopouzdana djeca bit će uspješnija u višem obrazovanju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ravokutnik 3"/>
          <p:cNvSpPr/>
          <p:nvPr/>
        </p:nvSpPr>
        <p:spPr>
          <a:xfrm>
            <a:off x="2556000" y="44280"/>
            <a:ext cx="3528720" cy="863640"/>
          </a:xfrm>
          <a:prstGeom prst="rect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kstniOkvir 1"/>
          <p:cNvSpPr/>
          <p:nvPr/>
        </p:nvSpPr>
        <p:spPr>
          <a:xfrm>
            <a:off x="3182400" y="260280"/>
            <a:ext cx="225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ISPRAKS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kstniOkvir 2"/>
          <p:cNvSpPr/>
          <p:nvPr/>
        </p:nvSpPr>
        <p:spPr>
          <a:xfrm>
            <a:off x="611280" y="836640"/>
            <a:ext cx="784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raksija je poremećaj motoričke koordinacij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j. razvojni poremećaj koordinaci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Dijete ima uočljive teškoće: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- u samostalnom odjevanju i hranjenju, 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- teškoće u izgovoru glasova govora, 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- kasnije i u crtanju, pisanju, tjelovježbi, 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- problemi s koncentracijom pažnje, 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- teškoće u slijeđenju uputa u nizu i planiranju djelovanja, 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- teškoće u orijentaciji i organizaciji tijela u prostoru (dijete često pada, sudaruje se s predmetima ili drugim ljudima) 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- i prekomjerna osjetljivost na senzoričke podražaje (npr. djetetu može smetati promjena osvjetljenja, određene vrste zvukova, buka i dr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6804000" y="44280"/>
            <a:ext cx="1893960" cy="1944720"/>
          </a:xfrm>
          <a:prstGeom prst="rect">
            <a:avLst/>
          </a:prstGeom>
          <a:ln w="0">
            <a:noFill/>
          </a:ln>
        </p:spPr>
      </p:pic>
      <p:pic>
        <p:nvPicPr>
          <p:cNvPr id="179" name="Slika 5" descr="dispraksija.jpg"/>
          <p:cNvPicPr/>
          <p:nvPr/>
        </p:nvPicPr>
        <p:blipFill>
          <a:blip r:embed="rId2"/>
          <a:stretch/>
        </p:blipFill>
        <p:spPr>
          <a:xfrm>
            <a:off x="6300720" y="20606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Vodoravni svitak 6"/>
          <p:cNvSpPr/>
          <p:nvPr/>
        </p:nvSpPr>
        <p:spPr>
          <a:xfrm>
            <a:off x="324000" y="260280"/>
            <a:ext cx="8280360" cy="86508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ravokutnik s dijagonalno zaobljenim kutom 5"/>
          <p:cNvSpPr/>
          <p:nvPr/>
        </p:nvSpPr>
        <p:spPr>
          <a:xfrm>
            <a:off x="395280" y="3716280"/>
            <a:ext cx="8424720" cy="1297080"/>
          </a:xfrm>
          <a:custGeom>
            <a:avLst/>
            <a:gdLst>
              <a:gd name="textAreaLeft" fmla="*/ 63000 w 8424720"/>
              <a:gd name="textAreaRight" fmla="*/ 8361720 w 8424720"/>
              <a:gd name="textAreaTop" fmla="*/ 63000 h 1297080"/>
              <a:gd name="textAreaBottom" fmla="*/ 1234080 h 1297080"/>
            </a:gdLst>
            <a:ahLst/>
            <a:rect l="textAreaLeft" t="textAreaTop" r="textAreaRight" b="textAreaBottom"/>
            <a:pathLst>
              <a:path w="8424862" h="1296987">
                <a:moveTo>
                  <a:pt x="216169" y="0"/>
                </a:moveTo>
                <a:lnTo>
                  <a:pt x="8424862" y="0"/>
                </a:lnTo>
                <a:lnTo>
                  <a:pt x="8424862" y="1080818"/>
                </a:lnTo>
                <a:lnTo>
                  <a:pt x="8424862" y="1080818"/>
                </a:lnTo>
                <a:arcTo wR="216169" hR="216169" stAng="0" swAng="5400000"/>
                <a:lnTo>
                  <a:pt x="0" y="1296987"/>
                </a:lnTo>
                <a:lnTo>
                  <a:pt x="0" y="216169"/>
                </a:lnTo>
                <a:lnTo>
                  <a:pt x="0" y="216169"/>
                </a:lnTo>
                <a:arcTo wR="216169" hR="216169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ravokutnik s dijagonalno zaobljenim kutom 4"/>
          <p:cNvSpPr/>
          <p:nvPr/>
        </p:nvSpPr>
        <p:spPr>
          <a:xfrm>
            <a:off x="324000" y="2852640"/>
            <a:ext cx="8424720" cy="647640"/>
          </a:xfrm>
          <a:custGeom>
            <a:avLst/>
            <a:gdLst>
              <a:gd name="textAreaLeft" fmla="*/ 31320 w 8424720"/>
              <a:gd name="textAreaRight" fmla="*/ 8393400 w 8424720"/>
              <a:gd name="textAreaTop" fmla="*/ 31320 h 647640"/>
              <a:gd name="textAreaBottom" fmla="*/ 616320 h 647640"/>
            </a:gdLst>
            <a:ahLst/>
            <a:rect l="textAreaLeft" t="textAreaTop" r="textAreaRight" b="textAreaBottom"/>
            <a:pathLst>
              <a:path w="8424863" h="647700">
                <a:moveTo>
                  <a:pt x="107952" y="0"/>
                </a:moveTo>
                <a:lnTo>
                  <a:pt x="8424863" y="0"/>
                </a:lnTo>
                <a:lnTo>
                  <a:pt x="8424863" y="539748"/>
                </a:lnTo>
                <a:lnTo>
                  <a:pt x="8424863" y="539748"/>
                </a:lnTo>
                <a:arcTo wR="107952" hR="107952" stAng="0" swAng="5400000"/>
                <a:lnTo>
                  <a:pt x="0" y="647700"/>
                </a:lnTo>
                <a:lnTo>
                  <a:pt x="0" y="107952"/>
                </a:lnTo>
                <a:lnTo>
                  <a:pt x="0" y="107952"/>
                </a:lnTo>
                <a:arcTo wR="107952" hR="107952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ravokutnik s dijagonalno zaobljenim kutom 3"/>
          <p:cNvSpPr/>
          <p:nvPr/>
        </p:nvSpPr>
        <p:spPr>
          <a:xfrm>
            <a:off x="324000" y="1197000"/>
            <a:ext cx="8424720" cy="1295280"/>
          </a:xfrm>
          <a:custGeom>
            <a:avLst/>
            <a:gdLst>
              <a:gd name="textAreaLeft" fmla="*/ 63000 w 8424720"/>
              <a:gd name="textAreaRight" fmla="*/ 8361720 w 8424720"/>
              <a:gd name="textAreaTop" fmla="*/ 63000 h 1295280"/>
              <a:gd name="textAreaBottom" fmla="*/ 1232280 h 1295280"/>
            </a:gdLst>
            <a:ahLst/>
            <a:rect l="textAreaLeft" t="textAreaTop" r="textAreaRight" b="textAreaBottom"/>
            <a:pathLst>
              <a:path w="8424863" h="1295400">
                <a:moveTo>
                  <a:pt x="215904" y="0"/>
                </a:moveTo>
                <a:lnTo>
                  <a:pt x="8424863" y="0"/>
                </a:lnTo>
                <a:lnTo>
                  <a:pt x="8424863" y="1079496"/>
                </a:lnTo>
                <a:lnTo>
                  <a:pt x="8424863" y="1079496"/>
                </a:lnTo>
                <a:arcTo wR="215904" hR="215904" stAng="0" swAng="5400000"/>
                <a:lnTo>
                  <a:pt x="0" y="1295400"/>
                </a:lnTo>
                <a:lnTo>
                  <a:pt x="0" y="215904"/>
                </a:lnTo>
                <a:lnTo>
                  <a:pt x="0" y="215904"/>
                </a:lnTo>
                <a:arcTo wR="215904" hR="215904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kstniOkvir 1"/>
          <p:cNvSpPr/>
          <p:nvPr/>
        </p:nvSpPr>
        <p:spPr>
          <a:xfrm>
            <a:off x="496440" y="1461960"/>
            <a:ext cx="830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balne teškoće u učenju – teškoće u razumijevanju vizualni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rostornih odnosa, problem prostorne percep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škoće pri upotrebi ravnala, trokuta, kutomj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i s matematikom općenito, uključujući geometriju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ju, mjesto decimalnog zareza, razumijevanje površi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jera, volumena, slijeđenje koraka u problemskih zadac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ravokutnik 2"/>
          <p:cNvSpPr/>
          <p:nvPr/>
        </p:nvSpPr>
        <p:spPr>
          <a:xfrm>
            <a:off x="3952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eškoće u matematici koje mogu imati djeca s dispraksij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2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Content Placeholder 3"/>
          <p:cNvSpPr/>
          <p:nvPr/>
        </p:nvSpPr>
        <p:spPr>
          <a:xfrm>
            <a:off x="571680" y="714240"/>
            <a:ext cx="8229600" cy="3471840"/>
          </a:xfrm>
          <a:prstGeom prst="rect">
            <a:avLst/>
          </a:prstGeom>
          <a:solidFill>
            <a:srgbClr val="ffcc00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omic Sans MS"/>
              </a:rPr>
              <a:t>UČENIKA USPOREĐUJEMO SA SAMIM SOBOM, A NE S DRUGIM UČENIC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omic Sans MS"/>
              </a:rPr>
              <a:t>VREDNUJEMO GA PREMA NJEGOVOM PROGRAMU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55280" y="2133360"/>
            <a:ext cx="7993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Uključi me pa ću znati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Pokaži mi možda zapamti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Reci mi i sigurno ću zaboraviti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i="1" lang="hr-HR" sz="1900" spc="-1" strike="noStrike">
                <a:solidFill>
                  <a:srgbClr val="000000"/>
                </a:solidFill>
                <a:latin typeface="Calibri"/>
              </a:rPr>
              <a:t>Kineska poslovica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8" name="Picture 5" descr="GLUH"/>
          <p:cNvPicPr/>
          <p:nvPr/>
        </p:nvPicPr>
        <p:blipFill>
          <a:blip r:embed="rId1"/>
          <a:stretch/>
        </p:blipFill>
        <p:spPr>
          <a:xfrm rot="258000">
            <a:off x="6443280" y="404280"/>
            <a:ext cx="2392560" cy="3724560"/>
          </a:xfrm>
          <a:prstGeom prst="rect">
            <a:avLst/>
          </a:prstGeom>
          <a:ln w="57240">
            <a:solidFill>
              <a:srgbClr val="eeece1"/>
            </a:solidFill>
            <a:miter/>
          </a:ln>
        </p:spPr>
      </p:pic>
    </p:spTree>
  </p:cSld>
  <p:transition>
    <p:push dir="r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8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8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3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ravokutnik 10"/>
          <p:cNvSpPr/>
          <p:nvPr/>
        </p:nvSpPr>
        <p:spPr>
          <a:xfrm>
            <a:off x="2268360" y="476280"/>
            <a:ext cx="5040360" cy="792000"/>
          </a:xfrm>
          <a:prstGeom prst="rect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LITERATUR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TekstniOkvir 9"/>
          <p:cNvSpPr/>
          <p:nvPr/>
        </p:nvSpPr>
        <p:spPr>
          <a:xfrm>
            <a:off x="250920" y="1241280"/>
            <a:ext cx="867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 udruga za disleksiju – </a:t>
            </a:r>
            <a:r>
              <a:rPr b="0" lang="hr-HR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hud.h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 udruga za stručnu pomoć djeci s posebnim potrebama – </a:t>
            </a:r>
            <a:r>
              <a:rPr b="0" lang="hr-HR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www.idem.h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stelnik,M.J., Onaga,E., Rohde,B., Whiren,A., (2004.), Djeca s posebn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rebama,  Zagreb: Edu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Muter,V., Likierman,H., (2010.), Disleksija - vodič kroz disleksiju, dispraksiju i dru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škoće u učenju, Zagreb: Kigen d.o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Posokhova,I., (2001.), Matematika bez suza: Kako pomoći djetetu s teškoćama u učenj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matike, Lekenik: Ostvare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Udruga RODA – Roditelji u akciji – </a:t>
            </a:r>
            <a:r>
              <a:rPr b="0" lang="hr-HR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www.roda.h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askgoogle"/>
          <p:cNvPicPr/>
          <p:nvPr/>
        </p:nvPicPr>
        <p:blipFill>
          <a:blip r:embed="rId1"/>
          <a:srcRect l="0" t="0" r="17289" b="12466"/>
          <a:stretch/>
        </p:blipFill>
        <p:spPr>
          <a:xfrm>
            <a:off x="826920" y="333360"/>
            <a:ext cx="7410600" cy="45356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1116000" y="1908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vala na pažnji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kstniOkvir 2"/>
          <p:cNvSpPr/>
          <p:nvPr/>
        </p:nvSpPr>
        <p:spPr>
          <a:xfrm>
            <a:off x="862560" y="549360"/>
            <a:ext cx="695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kon o odgoju i obrazovanju u osnovnoj 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rednjoj školi, NN, 87/200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ravokutnik 3"/>
          <p:cNvSpPr/>
          <p:nvPr/>
        </p:nvSpPr>
        <p:spPr>
          <a:xfrm>
            <a:off x="539640" y="2852640"/>
            <a:ext cx="3456000" cy="1513080"/>
          </a:xfrm>
          <a:prstGeom prst="rect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ci s teškoćama različite pojavnosti i stupnja ošteće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ravokutnik 5"/>
          <p:cNvSpPr/>
          <p:nvPr/>
        </p:nvSpPr>
        <p:spPr>
          <a:xfrm>
            <a:off x="4643280" y="2852640"/>
            <a:ext cx="3457800" cy="1513080"/>
          </a:xfrm>
          <a:prstGeom prst="rect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oviti učen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0" name="Ravni poveznik sa strelicom 7"/>
          <p:cNvCxnSpPr/>
          <p:nvPr/>
        </p:nvCxnSpPr>
        <p:spPr>
          <a:xfrm flipH="1">
            <a:off x="2483640" y="1628280"/>
            <a:ext cx="864360" cy="1008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Ravni poveznik sa strelicom 8"/>
          <p:cNvCxnSpPr/>
          <p:nvPr/>
        </p:nvCxnSpPr>
        <p:spPr>
          <a:xfrm>
            <a:off x="4500720" y="1628280"/>
            <a:ext cx="136728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kstniOkvir 1"/>
          <p:cNvSpPr/>
          <p:nvPr/>
        </p:nvSpPr>
        <p:spPr>
          <a:xfrm>
            <a:off x="684360" y="333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ema Prilogu I – Pravilnika o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oškolskom odgoju i obrazovanju učenika s teškoćama u razvoju (NN, br. 23/91) postoje sljedeće vrste oštećenj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503280" y="1538280"/>
            <a:ext cx="8172360" cy="59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štećenj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da (sljepoća i slabovidn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468360" y="2257560"/>
            <a:ext cx="8172360" cy="59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štećenj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uh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hoća i nagluhos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324000" y="2979720"/>
            <a:ext cx="8675640" cy="339012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emećaji govorno-glasovne-jezične komunikacije i specifične teškoće u učenju. Ovo može podrazumijevati da je govorna komunikacija otežana ili nije uopće moguća. Ova kategorija 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ođer uključuje specifične teškoće učenja u jednom od sljedećih područja: čitanja (disleksija,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ksija); pisanja (disgrafija, agrafija); i/ili računanja (diskalkulija, akalkulij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7"/>
          <p:cNvSpPr/>
          <p:nvPr/>
        </p:nvSpPr>
        <p:spPr>
          <a:xfrm>
            <a:off x="360360" y="458640"/>
            <a:ext cx="8244000" cy="24591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jelesni invaliditet (motorička oštećenja), uključujući: lokomotorna oštećenja, sustavnu leziju,oštećenje centralnog nervnog sustava, oštećenja perifernog nervnog sustava, te oštećenja izazvana kroničnim bolestima ili drugim tjelesnim sustav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576360" y="3084480"/>
            <a:ext cx="8172360" cy="106308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alna retardacija, koja može biti laka (IQ 50-69), umjerena (IQ 35-49), teža (IQ 20-34) teška (IQ 0-20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620640" y="4524480"/>
            <a:ext cx="8172360" cy="106308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emećaji u ponašanju uvjetovani organskim faktorima ili progredirajućim psiho-patološkim stanj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7"/>
          <p:cNvSpPr/>
          <p:nvPr/>
        </p:nvSpPr>
        <p:spPr>
          <a:xfrm>
            <a:off x="611280" y="476280"/>
            <a:ext cx="8172360" cy="106308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ojanje više vrsta i stupnjeva teškoća u psihofizičkom razvoj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684360" y="1989000"/>
            <a:ext cx="8172360" cy="59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iz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ravokutnik 5"/>
          <p:cNvSpPr/>
          <p:nvPr/>
        </p:nvSpPr>
        <p:spPr>
          <a:xfrm>
            <a:off x="1763640" y="1844640"/>
            <a:ext cx="5329440" cy="863640"/>
          </a:xfrm>
          <a:prstGeom prst="rect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kstniOkvir 3"/>
          <p:cNvSpPr/>
          <p:nvPr/>
        </p:nvSpPr>
        <p:spPr>
          <a:xfrm>
            <a:off x="3282480" y="1979640"/>
            <a:ext cx="19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ISLEKS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kstniOkvir 4"/>
          <p:cNvSpPr/>
          <p:nvPr/>
        </p:nvSpPr>
        <p:spPr>
          <a:xfrm>
            <a:off x="279360" y="2739960"/>
            <a:ext cx="8685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ječ disleksija nastala je iz grčke riječi "dys" (što znači slab, loš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imjeren) i riječi "lexsis" (jezik, riječ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leksija je, prema definiciji Orton Dyslexia Society, jedna od nekoliko teškoća u učenj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 djeteta koje ima disleksiju javljaju se teškoće u svladavanju čitanja i rastavljanju riječi na slogove, odnosno javljaju se teškoće s analizom i sintez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na djece koja imaju disleksiju ima kratkoročno pamćenje glasova gov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Title 4" descr=""/>
          <p:cNvPicPr/>
          <p:nvPr/>
        </p:nvPicPr>
        <p:blipFill>
          <a:blip r:embed="rId1"/>
          <a:stretch/>
        </p:blipFill>
        <p:spPr>
          <a:xfrm>
            <a:off x="396720" y="73080"/>
            <a:ext cx="8539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Vodoravni svitak 7"/>
          <p:cNvSpPr/>
          <p:nvPr/>
        </p:nvSpPr>
        <p:spPr>
          <a:xfrm>
            <a:off x="324000" y="1125360"/>
            <a:ext cx="8280360" cy="86364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ravokutnik s dijagonalno zaobljenim kutom 6"/>
          <p:cNvSpPr/>
          <p:nvPr/>
        </p:nvSpPr>
        <p:spPr>
          <a:xfrm>
            <a:off x="395280" y="3500280"/>
            <a:ext cx="8424720" cy="1368720"/>
          </a:xfrm>
          <a:custGeom>
            <a:avLst/>
            <a:gdLst>
              <a:gd name="textAreaLeft" fmla="*/ 66600 w 8424720"/>
              <a:gd name="textAreaRight" fmla="*/ 8358120 w 8424720"/>
              <a:gd name="textAreaTop" fmla="*/ 66600 h 1368720"/>
              <a:gd name="textAreaBottom" fmla="*/ 1302120 h 1368720"/>
            </a:gdLst>
            <a:ahLst/>
            <a:rect l="textAreaLeft" t="textAreaTop" r="textAreaRight" b="textAreaBottom"/>
            <a:pathLst>
              <a:path w="8424862" h="1368425">
                <a:moveTo>
                  <a:pt x="228075" y="0"/>
                </a:moveTo>
                <a:lnTo>
                  <a:pt x="8424862" y="0"/>
                </a:lnTo>
                <a:lnTo>
                  <a:pt x="8424862" y="1140350"/>
                </a:lnTo>
                <a:lnTo>
                  <a:pt x="8424862" y="1140350"/>
                </a:lnTo>
                <a:arcTo wR="228075" hR="228075" stAng="0" swAng="5400000"/>
                <a:lnTo>
                  <a:pt x="0" y="1368425"/>
                </a:lnTo>
                <a:lnTo>
                  <a:pt x="0" y="228075"/>
                </a:lnTo>
                <a:lnTo>
                  <a:pt x="0" y="228075"/>
                </a:lnTo>
                <a:arcTo wR="228075" hR="228075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ravokutnik s dijagonalno zaobljenim kutom 5"/>
          <p:cNvSpPr/>
          <p:nvPr/>
        </p:nvSpPr>
        <p:spPr>
          <a:xfrm>
            <a:off x="468360" y="1989000"/>
            <a:ext cx="8424720" cy="1368720"/>
          </a:xfrm>
          <a:custGeom>
            <a:avLst/>
            <a:gdLst>
              <a:gd name="textAreaLeft" fmla="*/ 66600 w 8424720"/>
              <a:gd name="textAreaRight" fmla="*/ 8358120 w 8424720"/>
              <a:gd name="textAreaTop" fmla="*/ 66600 h 1368720"/>
              <a:gd name="textAreaBottom" fmla="*/ 1302120 h 1368720"/>
            </a:gdLst>
            <a:ahLst/>
            <a:rect l="textAreaLeft" t="textAreaTop" r="textAreaRight" b="textAreaBottom"/>
            <a:pathLst>
              <a:path w="8424862" h="1368425">
                <a:moveTo>
                  <a:pt x="228075" y="0"/>
                </a:moveTo>
                <a:lnTo>
                  <a:pt x="8424862" y="0"/>
                </a:lnTo>
                <a:lnTo>
                  <a:pt x="8424862" y="1140350"/>
                </a:lnTo>
                <a:lnTo>
                  <a:pt x="8424862" y="1140350"/>
                </a:lnTo>
                <a:arcTo wR="228075" hR="228075" stAng="0" swAng="5400000"/>
                <a:lnTo>
                  <a:pt x="0" y="1368425"/>
                </a:lnTo>
                <a:lnTo>
                  <a:pt x="0" y="228075"/>
                </a:lnTo>
                <a:lnTo>
                  <a:pt x="0" y="228075"/>
                </a:lnTo>
                <a:arcTo wR="228075" hR="228075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kstniOkvir 3"/>
          <p:cNvSpPr/>
          <p:nvPr/>
        </p:nvSpPr>
        <p:spPr>
          <a:xfrm>
            <a:off x="468360" y="136224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škoće u matematici koje mogu imati djeca s disleksij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škoće u čitanju i razumijevanju uputa i zadataka riječima (dijete često ne rješava zadatak ili ne može naučiti novi koncept, jer nije u stanju pročitati upute iz udžbenika ili zbirke zadatak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bo poznavanje matematičkog rječnika (mnoga djeca s disleksijom imaju siromašan rječnik općih pojmova pa im je teško svladati specifičan matematički rječni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266920" y="476280"/>
            <a:ext cx="4203720" cy="4032360"/>
          </a:xfrm>
          <a:prstGeom prst="rect">
            <a:avLst/>
          </a:prstGeom>
          <a:ln w="0">
            <a:noFill/>
          </a:ln>
        </p:spPr>
      </p:pic>
      <p:sp>
        <p:nvSpPr>
          <p:cNvPr id="120" name="Pravokutnik 2"/>
          <p:cNvSpPr/>
          <p:nvPr/>
        </p:nvSpPr>
        <p:spPr>
          <a:xfrm>
            <a:off x="1567800" y="4716360"/>
            <a:ext cx="57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 1. Česte su teškoće u imenovanju geometrijskih liko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18:27:33Z</dcterms:created>
  <dc:creator>mesaric</dc:creator>
  <dc:description/>
  <dc:language>en-US</dc:language>
  <cp:lastModifiedBy>nlesar</cp:lastModifiedBy>
  <dcterms:modified xsi:type="dcterms:W3CDTF">2012-01-23T07:48:47Z</dcterms:modified>
  <cp:revision>141</cp:revision>
  <dc:subject/>
  <dc:title>UČENICI S TEŠKO</dc:title>
</cp:coreProperties>
</file>