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08E-7682-49B8-96E3-1507FCEC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AD8-ACD1-4F60-AE23-2F59DE95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434-FCCF-40E1-B5B8-52ABAE69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93D-AD7A-4FD7-A26C-DF0C6E8C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F60-83F9-4B67-8217-ACB93BE1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49B-E43C-421F-A9A0-D94F646A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D7F-6E75-4CF0-9EB5-70E9D34D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BFC-C397-453E-B70C-DA05AA2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052-B60D-463E-B5D9-458FD212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A5B-6D7A-42C1-B2BB-DC28AF5D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77B-AEB5-4AFE-A440-1FDF7DD1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468-0A44-418D-BEC9-2DBAA4D9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87DD-73D4-4AC0-B48E-9985EE10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a50021"/>
                </a:solidFill>
                <a:latin typeface="Arial"/>
              </a:rPr>
              <a:t>Primjeri vrednovanja i p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ra</a:t>
            </a:r>
            <a:r>
              <a:rPr b="1" lang="hr-HR" sz="4400" spc="-1" strike="noStrike">
                <a:solidFill>
                  <a:srgbClr val="a50021"/>
                </a:solidFill>
                <a:latin typeface="Arial"/>
              </a:rPr>
              <a:t>ćenja u nastavi matematike osnovne šk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f. dr. Sanja Varošan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MF Matematički odsjek, Zagr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atija, siječanj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9999"/>
                </a:solidFill>
                <a:latin typeface="Arial"/>
              </a:rPr>
              <a:t>N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a50021"/>
                </a:solidFill>
                <a:latin typeface="Arial"/>
              </a:rPr>
              <a:t>3. ciklus</a:t>
            </a:r>
            <a:r>
              <a:rPr b="0" lang="hr-HR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99"/>
                </a:solidFill>
                <a:latin typeface="Arial"/>
              </a:rPr>
              <a:t>Algebra i fu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poznati i primijeniti proporcionalnost i obrnutu proporcionalnost u jednostavnim situac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99"/>
                </a:solidFill>
                <a:latin typeface="Arial"/>
              </a:rPr>
              <a:t>Mjer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izravno mjeriti duljinu primjenjujući proporcionalnost i sli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Primijeniti proporcionalnos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ijeniti proporcionalnost u situacijama u kojima se pojavljuju omjeri, razmjeri, postotci, skaliranje, nagibi, sličnost, vjerojat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Tipovi za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blemi “tri poznate vrijednos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umerički problemi uspoređiv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tativni problemi predviđ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tativni problemi uspoređ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a50021"/>
                </a:solidFill>
                <a:latin typeface="Arial"/>
              </a:rPr>
              <a:t>Oblic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dan matematičkim simbo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datak riječima u matematičkom kontek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datak riječima u nematematičkom kontekstu (prič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9999"/>
                </a:solidFill>
                <a:latin typeface="Arial"/>
              </a:rPr>
              <a:t>Problem “tri vrijednost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Izračunaj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Nepoznati broj podijeljen s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jednak 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redi taj bro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) Originalni recept za kremu sadrži naputak da se na 6 jaja stavlja litra mlijeka. Koliko mlijeka je potrebno ako radimo kremu od samo 2 jaj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162920" y="2895480"/>
          <a:ext cx="48420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895480"/>
                    <a:ext cx="484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352680" y="1295280"/>
          <a:ext cx="121932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295280"/>
                    <a:ext cx="1219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99"/>
                </a:solidFill>
                <a:latin typeface="Arial"/>
              </a:rPr>
              <a:t>Numerički problemi uspoređ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rija i Zvonko rade sok od borovnice. Marija je upotrijebila 10 žlica sirupa sa 6 dl vode, a Zvonko 12 žlica sirupa sa 7 dl vode. Tko je napravio jači s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99"/>
                </a:solidFill>
                <a:latin typeface="Arial"/>
              </a:rPr>
              <a:t>Kvalitativni problemi predviđ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se duljina stranice kvadrata poveća 7 puta, kako će se promijeniti opseg kvadr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99"/>
                </a:solidFill>
                <a:latin typeface="Arial"/>
              </a:rPr>
              <a:t>Kvalitativni problemi uspoređ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amo dva kvadrata jednakog opse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dnome povećamo duljinu stranice d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a, a drugome za 2 cm. Koji kvadr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ove promjene ima veći ops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govor objas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trategije rje</a:t>
            </a:r>
            <a:r>
              <a:rPr b="1" lang="hr-HR" sz="3600" spc="-1" strike="noStrike">
                <a:solidFill>
                  <a:srgbClr val="a50021"/>
                </a:solidFill>
                <a:latin typeface="Arial"/>
              </a:rPr>
              <a:t>šavanja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ođenje na jedin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potreba faktora pro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u razmj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u koeficijenta proporciona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Arial"/>
              </a:rPr>
              <a:t>Rubrike za procjenu primjene proporcional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je ispravno riješen uz vidljivu i ispravnu strategij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ješenje nije točno, ali strategija rješavanja je ispravn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ješenje zadatka točno, ali strategija rješavanja nije vidljiv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ješenje nije točno, strategija neispravna ili nije vidljiva. Nije bilo matem. odgovor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riginalni recept za kremu sadrži naputak da se na 6 jaja stavlja 12 dl mlijeka. Koliko mlijeka je potrebno ako radimo kremu od samo 2 ja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81304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9880" y="2895480"/>
            <a:ext cx="51055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371520"/>
            <a:ext cx="4114800" cy="2828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43400" y="158760"/>
            <a:ext cx="4572000" cy="3270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47920" y="3809880"/>
            <a:ext cx="594360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imjer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ika nastave matemati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olonjski proces 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jelaz s isključivo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9999"/>
                </a:solidFill>
                <a:latin typeface="Arial"/>
              </a:rPr>
              <a:t>sumativnog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cjenjivanja n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9999"/>
                </a:solidFill>
                <a:latin typeface="Arial"/>
              </a:rPr>
              <a:t>formativno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Map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 svakoga studenta (portfolio )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i njegovi radovi (inicijalni test, domaće zadaće, testovi s kolokvija, eseji, dodatni zadaci, seminar u pisanom i elektronskom obliku, bilješke s usmenog ispita), profesorova i asistentova zapažanja o aktivnosti na nastavi, o studentovim reakcijama tijekom rada u radionicama, prisustvo konzultacijama sa zabilješkama o čemu smo diskutirali na nj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ica bil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ed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uden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9999"/>
                </a:solidFill>
                <a:latin typeface="Arial"/>
              </a:rPr>
              <a:t>Lista procjene napretka pojedinog učen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3962520"/>
                <a:gridCol w="990360"/>
                <a:gridCol w="762120"/>
                <a:gridCol w="868320"/>
                <a:gridCol w="1646280"/>
              </a:tblGrid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ezime i 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zado-voljava-juć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rs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en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čuna nepoznati član proporcije s konkretnim brojev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čuna nepoznati član proporcije s općim brojev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naje prop. veličine u matem. kontekstu (tablice, formule, grafov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6242040" y="3286080"/>
            <a:ext cx="687240" cy="27000"/>
          </a:xfrm>
          <a:custGeom>
            <a:avLst/>
            <a:gdLst/>
            <a:ahLst/>
            <a:rect l="l" t="t" r="r" b="b"/>
            <a:pathLst>
              <a:path w="1911" h="76">
                <a:moveTo>
                  <a:pt x="17338" y="9128"/>
                </a:moveTo>
                <a:cubicBezTo>
                  <a:pt x="17537" y="9128"/>
                  <a:pt x="19196" y="9015"/>
                  <a:pt x="19248" y="9153"/>
                </a:cubicBezTo>
                <a:cubicBezTo>
                  <a:pt x="19248" y="9178"/>
                  <a:pt x="19248" y="9186"/>
                  <a:pt x="19248" y="9203"/>
                </a:cubicBezTo>
              </a:path>
            </a:pathLst>
          </a:custGeom>
          <a:noFill/>
          <a:ln cap="sq" w="228600">
            <a:solidFill>
              <a:srgbClr val="ff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20680"/>
          <a:ext cx="8229600" cy="6415200"/>
        </p:xfrm>
        <a:graphic>
          <a:graphicData uri="http://schemas.openxmlformats.org/drawingml/2006/table">
            <a:tbl>
              <a:tblPr/>
              <a:tblGrid>
                <a:gridCol w="4114800"/>
                <a:gridCol w="838080"/>
                <a:gridCol w="838440"/>
                <a:gridCol w="792000"/>
                <a:gridCol w="164628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 podataka u tablici ili u grafičkom prikazu određuje vrijed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lazi iz jednog oblika prikaza u drugi (sve kombinacije: tablica, formula, gra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naje prop. veličine u situacijama iz života (rutinski zadat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trebljava prikladnu strategij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ješa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jenjuje rezult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jerava rezult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ješava nestandardne zadat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286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9000" y="892080"/>
            <a:ext cx="2189160" cy="54000"/>
          </a:xfrm>
          <a:custGeom>
            <a:avLst/>
            <a:gdLst/>
            <a:ahLst/>
            <a:rect l="l" t="t" r="r" b="b"/>
            <a:pathLst>
              <a:path w="6078" h="150">
                <a:moveTo>
                  <a:pt x="3026" y="2505"/>
                </a:moveTo>
                <a:cubicBezTo>
                  <a:pt x="3052" y="2500"/>
                  <a:pt x="3111" y="2481"/>
                  <a:pt x="3125" y="2480"/>
                </a:cubicBezTo>
                <a:cubicBezTo>
                  <a:pt x="3515" y="2448"/>
                  <a:pt x="3935" y="2478"/>
                  <a:pt x="4316" y="2505"/>
                </a:cubicBezTo>
                <a:cubicBezTo>
                  <a:pt x="4854" y="2544"/>
                  <a:pt x="5425" y="2431"/>
                  <a:pt x="5953" y="2530"/>
                </a:cubicBezTo>
                <a:cubicBezTo>
                  <a:pt x="6022" y="2543"/>
                  <a:pt x="6107" y="2540"/>
                  <a:pt x="6176" y="2555"/>
                </a:cubicBezTo>
                <a:cubicBezTo>
                  <a:pt x="6277" y="2577"/>
                  <a:pt x="6345" y="2599"/>
                  <a:pt x="6449" y="2604"/>
                </a:cubicBezTo>
                <a:cubicBezTo>
                  <a:pt x="6591" y="2611"/>
                  <a:pt x="6736" y="2618"/>
                  <a:pt x="6871" y="2629"/>
                </a:cubicBezTo>
                <a:cubicBezTo>
                  <a:pt x="7603" y="2689"/>
                  <a:pt x="8367" y="2629"/>
                  <a:pt x="9103" y="2629"/>
                </a:cubicBez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35000" y="1000080"/>
            <a:ext cx="2233800" cy="9720"/>
          </a:xfrm>
          <a:custGeom>
            <a:avLst/>
            <a:gdLst/>
            <a:ahLst/>
            <a:rect l="l" t="t" r="r" b="b"/>
            <a:pathLst>
              <a:path w="6203" h="26">
                <a:moveTo>
                  <a:pt x="9079" y="2803"/>
                </a:moveTo>
                <a:cubicBezTo>
                  <a:pt x="7339" y="2803"/>
                  <a:pt x="5546" y="2909"/>
                  <a:pt x="3820" y="2778"/>
                </a:cubicBezTo>
                <a:cubicBezTo>
                  <a:pt x="3510" y="2755"/>
                  <a:pt x="3188" y="2778"/>
                  <a:pt x="2877" y="2778"/>
                </a:cubicBez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600" spc="-1" strike="noStrike">
                <a:solidFill>
                  <a:srgbClr val="a50021"/>
                </a:solidFill>
                <a:latin typeface="Arial"/>
              </a:rPr>
              <a:t>Neke od karakteristik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kontinuirano prać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nekoliko elem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pravila javno objavl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ocjena nije aritmetička sredin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2400" spc="-1" strike="noStrike">
                <a:solidFill>
                  <a:srgbClr val="a50021"/>
                </a:solidFill>
                <a:latin typeface="Arial"/>
              </a:rPr>
              <a:t>Konačna ocjena: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okvi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50%),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ć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dać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5%), seminars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d (10%), aktivnost na nastavi (5%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vrš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pit (20%)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a50021"/>
                </a:solidFill>
                <a:latin typeface="Arial"/>
              </a:rPr>
              <a:t>Korisnici rezultata praće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če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ira zajed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99"/>
                </a:solidFill>
                <a:latin typeface="Arial"/>
              </a:rPr>
              <a:t>Tehn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atranje i bilježenje podataka (liste, rubrike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go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pe radova (portfol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procjena i procj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s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a50021"/>
                </a:solidFill>
                <a:latin typeface="Arial"/>
              </a:rPr>
              <a:t>Proporciona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3124080"/>
            <a:ext cx="365760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429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porcion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715000" y="243792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2057400"/>
            <a:ext cx="19810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72428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4952880"/>
            <a:ext cx="21333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213372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4191120"/>
            <a:ext cx="190476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086280"/>
            <a:ext cx="19810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743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3429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971800" y="4419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105160" y="45720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248520" y="4191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21337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azlom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22096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mj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21480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funkc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87692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jerojat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50292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lič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1911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stot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9999"/>
                </a:solidFill>
                <a:latin typeface="Arial"/>
              </a:rPr>
              <a:t>N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hr-HR" sz="3600" spc="-1" strike="noStrike">
                <a:solidFill>
                  <a:srgbClr val="a50021"/>
                </a:solidFill>
                <a:latin typeface="Arial"/>
              </a:rPr>
              <a:t>2. ciklus</a:t>
            </a: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99"/>
                </a:solidFill>
                <a:latin typeface="Arial"/>
              </a:rPr>
              <a:t>Algebra i fu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poznati proporcionalne veličine te primjenjivati omjere i proporcionalnost u jednostavnim svakodnevnim situac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99"/>
                </a:solidFill>
                <a:latin typeface="Arial"/>
              </a:rPr>
              <a:t>Mjer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izravno mjeriti duljinu koristeći se proporcionalnošću (mjerilo ka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6:52:45Z</dcterms:created>
  <dc:creator>SANJA</dc:creator>
  <dc:description/>
  <dc:language>en-US</dc:language>
  <cp:lastModifiedBy>nlesar</cp:lastModifiedBy>
  <dcterms:modified xsi:type="dcterms:W3CDTF">2012-01-23T07:41:26Z</dcterms:modified>
  <cp:revision>22</cp:revision>
  <dc:subject/>
  <dc:title>Praćenje, vrjednovanje u nastavi matematike</dc:title>
</cp:coreProperties>
</file>