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CCF-E10D-48DA-9D3A-207469D9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4BF-D3DA-4D76-B21A-A18AE382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6E3-3FEC-40ED-A76A-419A632C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52B-A144-476B-93A3-BA732B60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3E15-8B15-4F0B-AC2F-36262E5F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EC56-ECAD-4A9B-97E0-C775935C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FF0F-FE18-4841-8E84-24CE993F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F6CC-BCE2-4EB4-9FB7-0AA94AB3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F341-DD52-4FD5-939C-7CB3101E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E1C4-9334-4A7B-B441-358E961D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0902-1A2C-4032-96A8-04C865F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676-7E49-43EA-8624-A6353A16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4571-8A75-437A-B156-290D782F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D341-CD51-4079-A7DE-D498E42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198E-19A2-4D49-A7D6-BE8CF7B2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FD63-D4C2-4B30-A626-028D6353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5755-2E54-4310-B052-74CE7D02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CC9-980E-401F-A13C-0EE33747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A92-6520-4BBD-BFE3-1CB826E6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AB7-E99A-4936-BEFB-2EEA35AD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21B-CA0B-4512-A23E-313B5BE9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900-5B9C-4D6A-93F4-A2592144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D69-FEA2-429F-AF85-43464B8B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2DE-312B-4EEE-956C-8F8492E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1a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ac0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1a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Page </a:t>
            </a:r>
            <a:fld id="{D15AA9C0-6B04-4E89-B728-631E56A1510B}" type="slidenum"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b6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4360" y="2845080"/>
              <a:ext cx="6355800" cy="2690280"/>
              <a:chOff x="414360" y="2845080"/>
              <a:chExt cx="6355800" cy="26902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00000">
                <a:off x="479160" y="31147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45800" y="3000240"/>
                <a:ext cx="476280" cy="47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5" y="6518"/>
                    </a:moveTo>
                    <a:arcTo wR="10800" hR="10800" stAng="-1401335" swAng="98614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5" y="6518"/>
                    </a:moveTo>
                    <a:arcTo wR="10800" hR="10800" stAng="-1401335" swAng="986146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324080" y="3081600"/>
                <a:ext cx="914040" cy="91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98" y="20209"/>
                    </a:moveTo>
                    <a:arcTo wR="10800" hR="10800" stAng="7164193" swAng="4498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98" y="20209"/>
                    </a:moveTo>
                    <a:arcTo wR="10800" hR="10800" stAng="7164193" swAng="4498063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3092040"/>
                <a:ext cx="914040" cy="9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15" y="8333"/>
                    </a:moveTo>
                    <a:arcTo wR="10800" hR="10800" stAng="-792138" swAng="4747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15" y="8333"/>
                    </a:moveTo>
                    <a:arcTo wR="10800" hR="10800" stAng="-792138" swAng="474729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35680" y="2902320"/>
                <a:ext cx="2634480" cy="263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10" y="18858"/>
                    </a:moveTo>
                    <a:arcTo wR="10800" hR="10800" stAng="7904515" swAng="116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10" y="18858"/>
                    </a:moveTo>
                    <a:arcTo wR="10800" hR="10800" stAng="7904515" swAng="1163815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80520" y="2845080"/>
                <a:ext cx="680760" cy="68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71" y="12467"/>
                    </a:moveTo>
                    <a:arcTo wR="10800" hR="10800" stAng="532687" swAng="9836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71" y="12467"/>
                    </a:moveTo>
                    <a:arcTo wR="10800" hR="10800" stAng="532687" swAng="9836051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5461560" y="3368160"/>
                <a:ext cx="457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9" y="11474"/>
                    </a:moveTo>
                    <a:arcTo wR="10800" hR="10800" stAng="214610" swAng="104078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9" y="11474"/>
                    </a:moveTo>
                    <a:arcTo wR="10800" hR="10800" stAng="214610" swAng="10407819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357080" y="3381480"/>
                <a:ext cx="318600" cy="31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14" y="7598"/>
                    </a:moveTo>
                    <a:arcTo wR="10800" hR="10800" stAng="-1034896" swAng="12752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14" y="7598"/>
                    </a:moveTo>
                    <a:arcTo wR="10800" hR="10800" stAng="-1034896" swAng="1275208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Page </a:t>
            </a:r>
            <a:fld id="{EF288E0F-171F-4A3E-ABB4-315F65B05DCE}" type="slidenum"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6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ac0ea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1abcb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99"/>
                </a:solidFill>
                <a:latin typeface="Tahoma"/>
              </a:rPr>
              <a:t>Prilagodba procesa poučavanja u osnovnoj školi zahtjevima NOK-a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761760" y="3962160"/>
            <a:ext cx="60958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Državni stručni skup za učitelje matematike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Opatija, siječanj 2012.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5638680"/>
            <a:ext cx="38102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d62"/>
                </a:solidFill>
                <a:latin typeface="Arial"/>
              </a:rPr>
              <a:t>Sanja Rukavina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d62"/>
                </a:solidFill>
                <a:latin typeface="Arial"/>
              </a:rPr>
              <a:t>Odjel za matematiku Sveučilišta u Rijeci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d62"/>
                </a:solidFill>
                <a:latin typeface="Arial"/>
              </a:rPr>
              <a:t>sanjar@math.uniri.h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romjene u dizajnu kurikuluma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romjene u metodama poučavanja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romjene u načinu praćenja, vrjednovanja i ocjenjivanja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rilagodba u dizajnu kurikuluma</a:t>
            </a:r>
            <a:br>
              <a:rPr sz="2400"/>
            </a:b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(ishodi učenja, pomak prema kompetencijama)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38080" y="1905120"/>
          <a:ext cx="7772400" cy="4205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oučavanje usmjereno na učenik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Na kraju ovog obrazovnog razdoblja učenik će moći: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Odrediti rješenja sustava dviju jednadžbi s dvije nepoznanice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- Razlikovati vrste trokuta s obzirom na duljine stranic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Tradicionalno poučavanje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dmet pokriva sljedeće sadržaje: 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- Sustavi dviju jednadžbi s dvije nepoznanice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- Vrste trokuta s obzirom na duljine stranic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rilagodba metoda poučavanja (1) </a:t>
            </a:r>
            <a:br>
              <a:rPr sz="2400"/>
            </a:b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(strategije poučavanja usmjerene na učenika)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Veća aktivnost učenika u stjecanju znanja i vještina; vježbe na satu, terenski rad, uporaba elektronskih sustava za učenje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Veća “svjesnost” učenika o tome što rade i zašto to rade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Veći stupanj interakcije među učenicima; grupni rad, međusobno pomaganje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Veći stupanj razvoja “prijenosnih vještina”; pomaganje drugim učenicima, prezentacija radova, vođenje bilješki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rilagodba metoda poučavanja (2)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38080" y="1600200"/>
          <a:ext cx="7772400" cy="5129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Tijekom nastavnog sat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Rad/diskusija u parovim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Rad/diskusija u grupam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Kvizovi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zentacija učeničkih radov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isanje komentara o naučenome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zentacije poster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Izrada mentalnih map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Izvan  nastavnog sat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Izrada projekat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Terenski rad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Vođenje dnevnika o radu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Međusobna pomoć učenik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Diskusije u grupam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poraba elektronskih sustava za učenje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99"/>
                </a:solidFill>
                <a:latin typeface="Tahoma"/>
              </a:rPr>
              <a:t>U svakom razrednom odjeljenju susrećemo mnoštvo različitih matematičkih osobnosti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Upoznati osnovne karakteristike različitih matematičkih osobnosti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Upoznati vlastitu matematičku osobnost i način poučavanja prilagoditi različitim matematičkim osobnostima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Matematika bez suza: kako pomoći djetetu s teškoćama u učenju matematike</a:t>
            </a: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, prema Mahesh C. Sharma sastavila i pripremila I. Posokhova, Lekenik: Ostvarenje, 2001.</a:t>
            </a: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38080" y="1600200"/>
          <a:ext cx="7772400" cy="4780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Kvantitativna matematička osobnost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Obrađuje informaciju postupno, metodično, korak po korak, dio po dio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 zadatku prvo obrađuje verbalnu, lingvističku informaciju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či lakše putem kvantitativnog didaktičkog materijal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ferira deduktivnu i sistematično organiziranu metodologiju podučavanj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Kvalitativna matematička osobnost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Obrađuje informaciju holistički, vizualno, od cjeline prema dijelovim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 zadatku prvo obrađuje neverbalnu, nejezičnu informaciju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či lakše putem vizualno-prostornog, kvalitativnog didaktičkog materijal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ferira induktivan način nastave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838080" y="1523880"/>
          <a:ext cx="7772400" cy="4853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Kvantitativna matematička osobnost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spješan u aritmetici, djelomično u algebri i u onom dijelu geometrije koji se oslanja na sustavne postupke i aksiome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Ima poteškoća sa zadacima koji imaju nekoliko načina rješavanj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Traži specifične formule i “recepte” pri rješavanju problema 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Kvalitativna matematička osobnost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 učenju aritmetike, algebre i geometrije uočava međuodnose koncepat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Ima poteškoća s proceduralnim radnjama i dugotrajnim računanjima, ne uvježbava dovoljno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spješan u prepoznavanju modela i povezivanju različitih koncepata i idej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rilagodba načina praćenja, vrjednovanja i ocjenjivanja (1) </a:t>
            </a:r>
            <a:br>
              <a:rPr sz="2400"/>
            </a:b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ostojeći nedostaci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Ocjenjivanje, odnosno davanje ocjena, je prenaglašeno, a premalo je naglaska na davanju savjeta s ciljem postizanja boljih obrazovnih postignuća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Učenike se uspoređuje međusobno što naglašava nadmetanje, a ne osobni razvoj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Ispitivanje je “tehnika moći” kroz koju su učenici kontrolirani sustavom “mikro-kazni”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Ocjena pisanih ispita ne sadrži informaciju o greškama i područjima koja zahtijevaju dodatni rad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rilagodba načina praćenja, vrjednovanja i ocjenjivanja (2)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2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ključivanje učenika kod postavljanja zadatka: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Odabir zadatk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ostavljanje zadatk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Diskusija o kriterijima ocjenjivanj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ostavljanje kriterija ocjenjivanj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ključivanje učenika nakon izvršenja zadatka: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Samoocjenjivanje”: 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isanje komentara vlastitog uratka ili uratka drugih učenika,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dlaganje ocjene,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govaranje” o ocjeni,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samoocjenjivanje, 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ocjenjivanje drugih učenik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Tahoma"/>
              </a:rPr>
              <a:t>Opasnosti “nepromišljenih” promjena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aziti da se ne dogodi “druga krajnost”; potpuna usmjerenost na pojedinca i zanemarivanje potreba razrednog odjela kao grupe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Voditi računa o dostupnosti resursa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romjene u “kulturi učenja” i uvjerenjima se ne događaju naglo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ostizanje odgovarajućih obrazovnih postignuća u matematici, odnosno praćenje, vrjednovanje i ocjenjivanje u kurikulumski organiziranom obrazovnom sustavu zahtijeva i promjenu, odnosno prilagodbu, u procesu poučavanja.</a:t>
            </a:r>
            <a:r>
              <a:rPr b="0" lang="hr-HR" sz="3200" spc="-1" strike="noStrike">
                <a:solidFill>
                  <a:srgbClr val="003d6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3d62"/>
                </a:solidFill>
                <a:latin typeface="Tahoma"/>
              </a:rPr>
              <a:t>Nacionalni okvirni kurikulum za predškolski odgoj i obrazovanje te opće obvezno i srednjojškolsko obrazovanje</a:t>
            </a:r>
            <a:r>
              <a:rPr b="0" lang="hr-HR" sz="1600" spc="-1" strike="noStrike">
                <a:solidFill>
                  <a:srgbClr val="003d62"/>
                </a:solidFill>
                <a:latin typeface="Tahoma"/>
              </a:rPr>
              <a:t> , http://public.mzos.hr/Default.aspx?sec=2685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d62"/>
                </a:solidFill>
                <a:latin typeface="Tahoma"/>
              </a:rPr>
              <a:t>O’Neill, G., McMahon, T., </a:t>
            </a:r>
            <a:r>
              <a:rPr b="1" lang="hr-HR" sz="1600" spc="-1" strike="noStrike">
                <a:solidFill>
                  <a:srgbClr val="003d62"/>
                </a:solidFill>
                <a:latin typeface="Tahoma"/>
              </a:rPr>
              <a:t>“Student-Centred Learning: What does it mean for students and lecturers?”,</a:t>
            </a:r>
            <a:r>
              <a:rPr b="0" lang="hr-HR" sz="1600" spc="-1" strike="noStrike">
                <a:solidFill>
                  <a:srgbClr val="003d62"/>
                </a:solidFill>
                <a:latin typeface="Tahoma"/>
              </a:rPr>
              <a:t> in </a:t>
            </a:r>
            <a:r>
              <a:rPr b="0" i="1" lang="hr-HR" sz="1600" spc="-1" strike="noStrike">
                <a:solidFill>
                  <a:srgbClr val="003d62"/>
                </a:solidFill>
                <a:latin typeface="Tahoma"/>
              </a:rPr>
              <a:t>Emerging Issues in the Practice of University Learning and Teaching, </a:t>
            </a:r>
            <a:r>
              <a:rPr b="0" lang="hr-HR" sz="1600" spc="-1" strike="noStrike">
                <a:solidFill>
                  <a:srgbClr val="003d62"/>
                </a:solidFill>
                <a:latin typeface="Tahoma"/>
              </a:rPr>
              <a:t>O’Neill, G., Moore, S., McMullin, B. (Eds)., Dublin: AISHE, 2005.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3d62"/>
                </a:solidFill>
                <a:latin typeface="Tahoma"/>
              </a:rPr>
              <a:t>Matematika bez suza: kako pomoći djetetu s teškoćama u učenju matematike</a:t>
            </a:r>
            <a:r>
              <a:rPr b="0" lang="hr-HR" sz="1600" spc="-1" strike="noStrike">
                <a:solidFill>
                  <a:srgbClr val="003d62"/>
                </a:solidFill>
                <a:latin typeface="Tahoma"/>
              </a:rPr>
              <a:t>, prema Mahesh C. Sharma sastavila i pripremila I. Posokhova, Lekenik: Ostvarenje, 2001.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99"/>
                </a:solidFill>
                <a:latin typeface="Tahoma"/>
              </a:rPr>
              <a:t>Nacionalni okvirni kurikulum (1)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3d62"/>
                </a:solidFill>
                <a:latin typeface="Tahoma"/>
              </a:rPr>
              <a:t>Nacionalni okvirni kurikulum </a:t>
            </a: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romiče odgoj i obrazovanje usmjeren na dijete i učenika. Oni podrazumijevaju: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rilagođivanje odgojno-obrazovnih i nastavnih oblika, metoda i sredstava rada pojedinačnim potrebama i sposobnostima učenika, kako bi se osigurao odgojno-obrazovni uspjeh svakoga pojedinca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odabir i primjenu odgojno-obrazovnih oblika, metoda i sredstava koji će poticajno djelovati na razvoj svih područja djetetove, odnosno učenikove osobnosti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laniranje i pripremu školskoga i nastavnoga rada prema sposobnostima učenika, pripremajući različite sadržaje, različitu organizaciju i tempo nastave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99"/>
                </a:solidFill>
                <a:latin typeface="Tahoma"/>
              </a:rPr>
              <a:t>Nacionalni okvirni kurikulum (2)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rihvaćanje različitih stilova učenja djeteta, odnosno učenika, kao i razvojnih razlika između dječaka i djevojčica te između pojedinih učenika općenito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uvođenje primjerenih oblika i metoda poučavanja i učenja koji će omogućiti aktivno, samostalno učenje i praktičnu primjenu naučenoga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uporabu različitih relevantnih izvora znanja i nastavnih sredstava koji potiču sudjelovanje, promatranje, samostalno istraživanje, eksperimentiranje, otkrivanje, zaključivanje, znatiželju te učenje </a:t>
            </a:r>
            <a:r>
              <a:rPr b="0" i="1" lang="hr-HR" sz="2000" spc="-1" strike="noStrike">
                <a:solidFill>
                  <a:srgbClr val="003d62"/>
                </a:solidFill>
                <a:latin typeface="Tahoma"/>
              </a:rPr>
              <a:t>kako učiti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99"/>
                </a:solidFill>
                <a:latin typeface="Tahoma"/>
              </a:rPr>
              <a:t>Nacionalni okvirni kurikulum (3)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stvaranje ugodna odgojno-obrazovnoga, razrednoga i školskoga ozračja koje će poticati zanimanje i motivaciju djeteta, odnosno učenika za učenje te će mu pružiti osjećaj sigurnosti i međusobnoga poštivanja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repoznavanje i praćenje darovite djece i učenika, odnosno djece i učenika s teškoćama u učenju i ponašanju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ružanje pomoći djeci i učenicima s teškoćama i senzibiliziranje ostale djece i učenika za njihove potrebe, pružanje pomoći i suradnju.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Uočavamo da se kao osnovna ideja  ističe “usmjerenost na učenika” (student-centered learning). 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Na koji način izvršiti prilagodbu procesa poučavanja zahtjevima NOK-a?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Tahoma"/>
              </a:rPr>
              <a:t>O’Neill, G., McMahon, T., </a:t>
            </a:r>
            <a:r>
              <a:rPr b="1" lang="hr-HR" sz="1600" spc="-1" strike="noStrike">
                <a:solidFill>
                  <a:srgbClr val="006699"/>
                </a:solidFill>
                <a:latin typeface="Tahoma"/>
              </a:rPr>
              <a:t>“Student-Centred Learning: What does it mean for students and lecturers?”,</a:t>
            </a:r>
            <a:r>
              <a:rPr b="0" lang="hr-HR" sz="1600" spc="-1" strike="noStrike">
                <a:solidFill>
                  <a:srgbClr val="006699"/>
                </a:solidFill>
                <a:latin typeface="Tahoma"/>
              </a:rPr>
              <a:t> in </a:t>
            </a:r>
            <a:r>
              <a:rPr b="0" i="1" lang="hr-HR" sz="1600" spc="-1" strike="noStrike">
                <a:solidFill>
                  <a:srgbClr val="006699"/>
                </a:solidFill>
                <a:latin typeface="Tahoma"/>
              </a:rPr>
              <a:t>Emerging Issues in the Practice of University Learning and Teaching, </a:t>
            </a:r>
            <a:r>
              <a:rPr b="0" lang="hr-HR" sz="1600" spc="-1" strike="noStrike">
                <a:solidFill>
                  <a:srgbClr val="006699"/>
                </a:solidFill>
                <a:latin typeface="Tahoma"/>
              </a:rPr>
              <a:t>O’Neill, G., Moore, S., McMullin, B. (Eds)., Dublin: AISHE, 2005.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usmjerenost na učenika” (student-centred learning) je izraz kojega često srećemo pri čemu se ne podrazumijeva uvijek u potpunosti isto značenje 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koncept “usmjerenosti na učenika” pojavljuje se početkom 20. stoljeća, a intenzivno se promovira i uvodi krajem 20. stoljeća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početkom 21. stoljeća imamo situaciju da mnoge institucije i nastavnici tvrde kako provode obrazovanje usmjereno na učenika, ali to zapravo ne čine 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“</a:t>
            </a: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oučavanje usmjereno na učenika” nasuprot “poučavanja usmjerenog na učitelja/sadržaj”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izbor (što, kada, zašto), aktivnost (ishodi učenja u terminima učeničkih postignuća), odnos snaga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Kako provoditi “poučavanje usmjereno na učenika”?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62120" y="1600200"/>
          <a:ext cx="7772400" cy="4179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2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oučavanje usmjereno na učitelja/sadržaj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Niska razina učeničkog izbor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čenik je pasivan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Snaga” je prvenstveno na strani učitelj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oučavanje usmjereno na učenik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Visoka razina učeničkog izbor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čenik je aktivan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Snaga” je prvenstveno na strani učenik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362320" y="5791320"/>
            <a:ext cx="4647960" cy="485640"/>
          </a:xfrm>
          <a:prstGeom prst="leftRightArrow">
            <a:avLst>
              <a:gd name="adj1" fmla="val 50000"/>
              <a:gd name="adj2" fmla="val 190529"/>
            </a:avLst>
          </a:prstGeom>
          <a:solidFill>
            <a:srgbClr val="9ac0ea"/>
          </a:solidFill>
          <a:ln w="93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lesar</cp:lastModifiedBy>
  <dcterms:modified xsi:type="dcterms:W3CDTF">2012-01-23T07:43:00Z</dcterms:modified>
  <cp:revision>31</cp:revision>
  <dc:subject/>
  <dc:title>Prilagodba procesa poučavanja u osnovnoj školi zahtjevima NOK-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351033</vt:lpwstr>
  </property>
</Properties>
</file>