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353-A2EA-4102-A2BB-7739DE19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F42-0DB5-497E-BA07-DCA32FEC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8DC-E1B7-4346-940F-92D4106A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ECA9-1358-4C94-9DC6-2F27F709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B5DE-6C81-427A-8A20-E7044357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6E5C-A808-4341-B3CE-7E04C82F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AF60-8CC5-4747-96D1-EB25C2DE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99F4-5D52-4C19-B2C5-8070D4EF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7B7E-7893-4F02-AEDD-128A40E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0A62-C9CC-41D5-8E5E-89218154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6B9A-0D95-465C-819C-515DE21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631-A067-4BB6-BF67-F88BCBEF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B23F-0E91-4A34-88C5-52EA71B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062-3623-486D-9CF4-D12ED76E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57DA-CF7E-4C38-95B6-92F256AD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7B5E-6162-414E-B3BE-F6279BAA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0F7A-E077-4A24-A249-213FC29B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7C79-368E-4028-9633-3404D2C1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2B44-0FB0-401C-A626-FB2FE10F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B333-E690-4914-93D9-8E1518ED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778B-34AE-4C6B-8A1A-B4CCA396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C72B-2872-4C26-9D64-D9C09C46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9CB-E8FA-4E04-AA46-A909E1CD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EF09-C1F2-40A6-9C94-61EC7B5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631C-9A0C-42B1-B465-E439B9B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3CDD-A939-4B22-8387-31BAC9FB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DA95-F290-490E-A6BE-96791513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2F44-DCA5-4682-A138-2BB051EE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11CB-8BAD-44CD-9550-66D58DBA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E666D-DB77-49CE-A354-22A3BFB2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46F4-0AD4-414C-860E-C7232FB7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DBB4-34FA-4534-922A-8FCB011C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0C39-DBDF-4146-B688-9B9EE64D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352-A981-4319-A893-EE37B976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5398-D3E1-4B19-8DC8-F24F441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91B5-B642-474F-8495-5707DBEB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65A4-2B18-44B9-9E14-DCD508BD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9E31-D34F-4E5C-9878-6A388E25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956C-0941-4C98-8225-23920C4C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6675-BBF2-4E5C-B32D-57BACB40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A5EEC-0027-4FED-B1B7-31AB3148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CAC55-780F-4F23-A925-9053C5CD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8A52B-2ED2-4EC2-8F22-CCD0D73D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600-5046-40C8-B04A-5408D642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3D9-6B0F-417E-AADE-70D207AF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532-B76B-4AE0-BF2F-601F51F2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AD3-719B-4490-8B0E-0324A27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CA5-5F5B-4426-A3B7-0230AB7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f8d8c">
                  <a:alpha val="45098"/>
                </a:srgbClr>
              </a:gs>
              <a:gs pos="100000">
                <a:srgbClr val="d8ce4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9e42">
                  <a:alpha val="45098"/>
                </a:srgbClr>
              </a:gs>
              <a:gs pos="100000">
                <a:srgbClr val="83ada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9a57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eb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cb6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a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f2b2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f2b2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6259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62594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62594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5148-C0DC-48E9-B456-1F2D0DF064C7}" type="slidenum">
              <a:rPr b="0" lang="hr-HR" sz="1200" spc="-1" strike="noStrike">
                <a:solidFill>
                  <a:srgbClr val="6259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f8d8c">
                  <a:alpha val="45098"/>
                </a:srgbClr>
              </a:gs>
              <a:gs pos="100000">
                <a:srgbClr val="d8ce4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9e42">
                  <a:alpha val="45098"/>
                </a:srgbClr>
              </a:gs>
              <a:gs pos="100000">
                <a:srgbClr val="83ada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cb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fdcb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9a57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eb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cb6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a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5d2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5d2a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5d2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9244-5C5A-43E4-933E-E5BA82F2D94E}" type="slidenum">
              <a:rPr b="0" lang="hr-HR" sz="1200" spc="-1" strike="noStrike">
                <a:solidFill>
                  <a:srgbClr val="d5d2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f8d8c">
                  <a:alpha val="45098"/>
                </a:srgbClr>
              </a:gs>
              <a:gs pos="100000">
                <a:srgbClr val="d8ce4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9e42">
                  <a:alpha val="45098"/>
                </a:srgbClr>
              </a:gs>
              <a:gs pos="100000">
                <a:srgbClr val="83ada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cb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fdcb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9a57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eb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cb6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a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5d2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5d2a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5d2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BE1F-9F4C-47EB-AA15-A5585E8998FE}" type="slidenum">
              <a:rPr b="0" lang="hr-HR" sz="1200" spc="-1" strike="noStrike">
                <a:solidFill>
                  <a:srgbClr val="d5d2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f8d8c">
                  <a:alpha val="45098"/>
                </a:srgbClr>
              </a:gs>
              <a:gs pos="100000">
                <a:srgbClr val="d8ce4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9e42">
                  <a:alpha val="45098"/>
                </a:srgbClr>
              </a:gs>
              <a:gs pos="100000">
                <a:srgbClr val="83ada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9a57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eb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cb6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a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f2b2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f2b2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6259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62594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62594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C684-1DA4-4A57-9201-C6B4525BCFCD}" type="slidenum">
              <a:rPr b="0" lang="hr-HR" sz="1200" spc="-1" strike="noStrike">
                <a:solidFill>
                  <a:srgbClr val="6259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291960" y="1371600"/>
            <a:ext cx="8650440" cy="2120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940000" y="5013000"/>
            <a:ext cx="2592360" cy="1127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Željka Zorić, prof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PMF, Spli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Bloom-ova taksonomija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kvalitativno strukturira različite vrste mišljen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tri domene intelektualnog ponašan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kognitivna (znanje i razumijevanje)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afektivna (stavovi i uvjerenja)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psihomotorička (vještine i umijeća)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hijerarhijska struktur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aktivni glagoli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226200" y="3429000"/>
            <a:ext cx="22795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75e47"/>
                </a:solidFill>
                <a:latin typeface="Calibri"/>
              </a:rPr>
              <a:t>Kognitivna domena </a:t>
            </a:r>
            <a:br>
              <a:rPr sz="4500"/>
            </a:br>
            <a:endParaRPr b="0" lang="en-US" sz="4500" spc="-1" strike="noStrike">
              <a:solidFill>
                <a:srgbClr val="675e47"/>
              </a:solidFill>
              <a:latin typeface="Calibri"/>
            </a:endParaRPr>
          </a:p>
        </p:txBody>
      </p:sp>
      <p:pic>
        <p:nvPicPr>
          <p:cNvPr id="220" name="Content Placeholder 4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7137360" cy="33019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3419640" y="5864400"/>
            <a:ext cx="53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2f2b20"/>
                </a:solidFill>
                <a:latin typeface="Calibri"/>
              </a:rPr>
              <a:t>(Anderson i Krathwohl, 2001.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Kognitivna domena </a:t>
            </a:r>
            <a:r>
              <a:rPr b="0" i="1" lang="hr-HR" sz="2800" spc="-1" strike="noStrike">
                <a:solidFill>
                  <a:srgbClr val="675e47"/>
                </a:solidFill>
                <a:latin typeface="Calibri"/>
              </a:rPr>
              <a:t>(Anderson i Krathwohl, 2001.)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44360" y="907920"/>
          <a:ext cx="8855280" cy="5781960"/>
        </p:xfrm>
        <a:graphic>
          <a:graphicData uri="http://schemas.openxmlformats.org/drawingml/2006/table">
            <a:tbl>
              <a:tblPr/>
              <a:tblGrid>
                <a:gridCol w="4283280"/>
                <a:gridCol w="4572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azin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ipični aktivni glagol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2916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ZAPAMTIT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ci mogu reproducirati ili prepoznati informacije, ideje, koncepte i principe u obliku sličnom onome u kojem su ih učil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finirati, opisati, identificirati, prepoznati, označiti, nabrojati, povezati, imenovati, ponoviti, reproducirati, izreći, odabrati, navesti, iskazati, poredat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RAZUMJE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učenici razumiju i mogu objasniti ili interpretirati informacije zasnovane na prethodno stečenim znanjim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bjasniti, dati primjer, grupirati, pretvoriti, obraniti, razlikovati,  procijeniti, izvesti, zaključiti, predvidjeti, rezimirat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PRIMIJEN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učenici odabiru i upotrebljavaju naučene koncepte, principe, teorije i metode kako bi riješili problem ili zadatak u konkretnoj i novoj situacij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imijeniti, izračunati,  prilagoditi, riješiti, otkriti, demonstrirati,baratati,pripremiti,koristiti, upotrijebiti, proizvesti, povezati, pokazat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ANALIZ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učenici su u stanju raščlaniti materijal na osnovne sastavnice tako da se može razumjeti njegova organizacijska struktur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alizirati, raščlaniti, skicirati, razlikovati, izdvojiti, identificirati, prikazati, ukazati na,  staviti u odnos sa, klasificirati, sort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716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PROCIJEN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čenici imaju sposobnost prosudbe vrijednosti materijala za određenu namjenu, u skladu s odabranim kriterijim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cijeniti, ocijeniti, usporediti, zaključiti, suprotstaviti, kritizirati, opravdati, odabrati, podržati, preporučiti, argument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KRE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čenici su u stanju objediniti (povezati, integrirati) dijelove (rezultate, znanja i vještine) u novu funkcionalnu cjelinu ili strukturu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vezati, integrirati, kreirati, razviti, kombinirati, prikupiti, dizajnirati, generirati, modificirati, organizirati, planirati, preurediti, napisati, konstruirati, revidirati, rekonstru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Afektivna domena </a:t>
            </a:r>
            <a:r>
              <a:rPr b="0" i="1" lang="hr-HR" sz="2800" spc="-1" strike="noStrike">
                <a:solidFill>
                  <a:srgbClr val="675e47"/>
                </a:solidFill>
                <a:latin typeface="Calibri"/>
              </a:rPr>
              <a:t>(Krathwohl i suradnici, 1964.)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1125360"/>
          <a:ext cx="8856720" cy="5529600"/>
        </p:xfrm>
        <a:graphic>
          <a:graphicData uri="http://schemas.openxmlformats.org/drawingml/2006/table">
            <a:tbl>
              <a:tblPr/>
              <a:tblGrid>
                <a:gridCol w="4283280"/>
                <a:gridCol w="45734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azina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ipični aktivni glagol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68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RIHVAĆANJE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ci svjesno i pažljivo prate i žele ču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itati, izabrati, opisati, dati, držati, identificirati, smjestiti, imenovati, ukazati, izabrati, odgovoriti, koristiti, slijediti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75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REAGIRANJE / ODGOVARANJE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ci aktivno sudjeluju, pažljivo prate i reagiraju, motivirani su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odgovoriti, pomoći, sastaviti, prilagoditi se, raspraviti, pozdraviti, označiti, izvesti, prakticirati, predstaviti, čitati, izvijestiti, izdvojiti, reći, napisati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21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SVAJANJE VRIJEDNOS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ci poštuju ili vrednuju osobu vezanu s određenim objektom, događajem ili ponašanjem, u rasponu od prihvaćanja do složenijeg stanja posvećivanja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dovršiti, opisati, razlikovati, objasniti, slijediti, oblikovati, inicirati, pozvati, uključiti, opravdati, prosuditi, predložiti, izvijestiti, odabrati, podijeliti, proučiti, izraditi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441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ORGANIZIRANJE VRIJEDNOS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organizira vrijednosti po prioritetima proučavanjem kontrasta među različitim vrijednostima, rješavajući konflikt među njima; stvara jedinstveni sustav vrijednosti; naglasak je na usporedbi, proučavanju odnosa i sintezi vrijednos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slijediti, prihvatiti, mijenjati, urediti, kombinirati, usporediti, dopuniti, obraniti, objasniti, generalizirati,  identificirati, integrirati, modificirati, organizirati,  pripremiti, sintetizirati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SVAJANJE SUSTAVA VRIJEDNOSTI / INTEGRITET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posjeduje sustav vrijednosti koji kontrolira njegovo ponašanje (karakter) i predstavlja njegovu osobnost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djelovati, razlikovati, prikazati, utjecati, slušati, modificirati, prilagoditi, izvesti, primijeniti, predložiti, kvalificirati, ispitati, revidirati, poslužiti, riješiti, koristiti, vrednova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Psihomotorička domena </a:t>
            </a:r>
            <a:r>
              <a:rPr b="0" i="1" lang="hr-HR" sz="2800" spc="-1" strike="noStrike">
                <a:solidFill>
                  <a:srgbClr val="675e47"/>
                </a:solidFill>
                <a:latin typeface="Calibri"/>
              </a:rPr>
              <a:t>(Simpson, 1972.)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44360" y="981000"/>
          <a:ext cx="8855280" cy="5565960"/>
        </p:xfrm>
        <a:graphic>
          <a:graphicData uri="http://schemas.openxmlformats.org/drawingml/2006/table">
            <a:tbl>
              <a:tblPr/>
              <a:tblGrid>
                <a:gridCol w="4283280"/>
                <a:gridCol w="4572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azin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ipični aktivni glagol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ERCEPCIJA / MOĆ ZAPAŽANJ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upotrebljava osjetila kao vodstvo u motoričkim aktivnostim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izabrati, prepoznati, uočiti, izdvojiti, povezati, čuti, slušati, primijetiti, prepoznati, vidjeti, osjetiti, namirisati, okusiti, gledati, prat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SPREMNOS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je mentalno, emotivno i fizički spreman za aktivnos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očeti, objasniti, pokrenuti, nastaviti, reagirati, odgovor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VOĐENI RAZGOVOR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oponaša i razvija vještine (vježba), često diskretnim koracim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oponašati, kopirati, duplicirati, udvojiti, baratati uz vodstvo, izvršiti uz nadzor, vježbati, pokušati, ponoviti, prirediti, rastaviti, razdvojiti, sastav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AUTOMATIZIRANI ODGOVOR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s povećanom efikasnošću, sigurnošću i okretnošću izvršava radnj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izvesti, konstruirati, podići, provesti, voditi, izvršiti, ubrzati, proizves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73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SLOŽENA OPERACIJA (AUTOMATIZACIJA)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automatizirano izvršava radnj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opraviti, izgraditi, upravljati, demonstrirati, kontrolirati, upravljati, voditi, održavati efikasnost, ovlad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RILAGODB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prilagođava vještine problemskoj situacij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rilagoditi, uskladiti, preokrenuti, revidirati reorganizirati, promijen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ORGANIZACIJA / STVARANJ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stvara nove obrasce za posebne situacije ili slučajev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izgraditi, konstruirati, urediti, sastaviti, izumiti, konstruirati, dizajnirati, kombinirati, inov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Kako formulirati ishode učenja </a:t>
            </a:r>
            <a:br>
              <a:rPr sz="3600"/>
            </a:b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Preporuke...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učeničke aktivnosti izričemo aktivnim glagolim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zbjegavati neprecizne glagol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258920" y="2924280"/>
          <a:ext cx="6624720" cy="2879640"/>
        </p:xfrm>
        <a:graphic>
          <a:graphicData uri="http://schemas.openxmlformats.org/drawingml/2006/table">
            <a:tbl>
              <a:tblPr/>
              <a:tblGrid>
                <a:gridCol w="3313080"/>
                <a:gridCol w="3311640"/>
              </a:tblGrid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Aktivni glagoli (ishodi)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eprecizni glagoli (ciljevi)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analizir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pis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prav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zlikov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argumentir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n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zumje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cijen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pamt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pozn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uč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svijest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Kako formulirati ishode učenja? </a:t>
            </a:r>
            <a:br>
              <a:rPr sz="3600"/>
            </a:b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Preporuke...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15640" y="1507680"/>
            <a:ext cx="87138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učeničke aktivnosti izričemo aktivnim glagolim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zbjegavati neprecizne glagol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shode uvijek započeti sa "Učenici će...."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odabrati između 4 – 8 ishoda za pojedinu jedinicu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fokusirati se na bitno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zbjegavati složene jezične konstrukcij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zbjegavati kompariranje više / manj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719280" y="5877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340000" y="516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4211640" y="5826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6084720" y="515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66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Kreiranje testa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dealno vrijeme – planiranje nastav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trebamo identificirati :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osnovne činjenice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sposobnosti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koncepte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artikulacija ishod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Što će moji učenici znati?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Što će moji učenici moći napraviti?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Što je to dobro sastavljen test?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500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2f2b20"/>
                </a:solidFill>
                <a:latin typeface="Constantia"/>
              </a:rPr>
              <a:t>pouzdan</a:t>
            </a:r>
            <a:r>
              <a:rPr b="0" lang="hr-HR" sz="3600" spc="-1" strike="noStrike">
                <a:solidFill>
                  <a:srgbClr val="2f2b2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– rezultati konzistentni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2f2b20"/>
                </a:solidFill>
                <a:latin typeface="Constantia"/>
              </a:rPr>
              <a:t>valjan</a:t>
            </a:r>
            <a:r>
              <a:rPr b="0" lang="hr-HR" sz="3600" spc="-1" strike="noStrike">
                <a:solidFill>
                  <a:srgbClr val="2f2b2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– provjerava ono što bi i trebao provjeravati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2f2b20"/>
                </a:solidFill>
                <a:latin typeface="Constantia"/>
              </a:rPr>
              <a:t>pošten</a:t>
            </a:r>
            <a:r>
              <a:rPr b="0" lang="hr-HR" sz="3600" spc="-1" strike="noStrike">
                <a:solidFill>
                  <a:srgbClr val="2f2b2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– provjerava učenicima poznato gradivo, napisan je učenicima poznatim jezikom, bez dvosmislenosti, bez igri riječima i bez dodavanja nepotrebnih informaci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rcRect l="17320" t="21106" r="9249" b="20128"/>
          <a:stretch/>
        </p:blipFill>
        <p:spPr>
          <a:xfrm>
            <a:off x="1104840" y="5646600"/>
            <a:ext cx="1930320" cy="563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3"/>
          <a:srcRect l="23795" t="16554" r="11329" b="26787"/>
          <a:stretch/>
        </p:blipFill>
        <p:spPr>
          <a:xfrm>
            <a:off x="4421160" y="6059520"/>
            <a:ext cx="1357200" cy="542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rcRect l="20571" t="15350" r="7901" b="20617"/>
          <a:stretch/>
        </p:blipFill>
        <p:spPr>
          <a:xfrm>
            <a:off x="6470640" y="5315040"/>
            <a:ext cx="158760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75e47"/>
                </a:solidFill>
                <a:latin typeface="Calibri"/>
              </a:rPr>
              <a:t>Čestice testa (zadaci)</a:t>
            </a:r>
            <a:endParaRPr b="0" lang="en-US" sz="45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550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slobodni esej, činjenični esej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pitanja s kratkim odgovorima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čestice nadopunjavanja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čestice višestrukog izbora (s jednim ili više točnih odgovora)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čestice ili tvrdnje koje treba upariti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nepotpune rečenice ili neopotpuni dijagrami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točno/netočno tvrdnje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pitanja otvorenog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pitanja zatvorenog tipa.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47" name="TextBox 3"/>
          <p:cNvSpPr/>
          <p:nvPr/>
        </p:nvSpPr>
        <p:spPr>
          <a:xfrm rot="20034600">
            <a:off x="5590080" y="51274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2f2b20"/>
                </a:solidFill>
                <a:latin typeface="Constantia"/>
              </a:rPr>
              <a:t>Prikupiti što više informacija na najekonomičniji nači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8000" y="1197000"/>
            <a:ext cx="86342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„</a:t>
            </a: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Većina učitelja trati vrijeme postavljajući pitanja s namjerom da otkrije što učenik ne zna,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dok je pravo umijeće ispitivanja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otkriti što učenik zna ili je sposoban saznati.“</a:t>
            </a: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Albert Einstein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2276640" y="3357720"/>
            <a:ext cx="2863800" cy="27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Koliko težak treba biti test?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testom želimo provjeriti jesu li učenici naučili gradivo ili n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balansiranje nastavnik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etežak – obeshrabrenje, demotivaci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elagan – nerelevantni rezultati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ipaziti na bodovanj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vrijeme potrebno za rješavanje test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broj, složenost i povezanost zadatak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usklađenost bodovanja kod ispravljan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32511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I za kraj...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pic>
        <p:nvPicPr>
          <p:cNvPr id="251" name="Content Placeholder 3" descr=""/>
          <p:cNvPicPr/>
          <p:nvPr/>
        </p:nvPicPr>
        <p:blipFill>
          <a:blip r:embed="rId2"/>
          <a:stretch/>
        </p:blipFill>
        <p:spPr>
          <a:xfrm>
            <a:off x="906480" y="1628640"/>
            <a:ext cx="6892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05916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7. razred, Linearna funkcija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50920" y="636480"/>
          <a:ext cx="8713800" cy="6240600"/>
        </p:xfrm>
        <a:graphic>
          <a:graphicData uri="http://schemas.openxmlformats.org/drawingml/2006/table">
            <a:tbl>
              <a:tblPr/>
              <a:tblGrid>
                <a:gridCol w="1373040"/>
                <a:gridCol w="2438280"/>
                <a:gridCol w="490248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Linearna funkcija 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linearna funkcija, vrijednost funkcije, pravilo linerane funkcije, argument, parametri linearne funkcije, zavisna i nezavisna varijabl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poznati linearnu funkcij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pisati linearnu funkciju zadanu parametrima i tablično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vrijednost linearne funkcije za zadani argumen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argument funkcije ako je zadana njezina vrijednos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91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linearne funkcije, jednadžba pravca  (5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linearne funkcije, eksplicitni i implicitni oblik jednadžbe pravca, nagib pravca, nultočka linearne funkcije, sjecište s osi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x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 , odsječak na osi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linearne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pravca funkcije prikazane grafom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đivati pripadnost zadane točke grafu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čitavati vrijednosti funkcije s graf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očiti prednosti određenog oblika jednadžbe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nul-točku i odsječak zadane linearne funkcije – računski i grafičk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žbu pravca zadanog točkom i koeficijentom smjer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pravca zadanog dvjema točka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6058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7. razred, Linearna funkcija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052640"/>
          <a:ext cx="8229600" cy="4297320"/>
        </p:xfrm>
        <a:graphic>
          <a:graphicData uri="http://schemas.openxmlformats.org/drawingml/2006/table">
            <a:tbl>
              <a:tblPr/>
              <a:tblGrid>
                <a:gridCol w="1676520"/>
                <a:gridCol w="2592360"/>
                <a:gridCol w="39607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39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Tok linearne funkcije (1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koeficijent smjera, rastuća i padajuća funkcija, brzina rasta – pada, konstantna funkci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eometrijski interpretirati utjecaj parametara na tok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39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ni i okomiti pravc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ni i okomiti pravc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međusobni odnos dva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 poznatih uvijeta odrediti jednadžbu usporednog ili okomitog pravca na zadani pravac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ičko rješavanje sustava linearnih jednadžb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sjek pravaca, sjecište, koordinate sjecišta, grafički prikaz sustava linearnih jednadžbi, nemoguće rješenje, beskonačno mnogo rješen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ički riješiti sustav linearnih jednadžbi i provjeriti rješenje računsk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ma grafičkom prikazu odrediti vrstu rješenja sustava linearnih jednadžb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56" name="TextBox 3"/>
          <p:cNvSpPr/>
          <p:nvPr/>
        </p:nvSpPr>
        <p:spPr>
          <a:xfrm>
            <a:off x="8101080" y="74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250920" y="1413000"/>
          <a:ext cx="8642160" cy="4767120"/>
        </p:xfrm>
        <a:graphic>
          <a:graphicData uri="http://schemas.openxmlformats.org/drawingml/2006/table">
            <a:tbl>
              <a:tblPr/>
              <a:tblGrid>
                <a:gridCol w="1685880"/>
                <a:gridCol w="1638360"/>
                <a:gridCol w="53179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Višekratnik. Djelitelj (3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višekratnik, djelitelj, biti djeljiv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i objasniti pojam višekratnik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nekoliko višekratnika zada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i objasniti pojam djelitel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jasniti što znači da je broj djeljiv  nekim brojem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djelitelje zada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ovjeriti je li neki broj djelitelj/višekratnik da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67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Svojstva djeljivost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jeljivost zbroja, djeljivost razlike, djeljivost umnošk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pisati, prepoznati i primijeniti svojstva djeljivosti zbroja , razlike, umnoška na zadac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jeljivost s 10, 5, 2, 3 i 9 (3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avila djeljivosti s 10, 5, 2, 3 i 9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skazati, objasniti i primijeniti pravila za djeljivost s 10, 5, 2, 3, 9 (bez dijeljenja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osti i složeni brojev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osti broj, složeni broj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proste brojev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složene brojev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ovjeriti je li broj prost ili slože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sp>
        <p:nvSpPr>
          <p:cNvPr id="258" name="Title 1"/>
          <p:cNvSpPr/>
          <p:nvPr/>
        </p:nvSpPr>
        <p:spPr>
          <a:xfrm>
            <a:off x="179280" y="246240"/>
            <a:ext cx="7705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5. razr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Djeljivost na skupu prirodnih brojeva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50920" y="1413000"/>
          <a:ext cx="8642160" cy="4576680"/>
        </p:xfrm>
        <a:graphic>
          <a:graphicData uri="http://schemas.openxmlformats.org/drawingml/2006/table">
            <a:tbl>
              <a:tblPr/>
              <a:tblGrid>
                <a:gridCol w="1749240"/>
                <a:gridCol w="1851120"/>
                <a:gridCol w="50418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1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stavljanje broja na proste faktore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stav broja na faktore, rastav broja na proste faktor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staviti broj na faktor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staviti broj na proste faktor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jednički djelitelj. Najveći zajednički djelitelj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jednički djelitelj, najveći zajednički djelitelj, relativno prosti broje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, opisati i odrediti zajednički djelitelj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jasniti, simbolički zapisati i odrediti najveći zajednički djelitelj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i provjeriti  jesu li zadani brojevi relativno pros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jednički višekratnik. Najmanji zajednički višekratnik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jednički višekratnik, najmanji zajednički višekratnik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, opisati i odrediti zajednički višekratnik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jasniti, simbolički zapisati i odrediti najmanji zajednički višekratnik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60" name="TextBox 3"/>
          <p:cNvSpPr/>
          <p:nvPr/>
        </p:nvSpPr>
        <p:spPr>
          <a:xfrm>
            <a:off x="7885080" y="26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1" name="Title 1"/>
          <p:cNvSpPr/>
          <p:nvPr/>
        </p:nvSpPr>
        <p:spPr>
          <a:xfrm>
            <a:off x="179280" y="714240"/>
            <a:ext cx="8785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5. razr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Djeljivost na skupu prirodnih brojeva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9280" y="765000"/>
          <a:ext cx="8785440" cy="5418360"/>
        </p:xfrm>
        <a:graphic>
          <a:graphicData uri="http://schemas.openxmlformats.org/drawingml/2006/table">
            <a:tbl>
              <a:tblPr/>
              <a:tblGrid>
                <a:gridCol w="1548000"/>
                <a:gridCol w="1998720"/>
                <a:gridCol w="52387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cionalni brojev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cionalni broj, skup racionalnih brojeva, pozitivni i negativni racionalni brojevi, standardni zapis racional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pisati razlomak u standardnom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tvarati razlomak u decimalni oblik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zlikovati konačne i beskonačne periodičke decimalne brojev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menovati dijelove beskonačnog periodičkog decimalnog broja (cijeli dio, predperiod i period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39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kazivanje racionalnih brojeva na pravcu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brojevni pravac, apsolutna vrijednost racionalnog broja, suprotni broje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kazati racionalni broj na brojevnom pravc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udaljenost racionalnog broja i ishodišta na brojevnom pravc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apsolutnu vrijednost racinal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suprotan broj racionalnom broj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22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đivanje racionalnih brojeva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đivanje pozitivnog i negativnog racionalnog broja, uspoređivanje negativnih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iti racionalne brojeve suprotnih predznaka i simbolički zapisati rezulta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iiti racionalne brojeve istih predznaka i simbolički zapisati rezulta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(racionalni brojevi- standardi oblik, decimalni zapis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05916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6. razred, Racionalni brojevi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79280" y="765000"/>
          <a:ext cx="8785440" cy="5699160"/>
        </p:xfrm>
        <a:graphic>
          <a:graphicData uri="http://schemas.openxmlformats.org/drawingml/2006/table">
            <a:tbl>
              <a:tblPr/>
              <a:tblGrid>
                <a:gridCol w="1548000"/>
                <a:gridCol w="1998720"/>
                <a:gridCol w="52387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251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brajaje i oduzimanje racionalnih brojeva (4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brajanje i oduzimanje racionalnih brojeva, zbroj i razlika racionalnih brojeva, svojstva zbrajanja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brajati/oduzimati racionalne brojeve zapisane u standardnom (decimalnom)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zbroj/razliku racionalnih brojeva u standardnom (decimalnom)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brojati, opisati i primijeniti svojstva zbrajanja racionalnih brojeva na zadatk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67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Množenje racionalnih brojeva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množenje racionalnih brojeva, umnožak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množiti racionalne brojeve zapisane u standardnom (decimalnom)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brojati, opisati i primijeniti svojstva množenja racionalnih brojeva na zadatk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odgovarajuči redosljed računskih operacija u zadac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67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ecipročni brojevi. Dijeljenje racionalnih brojeva (3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ecipročan broj, dijeljenje racionalnih brojeva, količnik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recipročan broj raciponal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jasniti svojstva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ijeliti racionalne brojeve zapisane u standardnom (decimalnom)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odgovarajuči redosljed računskih operacija u zadac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65" name="TextBox 3"/>
          <p:cNvSpPr/>
          <p:nvPr/>
        </p:nvSpPr>
        <p:spPr>
          <a:xfrm>
            <a:off x="7885080" y="26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05916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6. razred, Racionalni brojevi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480" y="1270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75e47"/>
                </a:solidFill>
                <a:latin typeface="Calibri"/>
              </a:rPr>
              <a:t>2. razred (SŠ), Kvadratna jednadžba</a:t>
            </a:r>
            <a:endParaRPr b="0" lang="en-US" sz="44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79280" y="1052640"/>
          <a:ext cx="8785440" cy="5418000"/>
        </p:xfrm>
        <a:graphic>
          <a:graphicData uri="http://schemas.openxmlformats.org/drawingml/2006/table">
            <a:tbl>
              <a:tblPr/>
              <a:tblGrid>
                <a:gridCol w="2086200"/>
                <a:gridCol w="2230200"/>
                <a:gridCol w="446904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22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Kvadratna jednadžb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kvadratna jednadžba, vodeći koeficijent, slovodni koeficijent, čista kvadratna jednadžba, prikračena kvadratna jednadžba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poznati kvardatnu jednadžb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koeficijent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ješavati čist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ješavati prikračen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ješavati kvadratne jednadžbe rastavljanjem na faktor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63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ješenj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svođenje na potpuni kvadrat, normirani oblik, rješenja kvadratne jednadžbe, problemi drugog stupn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, prepoznati i odrediti  normirani oblk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jasniti princip svođenja na potpuni kvadrat pri rješavanju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vesti i primijeniti formulu za rješavanj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ovjeriti je li dani broj rješenj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transformirati i riješiti zadanu jednadžbu u obliku kvadratne jednadžbe 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tekstualni zadatak prikazati i riješiti pomoću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480" y="1270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75e47"/>
                </a:solidFill>
                <a:latin typeface="Calibri"/>
              </a:rPr>
              <a:t>2. razred (SŠ), Kvadratna jednadžba</a:t>
            </a:r>
            <a:endParaRPr b="0" lang="en-US" sz="44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79280" y="1052640"/>
          <a:ext cx="8785440" cy="5699160"/>
        </p:xfrm>
        <a:graphic>
          <a:graphicData uri="http://schemas.openxmlformats.org/drawingml/2006/table">
            <a:tbl>
              <a:tblPr/>
              <a:tblGrid>
                <a:gridCol w="1800360"/>
                <a:gridCol w="2160720"/>
                <a:gridCol w="482436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39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iskriminant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iskriminanta kvadratne jednadžbe, priroda rješenj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diskriminantu i opisati prirodu rješenj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 prirode rješenja kvadratne jednadžbe procijeniti i donijeti zaključke o diskriminan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07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Vieteove formul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Vieteove formule,  zbroj i umnožak rješenja kvadratne jednadžbe, faktorizacija kvadratnog trino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, opisati i računati  Vieteove formul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Vieteove formule na računanje složenijih algebarskih izraza sa rješenj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Vieteove formule za određivanje kvadratne jednadžbe kojoj su zadana rješenja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Vieteove formule za određivanje rješenj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Vieteove formule na faktorizaciju kvadratnog trino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Jednadžbe koje se svode na kvadratn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metoda supstitucije, bikvadratna jednadžba, sustav linearne i kvadratne jednadžbe, iracional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poznati i metodom supstitucije riješiti bikvadratnu jednadžb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ješiti sustav linearne i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iješiti iracionalnu jednadžbu i argumentirati njena rješen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71" name="TextBox 3"/>
          <p:cNvSpPr/>
          <p:nvPr/>
        </p:nvSpPr>
        <p:spPr>
          <a:xfrm>
            <a:off x="8172360" y="61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75e47"/>
                </a:solidFill>
                <a:latin typeface="Calibri"/>
              </a:rPr>
              <a:t>Vrednovanje postignuća učenika</a:t>
            </a:r>
            <a:endParaRPr b="0" lang="en-US" sz="45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razlike među pojmovim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ciljevi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ishodi učenja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kompetencije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oces određivanja ishoda učen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imjeri ishoda učenja na gradivu osnovne škol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objektivno provjeravanje i vrednovanje ishod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9120" y="2757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75e47"/>
                </a:solidFill>
                <a:latin typeface="Calibri"/>
              </a:rPr>
              <a:t>1. razred (SŠ), Linearna funkcija</a:t>
            </a:r>
            <a:endParaRPr b="0" lang="en-US" sz="44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16000" y="1197000"/>
          <a:ext cx="8712000" cy="5048280"/>
        </p:xfrm>
        <a:graphic>
          <a:graphicData uri="http://schemas.openxmlformats.org/drawingml/2006/table">
            <a:tbl>
              <a:tblPr/>
              <a:tblGrid>
                <a:gridCol w="2465280"/>
                <a:gridCol w="2465280"/>
                <a:gridCol w="3781440"/>
              </a:tblGrid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958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Linearna funkci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linearna funkcija, vrijednost funkcije, pravilo linerane funkcije, argument, parametri linearne funkcije, zavisna i nezavisna varijabl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poznati linearnu funkcij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pisati linearnu funkciju zadanu parametrima i tablično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vrijednost linearne funkcije za zadani argumen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argument funkcije ako je zadana njezina vrijednos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35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linearne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linearne funkcije, nagib pravca, nultočka linearne funkcije, sjecište s osi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x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 , odsječak na osi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y,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 rastuća i padajuća funkcija, brzina rasta – pada, konstantna funkci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linearne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funkcije prikazane grafom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đivati pripadnost zadane točke grafu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čitavati vrijednosti funkcije s graf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nul-točku i odsječak zadane linearne funkcije – računski i grafičk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eometrijski interpretirati utjecaj parametara na tok funkcije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921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75e47"/>
                </a:solidFill>
                <a:latin typeface="Calibri"/>
              </a:rPr>
              <a:t>1. razred (SŠ), Linearna funkcija</a:t>
            </a:r>
            <a:endParaRPr b="0" lang="en-US" sz="44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16000" y="836640"/>
          <a:ext cx="8712000" cy="5889600"/>
        </p:xfrm>
        <a:graphic>
          <a:graphicData uri="http://schemas.openxmlformats.org/drawingml/2006/table">
            <a:tbl>
              <a:tblPr/>
              <a:tblGrid>
                <a:gridCol w="1871640"/>
                <a:gridCol w="2305080"/>
                <a:gridCol w="4535280"/>
              </a:tblGrid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3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lici jednadžbe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eksplicitni, implicitni i segmentni  oblik jednadžbe pravca, koeficijent smjera, segmenti na koordinatnim osima, usporedni i okomiti pravci,  presjek pravaca, sjecište, koordinate sjecišt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očiti prednosti određenog oblika jednadžbe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površinu trokuta što ga pravac zatvara s koordinatnim os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žbu pravca zadanog točkom i koeficijentom smjer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pravca zadanog dvjema točka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sjecište pravaca – računask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međusobni odnos dva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 poznatih uvijeta odrediti jednadžbu usporednog ili okomitog pravca na zadani pravac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2238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ovi nekih funkci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razlomljene funkcije, graf funkcije modul od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funkcije modul od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razlomljene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ove funkcija s modul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funkcije s modulima koristeći se svojstvima modula (brzo crtanje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sa grafa očitati najmanju i/ili najveću vrijednost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3"/>
          <p:cNvSpPr/>
          <p:nvPr/>
        </p:nvSpPr>
        <p:spPr>
          <a:xfrm>
            <a:off x="7885080" y="26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2"/>
          <a:stretch/>
        </p:blipFill>
        <p:spPr>
          <a:xfrm>
            <a:off x="682560" y="2639880"/>
            <a:ext cx="8229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Ciljevi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objectiv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Ciljevi nastave matematike u gimnaziji su: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stjecanje temeljnih matematičkih znanja nužnih za nastavak daljnje izobrazbe, praćenje suvremenoga društveno-gospodarskog i znanstveno-tehnološkog razvoja i buduće djelatnosti,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razvijanje logičkoga mišljenja i zaključivanja, matematičke intuicije, mašte i stvaralaštva,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stjecanje navika i umijeća, kao što su sistematičnost, ustrajnost, preciznost i postupnost,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usvajanje metoda matematičkog mišljenja koje se očituje u preciznom formuliranju pojmova i algoritamskom rješavanju problema,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stjecanje sposobnosti matematičkoga oblikovanja i predočavanja problema na znakovima i jeziku matematike, naglašeno u grafičkom smislu.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2f2b20"/>
                </a:solidFill>
                <a:latin typeface="Constantia"/>
              </a:rPr>
              <a:t>(</a:t>
            </a:r>
            <a:r>
              <a:rPr b="0" i="1" lang="hr-HR" sz="1900" spc="-1" strike="noStrike">
                <a:solidFill>
                  <a:srgbClr val="2f2b20"/>
                </a:solidFill>
                <a:latin typeface="Constantia"/>
              </a:rPr>
              <a:t>nastavni programi za gimnazije , Glasnik Ministarstva kulture i prosvjete, 1994.)</a:t>
            </a:r>
            <a:endParaRPr b="0" lang="en-US" sz="19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Ciljevi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objectiv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600200"/>
            <a:ext cx="45370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Cilj nastave matematike je stjecanje temeljnih matematičkih znanja potrebnih za razumijevanje pojava i zakonitosti u prirodi i društvu, stjecanje osnovne matematičke pismenosti i razvijanje sposobnosti i umijeća rješavanja matematičkih problema. 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2f2b20"/>
                </a:solidFill>
                <a:latin typeface="Constantia"/>
              </a:rPr>
              <a:t>(HNOS, 2006.)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148000" y="1915920"/>
            <a:ext cx="388764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Cilj označava očekivano, zamišljeno, buduće stanje koje želimo postići određenim aktivnostima i sredstvima (sadržajima).  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06" name="Content Placeholder 4"/>
          <p:cNvSpPr/>
          <p:nvPr/>
        </p:nvSpPr>
        <p:spPr>
          <a:xfrm>
            <a:off x="539640" y="544500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2f2b20"/>
                </a:solidFill>
                <a:latin typeface="Constantia"/>
              </a:rPr>
              <a:t>Ciljevi učenja određuju što bi nastavnik htio da učenik nauči i razumije</a:t>
            </a:r>
            <a:r>
              <a:rPr b="0" lang="hr-HR" sz="3200" spc="-1" strike="noStrike">
                <a:solidFill>
                  <a:srgbClr val="2f2b20"/>
                </a:solidFill>
                <a:latin typeface="Constantia"/>
              </a:rPr>
              <a:t>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75e47"/>
                </a:solidFill>
                <a:latin typeface="Calibri"/>
              </a:rPr>
              <a:t>Ishodi učenja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learning outcom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0560" y="162864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Ishodi učenja su tvrdnje kojima se izražava što učenik treba znati, razumjeti, što učenik može napraviti ili vrednovati kao rezultat procesa učenja.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formulira nastavnik, odnose se na učenika 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nastavnik – definira što se od učenika očekuje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učenik – zna što se od njega očekuje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	</a:t>
            </a: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      – </a:t>
            </a: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olakšan proces učenja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Kompetencije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competenc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0920" y="1483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"Kompetencija ili skup kompetencija znači da osoba upotrebljava određenu sposobnost ili vještinu za obavljanje zadatka na takav način koji dopušta procjenu njegove ili njezine razine postignuća. 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Kompetencije se mogu utvrđivati i razvijati. 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b20"/>
                </a:solidFill>
                <a:latin typeface="Constantia"/>
              </a:rPr>
              <a:t>To znači da osoba ne posjeduju kompetencije u apsolutnom smislu, več u određ</a:t>
            </a: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enom stupnju koji se može smjestiti na kontinuumu razvijenosti, te razvijati vježbom i obrazovanjem" </a:t>
            </a:r>
            <a:br>
              <a:rPr sz="2800"/>
            </a:b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2f2b20"/>
                </a:solidFill>
                <a:latin typeface="Constantia"/>
              </a:rPr>
              <a:t>(Tuning, 2006., 1).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Kompetencije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competenc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Kompetencije podrazumijevaju znanja, vještine i stavove pomoću kojih je pojedinac osposobljen za izvršavanje određenog posla.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shodi učenja su opisi kompetenci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vrednovanje je utvrđivanje jesu li ishodi učenja ostvareni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ocjenjivanje vrednovanje kvalitete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U moje vrijeme ...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457200" y="1557360"/>
            <a:ext cx="8229600" cy="34876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900000" y="5589720"/>
            <a:ext cx="73440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2b20"/>
                </a:solidFill>
                <a:latin typeface="Calibri"/>
              </a:rPr>
              <a:t>Suvremen pristup – ishodi učenja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21:46:05Z</dcterms:created>
  <dc:creator>Denis</dc:creator>
  <dc:description/>
  <dc:language>en-US</dc:language>
  <cp:lastModifiedBy>nlesar</cp:lastModifiedBy>
  <cp:lastPrinted>2012-01-08T20:39:59Z</cp:lastPrinted>
  <dcterms:modified xsi:type="dcterms:W3CDTF">2012-01-23T07:40:23Z</dcterms:modified>
  <cp:revision>42</cp:revision>
  <dc:subject/>
  <dc:title>PowerPoint Presentation</dc:title>
</cp:coreProperties>
</file>