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F9A-64D0-40ED-BA94-73769B2133B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282-3B54-436A-B315-3D5EBC28267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BE3-2CC9-470A-9E9A-B7419E3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812-2CE8-4BB2-BE51-9F86D15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953-AF80-4272-A705-678AA9C4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236-17AB-416A-9A54-C1C07F80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9BC-3DAC-43D2-B1F3-88A077E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3CC-DE72-4F25-93D2-6512EAF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F6C-5293-4F82-AF35-E6CD85AC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771-4A3F-4655-A049-9F6D80A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AFA-4A9B-42E5-A97D-ECC92EC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4A7-A8A4-4A97-8EEB-FE5A283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D0D-45B4-41C2-8EAE-EA1BEF7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FBA-5D83-42F8-B77F-AFF125B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71D-ABC5-4E8A-B1CA-3FE87FFD831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8569080" cy="29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VREDNOVANJE POSTIGNUĆA UČENIKA S TEŠKOĆ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95280" y="4495680"/>
          <a:ext cx="23464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95680"/>
                    <a:ext cx="23464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3780000" y="189000"/>
          <a:ext cx="1676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89000"/>
                    <a:ext cx="1676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3276720" y="5445000"/>
            <a:ext cx="55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Elvira Nimac, prof. psiholog</a:t>
            </a:r>
            <a:br>
              <a:rPr sz="2800"/>
            </a:b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OŠ dr. Ante Starčevića, Zagr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9"/>
              </a:spcBef>
              <a:spcAft>
                <a:spcPts val="30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akog učenik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raditi individualizirani odgojno obrazovni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astavni dio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laniranje načina za vrednov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stignu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icijalne provjer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ajmanje 3 tjedna, opisna ocjen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učeni sadržaj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ključni pojmov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ina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posobnosti uče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što učenik </a:t>
            </a:r>
            <a:r>
              <a:rPr b="0" i="1" lang="hr-HR" sz="2200" spc="-1" strike="noStrike" u="sng">
                <a:solidFill>
                  <a:srgbClr val="000000"/>
                </a:solidFill>
                <a:uFillTx/>
                <a:latin typeface="Times New Roman"/>
              </a:rPr>
              <a:t>može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nter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tr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0280"/>
            <a:ext cx="79912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ndividualizirani odgojno obrazovni program</a:t>
            </a:r>
            <a:br>
              <a:rPr sz="2800"/>
            </a:b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96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Učenik se otežano snalazi u razumijevanju određenih sadržaja. U radu je nesamostalan i potrebna mu je pomoć vršnjaka i učitelja. Djelomično usvojena temeljna znanj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260280"/>
            <a:ext cx="799128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mjer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upotrebljive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inicijalne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700360" y="2708280"/>
            <a:ext cx="410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št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je neupotrebljiv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3357720"/>
            <a:ext cx="896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Aft>
                <a:spcPts val="20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Nije konkretn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ma opisa usvojenih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adrža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ključnih pojmov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razine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 znamo kakv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konkretna pomoć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u je potreb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39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 znamo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ntere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i jak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trane djet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NE ZNAMO “ODAKLE POČE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o cijele brojev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Kod zadataka s više računskih operacija često griješi u redosljedu računskih operacij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amostalno rješava jednostavnije zadatke s razlomci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oženije zadatke s razlomcima rješava uz individualno vođen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Jednostavnije primjere jednadžbi s jednom nepoznanicom tipa x+a=b rješava uz povremenu pomoć tako da mu se usmjerava pažnja na pogrešno prepisane brojeve ili ispuštene dijelove zadatk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oženije primjere ne uspijeva riješiti jer nije usvojio pravila rješavanj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adi uz česte poticaj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rzo se umara i odustaj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omoć ne traži, ali ju prihvać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ažnja lako otklonjiva a koncentracija kratkotraj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ibor za rad donosi rijetk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Domaću zadaću rijetko rješa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60280"/>
            <a:ext cx="79912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mjer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upotrebljive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inicijalne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ormalne intelektualne sposobnos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D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disleksija, disgraf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emocionalne teškoć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poremećaji u ponašan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oštećenja vida i slu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motorički poremeća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spcAft>
                <a:spcPts val="3025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kronične bol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 postići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sve razi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nja i savladati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sve sadrža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vjet: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“prilagoditi” aktivnost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kruženje)</a:t>
            </a: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je će 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mogućiti korište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mišljenja više r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340000" y="189000"/>
            <a:ext cx="460836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ndividualizirani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480" y="85680"/>
          <a:ext cx="94615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85680"/>
                    <a:ext cx="94615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6360" y="471600"/>
          <a:ext cx="9107640" cy="63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471600"/>
                    <a:ext cx="9107640" cy="63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nižene intelektual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granična, LM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jviša razina zn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 pravil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granič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funkcioniraju na razin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konkretnih operac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m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anjen kapacitet radne memor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efikasno  obrađuju manje količine infor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reb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iše ponavlj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a bi zapamti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avljanje </a:t>
            </a: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nižih cilje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čekuju se niže razine znanj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/i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smanjuje se količi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stavnih sadržaja koje trebaju savladat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i kod djece prosječnih sposobnosti ako su psihomotorno usporen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56000" y="260280"/>
            <a:ext cx="388764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lagođe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0000"/>
                </a:solidFill>
                <a:latin typeface="Times New Roman"/>
              </a:rPr>
              <a:t>Koraci pripreme vrednovanja</a:t>
            </a:r>
            <a:br>
              <a:rPr sz="5400"/>
            </a:br>
            <a:r>
              <a:rPr b="1" i="1" lang="hr-HR" sz="3400" spc="-1" strike="noStrike">
                <a:solidFill>
                  <a:srgbClr val="000000"/>
                </a:solidFill>
                <a:latin typeface="Times New Roman"/>
              </a:rPr>
              <a:t>Nakon inicijalne procje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gnitiv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akademsk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fektiv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stavovi, uvjerenja, sustav vrijednosti, ponašanje)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sihomotorič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0">
              <a:spcAft>
                <a:spcPts val="2750"/>
              </a:spcAft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2750"/>
              </a:spcAft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vnopravna, jednakovrijed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95280" y="1628640"/>
            <a:ext cx="3456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Područj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4000" y="620640"/>
            <a:ext cx="842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1) Definiranje općih ciljeva </a:t>
            </a:r>
            <a:r>
              <a:rPr b="0" i="1" lang="hr-HR" sz="2500" spc="-1" strike="noStrike">
                <a:solidFill>
                  <a:srgbClr val="000000"/>
                </a:solidFill>
                <a:latin typeface="Times New Roman"/>
              </a:rPr>
              <a:t>(neakademski i akadem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395280" y="2781360"/>
            <a:ext cx="83534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Akademsk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ti korisne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ne navike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ti prihvatljive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navike ponašanja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Zajedničko svim predmet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iti sposoban za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 u timu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24000" y="620640"/>
            <a:ext cx="842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1) Definiranje općih cilje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9280" y="3213000"/>
            <a:ext cx="482436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40000" y="2997000"/>
            <a:ext cx="63468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Darovi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e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teškoć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4360" y="620640"/>
            <a:ext cx="7920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Times New Roman"/>
              </a:rPr>
              <a:t>Učenici s posebnim obrazovnim potrebama</a:t>
            </a:r>
            <a:br>
              <a:rPr sz="3200"/>
            </a:b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Zakon o odgoju i obrazovanju u osnovnoj i srednjoj školi (čl. 62.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260280"/>
            <a:ext cx="8496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2) Operacionaliziranje ciljeva  </a:t>
            </a:r>
            <a:r>
              <a:rPr b="0" i="1" lang="hr-HR" sz="2500" spc="-1" strike="noStrike">
                <a:solidFill>
                  <a:srgbClr val="000000"/>
                </a:solidFill>
                <a:latin typeface="Times New Roman"/>
              </a:rPr>
              <a:t>definiranje ishoda uč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197000"/>
            <a:ext cx="8675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ne navik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edovito i točno pisati domaće zadać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edovito donositi pribor za r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aditi na postavljenim zadac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iti ustrajan pri rješavanju probl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Sposobnost suradnje</a:t>
            </a: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ušati druge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Uzimati u obzir tuđe prijedlog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Dogovarati se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Argumentirano i asertivno raspravljat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omagati drugima u slučaju potreb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euzimati odgovornost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za vlastite postupke i rezultate svoga ra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Navike ponašanja</a:t>
            </a: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idržavati se pravila kućnog re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 poštovanjem se ponašati prema drugim ljud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79280" y="1700280"/>
            <a:ext cx="8964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39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čekuju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emelj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š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ao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 ostalih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398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njih se definir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cljev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398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način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vrednuje njihova ostvar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26920" y="620640"/>
            <a:ext cx="734544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oje ciljeve definirati na afektivnom područj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4292640"/>
            <a:ext cx="777744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eća teškoć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naglasak n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odgojnoj kompon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labom ocjenom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ankcioni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našanje ko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može kontroli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manifestacija poremećaj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likovati „namjerna“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našanja od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“nenamjernih”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biljež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ja dijet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meta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 funkcioniranj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vrpoljenje, nepažljivost, zaboravnost, nestrpljivost (ADH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epažljivost i zaboravnost učenika s emocionalnim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pokazu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štov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rema drugim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a poticaj korigira ponašanje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vlj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„loših“ ponašanj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sankcionir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a učenik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dučava kontroliranj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metajuće osob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našanja koja učenik može kontrolira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miju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ravdav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jegovim poremećajem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pr. omalovažavanje i vrijeđanje drugih osoba od učenika s ADHD-om, agresivno ponašanje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87280" y="189000"/>
            <a:ext cx="691200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Razlikovanje “poremećaja” od “neposluh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cilj školo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prema za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rješavanje životnih problem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ije dovoljno dosjećanje i reprodu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razvijaju š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iri raspon potencij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stavu i provjeru kvalitete ishoda osmisliti tako da i učenici s intelektualnim teškoćama dosegn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are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razin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ostavne primjene</a:t>
            </a: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utinskog proceduralnog znanj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619280" y="476280"/>
            <a:ext cx="5832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Očekivana razina akademskog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01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Mogućnost poticanja kognitivnog razv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ema Piagetovoj teoriji dijet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može ovlad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ek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jmo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ok mu 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iološka zrelost ne dopu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raživanj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z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govarajuće zadatk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jeca mog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ići viš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d očekivanog s obzirom na razvojni stupanj na kojem se nal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žemo ih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“istrenirati” da koriste pojedine operacije mišlje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ako im se d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govarajući zadac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dnostav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život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povezani sa iskustvom, razumljivi, realistič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ako se njihov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zna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gradi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 po kora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že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brzati kognitivni razvo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ećati kapacitet za uče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kon operacionalizac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ciljeva (definiranja </a:t>
            </a: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ishoda uče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ć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načini vrednovan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kovog postignuć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spcAft>
                <a:spcPts val="1375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obi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cjen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visno o zadovoljen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riterijim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kali procj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uz svaku tvrdnj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peracionalizirani cilj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znač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upanj ostvarenosti cil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ubr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9280" y="1484280"/>
            <a:ext cx="878544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3) Određivanje pokazatelja uspješ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2987640" y="404640"/>
            <a:ext cx="338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ocjenj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24000" y="1413000"/>
            <a:ext cx="8820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rebaju 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asn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ciz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 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o za učenike bez teškoća, ali s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ciljev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ndividualno definira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lagođ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metod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provjeravan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čenike upozn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 njim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ravilima, očekivanjima)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eć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bjektivnost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ocjene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asnija komun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u okviru ostvarivih ciljeva postiž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 bolje rezultat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što viša / izvrsnija razina izvedb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8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tjecan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vik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a ono što rad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de kvalite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čel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upci kvalitetnog vredno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oji se odnose 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e učen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0" y="333360"/>
            <a:ext cx="388908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Načelo izvrs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724280"/>
            <a:ext cx="9144000" cy="151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valiteta znanja učenika s teškoćama može biti opisana                       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im ocjenam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d 1 do 5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visno o tom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 kojoj mjer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stvaren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individualno definirani cil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2644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3300"/>
                </a:solidFill>
                <a:latin typeface="Times New Roman"/>
              </a:rPr>
              <a:t>Štetnost poklanjanja dvoj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mozak se obliku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visno o vrsti i količini upora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zahtjev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potica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 okruženja mogu utjecati na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IQ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+/- 20 bodo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spon od 40 bodov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zahtjevn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izazovnija nast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bogati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složeniji mozak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st mozga stimuliraju novi i teži zadac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nezahtjevna nast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dosad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„izležavanje mozga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učenici koji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završe školu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imaju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40% više veza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u mozgu od onih koji su prekinuli školo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64"/>
              </a:spcBef>
              <a:spcAft>
                <a:spcPts val="414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mozgovi onih koji se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provlače kroz razrede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imaju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manje veza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od mozgova onih koji ulažu napor u savladavanje grad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835280" y="260280"/>
            <a:ext cx="5688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za USTRAJNOST u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4360" y="1343160"/>
          <a:ext cx="74898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3160"/>
                    <a:ext cx="7489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4"/>
          <p:cNvSpPr/>
          <p:nvPr/>
        </p:nvSpPr>
        <p:spPr>
          <a:xfrm>
            <a:off x="250920" y="5516640"/>
            <a:ext cx="8893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ADD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ADHD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modificir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riterij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ažnja im povremeno “odluta” i tada ih treba “potaknuti” = usmjeriti pažnj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820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 razvo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 učen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oblemima u ponašan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emocionalnim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vjetovanim odgoj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ocijal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ekonomsk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ultural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zičnim čimbenic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1" i="1" lang="hr-HR" sz="2200" spc="-1" strike="noStrike">
                <a:solidFill>
                  <a:srgbClr val="000000"/>
                </a:solidFill>
                <a:latin typeface="Times New Roman"/>
              </a:rPr>
              <a:t> populac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3-4%</a:t>
            </a:r>
            <a:r>
              <a:rPr b="1" i="1" lang="hr-HR" sz="2200" spc="-1" strike="noStrike">
                <a:solidFill>
                  <a:srgbClr val="000000"/>
                </a:solidFill>
                <a:latin typeface="Times New Roman"/>
              </a:rPr>
              <a:t> učenika je </a:t>
            </a: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usporenog kognitivnog razvo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Times New Roman"/>
              </a:rPr>
              <a:t>Učenici s teškoćama</a:t>
            </a:r>
            <a:br>
              <a:rPr sz="3200"/>
            </a:b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Zakon o odgoju i obrazovanju u osnovnoj i srednjoj školi (čl. 62.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15840" y="1130400"/>
          <a:ext cx="8929800" cy="60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130400"/>
                    <a:ext cx="89298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395280" y="333360"/>
            <a:ext cx="82803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za VLADANJE </a:t>
            </a:r>
            <a:r>
              <a:rPr b="0" i="1" lang="hr-HR" sz="2800" spc="-1" strike="noStrike">
                <a:solidFill>
                  <a:srgbClr val="ff0000"/>
                </a:solidFill>
                <a:latin typeface="Times New Roman"/>
              </a:rPr>
              <a:t>(primjerenost ponaš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611280" y="1989000"/>
          <a:ext cx="8084880" cy="244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08488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3"/>
          <p:cNvSpPr/>
          <p:nvPr/>
        </p:nvSpPr>
        <p:spPr>
          <a:xfrm>
            <a:off x="395280" y="981000"/>
            <a:ext cx="82803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Napomena uz kriterije za ocjenjivanje vlad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395280" y="1197000"/>
          <a:ext cx="82058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058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3"/>
          <p:cNvSpPr/>
          <p:nvPr/>
        </p:nvSpPr>
        <p:spPr>
          <a:xfrm>
            <a:off x="1835280" y="260280"/>
            <a:ext cx="56894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Skala procjene za VLAD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04000" y="162864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740720" y="2133720"/>
            <a:ext cx="56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740720" y="270828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740720" y="3213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7740720" y="378936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732720" y="4437000"/>
            <a:ext cx="56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804000" y="515772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7740720" y="5661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moguću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cizno i poticajno „mjerenje“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stignuća učeni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088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idi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 kojim kompetencijam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 kojoj mjer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reba rad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088"/>
              </a:spcBef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čana ocj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sadrž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aj podat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088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valitativne analiz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„profila postignuća“ može se odred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čana ocj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gruba mjera uspješnos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40000" y="549360"/>
            <a:ext cx="446544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orisnost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skala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395280" y="1197000"/>
          <a:ext cx="82058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058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3"/>
          <p:cNvSpPr/>
          <p:nvPr/>
        </p:nvSpPr>
        <p:spPr>
          <a:xfrm>
            <a:off x="1332000" y="333360"/>
            <a:ext cx="65530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ako biste ocijenili vladanje ovog učen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04000" y="162864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740720" y="2133720"/>
            <a:ext cx="56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740720" y="270828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740720" y="3213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740720" y="378936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732720" y="4437000"/>
            <a:ext cx="56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804000" y="515772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740720" y="5661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227640" y="6165720"/>
            <a:ext cx="201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Uz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324000" y="3068640"/>
            <a:ext cx="5184720" cy="86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395280" y="5516640"/>
            <a:ext cx="5184720" cy="86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468360" y="1989000"/>
            <a:ext cx="5184720" cy="8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oditi raču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tilovima učenja i iskazivanja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posobnostima uč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rakteristikama pojedine grupe teškoć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strategije podrške – prilagodba postupa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64"/>
              </a:spcBef>
              <a:spcAft>
                <a:spcPts val="13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ipremit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nekoliko različitih aktivnos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 provjeru ostvarenosti istih cilje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64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79280" y="549360"/>
            <a:ext cx="821052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4) Odabir aktivnosti za provjeru kvalitete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124000" y="6308640"/>
            <a:ext cx="6769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Snježana Kedačić, učiteljica matematike, OŠ dr. Ante Starčevi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0" y="-528480"/>
          <a:ext cx="9275760" cy="67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28480"/>
                    <a:ext cx="927576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mp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voja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ksimalna razi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predvid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a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limitirati razvo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ni jednog uč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uditi obavezne zadatke d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in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dnostavne primjen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zadaci iz prve tri raz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da ih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mož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zab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datak na razin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reativne primje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tječ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cj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može do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„ekstra“ odličn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cjenu -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“može više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900000" y="189000"/>
            <a:ext cx="720108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Utvrđivanje tempa razvoja i razine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učenik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spij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u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oviti obrad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vježbavanj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ovje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ponov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sp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to može značiti da sm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avi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visoke cilj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dabra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adekvatn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oučavanje, provje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zroke neuspjeh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možemo utvrd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dividualnom rad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mbinirajući različit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bi se postavlja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daci optimalne teži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nu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ustavno praće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predovanja i pravljenje bilješk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835280" y="260280"/>
            <a:ext cx="504036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Utvrđivanje uzroka neuspje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ćin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ukućani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Arial"/>
              </a:rPr>
              <a:t>NE MOGU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pomoć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spcAft>
                <a:spcPts val="6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učenju grad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žno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Arial"/>
              </a:rPr>
              <a:t>OSIGURATI PODRŠKU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3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tjecanje </a:t>
            </a:r>
            <a:r>
              <a:rPr b="1" lang="hr-HR" sz="2600" spc="-1" strike="noStrike">
                <a:solidFill>
                  <a:srgbClr val="ff0000"/>
                </a:solidFill>
                <a:latin typeface="Arial"/>
              </a:rPr>
              <a:t>VAŽNIH KOMPETEN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59280" y="476280"/>
            <a:ext cx="302544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Cilj ško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700280"/>
            <a:ext cx="8075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7000" spc="-1" strike="noStrike">
                <a:solidFill>
                  <a:srgbClr val="000000"/>
                </a:solidFill>
                <a:latin typeface="Times New Roman"/>
              </a:rPr>
              <a:t>Kraj!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000" spc="-1" strike="noStrike">
                <a:solidFill>
                  <a:srgbClr val="000000"/>
                </a:solidFill>
                <a:latin typeface="Times New Roman"/>
              </a:rPr>
              <a:t>EVALUACIJ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vrd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ak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j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aknu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h na još kvalitetnij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MARNI CIL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rednovanja u OSNOVNOJ i SREDNJOJ školi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a ne selek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19280" y="692280"/>
            <a:ext cx="63374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Cilj vrednovanja postignuća uč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o kod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ostalih učenika</a:t>
            </a:r>
            <a:r>
              <a:rPr b="0" i="1" lang="hr-HR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ovremeno ponoviti – podsjetiti 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koristi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različite postupk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i kroz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eformaln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(ispitne) situacije u opuštenoj atmosfer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d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dovoljno vremen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za promišljanje odgovo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d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riliku da poprav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u i postignu željene rezult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otic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suradničku atmosferu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rije obrade sadržaja/teme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informirati o očekivanjim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(operacionaliziranim obrazovnim postignućim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a prije provjere znanja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o kriterijim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j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ajaviti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ispit i informirati o segmentima gradiva i načinu ispit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ocjenjiv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akon vježbanj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sadržaja i načina ispitivanja, te informiranja o kvaliteti postignuć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sustavno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ratiti napredak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važnim područjima i voditi bilješk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uključiti učenik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proces vrednovanja i ocjenj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omoći im da naprave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lan napredovanj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važnim područji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ocjenu iz predmeta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zaključiti na temelju kvalitativne analiz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a i bilješki o napredovanju (ne kao srednju ocjen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 češć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rovjeravati znan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njih segmenat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grad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način koji učenik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iše odgov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što češće davati konkretn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ratnu informaci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 kvaliteti postignuća i pristu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908000" y="189000"/>
            <a:ext cx="5400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Aktivnosti za ostvarenje ci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453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zak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jeluje 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ratne informac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dlučuje što će raditi na temelju onoga što je napravi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vratna informacij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anjuje nesigurnost i stres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veći osjećaj kontrole nad situacijom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43992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tpušt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nje hormona stres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atekolam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55760" indent="-228600">
              <a:lnSpc>
                <a:spcPct val="90000"/>
              </a:lnSpc>
              <a:spcBef>
                <a:spcPts val="1375"/>
              </a:spcBef>
              <a:spcAft>
                <a:spcPts val="453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eć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sobnost suoča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nkretn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vratna informacij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zitivnij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jeca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gućnost promj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vedb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ispravk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zitivnij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jeca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404640"/>
            <a:ext cx="633744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Važnost neposredne povrat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Važnost postavljanja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razvojno primjerenih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za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jčeš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zrok neuspjeh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(i kod djece bez teškoća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daci neprilagođe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razvojnim mogućnosti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primjeren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uč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0">
              <a:spcAft>
                <a:spcPts val="19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bi zadaci bi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vojno primjere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reba voditi računa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sobnostima uče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zina kognitivnog razvo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il uč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dzn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životna iskustva i spoznaje s kojima djeca dolaze u škol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teres i motiv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187280" y="4076640"/>
            <a:ext cx="7345440" cy="5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54508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3300"/>
                </a:solidFill>
                <a:latin typeface="Times New Roman"/>
              </a:rPr>
              <a:t>Održavanje motivacije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375"/>
              </a:spcBef>
              <a:spcAft>
                <a:spcPts val="123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tiviran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rad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timalno teškim zadacima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i prelagani, ni preteški)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– neš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lo iznad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renutnog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znajnog stup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lagani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daci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s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teški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daci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ustajanj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e mogu ih riješit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825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vljani neuspjeh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gubitak samopouzd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te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375"/>
              </a:spcBef>
              <a:spcAft>
                <a:spcPts val="123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epe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d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e zahtjevni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da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epeno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diže razina misaonog funkcionir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č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voj mozg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2475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rž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tivaci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r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8:14:22Z</dcterms:created>
  <dc:creator>Korisnik</dc:creator>
  <dc:description/>
  <dc:language>en-US</dc:language>
  <cp:lastModifiedBy>nlesar</cp:lastModifiedBy>
  <dcterms:modified xsi:type="dcterms:W3CDTF">2012-01-23T07:46:37Z</dcterms:modified>
  <cp:revision>605</cp:revision>
  <dc:subject/>
  <dc:title>VREDNOVANJE POSTIGNUĆA UČENIKA S POSEBNIM POTREBAMA</dc:title>
</cp:coreProperties>
</file>