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050-4957-47BF-AFAA-47535BFE785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CDE-3855-4295-87F1-34EE69AFCB8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9D1-7E77-4A44-92DD-DE23EA800F2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anas sam ovdje na prijedlog višeg  savjetnika za matematiku prof. Miroslava Klaića te mu ovim pu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hvaljuje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590D-D7A6-4389-872E-467528C1733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958-2446-4599-8176-29B326C5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4F7-90D9-4C5B-A90F-E4DD3D1F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FA5-42A5-41B8-87AC-FC2D1A1D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3D3-C28E-43D7-BC10-9347996B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09D-1956-4B3E-B26E-D5C7E64F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075-B7AC-421D-A845-D549794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762-EF86-40A9-9BC8-EE9BF0D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F07-CC21-4D30-AEF0-344A721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720-84FA-4C85-AB87-1BF0345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195-F334-4C24-B060-59A75DA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1BC-B85B-4E9F-B48E-D9E3877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B06-ED21-4546-89D4-3860E84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6E9-C6A1-4CEE-9889-3973858FC18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VRJEDNOVANJE POSTIGNUĆA UČEN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Janja Ivošević, učitelj matemat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OŠ “ Mato Lovrak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ova  Gradiš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900055589[1]"/>
          <p:cNvPicPr/>
          <p:nvPr/>
        </p:nvPicPr>
        <p:blipFill>
          <a:blip r:embed="rId1"/>
          <a:stretch/>
        </p:blipFill>
        <p:spPr>
          <a:xfrm>
            <a:off x="3276720" y="2852640"/>
            <a:ext cx="2663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Zašto baš timski ra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nošenje  promjena u izvođenju nastave (osvježavanje s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 jedni drugima pomažu, ohrabruju ih, svatko radi najbolje što mo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om članu tima se posvećuje paž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62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Primjeri zadata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ješi jednadžbe, rješenja pronađi na slici i oboj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za ocjenu 2:                                za ocjenu 3: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+x=11                  1)  -17-(3-x)=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10=x-4                  2)  -6(x-2)+3(x+1)=-4(3x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x+(-x+9)=10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2(x-3)=9-x            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971640" y="5013360"/>
                <a:ext cx="1800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572000" y="4005360"/>
                <a:ext cx="2736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11"/>
          <p:cNvSpPr/>
          <p:nvPr/>
        </p:nvSpPr>
        <p:spPr>
          <a:xfrm>
            <a:off x="3995640" y="5013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2"/>
              <p:cNvSpPr txBox="1"/>
              <p:nvPr/>
            </p:nvSpPr>
            <p:spPr>
              <a:xfrm>
                <a:off x="4427640" y="4941720"/>
                <a:ext cx="3139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Za ocjenu 4: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0,75-3x=0,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x:(-0,16)=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7-3(x-1)+4x-8(x+3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39840" y="5070600"/>
            <a:ext cx="383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1042920" y="4508640"/>
                <a:ext cx="273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a ocjenu 5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2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-1+2(x-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2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042920" y="3141720"/>
                <a:ext cx="5545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7"/>
          <p:cNvSpPr/>
          <p:nvPr/>
        </p:nvSpPr>
        <p:spPr>
          <a:xfrm>
            <a:off x="468360" y="501336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71640" y="4797360"/>
                <a:ext cx="561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3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oliko učenici riješe zadatke brzo i uspješno, u istom timu, sami ih izmjenjuju(od 2 za 3, od 3 za 4, od 4 za 5, a vođa tima pomaže i kontrolira ostale članove ti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PC050048-1"/>
          <p:cNvPicPr/>
          <p:nvPr/>
        </p:nvPicPr>
        <p:blipFill>
          <a:blip r:embed="rId1"/>
          <a:stretch/>
        </p:blipFill>
        <p:spPr>
          <a:xfrm>
            <a:off x="2124000" y="2492280"/>
            <a:ext cx="504036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ješenja timskog rada- asocijacija na jednad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C050053-1"/>
          <p:cNvPicPr/>
          <p:nvPr/>
        </p:nvPicPr>
        <p:blipFill>
          <a:blip r:embed="rId1"/>
          <a:stretch/>
        </p:blipFill>
        <p:spPr>
          <a:xfrm>
            <a:off x="1692360" y="155736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Pred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đusobnom suradnjom  i pomaganjem uče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stižu potrebnu koncentra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tvrđuju i dopunjavaju svoje zn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četkom takvog rada (posebno u petom razred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čenici usvajaju pravila ponašanja  pri 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ve mogućnosti koje im takav rad pruž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sve nejasnoće obraćaju se nastavni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ik je pomoćnik u ra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 koji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prvi samostalno i točn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ješe odabrane zadatke mogu dobiti ocjenu, ali je ne moraju prihvat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cjene se evidentiraju u bilježnice učenika i uč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kon 2-3 ovakve provjere jednu ocjenu upisujemo u ime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sat: provjera 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ješavanje linearnih jednadžbi s jed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poznan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svaku ocjenu postoje dvije gr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B210004"/>
          <p:cNvPicPr/>
          <p:nvPr/>
        </p:nvPicPr>
        <p:blipFill>
          <a:blip r:embed="rId1"/>
          <a:stretch/>
        </p:blipFill>
        <p:spPr>
          <a:xfrm>
            <a:off x="2340000" y="2060640"/>
            <a:ext cx="3960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što su uvedene dvije grup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bog sprječavanja mogućnosti prepis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va se miran rad svakom uče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cjena je obve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640" y="520560"/>
            <a:ext cx="8567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Što sam uočil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mogu točno vrednovati rad i znanje uče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 su dobivali iste zadat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i su sve rješavali s lakoćom, a poneki ni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šta rad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 ploče su samo prepisiv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li nisu ni 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lazili su kući nedovrše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804000" y="47242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MP900439382[1]"/>
          <p:cNvPicPr/>
          <p:nvPr/>
        </p:nvPicPr>
        <p:blipFill>
          <a:blip r:embed="rId1"/>
          <a:stretch/>
        </p:blipFill>
        <p:spPr>
          <a:xfrm>
            <a:off x="5219640" y="3500280"/>
            <a:ext cx="29527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2400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 odabiru listiće prema osobnoj procjeni svojih mogućnosti. Ako vide da su im zadaci preteški, mijenjaju ih za nižu razinu i obratno ako su im jednostav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B210007-1"/>
          <p:cNvPicPr/>
          <p:nvPr/>
        </p:nvPicPr>
        <p:blipFill>
          <a:blip r:embed="rId1"/>
          <a:stretch/>
        </p:blipFill>
        <p:spPr>
          <a:xfrm>
            <a:off x="2124000" y="1989000"/>
            <a:ext cx="4824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 ocjenu 2, grupa A:                 za ocjenu 2, grupa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riješiti 3 od 4 zadatka)                (riješiti 3 od 4 zada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x-5=-4                      1) -12-x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)  4x-(3x-3)=7-x             2) 2-(5-x)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) -18x+17=3(4-x)           3) -3(3x+1)=-7x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)                                     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971640" y="4292640"/>
                <a:ext cx="23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5508720" y="4292640"/>
                <a:ext cx="259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PB210026-1"/>
          <p:cNvPicPr/>
          <p:nvPr/>
        </p:nvPicPr>
        <p:blipFill>
          <a:blip r:embed="rId1"/>
          <a:stretch/>
        </p:blipFill>
        <p:spPr>
          <a:xfrm>
            <a:off x="1763640" y="1413000"/>
            <a:ext cx="4753080" cy="381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684360" y="33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gled i vrednovanje radova je najsloženiji dio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koji je uspješno riješio odabrani listić mijenja ga za novi i pokušava dobiti veću ocj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PB210005-1"/>
          <p:cNvPicPr/>
          <p:nvPr/>
        </p:nvPicPr>
        <p:blipFill>
          <a:blip r:embed="rId1"/>
          <a:stretch/>
        </p:blipFill>
        <p:spPr>
          <a:xfrm>
            <a:off x="1763640" y="206064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 ocjenu 3, grupa A:                   za ocjenu 3, grupa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riješiti 3 od 4 zadatka)              (riješiti 3 od 4 zada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3-x=-2                      1) 6-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) 3-(2-x)=6+(-2x+1)       2) 9-(8-x)=7+(-x+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) 12-2(x+3)=26              3) -5(3x+1)-11=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)                                     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755640" y="4149720"/>
                <a:ext cx="3025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5292720" y="4221000"/>
                <a:ext cx="309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demo za veću ocjen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B210038-1"/>
          <p:cNvPicPr/>
          <p:nvPr/>
        </p:nvPicPr>
        <p:blipFill>
          <a:blip r:embed="rId1"/>
          <a:stretch/>
        </p:blipFill>
        <p:spPr>
          <a:xfrm>
            <a:off x="1763640" y="1413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92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 ocjenu 4, grupa A: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riješiti 3 od 4 zada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) 7x-(x-6)+(-4x+5)=1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) 3(x+5)-2(x-5)=5x+12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)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755640" y="3860640"/>
                <a:ext cx="338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8"/>
              <p:cNvSpPr txBox="1"/>
              <p:nvPr/>
            </p:nvSpPr>
            <p:spPr>
              <a:xfrm>
                <a:off x="755640" y="5013360"/>
                <a:ext cx="338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Rectangle 3"/>
          <p:cNvSpPr/>
          <p:nvPr/>
        </p:nvSpPr>
        <p:spPr>
          <a:xfrm>
            <a:off x="4643280" y="115920"/>
            <a:ext cx="490716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 ocjenu 4, grupa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riješiti 3 od 4 zada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) 3x+(x-4)=5-(x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) 4x+3(2x+1)=-2(x+1)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148360" y="3933720"/>
                <a:ext cx="3457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5148360" y="5013360"/>
                <a:ext cx="3887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ba hitno dovršiti zadatak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B210042-1"/>
          <p:cNvPicPr/>
          <p:nvPr/>
        </p:nvPicPr>
        <p:blipFill>
          <a:blip r:embed="rId1"/>
          <a:stretch/>
        </p:blipFill>
        <p:spPr>
          <a:xfrm>
            <a:off x="1908000" y="1773360"/>
            <a:ext cx="468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70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za ocjenu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riješiti sva 3 zadat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)    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908000" y="1773360"/>
                <a:ext cx="4608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468360" y="249228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)   -0,5(1,2-x)=0,4x-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39640" y="4797360"/>
            <a:ext cx="57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68360" y="3500280"/>
            <a:ext cx="5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8"/>
              <p:cNvSpPr txBox="1"/>
              <p:nvPr/>
            </p:nvSpPr>
            <p:spPr>
              <a:xfrm>
                <a:off x="1116000" y="3213000"/>
                <a:ext cx="489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Text Box 21"/>
          <p:cNvSpPr/>
          <p:nvPr/>
        </p:nvSpPr>
        <p:spPr>
          <a:xfrm>
            <a:off x="539640" y="3541680"/>
            <a:ext cx="36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tke za ocjenu odličan, učenici sami kontroliraju na račun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PB210033-1"/>
          <p:cNvPicPr/>
          <p:nvPr/>
        </p:nvPicPr>
        <p:blipFill>
          <a:blip r:embed="rId1"/>
          <a:stretch/>
        </p:blipFill>
        <p:spPr>
          <a:xfrm>
            <a:off x="1763640" y="191628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inilo se da postoji samo “vrh” i “dno”. N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ala  tzv. “ zlatna sredina 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h” – brzo, prije s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samostal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s razumijevanje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no” – učenici kojima je rad optereć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 nemaju potrebno predzn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glavni razlog neuspjeha nedost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ih nav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latna sredina” – na poticaj se uključuju u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rihvaćaju pomoć dru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nedovoljno su samosta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rate rad i sve bilje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ma ukazujem povjerenje k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kontrole, a povjerenje je vrlo moć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tiv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aj način rada omogućava učenicim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du aktivni u procesu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ivaju priliku da uče s razumijevanje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učenik brzo i točno riješio zadat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5, u preostalo će vrijeme rješava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DATNI ZADA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točno rješenje ovog zadatka u ime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mah dobivaju ocjenu 5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adatak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ješenje ove jednadžbe je širina poda naše          učionice u metrima. Ako je površina poda             , kolika je njezina dulj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6659640" y="765000"/>
                <a:ext cx="86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7"/>
              <p:cNvSpPr txBox="1"/>
              <p:nvPr/>
            </p:nvSpPr>
            <p:spPr>
              <a:xfrm>
                <a:off x="1258920" y="2997360"/>
                <a:ext cx="626436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,5</m:t>
                            </m:r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ješenje dodatnog zadatka kontroliraju na računal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B210040-1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tica u imeni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PB210036-1"/>
          <p:cNvPicPr/>
          <p:nvPr/>
        </p:nvPicPr>
        <p:blipFill>
          <a:blip r:embed="rId1"/>
          <a:stretch/>
        </p:blipFill>
        <p:spPr>
          <a:xfrm>
            <a:off x="2124000" y="2060640"/>
            <a:ext cx="46800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920" y="549000"/>
            <a:ext cx="75708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aliza postignutog uspj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8"/>
          <p:cNvGraphicFramePr/>
          <p:nvPr/>
        </p:nvGraphicFramePr>
        <p:xfrm>
          <a:off x="1476360" y="1639800"/>
          <a:ext cx="660384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39800"/>
                    <a:ext cx="660384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Postavlja se pitan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što ima negativnih ocjena poslije ovakvog r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godi se i onda kada se ne oček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om se učeniku pregleda rad i više puta na satu te mu se  ukaže na pogreš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učenik savjestan, istu pogrešku neć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noviti na sljedećem sa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i to “zaborav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Koja bi očekivanja učitelja trebala b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ispunj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lja organizacija rada (svi rade na sa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eća učinkovitost pri vredn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više ocjena za manje utrošenog vreme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ubi se subjektivnost pri vredn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nsparent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vi znaju što se traž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liko što vrijedi, znaju isho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nema nesuglasica kod zaključne oc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jednačenost kriter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više se ne čuju rečeni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”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ita me baš ono što ne znam.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“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 znam neće upisati, upiše samo kad ne zn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iranje nezainteresiranih učenik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1471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Što kažu učeni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uzorku od 50 učenika proveden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keta o ovakvom načinu 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476360" y="2708280"/>
          <a:ext cx="583236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58323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Poslje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zadovoljstvo svih sudionika u nastavnom proc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zadovoljni su ocjenama bili i roditel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Trebalo je nešto mijenja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jela učenika u dvije grup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i su radili složenije , a drugi  jednostav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t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i učenici iz tzv. “zlatne sredine” pokušavali su rješavati složenije zadatke te ih po potrebi mijenj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jednostav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To je bio početak rada na više raz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vo nekoliko karakterističnih odgov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amo dosta vremena i možemo birati za koju ocjenu želimo odgovarati. Zabavno je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nimljivo je, svatko može dobiti ocj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u zaslužuj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može se prepisivati. Meni se to jednostavno jako sviđ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đa mi se zato što svaki učenik otprilike zna koliko mo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ja znam koju ocjenu zaslužuj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đa mi se jer je moj rad samo između mene i nastavnice.  Iskreno to mi je supe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mijenila bi da zadatci za 4 i 5 ne b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više komplicira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sviđa mi se jer sam u tome loš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67564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aključ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pjeh je što svi učenici vrijedno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satu nema izgubljenog vre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 su zadovolj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a atmosfera: - jako dinamično, bez ome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“borba” za svaku ocj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često negoduju da je sat brzo proša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svima na pažnj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Sadašnje s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čin rada prihvaćen od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odnevne dop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zadaci su podijeljeni na 4 razine, 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kših ka t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čenici biraju razinu prema osobnoj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jeni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Što učenici dobivaju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nost izbora željene oc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ituju svoje mogućnosti (djeca se žel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firmir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ija se natjecateljski d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tivirani su za napred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brinu o kvaliteti znanja (ocjen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posebno  naglašeno u 8. razre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aje monoton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učenik ne može skrivati svoj ne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iče ih savjestan rad ostalih učenika iz raz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vrijeme dobivaju informacije o kvaliteti svoga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vaki učenik uradak donosi na pre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nekoliko puta na satu (najmanje dva p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znaju što rade do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ako popraviti lo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sat: Vježba - timski rad, priprema za vredn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ješavanje linearnih jednadžbi s jed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poznani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404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Arial"/>
              </a:rPr>
              <a:t>Prikaz  jednog  blok-sa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50760" y="3736800"/>
            <a:ext cx="70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 su podijeljeni u timove po 4 čl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imu su listići sa zadatcima za ocjene 2,3,4,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050046-1"/>
          <p:cNvPicPr/>
          <p:nvPr/>
        </p:nvPicPr>
        <p:blipFill>
          <a:blip r:embed="rId1"/>
          <a:stretch/>
        </p:blipFill>
        <p:spPr>
          <a:xfrm>
            <a:off x="1692360" y="2852640"/>
            <a:ext cx="518328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14:42Z</dcterms:created>
  <dc:creator>Ivosevic</dc:creator>
  <dc:description/>
  <dc:language>en-US</dc:language>
  <cp:lastModifiedBy>nlesar</cp:lastModifiedBy>
  <dcterms:modified xsi:type="dcterms:W3CDTF">2012-01-23T07:44:29Z</dcterms:modified>
  <cp:revision>490</cp:revision>
  <dc:subject/>
  <dc:title>VREDNOVANJE POSTIGNUĆA UČENIKA</dc:title>
</cp:coreProperties>
</file>