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883-813D-4222-A9AE-168030E033F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AB18-913D-4319-813F-62AD73C4B93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704-53B9-4AD3-85F7-AF1BC1A0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B74-3860-4B43-9D3A-2D57AD3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E02-67AE-414E-A579-FF9B6667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25F-F534-4EBD-9E92-B42F4321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B7A-A1B1-4DAC-84F4-471BB156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E931-ACCF-4440-B042-2688E596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79CF-09CA-46BC-9832-66DC3FFA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3AAD-3A56-46AD-844D-181ED458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46A3-C9B6-4CCA-B769-8F6EC210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BFE-E4FC-42F3-B4E9-3EF49476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C88-D5E8-42F1-96AC-ADCCB7D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7FE-6B56-4424-8011-82EAF7CB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5305-D2BA-4CDA-BBFB-070750DC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BA1D-1B20-4146-AEBA-C5C618FA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65B6-B0FE-448B-B21B-C13888A5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AA52-8AD6-4D43-BF43-6483B340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9E9-3A96-4007-BFD5-4A8CE955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BFDA-A62A-4927-B9AD-8B1F3E0F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6F17-E799-4C21-8E7D-6206290E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E86F-3547-4226-BFB1-CDBE596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60C6-9000-4BEC-9233-DDE35FF2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2A4E-BF35-426E-BF12-934DEF63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AB3-E399-4AE8-8701-85F026B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F41B-9271-4C9F-A931-0EAAD59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2D0E-7969-42DC-8703-C229404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2349-6709-44BD-9591-413B2BFB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2A65-33BC-444D-927A-20533E9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6D09-A2A6-491F-85A7-9BB81861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D300-3D22-4290-B251-F9103775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561B-1AE1-4DFC-A5D7-D246F7E1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1B07-B02F-4E7C-830E-FF400BC2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85AD-BD90-43BB-BA1C-4FDCC0E9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1456-CAD9-46CB-A78F-F510FF7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A7C-1F98-4FA9-8BE3-314C8E56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A183-86A9-4A65-ACEA-2F1ECD74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0977-9795-4B93-BD68-5D9828C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7D9C-753C-44FB-B5ED-BA3474F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2871-0D1F-4B65-836D-62B025E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B4D1-59A3-47FB-96B5-130BAF6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E055-3EDE-464C-9A7E-F61272B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A9CA-24D7-4473-9279-0DD562C0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05B1-DAD7-4544-A1ED-28488B21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32C8-1E27-4772-817D-0999437A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68C-C224-4E7F-B308-0DF564A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44A-E388-4953-B2AB-E615F9E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6C8-52FC-4B14-9497-FF0444F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2E1-9E31-44A1-9409-E9E16939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C5C-4C6E-4F80-B39F-3017D99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95B-A099-4154-B7E0-BEBAA00ABB8E}" type="slidenum"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2B1-229F-4A51-B118-B55FB7989EFC}" type="slidenum">
              <a:rPr b="0" lang="hr-H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C2F2-7D9F-4B1E-9EDD-4505C61971DA}" type="slidenum">
              <a:rPr b="0" lang="hr-H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87A-BB62-4668-B96A-0AA692570BF5}" type="slidenum"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Naslov 1" descr=""/>
          <p:cNvPicPr/>
          <p:nvPr/>
        </p:nvPicPr>
        <p:blipFill>
          <a:blip r:embed="rId1"/>
          <a:stretch/>
        </p:blipFill>
        <p:spPr>
          <a:xfrm>
            <a:off x="-128520" y="853920"/>
            <a:ext cx="8656560" cy="2346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68360" y="3212640"/>
            <a:ext cx="79200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Treba li zabraniti ili ograničiti pristup društvenim mrežama učenicima mlađim od 13 godi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0000"/>
                </a:solidFill>
                <a:latin typeface="Calibri"/>
              </a:rPr>
              <a:t>Proti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glavnom i sami imaju svoj profil na mrež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oni upućeniji gorljivije zastupaju svoje stavove i argumentiraju ih vrlo uvjerljiv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postavljaju se zaštitnički prema manje upućenima i mlađima koji ne znaju koje opasnosti vrebaju na društvenim mrež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manje vremena provode za računal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pod većim su utjecajem roditelja i roditelji ih više kontroliraj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samo nekoliko ih nema svoj profil i oni su manje zainteresirani za raspravu ili su vrlo prestrašeni i ne žele otvoriti svoj profi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Što </a:t>
            </a: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četvrtaši</a:t>
            </a: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 percipiraju kao opasnost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oje se zlonamjernih starijih osoba koje bi ih mogle oteti i učiniti im mnogo strašnih stv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pasnost je pedofil čiji se profil jasno može iscrtat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uškarac je, ima preko 60 godina, ružan je, mastan, neuredan, gnjusan, debe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-  od nametljivca se ne možeš obraniti, može te pronaći na svakom mjestu i doznati sve o tebi i kad ne iznosiš podatke o sebi na društvenoj mreži (on je strašan i svemoća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- sve su mjere zaštite na računalu nepouzd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4617b"/>
                </a:solidFill>
                <a:latin typeface="Calibri"/>
              </a:rPr>
              <a:t>Što percipiraju kao opasnost </a:t>
            </a:r>
            <a:r>
              <a:rPr b="0" lang="hr-HR" sz="4600" spc="-1" strike="noStrike">
                <a:solidFill>
                  <a:srgbClr val="ff0000"/>
                </a:solidFill>
                <a:latin typeface="Calibri"/>
              </a:rPr>
              <a:t>šestaši</a:t>
            </a:r>
            <a:r>
              <a:rPr b="0" lang="hr-HR" sz="4600" spc="-1" strike="noStrike">
                <a:solidFill>
                  <a:srgbClr val="04617b"/>
                </a:solidFill>
                <a:latin typeface="Calibri"/>
              </a:rPr>
              <a:t> i </a:t>
            </a:r>
            <a:r>
              <a:rPr b="0" lang="hr-HR" sz="4600" spc="-1" strike="noStrike">
                <a:solidFill>
                  <a:srgbClr val="ff0000"/>
                </a:solidFill>
                <a:latin typeface="Calibri"/>
              </a:rPr>
              <a:t>sedmaši</a:t>
            </a:r>
            <a:r>
              <a:rPr b="0" lang="hr-HR" sz="46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lonamjerne starije osobe nisu toliko bitne premda opasnost posto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pasna je krađa profila jer ti netko zlonamjeran može podvaliti nešto što nisi rekao ni učinio, ocrniti te pred prijateljima, prouzročiti nesporazume i svađ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ah ih je i vršnjačkoga nasilja, osvete, podmetanja i omalovažavan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isle da mogu lako steći, a još lakše izgubiti prijatelja, a to je najgore što ti se može dogodi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4617b"/>
                </a:solidFill>
                <a:latin typeface="Calibri"/>
              </a:rPr>
              <a:t>Što osuđuju kod onih koji puno vremena provode za računalom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žive u virtualnom svijetu i gube tlo pod nog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 razlikuju stvarnost od virtualne stvar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taju pasionirani skupljači lajko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maju 1000 virtualnih prijatelja, a nijednog pravo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 znaju više normalno komunicir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rkaju virtualne junake i stvarne lj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tpuno su poblentavil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Zaključak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mda su oni 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z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bili prividno superiorniji, njihovi su argumenti manje uvjerljivi i mnogo ih je man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z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su većinom dječaci, ali se ta podijeljenost po spolu gubi što su stari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protiv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su većinom djevojčice, što su mlađi to je ta podijeljenost vidljivi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rlo su upućeni u opasnosti koje prijete na društvenim mrežama, a ponekad je taj strah iraciona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tjecaj roditelja osjeti se kod mlađih više nego kod stariji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Hvala na pozornosti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esna Šre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Š „Dr. Ivan Merz”, Zagre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C:\Program Files\Microsoft Office\MEDIA\CAGCAT10\j0090070.wmf"/>
          <p:cNvPicPr/>
          <p:nvPr/>
        </p:nvPicPr>
        <p:blipFill>
          <a:blip r:embed="rId1"/>
          <a:stretch/>
        </p:blipFill>
        <p:spPr>
          <a:xfrm>
            <a:off x="3565440" y="2179800"/>
            <a:ext cx="2013120" cy="2498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Program Files\Microsoft Office\MEDIA\CAGCAT10\j0149407.wmf"/>
          <p:cNvPicPr/>
          <p:nvPr/>
        </p:nvPicPr>
        <p:blipFill>
          <a:blip r:embed="rId2"/>
          <a:stretch/>
        </p:blipFill>
        <p:spPr>
          <a:xfrm>
            <a:off x="3586320" y="2255760"/>
            <a:ext cx="19713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U debati su sudjelovali učenici četvrtih, šestih i sedmih razreda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ebata je svaki put trajala jedan školski s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debati su sudjelovali svi učenici u razredu podijeljeni u dvije skupin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) skupina 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z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zastupala je mišljenje da svi učenici, bez obzira na dob, mogu otvarati svoj profil i aktivno sudjelovati u društvenim mrež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) skupina 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protiv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zastupala je mišljenje da pristup društvenim mrežama treba ograničiti na dob koja je propis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Cilj debate bio j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kupiti učenike u knjižnici i potaknuti ih na iznošenje svoga stava o temi koja ih zan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taknuti učenike na jasno i argumentirano iznošenje mišljen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obiti uvide u prirodu, učestalost i način njihovih aktivnosti na društvenim mrež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obiti uvide u upućenost učenika u opasnosti koje se skrivaju u obliku komunikacije koju omogućuju društvene mreže, te koliko su se spremni zaštit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poznati utjecaj odraslih (učitelja i roditelja) i vršnjaka na njihov stav i upućenost u problematik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ff0000"/>
                </a:solidFill>
                <a:latin typeface="Calibri"/>
              </a:rPr>
              <a:t>Za -</a:t>
            </a: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 slobodan i neograničen pristup društvenim mrežama učenici su argumentirali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se povezati s prijateljima bez obzira gdje si i je li vrijeme primjere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pitati za zadaću, razmijeniti iskustva i znanje te zatražiti pomoć i nešto novo nauč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se zabaviti i igrati igrice u paru i slič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upoznati nove ljude u različitim dijelovima svije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razgovarati na drugim jezicima i upoznati druge kulture i običa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govoriti o sebi i iznositi svoje mišljenj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ff0000"/>
                </a:solidFill>
                <a:latin typeface="Calibri"/>
              </a:rPr>
              <a:t>Protiv</a:t>
            </a: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 neograničenog pristupa učenici su argumentirali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poznavati prijatelje možeš i už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se dopisivati s prijateljem šaljući 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žeš učiti o drugim ljudima surfajući po internetu, a da ne komuniciraš s nepoznat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 znaš tko se krije iza profila na nekoj od mrež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tko može provaliti u tvoj profil i ocrniti t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tko može doći do tvojih podataka, nagovoriti te na susret i oteti te i slič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tko te može nagovoriti na stvari kojih se nikad ne bi sjeti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0000"/>
                </a:solidFill>
                <a:latin typeface="Calibri"/>
              </a:rPr>
              <a:t>Za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dopunjuju argument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isu svi na društvenim mrežama zlonamjer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toji čitav niz sigurnosnih mjera zaštite: prijava sumnjivih, ograničen pristup profilu, dvostruke lozinke, blokiranje nepoželjnih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isi glup da prihvaćaš sumnjiva prijateljst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isi glup da se sastaješ s nepoznatim osobama na sumnjivim mjest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isi tako jadan da te svaka glupa primjedba uznemiri i poljulja tvoje samopouzdanje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ff0000"/>
                </a:solidFill>
                <a:latin typeface="Calibri"/>
              </a:rPr>
              <a:t>Protiv</a:t>
            </a: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 dopunjuju svoje argumente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ijete si i često ne znaš procijeniti gdje se krije opasn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ažno ti je mišljenje vršnjaka pa te zlonamjerne primjedbe b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noga su djeca naivna i radoznala i sanjaju o uzbuđenjima, pa mogu učiniti nešto nepromišlje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lađa su djeca naivnija i manje znaju o tome što im se može dogoditi i mogu otkriti o sebi više no što bi treba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ki se ne povjeravaju roditeljima, a neki roditelji nisu upućeni i sami nemaju svoj profil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Podjela </a:t>
            </a:r>
            <a:r>
              <a:rPr b="0" lang="hr-HR" sz="4500" spc="-1" strike="noStrike">
                <a:solidFill>
                  <a:srgbClr val="ff0000"/>
                </a:solidFill>
                <a:latin typeface="Calibri"/>
              </a:rPr>
              <a:t>za</a:t>
            </a: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 i </a:t>
            </a:r>
            <a:r>
              <a:rPr b="0" lang="hr-HR" sz="4500" spc="-1" strike="noStrike">
                <a:solidFill>
                  <a:srgbClr val="ff0000"/>
                </a:solidFill>
                <a:latin typeface="Calibri"/>
              </a:rPr>
              <a:t>protiv</a:t>
            </a: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 bila je po spolu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nižim razredima 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više je dječaka bilo z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ograničen pristup i oni u pravilu imaju svoj profi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višim se razredima podjela po spolu ublažila, ali je i dalje 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više djevojčica bilo protiv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, a dječaka </a:t>
            </a:r>
            <a:r>
              <a:rPr b="0" lang="hr-HR" sz="2600" spc="-1" strike="noStrike">
                <a:solidFill>
                  <a:srgbClr val="ff0000"/>
                </a:solidFill>
                <a:latin typeface="Constantia"/>
              </a:rPr>
              <a:t>z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nižim razredima veća je razlika između aktivnih i neaktivnih sudionika u društvenim mrežama: poneki su vrlo upućeni, a manji dio njih uopće ništa ne zna o t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neke se djevojčice izrazito boje strahota koje im se mogu dogoditi upuste li se u tu pustolovin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ff0000"/>
                </a:solidFill>
                <a:latin typeface="Calibri"/>
              </a:rPr>
              <a:t>Za</a:t>
            </a:r>
            <a:r>
              <a:rPr b="0" lang="hr-HR" sz="4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maju svoj prof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jeruju u svemoć zašti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pućeniji su, pomalo i sami hakiraj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maju bolju opremu 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vode više vremena za računal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alo su superiornij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iznošenju stavo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ametljiviji su i samouvjereni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češće krše pravila deb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5T17:01:27Z</dcterms:created>
  <dc:creator>Vesna</dc:creator>
  <dc:description/>
  <dc:language>en-US</dc:language>
  <cp:lastModifiedBy>Vesna</cp:lastModifiedBy>
  <dcterms:modified xsi:type="dcterms:W3CDTF">2015-07-06T17:44:38Z</dcterms:modified>
  <cp:revision>21</cp:revision>
  <dc:subject/>
  <dc:title>Debata u knjižnici</dc:title>
</cp:coreProperties>
</file>