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2634-DD0B-4FF6-BE74-CE9940AE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74D5-52D1-4A06-AB66-543ECDD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8261-371A-42BB-BBF9-1B476578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A6CC-2B3F-4C26-951C-23C21514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EE86-52CD-4FCD-8F40-59B6944A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2419-9421-4959-A775-DD8E9FF2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BD3-FEB4-4C6C-82C3-41DD2B0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270-BCC5-4DFA-8385-E0219CA4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C06A-004B-4626-AD32-95C0D57D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AE53-F21F-448D-9D24-A57B5907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9DF-F945-4548-AE97-CFEA534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A224-04E5-451F-9D79-E4D4A01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8F7-0AEA-4BBA-A7E1-2AB77EAF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C83C-C142-42BB-8176-A700E75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140-9AF1-4749-AB3F-02486EA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C0A-2D98-4BA3-A2E8-41F4A6EF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951E-0B8B-42A9-9487-039C7D8C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003F-6DB8-444F-922A-3E87553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5374-7655-42AB-B18E-87A49EF0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2FC2-3832-46E1-B5D9-B53AEC7C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6122-43D5-4BFB-879E-F616DC9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F511-9179-459B-B8DD-C220F1E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3A54-C4CC-415D-BAB9-0A9BC4B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6B97-714B-416E-839E-F57D957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84AC-2A32-4659-8698-851B14450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8D7-23EE-44AC-903D-6ED32ED07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sktop.etwinning.net/projects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ffffff"/>
                </a:solidFill>
                <a:latin typeface="Arial"/>
              </a:rPr>
              <a:t>Školska knjižnica u eTwinning projektu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Snježana Kovačević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stručni suradnik knjižničar OŠ Zlatar Bistr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učni skup 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Kurikularna reforma i školske knjižnice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Srednja škola Krapina, 7. srpnja 2015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ežna stranica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desktop.etwinning.net/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32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njiznica.zlatarbistrica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wordle"/>
          <p:cNvPicPr/>
          <p:nvPr/>
        </p:nvPicPr>
        <p:blipFill>
          <a:blip r:embed="rId1"/>
          <a:stretch/>
        </p:blipFill>
        <p:spPr>
          <a:xfrm>
            <a:off x="1116000" y="2492280"/>
            <a:ext cx="65102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žnost i uloga digitalnih alata u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icanju č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nje multimedijalnog učenja slušanjem, gledanjem, iskustvom, zornim prikazima problema koje učenici  trebaju riješiti, samostalnim radom, istraživanjem i suradničkim aktivnostima te radom u grupama i sličnim oblicima rada koristeći pri tom nove medije koji učenike stavljaju u središte odgojno- obrazovnoga procesa u kojemu postaju aktivni kreatori obrazovnih sadrž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žnost i uloga digitalnih alata 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omicanju č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nje inovativnosti, kreativnosti, samostalnosti, kritičkoga mišljenja kod učenika i učitelja te vrednovanje informacija na internetu i njihovo odgovorno korištenje u svrhu učenja i stjecanja 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ijanje računalne, medijske i digitalne pismenosti, interkulturalnosti, komunikacije na materinskom jeziku i stranim jezic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žnost i uloga digitalnih alata 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omicanju č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nosti: učenje kroz igru, korištenje računala u svakodnevnoj komunikaciji, poticanje kooperativnog učenja, problemska nastava, istraživačke i projektne aktivnosti u kojima knjižničar usmjerava učenike i vodi ih da sami kreiraju nastavne sadržaje bilo za potrebe redovite nastave ili izvannastavne ak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ljučiti knjižnicu i školu u europske obrazovne tokov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čno se usavršavati, povezati se  s kolegama diljem Europe i svijeta, razmijeniti iskustva, primjere dobre prak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Twinning projekt školske knjiž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ell me more about your magazi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partner osnovna škola iz Francuske, učenici 12-13 god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 učenika iz svake škole, ostali učenici i uč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d siječnja do lipnja 2015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rovodio se on- line, radni jezik engle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alat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Powerpoint, video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otografij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Diary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projektni dnev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w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platfor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noit, Padlet, Survey Monkey, videokonferencija via Skype, ISSUU, forum , chat, Superl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Twinning projekt školske knjiž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projekt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ticati čitanje i učenje koristeći se dječjim i popularno- znanstvenim časopisima iz fonda školske knjiž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sporediti francuske i hrvatske dječje časopise i sadržaje koje n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municirati na stranom jeziku i na materin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ristiti različite digitalne alate za izradu sadržaja i obrazovnih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razviti ključne kompetencije (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gitalne, komunikacijske, socijalne, interkulturalne, kritičko mišljenje, medijska i informacijska pismeno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Twinning projekt školske knjiž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jektne aktivnos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poznavanje- ice breaking aktivnosti ( tko je tko, najdraži predm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atke prezentacije o časopisima, kviz, izložba razmijenjenih časo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keta o čitanju i korištenju časopisa, pisanje izvješća i izrada prezentacije, usporedba rezult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seminacija : mrežne stranice škola partnera, digitalni časopis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gled kroz prozor, Školske novi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Twinning projekt školske knjiž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jektne aktiv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isanje i razmjena pis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upni rad hrvatskih i francuskih učenika, o temama iz časopisa: glazba, moda, sport, slobodno vrijeme, školske teme…, razmjena i dopuna prezent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da stripa ( Superl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aluacij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ultat projekta : online časopis ( ISSU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poduzetnici"/>
          <p:cNvPicPr/>
          <p:nvPr/>
        </p:nvPicPr>
        <p:blipFill>
          <a:blip r:embed="rId1"/>
          <a:stretch/>
        </p:blipFill>
        <p:spPr>
          <a:xfrm>
            <a:off x="2124000" y="2006640"/>
            <a:ext cx="1924200" cy="17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Fotografija0466"/>
          <p:cNvPicPr/>
          <p:nvPr/>
        </p:nvPicPr>
        <p:blipFill>
          <a:blip r:embed="rId2"/>
          <a:stretch/>
        </p:blipFill>
        <p:spPr>
          <a:xfrm>
            <a:off x="5877000" y="3995640"/>
            <a:ext cx="2797200" cy="18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nt"/>
          <p:cNvPicPr/>
          <p:nvPr/>
        </p:nvPicPr>
        <p:blipFill>
          <a:blip r:embed="rId3"/>
          <a:stretch/>
        </p:blipFill>
        <p:spPr>
          <a:xfrm>
            <a:off x="468360" y="4673520"/>
            <a:ext cx="2590920" cy="218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b2154412_thumb"/>
          <p:cNvPicPr/>
          <p:nvPr/>
        </p:nvPicPr>
        <p:blipFill>
          <a:blip r:embed="rId4"/>
          <a:stretch/>
        </p:blipFill>
        <p:spPr>
          <a:xfrm>
            <a:off x="7362720" y="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b8118672_thumb"/>
          <p:cNvPicPr/>
          <p:nvPr/>
        </p:nvPicPr>
        <p:blipFill>
          <a:blip r:embed="rId5"/>
          <a:stretch/>
        </p:blipFill>
        <p:spPr>
          <a:xfrm>
            <a:off x="250920" y="2133720"/>
            <a:ext cx="1780920" cy="178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bb1e01c0_thumb"/>
          <p:cNvPicPr/>
          <p:nvPr/>
        </p:nvPicPr>
        <p:blipFill>
          <a:blip r:embed="rId6"/>
          <a:stretch/>
        </p:blipFill>
        <p:spPr>
          <a:xfrm>
            <a:off x="7093080" y="2421000"/>
            <a:ext cx="1780920" cy="178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b21bfc99_thumb"/>
          <p:cNvPicPr/>
          <p:nvPr/>
        </p:nvPicPr>
        <p:blipFill>
          <a:blip r:embed="rId7"/>
          <a:stretch/>
        </p:blipFill>
        <p:spPr>
          <a:xfrm>
            <a:off x="2124000" y="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afc999_thumb"/>
          <p:cNvPicPr/>
          <p:nvPr/>
        </p:nvPicPr>
        <p:blipFill>
          <a:blip r:embed="rId8"/>
          <a:stretch/>
        </p:blipFill>
        <p:spPr>
          <a:xfrm>
            <a:off x="0" y="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P1010185"/>
          <p:cNvPicPr/>
          <p:nvPr/>
        </p:nvPicPr>
        <p:blipFill>
          <a:blip r:embed="rId9"/>
          <a:stretch/>
        </p:blipFill>
        <p:spPr>
          <a:xfrm>
            <a:off x="3635280" y="4876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fr3"/>
          <p:cNvPicPr/>
          <p:nvPr/>
        </p:nvPicPr>
        <p:blipFill>
          <a:blip r:embed="rId10"/>
          <a:stretch/>
        </p:blipFill>
        <p:spPr>
          <a:xfrm>
            <a:off x="4427640" y="0"/>
            <a:ext cx="2679480" cy="35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1french"/>
          <p:cNvPicPr/>
          <p:nvPr/>
        </p:nvPicPr>
        <p:blipFill>
          <a:blip r:embed="rId11"/>
          <a:stretch/>
        </p:blipFill>
        <p:spPr>
          <a:xfrm>
            <a:off x="2916360" y="3068640"/>
            <a:ext cx="25509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17:09Z</dcterms:created>
  <dc:creator>User</dc:creator>
  <dc:description/>
  <dc:language>en-US</dc:language>
  <cp:lastModifiedBy>bsusnjic</cp:lastModifiedBy>
  <dcterms:modified xsi:type="dcterms:W3CDTF">2015-07-15T08:25:18Z</dcterms:modified>
  <cp:revision>21</cp:revision>
  <dc:subject/>
  <dc:title>Slide 1</dc:title>
</cp:coreProperties>
</file>