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.wmf" ContentType="image/x-wmf"/>
  <Override PartName="/ppt/media/image27.png" ContentType="image/png"/>
  <Override PartName="/ppt/media/image24.png" ContentType="image/png"/>
  <Override PartName="/ppt/media/image23.png" ContentType="image/png"/>
  <Override PartName="/ppt/media/image55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1.wmf" ContentType="image/x-wmf"/>
  <Override PartName="/ppt/media/image28.png" ContentType="image/png"/>
  <Override PartName="/ppt/media/image25.png" ContentType="image/png"/>
  <Override PartName="/ppt/media/image42.jpeg" ContentType="image/jpeg"/>
  <Override PartName="/ppt/media/image4.jpeg" ContentType="image/jpeg"/>
  <Override PartName="/ppt/media/image5.jpeg" ContentType="image/jpeg"/>
  <Override PartName="/ppt/media/image11.wmf" ContentType="image/x-wmf"/>
  <Override PartName="/ppt/media/image50.png" ContentType="image/png"/>
  <Override PartName="/ppt/media/image40.jpeg" ContentType="image/jpeg"/>
  <Override PartName="/ppt/media/image46.png" ContentType="image/png"/>
  <Override PartName="/ppt/media/image47.png" ContentType="image/png"/>
  <Override PartName="/ppt/media/image7.wmf" ContentType="image/x-wmf"/>
  <Override PartName="/ppt/media/image36.wmf" ContentType="image/x-wmf"/>
  <Override PartName="/ppt/media/image53.png" ContentType="image/png"/>
  <Override PartName="/ppt/media/image37.png" ContentType="image/png"/>
  <Override PartName="/ppt/media/image48.jpeg" ContentType="image/jpeg"/>
  <Override PartName="/ppt/media/image49.png" ContentType="image/png"/>
  <Override PartName="/ppt/media/image34.wmf" ContentType="image/x-wmf"/>
  <Override PartName="/ppt/media/image44.jpeg" ContentType="image/jpeg"/>
  <Override PartName="/ppt/media/image45.png" ContentType="image/png"/>
  <Override PartName="/ppt/media/image51.jpeg" ContentType="image/jpeg"/>
  <Override PartName="/ppt/media/image52.png" ContentType="image/png"/>
  <Override PartName="/ppt/media/image12.gif" ContentType="image/gif"/>
  <Override PartName="/ppt/media/image15.png" ContentType="image/png"/>
  <Override PartName="/ppt/media/image41.png" ContentType="image/png"/>
  <Override PartName="/ppt/media/image43.jpeg" ContentType="image/jpeg"/>
  <Override PartName="/ppt/media/image35.png" ContentType="image/png"/>
  <Override PartName="/ppt/media/image32.png" ContentType="image/png"/>
  <Override PartName="/ppt/media/image31.png" ContentType="image/png"/>
  <Override PartName="/ppt/media/image3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54.jpeg" ContentType="image/jpe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F9BB-ECBE-4DE5-BC1B-18A46A26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528D-C232-4534-8336-13E6A538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4BAC-2062-459C-A32C-B241AB08B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6FB3-D235-4E58-BC39-1D638F52B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DF46-8E12-49B4-8284-3EC91EC7F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E431-067D-433F-B67F-B5B6C67F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25EC-D0E4-482C-9BC9-92E02FC0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86CF-5E4E-4113-882F-CEC19727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8F9A-78FD-4EDD-9E25-B4E32956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CA70-80CE-4682-AEF5-15E7A8F1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DE2A-E143-4E19-A74C-CF768F90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1AF0-2E1D-4CD3-9E6A-5ED584BA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03E4-F474-4D51-9F1C-43F7B279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66C6-AECF-4F0A-9C77-34B0551B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0B78-66DD-45D2-AAB8-5A804757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801D-FD70-4D77-A8C0-8C2E42DA0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F014-38B3-4F2B-9287-810F47DD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62E0A8-3D3F-4176-9F88-C6A573275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D75CB6-7B24-488A-968C-D8E19C2F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98D94E-3FAC-410D-86F8-7585817C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B40AF3-AD35-438C-B869-8E696FB2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555537-EBCA-4DC9-BF49-479C6FF6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21BD-3296-427D-A490-DF206F41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BE11E8-4120-4688-8A4B-FAD6D22E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7559E9-D54F-407F-869A-F64BD86D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7255BB-6E07-4D19-B446-095A7554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1B3E6D-9B4C-472A-8BF5-D513D7EC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D36B9F-6DAB-4111-B6A9-E355D41E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E59D6C-836C-4762-9DA2-1EB5085AE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B0AA3E-75FB-4EDC-9743-3A111C74B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E871B-6BC2-4966-96A9-DEA71C899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37BAA-35CC-49D8-A2B1-82DEC9F9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2251B-6D4F-4481-9F2E-3D355828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A557-2FC0-430A-9B20-C9B95A25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BFEDA-E8BB-4BC5-A75F-41AFA354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7D11D-A71E-4409-AD71-5A35135D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77BF3-A69A-4C41-A517-183E2D41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AFE1D-6922-4F58-808F-33C3C0C7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031D8-8B27-4B43-B0AF-799C15DA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7C6BF-27CD-426C-ADB3-1D454E5F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91EF8-633F-441C-B05C-7F64408F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507F8-7363-47A2-8085-AD3F915AA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DFDED-2D9A-443E-8466-A22F6DEA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A286AC-2C24-436D-BFF2-AC3F778B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4A81-5103-4B18-8DF8-8E884F03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46A6B9-E6C8-4197-92F4-8FE6A713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953AD4-3080-499A-A841-BF7CB8D9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07FF1F-07DE-495C-8A4A-88A617E4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2CC71D-93DD-4565-BC4E-E8A98AF0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AAE665-261A-42BD-B159-7A6133DB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4C44F8-661B-47B6-8F63-412E1400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4653DD-26DB-480A-B266-0756B90F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EE8EC3-ED0C-42FA-8BAA-813A65CD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60BB26-4418-4502-985B-33B9B833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FA2729-338F-4FC3-B1D3-BC885EC0F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F55D-EE00-48C8-BCC6-47DBA0C5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BB7AAE-EDBF-479A-89C3-90DFD0972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09F9F5-DD52-45FF-9432-FFAA7D20B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ED016B-A6EF-42DB-B1D0-F47639F6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798249-D12B-40F9-BD8D-1FCE3FE4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2CD598-A1F9-4150-9240-BA229269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D9F351-827D-4326-9936-57278A03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464D74-6A20-4EE8-8380-FE75788F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7A7A95-4135-41A7-9CB0-EBCD3DA4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7F2993-647F-4111-B6D2-5156EF4B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A0E283-4AF9-4E2D-9F6C-C5BF3592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942B-6B5A-4FD5-9292-081B895C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E6120E-8B71-42BE-9F7D-000C32A0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79FBDD-2888-41FA-A5B5-B8260F67A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5DB5F3-C617-490C-94D3-AD7CD7E52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5C07FD-9BE1-4704-B308-B50B4E917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15B9F0-A47C-46A1-9313-19D745E1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5EB1F0-F433-40AB-A86B-C0D2B553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4A0A32-8A38-4947-B218-135C69A6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B6EB2D-DFC6-4DEE-9139-4DE9EE49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B3A4DB-72F5-4F3E-8F65-2D2F24DA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075D20-0CC4-4EC0-8BD4-BEF7F1BE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D26F-D740-46C8-A7D8-031A59C7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BF98C5-CF4D-45C3-81BD-60B40AE6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598B77-30D3-45F6-9B33-C470B737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5CA37B-6577-4354-9DC3-25499D8D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A6239E-96EB-4E99-8F20-12E2F42C2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390394-DEC0-44E4-9066-F119487C4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065A-5823-4715-ACF4-5A8A1C1B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avni poveznik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14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2960" indent="-18288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584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avni poveznik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avni poveznik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ravokutni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avni poveznik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C14D-947E-4ECB-81F5-92F9B52E133B}" type="slidenum">
              <a:rPr b="1" lang="hr-H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avokutni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ravokutni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ravokutni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ravokutni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avni poveznik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avni poveznik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avni poveznik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avni poveznik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avni poveznik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avni poveznik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avokutni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a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a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a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14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2960" indent="-18288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584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D472-7DFF-4E4B-8D01-B93D255BFF03}" type="slidenum">
              <a:rPr b="1" lang="hr-H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avni poveznik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avni poveznik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avni poveznik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ravokutni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avni poveznik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14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2960" indent="-18288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584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3C74-B612-4B39-A2BF-4775B68D4B77}" type="slidenum">
              <a:rPr b="1" lang="hr-H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ravokutni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ravokutni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ravokutni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ravokutni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avni poveznik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avni poveznik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avni poveznik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avni poveznik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avni poveznik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ravokutnik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ipsa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ipsa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a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a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a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avni poveznik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14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2960" indent="-18288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584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eeece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eeece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C385-8572-4B36-AA98-6DC9CE9F2661}" type="slidenum">
              <a:rPr b="1" lang="hr-H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avni poveznik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avni poveznik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avni poveznik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ravokutni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avni poveznik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14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2960" indent="-18288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584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08B7-1795-45DF-A46B-CF44CBC02F55}" type="slidenum">
              <a:rPr b="1" lang="hr-H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avni poveznik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avni poveznik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avni poveznik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avni poveznik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ravokutni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avni poveznik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a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14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2960" indent="-18288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584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1621-A0D0-472F-9B2E-A4E2055C2F12}" type="slidenum">
              <a:rPr b="1" lang="hr-H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avni poveznik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a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avni poveznik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ravokutnik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avni poveznik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avni poveznik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avni poveznik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14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2960" indent="-18288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584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425A-E02E-420F-B619-A1BE1E61634B}" type="slidenum">
              <a:rPr b="1" lang="hr-H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hr/imgres?imgurl=http://www.os-ivanovec.skole.hr/upload/os-ivanovec/images/newsimg/107/Image/BackToSchool.gif&amp;imgrefurl=http://www.os-ivanovec.skole.hr/?cal_ts=1264978800&amp;usg=__AfD2YPNU92mFM-TVNIYcW9Zi2ss=&amp;h=900&amp;w=1138&amp;sz=150&amp;hl=hr&amp;start=9&amp;zoom=1&amp;tbnid=uJbAyxn2rUjN4M:&amp;tbnh=119&amp;tbnw=150&amp;ei=4qeETriTE4KD4gSN_Y2uDw&amp;prev=/images?q=school&amp;hl=hr&amp;sa=X&amp;gbv=2&amp;tbm=isch&amp;itbs=1" TargetMode="External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hyperlink" Target="http://www.google.hr/imgres?imgurl=http://www.super-science-fair-projects.com/image-files/kayla.gif&amp;imgrefurl=http://www.super-science-fair-projects.com/biology-science-fair-projects.html&amp;usg=__eKqUJ2gLeFNeCnVS2EAgX5Pe3DA=&amp;h=720&amp;w=421&amp;sz=15&amp;hl=hr&amp;start=1&amp;zoom=1&amp;tbnid=z-DUn9SNNVb7pM:&amp;tbnh=140&amp;tbnw=82&amp;ei=RKmETuOXKY_Z4QSaw_HFDw&amp;prev=/search?q=science&amp;hl=hr&amp;sa=X&amp;gbv=2&amp;tbm=isch&amp;prmd=ivnsbl&amp;itbs=1" TargetMode="External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hyperlink" Target="http://www.google.hr/imgres?imgurl=http://www.super-science-fair-projects.com/image-files/kayla.gif&amp;imgrefurl=http://www.super-science-fair-projects.com/biology-science-fair-projects.html&amp;usg=__eKqUJ2gLeFNeCnVS2EAgX5Pe3DA=&amp;h=720&amp;w=421&amp;sz=15&amp;hl=hr&amp;start=1&amp;zoom=1&amp;tbnid=z-DUn9SNNVb7pM:&amp;tbnh=140&amp;tbnw=82&amp;ei=RKmETuOXKY_Z4QSaw_HFDw&amp;prev=/search?q=science&amp;hl=hr&amp;sa=X&amp;gbv=2&amp;tbm=isch&amp;prmd=ivnsbl&amp;itbs=1" TargetMode="External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google.hr/imgres?imgurl=http://3.bp.blogspot.com/-Pv7Kf4GZVwA/TdBVht-IuCI/AAAAAAAAABA/l4pF-Jz0P5A/s1600/Before+School+Study2.gif&amp;imgrefurl=http://fishercpenglish4.blogspot.com/2011/05/what-i-learned-in-high-school.html&amp;usg=__cxStKKgBRzOwtmoGQbXi356DeJo=&amp;h=385&amp;w=374&amp;sz=16&amp;hl=hr&amp;start=64&amp;zoom=1&amp;tbnid=hSAcmLHpjUWkFM:&amp;tbnh=123&amp;tbnw=119&amp;ei=mqiETvbCKYqh4gSZ2vWNDw&amp;prev=/images?q=school&amp;start=60&amp;hl=hr&amp;sa=N&amp;gbv=2&amp;tbm=isch&amp;itbs=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www.google.hr/imgres?imgurl=http://www.ccc.caltech.edu/classrooms/sciencelab/science_labwork.gif&amp;imgrefurl=http://www.ccc.caltech.edu/classrooms/sciencelab/index.htm&amp;usg=__XzUVLCzfQCGMUkwPmDidkDrWJDg=&amp;h=405&amp;w=648&amp;sz=57&amp;hl=hr&amp;start=7&amp;zoom=1&amp;tbnid=N_CwRhTNvJAu6M:&amp;tbnh=86&amp;tbnw=137&amp;ei=RKmETuOXKY_Z4QSaw_HFDw&amp;prev=/search?q=science&amp;hl=hr&amp;sa=X&amp;gbv=2&amp;tbm=isch&amp;prmd=ivnsbl&amp;itbs=1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www.google.hr/imgres?imgurl=http://ps20speechandlanguage.files.wordpress.com/2011/06/after_school_care1.jpg&amp;imgrefurl=http://ps20speechandlanguage.wordpress.com/2011/06/27/free-or-inexpensive-after-school-summer-programs/&amp;usg=__-cXffxTjEd7luny_cGVBSNFuhHw=&amp;h=311&amp;w=300&amp;sz=20&amp;hl=hr&amp;start=36&amp;zoom=1&amp;tbnid=tw4ZbsOLIw1P5M:&amp;tbnh=117&amp;tbnw=113&amp;ei=KKiETvDXBNHY4QSMjdXBDw&amp;prev=/images?q=school&amp;start=20&amp;hl=hr&amp;sa=N&amp;gbv=2&amp;tbm=isch&amp;itbs=1" TargetMode="External"/><Relationship Id="rId7" Type="http://schemas.openxmlformats.org/officeDocument/2006/relationships/image" Target="../media/image6.jpeg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hr/imgres?imgurl=http://eettmilton.pbworks.com/f/1281454513/science[1].gif&amp;imgrefurl=http://eettmilton.pbworks.com/&amp;usg=__-21AlXvG_gmHlPTqfU6mK5K5Wpo=&amp;h=781&amp;w=672&amp;sz=22&amp;hl=hr&amp;start=12&amp;zoom=1&amp;tbnid=7j9Ws8M4r4XVMM:&amp;tbnh=143&amp;tbnw=123&amp;ei=RKmETuOXKY_Z4QSaw_HFDw&amp;prev=/search?q=science&amp;hl=hr&amp;sa=X&amp;gbv=2&amp;tbm=isch&amp;prmd=ivnsbl&amp;itbs=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google.hr/imgres?imgurl=http://www.universetoday.com/wp-content/uploads/2008/01/General-Science.jpg&amp;imgrefurl=http://www.universetoday.com/83736/importance-of-science/&amp;usg=__Y_D1GDiTIAv8j1lEKwjZFkhE_F4=&amp;h=400&amp;w=320&amp;sz=36&amp;hl=hr&amp;start=8&amp;zoom=1&amp;tbnid=ZVI1ZVy1xhTLlM:&amp;tbnh=124&amp;tbnw=99&amp;ei=RKmETuOXKY_Z4QSaw_HFDw&amp;prev=/search?q=science&amp;hl=hr&amp;sa=X&amp;gbv=2&amp;tbm=isch&amp;prmd=ivnsbl&amp;itbs=1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wm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643040" y="2142720"/>
            <a:ext cx="73152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r-HR" sz="2900" spc="-1" strike="noStrike">
                <a:solidFill>
                  <a:srgbClr val="1f497d"/>
                </a:solidFill>
                <a:latin typeface="Corbel"/>
              </a:rPr>
              <a:t> </a:t>
            </a:r>
            <a:r>
              <a:rPr b="1" lang="hr-HR" sz="2800" spc="-1" strike="noStrike">
                <a:solidFill>
                  <a:srgbClr val="002060"/>
                </a:solidFill>
                <a:latin typeface="Comic Sans MS"/>
              </a:rPr>
              <a:t>PRIMJENA TRODIMENZIONALNOG MODELA U PROCESU  STJECANJA ZNANJA O KONCEPTU TVARI </a:t>
            </a:r>
            <a:br>
              <a:rPr sz="2800"/>
            </a:br>
            <a:r>
              <a:rPr b="1" lang="hr-HR" sz="2800" spc="-1" strike="noStrike">
                <a:solidFill>
                  <a:srgbClr val="002060"/>
                </a:solidFill>
                <a:latin typeface="Comic Sans MS"/>
              </a:rPr>
              <a:t>U OSNOVNOJ ŠKOLI</a:t>
            </a:r>
            <a:endParaRPr b="0" lang="en-US" sz="28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2" name="Subtitle 2"/>
          <p:cNvSpPr/>
          <p:nvPr/>
        </p:nvSpPr>
        <p:spPr>
          <a:xfrm>
            <a:off x="2071800" y="142920"/>
            <a:ext cx="485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MEĐUŽUPANIJSKI STRUČNI S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za učitelje kemij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siječanj 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6896160" y="0"/>
            <a:ext cx="2230200" cy="1285920"/>
          </a:xfrm>
          <a:prstGeom prst="rect">
            <a:avLst/>
          </a:prstGeom>
          <a:ln w="0">
            <a:noFill/>
          </a:ln>
        </p:spPr>
      </p:pic>
      <p:sp>
        <p:nvSpPr>
          <p:cNvPr id="354" name="Subtitle 9"/>
          <p:cNvSpPr/>
          <p:nvPr/>
        </p:nvSpPr>
        <p:spPr>
          <a:xfrm>
            <a:off x="2357280" y="6357960"/>
            <a:ext cx="5143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hr-HR" sz="1600" spc="-1" strike="noStrike">
                <a:solidFill>
                  <a:srgbClr val="404040"/>
                </a:solidFill>
                <a:latin typeface="Comic Sans MS"/>
              </a:rPr>
              <a:t>D. Mrvoš-Sermek, M. Tolj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0" y="5214600"/>
            <a:ext cx="45720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r-HR" sz="1800" spc="-1" strike="noStrike">
                <a:solidFill>
                  <a:srgbClr val="002060"/>
                </a:solidFill>
                <a:latin typeface="Comic Sans MS"/>
              </a:rPr>
              <a:t>mr.sc. Marijana Bastić, učitelj mento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r-HR" sz="1800" spc="-1" strike="noStrike">
                <a:solidFill>
                  <a:srgbClr val="002060"/>
                </a:solidFill>
                <a:latin typeface="Comic Sans MS"/>
              </a:rPr>
              <a:t>OŠ Rudeš, Zagreb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TekstniOkvir 1"/>
          <p:cNvGrpSpPr/>
          <p:nvPr/>
        </p:nvGrpSpPr>
        <p:grpSpPr>
          <a:xfrm>
            <a:off x="324000" y="304920"/>
            <a:ext cx="8459640" cy="512640"/>
            <a:chOff x="324000" y="304920"/>
            <a:chExt cx="8459640" cy="512640"/>
          </a:xfrm>
        </p:grpSpPr>
        <p:pic>
          <p:nvPicPr>
            <p:cNvPr id="391" name="TekstniOkvir 1" descr=""/>
            <p:cNvPicPr/>
            <p:nvPr/>
          </p:nvPicPr>
          <p:blipFill>
            <a:blip r:embed="rId1"/>
            <a:stretch/>
          </p:blipFill>
          <p:spPr>
            <a:xfrm>
              <a:off x="324000" y="304920"/>
              <a:ext cx="8459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428760" y="357120"/>
              <a:ext cx="828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Comic Sans MS"/>
                </a:rPr>
                <a:t>Faze istraživanja i vrijeme provođenja eksperimenta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3" name="Dijagram 2" descr=""/>
          <p:cNvPicPr/>
          <p:nvPr/>
        </p:nvPicPr>
        <p:blipFill>
          <a:blip r:embed="rId2"/>
          <a:stretch/>
        </p:blipFill>
        <p:spPr>
          <a:xfrm>
            <a:off x="208080" y="914400"/>
            <a:ext cx="872784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Naslov 4"/>
          <p:cNvSpPr/>
          <p:nvPr/>
        </p:nvSpPr>
        <p:spPr>
          <a:xfrm>
            <a:off x="214200" y="285840"/>
            <a:ext cx="8382240" cy="535680"/>
          </a:xfrm>
          <a:prstGeom prst="rect">
            <a:avLst/>
          </a:prstGeom>
          <a:noFill/>
          <a:ln w="0">
            <a:noFill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r-HR" sz="2900" spc="-1" strike="noStrike">
                <a:solidFill>
                  <a:srgbClr val="1f497d"/>
                </a:solidFill>
                <a:latin typeface="Comic Sans MS"/>
              </a:rPr>
              <a:t>EKSPERIMENTALNI ČIMBENICI I MODELI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Rezervirano mjesto teksta 2"/>
          <p:cNvGrpSpPr/>
          <p:nvPr/>
        </p:nvGrpSpPr>
        <p:grpSpPr>
          <a:xfrm>
            <a:off x="291960" y="1517760"/>
            <a:ext cx="4176720" cy="603000"/>
            <a:chOff x="291960" y="1517760"/>
            <a:chExt cx="4176720" cy="603000"/>
          </a:xfrm>
        </p:grpSpPr>
        <p:pic>
          <p:nvPicPr>
            <p:cNvPr id="396" name="Rezervirano mjesto teksta 2" descr=""/>
            <p:cNvPicPr/>
            <p:nvPr/>
          </p:nvPicPr>
          <p:blipFill>
            <a:blip r:embed="rId1"/>
            <a:stretch/>
          </p:blipFill>
          <p:spPr>
            <a:xfrm>
              <a:off x="291960" y="1517760"/>
              <a:ext cx="4176720" cy="6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357120" y="1571760"/>
              <a:ext cx="4041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4f81bd"/>
                </a:buClr>
                <a:buSzPct val="70000"/>
                <a:buFont typeface="Wingdings" charset="2"/>
                <a:buChar char="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Comic Sans MS"/>
                </a:rPr>
                <a:t>Aktivne strategije poučavan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Rezervirano mjesto teksta 3"/>
          <p:cNvGrpSpPr/>
          <p:nvPr/>
        </p:nvGrpSpPr>
        <p:grpSpPr>
          <a:xfrm>
            <a:off x="4645080" y="1517760"/>
            <a:ext cx="4174920" cy="603000"/>
            <a:chOff x="4645080" y="1517760"/>
            <a:chExt cx="4174920" cy="603000"/>
          </a:xfrm>
        </p:grpSpPr>
        <p:pic>
          <p:nvPicPr>
            <p:cNvPr id="399" name="Rezervirano mjesto teksta 3" descr=""/>
            <p:cNvPicPr/>
            <p:nvPr/>
          </p:nvPicPr>
          <p:blipFill>
            <a:blip r:embed="rId2"/>
            <a:stretch/>
          </p:blipFill>
          <p:spPr>
            <a:xfrm>
              <a:off x="4645080" y="1517760"/>
              <a:ext cx="4174920" cy="6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4714920" y="1571760"/>
              <a:ext cx="4041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4f81bd"/>
                </a:buClr>
                <a:buSzPct val="70000"/>
                <a:buFont typeface="Wingdings" charset="2"/>
                <a:buChar char="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Comic Sans MS"/>
                </a:rPr>
                <a:t>Nastavno sredst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1" name="Rezervirano mjesto sadržaja 8" descr="C:\Documents and Settings\Marijana Bastić\My Documents\My Pictures\vrste tvari - magistarski\2010_06_08\P6080020.JPG"/>
          <p:cNvPicPr/>
          <p:nvPr/>
        </p:nvPicPr>
        <p:blipFill>
          <a:blip r:embed="rId3"/>
          <a:stretch/>
        </p:blipFill>
        <p:spPr>
          <a:xfrm>
            <a:off x="357120" y="2286000"/>
            <a:ext cx="4041720" cy="3027240"/>
          </a:xfrm>
          <a:prstGeom prst="rect">
            <a:avLst/>
          </a:prstGeom>
          <a:ln w="0">
            <a:noFill/>
          </a:ln>
        </p:spPr>
      </p:pic>
      <p:pic>
        <p:nvPicPr>
          <p:cNvPr id="402" name="Rezervirano mjesto sadržaja 4" descr="C:\Documents and Settings\Marijana Bastić\My Documents\My Pictures\eko fast food 2011\spajalice\2011_06_27\P6270155.JPG"/>
          <p:cNvPicPr/>
          <p:nvPr/>
        </p:nvPicPr>
        <p:blipFill>
          <a:blip r:embed="rId4"/>
          <a:stretch/>
        </p:blipFill>
        <p:spPr>
          <a:xfrm>
            <a:off x="4714920" y="2286000"/>
            <a:ext cx="4041720" cy="3000240"/>
          </a:xfrm>
          <a:prstGeom prst="rect">
            <a:avLst/>
          </a:prstGeom>
          <a:ln w="0">
            <a:noFill/>
          </a:ln>
        </p:spPr>
      </p:pic>
      <p:grpSp>
        <p:nvGrpSpPr>
          <p:cNvPr id="403" name="TekstniOkvir 6"/>
          <p:cNvGrpSpPr/>
          <p:nvPr/>
        </p:nvGrpSpPr>
        <p:grpSpPr>
          <a:xfrm>
            <a:off x="255600" y="5522760"/>
            <a:ext cx="4267080" cy="785880"/>
            <a:chOff x="255600" y="5522760"/>
            <a:chExt cx="4267080" cy="785880"/>
          </a:xfrm>
        </p:grpSpPr>
        <p:pic>
          <p:nvPicPr>
            <p:cNvPr id="404" name="TekstniOkvir 6" descr=""/>
            <p:cNvPicPr/>
            <p:nvPr/>
          </p:nvPicPr>
          <p:blipFill>
            <a:blip r:embed="rId5"/>
            <a:stretch/>
          </p:blipFill>
          <p:spPr>
            <a:xfrm>
              <a:off x="255600" y="5522760"/>
              <a:ext cx="426708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357120" y="5572080"/>
              <a:ext cx="407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Comic Sans MS"/>
                </a:rPr>
                <a:t>Aktivno vođeno i samostalno aktivno učenje radom u grupam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TekstniOkvir 7"/>
          <p:cNvGrpSpPr/>
          <p:nvPr/>
        </p:nvGrpSpPr>
        <p:grpSpPr>
          <a:xfrm>
            <a:off x="4608360" y="5522760"/>
            <a:ext cx="4267440" cy="1067040"/>
            <a:chOff x="4608360" y="5522760"/>
            <a:chExt cx="4267440" cy="1067040"/>
          </a:xfrm>
        </p:grpSpPr>
        <p:pic>
          <p:nvPicPr>
            <p:cNvPr id="407" name="TekstniOkvir 7" descr=""/>
            <p:cNvPicPr/>
            <p:nvPr/>
          </p:nvPicPr>
          <p:blipFill>
            <a:blip r:embed="rId6"/>
            <a:stretch/>
          </p:blipFill>
          <p:spPr>
            <a:xfrm>
              <a:off x="4608360" y="5522760"/>
              <a:ext cx="426744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4714920" y="5572080"/>
              <a:ext cx="4071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Comic Sans MS"/>
                </a:rPr>
                <a:t>Sadržaj seta koverti s 3D modelima od spajalica potrebnih za rad jedne grup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1520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r-HR" sz="2500" spc="-1" strike="noStrike">
                <a:solidFill>
                  <a:srgbClr val="1f497d"/>
                </a:solidFill>
                <a:latin typeface="Comic Sans MS"/>
              </a:rPr>
              <a:t>RADIONICA  - </a:t>
            </a:r>
            <a:r>
              <a:rPr b="0" lang="hr-HR" sz="2500" spc="-1" strike="noStrike">
                <a:solidFill>
                  <a:srgbClr val="1f497d"/>
                </a:solidFill>
                <a:latin typeface="Comic Sans MS"/>
              </a:rPr>
              <a:t>UPORABA 3D MODELA OD SPAJALICA U </a:t>
            </a:r>
            <a:r>
              <a:rPr b="0" lang="hr-HR" sz="25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0" lang="hr-HR" sz="25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0" lang="hr-HR" sz="2500" spc="-1" strike="noStrike">
                <a:solidFill>
                  <a:srgbClr val="1f497d"/>
                </a:solidFill>
                <a:latin typeface="Comic Sans MS"/>
              </a:rPr>
              <a:t>USUSTAVLJIVANJU NASTAVNIH SADRŽAJA O </a:t>
            </a:r>
            <a:r>
              <a:rPr b="0" lang="hr-HR" sz="25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0" lang="hr-HR" sz="25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0" lang="hr-HR" sz="2500" spc="-1" strike="noStrike">
                <a:solidFill>
                  <a:srgbClr val="1f497d"/>
                </a:solidFill>
                <a:latin typeface="Comic Sans MS"/>
              </a:rPr>
              <a:t>VRSTAMA I GRAĐI TVARI</a:t>
            </a:r>
            <a:br>
              <a:rPr sz="2500"/>
            </a:br>
            <a:endParaRPr b="0" lang="en-US" sz="25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0" name="TekstniOkvir 3"/>
          <p:cNvSpPr/>
          <p:nvPr/>
        </p:nvSpPr>
        <p:spPr>
          <a:xfrm>
            <a:off x="928800" y="1785960"/>
            <a:ext cx="6429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kstniOkvir 4"/>
          <p:cNvSpPr/>
          <p:nvPr/>
        </p:nvSpPr>
        <p:spPr>
          <a:xfrm>
            <a:off x="357120" y="26431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Samostalno dopunite tablicu i izradite potrebne modele od spajalica na temelju zadanih kriteri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Odgovorite na pitanja na naličju radnog listić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Radom u paru, a onda unutar grupe prokomentirajte rješ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lowchart: Terminator 5"/>
          <p:cNvSpPr/>
          <p:nvPr/>
        </p:nvSpPr>
        <p:spPr>
          <a:xfrm>
            <a:off x="357120" y="1785960"/>
            <a:ext cx="3097440" cy="647640"/>
          </a:xfrm>
          <a:prstGeom prst="flowChartTerminator">
            <a:avLst/>
          </a:prstGeom>
          <a:solidFill>
            <a:srgbClr val="e6b9b8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Vrijeme: 30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lowchart: Terminator 5"/>
          <p:cNvSpPr/>
          <p:nvPr/>
        </p:nvSpPr>
        <p:spPr>
          <a:xfrm>
            <a:off x="428760" y="4786200"/>
            <a:ext cx="3097080" cy="647640"/>
          </a:xfrm>
          <a:prstGeom prst="flowChartTerminator">
            <a:avLst/>
          </a:prstGeom>
          <a:solidFill>
            <a:srgbClr val="e6b9b8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Vrijeme: 25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kstniOkvir 11"/>
          <p:cNvSpPr/>
          <p:nvPr/>
        </p:nvSpPr>
        <p:spPr>
          <a:xfrm>
            <a:off x="428760" y="557208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Izlaganje predstavnika gru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Naslov 4"/>
          <p:cNvGrpSpPr/>
          <p:nvPr/>
        </p:nvGrpSpPr>
        <p:grpSpPr>
          <a:xfrm>
            <a:off x="324000" y="1238400"/>
            <a:ext cx="8399160" cy="511200"/>
            <a:chOff x="324000" y="1238400"/>
            <a:chExt cx="8399160" cy="511200"/>
          </a:xfrm>
        </p:grpSpPr>
        <p:pic>
          <p:nvPicPr>
            <p:cNvPr id="416" name="Naslov 4" descr=""/>
            <p:cNvPicPr/>
            <p:nvPr/>
          </p:nvPicPr>
          <p:blipFill>
            <a:blip r:embed="rId1"/>
            <a:stretch/>
          </p:blipFill>
          <p:spPr>
            <a:xfrm>
              <a:off x="324000" y="1238400"/>
              <a:ext cx="839916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428760" y="128592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Comic Sans MS"/>
                </a:rPr>
                <a:t>MJERNI  INSTRUMENTI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8" name="Rezervirano mjesto sadržaja 4" descr=""/>
          <p:cNvPicPr/>
          <p:nvPr/>
        </p:nvPicPr>
        <p:blipFill>
          <a:blip r:embed="rId2"/>
          <a:stretch/>
        </p:blipFill>
        <p:spPr>
          <a:xfrm>
            <a:off x="433440" y="2494080"/>
            <a:ext cx="8308800" cy="3297240"/>
          </a:xfrm>
          <a:prstGeom prst="rect">
            <a:avLst/>
          </a:prstGeom>
          <a:ln w="0">
            <a:noFill/>
          </a:ln>
        </p:spPr>
      </p:pic>
      <p:sp>
        <p:nvSpPr>
          <p:cNvPr id="419" name="TekstniOkvir 3"/>
          <p:cNvSpPr/>
          <p:nvPr/>
        </p:nvSpPr>
        <p:spPr>
          <a:xfrm>
            <a:off x="3714840" y="221472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Lipanj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kstniOkvir 4"/>
          <p:cNvSpPr/>
          <p:nvPr/>
        </p:nvSpPr>
        <p:spPr>
          <a:xfrm>
            <a:off x="3786120" y="585792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Lipanj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Naslov 1"/>
          <p:cNvSpPr/>
          <p:nvPr/>
        </p:nvSpPr>
        <p:spPr>
          <a:xfrm>
            <a:off x="457200" y="274680"/>
            <a:ext cx="74674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r-HR" sz="2800" spc="-1" strike="noStrike">
                <a:solidFill>
                  <a:srgbClr val="1f497d"/>
                </a:solidFill>
                <a:latin typeface="Comic Sans MS"/>
              </a:rPr>
              <a:t>REZULTATI KVANTITATIVNE ANA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Naslov 4"/>
          <p:cNvGrpSpPr/>
          <p:nvPr/>
        </p:nvGrpSpPr>
        <p:grpSpPr>
          <a:xfrm>
            <a:off x="324000" y="450720"/>
            <a:ext cx="8399160" cy="513000"/>
            <a:chOff x="324000" y="450720"/>
            <a:chExt cx="8399160" cy="513000"/>
          </a:xfrm>
        </p:grpSpPr>
        <p:pic>
          <p:nvPicPr>
            <p:cNvPr id="423" name="Naslov 4" descr=""/>
            <p:cNvPicPr/>
            <p:nvPr/>
          </p:nvPicPr>
          <p:blipFill>
            <a:blip r:embed="rId1"/>
            <a:stretch/>
          </p:blipFill>
          <p:spPr>
            <a:xfrm>
              <a:off x="324000" y="450720"/>
              <a:ext cx="839916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428760" y="50076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Comic Sans MS"/>
                </a:rPr>
                <a:t>Ujednačenost eksperimentalne i kontrolne  skupine prema spol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5" name="Rezervirano mjesto sadržaja 4" descr=""/>
          <p:cNvPicPr/>
          <p:nvPr/>
        </p:nvPicPr>
        <p:blipFill>
          <a:blip r:embed="rId2"/>
          <a:stretch/>
        </p:blipFill>
        <p:spPr>
          <a:xfrm>
            <a:off x="493560" y="1920960"/>
            <a:ext cx="7126560" cy="4119480"/>
          </a:xfrm>
          <a:prstGeom prst="rect">
            <a:avLst/>
          </a:prstGeom>
          <a:ln w="0">
            <a:noFill/>
          </a:ln>
        </p:spPr>
      </p:pic>
      <p:grpSp>
        <p:nvGrpSpPr>
          <p:cNvPr id="426" name="TekstniOkvir 6"/>
          <p:cNvGrpSpPr/>
          <p:nvPr/>
        </p:nvGrpSpPr>
        <p:grpSpPr>
          <a:xfrm>
            <a:off x="6540480" y="5376960"/>
            <a:ext cx="2243160" cy="1347840"/>
            <a:chOff x="6540480" y="5376960"/>
            <a:chExt cx="2243160" cy="1347840"/>
          </a:xfrm>
        </p:grpSpPr>
        <p:pic>
          <p:nvPicPr>
            <p:cNvPr id="427" name="TekstniOkvir 6" descr=""/>
            <p:cNvPicPr/>
            <p:nvPr/>
          </p:nvPicPr>
          <p:blipFill>
            <a:blip r:embed="rId3"/>
            <a:stretch/>
          </p:blipFill>
          <p:spPr>
            <a:xfrm>
              <a:off x="6540480" y="5376960"/>
              <a:ext cx="224316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6643800" y="5429160"/>
              <a:ext cx="2071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Comic Sans MS"/>
                </a:rPr>
                <a:t>Razlike u spolnoj raspodjeli nisu statistički značajn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Naslov 4"/>
          <p:cNvGrpSpPr/>
          <p:nvPr/>
        </p:nvGrpSpPr>
        <p:grpSpPr>
          <a:xfrm>
            <a:off x="324000" y="378000"/>
            <a:ext cx="8399160" cy="785520"/>
            <a:chOff x="324000" y="378000"/>
            <a:chExt cx="8399160" cy="785520"/>
          </a:xfrm>
        </p:grpSpPr>
        <p:pic>
          <p:nvPicPr>
            <p:cNvPr id="430" name="Naslov 4" descr=""/>
            <p:cNvPicPr/>
            <p:nvPr/>
          </p:nvPicPr>
          <p:blipFill>
            <a:blip r:embed="rId1"/>
            <a:stretch/>
          </p:blipFill>
          <p:spPr>
            <a:xfrm>
              <a:off x="324000" y="378000"/>
              <a:ext cx="8399160" cy="78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428760" y="430200"/>
              <a:ext cx="822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Comic Sans MS"/>
                </a:rPr>
                <a:t>Ujednačenost eksperimentalne i kontrolne  skupine prema zaključnim ocjenama  i motiviranosti pri prvom ispitivanj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2" name="Rezervirano mjesto sadržaja 4" descr=""/>
          <p:cNvPicPr/>
          <p:nvPr/>
        </p:nvPicPr>
        <p:blipFill>
          <a:blip r:embed="rId2"/>
          <a:stretch/>
        </p:blipFill>
        <p:spPr>
          <a:xfrm>
            <a:off x="566640" y="2139840"/>
            <a:ext cx="6267600" cy="4157640"/>
          </a:xfrm>
          <a:prstGeom prst="rect">
            <a:avLst/>
          </a:prstGeom>
          <a:ln w="0">
            <a:noFill/>
          </a:ln>
        </p:spPr>
      </p:pic>
      <p:grpSp>
        <p:nvGrpSpPr>
          <p:cNvPr id="433" name="TekstniOkvir 3"/>
          <p:cNvGrpSpPr/>
          <p:nvPr/>
        </p:nvGrpSpPr>
        <p:grpSpPr>
          <a:xfrm>
            <a:off x="6754680" y="4803840"/>
            <a:ext cx="2028960" cy="1901880"/>
            <a:chOff x="6754680" y="4803840"/>
            <a:chExt cx="2028960" cy="1901880"/>
          </a:xfrm>
        </p:grpSpPr>
        <p:pic>
          <p:nvPicPr>
            <p:cNvPr id="434" name="TekstniOkvir 3" descr=""/>
            <p:cNvPicPr/>
            <p:nvPr/>
          </p:nvPicPr>
          <p:blipFill>
            <a:blip r:embed="rId3"/>
            <a:stretch/>
          </p:blipFill>
          <p:spPr>
            <a:xfrm>
              <a:off x="6754680" y="4803840"/>
              <a:ext cx="2028960" cy="19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6858000" y="4857840"/>
              <a:ext cx="18572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Comic Sans MS"/>
                </a:rPr>
                <a:t>Nema statistički značajne razlike u ocjenama  i motiviranost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Naslov 4"/>
          <p:cNvGrpSpPr/>
          <p:nvPr/>
        </p:nvGrpSpPr>
        <p:grpSpPr>
          <a:xfrm>
            <a:off x="324000" y="450720"/>
            <a:ext cx="8399160" cy="781200"/>
            <a:chOff x="324000" y="450720"/>
            <a:chExt cx="8399160" cy="781200"/>
          </a:xfrm>
        </p:grpSpPr>
        <p:pic>
          <p:nvPicPr>
            <p:cNvPr id="437" name="Naslov 4" descr=""/>
            <p:cNvPicPr/>
            <p:nvPr/>
          </p:nvPicPr>
          <p:blipFill>
            <a:blip r:embed="rId1"/>
            <a:stretch/>
          </p:blipFill>
          <p:spPr>
            <a:xfrm>
              <a:off x="324000" y="450720"/>
              <a:ext cx="83991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428760" y="500040"/>
              <a:ext cx="822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Comic Sans MS"/>
                </a:rPr>
                <a:t>Analiza utjecaja  različitih metoda poučavanja na rezultate učenika u ispitima znanja i sposobnost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9" name="Rezervirano mjesto sadržaja 4" descr=""/>
          <p:cNvPicPr/>
          <p:nvPr/>
        </p:nvPicPr>
        <p:blipFill>
          <a:blip r:embed="rId2"/>
          <a:stretch/>
        </p:blipFill>
        <p:spPr>
          <a:xfrm>
            <a:off x="1000080" y="1785960"/>
            <a:ext cx="70214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Naslov 4"/>
          <p:cNvGrpSpPr/>
          <p:nvPr/>
        </p:nvGrpSpPr>
        <p:grpSpPr>
          <a:xfrm>
            <a:off x="324000" y="450720"/>
            <a:ext cx="8399160" cy="513000"/>
            <a:chOff x="324000" y="450720"/>
            <a:chExt cx="8399160" cy="513000"/>
          </a:xfrm>
        </p:grpSpPr>
        <p:pic>
          <p:nvPicPr>
            <p:cNvPr id="441" name="Naslov 4" descr=""/>
            <p:cNvPicPr/>
            <p:nvPr/>
          </p:nvPicPr>
          <p:blipFill>
            <a:blip r:embed="rId1"/>
            <a:stretch/>
          </p:blipFill>
          <p:spPr>
            <a:xfrm>
              <a:off x="324000" y="450720"/>
              <a:ext cx="839916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428760" y="50076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Comic Sans MS"/>
                </a:rPr>
                <a:t>Analiza utjecaja  različitih metoda poučavanja na ocjene iz kemi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3" name="Rezervirano mjesto sadržaja 4" descr=""/>
          <p:cNvPicPr/>
          <p:nvPr/>
        </p:nvPicPr>
        <p:blipFill>
          <a:blip r:embed="rId2"/>
          <a:stretch/>
        </p:blipFill>
        <p:spPr>
          <a:xfrm>
            <a:off x="785880" y="1857240"/>
            <a:ext cx="70214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Naslov 4"/>
          <p:cNvGrpSpPr/>
          <p:nvPr/>
        </p:nvGrpSpPr>
        <p:grpSpPr>
          <a:xfrm>
            <a:off x="324000" y="311040"/>
            <a:ext cx="8326440" cy="785880"/>
            <a:chOff x="324000" y="311040"/>
            <a:chExt cx="8326440" cy="785880"/>
          </a:xfrm>
        </p:grpSpPr>
        <p:pic>
          <p:nvPicPr>
            <p:cNvPr id="445" name="Naslov 4" descr=""/>
            <p:cNvPicPr/>
            <p:nvPr/>
          </p:nvPicPr>
          <p:blipFill>
            <a:blip r:embed="rId1"/>
            <a:stretch/>
          </p:blipFill>
          <p:spPr>
            <a:xfrm>
              <a:off x="324000" y="311040"/>
              <a:ext cx="832644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428760" y="358920"/>
              <a:ext cx="807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Comic Sans MS"/>
                </a:rPr>
                <a:t>Analiza utjecaja  različitih metoda poučavanja na razinu motivacije     za učenje kemi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7" name="Rezervirano mjesto sadržaja 4" descr=""/>
          <p:cNvPicPr/>
          <p:nvPr/>
        </p:nvPicPr>
        <p:blipFill>
          <a:blip r:embed="rId2"/>
          <a:stretch/>
        </p:blipFill>
        <p:spPr>
          <a:xfrm>
            <a:off x="493560" y="1852560"/>
            <a:ext cx="5774040" cy="4121280"/>
          </a:xfrm>
          <a:prstGeom prst="rect">
            <a:avLst/>
          </a:prstGeom>
          <a:ln w="0">
            <a:noFill/>
          </a:ln>
        </p:spPr>
      </p:pic>
      <p:grpSp>
        <p:nvGrpSpPr>
          <p:cNvPr id="448" name="TekstniOkvir 3"/>
          <p:cNvGrpSpPr/>
          <p:nvPr/>
        </p:nvGrpSpPr>
        <p:grpSpPr>
          <a:xfrm>
            <a:off x="6394320" y="4737240"/>
            <a:ext cx="2389320" cy="1895400"/>
            <a:chOff x="6394320" y="4737240"/>
            <a:chExt cx="2389320" cy="1895400"/>
          </a:xfrm>
        </p:grpSpPr>
        <p:pic>
          <p:nvPicPr>
            <p:cNvPr id="449" name="TekstniOkvir 3" descr=""/>
            <p:cNvPicPr/>
            <p:nvPr/>
          </p:nvPicPr>
          <p:blipFill>
            <a:blip r:embed="rId3"/>
            <a:stretch/>
          </p:blipFill>
          <p:spPr>
            <a:xfrm>
              <a:off x="6394320" y="4737240"/>
              <a:ext cx="238932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6500880" y="4786200"/>
              <a:ext cx="2214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Comic Sans MS"/>
                </a:rPr>
                <a:t>Učenici ES pokazuju statistički značajno veću motivaciju u drugom ispitivanj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0010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r-HR" sz="2400" spc="-1" strike="noStrike">
                <a:solidFill>
                  <a:srgbClr val="1f497d"/>
                </a:solidFill>
                <a:latin typeface="Comic Sans MS"/>
              </a:rPr>
              <a:t>REZULTATI KVALITATIVNE/SADRŽAJNE ANALIZE ODABRANIH ZADATAKA U DRUGOM (ZAVRŠNOM) ISPITU ZNANJA I SPOSOBNOSTI</a:t>
            </a:r>
            <a:endParaRPr b="0" lang="en-US" sz="24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214200" y="1643040"/>
            <a:ext cx="83584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Konceptualna pitanja otvorenog tipa (zadaci produženog odgovora, umne mape, slikovni zadaci) su pogodni za otkrivanje učeničkih miskoncepat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Odgovori učenika su promatrani u odnosu n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a) uspjeh (zaključna ocjena iz kemije na kraju prvog polugodišta osmog razred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b) prema zastupljenosti uočenih miskoncepat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3" name="Picture 6" descr="http://t0.gstatic.com/images?q=tbn:ANd9GcTZX8O0H73Atm0LQQS6eLl-PvPrbUZpfrNek2u-PZlNDTOhN9ARTB3uBA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5313240"/>
            <a:ext cx="185724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r-HR" sz="2700" spc="-1" strike="noStrike">
                <a:solidFill>
                  <a:srgbClr val="1f497d"/>
                </a:solidFill>
                <a:latin typeface="Comic Sans MS"/>
              </a:rPr>
              <a:t>TIJEK RADA/AKTIVNOSTI</a:t>
            </a:r>
            <a:endParaRPr b="0" lang="en-US" sz="27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56760" y="1499760"/>
            <a:ext cx="771516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Uvodni dio ≈ 15 mi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rezentacija istraživanj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Glavni dio ≈ 30+20 m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radionica – uporaba 3D modela od spajalica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u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usustavljivanju nastavnih sadržaja o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vrstama i građi tvari + izlaganje predstavnika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gru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Završni dio ≈ 10+15 min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– prezentacija rezultata istraživanja,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zaključci i smjernice za daljnji ra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6" descr="C:\Program Files\Microsoft Office\MEDIA\CAGCAT10\j0287005.wmf"/>
          <p:cNvPicPr/>
          <p:nvPr/>
        </p:nvPicPr>
        <p:blipFill>
          <a:blip r:embed="rId1"/>
          <a:stretch/>
        </p:blipFill>
        <p:spPr>
          <a:xfrm rot="16200000">
            <a:off x="6577560" y="57960"/>
            <a:ext cx="164304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TekstniOkvir 1"/>
          <p:cNvGrpSpPr/>
          <p:nvPr/>
        </p:nvGrpSpPr>
        <p:grpSpPr>
          <a:xfrm>
            <a:off x="109440" y="171360"/>
            <a:ext cx="8601120" cy="1474920"/>
            <a:chOff x="109440" y="171360"/>
            <a:chExt cx="8601120" cy="1474920"/>
          </a:xfrm>
        </p:grpSpPr>
        <p:pic>
          <p:nvPicPr>
            <p:cNvPr id="455" name="TekstniOkvir 1" descr=""/>
            <p:cNvPicPr/>
            <p:nvPr/>
          </p:nvPicPr>
          <p:blipFill>
            <a:blip r:embed="rId1"/>
            <a:stretch/>
          </p:blipFill>
          <p:spPr>
            <a:xfrm>
              <a:off x="109440" y="171360"/>
              <a:ext cx="860112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214200" y="214200"/>
              <a:ext cx="842976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Comic Sans MS"/>
                </a:rPr>
                <a:t>Umna mapa koju su učenici trebali dopuniti u ovom zadatku poslužila je kao dijagnostičko sredstvo u procjeni usvojenosti i retencije znanja o konceptu tvar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7" name="Slika 1" descr="C:\Documents and Settings\Marijana Bastić\My Documents\My Pictures\Picture\Picture 004.jpg"/>
          <p:cNvPicPr/>
          <p:nvPr/>
        </p:nvPicPr>
        <p:blipFill>
          <a:blip r:embed="rId2"/>
          <a:stretch/>
        </p:blipFill>
        <p:spPr>
          <a:xfrm>
            <a:off x="1285920" y="1571760"/>
            <a:ext cx="6286320" cy="4286160"/>
          </a:xfrm>
          <a:prstGeom prst="rect">
            <a:avLst/>
          </a:prstGeom>
          <a:ln w="0">
            <a:noFill/>
          </a:ln>
        </p:spPr>
      </p:pic>
      <p:sp>
        <p:nvSpPr>
          <p:cNvPr id="458" name="TekstniOkvir 3"/>
          <p:cNvSpPr/>
          <p:nvPr/>
        </p:nvSpPr>
        <p:spPr>
          <a:xfrm>
            <a:off x="571680" y="5934240"/>
            <a:ext cx="75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Učenici ES s niskom uspješnošću (18 od 36 bodova) na cjelokupnom ispitu znanja i sposobnosti ne rješavaju problem na II. razini kada je riječ o sastavu smjesa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Slika 2" descr="C:\Documents and Settings\Marijana Bastić\My Documents\My Pictures\Picture\Picture 005.jpg"/>
          <p:cNvPicPr/>
          <p:nvPr/>
        </p:nvPicPr>
        <p:blipFill>
          <a:blip r:embed="rId1"/>
          <a:stretch/>
        </p:blipFill>
        <p:spPr>
          <a:xfrm>
            <a:off x="1000080" y="285840"/>
            <a:ext cx="7059600" cy="5072040"/>
          </a:xfrm>
          <a:prstGeom prst="rect">
            <a:avLst/>
          </a:prstGeom>
          <a:ln w="0">
            <a:noFill/>
          </a:ln>
        </p:spPr>
      </p:pic>
      <p:sp>
        <p:nvSpPr>
          <p:cNvPr id="460" name="TekstniOkvir 2"/>
          <p:cNvSpPr/>
          <p:nvPr/>
        </p:nvSpPr>
        <p:spPr>
          <a:xfrm>
            <a:off x="357120" y="550080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Učenici ES s prosječnim rezultatom (23 od 36) bodova  imaju problem razlikovanja elementarnih tvari građenih od atoma od elementarnih tvari građenih od molekula, te molekula kemijskih spojeva i molekula elementarnih tva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Slika 3" descr="C:\Documents and Settings\Marijana Bastić\My Documents\My Pictures\Picture\Picture.jpg"/>
          <p:cNvPicPr/>
          <p:nvPr/>
        </p:nvPicPr>
        <p:blipFill>
          <a:blip r:embed="rId1"/>
          <a:stretch/>
        </p:blipFill>
        <p:spPr>
          <a:xfrm>
            <a:off x="928800" y="208080"/>
            <a:ext cx="7000920" cy="5403600"/>
          </a:xfrm>
          <a:prstGeom prst="rect">
            <a:avLst/>
          </a:prstGeom>
          <a:ln w="0">
            <a:noFill/>
          </a:ln>
        </p:spPr>
      </p:pic>
      <p:sp>
        <p:nvSpPr>
          <p:cNvPr id="462" name="TekstniOkvir 2"/>
          <p:cNvSpPr/>
          <p:nvPr/>
        </p:nvSpPr>
        <p:spPr>
          <a:xfrm>
            <a:off x="285840" y="5715000"/>
            <a:ext cx="79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U učenika ES s visokom uspješnošću (33 od 36) bodova na cjelokupnom ispitu znanja i sposobnosti realna struktura znanja  o smjesama na atomskoj i molekulskoj razini je u skladu s poželjnom strukturom znan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zervirano mjesto sadržaja 2"/>
          <p:cNvSpPr/>
          <p:nvPr/>
        </p:nvSpPr>
        <p:spPr>
          <a:xfrm>
            <a:off x="500040" y="3714840"/>
            <a:ext cx="8229600" cy="285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Učenici i ES i KS pokazuju miskoncept razlikovanja smjesa kao smjesa elementarnih tvari i kemijskih spojeva te smjesa elementarnih tvari građenih od molekula i elementarnih tvari građenih od ato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Prisutno je pogrešno shvaćanje da oznaka “X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” predstavlja molekulu kemijskog spo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TekstniOkvir 3"/>
          <p:cNvGrpSpPr/>
          <p:nvPr/>
        </p:nvGrpSpPr>
        <p:grpSpPr>
          <a:xfrm>
            <a:off x="324000" y="317520"/>
            <a:ext cx="8386560" cy="1839960"/>
            <a:chOff x="324000" y="317520"/>
            <a:chExt cx="8386560" cy="1839960"/>
          </a:xfrm>
        </p:grpSpPr>
        <p:pic>
          <p:nvPicPr>
            <p:cNvPr id="465" name="TekstniOkvir 3" descr=""/>
            <p:cNvPicPr/>
            <p:nvPr/>
          </p:nvPicPr>
          <p:blipFill>
            <a:blip r:embed="rId1"/>
            <a:stretch/>
          </p:blipFill>
          <p:spPr>
            <a:xfrm>
              <a:off x="324000" y="317520"/>
              <a:ext cx="838656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428760" y="357120"/>
              <a:ext cx="82152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Comic Sans MS"/>
                </a:rPr>
                <a:t>Slikovni prikazi s kemijskim simbolima i kemijskim formulama različitih vrsta tvari  imali su za cilj ispitati u kojoj mjeri učenici povezuju koncepte o vrstama i građi tvari na makro razini i atomskoj i molekulskoj razini korištenjem kemijskog pism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7" name="Picture 7" descr=""/>
          <p:cNvPicPr/>
          <p:nvPr/>
        </p:nvPicPr>
        <p:blipFill>
          <a:blip r:embed="rId2"/>
          <a:stretch/>
        </p:blipFill>
        <p:spPr>
          <a:xfrm>
            <a:off x="1500120" y="2143080"/>
            <a:ext cx="583272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zervirano mjesto sadržaja 2"/>
          <p:cNvSpPr/>
          <p:nvPr/>
        </p:nvSpPr>
        <p:spPr>
          <a:xfrm>
            <a:off x="428760" y="3214800"/>
            <a:ext cx="8215200" cy="3286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Učenici KS više opisuju vizualni izgled simboličkog prikaza molekula i atoma (boja, veličina, poredak, gustoća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Ponovljen problem razlikovanja elementarnih tvari građenih od atoma  i elementarnih tvari građenih od molek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Pri identifikaciji agregacijskog stanja  tvari za učenike je najvažniji čimbenik organizacija simbola (koji prikazuju atome ili molekule)  - veze  ili udaljenosti između simb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Puno oscilacija se opaža u odgovorima  pri prikazivanju  sastava i građe tvari na atomskoj i molekulskoj (II.) razi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TekstniOkvir 3"/>
          <p:cNvGrpSpPr/>
          <p:nvPr/>
        </p:nvGrpSpPr>
        <p:grpSpPr>
          <a:xfrm>
            <a:off x="324000" y="378000"/>
            <a:ext cx="8386560" cy="2450880"/>
            <a:chOff x="324000" y="378000"/>
            <a:chExt cx="8386560" cy="2450880"/>
          </a:xfrm>
        </p:grpSpPr>
        <p:pic>
          <p:nvPicPr>
            <p:cNvPr id="470" name="TekstniOkvir 3" descr=""/>
            <p:cNvPicPr/>
            <p:nvPr/>
          </p:nvPicPr>
          <p:blipFill>
            <a:blip r:embed="rId1"/>
            <a:stretch/>
          </p:blipFill>
          <p:spPr>
            <a:xfrm>
              <a:off x="324000" y="378000"/>
              <a:ext cx="8386560" cy="24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428760" y="428760"/>
              <a:ext cx="82152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Comic Sans MS"/>
                </a:rPr>
                <a:t>Slikovni  zadaci  koji prikazuju  građu  tvari su važni za opisivanje prirode  tvari na atomskoj i molekulskoj razini, pri čemu su atomi i molekule simbolički prikazani  različitim krugovima.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Comic Sans MS"/>
                </a:rPr>
                <a:t>Cilj ovakvih zadataka bio je utvrditi u kojoj mjeri učenici OŠ mogu razlikovati i povezati neke temeljne koncepte (</a:t>
              </a:r>
              <a:r>
                <a:rPr b="0" i="1" lang="hr-HR" sz="1800" spc="-1" strike="noStrike">
                  <a:solidFill>
                    <a:srgbClr val="000000"/>
                  </a:solidFill>
                  <a:latin typeface="Comic Sans MS"/>
                </a:rPr>
                <a:t>agregacijsko  stanje, kemijski element, smjesa, kemijski spoj</a:t>
              </a:r>
              <a:r>
                <a:rPr b="0" lang="hr-HR" sz="1800" spc="-1" strike="noStrike">
                  <a:solidFill>
                    <a:srgbClr val="000000"/>
                  </a:solidFill>
                  <a:latin typeface="Comic Sans MS"/>
                </a:rPr>
                <a:t>) te ih primijeniti  pri opisivanju pojedinačnih modela ili uzorak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Group 87"/>
          <p:cNvGrpSpPr/>
          <p:nvPr/>
        </p:nvGrpSpPr>
        <p:grpSpPr>
          <a:xfrm>
            <a:off x="2500200" y="3429000"/>
            <a:ext cx="4000320" cy="3071520"/>
            <a:chOff x="2500200" y="3429000"/>
            <a:chExt cx="4000320" cy="3071520"/>
          </a:xfrm>
        </p:grpSpPr>
        <p:cxnSp>
          <p:nvCxnSpPr>
            <p:cNvPr id="473" name="AutoShape 88"/>
            <p:cNvCxnSpPr/>
            <p:nvPr/>
          </p:nvCxnSpPr>
          <p:spPr>
            <a:xfrm>
              <a:off x="4075200" y="4213800"/>
              <a:ext cx="89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4" name="AutoShape 89"/>
            <p:cNvCxnSpPr/>
            <p:nvPr/>
          </p:nvCxnSpPr>
          <p:spPr>
            <a:xfrm>
              <a:off x="4075200" y="6014160"/>
              <a:ext cx="89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5" name="Rectangle 90"/>
            <p:cNvSpPr/>
            <p:nvPr/>
          </p:nvSpPr>
          <p:spPr>
            <a:xfrm>
              <a:off x="5390640" y="3479760"/>
              <a:ext cx="1109880" cy="123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91"/>
            <p:cNvSpPr/>
            <p:nvPr/>
          </p:nvSpPr>
          <p:spPr>
            <a:xfrm>
              <a:off x="5390640" y="5262840"/>
              <a:ext cx="1109880" cy="123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" name="Group 92"/>
            <p:cNvGrpSpPr/>
            <p:nvPr/>
          </p:nvGrpSpPr>
          <p:grpSpPr>
            <a:xfrm>
              <a:off x="2517480" y="3429000"/>
              <a:ext cx="1124640" cy="1227600"/>
              <a:chOff x="2517480" y="3429000"/>
              <a:chExt cx="1124640" cy="1227600"/>
            </a:xfrm>
          </p:grpSpPr>
          <p:sp>
            <p:nvSpPr>
              <p:cNvPr id="478" name="Rectangle 93"/>
              <p:cNvSpPr/>
              <p:nvPr/>
            </p:nvSpPr>
            <p:spPr>
              <a:xfrm>
                <a:off x="2517480" y="3429000"/>
                <a:ext cx="1124640" cy="1227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9" name="Group 94"/>
              <p:cNvGrpSpPr/>
              <p:nvPr/>
            </p:nvGrpSpPr>
            <p:grpSpPr>
              <a:xfrm>
                <a:off x="2721960" y="3648960"/>
                <a:ext cx="281520" cy="313560"/>
                <a:chOff x="2721960" y="3648960"/>
                <a:chExt cx="281520" cy="313560"/>
              </a:xfrm>
            </p:grpSpPr>
            <p:sp>
              <p:nvSpPr>
                <p:cNvPr id="480" name="Rectangle 95"/>
                <p:cNvSpPr/>
                <p:nvPr/>
              </p:nvSpPr>
              <p:spPr>
                <a:xfrm>
                  <a:off x="2794320" y="3729600"/>
                  <a:ext cx="1364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Oval 96"/>
                <p:cNvSpPr/>
                <p:nvPr/>
              </p:nvSpPr>
              <p:spPr>
                <a:xfrm>
                  <a:off x="2832120" y="3648960"/>
                  <a:ext cx="72360" cy="80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Oval 97"/>
                <p:cNvSpPr/>
                <p:nvPr/>
              </p:nvSpPr>
              <p:spPr>
                <a:xfrm>
                  <a:off x="2931120" y="3784320"/>
                  <a:ext cx="72360" cy="80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Oval 98"/>
                <p:cNvSpPr/>
                <p:nvPr/>
              </p:nvSpPr>
              <p:spPr>
                <a:xfrm>
                  <a:off x="2721960" y="3784320"/>
                  <a:ext cx="72360" cy="80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Oval 99"/>
                <p:cNvSpPr/>
                <p:nvPr/>
              </p:nvSpPr>
              <p:spPr>
                <a:xfrm>
                  <a:off x="2832120" y="3881880"/>
                  <a:ext cx="72360" cy="80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Group 100"/>
              <p:cNvGrpSpPr/>
              <p:nvPr/>
            </p:nvGrpSpPr>
            <p:grpSpPr>
              <a:xfrm>
                <a:off x="2656080" y="4223880"/>
                <a:ext cx="276120" cy="297360"/>
                <a:chOff x="2656080" y="4223880"/>
                <a:chExt cx="276120" cy="297360"/>
              </a:xfrm>
            </p:grpSpPr>
            <p:sp>
              <p:nvSpPr>
                <p:cNvPr id="486" name="Rectangle 101"/>
                <p:cNvSpPr/>
                <p:nvPr/>
              </p:nvSpPr>
              <p:spPr>
                <a:xfrm rot="3271800">
                  <a:off x="2714040" y="4294440"/>
                  <a:ext cx="152280" cy="136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Oval 102"/>
                <p:cNvSpPr/>
                <p:nvPr/>
              </p:nvSpPr>
              <p:spPr>
                <a:xfrm rot="3271800">
                  <a:off x="2838960" y="4271400"/>
                  <a:ext cx="80640" cy="72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Oval 103"/>
                <p:cNvSpPr/>
                <p:nvPr/>
              </p:nvSpPr>
              <p:spPr>
                <a:xfrm rot="3271800">
                  <a:off x="2804040" y="4431240"/>
                  <a:ext cx="80640" cy="72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Oval 104"/>
                <p:cNvSpPr/>
                <p:nvPr/>
              </p:nvSpPr>
              <p:spPr>
                <a:xfrm rot="3271800">
                  <a:off x="2669040" y="4241520"/>
                  <a:ext cx="80640" cy="72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Oval 105"/>
                <p:cNvSpPr/>
                <p:nvPr/>
              </p:nvSpPr>
              <p:spPr>
                <a:xfrm rot="3271800">
                  <a:off x="2668680" y="4392720"/>
                  <a:ext cx="80640" cy="72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" name="Group 106"/>
              <p:cNvGrpSpPr/>
              <p:nvPr/>
            </p:nvGrpSpPr>
            <p:grpSpPr>
              <a:xfrm>
                <a:off x="3293280" y="3918960"/>
                <a:ext cx="292680" cy="321480"/>
                <a:chOff x="3293280" y="3918960"/>
                <a:chExt cx="292680" cy="321480"/>
              </a:xfrm>
            </p:grpSpPr>
            <p:sp>
              <p:nvSpPr>
                <p:cNvPr id="492" name="Rectangle 107"/>
                <p:cNvSpPr/>
                <p:nvPr/>
              </p:nvSpPr>
              <p:spPr>
                <a:xfrm rot="20656200">
                  <a:off x="3366000" y="4004640"/>
                  <a:ext cx="1364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Oval 108"/>
                <p:cNvSpPr/>
                <p:nvPr/>
              </p:nvSpPr>
              <p:spPr>
                <a:xfrm rot="20656200">
                  <a:off x="3371760" y="3926880"/>
                  <a:ext cx="72360" cy="80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Oval 109"/>
                <p:cNvSpPr/>
                <p:nvPr/>
              </p:nvSpPr>
              <p:spPr>
                <a:xfrm rot="20656200">
                  <a:off x="3503880" y="4030560"/>
                  <a:ext cx="72360" cy="80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Oval 110"/>
                <p:cNvSpPr/>
                <p:nvPr/>
              </p:nvSpPr>
              <p:spPr>
                <a:xfrm rot="20656200">
                  <a:off x="3302640" y="4087080"/>
                  <a:ext cx="72360" cy="80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Oval 111"/>
                <p:cNvSpPr/>
                <p:nvPr/>
              </p:nvSpPr>
              <p:spPr>
                <a:xfrm rot="20656200">
                  <a:off x="3435120" y="4151160"/>
                  <a:ext cx="72360" cy="80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112"/>
              <p:cNvGrpSpPr/>
              <p:nvPr/>
            </p:nvGrpSpPr>
            <p:grpSpPr>
              <a:xfrm>
                <a:off x="3415680" y="3479760"/>
                <a:ext cx="159120" cy="219960"/>
                <a:chOff x="3415680" y="3479760"/>
                <a:chExt cx="159120" cy="219960"/>
              </a:xfrm>
            </p:grpSpPr>
            <p:sp>
              <p:nvSpPr>
                <p:cNvPr id="498" name="AutoShape 113"/>
                <p:cNvSpPr/>
                <p:nvPr/>
              </p:nvSpPr>
              <p:spPr>
                <a:xfrm>
                  <a:off x="3415680" y="3479760"/>
                  <a:ext cx="121320" cy="135360"/>
                </a:xfrm>
                <a:prstGeom prst="flowChartConnector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AutoShape 114"/>
                <p:cNvSpPr/>
                <p:nvPr/>
              </p:nvSpPr>
              <p:spPr>
                <a:xfrm>
                  <a:off x="3453480" y="3564360"/>
                  <a:ext cx="121320" cy="135360"/>
                </a:xfrm>
                <a:prstGeom prst="flowChartConnector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0" name="Group 115"/>
              <p:cNvGrpSpPr/>
              <p:nvPr/>
            </p:nvGrpSpPr>
            <p:grpSpPr>
              <a:xfrm>
                <a:off x="3293640" y="4364280"/>
                <a:ext cx="205200" cy="189720"/>
                <a:chOff x="3293640" y="4364280"/>
                <a:chExt cx="205200" cy="189720"/>
              </a:xfrm>
            </p:grpSpPr>
            <p:sp>
              <p:nvSpPr>
                <p:cNvPr id="501" name="AutoShape 116"/>
                <p:cNvSpPr/>
                <p:nvPr/>
              </p:nvSpPr>
              <p:spPr>
                <a:xfrm>
                  <a:off x="3293640" y="4364280"/>
                  <a:ext cx="121680" cy="135360"/>
                </a:xfrm>
                <a:prstGeom prst="flowChartConnector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AutoShape 117"/>
                <p:cNvSpPr/>
                <p:nvPr/>
              </p:nvSpPr>
              <p:spPr>
                <a:xfrm>
                  <a:off x="3377160" y="4418640"/>
                  <a:ext cx="121680" cy="135360"/>
                </a:xfrm>
                <a:prstGeom prst="flowChartConnector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Group 118"/>
              <p:cNvGrpSpPr/>
              <p:nvPr/>
            </p:nvGrpSpPr>
            <p:grpSpPr>
              <a:xfrm>
                <a:off x="3110040" y="3653640"/>
                <a:ext cx="121680" cy="228240"/>
                <a:chOff x="3110040" y="3653640"/>
                <a:chExt cx="121680" cy="228240"/>
              </a:xfrm>
            </p:grpSpPr>
            <p:sp>
              <p:nvSpPr>
                <p:cNvPr id="504" name="AutoShape 119"/>
                <p:cNvSpPr/>
                <p:nvPr/>
              </p:nvSpPr>
              <p:spPr>
                <a:xfrm>
                  <a:off x="3110040" y="3653640"/>
                  <a:ext cx="121680" cy="135360"/>
                </a:xfrm>
                <a:prstGeom prst="flowChartConnector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AutoShape 120"/>
                <p:cNvSpPr/>
                <p:nvPr/>
              </p:nvSpPr>
              <p:spPr>
                <a:xfrm>
                  <a:off x="3110040" y="3746520"/>
                  <a:ext cx="121680" cy="135360"/>
                </a:xfrm>
                <a:prstGeom prst="flowChartConnector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Group 121"/>
              <p:cNvGrpSpPr/>
              <p:nvPr/>
            </p:nvGrpSpPr>
            <p:grpSpPr>
              <a:xfrm>
                <a:off x="2546280" y="3513600"/>
                <a:ext cx="205200" cy="135360"/>
                <a:chOff x="2546280" y="3513600"/>
                <a:chExt cx="205200" cy="135360"/>
              </a:xfrm>
            </p:grpSpPr>
            <p:sp>
              <p:nvSpPr>
                <p:cNvPr id="507" name="AutoShape 122"/>
                <p:cNvSpPr/>
                <p:nvPr/>
              </p:nvSpPr>
              <p:spPr>
                <a:xfrm>
                  <a:off x="2629800" y="3513600"/>
                  <a:ext cx="121680" cy="135360"/>
                </a:xfrm>
                <a:prstGeom prst="flowChartConnector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AutoShape 123"/>
                <p:cNvSpPr/>
                <p:nvPr/>
              </p:nvSpPr>
              <p:spPr>
                <a:xfrm>
                  <a:off x="2546280" y="3513600"/>
                  <a:ext cx="121680" cy="135360"/>
                </a:xfrm>
                <a:prstGeom prst="flowChartConnector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9" name="Group 124"/>
              <p:cNvGrpSpPr/>
              <p:nvPr/>
            </p:nvGrpSpPr>
            <p:grpSpPr>
              <a:xfrm>
                <a:off x="2546280" y="4002840"/>
                <a:ext cx="166680" cy="203040"/>
                <a:chOff x="2546280" y="4002840"/>
                <a:chExt cx="166680" cy="203040"/>
              </a:xfrm>
            </p:grpSpPr>
            <p:sp>
              <p:nvSpPr>
                <p:cNvPr id="510" name="AutoShape 125"/>
                <p:cNvSpPr/>
                <p:nvPr/>
              </p:nvSpPr>
              <p:spPr>
                <a:xfrm>
                  <a:off x="2591640" y="4002840"/>
                  <a:ext cx="121320" cy="135360"/>
                </a:xfrm>
                <a:prstGeom prst="flowChartConnector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AutoShape 126"/>
                <p:cNvSpPr/>
                <p:nvPr/>
              </p:nvSpPr>
              <p:spPr>
                <a:xfrm>
                  <a:off x="2546280" y="4070520"/>
                  <a:ext cx="121680" cy="135360"/>
                </a:xfrm>
                <a:prstGeom prst="flowChartConnector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Group 127"/>
              <p:cNvGrpSpPr/>
              <p:nvPr/>
            </p:nvGrpSpPr>
            <p:grpSpPr>
              <a:xfrm>
                <a:off x="2950560" y="4070880"/>
                <a:ext cx="159120" cy="219960"/>
                <a:chOff x="2950560" y="4070880"/>
                <a:chExt cx="159120" cy="219960"/>
              </a:xfrm>
            </p:grpSpPr>
            <p:sp>
              <p:nvSpPr>
                <p:cNvPr id="513" name="AutoShape 128"/>
                <p:cNvSpPr/>
                <p:nvPr/>
              </p:nvSpPr>
              <p:spPr>
                <a:xfrm>
                  <a:off x="2950560" y="4070880"/>
                  <a:ext cx="121320" cy="135360"/>
                </a:xfrm>
                <a:prstGeom prst="flowChartConnector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AutoShape 129"/>
                <p:cNvSpPr/>
                <p:nvPr/>
              </p:nvSpPr>
              <p:spPr>
                <a:xfrm>
                  <a:off x="2988360" y="4155480"/>
                  <a:ext cx="121320" cy="135360"/>
                </a:xfrm>
                <a:prstGeom prst="flowChartConnector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5" name="Group 130"/>
            <p:cNvGrpSpPr/>
            <p:nvPr/>
          </p:nvGrpSpPr>
          <p:grpSpPr>
            <a:xfrm>
              <a:off x="2500200" y="5262840"/>
              <a:ext cx="1149840" cy="1237680"/>
              <a:chOff x="2500200" y="5262840"/>
              <a:chExt cx="1149840" cy="1237680"/>
            </a:xfrm>
          </p:grpSpPr>
          <p:sp>
            <p:nvSpPr>
              <p:cNvPr id="516" name="Rectangle 131"/>
              <p:cNvSpPr/>
              <p:nvPr/>
            </p:nvSpPr>
            <p:spPr>
              <a:xfrm>
                <a:off x="2500200" y="5262840"/>
                <a:ext cx="1149840" cy="123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7" name="Group 132"/>
              <p:cNvGrpSpPr/>
              <p:nvPr/>
            </p:nvGrpSpPr>
            <p:grpSpPr>
              <a:xfrm>
                <a:off x="2709000" y="5484960"/>
                <a:ext cx="288000" cy="316080"/>
                <a:chOff x="2709000" y="5484960"/>
                <a:chExt cx="288000" cy="316080"/>
              </a:xfrm>
            </p:grpSpPr>
            <p:sp>
              <p:nvSpPr>
                <p:cNvPr id="518" name="Rectangle 133"/>
                <p:cNvSpPr/>
                <p:nvPr/>
              </p:nvSpPr>
              <p:spPr>
                <a:xfrm>
                  <a:off x="2783160" y="5566320"/>
                  <a:ext cx="139680" cy="153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Oval 134"/>
                <p:cNvSpPr/>
                <p:nvPr/>
              </p:nvSpPr>
              <p:spPr>
                <a:xfrm>
                  <a:off x="2821680" y="5484960"/>
                  <a:ext cx="74160" cy="8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Oval 135"/>
                <p:cNvSpPr/>
                <p:nvPr/>
              </p:nvSpPr>
              <p:spPr>
                <a:xfrm>
                  <a:off x="2922840" y="5621400"/>
                  <a:ext cx="74160" cy="8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Oval 136"/>
                <p:cNvSpPr/>
                <p:nvPr/>
              </p:nvSpPr>
              <p:spPr>
                <a:xfrm>
                  <a:off x="2709000" y="5621400"/>
                  <a:ext cx="74160" cy="8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Oval 137"/>
                <p:cNvSpPr/>
                <p:nvPr/>
              </p:nvSpPr>
              <p:spPr>
                <a:xfrm>
                  <a:off x="2821680" y="5719680"/>
                  <a:ext cx="74160" cy="8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3" name="Group 138"/>
              <p:cNvGrpSpPr/>
              <p:nvPr/>
            </p:nvGrpSpPr>
            <p:grpSpPr>
              <a:xfrm>
                <a:off x="2642040" y="6064560"/>
                <a:ext cx="281160" cy="300240"/>
                <a:chOff x="2642040" y="6064560"/>
                <a:chExt cx="281160" cy="300240"/>
              </a:xfrm>
            </p:grpSpPr>
            <p:sp>
              <p:nvSpPr>
                <p:cNvPr id="524" name="Rectangle 139"/>
                <p:cNvSpPr/>
                <p:nvPr/>
              </p:nvSpPr>
              <p:spPr>
                <a:xfrm rot="3271800">
                  <a:off x="2701800" y="6134760"/>
                  <a:ext cx="153360" cy="139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Oval 140"/>
                <p:cNvSpPr/>
                <p:nvPr/>
              </p:nvSpPr>
              <p:spPr>
                <a:xfrm rot="3271800">
                  <a:off x="2828880" y="6111000"/>
                  <a:ext cx="81360" cy="73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Oval 141"/>
                <p:cNvSpPr/>
                <p:nvPr/>
              </p:nvSpPr>
              <p:spPr>
                <a:xfrm rot="3271800">
                  <a:off x="2792160" y="6273360"/>
                  <a:ext cx="81360" cy="73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Oval 142"/>
                <p:cNvSpPr/>
                <p:nvPr/>
              </p:nvSpPr>
              <p:spPr>
                <a:xfrm rot="3271800">
                  <a:off x="2655720" y="6082200"/>
                  <a:ext cx="81360" cy="73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Oval 143"/>
                <p:cNvSpPr/>
                <p:nvPr/>
              </p:nvSpPr>
              <p:spPr>
                <a:xfrm rot="3271800">
                  <a:off x="2655000" y="6234840"/>
                  <a:ext cx="81360" cy="73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9" name="Group 144"/>
              <p:cNvGrpSpPr/>
              <p:nvPr/>
            </p:nvGrpSpPr>
            <p:grpSpPr>
              <a:xfrm>
                <a:off x="3292920" y="5756760"/>
                <a:ext cx="299160" cy="324720"/>
                <a:chOff x="3292920" y="5756760"/>
                <a:chExt cx="299160" cy="324720"/>
              </a:xfrm>
            </p:grpSpPr>
            <p:sp>
              <p:nvSpPr>
                <p:cNvPr id="530" name="Rectangle 145"/>
                <p:cNvSpPr/>
                <p:nvPr/>
              </p:nvSpPr>
              <p:spPr>
                <a:xfrm rot="20656200">
                  <a:off x="3367440" y="5843880"/>
                  <a:ext cx="139680" cy="153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Oval 146"/>
                <p:cNvSpPr/>
                <p:nvPr/>
              </p:nvSpPr>
              <p:spPr>
                <a:xfrm rot="20656200">
                  <a:off x="3373560" y="5765040"/>
                  <a:ext cx="74160" cy="8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Oval 147"/>
                <p:cNvSpPr/>
                <p:nvPr/>
              </p:nvSpPr>
              <p:spPr>
                <a:xfrm rot="20656200">
                  <a:off x="3507840" y="5869080"/>
                  <a:ext cx="74160" cy="8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Oval 148"/>
                <p:cNvSpPr/>
                <p:nvPr/>
              </p:nvSpPr>
              <p:spPr>
                <a:xfrm rot="20656200">
                  <a:off x="3302280" y="5927040"/>
                  <a:ext cx="74160" cy="8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Oval 149"/>
                <p:cNvSpPr/>
                <p:nvPr/>
              </p:nvSpPr>
              <p:spPr>
                <a:xfrm rot="20656200">
                  <a:off x="3437280" y="5991120"/>
                  <a:ext cx="74160" cy="8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" name="Group 150"/>
              <p:cNvGrpSpPr/>
              <p:nvPr/>
            </p:nvGrpSpPr>
            <p:grpSpPr>
              <a:xfrm>
                <a:off x="3293280" y="6205680"/>
                <a:ext cx="209520" cy="190800"/>
                <a:chOff x="3293280" y="6205680"/>
                <a:chExt cx="209520" cy="190800"/>
              </a:xfrm>
            </p:grpSpPr>
            <p:sp>
              <p:nvSpPr>
                <p:cNvPr id="536" name="AutoShape 151"/>
                <p:cNvSpPr/>
                <p:nvPr/>
              </p:nvSpPr>
              <p:spPr>
                <a:xfrm>
                  <a:off x="3293280" y="6205680"/>
                  <a:ext cx="124560" cy="136080"/>
                </a:xfrm>
                <a:prstGeom prst="flowChartConnector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AutoShape 152"/>
                <p:cNvSpPr/>
                <p:nvPr/>
              </p:nvSpPr>
              <p:spPr>
                <a:xfrm>
                  <a:off x="3378600" y="6260400"/>
                  <a:ext cx="124200" cy="136080"/>
                </a:xfrm>
                <a:prstGeom prst="flowChartConnector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8" name="Group 153"/>
              <p:cNvGrpSpPr/>
              <p:nvPr/>
            </p:nvGrpSpPr>
            <p:grpSpPr>
              <a:xfrm>
                <a:off x="2529360" y="5348520"/>
                <a:ext cx="209520" cy="136080"/>
                <a:chOff x="2529360" y="5348520"/>
                <a:chExt cx="209520" cy="136080"/>
              </a:xfrm>
            </p:grpSpPr>
            <p:sp>
              <p:nvSpPr>
                <p:cNvPr id="539" name="AutoShape 154"/>
                <p:cNvSpPr/>
                <p:nvPr/>
              </p:nvSpPr>
              <p:spPr>
                <a:xfrm>
                  <a:off x="2614680" y="5348520"/>
                  <a:ext cx="124200" cy="136080"/>
                </a:xfrm>
                <a:prstGeom prst="flowChartConnector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AutoShape 155"/>
                <p:cNvSpPr/>
                <p:nvPr/>
              </p:nvSpPr>
              <p:spPr>
                <a:xfrm>
                  <a:off x="2529360" y="5348520"/>
                  <a:ext cx="124200" cy="136080"/>
                </a:xfrm>
                <a:prstGeom prst="flowChartConnector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1" name="Group 156"/>
              <p:cNvGrpSpPr/>
              <p:nvPr/>
            </p:nvGrpSpPr>
            <p:grpSpPr>
              <a:xfrm>
                <a:off x="2997360" y="5823720"/>
                <a:ext cx="162360" cy="222120"/>
                <a:chOff x="2997360" y="5823720"/>
                <a:chExt cx="162360" cy="222120"/>
              </a:xfrm>
            </p:grpSpPr>
            <p:sp>
              <p:nvSpPr>
                <p:cNvPr id="542" name="AutoShape 157"/>
                <p:cNvSpPr/>
                <p:nvPr/>
              </p:nvSpPr>
              <p:spPr>
                <a:xfrm>
                  <a:off x="2997360" y="5823720"/>
                  <a:ext cx="123840" cy="136440"/>
                </a:xfrm>
                <a:prstGeom prst="flowChartConnector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AutoShape 158"/>
                <p:cNvSpPr/>
                <p:nvPr/>
              </p:nvSpPr>
              <p:spPr>
                <a:xfrm>
                  <a:off x="3035880" y="5909040"/>
                  <a:ext cx="123840" cy="136800"/>
                </a:xfrm>
                <a:prstGeom prst="flowChartConnector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4" name="Group 159"/>
              <p:cNvGrpSpPr/>
              <p:nvPr/>
            </p:nvGrpSpPr>
            <p:grpSpPr>
              <a:xfrm>
                <a:off x="3158640" y="5485680"/>
                <a:ext cx="249120" cy="198360"/>
                <a:chOff x="3158640" y="5485680"/>
                <a:chExt cx="249120" cy="198360"/>
              </a:xfrm>
            </p:grpSpPr>
            <p:sp>
              <p:nvSpPr>
                <p:cNvPr id="545" name="AutoShape 160"/>
                <p:cNvSpPr/>
                <p:nvPr/>
              </p:nvSpPr>
              <p:spPr>
                <a:xfrm rot="20522400">
                  <a:off x="3260880" y="5501880"/>
                  <a:ext cx="128520" cy="138240"/>
                </a:xfrm>
                <a:prstGeom prst="flowChartConnector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AutoShape 161"/>
                <p:cNvSpPr/>
                <p:nvPr/>
              </p:nvSpPr>
              <p:spPr>
                <a:xfrm rot="20522400">
                  <a:off x="3176640" y="5529240"/>
                  <a:ext cx="128520" cy="138240"/>
                </a:xfrm>
                <a:prstGeom prst="flowChartConnector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547" name="Slika 162" descr="C:\Documents and Settings\Marijana Bastić\My Documents\My Pictures\My Scans\scan0038.jpg"/>
          <p:cNvPicPr/>
          <p:nvPr/>
        </p:nvPicPr>
        <p:blipFill>
          <a:blip r:embed="rId1"/>
          <a:stretch/>
        </p:blipFill>
        <p:spPr>
          <a:xfrm>
            <a:off x="500040" y="285768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548" name="TekstniOkvir 164"/>
          <p:cNvSpPr/>
          <p:nvPr/>
        </p:nvSpPr>
        <p:spPr>
          <a:xfrm>
            <a:off x="357120" y="214200"/>
            <a:ext cx="81439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a) Napiši jednadžbu kemijske reakcije gorenja metana 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uz dovoljan pristup zraka</a:t>
            </a: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b) Slike (A – B) prikazuju sastav smjese koju čine metan i kisi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Odnos udjela reaktanata u svakoj je reakcijskoj smjesi različi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U prazan kvadrat nacrtaj sliku koja prikazuje sastav smjese nakon kemijske reakcije  gorenja metana  uz  dovoljan pristup zraka.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Koristi navedene oznake za atome ugljika, kisika i vodik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kstniOkvir 165"/>
          <p:cNvSpPr/>
          <p:nvPr/>
        </p:nvSpPr>
        <p:spPr>
          <a:xfrm>
            <a:off x="2571840" y="478620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hr-HR" sz="1200" spc="-1" strike="noStrike">
                <a:solidFill>
                  <a:srgbClr val="000000"/>
                </a:solidFill>
                <a:latin typeface="Comic Sans MS"/>
              </a:rPr>
              <a:t>Slika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kstniOkvir 166"/>
          <p:cNvSpPr/>
          <p:nvPr/>
        </p:nvSpPr>
        <p:spPr>
          <a:xfrm>
            <a:off x="2643120" y="658188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hr-HR" sz="1200" spc="-1" strike="noStrike">
                <a:solidFill>
                  <a:srgbClr val="000000"/>
                </a:solidFill>
                <a:latin typeface="Comic Sans MS"/>
              </a:rPr>
              <a:t>Slika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kstniOkvir 167"/>
          <p:cNvSpPr/>
          <p:nvPr/>
        </p:nvSpPr>
        <p:spPr>
          <a:xfrm>
            <a:off x="4357800" y="4000680"/>
            <a:ext cx="3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ravokutnik 168"/>
          <p:cNvSpPr/>
          <p:nvPr/>
        </p:nvSpPr>
        <p:spPr>
          <a:xfrm>
            <a:off x="4357800" y="56437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TekstniOkvir 1"/>
          <p:cNvGrpSpPr/>
          <p:nvPr/>
        </p:nvGrpSpPr>
        <p:grpSpPr>
          <a:xfrm>
            <a:off x="324000" y="244440"/>
            <a:ext cx="8386560" cy="2254320"/>
            <a:chOff x="324000" y="244440"/>
            <a:chExt cx="8386560" cy="2254320"/>
          </a:xfrm>
        </p:grpSpPr>
        <p:pic>
          <p:nvPicPr>
            <p:cNvPr id="554" name="TekstniOkvir 1" descr=""/>
            <p:cNvPicPr/>
            <p:nvPr/>
          </p:nvPicPr>
          <p:blipFill>
            <a:blip r:embed="rId1"/>
            <a:stretch/>
          </p:blipFill>
          <p:spPr>
            <a:xfrm>
              <a:off x="324000" y="244440"/>
              <a:ext cx="8386560" cy="22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428760" y="285840"/>
              <a:ext cx="821520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Comic Sans MS"/>
                </a:rPr>
                <a:t>U a) dijelu zadatka trebalo je napisati odgovarajuću jednadžbu kemijske reakcije gorenja metana uz dovoljan pristup zraka.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Comic Sans MS"/>
                </a:rPr>
                <a:t>Svrha slikovnih prikaza u  b) i c) dijelu zadatka je provjera  razumijevanja kemijskih koncepata  koji stoje iza algoritama  pri pisanju kemijskih jednadžb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Rezervirano mjesto sadržaja 2"/>
          <p:cNvSpPr/>
          <p:nvPr/>
        </p:nvSpPr>
        <p:spPr>
          <a:xfrm>
            <a:off x="428760" y="2643120"/>
            <a:ext cx="8229600" cy="40719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Dobri, vrlo dobri i odlični  učenici ES u a) dijelu zadatka su uspješniji u određivanju i pisanju reaktanata i produkata  kemijske reakci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Problem je izjednačavanje jednadžbi kemijskih reakci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Iz  b) dijela zadatka  u učenika obje skupine vidljivo  je nerazumijevanje jednadžbe kemijske reakcije na II. razi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Uočena je nedosljednost u uporabi  zadanih simbola za pojedinu vrstu ato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Raznolikost odgovora (vrlo dobrih) učenika ES upućuje na potrebu dodatnog usustavljivanja  radi primjene postojećih znanja na višoj razi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Naslov 1"/>
          <p:cNvSpPr/>
          <p:nvPr/>
        </p:nvSpPr>
        <p:spPr>
          <a:xfrm>
            <a:off x="428760" y="64296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r-HR" sz="2900" spc="-1" strike="noStrike">
                <a:solidFill>
                  <a:srgbClr val="1f497d"/>
                </a:solidFill>
                <a:latin typeface="Comic Sans MS"/>
              </a:rPr>
              <a:t>ZAKLJUČA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Rezervirano mjesto sadržaja 2"/>
          <p:cNvGrpSpPr/>
          <p:nvPr/>
        </p:nvGrpSpPr>
        <p:grpSpPr>
          <a:xfrm>
            <a:off x="433440" y="2193840"/>
            <a:ext cx="8448480" cy="4256280"/>
            <a:chOff x="433440" y="2193840"/>
            <a:chExt cx="8448480" cy="4256280"/>
          </a:xfrm>
        </p:grpSpPr>
        <p:pic>
          <p:nvPicPr>
            <p:cNvPr id="559" name="Rezervirano mjesto sadržaja 2" descr=""/>
            <p:cNvPicPr/>
            <p:nvPr/>
          </p:nvPicPr>
          <p:blipFill>
            <a:blip r:embed="rId1"/>
            <a:stretch/>
          </p:blipFill>
          <p:spPr>
            <a:xfrm>
              <a:off x="433440" y="2193840"/>
              <a:ext cx="8448480" cy="425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500040" y="2286000"/>
              <a:ext cx="8229600" cy="40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buClr>
                  <a:srgbClr val="4f81bd"/>
                </a:buClr>
                <a:buSzPct val="70000"/>
                <a:buFont typeface="Wingdings" charset="2"/>
                <a:buChar char="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hr-HR" sz="2000" spc="-1" strike="noStrike">
                  <a:solidFill>
                    <a:srgbClr val="000000"/>
                  </a:solidFill>
                  <a:latin typeface="Comic Sans MS"/>
                </a:rPr>
                <a:t>Primjena odabrane didaktičke strategije </a:t>
              </a:r>
              <a:r>
                <a:rPr b="0" lang="hr-HR" sz="2000" spc="-1" strike="noStrike">
                  <a:solidFill>
                    <a:srgbClr val="000000"/>
                  </a:solidFill>
                  <a:latin typeface="Comic Sans MS"/>
                </a:rPr>
                <a:t>i uporaba 3D modela od spajalica za prikaz vrsta i građe tvari </a:t>
              </a:r>
              <a:r>
                <a:rPr b="1" lang="hr-HR" sz="2000" spc="-1" strike="noStrike">
                  <a:solidFill>
                    <a:srgbClr val="000000"/>
                  </a:solidFill>
                  <a:latin typeface="Comic Sans MS"/>
                </a:rPr>
                <a:t>pozitivno utječe na kvalitetu </a:t>
              </a:r>
              <a:r>
                <a:rPr b="0" lang="hr-HR" sz="2000" spc="-1" strike="noStrike">
                  <a:solidFill>
                    <a:srgbClr val="000000"/>
                  </a:solidFill>
                  <a:latin typeface="Comic Sans MS"/>
                </a:rPr>
                <a:t>temeljnih </a:t>
              </a:r>
              <a:r>
                <a:rPr b="1" lang="hr-HR" sz="2000" spc="-1" strike="noStrike">
                  <a:solidFill>
                    <a:srgbClr val="000000"/>
                  </a:solidFill>
                  <a:latin typeface="Comic Sans MS"/>
                </a:rPr>
                <a:t>znanja o konceptu tvari</a:t>
              </a:r>
              <a:r>
                <a:rPr b="0" lang="hr-HR" sz="2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buClr>
                  <a:srgbClr val="4f81bd"/>
                </a:buClr>
                <a:buSzPct val="70000"/>
                <a:buFont typeface="Wingdings" charset="2"/>
                <a:buChar char="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hr-HR" sz="2000" spc="-1" strike="noStrike">
                  <a:solidFill>
                    <a:srgbClr val="000000"/>
                  </a:solidFill>
                  <a:latin typeface="Comic Sans MS"/>
                </a:rPr>
                <a:t>Koncept tvari </a:t>
              </a:r>
              <a:r>
                <a:rPr b="0" lang="hr-HR" sz="2000" spc="-1" strike="noStrike">
                  <a:solidFill>
                    <a:srgbClr val="000000"/>
                  </a:solidFill>
                  <a:latin typeface="Comic Sans MS"/>
                </a:rPr>
                <a:t>je apstraktan sadržaj za učenike OŠ, pri čemu  </a:t>
              </a:r>
              <a:r>
                <a:rPr b="1" lang="hr-HR" sz="2000" spc="-1" strike="noStrike">
                  <a:solidFill>
                    <a:srgbClr val="000000"/>
                  </a:solidFill>
                  <a:latin typeface="Comic Sans MS"/>
                </a:rPr>
                <a:t>konceptualni zadaci  imaju motivacijsku ulogu</a:t>
              </a:r>
              <a:r>
                <a:rPr b="0" lang="hr-HR" sz="2000" spc="-1" strike="noStrike">
                  <a:solidFill>
                    <a:srgbClr val="000000"/>
                  </a:solidFill>
                  <a:latin typeface="Comic Sans MS"/>
                </a:rPr>
                <a:t>, </a:t>
              </a:r>
              <a:r>
                <a:rPr b="1" lang="hr-HR" sz="2000" spc="-1" strike="noStrike">
                  <a:solidFill>
                    <a:srgbClr val="000000"/>
                  </a:solidFill>
                  <a:latin typeface="Comic Sans MS"/>
                </a:rPr>
                <a:t>vodič su za obradu </a:t>
              </a:r>
              <a:r>
                <a:rPr b="0" lang="hr-HR" sz="2000" spc="-1" strike="noStrike">
                  <a:solidFill>
                    <a:srgbClr val="000000"/>
                  </a:solidFill>
                  <a:latin typeface="Comic Sans MS"/>
                </a:rPr>
                <a:t>i </a:t>
              </a:r>
              <a:r>
                <a:rPr b="1" lang="hr-HR" sz="2000" spc="-1" strike="noStrike">
                  <a:solidFill>
                    <a:srgbClr val="000000"/>
                  </a:solidFill>
                  <a:latin typeface="Comic Sans MS"/>
                </a:rPr>
                <a:t>sredstvo za vrednovanje</a:t>
              </a:r>
              <a:r>
                <a:rPr b="0" lang="hr-HR" sz="2000" spc="-1" strike="noStrike">
                  <a:solidFill>
                    <a:srgbClr val="000000"/>
                  </a:solidFill>
                  <a:latin typeface="Comic Sans MS"/>
                </a:rPr>
                <a:t> viših kognitivnih razina znanja  što ublažava mogućnost pojave miskoncepat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buClr>
                  <a:srgbClr val="4f81bd"/>
                </a:buClr>
                <a:buSzPct val="70000"/>
                <a:buFont typeface="Wingdings" charset="2"/>
                <a:buChar char="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hr-HR" sz="2000" spc="-1" strike="noStrike">
                  <a:solidFill>
                    <a:srgbClr val="000000"/>
                  </a:solidFill>
                  <a:latin typeface="Comic Sans MS"/>
                </a:rPr>
                <a:t>Protokom vremena vidljiv je </a:t>
              </a:r>
              <a:r>
                <a:rPr b="0" lang="hr-HR" sz="2000" spc="-1" strike="noStrike">
                  <a:solidFill>
                    <a:srgbClr val="000000"/>
                  </a:solidFill>
                  <a:latin typeface="Comic Sans MS"/>
                </a:rPr>
                <a:t>značajno </a:t>
              </a:r>
              <a:r>
                <a:rPr b="1" lang="hr-HR" sz="2000" spc="-1" strike="noStrike">
                  <a:solidFill>
                    <a:srgbClr val="000000"/>
                  </a:solidFill>
                  <a:latin typeface="Comic Sans MS"/>
                </a:rPr>
                <a:t>manji pad prosječnih vrijednosti </a:t>
              </a:r>
              <a:r>
                <a:rPr b="0" lang="hr-HR" sz="2000" spc="-1" strike="noStrike">
                  <a:solidFill>
                    <a:srgbClr val="000000"/>
                  </a:solidFill>
                  <a:latin typeface="Comic Sans MS"/>
                </a:rPr>
                <a:t>na ispitima znanja i sposobnosti o vrstama i građi tvari, zaključnim ocjenama iz kemije i spremnosti za učenje kemijskih sadržaja </a:t>
              </a:r>
              <a:r>
                <a:rPr b="1" lang="hr-HR" sz="2000" spc="-1" strike="noStrike">
                  <a:solidFill>
                    <a:srgbClr val="000000"/>
                  </a:solidFill>
                  <a:latin typeface="Comic Sans MS"/>
                </a:rPr>
                <a:t>u učenika ES</a:t>
              </a:r>
              <a:r>
                <a:rPr b="0" lang="hr-HR" sz="2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buClr>
                  <a:srgbClr val="4f81bd"/>
                </a:buClr>
                <a:buSzPct val="70000"/>
                <a:buFont typeface="Wingdings" charset="2"/>
                <a:buChar char="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1" name="Picture 16" descr="http://t0.gstatic.com/images?q=tbn:ANd9GcR0YFc9BQ23F-WsdNbT9kUCO2nyCQ_-M6mWL5uTjWaiBdyHVW1qcryGbZU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715160" y="469800"/>
            <a:ext cx="100008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Naslov 1"/>
          <p:cNvSpPr/>
          <p:nvPr/>
        </p:nvSpPr>
        <p:spPr>
          <a:xfrm>
            <a:off x="428760" y="64296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r-HR" sz="2900" spc="-1" strike="noStrike">
                <a:solidFill>
                  <a:srgbClr val="1f497d"/>
                </a:solidFill>
                <a:latin typeface="Comic Sans MS"/>
              </a:rPr>
              <a:t>ZAKLJUČA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Rezervirano mjesto sadržaja 2"/>
          <p:cNvGrpSpPr/>
          <p:nvPr/>
        </p:nvGrpSpPr>
        <p:grpSpPr>
          <a:xfrm>
            <a:off x="360360" y="1884240"/>
            <a:ext cx="8502480" cy="4851360"/>
            <a:chOff x="360360" y="1884240"/>
            <a:chExt cx="8502480" cy="4851360"/>
          </a:xfrm>
        </p:grpSpPr>
        <p:pic>
          <p:nvPicPr>
            <p:cNvPr id="564" name="Rezervirano mjesto sadržaja 2" descr=""/>
            <p:cNvPicPr/>
            <p:nvPr/>
          </p:nvPicPr>
          <p:blipFill>
            <a:blip r:embed="rId1"/>
            <a:stretch/>
          </p:blipFill>
          <p:spPr>
            <a:xfrm>
              <a:off x="360360" y="1884240"/>
              <a:ext cx="8502480" cy="48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"/>
            <p:cNvSpPr/>
            <p:nvPr/>
          </p:nvSpPr>
          <p:spPr>
            <a:xfrm>
              <a:off x="428760" y="1928880"/>
              <a:ext cx="8229600" cy="47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50000"/>
                </a:lnSpc>
                <a:spcBef>
                  <a:spcPts val="601"/>
                </a:spcBef>
                <a:buClr>
                  <a:srgbClr val="4f81bd"/>
                </a:buClr>
                <a:buSzPct val="70000"/>
                <a:buFont typeface="Wingdings" charset="2"/>
                <a:buChar char="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hr-HR" sz="1900" spc="-1" strike="noStrike">
                  <a:solidFill>
                    <a:srgbClr val="000000"/>
                  </a:solidFill>
                  <a:latin typeface="Comic Sans MS"/>
                </a:rPr>
                <a:t>Vrlo dobri učenici ES imaju manje problema pri razlikovanju elementarnih tvari građenih od molekula (X</a:t>
              </a:r>
              <a:r>
                <a:rPr b="0" lang="hr-HR" sz="1900" spc="-1" strike="noStrike" baseline="-25000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hr-HR" sz="1900" spc="-1" strike="noStrike">
                  <a:solidFill>
                    <a:srgbClr val="000000"/>
                  </a:solidFill>
                  <a:latin typeface="Comic Sans MS"/>
                </a:rPr>
                <a:t>) i elementarnih tvari građenih od atoma (X)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50000"/>
                </a:lnSpc>
                <a:spcBef>
                  <a:spcPts val="601"/>
                </a:spcBef>
                <a:buClr>
                  <a:srgbClr val="4f81bd"/>
                </a:buClr>
                <a:buSzPct val="70000"/>
                <a:buFont typeface="Wingdings" charset="2"/>
                <a:buChar char="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hr-HR" sz="1900" spc="-1" strike="noStrike">
                  <a:solidFill>
                    <a:srgbClr val="000000"/>
                  </a:solidFill>
                  <a:latin typeface="Comic Sans MS"/>
                </a:rPr>
                <a:t>Lošiji rezultati u zadacima sa slikovnim prikazima ukazuju  na </a:t>
              </a:r>
              <a:r>
                <a:rPr b="1" lang="hr-HR" sz="1900" spc="-1" strike="noStrike">
                  <a:solidFill>
                    <a:srgbClr val="000000"/>
                  </a:solidFill>
                  <a:latin typeface="Comic Sans MS"/>
                </a:rPr>
                <a:t>potrebu kritičkog vrednovanja postojećih slikovnih prikaza čestične građe tvari </a:t>
              </a:r>
              <a:r>
                <a:rPr b="0" lang="hr-HR" sz="1900" spc="-1" strike="noStrike">
                  <a:solidFill>
                    <a:srgbClr val="000000"/>
                  </a:solidFill>
                  <a:latin typeface="Comic Sans MS"/>
                </a:rPr>
                <a:t>koji se koriste u nastavi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60000"/>
                </a:lnSpc>
                <a:spcBef>
                  <a:spcPts val="601"/>
                </a:spcBef>
                <a:buClr>
                  <a:srgbClr val="4f81bd"/>
                </a:buClr>
                <a:buSzPct val="70000"/>
                <a:buFont typeface="Wingdings" charset="2"/>
                <a:buChar char="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hr-HR" sz="1900" spc="-1" strike="noStrike">
                  <a:solidFill>
                    <a:srgbClr val="000000"/>
                  </a:solidFill>
                  <a:latin typeface="Comic Sans MS"/>
                </a:rPr>
                <a:t>Nerazumijevanje jednadžbe kemijske reakcije na atomskoj  i molekulskoj  razini </a:t>
              </a:r>
              <a:r>
                <a:rPr b="0" lang="hr-HR" sz="19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hr-HR" sz="1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hr-HR" sz="1900" spc="-1" strike="noStrike">
                  <a:solidFill>
                    <a:srgbClr val="000000"/>
                  </a:solidFill>
                  <a:latin typeface="Comic Sans MS"/>
                </a:rPr>
                <a:t>problem razumijevanja simboličkog jezika  kemije koji se odnosi na svijet atoma i molekula</a:t>
              </a:r>
              <a:r>
                <a:rPr b="0" lang="hr-HR" sz="19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buClr>
                  <a:srgbClr val="4f81bd"/>
                </a:buClr>
                <a:buSzPct val="70000"/>
                <a:buFont typeface="Wingdings" charset="2"/>
                <a:buChar char="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6" name="Picture 16" descr="http://t0.gstatic.com/images?q=tbn:ANd9GcR0YFc9BQ23F-WsdNbT9kUCO2nyCQ_-M6mWL5uTjWaiBdyHVW1qcryGbZU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00960" y="214200"/>
            <a:ext cx="110952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Naslov 1"/>
          <p:cNvSpPr/>
          <p:nvPr/>
        </p:nvSpPr>
        <p:spPr>
          <a:xfrm>
            <a:off x="357120" y="28584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r-HR" sz="2900" spc="-1" strike="noStrike">
                <a:solidFill>
                  <a:srgbClr val="1f497d"/>
                </a:solidFill>
                <a:latin typeface="Comic Sans MS"/>
              </a:rPr>
              <a:t>SMJERNICE ZA DALJNJA ISTRAŽIVANJ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Rezervirano mjesto sadržaja 2"/>
          <p:cNvGrpSpPr/>
          <p:nvPr/>
        </p:nvGrpSpPr>
        <p:grpSpPr>
          <a:xfrm>
            <a:off x="219240" y="2152800"/>
            <a:ext cx="8516880" cy="5295600"/>
            <a:chOff x="219240" y="2152800"/>
            <a:chExt cx="8516880" cy="5295600"/>
          </a:xfrm>
        </p:grpSpPr>
        <p:pic>
          <p:nvPicPr>
            <p:cNvPr id="569" name="Rezervirano mjesto sadržaja 2" descr=""/>
            <p:cNvPicPr/>
            <p:nvPr/>
          </p:nvPicPr>
          <p:blipFill>
            <a:blip r:embed="rId1"/>
            <a:stretch/>
          </p:blipFill>
          <p:spPr>
            <a:xfrm>
              <a:off x="219240" y="2152800"/>
              <a:ext cx="8516880" cy="52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285840" y="2214720"/>
              <a:ext cx="8372520" cy="43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4f81bd"/>
                </a:buClr>
                <a:buSzPct val="70000"/>
                <a:buFont typeface="Wingdings" charset="2"/>
                <a:buChar char="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hr-HR" sz="1900" spc="-1" strike="noStrike">
                  <a:solidFill>
                    <a:srgbClr val="000000"/>
                  </a:solidFill>
                  <a:latin typeface="Comic Sans MS"/>
                </a:rPr>
                <a:t>Predloženi didaktički  scenarij otvara </a:t>
              </a:r>
              <a:r>
                <a:rPr b="1" lang="hr-HR" sz="1900" spc="-1" strike="noStrike">
                  <a:solidFill>
                    <a:srgbClr val="000000"/>
                  </a:solidFill>
                  <a:latin typeface="Comic Sans MS"/>
                </a:rPr>
                <a:t>mogućnost za kreiranje novih metoda i postupaka u poučavanju </a:t>
              </a:r>
              <a:r>
                <a:rPr b="0" lang="hr-HR" sz="1900" spc="-1" strike="noStrike">
                  <a:solidFill>
                    <a:srgbClr val="000000"/>
                  </a:solidFill>
                  <a:latin typeface="Comic Sans MS"/>
                </a:rPr>
                <a:t>nastavnih sadržaja </a:t>
              </a:r>
              <a:r>
                <a:rPr b="1" lang="hr-HR" sz="1900" spc="-1" strike="noStrike">
                  <a:solidFill>
                    <a:srgbClr val="000000"/>
                  </a:solidFill>
                  <a:latin typeface="Comic Sans MS"/>
                </a:rPr>
                <a:t>kemije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4f81bd"/>
                </a:buClr>
                <a:buSzPct val="70000"/>
                <a:buFont typeface="Wingdings" charset="2"/>
                <a:buChar char="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hr-HR" sz="1900" spc="-1" strike="noStrike">
                  <a:solidFill>
                    <a:srgbClr val="000000"/>
                  </a:solidFill>
                  <a:latin typeface="Comic Sans MS"/>
                </a:rPr>
                <a:t>Potreba revizije propisanih nastavnih sadržaja i učeničkih materijala iz kemije za OŠ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4f81bd"/>
                </a:buClr>
                <a:buSzPct val="70000"/>
                <a:buFont typeface="Wingdings" charset="2"/>
                <a:buChar char="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hr-HR" sz="1900" spc="-1" strike="noStrike">
                  <a:solidFill>
                    <a:srgbClr val="000000"/>
                  </a:solidFill>
                  <a:latin typeface="Comic Sans MS"/>
                </a:rPr>
                <a:t>Daljnja </a:t>
              </a:r>
              <a:r>
                <a:rPr b="1" lang="hr-HR" sz="1900" spc="-1" strike="noStrike">
                  <a:solidFill>
                    <a:srgbClr val="000000"/>
                  </a:solidFill>
                  <a:latin typeface="Comic Sans MS"/>
                </a:rPr>
                <a:t>razrada</a:t>
              </a:r>
              <a:r>
                <a:rPr b="0" lang="hr-HR" sz="1900" spc="-1" strike="noStrike">
                  <a:solidFill>
                    <a:srgbClr val="000000"/>
                  </a:solidFill>
                  <a:latin typeface="Comic Sans MS"/>
                </a:rPr>
                <a:t> predloženog didaktičkog scenarija (npr. ispitati utjecaj </a:t>
              </a:r>
              <a:r>
                <a:rPr b="1" lang="hr-HR" sz="1900" spc="-1" strike="noStrike">
                  <a:solidFill>
                    <a:srgbClr val="000000"/>
                  </a:solidFill>
                  <a:latin typeface="Comic Sans MS"/>
                </a:rPr>
                <a:t>ovakvog modela u poučavanju koncepta kemijske jednadžbe</a:t>
              </a:r>
              <a:r>
                <a:rPr b="0" lang="hr-HR" sz="1900" spc="-1" strike="noStrike">
                  <a:solidFill>
                    <a:srgbClr val="000000"/>
                  </a:solidFill>
                  <a:latin typeface="Comic Sans MS"/>
                </a:rPr>
                <a:t> u OŠ i SŠ te npr. strukturne izomerije u okviru organske kemije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4f81bd"/>
                </a:buClr>
                <a:buSzPct val="70000"/>
                <a:buFont typeface="Wingdings" charset="2"/>
                <a:buChar char="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hr-HR" sz="1900" spc="-1" strike="noStrike">
                  <a:solidFill>
                    <a:srgbClr val="000000"/>
                  </a:solidFill>
                  <a:latin typeface="Comic Sans MS"/>
                </a:rPr>
                <a:t>Napraviti </a:t>
              </a:r>
              <a:r>
                <a:rPr b="1" lang="hr-HR" sz="1900" spc="-1" strike="noStrike">
                  <a:solidFill>
                    <a:srgbClr val="000000"/>
                  </a:solidFill>
                  <a:latin typeface="Comic Sans MS"/>
                </a:rPr>
                <a:t>usporedbu s drugim didaktičkim strategijama </a:t>
              </a:r>
              <a:r>
                <a:rPr b="0" lang="hr-HR" sz="1900" spc="-1" strike="noStrike">
                  <a:solidFill>
                    <a:srgbClr val="000000"/>
                  </a:solidFill>
                  <a:latin typeface="Comic Sans MS"/>
                </a:rPr>
                <a:t>uvođenjem novih varijabli (kombinacija 3D modela od spajalica i 3D dinamičkih kompjuterskih animacija, QI, i dr.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4f81bd"/>
                </a:buClr>
                <a:buSzPct val="70000"/>
                <a:buFont typeface="Wingdings" charset="2"/>
                <a:buChar char="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hr-HR" sz="1900" spc="-1" strike="noStrike">
                  <a:solidFill>
                    <a:srgbClr val="000000"/>
                  </a:solidFill>
                  <a:latin typeface="Comic Sans MS"/>
                </a:rPr>
                <a:t>Kvalitativnom analizom utvrditi jesu li postignuća učenika u nastavnim sadržajima o vrstama i građi tvari u skladu s planiranim ishodima učenja radi uspješnijeg organiziranja nastavnog procesa i vrednovanja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4f81bd"/>
                </a:buClr>
                <a:buSzPct val="70000"/>
                <a:buFont typeface="Wingdings" charset="2"/>
                <a:buChar char="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4f81bd"/>
                </a:buClr>
                <a:buSzPct val="70000"/>
                <a:buFont typeface="Wingdings" charset="2"/>
                <a:buChar char="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4f81bd"/>
                </a:buClr>
                <a:buSzPct val="70000"/>
                <a:buFont typeface="Wingdings" charset="2"/>
                <a:buChar char="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1" name="Picture 2" descr="http://t0.gstatic.com/images?q=tbn:ANd9GcR5Trm7YbxlKFO53GYm4h_ad8aEYHYfkXCJvoghAh2HVzrxp0bUj0EBW2M"/>
          <p:cNvPicPr/>
          <p:nvPr/>
        </p:nvPicPr>
        <p:blipFill>
          <a:blip r:embed="rId2"/>
          <a:stretch/>
        </p:blipFill>
        <p:spPr>
          <a:xfrm>
            <a:off x="6429240" y="714240"/>
            <a:ext cx="225108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009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r-HR" sz="2800" spc="-1" strike="noStrike">
                <a:solidFill>
                  <a:srgbClr val="1f497d"/>
                </a:solidFill>
                <a:latin typeface="Comic Sans MS"/>
              </a:rPr>
              <a:t>O UČENJU KEMIJE U OSNOVNOJ ŠKOLI…</a:t>
            </a:r>
            <a:endParaRPr b="0" lang="en-US" sz="28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360" name="Rezervirano mjesto sadržaja 4" descr=""/>
          <p:cNvPicPr/>
          <p:nvPr/>
        </p:nvPicPr>
        <p:blipFill>
          <a:blip r:embed="rId1"/>
          <a:stretch/>
        </p:blipFill>
        <p:spPr>
          <a:xfrm>
            <a:off x="133200" y="993600"/>
            <a:ext cx="8761680" cy="55832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2" descr="http://t0.gstatic.com/images?q=tbn:ANd9GcSbAgBaBSemfFlicm0BMlgj322KHf2q9bhgG1ZsaA3Tw4y_2cWWyoH6A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840" y="1000080"/>
            <a:ext cx="1428840" cy="14763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4" descr="http://t0.gstatic.com/images?q=tbn:ANd9GcQx4YBvioqFdKYXnYHkMF6o3BXMgBIISAYkwYLV0nIEx_ErucHLWhcD3BI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15000" y="785880"/>
            <a:ext cx="1857240" cy="14288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8" descr="http://t1.gstatic.com/images?q=tbn:ANd9GcRpr0F9ORNPepKrYuIW4iTUrIcydZSXUQLXjpcJ8ANsuyYYQGa5GLA5yQ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786720" y="4143240"/>
            <a:ext cx="2000160" cy="21434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C:\Program Files\Microsoft Office\MEDIA\CAGCAT10\j0299125.wmf"/>
          <p:cNvPicPr/>
          <p:nvPr/>
        </p:nvPicPr>
        <p:blipFill>
          <a:blip r:embed="rId8"/>
          <a:stretch/>
        </p:blipFill>
        <p:spPr>
          <a:xfrm>
            <a:off x="2857680" y="5408640"/>
            <a:ext cx="88560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Naslov 1"/>
          <p:cNvSpPr/>
          <p:nvPr/>
        </p:nvSpPr>
        <p:spPr>
          <a:xfrm>
            <a:off x="571680" y="228600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r-HR" sz="3200" spc="-1" strike="noStrike">
                <a:solidFill>
                  <a:srgbClr val="1f497d"/>
                </a:solidFill>
                <a:latin typeface="Comic Sans MS"/>
              </a:rPr>
              <a:t>ZAHVALJUJEM NA PAŽNJ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Slika 2" descr="http://t0.gstatic.com/images?q=tbn:ANd9GcSjvTxmhAvM_n88zNux1Apm6Z390etSntSvPoKvjqmml69bEX2G84OIjYRSRg"/>
          <p:cNvPicPr/>
          <p:nvPr/>
        </p:nvPicPr>
        <p:blipFill>
          <a:blip r:embed="rId1"/>
          <a:stretch/>
        </p:blipFill>
        <p:spPr>
          <a:xfrm>
            <a:off x="3357720" y="4071960"/>
            <a:ext cx="23637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zervirano mjesto sadržaja 2"/>
          <p:cNvSpPr/>
          <p:nvPr/>
        </p:nvSpPr>
        <p:spPr>
          <a:xfrm>
            <a:off x="285840" y="2000160"/>
            <a:ext cx="5572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Kemija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 – složen predmet za poučavan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Moguće ju je poučavati na nekoliko raz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omic Sans MS"/>
              <a:buAutoNum type="romanU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Makroskopska razina (opažajni d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omic Sans MS"/>
              <a:buAutoNum type="romanU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Atomska i molekulska raz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omic Sans MS"/>
              <a:buAutoNum type="romanU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Subatomska razina 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(elektroni, jezgra ato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kstniOkvir 3"/>
          <p:cNvSpPr/>
          <p:nvPr/>
        </p:nvSpPr>
        <p:spPr>
          <a:xfrm>
            <a:off x="5715000" y="3929040"/>
            <a:ext cx="2857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Osnova za stvaranje temeljnih kemijskih koncepata o vrstama i građi tva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0" descr="http://t2.gstatic.com/images?q=tbn:ANd9GcQ79J-w9mLncouj1Zil9-yAcKPX2CkgHYKiYrtPUrznkugC0C1sfszIDIN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43800" y="1000080"/>
            <a:ext cx="1928880" cy="2243160"/>
          </a:xfrm>
          <a:prstGeom prst="rect">
            <a:avLst/>
          </a:prstGeom>
          <a:ln w="0">
            <a:noFill/>
          </a:ln>
        </p:spPr>
      </p:pic>
      <p:sp>
        <p:nvSpPr>
          <p:cNvPr id="368" name="Desna vitičasta zagrada 5"/>
          <p:cNvSpPr/>
          <p:nvPr/>
        </p:nvSpPr>
        <p:spPr>
          <a:xfrm>
            <a:off x="5214960" y="4000680"/>
            <a:ext cx="428760" cy="1071360"/>
          </a:xfrm>
          <a:custGeom>
            <a:avLst/>
            <a:gdLst>
              <a:gd name="textAreaLeft" fmla="*/ 0 w 428760"/>
              <a:gd name="textAreaRight" fmla="*/ 154800 w 428760"/>
              <a:gd name="textAreaTop" fmla="*/ 11160 h 1071360"/>
              <a:gd name="textAreaBottom" fmla="*/ 106020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0"/>
                  <a:pt x="10800" y="720"/>
                </a:cubicBezTo>
                <a:lnTo>
                  <a:pt x="10800" y="10080"/>
                </a:lnTo>
                <a:cubicBezTo>
                  <a:pt x="10800" y="10440"/>
                  <a:pt x="16200" y="10800"/>
                  <a:pt x="21600" y="10800"/>
                </a:cubicBezTo>
                <a:cubicBezTo>
                  <a:pt x="16200" y="10800"/>
                  <a:pt x="10800" y="11160"/>
                  <a:pt x="10800" y="11520"/>
                </a:cubicBezTo>
                <a:lnTo>
                  <a:pt x="10800" y="20880"/>
                </a:lnTo>
                <a:cubicBezTo>
                  <a:pt x="10800" y="2124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Naslov 1"/>
          <p:cNvSpPr/>
          <p:nvPr/>
        </p:nvSpPr>
        <p:spPr>
          <a:xfrm>
            <a:off x="457200" y="274680"/>
            <a:ext cx="79009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r-HR" sz="2800" spc="-1" strike="noStrike">
                <a:solidFill>
                  <a:srgbClr val="1f497d"/>
                </a:solidFill>
                <a:latin typeface="Comic Sans MS"/>
              </a:rPr>
              <a:t>O UČENJU KEMIJE U OSNOVNOJ ŠKOL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Naslov 1"/>
          <p:cNvSpPr/>
          <p:nvPr/>
        </p:nvSpPr>
        <p:spPr>
          <a:xfrm>
            <a:off x="42876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r-HR" sz="2900" spc="-1" strike="noStrike">
                <a:solidFill>
                  <a:srgbClr val="1f497d"/>
                </a:solidFill>
                <a:latin typeface="Comic Sans MS"/>
              </a:rPr>
              <a:t>OSNOVNI CILJ(EVI) UČENJA KEMI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Dijagram 2" descr=""/>
          <p:cNvPicPr/>
          <p:nvPr/>
        </p:nvPicPr>
        <p:blipFill>
          <a:blip r:embed="rId1"/>
          <a:stretch/>
        </p:blipFill>
        <p:spPr>
          <a:xfrm>
            <a:off x="208080" y="1066680"/>
            <a:ext cx="8654760" cy="56023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8" descr="http://t1.gstatic.com/images?q=tbn:ANd9GcTGI1g-GASMl0BIqYDwPU-ohR4FWRY2rExXmE9YtxCtsRkRozgZxNVu5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14280" y="4692600"/>
            <a:ext cx="1872000" cy="21654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C:\Program Files\Microsoft Office\MEDIA\CAGCAT10\j0301252.wmf"/>
          <p:cNvPicPr/>
          <p:nvPr/>
        </p:nvPicPr>
        <p:blipFill>
          <a:blip r:embed="rId4"/>
          <a:stretch/>
        </p:blipFill>
        <p:spPr>
          <a:xfrm>
            <a:off x="5786280" y="1071720"/>
            <a:ext cx="1928880" cy="16509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girl_book"/>
          <p:cNvPicPr/>
          <p:nvPr/>
        </p:nvPicPr>
        <p:blipFill>
          <a:blip r:embed="rId5"/>
          <a:stretch/>
        </p:blipFill>
        <p:spPr>
          <a:xfrm>
            <a:off x="7858080" y="4992840"/>
            <a:ext cx="128592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Naslov 1"/>
          <p:cNvSpPr/>
          <p:nvPr/>
        </p:nvSpPr>
        <p:spPr>
          <a:xfrm>
            <a:off x="42876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r-HR" sz="2900" spc="-1" strike="noStrike">
                <a:solidFill>
                  <a:srgbClr val="1f497d"/>
                </a:solidFill>
                <a:latin typeface="Comic Sans MS"/>
              </a:rPr>
              <a:t>PREDMET I CILJ ISTRAŽIVANJ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Dijagram 2" descr=""/>
          <p:cNvPicPr/>
          <p:nvPr/>
        </p:nvPicPr>
        <p:blipFill>
          <a:blip r:embed="rId1"/>
          <a:stretch/>
        </p:blipFill>
        <p:spPr>
          <a:xfrm>
            <a:off x="281160" y="785880"/>
            <a:ext cx="8472240" cy="5943600"/>
          </a:xfrm>
          <a:prstGeom prst="rect">
            <a:avLst/>
          </a:prstGeom>
          <a:ln w="0">
            <a:noFill/>
          </a:ln>
        </p:spPr>
      </p:pic>
      <p:sp>
        <p:nvSpPr>
          <p:cNvPr id="377" name="TekstniOkvir 3"/>
          <p:cNvSpPr/>
          <p:nvPr/>
        </p:nvSpPr>
        <p:spPr>
          <a:xfrm>
            <a:off x="5357880" y="5357880"/>
            <a:ext cx="257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iznalaženje i odabir pogodnih didaktičkih strategija, modela i primj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Naslov 1"/>
          <p:cNvSpPr/>
          <p:nvPr/>
        </p:nvSpPr>
        <p:spPr>
          <a:xfrm>
            <a:off x="357120" y="285840"/>
            <a:ext cx="8229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r-HR" sz="2900" spc="-1" strike="noStrike">
                <a:solidFill>
                  <a:srgbClr val="1f497d"/>
                </a:solidFill>
                <a:latin typeface="Comic Sans MS"/>
              </a:rPr>
              <a:t>PREDMET I CILJ ISTRAŽIVANJ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Rezervirano mjesto sadržaja 3" descr=""/>
          <p:cNvPicPr/>
          <p:nvPr/>
        </p:nvPicPr>
        <p:blipFill>
          <a:blip r:embed="rId1"/>
          <a:stretch/>
        </p:blipFill>
        <p:spPr>
          <a:xfrm>
            <a:off x="324000" y="1096920"/>
            <a:ext cx="844200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Naslov 1"/>
          <p:cNvSpPr/>
          <p:nvPr/>
        </p:nvSpPr>
        <p:spPr>
          <a:xfrm>
            <a:off x="428760" y="285840"/>
            <a:ext cx="8229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r-HR" sz="2900" spc="-1" strike="noStrike">
                <a:solidFill>
                  <a:srgbClr val="1f497d"/>
                </a:solidFill>
                <a:latin typeface="Comic Sans MS"/>
              </a:rPr>
              <a:t>VARIJAB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Rezervirano mjesto sadržaja 4" descr=""/>
          <p:cNvPicPr/>
          <p:nvPr/>
        </p:nvPicPr>
        <p:blipFill>
          <a:blip r:embed="rId1"/>
          <a:stretch/>
        </p:blipFill>
        <p:spPr>
          <a:xfrm>
            <a:off x="353880" y="1023840"/>
            <a:ext cx="8240760" cy="55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Naslov 1"/>
          <p:cNvSpPr/>
          <p:nvPr/>
        </p:nvSpPr>
        <p:spPr>
          <a:xfrm>
            <a:off x="357120" y="142920"/>
            <a:ext cx="8229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r-HR" sz="2900" spc="-1" strike="noStrike">
                <a:solidFill>
                  <a:srgbClr val="1f497d"/>
                </a:solidFill>
                <a:latin typeface="Comic Sans MS"/>
              </a:rPr>
              <a:t>MATERIJALI I METOD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TekstniOkvir 2"/>
          <p:cNvGrpSpPr/>
          <p:nvPr/>
        </p:nvGrpSpPr>
        <p:grpSpPr>
          <a:xfrm>
            <a:off x="298440" y="878040"/>
            <a:ext cx="3554280" cy="1341360"/>
            <a:chOff x="298440" y="878040"/>
            <a:chExt cx="3554280" cy="1341360"/>
          </a:xfrm>
        </p:grpSpPr>
        <p:pic>
          <p:nvPicPr>
            <p:cNvPr id="384" name="TekstniOkvir 2" descr=""/>
            <p:cNvPicPr/>
            <p:nvPr/>
          </p:nvPicPr>
          <p:blipFill>
            <a:blip r:embed="rId1"/>
            <a:stretch/>
          </p:blipFill>
          <p:spPr>
            <a:xfrm>
              <a:off x="298440" y="878040"/>
              <a:ext cx="355428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428760" y="928800"/>
              <a:ext cx="3357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Comic Sans MS"/>
                </a:rPr>
                <a:t>Izvor podataka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Comic Sans MS"/>
                </a:rPr>
                <a:t>- eksperiment  s usporednim skupina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-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hr-HR" sz="1800" spc="-1" strike="noStrike">
                  <a:solidFill>
                    <a:srgbClr val="000000"/>
                  </a:solidFill>
                  <a:latin typeface="Comic Sans MS"/>
                </a:rPr>
                <a:t>ispiti i anke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TekstniOkvir 3"/>
          <p:cNvGrpSpPr/>
          <p:nvPr/>
        </p:nvGrpSpPr>
        <p:grpSpPr>
          <a:xfrm>
            <a:off x="4803840" y="878040"/>
            <a:ext cx="3620880" cy="1341360"/>
            <a:chOff x="4803840" y="878040"/>
            <a:chExt cx="3620880" cy="1341360"/>
          </a:xfrm>
        </p:grpSpPr>
        <p:pic>
          <p:nvPicPr>
            <p:cNvPr id="387" name="TekstniOkvir 3" descr=""/>
            <p:cNvPicPr/>
            <p:nvPr/>
          </p:nvPicPr>
          <p:blipFill>
            <a:blip r:embed="rId2"/>
            <a:stretch/>
          </p:blipFill>
          <p:spPr>
            <a:xfrm>
              <a:off x="4803840" y="878040"/>
              <a:ext cx="362088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4929120" y="928800"/>
              <a:ext cx="3429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Comic Sans MS"/>
                </a:rPr>
                <a:t>Vrsta istraživanja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-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Comic Sans MS"/>
                </a:rPr>
                <a:t>transverzalno, empirijsko,     razvojno i akcijsko  istraživan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89" name=""/>
          <p:cNvGraphicFramePr/>
          <p:nvPr/>
        </p:nvGraphicFramePr>
        <p:xfrm>
          <a:off x="285840" y="2571840"/>
          <a:ext cx="8429400" cy="4000320"/>
        </p:xfrm>
        <a:graphic>
          <a:graphicData uri="http://schemas.openxmlformats.org/drawingml/2006/table">
            <a:tbl>
              <a:tblPr/>
              <a:tblGrid>
                <a:gridCol w="2809800"/>
                <a:gridCol w="2809800"/>
                <a:gridCol w="2809800"/>
              </a:tblGrid>
              <a:tr h="916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zorak za pedagoški eksperi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(učenici sedmih razreda šk. god. 2008./2009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Župan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ksperimentalna skup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N≈2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ontrolna skup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N≈2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rapinsko -zagors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Š Đurman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Š Bedekovč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imorsko-gorans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Š Maria Martinolić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Š Braj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ad Zagre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Š Rude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Š Gustava Krkle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Š I.G. Kovačić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3T11:27:37Z</dcterms:created>
  <dc:creator>Marijana Bastić</dc:creator>
  <dc:description/>
  <dc:language>en-US</dc:language>
  <cp:lastModifiedBy>Marijana Bastić</cp:lastModifiedBy>
  <dcterms:modified xsi:type="dcterms:W3CDTF">2012-01-16T18:28:51Z</dcterms:modified>
  <cp:revision>85</cp:revision>
  <dc:subject/>
  <dc:title> PRIMJENA TRODIMENZIONALNOG MODELA U PROCESU  STJECANJA ZNANJA O KONCEPTU TVARI  U OSNOVNOJ ŠKOLI</dc:title>
</cp:coreProperties>
</file>