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17.png" ContentType="image/png"/>
  <Override PartName="/ppt/media/image10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8.gif" ContentType="image/gif"/>
  <Override PartName="/ppt/media/image5.png" ContentType="image/png"/>
  <Override PartName="/ppt/media/image35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E336-0CC6-49B5-A5AE-DF7FB2FA5C6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D2C-0BD4-4568-88F7-F34F6283117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3AC3-1BCE-421E-A6B4-8177EE178F4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209A-7D75-46E5-A8A1-6F90155610C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CD4-D03C-4107-940A-59CE0BD6746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C7E2-FA5C-4C6F-956B-9877C9A3123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87E-BA6F-4B51-ABE1-1B789D2F3FB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7940-A090-4747-A096-6CDEFE58A55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87AD-FB6A-4548-90DB-9CD3435DBCE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FBCD-3E4B-45ED-AD9D-CE02E00A1C8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8B6-0E9F-45BE-B1F7-050E472CDD5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EB59-CBA4-4688-ABC2-A49DDE332EC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6B43-187E-4596-8822-547C48362E3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932-1DE4-4B31-94FE-70887DD3B16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976-277B-489F-A941-BBB89C16D46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C02-CAE9-4937-A156-45D6727AFDC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76092"/>
                </a:solidFill>
                <a:latin typeface="Comic Sans MS"/>
              </a:rPr>
              <a:t>POJAM</a:t>
            </a:r>
            <a:r>
              <a:rPr b="0" lang="hr-HR" sz="1100" spc="-1" strike="noStrike">
                <a:solidFill>
                  <a:srgbClr val="000000"/>
                </a:solidFill>
                <a:latin typeface="Comic Sans MS"/>
              </a:rPr>
              <a:t> može biti </a:t>
            </a: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naučen bez stvarnog razumijevan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76092"/>
                </a:solidFill>
                <a:latin typeface="Comic Sans MS"/>
              </a:rPr>
              <a:t>KONCEPT</a:t>
            </a:r>
            <a:r>
              <a:rPr b="0" lang="hr-HR" sz="1100" spc="-1" strike="noStrike">
                <a:solidFill>
                  <a:srgbClr val="1f497d"/>
                </a:solidFill>
                <a:latin typeface="Comic Sans MS"/>
              </a:rPr>
              <a:t> se povezuje s </a:t>
            </a: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procesom učenja i stjecanja spoznaja na razini razumijevan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KONCEPTI SE TRAJNO POHRANJUJU </a:t>
            </a: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u pamćenju, za razliku od neorganiziranih pojedinačnih inform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6EDE-EABE-4372-A3BA-FB1D82F8162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7218-7AF6-4D74-B9E4-494436D2C81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2D73-2BED-4E84-865A-6D8D3E915A4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F93-DCD2-44E1-A66F-24ECFEDA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D564-C6AB-472C-8B6D-E2BFFC43D85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B45-9D0F-4848-996B-813E193D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2A4-2948-4BFD-A669-B06846F4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BAD-E4F4-47FF-81D6-EB4D08E8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F5B-2CCA-4C27-99F2-6B28D099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D84-35B6-475D-A582-DBDF82CD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6E8E-B64E-419E-9D42-51B8D390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C7F3-7DE8-4AEE-8789-A537C969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DF48-616F-4470-89D3-03721F76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C37F-E03C-4F68-B2D5-1BD41B6E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B7A-76E6-4B1E-A4D4-231A9ABB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AEBC-2D51-4438-9F11-52B5649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6D7-2659-46FA-AC33-EB2AB4DD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6B38-5988-486F-8165-98EFA84A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4AC3-8A11-40CF-921A-9AB88D1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8C7E-80A3-4877-82FB-2F1E618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FC9-E8B0-430C-AD0F-D8E91D3B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848E-65A7-44E5-BFFF-BF0E80C2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DAFAA-10C1-4859-83DD-92F2E482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E76B8-AA3A-4A53-A9D8-B4ACF7D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C223F-2711-4B61-AC67-843834E7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BA2D0-AEC2-44BA-8193-C841BB52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A99E2-A468-4EE2-8EFD-43F29C1A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57F-AB75-47A4-A7B4-9A79E50B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0C3C3-7942-474C-94DB-B98805FF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93E30-883B-42CF-A9EC-73C06B2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300CF-69CE-4829-831A-5063318E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BDD17-E6EC-44D8-976E-513A4EA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F2155-CC88-40DF-863E-2E250326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6E3E9-D115-4C2F-9FBC-3C2746CB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77E01-F9DD-442B-9748-E839D124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B6AE-C072-4A2E-8BF0-DDAED2DE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483D-F306-4DCD-B1E3-3C4CB160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A538C-F115-4995-BB3F-86032EA9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87F-8FA0-462A-B528-9AF3A05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E1A9-9A89-4C4B-BB9D-65611B07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5A9F-1F48-417A-9E16-036ADF2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1005-DB80-457D-954F-AF7E59AA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2EA5-D574-44FD-8ABB-5073B058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07DA-FA03-450D-B046-68D22573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5CB8-570D-4C91-9A68-BAA51C7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E1A8-30D7-46B9-A137-9359DB42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B43C-B319-4508-977D-605EE7A9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65F0-F9B1-4E06-9600-EC8C11DE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4C296-3D8B-4F1F-9CE7-100ED26D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B68-21C2-4BBC-B5C9-DD32B357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D8D59-88F5-45B1-87BF-559ABAA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3CB72-D37C-4E74-BA7A-8DA42177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E182F-1BB7-496F-90EE-6CCAF81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D5322-E582-4095-BB81-C9D8E539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77E84-1503-42C4-8111-80C3E55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F080A-EF00-490E-A6D8-119DB23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03D6A-A28A-428A-ABE7-E13C1D2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2B0AA-F3F1-4C4C-B575-B236950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45151-89E8-4657-B5DE-F49ADD4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15C3B-A426-4BAA-AA53-06275BC6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582-7AB8-459F-8586-672E280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F7AE2-F84C-48D4-AEF1-E2C2B65D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7D931-C059-483E-9F35-537A1DD5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2531A-87DB-42AC-B2C7-B7A1DE3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03F43-03E1-481F-BE8A-CDE781EF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22AF3-35B6-41E6-A671-AA07BD3D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E4885-ACEC-4A53-BA5E-A576EDB0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73F5E-3DC6-4749-9C4D-49407A79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F55F3-16F1-407F-922D-2BBBF7A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56579-F1ED-4ECB-AB05-244DCAB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B2548-C1BC-4DE2-9D11-788A7C5E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6D5-53AD-47D3-A30C-F669592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EF2ED-599B-4C63-B14F-C981253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04DFB-AEF3-4F4A-8B7F-C5CC0D2F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DD283-91A1-4469-8F8C-6361811E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3123C-3568-45E7-BA2F-BED72FC4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8A4CE-219B-476D-A6A9-2305DEF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0D7DB-BBA7-49D7-8410-AB6C021F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0E2AB-4E73-4127-B6AF-353A4537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723C8-AC31-4498-BFE4-1279529A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CA1FA-651F-404A-9823-3BC5417D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C74B7-B0D6-4B72-94D9-5F2092F3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8CB-C905-4C0E-917B-DC2FB739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03E2F-B3B3-4992-A34B-4DBCF7F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DFD85-0024-4A05-9A33-0D8A505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F961A-A8B1-4319-BC12-B5161769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61927-C81C-45B1-9503-8E4821BE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5D9C2-E613-465B-846A-748FE4E9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42B-57E7-4374-A67A-C44B4A80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8594-3238-4C19-A4CE-0C6E5B12687F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15EF-AE77-4201-8062-2F70FCA30DE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D92-4DDB-443D-93C5-588768887197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D68C-8F4F-460D-AD06-2A9D79A6490C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5AA0-3CE7-4FBB-A975-77AAB5018DDE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AED-C788-45C1-9120-25933CCBEA97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261C-248B-4EBF-8BA5-A05965A61A0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2491920"/>
            <a:ext cx="6550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omic Sans MS"/>
              </a:rPr>
              <a:t>PROVJERA USVOJENOSTI TEMELJNIH KONCEPATA </a:t>
            </a:r>
            <a:br>
              <a:rPr sz="3600"/>
            </a:br>
            <a:r>
              <a:rPr b="1" lang="sr-Latn-RS" sz="3600" spc="-1" strike="noStrike">
                <a:solidFill>
                  <a:srgbClr val="000000"/>
                </a:solidFill>
                <a:latin typeface="Comic Sans MS"/>
              </a:rPr>
              <a:t>U KEMIJ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618920" y="199800"/>
            <a:ext cx="61722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MEĐUŽUPANIJSKI STRUČNI SKU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za učitelje kemi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iječanj 201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7039080" y="0"/>
            <a:ext cx="2087280" cy="1203480"/>
          </a:xfrm>
          <a:prstGeom prst="rect">
            <a:avLst/>
          </a:prstGeom>
          <a:ln w="0">
            <a:noFill/>
          </a:ln>
        </p:spPr>
      </p:pic>
      <p:sp>
        <p:nvSpPr>
          <p:cNvPr id="361" name="Subtitle 2"/>
          <p:cNvSpPr/>
          <p:nvPr/>
        </p:nvSpPr>
        <p:spPr>
          <a:xfrm>
            <a:off x="2695680" y="508464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Valerija Begić, učitelj ment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Š Sesvetski Kraljeve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Subtitle 9"/>
          <p:cNvSpPr/>
          <p:nvPr/>
        </p:nvSpPr>
        <p:spPr>
          <a:xfrm>
            <a:off x="0" y="649116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I. Radanović, M. Toljan, M. Bastić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tle 1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O POSTIGNUĆE (PiP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OBRAZOVNI ISHOD</a:t>
            </a:r>
            <a:br>
              <a:rPr sz="1600"/>
            </a:b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                  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–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87200" y="853920"/>
            <a:ext cx="2935440" cy="524160"/>
          </a:xfrm>
          <a:prstGeom prst="rect">
            <a:avLst/>
          </a:prstGeom>
          <a:solidFill>
            <a:srgbClr val="ffe2c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Pokusom ispitati i obrazložiti fizikalna svojstva tvar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552840" y="853920"/>
            <a:ext cx="5194440" cy="524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Navesti i obrazložiti fizikalna svojstva tvari na temelju izvedenih pokusa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/3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Equal 19"/>
          <p:cNvSpPr/>
          <p:nvPr/>
        </p:nvSpPr>
        <p:spPr>
          <a:xfrm>
            <a:off x="3122640" y="97164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47766" y="59519"/>
                </a:moveTo>
                <a:lnTo>
                  <a:pt x="312596" y="59519"/>
                </a:lnTo>
                <a:lnTo>
                  <a:pt x="312596" y="127474"/>
                </a:lnTo>
                <a:lnTo>
                  <a:pt x="47766" y="127474"/>
                </a:lnTo>
                <a:lnTo>
                  <a:pt x="47766" y="59519"/>
                </a:lnTo>
                <a:close/>
                <a:moveTo>
                  <a:pt x="47766" y="161451"/>
                </a:moveTo>
                <a:lnTo>
                  <a:pt x="312596" y="161451"/>
                </a:lnTo>
                <a:lnTo>
                  <a:pt x="312596" y="229406"/>
                </a:lnTo>
                <a:lnTo>
                  <a:pt x="47766" y="229406"/>
                </a:lnTo>
                <a:lnTo>
                  <a:pt x="47766" y="161451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1655640" y="1628640"/>
            <a:ext cx="702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vakom kemijskom elementu pridruži odgovarajuća svojstva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1. električna vodljivo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a. kalcij _________              2. magnetično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. magnezij _________        3. mala tvrdoć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c. zlato __________            4. postojanost na zraku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. željezo _________           5. srebrnosiva boj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6. toplinska vodljivo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7. zapaljivo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8 . žuta boj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Rectangle 23"/>
          <p:cNvSpPr/>
          <p:nvPr/>
        </p:nvSpPr>
        <p:spPr>
          <a:xfrm>
            <a:off x="1655640" y="4076640"/>
            <a:ext cx="7091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Učenik je uzeo epruvetu i u nju dodao 2 mL vode. Potom je u istu epruvetu ulio 2mL maslinovog ulja i na kraju dodao žlicu pijeska. Zatvorio je epruvetu čepom i snažno je protresao. Sadržaj epruvete je promatrao nekoliko minuta i opazio da su se pojavila tri sloj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oje je fizikalno svojstvo omogućilo razdvajanje tvari u tri sloja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Nacrtaj epruvetu s tri sloja tvari i označi koji sloj predstavlja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oju tvar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Obrazloži crtež tj. odabir položaja pojedinog sloj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Što bi se dogodilo da je učenik pijesak u epruveti zamijenio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šećerom, a ulje alkoholom. Obrazloži svoj odgovor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0" y="2276640"/>
            <a:ext cx="1728720" cy="836280"/>
            <a:chOff x="0" y="2276640"/>
            <a:chExt cx="1728720" cy="836280"/>
          </a:xfrm>
        </p:grpSpPr>
        <p:grpSp>
          <p:nvGrpSpPr>
            <p:cNvPr id="457" name="12-Point Star 10"/>
            <p:cNvGrpSpPr/>
            <p:nvPr/>
          </p:nvGrpSpPr>
          <p:grpSpPr>
            <a:xfrm>
              <a:off x="0" y="2276640"/>
              <a:ext cx="1728720" cy="836280"/>
              <a:chOff x="0" y="2276640"/>
              <a:chExt cx="1728720" cy="836280"/>
            </a:xfrm>
          </p:grpSpPr>
          <p:pic>
            <p:nvPicPr>
              <p:cNvPr id="458" name="12-Point Star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276640"/>
                <a:ext cx="1728720" cy="83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441000" y="2481120"/>
                <a:ext cx="84420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60" name="Rectangle 1"/>
            <p:cNvSpPr/>
            <p:nvPr/>
          </p:nvSpPr>
          <p:spPr>
            <a:xfrm>
              <a:off x="445320" y="2396520"/>
              <a:ext cx="102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1.- 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(2.? - PR)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61" name="Group 12"/>
          <p:cNvGrpSpPr/>
          <p:nvPr/>
        </p:nvGrpSpPr>
        <p:grpSpPr>
          <a:xfrm>
            <a:off x="36360" y="5052960"/>
            <a:ext cx="1727280" cy="836640"/>
            <a:chOff x="36360" y="5052960"/>
            <a:chExt cx="1727280" cy="836640"/>
          </a:xfrm>
        </p:grpSpPr>
        <p:grpSp>
          <p:nvGrpSpPr>
            <p:cNvPr id="462" name="12-Point Star 31"/>
            <p:cNvGrpSpPr/>
            <p:nvPr/>
          </p:nvGrpSpPr>
          <p:grpSpPr>
            <a:xfrm>
              <a:off x="36360" y="5052960"/>
              <a:ext cx="1727280" cy="836640"/>
              <a:chOff x="36360" y="5052960"/>
              <a:chExt cx="1727280" cy="836640"/>
            </a:xfrm>
          </p:grpSpPr>
          <p:pic>
            <p:nvPicPr>
              <p:cNvPr id="463" name="12-Point Star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60" y="5052960"/>
                <a:ext cx="1727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78080" y="5256000"/>
                <a:ext cx="84528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65" name="Rectangle 32"/>
            <p:cNvSpPr/>
            <p:nvPr/>
          </p:nvSpPr>
          <p:spPr>
            <a:xfrm>
              <a:off x="503280" y="530208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2.- K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466" name="Picture 33" descr="MMj02867680000[1]"/>
          <p:cNvPicPr/>
          <p:nvPr/>
        </p:nvPicPr>
        <p:blipFill>
          <a:blip r:embed="rId3"/>
          <a:stretch/>
        </p:blipFill>
        <p:spPr>
          <a:xfrm>
            <a:off x="8028000" y="5514840"/>
            <a:ext cx="922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"/>
          <p:cNvSpPr/>
          <p:nvPr/>
        </p:nvSpPr>
        <p:spPr>
          <a:xfrm>
            <a:off x="1746360" y="765000"/>
            <a:ext cx="7018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Učiteljica je izvela pokus s natrijem. Pincetom je uzela komad natrija iz boce u kojoj je bio uronjen u petroleju te je nožem odrezala manji komadić, a ostatak odmah vratila u bocu. Zatim je nožem očistila tamnu površinu s komadića natrija dok se nije ukazao njegov metalni sjaj. Očišćeni natrij ubacila je u posudu s vodom u koju je prethodno dodala par kapi fenolftaleina. Natrij je plivao na vodi uz burno oslobađanje mjehurića. Po završetku pokusa otopina u posudi bila je crvenoljubičaste boj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Opiši 3 fizikalna svojstava natrija koje je učiteljica </a:t>
            </a:r>
            <a:r>
              <a:rPr b="0" lang="hr-HR" sz="1800" spc="-1" strike="noStrike" u="sng">
                <a:solidFill>
                  <a:srgbClr val="002060"/>
                </a:solidFill>
                <a:uFillTx/>
                <a:latin typeface="Comic Sans MS"/>
              </a:rPr>
              <a:t>dokazala</a:t>
            </a: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 ovim pokuso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Je li natrij reaktivna ili troma tvar. Obrazloži svoj odgovo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c.   S kojim sastojkom zraka natrij ne smije doći u kontakt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      </a:t>
            </a: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zbog čega se čuva u petroleju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d.   Objasni zašto je učiteljica morala očistiti tamnu površinu s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      </a:t>
            </a: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komadića  natrija kojeg je ubacila u vodu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e.   Zašto se na površini natrija stvara tamni sloj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8" name="Object 2" descr=""/>
          <p:cNvPicPr/>
          <p:nvPr/>
        </p:nvPicPr>
        <p:blipFill>
          <a:blip r:embed="rId1"/>
          <a:stretch/>
        </p:blipFill>
        <p:spPr>
          <a:xfrm>
            <a:off x="7451640" y="5445000"/>
            <a:ext cx="1368360" cy="130356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5"/>
          <p:cNvGrpSpPr/>
          <p:nvPr/>
        </p:nvGrpSpPr>
        <p:grpSpPr>
          <a:xfrm>
            <a:off x="17640" y="2698920"/>
            <a:ext cx="1728720" cy="838080"/>
            <a:chOff x="17640" y="2698920"/>
            <a:chExt cx="1728720" cy="838080"/>
          </a:xfrm>
        </p:grpSpPr>
        <p:grpSp>
          <p:nvGrpSpPr>
            <p:cNvPr id="470" name="12-Point Star 6"/>
            <p:cNvGrpSpPr/>
            <p:nvPr/>
          </p:nvGrpSpPr>
          <p:grpSpPr>
            <a:xfrm>
              <a:off x="17640" y="2698920"/>
              <a:ext cx="1728720" cy="838080"/>
              <a:chOff x="17640" y="2698920"/>
              <a:chExt cx="1728720" cy="838080"/>
            </a:xfrm>
          </p:grpSpPr>
          <p:pic>
            <p:nvPicPr>
              <p:cNvPr id="471" name="12-Point Star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40" y="2698920"/>
                <a:ext cx="172872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459360" y="2901600"/>
                <a:ext cx="84672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73" name="Rectangle 7"/>
            <p:cNvSpPr/>
            <p:nvPr/>
          </p:nvSpPr>
          <p:spPr>
            <a:xfrm>
              <a:off x="488160" y="29476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3.- RP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tle 1"/>
          <p:cNvSpPr/>
          <p:nvPr/>
        </p:nvSpPr>
        <p:spPr>
          <a:xfrm>
            <a:off x="-7920" y="322200"/>
            <a:ext cx="9144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O POSTIGNUĆE (PiP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OBRAZOVNI ISHODI (razrađena postignuća) </a:t>
            </a:r>
            <a:br>
              <a:rPr sz="1600"/>
            </a:b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                  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–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108000" y="2781360"/>
            <a:ext cx="2376360" cy="1557360"/>
          </a:xfrm>
          <a:prstGeom prst="rect">
            <a:avLst/>
          </a:prstGeom>
          <a:solidFill>
            <a:srgbClr val="ffe2c5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Vlastitim riječima iskazati i obrazložiti opažene promjene prijelaza agregacijskih stanja vode u prirod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3059280" y="1760400"/>
            <a:ext cx="568944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Navesti da se voda na Zemlji pojavljuje u sva tri agregacijska stanja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3073320" y="3738600"/>
            <a:ext cx="5676840" cy="531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Navesti i protumačiti da agregacijsko stanje vode ovisi o temperaturi i tlaku.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/3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Rectangle 30"/>
          <p:cNvSpPr/>
          <p:nvPr/>
        </p:nvSpPr>
        <p:spPr>
          <a:xfrm>
            <a:off x="3059280" y="4869000"/>
            <a:ext cx="5681520" cy="563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Definirati i objasniti prijelaze između agregacijskih stanja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Rectangle 31"/>
          <p:cNvSpPr/>
          <p:nvPr/>
        </p:nvSpPr>
        <p:spPr>
          <a:xfrm>
            <a:off x="3051000" y="2786040"/>
            <a:ext cx="5689800" cy="43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Objasniti svojstva pojedinih agregacijskih stanja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80" name="Straight Arrow Connector 13"/>
          <p:cNvCxnSpPr>
            <a:endCxn id="476" idx="1"/>
          </p:cNvCxnSpPr>
          <p:nvPr/>
        </p:nvCxnSpPr>
        <p:spPr>
          <a:xfrm flipV="1">
            <a:off x="108000" y="2048760"/>
            <a:ext cx="2952000" cy="73260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81" name="Straight Arrow Connector 14"/>
          <p:cNvCxnSpPr/>
          <p:nvPr/>
        </p:nvCxnSpPr>
        <p:spPr>
          <a:xfrm>
            <a:off x="2484360" y="4005000"/>
            <a:ext cx="567360" cy="108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82" name="Straight Arrow Connector 16"/>
          <p:cNvCxnSpPr>
            <a:endCxn id="479" idx="1"/>
          </p:cNvCxnSpPr>
          <p:nvPr/>
        </p:nvCxnSpPr>
        <p:spPr>
          <a:xfrm>
            <a:off x="2475000" y="3004920"/>
            <a:ext cx="576360" cy="108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83" name="Straight Arrow Connector 17"/>
          <p:cNvCxnSpPr>
            <a:endCxn id="478" idx="1"/>
          </p:cNvCxnSpPr>
          <p:nvPr/>
        </p:nvCxnSpPr>
        <p:spPr>
          <a:xfrm>
            <a:off x="108000" y="4338720"/>
            <a:ext cx="2952000" cy="81360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pic>
        <p:nvPicPr>
          <p:cNvPr id="484" name="Picture 34" descr="MMAG00488_0000[1]"/>
          <p:cNvPicPr/>
          <p:nvPr/>
        </p:nvPicPr>
        <p:blipFill>
          <a:blip r:embed="rId1"/>
          <a:stretch/>
        </p:blipFill>
        <p:spPr>
          <a:xfrm>
            <a:off x="7037280" y="5661000"/>
            <a:ext cx="17370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itle 1"/>
          <p:cNvSpPr/>
          <p:nvPr/>
        </p:nvSpPr>
        <p:spPr>
          <a:xfrm>
            <a:off x="11160" y="11592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I ISHOD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/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</a:t>
            </a:r>
            <a:br>
              <a:rPr sz="1600"/>
            </a:b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568680" y="520560"/>
            <a:ext cx="5194440" cy="524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Navesti i protumačiti da agregacijsko stanje vode ovisi o temperaturi i tlaku.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/3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Rectangle 23"/>
          <p:cNvSpPr/>
          <p:nvPr/>
        </p:nvSpPr>
        <p:spPr>
          <a:xfrm>
            <a:off x="1908000" y="1706400"/>
            <a:ext cx="7091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58680" y="2975040"/>
            <a:ext cx="1727280" cy="836640"/>
            <a:chOff x="58680" y="2975040"/>
            <a:chExt cx="1727280" cy="836640"/>
          </a:xfrm>
        </p:grpSpPr>
        <p:grpSp>
          <p:nvGrpSpPr>
            <p:cNvPr id="489" name="12-Point Star 31"/>
            <p:cNvGrpSpPr/>
            <p:nvPr/>
          </p:nvGrpSpPr>
          <p:grpSpPr>
            <a:xfrm>
              <a:off x="58680" y="2975040"/>
              <a:ext cx="1727280" cy="836640"/>
              <a:chOff x="58680" y="2975040"/>
              <a:chExt cx="1727280" cy="836640"/>
            </a:xfrm>
          </p:grpSpPr>
          <p:pic>
            <p:nvPicPr>
              <p:cNvPr id="490" name="12-Point Star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58680" y="2975040"/>
                <a:ext cx="1727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>
                <a:off x="498240" y="3178800"/>
                <a:ext cx="84528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92" name="Rectangle 32"/>
            <p:cNvSpPr/>
            <p:nvPr/>
          </p:nvSpPr>
          <p:spPr>
            <a:xfrm>
              <a:off x="553320" y="322488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3.- RP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93" name="Rectangle 3"/>
          <p:cNvSpPr/>
          <p:nvPr/>
        </p:nvSpPr>
        <p:spPr>
          <a:xfrm>
            <a:off x="1778040" y="1216080"/>
            <a:ext cx="698328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Temperatura vrelišta neke tvari je temperatura pri kojoj je tlak pare te tvari jednak atmosferskom tlaku koji iznosi 101.3 kPa. Na grafičkom prikazu krivulja </a:t>
            </a:r>
            <a:r>
              <a:rPr b="1" i="1" lang="hr-HR" sz="1600" spc="-1" strike="noStrike">
                <a:solidFill>
                  <a:srgbClr val="002060"/>
                </a:solidFill>
                <a:latin typeface="Comic Sans MS"/>
              </a:rPr>
              <a:t>D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predstavlja vodu, a krivulje </a:t>
            </a:r>
            <a:r>
              <a:rPr b="0" i="1" lang="hr-HR" sz="1600" spc="-1" strike="noStrike">
                <a:solidFill>
                  <a:srgbClr val="002060"/>
                </a:solidFill>
                <a:latin typeface="Comic Sans MS"/>
              </a:rPr>
              <a:t>A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, </a:t>
            </a:r>
            <a:r>
              <a:rPr b="0" i="1" lang="hr-HR" sz="1600" spc="-1" strike="noStrike">
                <a:solidFill>
                  <a:srgbClr val="002060"/>
                </a:solidFill>
                <a:latin typeface="Comic Sans MS"/>
              </a:rPr>
              <a:t>B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i </a:t>
            </a:r>
            <a:r>
              <a:rPr b="0" i="1" lang="hr-HR" sz="1600" spc="-1" strike="noStrike">
                <a:solidFill>
                  <a:srgbClr val="002060"/>
                </a:solidFill>
                <a:latin typeface="Comic Sans MS"/>
              </a:rPr>
              <a:t>C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neke druge tvari. Proučite graf i riješite pitanj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i kojoj je temperaturi tlak pare vode jednak atmosferskom tlaku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Na kojoj će temperaturi voda provrijeti ako atmosferski tlak u tikvici snizimo na 70 kPa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Na višim nadmorskim visinama niži je atmosferski tlak. Zašto planinari uglavnom nose gotovu hranu koju će samo podgrijati te u pravilu ne kuhaju namirnice? Za odgovor primjeni podatke iz graf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Tvari A, B i C imaju veći tlak para od vode. Kakva je temperatura vrelišta tih tvari u odnosu na temp. vrelišta vode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oja od navedenih tvari (</a:t>
            </a:r>
            <a:r>
              <a:rPr b="0" i="1" lang="hr-HR" sz="1600" spc="-1" strike="noStrike">
                <a:solidFill>
                  <a:srgbClr val="002060"/>
                </a:solidFill>
                <a:latin typeface="Comic Sans MS"/>
              </a:rPr>
              <a:t>A, B, C ili D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) najbrže hlapi pri sobnoj temperaturi? Obrazloži odgovor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4932360" y="2049480"/>
            <a:ext cx="27939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537000" y="542880"/>
            <a:ext cx="5194080" cy="523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Navesti i protumačiti da agregacijsko stanje vode ovisi o temperaturi i tlaku.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/3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1668600" y="1171440"/>
            <a:ext cx="707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Napiši naziv agregacijskog stanja vode pri normalnom atmosferskom tlaku i navedenim temperaturam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25°C ____________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. 110°C 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0°C _____________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e. - 5°C 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100°C ____________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f. 90°C 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1353960" y="2660760"/>
            <a:ext cx="7707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ouči dijagram koji prikazuje promjene koje se događaju tijekom zagrijavanja uzorka vode pri 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normalnom atmosferskom tlaku.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Oznakama X, Y i Z označena su agregacijska stanja vode u pojedinim temperaturnim područjim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a. Kako se nazivaju temperaturni podaci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na dijagramu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. U kojem se agregacijskom stanju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nalazi voda u području temperatur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označenom slovom Y?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c. Unatoč zagrijavanju temper. vode s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jedno izvjesno vrijeme zadržava na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0°C. Kada će temp. opet početi rasti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. Što se događa s temperaturom vode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aljnjim zagrijavanjem nakon što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ona provrije?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e. Kako će povišeni tlak zraka utjecati n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omjene prikazane dijagramom?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98" name="Group 21"/>
          <p:cNvGrpSpPr/>
          <p:nvPr/>
        </p:nvGrpSpPr>
        <p:grpSpPr>
          <a:xfrm>
            <a:off x="41400" y="1724040"/>
            <a:ext cx="1687320" cy="684360"/>
            <a:chOff x="41400" y="1724040"/>
            <a:chExt cx="1687320" cy="684360"/>
          </a:xfrm>
        </p:grpSpPr>
        <p:grpSp>
          <p:nvGrpSpPr>
            <p:cNvPr id="499" name="12-Point Star 22"/>
            <p:cNvGrpSpPr/>
            <p:nvPr/>
          </p:nvGrpSpPr>
          <p:grpSpPr>
            <a:xfrm>
              <a:off x="41400" y="1724040"/>
              <a:ext cx="1687320" cy="684360"/>
              <a:chOff x="41400" y="1724040"/>
              <a:chExt cx="1687320" cy="684360"/>
            </a:xfrm>
          </p:grpSpPr>
          <p:pic>
            <p:nvPicPr>
              <p:cNvPr id="500" name="12-Point Star 22" descr=""/>
              <p:cNvPicPr/>
              <p:nvPr/>
            </p:nvPicPr>
            <p:blipFill>
              <a:blip r:embed="rId1"/>
              <a:stretch/>
            </p:blipFill>
            <p:spPr>
              <a:xfrm>
                <a:off x="41400" y="1724040"/>
                <a:ext cx="1687320" cy="6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471600" y="1890720"/>
                <a:ext cx="822960" cy="30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02" name="Rectangle 1"/>
            <p:cNvSpPr/>
            <p:nvPr/>
          </p:nvSpPr>
          <p:spPr>
            <a:xfrm>
              <a:off x="438120" y="1753920"/>
              <a:ext cx="102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1.- 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(2.? - PR)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503" name="Picture 2" descr=""/>
          <p:cNvPicPr/>
          <p:nvPr/>
        </p:nvPicPr>
        <p:blipFill>
          <a:blip r:embed="rId2"/>
          <a:stretch/>
        </p:blipFill>
        <p:spPr>
          <a:xfrm>
            <a:off x="203040" y="6116760"/>
            <a:ext cx="1054440" cy="747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3"/>
          <a:stretch/>
        </p:blipFill>
        <p:spPr>
          <a:xfrm>
            <a:off x="1544760" y="3811680"/>
            <a:ext cx="3168360" cy="2638440"/>
          </a:xfrm>
          <a:prstGeom prst="rect">
            <a:avLst/>
          </a:prstGeom>
          <a:ln w="0">
            <a:noFill/>
          </a:ln>
        </p:spPr>
      </p:pic>
      <p:sp>
        <p:nvSpPr>
          <p:cNvPr id="505" name="Title 1"/>
          <p:cNvSpPr/>
          <p:nvPr/>
        </p:nvSpPr>
        <p:spPr>
          <a:xfrm>
            <a:off x="41400" y="10944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I ISHOD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/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06" name="Group 13"/>
          <p:cNvGrpSpPr/>
          <p:nvPr/>
        </p:nvGrpSpPr>
        <p:grpSpPr>
          <a:xfrm>
            <a:off x="-46080" y="4676760"/>
            <a:ext cx="1593720" cy="836640"/>
            <a:chOff x="-46080" y="4676760"/>
            <a:chExt cx="1593720" cy="836640"/>
          </a:xfrm>
        </p:grpSpPr>
        <p:grpSp>
          <p:nvGrpSpPr>
            <p:cNvPr id="507" name="12-Point Star 15"/>
            <p:cNvGrpSpPr/>
            <p:nvPr/>
          </p:nvGrpSpPr>
          <p:grpSpPr>
            <a:xfrm>
              <a:off x="-46080" y="4676760"/>
              <a:ext cx="1593720" cy="836640"/>
              <a:chOff x="-46080" y="4676760"/>
              <a:chExt cx="1593720" cy="836640"/>
            </a:xfrm>
          </p:grpSpPr>
          <p:pic>
            <p:nvPicPr>
              <p:cNvPr id="508" name="12-Point Star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-46080" y="4676760"/>
                <a:ext cx="159372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365400" y="4881240"/>
                <a:ext cx="77256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10" name="Rectangle 32"/>
            <p:cNvSpPr/>
            <p:nvPr/>
          </p:nvSpPr>
          <p:spPr>
            <a:xfrm>
              <a:off x="205200" y="492732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2.- KR i P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3552840" y="692280"/>
            <a:ext cx="5194440" cy="523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Definirati i objasniti prijelaze između agregacijskih stanja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Rectangle 23"/>
          <p:cNvSpPr/>
          <p:nvPr/>
        </p:nvSpPr>
        <p:spPr>
          <a:xfrm>
            <a:off x="1908000" y="1706400"/>
            <a:ext cx="7091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3" name="Group 12"/>
          <p:cNvGrpSpPr/>
          <p:nvPr/>
        </p:nvGrpSpPr>
        <p:grpSpPr>
          <a:xfrm>
            <a:off x="69840" y="2997360"/>
            <a:ext cx="1727280" cy="836280"/>
            <a:chOff x="69840" y="2997360"/>
            <a:chExt cx="1727280" cy="836280"/>
          </a:xfrm>
        </p:grpSpPr>
        <p:grpSp>
          <p:nvGrpSpPr>
            <p:cNvPr id="514" name="12-Point Star 31"/>
            <p:cNvGrpSpPr/>
            <p:nvPr/>
          </p:nvGrpSpPr>
          <p:grpSpPr>
            <a:xfrm>
              <a:off x="69840" y="2997360"/>
              <a:ext cx="1727280" cy="836280"/>
              <a:chOff x="69840" y="2997360"/>
              <a:chExt cx="1727280" cy="836280"/>
            </a:xfrm>
          </p:grpSpPr>
          <p:pic>
            <p:nvPicPr>
              <p:cNvPr id="515" name="12-Point Star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69840" y="2997360"/>
                <a:ext cx="1727280" cy="83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512640" y="3198960"/>
                <a:ext cx="84276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17" name="Rectangle 32"/>
            <p:cNvSpPr/>
            <p:nvPr/>
          </p:nvSpPr>
          <p:spPr>
            <a:xfrm>
              <a:off x="393480" y="324504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2.- KR i P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8" name="Rectangle 3"/>
          <p:cNvSpPr/>
          <p:nvPr/>
        </p:nvSpPr>
        <p:spPr>
          <a:xfrm>
            <a:off x="1731960" y="1413000"/>
            <a:ext cx="698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ouči priloženu sliku prijelaza agregacijskih stanja i riješi pitanj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a. Kako se nazivaju promjene agregacijskih stanja označene slovima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D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_____________________ i 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E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. Objasni koja je promjenu agregacijskog stanja označena slovom 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c. Da bi se dogodila promjena označena slovom 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C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moramo 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temperaturu i ___________tlak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. Na kojoj će se temperaturi pri normalnom atmosferskom tlaku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ogoditi promjena označena slovom 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B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kod VODE? 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3233520" cy="2658960"/>
          </a:xfrm>
          <a:prstGeom prst="rect">
            <a:avLst/>
          </a:prstGeom>
          <a:ln w="0">
            <a:noFill/>
          </a:ln>
        </p:spPr>
      </p:pic>
      <p:sp>
        <p:nvSpPr>
          <p:cNvPr id="520" name="Title 1"/>
          <p:cNvSpPr/>
          <p:nvPr/>
        </p:nvSpPr>
        <p:spPr>
          <a:xfrm>
            <a:off x="0" y="11592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I ISHOD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/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0"/>
          <p:cNvSpPr/>
          <p:nvPr/>
        </p:nvSpPr>
        <p:spPr>
          <a:xfrm>
            <a:off x="1725480" y="1909800"/>
            <a:ext cx="70218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omjene tvari iz svakodnevnoga života razvrstajte u odgovarajuću skupinu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cijeđenje tjestenine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c.   gorenje cjepanic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rezanje salame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.   vrenje mošt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Fizikalne promjene : __________      Kemijske promjene: 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2" name="Group 24"/>
          <p:cNvGrpSpPr/>
          <p:nvPr/>
        </p:nvGrpSpPr>
        <p:grpSpPr>
          <a:xfrm>
            <a:off x="47520" y="2276640"/>
            <a:ext cx="1728720" cy="836280"/>
            <a:chOff x="47520" y="2276640"/>
            <a:chExt cx="1728720" cy="836280"/>
          </a:xfrm>
        </p:grpSpPr>
        <p:grpSp>
          <p:nvGrpSpPr>
            <p:cNvPr id="523" name="12-Point Star 10"/>
            <p:cNvGrpSpPr/>
            <p:nvPr/>
          </p:nvGrpSpPr>
          <p:grpSpPr>
            <a:xfrm>
              <a:off x="47520" y="2276640"/>
              <a:ext cx="1728720" cy="836280"/>
              <a:chOff x="47520" y="2276640"/>
              <a:chExt cx="1728720" cy="836280"/>
            </a:xfrm>
          </p:grpSpPr>
          <p:pic>
            <p:nvPicPr>
              <p:cNvPr id="524" name="12-Point Star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47520" y="2276640"/>
                <a:ext cx="1728720" cy="83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488880" y="2481120"/>
                <a:ext cx="84672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26" name="Rectangle 1"/>
            <p:cNvSpPr/>
            <p:nvPr/>
          </p:nvSpPr>
          <p:spPr>
            <a:xfrm>
              <a:off x="495000" y="2396520"/>
              <a:ext cx="102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1.- 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(2.? - PR)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7" name="Rectangle 3"/>
          <p:cNvSpPr/>
          <p:nvPr/>
        </p:nvSpPr>
        <p:spPr>
          <a:xfrm>
            <a:off x="176040" y="865080"/>
            <a:ext cx="2935440" cy="800280"/>
          </a:xfrm>
          <a:prstGeom prst="rect">
            <a:avLst/>
          </a:prstGeom>
          <a:solidFill>
            <a:srgbClr val="ffe2c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Opažati i razlikovati fizikalne i kemijske promjene tvari u prirod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541680" y="1035000"/>
            <a:ext cx="5194440" cy="523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Razlikovati i objasniti fizikalne i kemijske promjene tvari u prirodi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/3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Equal 21"/>
          <p:cNvSpPr/>
          <p:nvPr/>
        </p:nvSpPr>
        <p:spPr>
          <a:xfrm>
            <a:off x="3111480" y="1152360"/>
            <a:ext cx="360360" cy="289080"/>
          </a:xfrm>
          <a:custGeom>
            <a:avLst/>
            <a:gdLst/>
            <a:ahLst/>
            <a:rect l="l" t="t" r="r" b="b"/>
            <a:pathLst>
              <a:path w="360363" h="288925">
                <a:moveTo>
                  <a:pt x="47766" y="59519"/>
                </a:moveTo>
                <a:lnTo>
                  <a:pt x="312597" y="59519"/>
                </a:lnTo>
                <a:lnTo>
                  <a:pt x="312597" y="127474"/>
                </a:lnTo>
                <a:lnTo>
                  <a:pt x="47766" y="127474"/>
                </a:lnTo>
                <a:lnTo>
                  <a:pt x="47766" y="59519"/>
                </a:lnTo>
                <a:close/>
                <a:moveTo>
                  <a:pt x="47766" y="161451"/>
                </a:moveTo>
                <a:lnTo>
                  <a:pt x="312597" y="161451"/>
                </a:lnTo>
                <a:lnTo>
                  <a:pt x="312597" y="229406"/>
                </a:lnTo>
                <a:lnTo>
                  <a:pt x="47766" y="229406"/>
                </a:lnTo>
                <a:lnTo>
                  <a:pt x="47766" y="161451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Rectangle 22"/>
          <p:cNvSpPr/>
          <p:nvPr/>
        </p:nvSpPr>
        <p:spPr>
          <a:xfrm>
            <a:off x="1739880" y="4162320"/>
            <a:ext cx="702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Iz navedenog teksta izdvoji fizikalne i kemijske promjen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Jesen je stigla u Ivanov voćnjak. Na stablima višnje vide se crveni plodovi. Lišće sa stabala pada, a ono koje je još uvijek zeleno obavlja proces fotosinteze. Opalo lišće polako trune stvarajući humus. Ivan zadovoljan bere plodove, a njegova supruga od njega kuha marmeladu. Skuhanu marmeladu zatim ulijeva u staklenke i posprema u smočnicu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31" name="Group 25"/>
          <p:cNvGrpSpPr/>
          <p:nvPr/>
        </p:nvGrpSpPr>
        <p:grpSpPr>
          <a:xfrm>
            <a:off x="69840" y="4775040"/>
            <a:ext cx="1727280" cy="836640"/>
            <a:chOff x="69840" y="4775040"/>
            <a:chExt cx="1727280" cy="836640"/>
          </a:xfrm>
        </p:grpSpPr>
        <p:grpSp>
          <p:nvGrpSpPr>
            <p:cNvPr id="532" name="12-Point Star 26"/>
            <p:cNvGrpSpPr/>
            <p:nvPr/>
          </p:nvGrpSpPr>
          <p:grpSpPr>
            <a:xfrm>
              <a:off x="69840" y="4775040"/>
              <a:ext cx="1727280" cy="836640"/>
              <a:chOff x="69840" y="4775040"/>
              <a:chExt cx="1727280" cy="836640"/>
            </a:xfrm>
          </p:grpSpPr>
          <p:pic>
            <p:nvPicPr>
              <p:cNvPr id="533" name="12-Point Star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9840" y="4775040"/>
                <a:ext cx="1727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512640" y="4979160"/>
                <a:ext cx="842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35" name="Rectangle 32"/>
            <p:cNvSpPr/>
            <p:nvPr/>
          </p:nvSpPr>
          <p:spPr>
            <a:xfrm>
              <a:off x="393480" y="502488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2.- KR i P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6" name="Title 1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O POSTIGNUĆE (PiP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OBRAZOVNI ISHOD</a:t>
            </a:r>
            <a:br>
              <a:rPr sz="1600"/>
            </a:b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                  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–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2771640" y="2178000"/>
            <a:ext cx="4392720" cy="45799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"/>
          <p:cNvSpPr/>
          <p:nvPr/>
        </p:nvSpPr>
        <p:spPr>
          <a:xfrm>
            <a:off x="1716120" y="115920"/>
            <a:ext cx="7021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oučite sliku i opišite najmanje četiri fizikalne i četiri kemijske promjene tvari koje su prikazane na slici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Fizikalne promjene: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emijske promjene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____________________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____________________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____________________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____________________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58680" y="2967120"/>
            <a:ext cx="1727280" cy="836640"/>
            <a:chOff x="58680" y="2967120"/>
            <a:chExt cx="1727280" cy="836640"/>
          </a:xfrm>
        </p:grpSpPr>
        <p:grpSp>
          <p:nvGrpSpPr>
            <p:cNvPr id="540" name="12-Point Star 4"/>
            <p:cNvGrpSpPr/>
            <p:nvPr/>
          </p:nvGrpSpPr>
          <p:grpSpPr>
            <a:xfrm>
              <a:off x="58680" y="2967120"/>
              <a:ext cx="1727280" cy="836640"/>
              <a:chOff x="58680" y="2967120"/>
              <a:chExt cx="1727280" cy="836640"/>
            </a:xfrm>
          </p:grpSpPr>
          <p:pic>
            <p:nvPicPr>
              <p:cNvPr id="541" name="12-Point Star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8680" y="2967120"/>
                <a:ext cx="1727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498240" y="3169080"/>
                <a:ext cx="84528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43" name="Rectangle 32"/>
            <p:cNvSpPr/>
            <p:nvPr/>
          </p:nvSpPr>
          <p:spPr>
            <a:xfrm>
              <a:off x="553320" y="321516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3.- RP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itle 1"/>
          <p:cNvSpPr/>
          <p:nvPr/>
        </p:nvSpPr>
        <p:spPr>
          <a:xfrm>
            <a:off x="-7920" y="322200"/>
            <a:ext cx="9144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A POSTIGNUĆA (PiP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OBRAZOVNI ISHODI (razrađena postignuća) </a:t>
            </a:r>
            <a:br>
              <a:rPr sz="1600"/>
            </a:b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                  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–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108000" y="2924280"/>
            <a:ext cx="2376360" cy="1225440"/>
          </a:xfrm>
          <a:prstGeom prst="rect">
            <a:avLst/>
          </a:prstGeom>
          <a:solidFill>
            <a:srgbClr val="ffe2c5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Na temelju pokusa </a:t>
            </a:r>
            <a:r>
              <a:rPr b="0" lang="hr-HR" sz="1600" spc="-1" strike="noStrike">
                <a:solidFill>
                  <a:srgbClr val="ff0000"/>
                </a:solidFill>
                <a:latin typeface="Comic Sans MS"/>
              </a:rPr>
              <a:t>shvatiti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razliku između elementarnih tvari i kemijskih spojev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3051000" y="1673280"/>
            <a:ext cx="5689800" cy="804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Definirati elementarne tvari kao čiste tvari koje se nikakvim fizikalnim i kemijskim postupcima ne mogu rastaviti na jednostavnije čiste tvari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3073320" y="4500720"/>
            <a:ext cx="5676840" cy="1044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Objasniti na temelju izvedenih pokusa razliku između elementarnih tvari i kemijskih spojeva i zaključiti da spajanjem elementarnih tvari nastaju kemijski spojevi. 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/3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051000" y="3106800"/>
            <a:ext cx="5689800" cy="860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Definirati kemijske spojeve kao čiste tvari koje se mogu rastaviti na elementarne tvari ili jednostavnije kemijske spojeve.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549" name="Straight Arrow Connector 13"/>
          <p:cNvCxnSpPr>
            <a:endCxn id="546" idx="1"/>
          </p:cNvCxnSpPr>
          <p:nvPr/>
        </p:nvCxnSpPr>
        <p:spPr>
          <a:xfrm flipV="1">
            <a:off x="107640" y="2075760"/>
            <a:ext cx="2943720" cy="848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50" name="Straight Arrow Connector 14"/>
          <p:cNvCxnSpPr/>
          <p:nvPr/>
        </p:nvCxnSpPr>
        <p:spPr>
          <a:xfrm>
            <a:off x="132840" y="4149720"/>
            <a:ext cx="2918520" cy="72000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51" name="Straight Arrow Connector 16"/>
          <p:cNvCxnSpPr>
            <a:stCxn id="545" idx="3"/>
          </p:cNvCxnSpPr>
          <p:nvPr/>
        </p:nvCxnSpPr>
        <p:spPr>
          <a:xfrm flipV="1">
            <a:off x="2484360" y="3510720"/>
            <a:ext cx="581400" cy="2628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pic>
        <p:nvPicPr>
          <p:cNvPr id="552" name="Picture 34" descr="MMAG00488_0000[1]"/>
          <p:cNvPicPr/>
          <p:nvPr/>
        </p:nvPicPr>
        <p:blipFill>
          <a:blip r:embed="rId1"/>
          <a:stretch/>
        </p:blipFill>
        <p:spPr>
          <a:xfrm>
            <a:off x="7064280" y="5632560"/>
            <a:ext cx="17370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2556000" y="714240"/>
            <a:ext cx="619128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Objasniti na temelju izvedenih pokusa razliku između elementarnih tvari i kemijskih spojeva i zaključiti da spajanjem elementarnih tvari nastaju kemijski spojevi. 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1./2./3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Rectangle 20"/>
          <p:cNvSpPr/>
          <p:nvPr/>
        </p:nvSpPr>
        <p:spPr>
          <a:xfrm>
            <a:off x="1542960" y="1825560"/>
            <a:ext cx="716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okusom je utvrđeno da se tvar X kemijskim postupcima NE MOŽE rastaviti na jednostavnije tvari i da reakcijom s tvari Y daje tvar Z. Analizom tvari Y je utvrđeno da se razlaže na dvije nove tvari.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ojoj vrsti tvari pripada tvar X?  ______________________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ojoj vrsti tvari pripadaju tvari  Y i Z?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1542960" y="3409920"/>
            <a:ext cx="7191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ojedine promjene tvari mogu se opisati na sljedeći način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voda </a:t>
            </a:r>
            <a:r>
              <a:rPr b="0" lang="hr-HR" sz="1600" spc="-1" strike="noStrike">
                <a:solidFill>
                  <a:srgbClr val="00206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vodik + kisi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umporov (IV) oksid + voda </a:t>
            </a:r>
            <a:r>
              <a:rPr b="0" lang="hr-HR" sz="1600" spc="-1" strike="noStrike">
                <a:solidFill>
                  <a:srgbClr val="00206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sumporasta kiselin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vodik + kisik </a:t>
            </a:r>
            <a:r>
              <a:rPr b="0" lang="hr-HR" sz="1600" spc="-1" strike="noStrike">
                <a:solidFill>
                  <a:srgbClr val="00206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vod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akrov (II) sulfat + voda </a:t>
            </a:r>
            <a:r>
              <a:rPr b="0" lang="hr-HR" sz="1600" spc="-1" strike="noStrike">
                <a:solidFill>
                  <a:srgbClr val="00206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modra gal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natrijev bromid </a:t>
            </a:r>
            <a:r>
              <a:rPr b="0" lang="hr-HR" sz="1600" spc="-1" strike="noStrike">
                <a:solidFill>
                  <a:srgbClr val="00206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natrij + brom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1. Razvrstaj navedene promjene u navedene skupin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A.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omjene kojima od jednostavnijih čistih tvari nastaju kem. spojev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B.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omjene kojima od kemijskih spojeva nastaju elementarne tvar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2. Tvari koje sudjeluju u navedenim promjenama razvrstaj na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A.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Elementarne tvar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B.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emijske spojev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56" name="Group 13"/>
          <p:cNvGrpSpPr/>
          <p:nvPr/>
        </p:nvGrpSpPr>
        <p:grpSpPr>
          <a:xfrm>
            <a:off x="47520" y="4076640"/>
            <a:ext cx="1595520" cy="733320"/>
            <a:chOff x="47520" y="4076640"/>
            <a:chExt cx="1595520" cy="733320"/>
          </a:xfrm>
        </p:grpSpPr>
        <p:grpSp>
          <p:nvGrpSpPr>
            <p:cNvPr id="557" name="12-Point Star 14"/>
            <p:cNvGrpSpPr/>
            <p:nvPr/>
          </p:nvGrpSpPr>
          <p:grpSpPr>
            <a:xfrm>
              <a:off x="47520" y="4076640"/>
              <a:ext cx="1595520" cy="733320"/>
              <a:chOff x="47520" y="4076640"/>
              <a:chExt cx="1595520" cy="733320"/>
            </a:xfrm>
          </p:grpSpPr>
          <p:pic>
            <p:nvPicPr>
              <p:cNvPr id="558" name="12-Point Star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47520" y="4076640"/>
                <a:ext cx="159552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456120" y="4254480"/>
                <a:ext cx="77436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60" name="Rectangle 32"/>
            <p:cNvSpPr/>
            <p:nvPr/>
          </p:nvSpPr>
          <p:spPr>
            <a:xfrm>
              <a:off x="261000" y="429444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2.- KR i P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61" name="Title 1"/>
          <p:cNvSpPr/>
          <p:nvPr/>
        </p:nvSpPr>
        <p:spPr>
          <a:xfrm>
            <a:off x="0" y="11592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                      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I ISHOD </a:t>
            </a: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/ </a:t>
            </a:r>
            <a:r>
              <a:rPr b="0" lang="hr-HR" sz="1600" spc="-1" strike="noStrike">
                <a:solidFill>
                  <a:srgbClr val="00863d"/>
                </a:solidFill>
                <a:latin typeface="Comic Sans MS"/>
              </a:rPr>
              <a:t>razina postignuća (1., 2. ili 3.)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14400" y="2171880"/>
            <a:ext cx="1728720" cy="836280"/>
            <a:chOff x="14400" y="2171880"/>
            <a:chExt cx="1728720" cy="836280"/>
          </a:xfrm>
        </p:grpSpPr>
        <p:grpSp>
          <p:nvGrpSpPr>
            <p:cNvPr id="563" name="12-Point Star 12"/>
            <p:cNvGrpSpPr/>
            <p:nvPr/>
          </p:nvGrpSpPr>
          <p:grpSpPr>
            <a:xfrm>
              <a:off x="14400" y="2171880"/>
              <a:ext cx="1728720" cy="836280"/>
              <a:chOff x="14400" y="2171880"/>
              <a:chExt cx="1728720" cy="836280"/>
            </a:xfrm>
          </p:grpSpPr>
          <p:pic>
            <p:nvPicPr>
              <p:cNvPr id="564" name="12-Point Star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00" y="2171880"/>
                <a:ext cx="1728720" cy="83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457560" y="2376720"/>
                <a:ext cx="84420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66" name="Rectangle 1"/>
            <p:cNvSpPr/>
            <p:nvPr/>
          </p:nvSpPr>
          <p:spPr>
            <a:xfrm>
              <a:off x="461520" y="2291400"/>
              <a:ext cx="102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1.- R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(2.? - PR)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08000" y="836640"/>
            <a:ext cx="8640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ndividualno zapišite jedan učenički “biser” koji Vas se najviše dojmio tijekom protekle polugodišnje provjere znanja iz kemije u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7. razred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skustva razmijenite unutar grupe i zaključite pojavljuju li se slični „biseri” i kod ostalih koleg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daberite unutar grupe “najbolji biser”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zapišite ključne pojmove koji su važni za razumijevanje tog pojma/poja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 kojem je konceptu riječ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raspravite unutar grupe što je mogući uzrok navedenog  „bisera” i može li se promjenom modela poučavanja spriječiti ponavljanje pogreške kod budućih generacija i osigurati da učenici doista usvoje definirani koncep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zlaganje predstavnika grup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4" name="Cloud Callout 3"/>
          <p:cNvGrpSpPr/>
          <p:nvPr/>
        </p:nvGrpSpPr>
        <p:grpSpPr>
          <a:xfrm>
            <a:off x="-60480" y="-30240"/>
            <a:ext cx="2748240" cy="914400"/>
            <a:chOff x="-60480" y="-30240"/>
            <a:chExt cx="2748240" cy="914400"/>
          </a:xfrm>
        </p:grpSpPr>
        <p:pic>
          <p:nvPicPr>
            <p:cNvPr id="365" name="Cloud Callout 3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2748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61800" y="104760"/>
              <a:ext cx="1716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Comic Sans MS"/>
                  <a:ea typeface="Trebuchet MS"/>
                </a:rPr>
                <a:t>ZADATAK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67" name="Flowchart: Terminator 5"/>
          <p:cNvSpPr/>
          <p:nvPr/>
        </p:nvSpPr>
        <p:spPr>
          <a:xfrm>
            <a:off x="5219640" y="6093000"/>
            <a:ext cx="3097440" cy="647640"/>
          </a:xfrm>
          <a:prstGeom prst="flowChartTerminator">
            <a:avLst/>
          </a:prstGeom>
          <a:solidFill>
            <a:srgbClr val="ffb265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Vrijeme: 15 + 10 mi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1749600" y="193680"/>
            <a:ext cx="701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Pokus izveden sa željeznom žicom predočen je crtežom, a trajao je nekoliko dana. Prouči crtež i odgovori na pitanj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a. U koju vrstu tvari ubrajamo željeznu žicu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b. Zašto u pokusu 1. željezna žica prelazi u hrđu, a u pokusu 2. se ne mijenja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c. Koja je uloga suncokretovog ulja u 2. pokusu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d. U koju vrstu tvari ubrajamo suncokretovo ulje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e. Prikaži riječima promjenu koja se događa pri nastanku hrđ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f. U koje vrste tvari ubrajamo tvari koje se spajaju sa željezom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pri čemu nastaje hrđa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g. U koju vrstu tvari ubrajamo hrđu? Obrazloži svoj odgovo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h. Kakva je masa zahrđale željezne žice iz 2. pokusa u odnosu n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masu žice prije hrđanja? Obrazloži svoj odgovo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68" name="Group 5"/>
          <p:cNvGrpSpPr/>
          <p:nvPr/>
        </p:nvGrpSpPr>
        <p:grpSpPr>
          <a:xfrm>
            <a:off x="17640" y="2698920"/>
            <a:ext cx="1728720" cy="838080"/>
            <a:chOff x="17640" y="2698920"/>
            <a:chExt cx="1728720" cy="838080"/>
          </a:xfrm>
        </p:grpSpPr>
        <p:grpSp>
          <p:nvGrpSpPr>
            <p:cNvPr id="569" name="12-Point Star 6"/>
            <p:cNvGrpSpPr/>
            <p:nvPr/>
          </p:nvGrpSpPr>
          <p:grpSpPr>
            <a:xfrm>
              <a:off x="17640" y="2698920"/>
              <a:ext cx="1728720" cy="838080"/>
              <a:chOff x="17640" y="2698920"/>
              <a:chExt cx="1728720" cy="838080"/>
            </a:xfrm>
          </p:grpSpPr>
          <p:pic>
            <p:nvPicPr>
              <p:cNvPr id="570" name="12-Point Star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40" y="2698920"/>
                <a:ext cx="172872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459360" y="2901600"/>
                <a:ext cx="84672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572" name="Rectangle 7"/>
            <p:cNvSpPr/>
            <p:nvPr/>
          </p:nvSpPr>
          <p:spPr>
            <a:xfrm>
              <a:off x="488160" y="29476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Comic Sans MS"/>
                </a:rPr>
                <a:t>3.- RP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573" name="Picture 4" descr=""/>
          <p:cNvPicPr/>
          <p:nvPr/>
        </p:nvPicPr>
        <p:blipFill>
          <a:blip r:embed="rId2"/>
          <a:stretch/>
        </p:blipFill>
        <p:spPr>
          <a:xfrm>
            <a:off x="1749600" y="915840"/>
            <a:ext cx="611496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08000" y="981000"/>
            <a:ext cx="871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Aft>
                <a:spcPts val="36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blikujte DVA pitanja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različitog tipa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ojima je moguće provjeriti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konceptualno razumijevanj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od učenika  (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pitanja 2./3. razine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Comic Sans MS"/>
              </a:rPr>
              <a:t>1. pitanje</a:t>
            </a:r>
            <a:r>
              <a:rPr b="0" lang="hr-HR" sz="1900" spc="-1" strike="noStrike">
                <a:solidFill>
                  <a:srgbClr val="000000"/>
                </a:solidFill>
                <a:latin typeface="Comic Sans MS"/>
              </a:rPr>
              <a:t> oblikujte da provjerava jedan ili oba ispod navedena obrazovna ishoda: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000000"/>
                </a:solidFill>
                <a:uFillTx/>
                <a:latin typeface="Comic Sans MS"/>
              </a:rPr>
              <a:t>razlikovati smjese tvari od kemijskih spojeva i elementarnih tvari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Aft>
                <a:spcPts val="2401"/>
              </a:spcAft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000000"/>
                </a:solidFill>
                <a:uFillTx/>
                <a:latin typeface="Comic Sans MS"/>
              </a:rPr>
              <a:t>razlikovati molekule elementarnih tvari od molekula kemijskih spoje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Comic Sans MS"/>
              </a:rPr>
              <a:t>2. pitanje</a:t>
            </a:r>
            <a:r>
              <a:rPr b="0" lang="hr-HR" sz="1900" spc="-1" strike="noStrike">
                <a:solidFill>
                  <a:srgbClr val="000000"/>
                </a:solidFill>
                <a:latin typeface="Comic Sans MS"/>
              </a:rPr>
              <a:t> oblikujte da provjerava ishod važan za konceptualno razumijevanje vezano uz „biser” koji ste na početku radionice odabrali kao najbolji unutar grup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Comic Sans MS"/>
              </a:rPr>
              <a:t>naznačite koje pitanje ispituje ishod na 2., a koje na 3. razini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Comic Sans MS"/>
              </a:rPr>
              <a:t>izlaganje predstavnika grup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5" name="Cloud Callout 3"/>
          <p:cNvGrpSpPr/>
          <p:nvPr/>
        </p:nvGrpSpPr>
        <p:grpSpPr>
          <a:xfrm>
            <a:off x="-60480" y="-30240"/>
            <a:ext cx="2748240" cy="914400"/>
            <a:chOff x="-60480" y="-30240"/>
            <a:chExt cx="2748240" cy="914400"/>
          </a:xfrm>
        </p:grpSpPr>
        <p:pic>
          <p:nvPicPr>
            <p:cNvPr id="576" name="Cloud Callout 3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2748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61800" y="104760"/>
              <a:ext cx="1716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Comic Sans MS"/>
                  <a:ea typeface="Trebuchet MS"/>
                </a:rPr>
                <a:t>ZADATAK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8" name="Flowchart: Terminator 5"/>
          <p:cNvSpPr/>
          <p:nvPr/>
        </p:nvSpPr>
        <p:spPr>
          <a:xfrm>
            <a:off x="5219640" y="6093000"/>
            <a:ext cx="3097440" cy="647640"/>
          </a:xfrm>
          <a:prstGeom prst="flowChartTerminator">
            <a:avLst/>
          </a:prstGeom>
          <a:solidFill>
            <a:srgbClr val="ffb265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Vrijeme: 20 + 20 mi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4" dur="2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7" dur="2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2" dur="2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7" dur="20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2" dur="2000"/>
                                        <p:tgtEl>
                                          <p:spTgt spid="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328680" y="571680"/>
            <a:ext cx="7637400" cy="287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Razlikovati smjese tvari od kemijskih spojeva i elementarnih tvari.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20760" y="2349360"/>
            <a:ext cx="839160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Razvrstaj sljedeće tvari u odgovarajuću skupinu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a. bakrov (II) sulfa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. dim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. izvorska voda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c. limunada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. mliječna čokolada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e. natrijev bromid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f. uglji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g. željez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Elementarne tvari: __________________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emijski spojevi: ___________________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mjese: 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Title 1"/>
          <p:cNvSpPr/>
          <p:nvPr/>
        </p:nvSpPr>
        <p:spPr>
          <a:xfrm>
            <a:off x="0" y="11592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   </a:t>
            </a:r>
            <a:r>
              <a:rPr b="1" lang="hr-HR" sz="1600" spc="-1" strike="noStrike">
                <a:solidFill>
                  <a:srgbClr val="404040"/>
                </a:solidFill>
                <a:latin typeface="Comic Sans MS"/>
              </a:rPr>
              <a:t>OBRAZOVNI ISHODI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324000" y="900000"/>
            <a:ext cx="7629480" cy="289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Razlikovati molekule elementarnih tvari od molekula kemijskih spojeva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Horizontal Scroll 14"/>
          <p:cNvSpPr/>
          <p:nvPr/>
        </p:nvSpPr>
        <p:spPr>
          <a:xfrm>
            <a:off x="98280" y="1197000"/>
            <a:ext cx="8616960" cy="934920"/>
          </a:xfrm>
          <a:prstGeom prst="horizontalScroll">
            <a:avLst>
              <a:gd name="adj" fmla="val 12500"/>
            </a:avLst>
          </a:prstGeom>
          <a:solidFill>
            <a:srgbClr val="ffbd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Za sljedeća pitanja odredite:    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a. ispituju li konceptualno razumijevan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b. razinu postignuć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7853400" y="5445000"/>
            <a:ext cx="93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179280" y="549360"/>
            <a:ext cx="83916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like (A – D) predstavljaju različite uzorke tvari u plinovitom agregacijskom stanju pri jednakim uvjetima tlaka i temperature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ojedine vrste tvari prikazane su kemijskom simbolikom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A. Što predstavlja čestica „N</a:t>
            </a:r>
            <a:r>
              <a:rPr b="0" lang="hr-HR" sz="1600" spc="-1" strike="noStrike" baseline="-25000">
                <a:solidFill>
                  <a:srgbClr val="002060"/>
                </a:solidFill>
                <a:latin typeface="Comic Sans MS"/>
              </a:rPr>
              <a:t>2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“ ? (zaokruži točan odgovor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a. elementarnu tvar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. kemijski spoj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c. smjesu tvari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B. Koja slika prikazuje smjesu elementarne tvari i kemijskog spoja?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C. Koja slika prikazuje smjesu dvije elementarne tvari?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D. Koja slika  prikazuje samo jedan kemijski spoj?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6" name="Picture 7" descr=""/>
          <p:cNvPicPr/>
          <p:nvPr/>
        </p:nvPicPr>
        <p:blipFill>
          <a:blip r:embed="rId1"/>
          <a:stretch/>
        </p:blipFill>
        <p:spPr>
          <a:xfrm>
            <a:off x="201600" y="1916280"/>
            <a:ext cx="5832360" cy="145548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6"/>
          <p:cNvSpPr/>
          <p:nvPr/>
        </p:nvSpPr>
        <p:spPr>
          <a:xfrm>
            <a:off x="201600" y="5732640"/>
            <a:ext cx="85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Na koji je način moguće doraditi ovo pitanje da doista ispituje konceptualno razumijevanje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8" name="Picture 19" descr="MMj02853320000[1]"/>
          <p:cNvPicPr/>
          <p:nvPr/>
        </p:nvPicPr>
        <p:blipFill>
          <a:blip r:embed="rId2"/>
          <a:stretch/>
        </p:blipFill>
        <p:spPr>
          <a:xfrm>
            <a:off x="7601040" y="5300640"/>
            <a:ext cx="1341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201600" y="189000"/>
            <a:ext cx="8569440" cy="10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like (1-5) predstavljaju pet različitih uzoraka tvari koje su simbolički predočene određenim znakovima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ojedini znak simbolički predstavlja atom jednog elementa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ojmovima koji se odnose na agregacijska stanja tvari i vrste tvari pridruži odgovarajući broj slike koji ga predstavlja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Jednom pojmu smiješ pridružiti više brojeva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Svako potpuno točno spajanje donosi 1 bod, a polovično spajanje 0 bodov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Agregacijsko stanje tvari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čvrsto: 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tekuće: 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linovito: 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Vrsta tvari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elementarna tvar: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kemijski spoj: 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mjesa: 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58840" y="2862360"/>
            <a:ext cx="4238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85680" y="333360"/>
            <a:ext cx="8856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Prisjeti se znanja o agregacijskim stanjima tvari, vrstama tvari i njihovoj građi (atom, molekula elementarne tvari, molekula kemijskog spoja, smjesa elementarnih tvari, smjesa kemijskih spojeva, smjesa elementarnih tvari i kemijskih spojeva)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Za svaki par slika napiši po čemu su slične, a po čemu različite koristeći navedene pojmove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ličnosti: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Razlike: 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Sličnosti: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hr-HR" sz="1600" spc="-1" strike="noStrike">
                <a:solidFill>
                  <a:srgbClr val="002060"/>
                </a:solidFill>
                <a:latin typeface="Comic Sans MS"/>
              </a:rPr>
              <a:t>Razlike: 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39680" y="1820880"/>
            <a:ext cx="3610080" cy="13618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244440" y="3284640"/>
            <a:ext cx="3505320" cy="1361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MMj02853320000[1]"/>
          <p:cNvPicPr/>
          <p:nvPr/>
        </p:nvPicPr>
        <p:blipFill>
          <a:blip r:embed="rId3"/>
          <a:stretch/>
        </p:blipFill>
        <p:spPr>
          <a:xfrm>
            <a:off x="7601040" y="5300640"/>
            <a:ext cx="1341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291960" y="2478240"/>
            <a:ext cx="8244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Comic Sans MS"/>
              </a:rPr>
              <a:t>HVALA NA SURADNJI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6" name="Picture 5" descr="E:\computer_30.gif"/>
          <p:cNvPicPr/>
          <p:nvPr/>
        </p:nvPicPr>
        <p:blipFill>
          <a:blip r:embed="rId1"/>
          <a:stretch/>
        </p:blipFill>
        <p:spPr>
          <a:xfrm>
            <a:off x="3657600" y="3635280"/>
            <a:ext cx="1512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omic Sans MS"/>
              </a:rPr>
              <a:t>RAZLIKA IZMEĐU POJMA I KONCEPT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1116000" y="2314440"/>
            <a:ext cx="2160720" cy="7192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POJA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1116000" y="4257720"/>
            <a:ext cx="2160720" cy="718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KONCEP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068720" y="2098800"/>
            <a:ext cx="3672000" cy="1150920"/>
          </a:xfrm>
          <a:prstGeom prst="leftArrowCallout">
            <a:avLst>
              <a:gd name="adj1" fmla="val 25002"/>
              <a:gd name="adj2" fmla="val 25000"/>
              <a:gd name="adj3" fmla="val 53175"/>
              <a:gd name="adj4" fmla="val 78901"/>
            </a:avLst>
          </a:prstGeom>
          <a:gradFill rotWithShape="0">
            <a:gsLst>
              <a:gs pos="0">
                <a:srgbClr val="ffa4a4"/>
              </a:gs>
              <a:gs pos="100000">
                <a:srgbClr val="ffe3e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REUZET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APSTRAKCIJ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4140360" y="4114800"/>
            <a:ext cx="3671640" cy="1150920"/>
          </a:xfrm>
          <a:prstGeom prst="leftArrowCallout">
            <a:avLst>
              <a:gd name="adj1" fmla="val 25002"/>
              <a:gd name="adj2" fmla="val 25000"/>
              <a:gd name="adj3" fmla="val 53170"/>
              <a:gd name="adj4" fmla="val 78901"/>
            </a:avLst>
          </a:prstGeom>
          <a:gradFill rotWithShape="0">
            <a:gsLst>
              <a:gs pos="0">
                <a:srgbClr val="ffa4a4"/>
              </a:gs>
              <a:gs pos="100000">
                <a:srgbClr val="ffe3e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VLASTIT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KONSTRUKCIJ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AutoShape 22"/>
          <p:cNvGrpSpPr/>
          <p:nvPr/>
        </p:nvGrpSpPr>
        <p:grpSpPr>
          <a:xfrm>
            <a:off x="3554640" y="844920"/>
            <a:ext cx="4193640" cy="6232680"/>
            <a:chOff x="3554640" y="844920"/>
            <a:chExt cx="4193640" cy="6232680"/>
          </a:xfrm>
        </p:grpSpPr>
        <p:pic>
          <p:nvPicPr>
            <p:cNvPr id="374" name="AutoShape 22" descr=""/>
            <p:cNvPicPr/>
            <p:nvPr/>
          </p:nvPicPr>
          <p:blipFill>
            <a:blip r:embed="rId1"/>
            <a:stretch/>
          </p:blipFill>
          <p:spPr>
            <a:xfrm>
              <a:off x="3790800" y="853920"/>
              <a:ext cx="3567240" cy="56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 rot="783600">
              <a:off x="4160520" y="1107720"/>
              <a:ext cx="2981160" cy="57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76" name="AutoShape 23"/>
          <p:cNvGrpSpPr/>
          <p:nvPr/>
        </p:nvGrpSpPr>
        <p:grpSpPr>
          <a:xfrm>
            <a:off x="714600" y="137880"/>
            <a:ext cx="4192560" cy="6327360"/>
            <a:chOff x="714600" y="137880"/>
            <a:chExt cx="4192560" cy="6327360"/>
          </a:xfrm>
        </p:grpSpPr>
        <p:pic>
          <p:nvPicPr>
            <p:cNvPr id="377" name="AutoShape 23" descr=""/>
            <p:cNvPicPr/>
            <p:nvPr/>
          </p:nvPicPr>
          <p:blipFill>
            <a:blip r:embed="rId2"/>
            <a:stretch/>
          </p:blipFill>
          <p:spPr>
            <a:xfrm>
              <a:off x="1116000" y="677880"/>
              <a:ext cx="3559320" cy="57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 rot="11583600">
              <a:off x="1332720" y="396360"/>
              <a:ext cx="2955960" cy="58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79" name="AutoShape 23"/>
          <p:cNvSpPr/>
          <p:nvPr/>
        </p:nvSpPr>
        <p:spPr>
          <a:xfrm flipH="1" flipV="1" rot="20973000">
            <a:off x="77040" y="319680"/>
            <a:ext cx="1738440" cy="3002040"/>
          </a:xfrm>
          <a:custGeom>
            <a:avLst/>
            <a:gdLst>
              <a:gd name="textAreaLeft" fmla="*/ 232920 w 1738440"/>
              <a:gd name="textAreaRight" fmla="*/ 1505520 w 1738440"/>
              <a:gd name="textAreaTop" fmla="*/ 481320 h 3002040"/>
              <a:gd name="textAreaBottom" fmla="*/ 2161800 h 30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33" stAng="-5400000" swAng="5400000"/>
                <a:lnTo>
                  <a:pt x="21600" y="12089"/>
                </a:lnTo>
                <a:arcTo wR="21600" hR="6933" stAng="0" swAng="2534078"/>
                <a:lnTo>
                  <a:pt x="7200" y="21203"/>
                </a:lnTo>
                <a:lnTo>
                  <a:pt x="0" y="16444"/>
                </a:lnTo>
                <a:lnTo>
                  <a:pt x="7200" y="10891"/>
                </a:lnTo>
                <a:lnTo>
                  <a:pt x="7200" y="13469"/>
                </a:lnTo>
                <a:arcTo wR="21600" hR="6933" stAng="2534078" swAng="-2094495"/>
                <a:lnTo>
                  <a:pt x="20051" y="9511"/>
                </a:lnTo>
                <a:arcTo wR="21600" hR="6933" stAng="-439583" swAng="-4960417"/>
                <a:close/>
              </a:path>
              <a:path fill="darkenLess" w="21600" h="21600">
                <a:moveTo>
                  <a:pt x="0" y="0"/>
                </a:moveTo>
                <a:arcTo wR="21600" hR="6933" stAng="-5400000" swAng="5400000"/>
                <a:lnTo>
                  <a:pt x="21600" y="12089"/>
                </a:lnTo>
                <a:arcTo wR="21600" hR="6933" stAng="0" swAng="-439583"/>
                <a:lnTo>
                  <a:pt x="20051" y="9511"/>
                </a:lnTo>
                <a:arcTo wR="21600" hR="6933" stAng="-439583" swAng="-4960417"/>
                <a:close/>
              </a:path>
            </a:pathLst>
          </a:custGeom>
          <a:solidFill>
            <a:srgbClr val="fbebab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AutoShape 22"/>
          <p:cNvSpPr/>
          <p:nvPr/>
        </p:nvSpPr>
        <p:spPr>
          <a:xfrm rot="20973000">
            <a:off x="1961640" y="387360"/>
            <a:ext cx="1754280" cy="2949480"/>
          </a:xfrm>
          <a:custGeom>
            <a:avLst/>
            <a:gdLst>
              <a:gd name="textAreaLeft" fmla="*/ 234720 w 1754280"/>
              <a:gd name="textAreaRight" fmla="*/ 1519560 w 1754280"/>
              <a:gd name="textAreaTop" fmla="*/ 466200 h 2949480"/>
              <a:gd name="textAreaBottom" fmla="*/ 2121840 h 294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29" stAng="-5400000" swAng="5400000"/>
                <a:lnTo>
                  <a:pt x="21600" y="12124"/>
                </a:lnTo>
                <a:arcTo wR="21600" hR="6829" stAng="0" swAng="2508114"/>
                <a:lnTo>
                  <a:pt x="7200" y="21209"/>
                </a:lnTo>
                <a:lnTo>
                  <a:pt x="0" y="16305"/>
                </a:lnTo>
                <a:lnTo>
                  <a:pt x="7200" y="10618"/>
                </a:lnTo>
                <a:lnTo>
                  <a:pt x="7200" y="13266"/>
                </a:lnTo>
                <a:arcTo wR="21600" hR="6829" stAng="2508114" swAng="-2053661"/>
                <a:lnTo>
                  <a:pt x="19910" y="9476"/>
                </a:lnTo>
                <a:arcTo wR="21600" hR="6829" stAng="-454453" swAng="-4945547"/>
                <a:close/>
              </a:path>
              <a:path fill="darkenLess" w="21600" h="21600">
                <a:moveTo>
                  <a:pt x="0" y="0"/>
                </a:moveTo>
                <a:arcTo wR="21600" hR="6829" stAng="-5400000" swAng="5400000"/>
                <a:lnTo>
                  <a:pt x="21600" y="12124"/>
                </a:lnTo>
                <a:arcTo wR="21600" hR="6829" stAng="0" swAng="-454453"/>
                <a:lnTo>
                  <a:pt x="19910" y="9476"/>
                </a:lnTo>
                <a:arcTo wR="21600" hR="6829" stAng="-454453" swAng="-4945547"/>
                <a:close/>
              </a:path>
            </a:pathLst>
          </a:custGeom>
          <a:solidFill>
            <a:srgbClr val="fbebab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AutoShape 10"/>
          <p:cNvSpPr/>
          <p:nvPr/>
        </p:nvSpPr>
        <p:spPr>
          <a:xfrm>
            <a:off x="3203640" y="1052640"/>
            <a:ext cx="2305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ffc"/>
              </a:gs>
              <a:gs pos="50000">
                <a:srgbClr val="ffffff"/>
              </a:gs>
              <a:gs pos="100000">
                <a:srgbClr val="dbfffc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278c6"/>
                </a:solidFill>
                <a:latin typeface="Comic Sans MS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AutoShape 11"/>
          <p:cNvSpPr/>
          <p:nvPr/>
        </p:nvSpPr>
        <p:spPr>
          <a:xfrm>
            <a:off x="92160" y="3500280"/>
            <a:ext cx="270036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ffc"/>
              </a:gs>
              <a:gs pos="50000">
                <a:srgbClr val="ffffff"/>
              </a:gs>
              <a:gs pos="100000">
                <a:srgbClr val="dbfffc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78c6"/>
                </a:solidFill>
                <a:latin typeface="Comic Sans MS"/>
              </a:rPr>
              <a:t>RAZRA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78c6"/>
                </a:solidFill>
                <a:latin typeface="Comic Sans MS"/>
              </a:rPr>
              <a:t>SADRŽAJ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4140360" y="5300640"/>
            <a:ext cx="316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ffc"/>
              </a:gs>
              <a:gs pos="50000">
                <a:srgbClr val="ffffff"/>
              </a:gs>
              <a:gs pos="100000">
                <a:srgbClr val="dbfffc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78c6"/>
                </a:solidFill>
                <a:latin typeface="Comic Sans MS"/>
              </a:rPr>
              <a:t>VREDNOVANJ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AutoShape 7" descr=""/>
          <p:cNvPicPr/>
          <p:nvPr/>
        </p:nvPicPr>
        <p:blipFill>
          <a:blip r:embed="rId3"/>
          <a:stretch/>
        </p:blipFill>
        <p:spPr>
          <a:xfrm>
            <a:off x="5181480" y="-6480"/>
            <a:ext cx="3706920" cy="804960"/>
          </a:xfrm>
          <a:prstGeom prst="rect">
            <a:avLst/>
          </a:prstGeom>
          <a:ln w="0">
            <a:noFill/>
          </a:ln>
        </p:spPr>
      </p:pic>
      <p:pic>
        <p:nvPicPr>
          <p:cNvPr id="385" name="AutoShape 10" descr=""/>
          <p:cNvPicPr/>
          <p:nvPr/>
        </p:nvPicPr>
        <p:blipFill>
          <a:blip r:embed="rId4"/>
          <a:stretch/>
        </p:blipFill>
        <p:spPr>
          <a:xfrm>
            <a:off x="3267000" y="1889280"/>
            <a:ext cx="2322720" cy="11779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16"/>
          <p:cNvSpPr/>
          <p:nvPr/>
        </p:nvSpPr>
        <p:spPr>
          <a:xfrm rot="878400">
            <a:off x="3800520" y="34876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7d961"/>
                </a:solidFill>
                <a:latin typeface="Comic Sans MS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5195880" y="3141720"/>
            <a:ext cx="3948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ISHODI UČE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AutoShape 9"/>
          <p:cNvSpPr/>
          <p:nvPr/>
        </p:nvSpPr>
        <p:spPr>
          <a:xfrm>
            <a:off x="6227640" y="3645000"/>
            <a:ext cx="2592360" cy="91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RAZ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OSTIGNUĆ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TextBox 19"/>
          <p:cNvSpPr/>
          <p:nvPr/>
        </p:nvSpPr>
        <p:spPr>
          <a:xfrm flipH="1" rot="21114600">
            <a:off x="443880" y="15998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REALIZACIJ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AutoShape 16"/>
          <p:cNvSpPr/>
          <p:nvPr/>
        </p:nvSpPr>
        <p:spPr>
          <a:xfrm>
            <a:off x="5651640" y="2060640"/>
            <a:ext cx="2520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ffc"/>
              </a:gs>
              <a:gs pos="50000">
                <a:srgbClr val="ffffff"/>
              </a:gs>
              <a:gs pos="100000">
                <a:srgbClr val="dbfffc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78c6"/>
                </a:solidFill>
                <a:latin typeface="Comic Sans MS"/>
              </a:rPr>
              <a:t>POSTIGNUĆ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78c6"/>
                </a:solidFill>
                <a:latin typeface="Comic Sans MS"/>
              </a:rPr>
              <a:t>UČENJ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539640" y="907920"/>
            <a:ext cx="2016360" cy="57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ffc"/>
              </a:gs>
              <a:gs pos="50000">
                <a:srgbClr val="ffffff"/>
              </a:gs>
              <a:gs pos="100000">
                <a:srgbClr val="dbfffc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78c6"/>
                </a:solidFill>
                <a:latin typeface="Comic Sans MS"/>
              </a:rPr>
              <a:t>NASTAV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92" name="Cloud Callout 21"/>
          <p:cNvGrpSpPr/>
          <p:nvPr/>
        </p:nvGrpSpPr>
        <p:grpSpPr>
          <a:xfrm>
            <a:off x="-66600" y="2236680"/>
            <a:ext cx="3376440" cy="1530360"/>
            <a:chOff x="-66600" y="2236680"/>
            <a:chExt cx="3376440" cy="1530360"/>
          </a:xfrm>
        </p:grpSpPr>
        <p:pic>
          <p:nvPicPr>
            <p:cNvPr id="393" name="Cloud Callout 21" descr=""/>
            <p:cNvPicPr/>
            <p:nvPr/>
          </p:nvPicPr>
          <p:blipFill>
            <a:blip r:embed="rId5"/>
            <a:stretch/>
          </p:blipFill>
          <p:spPr>
            <a:xfrm>
              <a:off x="-66600" y="2236680"/>
              <a:ext cx="33764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46040" y="2440080"/>
              <a:ext cx="21178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Comic Sans MS"/>
                </a:rPr>
                <a:t>REFLEKSIJA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95" name="Striped Right Arrow 22"/>
          <p:cNvSpPr/>
          <p:nvPr/>
        </p:nvSpPr>
        <p:spPr>
          <a:xfrm rot="3957600">
            <a:off x="1225800" y="3120840"/>
            <a:ext cx="4538520" cy="50328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Comic Sans MS"/>
              </a:rPr>
              <a:t>USMENA I PISMENA PROVJE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3995640" y="4292640"/>
            <a:ext cx="3745080" cy="1065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95d63"/>
                </a:solidFill>
                <a:latin typeface="Comic Sans MS"/>
              </a:rPr>
              <a:t>PISMENA PROVJE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d63"/>
                </a:solidFill>
                <a:latin typeface="Comic Sans MS"/>
              </a:rPr>
              <a:t>ANALIZA PRIJE OBJAVE REZULTAT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Strelica zakrivljena gore 15"/>
          <p:cNvSpPr/>
          <p:nvPr/>
        </p:nvSpPr>
        <p:spPr>
          <a:xfrm flipV="1" rot="3024600">
            <a:off x="2613600" y="182880"/>
            <a:ext cx="1514520" cy="861840"/>
          </a:xfrm>
          <a:custGeom>
            <a:avLst/>
            <a:gdLst>
              <a:gd name="textAreaLeft" fmla="*/ 297720 w 1514520"/>
              <a:gd name="textAreaRight" fmla="*/ 1109160 w 1514520"/>
              <a:gd name="textAreaTop" fmla="*/ 115200 h 861840"/>
              <a:gd name="textAreaBottom" fmla="*/ 746640 h 86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95" hR="21600" stAng="10800000" swAng="-5400000"/>
                <a:lnTo>
                  <a:pt x="11568" y="21600"/>
                </a:lnTo>
                <a:arcTo wR="8495" hR="21600" stAng="5400000" swAng="-3052304"/>
                <a:lnTo>
                  <a:pt x="21196" y="6582"/>
                </a:lnTo>
                <a:lnTo>
                  <a:pt x="18527" y="0"/>
                </a:lnTo>
                <a:lnTo>
                  <a:pt x="15049" y="6582"/>
                </a:lnTo>
                <a:lnTo>
                  <a:pt x="16586" y="6582"/>
                </a:lnTo>
                <a:arcTo wR="8495" hR="21600" stAng="2347696" swAng="2804093"/>
                <a:lnTo>
                  <a:pt x="10032" y="21244"/>
                </a:lnTo>
                <a:arcTo wR="8495" hR="21600" stAng="5648210" swAng="5151790"/>
                <a:close/>
              </a:path>
              <a:path fill="darkenLess" w="21600" h="21600">
                <a:moveTo>
                  <a:pt x="0" y="0"/>
                </a:moveTo>
                <a:arcTo wR="8495" hR="21600" stAng="10800000" swAng="-5400000"/>
                <a:lnTo>
                  <a:pt x="11568" y="21600"/>
                </a:lnTo>
                <a:arcTo wR="8495" hR="21600" stAng="5400000" swAng="248210"/>
                <a:lnTo>
                  <a:pt x="10032" y="21244"/>
                </a:lnTo>
                <a:arcTo wR="8495" hR="21600" stAng="5648210" swAng="5151790"/>
                <a:close/>
              </a:path>
            </a:pathLst>
          </a:custGeom>
          <a:solidFill>
            <a:srgbClr val="3668c4"/>
          </a:solidFill>
          <a:ln w="25560">
            <a:solidFill>
              <a:srgbClr val="546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0" y="0"/>
            <a:ext cx="3276720" cy="91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c3e42"/>
                </a:solidFill>
                <a:latin typeface="Comic Sans MS"/>
              </a:rPr>
              <a:t>POVRATNA INFORMA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trelica zakrivljena gore 15"/>
          <p:cNvSpPr/>
          <p:nvPr/>
        </p:nvSpPr>
        <p:spPr>
          <a:xfrm flipH="1" flipV="1" rot="7127400">
            <a:off x="6835680" y="4560480"/>
            <a:ext cx="2568600" cy="801720"/>
          </a:xfrm>
          <a:custGeom>
            <a:avLst/>
            <a:gdLst>
              <a:gd name="textAreaLeft" fmla="*/ 567000 w 2568600"/>
              <a:gd name="textAreaRight" fmla="*/ 1901520 w 2568600"/>
              <a:gd name="textAreaTop" fmla="*/ 107280 h 801720"/>
              <a:gd name="textAreaBottom" fmla="*/ 69444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36" hR="21600" stAng="10800000" swAng="-5400000"/>
                <a:lnTo>
                  <a:pt x="11221" y="21600"/>
                </a:lnTo>
                <a:arcTo wR="9536" hR="21600" stAng="5400000" swAng="-3244168"/>
                <a:lnTo>
                  <a:pt x="21146" y="6582"/>
                </a:lnTo>
                <a:lnTo>
                  <a:pt x="19915" y="0"/>
                </a:lnTo>
                <a:lnTo>
                  <a:pt x="17775" y="6582"/>
                </a:lnTo>
                <a:lnTo>
                  <a:pt x="18618" y="6582"/>
                </a:lnTo>
                <a:arcTo wR="9536" hR="21600" stAng="2155832" swAng="3109622"/>
                <a:lnTo>
                  <a:pt x="10379" y="21516"/>
                </a:lnTo>
                <a:arcTo wR="9536" hR="21600" stAng="5534546" swAng="5265454"/>
                <a:close/>
              </a:path>
              <a:path fill="darkenLess" w="21600" h="21600">
                <a:moveTo>
                  <a:pt x="0" y="0"/>
                </a:moveTo>
                <a:arcTo wR="9536" hR="21600" stAng="10800000" swAng="-5400000"/>
                <a:lnTo>
                  <a:pt x="11221" y="21600"/>
                </a:lnTo>
                <a:arcTo wR="9536" hR="21600" stAng="5400000" swAng="134546"/>
                <a:lnTo>
                  <a:pt x="10379" y="21516"/>
                </a:lnTo>
                <a:arcTo wR="9536" hR="21600" stAng="5534546" swAng="5265454"/>
                <a:close/>
              </a:path>
            </a:pathLst>
          </a:custGeom>
          <a:solidFill>
            <a:srgbClr val="7598d9"/>
          </a:solidFill>
          <a:ln w="25560">
            <a:solidFill>
              <a:srgbClr val="546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7720" y="73620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IZGRADNJA KONCEPT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Horizontal Scroll 1"/>
          <p:cNvSpPr/>
          <p:nvPr/>
        </p:nvSpPr>
        <p:spPr>
          <a:xfrm>
            <a:off x="88920" y="1557360"/>
            <a:ext cx="8712360" cy="934920"/>
          </a:xfrm>
          <a:prstGeom prst="horizontalScroll">
            <a:avLst>
              <a:gd name="adj" fmla="val 12500"/>
            </a:avLst>
          </a:prstGeom>
          <a:solidFill>
            <a:srgbClr val="ffbd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1. MEMORIRANJE ČINJEN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Horizontal Scroll 7"/>
          <p:cNvSpPr/>
          <p:nvPr/>
        </p:nvSpPr>
        <p:spPr>
          <a:xfrm>
            <a:off x="111240" y="2492280"/>
            <a:ext cx="8712000" cy="936720"/>
          </a:xfrm>
          <a:prstGeom prst="horizontalScroll">
            <a:avLst>
              <a:gd name="adj" fmla="val 12500"/>
            </a:avLst>
          </a:prstGeom>
          <a:solidFill>
            <a:srgbClr val="ffbd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2. POVEZIVANJE S PREDZNANJEM I ISKUSTV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Horizontal Scroll 8"/>
          <p:cNvSpPr/>
          <p:nvPr/>
        </p:nvSpPr>
        <p:spPr>
          <a:xfrm>
            <a:off x="109440" y="3500280"/>
            <a:ext cx="8713800" cy="936720"/>
          </a:xfrm>
          <a:prstGeom prst="horizontalScroll">
            <a:avLst>
              <a:gd name="adj" fmla="val 12500"/>
            </a:avLst>
          </a:prstGeom>
          <a:solidFill>
            <a:srgbClr val="ffbd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3. VLASTITA KONSTRUKCIJA (APSTRAKCIJ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Horizontal Scroll 9"/>
          <p:cNvSpPr/>
          <p:nvPr/>
        </p:nvSpPr>
        <p:spPr>
          <a:xfrm>
            <a:off x="117360" y="4525920"/>
            <a:ext cx="8713800" cy="936720"/>
          </a:xfrm>
          <a:prstGeom prst="horizontalScroll">
            <a:avLst>
              <a:gd name="adj" fmla="val 12500"/>
            </a:avLst>
          </a:prstGeom>
          <a:solidFill>
            <a:srgbClr val="ffbd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4. PRIMJENA NA NOVIM PRIMJER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Horizontal Scroll 10"/>
          <p:cNvSpPr/>
          <p:nvPr/>
        </p:nvSpPr>
        <p:spPr>
          <a:xfrm>
            <a:off x="27000" y="5445000"/>
            <a:ext cx="8713800" cy="1413000"/>
          </a:xfrm>
          <a:prstGeom prst="horizontalScroll">
            <a:avLst>
              <a:gd name="adj" fmla="val 12500"/>
            </a:avLst>
          </a:prstGeom>
          <a:solidFill>
            <a:srgbClr val="ffbd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5. RJEŠAVANJE PROBLEMA U SLOŽENOJ SITUACIJI POVEZUJUĆI STARE I NOVI KONCEP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01520" y="115920"/>
            <a:ext cx="1100160" cy="1341360"/>
          </a:xfrm>
          <a:prstGeom prst="rect">
            <a:avLst/>
          </a:prstGeom>
          <a:ln w="0">
            <a:noFill/>
          </a:ln>
        </p:spPr>
      </p:pic>
      <p:sp>
        <p:nvSpPr>
          <p:cNvPr id="407" name="Cloud Callout 2"/>
          <p:cNvSpPr/>
          <p:nvPr/>
        </p:nvSpPr>
        <p:spPr>
          <a:xfrm rot="2670000">
            <a:off x="6190920" y="658440"/>
            <a:ext cx="2824200" cy="1522440"/>
          </a:xfrm>
          <a:prstGeom prst="cloudCallout">
            <a:avLst>
              <a:gd name="adj1" fmla="val -42004"/>
              <a:gd name="adj2" fmla="val 6583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omic Sans MS"/>
              </a:rPr>
              <a:t>TRAJNO ZNANJ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trelica zakrivljena gore 13"/>
          <p:cNvSpPr/>
          <p:nvPr/>
        </p:nvSpPr>
        <p:spPr>
          <a:xfrm rot="17286600">
            <a:off x="7743600" y="4241880"/>
            <a:ext cx="1357200" cy="716040"/>
          </a:xfrm>
          <a:custGeom>
            <a:avLst/>
            <a:gdLst>
              <a:gd name="textAreaLeft" fmla="*/ 272160 w 1357200"/>
              <a:gd name="textAreaRight" fmla="*/ 995760 w 1357200"/>
              <a:gd name="textAreaTop" fmla="*/ 95760 h 716040"/>
              <a:gd name="textAreaBottom" fmla="*/ 620280 h 71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64" hR="21600" stAng="10800000" swAng="-5400000"/>
                <a:lnTo>
                  <a:pt x="11513" y="21600"/>
                </a:lnTo>
                <a:arcTo wR="8664" hR="21600" stAng="5400000" swAng="-3433724"/>
                <a:lnTo>
                  <a:pt x="21325" y="5400"/>
                </a:lnTo>
                <a:lnTo>
                  <a:pt x="18752" y="0"/>
                </a:lnTo>
                <a:lnTo>
                  <a:pt x="15628" y="5400"/>
                </a:lnTo>
                <a:lnTo>
                  <a:pt x="17052" y="5400"/>
                </a:lnTo>
                <a:arcTo wR="8664" hR="21600" stAng="1966276" swAng="3204222"/>
                <a:lnTo>
                  <a:pt x="10088" y="21306"/>
                </a:lnTo>
                <a:arcTo wR="8664" hR="21600" stAng="5629503" swAng="5170497"/>
                <a:close/>
              </a:path>
              <a:path fill="darkenLess" w="21600" h="21600">
                <a:moveTo>
                  <a:pt x="0" y="0"/>
                </a:moveTo>
                <a:arcTo wR="8664" hR="21600" stAng="10800000" swAng="-5400000"/>
                <a:lnTo>
                  <a:pt x="11513" y="21600"/>
                </a:lnTo>
                <a:arcTo wR="8664" hR="21600" stAng="5400000" swAng="229503"/>
                <a:lnTo>
                  <a:pt x="10088" y="21306"/>
                </a:lnTo>
                <a:arcTo wR="8664" hR="21600" stAng="5629503" swAng="5170497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Strelica zakrivljena dolje 14"/>
          <p:cNvSpPr/>
          <p:nvPr/>
        </p:nvSpPr>
        <p:spPr>
          <a:xfrm flipH="1" rot="14806200">
            <a:off x="-93960" y="4397760"/>
            <a:ext cx="1294200" cy="650880"/>
          </a:xfrm>
          <a:custGeom>
            <a:avLst/>
            <a:gdLst>
              <a:gd name="textAreaLeft" fmla="*/ 262440 w 1294200"/>
              <a:gd name="textAreaRight" fmla="*/ 950400 w 1294200"/>
              <a:gd name="textAreaTop" fmla="*/ 87120 h 650880"/>
              <a:gd name="textAreaBottom" fmla="*/ 5637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3" hR="21600" stAng="10800000" swAng="5400000"/>
                <a:lnTo>
                  <a:pt x="11480" y="0"/>
                </a:lnTo>
                <a:arcTo wR="8763" hR="21600" stAng="-5400000" swAng="3451460"/>
                <a:lnTo>
                  <a:pt x="21322" y="16200"/>
                </a:lnTo>
                <a:lnTo>
                  <a:pt x="18884" y="21600"/>
                </a:lnTo>
                <a:lnTo>
                  <a:pt x="15889" y="16200"/>
                </a:lnTo>
                <a:lnTo>
                  <a:pt x="17247" y="16200"/>
                </a:lnTo>
                <a:arcTo wR="8763" hR="21600" stAng="-1948540" swAng="-3232897"/>
                <a:lnTo>
                  <a:pt x="10121" y="261"/>
                </a:lnTo>
                <a:arcTo wR="8763" hR="21600" stAng="-5618563" swAng="-5181437"/>
                <a:close/>
              </a:path>
              <a:path fill="darkenLess" w="21600" h="21600">
                <a:moveTo>
                  <a:pt x="0" y="21600"/>
                </a:moveTo>
                <a:arcTo wR="8763" hR="21600" stAng="10800000" swAng="5400000"/>
                <a:lnTo>
                  <a:pt x="8763" y="0"/>
                </a:lnTo>
                <a:arcTo wR="8763" hR="21600" stAng="-5400000" swAng="218563"/>
                <a:lnTo>
                  <a:pt x="10121" y="261"/>
                </a:lnTo>
                <a:arcTo wR="8763" hR="21600" stAng="-5618563" swAng="-5181437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131760" y="3643200"/>
            <a:ext cx="3146400" cy="925560"/>
          </a:xfrm>
          <a:prstGeom prst="rect">
            <a:avLst/>
          </a:prstGeom>
          <a:solidFill>
            <a:srgbClr val="bfbfb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OBRAZOVNI ISHO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109440" y="981000"/>
            <a:ext cx="31687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OBRAZOVNA POSTIGNUĆ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eft Arrow Callout 5"/>
          <p:cNvSpPr/>
          <p:nvPr/>
        </p:nvSpPr>
        <p:spPr>
          <a:xfrm>
            <a:off x="3348000" y="765000"/>
            <a:ext cx="5400720" cy="1584360"/>
          </a:xfrm>
          <a:prstGeom prst="leftArrowCallout">
            <a:avLst>
              <a:gd name="adj1" fmla="val 25002"/>
              <a:gd name="adj2" fmla="val 25000"/>
              <a:gd name="adj3" fmla="val 24998"/>
              <a:gd name="adj4" fmla="val 70085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Opisuju što učenik treb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znat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razumjet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biti sposoban učiniti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Cloud Callout 8"/>
          <p:cNvSpPr/>
          <p:nvPr/>
        </p:nvSpPr>
        <p:spPr>
          <a:xfrm>
            <a:off x="2556000" y="260280"/>
            <a:ext cx="1796760" cy="865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8181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I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Left Arrow Callout 9"/>
          <p:cNvSpPr/>
          <p:nvPr/>
        </p:nvSpPr>
        <p:spPr>
          <a:xfrm>
            <a:off x="3306600" y="3313080"/>
            <a:ext cx="5400720" cy="1584360"/>
          </a:xfrm>
          <a:prstGeom prst="leftArrowCallout">
            <a:avLst>
              <a:gd name="adj1" fmla="val 25002"/>
              <a:gd name="adj2" fmla="val 25000"/>
              <a:gd name="adj3" fmla="val 24998"/>
              <a:gd name="adj4" fmla="val 85809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Aktivnosti učenika koje pratimo i na temelju kojih ćemo provjeriti ostvarenost planiranih postignuć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Cloud Callout 10"/>
          <p:cNvSpPr/>
          <p:nvPr/>
        </p:nvSpPr>
        <p:spPr>
          <a:xfrm>
            <a:off x="2263680" y="2490840"/>
            <a:ext cx="2808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8181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zrađena postignuć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Oval Callout 11"/>
          <p:cNvSpPr/>
          <p:nvPr/>
        </p:nvSpPr>
        <p:spPr>
          <a:xfrm rot="10567200">
            <a:off x="2401560" y="5234040"/>
            <a:ext cx="2335320" cy="1450800"/>
          </a:xfrm>
          <a:prstGeom prst="wedgeEllipseCallout">
            <a:avLst>
              <a:gd name="adj1" fmla="val 31111"/>
              <a:gd name="adj2" fmla="val 115560"/>
            </a:avLst>
          </a:prstGeom>
          <a:solidFill>
            <a:srgbClr val="ff8181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452680" y="5543640"/>
            <a:ext cx="22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OSMISLITI PROVJE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164360" y="5294160"/>
            <a:ext cx="1584360" cy="15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able 3" descr="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6338880"/>
          </a:xfrm>
          <a:prstGeom prst="rect">
            <a:avLst/>
          </a:prstGeom>
          <a:ln w="0">
            <a:noFill/>
          </a:ln>
        </p:spPr>
      </p:pic>
      <p:sp>
        <p:nvSpPr>
          <p:cNvPr id="420" name="Naslov 6"/>
          <p:cNvSpPr/>
          <p:nvPr/>
        </p:nvSpPr>
        <p:spPr>
          <a:xfrm>
            <a:off x="357120" y="0"/>
            <a:ext cx="8534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75f6d"/>
                </a:solidFill>
                <a:latin typeface="Comic Sans MS"/>
              </a:rPr>
              <a:t>Kognitivna sistematizacija zadataka</a:t>
            </a:r>
            <a:br>
              <a:rPr sz="1800"/>
            </a:br>
            <a:r>
              <a:rPr b="1" lang="hr-HR" sz="1800" spc="-1" strike="noStrike">
                <a:solidFill>
                  <a:srgbClr val="575f6d"/>
                </a:solidFill>
                <a:latin typeface="Comic Sans MS"/>
              </a:rPr>
              <a:t>Reducirana Bloom-ova shema razina učenja prema Crooks-u (1988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9" descr="http://www.learningandteaching.info/learning/graphics/cognitive_revised.gif"/>
          <p:cNvPicPr/>
          <p:nvPr/>
        </p:nvPicPr>
        <p:blipFill>
          <a:blip r:embed="rId1"/>
          <a:stretch/>
        </p:blipFill>
        <p:spPr>
          <a:xfrm>
            <a:off x="2898720" y="2133720"/>
            <a:ext cx="6245280" cy="44798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5" descr="bloomcog.gif (4879 bytes)"/>
          <p:cNvPicPr/>
          <p:nvPr/>
        </p:nvPicPr>
        <p:blipFill>
          <a:blip r:embed="rId2"/>
          <a:stretch/>
        </p:blipFill>
        <p:spPr>
          <a:xfrm>
            <a:off x="0" y="0"/>
            <a:ext cx="5148360" cy="37497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7"/>
          <p:cNvSpPr/>
          <p:nvPr/>
        </p:nvSpPr>
        <p:spPr>
          <a:xfrm>
            <a:off x="179280" y="189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alibri"/>
              </a:rPr>
              <a:t>Bloom (1956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6440400" y="858960"/>
            <a:ext cx="25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Anderson &amp; Krathwohl (2001)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3344760" y="0"/>
            <a:ext cx="4496040" cy="685800"/>
          </a:xfrm>
          <a:prstGeom prst="roundRect">
            <a:avLst>
              <a:gd name="adj" fmla="val 16667"/>
            </a:avLst>
          </a:prstGeom>
          <a:solidFill>
            <a:srgbClr val="ffb7b7"/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entury Schoolbook"/>
              </a:rPr>
              <a:t>KOGNITIVNA DOME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8" name="AutoShape 8"/>
          <p:cNvGrpSpPr/>
          <p:nvPr/>
        </p:nvGrpSpPr>
        <p:grpSpPr>
          <a:xfrm>
            <a:off x="334800" y="5778360"/>
            <a:ext cx="4097520" cy="725760"/>
            <a:chOff x="334800" y="5778360"/>
            <a:chExt cx="4097520" cy="725760"/>
          </a:xfrm>
        </p:grpSpPr>
        <p:pic>
          <p:nvPicPr>
            <p:cNvPr id="429" name="AutoShape 8" descr=""/>
            <p:cNvPicPr/>
            <p:nvPr/>
          </p:nvPicPr>
          <p:blipFill>
            <a:blip r:embed="rId3"/>
            <a:stretch/>
          </p:blipFill>
          <p:spPr>
            <a:xfrm>
              <a:off x="334800" y="5778360"/>
              <a:ext cx="40975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531720" y="5891040"/>
              <a:ext cx="3703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buClr>
                  <a:srgbClr val="000000"/>
                </a:buClr>
                <a:buFont typeface="Century School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entury Schoolbook"/>
                </a:rPr>
                <a:t>Reprodukcija i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entury Schoolbook"/>
                </a:rPr>
                <a:t>literarno razumijevanje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31" name="AutoShape 8"/>
          <p:cNvGrpSpPr/>
          <p:nvPr/>
        </p:nvGrpSpPr>
        <p:grpSpPr>
          <a:xfrm>
            <a:off x="993600" y="4352760"/>
            <a:ext cx="2889360" cy="1121040"/>
            <a:chOff x="993600" y="4352760"/>
            <a:chExt cx="2889360" cy="1121040"/>
          </a:xfrm>
        </p:grpSpPr>
        <p:pic>
          <p:nvPicPr>
            <p:cNvPr id="432" name="AutoShape 8" descr=""/>
            <p:cNvPicPr/>
            <p:nvPr/>
          </p:nvPicPr>
          <p:blipFill>
            <a:blip r:embed="rId4"/>
            <a:stretch/>
          </p:blipFill>
          <p:spPr>
            <a:xfrm>
              <a:off x="993600" y="4352760"/>
              <a:ext cx="288936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135080" y="4519440"/>
              <a:ext cx="26082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entury Schoolbook"/>
                </a:rPr>
                <a:t>2. Konceptualno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entury Schoolbook"/>
                </a:rPr>
                <a:t>razumijevanje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entury Schoolbook"/>
                </a:rPr>
                <a:t>i primjena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34" name="AutoShape 8"/>
          <p:cNvGrpSpPr/>
          <p:nvPr/>
        </p:nvGrpSpPr>
        <p:grpSpPr>
          <a:xfrm>
            <a:off x="5353200" y="1779480"/>
            <a:ext cx="3784320" cy="493920"/>
            <a:chOff x="5353200" y="1779480"/>
            <a:chExt cx="3784320" cy="493920"/>
          </a:xfrm>
        </p:grpSpPr>
        <p:pic>
          <p:nvPicPr>
            <p:cNvPr id="435" name="AutoShape 8" descr=""/>
            <p:cNvPicPr/>
            <p:nvPr/>
          </p:nvPicPr>
          <p:blipFill>
            <a:blip r:embed="rId5"/>
            <a:stretch/>
          </p:blipFill>
          <p:spPr>
            <a:xfrm>
              <a:off x="5353200" y="1779480"/>
              <a:ext cx="378432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537160" y="1855800"/>
              <a:ext cx="341460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entury Schoolbook"/>
                </a:rPr>
                <a:t>3. Rješavanje problema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37" name="AutoShape 8"/>
          <p:cNvSpPr/>
          <p:nvPr/>
        </p:nvSpPr>
        <p:spPr>
          <a:xfrm>
            <a:off x="4786200" y="5715000"/>
            <a:ext cx="2214720" cy="53352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300b2"/>
                </a:solidFill>
                <a:latin typeface="Century Schoolbook"/>
              </a:rPr>
              <a:t>1. Zapamt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4857840" y="5072040"/>
            <a:ext cx="2143080" cy="53352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300b2"/>
                </a:solidFill>
                <a:latin typeface="Century Schoolbook"/>
              </a:rPr>
              <a:t>2. Razumj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4857840" y="4429080"/>
            <a:ext cx="2286000" cy="53352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300b2"/>
                </a:solidFill>
                <a:latin typeface="Century Schoolbook"/>
              </a:rPr>
              <a:t>3. Primijen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4857840" y="3857760"/>
            <a:ext cx="2306520" cy="53316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300b2"/>
                </a:solidFill>
                <a:latin typeface="Century Schoolbook"/>
              </a:rPr>
              <a:t>4. Analizira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4786200" y="3214800"/>
            <a:ext cx="2449800" cy="53316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300b2"/>
                </a:solidFill>
                <a:latin typeface="Century Schoolbook"/>
              </a:rPr>
              <a:t>5. Vrednova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5143680" y="2571840"/>
            <a:ext cx="1804680" cy="53316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300b2"/>
                </a:solidFill>
                <a:latin typeface="Century Schoolbook"/>
              </a:rPr>
              <a:t>6. Kreira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3365640" y="692280"/>
            <a:ext cx="3214440" cy="853920"/>
          </a:xfrm>
          <a:prstGeom prst="flowChartTerminator">
            <a:avLst/>
          </a:prstGeom>
          <a:solidFill>
            <a:srgbClr val="ffb7b7"/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Schoolbook"/>
              </a:rPr>
              <a:t>Razine postignuća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Schoolbook"/>
              </a:rPr>
              <a:t>učenj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Crooks, 198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Rectangle 18"/>
          <p:cNvSpPr/>
          <p:nvPr/>
        </p:nvSpPr>
        <p:spPr>
          <a:xfrm>
            <a:off x="684000" y="6611040"/>
            <a:ext cx="77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65f91"/>
                </a:solidFill>
                <a:latin typeface="Arial Narrow"/>
                <a:ea typeface="Times New Roman"/>
              </a:rPr>
              <a:t>Crooks, T. (1988) Assessing student performance. (Green Guide No 8). Higher Education Research and Development Society of Australasia (HERDSA), Kensington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Rounded Rectangle 19"/>
          <p:cNvSpPr/>
          <p:nvPr/>
        </p:nvSpPr>
        <p:spPr>
          <a:xfrm>
            <a:off x="928800" y="4357800"/>
            <a:ext cx="7643880" cy="1285920"/>
          </a:xfrm>
          <a:prstGeom prst="roundRect">
            <a:avLst>
              <a:gd name="adj" fmla="val 16667"/>
            </a:avLst>
          </a:prstGeom>
          <a:solidFill>
            <a:srgbClr val="daa1f9">
              <a:alpha val="37000"/>
            </a:srgbClr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Rounded Rectangle 20"/>
          <p:cNvSpPr/>
          <p:nvPr/>
        </p:nvSpPr>
        <p:spPr>
          <a:xfrm>
            <a:off x="4716360" y="1557360"/>
            <a:ext cx="4427640" cy="2879640"/>
          </a:xfrm>
          <a:prstGeom prst="roundRect">
            <a:avLst>
              <a:gd name="adj" fmla="val 16667"/>
            </a:avLst>
          </a:prstGeom>
          <a:solidFill>
            <a:srgbClr val="c56ef6">
              <a:alpha val="37000"/>
            </a:srgbClr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Rounded Rectangle 21"/>
          <p:cNvSpPr/>
          <p:nvPr/>
        </p:nvSpPr>
        <p:spPr>
          <a:xfrm>
            <a:off x="324000" y="5661000"/>
            <a:ext cx="8501040" cy="1000080"/>
          </a:xfrm>
          <a:prstGeom prst="roundRect">
            <a:avLst>
              <a:gd name="adj" fmla="val 16667"/>
            </a:avLst>
          </a:prstGeom>
          <a:solidFill>
            <a:srgbClr val="ecd0fc">
              <a:alpha val="37000"/>
            </a:srgbClr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7640" y="36972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8181"/>
                </a:solidFill>
                <a:latin typeface="Comic Sans MS"/>
              </a:rPr>
              <a:t>KONCEPT: TVARI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7640" y="98064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9a3d01"/>
                </a:solidFill>
                <a:latin typeface="Comic Sans MS"/>
              </a:rPr>
              <a:t>Ključni pojmovi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mic Sans MS"/>
              </a:rPr>
              <a:t>tvar, fizikalna svojstva tvari, agregacijska stanja, fizikalne i kemijske promjene tvari, elementarna tvar, kemijski spoj, smje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9a3d01"/>
                </a:solidFill>
                <a:latin typeface="Comic Sans MS"/>
                <a:ea typeface="Trebuchet MS"/>
              </a:rPr>
              <a:t>Obrazovna postignuća (PIP)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okusom ispitati i obrazložiti fizikalna svojstva tvari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vlastitim riječima iskazati i obrazložiti opažene promjene prijelaza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agregacijskih stanja vode u prirod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pažati i razlikovati fizikalne i kemijske promjene tvari u prirodi</a:t>
            </a:r>
            <a:r>
              <a:rPr b="0" lang="hr-HR" sz="1800" spc="-1" strike="noStrike">
                <a:solidFill>
                  <a:srgbClr val="002060"/>
                </a:solidFill>
                <a:latin typeface="Comic Sans MS"/>
              </a:rPr>
              <a:t>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na temelju pokusa shvatiti razliku između elementarnih tvari i kem. spoje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3:08:49Z</dcterms:created>
  <dc:creator>Valerija</dc:creator>
  <dc:description/>
  <dc:language>en-US</dc:language>
  <cp:lastModifiedBy>Valerija</cp:lastModifiedBy>
  <dcterms:modified xsi:type="dcterms:W3CDTF">2012-01-17T23:06:06Z</dcterms:modified>
  <cp:revision>160</cp:revision>
  <dc:subject/>
  <dc:title>PROVJERA USVOJENOSTI TEMELJNIH KONCEPATA  U KEMIJI</dc:title>
</cp:coreProperties>
</file>