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72288" cy="10061575"/>
</p:presentation>
</file>

<file path=ppt/commentAuthors.xml><?xml version="1.0" encoding="utf-8"?>
<p:cmAuthorLst xmlns:p="http://schemas.openxmlformats.org/presentationml/2006/main">
  <p:cmAuthor id="0" name="lgbelina" initials="l" lastIdx="6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1-10-28T13:21:28.734000000" idx="4">
    <p:pos x="5485" y="1333"/>
    <p:text>Ova mi je sintagma nejasna, vjerujem da će biti i učiteljima.</p:text>
  </p:cm>
  <p:cm authorId="0" dt="2011-10-28T13:22:06.781000000" idx="5">
    <p:pos x="5485" y="1629"/>
    <p:text>Je li tu što pogrješno? Instrumentala? Drugi mi je dio natuknice jasan.</p:text>
  </p:cm>
</p:cmLst>
</file>

<file path=ppt/comments/comment15.xml><?xml version="1.0" encoding="utf-8"?>
<p:cmLst xmlns:p="http://schemas.openxmlformats.org/presentationml/2006/main">
  <p:cm authorId="0" dt="2011-10-28T13:22:36.562000000" idx="6">
    <p:pos x="5424" y="1967"/>
    <p:text>Bez zareza.</p:text>
  </p:cm>
</p:cmLst>
</file>

<file path=ppt/comments/comment2.xml><?xml version="1.0" encoding="utf-8"?>
<p:cmLst xmlns:p="http://schemas.openxmlformats.org/presentationml/2006/main">
  <p:cm authorId="0" dt="2011-10-28T13:12:50.468000000" idx="1">
    <p:pos x="5406" y="1133"/>
    <p:text>Obrazovna postignuća sadržana u zadanom programu.</p:text>
  </p:cm>
  <p:cm authorId="0" dt="2011-10-28T13:13:40.125000000" idx="2">
    <p:pos x="5406" y="2989"/>
    <p:text>... očekuju da djeca nauče.</p:text>
  </p:cm>
</p:cmLst>
</file>

<file path=ppt/comments/comment8.xml><?xml version="1.0" encoding="utf-8"?>
<p:cmLst xmlns:p="http://schemas.openxmlformats.org/presentationml/2006/main">
  <p:cm authorId="0" dt="2011-10-28T13:18:39.359000000" idx="3">
    <p:pos x="5403" y="3231"/>
    <p:text>Nejasno formulirano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5840" y="4780080"/>
            <a:ext cx="5042160" cy="4527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9520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hr-H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4D0D362-F3E2-4248-8FE4-58C6CCB381FE}" type="slidenum">
              <a:rPr b="0" lang="hr-H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76A2AD8-7835-45B8-BAF8-D314D35CFA23}" type="slidenum">
              <a:rPr b="0" lang="hr-H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5840" y="4780080"/>
            <a:ext cx="50421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955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9D16B00-25C4-4D86-A457-C5579B711930}" type="slidenum">
              <a:rPr b="0" lang="hr-H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5840" y="4780080"/>
            <a:ext cx="5042160" cy="4527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An idea developed by Swedish researchers Ference Marton and Roger Salj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ö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 in 1976: students learn what they perceive the task to demand of them, not what teachers think they should learn. Students using a 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surface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 approach see a task as requiring specific answers to questions, so they rote learn bits and pieces; students using a 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deep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 approach want to understand, so they focus on themes and main ideas. </a:t>
            </a:r>
            <a:br>
              <a:rPr sz="1200"/>
            </a:br>
            <a:br>
              <a:rPr sz="1200"/>
            </a:b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My own take on this was to add an 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achieving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 approach, which students use to maximise grades, and to design the Learning Process Questionnaire (LPQ for school students) and the Study Process Questionnaire (SPQ for tertiary students) to assess students</a:t>
            </a: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hr-HR" sz="1200" spc="-1" strike="noStrike">
                <a:solidFill>
                  <a:srgbClr val="ffffff"/>
                </a:solidFill>
                <a:latin typeface="Verdana"/>
              </a:rPr>
              <a:t> use of these approaches. Ference disapproved of this: I had sullied the purity of his original conception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E9D-51C2-4B4B-8647-3E6B29F3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A10-7B2D-450D-BEAF-4C2B894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585-DDAF-4AB8-B1FE-553AF320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681-8E15-4EB1-9797-AE43B6A3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D94-DA2C-477D-9CAD-0B3C8C51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19A8-97B1-44C0-8E81-73DFAF2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D303-1246-479A-A3CC-3C26BC5A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870-A226-4735-9CEE-F4B6C80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B1DC-BE66-49C5-96E0-AA0B0D6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DA11-C780-4167-8D05-8474C67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E56A-7AF9-42CF-B6A7-9ACE085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E99-CEFD-46A2-A34D-61FDF83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222-D266-498B-9C7C-C0CA024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5AF9-2E50-4790-93FE-B140704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75D5-4646-4822-84B7-0BFD1A5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A1FA-AE35-4DB5-A52A-83EAC080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61D6-D9B1-4FBA-B6A0-15C2E621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D92-C0B9-4914-9527-A684F79F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C12-DB81-41B3-ACC5-BE740CA9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68A-5512-457D-8653-64A07BC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639-89C9-4E9E-8A7F-CD1BEACB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CF4-9858-4377-B905-3C44224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69E-11FF-4121-A5C0-9051BA6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099-5BB9-4C1E-A77A-DEA9D92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154A-9ACD-4A0F-A3DA-228CA601BF8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738A-F94D-412D-BE66-AA0AD7212C96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rategije, metode i stilovi </a:t>
            </a:r>
            <a:br>
              <a:rPr sz="4400"/>
            </a:b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enja i poučava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9280" y="45082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r.sc. Marija Pav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jeka, travanj 20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ako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nanje – povezane činje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vezanost među činjenicama, načine na koje se povezuju – s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yle: 2 temeljne vrste znan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) “znanje o” ili propozicijsko znanje koje sadrži činjenice i poj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) “znanje kako” ili proceduralno znanje – kako se nešto 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vođenje novih metoda poučava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Times New Roman"/>
              </a:rPr>
              <a:t>1. Kognitivna faz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– shvaćanje sadržaja, razumijevanje – objašnjenje “ključnih točaka” vješ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Times New Roman"/>
              </a:rPr>
              <a:t>2. Faza povezi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- vježbanje vještine. U toj se fazi poboljšava učinkovitost vještine otklanjanjem pogrešaka na temelju povratnih obavijesti o kakvoći izvođenja vještine do kojih osoba dolazi sama ili joj ih pruža instruktor, ili uz pomoć nekog drugog sustava praćenja i vredn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000"/>
                </a:solidFill>
                <a:latin typeface="Times New Roman"/>
              </a:rPr>
              <a:t>3. “Automatsko” odvijanje vještine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manjuje na najmanju mjeru svjesnu kontrolu tijekom njezina izvođ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Poučavan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blemsko poučavanje 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efiniranje problema aktivnim sudjelovanjem učenika postavljanjem pitanja, individualnim definiranjem vlastitog viđenja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Heurističko poučavanje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azi od problema i učenika se postupno vodi do rješenja, omogućavajući mu da samostalno dođe do zaključ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gramirano poučavanje 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učavani problem se dijeli na osnovne elemente prezentirane učeniku, a potom mu se zadaje zadatak koji zahtijeva određenu aktivnost vezanu uz taj sadrža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ilovi poučava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čin izražavanja, ponaš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utem stila izražavaju se vlastiti stavovi, uvj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lika karak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tpostavka da postoji najbolja metoda za postizanje cilja podrazumijeva postojanje samo jednog pravog načina ?! Pretpostavka, da s pravilnom metodom svaki kompetentan učitelj može postići željeni cilj, ne uzima u obz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ilovi poučava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dividualne razlike onoga koji pouč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e uzima u obzir vrijednosnu racional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strumentala je i pretpostavlja da je postignuće određenih ciljeva uvijek znak dobrog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glašava ishode, a ne uzima u obzir ishode nenamjernog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pćenit je i nisu mu važne socijalne, kulturne i individualne raz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drazumijeva da je učenje uvijek mjerlj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učavanja se depersonaliz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moevaluacija primijenjenih metoda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pravljanje i poučavan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 upravlja svojim razr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eorija X i Teorija Y (McGreg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eorija X tvrdi da upravitelji pretpostavljaju da oni s kojima rade ne vole raditi pa ih stoga treba kontrolirati, obuzdavati i usmjeravati kako bi postigli željene rezultate, dok se Teorija Y usredotočuje na način na koji se upravitelji bave ljudskom stranom svojih zaposlenika i kako ih razvijaju kao ljude. Oba pristupa su relevantna za pouč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ilovi vođe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ippitta i Whitea (1958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ostruka tipologija: autoritarna, laissez-faire i demokrats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utoritarni vođe stvaraju osjećaj ovisnosti skupine o vođi, misle da njihova prisutnost drži skupinu na okupu i da se nikakav rad ne odvija u njihovoj odsu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issez-faire vođe obave malo posla bez obzira na to da li su prisutni ili odsut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emokratski vođe postižu koheziju skupine i harmonične radne odnose bez obzira na svoju prisu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Stil poučavanja i razumijevan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ygotsky (1978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azumijevanje učenika ne razvija se samo kroz njihovu interakciju s objektivnim svijetom već također kroz njihove aktivne susrete s drugima u odnosu na svij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=&gt; učiteljev stil pomaže razvoju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čenikovog razumij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Dijalektička interakci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isutno je izmjenično i međusobno povezano djelovanje više os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kcijski odnos osobe i njezine ok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ijalektika je misaoni oblik dijaloškog razmatranja problema gdje su zastupljene teza i antiteza kako bi se sugovorniku omogućilo rješavanje nastalog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enje i poučavanje su dijalektičke interakcije; atehnič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zajamna povezanost nastave i uspjeha u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pćenito mišljenje; političari: 90% onoga što “izlazi” iz procesa poučavanja posljedica je nast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o…drugi, važniji čimbenic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mpirijska potvr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972. C. Jencks: 1-3% uspjeha uvjetovano nastavom, dok su obiteljsko okruženje i darovitost odlučujući čimben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 1980. M. Rutter: 10% uspjeha ovisi o kvaliteti nast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 danas: </a:t>
            </a:r>
            <a:r>
              <a:rPr b="0" lang="hr-HR" sz="2400" spc="-1" strike="noStrike" u="sng">
                <a:solidFill>
                  <a:srgbClr val="ff3300"/>
                </a:solidFill>
                <a:uFillTx/>
                <a:latin typeface="Times New Roman"/>
              </a:rPr>
              <a:t>20-40%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uspjeha ovisi o kvaliteti nast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Što treba naučiti u školi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Školsk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čin na koji se tumači školski program djeluje na pouč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i imaju čvrste predodžbe o prirodi znanja i o tome što se uči u š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a vjerovanja izravno djeluju na nastavnikovo planiranje, razredne postupke i na ono što očekuju od djece da nau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no što znamo i kako mislimo o tome snažno utječe na način poučava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Odnos subjekta prema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ktivan – izravna komunikacija s gradivom zasnovana na uviđanju i rješavanju problema – učenje rasuđivanjem – ubraja se među najslože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reativan – učenje stvaralaštvom za stvaralaš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asivan – kontakt s gradivom, ali na niskoj razini – nekritičko usvajanje podataka bez ulaženja u suštinu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akvo poučavanje potiče na aktivno učenje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ohn Biggs, 1999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ikladan motivacijski konte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asno istaknut cilj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isok stupanj učenikove samostalnosti i aktiviteta prema uč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isok stupanj interakcije s drugima u prorađivanju onoga što se treba nauč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obro strukturirana ključna znanja u područ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jenjivanje stečenog znanja u skladu s postavljenim nastavnim cilje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0099"/>
                </a:solidFill>
                <a:latin typeface="Times New Roman"/>
              </a:rPr>
              <a:t>Trorazinski model učenja i poučavanja (Biggs)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0720" y="1523880"/>
            <a:ext cx="2438280" cy="228420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990099"/>
                </a:solidFill>
                <a:latin typeface="Times New Roman"/>
              </a:rPr>
              <a:t>OBILJEŽJA UČE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edzn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vještine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čeki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cilje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sposob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kognitivni s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vrije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socijalne i kulturne raz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90720" y="4191120"/>
            <a:ext cx="2438280" cy="2284200"/>
          </a:xfrm>
          <a:prstGeom prst="rect">
            <a:avLst/>
          </a:prstGeom>
          <a:noFill/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694b6"/>
                </a:solidFill>
                <a:latin typeface="Times New Roman"/>
              </a:rPr>
              <a:t>OBILJEŽJA NASTAVNOG OKRUŽENJ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uvjerenja nastav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ciljevi pouča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kurikul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metode poučav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avila i n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radni uvjeti i opr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733920" y="3048120"/>
            <a:ext cx="2361960" cy="20408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Times New Roman"/>
              </a:rPr>
              <a:t>RAZINA AKTIV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asivno/aktivno uč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a1bd69"/>
                </a:solidFill>
                <a:latin typeface="Times New Roman"/>
              </a:rPr>
              <a:t>PRISTUPI OBRADI INFORM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vršinski/dub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477120" y="3048120"/>
            <a:ext cx="2361960" cy="2040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ISHODI UČENJ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Kvantitativne i kvalitativne promjene 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zn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stav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vještin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vrijednost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slici o sebi i drug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505320" y="2362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3581280" y="52578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3657600" y="4724280"/>
            <a:ext cx="21337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nstruktivno poravnavanje”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ktivno učenje je individualna </a:t>
            </a: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konstrukcija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nanja – davanje značenja onome što se u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 stvara pogodno okružje za uč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 tražiti odgovore na pitanj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8000"/>
                </a:solidFill>
                <a:latin typeface="Times New Roman"/>
              </a:rPr>
              <a:t>Kako učenikova aktivnost odgovara onome što učitelj smatra da treba biti naučeno (učiteljeva namjer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Ne-konstruktivno poravnavanje”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523880" y="1828800"/>
            <a:ext cx="243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itelj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namj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bjas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ovezati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dokaz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imije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876640" y="1828800"/>
            <a:ext cx="1511280" cy="8254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enik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aktiv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352680" y="2209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9600" y="18288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892600" y="4495680"/>
            <a:ext cx="3276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kontrola/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znanja usmeno i pis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mj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sposobnost memorir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traži op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3962520" y="1828800"/>
            <a:ext cx="457200" cy="3808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4038120" y="1828800"/>
            <a:ext cx="304920" cy="3049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159000" y="35798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 flipV="1">
            <a:off x="5486400" y="274284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022440" y="32734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smjeren pr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ntroli zn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371600" y="1828800"/>
            <a:ext cx="1523880" cy="8380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819520" y="4495680"/>
            <a:ext cx="3352680" cy="8384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3273840" y="2438280"/>
            <a:ext cx="220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tivacija pu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ja i pouča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 flipV="1">
            <a:off x="2743200" y="27428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9"/>
          <p:cNvSpPr/>
          <p:nvPr/>
        </p:nvSpPr>
        <p:spPr>
          <a:xfrm>
            <a:off x="1066680" y="1143000"/>
            <a:ext cx="1866960" cy="533520"/>
          </a:xfrm>
          <a:prstGeom prst="wedgeEllipseCallout">
            <a:avLst>
              <a:gd name="adj1" fmla="val 40717"/>
              <a:gd name="adj2" fmla="val 69347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8000"/>
                </a:solidFill>
                <a:latin typeface="Times New Roman"/>
              </a:rPr>
              <a:t>Kurik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nstruktivno poravnavanje”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523880" y="1828800"/>
            <a:ext cx="243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itelj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namj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bjas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ovezati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dokaz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imije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876640" y="1828800"/>
            <a:ext cx="1511280" cy="8254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učenik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aktiv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352680" y="2209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279600" y="18288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892600" y="4495680"/>
            <a:ext cx="32760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kontrola/ispit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Times New Roman"/>
              </a:rPr>
              <a:t>znanja usmeno i pis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mj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objas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ovezati 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dokaz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-primijen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819520" y="281952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 flipV="1">
            <a:off x="5486400" y="274284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92400" y="3276720"/>
            <a:ext cx="10357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suočen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ciljev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71600" y="1828800"/>
            <a:ext cx="1523880" cy="8380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2819520" y="4495680"/>
            <a:ext cx="3352680" cy="8384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273480" y="2438280"/>
            <a:ext cx="220464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tivacija pu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ja i pouča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1143000" y="2819520"/>
            <a:ext cx="1828800" cy="1295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1600200" y="40384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066320" y="44928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jasno postavlj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cilje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1905120" y="525780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D:\MAJA\Scan\razine metodike.jpg"/>
          <p:cNvPicPr/>
          <p:nvPr/>
        </p:nvPicPr>
        <p:blipFill>
          <a:blip r:embed="rId1"/>
          <a:srcRect l="3125" t="6313" r="6249" b="22826"/>
          <a:stretch/>
        </p:blipFill>
        <p:spPr>
          <a:xfrm>
            <a:off x="2340000" y="333360"/>
            <a:ext cx="4932360" cy="6199200"/>
          </a:xfrm>
          <a:prstGeom prst="rect">
            <a:avLst/>
          </a:prstGeom>
          <a:ln w="0">
            <a:noFill/>
          </a:ln>
        </p:spPr>
      </p:pic>
      <p:sp>
        <p:nvSpPr>
          <p:cNvPr id="183" name="Oval 3"/>
          <p:cNvSpPr/>
          <p:nvPr/>
        </p:nvSpPr>
        <p:spPr>
          <a:xfrm>
            <a:off x="3657600" y="3962520"/>
            <a:ext cx="10666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2590920" y="4419720"/>
            <a:ext cx="8380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5334120" y="28195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172200" y="2362320"/>
            <a:ext cx="1066680" cy="6314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cilje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predzn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5410080" y="38098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172200" y="3657600"/>
            <a:ext cx="990720" cy="3070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aktivac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5486400" y="4191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156360" y="4278240"/>
            <a:ext cx="1158840" cy="5202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deklarativ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zn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4960440" y="6256440"/>
            <a:ext cx="38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Izvor: H. Meyer: Što je dobra nastava, Erudita, 2005, Zagr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D:\MAJA\Scan\raznolikost metoda poucavanja2.jpg"/>
          <p:cNvPicPr/>
          <p:nvPr/>
        </p:nvPicPr>
        <p:blipFill>
          <a:blip r:embed="rId1"/>
          <a:srcRect l="2669" t="2779" r="14680" b="35201"/>
          <a:stretch/>
        </p:blipFill>
        <p:spPr>
          <a:xfrm>
            <a:off x="1295280" y="380880"/>
            <a:ext cx="5440320" cy="5881680"/>
          </a:xfrm>
          <a:prstGeom prst="rect">
            <a:avLst/>
          </a:prstGeom>
          <a:ln w="0">
            <a:noFill/>
          </a:ln>
        </p:spPr>
      </p:pic>
      <p:sp>
        <p:nvSpPr>
          <p:cNvPr id="193" name="Line 3"/>
          <p:cNvSpPr/>
          <p:nvPr/>
        </p:nvSpPr>
        <p:spPr>
          <a:xfrm>
            <a:off x="64008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934320" y="1143000"/>
            <a:ext cx="1143000" cy="3070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fleksibiln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629400" y="3124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990099"/>
                </a:solidFill>
                <a:latin typeface="Times New Roman"/>
              </a:rPr>
              <a:t>KONSTRUKTIVNO PORAVNA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4960440" y="6256440"/>
            <a:ext cx="38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Izvor: H. Meyer: Što je dobra nastava, Erudita, 2005, Zagr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Komunikacija - pitan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98" name="Picture 4" descr="D:\MAJA\Scan\pitanja ucenik-razred.jpg"/>
          <p:cNvPicPr/>
          <p:nvPr/>
        </p:nvPicPr>
        <p:blipFill>
          <a:blip r:embed="rId1"/>
          <a:srcRect l="710" t="0" r="710" b="14000"/>
          <a:stretch/>
        </p:blipFill>
        <p:spPr>
          <a:xfrm>
            <a:off x="1219320" y="1905120"/>
            <a:ext cx="7197480" cy="3502080"/>
          </a:xfrm>
          <a:prstGeom prst="rect">
            <a:avLst/>
          </a:prstGeom>
          <a:ln w="0">
            <a:noFill/>
          </a:ln>
        </p:spPr>
      </p:pic>
      <p:sp>
        <p:nvSpPr>
          <p:cNvPr id="199" name="Oval 6"/>
          <p:cNvSpPr/>
          <p:nvPr/>
        </p:nvSpPr>
        <p:spPr>
          <a:xfrm>
            <a:off x="1600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3 razine poučavanja/</a:t>
            </a:r>
            <a:br>
              <a:rPr sz="4400"/>
            </a:b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3 tipa učitel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143000" y="4572000"/>
            <a:ext cx="2362320" cy="1981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K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NICI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azliko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obrih i loših uče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505320" y="3581280"/>
            <a:ext cx="2361960" cy="2971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UČITE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I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azlikovanje dobr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 loših učite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upotreba teh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dučavanja – rez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u pasivni stu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2514600"/>
            <a:ext cx="2210040" cy="4038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TO UČENI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INE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prije, tijeko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akon nast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zanima se 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ezultat pouča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učenik je u središ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učavanja k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htjeva upotre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iših raz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ognitivnih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219320" y="1676520"/>
            <a:ext cx="1752480" cy="761760"/>
          </a:xfrm>
          <a:prstGeom prst="wedgeRoundRectCallout">
            <a:avLst>
              <a:gd name="adj1" fmla="val -35143"/>
              <a:gd name="adj2" fmla="val 72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riv 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i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581280" y="1676520"/>
            <a:ext cx="1752840" cy="761760"/>
          </a:xfrm>
          <a:prstGeom prst="wedgeRoundRectCallout">
            <a:avLst>
              <a:gd name="adj1" fmla="val -35143"/>
              <a:gd name="adj2" fmla="val 72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riv 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itelj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057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3434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62940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      </a:t>
            </a: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Cilj odgojno-obrazovnog proc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66680" y="1676520"/>
            <a:ext cx="769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hr-HR" sz="3200" spc="-1" strike="noStrike">
                <a:solidFill>
                  <a:srgbClr val="ff6600"/>
                </a:solidFill>
                <a:latin typeface="Times New Roman"/>
              </a:rPr>
              <a:t>Naučiti mislit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" u nekom području znanja, što je glavni cilj obrazovanja, znači usvojiti fond najvažnijih verbalnih informacija (deklarativno znanje), ali i tehnika ili modela korištenja tog znanja (proceduralno znanje) jer je to znanje </a:t>
            </a:r>
            <a:r>
              <a:rPr b="0" lang="hr-HR" sz="3200" spc="-1" strike="noStrike">
                <a:solidFill>
                  <a:srgbClr val="990099"/>
                </a:solidFill>
                <a:latin typeface="Times New Roman"/>
              </a:rPr>
              <a:t>uvjetom za uspješno rješavanje problema i proizvodnju novoga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Zašto su učenje i poučavanje težak posao?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Često bez uspje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kazalo i PISA istraž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lozi: nesposobni i nevoljni/nemotivirani učitelji?, nemotivirani učenici?, roditelji koji odgovornost prebacuju na škole?, političari obrazovan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ntek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držaj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Čovjek uči…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143000" y="1828800"/>
            <a:ext cx="2438280" cy="17398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pokuš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pogreš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povratna inform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prov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prilagod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uspje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343400" y="1981080"/>
            <a:ext cx="4114800" cy="14655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gnitivni/spoznajni proce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1800" spc="-1" strike="noStrike">
                <a:solidFill>
                  <a:srgbClr val="3694b6"/>
                </a:solidFill>
                <a:latin typeface="Times New Roman"/>
              </a:rPr>
              <a:t>O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ažanje - percep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18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amć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šljenje – misaona obrada opaženih i zapamćenih sadrž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6248520" y="3505320"/>
            <a:ext cx="2568600" cy="609480"/>
          </a:xfrm>
          <a:prstGeom prst="borderCallout1">
            <a:avLst>
              <a:gd name="adj1" fmla="val 18750"/>
              <a:gd name="adj2" fmla="val -8333"/>
              <a:gd name="adj3" fmla="val -26300"/>
              <a:gd name="adj4" fmla="val -667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deja, predodžba, simbol, pojam, događ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590920" y="4572000"/>
            <a:ext cx="4321080" cy="1608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 spoznajnom smislu najviši oblik mišljenja jest 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rasuđivanje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– sustavno zaključivanje na temelju opaženih činjenica i odgovarajućih pretpostav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0481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79246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6668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812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4952880" y="35053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2819520" y="36576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tjecaj na uspjeh u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gnitivne kompetencije uče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stavnikovo vođenje raz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enikovo kućno okruženje i potpora rodit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akognitivne kompetencije učit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takognitivne kompetencije uče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terakcija nastavnika i učenika pri uč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litika drž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vantiteta nast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Školska 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tjecaj na uspjeh u učenju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0. Kultur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1. Organizacija nastavn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2. Učenikovo porijek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3. Kvaliteta nast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4. Motivacijski i afektivni čimbe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5. Razredno ozrač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6. Ponašanje učenika u slobodno vrij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7. Smisao onoga što se u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D:\MAJA\Scan\covjek je kriv.jpg"/>
          <p:cNvPicPr/>
          <p:nvPr/>
        </p:nvPicPr>
        <p:blipFill>
          <a:blip r:embed="rId1"/>
          <a:srcRect l="1605" t="0" r="1070" b="5167"/>
          <a:stretch/>
        </p:blipFill>
        <p:spPr>
          <a:xfrm>
            <a:off x="1143000" y="685800"/>
            <a:ext cx="75312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D:\MAJA\Scan\novi covjek spasiti svijet clanak.jpg"/>
          <p:cNvPicPr/>
          <p:nvPr/>
        </p:nvPicPr>
        <p:blipFill>
          <a:blip r:embed="rId1"/>
          <a:stretch/>
        </p:blipFill>
        <p:spPr>
          <a:xfrm>
            <a:off x="1066680" y="1676520"/>
            <a:ext cx="7518600" cy="3030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1354320" y="56768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zvor: Glas Istre, 3.2.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itelj i znan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eorijsko, praktično/iskustveno zn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eorijsko znanje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znanstveno zn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sadrži sustavno izvedene, djelomice i empirijski potvrđene informacije o stvarnosti, o svij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pomaže zauzeti kritički 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skustveno znanje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jest osobno znanje, biografski uvjetovano, cjelovito i obojeno emo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samosvojni, uglavnom sadržajno bogat oblik znanja koji </a:t>
            </a:r>
            <a:r>
              <a:rPr b="0" lang="hr-HR" sz="2800" spc="-1" strike="noStrike">
                <a:solidFill>
                  <a:srgbClr val="008000"/>
                </a:solidFill>
                <a:latin typeface="Times New Roman"/>
              </a:rPr>
              <a:t>smo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sami usp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itelji i znanje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mpetencija za djelovanje – da </a:t>
            </a:r>
            <a:r>
              <a:rPr b="0" lang="hr-HR" sz="3200" spc="-1" strike="noStrike">
                <a:solidFill>
                  <a:srgbClr val="008000"/>
                </a:solidFill>
                <a:latin typeface="Times New Roman"/>
              </a:rPr>
              <a:t>b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se teorijsko i iskustveno znanje moglo oplo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osobnost da, usmjeravajući se na cilj, taktično i uz uvažavanje institucionalnih okvirnih uvjeta ispunjavamo nastavne i odgojne zadaće, u rutinskim i novim situ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itelji i iskustvo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ko teorijsko i iskustveno znanje dolaze u sukob/proturječje prevlast zadržava iskustveno – zatočenici vlastitih iskust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ikupljanje novih, drukčijih iskust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brada teorijskog znanja pomaže kritički relativizirati i “razvodniti” vlastito iskustveno znanje da se ono može iznova strukturirati – znači “razviti osobnu teoriju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itelji i metakognicij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matranje samoga sebe pri pouč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itanja: Što činim s </a:t>
            </a:r>
            <a:r>
              <a:rPr b="0" lang="hr-HR" sz="2800" spc="-1" strike="noStrike">
                <a:solidFill>
                  <a:srgbClr val="008000"/>
                </a:solidFill>
                <a:latin typeface="Times New Roman"/>
              </a:rPr>
              <a:t>28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djece ispred sebe? Ima li to smisla? Kako me oni uopće doživljavaju? Već sam odavno htjel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efleksija u djel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efleksija o djel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mišljanje o vlastitom mišlj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a poticanje sadržajne jasnoće o vlastitom putu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Bitna pretpostavka </a:t>
            </a:r>
            <a:r>
              <a:rPr b="0" lang="hr-HR" sz="2800" spc="-1" strike="noStrike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svješćivanja strategija učenja  i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iteljev karakter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 </a:t>
            </a:r>
            <a:r>
              <a:rPr b="0" lang="hr-HR" sz="2800" spc="-1" strike="noStrike">
                <a:solidFill>
                  <a:srgbClr val="008000"/>
                </a:solidFill>
                <a:latin typeface="Times New Roman"/>
              </a:rPr>
              <a:t>j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sam sebi najbolje nastavno pomaga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glašavanjem metoda poučavanja želi se poučavanje standardizirati, a naglašavanjem stila ističe se učiteljeva individualnost i priznaje se da je svaki razred jedinstveni događaj, s učiteljem koji je zajednički element u različitim razredima koje pouča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učavanje je i umjetnost i zn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učavanje sa stajališta koje zna kakvi su učitelji kad uđu u odnos s onima koji s njima uč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Učenje novoga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činje provjerom učenikova predznanja, na koje se nadograđuje novo znanje – </a:t>
            </a:r>
            <a:r>
              <a:rPr b="0" lang="hr-HR" sz="2800" spc="-1" strike="noStrike">
                <a:solidFill>
                  <a:srgbClr val="ff9933"/>
                </a:solidFill>
                <a:latin typeface="Times New Roman"/>
              </a:rPr>
              <a:t>KONSTRUKTIV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 usmjeren na prepoznavanje i uklanjanje prepreka u postizanju učenikova razumije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Fleksibilno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mijenjanje metoda poučavanja kako bi se učenike potaknulo na primjenu strategija učenja koje potiču strukturiranje i povezivanje gradiva, te promišljanje o svrsi učenja i razvoj kritičkog odnosa prema onome što se u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44:44Z</dcterms:created>
  <dc:creator>Big Brain</dc:creator>
  <dc:description/>
  <dc:language>en-US</dc:language>
  <cp:lastModifiedBy>Aspire</cp:lastModifiedBy>
  <dcterms:modified xsi:type="dcterms:W3CDTF">2012-03-22T21:12:28Z</dcterms:modified>
  <cp:revision>77</cp:revision>
  <dc:subject/>
  <dc:title>PowerPoint Presentation</dc:title>
</cp:coreProperties>
</file>