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583-1827-4FC4-ACC4-5228DBBC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6BA-8D61-4E47-B817-E4DBE11F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317-1783-4424-9646-59A0C9E0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A6E-CE33-480C-8CFF-A8FBD458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B32-A1E8-497E-AE53-1529314B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40A-47DE-46E3-A715-0770A117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637A-7DC8-4E84-8A58-7DB5D720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A2D-F0F1-4AFB-8E41-6B467CA8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F64-7CF6-4861-8053-A46D3E13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7AA-D47B-4DB0-9C93-DF7642BF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E4A-4199-49DE-8CCB-2CE94134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976-EADE-4D09-8AC5-E0D27CA8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63EB-9EF7-43EE-B790-F00079307D39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jpeg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800080"/>
                </a:solidFill>
                <a:latin typeface="Arial"/>
              </a:rPr>
              <a:t>I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Arial"/>
              </a:rPr>
              <a:t>Ukratko o izradi plana podrš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:\Users\KATARINA\AppData\Local\Microsoft\Windows\Temporary Internet Files\Content.IE5\R1VXY68B\MCj04315120000[1].png"/>
          <p:cNvPicPr/>
          <p:nvPr/>
        </p:nvPicPr>
        <p:blipFill>
          <a:blip r:embed="rId1"/>
          <a:stretch/>
        </p:blipFill>
        <p:spPr>
          <a:xfrm>
            <a:off x="609480" y="228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:\Users\KATARINA\AppData\Local\Microsoft\Windows\Temporary Internet Files\Content.IE5\NVBYSIKZ\MCj04344110000[1].wmf"/>
          <p:cNvPicPr/>
          <p:nvPr/>
        </p:nvPicPr>
        <p:blipFill>
          <a:blip r:embed="rId2"/>
          <a:stretch/>
        </p:blipFill>
        <p:spPr>
          <a:xfrm>
            <a:off x="6705720" y="685800"/>
            <a:ext cx="1625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siguravaju se </a:t>
            </a:r>
            <a:r>
              <a:rPr b="0" lang="hr-HR" sz="2800" spc="-1" strike="noStrike">
                <a:solidFill>
                  <a:srgbClr val="cc00cc"/>
                </a:solidFill>
                <a:latin typeface="Arial"/>
              </a:rPr>
              <a:t>različite upute i materijali kojima se udovoljava učenikovim individualnim cilje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Arial"/>
                <a:ea typeface="Arial"/>
              </a:rPr>
              <a:t>radi po različitim ili istim materijalima i uputama s potpuno različitim cilj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Arial"/>
                <a:ea typeface="Arial"/>
              </a:rPr>
              <a:t>individualni zadaci na radnom listić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Arial"/>
                <a:ea typeface="Tunga"/>
              </a:rPr>
              <a:t>ZAMJENSKI KURIKUL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Arial"/>
                <a:ea typeface="Tunga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0080"/>
                </a:solidFill>
                <a:latin typeface="Arial"/>
                <a:ea typeface="Arial"/>
              </a:rPr>
              <a:t>Ivančić, Đ. (2010):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DIFERENCIRANA NASTAVA U INKLUZIVNOJ ŠKOLI- procjena, poučavanje i vrednovanje uspješnosti učenika s teškoćama</a:t>
            </a:r>
            <a:r>
              <a:rPr b="0" lang="hr-HR" sz="2800" spc="-1" strike="noStrike">
                <a:solidFill>
                  <a:srgbClr val="800080"/>
                </a:solidFill>
                <a:latin typeface="Arial"/>
                <a:ea typeface="Arial"/>
              </a:rPr>
              <a:t>, ALKA SCRIPT, Zagr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00080"/>
                </a:solidFill>
                <a:latin typeface="Arial"/>
                <a:ea typeface="Arial"/>
              </a:rPr>
              <a:t>Krampač – Grljušić, A., Marinić, I. (2007): „Posebno dijete“ – priručnik, Grafika, Osij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95440" y="55440"/>
            <a:ext cx="7660800" cy="103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Kako izraditi </a:t>
            </a:r>
            <a:r>
              <a:rPr b="0" lang="hr-HR" sz="3200" spc="-1" strike="noStrike">
                <a:solidFill>
                  <a:srgbClr val="996633"/>
                </a:solidFill>
                <a:latin typeface="Arial"/>
              </a:rPr>
              <a:t>IOOP</a:t>
            </a: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7772400" cy="59724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Nastavni predmet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3"/>
          <p:cNvSpPr/>
          <p:nvPr/>
        </p:nvSpPr>
        <p:spPr>
          <a:xfrm>
            <a:off x="0" y="1989000"/>
            <a:ext cx="1577880" cy="4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9b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mje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1619280" y="1773360"/>
            <a:ext cx="2430360" cy="14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9b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Sadržaj edukacije (područja, teme, ključni pojmo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4067280" y="1773360"/>
            <a:ext cx="1949400" cy="145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9b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Ciljev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postignuća za učenika/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6012000" y="1700280"/>
            <a:ext cx="1827000" cy="111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9b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Aktivnosti za učenika/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2700360" y="3284640"/>
            <a:ext cx="3629160" cy="101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9b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tr</a:t>
            </a: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egije podrške (prilagodba metoda, sredstava, oblika, postupaka, zahtj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6"/>
          <p:cNvSpPr/>
          <p:nvPr/>
        </p:nvSpPr>
        <p:spPr>
          <a:xfrm>
            <a:off x="6372360" y="3357720"/>
            <a:ext cx="2479680" cy="67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9b"/>
              </a:gs>
            </a:gsLst>
            <a:lin ang="5400000"/>
          </a:gra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Ostvarene zadaće</a:t>
            </a:r>
            <a:r>
              <a:rPr b="0" lang="hr-HR" sz="1600" spc="-1" strike="noStrike">
                <a:solidFill>
                  <a:srgbClr val="000066"/>
                </a:solidFill>
                <a:latin typeface="Verdana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611280" y="4941720"/>
            <a:ext cx="2506680" cy="1623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raćenje </a:t>
            </a: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procjena postignuća (sažeti prikaz na kraju polugodišta, šk.go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9"/>
          <p:cNvSpPr/>
          <p:nvPr/>
        </p:nvSpPr>
        <p:spPr>
          <a:xfrm>
            <a:off x="3348000" y="4941720"/>
            <a:ext cx="2736720" cy="1320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udjelovanje učenika </a:t>
            </a:r>
            <a:r>
              <a:rPr b="1" lang="hr-HR" sz="1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samovrednovanje postignuća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(izvedba nastave, motiviran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0"/>
          <p:cNvSpPr/>
          <p:nvPr/>
        </p:nvSpPr>
        <p:spPr>
          <a:xfrm>
            <a:off x="6227640" y="4941720"/>
            <a:ext cx="2705400" cy="16239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Uključenost potpor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(asistent, roditelj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uz osvrt na strategije rada kod kuće, priprema za škol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Arial"/>
              </a:rPr>
              <a:t>ODREĐIVANJE CILJEV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znači utvrđivanj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00cc"/>
                </a:solidFill>
                <a:latin typeface="Arial"/>
                <a:ea typeface="Arial"/>
              </a:rPr>
              <a:t>što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će dijete napravi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00cc"/>
                </a:solidFill>
                <a:latin typeface="Arial"/>
                <a:ea typeface="Arial"/>
              </a:rPr>
              <a:t>uvjete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 pod kojima će izvršiti neki zadata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00cc"/>
                </a:solidFill>
                <a:latin typeface="Arial"/>
                <a:ea typeface="Arial"/>
              </a:rPr>
              <a:t>materijale i podršku</a:t>
            </a:r>
            <a:r>
              <a:rPr b="0" lang="hr-HR" sz="36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neophodne za izvršenje zadat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00cc"/>
                </a:solidFill>
                <a:latin typeface="Arial"/>
                <a:ea typeface="Arial"/>
              </a:rPr>
              <a:t>vremenski okvir</a:t>
            </a:r>
            <a:r>
              <a:rPr b="0" lang="hr-HR" sz="36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za ostvarenje cilje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trategije su </a:t>
            </a:r>
            <a:r>
              <a:rPr b="0" lang="hr-HR" sz="3200" spc="-1" strike="noStrike">
                <a:solidFill>
                  <a:srgbClr val="cc00cc"/>
                </a:solidFill>
                <a:latin typeface="Arial"/>
                <a:ea typeface="Arial"/>
              </a:rPr>
              <a:t>tehnike i pristup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koje primjenjujemo radi pružanja podrške ciljevima za nekog učenik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Arial"/>
                <a:ea typeface="Arial"/>
              </a:rPr>
              <a:t>CILJEVI: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što će UČENIK moći naprav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Arial"/>
                <a:ea typeface="Arial"/>
              </a:rPr>
              <a:t>STRATEGIJE: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što ćemo MI napraviti da učeniku pomognemo ostvariti taj cil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Arial"/>
              </a:rPr>
              <a:t>UTVRĐIVANJE STRATEG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Arial"/>
              </a:rPr>
              <a:t>POSTUPCI PRILAGODBE STRATEGI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Arial"/>
                <a:ea typeface="Arial"/>
              </a:rPr>
              <a:t>prilagodba metoda, sredstava i oblika rad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(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odnosu na percepciju, spoznaju, govor, interakcij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684360" y="3284640"/>
            <a:ext cx="813744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Arial"/>
                <a:ea typeface="Arial"/>
              </a:rPr>
              <a:t>prilagodba zahtjev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(u odnosu na samostalnost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učenika, vrijeme rada, način rada, način provjere,aktivnost učenika, prostor,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Arial"/>
                <a:ea typeface="Arial"/>
              </a:rPr>
              <a:t>prilagodba sadržaja u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Arial"/>
                <a:ea typeface="Arial"/>
              </a:rPr>
              <a:t>poticanje socijalnih odn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80520" y="1447560"/>
            <a:ext cx="7680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(Deschenes, Ebeling, Sprague, 1994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4bacc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jednostavan i pregledan način prilagođavanja za učenike s 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4bacc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ože uključivati prilagođavan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Arial"/>
                <a:ea typeface="Arial"/>
              </a:rPr>
              <a:t>9 NAČINA PRILAGOD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622440" y="2743200"/>
            <a:ext cx="7796160" cy="3743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Program Files\Microsoft Office\MEDIA\CAGCAT10\j0234131.wmf"/>
          <p:cNvPicPr/>
          <p:nvPr/>
        </p:nvPicPr>
        <p:blipFill>
          <a:blip r:embed="rId2"/>
          <a:stretch/>
        </p:blipFill>
        <p:spPr>
          <a:xfrm>
            <a:off x="1619280" y="3213000"/>
            <a:ext cx="658800" cy="70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Vanchester\AppData\Local\Microsoft\Windows\Temporary Internet Files\Content.IE5\F9AHZQSC\MC900434810[1].png"/>
          <p:cNvPicPr/>
          <p:nvPr/>
        </p:nvPicPr>
        <p:blipFill>
          <a:blip r:embed="rId3"/>
          <a:stretch/>
        </p:blipFill>
        <p:spPr>
          <a:xfrm>
            <a:off x="755640" y="3281400"/>
            <a:ext cx="698400" cy="696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Users\Vanchester\AppData\Local\Microsoft\Windows\Temporary Internet Files\Content.IE5\U4021S2Y\MC900070852[1].wmf"/>
          <p:cNvPicPr/>
          <p:nvPr/>
        </p:nvPicPr>
        <p:blipFill>
          <a:blip r:embed="rId4"/>
          <a:stretch/>
        </p:blipFill>
        <p:spPr>
          <a:xfrm>
            <a:off x="2556000" y="3357720"/>
            <a:ext cx="458640" cy="555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C:\Users\Vanchester\AppData\Local\Microsoft\Windows\Temporary Internet Files\Content.IE5\F9AHZQSC\MC900140671[1].wmf"/>
          <p:cNvPicPr/>
          <p:nvPr/>
        </p:nvPicPr>
        <p:blipFill>
          <a:blip r:embed="rId5"/>
          <a:stretch/>
        </p:blipFill>
        <p:spPr>
          <a:xfrm>
            <a:off x="3154320" y="3398760"/>
            <a:ext cx="76356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C:\Users\Vanchester\AppData\Local\Microsoft\Windows\Temporary Internet Files\Content.IE5\ODU4WHHS\MC900320494[1].wmf"/>
          <p:cNvPicPr/>
          <p:nvPr/>
        </p:nvPicPr>
        <p:blipFill>
          <a:blip r:embed="rId6"/>
          <a:stretch/>
        </p:blipFill>
        <p:spPr>
          <a:xfrm>
            <a:off x="4140360" y="3357720"/>
            <a:ext cx="758520" cy="61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C:\Users\Vanchester\AppData\Local\Microsoft\Windows\Temporary Internet Files\Content.IE5\U4021S2Y\MP900439390[1].jpg"/>
          <p:cNvPicPr/>
          <p:nvPr/>
        </p:nvPicPr>
        <p:blipFill>
          <a:blip r:embed="rId7"/>
          <a:stretch/>
        </p:blipFill>
        <p:spPr>
          <a:xfrm>
            <a:off x="5148360" y="3495600"/>
            <a:ext cx="503280" cy="336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C:\Users\Vanchester\AppData\Local\Microsoft\Windows\Temporary Internet Files\Content.IE5\U4021S2Y\MC900237158[1].wmf"/>
          <p:cNvPicPr/>
          <p:nvPr/>
        </p:nvPicPr>
        <p:blipFill>
          <a:blip r:embed="rId8"/>
          <a:stretch/>
        </p:blipFill>
        <p:spPr>
          <a:xfrm>
            <a:off x="6012000" y="3252960"/>
            <a:ext cx="490320" cy="693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C:\Users\Vanchester\AppData\Local\Microsoft\Windows\Temporary Internet Files\Content.IE5\U4021S2Y\MC900013276[1].wmf"/>
          <p:cNvPicPr/>
          <p:nvPr/>
        </p:nvPicPr>
        <p:blipFill>
          <a:blip r:embed="rId9"/>
          <a:stretch/>
        </p:blipFill>
        <p:spPr>
          <a:xfrm flipH="1">
            <a:off x="6803640" y="3322800"/>
            <a:ext cx="623880" cy="62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C:\Users\Vanchester\AppData\Local\Microsoft\Windows\Temporary Internet Files\Content.IE5\F9AHZQSC\MC900439818[1].png"/>
          <p:cNvPicPr/>
          <p:nvPr/>
        </p:nvPicPr>
        <p:blipFill>
          <a:blip r:embed="rId10"/>
          <a:stretch/>
        </p:blipFill>
        <p:spPr>
          <a:xfrm>
            <a:off x="7596360" y="3252960"/>
            <a:ext cx="79524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160" y="1828800"/>
            <a:ext cx="749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lagođavaju se </a:t>
            </a:r>
            <a:r>
              <a:rPr b="0" lang="hr-HR" sz="3200" spc="-1" strike="noStrike">
                <a:solidFill>
                  <a:srgbClr val="660066"/>
                </a:solidFill>
                <a:latin typeface="Arial"/>
                <a:ea typeface="Arial"/>
              </a:rPr>
              <a:t>načini na koje dijete može reagirati na nastavne sadrž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p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mjesto diktata </a:t>
            </a:r>
            <a:r>
              <a:rPr b="0" lang="hr-HR" sz="2400" spc="-1" strike="noStrike" u="sng">
                <a:solidFill>
                  <a:srgbClr val="660066"/>
                </a:solidFill>
                <a:uFillTx/>
                <a:latin typeface="Arial"/>
                <a:ea typeface="Arial"/>
              </a:rPr>
              <a:t>prepisu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riječ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660066"/>
                </a:solidFill>
                <a:uFillTx/>
                <a:latin typeface="Arial"/>
                <a:ea typeface="Arial"/>
              </a:rPr>
              <a:t>lijepi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ipremljene odgo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dgovara </a:t>
            </a:r>
            <a:r>
              <a:rPr b="0" lang="hr-HR" sz="2400" spc="-1" strike="noStrike" u="sng">
                <a:solidFill>
                  <a:srgbClr val="660066"/>
                </a:solidFill>
                <a:uFillTx/>
                <a:latin typeface="Arial"/>
                <a:ea typeface="Arial"/>
              </a:rPr>
              <a:t>usmen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umjesto pis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risti bilježnicu, simbole, slike, kartice s riječ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660066"/>
                </a:solidFill>
                <a:uFillTx/>
                <a:latin typeface="Arial"/>
                <a:ea typeface="Arial"/>
              </a:rPr>
              <a:t>pokazuj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odgovore umjesto da ih izgov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Arial"/>
              </a:rPr>
              <a:t>PRILAGODBA ISKAZIVANJA ZNAN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lagođava se </a:t>
            </a:r>
            <a:r>
              <a:rPr b="0" lang="hr-HR" sz="3200" spc="-1" strike="noStrike">
                <a:solidFill>
                  <a:srgbClr val="cc00cc"/>
                </a:solidFill>
                <a:latin typeface="Arial"/>
              </a:rPr>
              <a:t>u kojoj je mjeri učenik aktivno uključen u zadat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p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Arial"/>
                <a:ea typeface="Arial"/>
              </a:rPr>
              <a:t>voditel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kvi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Arial"/>
                <a:ea typeface="Arial"/>
              </a:rPr>
              <a:t>postavlja pripremljena pitanja</a:t>
            </a:r>
            <a:r>
              <a:rPr b="0" lang="hr-HR" sz="2400" spc="-1" strike="noStrike">
                <a:solidFill>
                  <a:srgbClr val="953735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i provjerava odgo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Arial"/>
                <a:ea typeface="Arial"/>
              </a:rPr>
              <a:t>pomaž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čitelju ili učenicima održati prezentac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Arial"/>
                <a:ea typeface="Arial"/>
              </a:rPr>
              <a:t>odlazi po kredu, briše ploču, uređuje pano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Arial"/>
              </a:rPr>
              <a:t>PRILAGODBA STUPNJA SUDJELOVAN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lagođava se </a:t>
            </a:r>
            <a:r>
              <a:rPr b="0" lang="hr-HR" sz="2800" spc="-1" strike="noStrike">
                <a:solidFill>
                  <a:srgbClr val="cc00cc"/>
                </a:solidFill>
                <a:latin typeface="Arial"/>
              </a:rPr>
              <a:t>cilj ili krajnja očekivanja koristeći iste materij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p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mjesto interpretacije teksta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  <a:ea typeface="Arial"/>
              </a:rPr>
              <a:t> pronalazi ime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mjesto čitanja lektire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  <a:ea typeface="Arial"/>
              </a:rPr>
              <a:t> pogleda 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mjesto diktata</a:t>
            </a:r>
            <a:r>
              <a:rPr b="0" lang="hr-HR" sz="2400" spc="-1" strike="noStrike">
                <a:solidFill>
                  <a:srgbClr val="660066"/>
                </a:solidFill>
                <a:latin typeface="Arial"/>
                <a:ea typeface="Arial"/>
              </a:rPr>
              <a:t> označava riječi koje je č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bacc6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Arial"/>
                <a:ea typeface="Arial"/>
              </a:rPr>
              <a:t>nabraja pojmov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ok ih drugi trebaju nabrojiti i objasn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Arial"/>
                <a:ea typeface="Tunga"/>
              </a:rPr>
              <a:t>ZAMJENSKI CIL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6:09:30Z</dcterms:created>
  <dc:creator>Gordana</dc:creator>
  <dc:description/>
  <dc:language>en-US</dc:language>
  <cp:lastModifiedBy>Doma</cp:lastModifiedBy>
  <dcterms:modified xsi:type="dcterms:W3CDTF">2012-01-07T12:57:25Z</dcterms:modified>
  <cp:revision>17</cp:revision>
  <dc:subject/>
  <dc:title>PowerPoint Presentation</dc:title>
</cp:coreProperties>
</file>