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jpeg" ContentType="image/jpeg"/>
  <Override PartName="/ppt/media/image11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98AD-2FD6-456C-885B-DF482DBD6B4F}" type="slidenum">
              <a:rPr b="1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vo bi promijenila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B8A-E1CF-452A-931C-6E955AA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BEC-931E-4F96-BDB0-596FD4B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1CD-777D-4128-AFD2-54D2F2F6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5FC-141F-4EC1-A163-EA6D2FA9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EE1-DCA6-4287-831C-3932A8F9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A2E-342E-4F59-A08E-8CBEA728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B91-9FD5-44C3-96A6-E4B1A78A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2AE-6A22-45CE-85CE-C4FDC51A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4EF-731D-40EC-B287-E0263A82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BE1-3920-420A-80FC-1C6FE212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1F7-9A2F-4D0F-9281-7C3F425C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4FE-6FDC-4097-AAF9-175FADD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240-8ECE-437B-AD0E-8B42D27B26FC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octamom.com-a.googlepages.com/83520010.JPG/83520010-full.JPG&amp;imgrefurl=http://www.octamom.com-a.googlepages.com/hearingwiththeheart:thejourneyofahearing&amp;usg=__TX5z2y2Lcewi-ElTul9Ni3Vwc7w=&amp;h=358&amp;w=304&amp;sz=27&amp;hl=hr&amp;start=61&amp;um=1&amp;tbnid=JFpXd0QBHw8pIM:&amp;tbnh=121&amp;tbnw=103&amp;prev=/images%3Fq%3Ddeaf%2Bchildren%2Band%2Blanguage%2Bacquisition%26ndsp%3D21%26hl%3Dhr%26rlz%3D1W1ADBF_en%26sa%3DN%26start%3D42%26um%3D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google.hr/imgres?imgurl=http://www.openbook.ba/udc/diplomski/b_pisac.gif&amp;imgrefurl=http://www.openbook.ba/udc/diplomski/amna_hrvat.htm&amp;usg=__uDCb6ZsnkBG9jgjz1WbgrFOakXk=&amp;h=156&amp;w=254&amp;sz=39&amp;hl=hr&amp;start=1&amp;tbnid=WkCcGa8sq63D2M:&amp;tbnh=68&amp;tbnw=111&amp;prev=/images%3Fq%3Dstroj%2Bza%2Bbrajevo%2Bpismo%26gbv%3D2%26hl%3Dhr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4000" spc="-1" strike="noStrike">
                <a:solidFill>
                  <a:srgbClr val="2b5481"/>
                </a:solidFill>
                <a:latin typeface="Arial"/>
              </a:rPr>
              <a:t>UČENICI S TEŠKOĆAMA U REDOVNOM SUSTAVU OBRAZOVANJ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1577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Predavač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mr Gordana Galić, prof. defektolo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2b5481"/>
                </a:solidFill>
                <a:latin typeface="Arial"/>
              </a:rPr>
              <a:t>Rijeka, 4. siječnja 2012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6" descr="bimbi"/>
          <p:cNvPicPr/>
          <p:nvPr/>
        </p:nvPicPr>
        <p:blipFill>
          <a:blip r:embed="rId1"/>
          <a:srcRect l="0" t="0" r="33892" b="0"/>
          <a:stretch/>
        </p:blipFill>
        <p:spPr>
          <a:xfrm>
            <a:off x="3059280" y="3305160"/>
            <a:ext cx="331308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2. UČENICI S OŠTEĆENJEM SLUHA</a:t>
            </a: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1. Gluhoć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gubitak sluha iznad 91 d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ne mogu se služiti sluhom u govornom sporazumijev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2. Nagluh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gubitak sluha od 25 do 90 D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osnovno sredstvo komunikacije 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ovor i po potrebi znakovni jez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83520010-fu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89600" y="3144960"/>
            <a:ext cx="27972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Radi prirode oštećenja ovi će učenici imati veća odstupanja u usvajanju nekih nastavnih sadržaj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hrvatski jezik – diktat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glazbena kultura - pjevanje, slušanje glazbenih djela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strani jezik – vježbe slušanja i izgovora, dikt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-217800"/>
            <a:ext cx="799956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2700" spc="-1" strike="noStrike" u="sng">
              <a:solidFill>
                <a:srgbClr val="336699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oštećenjem slu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 bi trebao sjediti u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prednjoj klup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(vizualni kontakt s učitelj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stojati biti okrenut licem prema učenicima kada im se obra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diti govor (izražajan, jasan, pauz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jeriti razumijevanje novih, nepoznatih riječi (pojašnjenje, slikovni materij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tavljati kratka, jednostavna pitanja (poznate riječ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ismene provjere znanja (češće, manje cjeli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cjenjivati sadržaj, a ne gramatičku ispravn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štenje vizualnih sredstava (slike, fotografije, računalni programi, dijafilmovi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jeriti razumijevanje zadataka za domaću zadać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●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štenje znakovnog jezika (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poželjan pomoćnik u nastavi koji je educiran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5" descr="x23641193777881115775"/>
          <p:cNvPicPr/>
          <p:nvPr/>
        </p:nvPicPr>
        <p:blipFill>
          <a:blip r:embed="rId1"/>
          <a:stretch/>
        </p:blipFill>
        <p:spPr>
          <a:xfrm>
            <a:off x="368280" y="380880"/>
            <a:ext cx="4132440" cy="600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beceda2"/>
          <p:cNvPicPr/>
          <p:nvPr/>
        </p:nvPicPr>
        <p:blipFill>
          <a:blip r:embed="rId2"/>
          <a:stretch/>
        </p:blipFill>
        <p:spPr>
          <a:xfrm>
            <a:off x="4861080" y="380880"/>
            <a:ext cx="396396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8736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3. UČENICI S POREMEĆAJEM GOVORNO- GLASOVNE KOMUNIKACIJ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a)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glasa 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primjerena visina, kvalitet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lasnoća i trajanje gla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b)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gov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rtikulacijski  poremećaji</a:t>
            </a: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je karakteriziraju</a:t>
            </a: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vidu ispuštanja, iskrivljavanja, zamjenjivanja i dodavanja glasova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dislalija – poremećaj izgovo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i fluentnosti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mucanje i brzopletos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31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poremeća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govora (poremećaji fluentnos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mucanje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nikada ne ispravljat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braćati se učeniku smirenim, tišim i sporijim govor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manjiti stresne i napete situacije (ne ustrajati u zahtjevu da učenik govor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dati dovoljno vremena da 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se učenik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izraz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ne završavati riječi i rečenice umjesto učeni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češće primjenjivati pismene ispite znan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brzopletom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učeniku dati redoslijed obavljanja zadata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lako ponavljanje uputa, usmjeravanje pažnje na bit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ilagoditi tisak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(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većan razmak, podebljane bitne riječi, bez suvišnih detalja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54160" y="395280"/>
            <a:ext cx="866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4. UČENICI S MOTORIČKIM POREMEĆAJIMA 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KRONIČNIM BOLE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62120" y="1981080"/>
            <a:ext cx="792468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čenike s motoričkim poremećajima i kroničnim bolestima dijelimo na: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lokomotornog sustava (kosti, zglobovi, mišići)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npr. iščašenje kuka, deformacije kralježn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središnjeg živčanog sustav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oštećenjem perifernog živčanog sustav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(leđne moždine i perifernih živaca) – posljedica bolesti, trauma ili nasljeđ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66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čenike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  <a:ea typeface="Arial"/>
              </a:rPr>
              <a:t> s kroničnim bolestima drugih sustav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 (bolesti srca, krvožilnog sustava, probavnog, dišnog sustava…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 motoričkim poremećaj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457200" y="1484280"/>
            <a:ext cx="82296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Osnovne karakteristike djece s motoričkim poremećajima su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različiti oblici i težina poremećaja pokreta i položaja tije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smanjena ili onemogućena funkcija pojedinih dijelova tijela (ruku, nogu, kralježnic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nepostojanje dijelova tijela (urođena nerazvijenost, bolest ili nezgod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ljedica oštećenja središnjeg živčanog sustava je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cerebralna paraliz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Cerebralna paraliz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je zajednički naziv za skupinu motoričkih poremećaja pokreta i/ili položaja, te motoričkih funkcija</a:t>
            </a:r>
            <a:r>
              <a:rPr b="0" lang="hr-HR" sz="24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progredirajuće stanje, a ne bol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ezultat je poremećaja funkcije moz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ridružene teškoć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djece s cerebralnom paralizom često su prisutne i druge razvojne smetnje poput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a vi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e sluh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ećenje govornog i jezičnog razvo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erceptivne smetnj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epilepsij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niženo intelektualno funkcioniranj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metnje ponašanja te emocionalne smetn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5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336699"/>
                </a:solidFill>
                <a:uFillTx/>
                <a:latin typeface="Arial"/>
              </a:rPr>
              <a:t>Učenici s posebnim potrebama</a:t>
            </a:r>
            <a:r>
              <a:rPr b="0" lang="hr-HR" sz="3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99"/>
                </a:solidFill>
                <a:latin typeface="Arial"/>
              </a:rPr>
              <a:t>1. daroviti učenic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6699"/>
                </a:solidFill>
                <a:latin typeface="Arial"/>
              </a:rPr>
              <a:t>2. </a:t>
            </a:r>
            <a:r>
              <a:rPr b="1" lang="hr-HR" sz="4000" spc="-1" strike="noStrike">
                <a:solidFill>
                  <a:srgbClr val="336699"/>
                </a:solidFill>
                <a:latin typeface="Arial"/>
              </a:rPr>
              <a:t>učenici s teškoć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KON O ODGOJU I OBRAZOVANJU U OSNOVNOJ I SREDNJOJ ŠKOLI (‘08); čl.6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ridružene teškoć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rema navodu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ngh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i sur., 200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3. g.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pilepsija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je n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đ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ena u oko polovine osob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 cerebralnom paralizom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Velik broj cerebralno paralizirane djece im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trabizam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(nekontrolirano pomicanje o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iju)</a:t>
            </a:r>
            <a:r>
              <a:rPr b="0" lang="hr-HR" sz="32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Procjenjuje se da tre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ina osoba s cerebralnom paralizom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ima </a:t>
            </a: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deficite intelektualnog funkcioniranja</a:t>
            </a:r>
            <a:r>
              <a:rPr b="0" lang="hr-HR" sz="3200" spc="-1" strike="noStrike">
                <a:solidFill>
                  <a:srgbClr val="3366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ercepcij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OSJET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-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 stimulacij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 senzornih receptora i prijenos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 tih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 informacija u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Ž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Osjetni sustav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: vidni, slušni, olfaktorni, gustativni, osjet dodira, kinestetički, vestibular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PERCEPCI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je psihički proces kojim zahv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amo predmete i pojave vanjskog svijeta u cjelini, na osnovu informacija iz senzornih organa (osje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5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Percepci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  <a:ea typeface="Times New Roman"/>
              </a:rPr>
              <a:t> je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ustvari naš subjektivni d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oživl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jaj stvarnosti, a to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  <a:ea typeface="Arial"/>
              </a:rPr>
              <a:t>doživljavanje je u svezi s našim prethodnim iskustvom, znanjem, našim očekivanjma,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Perceptivne teškoć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učenika s cerebralnom paralizom mogu se očitovati sljedeće teškoć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vizualne precep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auditivne percep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 području prostornog i motornog funkcioniranja, teškoće orijent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obavljanju pojedinih zadataka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motorički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oremeća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ionica treba biti u prizemlju osim ako škola nema li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igurati prostor za kretanje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razmjestiti stolo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i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diti namještaj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stol, ploha, stolica, držač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mjeren pribor (bilježnice velikog formata)  i pomagala za pis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fiksiranje papira ili bilježnice za radnu podlog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mogućiti pisanje samo velikim tiskanim slov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rugi oblici rada i pomagala (diktiranje drugoj osobi, snimk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igurati više vremena za grafičke aktiv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premiti tekst plana ploč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magalo za držanje knjige u optimalnom položaj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Franklin Gothic Heav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2.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Kronične bolesti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tojanje bolesti koja je trajnijeg karaktera, promjenj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žine (razdoblja poboljšanja i pogoršanja) koja mo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zrokovati potrebu posebnih uvjeta, metoda i sredst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kroničnim bolest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lagođavati </a:t>
            </a: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tempo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rada (ako se zbog boles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li medikamentozne terapije brže umaraju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orije reagiraju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tale posebnosti u odnosu na zdravstvene potre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ržavati stalnu vezu i izmjenjivati informacije 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predovanju i specifičnim potrebama učenika 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iteljima koji rade na bolničkom odjelu (nastava u kući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5. UČENICI SA SNIŽENIM INTELEKTUALNIM </a:t>
            </a:r>
            <a:br>
              <a:rPr sz="3200"/>
            </a:b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SPOSOBNOSTIM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Pojam intelektualne t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koće odnosi se na stanje, obično prisutno od rođenja ili nastalo do 18. godine život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je trajno stanje koje obilježavaju znatno ispodprosječne intelektualne sposobnosti, a kao posljedicu ima znatna ograničenja u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telektualnom funkcioniranju i adaptivnom pona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nju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izražena u socijalnim i praktičnim vje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in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tanje (NE BOLEST) – ne može se liječi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če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će kod dječaka nego kod djevojč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zroci različiti (nasljednost, rana o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ćenja u embrionalnom razvoju, trudnoća i perinatalni problemi, zdravstveni problemi u dojenačkoj dobi, utjecaj okoline, nepoz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a sniženim intelektualnim sposobnost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Odstupanja u intelektualnom funkcioniranju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 najče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će se prepoznaju kao te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koće u izvođenju različitih misaonih operacija (naročito generaliziranja i apstrahiranja, analiziranja, povezivanja i zaključivanja, rje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avanja problema) 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to znatno otežava usvajanje apstraktnih sadržaja učenj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5000"/>
              </a:lnSpc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Vrlo često su prisutne i te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koće na području percepcije, zapamćivanja i pamćenja, p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ažnje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hr-HR" sz="2000" spc="-1" strike="noStrike">
                <a:solidFill>
                  <a:srgbClr val="000066"/>
                </a:solidFill>
                <a:latin typeface="Arial"/>
              </a:rPr>
              <a:t>koncentracije, </a:t>
            </a:r>
            <a:r>
              <a:rPr b="0" lang="hr-HR" sz="2000" spc="-1" strike="noStrike">
                <a:solidFill>
                  <a:srgbClr val="000066"/>
                </a:solidFill>
                <a:latin typeface="Tahoma"/>
              </a:rPr>
              <a:t>govorne recepcije i ekspresije, koje također utječu na procese učenja.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Učenici sa sniženim intelektualnim sposobnostim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7144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Na području adaptivnog pona</a:t>
            </a:r>
            <a:r>
              <a:rPr b="0" lang="pl-PL" sz="32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pl-PL" sz="3200" spc="-1" strike="noStrike">
                <a:solidFill>
                  <a:srgbClr val="660066"/>
                </a:solidFill>
                <a:latin typeface="Tahoma"/>
              </a:rPr>
              <a:t>anja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(područja: komunikacija, briga o sebi, stanovanje, snalaženje u okolini, zdravlje, sigurnost, slobodno vrijeme, rad, funkcionalna akademska znanja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te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koće se uočavaju u primjeni naučenih 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pl-PL" sz="3200" spc="-1" strike="noStrike">
                <a:solidFill>
                  <a:srgbClr val="000066"/>
                </a:solidFill>
                <a:latin typeface="Tahoma"/>
              </a:rPr>
              <a:t>kolskih sadržaja i snalaženja u novim socijalnim situacij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Arial"/>
              </a:rPr>
              <a:t>Podjela intelektualnih teškoć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LMR </a:t>
            </a:r>
            <a:r>
              <a:rPr b="0" lang="hr-HR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je približno u rasponu od 50 do 69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UMR</a:t>
            </a:r>
            <a:r>
              <a:rPr b="0" lang="hr-HR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- kvocijent inteligencije  kreće se približno u rasponu od 35 do 4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Teža MR</a:t>
            </a:r>
            <a:r>
              <a:rPr b="0" lang="hr-HR" sz="32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se kreće približno u rasponu od 20 do 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Arial"/>
              </a:rPr>
              <a:t>Teška MR</a:t>
            </a:r>
            <a:r>
              <a:rPr b="0" lang="hr-HR" sz="3200" spc="-1" strike="noStrike">
                <a:solidFill>
                  <a:srgbClr val="336699"/>
                </a:solidFill>
                <a:latin typeface="Arial"/>
              </a:rPr>
              <a:t> - </a:t>
            </a:r>
            <a:r>
              <a:rPr b="0" lang="hr-HR" sz="2800" spc="-1" strike="noStrike">
                <a:solidFill>
                  <a:srgbClr val="336699"/>
                </a:solidFill>
                <a:latin typeface="Arial"/>
              </a:rPr>
              <a:t>kvocijent inteligencije djece s teškom mentalnom retardacijom približno se kreće u rasponu od 0 do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smanjena sposobnost za učenje očituje se u kvalitativnim i kvantitativnim odstupanjima na području spoznaje, govora, motorike i pona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anja, tj. u obrazovnim dostignućima i stupnju socijalizacije pojedinca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U usporedbi s djecom bez te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koća u razvoju sva djeca s IT izjednačena po mentalnoj dobi, bez obzira na etiologiju, imaju </a:t>
            </a:r>
            <a:r>
              <a:rPr b="0" lang="hr-HR" sz="2800" spc="-1" strike="noStrike">
                <a:solidFill>
                  <a:srgbClr val="cc00cc"/>
                </a:solidFill>
                <a:latin typeface="Tahoma"/>
              </a:rPr>
              <a:t>siroma</a:t>
            </a:r>
            <a:r>
              <a:rPr b="0" lang="hr-HR" sz="2800" spc="-1" strike="noStrike">
                <a:solidFill>
                  <a:srgbClr val="cc00cc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cc00cc"/>
                </a:solidFill>
                <a:latin typeface="Tahoma"/>
              </a:rPr>
              <a:t>an rječnik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, a ni one riječi koje znaju ne koriste dovoljn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336699"/>
                </a:solidFill>
                <a:uFillTx/>
                <a:latin typeface="Arial"/>
              </a:rPr>
              <a:t>Učenici s teškoćama </a:t>
            </a:r>
            <a:r>
              <a:rPr b="0" lang="hr-HR" sz="2800" spc="-1" strike="noStrike" u="sng">
                <a:solidFill>
                  <a:srgbClr val="336699"/>
                </a:solidFill>
                <a:uFillTx/>
                <a:latin typeface="Arial"/>
              </a:rPr>
              <a:t>(čl. 65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 razvo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 učenju, problemima u ponašanju i emocionalnim problem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5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b5481"/>
                </a:solidFill>
                <a:latin typeface="Tahoma"/>
              </a:rPr>
              <a:t>učenici s teškoćama uvjetovanim odgojnim, socijalnim, ekonomskim, kulturalnim i  jezičnim čimbenic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66"/>
                </a:solidFill>
                <a:latin typeface="Tahoma"/>
              </a:rPr>
              <a:t>Razlike u odnosu na opću populaciju primjećene su obzirom n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cc"/>
                </a:solidFill>
                <a:latin typeface="Tahoma"/>
              </a:rPr>
              <a:t>brzinu prepoznavanja</a:t>
            </a:r>
            <a:r>
              <a:rPr b="0" lang="hr-HR" sz="3200" spc="-1" strike="noStrike">
                <a:solidFill>
                  <a:srgbClr val="000066"/>
                </a:solidFill>
                <a:latin typeface="Tahoma"/>
              </a:rPr>
              <a:t> određenog perceptivnog sklopa, npr. slike - podražaj mora dugo djelovati da bi ga djeca s IT mogla percipir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Pamćenje 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je takva psihička pojava koja na doživljajnom planu uključuje procese usvajanja ili memoriranja i zadržavanja različitih sadržaja, dok se na vanjskom ili pon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jnom planu očituje u ponavljanju ili reprodukciji tih sadržaja kao i njihovu prepoznavanj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Istraživanja koja govore o razlikama u odnosu na prosječnu populaciju su podijeljena u odnosu na senzorno i dugotrajno pamćenje - neki autori smatraju da značajne razlike ne postoje, dok većina autora smatra da su osobe sa IT slabije u tim komponentam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Rezultati ispitivanja 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selektivne pažnje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(usmjeravanje pažnje na one osobine predmeta, pojava i osoba koje su bitne) pokazuju da se kod učenika s  IT ta sposobnost razvija sporije, pa čak i kad su izjednačeni po mentalnoj dobi sa ispitanicima prosječne inteligencij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Koncentracija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je sposobnost da se duži vremenski period bez prekida usmjeri pažnja na zadata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Istraživanja su pokazala da djeca s IT, bez obzira na etiologiju, imaju podjednako velike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u održavanju koncentracije, a kao skupina značajno su slabiji od ispitanika prosječnog razvoj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Osobitosti učenika sniženih intelektualnih sposobnosti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Učenici s lakom mentalnom retardacij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Osnovna pedago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ka značajka djece s LMR je da se one uz sustavnu stručnu pomoć mogu odgajati, obrazovati, rehabilitirati i socijalizirati u integriranim</a:t>
            </a:r>
            <a:r>
              <a:rPr b="0" lang="hr-HR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poluintegriranim i posebnim uvjetima odgoja i obrazovanja, ovisno o dodatnim teškoćama u razvoju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Pridružene te</a:t>
            </a:r>
            <a:r>
              <a:rPr b="0" lang="hr-HR" sz="36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0" lang="hr-HR" sz="3600" spc="-1" strike="noStrike">
                <a:solidFill>
                  <a:srgbClr val="660066"/>
                </a:solidFill>
                <a:latin typeface="Tahoma"/>
              </a:rPr>
              <a:t>koć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Mogu se javiti i druge utjecajne te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koće kao 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su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epilepsija, tjelesna i senzorička o</a:t>
            </a:r>
            <a:r>
              <a:rPr b="0" lang="hr-HR" sz="2400" spc="-1" strike="noStrike">
                <a:solidFill>
                  <a:srgbClr val="cc00cc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cc00cc"/>
                </a:solidFill>
                <a:latin typeface="Tahoma"/>
              </a:rPr>
              <a:t>tećenja, poremećaji govora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i dru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Ne može se govoriti o jedinstvenoj slici pona</a:t>
            </a:r>
            <a:r>
              <a:rPr b="1" lang="hr-HR" sz="2400" spc="-1" strike="noStrike">
                <a:solidFill>
                  <a:srgbClr val="660066"/>
                </a:solidFill>
                <a:latin typeface="Arial"/>
              </a:rPr>
              <a:t>š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anja učenika sa sniženim intelektualnim sposobnosti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Postojeće razlike u pona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anju proizlaze iz vrste i težine o</a:t>
            </a:r>
            <a:r>
              <a:rPr b="0" lang="hr-HR" sz="2400" spc="-1" strike="noStrike">
                <a:solidFill>
                  <a:srgbClr val="000066"/>
                </a:solidFill>
                <a:latin typeface="Arial"/>
              </a:rPr>
              <a:t>š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ećenja, te socijalnih iskustava koja su za svako dijete specifič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Preporuke za rad s učenicima </a:t>
            </a:r>
            <a:br>
              <a:rPr sz="3200"/>
            </a:b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sa sniženim </a:t>
            </a:r>
            <a:br>
              <a:rPr sz="3200"/>
            </a:br>
            <a:r>
              <a:rPr b="1" lang="hr-HR" sz="3200" spc="-1" strike="noStrike" u="sng">
                <a:solidFill>
                  <a:srgbClr val="660066"/>
                </a:solidFill>
                <a:uFillTx/>
                <a:latin typeface="Tahoma"/>
              </a:rPr>
              <a:t>intelektualnim funkcioniranje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OPĆI ZAHTJEV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spostaviti pozitivan odnos, pohvaliti svaki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trud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koji učenik ulaže bez obzira na urada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mogućiti mjesto u razredu tako da je moguće primjereno uključivanje u rad, praćenje učenikove aktivnosti i samostalnog rada te kontrola uratka; ukloniti sve što 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mu može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met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ti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pažnj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ilagođavati sadržaje, metode, postupke, zahtjeve i sredstva 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 skladu s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čenik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ovim sposobnos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mogućiti dulje vrijeme za rad, postepeno ukidanje pomoć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više vježbe, češće provjere razumijevanja naučeno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ticati učenika i vršnjake na pozitivnu interakciju provođenjem zajedničkih aktivnosti u kojima je učenik uspješ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ZAHTJEVI U ODNOSU NA NASTAVNE SADRŽA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laniranje i programiranje temeljiti na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inicijalnoj procjen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primjereno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ciljano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osmi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š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ljeno perceptivno potkrijepljenje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(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neposredna stvarnost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slika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de-DE" sz="2000" spc="-1" strike="noStrike">
                <a:solidFill>
                  <a:srgbClr val="336699"/>
                </a:solidFill>
                <a:latin typeface="Tahoma"/>
              </a:rPr>
              <a:t>simbol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jednostavljivanje sadržaja rada, usvajanje manjeg broja činjenica uz povezivanje s 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iskustvima iz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svakodnevnog živo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ložene zadatke raščlaniti na ma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nj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e korake učen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teorijske sadržaje prilagoditi isticanjem/sažimanjem bitnog; semantičko pojednostavljiva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kod samostalnog učenja označiti bitno, sažeti tekst, izraditi </a:t>
            </a:r>
            <a:r>
              <a:rPr b="0" lang="hr-HR" sz="2000" spc="-1" strike="noStrike">
                <a:solidFill>
                  <a:srgbClr val="336699"/>
                </a:solidFill>
                <a:latin typeface="Arial"/>
              </a:rPr>
              <a:t>umnu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mapu, koristiti zornu podršk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NASTAVNE METODE I POSTUPK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metoda demonstracije pri objašnjavanju sadržaja, događaja, radnje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zlaganje uskladiti s jednostavnim pojmovnim fondom,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učenikovom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ncentracijom i pažnjom (kraće, jednostavne rečenice, slikovno predočavanje, provjera razumijevanj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pomoćna pitanja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, sugestibilna, zaokruživanje ponuđenih odgov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mjereno uključivanje učenika u čit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mjesto zapisivanja koristiti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pripremljene prilagođene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nastavne listić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ulji vremenski period kod diktiranja ili zamjenski cil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oziranje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količine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zadata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PROVJERAVANJE I OCJENJIVAN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oditi u skladu s Pravilnik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ozirati vrijeme ispitivanja (češće, kraće, manje cjelin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abrati učeniku lakši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, primjerenij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oblik provj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cjenjivati brojčano i opisno (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ocjene od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1-5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!!!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meljiti se na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ciljevima (obrazovnim postignućima)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stavljenim u IOOP-u (prilagođenom programu) za tog konkretnog učen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a ocjenjivati i uspoređivati u odnosu na inicijalno predznanje, a ne u odnosu na ostale učenike u razr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Orijentacijska lista Pravilnika o 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osnovnoškolskom odgoju i obrazovanju </a:t>
            </a: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učenika s teškoćama u razvoju</a:t>
            </a:r>
            <a:r>
              <a:rPr b="0" lang="hr-HR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(1991. godina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1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1. učenici s oštećenjem v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2. učenici s oštećenjem sluh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3. učenici s  poremećajima govorno-glasovn</a:t>
            </a:r>
            <a:r>
              <a:rPr b="0" lang="hr-HR" sz="2000" spc="-1" strike="noStrike">
                <a:solidFill>
                  <a:srgbClr val="336699"/>
                </a:solidFill>
                <a:latin typeface="Times New Roman"/>
              </a:rPr>
              <a:t>e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komunikaci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4. učenici s motoričkim poremećajima i kronični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  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boles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5. učenici sa sniženim intelektualnim sposobnost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6. učenici s poremećajima pažnje/hiperaktivnos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7. učenici sa specifičnim teškoćama učen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8. učenici s poremećajima u ponašanju i emocionaln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remećaji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9. učenici s poremećajima iz autističnog spekt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144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800" spc="-1" strike="noStrike">
                <a:solidFill>
                  <a:srgbClr val="660066"/>
                </a:solidFill>
                <a:latin typeface="Tahoma"/>
              </a:rPr>
              <a:t>PRILAGOĐAVANJE SREDSTAVA I ZAHTJEVA U NJIHOVOJ UPORAB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kad god je to moguće, koristiti izvornu stva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u radu koristiti jednostavan, konkretan materijal bez puno suvišnih deta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izrada individualiziranih (prilagođenih) nastavnih listić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oduljeno vrijeme za rješavanje zadataka, </a:t>
            </a: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za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čitanje i pismene radove, učenje, korištenje nastavnih materij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koristiti nastavna pomagala za podršku u radu (okviri za praćenje slijeda čitanja, naglašena crtovlja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6. UČENICI SA ADHD-om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Razvojni poremećaj s izraženim simptom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epažn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i/il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hiperaktivnosti-impulzivn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koji s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maladaptivni</a:t>
            </a: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 (klinički značajno oštećenje socijalnog, akademskog ili radnog funkcioniranja -DSM IV,1994), 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e odgovaraju razvojnom stupnju.</a:t>
            </a: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Osobine učenika s ADHD-om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ajviše teškoća u situacijama u kojima se traži trajnija pažnja ili mentalni napor (učenje u razred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Osjetljivi na promjene u okolini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Vidni, slušni ili drugi uznemiravajući podražaji izazivaju nemir i smetnje koncentracije (mnogo ljudi, žamor, lupanje stvarima, kretanje u prostoru, previše aplikacija po zidovima); nemir je jače izražen u skučenim prostor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4140360" y="6308640"/>
            <a:ext cx="610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7941-746A-4329-803F-504DF700DC06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22"/>
          <p:cNvPicPr/>
          <p:nvPr/>
        </p:nvPicPr>
        <p:blipFill>
          <a:blip r:embed="rId1"/>
          <a:stretch/>
        </p:blipFill>
        <p:spPr>
          <a:xfrm>
            <a:off x="0" y="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35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0720" y="1496520"/>
            <a:ext cx="777240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336699"/>
                </a:solidFill>
                <a:latin typeface="Tahoma"/>
              </a:rPr>
              <a:t>Uzrok je:</a:t>
            </a:r>
            <a:r>
              <a:rPr b="1" lang="hr-HR" sz="4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biološka različitost u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                       </a:t>
            </a:r>
            <a:r>
              <a:rPr b="1" lang="hr-HR" sz="3200" spc="-1" strike="noStrike">
                <a:solidFill>
                  <a:srgbClr val="660066"/>
                </a:solidFill>
                <a:latin typeface="Tahoma"/>
              </a:rPr>
              <a:t>funkcioniranju SŽS-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koja može nastati pod utjecaj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aslijeđa i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različitih nepovoljnih čimbenika koji mogu djelovati tijekom trudnoće, poroda ili nakon rođenja djete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067280" y="6388200"/>
            <a:ext cx="539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928F-B49D-4222-AD2F-AD9C4B6373D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00000" y="1614600"/>
            <a:ext cx="6248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Obuhvaćena su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podru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ja mozga odgovorna z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odr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ž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avanje p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ž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j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kontrolu motor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ke aktivnosti 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impulzivno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" descr="BE8_CD247041"/>
          <p:cNvPicPr/>
          <p:nvPr/>
        </p:nvPicPr>
        <p:blipFill>
          <a:blip r:embed="rId1"/>
          <a:stretch/>
        </p:blipFill>
        <p:spPr>
          <a:xfrm>
            <a:off x="6095880" y="5029200"/>
            <a:ext cx="25146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546-5D21-409E-9A29-02B39687E3B4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640" y="9075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Uzro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  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Još uvijek nije u potpunosti otkriven uzrok poreme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aja, ali zna se d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  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	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  <a:ea typeface="Times New Roman"/>
              </a:rPr>
              <a:t>NIJ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  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edostatak roditeljske brige, pretjerano gledanje televizije, neadekvatna prehrana iako ti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itelji mogu utjecati na j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u simpto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Intervencije učitelja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Maksimalno upoznati osobnost i mogućnosti uče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ružiti učeniku strogo strukturirane i motivirajuće sadrž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poznati suučenike o posebnim potrebama učenika s ADHD-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spostaviti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jasna pravila i biti doslje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esto i bez odgode pohvaljivati uče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99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ADHD – postupci podrške</a:t>
            </a:r>
            <a:br>
              <a:rPr sz="3700"/>
            </a:b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Jasne granice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ostavite jasna pravila u razred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čenik  s ADHD poremećajem TREBA strukturiranu situaciju i jasne granice, jer ih samo ne može postaviti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Impulzivnost- unutarnji go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4A1D-33D4-43C9-96F7-F3B8C2976613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Posljedice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otežano samousmjera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edostatan razvoj unutarnjeg go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- impulzi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oslabljena  radna memor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edostatna  samokontro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oremećaj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izvođenj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, a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e zn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oremećaj spoznaje i perspektive vremena-utjecaj trenutnih događ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edostatna  analiza i sinteza ponaš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CB21-3FF0-4CE4-BF62-C0C1066BCD5F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Poremećaj pažnje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523520"/>
            <a:ext cx="7772400" cy="46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emogućnost uskog usmjeravanja pažnje na detalje: greške zbog nep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Teškoće u održavanju pažnje u dugotrajnim zadacima ili u aktivnost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Teškoće koncentracije: nedovoljna ustraj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Sporo vraćanje na zadatak nakon prek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Često se čini da ne slušaju što im se kaž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Često ne prate upute ili ne završe školski zadat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1. UČENICI S OŠTEĆENJEM VI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1. Sljepoć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tatak vida na boljem oku s korekcijskim staklom do 5% uz suženje vidnog polja na 20 stupnjeva ili ispod 20 stupnjeva, potreba edukacije na Brailleovom pism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ncentrično suženje vidnog polja oka s vidn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ljem širine 5-10 stupnje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bez obzira na oštrinu vida nesposobnost čitanja slova ili znakova veličine Jaeger 8 na blizinu (font Times New Roman 22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36699"/>
                </a:solidFill>
                <a:latin typeface="Tahoma"/>
              </a:rPr>
              <a:t>2. Slabovidno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štrina vida na boljem oku s korekcijskim staklom 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40 % i manje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196-718B-438C-876C-11E33420B2F1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98064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27080" indent="0">
              <a:spcBef>
                <a:spcPts val="9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hr-HR" sz="36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hr-HR" sz="3700" spc="-1" strike="noStrike">
                <a:solidFill>
                  <a:srgbClr val="660066"/>
                </a:solidFill>
                <a:latin typeface="Tahoma"/>
              </a:rPr>
              <a:t>Poremećaj pažnje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1027080" indent="-455400">
              <a:lnSpc>
                <a:spcPct val="115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Često izbjegavaju i ne vole zadatke koji zahtijevaju održavanje trajnijeg mentalnog nap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7080" indent="-455400">
              <a:lnSpc>
                <a:spcPct val="115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Često gube ili zaboravljaju stvari koje su im neophodne za izvođenje zadataka ili aktivnosti, kao što su olovke, knjige, igračke ili pri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027080" indent="-455400">
              <a:lnSpc>
                <a:spcPct val="115000"/>
              </a:lnSpc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Lako ih je omesti vanjskim podražaj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414-DEDE-4136-ADD9-72ECA647647A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Hiperaktivnost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4582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Često se vrpolje i meškolje na sjediš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Napuštaju mjesto u razredu ili u drugim situacijama u kojima se očekuje da su na mjes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okazuju stalni uzorak prekomjerne motoričke aktiv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E43-0510-451D-87E5-E56DB753BF58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Teškoće vezane uz ADHD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Slab školski uspjeh –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teškoće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u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čenju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Oko 40 do 60 % djece sa ADHD-om ima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teškoće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sa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čenjem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u šk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Školski uspjeh je slabiji od intelektualnog potencij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09E4-788F-4E4E-9AFA-B8D0D54B619A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Dijagnostički kriteriji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DSM-IV - američki dijagnostičko statistički priručnik mentalnih poremećaja  (IVizdanj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99"/>
              </a:spcBef>
              <a:buClr>
                <a:srgbClr val="7a2a4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7a2a4e"/>
                </a:solidFill>
                <a:latin typeface="Tahoma"/>
              </a:rPr>
              <a:t>ADHD-kombinirani tip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(nepažnja, hiperaktivnost/impulzivno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7a2a4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7a2a4e"/>
                </a:solidFill>
                <a:latin typeface="Tahoma"/>
              </a:rPr>
              <a:t>ADHD tip predominantne nepaž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Clr>
                <a:srgbClr val="7a2a4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7a2a4e"/>
                </a:solidFill>
                <a:latin typeface="Tahoma"/>
              </a:rPr>
              <a:t>ADHD tip predominant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7a2a4e"/>
                </a:solidFill>
                <a:latin typeface="Tahoma"/>
              </a:rPr>
              <a:t>	</a:t>
            </a:r>
            <a:r>
              <a:rPr b="1" lang="hr-HR" sz="2800" spc="-1" strike="noStrike">
                <a:solidFill>
                  <a:srgbClr val="7a2a4e"/>
                </a:solidFill>
                <a:latin typeface="Tahoma"/>
              </a:rPr>
              <a:t>hiperaktivnosti/impulziv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285-915B-4B5C-8393-F17DF43318F1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Prilagodb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e 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u nastavi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just">
              <a:lnSpc>
                <a:spcPct val="11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učenicima s deficitom p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ž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je /hiperaktivnim poremećajem nije potrebno sadr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ž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ajno prilagođavati nastavu ako nemaju neke od dodatnih teškoć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 algn="just">
              <a:lnSpc>
                <a:spcPct val="115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prilagodbe se odnose na individualizaciju pristupa u npr. prezentaciji nastavnih sadržaja, načinima provjere znanja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785C-B521-4675-B9BF-D34C341A354B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LOŠ RUKOPIS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Ocjenjivati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sadržaj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, ne rukop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Omogućit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 druge načine provjere znanja (usmeno, tipkani izvještaji, audio i video prezentacije i sl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označiti linijama mjesta za odgovor; ostaviti dovoljno mjesta za odgo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4211640" y="213372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6" descr="676205_36513730"/>
          <p:cNvPicPr/>
          <p:nvPr/>
        </p:nvPicPr>
        <p:blipFill>
          <a:blip r:embed="rId1"/>
          <a:stretch/>
        </p:blipFill>
        <p:spPr>
          <a:xfrm>
            <a:off x="6553080" y="901800"/>
            <a:ext cx="228600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23F9-06B6-43C9-AA41-CBAD18162897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SLAB SAMONADZOR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npr. banalne greške u matematici, te kod izgovora i pis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poticati prekidanje rada i provjeru urat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116000" y="213192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4356000" y="3213000"/>
            <a:ext cx="358920" cy="505080"/>
          </a:xfrm>
          <a:prstGeom prst="downArrow">
            <a:avLst>
              <a:gd name="adj1" fmla="val 50000"/>
              <a:gd name="adj2" fmla="val 3518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01C-CE70-4F6E-8D76-15A95267AB69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POTEŠKOĆE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   KOD                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PRIHVAĆANJA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  <a:ea typeface="Times New Roman"/>
              </a:rPr>
              <a:t>  UPUTA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210168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rivuć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pažnju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prije davanja uputa: koristiti upozoravajuće geste, npr. lagano tapšanje po ramenu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115000"/>
              </a:lnSpc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zadavati upute jednu po jed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115000"/>
              </a:lnSpc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tiho ponoviti upute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učeniku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; 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tražiti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  <a:ea typeface="Times New Roman"/>
              </a:rPr>
              <a:t> da ponovi upute radi potvrde razumijev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CECC-D9D1-4462-8E1E-85D80D953554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hr-HR" sz="48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 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NEUSPJEH KOD PISMENE PROVJERE ZNANJA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dozvoliti druge načine rješavanja zadataka (sa smanjenim potrebama za pisanj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usmeno izlaganje umjesto pismene provj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omogućiti dodatno vrij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koristiti jasne, kraće, učeniku razumljive i pregledne test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85EE-8CE3-436D-B771-40A7734EA8B5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5ffff"/>
                </a:solidFill>
                <a:latin typeface="Tahoma"/>
                <a:ea typeface="Times New Roman"/>
              </a:rPr>
              <a:t>           </a:t>
            </a: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POTEŠKOĆE KOD IZVRŠAVANJA  ZADATAKA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nabrojati i napisati sve korake potrebne za izvršenje zadata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skratiti zadatak u nekoliko izvedivih dijelova, u očekivanim vremenskim okviri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često provjeravati napred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omogućiti učeniku pomoć drugih učenika, pomoćnika u nastavi- mora znati kome se može obrati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uženje vidnog pol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Rijeka20"/>
          <p:cNvPicPr/>
          <p:nvPr/>
        </p:nvPicPr>
        <p:blipFill>
          <a:blip r:embed="rId1"/>
          <a:stretch/>
        </p:blipFill>
        <p:spPr>
          <a:xfrm>
            <a:off x="0" y="0"/>
            <a:ext cx="4643280" cy="348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uženje Rijeka20"/>
          <p:cNvPicPr/>
          <p:nvPr/>
        </p:nvPicPr>
        <p:blipFill>
          <a:blip r:embed="rId2"/>
          <a:stretch/>
        </p:blipFill>
        <p:spPr>
          <a:xfrm>
            <a:off x="4643280" y="3479760"/>
            <a:ext cx="4500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4A42-A9D4-4D55-ACA3-21C8E2B5306B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NESNALAŽENJE U PISANOM MATERIJALU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Ovi učenici imaju teškoće izvlačenja zaključaka iz teksta, nemogućnost razlučivanja bitnog od nebitnog zato im treb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pripremiti pisani materijal s podcrtanim bitnim dijelo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predočiti uz tekst bitne činjenice na koje treba obratiti pažnju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8280360" y="6388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E663-52CC-4576-B8D0-3E10D454A126}" type="slidenum">
              <a:rPr b="0" lang="en-GB" sz="1200" spc="-1" strike="noStrike">
                <a:solidFill>
                  <a:srgbClr val="e5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9680" y="61236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660066"/>
                </a:solidFill>
                <a:latin typeface="Tahoma"/>
              </a:rPr>
              <a:t>PRIHVAĆANJE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4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učeniku sa ADHD poremećajem treba omogućiti prilike za pomaganje drugima kako bi doživio da i on može biti koristan, te  da vršnjaci vide i njegove jake strane i pozitivne osob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6699"/>
                </a:solidFill>
                <a:latin typeface="Tahoma"/>
              </a:rPr>
              <a:t>Radite na sebi i prihvatite učenika s ADHD-om takvog kakav on/ona jest i pomozite mu u prilagodbi jer na taj način ćete mu pomoći da ga prihvate i vršnjaci u razredu (ovo naravno vrijedi za sve učenike s teškoć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6922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-8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7. UČENICI SA SPECIFIČNIM TEŠKOĆ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UČ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ormalna ili natprosječna inteligen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usklađenost sposobnosti i postignuć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zaostajanje u postignuću u specifičnim područ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metnje pažnje, pamćenja, koncentr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erceptivne teškoć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prostornoj orijentaci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ecifične smetnje gov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erazvijene vještine u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6922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2000"/>
          </a:bodyPr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teškoćama u govoru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isfazi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receptivna- ne razumije što mu se govor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ekspresivna –razumije, ali ima poteškoće u govor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remećajem čitan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leks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ci s poremećajem pisanja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graf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remećaj matematičkih sposobnosti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iskalkul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ama u kratkotrajnom pamćen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●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ama percepcije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560" y="380880"/>
            <a:ext cx="8435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DISLEKSIJA-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oteškoće u usvajanju čit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KAZATELJI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eškoće u povezivanja grafema s fonemom (slovo - gla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eškoće u povezivanju glasova i slogova u riječ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remještanje ili umetanje slogova (vrata-trava, novi-vino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grafički sličnih slova (b-d, b-p, m-n, dobar-bodar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fonetski sličnih slova (d-t, g-k, b-p, z-s, brati-pra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amjene slogova (on-no, ej-je) i riječi (mračni-mačk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dodavanje slova i slogova (brada-barada, mrkva-markva, brod-borod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eškoće u slijedu pravca čit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vraća se na već pročitani 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izostavlja riječi ili cijele red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380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vaj tekst napisala je djevojčica (3.razred) koja ima disleksiju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Animacija je rađena po njezinim uputama. Kada čita, ona otprilik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vako vidi tekst.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vrcenje"/>
          <p:cNvPicPr/>
          <p:nvPr/>
        </p:nvPicPr>
        <p:blipFill>
          <a:blip r:embed="rId1"/>
          <a:stretch/>
        </p:blipFill>
        <p:spPr>
          <a:xfrm>
            <a:off x="0" y="2592360"/>
            <a:ext cx="896472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3808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DISGRAFIJA</a:t>
            </a:r>
            <a:r>
              <a:rPr b="0" i="1" lang="hr-HR" sz="2400" spc="-1" strike="noStrike">
                <a:solidFill>
                  <a:srgbClr val="660066"/>
                </a:solidFill>
                <a:latin typeface="Tahoma"/>
              </a:rPr>
              <a:t> -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 teškoće u ovladavanju vještinama pis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KAZATELJI: - nepravilno držanje olovk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sporo i neuredno pisanj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je izvan crtovl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zrcalno pisanj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nepoznavanje grafem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a slova su odvojen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isanje više riječi zajedn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premještanje, umetanje, izostavlj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lova i slogo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          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trajanje i nakon kraja 2. razre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13-kruh"/>
          <p:cNvPicPr/>
          <p:nvPr/>
        </p:nvPicPr>
        <p:blipFill>
          <a:blip r:embed="rId1"/>
          <a:stretch/>
        </p:blipFill>
        <p:spPr>
          <a:xfrm>
            <a:off x="457200" y="620640"/>
            <a:ext cx="3970440" cy="3022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19-kaktus"/>
          <p:cNvPicPr/>
          <p:nvPr/>
        </p:nvPicPr>
        <p:blipFill>
          <a:blip r:embed="rId2"/>
          <a:stretch/>
        </p:blipFill>
        <p:spPr>
          <a:xfrm>
            <a:off x="4572000" y="3753000"/>
            <a:ext cx="4392720" cy="28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4080" y="1142640"/>
            <a:ext cx="7999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95280" y="549360"/>
            <a:ext cx="84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0"/>
            <a:ext cx="9144000" cy="6531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a specifičnim teškoćama uče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uže vremensko razdoblje za usvajanje nekih tem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različite vrste podražaja – vidne, slušne, dodirne ko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brade novih sadrža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dati prednost češćim usmenim oblicima u poučavanju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ovjeravanju znan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istematski provjeravati da li je učenik razumio sadržaj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jmove i definicije te dati dodatna objašnjen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zbjegavati učenikovo čitanje na glas ili pisanje na ploči pr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azredom (osim ako učenik na izrazi tu želju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prerađene, sažete, jednostavnije tekstove (i kod čitanj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lektire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 udžbeniku jasno označiti mjesta koja su bitna – rečenic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avilo, primjer, slika, postupak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4080" y="1142640"/>
            <a:ext cx="79995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0"/>
            <a:ext cx="9144000" cy="82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mnogo konkretnih primjera, slika, povezanih 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znatim sadržaji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zadavati manji broj zadataka, a zadatke rasporediti po težin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(lakši, teži, lakš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dijeliti zadaću na više faz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ismeno rješavanje zadataka ne ograničiti vremenski, a grešk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tipa disleksije ne ocjenjivati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greške u pisanju ne ispravljati nego ih samo naznačiti (podvuć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iječ ) kako bi učenik sam naučio i ispravio greške uz pomoć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džbenika ili rječnik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d učenja koristiti slikovne podsjetnike odnosno pomoć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eniku da nauči tehniku vizualizacije i bržeg zapamćivanja te 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či uz pomoć kognitivnih mapa koje samostalno izrađuje p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dručjima koje uč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hrabrivati učenika za spontano izražavanje i poticati ga n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amostalnost u rad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U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čenici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s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oštećenje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m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 vida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nužno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ne zaostaju u intelektualnom razvoju za vršnjacima koji vide 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te </a:t>
            </a:r>
            <a:r>
              <a:rPr b="0" lang="vi-VN" sz="3600" spc="-1" strike="noStrike">
                <a:solidFill>
                  <a:srgbClr val="336699"/>
                </a:solidFill>
                <a:latin typeface="Tahoma"/>
              </a:rPr>
              <a:t>svladavaju redoviti nastavni plan i program predviđen za pojedini razred</a:t>
            </a:r>
            <a:r>
              <a:rPr b="0" lang="hr-HR" sz="3600" spc="-1" strike="noStrike">
                <a:solidFill>
                  <a:srgbClr val="336699"/>
                </a:solidFill>
                <a:latin typeface="Tahoma"/>
              </a:rPr>
              <a:t> uz primjenu individualiziranih postupaka i prilagodbu metoda, sredstava i načina rada</a:t>
            </a:r>
            <a:r>
              <a:rPr b="0" lang="hr-HR" sz="3200" spc="-1" strike="noStrike">
                <a:solidFill>
                  <a:srgbClr val="336699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304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8. UČENICI S POREMEĆAJIMA U PONAŠANJ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I EMOCIONALNIM POREMEĆA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oremećaji u ponašanju, često zvani nepoželjna ponašanja, su ponašanja koja interferiraju sa svakodnevnim aktivnostim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O smetnjama ponašanja treba govoriti kad se radi o ponašanju koje ugrožava zdravlje i društvene potrebe same osobe, a koje je prouzročeno poremećajem struktura ličnosti, određenim smetnjama funkcije mozga, krivo naučenim interakcijskim oblicima ili kombinacijom tih faktor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0066"/>
                </a:solidFill>
                <a:latin typeface="Tahoma"/>
              </a:rPr>
              <a:t>KLASIFIKAC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1.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aktivna ponašanja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-</a:t>
            </a:r>
            <a:r>
              <a:rPr b="1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nedovoljno kontrolirana</a:t>
            </a:r>
            <a:r>
              <a:rPr b="1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i</a:t>
            </a:r>
            <a:r>
              <a:rPr b="1" lang="hr-HR" sz="20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usmjerena prema drugima (agresivnost, drskost, suprotstavljanje, neposlušnost, zadirkivanje, izazivanje, destruktivnost, delikvencija…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hr-HR" sz="2000" spc="-1" strike="noStrike" u="sng">
                <a:solidFill>
                  <a:srgbClr val="336699"/>
                </a:solidFill>
                <a:uFillTx/>
                <a:latin typeface="Tahoma"/>
              </a:rPr>
              <a:t>pasivni ponašanja- </a:t>
            </a: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pretjerano se kontroliraju i usmjerena su prema sebi, (npr. anksioznost, povučenost, stidljivost, plašljivost, tuga,  depresivnost, somatske teškoće…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336699"/>
                </a:solidFill>
                <a:latin typeface="Tahoma"/>
              </a:rPr>
              <a:t>STRUČNA POMOĆ- socijalni pedagog, psiholog, psihija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660066"/>
                </a:solidFill>
                <a:latin typeface="Tahoma"/>
              </a:rPr>
              <a:t>9. UČENICI S POREMEĆAJIMA  IZ AUTISTIČNOG SPEKTRA</a:t>
            </a:r>
            <a:r>
              <a:rPr b="0" lang="hr-HR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utizam se ubraja u skupinu pervarzivnih razvojnih poremeća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bilježja pervazivnih razvojnih poremeća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valitativno oštećenje socijalnih interakcij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kvalitativno oštećenje komunika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- ograničeni, ponavljajući stereotipni obrasci ponaš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nteresa i aktivnosti.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iz autističnog spektr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90360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OPĆI ZAHTJEV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Pretpostavke za ra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remnost škole, učitelja (prihvaćanje i razumijevan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premnost za suradnju s edukacijsko-rehabilitacijskim stručnjakom za potporu i roditelj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ntinuirana dostupnost stručne podrš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OOP, manji broj učenika u razredu, bez drugih učenika s teškoć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omoćnik u nast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dabrati primjereno mjesto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u razredu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 obzirom na senzoričku preosjetljiv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igurati mogućnost osamljivanja i odm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u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ljuč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iti u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specifične oblike podrške (logoterapija, kineziterapija, senzorička integracija, terapija igrom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NASTAVNE SADRŽA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individualno planiranje i poučavanje usmjereno na funkcionalna i praktična znanja i vještine s ciljem podizanja razine socijalne kompetencije i prihvatljivih oblika ponaš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akademska znanja – kao i kod učenika s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azvijati komunikacijske i socijalizacijske sposob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64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METODE I POSTUPK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ao i kod učenika s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voditi računa o stupnju emocionalnog razvo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naučeno vježbati u različitim situacijama s različitim osob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avilno i individualno rasporediti period rada i odm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slikovnu podršku za bolje razumijevanje situacija, konteksta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trukturirani r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0066"/>
                </a:solidFill>
                <a:latin typeface="Tahoma"/>
              </a:rPr>
              <a:t>ZAHTJEVI U ODNOSU NA PROVJERAVANJE I OCJENJIVAN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ao i kod učenika s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0066"/>
                </a:solidFill>
                <a:latin typeface="Tahoma"/>
              </a:rPr>
              <a:t>“ </a:t>
            </a: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AKO DIJETE NE MOŽE UČITI NA NAČIN NA KOJI GA POUČAVAM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hr-HR" sz="2800" spc="-1" strike="noStrike">
                <a:solidFill>
                  <a:srgbClr val="660066"/>
                </a:solidFill>
                <a:latin typeface="Tahoma"/>
              </a:rPr>
              <a:t>ONDA TREBAMO POUČAVATI NA NAČIN NA KOJI ONO MOŽE UČITI. 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5" descr="bimbi"/>
          <p:cNvPicPr/>
          <p:nvPr/>
        </p:nvPicPr>
        <p:blipFill>
          <a:blip r:embed="rId1"/>
          <a:srcRect l="0" t="0" r="33892" b="0"/>
          <a:stretch/>
        </p:blipFill>
        <p:spPr>
          <a:xfrm>
            <a:off x="684360" y="3124080"/>
            <a:ext cx="7416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152280"/>
            <a:ext cx="9144000" cy="64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00cc"/>
                </a:solidFill>
                <a:latin typeface="Arial"/>
                <a:ea typeface="Arial"/>
              </a:rPr>
              <a:t>Literatu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Dijagnostički i statistički priručnik za duševne poremećaje: DSM-IV: međunarodna verzija s MKB-10 šiframa, Naklada Slap, Jastrebarsko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Došen, A. i Igriċ, Lj. (ur.) (2002): Unapređivanje skrbi za osobe s mentalnom retardacijom, Sinopsis predavanja i vježbi, Edukacijsko-rehabilitacijski fakultet Sveučilišta u Zagrebu, Zagreb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H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rvatić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, J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.,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J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oković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 O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reb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, I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. i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P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injatela,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R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.: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Ošte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ć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enja središnjeg živ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č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og sustava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.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Hrvatska revija za rehabilitacijska istraživanja</a:t>
            </a: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009, Vol 45, br.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Kocijan–Hercigonja, D. i sur.: Mentalna retardacija: biologijske osnove, klasifikacija i mentalno-zdravstveni problemi, Naklada Slap, Jastrebarsko, 20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336699"/>
                </a:solidFill>
                <a:latin typeface="Tahoma"/>
              </a:rPr>
              <a:t>M. KOVAČIĆ. Edukacijski problemi djeteta s cerebralnom paralizom. Cerebralna paraliza: multidisciplinarni pristup. Savez za cerebralnu i dječju paralizu Hrvatske, Zagreb, 199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Sekušak-Galešev, S. (2002): Bio-psiho-socijalne karakteristike adolescenata s mentalnom retardacijom u: Mentalna retardacija, Udruga za promicanje inkluzije, Zagre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Sekušak-Galešev, S. (2005): Hiperaktivnost u Dijete i društvo, Ministarstvo obitelji, branitelja i međugeneracijske solidarnosti, Zagreb;7(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6699"/>
                </a:solidFill>
                <a:latin typeface="Tahoma"/>
              </a:rPr>
              <a:t>Teodorović, B. i Levandovski, D (1986) : Odnos roditelja prema djetetu s mentalnom retardacijom, Fakultet za defektologiju Sveučilišta u Zagreb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7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277560"/>
            <a:ext cx="8435880" cy="63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Brailleovo  pis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braillovo-pismo-abeceda"/>
          <p:cNvPicPr/>
          <p:nvPr/>
        </p:nvPicPr>
        <p:blipFill>
          <a:blip r:embed="rId1"/>
          <a:stretch/>
        </p:blipFill>
        <p:spPr>
          <a:xfrm>
            <a:off x="0" y="1066680"/>
            <a:ext cx="3960720" cy="387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b_pisa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95640" y="3154320"/>
            <a:ext cx="6048360" cy="370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raille-orig"/>
          <p:cNvPicPr/>
          <p:nvPr/>
        </p:nvPicPr>
        <p:blipFill>
          <a:blip r:embed="rId4"/>
          <a:stretch/>
        </p:blipFill>
        <p:spPr>
          <a:xfrm>
            <a:off x="4211640" y="0"/>
            <a:ext cx="4932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hr-HR" sz="2400" spc="-1" strike="noStrike" u="sng">
                <a:solidFill>
                  <a:srgbClr val="336699"/>
                </a:solidFill>
                <a:uFillTx/>
                <a:latin typeface="Tahoma"/>
              </a:rPr>
              <a:t>Preporuke za rad s učenicima s oštećenjem v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mjereno mjesto za sjedenje uz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optimalnu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rasvje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sigurati više vremena za aktivnosti na sa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džbenici i pisani didaktički materijal na “brajici” 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uvećanom crnom tisk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pripremiti tiskane tekstove (plan ploč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koristiti bilježnice s jače otisnutim crtovljem i većim proredom na 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svijetloj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podloz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meke olovke koje ostavljaju deblji trag ili flomaste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omogućiti uporabu diktafona na satu i korištenje poveć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336699"/>
                </a:solidFill>
                <a:latin typeface="Franklin Gothic Heavy"/>
              </a:rPr>
              <a:t>●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slijepi učenici: “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B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ajev” pisaći stroj, prilagođeno prijenosno računalo,</a:t>
            </a:r>
            <a:r>
              <a:rPr b="0" lang="hr-HR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336699"/>
                </a:solidFill>
                <a:latin typeface="Tahoma"/>
              </a:rPr>
              <a:t>reljefne sheme i zemljovi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3:18:29Z</dcterms:created>
  <dc:creator>Gordana</dc:creator>
  <dc:description/>
  <dc:language>en-US</dc:language>
  <cp:lastModifiedBy>Doma</cp:lastModifiedBy>
  <dcterms:modified xsi:type="dcterms:W3CDTF">2012-01-07T12:56:49Z</dcterms:modified>
  <cp:revision>160</cp:revision>
  <dc:subject/>
  <dc:title>ucenici TUR</dc:title>
</cp:coreProperties>
</file>