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EC7D-62D7-4AB7-BFEA-6186BA77E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5D89-31E2-4754-8532-AB1950D0C82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1313-1AA2-4DF6-8D48-EDF5F0CB143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932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800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252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6572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932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252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6572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7960" y="219240"/>
            <a:ext cx="872496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19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6800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1932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6800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9252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6572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1932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9252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6572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37960" y="219240"/>
            <a:ext cx="872496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9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800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7960" y="195120"/>
            <a:ext cx="8724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7960" y="219240"/>
            <a:ext cx="87249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7960" y="219240"/>
            <a:ext cx="87249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ctangle 4"/>
          <p:cNvGrpSpPr/>
          <p:nvPr/>
        </p:nvGrpSpPr>
        <p:grpSpPr>
          <a:xfrm>
            <a:off x="-244440" y="487440"/>
            <a:ext cx="9528120" cy="2395440"/>
            <a:chOff x="-244440" y="487440"/>
            <a:chExt cx="9528120" cy="2395440"/>
          </a:xfrm>
        </p:grpSpPr>
        <p:pic>
          <p:nvPicPr>
            <p:cNvPr id="84" name="Rectangle 4" descr=""/>
            <p:cNvPicPr/>
            <p:nvPr/>
          </p:nvPicPr>
          <p:blipFill>
            <a:blip r:embed="rId2"/>
            <a:stretch/>
          </p:blipFill>
          <p:spPr>
            <a:xfrm>
              <a:off x="-244440" y="487440"/>
              <a:ext cx="952812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50920" y="565200"/>
              <a:ext cx="87138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000" spc="-1" strike="noStrike">
                  <a:solidFill>
                    <a:srgbClr val="ffffff"/>
                  </a:solidFill>
                  <a:latin typeface="Segoe Print"/>
                </a:rPr>
                <a:t>Program polaganja stručnog ispita za pripravnike u srednjem školstvu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" name="Rectangle 5"/>
          <p:cNvGrpSpPr/>
          <p:nvPr/>
        </p:nvGrpSpPr>
        <p:grpSpPr>
          <a:xfrm>
            <a:off x="-139680" y="5565600"/>
            <a:ext cx="8167680" cy="1060560"/>
            <a:chOff x="-139680" y="5565600"/>
            <a:chExt cx="8167680" cy="1060560"/>
          </a:xfrm>
        </p:grpSpPr>
        <p:pic>
          <p:nvPicPr>
            <p:cNvPr id="87" name="Rectangle 5" descr=""/>
            <p:cNvPicPr/>
            <p:nvPr/>
          </p:nvPicPr>
          <p:blipFill>
            <a:blip r:embed="rId3"/>
            <a:stretch/>
          </p:blipFill>
          <p:spPr>
            <a:xfrm>
              <a:off x="-139680" y="5565600"/>
              <a:ext cx="81676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95280" y="5661000"/>
              <a:ext cx="76201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400" spc="-1" strike="noStrike">
                  <a:solidFill>
                    <a:srgbClr val="ffffff"/>
                  </a:solidFill>
                  <a:latin typeface="Segoe Print"/>
                </a:rPr>
                <a:t>Stipe Tomić, prof.</a:t>
              </a:r>
              <a:endParaRPr b="0" lang="en-US" sz="34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5"/>
          <p:cNvGrpSpPr/>
          <p:nvPr/>
        </p:nvGrpSpPr>
        <p:grpSpPr>
          <a:xfrm>
            <a:off x="658800" y="652320"/>
            <a:ext cx="7589880" cy="5894640"/>
            <a:chOff x="658800" y="652320"/>
            <a:chExt cx="7589880" cy="5894640"/>
          </a:xfrm>
        </p:grpSpPr>
        <p:pic>
          <p:nvPicPr>
            <p:cNvPr id="90" name="Rectangle 5" descr=""/>
            <p:cNvPicPr/>
            <p:nvPr/>
          </p:nvPicPr>
          <p:blipFill>
            <a:blip r:embed="rId2"/>
            <a:stretch/>
          </p:blipFill>
          <p:spPr>
            <a:xfrm>
              <a:off x="658800" y="652320"/>
              <a:ext cx="7589880" cy="58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55640" y="692280"/>
              <a:ext cx="739764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Biranje zastupnika u Sabor Republike Hrvatsk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redsjednik Republike Hrvatsk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Vlada Republike Hrvatsk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Nadležnosti Sabora Republike Hrvatsk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Tijela lokalne uprave i samouprav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Djelokrug rada stručnih organa škol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Dokumentacija trajne vrijednosti u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Dodatni rad i dopunska nastava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Učenik, darovit učenik, učenik s teškoćama u razvoju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Županijski ured za školstvo – ustrojstvo i zadać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Izostanci učenika iz škol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Izvannastavne i izvanškolske aktivnosti učenika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" name="Rectangle 6"/>
          <p:cNvGrpSpPr/>
          <p:nvPr/>
        </p:nvGrpSpPr>
        <p:grpSpPr>
          <a:xfrm>
            <a:off x="-347760" y="109440"/>
            <a:ext cx="9320400" cy="1139760"/>
            <a:chOff x="-347760" y="109440"/>
            <a:chExt cx="9320400" cy="1139760"/>
          </a:xfrm>
        </p:grpSpPr>
        <p:pic>
          <p:nvPicPr>
            <p:cNvPr id="93" name="Rectangle 6" descr=""/>
            <p:cNvPicPr/>
            <p:nvPr/>
          </p:nvPicPr>
          <p:blipFill>
            <a:blip r:embed="rId3"/>
            <a:stretch/>
          </p:blipFill>
          <p:spPr>
            <a:xfrm>
              <a:off x="-347760" y="109440"/>
              <a:ext cx="93204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37960" y="219240"/>
              <a:ext cx="87249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000" spc="-1" strike="noStrike">
                  <a:solidFill>
                    <a:srgbClr val="ffffff"/>
                  </a:solidFill>
                  <a:latin typeface="Segoe Print"/>
                </a:rPr>
                <a:t>Opći dio programa I.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Title 1"/>
          <p:cNvGrpSpPr/>
          <p:nvPr/>
        </p:nvGrpSpPr>
        <p:grpSpPr>
          <a:xfrm>
            <a:off x="-347760" y="109440"/>
            <a:ext cx="9320400" cy="1139760"/>
            <a:chOff x="-347760" y="109440"/>
            <a:chExt cx="9320400" cy="1139760"/>
          </a:xfrm>
        </p:grpSpPr>
        <p:pic>
          <p:nvPicPr>
            <p:cNvPr id="96" name="Title 1" descr=""/>
            <p:cNvPicPr/>
            <p:nvPr/>
          </p:nvPicPr>
          <p:blipFill>
            <a:blip r:embed="rId2"/>
            <a:stretch/>
          </p:blipFill>
          <p:spPr>
            <a:xfrm>
              <a:off x="-347760" y="109440"/>
              <a:ext cx="93204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37960" y="219240"/>
              <a:ext cx="87249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000" spc="-1" strike="noStrike">
                  <a:solidFill>
                    <a:srgbClr val="ffffff"/>
                  </a:solidFill>
                  <a:latin typeface="Segoe Print"/>
                </a:rPr>
                <a:t>Opći dio programa II.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8" name="Content Placeholder 2"/>
          <p:cNvGrpSpPr/>
          <p:nvPr/>
        </p:nvGrpSpPr>
        <p:grpSpPr>
          <a:xfrm>
            <a:off x="658800" y="1127160"/>
            <a:ext cx="7674120" cy="5877000"/>
            <a:chOff x="658800" y="1127160"/>
            <a:chExt cx="7674120" cy="5877000"/>
          </a:xfrm>
        </p:grpSpPr>
        <p:pic>
          <p:nvPicPr>
            <p:cNvPr id="99" name="Content Placeholder 2" descr=""/>
            <p:cNvPicPr/>
            <p:nvPr/>
          </p:nvPicPr>
          <p:blipFill>
            <a:blip r:embed="rId3"/>
            <a:stretch/>
          </p:blipFill>
          <p:spPr>
            <a:xfrm>
              <a:off x="658800" y="1127160"/>
              <a:ext cx="7674120" cy="58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55640" y="1195560"/>
              <a:ext cx="739764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Kako je organiziran odgojno-obrazovni sustav u RH?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Kalendar rada srednje škol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Koje uvjete mora zadovoljiti djelatnik da bi se mogao zaposliti na neodređeno vrijeme u srednjoj školi?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Koliko školska godina ima radnih tjedana?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Koliko treba čuvati spomenicu škole (ljetopis)?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Koliko treba čuvati imenik i evidenciju s ispitima učenika?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Matična knjiga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Biranje ravnatelja srednje škol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Nastavna dokumentacija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Godišnji plan i program rada srednje škol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Obvezatna pedagoška dokumentacija u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Opći akti u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Title 1"/>
          <p:cNvGrpSpPr/>
          <p:nvPr/>
        </p:nvGrpSpPr>
        <p:grpSpPr>
          <a:xfrm>
            <a:off x="-347760" y="109440"/>
            <a:ext cx="9320400" cy="1139760"/>
            <a:chOff x="-347760" y="109440"/>
            <a:chExt cx="9320400" cy="1139760"/>
          </a:xfrm>
        </p:grpSpPr>
        <p:pic>
          <p:nvPicPr>
            <p:cNvPr id="102" name="Title 1" descr=""/>
            <p:cNvPicPr/>
            <p:nvPr/>
          </p:nvPicPr>
          <p:blipFill>
            <a:blip r:embed="rId2"/>
            <a:stretch/>
          </p:blipFill>
          <p:spPr>
            <a:xfrm>
              <a:off x="-347760" y="109440"/>
              <a:ext cx="93204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37960" y="219240"/>
              <a:ext cx="87249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000" spc="-1" strike="noStrike">
                  <a:solidFill>
                    <a:srgbClr val="ffffff"/>
                  </a:solidFill>
                  <a:latin typeface="Segoe Print"/>
                </a:rPr>
                <a:t>Opći dio programa III.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4" name="Content Placeholder 2"/>
          <p:cNvGrpSpPr/>
          <p:nvPr/>
        </p:nvGrpSpPr>
        <p:grpSpPr>
          <a:xfrm>
            <a:off x="658800" y="1127160"/>
            <a:ext cx="7674120" cy="5413320"/>
            <a:chOff x="658800" y="1127160"/>
            <a:chExt cx="7674120" cy="5413320"/>
          </a:xfrm>
        </p:grpSpPr>
        <p:pic>
          <p:nvPicPr>
            <p:cNvPr id="105" name="Content Placeholder 2" descr=""/>
            <p:cNvPicPr/>
            <p:nvPr/>
          </p:nvPicPr>
          <p:blipFill>
            <a:blip r:embed="rId3"/>
            <a:stretch/>
          </p:blipFill>
          <p:spPr>
            <a:xfrm>
              <a:off x="658800" y="1127160"/>
              <a:ext cx="7674120" cy="54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55640" y="1195560"/>
              <a:ext cx="739764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Opterećenost učenika u srednjoj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Opterećenost profesora u srednjoj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Organi upravljanja u srednjoj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edagoške mjere koje se izriču učenicima u srednjoj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laniranje i programiranje odgojno-obrazovnog rada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Zakon o srednjem školstvu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ravilnik o normi neposrednog odgojno-obrazovnog rada po nastavnim predmetima i načinu utvrđivanja broja izvršitelja na odgojno-obrazovnim i drugim poslovima u srednjoj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ravilnik o stručnoj spremi i pedagoško-psihološkom obrazovanju profesora u srednjem školstvu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ravilnik o stručnim ispitima u srednjem školstvu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Title 1"/>
          <p:cNvGrpSpPr/>
          <p:nvPr/>
        </p:nvGrpSpPr>
        <p:grpSpPr>
          <a:xfrm>
            <a:off x="-347760" y="109440"/>
            <a:ext cx="9320400" cy="1139760"/>
            <a:chOff x="-347760" y="109440"/>
            <a:chExt cx="9320400" cy="1139760"/>
          </a:xfrm>
        </p:grpSpPr>
        <p:pic>
          <p:nvPicPr>
            <p:cNvPr id="108" name="Title 1" descr=""/>
            <p:cNvPicPr/>
            <p:nvPr/>
          </p:nvPicPr>
          <p:blipFill>
            <a:blip r:embed="rId2"/>
            <a:stretch/>
          </p:blipFill>
          <p:spPr>
            <a:xfrm>
              <a:off x="-347760" y="109440"/>
              <a:ext cx="93204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37960" y="219240"/>
              <a:ext cx="87249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000" spc="-1" strike="noStrike">
                  <a:solidFill>
                    <a:srgbClr val="ffffff"/>
                  </a:solidFill>
                  <a:latin typeface="Segoe Print"/>
                </a:rPr>
                <a:t>Opći dio programa IV.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" name="Content Placeholder 2"/>
          <p:cNvGrpSpPr/>
          <p:nvPr/>
        </p:nvGrpSpPr>
        <p:grpSpPr>
          <a:xfrm>
            <a:off x="658800" y="1127160"/>
            <a:ext cx="7674120" cy="5413320"/>
            <a:chOff x="658800" y="1127160"/>
            <a:chExt cx="7674120" cy="5413320"/>
          </a:xfrm>
        </p:grpSpPr>
        <p:pic>
          <p:nvPicPr>
            <p:cNvPr id="111" name="Content Placeholder 2" descr=""/>
            <p:cNvPicPr/>
            <p:nvPr/>
          </p:nvPicPr>
          <p:blipFill>
            <a:blip r:embed="rId3"/>
            <a:stretch/>
          </p:blipFill>
          <p:spPr>
            <a:xfrm>
              <a:off x="658800" y="1127160"/>
              <a:ext cx="7674120" cy="54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55640" y="1195560"/>
              <a:ext cx="739764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ravilnik o sadržaju i obliku razrednih svjedodžbi te svjedodžbi o maturi i završnom ispitu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ropisana pedagoška dokumentacija koju vodi profesor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Razrednik, uloga i zadać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tatut škol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Stručni organi u srednjoj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Školska godina i nastavna godina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Nastavničko vijeć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Upravljanje školom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ravilnik o načinu praćenja i ocjenjivanja učenika u osnovnoj i srednjoj školi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Pravilnik o napredovanju učitelja i profesora u osnovnom i srednjem školstvu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Segoe U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Matura i završni ispi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Title 1"/>
          <p:cNvGrpSpPr/>
          <p:nvPr/>
        </p:nvGrpSpPr>
        <p:grpSpPr>
          <a:xfrm>
            <a:off x="-109440" y="2401920"/>
            <a:ext cx="9101160" cy="2352600"/>
            <a:chOff x="-109440" y="2401920"/>
            <a:chExt cx="9101160" cy="2352600"/>
          </a:xfrm>
        </p:grpSpPr>
        <p:pic>
          <p:nvPicPr>
            <p:cNvPr id="114" name="Title 1" descr=""/>
            <p:cNvPicPr/>
            <p:nvPr/>
          </p:nvPicPr>
          <p:blipFill>
            <a:blip r:embed="rId2"/>
            <a:stretch/>
          </p:blipFill>
          <p:spPr>
            <a:xfrm>
              <a:off x="-109440" y="2401920"/>
              <a:ext cx="910116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50920" y="2421000"/>
              <a:ext cx="872496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400" spc="-1" strike="noStrike">
                  <a:solidFill>
                    <a:srgbClr val="ffffff"/>
                  </a:solidFill>
                  <a:latin typeface="Segoe Print"/>
                </a:rPr>
                <a:t>Hvala na pažnji!</a:t>
              </a:r>
              <a:endParaRPr b="0" lang="en-US" sz="4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23:59:52Z</dcterms:created>
  <dc:creator>petar metličić</dc:creator>
  <dc:description/>
  <dc:language>en-US</dc:language>
  <cp:lastModifiedBy>Korisnik</cp:lastModifiedBy>
  <dcterms:modified xsi:type="dcterms:W3CDTF">2012-01-04T11:49:25Z</dcterms:modified>
  <cp:revision>11</cp:revision>
  <dc:subject/>
  <dc:title>Program polaganja stručnog ispita za pripravnike u srednjem školstvu</dc:title>
</cp:coreProperties>
</file>