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0000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Anđa Suvala, viša savjetnica za hrvatski jez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6E7F-9539-40B6-8213-0280D78BDDC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Anđa Suvala, viša savjetnica za hrvatski jez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1B0-C555-432F-9C4C-12602EB4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21A-55C4-4D3D-8EC4-B7F04EA3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88D-7E24-4A0C-ADD8-09AA9ECD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2FF-15CF-459B-8EBF-CAE253C2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47DB-FFE4-486D-9B2D-C8FBB7DB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9BB6-D538-4148-84DE-DAC9EA0B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E064-3EA6-4CD0-A199-3DF7D39E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85F3-4A16-474B-BE2D-8AA77E2F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8F84-1A45-49C3-9539-A2C9B77A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08F6-6ADB-4799-B637-759FD7F2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35C3-39FB-4BAD-AD07-B95FCDA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7DF-4F68-4CAA-B9F6-6AEC3EF8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F62A-79CA-4993-8EC9-9F6830AD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5094-7B0F-46C4-B7DD-19F3A51B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B323-2F6C-4E0A-AAFD-A33BAA69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6743-1C5A-40FB-A222-DD6E792D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604D-27CE-4D73-8D0E-276F037C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1C70-1098-4D13-B007-8692FCB3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A6BE7-702C-4B8D-A811-71385951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E9F6-1DBE-43B1-AF15-9FC3AAE2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4E14-0BFB-4F93-8892-AD283567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78DE-9BA1-4816-831F-43BD4D47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02A-B39F-4DB2-92B1-D49D2B50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A635A-01EA-4413-AE7C-DBAA4FE7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78CC2-59FB-4BA9-9D5F-A0157885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C20B-992D-42BF-8A71-48084C40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C5A3-004C-4715-ADB6-35349706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3F3F-E3A3-40C9-888F-AD243C51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5606-F685-47C9-98FF-250B3852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78F3-2835-4517-9F06-3934999B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FBE1E-A80E-4E9F-B20D-09702FCB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BCD1-3464-4312-9361-9E5EA81E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F63D-5AD8-4533-B4DE-93829FD4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591-1A8A-4EB8-9FEA-BAADAEEF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F59E-9464-417E-A404-63290F50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66FBA-0A82-4D4C-9EA3-62989097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DF50-D63A-4303-ACEC-FDBF628C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E6C5-C7B2-41DA-A9A1-60C3CFF8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F8E58-73B7-41B9-A4BC-5B9F58AD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1501-8AAC-4D5E-96F6-48056F3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937EF-6D21-4397-8533-7C1412D7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43A84-98D9-46FB-A48B-81CAF71D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AFEE-0470-4BA8-A6A6-E6A37BB2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5706C-D8A7-4B43-AE92-9F5A49E7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B99-B805-4D6B-8026-56531EBB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7B3C-EB46-4D04-8ED4-6EFE6E67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C270-65E1-4E45-9A0C-83EFD0DD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F8A75-1C14-4A6D-AE1C-9F3BB769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C0C28-4BB1-4AC4-B5E2-74CC6032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1F3E4-10FC-409F-BC1C-09EB6E88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DD12A-7F9E-46A8-8C9F-2ED0E669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734DE-9565-4BFE-A73C-644E8226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B093C-8A32-4CDC-956A-7B925AA0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FB525-65C0-4B95-B02D-006EE6A1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BF1E6-1C0C-47D0-AE5A-0C469F0F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FEB-5A19-400A-8392-3CA708B9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A2EA9-BF69-4C63-919D-74C6D972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CD409-FBBD-4867-A389-F76B3D5B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06D3F-A4DB-4409-9D8D-7A600513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BA432-1736-4432-B988-1E8C3270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AEB4A-54FD-48CF-A83C-C5A8E02F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103E3-141E-4EBE-8A53-8B0B5F07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A1298-DDBC-49B8-A899-9DB0E84D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2DE64-2C59-4047-A27F-7A2A8D07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35BE8-2ACD-46E4-85F8-3195261E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1DD08-D772-4BAD-A488-A9C13CE4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E05-84A1-4254-A9C3-254B29AB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36B54-BFB7-42C2-AC1E-B967F462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F1A27-BCAD-40EE-954A-AAAB1440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A5A39-1308-4200-823A-78614A86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774-FD47-4B23-8561-EFAC787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C94-6A4C-4E8C-852B-2D12EA54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074F-1D7B-42F0-A8A6-C152D0080B55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7F98-70B7-409F-9616-A342E56E3F44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7650000" y="30240"/>
            <a:ext cx="1328760" cy="1255680"/>
          </a:xfrm>
          <a:prstGeom prst="rect">
            <a:avLst/>
          </a:prstGeom>
          <a:ln w="0">
            <a:noFill/>
          </a:ln>
        </p:spPr>
      </p:pic>
      <p:grpSp>
        <p:nvGrpSpPr>
          <p:cNvPr id="84" name="Rectangle 7"/>
          <p:cNvGrpSpPr/>
          <p:nvPr/>
        </p:nvGrpSpPr>
        <p:grpSpPr>
          <a:xfrm>
            <a:off x="-12600" y="1305000"/>
            <a:ext cx="9137520" cy="122040"/>
            <a:chOff x="-12600" y="1305000"/>
            <a:chExt cx="9137520" cy="122040"/>
          </a:xfrm>
        </p:grpSpPr>
        <p:pic>
          <p:nvPicPr>
            <p:cNvPr id="85" name="Rectangle 7" descr=""/>
            <p:cNvPicPr/>
            <p:nvPr/>
          </p:nvPicPr>
          <p:blipFill>
            <a:blip r:embed="rId3"/>
            <a:stretch/>
          </p:blipFill>
          <p:spPr>
            <a:xfrm>
              <a:off x="-12600" y="1305000"/>
              <a:ext cx="9137520" cy="1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1319040"/>
              <a:ext cx="910908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CA9C-04F4-4359-983E-3AEBB3451970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9A59-5149-499E-A971-CB8527A62A1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Rectangle 6"/>
          <p:cNvGrpSpPr/>
          <p:nvPr/>
        </p:nvGrpSpPr>
        <p:grpSpPr>
          <a:xfrm>
            <a:off x="-12600" y="1305000"/>
            <a:ext cx="9137520" cy="122040"/>
            <a:chOff x="-12600" y="1305000"/>
            <a:chExt cx="9137520" cy="122040"/>
          </a:xfrm>
        </p:grpSpPr>
        <p:pic>
          <p:nvPicPr>
            <p:cNvPr id="17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1305000"/>
              <a:ext cx="9137520" cy="1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1319040"/>
              <a:ext cx="910908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Slika 6" descr="AGENCIJA - Pozadina (a)[1].jpg"/>
          <p:cNvPicPr/>
          <p:nvPr/>
        </p:nvPicPr>
        <p:blipFill>
          <a:blip r:embed="rId3"/>
          <a:stretch/>
        </p:blipFill>
        <p:spPr>
          <a:xfrm>
            <a:off x="7650000" y="30240"/>
            <a:ext cx="1328760" cy="12556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C397-483E-46E1-9738-A01C714B48D1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7650000" y="30240"/>
            <a:ext cx="1328760" cy="1255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3C3B-B6EF-4A61-8925-404C3420B2B3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Naslov 1" descr=""/>
          <p:cNvPicPr/>
          <p:nvPr/>
        </p:nvPicPr>
        <p:blipFill>
          <a:blip r:embed="rId1"/>
          <a:stretch/>
        </p:blipFill>
        <p:spPr>
          <a:xfrm>
            <a:off x="603360" y="2498760"/>
            <a:ext cx="7931160" cy="2122560"/>
          </a:xfrm>
          <a:prstGeom prst="rect">
            <a:avLst/>
          </a:prstGeom>
          <a:ln w="0">
            <a:noFill/>
          </a:ln>
        </p:spPr>
      </p:pic>
      <p:pic>
        <p:nvPicPr>
          <p:cNvPr id="265" name="Text Box 5" descr=""/>
          <p:cNvPicPr/>
          <p:nvPr/>
        </p:nvPicPr>
        <p:blipFill>
          <a:blip r:embed="rId2"/>
          <a:stretch/>
        </p:blipFill>
        <p:spPr>
          <a:xfrm>
            <a:off x="4486320" y="5254560"/>
            <a:ext cx="414000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115640" y="1484280"/>
            <a:ext cx="698508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zaključku</a:t>
            </a: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 (sintezi) povezujemo iznesene postavke (teze) i misli te sažeto oblikujemo zaključnu misa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6778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c00000"/>
                </a:solidFill>
                <a:latin typeface="Calibri"/>
              </a:rPr>
              <a:t>ZAKLJUČAK</a:t>
            </a:r>
            <a:endParaRPr b="1" lang="en-US" sz="4800" spc="-1" strike="noStrike">
              <a:solidFill>
                <a:srgbClr val="9e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6778800" cy="1450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Hrvatski jezi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Strip je dobro prihvaćen kod učenika, vole ga čitati jer se brzo čita, a duge opise, učenicima često nezanimljive, nadomješta crtež. Pri izboru stripa za nastavu treba paziti na njegov sadržaj i idejne poruke koje nosi te doživljajno- -spoznajne mogućnosti učenika. Učenike treba osposobiti za uspješno primanje stripova, samostalnu raščlambu i vrjednovanj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6778800" cy="1450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39528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oznavanje metodičke i stručne literature koja govori o zadanoj tem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vlastito iskustvo u odnosu na tem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sposobnost iznošenja određenih primjera i doka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utvrđivanje problema, predlaganje rješenj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61800" y="1341360"/>
            <a:ext cx="8229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adržaj pisanoga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hr-HR" sz="4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rada mora pokaza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6778800" cy="14508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7200" y="159984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okazati jezičnu pismenos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68360" y="2333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znavanje pravopisne i gramatičke norme (standar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likovanje funkcionalnih stilova (znanstvenoga stila od novinarskoga ili književnoumjetničkoga ili razgovornoga i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mjena znanstvenoga stila: jasne, jednoznačne rečenice, točne i dokazane tvrdnje, bez ponavljanja i fraziranja te  gomilanja nepotrebnih tuđ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179280" y="1557360"/>
          <a:ext cx="8748720" cy="5111640"/>
        </p:xfrm>
        <a:graphic>
          <a:graphicData uri="http://schemas.openxmlformats.org/drawingml/2006/table">
            <a:tbl>
              <a:tblPr/>
              <a:tblGrid>
                <a:gridCol w="4372200"/>
                <a:gridCol w="437652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UMIJEVANJE T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 nije shvać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tema je promaš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puno ostvar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jelomično ostvar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SANO IZRAŽAV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islena povezanost kompozicijskih dijelova (skladna, neskladna, povezana, nepovezan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stil (izgrađen, neizgrađen, originalan, digresij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ORABA HRVATSKOGA JEZIKA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otpuna pravopisna i gramatička toč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retežita pravopisna i gramatička točnost (vrste pogrješaka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GLED/OBL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fičko oblikovanje/kompozi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čitljivost i slovo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811080" y="-274680"/>
            <a:ext cx="6351840" cy="21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6810120" cy="1384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92120" y="2923920"/>
            <a:ext cx="8229600" cy="37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42880" indent="-542880">
              <a:lnSpc>
                <a:spcPct val="150000"/>
              </a:lnSpc>
              <a:spcBef>
                <a:spcPts val="1001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pravopisne</a:t>
            </a: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 (izmjena ije/je/e/i; zarez; kratice; navodnici; veliko slovo; pisanje niječnic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92120" y="1808280"/>
            <a:ext cx="822960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hr-HR" sz="4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jčešće pogrješke u pisanome rad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457200" y="1654200"/>
          <a:ext cx="8229600" cy="4754520"/>
        </p:xfrm>
        <a:graphic>
          <a:graphicData uri="http://schemas.openxmlformats.org/drawingml/2006/table">
            <a:tbl>
              <a:tblPr/>
              <a:tblGrid>
                <a:gridCol w="2800440"/>
                <a:gridCol w="2765160"/>
                <a:gridCol w="2664000"/>
              </a:tblGrid>
              <a:tr h="519120">
                <a:tc>
                  <a:txBody>
                    <a:bodyPr lIns="82440" rIns="82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 u="sng">
                          <a:solidFill>
                            <a:srgbClr val="f43914"/>
                          </a:solidFill>
                          <a:uFillTx/>
                          <a:latin typeface="Calibri"/>
                        </a:rPr>
                        <a:t>NI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2440" rIns="82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</a:rPr>
                        <a:t>N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2440" rIns="82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073240">
                <a:tc>
                  <a:txBody>
                    <a:bodyPr lIns="82440" rIns="82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 ht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don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</a:t>
                      </a: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i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</a:t>
                      </a: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i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</a:t>
                      </a: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i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    ht</a:t>
                      </a: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i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</a:t>
                      </a: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i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</a:t>
                      </a: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m</a:t>
                      </a: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i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  osm</a:t>
                      </a: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</a:t>
                      </a: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  ht</a:t>
                      </a: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don</a:t>
                      </a: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ij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82440" rIns="82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O.š.</a:t>
                      </a: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“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ladimira Nazora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Š</a:t>
                      </a:r>
                      <a:r>
                        <a:rPr b="0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</a:t>
                      </a:r>
                      <a:r>
                        <a:rPr b="1" lang="hr-HR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</a:rPr>
                        <a:t>Vladimira Naz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Š </a:t>
                      </a: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“</a:t>
                      </a:r>
                      <a:r>
                        <a:rPr b="0" lang="hr-HR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ladimir Nazor</a:t>
                      </a: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82440" rIns="82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Osijeku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,</a:t>
                      </a: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0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r>
                        <a:rPr b="0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svibanj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Osijeku </a:t>
                      </a: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. svibnja</a:t>
                      </a:r>
                      <a:r>
                        <a:rPr b="0" lang="hr-HR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ijek</a:t>
                      </a: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,</a:t>
                      </a:r>
                      <a:r>
                        <a:rPr b="0" lang="hr-HR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svibnja 200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444600" y="208080"/>
            <a:ext cx="681012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457200" y="1819440"/>
          <a:ext cx="8229600" cy="4417920"/>
        </p:xfrm>
        <a:graphic>
          <a:graphicData uri="http://schemas.openxmlformats.org/drawingml/2006/table">
            <a:tbl>
              <a:tblPr/>
              <a:tblGrid>
                <a:gridCol w="2824200"/>
                <a:gridCol w="2685960"/>
                <a:gridCol w="2719440"/>
              </a:tblGrid>
              <a:tr h="45756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 u="sng">
                          <a:solidFill>
                            <a:srgbClr val="f43914"/>
                          </a:solidFill>
                          <a:uFillTx/>
                          <a:latin typeface="Calibri"/>
                        </a:rPr>
                        <a:t>NI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</a:rPr>
                        <a:t>NE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1" lang="hr-HR" sz="24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59164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H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vatski narodni preporod (pokre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jepa </a:t>
                      </a:r>
                      <a:r>
                        <a:rPr b="1" lang="hr-HR" sz="24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n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ša (zamjenski naziv za Hrvatsk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h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vatski narodni preporo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jepa </a:t>
                      </a:r>
                      <a:r>
                        <a:rPr b="1" lang="hr-HR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ša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ta </a:t>
                      </a:r>
                      <a:r>
                        <a:rPr b="1" lang="hr-HR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H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vatski narodni preporod (naziv umjetničke slik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jepa </a:t>
                      </a:r>
                      <a:r>
                        <a:rPr b="1" lang="hr-HR" sz="24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n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ša (naziv himn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064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ne dostajat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ne st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edostajati nemati nestati</a:t>
                      </a:r>
                      <a:r>
                        <a:rPr b="0" lang="hr-HR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hr-HR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(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ščeznuti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ne ć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ne imati     ne stati </a:t>
                      </a:r>
                      <a:r>
                        <a:rPr b="1" lang="hr-HR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  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 zaustaviti se)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444600" y="208080"/>
            <a:ext cx="681012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68000" y="1628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jčešće pogrješke u pisanome radu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09640" indent="-45216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gramatič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09640" indent="-4521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(morfološk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09640" indent="-4521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tvorben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09640" indent="-4521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sintaktičk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09640" indent="-4521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fonetske i fonološk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444600" y="208080"/>
            <a:ext cx="6810120" cy="13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457200" y="1600200"/>
          <a:ext cx="8229600" cy="5033880"/>
        </p:xfrm>
        <a:graphic>
          <a:graphicData uri="http://schemas.openxmlformats.org/drawingml/2006/table">
            <a:tbl>
              <a:tblPr/>
              <a:tblGrid>
                <a:gridCol w="2870280"/>
                <a:gridCol w="2665440"/>
                <a:gridCol w="2693880"/>
              </a:tblGrid>
              <a:tr h="52056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 u="sng">
                          <a:solidFill>
                            <a:srgbClr val="f43914"/>
                          </a:solidFill>
                          <a:uFillTx/>
                          <a:latin typeface="Calibri"/>
                        </a:rPr>
                        <a:t>NI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</a:rPr>
                        <a:t>N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892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š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prene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š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dove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ž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gri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ž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(kruh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prene</a:t>
                      </a: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dove</a:t>
                      </a: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z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zagri</a:t>
                      </a: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z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(kru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š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preno</a:t>
                      </a:r>
                      <a:r>
                        <a:rPr b="1" lang="hr-HR" sz="28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š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vo</a:t>
                      </a:r>
                      <a:r>
                        <a:rPr b="1" lang="hr-HR" sz="28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ž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gri</a:t>
                      </a:r>
                      <a:r>
                        <a:rPr b="1" lang="hr-HR" sz="28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ž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(osobin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šemo </a:t>
                      </a: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u vezi tog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šemo </a:t>
                      </a: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u vezi s tim</a:t>
                      </a:r>
                      <a:r>
                        <a:rPr b="0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šemo  </a:t>
                      </a:r>
                      <a:r>
                        <a:rPr b="1" lang="hr-HR" sz="28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glede tog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8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43914"/>
                          </a:solidFill>
                          <a:latin typeface="Calibri"/>
                        </a:rPr>
                        <a:t>Koristimo</a:t>
                      </a: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r-netske stranice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Koristimo se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rnetskim stranicam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 u="sng">
                          <a:solidFill>
                            <a:srgbClr val="ff9900"/>
                          </a:solidFill>
                          <a:uFillTx/>
                          <a:latin typeface="Calibri"/>
                        </a:rPr>
                        <a:t>Iskoristimo</a:t>
                      </a:r>
                      <a:r>
                        <a:rPr b="1" lang="hr-HR" sz="28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ske stranic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44600" y="208080"/>
            <a:ext cx="681012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struktura pisanoga rada (sadržaj, kompozicij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vrjednovanje na stručnome ispi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pismenost (najčešće pogrješk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5"/>
          <p:cNvSpPr/>
          <p:nvPr/>
        </p:nvSpPr>
        <p:spPr>
          <a:xfrm rot="20887200">
            <a:off x="6732720" y="90756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itle 2" descr=""/>
          <p:cNvPicPr/>
          <p:nvPr/>
        </p:nvPicPr>
        <p:blipFill>
          <a:blip r:embed="rId1"/>
          <a:stretch/>
        </p:blipFill>
        <p:spPr>
          <a:xfrm>
            <a:off x="165240" y="249120"/>
            <a:ext cx="7070760" cy="12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jčešće pogrješke u pisanome radu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1539720" y="2637000"/>
            <a:ext cx="6127920" cy="33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tvorbene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43914"/>
                </a:solidFill>
                <a:latin typeface="Calibri"/>
              </a:rPr>
              <a:t>sačekat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– pričekati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43914"/>
                </a:solidFill>
                <a:latin typeface="Calibri"/>
              </a:rPr>
              <a:t>sakupit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– prikupiti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43914"/>
                </a:solidFill>
                <a:latin typeface="Calibri"/>
              </a:rPr>
              <a:t>lutka film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– lutkarski film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43914"/>
                </a:solidFill>
                <a:latin typeface="Calibri"/>
              </a:rPr>
              <a:t>web stranice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– vebne stran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43914"/>
                </a:solidFill>
                <a:latin typeface="Calibri"/>
              </a:rPr>
              <a:t>film festival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– filmski fest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444600" y="208080"/>
            <a:ext cx="6810120" cy="13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6778800" cy="13827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6836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jčešće pogrješke u pisanome radu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Rectangle 1" descr=""/>
          <p:cNvPicPr/>
          <p:nvPr/>
        </p:nvPicPr>
        <p:blipFill>
          <a:blip r:embed="rId2"/>
          <a:stretch/>
        </p:blipFill>
        <p:spPr>
          <a:xfrm>
            <a:off x="341280" y="2048040"/>
            <a:ext cx="4029120" cy="456552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5" descr=""/>
          <p:cNvPicPr/>
          <p:nvPr/>
        </p:nvPicPr>
        <p:blipFill>
          <a:blip r:embed="rId3"/>
          <a:stretch/>
        </p:blipFill>
        <p:spPr>
          <a:xfrm>
            <a:off x="4468680" y="2060640"/>
            <a:ext cx="4327560" cy="1768320"/>
          </a:xfrm>
          <a:prstGeom prst="rect">
            <a:avLst/>
          </a:prstGeom>
          <a:ln w="0">
            <a:noFill/>
          </a:ln>
        </p:spPr>
      </p:pic>
      <p:grpSp>
        <p:nvGrpSpPr>
          <p:cNvPr id="322" name="Rectangle 6"/>
          <p:cNvGrpSpPr/>
          <p:nvPr/>
        </p:nvGrpSpPr>
        <p:grpSpPr>
          <a:xfrm>
            <a:off x="4548240" y="3968640"/>
            <a:ext cx="4260960" cy="2651400"/>
            <a:chOff x="4548240" y="3968640"/>
            <a:chExt cx="4260960" cy="2651400"/>
          </a:xfrm>
        </p:grpSpPr>
        <p:pic>
          <p:nvPicPr>
            <p:cNvPr id="323" name="Rectangle 6" descr=""/>
            <p:cNvPicPr/>
            <p:nvPr/>
          </p:nvPicPr>
          <p:blipFill>
            <a:blip r:embed="rId4"/>
            <a:stretch/>
          </p:blipFill>
          <p:spPr>
            <a:xfrm>
              <a:off x="4548240" y="3968640"/>
              <a:ext cx="4260960" cy="26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572000" y="3990960"/>
              <a:ext cx="421020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72880"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3859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Calibri"/>
                </a:rPr>
                <a:t>Gomilanje tuđica nepotrebno </a:t>
              </a:r>
              <a:br>
                <a:rPr sz="2200"/>
              </a:br>
              <a:r>
                <a:rPr b="0" lang="hr-HR" sz="2200" spc="-1" strike="noStrike">
                  <a:solidFill>
                    <a:srgbClr val="000000"/>
                  </a:solidFill>
                  <a:latin typeface="Calibri"/>
                </a:rPr>
                <a:t>je i nije obilježje znanstvenoga stila (</a:t>
              </a:r>
              <a:r>
                <a:rPr b="0" i="1" lang="hr-HR" sz="2200" spc="-1" strike="noStrike">
                  <a:solidFill>
                    <a:srgbClr val="000000"/>
                  </a:solidFill>
                  <a:latin typeface="Calibri"/>
                </a:rPr>
                <a:t>adekvatno, korespondirati, deklarirati se, eventualno, koncipirati</a:t>
              </a:r>
              <a:r>
                <a:rPr b="0" lang="hr-HR" sz="2200" spc="-1" strike="noStrike">
                  <a:solidFill>
                    <a:srgbClr val="000000"/>
                  </a:solidFill>
                  <a:latin typeface="Calibri"/>
                </a:rPr>
                <a:t>…)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6778800" cy="138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tilske pogrješ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jasno je u čemu je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stvar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   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Nejasno je o čemu je riječ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ci su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ispred učitelja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u informatičkoj pismenosti.                                            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čenici su bolji poznavatelji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spinjemo se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gor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    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spinjemo s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Lektiru prati loš glas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AVILNO: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čenicima lektira nije omiljeno š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stigli smo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strašan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napredak.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AVILNO: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ostigli smo veliki napred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ci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doživljavaju emocije…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Kod učenika su potaknute emocij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 rot="19499400">
            <a:off x="-174960" y="611280"/>
            <a:ext cx="2390760" cy="520560"/>
          </a:xfrm>
          <a:prstGeom prst="rect">
            <a:avLst/>
          </a:prstGeom>
          <a:solidFill>
            <a:srgbClr val="f439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ZAKLJUČ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420840"/>
            <a:ext cx="7821720" cy="1384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17928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znavanje metodičke i stručne literature o temi pisanoga 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ezivanje literature i iskustva iz prak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gledna i jasna kompozicija 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zična i stilska razina pisanoga rada (izbor riječi, oblikovanost rečenica, pravopisna i gramatička točnost i stilska ujednačen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281160" y="3108240"/>
            <a:ext cx="8246880" cy="28958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642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Calibri"/>
                <a:ea typeface="Arial"/>
              </a:rPr>
              <a:t>Cilj je pisanoga rada na stručnome ispitu provjeriti stručnu i jezičnu osposobljenost za obavljanje učiteljskoga/ nastavničkoga poziva.</a:t>
            </a:r>
            <a:br>
              <a:rPr sz="4800"/>
            </a:br>
            <a:endParaRPr b="1" lang="en-US" sz="48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70" name="Text Box 5"/>
          <p:cNvSpPr/>
          <p:nvPr/>
        </p:nvSpPr>
        <p:spPr>
          <a:xfrm rot="20887200">
            <a:off x="6732720" y="90756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1391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c00000"/>
                </a:solidFill>
                <a:latin typeface="Calibri"/>
                <a:ea typeface="Arial"/>
              </a:rPr>
              <a:t>STRUČNA RAZINA</a:t>
            </a:r>
            <a:endParaRPr b="1" lang="en-US" sz="4800" spc="-1" strike="noStrike">
              <a:solidFill>
                <a:srgbClr val="9e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137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Znanstveni pristup zadanoj temi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9280" y="2174760"/>
            <a:ext cx="8147160" cy="39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iznosimo tvrdnje (teze) utemeljene na rezultatima znanstvenih istraživan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suprotstavljamo svoja motrišta (kritički raščlanjujemo,vrjednujemo u kontekstu svojih spoznaja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potkrepljujemo čvrstim dokaz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zervirano mjesto sadržaja 3"/>
          <p:cNvGrpSpPr/>
          <p:nvPr/>
        </p:nvGrpSpPr>
        <p:grpSpPr>
          <a:xfrm>
            <a:off x="334800" y="1743120"/>
            <a:ext cx="4292640" cy="4432320"/>
            <a:chOff x="334800" y="1743120"/>
            <a:chExt cx="4292640" cy="4432320"/>
          </a:xfrm>
        </p:grpSpPr>
        <p:pic>
          <p:nvPicPr>
            <p:cNvPr id="275" name="Rezervirano mjesto sadržaja 3" descr=""/>
            <p:cNvPicPr/>
            <p:nvPr/>
          </p:nvPicPr>
          <p:blipFill>
            <a:blip r:embed="rId1"/>
            <a:stretch/>
          </p:blipFill>
          <p:spPr>
            <a:xfrm>
              <a:off x="334800" y="1743120"/>
              <a:ext cx="429264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95280" y="1773360"/>
              <a:ext cx="4040280" cy="43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351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800" spc="-1" strike="noStrike">
                  <a:solidFill>
                    <a:srgbClr val="000000"/>
                  </a:solidFill>
                  <a:latin typeface="Calibri"/>
                </a:rPr>
                <a:t>OBJEKTIV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351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800" spc="-1" strike="noStrike">
                  <a:solidFill>
                    <a:srgbClr val="000000"/>
                  </a:solidFill>
                  <a:latin typeface="Calibri"/>
                </a:rPr>
                <a:t>navodi (citati) iz djela, časopisa ili parafraze ili navođenje po sjećanj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35100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Calibri"/>
                </a:rPr>
                <a:t>dokazuju prethodnu tvrdnj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35100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Calibri"/>
                </a:rPr>
                <a:t>čine ju razumljivij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Rezervirano mjesto sadržaja 5"/>
          <p:cNvGrpSpPr/>
          <p:nvPr/>
        </p:nvGrpSpPr>
        <p:grpSpPr>
          <a:xfrm>
            <a:off x="4584600" y="1743120"/>
            <a:ext cx="4162680" cy="4432320"/>
            <a:chOff x="4584600" y="1743120"/>
            <a:chExt cx="4162680" cy="4432320"/>
          </a:xfrm>
        </p:grpSpPr>
        <p:pic>
          <p:nvPicPr>
            <p:cNvPr id="278" name="Rezervirano mjesto sadržaja 5" descr=""/>
            <p:cNvPicPr/>
            <p:nvPr/>
          </p:nvPicPr>
          <p:blipFill>
            <a:blip r:embed="rId2"/>
            <a:stretch/>
          </p:blipFill>
          <p:spPr>
            <a:xfrm>
              <a:off x="4584600" y="1743120"/>
              <a:ext cx="416268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645080" y="1773360"/>
              <a:ext cx="4041720" cy="43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6400" indent="-34272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UBJEKTIV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34272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34272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hr-HR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isaoni, moralni odnos prema tem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"/>
          <p:cNvSpPr/>
          <p:nvPr/>
        </p:nvSpPr>
        <p:spPr>
          <a:xfrm>
            <a:off x="-324000" y="-18432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Title 4" descr=""/>
          <p:cNvPicPr/>
          <p:nvPr/>
        </p:nvPicPr>
        <p:blipFill>
          <a:blip r:embed="rId3"/>
          <a:stretch/>
        </p:blipFill>
        <p:spPr>
          <a:xfrm>
            <a:off x="165240" y="-225360"/>
            <a:ext cx="77533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457200" y="-304920"/>
            <a:ext cx="7139160" cy="21211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3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uv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raz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zaključ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3715920"/>
            <a:ext cx="44751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mpozicija objedinjuje sadržaj djela (strukturu) u jednu cjelinu, a oblik (forma) daje krajnji izgled cjelokupnoga r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Dijagram 7" descr=""/>
          <p:cNvPicPr/>
          <p:nvPr/>
        </p:nvPicPr>
        <p:blipFill>
          <a:blip r:embed="rId2"/>
          <a:stretch/>
        </p:blipFill>
        <p:spPr>
          <a:xfrm>
            <a:off x="3998880" y="1457280"/>
            <a:ext cx="6095880" cy="52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535040"/>
            <a:ext cx="8075520" cy="491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U uvodnome dijelu rada najavljujemo temu, smještamo ju u određeni, širi kontekst (surječje). Dajemo osnovne informacije o temi te iznosimo osnovnu misao (misli) koju ćemo u razradi temeljito opisati i potkrijepiti dokazim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6778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c00000"/>
                </a:solidFill>
                <a:latin typeface="Calibri"/>
              </a:rPr>
              <a:t>UVOD</a:t>
            </a:r>
            <a:endParaRPr b="1" lang="en-US" sz="4800" spc="-1" strike="noStrike">
              <a:solidFill>
                <a:srgbClr val="9e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133200" y="-231840"/>
            <a:ext cx="8352000" cy="1944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Jedna od zadaća nastave Hrvatskoga jezika jest osposobiti učenike za uspješnu komunikaciju s medijima. Poučavanje o medijima odvija se u nastavnom području medijske kulture. Strip se u nastavi Hrvatskoga jezika pojavljuje i kao programski sadržaj i kao nastavno sredstvo. Bez obzira na to koristimo li se stripom kao nastavnim sredstvom ili ga proučavamo kao autonomni medij, potrebno mu je pristupiti ozbiljn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razradi</a:t>
            </a: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 iznosimo svoje znanje o temi i poznavanje literature. Opisujemo i objašnjavamo problem, iznosimo vlastita iskustva i prijedlog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6778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c00000"/>
                </a:solidFill>
                <a:latin typeface="Calibri"/>
              </a:rPr>
              <a:t>RAZRADA</a:t>
            </a:r>
            <a:endParaRPr b="1" lang="en-US" sz="4800" spc="-1" strike="noStrike">
              <a:solidFill>
                <a:srgbClr val="9e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2:57:01Z</dcterms:created>
  <dc:creator>Anda Suvala</dc:creator>
  <dc:description/>
  <dc:language>en-US</dc:language>
  <cp:lastModifiedBy>Viktorija</cp:lastModifiedBy>
  <dcterms:modified xsi:type="dcterms:W3CDTF">2012-01-17T12:00:29Z</dcterms:modified>
  <cp:revision>162</cp:revision>
  <dc:subject/>
  <dc:title>PISANI RAD NA STRUČNOME ISPIT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8194440</vt:r8>
  </property>
  <property fmtid="{D5CDD505-2E9C-101B-9397-08002B2CF9AE}" pid="3" name="_AuthorEmail">
    <vt:lpwstr>Viktorija.Hrzica@azoo.hr</vt:lpwstr>
  </property>
  <property fmtid="{D5CDD505-2E9C-101B-9397-08002B2CF9AE}" pid="4" name="_AuthorEmailDisplayName">
    <vt:lpwstr>Viktorija Hrzica</vt:lpwstr>
  </property>
  <property fmtid="{D5CDD505-2E9C-101B-9397-08002B2CF9AE}" pid="5" name="_EmailSubject">
    <vt:lpwstr>pisaniradnasi-skupzapripravnikeosijek4-11-2011.ppt</vt:lpwstr>
  </property>
  <property fmtid="{D5CDD505-2E9C-101B-9397-08002B2CF9AE}" pid="6" name="_NewReviewCycle">
    <vt:lpwstr/>
  </property>
</Properties>
</file>