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1B7-62D5-4D8D-9812-D5347D0C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995-0F08-4DE9-A059-D02BD509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D0C-641B-4515-A6E8-D5C0E5DD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FF7-2118-48B9-8659-262D80AB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460-B2DF-4871-8251-1FED847F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C56-D27F-418F-A2D0-AEE5DEF9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82F-9910-4944-BF7F-1C243C2B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1F4-9067-420F-A4C3-00FB54E1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2A8-6E81-44B6-B893-EA641F07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722-3E02-48C5-AD11-C4C3F6AE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F71-1E3E-4C60-A9A7-E9218C6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5DB-569D-4F61-89A6-E67D0B98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50B5-7FEB-4ED8-9D2E-AB2744112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84872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eđužupanijski stručni skup pripravnika i mentora, 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čitelja i nastavnika geografije 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irovitičko-podravske, Požeško-slavonske, Brodsko-posavske, Osječko-baranjske i Vukovarsko-srijemske županije</a:t>
            </a:r>
            <a:br>
              <a:rPr sz="2000"/>
            </a:b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Uvođenje pripravnika u samostalni odgojno-obrazovni rad i polaganje stručnog ispita</a:t>
            </a:r>
            <a:br>
              <a:rPr sz="20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0. siječnja 2012.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Gimnazija M.A.Reljkovića, Vinkovci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280" y="4005360"/>
            <a:ext cx="5977080" cy="1512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pravnički staž i stručni isp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onja Burčar, prof.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viša savjetnica za geografiju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ZOO, Podružnica Osij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sana priprema za nastavni sat na stručnom isp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ljno razrađena sa svim sastavnicama ( ciljevi, zadatci, oblici i metode rada, prilozi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vakom članu povjerenstva jedan primjera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ica: glavni naslov, podaci o nastavnom predmetu, razrednom odjelu, nastavnoj cjelini i jedinici, nadnevak, škola, ime i prezime pristupnika, ime i prezime nastavnika mentora na stručnom ispi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51850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i pisane prip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ip sata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j 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datci nastave, oblici rada i nastavne metode, nastavna sredstva i pomagala, korelacija s drugim nastavnim predmetima, literatura/ izvori znanja za učenike i nastav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acija nastavnoga sata: etape, njihovo trajanje, i nastavne metode koje se koriste u pojedinoj et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rtikulacija nastavnog sata unutar svake etape, nastavna sredstva i pomagala, nastavne met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n plo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pis pri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907560"/>
            <a:ext cx="38880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vođenje nastavnog sat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95280" y="2565000"/>
            <a:ext cx="5113080" cy="2158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školski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zultacije s mento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oručuje se upoznati učen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jeti učionicu i uvjete izvođenja s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71640" y="907560"/>
            <a:ext cx="38880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meni dio is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95280" y="2565000"/>
            <a:ext cx="5113080" cy="2158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vrt na pisani dio is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držanog 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ika nastave geograf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ći 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475272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anja iz metodike nastave geograf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6419880" cy="3960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tavni plan i program geografije u osnovnoj šk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fička metoda u nastavi geograf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medija u nastavi geograf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grafska 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alni oblik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 u skupin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 u pa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zvori znanja u nastavi geograf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ska nas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čelo kompleks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ovi zn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kološki odgoj u nastavi geograf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atna i dopunska nas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stavnice ocjenjivanja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475272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anja iz općeg dij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6419880" cy="3960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jetopis šk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jedna zaduženja učitel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žnosti roditelja prema U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agoške mj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lici rada u nastavi geograf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lika između nastavne i školske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bor 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ko se bira predsjednik R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ko ima pravo predlagati zako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ko se osniva politička strank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ko bira suce Ustavnog su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tavni plan i program geograf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tavna sredstva i pomag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ćenje i ocjenjivanje učenika prema Pravilniku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3311640" cy="11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Matas, M. (1998): Metodika nastave geografije, drugo izdanje, Hrvatsko geografsko društvo, Zagr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bradović-Martinec, B. (1996): Nastavna jedinica: Etape gospodarskog razvoja svijeta, Geografski horizont, br.2, Zagr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Vuk, R. (1998): Primjer obrade nastavne jedinice “Prirodno kretanje – reprodukcija stanovništva”, Geografski horizont, br.1, Zagr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Mrđenović, M. (1986): Svijet danas, metodički priručnik za nastavnike zemljopisa u 5.r. OŠ, Školska knjiga, Zagr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Brazda, M., Dugački, D., Krželj, B. (1989): Svijet danas 2, metodički priručnik za nastavnike zemljopisa u 6.r. OŠ, Školska knjiga, Zagr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2920" y="189000"/>
            <a:ext cx="4038840" cy="40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avilnik o polaganju stručnog ispita učitelja i stručnih suradnika u OŠ i nastavnika u S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avilnik o načinu praćenja i ocjenjivanja učenika u OŠ i S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Nacionalni kurik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Zakon o odgoju i obrazovanju  u osnovnoj i srednjoj šk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iručnik za stručni ispit učitelja i stručnih suradnika u osnovnom školstvu; www.azoo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ogram polaganja stručnoga ispita za pripravnike u srednjem školstvu, Prosvjetni vjesnik, Glasilo Ministarstva prosvjete i športa, godina I, lipanj 1999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Nastavni plan i program za osnovnu ško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Nastavni plan i program za srednju ško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spitni katalog za državnu matu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Zakon o odgoju i obrazovanju osnovnoj i srednjoj šk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365720"/>
            <a:ext cx="2916000" cy="233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KORISNE STRA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www.geografija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www.hagede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www.geog.pmf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www.mzos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www.skole.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16000" y="2060640"/>
            <a:ext cx="1728720" cy="10742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anj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860640"/>
            <a:ext cx="2995560" cy="975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vala na sudjelovanj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58920" y="188640"/>
            <a:ext cx="28810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izlaga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79640" y="1988640"/>
            <a:ext cx="5051520" cy="2087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ž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java za polaganje stručnog is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itni rokovi i povjeren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ganje stručnog is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anja iz metodike nastave i općeg dij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0000" y="259920"/>
            <a:ext cx="316692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nički sta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6778440" cy="3313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kon početka rada pripravnika škola je duž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imenovati povjerenstvo za stažiranje pripravnik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vnatelj, stručni suradnik,men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zraditi program staži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ijaviti staž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užati pomoć priprav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atiti i vrednovati napredovanje priprav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vilnik o polaganju stručnog ispita učitelja i stručnih suradnika u OŠ i nastavnika u S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468144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ganje stručnog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Nakon ostvarenog programa pripravničkog staža, škola prijavljuje pripravnika za stručni ispit. Ispit se prijavljuje Agenciji na prijavnici ( Tiskanica SI-3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0000"/>
                </a:solidFill>
                <a:latin typeface="Arial"/>
              </a:rPr>
              <a:t>najkasnije 30 dana prije početka ispitnog ro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LOŽI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izvješće povjerenstva o rezultatima stažiranja ( Tiskanica SI-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preslika diplome o stečenoj naobrazb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preslika isprave o položenom pedagoško-psihološkom obrazovanju z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pravnike koji su završili nenastavnički studij ili visoku škol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evidencija o ostvarivanju programa pripravničkog staž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43308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itni roko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280" y="1844280"/>
            <a:ext cx="5040360" cy="348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novne ško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 15. siječnja do 1. ožuj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 15. travnja do 1. lip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 1. listopada do 15. studen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ednje ško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 10. listopada do 10. prosi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 10. veljače do 10. trav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43308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k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280" y="2133720"/>
            <a:ext cx="5040360" cy="28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novne ško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Š Franje Krež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kolska 3, Osij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rednje ško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. gimnazija Osij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upanijska 4, Osij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7280" y="333000"/>
            <a:ext cx="367344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itno povjer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6194160" cy="2304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pitivač metod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ntor sustručnj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vnatel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telj/nastavnik hrvatskog jez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ši savjetnik ili savjetnik kao predsjednik povjeren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47512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ganje stručnog is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63640" y="2637000"/>
            <a:ext cx="4608720" cy="1612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ani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pisana priprema za nastavni 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vođenje nastavnog s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meni isp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916280"/>
            <a:ext cx="46087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iv za polaganje stručnog is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872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ri tema za pisani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1557360"/>
            <a:ext cx="5185080" cy="4953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relacija geografije s drugim nastavnim predmet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ci nastave geograf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tivacija u nastavi geograf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erenski nastavni 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udiovizualna nastavna sred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džbenici u nastavi geograf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vjeravanje i ocjenjivanje uče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orna geografska nastavna nač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premanje nastavnika za nastav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na na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iručnik za stručni ispit učitelja i stručnih suradnika u osnovnom školstv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www.azoo.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0:47:56Z</dcterms:created>
  <dc:creator>sburcar</dc:creator>
  <dc:description/>
  <dc:language>en-US</dc:language>
  <cp:lastModifiedBy>PC</cp:lastModifiedBy>
  <dcterms:modified xsi:type="dcterms:W3CDTF">2012-01-08T11:36:12Z</dcterms:modified>
  <cp:revision>25</cp:revision>
  <dc:subject/>
  <dc:title>Uvođenje pripravnika u samostalni odgojno-obrazovni rad i polaganje stručnog ispita  učitelji i nastavnici geografije</dc:title>
</cp:coreProperties>
</file>