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8BD-0DC2-41FE-AD77-432CB4B9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90E-D3AB-4D6C-87B8-B79AFA14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82C-7757-40A8-9F86-58845A56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FFD-D3F7-41B6-9A37-147E14AF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6D5-3085-4BF7-9448-FE599C57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CF9-6E26-4B06-9716-27AA700B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0AC-C507-47AA-B6B7-8EFFBD82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B67-5B1A-4AD7-A2D8-D089954C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71D-7294-4464-97FB-EFEF7ECD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79F-36A5-4FD7-9ECA-1B7818B2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13F-0972-4C57-BF22-28B1AC71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748-8631-45FD-B64F-8795052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5550-4AB8-4BD5-942D-726E7F4F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134560" cy="252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vođenje pripravnika u samostalni odgojno-obrazovni rad i polaganje stručnog ispita</a:t>
            </a:r>
            <a:br>
              <a:rPr sz="2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0. siječnja 2012. 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nazij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.A.Reljkovića, Vinkovci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8920" y="3500280"/>
            <a:ext cx="6553080" cy="2160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naliza školskog sata</a:t>
            </a:r>
            <a:br>
              <a:rPr sz="24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onja Burčar, prof.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iša savjetnica za geografiju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ZOO, Podružnica Osijek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274320"/>
            <a:ext cx="61927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cija nastavnog sata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6019920" cy="2908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vodna eta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java ci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da novih nastavnih sadrž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ježba i ponavlj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aća zada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35290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ščlamba 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5051520" cy="4525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vođenje nastave - na što obratiti pozorn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obnost, odnos, jez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zentacija nastavnih sadrž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cija s učeni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iranje uče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ćenje rada uče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varenost cilj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zgovor nakon s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sobnost uočavanja vlastitih postup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ijest o mogućim alternativ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mnost na usavrša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760" y="-508680"/>
            <a:ext cx="553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KREDA analiza - ODREĐIVANJE PRIORITETNIH PODRUČJA R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19280" y="1341360"/>
          <a:ext cx="6256080" cy="4056120"/>
        </p:xfrm>
        <a:graphic>
          <a:graphicData uri="http://schemas.openxmlformats.org/drawingml/2006/table">
            <a:tbl>
              <a:tblPr/>
              <a:tblGrid>
                <a:gridCol w="3128760"/>
                <a:gridCol w="3127320"/>
              </a:tblGrid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REDA anali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ime se možemo pohvalit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 kojim se teškoćama svakodnev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srećem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2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ji su na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š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 neiskori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š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ni resursi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Što nas koči na putu prema napretk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Š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mo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ž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mo napraviti da budemo jo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š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lji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o nam može pomoći u napretk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sobe, institucije…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738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63280" y="1844640"/>
            <a:ext cx="2087640" cy="10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anj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3280" y="4292280"/>
            <a:ext cx="5483160" cy="1833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enje nas ne bi trebalo samo dovesti neku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no nam treba omogućiti (pomoći) da kasni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demo dalje na mnogo lakši nači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. Bru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0" y="4581360"/>
            <a:ext cx="3384720" cy="935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vala na sudjelovanj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476280"/>
            <a:ext cx="460836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Matas, M. (1998): Metodika nastave geografije, drugo izdanje, Hrvatsko geografsko društvo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agr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Materijali, AZOO; Podružnica Osijek: Bilješke o ostvarivanju programa stažiranja pripravnika u ško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37447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izlag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84000" y="1700280"/>
            <a:ext cx="4475160" cy="262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ute za rad/ praćenje nast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ana pripr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odički podsjet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cija nastavnog s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vođenje nastavnog s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ščlamba s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pit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ana priprema za nastavni sat na stručnom isp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435880" cy="2950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ljno razrađena sa svim sastavnicama ( ciljevi, zadatci, oblici i metode rada, prilozi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vakom članu povjerenstva jedan primjer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ica: glavni naslov, podaci o nastavnom predmetu, razrednom odjelu, nastavnoj cjelini i jedinici, nadnevak, škola, ime i prezime pristupnika, ime i prezime nastavnika mentora na stručnom ispi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84360" y="274320"/>
            <a:ext cx="43927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i pisane pripr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ip sata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 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datci nastave, oblici rada i nastavne metode, nastavna sredstva i pomagala, korelacija s drugim nastavnim predmetima, literatura/ izvori znanja za učenike i nastav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cija nastavnoga sata: etape, njihovo trajanje, i nastavne metode koje se koriste u pojedinoj et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rtikulacija nastavnog sata unutar svake etape, nastavna sredstva i pomagala, nastavne met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n plo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pis pri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87280" y="1484280"/>
            <a:ext cx="7056720" cy="3384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ip s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lj nastavne jedinice/ s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datci nastave: znanja, geografske vještine, stav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loomova taksonom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lici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stavne met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stavna sredstva i pomag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403236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ički podsjetni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3456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 sata: obrada, ponavljanje/vježbanje, provjerava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ci rada: samostalni rad, rad u parovima, skupni rad, frontalni rad, timska nastava, teorija igre, projektna nast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aktički                     il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3456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tavne metode= način rada u nastavi, demonstracijske i verbalne, odnose se na nastavnikov i učenikov načina rada: usmenog izlaganja, razgovora, demonstracije, rada s tekstom, grafičkih radova, izvanškolsko učenje, programirana nastava, učenje pomoću račun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4005360"/>
            <a:ext cx="115272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49687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ički podsjetni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2950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jevi obrazovanj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cionalni prist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Materijalni – znanja/ spozn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Funkcionalni – sposo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Odgojni - stajal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03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ljevi obrazovanja – Bloom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aksonom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gnitivno područje (znanje, spozna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fektivno područje (stavovi, interesi, motiva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sihomotoričko područje (tjelesne aktivnosti i vješt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24836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ički podsjetni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tavna sredstva ili izvori znanja su didaktički oblikovani, objektivno dani predmeti, proizvodi ljudskog rada, koji u nastavi služe kao izvori spoznavanja, odnosno uč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jenjuju izvornu stvar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jela: tekstualna, vizualna, auditivna, audiovizual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ekad, isti predmet može biti nastavno sredstvo i pomag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reduju između prostorne stvarnosti i uče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tavna pomagala ili pribor kojim se služe nastavnici i učenici u obradi nastavnog sadr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bor za pisanje, pomagala za crtanje, ručni alati, demonstracijska pomagala, eksperimentalna pomagala, instrumenti, aparati, strojevi, elektronski uređa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jena se mora uskladiti s ciljevima učenja i metodičko-didaktičkim zahtjevima nastavnog s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99640" y="1773360"/>
            <a:ext cx="5986440" cy="262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Ključni pojm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Korela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Organizacija nastavnog s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Plan ploč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3:20:54Z</dcterms:created>
  <dc:creator>sburcar</dc:creator>
  <dc:description/>
  <dc:language>en-US</dc:language>
  <cp:lastModifiedBy>PC</cp:lastModifiedBy>
  <dcterms:modified xsi:type="dcterms:W3CDTF">2012-01-09T18:54:27Z</dcterms:modified>
  <cp:revision>23</cp:revision>
  <dc:subject/>
  <dc:title>Uvođenje pripravnika u samostalni odgojno-obrazovni rad i polaganje stručnog ispita učitelji i nastavnici geografije Virovitičko-podravske, Požeško-slavonske, Brodsko-posavske, Osječko-baranjske i Vukovarsko-srijemske županije</dc:title>
</cp:coreProperties>
</file>