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B30-417E-4CE4-8B14-23E37B4B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DF2-3397-42D8-9FE8-1282500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023-EC2D-49A5-8E03-932B4A7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C01-9101-4E63-9D6E-E3089E49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7D87-5B21-4207-A68F-99B4C71F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88BC-ED29-42D5-AD31-E88A1CE5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065C-8840-401C-8A9C-B919C883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5620-4E4D-4C05-8EE1-374ABCC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23A-6241-4368-BA9A-F20003A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52E1-10C9-4E3C-844F-7110187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9FB-0D3F-47C9-A901-B8F409C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59B-4DDD-4AD3-9501-AE81B516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5F84-7C62-4912-A0EA-D36BCD0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2BC4-206C-4917-828E-D5CBF26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EA1-0F18-4B6E-B9C9-CE6BB52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C141-E1EE-47DB-B588-BBBEF214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D3A-9A29-49ED-A0B8-F0369BDF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CA-7F79-4B9B-B58B-839D2324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E4E-1A80-4135-B491-41AE232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75A-794B-4596-BF74-764DE0F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0A0-7091-47ED-A5BA-90527D4C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FDC-3185-4C04-AB20-2C67A3E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FF7-FB5D-419C-9213-FB2DC18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D3E-A2BF-486F-8AB1-2CCAD39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B26-8703-47CB-9B20-6B061C637F8F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1BC-7E93-4AAC-A40B-F96E8B5B57B6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ekućice –aktivni dio voda na kop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Tekućice pustinja i polupustinj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Todd cre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Tekućice suptropa i tropskog područj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mppopo rije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60812182"/>
          <p:cNvPicPr/>
          <p:nvPr/>
        </p:nvPicPr>
        <p:blipFill>
          <a:blip r:embed="rId1"/>
          <a:srcRect l="11399" t="15147" r="10240" b="45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Tekućice ekvatorijalnog područj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Amaz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Voda u podzemlju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vršina – voda prozračne z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Ukliještena između nepropusnih slojeva arteška vo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Arteška voda, termalna vo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onornica, vrulje vre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Kruženje vode u prirodi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20053" t="10148" r="22272" b="40909"/>
          <a:stretch/>
        </p:blipFill>
        <p:spPr>
          <a:xfrm>
            <a:off x="838080" y="1676520"/>
            <a:ext cx="5678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pl-neretva1101-pokThumbnail"/>
          <p:cNvPicPr/>
          <p:nvPr/>
        </p:nvPicPr>
        <p:blipFill>
          <a:blip r:embed="rId1"/>
          <a:stretch/>
        </p:blipFill>
        <p:spPr>
          <a:xfrm>
            <a:off x="1523880" y="2133720"/>
            <a:ext cx="44578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4" descr="get_img?NrImage=2&amp;NrArticle=21359"/>
          <p:cNvPicPr/>
          <p:nvPr/>
        </p:nvPicPr>
        <p:blipFill>
          <a:blip r:embed="rId1"/>
          <a:stretch/>
        </p:blipFill>
        <p:spPr>
          <a:xfrm>
            <a:off x="1600200" y="2133720"/>
            <a:ext cx="4451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Port%20of%20Rotterdam%20skyview"/>
          <p:cNvPicPr/>
          <p:nvPr/>
        </p:nvPicPr>
        <p:blipFill>
          <a:blip r:embed="rId1"/>
          <a:stretch/>
        </p:blipFill>
        <p:spPr>
          <a:xfrm>
            <a:off x="1371600" y="167652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Građa tekuć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352440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stavni dijelovi tekuć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Rijeke polarnih područj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Rijeka na sjeveru Kan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yeniseiriver"/>
          <p:cNvPicPr/>
          <p:nvPr/>
        </p:nvPicPr>
        <p:blipFill>
          <a:blip r:embed="rId1"/>
          <a:stretch/>
        </p:blipFill>
        <p:spPr>
          <a:xfrm>
            <a:off x="914400" y="2666880"/>
            <a:ext cx="4667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Tekućice umjerenih područj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Dunav kraj Vukov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01"/>
          <p:cNvPicPr/>
          <p:nvPr/>
        </p:nvPicPr>
        <p:blipFill>
          <a:blip r:embed="rId1"/>
          <a:stretch/>
        </p:blipFill>
        <p:spPr>
          <a:xfrm>
            <a:off x="228600" y="2438280"/>
            <a:ext cx="50450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Garamond"/>
              </a:rPr>
              <a:t>Tekućice područja monsuna</a:t>
            </a:r>
            <a:br>
              <a:rPr sz="4200"/>
            </a:b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ušće Ganges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762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stavnik</cp:lastModifiedBy>
  <dcterms:modified xsi:type="dcterms:W3CDTF">2011-05-31T05:44:3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