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AAE4-789E-437A-827A-C99C5818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7608-9596-4BE1-B6FA-31141F55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5767-6881-40A1-9303-632E934B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66BB-2141-4007-8E27-1A30E1AF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9F23-6083-4315-BDD4-1678BD52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6080-4283-44C8-BFDC-FB7BED5A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E9AB-19B6-44EA-BC64-5AB0C2F5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7D1F-DD81-4F6A-9635-E18FBDE9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6BBC-E20C-4117-A80F-9502277B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EBD8-2FDC-4D72-9889-255CEB06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AF2E-C4C2-47BE-BE34-7A3DA0DE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DB1C-5D0D-4BD1-B60B-D91F84E4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FF45-DCDC-4B3B-8618-9D427F47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9A5F-9E2A-4CD1-A30E-850845EF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1FB7-302E-4889-8AC4-AA9155CD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F5BC-3F46-4B0C-AC25-447E24B2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EB06-B99A-4535-ACA7-5335D2D8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6043-E856-46EF-B815-4DA27454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8D75-1068-4723-82C6-5FAEA7E7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C7E-17BF-4017-AEB0-190D3DE4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9989-498D-451E-A257-5E0B3DD2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5BCF-0C63-478C-9A9C-86BE7875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84A5-3E65-4011-AB44-C38E665B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99E0-91CE-4463-B3A6-E52A9D38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EBC4-65D7-40EE-A49A-F802FBBFC36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F41A-EE53-41EC-8C7C-A3DE46630B5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Times New Roman"/>
              </a:rPr>
              <a:t>DJECA S POSEBNIM POTREBAM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Mr. sc. Lara Caki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Djeca s posebnim odgojno-obrazovnim potrebama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jeca s teškoća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rovita dje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Djeca s teškoćama u razvoju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jeca oštećena vida (slijepa i slabovidn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jeca oštećena sluha (gluha i nagluh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jelesno invalidna i kronično bolesna djeca (distrofija, paraplegija, dječja cerebralna paraliza, epilepsija ..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talno nedovoljno razvijen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jeca s poremećajima govorno – glasovne komunikacije (govor ne postoji ili je jako                                                                                                  oteža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jeca s organsko uvjetovanim poremećajima u ponašanj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jeca s više vrsta i stupnjeva ometenos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ogrami ra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dgojno-obrazovne skupine s redovitim program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dgojno-obrazovne skupine s posebnim program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arovita dje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ROVITOST  =  sklop osobina koje omogućuju pojedincu da dosljedno postiže izrazito iznad prosječan uradak u jednoj ili više aktivnosti kojima se bav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-5% darovitih pojedina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Osobine darovite dje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n je </a:t>
            </a:r>
            <a:r>
              <a:rPr b="1" lang="hr-HR" sz="3200" spc="-1" strike="noStrike">
                <a:solidFill>
                  <a:srgbClr val="ffffff"/>
                </a:solidFill>
                <a:latin typeface="Times New Roman"/>
              </a:rPr>
              <a:t>prije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većine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na uvijek </a:t>
            </a:r>
            <a:r>
              <a:rPr b="1" lang="hr-HR" sz="3200" spc="-1" strike="noStrike">
                <a:solidFill>
                  <a:srgbClr val="ffffff"/>
                </a:solidFill>
                <a:latin typeface="Times New Roman"/>
              </a:rPr>
              <a:t>više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od svojih vršnjaka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n uvijek </a:t>
            </a:r>
            <a:r>
              <a:rPr b="1" lang="hr-HR" sz="3200" spc="-1" strike="noStrike">
                <a:solidFill>
                  <a:srgbClr val="ffffff"/>
                </a:solidFill>
                <a:latin typeface="Times New Roman"/>
              </a:rPr>
              <a:t>brže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d svih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na </a:t>
            </a:r>
            <a:r>
              <a:rPr b="1" lang="hr-HR" sz="3200" spc="-1" strike="noStrike">
                <a:solidFill>
                  <a:srgbClr val="ffffff"/>
                </a:solidFill>
                <a:latin typeface="Times New Roman"/>
              </a:rPr>
              <a:t>uspješnije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d svojih vršnjaka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n uvijek </a:t>
            </a:r>
            <a:r>
              <a:rPr b="1" lang="hr-HR" sz="3200" spc="-1" strike="noStrike">
                <a:solidFill>
                  <a:srgbClr val="ffffff"/>
                </a:solidFill>
                <a:latin typeface="Times New Roman"/>
              </a:rPr>
              <a:t>bolje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od drugih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na najčešće </a:t>
            </a:r>
            <a:r>
              <a:rPr b="1" lang="hr-HR" sz="3200" spc="-1" strike="noStrike">
                <a:solidFill>
                  <a:srgbClr val="ffffff"/>
                </a:solidFill>
                <a:latin typeface="Times New Roman"/>
              </a:rPr>
              <a:t>drugačije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od svih 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ogrami ra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šireni redoviti program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i rada u manjim skupinam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ebno prilagođeni program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ručna služb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vodni intervju – prije upisa u vrti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poznavanje posebnih potreb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dluka o upisu djete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aniranje i praćenje adaptaci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aniranje i praćenje razvojnih zadać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d s roditelji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Integracija, korist i nedostaci za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jete s teškoćama u razvoj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rovito dije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sječno dije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ditel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dgajatel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00:12:13Z</dcterms:created>
  <dc:creator>Lara</dc:creator>
  <dc:description/>
  <dc:language>en-US</dc:language>
  <cp:lastModifiedBy>stakac</cp:lastModifiedBy>
  <dcterms:modified xsi:type="dcterms:W3CDTF">2011-03-02T14:01:02Z</dcterms:modified>
  <cp:revision>5</cp:revision>
  <dc:subject/>
  <dc:title>DJECA S POSEBNIM POTREBAMA</dc:title>
</cp:coreProperties>
</file>