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7D57-A0BD-4C63-B96F-382538C25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5A97-7BF2-4CBA-B50B-3447B062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4AEE-A3F5-429B-8FEB-E710A82D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E890-B24E-4AC0-B599-6C056A003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E734-625E-42D8-A005-0EBB8A319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1C63-292D-4508-8BEA-B608CE36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AB40-1688-46A7-B937-740CA42B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0028-3DE4-496C-A246-43929E38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710E-0945-43C4-AB07-E0D977C0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48D8-10DE-4E78-83C8-D522E062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104D-CE56-49B4-AD52-36720CF2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9EDD-E777-4E81-8CF6-0DB547E5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4D5A-9B79-4B09-BF56-D0777419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28D5-DA8E-4D94-A227-05777D05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34F8-8823-460A-8EA1-63DAF499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1B0B-6270-4A8E-98AB-F4CDFA98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63DF-6B41-42E3-BDD7-DF05753E1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B86B-9262-4A3F-B7F9-0078EEF0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45A3-D04B-42BC-BFFF-3E027849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BAA4-8828-478A-AA5D-A2218686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A09E-8DF9-4E7C-972F-82989A42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F81E-30A9-4BB6-AE6C-E5290799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03C5-B788-43C9-A935-F313D7FB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5C4E-3318-4A1F-BF5C-C7E2FA16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C379-979A-48D8-9843-3A2FA70644E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6D42-FE93-4CEC-8C2E-F859303BA1A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Times New Roman"/>
              </a:rPr>
              <a:t>DJECA S POSEBNIM POTREBAM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Mr. sc. Lara Caki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Djeca s posebnim odgojno-obrazovnim potrebama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jeca s teškoća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rovita dje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Djeca s teškoćama u razvoju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jeca oštećena vida (slijepa i slabovidna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jeca oštećena sluha (gluha i nagluha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jelesno invalidna i kronično bolesna djeca (distrofija, paraplegija, dječja cerebralna paraliza, epilepsija ..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talno nedovoljno razvijen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jeca s poremećajima govorno – glasovne komunikacije (govor ne postoji ili je jako                                                                                                  oteža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jeca s organsko uvjetovanim poremećajima u ponašanj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jeca s više vrsta i stupnjeva ometenos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rogrami ra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dgojno-obrazovne skupine s redovitim program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dgojno-obrazovne skupine s posebnim program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arovita dje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ROVITOST  =  sklop osobina koje omogućuju pojedincu da dosljedno postiže izrazito iznad prosječan uradak u jednoj ili više aktivnosti kojima se bav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-5% darovitih pojedina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Osobine darovite dje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n je </a:t>
            </a:r>
            <a:r>
              <a:rPr b="1" lang="hr-HR" sz="3200" spc="-1" strike="noStrike">
                <a:solidFill>
                  <a:srgbClr val="ffffff"/>
                </a:solidFill>
                <a:latin typeface="Times New Roman"/>
              </a:rPr>
              <a:t>prije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većine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na uvijek </a:t>
            </a:r>
            <a:r>
              <a:rPr b="1" lang="hr-HR" sz="3200" spc="-1" strike="noStrike">
                <a:solidFill>
                  <a:srgbClr val="ffffff"/>
                </a:solidFill>
                <a:latin typeface="Times New Roman"/>
              </a:rPr>
              <a:t>više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od svojih vršnjaka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n uvijek </a:t>
            </a:r>
            <a:r>
              <a:rPr b="1" lang="hr-HR" sz="3200" spc="-1" strike="noStrike">
                <a:solidFill>
                  <a:srgbClr val="ffffff"/>
                </a:solidFill>
                <a:latin typeface="Times New Roman"/>
              </a:rPr>
              <a:t>brže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d svih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na </a:t>
            </a:r>
            <a:r>
              <a:rPr b="1" lang="hr-HR" sz="3200" spc="-1" strike="noStrike">
                <a:solidFill>
                  <a:srgbClr val="ffffff"/>
                </a:solidFill>
                <a:latin typeface="Times New Roman"/>
              </a:rPr>
              <a:t>uspješnije 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d svojih vršnjaka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n uvijek </a:t>
            </a:r>
            <a:r>
              <a:rPr b="1" lang="hr-HR" sz="3200" spc="-1" strike="noStrike">
                <a:solidFill>
                  <a:srgbClr val="ffffff"/>
                </a:solidFill>
                <a:latin typeface="Times New Roman"/>
              </a:rPr>
              <a:t>bolje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od drugih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na najčešće </a:t>
            </a:r>
            <a:r>
              <a:rPr b="1" lang="hr-HR" sz="3200" spc="-1" strike="noStrike">
                <a:solidFill>
                  <a:srgbClr val="ffffff"/>
                </a:solidFill>
                <a:latin typeface="Times New Roman"/>
              </a:rPr>
              <a:t>drugačije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od svih 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Programi rad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šireni redoviti program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ami rada u manjim skupinam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ebno prilagođeni program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ručna služb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vodni intervju – prije upisa u vrti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poznavanje posebnih potreb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dluka o upisu djetet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laniranje i praćenje adaptacij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laniranje i praćenje razvojnih zadać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d s roditelji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Integracija, korist i nedostaci za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jete s teškoćama u razvoj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rovito dije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sječno dije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ditelj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dgajatelj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00:12:13Z</dcterms:created>
  <dc:creator>Lara</dc:creator>
  <dc:description/>
  <dc:language>en-US</dc:language>
  <cp:lastModifiedBy>stakac</cp:lastModifiedBy>
  <dcterms:modified xsi:type="dcterms:W3CDTF">2011-03-02T14:01:02Z</dcterms:modified>
  <cp:revision>5</cp:revision>
  <dc:subject/>
  <dc:title>DJECA S POSEBNIM POTREBAMA</dc:title>
</cp:coreProperties>
</file>