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E1D-F63F-488E-B380-04AF94B5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A76-234E-4DAA-83FD-4948C68F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1F9-1C19-401C-8455-8EF9DE6B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E8C-2181-4F53-9A96-4753E350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8740-5927-4D4E-A5BE-98B11E0C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B0F3-74C3-481B-A78F-081C729B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C54B-96A4-43EA-9B15-B861C187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F1DB-ED32-4E74-8966-AD4FF7D0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735E-17BF-4D04-8249-EC6E9334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FCD7-0682-4DF3-8359-7D07C41A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F9F9-5B40-45CE-999B-0F5568BF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C28-EA42-4E81-BA2C-4FF3CEFF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724E-C1E4-4332-A112-FD9D5424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394C-CED1-46E0-894B-AC85F184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05FA-8850-40A3-AAE4-0A19C1A3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D828-4460-4A49-A7C0-CCD86B79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71AC-A714-4714-9BD5-44A9871E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E8E2-3A28-4A6C-9B21-468FEBC2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C9C-BFBE-4EAD-877B-5D8AC7DC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404-B591-43FD-B134-B9692F70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1D4-F6DC-487C-8AAA-381C4080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98B-F296-4D44-883B-71647B6B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CE0-0C57-4984-8ED3-3E1FA748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74B-9CFB-41D4-AC6C-B30EC508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7C04-D2ED-49E6-B06A-A4AB854294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D0DE-D8D2-4BC9-83B1-982DE7C0AD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ULOGA STRUČNOG SURADNIKA-DEFEKTOLOGA I INTEGRACIJI DJECE S POSEBNIM POTREBAMA U REDOVITOJ SKUPINI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Donji Miholjac, 1. ožujka 2011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Silvija Genčić, defektolo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DV Vukovar 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 ODNOSU NA DIJETE S TU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adovoljavanje specifičnih potreba dje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ačanje pozitivne slike o seb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zvijanje motoričkih, senzoričkih, spoznajnih i komunikativnih sposobnos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aćenje djete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đenje dokumentacije o djetet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U ŽIVOTU POSTOJE STAKLENE I PLASTIČNE ČAŠ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Djeca s posebnim potrebama su staklene, kristalne čaše, koje se drže oprezno i ne smiju se ispustiti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omozimo im da povećaju svoje mogućnosti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Cilj je zahtjevan, lakše je ostvariv ako imamo male podciljeve, dnevni korak koji sam učinio s njim da On i ja budemo zadovoljniji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Ako sam danas učinio taj korak, potapšat ću se po ramenu, označit ću sebi +, u mislima ili dnevnim zapažanjim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ava djece s posebnim potrebam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avo na veselo i bezbrižno djetinjstv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avo na društvo vršnja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avo na uključenost u odgovarajuće programe ranog odgoja i obrazovanj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pis djece s TUR u dječji vrtić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Zaprimanje zahtjev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vid u medicinsku dokumentaciju svih članova 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govor oko termina djeteta i roditelja, radi obavljanja inicijalnog razgovo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imska obrada djete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šljenje ST o razvojnom statusu djeteta i zaključno mišljenje o mogućnosti uključivanja djeteta u vrtić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stanak s roditeljima radi iznošenja zapažanja o mogućnostima prijema djeteta u vrtić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 slučaju nemogućnosti prijema roditeljima se iznose razlozi i upućuje ih se u rehabilitacijske institucije koje više odgovaraju psihofizičkim mogućnostima djete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 izabire odgovarajuću odgojnu skupinu i odgojitelja za dijete s teškoćama u razvoju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 određuje opservacijski postupa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ŠTO NAKON PROVEDENE OPSERVACIJE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dabire se pro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zrađuje se individualni pro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jete se uključuje u skupin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 ODNOSU NA ODGOJITELJ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ektolog daje stručnu pomoć, podršku u planiranju i neposrednom rad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poznaje odgojitelja s teškoćom djetet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laniranje organizacije, materijalnih uvje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zgovori o pristupima, postupcima i metodama rad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vakodnevni i tjedni dogovor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minari i radion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U ODNOSU NA RODITELJE DJETETA S TU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drška i pomoć u prihvaćanju i razumijevanju djetetovih specifičnih potreb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drška roditeljima u ostvarivanju roditeljstva u najboljem interesu djete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jednačen odgojni utjecaj na dije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drška u ostvarivanju prava roditelja djece s teškoćama u razvoju koja im pripadaju po zakon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U ODNOSU NA RODITELJE DRUGE DJECE U SKUPIN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formiranje o integraciji djeteta s TUR u skupinu njihove dje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 ODNOSU NA DJECU SKUP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roz primjerene odgojno-obrazovne sadržaje pripremiti djecu odgojne skupine za prihvaćanje djeteta s TU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9:17:02Z</dcterms:created>
  <dc:creator>D.V. Vukovar</dc:creator>
  <dc:description/>
  <dc:language>en-US</dc:language>
  <cp:lastModifiedBy>D.V. Vukovar</cp:lastModifiedBy>
  <dcterms:modified xsi:type="dcterms:W3CDTF">2011-02-10T10:45:09Z</dcterms:modified>
  <cp:revision>2</cp:revision>
  <dc:subject/>
  <dc:title>ULOGA STRUČNOG SURADNIKA-DEFEKTOLOGA I INTEGRACIJI DJECE S POSEBNIM POTREBAMA U REDOVITOJ SKUPINI</dc:title>
</cp:coreProperties>
</file>