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3471-56E7-4BE5-BD02-5C4726B5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ACA-D15E-4325-9238-6B7838B9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88B-5BDC-4ACC-BECF-DBA427FB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625-36ED-4AA1-9C9C-59B101A8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B549-0D93-4B05-9A2D-47911DFE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2B34-208E-435F-91FC-8363CA2A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CF66-F966-4C0E-BC4E-AE9E56E3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568B-26C4-4730-A8B6-55037E69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6081-C00D-445A-B6E9-54C92851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8DED-6824-4A40-80E8-C9AB96C9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8F14-54FE-4E82-891E-D3C4977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994-3F32-462B-B799-194B7E2B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3370-A6FC-44F8-ADA4-76E51AD7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DB7-8A53-4FAD-B8BD-E4478BA9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8D4-5F8D-4AE5-BC24-FE577CD6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D38-739F-4C80-B28D-AAC45B12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B62-D5DC-442B-A61F-98155036A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0295-E211-4695-9695-CC609975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B7C4-D5BE-44F3-9452-123AB354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883F-34F0-493D-A27D-872B737A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042-8D91-4262-9DF9-945474A4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035-E0D0-4B5A-BA69-DAE304B5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1F4-CB8E-4C3A-A722-0AB0005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A52-3C8A-43DB-9DED-9A2AB86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71E9-C5A7-4826-898C-4C633C770E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A705-E6AE-42C3-9B58-8626CA7124C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ULOGA STRUČNOG SURADNIKA-DEFEKTOLOGA I INTEGRACIJI DJECE S POSEBNIM POTREBAMA U REDOVITOJ SKUPIN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onji Miholjac, 1. ožujka 2011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lvija Genčić, defektolo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DV Vukovar 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DIJETE S TU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Zadovoljavanje specifičnih potreba dje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ačanje pozitivne slike o seb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zvijanje motoričkih, senzoričkih, spoznajnih i komunikativnih sposobnos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ćenje djete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đenje dokumentacije o djetetu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6666"/>
                </a:solidFill>
                <a:latin typeface="Arial"/>
              </a:rPr>
              <a:t>U ŽIVOTU POSTOJE STAKLENE I PLASTIČNE ČAŠ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Djeca s posebnim potrebama su staklene, kristalne čaše, koje se drže oprezno i ne smiju se ispusti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Pomozimo im da povećaju svoje mogućnost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Cilj je zahtjevan, lakše je ostvariv ako imamo male podciljeve, dnevni korak koji sam učinio s njim da On i ja budemo zadovoljniji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Verdana"/>
              </a:rPr>
              <a:t>Ako sam danas učinio taj korak, potapšat ću se po ramenu, označit ću sebi +, u mislima ili dnevnim zapažanji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Prava djece s posebnim potreba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veselo i bezbrižno djetinjstv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društvo vršnjak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avo na uključenost u odgovarajuće programe ranog odgoja i obrazovanj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pis djece s TUR u dječji vrtić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Zaprimanje zahtje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vid u medicinsku dokumentaciju svih članova 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ogovor oko termina djeteta i roditelja, radi obavljanja inicijalnog razgovor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imska obrada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šljenje ST o razvojnom statusu djeteta i zaključno mišljenje o mogućnosti uključivanja djeteta u vrti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stanak s roditeljima radi iznošenja zapažanja o mogućnostima prijema djeteta u vrtić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 slučaju nemogućnosti prijema roditeljima se iznose razlozi i upućuje ih se u rehabilitacijske institucije koje više odgovaraju psihofizičkim mogućnostima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 izabire odgovarajuću odgojnu skupinu i odgojitelja za dijete s teškoćama u razvoju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 određuje opservacijski postupak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ŠTO NAKON PROVEDENE OPSERVACIJ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dabire se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zrađuje se individualni progra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ijete se uključuje u skupin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ODGOJITELJ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ektolog daje stručnu pomoć, podršku u planiranju i neposrednom rad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poznaje odgojitelja s teškoćom djetet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iranje organizacije, materijalnih uvj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zgovori o pristupima, postupcima i metodama rad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vakodnevni i tjedni dogovor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minari i radion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 ODNOSU NA RODITELJE DJETETA S TU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i pomoć u prihvaćanju i razumijevanju djetetovih specifičnih potreb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roditeljima u ostvarivanju roditeljstva u najboljem interesu djetet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jednačen odgojni utjecaj na dij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drška u ostvarivanju prava roditelja djece s teškoćama u razvoju koja im pripadaju po zakonu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U ODNOSU NA RODITELJE DRUGE DJECE U SKUPIN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formiranje o integraciji djeteta s TUR u skupinu njihove dje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 ODNOSU NA DJECU SKUP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Kroz primjerene odgojno-obrazovne sadržaje pripremiti djecu odgojne skupine za prihvaćanje djeteta s TU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09:17:02Z</dcterms:created>
  <dc:creator>D.V. Vukovar</dc:creator>
  <dc:description/>
  <dc:language>en-US</dc:language>
  <cp:lastModifiedBy>D.V. Vukovar</cp:lastModifiedBy>
  <dcterms:modified xsi:type="dcterms:W3CDTF">2011-02-10T10:45:09Z</dcterms:modified>
  <cp:revision>2</cp:revision>
  <dc:subject/>
  <dc:title>ULOGA STRUČNOG SURADNIKA-DEFEKTOLOGA I INTEGRACIJI DJECE S POSEBNIM POTREBAMA U REDOVITOJ SKUPINI</dc:title>
</cp:coreProperties>
</file>