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609F-EE50-45E1-B4C8-35DE9EFA951B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761B-DF39-43BD-88C0-648769A18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B558-192A-49FA-B6FD-88E25F4B7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C536-A2CF-4D94-B293-52FAC9215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FF75-9763-480F-8384-5A794EE0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8EC7-6A04-4EDC-931E-A41D1733C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CE75-E35A-45A9-8959-9DFC6A06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CD6B-4EA8-4914-BE81-FE633BFAD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DDC2-DEB3-42D0-A56D-B1D3CB06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8DC8-5A5D-439D-B5D8-701B7732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2585-DA87-4338-B4DD-CFFCCB480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6EBC-AD63-43EB-81EF-69A590B6B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E8C0-B9C2-4C46-9A32-ADC3C21B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4DCE-BCC5-4CA3-987D-987D4541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00F4-E272-45EA-8F64-3F94CA4B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510D-1A14-4F02-A205-52477621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6F53-3D2E-4FD8-BE2F-BFAA81AE9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A886-7003-41BA-A2FC-8EDD2BA8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F822-AEE8-42A2-B34C-7CD83D497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EEFC-6C53-43A8-98AE-007D0DB3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528B-AC49-4D56-9D01-2250474CB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4166-F4C2-4C3E-99D3-0D18D45C5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F5BF-A8C7-41EF-9EE8-59C37A39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FB29-0599-444B-9E14-54F44B07F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D61D-B986-465C-9D99-61743093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AC62-0C34-4D41-B94D-D3D737F7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7E1-95FA-4DE4-85BC-FC0FE70D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2C00-119D-4CB4-825F-8835DCD61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D19E-6732-4D19-9E8A-B50FB6D4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66BB-3C5C-42E8-93BD-9EB5A711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B6FB-14F1-4E4F-9D92-27622E94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28E1-9D15-40DE-9281-722AA45E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DF6-F3C6-49AB-BB69-BBE92D0B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CC6-4BF5-4651-A5F3-9B33ABAE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EDA-1127-413B-848B-459518B1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09E-90FB-4F9B-A9D2-F7116434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6E75-78C2-4056-AFFA-7A13A6E7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51A2-0CD5-45ED-BB09-592FD260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75A0-5DB5-4CBD-970A-1BC17D12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155D-8BD7-458F-80B3-B223DB2B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4BAD-CAEA-4C09-A029-CFA93C64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1B60-BD7F-4C0C-983B-0DCF1EA5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4B23-E0F3-45A1-B043-32BD7E94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57D-0C20-4CD0-B7C8-00CD2D8B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F497-C882-4005-864B-5E9232F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4322-F5FA-4C7E-9602-CDFBB93D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0553-801D-4110-B73A-CE53D33D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9C03-9C32-4328-A08E-F879EBD0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2C14-CF19-44A9-AD4C-9079C5D9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85C-2DFC-42A9-B83A-B1A482AC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AB7-A1C7-4874-8312-404213B1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F02-503B-45CE-B465-5E3A4704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3F3-44D1-4BBE-9232-98FBE618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603-4BAA-46FE-A76B-8FE5681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6B5-00EA-4E8E-86B0-4910149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4A6-1CE9-465A-B0D8-A020B217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0906-B64B-4616-9B72-9858A8F962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FCA3-BA97-48A5-B38F-1EE279475D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sko.sindik@inantro.h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13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0000"/>
                </a:solidFill>
                <a:latin typeface="Times New Roman"/>
              </a:rPr>
              <a:t>Zastupljenost i odnos zdravstvenih i prehrambenih navika kod mladih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486900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r. sc. Joško Sind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stitut za antropologiju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josko.sindik@inantro.h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BC83-9FB7-499B-A015-C3BED71423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3640" y="1844640"/>
            <a:ext cx="859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tivacija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vjesna pokretačka snaga kojom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formira i usmjerava ponašanje,a razlog se može argumentirati 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razlož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vacijski ciklus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urnost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reb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sjećaj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Želja (borba motiva)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cij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lj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ur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vika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ljen način ponašanja u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dređenim situacijama, naučen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om uvjetovanja i ponavlj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560" y="7254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tni pojm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22C-557D-4A5D-98C1-65ECCB9D48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91628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tav =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rajna tendencija reagiranja prema osobama, situacijama itd., pozitivno ili negativno usmjerena prema pojav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Životni stil =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staljeni oblik ponašanja nastao temeljem i odabirom između raspoloživih mogućnosti i jedne alternative na račun drugi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560" y="7254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tni pojm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8E8-3F5D-4295-96DE-BFC2EB8836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0920" y="907920"/>
            <a:ext cx="866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Životni sti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suočavanja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Coping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druženja i komunikacije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Relating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odlučivanja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Decision-making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600" indent="-4086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preuzimanja rizika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Risk-taking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FC3-2224-4F31-9D3E-BD0CE9A263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9280" y="692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-38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Životni sti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rada i stvaranja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Work-creating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samozaštite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Self-conservation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zaštite okoline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Environmental conservation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-3898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odmora i opuštanja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Rest-relaxation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7E2-BB17-43F0-9743-6549DC7E68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9140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61440" indent="-361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omic Sans MS"/>
              </a:rPr>
              <a:t>Životni stilo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prehrane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Nutritional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uživanja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Pleasure-seeking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potrošnje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Consumer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tilovi samouređenja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Grooming sty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22C-7BB5-4208-A1BE-1E54C395A9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3520" y="914040"/>
            <a:ext cx="8431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dravstveno ponaš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zitivno zdravstveno ponašanje (zdrave navi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entivno zdravstveno ponaš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lesničko ponašanje (pri traženju pomoć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našanje u ulozi boles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D53-274B-4590-BE6A-B988AC7A62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9280" y="620640"/>
            <a:ext cx="8964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Comic Sans MS"/>
              </a:rPr>
              <a:t>Lokus kontrole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 – mjesto nadzora zdravstven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onašanja 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(Wallston, 198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Osobne unutarnje snage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Internality L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nage drugih osoba (Powerful other externality 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L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lučajne snage (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Chance externality L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D79-4430-455B-87A2-93F0CCFFC6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79280" y="692280"/>
            <a:ext cx="8964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Comic Sans MS"/>
              </a:rPr>
              <a:t>Lokus kontrole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 – mjesto nadzora zdravstven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onašanja 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(Wallston, 198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Osnovna pogreška: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 svakodnevnom životu ljudi u specifičnim situacijama pridaju 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reveliko ili premalo značenje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anjskim ili unutarnjim čimbenicima kao percipiranim “uzročnicima” zbiva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raznovjerje = z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blude ljudske fantazije ko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judi i zajednice nalaze i tumače “uzroke” stvarima i zbivanjima čiju prirodu ne pozn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F9B-8834-4304-AD2F-05929C7B97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765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Comic Sans MS"/>
              </a:rPr>
              <a:t>Lokus kontrole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 – mjesto nadzora zdravstven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onašanja 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(Wallston, 198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lacebo =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pecifičan proces “autohipnoze” čiji se efekti pouzdano mogu registrirati u funkcijama limbičkog i endokrinog sustava (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</a:rPr>
              <a:t>Rossi, 198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sihološka bespomoćnost </a:t>
            </a: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(learned helplessness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ez obzira što se poduzme, nemoguće je utjecati (“sreća” – “nesreća”); pasivno samoizlaganje stresnim situacijama (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</a:rPr>
              <a:t>Forsteling, 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882-60ED-4343-8C5C-356F5C65F0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8380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Comic Sans MS"/>
              </a:rPr>
              <a:t>Lokus kontrole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ercepcija fizioloških promjena =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uveličavanje vanjskih čimbenika nad kojima se nema nikakva kontrola (primjer kroničnih bolesnika - 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</a:rPr>
              <a:t>Barath, 19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Kažnjavanje žrtve (viktimizacija) -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“Ljudi dobiju onoliko koliko zaslužuju, a zaslužuju onoli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koliko dobiju”. Svaka sreća ili nesreća trebaju imati svoj “razlog”. (</a:t>
            </a:r>
            <a:r>
              <a:rPr b="0" i="1" lang="hr-HR" sz="2800" spc="-1" strike="noStrike">
                <a:solidFill>
                  <a:srgbClr val="000000"/>
                </a:solidFill>
                <a:latin typeface="Comic Sans MS"/>
              </a:rPr>
              <a:t>Lerner &amp; Miller, 197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89C-B61B-4E8E-B15F-5E8BE45ED6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24000" y="83664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O čemu ćemo govor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stveni odgoj – ciljevi i obl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mocija zdravlja – posebna ili integri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Bitni pojm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Životni stil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stveno ponaš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okus zdravstvene k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straživanje prehrambenih i drugih zdravstvenih navika i lokusa zdravstvene kontrole na Hva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aključ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BB2-7D2D-43D2-BF85-56E478A25C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8380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Comic Sans MS"/>
              </a:rPr>
              <a:t>Lokus kontrole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amooptuživanje =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“Jedino sam sam kriv za bolest“ (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Kubler- Ross, 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Optuživanje drugog =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tjecaj podsvjesnih mehanizama ličnosti: paranoja, agresija, regresija (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Higgis &amp; Snyder, 19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Deindividualizacija = psihosocijalno poništavanje ličnos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vosmjerni proces: ili osoba samu sebe deindividualizira, a okolina to prihvaća i potkrepljuje, ili obrnuto (primjer optimističnog gledanja i depresivnosti) (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Lazarus, 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8B9-06B6-4D66-B848-CD36673B47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0920" y="62064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Istraživanje na Hva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Istraživanje zdravstvenih navik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općenito, prehrambenih navika i lokusa zdravstvene kontrole kod adolescenata (srednjoškola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vođenje kao dio projekta Instituta za antropologiju (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ehrambene navike i metabolički sindrom kod adolescenata)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 u suradnji 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gencijom za odgoj i obrazo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Hrvatskim zavodom za javno zdravst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ehrambeno-biotehnološkim fakulteto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Gimnazijom Hvar i podružnicom škole u Jelsi (N=147 učenika, dobi od 14-17. god., oba sp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4EF-7D3A-4920-A204-F45ECD7034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0920" y="62064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Istraživanje na Hva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pitnik s subupitnicim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ehrambenim navikama (43 pitanja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stvenim navikama (5 pitanja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okusu zdravstvene kontrole (14 pitanj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722-7BA1-4EC7-A974-A3AC67E1C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2205000"/>
          <a:ext cx="8748720" cy="3240000"/>
        </p:xfrm>
        <a:graphic>
          <a:graphicData uri="http://schemas.openxmlformats.org/drawingml/2006/table">
            <a:tbl>
              <a:tblPr/>
              <a:tblGrid>
                <a:gridCol w="7056720"/>
                <a:gridCol w="1692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kus zdravstvene kon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ko se razbolim, o mojem vlastitom ponašanju ovisi koliko ću brzo ozdravit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utraš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z obzira što poduzimam, ako se trebam razboljeti, razboljet ću 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reć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doviti kontakt s liječnikom najbolji je način da izbjegnem bolest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age drugi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2932560" y="7650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mjeri tvrdn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475-40F9-44C4-A7E6-06CA75DD4B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9280" y="2421000"/>
          <a:ext cx="8748720" cy="2940120"/>
        </p:xfrm>
        <a:graphic>
          <a:graphicData uri="http://schemas.openxmlformats.org/drawingml/2006/table">
            <a:tbl>
              <a:tblPr/>
              <a:tblGrid>
                <a:gridCol w="7056360"/>
                <a:gridCol w="16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drave nav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želj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dovito tjelesno vježb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vaki dan pronađem vrijeme za odmor i opušt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jem alkoh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je od dva sata dnevno provedem pred TV i r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l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š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35080" y="765000"/>
            <a:ext cx="83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Skraćena verzije tzv. Ček-iste zdravih nav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(Barath, ”Kultura, odgoj i zdravlje”; ZVU, 199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575-BE8E-4040-BBD0-FA5E2E7A11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98360" y="1809720"/>
          <a:ext cx="8748720" cy="3605400"/>
        </p:xfrm>
        <a:graphic>
          <a:graphicData uri="http://schemas.openxmlformats.org/drawingml/2006/table">
            <a:tbl>
              <a:tblPr/>
              <a:tblGrid>
                <a:gridCol w="7056360"/>
                <a:gridCol w="169236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hrambene nav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želj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mojoj svakodnevnoj prehrani podjednako su zastupljene namirnice biljnog i životinjskog porijek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sam bio/la na dijeti s ciljem smanjenja tjelesne mase tijekom zadnjih 12 mjeseci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nevno redovito imam tri glavna obroka (doručak, ručak i večeru)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932560" y="7650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mjeri tvrdn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5800" y="5734080"/>
            <a:ext cx="85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apravo 2 upitnika: Sastav (1) i Briga o prehrani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E2C-761A-4740-AEFB-50943E018E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9280" y="692280"/>
            <a:ext cx="8964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Najvažniji ciljevi istraži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vid u zdravstvene navike srednjoškol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vezanost između različitih vrsta zdravstvenih navika (latentne dimenzi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olne razlike u zdravstvenim navikama srednjoškol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8240" indent="-40824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bne razlike u zdravstvenim navikama  srednjoškola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65C-8888-418C-BBCA-162253F2DA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692280"/>
            <a:ext cx="8964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Comic Sans MS"/>
              </a:rPr>
              <a:t>Najvažniji rez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Uvid u zdravstvene navike srednjoškol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eskriptivna statisti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okus zdravstvene k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drave nav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hrambene nav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B59-86C1-41B8-9FB1-81189938E3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692280"/>
            <a:ext cx="8964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83760" indent="-383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Comic Sans MS"/>
              </a:rPr>
              <a:t>Najvažniji rez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ovezanost između različitih vrsta zdravstvenih navika (latentne dimenzi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terkorelacije (povezanosti unutar skupo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Zdrave nav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okus zdravstvene kontrole (P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riga o prehr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C46-B896-4E66-A646-FCFFBC5F33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692280"/>
            <a:ext cx="8964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Najvažniji rez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olne razlike u zdravstvenim navikama srednjoškol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ji broj razlika je pronađe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ga - aktivno vođenje računa o prehrani (&gt; Ž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ovito tjelesno vježbam (&gt;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D71-71EF-4F68-81F1-C1CC7C3CDF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03280" y="620280"/>
            <a:ext cx="864072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63360" indent="-6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ći problem suvremenog društva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zdravstvu se većina novca troši na kurativu, a minimalno na preven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prav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venci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je zaslužna za bolje zdravlje i duži životni vijek (premda se ne smije zanemariti ni udio napretka farmaceuti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četkom 20. st. u bogatim zemljama je prosječna očekivana životna dob bila 40-50 god., a u siromašnim znatno niž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nas je prosjek oko 76 godina, s predviđenim rastom na 83 godine do 20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1C3-B6B9-40BB-B4A4-E68E264C59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79280" y="692280"/>
            <a:ext cx="8964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444600" indent="-444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Najvažniji rez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bne razlike u zdravstvenim navikama srednjoškol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ji broj razlika je pronađe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ovito tjelesno vježbam (&gt; mlađ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šim (&gt; starij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jem alkohol (&gt; starij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DC2-0888-449C-91FC-8622EC072F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9280" y="549360"/>
            <a:ext cx="8964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02120" indent="-40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ZAKLJUČ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prkos nekim nepopularnim trendovima, rezultati ulijevaju i optimiz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ak, treba imati na umu da riječ o otoku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kođer postoji sumnja u iskrenost odgovaranj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 ako su i stavovi realno pozitivni, veliku važnost treba pridati zdravom ponašanju i navikam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 tome bitnu ulogu ima zdravstveni odgoj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AFB-BA95-4A3A-A246-1D9CB94851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920" y="184464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Molimo riješite ovaj upitnik i dajte ga i svojim učenicim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VALA NA PAŽNJ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AD8-B532-4377-8619-8D7617C894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24000" y="83664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52080" indent="-352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omic Sans MS"/>
              </a:rPr>
              <a:t>Prevencija se može svesti n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Zdravstveni odgoj =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stvena 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stveno prosvjeć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stveno informir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stveni odg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stvena k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micanje zdravlja =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stvena poli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drav okoli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azvoj osobnih vješ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kcija zajed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eorijentacija zdravstvene služ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14C-1706-45B4-9093-D33E6DAD43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948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micanje zdravlja - posebno ili integrirano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ostalna disciplina/stru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jelatnost unutar javnog zdravs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jera integrirana u svakodnevni pos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ebno organizirana aktivnost drug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F8A-34E6-4F27-9A0E-617668B12D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560" y="54936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61440" indent="-361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sebno ili integrir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ituacija d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TREBE I ZAHTJEVI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oje, interes ra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LJEVI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jasni, nema plana i p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KTIVNOSTI I OBLICI RADA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zličiti, sporadični, kvaliteta upi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SITELJI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zličiti, motivacija nis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REDSTVA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malni posebni izvori, bez sustavnog rješen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LUA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oradična ili je uopće 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440" indent="-36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000-8D36-47FD-8059-5393503A9A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09480" y="914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Pristupi zdravstvenom odg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acionalni pristup (zna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ihevioralni pristup (ponašanje, navi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sihodinamski pristup (emocije, stavov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ociodinamski pristup (sustav vrijednos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B50-0A5B-434A-96D7-BB2A2D0F9F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3640" y="91440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lici zdravstvenog odg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dravstvena propaganda (impres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dravstveno prosvjećivanje (znanje, informa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dravstveni odgoj u užem smi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6C6-D111-4171-A8C9-23695554B8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3640" y="91440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lavn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nogi znaju što je dobro a što ne, ali malo ih je koji se zdravo i ponaš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šenje je štetno” – a opet p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ići da se ljudi 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naša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smjeru prevencije 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sjeća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a im je važno ponašati se zdravo, a ne samo n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oznajnoj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z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98B-FBE0-47B1-9F08-CA12C715BC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4:33:09Z</dcterms:created>
  <dc:creator>Josko</dc:creator>
  <dc:description/>
  <dc:language>en-US</dc:language>
  <cp:lastModifiedBy>Josko</cp:lastModifiedBy>
  <dcterms:modified xsi:type="dcterms:W3CDTF">2013-01-09T21:21:09Z</dcterms:modified>
  <cp:revision>16</cp:revision>
  <dc:subject/>
  <dc:title>Slajd 1</dc:title>
</cp:coreProperties>
</file>