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FB92-91A8-4085-B7F8-A31FBDE00F0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C03-718A-43A7-86F9-3FC45D269B3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853B-DA4F-4D54-B76C-B64C887F1FB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Galerijsk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ale grupe označene brojevima; zatim velike od predstavnika svih malih; obilaze se pojedina radna mjesta, predstavnik svake male grupe objašnjava svima; pomicanje npr. u smjeru kazaljke na satu; ograničeno vrij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Nakon izlaganj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čenici pišu zaključno izvješć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ije prezentacije pišu tri važna pitanja na koja će odgovori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smeno odgovar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FF8D-ED21-4A49-A1BF-B53848A5E12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KONSTRUKCIJA – važno je da učitelj ne prenosi znanje učeniku; svatko tko uči najprije konstruira značenje (smisao) na što ga potiču zadatci na nastavnim materijalima. U ovoj se fazi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konstrukcije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edznanje povezuje s novim znanj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0403-7D88-4E62-9934-AAAB42C7218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DD6D-E233-4906-B6DD-90C5B71E11C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A2B8-E173-476A-A950-9CCE54FC371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individualne obrade (ko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matičnoj grup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ili za domaću zadaću;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nijeti,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kak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nijeti i kako konsolidirati zn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suradničke obrade (suko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tručnoj gru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jedan prezentira, drugi dopunjuj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- jedan od temeljnih oblika razmjene; učenici rješavaju raznovrsne zadat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prenošenja (i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matičnoj gru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tručnjac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uzimaju ulogu nastavn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harearound” -  jedan od temeljnih oblika razmjene; učenici rješavaju istovrsne zadatke; prezentacija u smjeru kazaljke na sa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prezentacije i integracije – frontalni 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ozvani prezentiraju o područjima koja nisu obrađivali u stručnim grupama; nastavnik može putem nastavnoga razgovora s učenicima napraviti skicu na ploči koja prikazuje najvažnije rezul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apome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Zadaci trebaju biti podjednako teški (obimn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pute trebaju biti jasne i jednostavne, a materijal dobro označ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A706-1FF4-4F7A-BDB1-A777767255F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BE49-7749-43DB-A6A7-89E95595A95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043C-562D-4065-95CC-B6E48251417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56B0-1D86-4333-BDA7-3758C1B950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C6A5-E446-4019-A940-76E077CB4FD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9B96-2196-40D5-A184-70DBD70A83E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Praktične upu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 Veliki papir je privlačniji za 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redina papira se može izrezati (i poslužiti za razredni poster ili plan ploč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a sredinu se može staviti prozirn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ko nema velikog papira mogu se upotrijebiti mali, za svakog učenika (kružna razmjena) i jedan zajednič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818D-404F-442C-98CA-8FC431B5842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FFB5-910B-41B8-A4AA-A7746A9303F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5463-0E79-4E42-8A67-8BD78AA7D2D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2DBB-5FCC-4EB9-A31E-7A7C93EC985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7BD5-A60B-4FEA-AEDA-F222E795EB5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323-0E5C-4F91-9658-D35B5AF8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ECF-D344-4827-8F15-D757BF9E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FF7-705A-4D46-A1BB-3EACB39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252-1637-44A1-83D2-842AEE85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645B-12ED-4783-87C6-C4AC3739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B821-8D2D-4AA8-80B6-FA8955A7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F5FA-4F7D-4C12-9256-20811E9C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51B7-8EBE-4F30-82A2-71CD8758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13D1-6563-4EED-AF0F-51ABE8A1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C386-77A7-45CF-9107-F91A126C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5FF9-1C95-4A4E-B8AF-BE1ECA1D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C88-C816-4949-B786-92A0172D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CA9B-ECDE-462E-912F-49C889D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DFC0-D1C1-4728-A7E1-2E88669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6BE9-5D4E-44B0-8F04-EB7B9606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A6DB-13E8-4B53-A5C4-39DA9FCF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5F73-ABCD-4B9C-84ED-4E19E460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2388-1A15-40B0-AB19-A78748F8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EB3C-E56C-4C96-B67C-ED7B1ACE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3C65-8EC0-4B30-8F59-78484267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EBDED-BCC2-4505-9F45-3C72BDBB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6ADC-79C9-4D86-8C60-75CC2BC1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FB0-A24E-494C-BDD3-BF315A4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5998-2CC7-4CAD-BF9C-4522B37D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D1CF-AEB0-4D60-8586-B36E3D3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84C0-3188-42EB-9706-81377C23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BD75-F7BC-4BAF-99E2-59E5E70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E595-7883-423D-B5B6-87781A13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93E2-BD37-4608-91CF-4633925B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6961-D778-403B-9D64-8162DDF0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336F1-002B-4815-A859-D1C6481C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5D62-712E-400D-8EBC-85F58C77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CBF7-38F9-4074-B9A4-03CFD221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949-87F9-45AC-86CE-DB768D10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2707-92A6-4BB0-A7B8-D233F48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B20C-433E-488A-A657-FD8BC7CF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2DC1-DF2C-4B67-BE02-6834F38B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7456-25CB-4FDD-B195-3A2D2D46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5FA1D-4542-4A18-B503-18D191DA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60F7-1B7D-4FE6-B3AE-7A67473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09A3-42EC-49B1-A141-A6DAEB9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1FF9-867A-4437-AF99-BA1FAE37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81DF4-831E-4AD4-98EC-F60B5712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4B4-ECC6-4D04-97ED-DBD1F25A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E8B-3E8A-4FCE-8A67-A3EFA740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69A-92F3-4833-87B4-797E3E2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5C9-4DF3-4E4A-834B-65D203F6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39C-E12C-431F-82C0-C6E44F3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F6D-BAE8-457A-BEF5-56B006AED00F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7EBE-A6D9-47C4-85CC-DAA381E55DC4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CA08-FBCA-4C98-83F3-CBABED690922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2B85-1CD5-4C29-8574-DAC53637E4B3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google.hr/url?sa=i&amp;rct=j&amp;q=&amp;esrc=s&amp;frm=1&amp;source=images&amp;cd=&amp;cad=rja&amp;docid=exSA7XykMyS1eM&amp;tbnid=2s149mfQNPTwHM:&amp;ved=0CAUQjRw&amp;url=http://www.edudemic.com/2013/04/27-things-teachers-do-best/&amp;ei=pzv2UZ7CGY7mtQbvx4DwAw&amp;psig=AFQjCNEoXZSdPnO6n9u4urOlQX7olLF40g&amp;ust=1375177908034515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Marina Niš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Viša savjetnica za biologij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AZOO, Podružnica Osije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46b86"/>
                </a:solidFill>
                <a:latin typeface="Calibri"/>
              </a:rPr>
              <a:t>Razmjena: Intervju</a:t>
            </a:r>
            <a:br>
              <a:rPr sz="3600"/>
            </a:br>
            <a:endParaRPr b="0" lang="en-US" sz="3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vju u tri korak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vju s promatračem u tročlan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vju s analitičarem u četveročlan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IZLAGA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moću grafičkih prikaza (važnost vizualiziranj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alerijski obilaza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Nakon izlaganj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ratak učenik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žetak nastavnik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74" name="Straight Arrow Connector 6"/>
          <p:cNvCxnSpPr/>
          <p:nvPr/>
        </p:nvCxnSpPr>
        <p:spPr>
          <a:xfrm flipH="1">
            <a:off x="2819160" y="4571640"/>
            <a:ext cx="838800" cy="305640"/>
          </a:xfrm>
          <a:prstGeom prst="straightConnector1">
            <a:avLst/>
          </a:prstGeom>
          <a:ln w="63360">
            <a:solidFill>
              <a:srgbClr val="9b4632"/>
            </a:solidFill>
            <a:miter/>
            <a:tailEnd len="med" type="triangle" w="med"/>
          </a:ln>
        </p:spPr>
      </p:cxnSp>
      <p:cxnSp>
        <p:nvCxnSpPr>
          <p:cNvPr id="275" name="Straight Arrow Connector 8"/>
          <p:cNvCxnSpPr/>
          <p:nvPr/>
        </p:nvCxnSpPr>
        <p:spPr>
          <a:xfrm>
            <a:off x="5791320" y="4648320"/>
            <a:ext cx="838800" cy="381600"/>
          </a:xfrm>
          <a:prstGeom prst="straightConnector1">
            <a:avLst/>
          </a:prstGeom>
          <a:ln w="63360">
            <a:solidFill>
              <a:srgbClr val="9b46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Konstruktivistička teorija uče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76520"/>
            <a:ext cx="25909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00400" y="167652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6172200" y="1295280"/>
            <a:ext cx="2743200" cy="5334120"/>
          </a:xfrm>
          <a:prstGeom prst="rect">
            <a:avLst/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I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647712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I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048120" y="1295280"/>
            <a:ext cx="2971800" cy="533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(u fazi razmjene); učenik razmjenjuje spoznaje s partnerom ili grupom učenika; uspoređuje svoje s njihovim konstrukcijama i preispituje svoje konstrukcije; posljedica je ispravljanje ili proširivanje vlastitog znanja (sukonstruk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3200400" y="12952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SUKONSTRUKCIJA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152280" y="1295280"/>
            <a:ext cx="2743200" cy="533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533520" y="1371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KO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152280" y="1600200"/>
            <a:ext cx="2819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u fazi razmišljanja tijekom individualnog ra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k konstruira značenje (konstrukcij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ovo se znanje povezuje s postojećim znanjem i iskustv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Elbow Connector 14"/>
          <p:cNvCxnSpPr/>
          <p:nvPr/>
        </p:nvCxnSpPr>
        <p:spPr>
          <a:xfrm flipH="1" rot="16200000">
            <a:off x="1561320" y="5524200"/>
            <a:ext cx="457920" cy="229320"/>
          </a:xfrm>
          <a:prstGeom prst="bentConnector3">
            <a:avLst>
              <a:gd name="adj1" fmla="val 4996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  <p:sp>
        <p:nvSpPr>
          <p:cNvPr id="287" name="TextBox 15"/>
          <p:cNvSpPr/>
          <p:nvPr/>
        </p:nvSpPr>
        <p:spPr>
          <a:xfrm>
            <a:off x="1066680" y="205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3048120" y="190512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fazi razmje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k razmjenjuje spoznaje s partnerom ili grupom učenik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spoređuje i preispituje svoje konstruk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S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LI  PROŠIRIVANJE VLASTITOG ZNANJA (SUKONSTRUK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Elbow Connector 18"/>
          <p:cNvCxnSpPr/>
          <p:nvPr/>
        </p:nvCxnSpPr>
        <p:spPr>
          <a:xfrm flipH="1" rot="16200000">
            <a:off x="4647240" y="4419360"/>
            <a:ext cx="457920" cy="305640"/>
          </a:xfrm>
          <a:prstGeom prst="bentConnector3">
            <a:avLst>
              <a:gd name="adj1" fmla="val 4996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  <p:sp>
        <p:nvSpPr>
          <p:cNvPr id="290" name="TextBox 31"/>
          <p:cNvSpPr/>
          <p:nvPr/>
        </p:nvSpPr>
        <p:spPr>
          <a:xfrm>
            <a:off x="6172200" y="762120"/>
            <a:ext cx="2743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fazi prezenta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gradnja u svoju mentalnu mrež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jedinci ili grupe instruiraju druge iznoseći rezultate svoga 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STRUK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Elbow Connector 33"/>
          <p:cNvCxnSpPr/>
          <p:nvPr/>
        </p:nvCxnSpPr>
        <p:spPr>
          <a:xfrm flipH="1" rot="16200000">
            <a:off x="7391160" y="4571640"/>
            <a:ext cx="762840" cy="305280"/>
          </a:xfrm>
          <a:prstGeom prst="bentConnector3">
            <a:avLst>
              <a:gd name="adj1" fmla="val 5000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	</a:t>
            </a: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Aktiviranje svih učenik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Prijedlog: GRUPNA SLAGALIC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(engl. Jigsaw–Classroom – “metoda pilice”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etoda ili organizacijski oblik suradničkoga učen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Picture 4" descr="images"/>
          <p:cNvPicPr/>
          <p:nvPr/>
        </p:nvPicPr>
        <p:blipFill>
          <a:blip r:embed="rId1"/>
          <a:stretch/>
        </p:blipFill>
        <p:spPr>
          <a:xfrm>
            <a:off x="7467480" y="838080"/>
            <a:ext cx="12240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Zadatak: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468520"/>
            <a:ext cx="8229600" cy="37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dijeliti se u grupe od 6 sudio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vatko u grupi dobije radni list s različitim broj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očitati i smisliti kratak prika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ložiti nove grupe (svi isti brojevi) i raspraviti o prikazu (što je najvažnije reći i na koji nač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ratiti se u prvobitne grupe i kratko informirati ostale članove (prvobitne grup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Frontalno – rasprava o nejasnoć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4" descr="images"/>
          <p:cNvPicPr/>
          <p:nvPr/>
        </p:nvPicPr>
        <p:blipFill>
          <a:blip r:embed="rId1"/>
          <a:stretch/>
        </p:blipFill>
        <p:spPr>
          <a:xfrm>
            <a:off x="7391520" y="990720"/>
            <a:ext cx="122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Content Placeholder 19" descr=""/>
          <p:cNvPicPr/>
          <p:nvPr/>
        </p:nvPicPr>
        <p:blipFill>
          <a:blip r:embed="rId1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21"/>
          <p:cNvSpPr/>
          <p:nvPr/>
        </p:nvSpPr>
        <p:spPr>
          <a:xfrm>
            <a:off x="6553080" y="13716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ounded Rectangle 22"/>
          <p:cNvSpPr/>
          <p:nvPr/>
        </p:nvSpPr>
        <p:spPr>
          <a:xfrm>
            <a:off x="27432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ounded Rectangle 23"/>
          <p:cNvSpPr/>
          <p:nvPr/>
        </p:nvSpPr>
        <p:spPr>
          <a:xfrm>
            <a:off x="45720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29"/>
          <p:cNvSpPr/>
          <p:nvPr/>
        </p:nvSpPr>
        <p:spPr>
          <a:xfrm>
            <a:off x="7391520" y="4038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ounded Rectangle 30"/>
          <p:cNvSpPr/>
          <p:nvPr/>
        </p:nvSpPr>
        <p:spPr>
          <a:xfrm>
            <a:off x="2895480" y="41148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31"/>
          <p:cNvSpPr/>
          <p:nvPr/>
        </p:nvSpPr>
        <p:spPr>
          <a:xfrm>
            <a:off x="7010280" y="40384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33"/>
          <p:cNvSpPr/>
          <p:nvPr/>
        </p:nvSpPr>
        <p:spPr>
          <a:xfrm>
            <a:off x="762120" y="37339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34"/>
          <p:cNvSpPr/>
          <p:nvPr/>
        </p:nvSpPr>
        <p:spPr>
          <a:xfrm>
            <a:off x="2971800" y="54864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unded Rectangle 35"/>
          <p:cNvSpPr/>
          <p:nvPr/>
        </p:nvSpPr>
        <p:spPr>
          <a:xfrm>
            <a:off x="7467480" y="54100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36"/>
          <p:cNvSpPr/>
          <p:nvPr/>
        </p:nvSpPr>
        <p:spPr>
          <a:xfrm>
            <a:off x="1143000" y="58672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unded Rectangle 37"/>
          <p:cNvSpPr/>
          <p:nvPr/>
        </p:nvSpPr>
        <p:spPr>
          <a:xfrm>
            <a:off x="5105520" y="53341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0"/>
          <p:cNvSpPr/>
          <p:nvPr/>
        </p:nvSpPr>
        <p:spPr>
          <a:xfrm>
            <a:off x="1143000" y="41148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41"/>
          <p:cNvSpPr/>
          <p:nvPr/>
        </p:nvSpPr>
        <p:spPr>
          <a:xfrm>
            <a:off x="5562720" y="37339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42"/>
          <p:cNvSpPr/>
          <p:nvPr/>
        </p:nvSpPr>
        <p:spPr>
          <a:xfrm>
            <a:off x="2895480" y="37339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45"/>
          <p:cNvSpPr/>
          <p:nvPr/>
        </p:nvSpPr>
        <p:spPr>
          <a:xfrm>
            <a:off x="16002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53"/>
          <p:cNvSpPr/>
          <p:nvPr/>
        </p:nvSpPr>
        <p:spPr>
          <a:xfrm>
            <a:off x="762120" y="41148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54"/>
          <p:cNvSpPr/>
          <p:nvPr/>
        </p:nvSpPr>
        <p:spPr>
          <a:xfrm>
            <a:off x="3276720" y="41148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55"/>
          <p:cNvSpPr/>
          <p:nvPr/>
        </p:nvSpPr>
        <p:spPr>
          <a:xfrm>
            <a:off x="7010280" y="36576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57"/>
          <p:cNvSpPr/>
          <p:nvPr/>
        </p:nvSpPr>
        <p:spPr>
          <a:xfrm>
            <a:off x="1143000" y="37339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ounded Rectangle 58"/>
          <p:cNvSpPr/>
          <p:nvPr/>
        </p:nvSpPr>
        <p:spPr>
          <a:xfrm>
            <a:off x="3276720" y="37339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59"/>
          <p:cNvSpPr/>
          <p:nvPr/>
        </p:nvSpPr>
        <p:spPr>
          <a:xfrm>
            <a:off x="5181480" y="37339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ounded Rectangle 63"/>
          <p:cNvSpPr/>
          <p:nvPr/>
        </p:nvSpPr>
        <p:spPr>
          <a:xfrm>
            <a:off x="5486400" y="53341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ounded Rectangle 64"/>
          <p:cNvSpPr/>
          <p:nvPr/>
        </p:nvSpPr>
        <p:spPr>
          <a:xfrm>
            <a:off x="3352680" y="54864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ounded Rectangle 65"/>
          <p:cNvSpPr/>
          <p:nvPr/>
        </p:nvSpPr>
        <p:spPr>
          <a:xfrm>
            <a:off x="7467480" y="57913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67"/>
          <p:cNvSpPr/>
          <p:nvPr/>
        </p:nvSpPr>
        <p:spPr>
          <a:xfrm>
            <a:off x="762120" y="58672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68"/>
          <p:cNvSpPr/>
          <p:nvPr/>
        </p:nvSpPr>
        <p:spPr>
          <a:xfrm>
            <a:off x="2971800" y="58672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ounded Rectangle 69"/>
          <p:cNvSpPr/>
          <p:nvPr/>
        </p:nvSpPr>
        <p:spPr>
          <a:xfrm>
            <a:off x="5486400" y="57913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71"/>
          <p:cNvSpPr/>
          <p:nvPr/>
        </p:nvSpPr>
        <p:spPr>
          <a:xfrm>
            <a:off x="762120" y="54864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72"/>
          <p:cNvSpPr/>
          <p:nvPr/>
        </p:nvSpPr>
        <p:spPr>
          <a:xfrm>
            <a:off x="3352680" y="58672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3"/>
          <p:cNvSpPr/>
          <p:nvPr/>
        </p:nvSpPr>
        <p:spPr>
          <a:xfrm>
            <a:off x="5105520" y="57913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ounded Rectangle 83"/>
          <p:cNvSpPr/>
          <p:nvPr/>
        </p:nvSpPr>
        <p:spPr>
          <a:xfrm>
            <a:off x="7086600" y="54100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84"/>
          <p:cNvSpPr/>
          <p:nvPr/>
        </p:nvSpPr>
        <p:spPr>
          <a:xfrm>
            <a:off x="1143000" y="54864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ounded Rectangle 85"/>
          <p:cNvSpPr/>
          <p:nvPr/>
        </p:nvSpPr>
        <p:spPr>
          <a:xfrm>
            <a:off x="5562720" y="41148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86"/>
          <p:cNvSpPr/>
          <p:nvPr/>
        </p:nvSpPr>
        <p:spPr>
          <a:xfrm>
            <a:off x="7391520" y="36576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87"/>
          <p:cNvSpPr/>
          <p:nvPr/>
        </p:nvSpPr>
        <p:spPr>
          <a:xfrm>
            <a:off x="7086600" y="57913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90"/>
          <p:cNvSpPr/>
          <p:nvPr/>
        </p:nvSpPr>
        <p:spPr>
          <a:xfrm>
            <a:off x="5181480" y="41148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91"/>
          <p:cNvSpPr/>
          <p:nvPr/>
        </p:nvSpPr>
        <p:spPr>
          <a:xfrm>
            <a:off x="533520" y="990720"/>
            <a:ext cx="7848360" cy="2057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92"/>
          <p:cNvSpPr/>
          <p:nvPr/>
        </p:nvSpPr>
        <p:spPr>
          <a:xfrm>
            <a:off x="533520" y="3429000"/>
            <a:ext cx="777240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93"/>
          <p:cNvSpPr/>
          <p:nvPr/>
        </p:nvSpPr>
        <p:spPr>
          <a:xfrm>
            <a:off x="609480" y="5181480"/>
            <a:ext cx="777240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45"/>
          <p:cNvSpPr/>
          <p:nvPr/>
        </p:nvSpPr>
        <p:spPr>
          <a:xfrm>
            <a:off x="9144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ed Rectangle 45"/>
          <p:cNvSpPr/>
          <p:nvPr/>
        </p:nvSpPr>
        <p:spPr>
          <a:xfrm>
            <a:off x="16002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45"/>
          <p:cNvSpPr/>
          <p:nvPr/>
        </p:nvSpPr>
        <p:spPr>
          <a:xfrm>
            <a:off x="9144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22"/>
          <p:cNvSpPr/>
          <p:nvPr/>
        </p:nvSpPr>
        <p:spPr>
          <a:xfrm>
            <a:off x="34290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22"/>
          <p:cNvSpPr/>
          <p:nvPr/>
        </p:nvSpPr>
        <p:spPr>
          <a:xfrm>
            <a:off x="34290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22"/>
          <p:cNvSpPr/>
          <p:nvPr/>
        </p:nvSpPr>
        <p:spPr>
          <a:xfrm>
            <a:off x="27432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ounded Rectangle 23"/>
          <p:cNvSpPr/>
          <p:nvPr/>
        </p:nvSpPr>
        <p:spPr>
          <a:xfrm>
            <a:off x="52578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le 23"/>
          <p:cNvSpPr/>
          <p:nvPr/>
        </p:nvSpPr>
        <p:spPr>
          <a:xfrm>
            <a:off x="45720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23"/>
          <p:cNvSpPr/>
          <p:nvPr/>
        </p:nvSpPr>
        <p:spPr>
          <a:xfrm>
            <a:off x="52578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ounded Rectangle 21"/>
          <p:cNvSpPr/>
          <p:nvPr/>
        </p:nvSpPr>
        <p:spPr>
          <a:xfrm>
            <a:off x="7238880" y="13716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ounded Rectangle 21"/>
          <p:cNvSpPr/>
          <p:nvPr/>
        </p:nvSpPr>
        <p:spPr>
          <a:xfrm>
            <a:off x="6553080" y="20574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ounded Rectangle 21"/>
          <p:cNvSpPr/>
          <p:nvPr/>
        </p:nvSpPr>
        <p:spPr>
          <a:xfrm>
            <a:off x="7238880" y="20574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Koristi: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uža sigurnost slabijim/mirnijim učenici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individualnu odgovornost za rezultate učenj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na promišljanje i pozitivnu te sustavno usmjerenu  komunikacij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ćava se broj sudionika u nastavi.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Preduvjeti uspješnog suradničkog uče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Socijalne vješt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Rad u mal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Pozitivna uzajamna ovisn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4. Individualna odgovorn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5. Promišljanje grupnog radnog proce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646b86"/>
                </a:solidFill>
                <a:latin typeface="Calibri"/>
              </a:rPr>
              <a:t>Znala/znao sam …, a bilo mi je novo …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dionici pišu na svoj dio na place matu i razmijene unutar svoje grup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46b86"/>
                </a:solidFill>
                <a:latin typeface="Calibri"/>
                <a:ea typeface="Calibri"/>
              </a:rPr>
              <a:t>Literatura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42640" y="1643040"/>
            <a:ext cx="7769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Bruning L. I T. Saum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Suradničkim učenjem do uspješne nastave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Naklada Kosinj, 2008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esforges, Ch.(ur.)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Uspješno učenje i poučavanje: psihologijski pristupi,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Jensen, E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Super-nastava. Nastavne strategije za kvalitetnu školu i uspješno učenje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lippert, H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Kako uspješno učiti u timu: zbirka praktičnih primjer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yriacou, K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Temeljna nastavna umijeć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eyer, H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Didaktika razredne kvake- rasprave o didaktici, metodici i razvoju škole, Zagreb, Educa, 2002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rića, V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Život kao igr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lgoritam, 2009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Plan rada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odna aktivnost: Želim svima reći 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ja - vježb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ičko učenje – vježba i malo teorij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ja i suradničko učenje – praktičan ra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vršna aktivnost: Znala/znao sam, a bilo mi je novo 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7543800" y="3429000"/>
            <a:ext cx="633240" cy="692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1828800" y="5410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2362320" y="54100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210" name="irc_mi" descr="http://www.edudemic.com/wp-content/uploads/2013/06/teachers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2362320"/>
            <a:ext cx="609840" cy="533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imagesCAY0TT37.jpg"/>
          <p:cNvPicPr/>
          <p:nvPr/>
        </p:nvPicPr>
        <p:blipFill>
          <a:blip r:embed="rId7"/>
          <a:stretch/>
        </p:blipFill>
        <p:spPr>
          <a:xfrm>
            <a:off x="3733920" y="3048120"/>
            <a:ext cx="685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238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Uvodna aktivnost: Želim svima reći ...</a:t>
            </a:r>
            <a:br>
              <a:rPr sz="5400"/>
            </a:b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2743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olim vikend provesti u prirodi i društv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olim društvene ig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o odlazim na konce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ije kažem: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Odradi ti svoj dio posl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go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Mogu s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o bih radila nastavu u pa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Vježba: Place mat</a:t>
            </a:r>
            <a:r>
              <a:rPr b="0" lang="hr-HR" sz="54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hr-HR" sz="3600" spc="-1" strike="noStrike">
                <a:solidFill>
                  <a:srgbClr val="646b86"/>
                </a:solidFill>
                <a:latin typeface="Calibri"/>
              </a:rPr>
              <a:t>(podmetač/podložak)</a:t>
            </a:r>
            <a:endParaRPr b="0" lang="en-US" sz="3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2666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jela u skup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jela papira (zajednički + osobni prostor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ičko učenje je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otacija + zajednički di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stitelj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500" spc="-1" strike="noStrike">
                <a:solidFill>
                  <a:srgbClr val="646b86"/>
                </a:solidFill>
                <a:latin typeface="Calibri"/>
              </a:rPr>
              <a:t>Place mat </a:t>
            </a:r>
            <a:r>
              <a:rPr b="0" lang="hr-HR" sz="4500" spc="-1" strike="noStrike">
                <a:solidFill>
                  <a:srgbClr val="646b86"/>
                </a:solidFill>
                <a:latin typeface="Calibri"/>
              </a:rPr>
              <a:t>postupak</a:t>
            </a:r>
            <a:br>
              <a:rPr sz="3600"/>
            </a:br>
            <a:r>
              <a:rPr b="0" lang="hr-HR" sz="3200" spc="-1" strike="noStrike">
                <a:solidFill>
                  <a:srgbClr val="646b86"/>
                </a:solidFill>
                <a:latin typeface="Calibri"/>
              </a:rPr>
              <a:t>(podmetač/podložak)</a:t>
            </a:r>
            <a:endParaRPr b="0" lang="en-US" sz="32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17" name="Content Placeholder 3" descr=""/>
          <p:cNvPicPr/>
          <p:nvPr/>
        </p:nvPicPr>
        <p:blipFill>
          <a:blip r:embed="rId1"/>
          <a:stretch/>
        </p:blipFill>
        <p:spPr>
          <a:xfrm>
            <a:off x="158760" y="1566720"/>
            <a:ext cx="88264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Suradničko učenje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52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uhvaća sve nastavne oblike s ciljem poticanja svih učenica i učenika na ra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546d7a"/>
                </a:solidFill>
                <a:latin typeface="Calibri"/>
              </a:rPr>
              <a:t>Oblici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 u par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rupni rad (skupinski; rad u skupinam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msko učenj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ionički oblik rad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46b86"/>
                </a:solidFill>
                <a:latin typeface="Calibri"/>
              </a:rPr>
              <a:t>Temeljno načelo suradničkog učenja</a:t>
            </a: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5651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2"/>
          <p:cNvGrpSpPr/>
          <p:nvPr/>
        </p:nvGrpSpPr>
        <p:grpSpPr>
          <a:xfrm>
            <a:off x="5715000" y="1752480"/>
            <a:ext cx="1905120" cy="1143000"/>
            <a:chOff x="5715000" y="1752480"/>
            <a:chExt cx="1905120" cy="1143000"/>
          </a:xfrm>
        </p:grpSpPr>
        <p:sp>
          <p:nvSpPr>
            <p:cNvPr id="223" name="Oval 4"/>
            <p:cNvSpPr/>
            <p:nvPr/>
          </p:nvSpPr>
          <p:spPr>
            <a:xfrm>
              <a:off x="5715000" y="1752480"/>
              <a:ext cx="1905120" cy="1143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Constantia"/>
                </a:rPr>
                <a:t>samostal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5"/>
            <p:cNvSpPr/>
            <p:nvPr/>
          </p:nvSpPr>
          <p:spPr>
            <a:xfrm>
              <a:off x="6023880" y="213336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samostal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3"/>
          <p:cNvGrpSpPr/>
          <p:nvPr/>
        </p:nvGrpSpPr>
        <p:grpSpPr>
          <a:xfrm>
            <a:off x="7238880" y="3657600"/>
            <a:ext cx="1905120" cy="1447920"/>
            <a:chOff x="7238880" y="3657600"/>
            <a:chExt cx="1905120" cy="1447920"/>
          </a:xfrm>
        </p:grpSpPr>
        <p:sp>
          <p:nvSpPr>
            <p:cNvPr id="226" name="Oval 6"/>
            <p:cNvSpPr/>
            <p:nvPr/>
          </p:nvSpPr>
          <p:spPr>
            <a:xfrm>
              <a:off x="7238880" y="3657600"/>
              <a:ext cx="1752840" cy="1447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Constantia"/>
                </a:rPr>
                <a:t>(u paru ili maloj gru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7"/>
            <p:cNvSpPr/>
            <p:nvPr/>
          </p:nvSpPr>
          <p:spPr>
            <a:xfrm>
              <a:off x="7238880" y="40384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       </a:t>
              </a: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u pa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ili maloj gru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4"/>
          <p:cNvGrpSpPr/>
          <p:nvPr/>
        </p:nvGrpSpPr>
        <p:grpSpPr>
          <a:xfrm>
            <a:off x="152280" y="3505320"/>
            <a:ext cx="1981440" cy="1447560"/>
            <a:chOff x="152280" y="3505320"/>
            <a:chExt cx="1981440" cy="1447560"/>
          </a:xfrm>
        </p:grpSpPr>
        <p:sp>
          <p:nvSpPr>
            <p:cNvPr id="229" name="Oval 8"/>
            <p:cNvSpPr/>
            <p:nvPr/>
          </p:nvSpPr>
          <p:spPr>
            <a:xfrm>
              <a:off x="152280" y="3505320"/>
              <a:ext cx="1981440" cy="1447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9"/>
            <p:cNvSpPr/>
            <p:nvPr/>
          </p:nvSpPr>
          <p:spPr>
            <a:xfrm>
              <a:off x="380880" y="3809880"/>
              <a:ext cx="137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najčešće samostalno pa diskus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Down Arrow 10"/>
          <p:cNvSpPr/>
          <p:nvPr/>
        </p:nvSpPr>
        <p:spPr>
          <a:xfrm rot="19943400">
            <a:off x="5641920" y="3641760"/>
            <a:ext cx="370080" cy="434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n Arrow 11"/>
          <p:cNvSpPr/>
          <p:nvPr/>
        </p:nvSpPr>
        <p:spPr>
          <a:xfrm rot="5635800">
            <a:off x="4572720" y="5182920"/>
            <a:ext cx="381240" cy="37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INDIVIDUALNOGA RAD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to je važno na početku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adrži li nastavni sat uvijek i fazu individualnoga rada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ndividualna odgovornost i pouzdano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ndividualni rad je individualni ra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štivanje zadanog vremena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omatranj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stizanje jasnoć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Za početak jednostavne metode!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RAZMJENE</a:t>
            </a:r>
            <a:br>
              <a:rPr sz="4000"/>
            </a:br>
            <a:r>
              <a:rPr b="0" lang="hr-HR" sz="3200" spc="-1" strike="noStrike">
                <a:solidFill>
                  <a:srgbClr val="646b86"/>
                </a:solidFill>
                <a:latin typeface="Calibri"/>
              </a:rPr>
              <a:t>Temeljni oblici razmjene</a:t>
            </a:r>
            <a:endParaRPr b="0" lang="en-US" sz="32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6" name="Quad Arrow Callout 5"/>
          <p:cNvSpPr/>
          <p:nvPr/>
        </p:nvSpPr>
        <p:spPr>
          <a:xfrm>
            <a:off x="762120" y="2971800"/>
            <a:ext cx="1216080" cy="1216080"/>
          </a:xfrm>
          <a:custGeom>
            <a:avLst/>
            <a:gdLst>
              <a:gd name="textAreaLeft" fmla="*/ 315360 w 1216080"/>
              <a:gd name="textAreaRight" fmla="*/ 900720 w 1216080"/>
              <a:gd name="textAreaTop" fmla="*/ 315360 h 1216080"/>
              <a:gd name="textAreaBottom" fmla="*/ 900720 h 1216080"/>
            </a:gdLst>
            <a:ahLst/>
            <a:rect l="textAreaLeft" t="textAreaTop" r="textAreaRight" b="textAreaBottom"/>
            <a:pathLst>
              <a:path w="1216025" h="1216025">
                <a:moveTo>
                  <a:pt x="0" y="608013"/>
                </a:moveTo>
                <a:lnTo>
                  <a:pt x="225147" y="382865"/>
                </a:lnTo>
                <a:lnTo>
                  <a:pt x="225147" y="495439"/>
                </a:lnTo>
                <a:lnTo>
                  <a:pt x="315419" y="495439"/>
                </a:lnTo>
                <a:lnTo>
                  <a:pt x="315419" y="315419"/>
                </a:lnTo>
                <a:lnTo>
                  <a:pt x="495439" y="315419"/>
                </a:lnTo>
                <a:lnTo>
                  <a:pt x="495439" y="225147"/>
                </a:lnTo>
                <a:lnTo>
                  <a:pt x="382865" y="225147"/>
                </a:lnTo>
                <a:lnTo>
                  <a:pt x="608013" y="0"/>
                </a:lnTo>
                <a:lnTo>
                  <a:pt x="833160" y="225147"/>
                </a:lnTo>
                <a:lnTo>
                  <a:pt x="720586" y="225147"/>
                </a:lnTo>
                <a:lnTo>
                  <a:pt x="720586" y="315419"/>
                </a:lnTo>
                <a:lnTo>
                  <a:pt x="900606" y="315419"/>
                </a:lnTo>
                <a:lnTo>
                  <a:pt x="900606" y="495439"/>
                </a:lnTo>
                <a:lnTo>
                  <a:pt x="990878" y="495439"/>
                </a:lnTo>
                <a:lnTo>
                  <a:pt x="990878" y="382865"/>
                </a:lnTo>
                <a:lnTo>
                  <a:pt x="1216025" y="608013"/>
                </a:lnTo>
                <a:lnTo>
                  <a:pt x="990878" y="833160"/>
                </a:lnTo>
                <a:lnTo>
                  <a:pt x="990878" y="720586"/>
                </a:lnTo>
                <a:lnTo>
                  <a:pt x="900606" y="720586"/>
                </a:lnTo>
                <a:lnTo>
                  <a:pt x="900606" y="900606"/>
                </a:lnTo>
                <a:lnTo>
                  <a:pt x="720586" y="900606"/>
                </a:lnTo>
                <a:lnTo>
                  <a:pt x="720586" y="990878"/>
                </a:lnTo>
                <a:lnTo>
                  <a:pt x="833160" y="990878"/>
                </a:lnTo>
                <a:lnTo>
                  <a:pt x="608013" y="1216025"/>
                </a:lnTo>
                <a:lnTo>
                  <a:pt x="382865" y="990878"/>
                </a:lnTo>
                <a:lnTo>
                  <a:pt x="495439" y="990878"/>
                </a:lnTo>
                <a:lnTo>
                  <a:pt x="495439" y="900606"/>
                </a:lnTo>
                <a:lnTo>
                  <a:pt x="315419" y="900606"/>
                </a:lnTo>
                <a:lnTo>
                  <a:pt x="315419" y="720586"/>
                </a:lnTo>
                <a:lnTo>
                  <a:pt x="225147" y="720586"/>
                </a:lnTo>
                <a:lnTo>
                  <a:pt x="225147" y="833160"/>
                </a:ln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Connector 6"/>
          <p:cNvSpPr/>
          <p:nvPr/>
        </p:nvSpPr>
        <p:spPr>
          <a:xfrm>
            <a:off x="990720" y="2133720"/>
            <a:ext cx="761760" cy="76176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lowchart: Connector 9"/>
          <p:cNvSpPr/>
          <p:nvPr/>
        </p:nvSpPr>
        <p:spPr>
          <a:xfrm>
            <a:off x="2057400" y="33526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lowchart: Connector 10"/>
          <p:cNvSpPr/>
          <p:nvPr/>
        </p:nvSpPr>
        <p:spPr>
          <a:xfrm>
            <a:off x="335268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lowchart: Connector 11"/>
          <p:cNvSpPr/>
          <p:nvPr/>
        </p:nvSpPr>
        <p:spPr>
          <a:xfrm>
            <a:off x="228600" y="33526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Quad Arrow Callout 12"/>
          <p:cNvSpPr/>
          <p:nvPr/>
        </p:nvSpPr>
        <p:spPr>
          <a:xfrm>
            <a:off x="3886200" y="2895480"/>
            <a:ext cx="1216080" cy="1216080"/>
          </a:xfrm>
          <a:custGeom>
            <a:avLst/>
            <a:gdLst>
              <a:gd name="textAreaLeft" fmla="*/ 315360 w 1216080"/>
              <a:gd name="textAreaRight" fmla="*/ 900720 w 1216080"/>
              <a:gd name="textAreaTop" fmla="*/ 315360 h 1216080"/>
              <a:gd name="textAreaBottom" fmla="*/ 900720 h 1216080"/>
            </a:gdLst>
            <a:ahLst/>
            <a:rect l="textAreaLeft" t="textAreaTop" r="textAreaRight" b="textAreaBottom"/>
            <a:pathLst>
              <a:path w="1216025" h="1216025">
                <a:moveTo>
                  <a:pt x="0" y="608013"/>
                </a:moveTo>
                <a:lnTo>
                  <a:pt x="225147" y="382865"/>
                </a:lnTo>
                <a:lnTo>
                  <a:pt x="225147" y="495439"/>
                </a:lnTo>
                <a:lnTo>
                  <a:pt x="315419" y="495439"/>
                </a:lnTo>
                <a:lnTo>
                  <a:pt x="315419" y="315419"/>
                </a:lnTo>
                <a:lnTo>
                  <a:pt x="495439" y="315419"/>
                </a:lnTo>
                <a:lnTo>
                  <a:pt x="495439" y="225147"/>
                </a:lnTo>
                <a:lnTo>
                  <a:pt x="382865" y="225147"/>
                </a:lnTo>
                <a:lnTo>
                  <a:pt x="608013" y="0"/>
                </a:lnTo>
                <a:lnTo>
                  <a:pt x="833160" y="225147"/>
                </a:lnTo>
                <a:lnTo>
                  <a:pt x="720586" y="225147"/>
                </a:lnTo>
                <a:lnTo>
                  <a:pt x="720586" y="315419"/>
                </a:lnTo>
                <a:lnTo>
                  <a:pt x="900606" y="315419"/>
                </a:lnTo>
                <a:lnTo>
                  <a:pt x="900606" y="495439"/>
                </a:lnTo>
                <a:lnTo>
                  <a:pt x="990878" y="495439"/>
                </a:lnTo>
                <a:lnTo>
                  <a:pt x="990878" y="382865"/>
                </a:lnTo>
                <a:lnTo>
                  <a:pt x="1216025" y="608013"/>
                </a:lnTo>
                <a:lnTo>
                  <a:pt x="990878" y="833160"/>
                </a:lnTo>
                <a:lnTo>
                  <a:pt x="990878" y="720586"/>
                </a:lnTo>
                <a:lnTo>
                  <a:pt x="900606" y="720586"/>
                </a:lnTo>
                <a:lnTo>
                  <a:pt x="900606" y="900606"/>
                </a:lnTo>
                <a:lnTo>
                  <a:pt x="720586" y="900606"/>
                </a:lnTo>
                <a:lnTo>
                  <a:pt x="720586" y="990878"/>
                </a:lnTo>
                <a:lnTo>
                  <a:pt x="833160" y="990878"/>
                </a:lnTo>
                <a:lnTo>
                  <a:pt x="608013" y="1216025"/>
                </a:lnTo>
                <a:lnTo>
                  <a:pt x="382865" y="990878"/>
                </a:lnTo>
                <a:lnTo>
                  <a:pt x="495439" y="990878"/>
                </a:lnTo>
                <a:lnTo>
                  <a:pt x="495439" y="900606"/>
                </a:lnTo>
                <a:lnTo>
                  <a:pt x="315419" y="900606"/>
                </a:lnTo>
                <a:lnTo>
                  <a:pt x="315419" y="720586"/>
                </a:lnTo>
                <a:lnTo>
                  <a:pt x="225147" y="720586"/>
                </a:lnTo>
                <a:lnTo>
                  <a:pt x="225147" y="833160"/>
                </a:ln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Quad Arrow Callout 13"/>
          <p:cNvSpPr/>
          <p:nvPr/>
        </p:nvSpPr>
        <p:spPr>
          <a:xfrm>
            <a:off x="7010280" y="2895480"/>
            <a:ext cx="1216080" cy="1216080"/>
          </a:xfrm>
          <a:custGeom>
            <a:avLst/>
            <a:gdLst>
              <a:gd name="textAreaLeft" fmla="*/ 315360 w 1216080"/>
              <a:gd name="textAreaRight" fmla="*/ 900720 w 1216080"/>
              <a:gd name="textAreaTop" fmla="*/ 315360 h 1216080"/>
              <a:gd name="textAreaBottom" fmla="*/ 900720 h 1216080"/>
            </a:gdLst>
            <a:ahLst/>
            <a:rect l="textAreaLeft" t="textAreaTop" r="textAreaRight" b="textAreaBottom"/>
            <a:pathLst>
              <a:path w="1216025" h="1216025">
                <a:moveTo>
                  <a:pt x="0" y="608013"/>
                </a:moveTo>
                <a:lnTo>
                  <a:pt x="225147" y="382865"/>
                </a:lnTo>
                <a:lnTo>
                  <a:pt x="225147" y="495439"/>
                </a:lnTo>
                <a:lnTo>
                  <a:pt x="315419" y="495439"/>
                </a:lnTo>
                <a:lnTo>
                  <a:pt x="315419" y="315419"/>
                </a:lnTo>
                <a:lnTo>
                  <a:pt x="495439" y="315419"/>
                </a:lnTo>
                <a:lnTo>
                  <a:pt x="495439" y="225147"/>
                </a:lnTo>
                <a:lnTo>
                  <a:pt x="382865" y="225147"/>
                </a:lnTo>
                <a:lnTo>
                  <a:pt x="608013" y="0"/>
                </a:lnTo>
                <a:lnTo>
                  <a:pt x="833160" y="225147"/>
                </a:lnTo>
                <a:lnTo>
                  <a:pt x="720586" y="225147"/>
                </a:lnTo>
                <a:lnTo>
                  <a:pt x="720586" y="315419"/>
                </a:lnTo>
                <a:lnTo>
                  <a:pt x="900606" y="315419"/>
                </a:lnTo>
                <a:lnTo>
                  <a:pt x="900606" y="495439"/>
                </a:lnTo>
                <a:lnTo>
                  <a:pt x="990878" y="495439"/>
                </a:lnTo>
                <a:lnTo>
                  <a:pt x="990878" y="382865"/>
                </a:lnTo>
                <a:lnTo>
                  <a:pt x="1216025" y="608013"/>
                </a:lnTo>
                <a:lnTo>
                  <a:pt x="990878" y="833160"/>
                </a:lnTo>
                <a:lnTo>
                  <a:pt x="990878" y="720586"/>
                </a:lnTo>
                <a:lnTo>
                  <a:pt x="900606" y="720586"/>
                </a:lnTo>
                <a:lnTo>
                  <a:pt x="900606" y="900606"/>
                </a:lnTo>
                <a:lnTo>
                  <a:pt x="720586" y="900606"/>
                </a:lnTo>
                <a:lnTo>
                  <a:pt x="720586" y="990878"/>
                </a:lnTo>
                <a:lnTo>
                  <a:pt x="833160" y="990878"/>
                </a:lnTo>
                <a:lnTo>
                  <a:pt x="608013" y="1216025"/>
                </a:lnTo>
                <a:lnTo>
                  <a:pt x="382865" y="990878"/>
                </a:lnTo>
                <a:lnTo>
                  <a:pt x="495439" y="990878"/>
                </a:lnTo>
                <a:lnTo>
                  <a:pt x="495439" y="900606"/>
                </a:lnTo>
                <a:lnTo>
                  <a:pt x="315419" y="900606"/>
                </a:lnTo>
                <a:lnTo>
                  <a:pt x="315419" y="720586"/>
                </a:lnTo>
                <a:lnTo>
                  <a:pt x="225147" y="720586"/>
                </a:lnTo>
                <a:lnTo>
                  <a:pt x="225147" y="833160"/>
                </a:ln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owchart: Connector 14"/>
          <p:cNvSpPr/>
          <p:nvPr/>
        </p:nvSpPr>
        <p:spPr>
          <a:xfrm>
            <a:off x="4114800" y="2057400"/>
            <a:ext cx="762120" cy="76212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lowchart: Connector 15"/>
          <p:cNvSpPr/>
          <p:nvPr/>
        </p:nvSpPr>
        <p:spPr>
          <a:xfrm>
            <a:off x="518148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lowchart: Connector 16"/>
          <p:cNvSpPr/>
          <p:nvPr/>
        </p:nvSpPr>
        <p:spPr>
          <a:xfrm>
            <a:off x="4267080" y="41911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owchart: Connector 17"/>
          <p:cNvSpPr/>
          <p:nvPr/>
        </p:nvSpPr>
        <p:spPr>
          <a:xfrm>
            <a:off x="7391520" y="42670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owchart: Connector 18"/>
          <p:cNvSpPr/>
          <p:nvPr/>
        </p:nvSpPr>
        <p:spPr>
          <a:xfrm>
            <a:off x="647712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lowchart: Connector 19"/>
          <p:cNvSpPr/>
          <p:nvPr/>
        </p:nvSpPr>
        <p:spPr>
          <a:xfrm>
            <a:off x="830592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lowchart: Connector 20"/>
          <p:cNvSpPr/>
          <p:nvPr/>
        </p:nvSpPr>
        <p:spPr>
          <a:xfrm>
            <a:off x="7391520" y="23623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lowchart: Connector 21"/>
          <p:cNvSpPr/>
          <p:nvPr/>
        </p:nvSpPr>
        <p:spPr>
          <a:xfrm>
            <a:off x="1143000" y="42670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38"/>
          <p:cNvCxnSpPr/>
          <p:nvPr/>
        </p:nvCxnSpPr>
        <p:spPr>
          <a:xfrm>
            <a:off x="1752120" y="2819520"/>
            <a:ext cx="381960" cy="457920"/>
          </a:xfrm>
          <a:prstGeom prst="straightConnector1">
            <a:avLst/>
          </a:prstGeom>
          <a:ln w="38160">
            <a:solidFill>
              <a:srgbClr val="e3a192"/>
            </a:solidFill>
            <a:miter/>
            <a:tailEnd len="med" type="arrow" w="med"/>
          </a:ln>
        </p:spPr>
      </p:cxnSp>
      <p:cxnSp>
        <p:nvCxnSpPr>
          <p:cNvPr id="252" name="Straight Arrow Connector 39"/>
          <p:cNvCxnSpPr/>
          <p:nvPr/>
        </p:nvCxnSpPr>
        <p:spPr>
          <a:xfrm flipH="1">
            <a:off x="533160" y="2819520"/>
            <a:ext cx="457920" cy="457920"/>
          </a:xfrm>
          <a:prstGeom prst="straightConnector1">
            <a:avLst/>
          </a:prstGeom>
          <a:ln w="38160">
            <a:solidFill>
              <a:srgbClr val="e3a192"/>
            </a:solidFill>
            <a:miter/>
            <a:tailEnd len="med" type="arrow" w="med"/>
          </a:ln>
        </p:spPr>
      </p:cxnSp>
      <p:cxnSp>
        <p:nvCxnSpPr>
          <p:cNvPr id="253" name="Straight Arrow Connector 42"/>
          <p:cNvCxnSpPr>
            <a:stCxn id="236" idx="0"/>
          </p:cNvCxnSpPr>
          <p:nvPr/>
        </p:nvCxnSpPr>
        <p:spPr>
          <a:xfrm>
            <a:off x="1370160" y="2971800"/>
            <a:ext cx="2160" cy="838800"/>
          </a:xfrm>
          <a:prstGeom prst="straightConnector1">
            <a:avLst/>
          </a:prstGeom>
          <a:ln w="38160">
            <a:solidFill>
              <a:srgbClr val="e3a192"/>
            </a:solidFill>
            <a:miter/>
            <a:tailEnd len="med" type="arrow" w="med"/>
          </a:ln>
        </p:spPr>
      </p:cxnSp>
      <p:cxnSp>
        <p:nvCxnSpPr>
          <p:cNvPr id="254" name="Straight Arrow Connector 46"/>
          <p:cNvCxnSpPr/>
          <p:nvPr/>
        </p:nvCxnSpPr>
        <p:spPr>
          <a:xfrm>
            <a:off x="4876560" y="2819520"/>
            <a:ext cx="22932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5" name="Straight Arrow Connector 47"/>
          <p:cNvCxnSpPr/>
          <p:nvPr/>
        </p:nvCxnSpPr>
        <p:spPr>
          <a:xfrm flipH="1">
            <a:off x="3962160" y="2819520"/>
            <a:ext cx="30528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6" name="Straight Arrow Connector 50"/>
          <p:cNvCxnSpPr/>
          <p:nvPr/>
        </p:nvCxnSpPr>
        <p:spPr>
          <a:xfrm flipH="1">
            <a:off x="4952520" y="3809880"/>
            <a:ext cx="4579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Straight Arrow Connector 55"/>
          <p:cNvCxnSpPr/>
          <p:nvPr/>
        </p:nvCxnSpPr>
        <p:spPr>
          <a:xfrm flipH="1" flipV="1">
            <a:off x="3657240" y="3809520"/>
            <a:ext cx="4579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8" name="Straight Arrow Connector 59"/>
          <p:cNvCxnSpPr/>
          <p:nvPr/>
        </p:nvCxnSpPr>
        <p:spPr>
          <a:xfrm>
            <a:off x="4495320" y="2895480"/>
            <a:ext cx="1080" cy="534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Straight Arrow Connector 65"/>
          <p:cNvCxnSpPr/>
          <p:nvPr/>
        </p:nvCxnSpPr>
        <p:spPr>
          <a:xfrm flipV="1">
            <a:off x="3504960" y="2590200"/>
            <a:ext cx="53388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Straight Arrow Connector 70"/>
          <p:cNvCxnSpPr/>
          <p:nvPr/>
        </p:nvCxnSpPr>
        <p:spPr>
          <a:xfrm>
            <a:off x="7924320" y="2743200"/>
            <a:ext cx="3819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Straight Arrow Connector 71"/>
          <p:cNvCxnSpPr/>
          <p:nvPr/>
        </p:nvCxnSpPr>
        <p:spPr>
          <a:xfrm>
            <a:off x="6934320" y="3809880"/>
            <a:ext cx="3816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Straight Arrow Connector 72"/>
          <p:cNvCxnSpPr/>
          <p:nvPr/>
        </p:nvCxnSpPr>
        <p:spPr>
          <a:xfrm flipV="1">
            <a:off x="7010280" y="3429000"/>
            <a:ext cx="53424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3" name="Straight Arrow Connector 75"/>
          <p:cNvCxnSpPr/>
          <p:nvPr/>
        </p:nvCxnSpPr>
        <p:spPr>
          <a:xfrm flipH="1" flipV="1">
            <a:off x="7466760" y="3580920"/>
            <a:ext cx="2293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4" name="Straight Arrow Connector 77"/>
          <p:cNvCxnSpPr/>
          <p:nvPr/>
        </p:nvCxnSpPr>
        <p:spPr>
          <a:xfrm flipH="1">
            <a:off x="7771680" y="3428640"/>
            <a:ext cx="531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5" name="Straight Arrow Connector 81"/>
          <p:cNvCxnSpPr/>
          <p:nvPr/>
        </p:nvCxnSpPr>
        <p:spPr>
          <a:xfrm flipH="1">
            <a:off x="7162560" y="2895480"/>
            <a:ext cx="3052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6" name="TextBox 87"/>
          <p:cNvSpPr/>
          <p:nvPr/>
        </p:nvSpPr>
        <p:spPr>
          <a:xfrm>
            <a:off x="304920" y="51055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Jedan izlaže, ostali dopunjav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9"/>
          <p:cNvSpPr/>
          <p:nvPr/>
        </p:nvSpPr>
        <p:spPr>
          <a:xfrm>
            <a:off x="3581280" y="51055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Izlaganje u smjeru kazaljke na s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2"/>
          <p:cNvSpPr/>
          <p:nvPr/>
        </p:nvSpPr>
        <p:spPr>
          <a:xfrm>
            <a:off x="6781680" y="51055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Slobodna diskus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Govorne ka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Straight Arrow Connector 93"/>
          <p:cNvCxnSpPr/>
          <p:nvPr/>
        </p:nvCxnSpPr>
        <p:spPr>
          <a:xfrm flipV="1">
            <a:off x="1752480" y="3656880"/>
            <a:ext cx="76680" cy="762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ina</dc:creator>
  <dc:description/>
  <dc:language>en-US</dc:language>
  <cp:lastModifiedBy>korisnik</cp:lastModifiedBy>
  <dcterms:modified xsi:type="dcterms:W3CDTF">2015-08-31T08:01:09Z</dcterms:modified>
  <cp:revision>123</cp:revision>
  <dc:subject/>
  <dc:title>Suradničko učenje i timski rad</dc:title>
</cp:coreProperties>
</file>