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FD5A-B227-4D9A-90C4-B0D914D76F5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D73A-2F22-4475-A3A6-A170CFCF7F4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9699-9533-4A55-A8D7-95651E8E177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F847-436A-4E3D-8EA0-9035D65081A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D3D5-91F6-40F1-9E0C-F031CBE49E3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24AE-E8C3-475B-9892-6A915B730C3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5471-18FE-48DD-BA15-46D3CB1E957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DE17-36C6-4B46-8BCF-3F035DB0B2E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A7BA-C7F8-4111-9B28-A3920C55F0E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716B-C6CE-4C14-ABD9-0E8A50E870B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E03A-C778-4062-AF4D-4EC45E28CF7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12C4-245F-40C8-8BDC-07497FA4BEA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FAE8-DDD5-4BBA-B561-1316BBCF85C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58FD-0634-4CD4-B4F5-235880D312D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260-9FCB-45C9-AE0C-BEC590CD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69D-D80D-44D4-A9EF-A32BFC5B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F08-D137-43D7-8237-44E91A4E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988-F51F-4FD0-BC8E-090C12F6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A6ECE-7FF4-4DAC-AF1A-6D09EF39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2D78C-925B-4C07-8D16-E3B0DF48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0C16A-1ED6-42C0-B50A-8C55CB72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1974C-CAC8-4423-AEE5-4AB521B9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BD610-A867-496E-AA4C-424BC177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5840B-3D1D-4152-8048-6C32997C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6BD20-0CCB-4F85-BB2A-4F797807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C37-C6C2-4346-9D4D-DDC8431F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FB001-E6A8-4AC9-B843-D96A87A2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99D50-17F6-455B-A7F8-F0427E37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BF57C-A6FE-4562-91CA-71C45CF6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912D2-55AA-47EB-A481-3DDD4C1B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C6A38-A44F-49CB-9531-87746D76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1AF7-99D2-4ADE-8751-5C5F9219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D5B-11EB-440F-978E-3ECCD27F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28B-7573-4795-B9D6-9C3D8FBD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DC3-4D0E-46E2-BF06-2AB35BD5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C14-8213-4C04-B774-5265C91E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DE6-71AB-4BAA-84A4-2AC80138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4A8-6543-487E-9771-994A0815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2B1C-79F5-4789-87A9-CEEAC760AFD6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75E5-3724-42A2-9DA2-EBCDA2458D43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499680"/>
            <a:ext cx="7772400" cy="18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ŽENSKO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SKUSTVO RADA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O INDIKATOR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RUKTURNIH PROMJENA NA TRŽIŠTU RADA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92000" y="3716280"/>
            <a:ext cx="68324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r. sc. Valerija Barada, v. asist., znan. s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djel za sociologiju, Sveučilište u Zad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vbarada@unizd.h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Zagreb, 05. 09. 201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ruga razina: važnost 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mopercepcija i identifikacija kroz kreativni rad, stjecajni ili samoostvarujuć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orijske postavk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d kao temeljna vrijednost i integrativni element društva (Be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ljedice fleksibilnosti i nesigurnosti (Sennett, McRobb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jecajni – samostvarujući – kreativni rad; individualizacija + prijenos znanja i vješ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moidentifikacija s profesijom, pripadnost profesionalnoj zajed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nceptualni okvir</a:t>
            </a:r>
            <a:br>
              <a:rPr sz="4000"/>
            </a:b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mjena orodnjenog rada i profesija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600200"/>
          <a:ext cx="9144000" cy="5073480"/>
        </p:xfrm>
        <a:graphic>
          <a:graphicData uri="http://schemas.openxmlformats.org/drawingml/2006/table">
            <a:tbl>
              <a:tblPr/>
              <a:tblGrid>
                <a:gridCol w="1332000"/>
                <a:gridCol w="1655640"/>
                <a:gridCol w="4680000"/>
                <a:gridCol w="14763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azin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lementi razi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arakteristike elemenata profesije (stupanj i posljedice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vezujući koncep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v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rukturna (makro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 r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temeljen na znanju i stalnom unaprjeđivanju vještina, kreativne industrij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o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ložaj že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blik r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azličiti ugovorni oblici i zaposlenički statusi (stalno zaposlenje, privremeno, povremeno, dodatno, samozaposlenost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g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skustvena (mikro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s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ućni rad, rad na različitim lokacijam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rijeme i organizacija svakodnevic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edefinirano radno vrijeme, neprekinuti rad, povezanost privatnog i javnog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ažnost r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mopercepcija i identifikacija kroz kreativni rad, stjecajni ili samoostvarujući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ovezujući koncept: rod i položaj ž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ivatni u javni patrijarhat (sustav struktura i praksi rodnih odnosa muške moći i dominacije, Walb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rodni režim rada – ulazak žena na tržište rada i javnu domen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ofesionalni projekt (Witz): pokušaji isključivanja ostalih </a:t>
            </a: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neprofesionala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nov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konceptualizacija rada – vrijede li stare kategorij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koje su to strukturne promje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karnost, previše rada, kućanstva bogata radom, više poslova, nepostojanje jedne karijere, obrazovanje za šta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7772400" cy="18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ŽENSKO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SKUSTVO RADA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O INDIKATOR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RUKTURNIH PROMJENA NA TRŽIŠTU RADA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692000" y="3716280"/>
            <a:ext cx="68324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r. sc. Valerija Barada, v. asist., znan. s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djel za sociologiju, Sveučilište u Zad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vbarada@unizd.h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Zagreb, 05. 09. 201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amjera izlag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orijski zahvatiti fenomen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mjer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straživanja “kreativnih” poslova (2010-11, 2013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straživanja nezaposlenih žena i mladih (2011, 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straživanja položaja i diskriminacije žena na tržištu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akav je svijet rada? Što nas očeku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efinicija 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plaćen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omjene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ektors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kreativni poslo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a primjeru položaja žena na tržiš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vrsta poslo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lać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iskriminacijske prak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e / zaposlenost ↔ ne / r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rukturna &amp; frikcijska &amp; ciklička nezaposle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je vještine i znanja za koje poslo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leksibilnost (fleksikurnost)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dobra za kog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mrvljeni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nimanja i poslovi za buduć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nceptualni okvir</a:t>
            </a:r>
            <a:br>
              <a:rPr sz="4000"/>
            </a:b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mjena orodnjenog rada i profesija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1600200"/>
          <a:ext cx="9144000" cy="5073480"/>
        </p:xfrm>
        <a:graphic>
          <a:graphicData uri="http://schemas.openxmlformats.org/drawingml/2006/table">
            <a:tbl>
              <a:tblPr/>
              <a:tblGrid>
                <a:gridCol w="1332000"/>
                <a:gridCol w="1655640"/>
                <a:gridCol w="4680000"/>
                <a:gridCol w="14763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azin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lementi razi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arakteristike elemenata profesije (stupanj i posljedice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vezujući koncep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v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rukturna (makro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 r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temeljen na znanju i stalnom unaprjeđivanju vještina, kreativne industrij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o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ložaj že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blik r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azličiti ugovorni oblici i zaposlenički statusi (stalno zaposlenje, privremeno, povremeno, dodatno, samozaposlenost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g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skustvena (mikro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s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ućni rad, rad na različitim lokacijam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rijeme i organizacija svakodnevic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edefinirano radno vrijeme, neprekinuti rad, povezanost privatnog i javnog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ažnost r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7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mopercepcija i identifikacija kroz kreativni rad, stjecajni ili samoostvarujući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va razina: tip 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temeljen na znanju i stalnom unaprjeđivanju vještina, kreativne industri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orijske postavk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stindustrijsko društvo (Be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odernizacija i tranzicija u Hrvatskoj (Rogić, Županov, Tomić-Koludrović &amp; Petrić) – promjena tipova zaposle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kreativne industrije = znanje + kreativnost; dizajn kao </a:t>
            </a: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drug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generacij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postindustrijskih profes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va razina: oblik 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čiti ugovorni oblici i zaposlenički statusi (stalno zaposlenje, privremeno, povremeno, dodatno, samozaposlen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orijske postavk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razac zaposlenja (struktura i sastav radne snage) + zaposlenički status (ugovor o radu i ugovor o usluzi, Erikson i Goldthor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fleksibilizaci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!!!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umerička, funkcionalna, financijska (Kulušić)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u dizajnu je fleksibilnost karakteristika profesije, a ne samo radnoga mjesta ne samo radnoga mj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ruga razina: pro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ućni rad, rad na različitim</a:t>
            </a: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okac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orijske postav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ultilokacijsko radno mjesto, mobilni rad, rad od kuće, rad u otvorenim ured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mplozija mjesta rada i vremena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ruga razina: vrijeme i organizacija svakodnevice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edefinirano radno vrijeme, neprekinuti rad, povezanost privatnog i javno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orijske postavk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fleksibilnost, dostup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razlika između vremena koje se mora i koje se želi radi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radnici/e koji previše rade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(Kalleberg) = sati (trajanje rada) + intenzitet (zahtjevnost ra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izajn = </a:t>
            </a: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rudare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ekar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10:08:30Z</dcterms:created>
  <dc:creator>Valerija</dc:creator>
  <dc:description/>
  <dc:language>en-US</dc:language>
  <cp:lastModifiedBy>Zlata</cp:lastModifiedBy>
  <dcterms:modified xsi:type="dcterms:W3CDTF">2014-09-17T17:18:55Z</dcterms:modified>
  <cp:revision>46</cp:revision>
  <dc:subject/>
  <dc:title>Slajd 1</dc:title>
</cp:coreProperties>
</file>