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22"/>
          </p:nvPr>
        </p:nvSpPr>
        <p:spPr>
          <a:xfrm>
            <a:off x="385776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3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4"/>
          </p:nvPr>
        </p:nvSpPr>
        <p:spPr>
          <a:xfrm>
            <a:off x="385776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D4AF96F-3559-4AA4-BA48-6188548BC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82CED88-67CD-4F5C-B545-09D0C45801C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F746744-4479-4EA7-8D6C-A37DBE1DAB2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F4ABDDB-3023-4888-8136-7B8EC400EA9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DB76D9A-18BD-4E4D-A787-76DBD79CBA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5BA3007-F571-4941-AA40-C054704DFE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9B47BAE-31C4-45FB-B264-90182F2702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646B1A2-B4EA-4D54-8999-DFC6DD7FC4F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41E3D65-62BF-46B3-AF4B-C96A0A393A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51050BA-2278-47D6-9BFD-24CDE1E76BD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04E8438-4172-4E43-A768-E5CB9E52730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50BFDA0-78E3-48B5-981B-82199AD2AA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5F4-C10D-4A4F-ADB1-22B2F14C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DCC-D8CA-4F49-8C34-86351F0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E12-54EF-4467-B841-FFE2DE32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57F-CFED-4F87-A045-EE4B99AC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C75-31D3-43C8-A4E1-1A249EE0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7D0-C2BB-426B-8E92-E095DFB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E62-CB74-4618-A878-73C6E590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F190-3D24-478A-B614-12A9017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ED9-B108-4C33-9C0F-E9B8DDD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7ABE-6DCC-4272-9AF1-7C685BA4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0CB5-D599-454A-9326-328FE4F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A67-CEC2-455D-8D27-8E8662A7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2200-2A13-43A9-AD0E-6A7A3DF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79D-8D02-4CB1-9FD3-61D07C4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DEB-2101-4631-9A32-B89CA37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C6E-2FBA-4AA9-950B-EA54C6CF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A78-C001-4790-8DA0-0FF9E115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37A3A-2267-430F-93DA-1F598953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6A67A-6F47-47F4-88DF-52E3B66C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DD025-5F79-4190-9811-5A65838F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E79A9-56B4-482F-AD77-1D55577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2669F-375E-423D-AE08-7A3476C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C76-0F35-4428-A273-98C3F8A2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09FC1-436D-432D-BF0F-D8DB987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66867-2EA8-4CC4-AA85-855C275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833E8-240E-4224-ACB4-3DF1B9A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21768-6BE8-4D1B-A555-4BBCCF5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BEC97-D20C-4CAE-A8F5-393E067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85560-E1A2-4C69-9B6C-6FE1C28D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94C66-09E8-4F4D-845A-7DC750AC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F1B1D-7914-40DC-AFD5-0E4A19D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E9248-92B6-4BC5-A933-E553BB5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D8260-60BB-49DA-9D50-1D7FFBF6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B0A-9523-4AC7-9154-C6728B7F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C57EA-AFA0-43A2-8EA7-8E25990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61054-1974-43E2-8F7C-13B51A5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88A2D-ADA4-4333-9702-A5BF3A4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36693-2866-4B44-A866-116CD05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F9237-6978-42D9-927E-0FB82D2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24CBC-A899-48AB-922D-7DCEDC1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D1F22-1443-4814-942B-064341A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4C3A1-4FD0-4254-89F2-4D047567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91675-FDFE-4A31-8700-CC76FF89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46503-358E-4A1B-9638-5E316EAE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0EA-7237-46F5-A5EF-E56C29A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E87EA-8BD5-4D54-AAFC-CC6997DD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A10FE-1829-46E3-8B61-A3AD7852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B5D0E-6E48-41B5-A3CB-B760AEF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2A7F8-2A78-4236-A2F4-E2BF2ECB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FD385-4487-44A8-8C2A-A9DD7F2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7233C-64C5-44D4-B0A8-EA46CB3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60838-A02B-4CC2-B46A-7DB4BE2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3F7F0-AC78-4114-AFA3-16A511A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96474-25E6-4139-A11B-D87D214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C564D-2985-4D87-AB6B-471D1016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905-74DB-43B3-AE23-89AE694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0395-C3CC-42F8-ADED-88B41958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6C25B-841C-408F-BE4E-1A197BC3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2A16B-CDC1-4D5F-943F-8A3E0185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F6853-33F9-4FA6-8B4D-3CA687E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4162F-8523-4F43-AF00-5677820F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D21A6-72AD-43DA-A2E5-E97E91A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782CA-7718-45F7-B825-5ACA229A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CC87B-9F22-443D-A632-BD65DDA0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AE3B8-4813-4B22-9165-859E45A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3C7F9-3079-4C8A-90FC-5DD7F95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121-558F-4B2B-A188-7816D724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1A952-EA30-40C5-9EEA-77E210D3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27FD2-C380-4F78-B98B-59FCEC40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CCBDC-FB2C-4D6D-A5D8-04443CB9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936A-2EAD-4054-B095-8A5493FC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4543-A9D1-47C4-9A69-5ABD911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D678-46BA-4A9F-91F9-B3E64C5D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714E-6E05-41FD-AAB0-B68B90D9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B5469-878D-48ED-B649-636A343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6C07D-AAF0-4909-9E48-911B16B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F1CF-49C3-4F35-90F8-4CFD873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1D5-E086-4291-BA98-A0BD781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7B5A-E3FA-422C-B267-EA587B8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6555-D585-417E-B91C-37FC933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7CA6-C07E-45E1-9FE8-9F2FCD01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66EA-E175-41B7-B365-76B11416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9D548-2FC2-46FB-8580-675F2EEF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ED3-4C75-4154-B520-230C6D4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9e5dc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9B0-D902-4AFC-8854-A67897F5614A}" type="slidenum">
              <a:rPr b="1" lang="en-GB" sz="1400" spc="-1" strike="noStrike">
                <a:solidFill>
                  <a:srgbClr val="e9e5dc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3786-7404-4C96-A27D-F9AEDC7D9E2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C20-53CF-42D4-A124-A513642D5945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6006-0E84-4DDD-B3AF-79A1488E9E2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43B-0BFB-4072-9120-27DB25193D73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FCA7-EADD-4BC3-8665-E885348DC74D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ABC-DB56-48B5-8AAE-734E551CC88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w Cen MT"/>
              </a:rPr>
              <a:t>Metrijske karakteristike zadataka – osnovne pojmovi</a:t>
            </a:r>
            <a:br>
              <a:rPr sz="3600"/>
            </a:br>
            <a:endParaRPr b="0" lang="en-US" sz="36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900000" y="436572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Dr.sc. Boris Joki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Institut za društvena istraživanja u Zagreb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Centar za istraživanje i razvoj obrazov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Analiza testa iz Biologije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Ocjenj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Ocjenjivanje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Određivanje kriterija za određenu ocje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Broj bodova koji su potrebni za ocje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ećina nastavnika konvencionalno upotrebljava pravilo da je za ocjenu dovoljan potrebno imati 50% mogućih bodova na test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Je li to opravdan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Ocjenjivanje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Nedovoljan – 0 - 1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Dovoljan – 12 - 1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Dobar – 15 –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rlo dobar – 19 – 2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Odličan – 22 - 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Koliko navedeno odgovara analizi po česticama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Bi li se na osnovu navedene analize trebalo drugačije pristupiti ocjenjivanju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9640" y="3213000"/>
            <a:ext cx="80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Hval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Struktura izlaganja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24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Osnovni pojmov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Indeks tež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Analiza distrakto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Analiza testa iz Biologije (inačica A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Ocjenjiv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Populacijski podaci o zaključnom ocjenjivanju iz Biologije i Kemije u osnovnim školama u R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Stav učenika prema Biologiji i Kemiji u OŠ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Osnovni pojm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Težina zadatka – indeks težine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4250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ndeks težine (p – vrijednost) se izračunava kao postotak ili proporcija učenika iz neke ispitivane populacije koji točno rješava zadatak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od zadataka višestrukog izbora, p – vrijednost se izračunava kao postotak od maksimalnog broja bodova na zadatku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Što je p vrijednost veća, zadatak je lakši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Najkorisniji su zadaci koji su osrednje teški za ispitivanu populaciju učenika. Zadaci koji su suviše lagani, kao i oni koji su suviše teški ne daju mnogo informacija o mjerenoj osobini, jer ne razlikuju dobro učenik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Težina zadatka – indeks težine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4250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sim toga, izrazito lagani zadaci mogu zbuniti učenike, posebno one „dobre“ koji mogu pomisliti da zadatak postavlja neki skriveni problem, pa odgovaraju odabiranjem nekog drugog, a ne očigledno točnog odgovora. Takvi zadaci također neće dobro razlikovati „bolje“ od „lošijih“ učenik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ako preporučena težina zadataka ovisi o svrsi testiranja i osobinama populacije učenika, opća je preporuka da zadaci u testu ne bi trebali imati p – vrijednosti manje od 30% i veće od 80%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trebno je osigurati da se zadatci budu napravljani tako da razlikuju one koji posjeduju ključna znanja i vještine od onih koji ih ne posjeduju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ndeks diskriminativnosti zadatka računa se kao korelacija zadatka i učinka na cijelom testu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dijelite svoje učenike u dvije cjeline prema broju bodova na testu. Za svaku pitanje odredite broj učenika koji su točno riješili zadatak u svakoj od skupina. Od broja učenika s točno riješenim zadatkom iz skupine boljih oduzmite broj učenika koji su uspješno riješili zadatak u skupini lošijih. Taj broj podijelite s brojem učenika u svakoj skupini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ndeksi ne bi smjeli biti negativni (što indicira da učenici koji postižu na cijelom testu lošiji rezultat bolje rješavaju taj zadatak od učenika koji ostvaruju ukupno bolji rezultat) niti blizu 0 (što indicira da zadatak ne razlikuje one koji postižu lošiji i bolji rezultat na cijelom testu). Što je veća i pozitivnija vrijednosti indeksa diskriminativnosti zadatka, to znači da on bolje razlikuje „dobre“ i „loše“ učenike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69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7600" indent="-417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ao i kod indeksa težine, minimalne vrijednosti diskriminativnosti zadatka ovise o svrsi mjerenja i osobinama populacije učenika. Što je populacija učenika homogenija tj. izjednačenija u mjerenoj osobini, teže je postići visoke indekse diskriminativnosti zadatka. Također, višedimenzionalni testovi tj. oni koji mjere različite faktore ili pod-domene dovode do nižih indeksa diskriminativnosti u odnosu na testove koji su jednodimenzionalni te mjere samo jedan faktor. Niski indeks diskriminativnosti može značiti da taj zadatak ima različit predmet mjerenja u odnosu na druge zadatk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17600" indent="-417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Ipak, može se reći da zadaci s koeficijentima korelacije ispod 0,10 (a ponegdje i ispod 0,20) trebaju biti ponovno pregledani i revidirani od strane stručnih radnih skupina. Indeksi diskriminativnosti preko 0,30 smatraju se dobrim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50920" y="27468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Analiza distraktora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pomaže u ocjenjivanju kvalitete pojedinog zadatka. U zadacima višestrukog izbora provjerava se koliko je učenika izabralo pojedini odgovor. Prije bodovanja zadataka, potrebno je provjeriti obrasce odgovaranja za sve opcije odgovora, a ne samo za točni odgovor. Ukoliko je 35% ili više učenika izabralo neki odgovor koji nije točan treba provjeriti radi li se doista o netočnom odgovoru. Vrlo je važno utvrditi da je taj odgovor netočan u svakom razmatranju odgovaranja na postavljeno pitanje, a ne samo da je odgovor koji je označen kao točan bolji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pomaže i u otklanjanju nedjelotvornih distraktora. Odgovore koje nitko ne bira nema smisla uključivati u zadatak. Potrebno je ili pronaći drugi distraktor ili smanjiti broj ponuđenih odgovora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može ukazivati i na tendenciju pogađanja kod učenika. Ako se različiti odgovori pojavljuju podjednako često kao izbor učenika, može se posumnjati u to da su učenici nasumce odgovarali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7:23:09Z</dcterms:created>
  <dc:creator>Petar Bezinović</dc:creator>
  <dc:description/>
  <dc:language>en-US</dc:language>
  <cp:lastModifiedBy>bsmojver</cp:lastModifiedBy>
  <dcterms:modified xsi:type="dcterms:W3CDTF">2012-01-30T12:57:56Z</dcterms:modified>
  <cp:revision>88</cp:revision>
  <dc:subject/>
  <dc:title>Samovrednovanje škola korištenje rezultata nacionalnih ispita za unaprjeđivanje rada škola</dc:title>
</cp:coreProperties>
</file>