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A02-6EAF-4AEB-BCCF-65204AE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BFB-3300-4C4E-BA6B-65A3004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573-2BF2-4532-80CA-696831B2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B0E-4BBD-43C8-9039-F2652AE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CC13-F894-4F44-94DF-DA69B1A1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493-9506-4075-951D-B8AA5BF1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C126-1656-4811-B952-19359286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F52-B529-487F-999B-FDF1BAE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A710-C423-4C9F-9958-5AF2BC4F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D437-06CC-402F-B29F-224EF2C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4E65-F24A-4940-86B9-46EDA8D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C6A-C328-46EA-8132-CBEF6AD4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04A-5D2F-492A-80A6-7C5D06E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64FE-C3A9-47F9-94EF-C17C516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0CF-B767-438A-875C-7E91DDC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163C-D81E-43DA-A427-9B67B9F4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D9E-E43F-4031-8E4A-B59F1004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FAB-9008-4BC6-A469-6D8C345C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7BA-A98B-44BE-9C49-6A2A126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559-CB03-4E62-B213-11CF31C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EE5-8506-442A-BBB5-9B1EBC1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890-5987-404F-9B68-3FF5C99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975-4EE9-44C7-87C3-8A2ABC3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2BA-E1B5-4C8E-B950-59F9E97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8206-B602-4C9D-B77B-C4B4791C2EE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6153-40FC-4817-9968-7B92C3FAD001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hrvatic@ffzg.hr" TargetMode="External"/><Relationship Id="rId2" Type="http://schemas.openxmlformats.org/officeDocument/2006/relationships/hyperlink" Target="mailto:nhrvatic@ffzg.hr" TargetMode="External"/><Relationship Id="rId3" Type="http://schemas.openxmlformats.org/officeDocument/2006/relationships/hyperlink" Target="mailto:nhrvatic@ffzg.hr" TargetMode="External"/><Relationship Id="rId4" Type="http://schemas.openxmlformats.org/officeDocument/2006/relationships/hyperlink" Target="mailto:nhrvatic@ffzg.hr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4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4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96920" y="355320"/>
            <a:ext cx="75326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STRUČNI SKUP RAVNATELJA SREDNJIH ŠKOLA I UČENIČKIH DOMOVA RH </a:t>
            </a:r>
            <a:br>
              <a:rPr sz="1800"/>
            </a:b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0160" y="2923920"/>
            <a:ext cx="5433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3300"/>
                </a:solidFill>
                <a:latin typeface="Times New Roman"/>
              </a:rPr>
              <a:t>Agencija za odgoj i obrazov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3366ff"/>
                </a:solidFill>
                <a:latin typeface="Verdana"/>
              </a:rPr>
              <a:t>Zad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Verdana"/>
              </a:rPr>
              <a:t>24.-26. travnja 201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833480"/>
            <a:ext cx="5976720" cy="100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1503360" cy="112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59640" y="4919760"/>
            <a:ext cx="1535040" cy="99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KOMPETENCI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2007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Stručne kompetencije </a:t>
            </a:r>
            <a:r>
              <a:rPr b="0" lang="hr-HR" sz="21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0" lang="hr-HR" sz="21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znanja/sposobnosti potrebna za vođenje odgojno-obrazovnog procesa</a:t>
            </a:r>
            <a:r>
              <a:rPr b="0" lang="hr-HR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ff9900"/>
                </a:solidFill>
                <a:latin typeface="Verdana"/>
              </a:rPr>
              <a:t>(pedagoška kompetencij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Organizacijske kompetencije </a:t>
            </a:r>
            <a:r>
              <a:rPr b="0" lang="hr-HR" sz="21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planiranje, organiziranje, vođenje i vrednovanje rada u šk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Komunikacijsko/refleksivne kompetencije </a:t>
            </a:r>
            <a:r>
              <a:rPr b="0" lang="hr-HR" sz="21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spremnost za iznenađenja i promišljanja situacija na novi način (improvizacija)</a:t>
            </a:r>
            <a:r>
              <a:rPr b="0" lang="hr-HR" sz="25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00"/>
                </a:solidFill>
                <a:latin typeface="Verdana"/>
              </a:rPr>
              <a:t>aktivno slušanj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00"/>
                </a:solidFill>
                <a:latin typeface="Verdana"/>
              </a:rPr>
              <a:t>promatranje aktivnosti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00"/>
                </a:solidFill>
                <a:latin typeface="Verdana"/>
              </a:rPr>
              <a:t>uočavanje mogućnosti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00"/>
                </a:solidFill>
                <a:latin typeface="Verdana"/>
              </a:rPr>
              <a:t>pronalaženje postupaka koji potiču razvoj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Profesionalne kompetencije</a:t>
            </a:r>
            <a:r>
              <a:rPr b="0" lang="hr-HR" sz="25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0" lang="hr-HR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kreativnost, </a:t>
            </a:r>
            <a:r>
              <a:rPr b="0" lang="hr-HR" sz="1800" spc="-1" strike="noStrike">
                <a:solidFill>
                  <a:srgbClr val="ff9900"/>
                </a:solidFill>
                <a:latin typeface="Verdana"/>
              </a:rPr>
              <a:t>poduzetnost</a:t>
            </a: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 i refleksivno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1640" y="2060640"/>
            <a:ext cx="432108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948360" y="4653000"/>
            <a:ext cx="1619280" cy="140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SUVREMENO ODREĐEN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27000"/>
            <a:ext cx="7991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ff3300"/>
                </a:solidFill>
                <a:latin typeface="Verdana"/>
              </a:rPr>
              <a:t>Ravnatelj </a:t>
            </a:r>
            <a:r>
              <a:rPr b="0" lang="hr-HR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</a:t>
            </a:r>
            <a:r>
              <a:rPr b="0" lang="hr-HR" sz="19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istraživanje i razumijevanje vlastite školske/domske prakse – kontinuirano zajedničko učenje (razvoj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unaprjeđenje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kvalitete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 školskog/domskog živ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ovećanje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učinkovit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otreba učenja i propitivanje vlastitog rada - dokaz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profesionalizma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 (a ne manjak stručne kompetencije)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refleksivne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strategije -</a:t>
            </a:r>
            <a:r>
              <a:rPr b="1" lang="hr-HR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roces</a:t>
            </a:r>
            <a:r>
              <a:rPr b="1" lang="hr-HR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razumijevanja i reorganiziranja načina pristupa školi i stvaranje prostora za kritičku raspravu o školskoj/domskoj prak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spremnost ravnatelja na prihvaćanje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uloge istraživača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,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reuzimanje inicijative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stvaranja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novih znanja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,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nove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školske/domske prak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PRISTUPI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827000"/>
            <a:ext cx="7991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ff3300"/>
                </a:solidFill>
                <a:latin typeface="Verdana"/>
              </a:rPr>
              <a:t>Ravnatelj </a:t>
            </a:r>
            <a:r>
              <a:rPr b="0" lang="hr-HR" sz="2000" spc="-1" strike="noStrike">
                <a:solidFill>
                  <a:srgbClr val="006666"/>
                </a:solidFill>
                <a:latin typeface="Wingdings"/>
                <a:ea typeface="Wingdings"/>
              </a:rPr>
              <a:t></a:t>
            </a:r>
            <a:r>
              <a:rPr b="0" lang="hr-HR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rofesija i/ili </a:t>
            </a: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dužnost-funkcija? 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(ravnopravan pristup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00"/>
                </a:solidFill>
                <a:latin typeface="Verdana"/>
              </a:rPr>
              <a:t>Cjeloživotno osposobljavanje (usavršavanje) ravnatelja</a:t>
            </a:r>
            <a:r>
              <a:rPr b="0" lang="hr-HR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00"/>
                </a:solidFill>
                <a:latin typeface="Verdana"/>
              </a:rPr>
              <a:t>razvoj kompetencija i stjecanje (obnavljanje) lic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Programi: </a:t>
            </a: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Osposobljavanje ravnatelja osnovnih i srednjih škola (2006.) </a:t>
            </a:r>
            <a:r>
              <a:rPr b="0" lang="hr-HR" sz="2000" spc="-1" strike="noStrike">
                <a:solidFill>
                  <a:srgbClr val="006666"/>
                </a:solidFill>
                <a:latin typeface="Verdana"/>
              </a:rPr>
              <a:t>MZO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Polazišta i odrednice program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Zadaće i sadržaji program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Metode i organizacijski oblici stjecanja osposobljenos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Institucijska organizacij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Vremenska organizacij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Utvrđivanje uspješnosti i licenciranje osposobljenosti za ravnatel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Cijen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Pristupnici/polaznici programa osposobljavan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370160" cy="107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PRISTUPI 1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000"/>
            <a:ext cx="7991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Program osposobljavanja ravnatelja cjelovit je i konzistentan dokument, nastao na znanstvenim i stručnim osnovama i što je posebno važno – proved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Verdana"/>
              </a:rPr>
              <a:t>Program predstavlja zaokret prema većoj samostalnosti, učinkovitosti i odgovornosti ravnatelja (ali i afirmacije pedagoške komponen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00"/>
                </a:solidFill>
                <a:latin typeface="Verdana"/>
              </a:rPr>
              <a:t>Predložena stručna područja: 1.nacionalni školski sustav, 2.škola kao organizacija i pedagoška institucija i 3.primjena menadžmenta i vođenja u radu ravnatelja, daju dobar okvir za stjecanje potrebnih znanja i kompetencija ravnatelja</a:t>
            </a:r>
            <a:r>
              <a:rPr b="0" lang="hr-HR" sz="25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PRISTUPI 2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827000"/>
            <a:ext cx="7991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hr-HR" sz="2500" spc="-1" strike="noStrike">
                <a:solidFill>
                  <a:srgbClr val="0033cc"/>
                </a:solidFill>
                <a:latin typeface="Verdana"/>
              </a:rPr>
              <a:t>Specijalistički studij iz područja: </a:t>
            </a:r>
            <a:r>
              <a:rPr b="0" lang="hr-HR" sz="2500" spc="-1" strike="noStrike">
                <a:solidFill>
                  <a:srgbClr val="ff9900"/>
                </a:solidFill>
                <a:latin typeface="Verdana"/>
              </a:rPr>
              <a:t>Školskog menadžmenta</a:t>
            </a:r>
            <a:r>
              <a:rPr b="0" lang="hr-HR" sz="2500" spc="-1" strike="noStrike">
                <a:solidFill>
                  <a:srgbClr val="0033cc"/>
                </a:solidFill>
                <a:latin typeface="Verdana"/>
              </a:rPr>
              <a:t>, koji bi </a:t>
            </a:r>
            <a:r>
              <a:rPr b="0" lang="hr-HR" sz="2500" spc="-1" strike="noStrike">
                <a:solidFill>
                  <a:srgbClr val="ff9900"/>
                </a:solidFill>
                <a:latin typeface="Verdana"/>
              </a:rPr>
              <a:t>sadašnjim</a:t>
            </a:r>
            <a:r>
              <a:rPr b="0" lang="hr-HR" sz="2500" spc="-1" strike="noStrike">
                <a:solidFill>
                  <a:srgbClr val="0033cc"/>
                </a:solidFill>
                <a:latin typeface="Verdana"/>
              </a:rPr>
              <a:t> i </a:t>
            </a:r>
            <a:r>
              <a:rPr b="0" lang="hr-HR" sz="2500" spc="-1" strike="noStrike">
                <a:solidFill>
                  <a:srgbClr val="ff9900"/>
                </a:solidFill>
                <a:latin typeface="Verdana"/>
              </a:rPr>
              <a:t>potencijalnim</a:t>
            </a:r>
            <a:r>
              <a:rPr b="0" lang="hr-HR" sz="2500" spc="-1" strike="noStrike">
                <a:solidFill>
                  <a:srgbClr val="0033cc"/>
                </a:solidFill>
                <a:latin typeface="Verdana"/>
              </a:rPr>
              <a:t> ravnateljima srednjih škola i domova dao šire mogućnosti za stjecanje znanja i potrebnih kompeten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horizontalna i vertikalna prohodnost ravnatelja (unutar odgojno-obrazovnog sustava –</a:t>
            </a: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ff9900"/>
                </a:solidFill>
                <a:latin typeface="Verdana"/>
              </a:rPr>
              <a:t>registar ravnatelja</a:t>
            </a: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osiguravanje/mogućnost povratka na prethodno radno mje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modularno osposobljavanje ravnatel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kontinuirano stručno (znanstveno-stručno) usavršavanje ravnatel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819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SURADNJA S PEDAGOGOM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interakcija</a:t>
            </a:r>
            <a:r>
              <a:rPr b="0" lang="hr-HR" sz="1800" spc="-1" strike="noStrike">
                <a:solidFill>
                  <a:srgbClr val="ff66ff"/>
                </a:solidFill>
                <a:latin typeface="Verdana"/>
              </a:rPr>
              <a:t>       </a:t>
            </a:r>
            <a:r>
              <a:rPr b="0" lang="hr-HR" sz="800" spc="-1" strike="noStrike">
                <a:solidFill>
                  <a:srgbClr val="ff66ff"/>
                </a:solidFill>
                <a:latin typeface="Verdana"/>
              </a:rPr>
              <a:t>     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          </a:t>
            </a:r>
            <a:r>
              <a:rPr b="1" lang="hr-HR" sz="1800" spc="-1" strike="noStrike">
                <a:solidFill>
                  <a:srgbClr val="ff66ff"/>
                </a:solidFill>
                <a:latin typeface="Verdana"/>
              </a:rPr>
              <a:t>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ff"/>
                </a:solidFill>
                <a:latin typeface="Verdana"/>
              </a:rPr>
              <a:t>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33cc33"/>
                </a:solidFill>
                <a:latin typeface="Verdana"/>
              </a:rPr>
              <a:t>         </a:t>
            </a:r>
            <a:r>
              <a:rPr b="1" lang="hr-HR" sz="2200" spc="-1" strike="noStrike">
                <a:solidFill>
                  <a:srgbClr val="33cc33"/>
                </a:solidFill>
                <a:latin typeface="Verdana"/>
              </a:rPr>
              <a:t>RAVNATELJ</a:t>
            </a:r>
            <a:r>
              <a:rPr b="1" lang="hr-HR" sz="2000" spc="-1" strike="noStrike">
                <a:solidFill>
                  <a:srgbClr val="33cc33"/>
                </a:solidFill>
                <a:latin typeface="Verdana"/>
              </a:rPr>
              <a:t>     </a:t>
            </a:r>
            <a:r>
              <a:rPr b="1" lang="hr-HR" sz="1000" spc="-1" strike="noStrike">
                <a:solidFill>
                  <a:srgbClr val="33cc33"/>
                </a:solidFill>
                <a:latin typeface="Verdana"/>
              </a:rPr>
              <a:t>                                                                                        </a:t>
            </a:r>
            <a:r>
              <a:rPr b="1" lang="hr-HR" sz="2200" spc="-1" strike="noStrike">
                <a:solidFill>
                  <a:srgbClr val="33cc33"/>
                </a:solidFill>
                <a:latin typeface="Verdana"/>
              </a:rPr>
              <a:t>PEDAG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33cc33"/>
                </a:solidFill>
                <a:latin typeface="Verdana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6600"/>
                </a:solidFill>
                <a:latin typeface="Verdana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hr-HR" sz="1800" spc="-1" strike="noStrike">
                <a:solidFill>
                  <a:srgbClr val="ff66ff"/>
                </a:solidFill>
                <a:latin typeface="Verdana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organizacijska učinkovitost i kultura škole/do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ff66ff"/>
                </a:solidFill>
                <a:latin typeface="Verdana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3097080" cy="3232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9900"/>
                </a:solidFill>
                <a:latin typeface="Arial"/>
              </a:rPr>
              <a:t>DRUGI  KONGRES  PEDAGOGA  HRVATSKE</a:t>
            </a:r>
            <a:br>
              <a:rPr sz="2000"/>
            </a:br>
            <a:r>
              <a:rPr b="1" lang="hr-HR" sz="2000" spc="-1" strike="noStrike">
                <a:solidFill>
                  <a:srgbClr val="3366ff"/>
                </a:solidFill>
                <a:latin typeface="Arial"/>
              </a:rPr>
              <a:t>Opatija, 24. – 26. rujna 2012. – hotel Ambasador</a:t>
            </a:r>
            <a:br>
              <a:rPr sz="2000"/>
            </a:br>
            <a:r>
              <a:rPr b="1" lang="hr-HR" sz="2400" spc="-1" strike="noStrike">
                <a:solidFill>
                  <a:srgbClr val="00cc00"/>
                </a:solidFill>
                <a:latin typeface="Arial"/>
              </a:rPr>
              <a:t>Pedagogija i kultura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9900"/>
                </a:solidFill>
                <a:latin typeface="Verdana"/>
              </a:rPr>
              <a:t>HRVATSKO PEDAGOGIJSKO DRUŠT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cc"/>
                </a:solidFill>
                <a:latin typeface="Verdana"/>
              </a:rPr>
              <a:t>www.pedagogija.h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19640" y="2203560"/>
            <a:ext cx="2376360" cy="220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PROFESIONALNI RAZVOJ RAVNATELJA SREDNJIH ŠKOLA I UČENIČKIH DOMOVA U HRVATSKOJ</a:t>
            </a:r>
            <a:r>
              <a:rPr b="0" lang="hr-HR" sz="2000" spc="-1" strike="noStrike">
                <a:solidFill>
                  <a:srgbClr val="008000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99640" y="4797000"/>
            <a:ext cx="748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66"/>
                </a:solidFill>
                <a:latin typeface="Verdana"/>
              </a:rPr>
              <a:t>Dr. sc. Neven Hrvatić, red. prof.</a:t>
            </a:r>
            <a:r>
              <a:rPr b="0" lang="hr-HR" sz="19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6666"/>
                </a:solidFill>
                <a:latin typeface="Verdana"/>
              </a:rPr>
              <a:t>FILOZOFSKI FAKULTET ZAGREB</a:t>
            </a:r>
            <a:r>
              <a:rPr b="0" lang="hr-HR" sz="1500" spc="-1" strike="noStrike">
                <a:solidFill>
                  <a:srgbClr val="00cc66"/>
                </a:solidFill>
                <a:latin typeface="Verdana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66ff"/>
                </a:solidFill>
                <a:latin typeface="Verdana"/>
              </a:rPr>
              <a:t>ODSJEK ZA PEDAGOGIJ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5f5f5f"/>
                </a:solidFill>
                <a:latin typeface="Verdana"/>
              </a:rPr>
              <a:t>e-mail:</a:t>
            </a:r>
            <a:r>
              <a:rPr b="0" lang="hr-HR" sz="15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hr-HR" sz="1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nhrvatic</a:t>
            </a:r>
            <a:r>
              <a:rPr b="0" lang="hr-HR" sz="1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@</a:t>
            </a:r>
            <a:r>
              <a:rPr b="0" lang="hr-HR" sz="1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ffzg</a:t>
            </a:r>
            <a:r>
              <a:rPr b="0" lang="hr-HR" sz="1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.h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794640" y="5013360"/>
            <a:ext cx="134280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195640" y="2276640"/>
            <a:ext cx="1525320" cy="1930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364000" y="2565360"/>
            <a:ext cx="1524240" cy="1352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OBRAZOVNE POLITIK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9160" y="1827000"/>
            <a:ext cx="7304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6666"/>
                </a:solidFill>
                <a:latin typeface="Verdana"/>
              </a:rPr>
              <a:t>Legislativne i administrativne mjere kojima se strukturira i razvija odgoj i obrazovan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9900"/>
                </a:solidFill>
                <a:latin typeface="Verdana"/>
              </a:rPr>
              <a:t>Cilj i zadac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Profesionalni identitet/dignitet profesora (stručni razvoj i cjeloživotno obrazovanje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cc"/>
                </a:solidFill>
                <a:latin typeface="Verdana"/>
              </a:rPr>
              <a:t>Istovremeno djelovanje na svim područjima obrazovnog sustava (trajno, sustavno, cjelovito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Uvažavanje školske autonomije (kompromis između centralizma i autonomije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cc"/>
                </a:solidFill>
                <a:latin typeface="Verdana"/>
              </a:rPr>
              <a:t>Pedagoško vrednovanje (obrazovna “učinkovitost” i odgojni utjecaji)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9900"/>
                </a:solidFill>
                <a:latin typeface="Verdana"/>
              </a:rPr>
              <a:t>Suodnos upravljanja, rukovođenja i vođenja u okviru obrazovnog susta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OBRAZOVNE POLITIKE</a:t>
            </a:r>
            <a:r>
              <a:rPr b="0" lang="hr-HR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66"/>
                </a:solidFill>
                <a:latin typeface="Verdana"/>
              </a:rPr>
              <a:t>Global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Internacional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66"/>
                </a:solidFill>
                <a:latin typeface="Verdana"/>
              </a:rPr>
              <a:t>Europe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Privat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66"/>
                </a:solidFill>
                <a:latin typeface="Verdana"/>
              </a:rPr>
              <a:t>Informat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Standardizacija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00"/>
                </a:solidFill>
                <a:latin typeface="Verdana"/>
              </a:rPr>
              <a:t>Cjeloživotno obrazovanje profesora/</a:t>
            </a:r>
            <a:r>
              <a:rPr b="0" lang="hr-HR" sz="1800" spc="-1" strike="noStrike">
                <a:solidFill>
                  <a:srgbClr val="ff9900"/>
                </a:solidFill>
                <a:latin typeface="Verdana"/>
              </a:rPr>
              <a:t>ravnatelja </a:t>
            </a:r>
            <a:r>
              <a:rPr b="0" lang="hr-HR" sz="1800" spc="-1" strike="noStrike">
                <a:solidFill>
                  <a:srgbClr val="ff6600"/>
                </a:solidFill>
                <a:latin typeface="Wingdings"/>
                <a:ea typeface="Wingdings"/>
              </a:rPr>
              <a:t></a:t>
            </a: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ff6600"/>
                </a:solidFill>
                <a:latin typeface="Verdana"/>
              </a:rPr>
              <a:t>profesionalni razvo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319640" cy="22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RUKOVOĐEN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82736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cc"/>
                </a:solidFill>
                <a:latin typeface="Verdana"/>
              </a:rPr>
              <a:t>RUKOVOĐEN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Usklađivanje potencijala u školi/domu prema ostvarenju odgojno-obrazovnog cilja škole/doma kao instituci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Administrativno -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pedagoška funkci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Umjerena pravna regulirano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9900"/>
                </a:solidFill>
                <a:latin typeface="Verdana"/>
              </a:rPr>
              <a:t>Srednja autonomi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13"/>
          <p:cNvSpPr/>
          <p:nvPr/>
        </p:nvSpPr>
        <p:spPr>
          <a:xfrm rot="509400">
            <a:off x="5003280" y="2707920"/>
            <a:ext cx="2953080" cy="28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5508720" y="3573360"/>
            <a:ext cx="2016000" cy="201636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6012000" y="4508640"/>
            <a:ext cx="1079280" cy="1079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b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724360" y="3068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cccc"/>
                </a:solidFill>
                <a:latin typeface="Century Gothic"/>
              </a:rPr>
              <a:t>Upravl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425200" y="4005360"/>
            <a:ext cx="207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Century Gothic"/>
              </a:rPr>
              <a:t> </a:t>
            </a:r>
            <a:r>
              <a:rPr b="1" lang="hr-HR" sz="2200" spc="-1" strike="noStrike">
                <a:solidFill>
                  <a:srgbClr val="006666"/>
                </a:solidFill>
                <a:latin typeface="Century Gothic"/>
              </a:rPr>
              <a:t>Rukovođe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050160" y="4869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Century Gothic"/>
              </a:rPr>
              <a:t>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221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RUKOVOĐENJE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KOMPETENCI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69800" y="1827360"/>
            <a:ext cx="73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Uloga i obveze ravnatelja kao rukovoditel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cc"/>
                </a:solidFill>
                <a:latin typeface="Verdana"/>
              </a:rPr>
              <a:t>Kompetencijski standardi za ravnatel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Izbor, imenovanje, uvođenje u rad i stručno usavršavanje ravnatel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cc"/>
                </a:solidFill>
                <a:latin typeface="Verdana"/>
              </a:rPr>
              <a:t>Odgovornost ravnatelja za provedbu zakona, propisa i financijsko poslovan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Vrednovanje rada ravnatel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3300"/>
                </a:solidFill>
                <a:latin typeface="Verdana"/>
              </a:rPr>
              <a:t>Nositelji rukovođenj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8000"/>
                </a:solidFill>
                <a:latin typeface="Verdana"/>
              </a:rPr>
              <a:t>Ministar</a:t>
            </a:r>
            <a:r>
              <a:rPr b="0" lang="hr-HR" sz="17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ff0066"/>
                </a:solidFill>
                <a:latin typeface="Wingdings"/>
                <a:ea typeface="Wingdings"/>
              </a:rPr>
              <a:t></a:t>
            </a:r>
            <a:r>
              <a:rPr b="0" lang="hr-HR" sz="17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državna/regionalna/lokalna uprava-samouprava</a:t>
            </a:r>
            <a:r>
              <a:rPr b="0" lang="hr-HR" sz="17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ff0066"/>
                </a:solidFill>
                <a:latin typeface="Wingdings"/>
                <a:ea typeface="Wingdings"/>
              </a:rPr>
              <a:t></a:t>
            </a:r>
            <a:r>
              <a:rPr b="0" lang="hr-HR" sz="17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ff9900"/>
                </a:solidFill>
                <a:latin typeface="Verdana"/>
              </a:rPr>
              <a:t>ravnatel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3344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308720" y="530064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6600"/>
                </a:solidFill>
                <a:latin typeface="Arial"/>
              </a:rPr>
              <a:t>VOĐEN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1628640"/>
            <a:ext cx="431928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cc"/>
                </a:solidFill>
                <a:latin typeface="Verdana"/>
              </a:rPr>
              <a:t>VOĐEN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cc00"/>
                </a:solidFill>
                <a:latin typeface="Verdana"/>
              </a:rPr>
              <a:t>Usklađivanje ljudskog potencijala u školi/domu prema ostvarenju odgojno – obrazovnih sadržaja školi/domu</a:t>
            </a:r>
            <a:r>
              <a:rPr b="0" lang="hr-HR" sz="25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Stručno - pedagoška funkci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Minimalna pravna regulirano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9900"/>
                </a:solidFill>
                <a:latin typeface="Verdana"/>
              </a:rPr>
              <a:t>Velika autonomi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5003640" y="2708280"/>
            <a:ext cx="2953080" cy="28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5508720" y="3573360"/>
            <a:ext cx="2016000" cy="201636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012000" y="4508640"/>
            <a:ext cx="1079280" cy="1079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b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724360" y="3068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cccc"/>
                </a:solidFill>
                <a:latin typeface="Century Gothic"/>
              </a:rPr>
              <a:t>Upravl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755320" y="4005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Century Gothic"/>
              </a:rPr>
              <a:t>Ruko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879520" y="4869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cc00"/>
                </a:solidFill>
                <a:latin typeface="Century Gothic"/>
              </a:rPr>
              <a:t>  </a:t>
            </a:r>
            <a:r>
              <a:rPr b="1" lang="hr-HR" sz="1800" spc="-1" strike="noStrike">
                <a:solidFill>
                  <a:srgbClr val="00cc00"/>
                </a:solidFill>
                <a:latin typeface="Century Gothic"/>
              </a:rPr>
              <a:t>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0033cc"/>
                </a:solidFill>
                <a:latin typeface="Arial"/>
              </a:rPr>
              <a:t>VOĐENJE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KOMPETENCIJ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69800" y="1827360"/>
            <a:ext cx="73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cc"/>
                </a:solidFill>
                <a:latin typeface="Verdana"/>
              </a:rPr>
              <a:t>Komuniciranje u ško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Motiviranje profesora (djelatnik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cc"/>
                </a:solidFill>
                <a:latin typeface="Verdana"/>
              </a:rPr>
              <a:t>Stilovi vođenj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Mogući sukobi i njihovo rješavan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cc"/>
                </a:solidFill>
                <a:latin typeface="Verdana"/>
              </a:rPr>
              <a:t>Učinkoviti sastanc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3300"/>
                </a:solidFill>
                <a:latin typeface="Verdana"/>
              </a:rPr>
              <a:t>Nositelji vođenj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Ravnatelj (zamjenik, pomoćnik ravnatelja, voditelj smjene) </a:t>
            </a:r>
            <a:r>
              <a:rPr b="0" lang="hr-HR" sz="1700" spc="-1" strike="noStrike">
                <a:solidFill>
                  <a:srgbClr val="ff0066"/>
                </a:solidFill>
                <a:latin typeface="Wingdings"/>
                <a:ea typeface="Wingdings"/>
              </a:rPr>
              <a:t></a:t>
            </a: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cc00"/>
                </a:solidFill>
                <a:latin typeface="Verdana"/>
              </a:rPr>
              <a:t>pedagog (stručni suradnici)</a:t>
            </a:r>
            <a:r>
              <a:rPr b="0" lang="hr-HR" sz="19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ff0066"/>
                </a:solidFill>
                <a:latin typeface="Wingdings"/>
                <a:ea typeface="Wingdings"/>
              </a:rPr>
              <a:t></a:t>
            </a:r>
            <a:r>
              <a:rPr b="0" lang="hr-HR" sz="17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ff9900"/>
                </a:solidFill>
                <a:latin typeface="Verdana"/>
              </a:rPr>
              <a:t>profesori/odgajatel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0328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372360" y="2421000"/>
            <a:ext cx="2336760" cy="1811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PROFESIONALNI RAZVOJ RAVNATELJA</a:t>
            </a: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ff9900"/>
                </a:solidFill>
                <a:latin typeface="Arial"/>
              </a:rPr>
              <a:t>SASTAVNIC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Stjecanje potrebnih kompetencije postaje osnova i pretpostavka stručnog razvoja ravnatelja tijekom svih faza </a:t>
            </a:r>
            <a:r>
              <a:rPr b="0" lang="hr-HR" sz="2100" spc="-1" strike="noStrike">
                <a:solidFill>
                  <a:srgbClr val="ff9900"/>
                </a:solidFill>
                <a:latin typeface="Verdana"/>
              </a:rPr>
              <a:t>profesionalne karijere</a:t>
            </a: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Proces</a:t>
            </a:r>
            <a:r>
              <a:rPr b="0" lang="hr-HR" sz="21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ff3300"/>
                </a:solidFill>
                <a:latin typeface="Verdana"/>
              </a:rPr>
              <a:t>kontinuiranog profesionalnog razvoja</a:t>
            </a:r>
            <a:r>
              <a:rPr b="0" lang="hr-HR" sz="21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0" i="1" lang="hr-HR" sz="2100" spc="-1" strike="noStrike">
                <a:solidFill>
                  <a:srgbClr val="ff6600"/>
                </a:solidFill>
                <a:latin typeface="Verdana"/>
              </a:rPr>
              <a:t>Continuous Professional Development</a:t>
            </a:r>
            <a:r>
              <a:rPr b="0" lang="hr-HR" sz="2100" spc="-1" strike="noStrike">
                <a:solidFill>
                  <a:srgbClr val="ff6600"/>
                </a:solidFill>
                <a:latin typeface="Verdana"/>
              </a:rPr>
              <a:t>)</a:t>
            </a:r>
            <a:r>
              <a:rPr b="0" lang="hr-HR" sz="21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počinje s jačanjem procesa  temeljne izobrazbe/osposobljavanja ravnatelja i sastoji se od komplementarnih  komponent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inicijalne (diplomske) izobrazbe/osposobljavanja ravnatel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cc00"/>
                </a:solidFill>
                <a:latin typeface="Verdana"/>
              </a:rPr>
              <a:t>uvođenja u posa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33cc"/>
                </a:solidFill>
                <a:latin typeface="Verdana"/>
              </a:rPr>
              <a:t>obrazovanja ravnatelja tijekom rada</a:t>
            </a:r>
            <a:r>
              <a:rPr b="0" lang="hr-HR" sz="2100" spc="-1" strike="noStrike">
                <a:solidFill>
                  <a:srgbClr val="99cccc"/>
                </a:solidFill>
                <a:latin typeface="Verdana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cc00"/>
                </a:solidFill>
                <a:latin typeface="Verdana"/>
              </a:rPr>
              <a:t>cjeloživotnog učen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164360" y="5373720"/>
            <a:ext cx="139212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31640" cy="42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5:55:48Z</dcterms:created>
  <dc:creator>neven hrvatic</dc:creator>
  <dc:description/>
  <dc:language>en-US</dc:language>
  <cp:lastModifiedBy>korisnik</cp:lastModifiedBy>
  <dcterms:modified xsi:type="dcterms:W3CDTF">2012-04-24T00:00:53Z</dcterms:modified>
  <cp:revision>147</cp:revision>
  <dc:subject/>
  <dc:title>ODGOJ I OBRAZOVANJE ROMA U HRVATSKOJ</dc:title>
</cp:coreProperties>
</file>