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1.png" ContentType="image/png"/>
  <Override PartName="/ppt/media/image19.wmf" ContentType="image/x-wmf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</p:sldIdLst>
  <p:sldSz cx="9144000" cy="6858000"/>
  <p:notesSz cx="10015538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10015200" cy="68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31"/>
          </p:nvPr>
        </p:nvSpPr>
        <p:spPr>
          <a:xfrm>
            <a:off x="5673240" y="-360"/>
            <a:ext cx="434052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Img"/>
          </p:nvPr>
        </p:nvSpPr>
        <p:spPr>
          <a:xfrm>
            <a:off x="3285720" y="515880"/>
            <a:ext cx="3443400" cy="25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body"/>
          </p:nvPr>
        </p:nvSpPr>
        <p:spPr>
          <a:xfrm>
            <a:off x="1001520" y="3268440"/>
            <a:ext cx="8011800" cy="3097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ftr" idx="32"/>
          </p:nvPr>
        </p:nvSpPr>
        <p:spPr>
          <a:xfrm>
            <a:off x="0" y="653544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 type="sldNum" idx="33"/>
          </p:nvPr>
        </p:nvSpPr>
        <p:spPr>
          <a:xfrm>
            <a:off x="5673240" y="6535440"/>
            <a:ext cx="434052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C1F0-62E2-431F-9607-B54B0BAD8AE5}" type="slidenum">
              <a:rPr b="0" lang="hr-H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3286080" y="515880"/>
            <a:ext cx="3443400" cy="25812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1001520" y="3268440"/>
            <a:ext cx="801180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5673600" y="6535800"/>
            <a:ext cx="4340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A2A3-C5DC-4ECC-BE41-9BDD268786B2}" type="slidenum">
              <a:rPr b="0" lang="hr-H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3286080" y="515880"/>
            <a:ext cx="3443400" cy="25812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001520" y="3268440"/>
            <a:ext cx="801180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5673600" y="6535800"/>
            <a:ext cx="4340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24DD-1230-455C-B143-0BEA3B3EDCB8}" type="slidenum">
              <a:rPr b="0" lang="hr-H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3286080" y="515880"/>
            <a:ext cx="3443400" cy="25812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1001520" y="3268440"/>
            <a:ext cx="801180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5673600" y="6535800"/>
            <a:ext cx="4340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FC99-F2A5-4113-A5AE-C6E08D551D28}" type="slidenum">
              <a:rPr b="0" lang="hr-H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3286080" y="515880"/>
            <a:ext cx="3443400" cy="25812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001520" y="3268440"/>
            <a:ext cx="801180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5673600" y="6535800"/>
            <a:ext cx="4340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8A24-E83B-4519-AFE6-4DAA5DD9CBF3}" type="slidenum">
              <a:rPr b="0" lang="hr-H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286080" y="515880"/>
            <a:ext cx="3443400" cy="25812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01520" y="3268440"/>
            <a:ext cx="801180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5673600" y="6535800"/>
            <a:ext cx="4340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4FE8-D02B-423C-93D0-0DB31ACFAC25}" type="slidenum">
              <a:rPr b="0" lang="hr-H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3286080" y="515880"/>
            <a:ext cx="3443400" cy="2581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1001520" y="3268440"/>
            <a:ext cx="801180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5673600" y="6535800"/>
            <a:ext cx="4340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0EA8-4829-4D0D-A32D-8A708251CC2D}" type="slidenum">
              <a:rPr b="0" lang="hr-H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3286080" y="515880"/>
            <a:ext cx="3443400" cy="25812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1001520" y="3268440"/>
            <a:ext cx="801180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5673600" y="6535800"/>
            <a:ext cx="4340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5141-7E96-4144-AF73-EDD46E47C260}" type="slidenum">
              <a:rPr b="0" lang="hr-H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FE5-E4E8-4F93-8A52-F9851A28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6A2-A6D2-4095-854B-74D9801B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DEEB8-69B2-45BC-82B5-35E6D026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07A5F-AD7D-4AB0-A819-19CB19C7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E4AAF-9CBD-42F1-B809-7E84D46D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34445-C580-41F2-864E-E74189E2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E3973-A6AA-4978-9A91-0EA9812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7B924-C374-48B1-9351-EC539374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DC800-78B0-4E97-8433-D927F87A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ACD25-DE2F-4E49-ABB3-32FA89E1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69147-1916-407B-BB4A-5675677A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E5E9D-17F2-4A52-81AC-A89919D9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BA8-4850-4531-A3A5-16700FE6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11B55-376B-44E1-A8ED-361BCFEE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7E2FC-2287-432A-8FE8-73E496A9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B2E6C-D393-4F6D-82C9-94A3E324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C9CDA-7371-41AF-A9A1-AAE84B08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BCE4A-4788-4B28-B78C-B01F6FBE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B05BF-9CBB-4425-A079-E3E8EA0E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98BF2-ACCE-4626-92E2-540D7EAD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65A75-AD8D-486E-AF27-244AF8E4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A89C4-42DE-434C-8A51-C7AAC6C4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FE8F8-EBB2-40B9-9442-9FF31EDA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558-71B0-4A77-A133-E2DBE571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B1041-1B51-4D2E-A17A-CAB70AC2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A595-BDE2-4590-8E5C-F664514F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98A4-2E73-405E-AFEF-3E11EB2D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8B20-F10D-44A1-AB97-F21A6DCB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4605-0A37-4A1E-85B4-DD1A0696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F77D-053B-4671-AF60-4D729CF4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EF30-9508-4A33-82E4-0516A689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3340-7DE0-4B26-A3B8-7D1625B7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3AB-E7A1-4ADD-A118-2C6B0D91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4B1F-DDD3-4DBB-9B05-246127BA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C4B4-3A27-4B2D-849D-5DBDDBF9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51E2-E1F9-46B7-84BB-EE367678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B1FF-D5C6-4EC1-9891-915452C0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AF45-62F7-4CCE-BE02-325D74C0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64601-6876-4A8E-A15D-46A79392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E49B4-310A-4840-A22E-5DC35E3A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6C93-46FB-4918-8116-672822B8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A3D4-7106-44DE-AC2B-4D468189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997C3-2038-4CFD-AAB8-2017C805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952-4DC8-4E08-B71A-E6606B87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C130-D9E4-4FBE-A6B9-E32FD56D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3E544-8917-4B6D-B784-F3C421B6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F529-D240-46F3-94DD-CC442D1C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D08BF-5709-43D8-91E7-9627CE95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BF1C-E5F8-4A93-A9EC-AEAD0EBB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B4CA-2DF5-4830-A172-12FA262E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AE64B-DF2D-42BC-9508-4F3B767E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8FB16-EFFD-4C7B-ABC0-E80BA19B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0358-14BF-4D3E-B2A8-F9E7F5D9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C7024-5A85-4980-8D95-EFFFA842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491-37F5-4E4A-B770-44935390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13A5-D4B1-4D4D-90F6-C35F5D0A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B3274-640A-41E5-91F9-FD652A1A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3E3B6-CFFD-4145-A344-07581B56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10961-932E-474B-9C21-D6F783A3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BD9AA-9814-4D67-82F8-E8C3607D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EFA1B-49AA-4416-8E98-7457F509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CE0E1-87D1-4CDD-87AA-9BC5CBB7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8548A-2ADF-41EA-A4E3-E2AAEB89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0F371-EF6D-46DB-B9D1-21A42DCB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C2576-004E-401E-92D4-D0D5FA4F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5C0-DBB8-4FFC-BC51-8F6DE298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11B8F-5E51-4451-BF08-6A3A06D9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069FC-4C07-461F-99E8-2DA6EEAF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E2D4B-9B1D-47CF-AA5A-D59EE13D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5FD0-5B50-44E3-9D04-BE3A004B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A4F5C-43B5-4D7C-838D-BFC25F30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B9399-E469-44E7-8DC0-84894AB5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10C6D-E63B-4ECA-B906-74AF2406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45FCD-2F52-4822-A893-69B25AE1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77087-594C-41A0-8D80-B0C50415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D164C-1AF3-406A-891B-E7D96DFE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5D9-D93D-414D-92FE-9E4AECE9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739EA-0D63-4EFF-88DA-B902349F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B4FAB-BC76-4E4D-B7F0-7225E39F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6713F-7545-4066-9928-00921A33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22E35-CCB3-45DB-A5FF-860009A7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AE402-8624-413A-AD4B-BC7C3610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6997D-D29B-4F55-8564-EC4495AD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EAEC2-38BC-4C4C-AE0E-D06B0C99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6FD11-B569-4AB4-A175-BC4056B6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9B245-AC67-4F40-A625-3691C5A6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D6CC3-27EA-4145-BCB5-D61AEDD3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B0D-9D68-4D62-8EA7-6A887C38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AF176-A361-45EB-9C32-02FCA16F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C0F54-604E-49EA-AA33-7AB6E0F3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FA23C-31BF-48AD-96F4-F9ACC6CC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E7F44-36C3-4DF8-B251-E9C5B9F2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DE19B-A48B-4301-97AA-43AB62FC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C5A97-5AE6-4B59-AC01-9A1B9277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57624-B120-4C16-BAE8-00ADD5A0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C71D0-819E-4D20-8502-434D23A6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4296A-FE86-49C4-A098-FB267D57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9DA2D-CC8F-4F86-A417-2477C28B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F1C-C0DF-4622-A6BA-8B7CC89C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A3030-85F8-4F63-9B09-A3FB9E7D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B6BFB-4A52-4C3A-B6CC-EE3B1A08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9D616-B319-4033-B733-805C4F6B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2B955-533A-4094-A654-CC6E2F6F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70473-65EA-427C-9EF8-A749393C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EA8E6-4BB4-485F-A8BD-0F4AB635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34EF3-78DF-421A-B1CA-BF3D959A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03B48-DD8B-4AEA-A1D2-43FDC22E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794A1-37DD-46B3-AD27-A9705C69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68F0C-3106-4C3D-851F-6D688E4A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A28-E460-41EA-BD86-C5005849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AA88D-B148-4895-A49B-191E4F19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3F876-436C-4E16-9EC9-51AE7B4D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9801B-B3E4-4BA2-BC6C-40583DB6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A0796-3DAE-41D8-9653-0AC0ACFE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224C6-A2D9-411B-8F83-6A66C034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6DD2A-F311-495F-BF2A-61C2EBAA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983FE-5FF1-41F5-B066-DA8747F2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EF366-41DB-41CD-AC6F-19AF1314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E6395-0294-46EA-8221-46767E29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69C84-537C-4956-8742-74E619BD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D751-6527-4D83-8F46-6CDA5BA0A76B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ACCF-023B-41FF-9735-56817DF3855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9A57-25CB-49AE-8D86-9FAC870BB43B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0B8C-9227-4FC0-9352-9EA0DAA5E83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1166760"/>
            <a:ext cx="9144000" cy="571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mmarenic\Desktop\Logo_ncvvo_1.jpg"/>
          <p:cNvPicPr/>
          <p:nvPr/>
        </p:nvPicPr>
        <p:blipFill>
          <a:blip r:embed="rId3"/>
          <a:stretch/>
        </p:blipFill>
        <p:spPr>
          <a:xfrm>
            <a:off x="179280" y="216000"/>
            <a:ext cx="1997280" cy="97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F52B-F592-42D3-AE18-50D05B0BB788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D86D-1C64-4C93-BBA6-9C1CA99DF0A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20520" y="1341360"/>
            <a:ext cx="9144000" cy="571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mmarenic\Desktop\Logo_ncvvo_1.jpg"/>
          <p:cNvPicPr/>
          <p:nvPr/>
        </p:nvPicPr>
        <p:blipFill>
          <a:blip r:embed="rId3"/>
          <a:stretch/>
        </p:blipFill>
        <p:spPr>
          <a:xfrm>
            <a:off x="200160" y="390600"/>
            <a:ext cx="199692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9F45-9BA0-4C5B-BAD1-D5E9A2F3FFF1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0138-BD30-435D-A22A-FF4D6F2BC4F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F7CB-6926-4329-AF48-D7CA8348F236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9EE8-94CE-45C4-AC97-923B1286595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105E-2F40-4F5A-B6D4-7EBE047CAB15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BD15-221D-47FB-8782-8E7019E764D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6890-39BB-4019-B220-AFB3CA17BC1A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514D-8B60-442E-AEE7-4D2DD10FB2C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6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4F04-C9AB-4C54-B545-D723CC752BBE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93CE-DB52-4036-8770-BF0F7F64BAE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79E3-4708-4474-A230-043DE69104C1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732F-7F27-4642-952D-B30BE656328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45CE-E99D-4D93-8B51-6133C1C3F660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8578-B59F-4195-A007-1AEB1B4DD04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ik.dm@ncvvo.hr" TargetMode="External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REDNOVANJE U SREDNJIM ŠKOL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Goran Sirovatka, ravnatel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Zadar, Hotel „Donat“ 24. – 26. travnja 2012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ru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i skup ravnatelja srednjih škola i u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ih domova R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SPITI OBVEZNOGA DIJELA D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457200" y="1600200"/>
          <a:ext cx="8229600" cy="4449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P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KUPNO UČEN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IMNAZ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RUKOVNE Š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RVATSKI JEZIK –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RVATSKI JEZIK –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   –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   – 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LESKI JEZIK –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LESKI JEZIK – 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EMAČKI JEZIK –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EMAČKI JEZIK – 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INSKI JEZIK –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INSKI JEZIK – 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ČKI JEZ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Odjel za organizaciju i provođenje is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travanj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395280" y="1916280"/>
          <a:ext cx="8229600" cy="2395440"/>
        </p:xfrm>
        <a:graphic>
          <a:graphicData uri="http://schemas.openxmlformats.org/drawingml/2006/table">
            <a:tbl>
              <a:tblPr/>
              <a:tblGrid>
                <a:gridCol w="2170080"/>
                <a:gridCol w="1944720"/>
                <a:gridCol w="2057400"/>
                <a:gridCol w="20574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ERINSKI JEZICI NACIONALNIH MANJ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KUPNO UČEN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IMNAZ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RUKOVNE Š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ĐARSKI JEZ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PSKI JEZ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IJANSKI JEZIK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IJANSKI JEZIK – 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SPITI IZBORNOGA DIJELA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 NAJVIŠE PRI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Odjel za organizaciju i provođenje is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travanj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39640" y="2060640"/>
          <a:ext cx="8229600" cy="3135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P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ROJ PRIJAVLJENIH UČEN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IMNAZ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RUKOVNE Š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IKA I GOSPODARST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IHOLOG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Odjel za organizaciju i provođenje is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travanj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5056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Centar donio odluk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o pravilima u organizaciji i provedbi ispita  u školama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(koja nisu propisana Pravilnik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o razdvajanju pisanja dvaju dijelova ispita ih hrvatskoga jezika i             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 materinskih jezika nac. manj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o pravu na prilagodbu ispitne tehnologije za učenike koji su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 poslali zahtjeve i  dokumentaci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o zajedničkom pisanju ispita izbornoga dijela učenika više škola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  u jednoj –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neće se provoditi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ljetnome rok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o pravilima za kandi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o izmjenama u Vremeniku za Latinski jezik 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OTEŠKOĆE KOJE SU SE JAVLJALE TIJEKOM 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potpuni podatci o učenicima, školama – teškoće u sinkronizaciji podataka iz e-matice u NISpV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Administriranje promjene podataka o učenic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označavanje matičnih šk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označavanje datuma završetka školo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vostruki podatci – učenici glazbenih šk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ci koji su promijenili školu tijekom ove školske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3"/>
          <p:cNvSpPr/>
          <p:nvPr/>
        </p:nvSpPr>
        <p:spPr>
          <a:xfrm>
            <a:off x="3124080" y="6524640"/>
            <a:ext cx="28958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26920" y="980640"/>
            <a:ext cx="7632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datci o natjecanjima - nadležnost Agencija, samo ona natjecanja koja su naznačena u brošuri, za sva ostala natjecanja učenici potvrde predaju visokome učilištu direktno, ukoliko ih dodatno vrjednu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nos ostalih podataka o prednostima pri upisu (djeca branitelja...- unosi Cent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dovršeni poslovi IK na prethodnoj maturi – teškoće pri prijavi lanjskih maturan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K nisu označili u sustavu završne podatke o završenom četvrtom razre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isu označeni učenici koji su u jesenskom roku obranili završni 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ve godine učenicima se neće moći ispisati svjedodžbe ako ti podatci ne budu unese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oslovi koji slije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ovjeriti sve podatke o učenicima – javiti Centru sve eventualne nepravil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K koji nisu dovršili rasporede učenika – odmah dovrši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spoređivanje dežurstva nastav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vjeriti stanje uređaja za ispite slušanja – koristiti lanjske zvučne zap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držati sastanke s nastavnicima – provjeriti jesu li svi upoznali učenike s ispitnim katalozima (otvaranje, zatvaranje ispitnih materijal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pozoriti učenike na važnost poštivanja uputa za svaki ispit – prepisivanje odgovora u list za odgovore: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NEMA NAKNADNOG PRIZNAVANJA NETOČNO POPUNJENIH ISPITNIH MATERIJ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ooter Placeholder 1"/>
          <p:cNvSpPr/>
          <p:nvPr/>
        </p:nvSpPr>
        <p:spPr>
          <a:xfrm>
            <a:off x="2987640" y="6691320"/>
            <a:ext cx="2960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6920" y="2060640"/>
            <a:ext cx="266544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4800" spc="-1" strike="noStrike">
                <a:solidFill>
                  <a:srgbClr val="000000"/>
                </a:solidFill>
                <a:latin typeface="Calibri"/>
              </a:rPr>
              <a:t>VAŽN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Content Placeholder 5" descr=""/>
          <p:cNvPicPr/>
          <p:nvPr/>
        </p:nvPicPr>
        <p:blipFill>
          <a:blip r:embed="rId1"/>
          <a:stretch/>
        </p:blipFill>
        <p:spPr>
          <a:xfrm>
            <a:off x="3844800" y="1484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84360" y="1268280"/>
            <a:ext cx="82087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va pitanja postavljaju se isključivo Centru putem e-mail adrese </a:t>
            </a:r>
            <a:r>
              <a:rPr b="0" lang="hr-H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k.dm@ncvvo.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Helpdesk” Centra  (Call centar) djeluje od kolovoza 2011. i sva pitanja tijekom provedbe ispita upućuju se na broj: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                         01 4501 8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obro pripremiti dežurne nastavnike i osobno im pročitati upute prije svakog isp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štovati odredbe Pravilnika i pravila koje je donio Cen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Školska ispitna povjerenstva – dežurstvo u školi tijekom ispita - obvez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68000" y="1628640"/>
            <a:ext cx="7761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oditi računa o vremenu za prigov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vi ispitni koordinatori u to vrijeme u školi od 8.00 do 16.00 s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igovore i mišljenja obvezno upisati u sust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nije izdavanje svjedodžbi nije moguće, prvo izdavanje je odmah nakon službene objave rezult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zdavanje svjedodžbi u školama – potpis učenika i datum uručenja - pohrani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Content Placeholder 4" descr=""/>
          <p:cNvPicPr/>
          <p:nvPr/>
        </p:nvPicPr>
        <p:blipFill>
          <a:blip r:embed="rId1"/>
          <a:stretch/>
        </p:blipFill>
        <p:spPr>
          <a:xfrm>
            <a:off x="457200" y="835200"/>
            <a:ext cx="8229600" cy="5303520"/>
          </a:xfrm>
          <a:prstGeom prst="rect">
            <a:avLst/>
          </a:prstGeom>
          <a:ln w="0">
            <a:noFill/>
          </a:ln>
        </p:spPr>
      </p:pic>
      <p:sp>
        <p:nvSpPr>
          <p:cNvPr id="4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92000" y="298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rganizacija provedbe ispita državne mature u škol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9528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vrijeme isporuke ispitnih materijala u škole (HP donosi kutije s ispitnim materijalima) u školi mora bi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spitni koordinator (njegovo ime je na adresnoj naljepnici ili ravnatelj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koliko nema niti jednog – ravnatelj mora ostaviti pisanu punomoć s imenom osobe koja materijal može preuzeti i o tome obavijestiti Cen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svim drugim slučajevima ispitni materijal bit će vraćen u Cen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Odgovornosti ravnatel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78920" y="1441080"/>
            <a:ext cx="87138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siguranje tajnosti ispitnih materijala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sigurnost prostorije u koju se isporučeni ispitni materijali spremaju, a koje ključ imaju samo ravnatelj i ispitni koo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Rad školskoga ispitnoga povjerenstva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natpolovična većina članova mora biti u školi u vrijeme pisanja svih ispita koji se u školi prov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Imenovanje dežurnih nastavnika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ključne osobe u provedbi ispi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Donošenje odluka na temelju Praviln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ka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voditi računa o dokumentaciji koja mora biti uz svaku odluk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OJEK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Diagram 4" descr=""/>
          <p:cNvPicPr/>
          <p:nvPr/>
        </p:nvPicPr>
        <p:blipFill>
          <a:blip r:embed="rId1"/>
          <a:stretch/>
        </p:blipFill>
        <p:spPr>
          <a:xfrm>
            <a:off x="682560" y="1305000"/>
            <a:ext cx="777888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RAZVOJ ZAVRŠNIH ISPITA NA KRAJU OBRAZOVNIH CIKLU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2011.-20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Content Placeholder 4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4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JEKT: Razvoj završnih ispita na kraju </a:t>
            </a: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brazovnih cikl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Diagram 4" descr=""/>
          <p:cNvPicPr/>
          <p:nvPr/>
        </p:nvPicPr>
        <p:blipFill>
          <a:blip r:embed="rId1"/>
          <a:stretch/>
        </p:blipFill>
        <p:spPr>
          <a:xfrm>
            <a:off x="1262160" y="2481120"/>
            <a:ext cx="60958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voj završnih ispita na kraju obrazovnih ciklus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pći cilj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zviti model ispitivanja znanja na kraju obrazovnih ciklu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Specifični ciljev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zviti model i postupke testiranja prema suvremenim pristupima ispitivanju znanja: uporaba modela </a:t>
            </a:r>
            <a:r>
              <a:rPr b="1" i="1" lang="hr-HR" sz="2000" spc="-1" strike="noStrike">
                <a:solidFill>
                  <a:srgbClr val="000000"/>
                </a:solidFill>
                <a:latin typeface="Calibri"/>
              </a:rPr>
              <a:t>Teorije odgovora na zadatak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hr-HR" sz="2000" spc="-1" strike="noStrike">
                <a:solidFill>
                  <a:srgbClr val="000000"/>
                </a:solidFill>
                <a:latin typeface="Calibri"/>
              </a:rPr>
              <a:t>Item Response Theor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) u izradi i analizi testo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spitati i procijeniti razine znanja učenika 8. razreda iz predmeta: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hrvatski jezik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engleski jezik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povijest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fiz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Testovi će biti usklađeni sa sadržajem </a:t>
            </a:r>
            <a:r>
              <a:rPr b="0" i="1" lang="hr-HR" sz="2000" spc="-1" strike="noStrike">
                <a:solidFill>
                  <a:srgbClr val="000000"/>
                </a:solidFill>
                <a:latin typeface="Calibri"/>
              </a:rPr>
              <a:t>Nastavnoga plana i programa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, a ispitivanje će se temeljiti na uzorku škola/učenika 8. razre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Nacionalni ispit iz matematike u osmim razredima osnovne škole – 2. ciklus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acionalni ispiti 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zdravstvena njega 201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2 cikl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Nacionalni ispiti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zdravstvena njega 2012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cionalni ispit iz predmeta Zdravstvena njega provesti će s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7. svibnja 2012. god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23 srednje škole s programom medicinska sestra/medicinski tehničar na području Republike Hrvats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acionalni ispiti 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zdravstvena njega 2012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dručja ispitivanja u odnosu na prošlu godinu su proširena te će se ovim ciklusom ispitivati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pća zdravstvena nje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zdravstvena njega djet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zdravstvena njega neuroloških boles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zdravstvena njega internističkih boles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zdravstvena njega kirurških boles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Content Placeholder 4" descr=""/>
          <p:cNvPicPr/>
          <p:nvPr/>
        </p:nvPicPr>
        <p:blipFill>
          <a:blip r:embed="rId1"/>
          <a:stretch/>
        </p:blipFill>
        <p:spPr>
          <a:xfrm>
            <a:off x="249120" y="798480"/>
            <a:ext cx="8437680" cy="583416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0920" y="1699920"/>
            <a:ext cx="77058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hr-HR" sz="4000" spc="-1" strike="noStrike">
                <a:solidFill>
                  <a:srgbClr val="002060"/>
                </a:solidFill>
                <a:latin typeface="Calibri"/>
              </a:rPr>
              <a:t>P</a:t>
            </a:r>
            <a:r>
              <a:rPr b="1" lang="hr-HR" sz="3600" spc="-1" strike="noStrike">
                <a:solidFill>
                  <a:srgbClr val="002060"/>
                </a:solidFill>
                <a:latin typeface="Calibri"/>
                <a:ea typeface="JasmineUPC"/>
              </a:rPr>
              <a:t>rojekt </a:t>
            </a:r>
            <a:br>
              <a:rPr sz="3600"/>
            </a:br>
            <a:r>
              <a:rPr b="1" lang="hr-HR" sz="3600" spc="-1" strike="noStrike">
                <a:solidFill>
                  <a:srgbClr val="002060"/>
                </a:solidFill>
                <a:latin typeface="Calibri"/>
                <a:ea typeface="JasmineUPC"/>
              </a:rPr>
              <a:t>„Zastupljenost poduzetničkih sadržaja u programima srednjih škola”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Goran Sirovatka, ravnatelj 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268000" y="274680"/>
            <a:ext cx="64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„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Zastupljenost poduzetničkih sadržaja u programima </a:t>
            </a:r>
            <a:br>
              <a:rPr sz="2000"/>
            </a:b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srednjih škola” 2011.-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CILJ PROJEKTA: utvrditi zastupljenost poduzetničkih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adržaja u programima srednjih škola u RH s ciljem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ustavnog uvođenja učenja poduzetništva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kao jedne od ključnih obrazovnih kompetencij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Listopad 2011. – travanj 201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3124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Goran Sirovatka, ravnatelj 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68000" y="274680"/>
            <a:ext cx="64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„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Zastupljenost poduzetničkih sadržaja u programima </a:t>
            </a:r>
            <a:br>
              <a:rPr sz="2000"/>
            </a:b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srednjih škola” 2011.-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52352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snovni cilj razvoja poduzetničke kompetencije učenika jest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razvoj osobina ličnosti te znanja, vještina, sposobnosti i stavova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potrebnih za djelovanje pojedinca kao uspješne poduzetne osob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oduzetnička kompetencija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ključuje razvoj učenika kao poduzimljivih, kreativnih i samostalnih osoba spremnih na prihvaćanje promjena i preuzimanje rizika, kao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jedinaca s razvijenim socijalnim i komunikacijskim sposobnostima i temeljnim znanjima iz područja gospodarstva i vođenja poslova, te područja obr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ooter Placeholder 3"/>
          <p:cNvSpPr/>
          <p:nvPr/>
        </p:nvSpPr>
        <p:spPr>
          <a:xfrm>
            <a:off x="3124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Goran Sirovatka, ravnatelj 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68000" y="274680"/>
            <a:ext cx="64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„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Zastupljenost poduzetničkih sadržaja u programima </a:t>
            </a:r>
            <a:br>
              <a:rPr sz="2000"/>
            </a:b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srednjih škola” 2011.-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2060280"/>
            <a:ext cx="8507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U osnovi razvoja poduzetničke kompetencije, kao međupredmetne teme koja se razvija u svim predmetima, jest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poduzetne osobe 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osposobljene za uočavanje prilika u kojima svoje ideje mogu pretvoriti u djelatnost ili pothvat u različitim situacijama: obrazovanju, radu i životu općenito.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NOK, 2010., </a:t>
            </a:r>
            <a:r>
              <a:rPr b="0" i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Međupredmetne tem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, str. 4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3124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Goran Sirovatka, ravnatelj 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68000" y="274680"/>
            <a:ext cx="64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„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Zastupljenost poduzetničkih sadržaja u programima </a:t>
            </a:r>
            <a:br>
              <a:rPr sz="2000"/>
            </a:b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srednjih škola” 2011.-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alibri"/>
              </a:rPr>
              <a:t>PROJEKTNE AKTIV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analiza relevantnih nastavnih planova predmeta PiG, Poduzetništvo, i drugih (ekonomskih) predmeta u srednjim školam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icijalne fokus grupe s učenicima i nastavnicima srednjih škol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alibri"/>
              </a:rPr>
              <a:t>on-lin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Upitnik za nastavnike srednjih škol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pitnik za učenike završnih razreda srednjih škola – ispituje osobine ličnosti, informiranost i stavo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3124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Goran Sirovatka, ravnatelj 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68000" y="274680"/>
            <a:ext cx="64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„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Zastupljenost poduzetničkih sadržaja u programima </a:t>
            </a:r>
            <a:br>
              <a:rPr sz="2000"/>
            </a:b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srednjih škola” 2011.-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cionalno reprezentativni uzorak srednjih škol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 učenika = 3 3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 nastavnika = 5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 broj škola = 13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Analize u tijeku u Odjelu za promicanje kvalitete obrazovanj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zvještaj i prezentacija rezultata u svibnju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3"/>
          <p:cNvSpPr/>
          <p:nvPr/>
        </p:nvSpPr>
        <p:spPr>
          <a:xfrm>
            <a:off x="3124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Goran Sirovatka, ravnatelj 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68000" y="274680"/>
            <a:ext cx="64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„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Zastupljenost poduzetničkih sadržaja u programima </a:t>
            </a:r>
            <a:br>
              <a:rPr sz="2000"/>
            </a:br>
            <a:r>
              <a:rPr b="1" lang="hr-HR" sz="2000" spc="-1" strike="noStrike">
                <a:solidFill>
                  <a:srgbClr val="002060"/>
                </a:solidFill>
                <a:latin typeface="Cambria"/>
                <a:ea typeface="JasmineUPC"/>
              </a:rPr>
              <a:t>srednjih škola” 2011.-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Calibri"/>
              </a:rPr>
              <a:t>PLANOVI ZA BUDUĆNOST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zrada preporuka i smjernica za sustavno uvođenje učenja poduzetništva u srednjim školama temeljenih na dobivenim rezultatim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oširenje istraživanja u osnovne škol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dizanje svijesti o važnosti učenja poduzetništva kao jedne od ključnih obrazovnih kompetencij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ooter Placeholder 3"/>
          <p:cNvSpPr/>
          <p:nvPr/>
        </p:nvSpPr>
        <p:spPr>
          <a:xfrm>
            <a:off x="3124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Goran Sirovatka, ravnatelj 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MEĐUNARODNI PROJEK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ECD/PI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2012. godina je godina glavnog istraživanja (MS-Main Study) za PISA 2012 ciklus -  glavana domena MATEMATIČKA PISME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ovdeno je  glavno ispitivanja u periodu od 05. ožujka do 13. travnja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OJEKT U TIJE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844280"/>
            <a:ext cx="8507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spitivanje pisanja u hrvatskom jezi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onceptualni okvir za ispitivanje hrvatskoga jezika u osnovnoj i srednjoj šk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zvoj nacionalnog standarda kvalifikacije za učitelje kao podloge za uvođenje sustava licenciranja učitel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zrada modela za sustav licenciranja učitelja i nastavnika temeljen na nacionalnom standardu kvalifikacija za učitelje i nastavn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valitativna analiza ispita državne mature iz geografije 2010. i 2011. god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naliza sadržaja i rezultata ispita državne mature iz prirodoslovnih predmeta i matematike u suradnji s Institutom za društvena istraživ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ojekt  „Stavovi maturanata o školovanju i studiranju“ ispitivanje stavova učenika završnih razreda koji polažu ispite državne matu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SAMOVREDNOVANJE ŠKO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"/>
          <p:cNvPicPr/>
          <p:nvPr/>
        </p:nvPicPr>
        <p:blipFill>
          <a:blip r:embed="rId1"/>
          <a:stretch/>
        </p:blipFill>
        <p:spPr>
          <a:xfrm>
            <a:off x="1116000" y="4365720"/>
            <a:ext cx="2246400" cy="16761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"/>
          <p:cNvPicPr/>
          <p:nvPr/>
        </p:nvPicPr>
        <p:blipFill>
          <a:blip r:embed="rId2"/>
          <a:stretch/>
        </p:blipFill>
        <p:spPr>
          <a:xfrm>
            <a:off x="3564000" y="3567240"/>
            <a:ext cx="19778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19280" y="171360"/>
            <a:ext cx="720072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ANJSKO VREDNOVANJE OBRAZOVNOG SUSTAVA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Content Placeholder 4" descr=""/>
          <p:cNvPicPr/>
          <p:nvPr/>
        </p:nvPicPr>
        <p:blipFill>
          <a:blip r:embed="rId1"/>
          <a:stretch/>
        </p:blipFill>
        <p:spPr>
          <a:xfrm>
            <a:off x="396720" y="1170000"/>
            <a:ext cx="8350560" cy="5486400"/>
          </a:xfrm>
          <a:prstGeom prst="rect">
            <a:avLst/>
          </a:prstGeom>
          <a:ln w="0">
            <a:noFill/>
          </a:ln>
        </p:spPr>
      </p:pic>
      <p:sp>
        <p:nvSpPr>
          <p:cNvPr id="439" name="Footer Placeholder 3"/>
          <p:cNvSpPr/>
          <p:nvPr/>
        </p:nvSpPr>
        <p:spPr>
          <a:xfrm flipV="1">
            <a:off x="3059280" y="6453360"/>
            <a:ext cx="2960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Content Placeholder 4" descr=""/>
          <p:cNvPicPr/>
          <p:nvPr/>
        </p:nvPicPr>
        <p:blipFill>
          <a:blip r:embed="rId1"/>
          <a:stretch/>
        </p:blipFill>
        <p:spPr>
          <a:xfrm>
            <a:off x="324000" y="622440"/>
            <a:ext cx="8362800" cy="5717880"/>
          </a:xfrm>
          <a:prstGeom prst="rect">
            <a:avLst/>
          </a:prstGeom>
          <a:ln w="0">
            <a:noFill/>
          </a:ln>
        </p:spPr>
      </p:pic>
      <p:sp>
        <p:nvSpPr>
          <p:cNvPr id="5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ounded Rectangle 6"/>
          <p:cNvSpPr/>
          <p:nvPr/>
        </p:nvSpPr>
        <p:spPr>
          <a:xfrm>
            <a:off x="193680" y="3429000"/>
            <a:ext cx="23032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3276720" y="5084640"/>
            <a:ext cx="2322360" cy="938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"/>
          <p:cNvPicPr/>
          <p:nvPr/>
        </p:nvPicPr>
        <p:blipFill>
          <a:blip r:embed="rId2"/>
          <a:stretch/>
        </p:blipFill>
        <p:spPr>
          <a:xfrm>
            <a:off x="6300720" y="3397320"/>
            <a:ext cx="2322720" cy="939600"/>
          </a:xfrm>
          <a:prstGeom prst="rect">
            <a:avLst/>
          </a:prstGeom>
          <a:ln w="0">
            <a:noFill/>
          </a:ln>
        </p:spPr>
      </p:pic>
      <p:sp>
        <p:nvSpPr>
          <p:cNvPr id="551" name="Bent Arrow 7"/>
          <p:cNvSpPr/>
          <p:nvPr/>
        </p:nvSpPr>
        <p:spPr>
          <a:xfrm>
            <a:off x="1266840" y="1773360"/>
            <a:ext cx="812880" cy="868320"/>
          </a:xfrm>
          <a:custGeom>
            <a:avLst/>
            <a:gdLst/>
            <a:ahLst/>
            <a:rect l="l" t="t" r="r" b="b"/>
            <a:pathLst>
              <a:path w="812800" h="868362">
                <a:moveTo>
                  <a:pt x="0" y="868362"/>
                </a:moveTo>
                <a:lnTo>
                  <a:pt x="0" y="457200"/>
                </a:lnTo>
                <a:cubicBezTo>
                  <a:pt x="0" y="260808"/>
                  <a:pt x="159208" y="101600"/>
                  <a:pt x="355600" y="101600"/>
                </a:cubicBezTo>
                <a:lnTo>
                  <a:pt x="609600" y="101600"/>
                </a:lnTo>
                <a:lnTo>
                  <a:pt x="609600" y="0"/>
                </a:lnTo>
                <a:lnTo>
                  <a:pt x="812800" y="203200"/>
                </a:lnTo>
                <a:lnTo>
                  <a:pt x="609600" y="406400"/>
                </a:lnTo>
                <a:lnTo>
                  <a:pt x="609600" y="304800"/>
                </a:lnTo>
                <a:lnTo>
                  <a:pt x="355600" y="304800"/>
                </a:lnTo>
                <a:cubicBezTo>
                  <a:pt x="271432" y="304800"/>
                  <a:pt x="203200" y="373032"/>
                  <a:pt x="203200" y="457200"/>
                </a:cubicBezTo>
                <a:lnTo>
                  <a:pt x="203200" y="868362"/>
                </a:lnTo>
                <a:lnTo>
                  <a:pt x="0" y="86836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"/>
          <p:cNvPicPr/>
          <p:nvPr/>
        </p:nvPicPr>
        <p:blipFill>
          <a:blip r:embed="rId3"/>
          <a:stretch/>
        </p:blipFill>
        <p:spPr>
          <a:xfrm>
            <a:off x="6504120" y="4805280"/>
            <a:ext cx="834840" cy="890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"/>
          <p:cNvPicPr/>
          <p:nvPr/>
        </p:nvPicPr>
        <p:blipFill>
          <a:blip r:embed="rId4"/>
          <a:stretch/>
        </p:blipFill>
        <p:spPr>
          <a:xfrm>
            <a:off x="6659640" y="1881360"/>
            <a:ext cx="890640" cy="834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5"/>
          <a:stretch/>
        </p:blipFill>
        <p:spPr>
          <a:xfrm>
            <a:off x="1346040" y="4871880"/>
            <a:ext cx="890640" cy="835200"/>
          </a:xfrm>
          <a:prstGeom prst="rect">
            <a:avLst/>
          </a:prstGeom>
          <a:ln w="0">
            <a:noFill/>
          </a:ln>
        </p:spPr>
      </p:pic>
      <p:sp>
        <p:nvSpPr>
          <p:cNvPr id="555" name="Flowchart: Decision 12"/>
          <p:cNvSpPr/>
          <p:nvPr/>
        </p:nvSpPr>
        <p:spPr>
          <a:xfrm>
            <a:off x="3127320" y="3295800"/>
            <a:ext cx="2619360" cy="105876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9" descr="C:\Users\gsirovatka\AppData\Local\Microsoft\Windows\Temporary Internet Files\Content.IE5\V130J3J7\MC900440418[1].wmf"/>
          <p:cNvPicPr/>
          <p:nvPr/>
        </p:nvPicPr>
        <p:blipFill>
          <a:blip r:embed="rId6"/>
          <a:stretch/>
        </p:blipFill>
        <p:spPr>
          <a:xfrm>
            <a:off x="3743280" y="2514600"/>
            <a:ext cx="1657440" cy="18288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0" descr="C:\Users\gsirovatka\AppData\Local\Microsoft\Windows\Temporary Internet Files\Content.IE5\V130J3J7\MC900440418[1].wmf"/>
          <p:cNvPicPr/>
          <p:nvPr/>
        </p:nvPicPr>
        <p:blipFill>
          <a:blip r:embed="rId7"/>
          <a:stretch/>
        </p:blipFill>
        <p:spPr>
          <a:xfrm>
            <a:off x="3743280" y="2514600"/>
            <a:ext cx="1657440" cy="18288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2" descr=""/>
          <p:cNvPicPr/>
          <p:nvPr/>
        </p:nvPicPr>
        <p:blipFill>
          <a:blip r:embed="rId8"/>
          <a:stretch/>
        </p:blipFill>
        <p:spPr>
          <a:xfrm>
            <a:off x="3222720" y="1424160"/>
            <a:ext cx="2328840" cy="938160"/>
          </a:xfrm>
          <a:prstGeom prst="rect">
            <a:avLst/>
          </a:prstGeom>
          <a:ln w="0">
            <a:noFill/>
          </a:ln>
        </p:spPr>
      </p:pic>
      <p:sp>
        <p:nvSpPr>
          <p:cNvPr id="559" name="TextBox 14"/>
          <p:cNvSpPr/>
          <p:nvPr/>
        </p:nvSpPr>
        <p:spPr>
          <a:xfrm>
            <a:off x="3211560" y="15588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LAN TEMELJEN NA REZULTA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0"/>
          <p:cNvSpPr/>
          <p:nvPr/>
        </p:nvSpPr>
        <p:spPr>
          <a:xfrm>
            <a:off x="3500280" y="52308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NALIZA I EVAL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1"/>
          <p:cNvSpPr/>
          <p:nvPr/>
        </p:nvSpPr>
        <p:spPr>
          <a:xfrm>
            <a:off x="6300720" y="3639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ROVEDBA P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2"/>
          <p:cNvSpPr/>
          <p:nvPr/>
        </p:nvSpPr>
        <p:spPr>
          <a:xfrm>
            <a:off x="193680" y="354816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ROCEDURE ZA UNAPREĐEN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1" descr=""/>
          <p:cNvPicPr/>
          <p:nvPr/>
        </p:nvPicPr>
        <p:blipFill>
          <a:blip r:embed="rId9"/>
          <a:stretch/>
        </p:blipFill>
        <p:spPr>
          <a:xfrm>
            <a:off x="3227400" y="4307040"/>
            <a:ext cx="2663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10920" y="1699920"/>
            <a:ext cx="77058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itle 1"/>
          <p:cNvSpPr/>
          <p:nvPr/>
        </p:nvSpPr>
        <p:spPr>
          <a:xfrm>
            <a:off x="971640" y="2060640"/>
            <a:ext cx="676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SAMOVREDNOVANJE SREDNJIH ŠKOLA u šk. god. 2011./201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ŠKOLE U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457200" y="1600200"/>
          <a:ext cx="8229600" cy="2768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Školska god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kupan broj šk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roj škola gimnazijskih progr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roj škola ostalih progr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./200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./20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./20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./20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./20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468360" y="4653000"/>
          <a:ext cx="8280360" cy="18288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16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Školska god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kupan broj šk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roj škola gimnazijskih progr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roj škola ostalih progr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šk. god. 2007./2008. do šk. god. 2011./20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0" y="-19080"/>
            <a:ext cx="6804000" cy="684864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4"/>
          <p:cNvSpPr/>
          <p:nvPr/>
        </p:nvSpPr>
        <p:spPr>
          <a:xfrm>
            <a:off x="6845400" y="0"/>
            <a:ext cx="233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Škole Republike Hrvatske prema broju godina sudjelovanja u projektu "Samovrednovanje srednjih škola" od šk.god. 2007./2008. do šk.god.2011./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D:\Škole - Biljana_1 (3).jpg"/>
          <p:cNvPicPr/>
          <p:nvPr/>
        </p:nvPicPr>
        <p:blipFill>
          <a:blip r:embed="rId1"/>
          <a:stretch/>
        </p:blipFill>
        <p:spPr>
          <a:xfrm>
            <a:off x="0" y="11160"/>
            <a:ext cx="6769080" cy="681336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1"/>
          <p:cNvSpPr/>
          <p:nvPr/>
        </p:nvSpPr>
        <p:spPr>
          <a:xfrm>
            <a:off x="6769080" y="11160"/>
            <a:ext cx="237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Škole Republike Hrvatske koje sudjeluju u projektu "Samovrednovanje srednjih škola" u šk.god.2011./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6662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Calibri"/>
              </a:rPr>
              <a:t>TIJEK PROVEDBE SAMOVREDNOVANJA ŠKOLA SA SURADNIKOM MREŽE PODRŠ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Content Placeholder 3" descr=""/>
          <p:cNvPicPr/>
          <p:nvPr/>
        </p:nvPicPr>
        <p:blipFill>
          <a:blip r:embed="rId1"/>
          <a:stretch/>
        </p:blipFill>
        <p:spPr>
          <a:xfrm>
            <a:off x="0" y="1139760"/>
            <a:ext cx="90043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 ČEMU SURADNICI MREŽE NAJVIŠE MOGU POMOĆI ŠKOLAM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0920" y="198864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etaljnije u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poznavanje s projektom samovrednovanja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 aktivnostima  koje mogu  prid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jeti unaprjeđivanju kvalitete rada u šk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otivaciji i pozitivnom ozračju; podršci i pohvalama; idejama; iskustvenim prijedlozim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oticanju profesionalnih izazova i pružanju  podrške na nedirektivan i kolegijalan nač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ozitivan stav prema promjena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sprava oko izrade Izvješća o samovrednovanju, KREDA-analize, Školskog razvojnog pl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tjecanje uvide u važnost sustavnog praćenja kvalit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Chart 3" descr=""/>
          <p:cNvPicPr/>
          <p:nvPr/>
        </p:nvPicPr>
        <p:blipFill>
          <a:blip r:embed="rId1"/>
          <a:stretch/>
        </p:blipFill>
        <p:spPr>
          <a:xfrm>
            <a:off x="-50760" y="1262160"/>
            <a:ext cx="9245520" cy="564660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2"/>
          <p:cNvSpPr/>
          <p:nvPr/>
        </p:nvSpPr>
        <p:spPr>
          <a:xfrm>
            <a:off x="212400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TEME RAZGOVARA SURADNIKA MREŽE I ŠKOLSKIH TIMOVA ZA KVALIT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AJUČESTALIJE TEME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ZAKLJUČAK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SASTANAKA IZMEĐU ŠKOLSKIH TIMOVA ZA KVALITETU I SURADNIKA MREŽ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kolski razvojni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Pozitivni efekti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movredno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Financiranje i poboljšanje materijalno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tehničkih uvje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Unapređenje nastavnog proc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Evaluacija provedenih programa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projek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Unapređenje obrazovanja učenika s posebnim potreb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Jačanje promotivnih aktiv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Izvješće o samovrednovan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Pozitivna ocjena suradnje između Školskog tima za kvalitetu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i 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uradnika mre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RED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- anali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azrada i primjena metoda za poboljšanje uspjeha i smanjenje  broja izostanaka uče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nketiranje učenika, roditelja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ostalih dionika o kvaliteti šk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Doprinos učenika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roditelja u procesu samovredno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chart" descr=""/>
          <p:cNvPicPr/>
          <p:nvPr/>
        </p:nvPicPr>
        <p:blipFill>
          <a:blip r:embed="rId1"/>
          <a:stretch/>
        </p:blipFill>
        <p:spPr>
          <a:xfrm>
            <a:off x="250920" y="6559560"/>
            <a:ext cx="637704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VANJSKO VREDNOVANJ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00000" y="2060640"/>
            <a:ext cx="63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RŽAVNA MA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ACIONALNI ISPI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ZAVRŠNI ISPITI OBRAZOVNIH CIKLU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MEĐUNARODNA ISPIT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Content Placeholder 4" descr=""/>
          <p:cNvPicPr/>
          <p:nvPr/>
        </p:nvPicPr>
        <p:blipFill>
          <a:blip r:embed="rId1"/>
          <a:stretch/>
        </p:blipFill>
        <p:spPr>
          <a:xfrm>
            <a:off x="-469800" y="835200"/>
            <a:ext cx="6919920" cy="5541840"/>
          </a:xfrm>
          <a:prstGeom prst="rect">
            <a:avLst/>
          </a:prstGeom>
          <a:ln w="0">
            <a:noFill/>
          </a:ln>
        </p:spPr>
      </p:pic>
      <p:sp>
        <p:nvSpPr>
          <p:cNvPr id="5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ight Triangle 5"/>
          <p:cNvSpPr/>
          <p:nvPr/>
        </p:nvSpPr>
        <p:spPr>
          <a:xfrm rot="16200000">
            <a:off x="3212280" y="1097640"/>
            <a:ext cx="3835440" cy="8028000"/>
          </a:xfrm>
          <a:prstGeom prst="rtTriangl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lowchart: Terminator 6"/>
          <p:cNvSpPr/>
          <p:nvPr/>
        </p:nvSpPr>
        <p:spPr>
          <a:xfrm>
            <a:off x="3995640" y="5445000"/>
            <a:ext cx="3745080" cy="1152720"/>
          </a:xfrm>
          <a:prstGeom prst="flowChartTerminator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UNAPREĐENJE KVALITETE RAD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7" descr="C:\Users\mmarenic\Desktop\Logo_ncvvo_1.jpg"/>
          <p:cNvPicPr/>
          <p:nvPr/>
        </p:nvPicPr>
        <p:blipFill>
          <a:blip r:embed="rId2"/>
          <a:stretch/>
        </p:blipFill>
        <p:spPr>
          <a:xfrm rot="3065400">
            <a:off x="150120" y="853920"/>
            <a:ext cx="15703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HV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Content Placeholder 4" descr=""/>
          <p:cNvPicPr/>
          <p:nvPr/>
        </p:nvPicPr>
        <p:blipFill>
          <a:blip r:embed="rId1"/>
          <a:stretch/>
        </p:blipFill>
        <p:spPr>
          <a:xfrm>
            <a:off x="30240" y="658800"/>
            <a:ext cx="9113760" cy="6010200"/>
          </a:xfrm>
          <a:prstGeom prst="rect">
            <a:avLst/>
          </a:prstGeom>
          <a:ln w="0">
            <a:noFill/>
          </a:ln>
        </p:spPr>
      </p:pic>
      <p:sp>
        <p:nvSpPr>
          <p:cNvPr id="4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  <a:ea typeface="JasmineUPC"/>
              </a:rPr>
              <a:t>DRŽAVNA MATURA 2011./2012</a:t>
            </a:r>
            <a:r>
              <a:rPr b="0" lang="hr-HR" sz="4000" spc="-1" strike="noStrike">
                <a:solidFill>
                  <a:srgbClr val="000000"/>
                </a:solidFill>
                <a:latin typeface="Cambria"/>
                <a:ea typeface="JasmineUP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Nacionalni centar za vanjsko vrednovanje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LOVI KOJI SU DO SADA OBAVLJE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ci prijavili ispite državne m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ijavnice dostavljene Cent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ovjereni podatci o učenic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neseni podatci o natjecanj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spored učenika po ispitnim prostor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omjene, naknadne prijave, odjave ispita – odluke ŠIP-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ci prijavili studijske programe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 mogu ih mijenjati do 16.7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78996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rijave ispita državne mature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 u ljetnome roku 2011./2012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900000" y="2924280"/>
          <a:ext cx="7056720" cy="1682640"/>
        </p:xfrm>
        <a:graphic>
          <a:graphicData uri="http://schemas.openxmlformats.org/drawingml/2006/table">
            <a:tbl>
              <a:tblPr/>
              <a:tblGrid>
                <a:gridCol w="1764000"/>
                <a:gridCol w="1763640"/>
                <a:gridCol w="1765080"/>
                <a:gridCol w="1764000"/>
              </a:tblGrid>
              <a:tr h="91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ROJ UČEN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IMNAZ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RUKOVNE Š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MA UPISANOG PROGR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Odjel za organizaciju i provođenje is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travanj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58:13Z</dcterms:created>
  <dc:creator>Pisa</dc:creator>
  <dc:description/>
  <dc:language>en-US</dc:language>
  <cp:lastModifiedBy>Goran Sirovatka</cp:lastModifiedBy>
  <cp:lastPrinted>2011-10-21T11:54:39Z</cp:lastPrinted>
  <dcterms:modified xsi:type="dcterms:W3CDTF">2012-04-24T05:40:44Z</dcterms:modified>
  <cp:revision>230</cp:revision>
  <dc:subject/>
  <dc:title>Slide 1</dc:title>
</cp:coreProperties>
</file>