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707-1E7B-4B74-A0BC-2875BDA2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E3F-96A1-478C-8175-61C3AFB7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B9D-4497-4148-9FE7-12224A3F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CA6-05EC-46C4-8A10-DFA28D33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48F-FCBF-4B12-99F9-2B64C73C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FCF-E2BC-42E3-ABE3-0054D511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C44-79E9-4079-B820-26E24D32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5E1-3D8D-4C46-B7EC-DAA3D3E8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EFC-787B-4D0E-A7AF-61398323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E4C-D61C-4239-83F4-99992C6B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298-D86F-46FB-90EA-33098DCE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FB9-AA8F-4E54-BFB1-170F2A51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0BE2-89F8-417A-9474-431EAA653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tihana.radojcic@azoo.hr" TargetMode="External"/><Relationship Id="rId3" Type="http://schemas.openxmlformats.org/officeDocument/2006/relationships/hyperlink" Target="mailto:tihana.radojcic@azoo.hr" TargetMode="External"/><Relationship Id="rId4" Type="http://schemas.openxmlformats.org/officeDocument/2006/relationships/hyperlink" Target="mailto:tihana.radojcic@azoo.hr" TargetMode="External"/><Relationship Id="rId5" Type="http://schemas.openxmlformats.org/officeDocument/2006/relationships/hyperlink" Target="mailto:tihana.radojcic@azoo.hr" TargetMode="External"/><Relationship Id="rId6" Type="http://schemas.openxmlformats.org/officeDocument/2006/relationships/hyperlink" Target="mailto:tihana.radojcic@azoo.hr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Stručni ispiti i napredovanja </a:t>
            </a:r>
            <a:br>
              <a:rPr sz="3600"/>
            </a:b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odgojno-obrazovnih radnika</a:t>
            </a:r>
            <a:br>
              <a:rPr sz="3600"/>
            </a:br>
            <a:br>
              <a:rPr sz="36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ihana Radojčić, prof.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diteljica Odjela za opće poslove - pomoćnica ravnatelj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80536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Stručni skup za ravnatelje srednjih škola i učeničkih dom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Zadar, 24. travnja 20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81B-B72F-4D16-AB46-EC756367D89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pravnik može osobnim zahtjevom prijaviti stručni ispit u slučaju kad mu je pripravnički staž zaključen neuspješnom ocjen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A89-6659-43BF-AB05-46DAFBD457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ponovno polaganje stručnoga ispita ili njegovog dijela potrebno poslati na vrijeme prijavnicu i dokaz o uplaćenim troško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E28-F885-4591-9676-6EF53212D00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odustajanju od polaganja stručnog ispita u opravdanim slučajevima potrebno je pravodobno pisano izvijestiti Agenciju za odgoj i obrazo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1D2-60DB-4253-B71D-0A33C561D31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APREDOVANJE NASTAV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VILNIK DEFIN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o može napredo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van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e za vredno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vj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4448-926B-490E-84F7-EA98EF5B979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APREDOVANJE NASTAV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o nastavnici u zvanju mentora odnosno savjetnik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zadovolje ili ne dost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jene o svome rad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jkasni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6 mjeseci prije isteka roka od 5 godina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u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ečeno z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anje dokumentacije nije obveza škole odnosno ravnatelja (tajnika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D47-8374-4D30-B4BE-7DB912C89FC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APREDOVANJE NASTAV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upak za napredovanje u zvanje savjetnika može biti pokren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jranije 5 godina nakon izbora u zvanje men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256-CBE2-475C-8DC3-A4CD195D0F1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APREDOVANJE NASTAV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nje tiskanica koje nije potpisao odnosno ovjerio ravnatelj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C89-FECC-4D50-B11A-B68E02AE112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APREDOVANJE NASTAV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nje prijedlog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je ispunjavanja uvje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a izbor u zvanje mentora s pretpostavkom da će predmet doći u obradu s vremenskim odmak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F2B-7605-4C27-98E5-DC165609DE8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APREDOVANJE NASTAV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poštivanje ostavljenog roka za prigovor na izvješće o uvidu u dokumentaciju i neposredni odgojno-obrazovni rad nastavnika u postupku napred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AF6-2762-48A3-9F42-E1F91ED66BB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APREDOVANJE NASTAV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poštivanje ostavljenog roka za dopunu dokumentac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9A9-1EBF-4869-937C-15E5E1DDE2B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KON DEFIN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o je pripravnik odnosno osoba koja tr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gati stručni is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iko traje pripravnički sta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kojem je roku pripravnik odnosno osoba dužna položiti stručni is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3A7-8ED3-4FAF-B4EF-121C1BFD54D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IPRAVNICI I STAŽ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633040" y="2026080"/>
            <a:ext cx="4453920" cy="2962080"/>
            <a:chOff x="2633040" y="2026080"/>
            <a:chExt cx="4453920" cy="2962080"/>
          </a:xfrm>
        </p:grpSpPr>
        <p:sp>
          <p:nvSpPr>
            <p:cNvPr id="102" name="_s190483"/>
            <p:cNvSpPr/>
            <p:nvPr/>
          </p:nvSpPr>
          <p:spPr>
            <a:xfrm>
              <a:off x="3861000" y="2550960"/>
              <a:ext cx="1998000" cy="1504800"/>
            </a:xfrm>
            <a:prstGeom prst="ellipse">
              <a:avLst/>
            </a:prstGeom>
            <a:solidFill>
              <a:srgbClr val="00a800">
                <a:alpha val="50000"/>
              </a:srgbClr>
            </a:solidFill>
            <a:ln w="468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90484"/>
            <p:cNvSpPr/>
            <p:nvPr/>
          </p:nvSpPr>
          <p:spPr>
            <a:xfrm>
              <a:off x="4593960" y="2026080"/>
              <a:ext cx="53172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609480" indent="-609480"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RAVNATEL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90485"/>
            <p:cNvSpPr/>
            <p:nvPr/>
          </p:nvSpPr>
          <p:spPr>
            <a:xfrm>
              <a:off x="4518360" y="3409200"/>
              <a:ext cx="1998360" cy="150480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4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90486"/>
            <p:cNvSpPr/>
            <p:nvPr/>
          </p:nvSpPr>
          <p:spPr>
            <a:xfrm>
              <a:off x="6554520" y="4613040"/>
              <a:ext cx="53244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609480" indent="-6094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RUČN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RAD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90489"/>
            <p:cNvSpPr/>
            <p:nvPr/>
          </p:nvSpPr>
          <p:spPr>
            <a:xfrm>
              <a:off x="3202920" y="3409200"/>
              <a:ext cx="1998360" cy="15048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90490"/>
            <p:cNvSpPr/>
            <p:nvPr/>
          </p:nvSpPr>
          <p:spPr>
            <a:xfrm>
              <a:off x="2633040" y="4613040"/>
              <a:ext cx="53244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609480" indent="-6094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PRAVNIKOV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STRUČNJ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857D-96FF-4AB9-BBB6-A13971FFB0B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PRED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633040" y="2026080"/>
            <a:ext cx="4453920" cy="2962080"/>
            <a:chOff x="2633040" y="2026080"/>
            <a:chExt cx="4453920" cy="2962080"/>
          </a:xfrm>
        </p:grpSpPr>
        <p:sp>
          <p:nvSpPr>
            <p:cNvPr id="112" name="_s194567"/>
            <p:cNvSpPr/>
            <p:nvPr/>
          </p:nvSpPr>
          <p:spPr>
            <a:xfrm>
              <a:off x="3861000" y="2550960"/>
              <a:ext cx="1998000" cy="1504800"/>
            </a:xfrm>
            <a:prstGeom prst="ellipse">
              <a:avLst/>
            </a:prstGeom>
            <a:solidFill>
              <a:srgbClr val="00a800">
                <a:alpha val="50000"/>
              </a:srgbClr>
            </a:solidFill>
            <a:ln w="468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94568"/>
            <p:cNvSpPr/>
            <p:nvPr/>
          </p:nvSpPr>
          <p:spPr>
            <a:xfrm>
              <a:off x="4593960" y="2026080"/>
              <a:ext cx="53172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609480" indent="-6094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STAV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94569"/>
            <p:cNvSpPr/>
            <p:nvPr/>
          </p:nvSpPr>
          <p:spPr>
            <a:xfrm>
              <a:off x="4518360" y="3409200"/>
              <a:ext cx="1998360" cy="150480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4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94570"/>
            <p:cNvSpPr/>
            <p:nvPr/>
          </p:nvSpPr>
          <p:spPr>
            <a:xfrm>
              <a:off x="6554520" y="4613040"/>
              <a:ext cx="53244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609480" indent="-6094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STAVNIČKO VIJEĆ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94571"/>
            <p:cNvSpPr/>
            <p:nvPr/>
          </p:nvSpPr>
          <p:spPr>
            <a:xfrm>
              <a:off x="3202920" y="3409200"/>
              <a:ext cx="1998360" cy="15048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94572"/>
            <p:cNvSpPr/>
            <p:nvPr/>
          </p:nvSpPr>
          <p:spPr>
            <a:xfrm>
              <a:off x="2633040" y="4613040"/>
              <a:ext cx="53244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609480" indent="-6094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AVNATEL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E25-B809-43B7-A9CD-5177795C7F7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zahvaljujem na pozor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tihana.</a:t>
            </a: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radojcic</a:t>
            </a: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@</a:t>
            </a: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azoo</a:t>
            </a: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0CA-E631-42D6-AD08-06C48534522B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VILNIK DEFIN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jerenstvo za staž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veze povjerenstva za staž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C82-6518-43B2-A70E-3FFB403103F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obe sa završenim diplomskim odnosno preddiplomskim studijem ili stručnim studijem: najmanje 180 ECTS + 60 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javljuju se osobe koje su upisale, ali nisu završile pedagoško obrazovanje (stekle pedagoške kompetenci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35B-A17B-4CAF-A2F3-1F6B41F627B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aćivanje pripravničkog staža – pozivanje na Kolektivni ugov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vjet: na zahtjev pripravnika ocjena poslodavca da je isti osposobljen za samostalan rad (uspješno i cjelovito ostvaren program pripravničkog staž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018-F8D4-4441-8956-6591A0502C9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k za polaganje stručnoga ispita je godinu d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nimka osoba koja ima odgovarajuću vrstu i razinu obrazovanja te radno iskustvo u zanimanju za koje se školovala dulje od trajanja pripravničkog staža, ali nema pedagoške kompetencije – ro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vi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B23-FE3E-4547-AC4B-C4A4259C034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tažiranja za osobe koje se stručno osposobljavaju za samostalan rad bez zasnivanja radnog odnosa kao za volont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škovi stažiranja i polaganja stručnog ispita kao za volont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2550-7BDA-41B8-8A27-26AF318DB3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kid stažiranja – škola je obvezna sastaviti izvješće 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mjerka – jedan primjerak šalje se školi u kojoj pripravnik nastavlja stažiranje (ako je to slučaj), a jedan se primjerak daje osobno priprav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512-E2D9-4906-94C1-B6237422061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dar, 24. travnja 2012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java stažiranja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ško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javljuje pripravnika za stručni ispi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jkasnije 30 da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je početka ispitnog r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spitni rokovi za nastavnike (SŠ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veljače – 10. travnj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listopada – 10. prosin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FD0-34C4-4E96-9838-B717B564F15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9:23:34Z</dcterms:created>
  <dc:creator>M.WIENNA</dc:creator>
  <dc:description/>
  <dc:language>en-US</dc:language>
  <cp:lastModifiedBy>Marica</cp:lastModifiedBy>
  <dcterms:modified xsi:type="dcterms:W3CDTF">2012-04-24T21:07:31Z</dcterms:modified>
  <cp:revision>120</cp:revision>
  <dc:subject/>
  <dc:title>Slide 1</dc:title>
</cp:coreProperties>
</file>