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D12-3612-48C0-BC90-41B152F3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CAB-3BF6-4702-8E38-2E982D2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4E7-7DF1-4114-BA16-518BE257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54C-1F63-4B64-A870-029B0CFA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3ED-8687-45F8-9FB1-6EDA92B7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762-3E66-4F07-8AE5-31C1D32A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8E8-1863-424E-86C2-A0442B33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798-3214-48F0-A736-0B15810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55E-8F9A-4EA1-8038-F11469C8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883-13AF-4DC6-9DD8-9FF807C7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F3B-AADC-4346-B280-B9A43C2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2B7-8557-455B-9EC9-D47B7EA9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3E42-CC9E-4434-B1C5-F5B9AB8F2E0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28920" y="1844640"/>
            <a:ext cx="5857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Arial"/>
              </a:rPr>
              <a:t>Državni stručni skup ravnatelja srednjih škola i učeničkih domova R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  <a:ea typeface="Arial"/>
              </a:rPr>
              <a:t>Pula, 21.04.2015. g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  <a:ea typeface="Arial"/>
              </a:rPr>
              <a:t>DISTRIBUIRANO ŠKOLSKO VOĐEN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6"/>
          <p:cNvGrpSpPr/>
          <p:nvPr/>
        </p:nvGrpSpPr>
        <p:grpSpPr>
          <a:xfrm>
            <a:off x="-73080" y="-42840"/>
            <a:ext cx="2146320" cy="6997680"/>
            <a:chOff x="-73080" y="-42840"/>
            <a:chExt cx="2146320" cy="6997680"/>
          </a:xfrm>
        </p:grpSpPr>
        <p:pic>
          <p:nvPicPr>
            <p:cNvPr id="44" name="Rectangle 6" descr=""/>
            <p:cNvPicPr/>
            <p:nvPr/>
          </p:nvPicPr>
          <p:blipFill>
            <a:blip r:embed="rId1"/>
            <a:stretch/>
          </p:blipFill>
          <p:spPr>
            <a:xfrm>
              <a:off x="-73080" y="-42840"/>
              <a:ext cx="214632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2000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TextBox 7"/>
          <p:cNvSpPr/>
          <p:nvPr/>
        </p:nvSpPr>
        <p:spPr>
          <a:xfrm>
            <a:off x="5857920" y="464328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Maiandra GD"/>
                <a:ea typeface="Arial"/>
              </a:rPr>
              <a:t>Prof. dr. sc. Branko Rafaj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Maiandra GD"/>
                <a:ea typeface="Arial"/>
              </a:rPr>
              <a:t>Izv. prof. dr. sc. Vesna Kova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UKLJUČIVANJE UČITELJA U ŠKOLSKO VOĐEN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ključivanje učitelja u proces donošenja odluka pozitivno povezano 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većanjem učinkovitosti škol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većanjem radne produktivnosti i profesionalnog kapaciteta učitelj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boljšanjem postignuća učeni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blikovanjem poželjnih obilježja školske klime i okruženja (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Bruggencate, Luyten, Scheerens i Sleegers, 2012; Robinson, Lloyd i Rowe 2008; Choi Wa Ho, 2010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05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06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matra se da su učitelj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edaniji izvršavanju odluke u čijem su donošenju sudjeloval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maju veće povjerenje u tijek i korištenje informacija u organizacij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ok uprava stječe bitne informacije o izvorima problema i osigurava bolje odluke o pitanjima vezanima uz kurikulum i nastavu (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Somech, 2010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12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13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5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UKLJUČIVANJE VANJSKIH DIONIKA U PROCES ŠKOLSKOG VOĐE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djelovanje vanjskih dionika u odlučivanju o prirodi i kvaliteti temeljnih školskih djelatnosti (poučavanja i učenja) ne smije ugroziti profesionalni status i autonomiju učitelja (</a:t>
            </a: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Fosket i Lumby, 2011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19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20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ažno je utvrdi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ide li se članovi vanjskih dionika kao predstavnici grupa koje predstavljanju u tijelima upravljanj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ako se biraju 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akve mehanizme povratnog informiranja koriste tijekom sudjelovanja u upravljanju školama (</a:t>
            </a:r>
            <a:r>
              <a:rPr b="0" lang="hr-HR" sz="2800" spc="-1" strike="noStrike">
                <a:solidFill>
                  <a:srgbClr val="002060"/>
                </a:solidFill>
                <a:latin typeface="Calibri"/>
              </a:rPr>
              <a:t>Connoly i James, 2011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26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27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9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ISTRAŽIVANJA RADA ŠKOLSKIH ODBOR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glavnom nema dovoljno kandidata zainteresiranih za članstvo u školskim odborim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loge i ovlasti odbora nisu jasno definira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čekuje se previše odgovornosti od članova kojima je članstvo u odboru dobrovoljn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često dolazi do napetosti između članova odbora prilikom odlučivanja o profesionalnim pitanjima povezanima s nastavom i učenjem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česta odsustva (vanjskih) članova na sastancima odbora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dostatna znanja i vještine članova odbora potrebne za odlučivanje (</a:t>
            </a:r>
            <a:r>
              <a:rPr b="0" lang="hr-HR" sz="2400" spc="-1" strike="noStrike">
                <a:solidFill>
                  <a:srgbClr val="002060"/>
                </a:solidFill>
                <a:latin typeface="Calibri"/>
              </a:rPr>
              <a:t>Pont i sur, 2008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33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34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36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755640" y="1413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2060"/>
                </a:solidFill>
                <a:latin typeface="Calibri"/>
                <a:ea typeface="Calibri"/>
              </a:rPr>
              <a:t>JESU LI OSTVARENE PRETPOSTAVKE ZA DISTRIBUIRANO ŠKOLSKO VOĐENJ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2060"/>
                </a:solidFill>
                <a:latin typeface="Calibri"/>
                <a:ea typeface="Calibri"/>
              </a:rPr>
              <a:t>(REZULTATI PRELIMINARNOG ISPITIVANJA ISTRAŽIVAČKOG TIM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39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40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2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ISTRAŽIVAČKA PIT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učitelji procjenjuju neka obilježja obrazovnog sustava, obrazovnih politika i reform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učitelji procjenjuju pretpostavke svog aktivnog sudjelovanja u procesima odlučivanja na razini ško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učitelji vide pozitivna i negativna obilježja obrazovne polit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46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47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9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ODABRANI REZULTA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kazuju na neka obilježja obrazovnog sustava, obrazovne politike i reformi koja mogu djelovati kao prepreke distribuiranom školskom vođe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pućuju na važnost daljnjeg ispitivanja pretpostavki jačanja distribuiranog školskog vođ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24000" y="115920"/>
          <a:ext cx="8351640" cy="6651720"/>
        </p:xfrm>
        <a:graphic>
          <a:graphicData uri="http://schemas.openxmlformats.org/drawingml/2006/table">
            <a:tbl>
              <a:tblPr/>
              <a:tblGrid>
                <a:gridCol w="6453000"/>
                <a:gridCol w="949320"/>
                <a:gridCol w="949320"/>
              </a:tblGrid>
              <a:tr h="5364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jene nekih obilježja obrazovnog sustava, obrazovnih politika i refor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či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64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ijsko ulaganje u sektor obrazovanja dostatno j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dovoljavajući je položaj sektora obrazovanja u društv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jalna su sredstva za provedbu reforme osiguran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ositelji obrazovnih politika kvalitetno surađuju sa školam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razovanje se primarno promatra kao ulaganje u lju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razovne reforme dobro su isplanirane i osmišlje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šljenje šire javnosti o obrazovnim reformama pozitivno j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ljevi su obrazovnih politika jasn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ualne reforme u obrazovnom sustavu vode prema boljem funkcioniranju obrazovnog sustav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ualne reforme u obrazovnom sustavu vode prema poboljšanju obrazovnih postignuća učenik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KOMENTARI UČITEL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dvijanje promjena koje nisu dovoljno domišljene, nemaju kontinuitet, ne temelje se na prethodnim analizama ili nemaju uporište u stvarnim uvjetima u kojima se trebaju prov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povjerenje ispitanika u nositelje prosvjetne vlasti, njihove kompetencije za donošenje odluka i kvalitetu odluka koje don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eforme ne zahvaćaju bit odgojno-obrazovnog proces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zadovoljstvo zbog zanemarivanja profesionalnog mišljenja učitelja prilikom osmišljavanja ključnih odluka obrazovne polit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ravnomjerna brige prema školama u različitim sredin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56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57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9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PREGLED IZLAG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istribuirano školsko vođenje: trendovi, izazovi i dosadašnja iskust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ilježja školskog vođenja u hrvatskim školama: prikaz projekta i moguće primjene rezult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spr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50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51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3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981000"/>
          <a:ext cx="8280360" cy="5257800"/>
        </p:xfrm>
        <a:graphic>
          <a:graphicData uri="http://schemas.openxmlformats.org/drawingml/2006/table">
            <a:tbl>
              <a:tblPr/>
              <a:tblGrid>
                <a:gridCol w="6873840"/>
                <a:gridCol w="650880"/>
                <a:gridCol w="755640"/>
              </a:tblGrid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oprocjena učitelja o vlastitoj ulozi, motivaciji i aktivitetu u izradi i provedbi obrazovnih polit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7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ja je uloga u provedbi obrazovnih reformi važ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iran/a sam za sudjelovanje u izradi ključnih odluka obrazovnih politik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iran/a sam za provedbu ključnih odluka obrazovnih politik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no sudjelujem u provedbi obrazovnih reform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tupne su mi potrebne informacije za uspješnu provedbu obrazovnih reform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KOMENTARI UČITEL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ruke i mišljenja ne dopiru do nositelja prosvjetnih vlasti čak i u situacijama u kojima formalno postoji mogućnost i prostor za uključivanje u javnu rasprav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dostatno aktivno sudjelovanja u provedbi obrazovnih reformi - može biti pokazatelj njihovog nedovoljnog uključivanja na lokalnoj i školskoj razi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poželjni vidovi odnosa učitelja s drugim subjektima čije ovlasti smatraju prevelikima, a vjerojatno i ozbiljnom prijetnjom njihovoj profesionalnoj autonomi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64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65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611280" y="907920"/>
          <a:ext cx="7632720" cy="4716720"/>
        </p:xfrm>
        <a:graphic>
          <a:graphicData uri="http://schemas.openxmlformats.org/drawingml/2006/table">
            <a:tbl>
              <a:tblPr/>
              <a:tblGrid>
                <a:gridCol w="6046560"/>
                <a:gridCol w="743040"/>
                <a:gridCol w="843120"/>
              </a:tblGrid>
              <a:tr h="73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oprocjene učitelja o pretpostavkama aktivnog sudjelovanja u odlučivanju na razini šk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ovito sam obaviješten/a o važnim pitanjima rada ško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vnatelj me potiče na provođenje promjena u radu ško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ruženje u školi u kojoj radim poticajno je za moj r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je se mišljenje uvažava prilikom donošenja ključnih odluka o radu ško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la u kojoj radim dobro je materijalno opremlje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KOMENTARI UČITEL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Moguće je pretpostaviti da stečeno pravo na odlučivanje počiva na sudjelovanju u tijelima koja su pretežito savjetodavnog karaktera, ili se ne uključuju u donošenje većeg broja odluka značajnih za rad š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eopterećenost učitelja novih radnim obavezama, neodgovarajuća raspodjela radnih zaduženj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čitelji naglašavaju važnost ravnateljske podrške i poticaja u radu, ali i poticanje autonomije u radu i odlučivan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72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73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5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SMJERNICE ZA DALJNJE ISTRAŽIVANJE OBILJEŽJA ŠKOLSKOG VOĐEN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Fokus na uključivanje učitelja i drugih dionika u školsko vođ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Fokus na ispitivanju pretpostavki za uključivanje dionika u školsko vođ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79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80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2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258920" y="1989000"/>
            <a:ext cx="62658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OBILJEŽJA ŠKOLSKOG VOĐENJA U HRVATSKIM ŠKOLAM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PRIKAZ PROJEKTA I MOGUĆE PRIMJENE REZULT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Dr. sc. Branko Rafaj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85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86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ZAŠTO O ISTRAŽIVANJU KOJE JE U TIJEK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sadašnja istraživanja utvrdila povezanost fenomena vođenja i opće učinkovitosti škola i uspješne implementacije reformskih promjen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stoji realna potreba ispitivanja stanja, trendova i povezanosti školskog vođenja s učinkovitošću našim škol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isok stupanj razumijevanja i suradnje ravnatelja škola može osigurati kvalitetnu provedbu ovako ekstenzivnog istraživanja i što je još važnije implementaciju rezultata u obrazovnu praksu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Je li slučajna podudarnost teme skupa i sadržaja istraživan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92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193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5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PROJE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aziv projekta: „Istraživanje školskog vođenje u hrvatskim školama iz distributivne perspektiv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pora: Sveučilište u Rije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jektni t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. Branko Rafajac, Filozofski fakultet u Rijeci, voditelj projek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. Vesna Kovač , Filozofski fakultet u Rijeci, istraživač surad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. Vlasta Vizek-Vidović, Institut za društvena istraživanja, istraživač surad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. Vlatka Domović, Učiteljski fakultet u Zagrebu, istraživač surad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. Nena Rončević, Filozofski fakultet u Rijeci, istraživač surad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. Stjepan Staničić, istraživač surad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Iva Buchberger, doktor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199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00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2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CILJ ISTRAŽIV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dentificiranje dominantnih obilježja prakse školskog vođenja u hrvatskim školama s posebnim naglaskom na indikatore individualnog naspram distribuiranog vođenja te iznalaženje onih obilježja vođenja koja su povezana s učinkovitosti ško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06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07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9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SVRHA ISTRAŽIV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nanstven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svrha se ogleda u  provjeri funkcioniranja teorijskih postavki o fenomenu školskog vođenja kao važnom faktoru učinkovitosti škola odnosno postignuća učenika, a u širem kontekstu  i  održivosti obrazovnih reform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aktičn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svrha projekta je usmjerena na iznalaženje modaliteta unapređenja procesa vođenja kroz osnaživanje kapaciteta školskih upravljačkih tijela i timova (ravnatelja, nastavnika, roditelja, predstavnika lok. zajednice)  u cilju podizanja učinkovitosti škol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13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14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6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619280" y="198900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Calibri"/>
              </a:rPr>
              <a:t>DISTRIBUIRANO ŠKOLSKO VOĐENJE: TRENDOVI, IZAZOVI I DOSADAŠNJA ISKUS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Calibri"/>
              </a:rPr>
              <a:t>Dr. sc. Vesna Kova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56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57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9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METODOLOŠKI OKV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lektiranje i analizu kvantitativnih i kvalitativnih podataka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 obilježjima upravljanja u školskom sustavu RH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i čemu će se koristiti studij operativne dokumentacije, upitnik i intervj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olektiranje podataka o kvalitativnim i kvantitativnim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obilježjima škola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(veličina, prostorni smještaj, programi, tradicija, struktura i fluktuacija zaposlenika, resursi…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ikupljanje podataka (mjerenje) statusa i dimenzija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konstrukta vođenja u školama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koji je u ovom istraživanju ima status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prediktorske varijable.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ao mjerni instrumenti poslužit će posebno konstruirane, validirane ljestvice procjene.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ikupljanje podataka o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konstruktu učinkovitosti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škola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, kao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kriterijskoj varijabli,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i čemu ć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e koristiti analiza školske dokumentacije, upitnik i validirane ljestvice procjene više indikatora učinkovitosti odnosno kvalitete ško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20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21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3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OPERACIONALIZACIJA KONSTRUKTA ŠKOLSKOG VOĐE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Školsko vođenje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je proces utjecaja kroz donošenje odluka, a koji je  usmjeren na kreiranje i realizaciju općeg cilja škole, učinkovitost škole i dobra postignuća učenika, uz istaknuto poticanje promjena i inovaci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zostanak školskog vođenja se u praksi prepoznaje po tome što ne postoji jasna  i općeprihvaćena misija, precizno formuliran cilj i zadaci škole; dionici nisu usmjereni ka njihovoj realizaciji; u školi se ne potiču promjene i inovacije; izostaju bliski socijalni odnosi i profesionalna  komunikacija između uprave i osoblja ško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Individualno školsko vođenje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karakterizira izostanak participacije i utjecaja drugih sudionika u odlučivanju o bitnim pitanjima škole; ravnatelj pretežito donosi odluke sam i ima  presudan utjecaj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Distribuirano školsko vođenje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karakterizira participacija drugih dionika (učitelja, stručnih suradnika, roditelja) u donošenju važnih odluka; donošenje odluka se odvija u kontekstu pozitivnih socijalnih odnosa (stručne suradnje, otvorene komunikacije, uvažavanja, …)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27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28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0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LJESTVICA PROCJENE OPĆIH OBILJEŽJA ŠKOLSKOG VOĐENJ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izija, ciljevi, programi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Fokusiranost na ostvarivanje prihvaćene zajedničke vizije, ciljeva, progr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munikacija između dio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mjerenost na poticanje promjena i inov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34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35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7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48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PRETPOSTAVKE POVEZANE S ORGANIZACIJOM I RESURSIM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tpostavke vezane uz organizacijske i materijalne resurse (vrijeme, pros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stupnost informacije potrebne za donošenje odluka (školsko vođen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rađene procedure, pravilni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41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42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44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RETPOSTAVKE POVEZANE S OSOBINAMA SUDIONIKA PRAKSE ŠKOLSKOG VOĐENJ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av o školskom vođenju kao obavezi svih u strukturi radnog vremena sudionika isključivo kao poslu ravnatelja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nteres i motivacija za sudjelovanje u donošenju odluka (školskom vođenj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mpetentnost za sudjelovanje u donošenju odluka (školskom vođenj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48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49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51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PRETPOSTAVKE VEZANE UZ AKTIVNOSTI RAVNATELJ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užanje podrške, poticanje na profesionalni usavršavanje; pružanje smjernica za rad; nagrađiva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vijanje pozitivnih socijalnih odnosa, razvijanje suradnje; razvijanje međusobnog povjer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55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56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58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DIMENZIJE INDIVIDUALNOG / DISTRIBUIRANOG ŠKOLSKOG VOĐENJA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articipacija (sudjelovanje/nesudjelovanje) u odlučivanju u odlučivanju dio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čin sudjelovanja (delegirano/samoinicijativn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stoji/ne postoji podjela obveza i odgovor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62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63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65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SNAGA UTJECAJA NA ODLUČIVANJ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ma utjecaja na donošenje odlu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lagi utjecaj na donošenje odluke: izražavanje mišljenja; iznošenje prijedlo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mjereni utjecaj na donošenje odluke: uvažavanje mišljenja i prijedloga; kreiranje prijedloga odlu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nažan utjecaj na donošenje odluke: kreiranje važne odluke; kreiranje konačne odlu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69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70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72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SOCIJALNI ODNO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radnj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tvorena komunikacija, rasprava i konsenzu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jena resursa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asnoća i prihvaćanje obav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rš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jer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aža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76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77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79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OPERACIONALIZACIJA KONSTRUKTA  UČINKOVITOST ŠKOL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ercipirana profesionalna (radna) klima škole kao zajednice učenj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(dimenzije: Uključenost, Kolegijalna kohezija , potpora voditelja, Autonomija u radu, Orijentacija na zadatke, Radni pritisak, Jasnoća, Kontrola, Inovativnost, Udobn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ercipirana učinkovitost škol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Indeks percipirane organizacijske učinkovitosti)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ercipirana individualna efikasnost učitelj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Skala mjeri dimenzije: Utjecaj na osiguranje resursa, Samoefikasnost u poučavanju, Upravljanje disciplinom, Uključivanje roditelja i zajednice, doprinos pozitivnoj klim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83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84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86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ZAJEDNIČKI FOKUS ISTRAŽIVAČA I RAVNATEL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dabir najboljeg modela školskog vođ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ja obilježja školskog vođenja su povezana s postizanjem dobrih rezultata škole odnosno dobrih obrazovnih postignuća učenik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ako postići optimalni model školskog vođenja u određenom obrazovnom sustavu odnosno određenoj ustanov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63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64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6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VARIJABLE ISH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dovoljstvo poslom i sagorijevanje na po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ihevioralni pokazatelji učinkovitosti na razini učenik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Budući da ne postoji nacionalno testiranje kao mogući pokazatelji uzet će se: opći uspjeh, aspiracije i nastavak školovanja učenika, negativne ocjene, izostanci učenika, dopunska i dodatna nastava, izvannastavne aktivnosti, izleti, terenska nastava, fluktuacija nastavnika, profesionalno usavršavanje itd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90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91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3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DOBROBITI PRIMJENE REZULTATA ISTRAŽIVANJA U ŠKOL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ratna inform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 kvaliteti školskog vođenja u svim promatranim dimenzij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 učinkovitosti š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efiniranje koraka za poboljšanje s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duzeti specifične mjere za podizanje učinkovitosti š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zvijanje primjerenih programa za razvijanje kompetencija školskog vođ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297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298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0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PITANJA ZA RASPRAV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iče li se ili ne potiče u okviru obrazovnog sustava RH primjereno uključivanje različitih dionika u školsko vođenje? Obrazložite svoje mišljen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akva su vaša dosadašnja iskustva u distribuiranom školskom vođenju s različitim dionicima (interes,  prednosti, nedostaci, kapaciteti…)? Navedite vaša iskust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ji su vaši prijedlozi za unaprjeđenje prakse distribuiranog školskog vođenja? Navedite prijedlo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304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305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7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000000"/>
                </a:solidFill>
                <a:latin typeface="Calibri"/>
              </a:rPr>
              <a:t>HVALA NA PAŽNJI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311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312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4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O DISTRIBUIRANOM VOĐENJ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jela uloga i odgovornosti školskog vođenja na druge dionike unutar i izvan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nažan utjecaj dionika na donošenje relevantnih odl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zitivni socijalni odnosi tijekom donošenja odl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70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71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3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ZAŠTO SE ZAGOVARA DISTRIBUIRANO ŠKOLSKO VOĐENJ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zanost sa održivošću i uspješnošću obrazovnih refor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ržava trendove decentralizacije upravljanja i jačanja školske autonom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ješava problem rastućeg opterećenja ravnatelja brojnim obavez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ezuje školu i vanjsko okruženje u funkcionalnu cjeli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77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78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0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NAGLASCI MEĐUNARODNIH PROJEK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icijativa OECD-a; Improving School Leadership (2008) - distribuirano školsko vođenje kao prioritet obrazovne politike u cijelom svijetu (Pont i sur, 200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ISA 2012 i TALIS 2013: distribuirano školsko vođenje izrijekom se ističe kao jedan od ključnih faktora uspješnih ško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lan unapređivanja prakse školskog vođenja uvršten je među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policy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preporuke usmjeren vladama zemalja sudio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84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85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7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UPOZORENJA KRITI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ritičari trenda distribuiranog školskog vođenja propituju motive onih koji ga potiču, povezujući ga s neoliberalnim nastojanjima za jačanje školske učinkovitosti, daljnjim pokušajima standardizacije pedagoških praksi, pa i poticanjem učitelja na preuzimanje još više obaveza. (</a:t>
            </a:r>
            <a:r>
              <a:rPr b="0" lang="hr-HR" sz="3200" spc="-1" strike="noStrike">
                <a:solidFill>
                  <a:srgbClr val="002060"/>
                </a:solidFill>
                <a:latin typeface="Calibri"/>
              </a:rPr>
              <a:t>Bush, Bell i Middlewood, 2014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91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92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NAGLASCI IZ STRATEGIJE OBRAZOVANJA R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poznata je važnost redefiniranja uloge ravnatelj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java izrade kompetencijskog standarda za ravnatel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 institucionalizacije obrazovanja budućih ravnatel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java izrade programa i postupka licenciranja ravnatel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0" y="0"/>
            <a:ext cx="457200" cy="6858000"/>
            <a:chOff x="0" y="0"/>
            <a:chExt cx="457200" cy="6858000"/>
          </a:xfrm>
        </p:grpSpPr>
        <p:grpSp>
          <p:nvGrpSpPr>
            <p:cNvPr id="98" name="Rectangle 4"/>
            <p:cNvGrpSpPr/>
            <p:nvPr/>
          </p:nvGrpSpPr>
          <p:grpSpPr>
            <a:xfrm>
              <a:off x="0" y="0"/>
              <a:ext cx="457200" cy="6858000"/>
              <a:chOff x="0" y="0"/>
              <a:chExt cx="457200" cy="6858000"/>
            </a:xfrm>
          </p:grpSpPr>
          <p:pic>
            <p:nvPicPr>
              <p:cNvPr id="99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572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55440" y="41760"/>
                <a:ext cx="346320" cy="67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1" name="Picture 6" descr=""/>
            <p:cNvPicPr/>
            <p:nvPr/>
          </p:nvPicPr>
          <p:blipFill>
            <a:blip r:embed="rId2"/>
            <a:stretch/>
          </p:blipFill>
          <p:spPr>
            <a:xfrm>
              <a:off x="96120" y="310680"/>
              <a:ext cx="264960" cy="70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6:29:41Z</dcterms:created>
  <dc:creator>Vesna</dc:creator>
  <dc:description/>
  <dc:language>en-US</dc:language>
  <cp:lastModifiedBy>Vesna Kovac</cp:lastModifiedBy>
  <dcterms:modified xsi:type="dcterms:W3CDTF">2015-04-20T17:17:21Z</dcterms:modified>
  <cp:revision>45</cp:revision>
  <dc:subject/>
  <dc:title>PowerPointova prezentacija</dc:title>
</cp:coreProperties>
</file>