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1BE4-A710-4A5B-808B-7D068EE53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D4F2-1CFF-4031-B9AF-B98F610F7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9484-FD13-42D4-B100-3BFDEB324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E49D-603C-486E-B482-852CDAF8E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E9EC-7DC9-4677-BE32-F4B1B990E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757F-B2A0-430A-8117-6558ACA9A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AFCB-E656-4B59-96F6-E145FAB91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89CC-E987-46CD-AE73-9C5F4E35D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880D-E1DD-43E9-BB9B-E7CA9ED66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1918-5B39-4C47-8646-081D9AC7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A5D7-3F89-439A-ADD7-4C84B7E31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75EE-B8CF-4AA3-987B-2A121059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2B4F1-310A-40F6-A25A-98A1E636113C}" type="datetime">
              <a:rPr b="0" lang="hr-HR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9BB8D-7972-485B-99F1-B985F1AF2EE7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Učenici s teškoćama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 kao dio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odgojno-obrazovnog susta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vana Petanjek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iša savjetnica za stručne suradn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A544-8BC4-4D13-9FA8-E834A91F2A20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B33BFF-10BC-4F03-8007-86E206A9257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ručni tim škole – NOVE ULO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IJELITI VIZIJE I USKLADITI OČEKIV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IJELITI SPOZNAJE, PRIORITETE U RADU, BRI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6113-CF09-400F-B9E1-B6C6C2E2D13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90F0EB-2306-4DDD-A19B-CAC8A9E1D58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ručni tim škole – NOVE ULO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čno povjerenstvo za utvrđivanje psihofizičkog stanja djete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izirano programir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menti ocjenjivanja te načini i postupci vrednov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čna pomoć učitelju – “učenik u središtu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adnja s roditelj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5B43-348D-421E-9D1D-0DF2B7414A03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8AECE3-15B3-473D-B04D-FB9AE0BB84B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čenik –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Tko sam j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200" spc="-1" strike="noStrike">
                <a:solidFill>
                  <a:srgbClr val="000000"/>
                </a:solidFill>
                <a:latin typeface="Arial"/>
              </a:rPr>
              <a:t>PLAN PODRŠKE </a:t>
            </a: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(Stančić, Ivančić, 2006)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Arial"/>
              </a:rPr>
              <a:t>Što</a:t>
            </a:r>
            <a:r>
              <a:rPr b="0" lang="hr-HR" sz="2800" spc="-1" strike="noStrike">
                <a:solidFill>
                  <a:srgbClr val="000066"/>
                </a:solidFill>
                <a:latin typeface="Arial"/>
              </a:rPr>
              <a:t> želimo da učenik nauč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Arial"/>
              </a:rPr>
              <a:t>Kojim</a:t>
            </a:r>
            <a:r>
              <a:rPr b="0" lang="hr-HR" sz="2800" spc="-1" strike="noStrike">
                <a:solidFill>
                  <a:srgbClr val="000066"/>
                </a:solidFill>
                <a:latin typeface="Arial"/>
              </a:rPr>
              <a:t> ćemo aktivnostima ostvariti postavljene cilje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Arial"/>
              </a:rPr>
              <a:t>Koje</a:t>
            </a:r>
            <a:r>
              <a:rPr b="0" lang="hr-HR" sz="2800" spc="-1" strike="noStrike">
                <a:solidFill>
                  <a:srgbClr val="000066"/>
                </a:solidFill>
                <a:latin typeface="Arial"/>
              </a:rPr>
              <a:t> metode, sredstva, oblike rada i postupke ćemo koristit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Arial"/>
              </a:rPr>
              <a:t>Tko</a:t>
            </a:r>
            <a:r>
              <a:rPr b="0" lang="hr-HR" sz="2800" spc="-1" strike="noStrike">
                <a:solidFill>
                  <a:srgbClr val="000066"/>
                </a:solidFill>
                <a:latin typeface="Arial"/>
              </a:rPr>
              <a:t> mi može pružiti savjet i potporu?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F355-4788-414B-ABE6-955A4E2BD81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200643-95E4-49F7-9D1C-3F2AA35A8A2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ručni tim škole – NOVE ULO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čni suradnik pedago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znaje zakone i pravne prop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IČE I USMJERAVA ČLANOVE T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tiče PRAVA I POTREBE UČENIKA S TEŠKOĆAM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58EB-DE68-4967-93D5-FF7ACC564B7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121957-123E-404E-9191-CD8EAC9A664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ručni tim škole – NOVE ULO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0000"/>
                </a:solidFill>
                <a:latin typeface="Arial"/>
              </a:rPr>
              <a:t>Ako postoji ikakva tajna uspjeh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r-HR" sz="3200" spc="-1" strike="noStrike">
                <a:solidFill>
                  <a:srgbClr val="000000"/>
                </a:solidFill>
                <a:latin typeface="Arial"/>
              </a:rPr>
              <a:t>ona leži u moguć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r-HR" sz="3200" spc="-1" strike="noStrike">
                <a:solidFill>
                  <a:srgbClr val="000000"/>
                </a:solidFill>
                <a:latin typeface="Arial"/>
              </a:rPr>
              <a:t>shvaćanja tuđeg načina gledanja 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0000"/>
                </a:solidFill>
                <a:latin typeface="Arial"/>
              </a:rPr>
              <a:t>u mogućnosti viđenja stvar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0000"/>
                </a:solidFill>
                <a:latin typeface="Arial"/>
              </a:rPr>
              <a:t>sa stajališta te osob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0000"/>
                </a:solidFill>
                <a:latin typeface="Arial"/>
              </a:rPr>
              <a:t>jednako dobro kao i s vlastitog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000000"/>
                </a:solidFill>
                <a:latin typeface="Arial"/>
              </a:rPr>
              <a:t>(Henry For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5C8A-469B-41B4-A899-6E8DA72CD01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0ACD82-2A34-4067-B08E-B1883BAF2A1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ručni tim škole – NOVE ULO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ČITELJ: PRAVOVREMENO OTKR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A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CIJALNA PROCJ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IRA I PROVODI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E91F-93A9-4FCA-A0B7-AAB67DCB90A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A2DD3C-286E-48F4-81DF-E2AC10C3AE8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ručni tim škole – NOVE ULO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 učitelju značajno ovis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ako će se učenik u razred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sjećati i ponaša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er tendencija učenik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e vrlo često u sklad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 očekivanjima učitelja!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7D9C-2AD3-4940-B0D3-E06036BD9DC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DC1CC8-05D6-4FDE-BA87-CB5291700A3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vaki učitelj mora UVIJEK IMATI NA UM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jeca s teškoćama brzo nauče živjeti u skladu sa svojom prirodom, prilagode se svojim teškoćama i ispune svoj život radošću kao i ostala dje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čitelj NE SMIJE ODUSTATI od primjerenih traženja od takvih uče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e smije improvizirati (suradnja sa stručnjacim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reba osigurati odgovarajuće postupke, sredstva, metode, uvjete rada kako bi učenik ostvario svoje potencij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reba POTICATI učenika za r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reba POHVALITI učenika za svaki pokušaj da nešto napravi sam, bez obzira na rezult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reba učeniku DAVATI PRIMJERENE ZADAT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FB48-64F8-40E7-8311-C690619A2CB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F1CAE5-512B-4C8F-92B2-6153DE96491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vaki učitelj mora UVIJEK IMATI NA UM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DEKVATNO VREDNOVATI njegove rezultate kao i njegov tr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ikada NE TREBA UČENIKA PRETJERANO ISTICATI pred vršnjacima (osim kad ga želimo pohvali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Što je češće moguće POSVETITI mu kraći dio s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naprijed PRIPREMITI zadatke i reducirano grad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ahtjeve postavljati u skladu s djetetovim mogućnost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ČEŠĆE PROVJERAVATI manji opseg grad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rganizirati pomoć boljih uče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CE44-3DF2-4590-A130-A8064A2C2D0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17C5EA-6C91-463C-84A8-725DC3C042B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izirani odgojno-obrazovni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lan aktiv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lan osmišljenog napredovanja učenika u skladu s planiranim odgojno-obrazovnim ciljevima, zadacima i koracima ostvariv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EC68-20B6-4BDF-8C73-02E0AB716ED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8A3E1B-0309-4E34-B779-33670E32370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...dijete s teškoćama je problem i treba ga mijenjati da bi se prilagodio okolini u kojoj živi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...dijete s teškoćama ima prava, interese i mogućnosti i okolina mora prihvatiti različit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DB36-C39F-4548-803F-8CCFBC12296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56D1EA-0535-461C-A68F-B9673A98784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izirani odgojno-obrazovni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0000"/>
                </a:solidFill>
                <a:latin typeface="Arial"/>
              </a:rPr>
              <a:t>Školski program je prilagođen kada učeniku osigurava osjećaj uspjeha i zadovoljstv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0000"/>
                </a:solidFill>
                <a:latin typeface="Arial"/>
              </a:rPr>
              <a:t>Nepobitna je činjenica da ono što je dobro za učenike s posebnim potrebama, dobro je za svu djecu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0000"/>
                </a:solidFill>
                <a:latin typeface="Arial"/>
              </a:rPr>
              <a:t>(Stančić, Ivančić, prema Morrison, 2005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98BC-CF23-4EE9-BF4B-FDCB07D0C10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E1594D-C651-4A27-AE7C-58910615EE7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 uspješno ostvarivanje prilagođenih programa nužno 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vrditi realnu razinu učenikovih sposobnosti i zn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drediti godišnji cilj odgoja i obrazov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drediti kratkoročne cilje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vrditi područja koja je potrebno jače potic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vrditi opseg u kojem će učenik sudjelovati u redovitom progr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drediti objektivne kriterije, sredstva i metodu evaluacije ciljeva odgoja i obrazov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ogućiti individualni rad i rehabilitacijsku pomo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76E1-504D-40B5-A59D-E2CD6B1497F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335E97-6207-4828-BEFC-6C024750009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Učenici s teškoćama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kao dio odgojno-obrazovnog susta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VI IZAZOVI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BLE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63C5-F542-4EFF-9EEC-69514611F05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D43D14-8754-40EC-9952-A21CD911954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Govorimo o mogućnosti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Vodić kroz Konvenciju o pravima osoba s invalidite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Edukacija stručnih suradnika za provođenje radionica s učenic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E1B7-1581-44AC-BE2C-8A309055268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7D03CC-AFF2-4A47-B8D8-27EB16B9A62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uno uspjeha u rad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Zahvaljujem na pažnji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Ivana Petanjek, prof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D629-AF8B-4DC1-96E1-20138D5D1A8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2FE77C-927C-4FF4-9154-8AD38984CC5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1"/>
          <a:stretch/>
        </p:blipFill>
        <p:spPr>
          <a:xfrm>
            <a:off x="396720" y="115920"/>
            <a:ext cx="5338800" cy="11890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457200" y="2060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c00000"/>
                </a:solidFill>
                <a:latin typeface="Arial"/>
              </a:rPr>
              <a:t>Agencija za odgoj i obrazovan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c00000"/>
                </a:solidFill>
                <a:latin typeface="Arial"/>
              </a:rPr>
              <a:t>Podružnica Osij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trossmayerova 6/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sij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c00000"/>
                </a:solidFill>
                <a:latin typeface="Arial"/>
              </a:rPr>
              <a:t>telefon: 031 284 900,  telefax: 031 283 7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vana.petanjek@azoo.h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00000"/>
                </a:solidFill>
                <a:latin typeface="Arial"/>
              </a:rPr>
              <a:t>telefon: 031 284 9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A04E-C2C4-43B9-AD85-DFD0AB2D164F}" type="slidenum">
              <a:t>2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8803D2-DE4B-4C84-925A-94B91EF6819C}" type="datetime1">
              <a:rPr lang="en-US"/>
              <a:t>07/28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INTEGRACIJA - INKLUZI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.. od teškoće u razvo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plana podrške učenicima s teškoć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FC66-6AE0-41F1-B569-562D41419E6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42A366-5FF2-42D7-B0C1-B028584B3ED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onvencija o pravima osoba s invalidite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nvaliditet ne mijenja prava koja neka osoba ima kao ljudsko bić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Ono predstavlja tek jednu od mnogih različitosti koje svatko im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02CE-2131-4708-B793-DF606D529CC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6F932E-1020-4732-8B37-4404E4C166D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Škola za S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Važno je znati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a neki učenici s teškoćama u razvoju mogu napredovati kao i njihovi vršnjaci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a svako dijete ima pravo na odgoj i obrazovanje, neovisno koliko su skromne njegove mogućnosti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reba utvrditi što je odlučujuće za napredovanje i osposobljavanje učenika za kasniji život i programske sadržaje tome prilagoditi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027B-3268-4AFC-8267-51A145F1A99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6FFE3D-F276-4C79-9BC7-03EEB0068FC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čeni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dionik odgojno-obrazovnog proce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oba koja je formalno upisana u osnovnu ili srednju školu i stječe znanja te razvija sposobnosti i vještine, navike i odgojne vrijed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88C0-6911-47A3-86E8-54FA85FD46A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9ACA8E-4D4F-4F5C-BDAE-28EC7663A57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čenik s teškoćama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čenik s utvrđenim stupnjem i vrstom teškoća po propisima iz socijalne skrbi koji je uključen u redovitu ili posebnu osnovnoškolsku ustanovu, a nastavu prati po redovitom, individualiziranom ili posebnom programu ovisno o vrsti i stupnju ošteće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CF90-5AC4-4590-A636-5DE13B94DEA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41DBDC-C80C-4D29-B54D-D11072DAF85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učni suradnik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čno osposobljena osoba za pomoć u nastavnom i školskom radu, koji obavlja poslove koji proizlaze iz pedagoškog rada ili su s njime u svezi te pruža edukacijsko-rehabilitacijsku potp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4BB8-9228-4921-8EAA-749F60F7B62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A9E9E2-969D-4386-91F6-12ABE3A17D8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ručni tim škole – NOVE ULO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Članovi tima: učitelj, stručni suradnik/ci škole, ravnatelj, drugi stručnjaci, roditelji i uče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uzimanje novih uloga pretpostavlj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VORENOST ZA PROMJ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CIJU ZA CJELOŽIVOTNO UČE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ZVOJ PROFESIONALNIH KOMPETENCI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2C33-268B-435C-9E86-5DF6E14674B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71F285-7420-4379-A808-9F3A6A5478D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4T09:23:34Z</dcterms:created>
  <dc:creator>M.WIENNA</dc:creator>
  <dc:description/>
  <dc:language>en-US</dc:language>
  <cp:lastModifiedBy>ipetanjek</cp:lastModifiedBy>
  <dcterms:modified xsi:type="dcterms:W3CDTF">2012-05-08T09:34:29Z</dcterms:modified>
  <cp:revision>226</cp:revision>
  <dc:subject/>
  <dc:title>Slide 1</dc:title>
</cp:coreProperties>
</file>