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2.png" ContentType="image/png"/>
  <Override PartName="/ppt/media/image13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79D-1508-4CDE-9B2A-4BE327F4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AC4-69E4-46A4-ABE4-DD403208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141-2C66-4C5D-89C4-C8A9CAFD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AAF-98BB-4DF5-BE43-7DBCE11A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86C-6193-41B0-80F2-34F0BF05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544D-5689-425A-A3BA-A9BCCF0D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2607-2CD0-43A6-9AB4-20E9E6EE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CE9B-C59C-4617-9805-A6B60912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78F9-57B7-4395-807A-AE021738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2165-375D-4CA3-9547-6EB36F73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C227-C7FD-4A24-9203-DD9C8D85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6CC-7D98-4B0E-A351-3AF8A9AA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074B-D8AD-450B-B2A5-19E78DDF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B395-BA5C-45CA-A972-676038C8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411C-4F45-4116-83BD-F2AB0F1C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44D4-1088-4DF3-A5EB-EB02DDD8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2F10-CBEB-411F-ACDE-D83C3A30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DD32-05A0-4A11-BF76-649952E9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4FF8-E063-4C42-8AAA-A9587960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69E80-5DAC-428A-8DBF-B494FAB8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26BF-406E-4209-97D4-F9DB0227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82D8-8D0C-4D19-A33E-5028B19E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EB0-2D8D-4B72-A004-1F4A6EE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E8C8E-5847-41D7-B422-DFA64167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4374-4627-435C-90BF-0859431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E1603-419A-4541-B2DA-5C5B2BC5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E778-286E-40DB-B7DA-186ECB75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43B5-5B13-4069-922C-72A3BCE1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5FD1-E896-4323-9600-40C77975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41C0-9781-4DAE-A86B-0DAE5E00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0833-33E8-4601-B227-AFB77B54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46F8-B53E-476C-AE52-35E03D2B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EF79-766F-4E25-BC3B-D442950D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AD8-9023-4745-A556-57B89523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CEF0-6654-4764-96F9-99EBAF81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E229A-59B1-417A-BB44-7A9AC45C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DE6F8-D3F4-4ED5-9B5F-2CD15C4F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7EF1-565E-4197-A5CF-7682460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DF07-1BE8-4DA3-919F-8EE479DE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248F3-914C-4B99-844E-D570BDEC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FD7B2-9558-4F1E-8AA8-316EA2CA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576FB-42D1-4192-97C0-FB0F17E3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8FE9-3B0A-4A92-9532-4E7A0654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528A2-C466-4330-A228-A5C108F4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16E-68CD-43F3-AC33-184AD096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CB8C7-2965-4826-9AA2-BA7D0EBE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03BAA-360A-491D-9CDE-62495096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7FA69-9D15-4512-924F-E3882E49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9C847-D3A3-424F-8543-59D699EE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010C-2925-441F-9305-A5CBDF6E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F313E-C882-4F9A-8631-F78650DC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CDEBB-C2D4-41B6-AD7A-CAD7E8CB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DCF4D-60C7-4E9B-BA26-9220AE44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C6326-4116-4AE3-BE9F-1FA55AC6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BE96-DBA3-4A1D-81A7-51264429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F64-23B8-4067-99C1-5F5AE3AA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99770-0150-4029-8A3A-12D260B9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BA0-77F0-4687-B3E1-29317590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272-B534-4D8C-ADA1-3818B2F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00F-1E53-4F81-B59D-C912497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Master - 1.png"/>
          <p:cNvPicPr/>
          <p:nvPr/>
        </p:nvPicPr>
        <p:blipFill>
          <a:blip r:embed="rId3"/>
          <a:srcRect l="0" t="0" r="0" b="50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122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imes New Roman"/>
              </a:rPr>
              <a:t>Suzana Hitrec, Osijek,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53F5-A11F-4319-A8EB-3F86D52295E6}" type="slidenum">
              <a:rPr b="0" lang="en-US" sz="1200" spc="-1" strike="noStrike">
                <a:solidFill>
                  <a:srgbClr val="bea6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 - 2.png"/>
          <p:cNvPicPr/>
          <p:nvPr/>
        </p:nvPicPr>
        <p:blipFill>
          <a:blip r:embed="rId3"/>
          <a:srcRect l="13045" t="17903" r="2803" b="26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122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imes New Roman"/>
              </a:rPr>
              <a:t>Suzana Hitrec, Osijek,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B4E3-DAE5-4841-AE73-2E8BEE770974}" type="slidenum">
              <a:rPr b="0" lang="en-US" sz="1200" spc="-1" strike="noStrike">
                <a:solidFill>
                  <a:srgbClr val="bea6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ummer1.png"/>
          <p:cNvPicPr/>
          <p:nvPr/>
        </p:nvPicPr>
        <p:blipFill>
          <a:blip r:embed="rId3"/>
          <a:srcRect l="4545" t="0" r="4545" b="0"/>
          <a:stretch/>
        </p:blipFill>
        <p:spPr>
          <a:xfrm>
            <a:off x="0" y="1619280"/>
            <a:ext cx="9144000" cy="3990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122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imes New Roman"/>
              </a:rPr>
              <a:t>Suzana Hitrec, Osijek,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36EE-790F-485B-80E1-234FE7E16FD4}" type="slidenum">
              <a:rPr b="0" lang="en-US" sz="1200" spc="-1" strike="noStrike">
                <a:solidFill>
                  <a:srgbClr val="bea6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title - 2.png"/>
          <p:cNvPicPr/>
          <p:nvPr/>
        </p:nvPicPr>
        <p:blipFill>
          <a:blip r:embed="rId3"/>
          <a:srcRect l="13045" t="17903" r="10454" b="9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122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imes New Roman"/>
              </a:rPr>
              <a:t>Suzana Hitrec, Osijek,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FB0C-83AD-46C4-9523-DE0B3768A7EF}" type="slidenum">
              <a:rPr b="0" lang="en-US" sz="1200" spc="-1" strike="noStrike">
                <a:solidFill>
                  <a:srgbClr val="bea6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flowers content.png"/>
          <p:cNvPicPr/>
          <p:nvPr/>
        </p:nvPicPr>
        <p:blipFill>
          <a:blip r:embed="rId3"/>
          <a:srcRect l="4545" t="8217" r="4545" b="13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122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imes New Roman"/>
              </a:rPr>
              <a:t>Suzana Hitrec, Osijek, 20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58C1-2FD8-4C8C-9EA2-D45FC2068B24}" type="slidenum">
              <a:rPr b="0" lang="en-US" sz="1200" spc="-1" strike="noStrike">
                <a:solidFill>
                  <a:srgbClr val="bea6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716280"/>
            <a:ext cx="9144000" cy="17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99"/>
                </a:solidFill>
                <a:latin typeface="Verdana"/>
              </a:rPr>
              <a:t>PROFESIONALNI RAZVOJ I</a:t>
            </a:r>
            <a:br>
              <a:rPr sz="3600"/>
            </a:br>
            <a:r>
              <a:rPr b="1" lang="hr-HR" sz="3600" spc="-1" strike="noStrike">
                <a:solidFill>
                  <a:srgbClr val="003399"/>
                </a:solidFill>
                <a:latin typeface="Verdana"/>
              </a:rPr>
              <a:t>OBRAZOVNI MENADŽMENT</a:t>
            </a:r>
            <a:endParaRPr b="0" lang="en-US" sz="36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11280" y="5445000"/>
            <a:ext cx="45230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  <a:p>
            <a:pPr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99"/>
                </a:solidFill>
                <a:latin typeface="Verdana"/>
              </a:rPr>
              <a:t>                 </a:t>
            </a:r>
            <a:r>
              <a:rPr b="0" lang="hr-HR" sz="1700" spc="-1" strike="noStrike">
                <a:solidFill>
                  <a:srgbClr val="003399"/>
                </a:solidFill>
                <a:latin typeface="Verdana"/>
              </a:rPr>
              <a:t>Suzana Hitrec, prof.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</p:txBody>
      </p:sp>
      <p:pic>
        <p:nvPicPr>
          <p:cNvPr id="212" name="Picture 4" descr="j0284001"/>
          <p:cNvPicPr/>
          <p:nvPr/>
        </p:nvPicPr>
        <p:blipFill>
          <a:blip r:embed="rId1"/>
          <a:stretch/>
        </p:blipFill>
        <p:spPr>
          <a:xfrm>
            <a:off x="4572000" y="404640"/>
            <a:ext cx="265572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e7a6e"/>
                </a:solidFill>
                <a:latin typeface="Constantia"/>
              </a:rPr>
              <a:t>Razumijevanje učenja</a:t>
            </a:r>
            <a:endParaRPr b="0" lang="en-US" sz="3600" spc="-1" strike="noStrike">
              <a:solidFill>
                <a:srgbClr val="9e7a6e"/>
              </a:solidFill>
              <a:latin typeface="Constanti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066680" y="990720"/>
          <a:ext cx="7696440" cy="525780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VRŠNO (što?)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UBLJE (kako?)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UBOKO (zašto?)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ZNAČENJE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Memorija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Refleksija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Intuicija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REZULTATI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Informacija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Znanje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Mudrost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DOKAZI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Reprodukcija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Razumijevanje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Razmišljanje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MOTIVACIJA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Vanjska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Unutarnja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Autentična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STAVOVI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Pokoravanje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Interpretacija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Kreativnost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DNOSI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Ovisni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Međuovisni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302b"/>
                          </a:solidFill>
                          <a:latin typeface="Times New Roman"/>
                          <a:ea typeface="Times New Roman"/>
                        </a:rPr>
                        <a:t>Neovisni</a:t>
                      </a:r>
                      <a:endParaRPr b="0" lang="en-US" sz="2000" spc="-1" strike="noStrike">
                        <a:solidFill>
                          <a:srgbClr val="40302b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Constantia"/>
              </a:rPr>
              <a:t>Moj način učenja </a:t>
            </a:r>
            <a:r>
              <a:rPr b="0" lang="hr-HR" sz="2400" spc="-1" strike="noStrike">
                <a:solidFill>
                  <a:srgbClr val="c00000"/>
                </a:solidFill>
                <a:latin typeface="Constantia"/>
              </a:rPr>
              <a:t>(kako mogu ojačati svoje jake strane i prevladati slabe?)</a:t>
            </a:r>
            <a:endParaRPr b="0" lang="en-US" sz="24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Candara"/>
              </a:rPr>
              <a:t>Koliko razumijete /poznajete sebe u ulozi voditelja?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Candara"/>
              </a:rPr>
              <a:t>Koliko razumijete /poznajete sebe u u lozi učenika?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Candara"/>
              </a:rPr>
              <a:t>Koje specifične strategije koristite za osiguranje kvalitetnijeg učenja?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Candara"/>
              </a:rPr>
              <a:t>Koji procesi učenja su najprihvatljiviji za Vas?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Candara"/>
              </a:rPr>
              <a:t>Koliko razumijete svoje snove?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Candara"/>
              </a:rPr>
              <a:t>Kako slavite svoje uspjehe i jake snage?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Candara"/>
              </a:rPr>
              <a:t>Kako održavate nadu u svom životu?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90000"/>
              </a:lnSpc>
              <a:spcBef>
                <a:spcPts val="180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608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3399"/>
                </a:solidFill>
                <a:latin typeface="Constantia"/>
              </a:rPr>
              <a:t>Eksperimentiranje s novim načinima ponašanja   </a:t>
            </a:r>
            <a:r>
              <a:rPr b="0" lang="hr-HR" sz="2500" spc="-1" strike="noStrike">
                <a:solidFill>
                  <a:srgbClr val="c00000"/>
                </a:solidFill>
                <a:latin typeface="Constantia"/>
              </a:rPr>
              <a:t>(</a:t>
            </a:r>
            <a:r>
              <a:rPr b="0" lang="hr-HR" sz="1800" spc="-1" strike="noStrike">
                <a:solidFill>
                  <a:srgbClr val="c00000"/>
                </a:solidFill>
                <a:latin typeface="Constantia"/>
              </a:rPr>
              <a:t>Što trebam poduzeti?)</a:t>
            </a:r>
            <a:endParaRPr b="0" lang="en-US" sz="18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oje kriterije koristite za procjenu svoje uspješnosti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Imate li profolio s razvojnim strategijama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Upuštate li se u primjenu novih strategija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oliko se osjećate ugodno s primanjem povratne informacije od drugih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Preuzimate li rizik i koliko možete podnijeti neuspjeha u javnosti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Jeste li otvoreni za izazove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99"/>
                </a:solidFill>
                <a:latin typeface="Constantia"/>
              </a:rPr>
              <a:t>Razvijanje uspješnih odnosa </a:t>
            </a:r>
            <a:br>
              <a:rPr sz="2800"/>
            </a:br>
            <a:r>
              <a:rPr b="0" lang="hr-HR" sz="2400" spc="-1" strike="noStrike">
                <a:solidFill>
                  <a:srgbClr val="c00000"/>
                </a:solidFill>
                <a:latin typeface="Constantia"/>
              </a:rPr>
              <a:t>(tko mi može pomoći?)</a:t>
            </a:r>
            <a:endParaRPr b="0" lang="en-US" sz="24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oje je najznačajnije iskustvo odnosa u učenju u Vašem životu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31560" indent="-331560">
              <a:spcBef>
                <a:spcPts val="18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ako biste opisali najvažniji utjecaj na Vaše uspješne odnose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31560" indent="-331560">
              <a:spcBef>
                <a:spcPts val="18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oje su praktične manifestacije odnosa utemeljene na povjerenju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31560" indent="-33156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Jesu li sve Vaše potrebe zadovoljene u odnosima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31560" indent="-331560">
              <a:spcBef>
                <a:spcPts val="18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ako doprinosite razvoju onih koji podržavaju Vas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onstantia"/>
              </a:rPr>
              <a:t>KOLIKO JE SATI NA VAŠEM PROFESIONALNOM SATU?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1800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99"/>
                </a:solidFill>
                <a:latin typeface="Candara"/>
              </a:rPr>
              <a:t>Za što je ZA VAS sada PREKASNO?</a:t>
            </a:r>
            <a:endParaRPr b="0" lang="en-US" sz="40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spcBef>
                <a:spcPts val="1800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99"/>
                </a:solidFill>
                <a:latin typeface="Candara"/>
              </a:rPr>
              <a:t>Za što je ZA VAS sada PRERANO?</a:t>
            </a:r>
            <a:endParaRPr b="0" lang="en-US" sz="40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spcBef>
                <a:spcPts val="1800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99"/>
                </a:solidFill>
                <a:latin typeface="Candara"/>
              </a:rPr>
              <a:t>Za što je ZA VAS sada PRAVO VRIJEME?</a:t>
            </a:r>
            <a:endParaRPr b="0" lang="en-US" sz="40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onstantia"/>
              </a:rPr>
              <a:t>Voditelj u nama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Proces postajanja i razvijanja vođenja je istovremeno proces postajanja i razvijanja integriranog ljudskog bića.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spcBef>
                <a:spcPts val="18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Voditeljstvo je metafora za harmoniju u životu.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  <p:pic>
        <p:nvPicPr>
          <p:cNvPr id="277" name="Picture 4" descr="j0336911"/>
          <p:cNvPicPr/>
          <p:nvPr/>
        </p:nvPicPr>
        <p:blipFill>
          <a:blip r:embed="rId3"/>
          <a:stretch/>
        </p:blipFill>
        <p:spPr>
          <a:xfrm>
            <a:off x="5786280" y="4572000"/>
            <a:ext cx="2521080" cy="1555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onstantia"/>
              </a:rPr>
              <a:t>Pjesma o slobodnom putu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Ovdje je kušnja mudrosti.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Mudrost se ne prokušava u školama.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Mudrost ne može jedan koji je ima dodati drugome koji je nema,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mudrost izvire iz duše, nedokaziva je, svoj je vlastiti dokaz,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važi za sve stupnje i predmete i svojstva 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    </a:t>
            </a: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i mirna je;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ona je izvjesnost u zbilji i besmrtnosti stvari i o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    </a:t>
            </a: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savršenstvu stvari;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nešto postoji u toku pojave stvari što nju izvabljuje iz duše.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                                                     </a:t>
            </a:r>
            <a:r>
              <a:rPr b="0" lang="hr-HR" sz="1700" spc="-1" strike="noStrike">
                <a:solidFill>
                  <a:srgbClr val="0000cc"/>
                </a:solidFill>
                <a:latin typeface="Candara"/>
              </a:rPr>
              <a:t>WALT WHITMAN</a:t>
            </a:r>
            <a:endParaRPr b="0" lang="en-US" sz="17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c00000"/>
                </a:solidFill>
                <a:latin typeface="Constantia"/>
              </a:rPr>
              <a:t>POLAZIŠTA - potrebe</a:t>
            </a:r>
            <a:br>
              <a:rPr sz="4000"/>
            </a:br>
            <a:r>
              <a:rPr b="0" lang="hr-HR" sz="4000" spc="-1" strike="noStrike">
                <a:solidFill>
                  <a:srgbClr val="9e7a6e"/>
                </a:solidFill>
                <a:latin typeface="Constantia"/>
              </a:rPr>
              <a:t>Dempster, Lovett, Fluckiger (2011.)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Candara"/>
              </a:rPr>
              <a:t>Priznanje da izvrsno vođenje i menadžment utječu na kvalitetu učenja i poučavanja te učenička postignuća ističe važnost profesionalnog razvoja 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spcBef>
                <a:spcPts val="18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Candara"/>
              </a:rPr>
              <a:t>Predanost kontinuiranom profesionalnom učenju.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spcBef>
                <a:spcPts val="18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Candara"/>
              </a:rPr>
              <a:t>Učiti kako razvijati kvalitetu ali i nositi se s teškoćama.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Candara"/>
              </a:rPr>
              <a:t>Osigurati svoj profesionalni razvoj tijekom cijelog radnog vijeka.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onstantia"/>
              </a:rPr>
              <a:t>Tko se sve bavi obrazovnim menadžmentom i vođenjem?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17" name="Content Placeholder 2" descr=""/>
          <p:cNvPicPr/>
          <p:nvPr/>
        </p:nvPicPr>
        <p:blipFill>
          <a:blip r:embed="rId1"/>
          <a:stretch/>
        </p:blipFill>
        <p:spPr>
          <a:xfrm>
            <a:off x="1279440" y="1944720"/>
            <a:ext cx="6608880" cy="4187880"/>
          </a:xfrm>
          <a:prstGeom prst="rect">
            <a:avLst/>
          </a:prstGeom>
          <a:ln w="0">
            <a:noFill/>
          </a:ln>
        </p:spPr>
      </p:pic>
      <p:sp>
        <p:nvSpPr>
          <p:cNvPr id="2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onstantia"/>
              </a:rPr>
              <a:t>UTJECAJ VOĐENJA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357200" y="200016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99"/>
                </a:solidFill>
                <a:latin typeface="Candara"/>
              </a:rPr>
              <a:t>na školu i učenike </a:t>
            </a:r>
            <a:endParaRPr b="0" lang="en-US" sz="40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99"/>
                </a:solidFill>
                <a:latin typeface="Candara"/>
              </a:rPr>
              <a:t>                             </a:t>
            </a:r>
            <a:r>
              <a:rPr b="0" lang="hr-HR" sz="4000" spc="-1" strike="noStrike">
                <a:solidFill>
                  <a:srgbClr val="003399"/>
                </a:solidFill>
                <a:latin typeface="Candara"/>
              </a:rPr>
              <a:t>je VEĆI</a:t>
            </a:r>
            <a:endParaRPr b="0" lang="en-US" sz="40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99"/>
                </a:solidFill>
                <a:latin typeface="Candara"/>
              </a:rPr>
              <a:t>onda kada je vođenje</a:t>
            </a:r>
            <a:endParaRPr b="0" lang="en-US" sz="40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99"/>
                </a:solidFill>
                <a:latin typeface="Candara"/>
              </a:rPr>
              <a:t> </a:t>
            </a:r>
            <a:r>
              <a:rPr b="0" lang="hr-HR" sz="4000" spc="-1" strike="noStrike">
                <a:solidFill>
                  <a:srgbClr val="003399"/>
                </a:solidFill>
                <a:latin typeface="Candara"/>
              </a:rPr>
              <a:t>ŠIROKO DISTRIBUIRANO</a:t>
            </a:r>
            <a:endParaRPr b="0" lang="en-US" sz="40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99"/>
                </a:solidFill>
                <a:latin typeface="Candara"/>
              </a:rPr>
              <a:t>(Leithwood, Day, Sammos, Harris &amp; Hopkins, 2006.)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00000"/>
                </a:solidFill>
                <a:latin typeface="Constantia"/>
              </a:rPr>
              <a:t>NOVA FILOZOFIJA VOĐENJA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23" name="Content Placeholder 2" descr=""/>
          <p:cNvPicPr/>
          <p:nvPr/>
        </p:nvPicPr>
        <p:blipFill>
          <a:blip r:embed="rId1"/>
          <a:stretch/>
        </p:blipFill>
        <p:spPr>
          <a:xfrm>
            <a:off x="139680" y="1974960"/>
            <a:ext cx="8583480" cy="4797360"/>
          </a:xfrm>
          <a:prstGeom prst="rect">
            <a:avLst/>
          </a:prstGeom>
          <a:ln w="0">
            <a:noFill/>
          </a:ln>
        </p:spPr>
      </p:pic>
      <p:sp>
        <p:nvSpPr>
          <p:cNvPr id="22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00000"/>
                </a:solidFill>
                <a:latin typeface="Verdana"/>
              </a:rPr>
              <a:t>Polazne pretpostavke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80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Verdana"/>
              </a:rPr>
              <a:t>Razvoj vještina i znanja vođenja u simbiozi su s osobnim razvojem.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100000"/>
              </a:lnSpc>
              <a:spcBef>
                <a:spcPts val="18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Verdana"/>
              </a:rPr>
              <a:t>Uspješan VODITELJ i MENADŽER izvire iz osobne autetntičnosti.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100000"/>
              </a:lnSpc>
              <a:spcBef>
                <a:spcPts val="18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Verdana"/>
              </a:rPr>
              <a:t>Autentičnost je interaktivan proces vrijednosti, jezika i mogućnosti djelovanja.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100000"/>
              </a:lnSpc>
              <a:spcBef>
                <a:spcPts val="180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Verdana"/>
              </a:rPr>
              <a:t>Postati autentičan važan je proces uz prekovremeni rad na interakciji.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  <a:p>
            <a:pPr marL="349200" indent="-349200">
              <a:lnSpc>
                <a:spcPct val="100000"/>
              </a:lnSpc>
              <a:spcBef>
                <a:spcPts val="18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Verdana"/>
              </a:rPr>
              <a:t>Složene interakcije uključuju duboko i osmišljeno učenje.</a:t>
            </a:r>
            <a:endParaRPr b="0" lang="en-US" sz="20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Oval 2"/>
          <p:cNvSpPr/>
          <p:nvPr/>
        </p:nvSpPr>
        <p:spPr>
          <a:xfrm>
            <a:off x="2627280" y="549360"/>
            <a:ext cx="2374920" cy="1079280"/>
          </a:xfrm>
          <a:prstGeom prst="ellipse">
            <a:avLst/>
          </a:prstGeom>
          <a:noFill/>
          <a:ln w="9360">
            <a:solidFill>
              <a:srgbClr val="d5b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MOJ IDEAL 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– </a:t>
            </a: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ŠTO ŽELIM 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OD SVOG ŽIVOTA I RADA?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5076720" y="1052640"/>
            <a:ext cx="2305080" cy="1295280"/>
          </a:xfrm>
          <a:prstGeom prst="ellipse">
            <a:avLst/>
          </a:prstGeom>
          <a:noFill/>
          <a:ln w="9360">
            <a:solidFill>
              <a:srgbClr val="d5b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MOJE REALNO JA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 – </a:t>
            </a: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KAKO SE PONAŠAM?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5580000" y="2349360"/>
            <a:ext cx="2160720" cy="1008360"/>
          </a:xfrm>
          <a:prstGeom prst="ellipse">
            <a:avLst/>
          </a:prstGeom>
          <a:noFill/>
          <a:ln w="9360">
            <a:solidFill>
              <a:srgbClr val="d5b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MOJE SNAGE 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(GDJE SE POKLAPA 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IDEALNO I REALNO)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5292720" y="3500280"/>
            <a:ext cx="2303640" cy="1081080"/>
          </a:xfrm>
          <a:prstGeom prst="ellipse">
            <a:avLst/>
          </a:prstGeom>
          <a:noFill/>
          <a:ln w="9360">
            <a:solidFill>
              <a:srgbClr val="d5b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MOJ E SLABOSTI </a:t>
            </a:r>
            <a:br>
              <a:rPr sz="1400"/>
            </a:b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(GDJE SE IDEALNO I REALNO</a:t>
            </a:r>
            <a:br>
              <a:rPr sz="1400"/>
            </a:b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NE POKLAPAJU)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843280" y="4221000"/>
            <a:ext cx="2376360" cy="1079640"/>
          </a:xfrm>
          <a:prstGeom prst="ellipse">
            <a:avLst/>
          </a:prstGeom>
          <a:noFill/>
          <a:ln w="9360">
            <a:solidFill>
              <a:srgbClr val="d5b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3.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MOJ PLAN UČENJA</a:t>
            </a:r>
            <a:br>
              <a:rPr sz="1400"/>
            </a:b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(OJAČANJE SNAGA)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755640" y="3429000"/>
            <a:ext cx="2233800" cy="1295280"/>
          </a:xfrm>
          <a:prstGeom prst="ellipse">
            <a:avLst/>
          </a:prstGeom>
          <a:noFill/>
          <a:ln w="9360">
            <a:solidFill>
              <a:srgbClr val="d5b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EKSPERIMENTI S NOVIM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PONAŠANJEM, MISLIMA I 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OSJEĆAJIMA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34" name="Oval 8"/>
          <p:cNvSpPr/>
          <p:nvPr/>
        </p:nvSpPr>
        <p:spPr>
          <a:xfrm>
            <a:off x="468360" y="1916280"/>
            <a:ext cx="2160720" cy="1223640"/>
          </a:xfrm>
          <a:prstGeom prst="ellipse">
            <a:avLst/>
          </a:prstGeom>
          <a:noFill/>
          <a:ln w="9360">
            <a:solidFill>
              <a:srgbClr val="d5bd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4.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PRAKTICIRANJE NOVIH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40302b"/>
                </a:solidFill>
                <a:latin typeface="Arial"/>
              </a:rPr>
              <a:t>NAČINA PONAŠANJA</a:t>
            </a:r>
            <a:endParaRPr b="0" lang="en-US" sz="14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35" name="Oval 9"/>
          <p:cNvSpPr/>
          <p:nvPr/>
        </p:nvSpPr>
        <p:spPr>
          <a:xfrm>
            <a:off x="2987640" y="2492280"/>
            <a:ext cx="2233800" cy="129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00000"/>
                </a:solidFill>
                <a:latin typeface="Arial"/>
              </a:rPr>
              <a:t>5.</a:t>
            </a:r>
            <a:endParaRPr b="0" lang="en-US" sz="16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00000"/>
                </a:solidFill>
                <a:latin typeface="Arial"/>
              </a:rPr>
              <a:t>RAZVIJANJE PODRŽAVAJUĆIH</a:t>
            </a:r>
            <a:endParaRPr b="0" lang="en-US" sz="16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00000"/>
                </a:solidFill>
                <a:latin typeface="Arial"/>
              </a:rPr>
              <a:t>ODNOSA POVJERENJA I</a:t>
            </a:r>
            <a:endParaRPr b="0" lang="en-US" sz="16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00000"/>
                </a:solidFill>
                <a:latin typeface="Arial"/>
              </a:rPr>
              <a:t>OHRABRIVANJA NA SVAKOM</a:t>
            </a:r>
            <a:endParaRPr b="0" lang="en-US" sz="1600" spc="-1" strike="noStrike">
              <a:solidFill>
                <a:srgbClr val="40302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00000"/>
                </a:solidFill>
                <a:latin typeface="Arial"/>
              </a:rPr>
              <a:t>KORAKU U PROCESU</a:t>
            </a:r>
            <a:endParaRPr b="0" lang="en-US" sz="16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36" name="Line 10"/>
          <p:cNvSpPr/>
          <p:nvPr/>
        </p:nvSpPr>
        <p:spPr>
          <a:xfrm flipH="1">
            <a:off x="2916000" y="3500280"/>
            <a:ext cx="431640" cy="144720"/>
          </a:xfrm>
          <a:prstGeom prst="line">
            <a:avLst/>
          </a:prstGeom>
          <a:ln w="28440">
            <a:solidFill>
              <a:srgbClr val="d5bdb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37" name="Line 11"/>
          <p:cNvSpPr/>
          <p:nvPr/>
        </p:nvSpPr>
        <p:spPr>
          <a:xfrm flipH="1" flipV="1">
            <a:off x="2700360" y="2781000"/>
            <a:ext cx="503280" cy="142920"/>
          </a:xfrm>
          <a:prstGeom prst="line">
            <a:avLst/>
          </a:prstGeom>
          <a:ln w="28440">
            <a:solidFill>
              <a:srgbClr val="d5bdb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38" name="Line 12"/>
          <p:cNvSpPr/>
          <p:nvPr/>
        </p:nvSpPr>
        <p:spPr>
          <a:xfrm flipV="1">
            <a:off x="4067280" y="2060640"/>
            <a:ext cx="0" cy="504720"/>
          </a:xfrm>
          <a:prstGeom prst="line">
            <a:avLst/>
          </a:prstGeom>
          <a:ln w="28440">
            <a:solidFill>
              <a:srgbClr val="d5bdb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39" name="Line 13"/>
          <p:cNvSpPr/>
          <p:nvPr/>
        </p:nvSpPr>
        <p:spPr>
          <a:xfrm flipV="1">
            <a:off x="4716360" y="2276640"/>
            <a:ext cx="432000" cy="576000"/>
          </a:xfrm>
          <a:prstGeom prst="line">
            <a:avLst/>
          </a:prstGeom>
          <a:ln w="28440">
            <a:solidFill>
              <a:srgbClr val="d5bdb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3995640" y="3645000"/>
            <a:ext cx="0" cy="431640"/>
          </a:xfrm>
          <a:prstGeom prst="line">
            <a:avLst/>
          </a:prstGeom>
          <a:ln w="28440">
            <a:solidFill>
              <a:srgbClr val="d5bdb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4859280" y="3500280"/>
            <a:ext cx="289080" cy="216000"/>
          </a:xfrm>
          <a:prstGeom prst="line">
            <a:avLst/>
          </a:prstGeom>
          <a:ln w="28440">
            <a:solidFill>
              <a:srgbClr val="d5bdb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5076720" y="3068280"/>
            <a:ext cx="432000" cy="144360"/>
          </a:xfrm>
          <a:prstGeom prst="line">
            <a:avLst/>
          </a:prstGeom>
          <a:ln w="28440">
            <a:solidFill>
              <a:srgbClr val="d5bdb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302b"/>
              </a:solidFill>
              <a:latin typeface="Tahoma"/>
            </a:endParaRPr>
          </a:p>
        </p:txBody>
      </p:sp>
      <p:cxnSp>
        <p:nvCxnSpPr>
          <p:cNvPr id="243" name="AutoShape 17"/>
          <p:cNvCxnSpPr>
            <a:stCxn id="234" idx="0"/>
            <a:endCxn id="228" idx="2"/>
          </p:cNvCxnSpPr>
          <p:nvPr/>
        </p:nvCxnSpPr>
        <p:spPr>
          <a:xfrm flipH="1" flipV="1" rot="5400000">
            <a:off x="1674360" y="963360"/>
            <a:ext cx="828000" cy="1078200"/>
          </a:xfrm>
          <a:prstGeom prst="curvedConnector2">
            <a:avLst/>
          </a:prstGeom>
          <a:ln w="19080">
            <a:solidFill>
              <a:srgbClr val="d5bdbe"/>
            </a:solidFill>
            <a:miter/>
            <a:tailEnd len="med" type="triangle" w="med"/>
          </a:ln>
        </p:spPr>
      </p:cxnSp>
      <p:cxnSp>
        <p:nvCxnSpPr>
          <p:cNvPr id="244" name="AutoShape 18"/>
          <p:cNvCxnSpPr>
            <a:stCxn id="234" idx="7"/>
          </p:cNvCxnSpPr>
          <p:nvPr/>
        </p:nvCxnSpPr>
        <p:spPr>
          <a:xfrm flipH="1" flipV="1" rot="5400000">
            <a:off x="3461040" y="479520"/>
            <a:ext cx="467640" cy="2764440"/>
          </a:xfrm>
          <a:prstGeom prst="curvedConnector2">
            <a:avLst/>
          </a:prstGeom>
          <a:ln w="19080">
            <a:solidFill>
              <a:srgbClr val="d5bdbe"/>
            </a:solidFill>
            <a:miter/>
            <a:tailEnd len="med" type="triangle" w="med"/>
          </a:ln>
        </p:spPr>
      </p:cxnSp>
      <p:cxnSp>
        <p:nvCxnSpPr>
          <p:cNvPr id="245" name="AutoShape 19"/>
          <p:cNvCxnSpPr>
            <a:stCxn id="233" idx="1"/>
          </p:cNvCxnSpPr>
          <p:nvPr/>
        </p:nvCxnSpPr>
        <p:spPr>
          <a:xfrm flipH="1" flipV="1" rot="5400000">
            <a:off x="1056960" y="3166560"/>
            <a:ext cx="477000" cy="426240"/>
          </a:xfrm>
          <a:prstGeom prst="curvedConnector5">
            <a:avLst>
              <a:gd name="adj1" fmla="val 90936"/>
              <a:gd name="adj2" fmla="val 49957"/>
              <a:gd name="adj3" fmla="val 90936"/>
            </a:avLst>
          </a:prstGeom>
          <a:ln w="19080">
            <a:solidFill>
              <a:srgbClr val="d5bdbe"/>
            </a:solidFill>
            <a:miter/>
            <a:tailEnd len="med" type="triangle" w="med"/>
          </a:ln>
        </p:spPr>
      </p:cxnSp>
      <p:cxnSp>
        <p:nvCxnSpPr>
          <p:cNvPr id="246" name="AutoShape 20"/>
          <p:cNvCxnSpPr>
            <a:stCxn id="232" idx="2"/>
            <a:endCxn id="233" idx="5"/>
          </p:cNvCxnSpPr>
          <p:nvPr/>
        </p:nvCxnSpPr>
        <p:spPr>
          <a:xfrm rot="10800000">
            <a:off x="2661480" y="4534920"/>
            <a:ext cx="181800" cy="226080"/>
          </a:xfrm>
          <a:prstGeom prst="curvedConnector2">
            <a:avLst/>
          </a:prstGeom>
          <a:ln w="19080">
            <a:solidFill>
              <a:srgbClr val="d5bdbe"/>
            </a:solidFill>
            <a:miter/>
            <a:tailEnd len="med" type="triangle" w="med"/>
          </a:ln>
        </p:spPr>
      </p:cxnSp>
      <p:cxnSp>
        <p:nvCxnSpPr>
          <p:cNvPr id="247" name="AutoShape 21"/>
          <p:cNvCxnSpPr>
            <a:stCxn id="231" idx="3"/>
            <a:endCxn id="232" idx="6"/>
          </p:cNvCxnSpPr>
          <p:nvPr/>
        </p:nvCxnSpPr>
        <p:spPr>
          <a:xfrm rot="5400000">
            <a:off x="5254560" y="4386960"/>
            <a:ext cx="339120" cy="410400"/>
          </a:xfrm>
          <a:prstGeom prst="curvedConnector2">
            <a:avLst/>
          </a:prstGeom>
          <a:ln w="19080">
            <a:solidFill>
              <a:srgbClr val="d5bdbe"/>
            </a:solidFill>
            <a:miter/>
            <a:tailEnd len="med" type="triangle" w="med"/>
          </a:ln>
        </p:spPr>
      </p:cxnSp>
      <p:cxnSp>
        <p:nvCxnSpPr>
          <p:cNvPr id="248" name="AutoShape 22"/>
          <p:cNvCxnSpPr>
            <a:stCxn id="230" idx="3"/>
            <a:endCxn id="232" idx="7"/>
          </p:cNvCxnSpPr>
          <p:nvPr/>
        </p:nvCxnSpPr>
        <p:spPr>
          <a:xfrm rot="5400000">
            <a:off x="4798080" y="3282480"/>
            <a:ext cx="1170720" cy="1024920"/>
          </a:xfrm>
          <a:prstGeom prst="curvedConnector5">
            <a:avLst>
              <a:gd name="adj1" fmla="val 43002"/>
              <a:gd name="adj2" fmla="val 50000"/>
              <a:gd name="adj3" fmla="val 43002"/>
            </a:avLst>
          </a:prstGeom>
          <a:ln w="19080">
            <a:solidFill>
              <a:srgbClr val="d5bdbe"/>
            </a:solidFill>
            <a:miter/>
            <a:tailEnd len="med" type="triangle" w="med"/>
          </a:ln>
        </p:spPr>
      </p:cxnSp>
      <p:cxnSp>
        <p:nvCxnSpPr>
          <p:cNvPr id="249" name="AutoShape 23"/>
          <p:cNvCxnSpPr>
            <a:stCxn id="228" idx="0"/>
          </p:cNvCxnSpPr>
          <p:nvPr/>
        </p:nvCxnSpPr>
        <p:spPr>
          <a:xfrm flipH="1" rot="16200000">
            <a:off x="3961800" y="402120"/>
            <a:ext cx="3550320" cy="3844080"/>
          </a:xfrm>
          <a:prstGeom prst="curvedConnector5">
            <a:avLst>
              <a:gd name="adj1" fmla="val -1379"/>
              <a:gd name="adj2" fmla="val 61927"/>
              <a:gd name="adj3" fmla="val -1379"/>
            </a:avLst>
          </a:prstGeom>
          <a:ln w="19080">
            <a:solidFill>
              <a:srgbClr val="d5bdbe"/>
            </a:solidFill>
            <a:miter/>
            <a:tailEnd len="med" type="triangle" w="med"/>
          </a:ln>
        </p:spPr>
      </p:cxnSp>
      <p:cxnSp>
        <p:nvCxnSpPr>
          <p:cNvPr id="250" name="AutoShape 24"/>
          <p:cNvCxnSpPr>
            <a:stCxn id="228" idx="7"/>
            <a:endCxn id="230" idx="6"/>
          </p:cNvCxnSpPr>
          <p:nvPr/>
        </p:nvCxnSpPr>
        <p:spPr>
          <a:xfrm flipH="1" rot="16200000">
            <a:off x="5124240" y="237960"/>
            <a:ext cx="2147040" cy="3087000"/>
          </a:xfrm>
          <a:prstGeom prst="curvedConnector5">
            <a:avLst>
              <a:gd name="adj1" fmla="val -3253"/>
              <a:gd name="adj2" fmla="val 54315"/>
              <a:gd name="adj3" fmla="val -3253"/>
            </a:avLst>
          </a:prstGeom>
          <a:ln w="19080">
            <a:solidFill>
              <a:srgbClr val="d5bdbe"/>
            </a:solidFill>
            <a:miter/>
            <a:tailEnd len="med" type="triangle" w="med"/>
          </a:ln>
        </p:spPr>
      </p:cxnSp>
      <p:cxnSp>
        <p:nvCxnSpPr>
          <p:cNvPr id="251" name="AutoShape 25"/>
          <p:cNvCxnSpPr>
            <a:stCxn id="229" idx="5"/>
            <a:endCxn id="230" idx="7"/>
          </p:cNvCxnSpPr>
          <p:nvPr/>
        </p:nvCxnSpPr>
        <p:spPr>
          <a:xfrm flipH="1" rot="16200000">
            <a:off x="7065000" y="2136960"/>
            <a:ext cx="338760" cy="381600"/>
          </a:xfrm>
          <a:prstGeom prst="curvedConnector5">
            <a:avLst>
              <a:gd name="adj1" fmla="val 12127"/>
              <a:gd name="adj2" fmla="val 49952"/>
              <a:gd name="adj3" fmla="val 12127"/>
            </a:avLst>
          </a:prstGeom>
          <a:ln w="19080">
            <a:solidFill>
              <a:srgbClr val="d5bdbe"/>
            </a:solidFill>
            <a:miter/>
            <a:tailEnd len="med" type="triangle" w="med"/>
          </a:ln>
        </p:spPr>
      </p:cxnSp>
      <p:cxnSp>
        <p:nvCxnSpPr>
          <p:cNvPr id="252" name="AutoShape 26"/>
          <p:cNvCxnSpPr>
            <a:stCxn id="229" idx="6"/>
            <a:endCxn id="231" idx="7"/>
          </p:cNvCxnSpPr>
          <p:nvPr/>
        </p:nvCxnSpPr>
        <p:spPr>
          <a:xfrm flipH="1">
            <a:off x="7259400" y="1699920"/>
            <a:ext cx="122400" cy="1959480"/>
          </a:xfrm>
          <a:prstGeom prst="curvedConnector5">
            <a:avLst>
              <a:gd name="adj1" fmla="val -609439"/>
              <a:gd name="adj2" fmla="val 52462"/>
              <a:gd name="adj3" fmla="val -609439"/>
            </a:avLst>
          </a:prstGeom>
          <a:ln w="19080">
            <a:solidFill>
              <a:srgbClr val="d5bdbe"/>
            </a:solidFill>
            <a:miter/>
            <a:tailEnd len="med" type="triangle" w="med"/>
          </a:ln>
        </p:spPr>
      </p:cxn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e7a6e"/>
                </a:solidFill>
                <a:latin typeface="Constantia"/>
              </a:rPr>
              <a:t>Moje idealno ja – </a:t>
            </a:r>
            <a:r>
              <a:rPr b="0" lang="hr-HR" sz="2800" spc="-1" strike="noStrike">
                <a:solidFill>
                  <a:srgbClr val="c00000"/>
                </a:solidFill>
                <a:latin typeface="Constantia"/>
              </a:rPr>
              <a:t>(kakav želim biti?)</a:t>
            </a:r>
            <a:endParaRPr b="0" lang="en-US" sz="28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lnSpc>
                <a:spcPct val="80000"/>
              </a:lnSpc>
              <a:spcBef>
                <a:spcPts val="18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oje metafore i slike koristite da bi prikazali IDEALNOG sebe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80000"/>
              </a:lnSpc>
              <a:spcBef>
                <a:spcPts val="18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ada razmišljate o idealnoj državi budućnosti, koje su njene osnovne karakteristike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80000"/>
              </a:lnSpc>
              <a:spcBef>
                <a:spcPts val="18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Razmislite o mogućnostima Vašeg profesionalnog života u budućnosti? Što ne želite da se ikada dogodi? Zašto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80000"/>
              </a:lnSpc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akav je odnos između Vašeg javnog JA i privatnog JA u idealnom scenariju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42000" indent="-342000">
              <a:lnSpc>
                <a:spcPct val="80000"/>
              </a:lnSpc>
              <a:spcBef>
                <a:spcPts val="18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oja područja profesionalnog života Vam pružaju najveće zadovoljstvo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e7a6e"/>
                </a:solidFill>
                <a:latin typeface="Constantia"/>
              </a:rPr>
              <a:t>Moje realno (stvarno) ja – </a:t>
            </a:r>
            <a:r>
              <a:rPr b="0" lang="hr-HR" sz="2800" spc="-1" strike="noStrike">
                <a:solidFill>
                  <a:srgbClr val="c00000"/>
                </a:solidFill>
                <a:latin typeface="Constantia"/>
              </a:rPr>
              <a:t>(kakav sam /jakosti i slabosti?)</a:t>
            </a:r>
            <a:endParaRPr b="0" lang="en-US" sz="28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ako Vas drugi vide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38400" indent="-3384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ako bi Vaši bliski suradnici naveli Vaše slabosti i jakosti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38400" indent="-3384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U čemu ste izvrsni, u kojem području imate najveći utjecaj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38400" indent="-3384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Uključuje li Vaš koncept o sebi sve dimenzije uspješne osobe – socijalne, moralne i duhovne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38400" indent="-3384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Volite li sebe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38400" indent="-3384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cc"/>
                </a:solidFill>
                <a:latin typeface="Candara"/>
              </a:rPr>
              <a:t>Kako ste postali osoba kakva ste sada?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marL="338400" indent="-338400">
              <a:lnSpc>
                <a:spcPct val="90000"/>
              </a:lnSpc>
              <a:spcBef>
                <a:spcPts val="180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Tahoma"/>
              </a:rPr>
              <a:t>Suzana Hitrec, Osijek, 2012.</a:t>
            </a:r>
            <a:endParaRPr b="0" lang="en-US" sz="1200" spc="-1" strike="noStrike">
              <a:solidFill>
                <a:srgbClr val="40302b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9:54:07Z</dcterms:created>
  <dc:creator>Suzana</dc:creator>
  <dc:description/>
  <dc:language>en-US</dc:language>
  <cp:lastModifiedBy>Ravnateljica</cp:lastModifiedBy>
  <dcterms:modified xsi:type="dcterms:W3CDTF">2012-05-04T13:25:17Z</dcterms:modified>
  <cp:revision>8</cp:revision>
  <dc:subject/>
  <dc:title>Razvoj vještina vođenja i osobna učinkovitost</dc:title>
</cp:coreProperties>
</file>