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A73-44B7-4B12-9BB5-46A2404B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6AC-1DD6-453E-A1A7-3AA46F1D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8B-EB27-431F-AA36-9A6BDD1E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438-B745-4FB3-BFE1-BFC93C6B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87B-DED0-4BFC-B93B-C23BD16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346-949A-4CD8-9084-6A8EE416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5A2-DE3A-4EFD-96E2-9ECDB9E6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FAB-8476-4985-8092-28E08AD9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2D3-C66F-43B9-9AA7-BB0AB62B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48F-2342-4698-B077-2F9FA2E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4F2-C40A-418E-8854-3CFF0A2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D81-38AA-46BC-8358-9BC08A0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powerpointstyles.com/" TargetMode="External"/><Relationship Id="rId4" Type="http://schemas.openxmlformats.org/officeDocument/2006/relationships/hyperlink" Target="http://www.powerpointstyles.com/" TargetMode="External"/><Relationship Id="rId5" Type="http://schemas.openxmlformats.org/officeDocument/2006/relationships/hyperlink" Target="http://www.powerpointstyles.com/" TargetMode="External"/><Relationship Id="rId6" Type="http://schemas.openxmlformats.org/officeDocument/2006/relationships/hyperlink" Target="http://www.powerpointstyles.com/" TargetMode="External"/><Relationship Id="rId7" Type="http://schemas.openxmlformats.org/officeDocument/2006/relationships/hyperlink" Target="http://www.powerpointstyles.com/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4A3-31B7-4CE8-B719-24B2DA2ECAA5}" type="datetime">
              <a:rPr b="0" lang="sr-Latn-CS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400-3E35-4809-A2B8-D8FB3D8A34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9"/>
          <p:cNvSpPr/>
          <p:nvPr/>
        </p:nvSpPr>
        <p:spPr>
          <a:xfrm>
            <a:off x="3351600" y="6237360"/>
            <a:ext cx="29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ree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werpoint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8" descr="2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4CEC4456-5EB5-4F76-A9C9-EB506A799AD3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werpointstyles.com/" TargetMode="External"/><Relationship Id="rId3" Type="http://schemas.openxmlformats.org/officeDocument/2006/relationships/hyperlink" Target="http://www.powerpointstyles.com/" TargetMode="External"/><Relationship Id="rId4" Type="http://schemas.openxmlformats.org/officeDocument/2006/relationships/hyperlink" Target="http://www.powerpointstyles.com/" TargetMode="External"/><Relationship Id="rId5" Type="http://schemas.openxmlformats.org/officeDocument/2006/relationships/hyperlink" Target="http://www.powerpointstyles.com/" TargetMode="External"/><Relationship Id="rId6" Type="http://schemas.openxmlformats.org/officeDocument/2006/relationships/hyperlink" Target="http://www.powerpointstyles.com/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di.hr/upitnik/osnovn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4"/>
          <p:cNvSpPr/>
          <p:nvPr/>
        </p:nvSpPr>
        <p:spPr>
          <a:xfrm>
            <a:off x="3351600" y="6237360"/>
            <a:ext cx="29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owerpoint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3" descr="1"/>
          <p:cNvPicPr/>
          <p:nvPr/>
        </p:nvPicPr>
        <p:blipFill>
          <a:blip r:embed="rId7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5"/>
          <p:cNvSpPr/>
          <p:nvPr/>
        </p:nvSpPr>
        <p:spPr>
          <a:xfrm>
            <a:off x="250920" y="907920"/>
            <a:ext cx="842472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Bookman Old Style"/>
              </a:rPr>
              <a:t>“</a:t>
            </a:r>
            <a:r>
              <a:rPr b="1" lang="hr-HR" sz="2400" spc="-1" strike="noStrike">
                <a:solidFill>
                  <a:srgbClr val="333399"/>
                </a:solidFill>
                <a:latin typeface="Bookman Old Style"/>
              </a:rPr>
              <a:t>RAZVOJ INSTRUMENATA ZA VREDNOV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Bookman Old Style"/>
              </a:rPr>
              <a:t>NASTAVNOG PROCES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Bookman Old Style"/>
              </a:rPr>
              <a:t>  </a:t>
            </a:r>
            <a:r>
              <a:rPr b="1" lang="hr-HR" sz="1800" spc="-1" strike="noStrike">
                <a:solidFill>
                  <a:srgbClr val="333399"/>
                </a:solidFill>
                <a:latin typeface="Bookman Old Style"/>
              </a:rPr>
              <a:t>- </a:t>
            </a:r>
            <a:r>
              <a:rPr b="1" lang="hr-HR" sz="1800" spc="-1" strike="noStrike" u="sng">
                <a:solidFill>
                  <a:srgbClr val="333399"/>
                </a:solidFill>
                <a:uFillTx/>
                <a:latin typeface="Bookman Old Style"/>
              </a:rPr>
              <a:t>iskustva iz prak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6"/>
          <p:cNvSpPr/>
          <p:nvPr/>
        </p:nvSpPr>
        <p:spPr>
          <a:xfrm>
            <a:off x="4356000" y="6093000"/>
            <a:ext cx="5400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333399"/>
                </a:solidFill>
                <a:latin typeface="Bookman Old Style"/>
              </a:rPr>
              <a:t>PRIPREMILA: Sonja Srebačić, pedagogi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81080" y="5445000"/>
            <a:ext cx="428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333399"/>
                </a:solidFill>
                <a:latin typeface="Bookman Old Style"/>
              </a:rPr>
              <a:t>DRŽAVNI STRUČNI SKUP 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333399"/>
                </a:solidFill>
                <a:latin typeface="Bookman Old Style"/>
              </a:rPr>
              <a:t>STRUČNE SURADNIKE PEDAGO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Bookman Old Style"/>
              </a:rPr>
              <a:t>Osijek, 7.- 9. svibnja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1280" y="404640"/>
            <a:ext cx="2736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1d1d59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PILOT PROJEKT</a:t>
            </a:r>
            <a:endParaRPr b="1" lang="en-US" sz="1800" spc="1" strike="noStrike">
              <a:ln w="22320">
                <a:solidFill>
                  <a:srgbClr val="1d1d59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1628280"/>
            <a:ext cx="77612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Upoznati opažače s obilježjima razre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Dogovoriti kako opažača predstaviti učenicima (kratk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Dogovoriti termin sastanka nakon op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404640"/>
            <a:ext cx="604872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VODNI RAZ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4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Kratko predstaviti opažače učenicima (ne prate njihovo znanje već samo opažaju na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pažač sjedi na nenametljivom mjestu s kojeg ima dobar pogled svega što se događa u razr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pažač ne postavlja nikakva pitanja tijekom nastave i ne sudjeluje u aktivno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pažač nastoji što objektivnije opažati i opisati elemente nastavnog proc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pažač se fokusira na procese poučavanja i olakšavanja učenja, a ne na sadržaje pouč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89000"/>
            <a:ext cx="604836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OVEDBA OP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400" y="105228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Najbolje isti ili slijedeći d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Temeljen na povjerenju i dobronamjernost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Prvo osvrt učitelja koji izvodi nastavni sat, zatim osvrt opažač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Započeti sa dobrim stranama, a zatim područj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mogućeg poboljšanj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Jasna i konkretna komunikacija, umjerena količina informac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Usredotočiti se na ponašanje – ne na osob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Podrška – ne krit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Razgovor shvaćati kao priliku za učen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333399"/>
                </a:solidFill>
                <a:latin typeface="Arial"/>
              </a:rPr>
              <a:t>Učitelj se nakon razgovora osjeća dobro, otvoren za promje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01-razgovor-1-1-col"/>
          <p:cNvPicPr/>
          <p:nvPr/>
        </p:nvPicPr>
        <p:blipFill>
          <a:blip r:embed="rId2"/>
          <a:stretch/>
        </p:blipFill>
        <p:spPr>
          <a:xfrm>
            <a:off x="7596360" y="5727600"/>
            <a:ext cx="1547640" cy="113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00" y="189000"/>
            <a:ext cx="604872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RAZGOVOR NAKON OP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ANd9GcQSBHLxm0fr_EP27s2Pp_Y_H7QwINwCYije3vFrbH5RiWYj_ySRGg"/>
          <p:cNvPicPr/>
          <p:nvPr/>
        </p:nvPicPr>
        <p:blipFill>
          <a:blip r:embed="rId2"/>
          <a:stretch/>
        </p:blipFill>
        <p:spPr>
          <a:xfrm>
            <a:off x="1692360" y="2133720"/>
            <a:ext cx="3313080" cy="298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ANd9GcR3BgOzsbwDaa7CRmIDHYjMj7OkAN8JaxEMm1Avhc_bT4h7cP_siw"/>
          <p:cNvPicPr/>
          <p:nvPr/>
        </p:nvPicPr>
        <p:blipFill>
          <a:blip r:embed="rId3"/>
          <a:stretch/>
        </p:blipFill>
        <p:spPr>
          <a:xfrm>
            <a:off x="5076720" y="2205000"/>
            <a:ext cx="273204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619280" y="404640"/>
            <a:ext cx="640872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IZVJEŠĆE      I      EVALU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PowerPoint Animation"/>
          <p:cNvPicPr/>
          <p:nvPr/>
        </p:nvPicPr>
        <p:blipFill>
          <a:blip r:embed="rId4"/>
          <a:stretch/>
        </p:blipFill>
        <p:spPr>
          <a:xfrm>
            <a:off x="4859280" y="2133720"/>
            <a:ext cx="3673440" cy="331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32360" y="4869000"/>
            <a:ext cx="3241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zitivan stav učitelja prema projek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žele da im na nastavu dolaze podjednako sustručnjaci i učitelji drugih pred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zitivan stav prema suradničkom učen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razgovor poslije uvida je jednako važan kao i opažanje nast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dobra podloga za plan osobno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260280"/>
            <a:ext cx="604836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ISKUSTVA UČITELJ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Razmjena isk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Opažač istovremeno ima više ulo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U zbornici se priča o nast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vezivanje grad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drška kol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Pozitivne reakcije i opušteno ozrač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16720" y="4846680"/>
            <a:ext cx="240516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0872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snimiti jedan nastavni sat za trening opaž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uključiti sve nastavn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nakon cjelovitog opažanja mogu se ciljano opažati pojedini segm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Veći broj opažanja – veća kritičnost/ samokriti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-  Prije opažanja gotovo svi učitelji imaju tremu.Tijekom sata trema nesta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talo im je do mišljenja kole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Važno im je tko gleda sat (osobe od povjere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tjecanje novih isk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Upitnik je zahtjevan (pomažu bilješ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OCJENA: 4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04640"/>
            <a:ext cx="835344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REZULTATI  EVALUACIJE – OŠ Frana Galovi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13000"/>
            <a:ext cx="3960720" cy="57600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3399"/>
                </a:solidFill>
                <a:uFillTx/>
                <a:latin typeface="Arial"/>
              </a:rPr>
              <a:t>POSTUPAK OPAŽ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95280" y="404280"/>
            <a:ext cx="78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Ugodan raz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Osjeća se dobronamjernost kol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Međusobna podr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Teže im je reći što treba poboljš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Izmjena isku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mjernice za poboljš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Arial"/>
              </a:rPr>
              <a:t>OCJENA: 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04640"/>
            <a:ext cx="7345440" cy="57636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3399"/>
                </a:solidFill>
                <a:uFillTx/>
                <a:latin typeface="Arial"/>
              </a:rPr>
              <a:t>RAZGOVOR NAKON OPAŽ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806472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Uključiti što više učitelja - dio školske k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Veći broj op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Trening za razgovor (kako reći “kritiku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Češće imati supervizije opaž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Ovo je jedno od korisnijih stručnih usavršavanja (konkretno i primjenj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Obavezno uključiti priprav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60280"/>
            <a:ext cx="864072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IJEDLOZI ZA UNAPREĐIVANJE PRISTU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920" y="1557360"/>
            <a:ext cx="756144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  <a:ea typeface="Arial"/>
              </a:rPr>
              <a:t>ŠKOLE UKLJUČENE U PILOT PROJE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Š A. G. MATO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Š DR. ANTE STARČE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Š FRANA GALOVI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Š VRB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374920" cy="232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476280"/>
            <a:ext cx="403380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AZOO I ID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ezentacija projekta na Učiteljskim vijećima škola koje su sudjelovale u projektu (iskustva sudioni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Slijedeće školske godine uvesti kolegijalno opažanje u razvojni plan škole (kultura ško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Edukacija za Učiteljsko vijeće – primjena OZON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ezentacija provedenog projekta savjetnicima AZOO-a, na županijskim i državnim skupovima ravnatelja, stručnih suradnika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333360"/>
            <a:ext cx="698508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NAKON PROJEK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0"/>
            <a:ext cx="80503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28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8287a"/>
                </a:solidFill>
                <a:latin typeface="Arial"/>
              </a:rPr>
              <a:t>Tijekom prve godine primjene uključivanje učitelja - dobrovoljno, no tijekom vremena ono bi moralo postati obveza za sve, tako da svi učitelji barem jednom u polugodištu budu opažači i opaža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28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8287a"/>
                </a:solidFill>
                <a:latin typeface="Arial"/>
              </a:rPr>
              <a:t>Potrebna je temeljita priprema učitelja za opaž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28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8287a"/>
                </a:solidFill>
                <a:latin typeface="Arial"/>
              </a:rPr>
              <a:t>U periodu „uhodavanja“ učitelja, jedan opažač bi mogao biti stručni suradn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828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8287a"/>
                </a:solidFill>
                <a:latin typeface="Arial"/>
              </a:rPr>
              <a:t>Dobro bi bilo da u proces budu uključeni i drugi stručni suradnici u školi, osim samog koordin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1" descr="ANd9GcQhIYhl7hW8_jiPUEs62xNVpZ5yKPb7sMd0is1SraTqNQMeZoZ5"/>
          <p:cNvPicPr/>
          <p:nvPr/>
        </p:nvPicPr>
        <p:blipFill>
          <a:blip r:embed="rId2"/>
          <a:stretch/>
        </p:blipFill>
        <p:spPr>
          <a:xfrm>
            <a:off x="2916360" y="260280"/>
            <a:ext cx="3035160" cy="3673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99cc00"/>
                </a:solidFill>
                <a:latin typeface="Arial Rounded MT Bold"/>
              </a:rPr>
              <a:t>UKLJUČIMO</a:t>
            </a:r>
            <a:br>
              <a:rPr sz="6000"/>
            </a:br>
            <a:r>
              <a:rPr b="1" lang="hr-HR" sz="6000" spc="-1" strike="noStrike">
                <a:solidFill>
                  <a:srgbClr val="99cc00"/>
                </a:solidFill>
                <a:latin typeface="Arial Rounded MT Bold"/>
              </a:rPr>
              <a:t>S</a:t>
            </a:r>
            <a:r>
              <a:rPr b="1" lang="hr-HR" sz="6000" spc="-1" strike="noStrike">
                <a:solidFill>
                  <a:srgbClr val="0c7cd2"/>
                </a:solidFill>
                <a:latin typeface="Arial Rounded MT Bold"/>
              </a:rPr>
              <a:t>(V)</a:t>
            </a:r>
            <a:r>
              <a:rPr b="1" lang="hr-HR" sz="6000" spc="-1" strike="noStrike">
                <a:solidFill>
                  <a:srgbClr val="99cc00"/>
                </a:solidFill>
                <a:latin typeface="Arial Rounded MT Bold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 u="sng">
                <a:solidFill>
                  <a:srgbClr val="333399"/>
                </a:solidFill>
                <a:uFillTx/>
                <a:latin typeface="Arial"/>
              </a:rPr>
              <a:t>UPITNIK ZA UČEN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5960" y="2062080"/>
            <a:ext cx="77277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ON LINE UPITNI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idi.hr/upitnik/osnov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Kratak upitnik učeničkih iskustava ispituje važne aspekte obrazovnog procesa iz perspektive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IDIZ – obrada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51640" y="4076640"/>
            <a:ext cx="32414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963720"/>
            <a:ext cx="9396360" cy="813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9320" y="0"/>
            <a:ext cx="4663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932360" y="2060640"/>
            <a:ext cx="40672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VALA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A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AŽNJI: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274160" cy="323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1600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Ravnat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Stručni suradnik (psiholog/pedag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8 učitelja – 4 predmeta x 2 učitelja (matematika, biologija, kemija, fizika, hrvatski jezik, povijest, geografija)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59280" y="907920"/>
            <a:ext cx="3456000" cy="23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24000" y="404640"/>
            <a:ext cx="403380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TIM U ŠKOL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Opažanje nastavnog procesa od strane kolega u šk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ANd9GcQfBCw5tf24z5sMimDU8rGCK-H_5hlPeWD7VHsP7GVrnzZlvly9tw"/>
          <p:cNvPicPr/>
          <p:nvPr/>
        </p:nvPicPr>
        <p:blipFill>
          <a:blip r:embed="rId2"/>
          <a:stretch/>
        </p:blipFill>
        <p:spPr>
          <a:xfrm>
            <a:off x="2987640" y="3573360"/>
            <a:ext cx="3097080" cy="20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ANd9GcQpA14QbWFBkvDaSjf49T5LdAxVSRDAQnMxiRExz6Qd84penZXw"/>
          <p:cNvPicPr/>
          <p:nvPr/>
        </p:nvPicPr>
        <p:blipFill>
          <a:blip r:embed="rId3"/>
          <a:stretch/>
        </p:blipFill>
        <p:spPr>
          <a:xfrm>
            <a:off x="7308720" y="260280"/>
            <a:ext cx="1446480" cy="131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549360"/>
            <a:ext cx="540072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KOLEGIJALNO OPAŽ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Isticanje važnosti kvalitete pouč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odrška učiteljima pri ostvarivanju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Ohrabrivanje učitelja na razmišljanje o vlastitom radu i napre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Otvaranje dijaloga i poticanje otvorene i konstruktivne rasprave o nast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Međusobna razmjena dobrih iskustava iz prak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Dokazivanje kvalitete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ipremanje učit za moguće vanjsko vredn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189000"/>
            <a:ext cx="403380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CILJEVI OPAŽ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- Obrazac za opažanje nastavnog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- Samoanaliza nastavnog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IDIZ i stručni suradnici (psiholog/pedago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Probno opažanje – ukupno opažano 40 nastavnih s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Konačna verzija instru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2920" cy="10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95640" y="4076640"/>
            <a:ext cx="360360" cy="865080"/>
          </a:xfrm>
          <a:prstGeom prst="downArrow">
            <a:avLst>
              <a:gd name="adj1" fmla="val 50000"/>
              <a:gd name="adj2" fmla="val 60015"/>
            </a:avLst>
          </a:prstGeom>
          <a:solidFill>
            <a:srgbClr val="33b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92360" y="333360"/>
            <a:ext cx="604836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IZRADA INSTRUM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Dogovoriti grupe opaž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Dogovoriti ter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333399"/>
                </a:solidFill>
                <a:uFillTx/>
                <a:latin typeface="Arial"/>
              </a:rPr>
              <a:t>Kako koristiti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333399"/>
                </a:solidFill>
                <a:uFillTx/>
                <a:latin typeface="Arial"/>
              </a:rPr>
              <a:t>Kako odraditi razgovor nakon opaž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08720" y="4581360"/>
            <a:ext cx="2016000" cy="148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987640" y="4581360"/>
            <a:ext cx="1905120" cy="1419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260280"/>
            <a:ext cx="604836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TRENING OPAŽAČA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95280" y="170028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87b9"/>
                </a:solidFill>
                <a:latin typeface="Verdan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125360"/>
          <a:ext cx="8748720" cy="5329440"/>
        </p:xfrm>
        <a:graphic>
          <a:graphicData uri="http://schemas.openxmlformats.org/drawingml/2006/table">
            <a:tbl>
              <a:tblPr/>
              <a:tblGrid>
                <a:gridCol w="1584360"/>
                <a:gridCol w="1440000"/>
                <a:gridCol w="1368360"/>
                <a:gridCol w="792000"/>
                <a:gridCol w="936720"/>
                <a:gridCol w="1224000"/>
                <a:gridCol w="140328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D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Z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AŽAČ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E NA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RI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M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TVR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GO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JAN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LIT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RO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TVR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R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I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E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MAGOJ  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IJ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TVR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JAN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I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JAN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IJ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I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GOJU, VAN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UEL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VATSKI JEZ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ITI, DOMAGOJ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NJ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TVR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R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J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JAN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E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RA</a:t>
                      </a:r>
                      <a:r>
                        <a:rPr b="0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.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T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MAGO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ITI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79280" y="260280"/>
            <a:ext cx="8713800" cy="576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60280"/>
            <a:ext cx="8280360" cy="3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ccecff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TERMINI OPAŽANJA - OŠ FRANA GALOVIĆA</a:t>
            </a:r>
            <a:endParaRPr b="0" lang="en-US" sz="1800" spc="1" strike="noStrike">
              <a:ln w="15840">
                <a:solidFill>
                  <a:srgbClr val="ccecff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1187280" y="1341360"/>
            <a:ext cx="7056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DRŽATI   </a:t>
            </a:r>
            <a:r>
              <a:rPr b="1" lang="hr-HR" sz="24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NASTAVNI 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PAŽATI   </a:t>
            </a:r>
            <a:r>
              <a:rPr b="1" lang="hr-HR" sz="24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NASTAVNA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RAZGOVOR NAKON ODRŽANOG SATA T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OPAŽ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IZVJEŠĆ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EVALU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33360"/>
            <a:ext cx="5472000" cy="739800"/>
          </a:xfrm>
          <a:prstGeom prst="roundRect">
            <a:avLst>
              <a:gd name="adj" fmla="val 16667"/>
            </a:avLst>
          </a:prstGeom>
          <a:solidFill>
            <a:srgbClr val="33bbff"/>
          </a:solidFill>
          <a:ln w="38160">
            <a:solidFill>
              <a:srgbClr val="333399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RADNI  ZADACI</a:t>
            </a:r>
            <a:r>
              <a:rPr b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UČITELJA</a:t>
            </a:r>
            <a:r>
              <a:rPr b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095640" cy="207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azvoj instrumentata za vrednovanje nastavnog proce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MALBO</cp:lastModifiedBy>
  <dcterms:modified xsi:type="dcterms:W3CDTF">2012-05-07T22:47:00Z</dcterms:modified>
  <cp:revision>80</cp:revision>
  <dc:subject/>
  <dc:title>Blue Work Silhouette</dc:title>
</cp:coreProperties>
</file>