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2798-F8F8-478B-99DC-D395484413C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6FB4-F342-4307-BD73-DD6E67AD3A2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FB37-15B1-4AF8-897D-D71EC484590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66A7-C8FA-4169-897C-853B1C40869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AFA1-F4D5-4C09-94CF-1E07C58DBED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6A69-0B8B-4160-BBA3-49E83F4D255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CF74-AC08-4037-9462-C06C3A91C0A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36BC-EB18-4488-99CB-49A104B8F09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44DB-0790-4C7F-AD52-5E05189EBDF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3ED1-B1AF-49E6-B554-BEC0947C64E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338E-CEE0-48D1-AA6B-4C9233F1151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DC08-AC0E-439F-AC62-D83689FEAE6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6EFE-7DF0-4C7A-9DD2-3ABE1F2B5ED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7C96-742A-454E-9931-6435D9FC6F9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7ED3-5FC2-4F86-9D58-9CCE6555A63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434F-5B18-42FF-82D0-E0E3A89325B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0BD-0717-46E1-8859-1F3475E5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8A9-B7DD-4179-802B-C5CA9123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B3F-85D8-43E1-9897-5CB6A5D4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601-3295-4D58-8817-6CC0EDE2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AB59-3922-4A84-B645-1EF5F026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E829-11CF-40DE-BAF0-1A21D518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80C2-DC69-4BF2-860F-D9116CC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9023-BFF6-4F9B-B9A7-CEED4B62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B9A4-689E-49B2-A2DA-329A58C4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A4CF-29E3-4F85-A73F-71DF9531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B468-5B33-46D1-9F96-1C468872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71D-FAB9-4491-AC2A-757A5D23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3B38-6184-4905-B1CA-775EE2DC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94FD-F2D9-4FFE-BCA4-95372A53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C1F3-1BA4-4A97-9F14-CD0B0798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94AE-E4F3-42E5-8307-B57E9074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6B52-5F11-4C0E-8D11-8409AA33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786-6548-4760-B5F4-342071F1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816-2361-4BBC-8FCF-47CDC707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E6A-B8C2-4080-B3B8-B45DBC56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6FB-B72F-40B7-854D-EECABA7B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FE5-368E-4F1F-8DD5-AEEECF05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2E1-50BD-4FB1-A299-AD5294E6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549-D2CF-4360-97EE-DED9E53D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87AE-3619-4A85-9DB1-C7E45FA45E86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A722-8922-461D-ACA7-08967E3DE9F2}" type="slidenum">
              <a:rPr b="1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69608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hr-HR" sz="4400" spc="-1" strike="noStrike">
                <a:solidFill>
                  <a:srgbClr val="420000"/>
                </a:solidFill>
                <a:latin typeface="Times New Roman"/>
              </a:rPr>
              <a:t>Djelotvorna podrška profesionalnom razvoju  učitelja - cjeloživotna perspektiv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Times New Roman"/>
              </a:rPr>
              <a:t>Vlasta Vizek Vidović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Centar za istraživanje i razvoj obraz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Institut za društvena istraživanja u Zagre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Osijek, 7. svibanj 20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662436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00"/>
                </a:solidFill>
                <a:latin typeface="Times New Roman"/>
              </a:rPr>
              <a:t>Faze profesionalnog razvoj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97800" cy="28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2. NAPREDNI POČETNIK 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tivnost vođena općim načelima izvedenim iz iskustva, percepcija situacije još ograničena; pojedini aspekti i obilježja situacije promatraju se izoli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3. OSPOSOBLJENI UČITELJ</a:t>
            </a: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	</a:t>
            </a: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tivnosti djelomice sagledava u dugoročnoj perspektivi; razvija opća načela ponašanja, odlučuje planski, lako rabi standardne i rutinske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55640" y="4292640"/>
            <a:ext cx="7077240" cy="2288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Temeljna pi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ko uspostaviti odnos s učenici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ko me učenici v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hvaćaju li me učenic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sam li uspješan u obradi gradiv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sam li uspješan u upravljanju razredo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00"/>
                </a:solidFill>
                <a:latin typeface="Times New Roman"/>
              </a:rPr>
              <a:t>Faze profesionalnog razvoj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4. USPJEŠAN/ISKUSAN UČITELJ 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gledava situaciju holistički, uočava bitne aspekte i odstupanja od normale, povezuje iskustva u jedinstven scenarij, polazi od plana ali u djelovanje uključuje i intuici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5</a:t>
            </a:r>
            <a:r>
              <a:rPr b="0" lang="hr-HR" sz="2400" spc="-1" strike="noStrike">
                <a:solidFill>
                  <a:srgbClr val="660000"/>
                </a:solidFill>
                <a:latin typeface="Times New Roman"/>
              </a:rPr>
              <a:t>. </a:t>
            </a: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EKSPERT</a:t>
            </a:r>
            <a:r>
              <a:rPr b="1" lang="hr-HR" sz="2800" spc="-1" strike="noStrike">
                <a:solidFill>
                  <a:srgbClr val="660000"/>
                </a:solidFill>
                <a:latin typeface="Times New Roman"/>
              </a:rPr>
              <a:t> 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tuitivno i dubinski shvaća situaciju, intuitivno prilagođava spoznaje i vještine trenutačnoj situaciji, analitički pristup samo u novim situacijama, ima spoznaju o moguć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116000" y="4581360"/>
            <a:ext cx="6624720" cy="19227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93300"/>
                </a:solidFill>
                <a:latin typeface="Times New Roman"/>
              </a:rPr>
              <a:t>Temeljna pit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ja je moja uloga u poučavanju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ko učenici uč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če li učenici doista ono što im je potreb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Što postižem poučavanj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800244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3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7480" indent="-228960"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oje sadašnje stanje  profesionalnog razvoja izgleda mi kao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7480" indent="-228960">
              <a:spcBef>
                <a:spcPts val="7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oji su događaji, iskustva ili osobe bili važni za vaš izbor karijere i  dosadašnji profesionalni razvoj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99640" y="765000"/>
            <a:ext cx="56898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00"/>
                </a:solidFill>
                <a:latin typeface="Times New Roman"/>
              </a:rPr>
              <a:t>Pitanje za Vas 2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5708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4000" spc="-1" strike="noStrike">
                <a:solidFill>
                  <a:srgbClr val="420000"/>
                </a:solidFill>
                <a:latin typeface="Times New Roman"/>
              </a:rPr>
              <a:t>Činitelji profesionalnog razvoja</a:t>
            </a:r>
            <a:br>
              <a:rPr sz="2400"/>
            </a:br>
            <a:r>
              <a:rPr b="0" lang="hr-HR" sz="2400" spc="-1" strike="noStrike">
                <a:solidFill>
                  <a:srgbClr val="420000"/>
                </a:solidFill>
                <a:latin typeface="Times New Roman"/>
              </a:rPr>
              <a:t>                       </a:t>
            </a:r>
            <a:r>
              <a:rPr b="0" lang="hr-HR" sz="2000" spc="-1" strike="noStrike">
                <a:solidFill>
                  <a:srgbClr val="420000"/>
                </a:solidFill>
                <a:latin typeface="Times New Roman"/>
              </a:rPr>
              <a:t>(Fessler,1995, Day, 2007)</a:t>
            </a:r>
            <a:r>
              <a:rPr b="0" lang="hr-HR" sz="36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3168720" cy="41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4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Činitelji osobnog okruž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920" indent="-3409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Životno razdobl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0920" indent="-3409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bitelj/bliske os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0920" indent="-3409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ocijalno porijek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0920" indent="-3409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sobne sklo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0920" indent="-3409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brazovna iskust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0920" indent="-3409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zvanobrazovna iskust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0920" indent="-3409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ljučne osobe (mode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0920" indent="-3409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ljučni (pozitivni)događa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0920" indent="-3409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amoaktiv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0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0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156000" y="1844280"/>
            <a:ext cx="298764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0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Činitelji socijalnog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organizacijsk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okruž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2775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Društvena očekiv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2775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Javno mnije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2775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Društvene vrijed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2775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rof. organiz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2775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rganizacijska klima i k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2775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til upravljan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2775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indik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375000" y="1622520"/>
            <a:ext cx="2736720" cy="5227920"/>
          </a:xfrm>
          <a:prstGeom prst="rect">
            <a:avLst/>
          </a:prstGeom>
          <a:solidFill>
            <a:srgbClr val="993300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AZVOJ KARIJ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redkarij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ripravništvo: preživljanje ili otkr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tjecanje kompetencija ili odustaj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Entuzijazam i rast ili frustr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tabilnost ili rezign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Zaokret ili usporavan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Izlaz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20000"/>
                </a:solidFill>
                <a:latin typeface="Times New Roman"/>
              </a:rPr>
              <a:t>Pitanja za Vas 3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oji činitelji sada najviše djeluju na va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akvo je njihovo djelovanje: podržavajuće ili otežavajuć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20000"/>
                </a:solidFill>
                <a:latin typeface="Times New Roman"/>
              </a:rPr>
              <a:t>Opći motivacijski činitelji </a:t>
            </a:r>
            <a:br>
              <a:rPr sz="4400"/>
            </a:br>
            <a:r>
              <a:rPr b="0" lang="hr-HR" sz="1800" spc="-1" strike="noStrike">
                <a:solidFill>
                  <a:srgbClr val="420000"/>
                </a:solidFill>
                <a:latin typeface="Times New Roman"/>
              </a:rPr>
              <a:t>Vitae projekt (Day i sur. 2007)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Činitelji koji najviše doprinose održavanju radne motivacije učitelj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državajuće vodstvo u školi                     76% učite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drška kolega                                            63 % učitelj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drška obitelji i bliskih osoba                   95% učitel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Činitelji koji najviše smanjuju entuzijazam i radni mo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eveliko radno opterećenje                        68% učite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primjereno učeničko ponašanje               67% učite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odgovarajuća podrška vodstva                 58% učitel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20000"/>
                </a:solidFill>
                <a:latin typeface="Times New Roman"/>
              </a:rPr>
              <a:t>Činitelji početničke faze</a:t>
            </a:r>
            <a:r>
              <a:rPr b="0" lang="hr-HR" sz="3200" spc="-1" strike="noStrike">
                <a:solidFill>
                  <a:srgbClr val="420000"/>
                </a:solidFill>
                <a:latin typeface="Times New Roman"/>
              </a:rPr>
              <a:t> (0-3 g.)</a:t>
            </a:r>
            <a:br>
              <a:rPr sz="3200"/>
            </a:br>
            <a:r>
              <a:rPr b="0" lang="hr-HR" sz="3200" spc="-1" strike="noStrike">
                <a:solidFill>
                  <a:srgbClr val="420000"/>
                </a:solidFill>
                <a:latin typeface="Times New Roman"/>
              </a:rPr>
              <a:t>     Vitae projekt   </a:t>
            </a:r>
            <a:r>
              <a:rPr b="0" lang="hr-HR" sz="2000" spc="-1" strike="noStrike">
                <a:solidFill>
                  <a:srgbClr val="420000"/>
                </a:solidFill>
                <a:latin typeface="Times New Roman"/>
              </a:rPr>
              <a:t>(Day i sur. (20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itelji  u kategoriji «</a:t>
            </a:r>
            <a:r>
              <a:rPr b="0" lang="hr-HR" sz="2800" spc="-1" strike="noStrike">
                <a:solidFill>
                  <a:srgbClr val="ff3300"/>
                </a:solidFill>
                <a:latin typeface="Times New Roman"/>
              </a:rPr>
              <a:t>uspješan početak karijere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»  kao važan poticajne činitelje navode motivirane učenike i podršku školske uprave te mogućnost stručnog usavršavanj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čitelji u kategoriji «</a:t>
            </a:r>
            <a:r>
              <a:rPr b="0" lang="hr-HR" sz="2800" spc="-1" strike="noStrike">
                <a:solidFill>
                  <a:srgbClr val="ff3300"/>
                </a:solidFill>
                <a:latin typeface="Times New Roman"/>
              </a:rPr>
              <a:t>težak početak karijere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» kao otegotne okolnosti navode  izostanak brige kolega i školske uprave, nejasnu politiku škole (ciljeve, pravila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ao najveći izazov ili problem obje skupine vide u </a:t>
            </a:r>
            <a:r>
              <a:rPr b="0" lang="hr-HR" sz="2800" spc="-1" strike="noStrike">
                <a:solidFill>
                  <a:srgbClr val="ff3300"/>
                </a:solidFill>
                <a:latin typeface="Times New Roman"/>
              </a:rPr>
              <a:t>neprimjerenom učenikom ponašanju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2205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20000"/>
                </a:solidFill>
                <a:latin typeface="Times New Roman"/>
              </a:rPr>
              <a:t>TEMELJNI ZADACI ZA UČITELJE/NASTAVNIKE  U POJEDINIM FAZAMA PROFESIONALNOG RAZVOJA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20000"/>
                </a:solidFill>
                <a:latin typeface="Times New Roman"/>
              </a:rPr>
              <a:t>Temeljni zadaci inicijalnog obrazovanj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uočavanje studenata s njihovim slikama i uvjerenjima o učenju i pouč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azvijanje dubinskog razumijevanja o prirodi pojedinih predm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azvijanje dubinskog razumijevanja procesa učenja i dinamičkih razvojnih obilježja samih uče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tjecanje temeljnih nastavničkih vj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tjecanje kompetencija za proučavanje procesa pouč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20000"/>
                </a:solidFill>
                <a:latin typeface="Times New Roman"/>
              </a:rPr>
              <a:t>Pristupi učenju i poučavanju tijekom inicijalnog obrazovanj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ocijalni konstruktiviz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hr-HR" sz="3200" spc="-1" strike="noStrike">
                <a:solidFill>
                  <a:srgbClr val="ff0000"/>
                </a:solidFill>
                <a:latin typeface="Times New Roman"/>
              </a:rPr>
              <a:t>aktivno uč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hr-HR" sz="3200" spc="-1" strike="noStrike">
                <a:solidFill>
                  <a:srgbClr val="ff0000"/>
                </a:solidFill>
                <a:latin typeface="Times New Roman"/>
              </a:rPr>
              <a:t>učitelj kao poticatelj u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ognitivistički modeli obrade informacija i dubine proces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hr-HR" sz="3200" spc="-1" strike="noStrike">
                <a:solidFill>
                  <a:srgbClr val="ff0000"/>
                </a:solidFill>
                <a:latin typeface="Times New Roman"/>
              </a:rPr>
              <a:t>kritičko mišljen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(J. Piaget, L. Vigotski, F. Per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6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00"/>
                </a:solidFill>
                <a:latin typeface="Times New Roman"/>
              </a:rPr>
              <a:t>Ključna pitanja</a:t>
            </a:r>
            <a:r>
              <a:rPr b="0" lang="hr-HR" sz="36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fesionalna kompetencija: početnici i eksper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oraci od početnika do eksp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Činitelji profesionalnog razvo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ljučni zadaci u postizanju nastavničke ekspert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istupi učenju najprimjereniji pojedinom razdoblju profesionalnog razv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20000"/>
                </a:solidFill>
                <a:latin typeface="Times New Roman"/>
              </a:rPr>
              <a:t>Temeljni zadaci tijekom uvođenja </a:t>
            </a:r>
            <a:br>
              <a:rPr sz="4000"/>
            </a:br>
            <a:r>
              <a:rPr b="0" lang="hr-HR" sz="4000" spc="-1" strike="noStrike">
                <a:solidFill>
                  <a:srgbClr val="420000"/>
                </a:solidFill>
                <a:latin typeface="Times New Roman"/>
              </a:rPr>
              <a:t>                                        </a:t>
            </a:r>
            <a:r>
              <a:rPr b="0" lang="hr-HR" sz="20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lang="hr-HR" sz="2400" spc="-1" strike="noStrike">
                <a:solidFill>
                  <a:srgbClr val="420000"/>
                </a:solidFill>
                <a:latin typeface="Times New Roman"/>
              </a:rPr>
              <a:t>Feiman-Nemser, 2001)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jecanje znanja o učenicima, kurikulumu i kontekstu šk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vijanje mogućnosti prilagodbe kurikuluma p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vojnim potrebama uče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jecanje sposobnosti za izbor i primjenu prikladn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rategija i metoda pouča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1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jecanje kompetencija za upravljanje razredom i kreir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redne klime u duhu zajednice koja uč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rađenje profesionalnog identit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oštravanje refleksivnih sposobnosti o sebi, okruženju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hodima svojih akti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20000"/>
                </a:solidFill>
                <a:latin typeface="Times New Roman"/>
              </a:rPr>
              <a:t>Pristupi učenju i poučavanju tijekom uvođenja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255600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Situirano učenje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3200" spc="-1" strike="noStrike">
                <a:solidFill>
                  <a:srgbClr val="ff3300"/>
                </a:solidFill>
                <a:latin typeface="Times New Roman"/>
              </a:rPr>
              <a:t>škola kao zajednica koja u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Kognitivno naukovanje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3200" spc="-1" strike="noStrike">
                <a:solidFill>
                  <a:srgbClr val="ff3300"/>
                </a:solidFill>
                <a:latin typeface="Times New Roman"/>
              </a:rPr>
              <a:t>mentor kao model refleksivnog praktič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0" lang="hr-HR" sz="4000" spc="-1" strike="noStrike">
                <a:solidFill>
                  <a:srgbClr val="420000"/>
                </a:solidFill>
                <a:latin typeface="Times New Roman"/>
              </a:rPr>
              <a:t>Situirano učenje</a:t>
            </a:r>
            <a:r>
              <a:rPr b="0" lang="hr-HR" sz="3600" spc="-1" strike="noStrike">
                <a:solidFill>
                  <a:srgbClr val="420000"/>
                </a:solidFill>
                <a:latin typeface="Times New Roman"/>
              </a:rPr>
              <a:t>  </a:t>
            </a:r>
            <a:br>
              <a:rPr sz="3600"/>
            </a:br>
            <a:r>
              <a:rPr b="0" lang="hr-HR" sz="4000" spc="-1" strike="noStrike">
                <a:solidFill>
                  <a:srgbClr val="420000"/>
                </a:solidFill>
                <a:latin typeface="Times New Roman"/>
              </a:rPr>
              <a:t>                                           </a:t>
            </a:r>
            <a:r>
              <a:rPr b="0" lang="hr-HR" sz="2000" spc="-1" strike="noStrike">
                <a:solidFill>
                  <a:srgbClr val="420000"/>
                </a:solidFill>
                <a:latin typeface="Times New Roman"/>
              </a:rPr>
              <a:t>(Lave i Wenger , 1991)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emeljno je na </a:t>
            </a:r>
            <a:r>
              <a:rPr b="1" i="1" lang="hr-HR" sz="2400" spc="-1" strike="noStrike">
                <a:solidFill>
                  <a:srgbClr val="ff3300"/>
                </a:solidFill>
                <a:latin typeface="Times New Roman"/>
              </a:rPr>
              <a:t>autentičnim aktivnostim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koje se odvijaju svakodnevnim situ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ezultat  je </a:t>
            </a:r>
            <a:r>
              <a:rPr b="1" i="1" lang="hr-HR" sz="2400" spc="-1" strike="noStrike">
                <a:solidFill>
                  <a:srgbClr val="ff3300"/>
                </a:solidFill>
                <a:latin typeface="Times New Roman"/>
              </a:rPr>
              <a:t>aktivnosti i</a:t>
            </a:r>
            <a:r>
              <a:rPr b="1" lang="hr-H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hr-HR" sz="2400" spc="-1" strike="noStrike">
                <a:solidFill>
                  <a:srgbClr val="ff3300"/>
                </a:solidFill>
                <a:latin typeface="Times New Roman"/>
              </a:rPr>
              <a:t>neposrednog iskustv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tako da se znanja lako prenose u slične situ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sljedica je  </a:t>
            </a:r>
            <a:r>
              <a:rPr b="1" i="1" lang="hr-HR" sz="2400" spc="-1" strike="noStrike">
                <a:solidFill>
                  <a:srgbClr val="ff3300"/>
                </a:solidFill>
                <a:latin typeface="Times New Roman"/>
              </a:rPr>
              <a:t>psihosocijalnih proces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 promatranja, refleksije, rješavanja problema, uviđanja i povezivanja s prethodno stečenim znanjima, pregovaranj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mješteno je u </a:t>
            </a:r>
            <a:r>
              <a:rPr b="1" i="1" lang="hr-HR" sz="2400" spc="-1" strike="noStrike">
                <a:solidFill>
                  <a:srgbClr val="ff3300"/>
                </a:solidFill>
                <a:latin typeface="Times New Roman"/>
              </a:rPr>
              <a:t>kompleksnom socijalnom okruženj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u kojem se isprepliću različiti akteri, aktivnosti i situ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240" indent="-24624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oprinosi  </a:t>
            </a:r>
            <a:r>
              <a:rPr b="1" i="1" lang="hr-HR" sz="2400" spc="-1" strike="noStrike">
                <a:solidFill>
                  <a:srgbClr val="ff3300"/>
                </a:solidFill>
                <a:latin typeface="Times New Roman"/>
              </a:rPr>
              <a:t>socijalizaciji pojedinc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u specifičnu organizacijsku kultu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0" lang="hr-HR" sz="4000" spc="-1" strike="noStrike">
                <a:solidFill>
                  <a:srgbClr val="993300"/>
                </a:solidFill>
                <a:latin typeface="Times New Roman"/>
              </a:rPr>
              <a:t>Kognitivno naukovanje </a:t>
            </a:r>
            <a:br>
              <a:rPr sz="4000"/>
            </a:br>
            <a:r>
              <a:rPr b="0" lang="hr-HR" sz="4000" spc="-1" strike="noStrike">
                <a:solidFill>
                  <a:srgbClr val="420000"/>
                </a:solidFill>
                <a:latin typeface="Times New Roman"/>
              </a:rPr>
              <a:t>                                              </a:t>
            </a:r>
            <a:r>
              <a:rPr b="0" lang="hr-HR" sz="2000" spc="-1" strike="noStrike">
                <a:solidFill>
                  <a:srgbClr val="420000"/>
                </a:solidFill>
                <a:latin typeface="Times New Roman"/>
              </a:rPr>
              <a:t>(Collins i sur.1989)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35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ključu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3300"/>
                </a:solidFill>
                <a:latin typeface="Times New Roman"/>
              </a:rPr>
              <a:t>demonstraciju i objašnjavanje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oželjnog ponaš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3300"/>
                </a:solidFill>
                <a:latin typeface="Times New Roman"/>
              </a:rPr>
              <a:t>savjetovanje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ko prevladavanja teškoća uz upotrebu konstruktivnih povratnih informacija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3300"/>
                </a:solidFill>
                <a:latin typeface="Times New Roman"/>
              </a:rPr>
              <a:t>poticanje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 svladavanje složenijih zadataka  postavljanjem realističnih ciljeva i  jasnih očeki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3300"/>
                </a:solidFill>
                <a:latin typeface="Times New Roman"/>
              </a:rPr>
              <a:t>artikulaciju</a:t>
            </a:r>
            <a:r>
              <a:rPr b="1" lang="hr-H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deja i njihova provjera u dijalogu s drug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3300"/>
                </a:solidFill>
                <a:latin typeface="Times New Roman"/>
              </a:rPr>
              <a:t>refleksij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kroz dekonstrukciju  vlastite aktivnosti kako bi se uočili izvori teškoća i načini poboljš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3300"/>
                </a:solidFill>
                <a:latin typeface="Times New Roman"/>
              </a:rPr>
              <a:t>akcijsko istraživan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koje polazi od formulacije problema i postavljanja hipoteza iza kojeg slijedi sustavno opažanje procesa i ishoda u kojem je učitelj  ujedno i opažač i sudio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20000"/>
                </a:solidFill>
                <a:latin typeface="Times New Roman"/>
              </a:rPr>
              <a:t>Ciljevi podrške početnicim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1484280"/>
          <a:ext cx="8785440" cy="500868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obna podrš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jalna podrš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esionalna podrš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5040">
                <a:tc>
                  <a:txBody>
                    <a:bodyPr lIns="90000" rIns="90000" anchor="t">
                      <a:noAutofit/>
                    </a:bodyPr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zvoj učiteljskog identite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icanje refleksij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čanje samopoštovan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manjenje stresa i anksioznost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čanje motivacije za poučavanj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tanak u zanimanj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jalizacija u okruženju i zanimanj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icanje kolegijal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adnj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icanje kolaborativnog učen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icanje stvaran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jednice koja uč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26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ezivanje inicijalnog obrazovanja s trajnim profesionalnim razvoj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ts val="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26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26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pređenje postojećih i stjecanje novih kompetenci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4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26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26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zvoj profesionalizma kod budućih učitel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64960" indent="-264960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26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3300"/>
                </a:solidFill>
                <a:latin typeface="Times New Roman"/>
              </a:rPr>
              <a:t>Temeljni zadaci trajnog profesionalnog razvoj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širenje i usavršavanje repertoara nastavničkih postupaka usmjerenih prema učeni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ticanje jačanja vlastitih kapaciteta i vještina za dalje uč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Širenje odgovornosti i poticanje preuzimanja liderske uloge u kolekti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93300"/>
                </a:solidFill>
                <a:latin typeface="Times New Roman"/>
              </a:rPr>
              <a:t>Pristupi učenju i poučavanju tijekom trajnog profesionalnog razvoja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Samoregulirano učen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hr-HR" sz="3200" spc="-1" strike="noStrike">
                <a:solidFill>
                  <a:srgbClr val="ff0a0a"/>
                </a:solidFill>
                <a:latin typeface="Times New Roman"/>
              </a:rPr>
              <a:t>regulacija motivacije, kognicije i oko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a0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Iskustveno uč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hr-HR" sz="3200" spc="-1" strike="noStrike">
                <a:solidFill>
                  <a:srgbClr val="ff0000"/>
                </a:solidFill>
                <a:latin typeface="Times New Roman"/>
              </a:rPr>
              <a:t>refleksivna prak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(R. Pintrich, D. Kolb, D. Sch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4"/>
          <p:cNvSpPr/>
          <p:nvPr/>
        </p:nvSpPr>
        <p:spPr>
          <a:xfrm>
            <a:off x="539640" y="2298600"/>
            <a:ext cx="7632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20000"/>
                </a:solidFill>
                <a:latin typeface="Arial"/>
              </a:rPr>
              <a:t>    </a:t>
            </a:r>
            <a:r>
              <a:rPr b="0" lang="hr-HR" sz="3200" spc="-1" strike="noStrike">
                <a:solidFill>
                  <a:srgbClr val="993300"/>
                </a:solidFill>
                <a:latin typeface="Times New Roman"/>
              </a:rPr>
              <a:t>Model samoregulacije učenja</a:t>
            </a:r>
            <a:r>
              <a:rPr b="0" lang="hr-HR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20000"/>
                </a:solidFill>
                <a:latin typeface="Arial"/>
              </a:rPr>
              <a:t>                                                  </a:t>
            </a:r>
            <a:r>
              <a:rPr b="0" i="1" lang="hr-HR" sz="1800" spc="-1" strike="noStrike">
                <a:solidFill>
                  <a:srgbClr val="420000"/>
                </a:solidFill>
                <a:latin typeface="Arial"/>
              </a:rPr>
              <a:t>(</a:t>
            </a:r>
            <a:r>
              <a:rPr b="0" i="1" lang="hr-HR" sz="1800" spc="-1" strike="noStrike">
                <a:solidFill>
                  <a:srgbClr val="420000"/>
                </a:solidFill>
                <a:latin typeface="Times New Roman"/>
              </a:rPr>
              <a:t>Pintrich i sur. 199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79280" y="0"/>
          <a:ext cx="8425080" cy="6630840"/>
        </p:xfrm>
        <a:graphic>
          <a:graphicData uri="http://schemas.openxmlformats.org/drawingml/2006/table">
            <a:tbl>
              <a:tblPr/>
              <a:tblGrid>
                <a:gridCol w="1546200"/>
                <a:gridCol w="1851120"/>
                <a:gridCol w="1700280"/>
                <a:gridCol w="1698480"/>
                <a:gridCol w="1629000"/>
              </a:tblGrid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420000"/>
                          </a:solidFill>
                          <a:latin typeface="Tahoma"/>
                        </a:rPr>
                        <a:t>    </a:t>
                      </a:r>
                      <a:r>
                        <a:rPr b="1" lang="hr-HR" sz="2400" spc="-1" strike="noStrike">
                          <a:solidFill>
                            <a:srgbClr val="420000"/>
                          </a:solidFill>
                          <a:latin typeface="Tahoma"/>
                        </a:rPr>
                        <a:t>FA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420000"/>
                          </a:solidFill>
                          <a:latin typeface="Tahoma"/>
                        </a:rPr>
                        <a:t>PODRUČ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Kognicij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otivacija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onašanj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Kontek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Planiranje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aktiva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 postavljanje cilje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 aktivacija prethodnog znanja i metakogn. zn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ciljne orijent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996633"/>
                        </a:buClr>
                        <a:buSzPct val="80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procjene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fikas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996633"/>
                        </a:buClr>
                        <a:buSzPct val="80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 percepcija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rijednosti za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6633"/>
                        </a:buClr>
                        <a:buSzPct val="80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planiranje truda i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996633"/>
                        </a:buClr>
                        <a:buSzPct val="80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reme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996633"/>
                        </a:buClr>
                        <a:buSzPct val="80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planiranje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amoopaž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percepcija zadat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 percepcija kontek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Nadgleda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6633"/>
                        </a:buClr>
                        <a:buSzPct val="80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takognitivna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vjesnost 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dgled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6633"/>
                        </a:buClr>
                        <a:buSzPct val="80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svijest 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dgledanj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6633"/>
                        </a:buClr>
                        <a:buSzPct val="80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vijest o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dgledanju tr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samoopaž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 nadgledanje teških zadataka i okolinskih uvj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16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Kontro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indent="-9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odabir i prilagodba kognitivnih strategija uče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 odabir i prilagodba strategija upravljanja motivacij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 indent="-181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 povećanje/ smanjenje tr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 traženje pomoć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1080" indent="-181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odustaj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996633"/>
                        </a:buClr>
                        <a:buSzPct val="80000"/>
                        <a:buFont typeface="Arial Narro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promjena zadat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li uvj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Reakcija i refleks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a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kognitivne procj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afektivne re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izbor ponaš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 evaluacija zadatka i kontek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>
                      <a:noFill/>
                    </a:lnR>
                    <a:lnT w="5760">
                      <a:solidFill>
                        <a:srgbClr val="800000"/>
                      </a:solidFill>
                    </a:lnT>
                    <a:lnB>
                      <a:noFill/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9528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93300"/>
                </a:solidFill>
                <a:latin typeface="Times New Roman"/>
              </a:rPr>
              <a:t>Teorija iskustvenog učenja</a:t>
            </a:r>
            <a:r>
              <a:rPr b="0" lang="hr-HR" sz="32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hr-HR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hr-HR" sz="4000" spc="-1" strike="noStrike">
                <a:solidFill>
                  <a:srgbClr val="000066"/>
                </a:solidFill>
                <a:latin typeface="Times New Roman"/>
              </a:rPr>
              <a:t>                   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www. learningfromexperienc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38200" y="1844640"/>
            <a:ext cx="86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kustveno učenje je proces u kojem se znanje postiže transformacijom informacija kroz iskustvo. Znanje je rezultat  </a:t>
            </a:r>
            <a:r>
              <a:rPr b="0" lang="hr-HR" sz="2400" spc="-1" strike="noStrike">
                <a:solidFill>
                  <a:srgbClr val="ff0000"/>
                </a:solidFill>
                <a:latin typeface="Times New Roman"/>
              </a:rPr>
              <a:t>načina pristupa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formacijama i </a:t>
            </a:r>
            <a:r>
              <a:rPr b="0" lang="hr-HR" sz="2400" spc="-1" strike="noStrike">
                <a:solidFill>
                  <a:srgbClr val="ff0000"/>
                </a:solidFill>
                <a:latin typeface="Times New Roman"/>
              </a:rPr>
              <a:t>načina transformacij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formacija.”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</a:rPr>
              <a:t>(Kolb, 1984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692360" y="3789360"/>
            <a:ext cx="6480000" cy="137376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1.Načini pristupa informacija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Times New Roman"/>
              </a:rPr>
              <a:t>konkretno iskustvo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0" lang="hr-HR" sz="2400" spc="-1" strike="noStrike">
                <a:solidFill>
                  <a:srgbClr val="ff0000"/>
                </a:solidFill>
                <a:latin typeface="Times New Roman"/>
              </a:rPr>
              <a:t>apstraktno razmišlj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627280" y="501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692360" y="5040360"/>
            <a:ext cx="6480000" cy="155700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2.Načini transformacije informaci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70c0"/>
                </a:solidFill>
                <a:latin typeface="Times New Roman"/>
              </a:rPr>
              <a:t>reflektivno promatranj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hr-HR" sz="2400" spc="-1" strike="noStrike">
                <a:solidFill>
                  <a:srgbClr val="ff0000"/>
                </a:solidFill>
                <a:latin typeface="Times New Roman"/>
              </a:rPr>
              <a:t>aktivno eksperimentir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3300"/>
                </a:solidFill>
                <a:latin typeface="Times New Roman"/>
              </a:rPr>
              <a:t>Pitanje  za Vas 1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229600" cy="21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 čemu možete prepoznati je li netko početnik ili stručnjak  u nekom područj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4360" y="620640"/>
            <a:ext cx="7920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3300"/>
                </a:solidFill>
                <a:latin typeface="Times New Roman"/>
              </a:rPr>
              <a:t>Pretpostavke teorije iskustvenog u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468360" y="1916280"/>
            <a:ext cx="8207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8360" indent="-468360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je je proces kontinuirane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transformaci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kus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ako učenje uključuje i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preispitivan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eć naučen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je je stalno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osciliran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među polova dimenzija:  doživljaja    i razmišljanja, refleksije i a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je je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holističk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daptivni proces koji uključuje cijelu oso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enje je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transakcijsk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ces između osobe i ok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8360" indent="-468360">
              <a:lnSpc>
                <a:spcPct val="100000"/>
              </a:lnSpc>
              <a:spcBef>
                <a:spcPts val="11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shod učenja  su </a:t>
            </a: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konstrukci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obne spoznaje o svij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157840" y="549360"/>
            <a:ext cx="44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3300"/>
                </a:solidFill>
                <a:latin typeface="Times New Roman"/>
              </a:rPr>
              <a:t>Ciklus iskustvenog u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3851280" y="1268280"/>
            <a:ext cx="1728720" cy="9874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konkret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iskust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6588000" y="3141720"/>
            <a:ext cx="1729080" cy="914400"/>
          </a:xfrm>
          <a:prstGeom prst="ellipse">
            <a:avLst/>
          </a:prstGeom>
          <a:solidFill>
            <a:srgbClr val="ff0a0a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refleksiv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promatr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900000" y="3068640"/>
            <a:ext cx="1943280" cy="9144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aktiv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eksperimentir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3851280" y="5229360"/>
            <a:ext cx="1800360" cy="9144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apstrakt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razmišlj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5"/>
          <p:cNvSpPr/>
          <p:nvPr/>
        </p:nvSpPr>
        <p:spPr>
          <a:xfrm>
            <a:off x="5364000" y="1628640"/>
            <a:ext cx="2303640" cy="1800360"/>
          </a:xfrm>
          <a:custGeom>
            <a:avLst/>
            <a:gdLst>
              <a:gd name="textAreaLeft" fmla="*/ 337320 w 2303640"/>
              <a:gd name="textAreaRight" fmla="*/ 1966320 w 2303640"/>
              <a:gd name="textAreaTop" fmla="*/ 263520 h 1800360"/>
              <a:gd name="textAreaBottom" fmla="*/ 1536840 h 1800360"/>
            </a:gdLst>
            <a:ahLst/>
            <a:rect l="textAreaLeft" t="textAreaTop" r="textAreaRight" b="textAreaBottom"/>
            <a:pathLst>
              <a:path w="21600" h="21600">
                <a:moveTo>
                  <a:pt x="19722" y="11831"/>
                </a:moveTo>
                <a:cubicBezTo>
                  <a:pt x="19762" y="11489"/>
                  <a:pt x="19782" y="11144"/>
                  <a:pt x="19782" y="10800"/>
                </a:cubicBezTo>
                <a:cubicBezTo>
                  <a:pt x="19782" y="5839"/>
                  <a:pt x="15760" y="1818"/>
                  <a:pt x="10800" y="1818"/>
                </a:cubicBezTo>
                <a:cubicBezTo>
                  <a:pt x="9211" y="1817"/>
                  <a:pt x="7651" y="2239"/>
                  <a:pt x="6278" y="3038"/>
                </a:cubicBezTo>
                <a:lnTo>
                  <a:pt x="5363" y="1468"/>
                </a:lnTo>
                <a:cubicBezTo>
                  <a:pt x="7013" y="506"/>
                  <a:pt x="888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14"/>
                  <a:pt x="21576" y="11628"/>
                  <a:pt x="21528" y="12040"/>
                </a:cubicBezTo>
                <a:lnTo>
                  <a:pt x="24210" y="12351"/>
                </a:lnTo>
                <a:lnTo>
                  <a:pt x="20210" y="15521"/>
                </a:lnTo>
                <a:lnTo>
                  <a:pt x="17040" y="11521"/>
                </a:lnTo>
                <a:lnTo>
                  <a:pt x="19722" y="11831"/>
                </a:lnTo>
                <a:close/>
              </a:path>
            </a:pathLst>
          </a:cu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7"/>
          <p:cNvSpPr/>
          <p:nvPr/>
        </p:nvSpPr>
        <p:spPr>
          <a:xfrm rot="6171600">
            <a:off x="5615640" y="3464640"/>
            <a:ext cx="2305080" cy="2233440"/>
          </a:xfrm>
          <a:custGeom>
            <a:avLst/>
            <a:gdLst>
              <a:gd name="textAreaLeft" fmla="*/ 337320 w 2305080"/>
              <a:gd name="textAreaRight" fmla="*/ 1967760 w 2305080"/>
              <a:gd name="textAreaTop" fmla="*/ 326880 h 2233440"/>
              <a:gd name="textAreaBottom" fmla="*/ 1906560 h 2233440"/>
            </a:gdLst>
            <a:ahLst/>
            <a:rect l="textAreaLeft" t="textAreaTop" r="textAreaRight" b="textAreaBottom"/>
            <a:pathLst>
              <a:path w="21600" h="21600">
                <a:moveTo>
                  <a:pt x="19722" y="11831"/>
                </a:moveTo>
                <a:cubicBezTo>
                  <a:pt x="19762" y="11489"/>
                  <a:pt x="19782" y="11144"/>
                  <a:pt x="19782" y="10800"/>
                </a:cubicBezTo>
                <a:cubicBezTo>
                  <a:pt x="19782" y="5839"/>
                  <a:pt x="15760" y="1818"/>
                  <a:pt x="10800" y="1818"/>
                </a:cubicBezTo>
                <a:cubicBezTo>
                  <a:pt x="9647" y="1817"/>
                  <a:pt x="8504" y="2039"/>
                  <a:pt x="7435" y="2471"/>
                </a:cubicBezTo>
                <a:lnTo>
                  <a:pt x="6754" y="786"/>
                </a:lnTo>
                <a:cubicBezTo>
                  <a:pt x="8040" y="266"/>
                  <a:pt x="941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14"/>
                  <a:pt x="21576" y="11628"/>
                  <a:pt x="21528" y="12040"/>
                </a:cubicBezTo>
                <a:lnTo>
                  <a:pt x="24210" y="12351"/>
                </a:lnTo>
                <a:lnTo>
                  <a:pt x="20210" y="15521"/>
                </a:lnTo>
                <a:lnTo>
                  <a:pt x="17040" y="11521"/>
                </a:lnTo>
                <a:lnTo>
                  <a:pt x="19722" y="11831"/>
                </a:lnTo>
                <a:close/>
              </a:path>
            </a:pathLst>
          </a:custGeom>
          <a:gradFill rotWithShape="0">
            <a:gsLst>
              <a:gs pos="0">
                <a:srgbClr val="471800"/>
              </a:gs>
              <a:gs pos="100000">
                <a:srgbClr val="993300"/>
              </a:gs>
            </a:gsLst>
            <a:lin ang="208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8"/>
          <p:cNvSpPr/>
          <p:nvPr/>
        </p:nvSpPr>
        <p:spPr>
          <a:xfrm rot="11181000">
            <a:off x="1618920" y="3789360"/>
            <a:ext cx="2448000" cy="2016000"/>
          </a:xfrm>
          <a:custGeom>
            <a:avLst/>
            <a:gdLst>
              <a:gd name="textAreaLeft" fmla="*/ 358200 w 2448000"/>
              <a:gd name="textAreaRight" fmla="*/ 2089800 w 2448000"/>
              <a:gd name="textAreaTop" fmla="*/ 295200 h 2016000"/>
              <a:gd name="textAreaBottom" fmla="*/ 1720800 h 2016000"/>
            </a:gdLst>
            <a:ahLst/>
            <a:rect l="textAreaLeft" t="textAreaTop" r="textAreaRight" b="textAreaBottom"/>
            <a:pathLst>
              <a:path w="21600" h="21600">
                <a:moveTo>
                  <a:pt x="19722" y="11831"/>
                </a:moveTo>
                <a:cubicBezTo>
                  <a:pt x="19762" y="11489"/>
                  <a:pt x="19782" y="11144"/>
                  <a:pt x="19782" y="10800"/>
                </a:cubicBezTo>
                <a:cubicBezTo>
                  <a:pt x="19782" y="5839"/>
                  <a:pt x="15760" y="1818"/>
                  <a:pt x="10800" y="1818"/>
                </a:cubicBezTo>
                <a:cubicBezTo>
                  <a:pt x="9211" y="1817"/>
                  <a:pt x="7651" y="2239"/>
                  <a:pt x="6278" y="3038"/>
                </a:cubicBezTo>
                <a:lnTo>
                  <a:pt x="5363" y="1468"/>
                </a:lnTo>
                <a:cubicBezTo>
                  <a:pt x="7013" y="506"/>
                  <a:pt x="8889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14"/>
                  <a:pt x="21576" y="11628"/>
                  <a:pt x="21528" y="12040"/>
                </a:cubicBezTo>
                <a:lnTo>
                  <a:pt x="24210" y="12351"/>
                </a:lnTo>
                <a:lnTo>
                  <a:pt x="20210" y="15521"/>
                </a:lnTo>
                <a:lnTo>
                  <a:pt x="17040" y="11521"/>
                </a:lnTo>
                <a:lnTo>
                  <a:pt x="19722" y="11831"/>
                </a:lnTo>
                <a:close/>
              </a:path>
            </a:pathLst>
          </a:custGeom>
          <a:gradFill rotWithShape="0">
            <a:gsLst>
              <a:gs pos="0">
                <a:srgbClr val="002f76"/>
              </a:gs>
              <a:gs pos="100000">
                <a:srgbClr val="0066ff"/>
              </a:gs>
            </a:gsLst>
            <a:lin ang="1582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0"/>
          <p:cNvSpPr/>
          <p:nvPr/>
        </p:nvSpPr>
        <p:spPr>
          <a:xfrm rot="17142600">
            <a:off x="1727640" y="1663920"/>
            <a:ext cx="2305080" cy="2233800"/>
          </a:xfrm>
          <a:custGeom>
            <a:avLst/>
            <a:gdLst>
              <a:gd name="textAreaLeft" fmla="*/ 337320 w 2305080"/>
              <a:gd name="textAreaRight" fmla="*/ 1967760 w 2305080"/>
              <a:gd name="textAreaTop" fmla="*/ 326880 h 2233800"/>
              <a:gd name="textAreaBottom" fmla="*/ 1906920 h 2233800"/>
            </a:gdLst>
            <a:ahLst/>
            <a:rect l="textAreaLeft" t="textAreaTop" r="textAreaRight" b="textAreaBottom"/>
            <a:pathLst>
              <a:path w="21600" h="21600">
                <a:moveTo>
                  <a:pt x="19722" y="11831"/>
                </a:moveTo>
                <a:cubicBezTo>
                  <a:pt x="19762" y="11489"/>
                  <a:pt x="19782" y="11144"/>
                  <a:pt x="19782" y="10800"/>
                </a:cubicBezTo>
                <a:cubicBezTo>
                  <a:pt x="19782" y="5839"/>
                  <a:pt x="15760" y="1818"/>
                  <a:pt x="10800" y="1818"/>
                </a:cubicBezTo>
                <a:cubicBezTo>
                  <a:pt x="9647" y="1817"/>
                  <a:pt x="8504" y="2039"/>
                  <a:pt x="7435" y="2471"/>
                </a:cubicBezTo>
                <a:lnTo>
                  <a:pt x="6754" y="786"/>
                </a:lnTo>
                <a:cubicBezTo>
                  <a:pt x="8040" y="266"/>
                  <a:pt x="941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14"/>
                  <a:pt x="21576" y="11628"/>
                  <a:pt x="21528" y="12040"/>
                </a:cubicBezTo>
                <a:lnTo>
                  <a:pt x="24210" y="12351"/>
                </a:lnTo>
                <a:lnTo>
                  <a:pt x="20210" y="15521"/>
                </a:lnTo>
                <a:lnTo>
                  <a:pt x="17040" y="11521"/>
                </a:lnTo>
                <a:lnTo>
                  <a:pt x="19722" y="11831"/>
                </a:lnTo>
                <a:close/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9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4788000" y="2421000"/>
            <a:ext cx="0" cy="2592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2987640" y="357336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3635280" y="3357720"/>
            <a:ext cx="244944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t r a n s f o r m a c i j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informacija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395280" y="907920"/>
            <a:ext cx="297000" cy="520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755640" y="404640"/>
            <a:ext cx="748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r-HR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hr-HR" sz="4000" spc="-1" strike="noStrike">
                <a:solidFill>
                  <a:srgbClr val="993300"/>
                </a:solidFill>
                <a:latin typeface="Times New Roman"/>
              </a:rPr>
              <a:t>Razine refleksi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2268360" y="3860640"/>
            <a:ext cx="2087640" cy="936720"/>
          </a:xfrm>
          <a:prstGeom prst="ellipse">
            <a:avLst/>
          </a:prstGeom>
          <a:solidFill>
            <a:srgbClr val="ff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932360" y="4240080"/>
            <a:ext cx="5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916360" y="3933720"/>
            <a:ext cx="136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n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 ak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11"/>
          <p:cNvSpPr/>
          <p:nvPr/>
        </p:nvSpPr>
        <p:spPr>
          <a:xfrm>
            <a:off x="2268360" y="3716280"/>
            <a:ext cx="316728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4211640" y="400536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Times New Roman"/>
              </a:rPr>
              <a:t>refleks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00"/>
                </a:solidFill>
                <a:latin typeface="Times New Roman"/>
              </a:rPr>
              <a:t>u ak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13"/>
          <p:cNvSpPr/>
          <p:nvPr/>
        </p:nvSpPr>
        <p:spPr>
          <a:xfrm>
            <a:off x="826920" y="3933720"/>
            <a:ext cx="158436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900000" y="40528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3300"/>
                </a:solidFill>
                <a:latin typeface="Times New Roman"/>
              </a:rPr>
              <a:t>refleks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3300"/>
                </a:solidFill>
                <a:latin typeface="Times New Roman"/>
              </a:rPr>
              <a:t>prije a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684360" y="1844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amoaktivnosti dovodi do značajnog učenja samo ako uključuje  najviše razine refleksije</a:t>
            </a:r>
            <a:r>
              <a:rPr b="0" lang="hr-HR" sz="2400" spc="-1" strike="noStrike">
                <a:solidFill>
                  <a:srgbClr val="999966"/>
                </a:solidFill>
                <a:latin typeface="Times New Roman"/>
              </a:rPr>
              <a:t>.”                 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(Schon, 198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6"/>
          <p:cNvSpPr/>
          <p:nvPr/>
        </p:nvSpPr>
        <p:spPr>
          <a:xfrm>
            <a:off x="2268360" y="3645000"/>
            <a:ext cx="4319640" cy="143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5365800" y="4005360"/>
            <a:ext cx="126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9933"/>
                </a:solidFill>
                <a:latin typeface="Times New Roman"/>
              </a:rPr>
              <a:t>refleks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9933"/>
                </a:solidFill>
                <a:latin typeface="Times New Roman"/>
              </a:rPr>
              <a:t>o ak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8"/>
          <p:cNvSpPr/>
          <p:nvPr/>
        </p:nvSpPr>
        <p:spPr>
          <a:xfrm>
            <a:off x="2268360" y="3429000"/>
            <a:ext cx="5975640" cy="18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6711480" y="3979800"/>
            <a:ext cx="13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99"/>
                </a:solidFill>
                <a:latin typeface="Times New Roman"/>
              </a:rPr>
              <a:t>refleks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99"/>
                </a:solidFill>
                <a:latin typeface="Times New Roman"/>
              </a:rPr>
              <a:t>o refleks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107000" y="6113520"/>
            <a:ext cx="59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D.Schon (1983): Reflective practitioner, London, Temple Sof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2268360" y="3933720"/>
            <a:ext cx="1152720" cy="79056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Narrow"/>
              </a:rPr>
              <a:t>ak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276640"/>
            <a:ext cx="7201080" cy="23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0" spc="-1" strike="noStrike">
                <a:solidFill>
                  <a:srgbClr val="993300"/>
                </a:solidFill>
                <a:latin typeface="Times New Roman"/>
                <a:ea typeface="Arial"/>
              </a:rPr>
              <a:t>Promjeni se vrata otvaraju  samo iznutra.</a:t>
            </a:r>
            <a:br>
              <a:rPr sz="6000"/>
            </a:br>
            <a:r>
              <a:rPr b="0" lang="hr-HR" sz="4400" spc="-1" strike="noStrike">
                <a:solidFill>
                  <a:srgbClr val="420000"/>
                </a:solidFill>
                <a:latin typeface="Times New Roman"/>
              </a:rPr>
              <a:t>                                    </a:t>
            </a:r>
            <a:r>
              <a:rPr b="0" i="1" lang="hr-HR" sz="2000" spc="-1" strike="noStrike">
                <a:solidFill>
                  <a:srgbClr val="420000"/>
                </a:solidFill>
                <a:latin typeface="Times New Roman"/>
              </a:rPr>
              <a:t>Indijanska izreka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39640" y="54900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00"/>
                </a:solidFill>
                <a:latin typeface="Times New Roman"/>
              </a:rPr>
              <a:t>Hvala na pažnji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2" name="Picture 4" descr="rainbow-signpost-animate"/>
          <p:cNvPicPr/>
          <p:nvPr/>
        </p:nvPicPr>
        <p:blipFill>
          <a:blip r:embed="rId1"/>
          <a:stretch/>
        </p:blipFill>
        <p:spPr>
          <a:xfrm>
            <a:off x="1979640" y="2133720"/>
            <a:ext cx="4753080" cy="40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00"/>
                </a:solidFill>
                <a:latin typeface="Times New Roman"/>
              </a:rPr>
              <a:t>Tko su  eksperti, a tko početnici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00"/>
                </a:solidFill>
                <a:latin typeface="Times New Roman"/>
              </a:rPr>
              <a:t>Ekspert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u osobe kojima stručna okolina priznaje da imaju sposobnosti, znanja, vještine i uvjerenja potrebna za najvišu razine izvedbe u području stručnos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00"/>
                </a:solidFill>
                <a:latin typeface="Times New Roman"/>
              </a:rPr>
              <a:t>Početnic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u osobe s osnovnim znanjima i vještinama koje još nisu dosegle visoku stručnu razinu izved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00"/>
                </a:solidFill>
                <a:latin typeface="Times New Roman"/>
              </a:rPr>
              <a:t>Osobine početnika i eksperata:</a:t>
            </a:r>
            <a:br>
              <a:rPr sz="3600"/>
            </a:br>
            <a:r>
              <a:rPr b="0" i="1" lang="hr-HR" sz="3600" spc="-1" strike="noStrike">
                <a:solidFill>
                  <a:srgbClr val="660000"/>
                </a:solidFill>
                <a:latin typeface="Times New Roman"/>
              </a:rPr>
              <a:t>Deklarativna znanja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00"/>
                </a:solidFill>
                <a:latin typeface="Times New Roman"/>
              </a:rPr>
              <a:t>Poč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anja količina deklarativnog zn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strukturirana mehanička pohrana inform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vršinsko povezivanje  inform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laba mogućnost generalizacije i transfera  informacija u rješavanju probl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00"/>
                </a:solidFill>
                <a:latin typeface="Times New Roman"/>
              </a:rPr>
              <a:t>Stručnj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eća količina deklarativnog zn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rukturirana funkcionalna pohrana inform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ubinsko povez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ješavanje problema pomoću transfera informacija o generaliziranim obilježjima slučaj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00"/>
                </a:solidFill>
                <a:latin typeface="Times New Roman"/>
              </a:rPr>
              <a:t>Osobine početnika i eksperata:</a:t>
            </a:r>
            <a:br>
              <a:rPr sz="3600"/>
            </a:br>
            <a:r>
              <a:rPr b="0" i="1" lang="hr-HR" sz="3600" spc="-1" strike="noStrike">
                <a:solidFill>
                  <a:srgbClr val="660000"/>
                </a:solidFill>
                <a:latin typeface="Times New Roman"/>
              </a:rPr>
              <a:t>Proceduralna znanja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00"/>
                </a:solidFill>
                <a:latin typeface="Times New Roman"/>
              </a:rPr>
              <a:t>Poč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rategija rješavanja problema unat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porost u izboru i primjeni postup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mjena jednostavnih postupaka uz svjestan n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6000" y="206064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00"/>
                </a:solidFill>
                <a:latin typeface="Times New Roman"/>
              </a:rPr>
              <a:t>Ekspe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trategija rješavanja problema unaprij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rzi izbor i primjena postup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utomatizirana primjena jednostavnih proced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00"/>
                </a:solidFill>
                <a:latin typeface="Times New Roman"/>
              </a:rPr>
              <a:t>Osobine početnika i eksperata </a:t>
            </a:r>
            <a:br>
              <a:rPr sz="3600"/>
            </a:br>
            <a:r>
              <a:rPr b="0" i="1" lang="hr-HR" sz="3600" spc="-1" strike="noStrike">
                <a:solidFill>
                  <a:srgbClr val="660000"/>
                </a:solidFill>
                <a:latin typeface="Times New Roman"/>
              </a:rPr>
              <a:t>Samoregulacija u rješavanju problema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8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00"/>
                </a:solidFill>
                <a:latin typeface="Times New Roman"/>
              </a:rPr>
              <a:t>Poč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eže uočavaju vrstu i težinu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 odabiru najbolje strate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 provjeravaju učin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ošije raspodjeljuju vrij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eško zadržavaju pažnju  tijekom rješavanja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2000" y="2060640"/>
            <a:ext cx="37400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00"/>
                </a:solidFill>
                <a:latin typeface="Times New Roman"/>
              </a:rPr>
              <a:t>Ekspe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rže uočavaju vrstu i težinu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abiru adekvatne strate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vjeravaju učin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obro raspodjeljuju vrij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obro se mogu usmjeriti n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00"/>
                </a:solidFill>
                <a:latin typeface="Times New Roman"/>
              </a:rPr>
              <a:t>Osobine eksperata i početnika</a:t>
            </a:r>
            <a:br>
              <a:rPr sz="4000"/>
            </a:br>
            <a:r>
              <a:rPr b="0" i="1" lang="hr-HR" sz="4000" spc="-1" strike="noStrike">
                <a:solidFill>
                  <a:srgbClr val="660000"/>
                </a:solidFill>
                <a:latin typeface="Times New Roman"/>
              </a:rPr>
              <a:t>Osobni stil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40384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00"/>
                </a:solidFill>
                <a:latin typeface="Times New Roman"/>
              </a:rPr>
              <a:t>Poč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isko samopouzd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oše komunikacijske vještine u područ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eškoće u snalaženju u novoj situac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nksioznost i strah od neuspje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adekvatno suočavanje sa stresom i neizvjesnošć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403884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00"/>
                </a:solidFill>
                <a:latin typeface="Times New Roman"/>
              </a:rPr>
              <a:t>Ekspe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isoko samopouzd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obre komunikacijske vještine u područ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leksibilnost u prilagodbi na nove situ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isoka odgovornost i samoefikas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spješno nošenje sa stresnim situ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00"/>
                </a:solidFill>
                <a:latin typeface="Times New Roman"/>
              </a:rPr>
              <a:t>Faze profesionalnog razvoja</a:t>
            </a:r>
            <a:r>
              <a:rPr b="0" lang="hr-HR" sz="3600" spc="-1" strike="noStrike">
                <a:solidFill>
                  <a:srgbClr val="660000"/>
                </a:solidFill>
                <a:latin typeface="Times New Roman"/>
              </a:rPr>
              <a:t> učitelja</a:t>
            </a:r>
            <a:r>
              <a:rPr b="0" lang="hr-HR" sz="1600" spc="-1" strike="noStrike">
                <a:solidFill>
                  <a:srgbClr val="420000"/>
                </a:solidFill>
                <a:latin typeface="Times New Roman"/>
              </a:rPr>
              <a:t>                                                                        </a:t>
            </a:r>
            <a:br>
              <a:rPr sz="1600"/>
            </a:br>
            <a:r>
              <a:rPr b="0" lang="hr-HR" sz="1600" spc="-1" strike="noStrike">
                <a:solidFill>
                  <a:srgbClr val="420000"/>
                </a:solidFill>
                <a:latin typeface="Times New Roman"/>
              </a:rPr>
              <a:t>                                                   </a:t>
            </a:r>
            <a:r>
              <a:rPr b="0" lang="hr-HR" sz="2000" spc="-1" strike="noStrike">
                <a:solidFill>
                  <a:srgbClr val="420000"/>
                </a:solidFill>
                <a:latin typeface="Times New Roman"/>
              </a:rPr>
              <a:t>(Dreyfuss, 1986;; Fullan, 2001, Huberman, 1995)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07552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0.  LAIK 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obni potencijal i motivacija za profesiju, neformalne teorije o učenju i poučavanju, idealiziranje profesije, nejasna očekivanja o karij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1. POČETNIK 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to pridržavanje naučenih pravila; slaba osjetljivost za okruženje; racionalno odlučivanje na temelju stečenog zn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44"/>
          <p:cNvSpPr/>
          <p:nvPr/>
        </p:nvSpPr>
        <p:spPr>
          <a:xfrm>
            <a:off x="822960" y="4581360"/>
            <a:ext cx="7214040" cy="1666080"/>
          </a:xfrm>
          <a:prstGeom prst="rect">
            <a:avLst/>
          </a:prstGeom>
          <a:solidFill>
            <a:srgbClr val="cccc00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00"/>
                </a:solidFill>
                <a:latin typeface="Times New Roman"/>
              </a:rPr>
              <a:t>Temeljna pita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ko da preživim u razred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sam li uopće sposoban za učitelj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Hoću li ikada dosegnuti potrebnu razinu kompetenci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8:15:28Z</dcterms:created>
  <dc:creator>Vlasta Vizek Vidović</dc:creator>
  <dc:description/>
  <dc:language>en-US</dc:language>
  <cp:lastModifiedBy>Korisnik</cp:lastModifiedBy>
  <dcterms:modified xsi:type="dcterms:W3CDTF">2012-05-07T15:18:49Z</dcterms:modified>
  <cp:revision>119</cp:revision>
  <dc:subject/>
  <dc:title>Ključni činitelji profesionalnog razvoja učitelja i nastavnika</dc:title>
</cp:coreProperties>
</file>