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F64E-C547-4F13-BA40-4136B134777E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9A7B-3E21-4393-BBD5-4E2B7CC4BB9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BF59-43BD-4385-A2E9-04BB0302582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6EB7-E534-46CE-969C-EC298657E5B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42E8-AF65-49EB-936A-275D1F38547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1D80-7B6C-464A-9966-032B01497BA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ez ovog  nema ni profesionalnog razv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ABCD-C087-4556-BF29-74CAC2F0038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BA12-56CA-4C23-B353-4296C1B73FF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EC3B-1CAC-48F4-B2DE-1C039432F94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5A3F-BA46-477A-ACBB-917E3D3D8E1D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864-562F-468D-85EA-DD421F5D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808-98E1-424C-A2C0-6B78525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767BF-6355-4806-9519-D62A0F6E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DB694-6DE7-43A9-96DA-C941632A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2C887E-09AC-4E8D-B02D-CCD629AB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11D340-986E-472E-A248-D1D4710F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063168-11D2-4238-B476-089D2F12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0A40D3-B21C-4EF4-8CC0-70FFA7C3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DFF73B-3B7E-4E81-A9E5-6D1BA42E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349E6-A8C0-4A2B-8043-EDD0C6E2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12F34-6D11-4F43-B7EA-DC6E40BA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F20-BAE5-4320-85C7-B4818BBA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3B5-E10E-45D5-AB57-39685A26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2CC3-DE79-428F-817D-37422FDC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3BC5-C6BD-48B1-B212-75272EFA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B7FC-20AF-4B39-AF93-5AC4698C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BCC2-C782-481C-9126-CEA16E82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E7B0-A790-4162-8E2D-F9A03594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3633-8D5C-40B9-8809-C3CACE2F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94B6-60AA-40F2-9349-CD843B70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6E9-7595-4575-AC1D-1312A397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E38E-63A2-428F-B04C-84C91D1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62B8-BC0B-4467-B38F-DBA62F4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B49D-D44E-48E4-BFA8-C62AB0DE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36EB-CE37-495D-BD21-EB4236E4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E1C0-708D-45CF-BE12-5C147EC2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C107C-1EE8-42DB-B92C-56BB99C9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15B7-32ED-4BF7-8C26-FDE4CB6A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735E-5841-4EE9-9BD0-20F57CCE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9B62-52B8-4DD5-A64E-BAB68B7B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4859-6483-427E-9ECD-A08CB4FA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66E-D078-43F4-A376-B82445A5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B8B7-74A7-4AF7-91F9-926EB954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A939-5679-46E5-89CD-D5CB3D1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68A94-FA5E-4553-863A-238FE01E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390F-BEC5-4721-9FA7-997656DD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E0E7-4922-4207-8224-26EB3313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D560-4D47-4A31-BCB6-7D535D3C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5E35-DE0E-4D82-95D8-BC9D9AF1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77C8-98E4-40DF-A5B2-D3862BD8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8DF1-DB5B-48F9-8814-FC8D6836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F162-1760-400F-A0D5-D42DD754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EB1-878D-473A-B2F4-C0554BCB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1025D-259F-47D7-AEFA-BF6FF294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E8DD4-48D8-4224-8A0E-00483542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637B3-5DE8-414E-8F34-80DB31F6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8591A-616B-4368-B6F4-BBA8C4E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9599-44E4-41CE-AFB9-6D1AFA5E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3503B-9B1D-4DA0-9C8E-E1F8C51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B7B0-CF02-4838-A3B4-35B550C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430C-AE0A-4492-9A4A-F81A8842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5922-B69E-468B-BC4B-418ADE55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6CB8A-2EBE-4D25-AB72-6BABDAB2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05E-AB76-401E-8E5E-D6FB7DF2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2F5A2-1D88-4FB3-B0CE-00D488D9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F66D5-08FA-4A02-A1D9-6745C92C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5F628-E5F6-4274-B950-201026A6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513CB-CD4E-4B92-BF7F-ABAFF540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BD164-03B5-460A-913B-C3167D84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CD409-0AEA-4AC8-96E1-5BDBFFD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7E99F-CA58-41FD-8F28-476B3F0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4C6B-3376-4390-A9EF-3C7861A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4F32D-224F-4DD5-BA21-6481B5E9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44AD6-E0D2-4BE7-A721-DFD14060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596-C1B4-4D22-9208-81D06223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8B5D7-1891-47E5-8411-1321FD6F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73D1-1414-498C-9C29-52F23398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D8F97-5999-45D4-BC70-D3C1E709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8FC35-D0A7-4237-B0F3-41E5A6F9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D6551-23A8-42D9-AA27-53D241EA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75704-0FE5-4C1C-90B6-6B6D1573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387E5-EAEA-4238-B68E-115D8DC9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AA1D1-1D90-4A87-B2B7-23419E0E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424B1-A935-4C9B-BB2F-D8DB29A6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59D84-03F8-4FE5-99C2-FA3AF88F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702-8C72-4CE2-AB3E-7F3BA76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9489F-D113-47DB-AC8C-9CA432D4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7AC07-A3DC-419D-928A-C1B4622F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14620-DDDB-40E8-B94D-6FB63DD2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32BC-94C3-4BA5-9E95-C0C1F1E7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62998-73CF-4D26-B5B7-3B25E4FB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4FC8B-F1C4-4BF5-998D-6CE015A7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55AA-235D-48B3-A20C-A94A813E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E9864-302E-4024-B884-1D23BA9C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CBB35-955B-4D23-B0A7-30D96EB3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9E523-DECA-4FE5-A21D-8D2450F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4B1-E990-4814-A106-6A7DE69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8233F-BC61-44A1-9AFF-478B8763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FF017-10E4-4547-942B-348641A7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ED2B6-7570-4717-8C9E-BD44FF67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44F0-B77D-40F5-8ECD-D62CFAC2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3394C-5EB4-4188-97D5-9670CCE1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1DD6C-DB85-4B2E-AFAB-340F1BBC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61163-F81C-4CB3-A000-45BF4BD3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CCFD5-BC08-47DF-A366-DCF84C6D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2390A-D39B-4A3E-B314-708E79D5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D0904-82A1-47EC-BE7C-B275A216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4D2-59A0-40C6-8AD5-9C2A7A68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34378-A95E-4A36-B922-33E962A7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F87F2-C03C-40AA-BF43-B92013F4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455FD-EFFD-4B39-9EA3-826C50F0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E3AC1-CE6D-408B-B84B-AF6E480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DC3C6-26B1-4BA5-9C9A-2F44FAAB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809CB-6F96-4825-9303-095290E1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0CD77-0046-42BB-8617-1CDAAA59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BDE3BD-A91A-4046-9089-787234F4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A95F46-AF5D-498A-8EE1-534D11BE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9FE866-C638-4D0B-8FF9-BA8A1DAF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9D05-602D-458D-A53F-50387556F940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FB59-086E-408A-87C1-36DB71A49DEE}" type="slidenum">
              <a:rPr b="0" lang="hr-H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6112-1FE4-4981-B256-E0F8F2EA1631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03F7-3E4F-48CA-AFA7-E23DA0CF9078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771A-1F4F-41F2-95AB-E419D7670444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943F-BA9B-4520-9684-320916F73E19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4D9-7288-4AB8-A658-A6941E3AC214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DC26-7F88-49D7-A44C-0378F495B12E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0E48-9010-41F6-A6A6-3433D20AC72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mailto:vlatka.domovic@ufzg.hr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193840" y="1127160"/>
            <a:ext cx="6797880" cy="20797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4360" y="3357360"/>
            <a:ext cx="7772400" cy="1487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64646"/>
                </a:solidFill>
                <a:latin typeface="Arial"/>
                <a:ea typeface="Arial"/>
              </a:rPr>
              <a:t>Državni stručni skup za stručne suradnike pedagoge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64646"/>
                </a:solidFill>
                <a:latin typeface="Arial"/>
                <a:ea typeface="Arial"/>
              </a:rPr>
              <a:t>Osijek, 7. – 9. 5. 2012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64646"/>
                </a:solidFill>
                <a:latin typeface="Arial"/>
                <a:ea typeface="Arial"/>
              </a:rPr>
              <a:t>prof. dr. sc. Vlatka Domović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64646"/>
                </a:solidFill>
                <a:latin typeface="Arial"/>
                <a:ea typeface="Arial"/>
              </a:rPr>
              <a:t>Učiteljski fakultet, Zagreb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64646"/>
                </a:solidFill>
                <a:latin typeface="Arial"/>
                <a:ea typeface="Arial"/>
              </a:rPr>
              <a:t>E-mail: </a:t>
            </a:r>
            <a:r>
              <a:rPr b="0" lang="hr-HR" sz="1600" spc="-1" strike="noStrike" u="sng">
                <a:solidFill>
                  <a:srgbClr val="ff8119"/>
                </a:solidFill>
                <a:uFillTx/>
                <a:latin typeface="Arial"/>
                <a:ea typeface="Arial"/>
                <a:hlinkClick r:id="rId2"/>
              </a:rPr>
              <a:t>vlatka.domovic@ufzg.h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Rectangle 18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DD9E-2D5A-4A85-A37F-525CED554FA9}" type="slidenum">
              <a:rPr b="0" lang="hr-H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četno (inicijalno) obrazovanje učitelja (initial teacher education - ITE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vođenje u profesiju (induction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rajni profesionalni razvoj učitelja (stručno usavršavanje) (in-service teacher training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ou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professional development - CP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378000" y="2743200"/>
            <a:ext cx="8308800" cy="1274760"/>
          </a:xfrm>
          <a:prstGeom prst="rect">
            <a:avLst/>
          </a:prstGeom>
          <a:ln w="0">
            <a:noFill/>
          </a:ln>
        </p:spPr>
      </p:pic>
      <p:sp>
        <p:nvSpPr>
          <p:cNvPr id="46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3861-273C-4E03-9493-6560F97F7044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73BF-BF82-4FD7-9A00-55D79361B40F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468360" y="119160"/>
          <a:ext cx="8229600" cy="5765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1. Stručno vođe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Odlučno i svrhovito;</a:t>
                      </a:r>
                      <a:r>
                        <a:rPr b="1" lang="hr-HR" sz="12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Participativni pristu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Vodeći stručnj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2. Zajednička vizija i cilje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Suglasnost oko ciljeva</a:t>
                      </a:r>
                      <a:r>
                        <a:rPr b="1" lang="hr-HR" sz="12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Konzistentnost u načinu 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Kolegijalnost i surad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Okolina uče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mosfera mira i reda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aktivna radna okol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Koncentracija na poučavanje i uče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simalizacija vremena za uče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glasak na akademskom asp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redotočenje na postignuć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Svrhovito pouča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jelotvorna organizacija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snoća cilje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kturiranost nastavnih jedi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lagodljiv način 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Visoka očeki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lna visoka očekivan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vanje informacija o očekivanji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žanje intelektualnih izaz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ozitivno potkreplji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sna i pravedna disciplina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ratne inform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i="1" lang="hr-HR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i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Praćenje napredo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ćenje rada uče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Evaluacija rada šk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Prava i odgovornosti uče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ećavanje samopoštovanja uče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zicioniranje odgovornosti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trola r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10. Suradnja škola - obitel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Uključenost roditelja u učenje njihove dj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11. Organizacija koja uč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227a8f"/>
                          </a:solidFill>
                          <a:latin typeface="Times New Roman"/>
                          <a:ea typeface="Times New Roman"/>
                        </a:rPr>
                        <a:t>Razvoj osoblja unutar šk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B51A-3D6B-4105-A3AB-98CF825217F5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9144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Organizacijska klima (ozračje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Školska klima (ozračje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ičnost je za pojedinca isto što i klima za organizaciju”. (Halpin i Crof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et mjerljivih osobina radne okoline, koje se temelje na zajedničkim percepcijama ljudi koji žive i rade u toj sredini i koje utječu na njihovo ponašanje.” (Litwin i Stringer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A6F1-8DC0-4A21-A2EF-8363504A1824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elativno trajna kvaliteta školske sredine koja utječe na ponašanje njezinih članova i koja se temelji na zajedničkoj percepciji ponašanja u školi, a pod utjecajem je formalne organizacije, neformalne organizacije, ličnosti sudionika i upravljanja školo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8435-358F-407F-8138-A02DAEEAB45E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5" name=""/>
          <p:cNvGraphicFramePr/>
          <p:nvPr/>
        </p:nvGraphicFramePr>
        <p:xfrm>
          <a:off x="457200" y="1600200"/>
          <a:ext cx="8229600" cy="5060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ljiva šk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idljiva šk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lska zgr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nosi učitelja i učeni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lski progra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napisana pravila ponaš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lski prorač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vovi prema šk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lska opr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čekivanja od šk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iteljsko vijeć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odnevni razgov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bornica i razre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odnevni konfli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pisnici i izvješć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odnevne odl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lske sveča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našanje u razre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čne ekskurzi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našanje na izle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kolski raspo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položenje u zborn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redni imen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redna kli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jevački zb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panj frustrira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rtska natjecan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ni autoritet učitelj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d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7807-EEDA-4A16-9601-F92E1B2B9793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tvorena – zatvorena kli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drava ško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dna kli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7676-24D3-4C70-9C87-92CABC277A6E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itelji dobro međusobno surađuju, bez sukoba i pritužbi. Ravnateljev način upravljanja olakšava im ostvarivanje zadaća. Gledano u cijelosti, djelatnici su u prijateljskim odnosima, zadovoljni su poslom i dovoljno su motivirani za svladavanje poteškoća i frustracija. Pokazuju inicijativu u rješavanju problema i razvoju škole. Nadalje, nastavnici su ponosni na svoju školu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avnatelj je ne samo primjer ostalima svojim predanim radom, ali, ovisno o situaciji kritizira akcije nastavnika ili im “izlazi u susret“ i pomaže. Ravnatelj, dakle, posjeduje osobni integritet i dobro funkcionira u različitim situacijama. On nije suzdržan, niti su pravila koja postavlja nefleksibilna i apersonalna. On ne mora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glašavati produktivno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 niti stalno nadgledati aktivnosti nastavnika, ne obavlja sve poslove rukovođenja sam, ali ipak kontrolira situaciju i na jasan način rukovodi osobljem ško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EDD6-63DA-48C8-8FCE-98559B2F135D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Rectangle 7" descr=""/>
          <p:cNvPicPr/>
          <p:nvPr/>
        </p:nvPicPr>
        <p:blipFill>
          <a:blip r:embed="rId1"/>
          <a:stretch/>
        </p:blipFill>
        <p:spPr>
          <a:xfrm>
            <a:off x="103320" y="-12600"/>
            <a:ext cx="84502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zdravoj školi uprava se uspješno odupire pokušajima uskih interesnih skupina da utječu na smjer njezina djelovanja (visok institucionalni integritet). Ravnatelj zdrave škole je dinamični vođa, orijentiran i na rješavanje zadataka i na stvaranje dobrih međuljudskih odnosa. On podržava nastavnike, ali i postavlja visoke standarde izvršavanja zadataka. Štoviše, ravnatelj ima utjecaja na sebi nadređene, što se očituje kroz sposobnost da pribavi odgovarjuće resurs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stavnici u zdravoj školi predano obavljaju svoj posao. Oni postavljaju visoke, ali ostvarljive ciljeve učenicima; održavaju visok standard ponašanja i izvođenja nastave, te razvijaju ozbiljnu i urednu okolinu učenja. Također, u zdravim školama nastavnici su u dobrim odnosima, vjeruju jedni drugima, rade s entuzijazmom i imaju pozitivnu identifikaciju sa školom, to jest ponosni su na svoju školu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925A-F751-46B8-9C8D-4EAFAC8E7F27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ju vrstu profesionalnog identiteta potičete u vašoj školi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ko se kroz stručno usavršavanje učitelja i nastavnika formira njihov profesionalni identitet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ja područja profesionalnog razvoja smatrate najznačajnijim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ko profesionalnom razvoju doprinosi vaša škol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CF8F-8BF8-4399-B89B-3D056214515E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Title 3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. Moos (1974.) je utvrdio da postoje tri opće kategorije dimenzija socijalne klime, koje su zajedničke različitim psihosocijalnim sredinama, tj. različitim organizacijama i skupinama. To su dimenzije odnosa, dimenzije osobnog razvoja ili orijentacije prema cilju i dimenzije održavanja i promjene sustav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D80C-9CC6-4BC0-B76F-AC3D48DC0519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249120" y="42840"/>
            <a:ext cx="83646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Dimenzije odnosa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opisuju kvalitetu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intenzitet odnosa među ljudima u određenoj sredini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227a8f"/>
                </a:solidFill>
                <a:latin typeface="Arial"/>
                <a:ea typeface="Arial"/>
              </a:rPr>
              <a:t>Dimenzije osobnog razvoja ili orijentacije prema cilju</a:t>
            </a:r>
            <a:r>
              <a:rPr b="0" i="1" lang="en-AU" sz="28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r>
              <a:rPr b="0" lang="en-AU" sz="2800" spc="-1" strike="noStrike">
                <a:solidFill>
                  <a:srgbClr val="227a8f"/>
                </a:solidFill>
                <a:latin typeface="Arial"/>
                <a:ea typeface="Arial"/>
              </a:rPr>
              <a:t>odnose se na temeljne ciljeve pojedine sredine, odnosno na način na koji okolina potiče ili onemogućava razvoj pojedinca</a:t>
            </a: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imenzije održavanja i promjene sustava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jere opseg u kojem u okolini vlada red, koliko je organizirana, koliko su jasna očekivanja od pojedinaca, koliki je stupanj kontrole, te koliko je okolina spremna na promjen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C391-B0DB-4036-A81B-35062E0D6941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396720" y="622440"/>
            <a:ext cx="822960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Uključe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se odnosi na opseg u kojem su djelatnici zainteresirani za /i predani svom posl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Kolegijalna kohezij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e odnosi na opseg u kojem se djelatnici ponašaju prijateljski i  pružaju potporu jedni drugima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Potpora rukovoditelj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e odnosi na opseg u kojem rukovoditelji pružaju potporu djelatnicima i potiču djelatnike da si međusobno pomaž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1146-4AF8-4A63-9F38-A58A4A078639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237960" y="237960"/>
            <a:ext cx="84488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341360"/>
            <a:ext cx="8229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Autonomi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se odnosi na opseg u kojem se djelatnike potiče da u svom radu budu nezavisni i da se u radu oslanjaju na vlastite odluk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Orijentaci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na zadatak se odnosi na stupanj naglašavanja dobrog planiranja aktivnosti, djelotvornosti i izvršavanja radnih obvez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Radni pritisak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e odnosi na stupanj u kojem radni i vremenski pritisak dominiraju u radnom milje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E22C-8985-46A8-A2D0-4A8EC046D016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Jasnoć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se odnosi na opseg u kojem djelatnici znaju što mogu očekivati u svakodnevnoj rutini, i koliko su pravila i propisi jasni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Kontrol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se odnosi na opseg u kojem rukovoditelji koriste pravila i pritiske da bi držali djelatnike pod kontrolom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Inovativnos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se odnosi na stupanj naglašavanja raznolikosti, promjena i novih pristupa u radu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Fizički komfor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dnosi se na opseg u kojem fizička okolina doprinosi ugodnome radnom ozračju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F0B0-6C12-43A7-9A2D-A2A6F358C7A3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3BE9-5299-4B24-8CC7-8D035D8C0F64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469800" y="603360"/>
            <a:ext cx="8229600" cy="15793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Škola treba biti poticajna okolina za uče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Škola treba biti “organizacija koja uči”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C627-0C4A-4DCD-A0EC-9BF8674E8B3F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Rectangle 2" descr=""/>
          <p:cNvPicPr/>
          <p:nvPr/>
        </p:nvPicPr>
        <p:blipFill>
          <a:blip r:embed="rId1"/>
          <a:stretch/>
        </p:blipFill>
        <p:spPr>
          <a:xfrm>
            <a:off x="208080" y="165240"/>
            <a:ext cx="8704080" cy="13348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stići zajedničko razumijevanje svih članova školske zajednice o ostvarivim obrazovnim ishodima. Definirati svrhu i cilj i odrediti mjerljive ishode uz istovremeni razvoj najboljih metoda, strategija i akcija koje vode ostvarivanju ciljev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ključiti sve nositelje interesa u planiranje promjena i rješavanje problema u implementaciji potrebnih promjen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FBEE-A576-42C9-8716-B9A060D3113D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Rectang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697960" cy="123660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Kontinuirano pratiti i evaluirati nastavu i temeljiti odluke na podacima prikupljenim u procesu evaluacij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Naglašavati osobni i profesionalni razvoj zaposlenih, to jest škola se razvija kao «organizacija koja uči»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cjenjivanje treba više biti usmjereno na organizaciju (sustav) i njene programe nego na pojedinc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7F95-364B-4E6D-9426-407EB77DB0A0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Sans Unicode"/>
              </a:rPr>
              <a:t>Izgraditi sustav dvosmjerne komunikacije među svim nositeljima interes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105766"/>
                </a:solidFill>
                <a:latin typeface="Lucida Sans Unicode"/>
              </a:rPr>
              <a:t>Često pojašnjavati očekivanja, svrhu i napredovanje u akcijama koje su planirane da bi se unaprijedila škol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Lucida Sans Unicode"/>
              </a:rPr>
              <a:t>Osigurati sredstva i socijalnu podršku za planirane akcije poboljšanja/unapređivanja škol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7311-95E3-40CB-95D8-8FC68C439C1E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isoka stručna spre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fesija postavljena u kontekst cjeloživotnog učenj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kretljiva profesij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fesija koja se temelji na partnerstv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Izvor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on European Principles for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cher Competences and Qualifications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(2005.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875800" cy="1407960"/>
          </a:xfrm>
          <a:prstGeom prst="rect">
            <a:avLst/>
          </a:prstGeom>
          <a:ln w="0">
            <a:noFill/>
          </a:ln>
        </p:spPr>
      </p:pic>
      <p:sp>
        <p:nvSpPr>
          <p:cNvPr id="432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7BE-8A59-4485-8ABF-A27208881D29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516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0EAF-CF8B-4D90-AEBD-6173E0D816B2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Content Placeholder 6" descr="imagesCATJGEH4.jpg"/>
          <p:cNvPicPr/>
          <p:nvPr/>
        </p:nvPicPr>
        <p:blipFill>
          <a:blip r:embed="rId2"/>
          <a:stretch/>
        </p:blipFill>
        <p:spPr>
          <a:xfrm>
            <a:off x="1547640" y="1773360"/>
            <a:ext cx="633744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d s informacijama, tehnologijom i znanj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d s ljudim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d u društvu i s društv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Izvor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on European Principles for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cher Competences and Qualificatio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(2005.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594640" cy="11462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F190-4DDD-4398-9E26-5C04C166B5D6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1700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d </a:t>
            </a: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razvojem učitelj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e misli na njegov profesionalni rast koji je posljedica međudjelovanja osobnih značajki učitelja, njegovog obrazovanja, kontekstualnih čimbenika te specifičnih sustavskih procesa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430-7E1C-4416-85AE-81F19B19CDCC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gnitivna razvijenos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fesionalno iskust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otivacija za učiteljsku profesij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C1C6-BF24-41B5-8891-9AB4759C202E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521920" cy="15732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ruštvo u cjelini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okalna zajedn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školski sustav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27a8f"/>
                </a:solidFill>
                <a:latin typeface="Arial"/>
                <a:ea typeface="Arial"/>
              </a:rPr>
              <a:t>ško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r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5FB1-8560-4F04-9C47-DA7E29909E35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pravljanje škol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avjetovanje/ supervzija/ nadz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rajno usavršavanje/ učenj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2C12-297C-4029-B83C-E42F9E4FB1D4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987480" y="36360"/>
            <a:ext cx="8242200" cy="1579680"/>
          </a:xfrm>
          <a:prstGeom prst="rect">
            <a:avLst/>
          </a:prstGeom>
          <a:ln w="0">
            <a:noFill/>
          </a:ln>
        </p:spPr>
      </p:pic>
      <p:sp>
        <p:nvSpPr>
          <p:cNvPr id="449" name="Rounded Rectangle 10"/>
          <p:cNvSpPr/>
          <p:nvPr/>
        </p:nvSpPr>
        <p:spPr>
          <a:xfrm>
            <a:off x="3319560" y="2189160"/>
            <a:ext cx="2500200" cy="785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Lucida Sans Unicode"/>
              </a:rPr>
              <a:t>Kontekstualni čimbe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le 11"/>
          <p:cNvSpPr/>
          <p:nvPr/>
        </p:nvSpPr>
        <p:spPr>
          <a:xfrm>
            <a:off x="6005520" y="3738600"/>
            <a:ext cx="2500200" cy="785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Lucida Sans Unicode"/>
              </a:rPr>
              <a:t>Profesionalni razvoj učite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le 12"/>
          <p:cNvSpPr/>
          <p:nvPr/>
        </p:nvSpPr>
        <p:spPr>
          <a:xfrm>
            <a:off x="620640" y="3738600"/>
            <a:ext cx="2500560" cy="785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Lucida Sans Unicode"/>
              </a:rPr>
              <a:t>Osobine li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le 13"/>
          <p:cNvSpPr/>
          <p:nvPr/>
        </p:nvSpPr>
        <p:spPr>
          <a:xfrm>
            <a:off x="3317760" y="5299200"/>
            <a:ext cx="2500560" cy="785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Lucida Sans Unicode"/>
              </a:rPr>
              <a:t>Sustavski proc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19"/>
          <p:cNvCxnSpPr>
            <a:stCxn id="451" idx="0"/>
            <a:endCxn id="449" idx="1"/>
          </p:cNvCxnSpPr>
          <p:nvPr/>
        </p:nvCxnSpPr>
        <p:spPr>
          <a:xfrm flipV="1">
            <a:off x="1870200" y="2580840"/>
            <a:ext cx="1450080" cy="11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4" name="Straight Arrow Connector 21"/>
          <p:cNvCxnSpPr>
            <a:stCxn id="451" idx="3"/>
            <a:endCxn id="450" idx="1"/>
          </p:cNvCxnSpPr>
          <p:nvPr/>
        </p:nvCxnSpPr>
        <p:spPr>
          <a:xfrm>
            <a:off x="3121200" y="4132440"/>
            <a:ext cx="2885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5" name="Straight Arrow Connector 23"/>
          <p:cNvCxnSpPr>
            <a:stCxn id="451" idx="2"/>
            <a:endCxn id="452" idx="1"/>
          </p:cNvCxnSpPr>
          <p:nvPr/>
        </p:nvCxnSpPr>
        <p:spPr>
          <a:xfrm>
            <a:off x="1869120" y="4524120"/>
            <a:ext cx="1448280" cy="116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6" name="Straight Arrow Connector 25"/>
          <p:cNvCxnSpPr>
            <a:stCxn id="452" idx="0"/>
            <a:endCxn id="449" idx="2"/>
          </p:cNvCxnSpPr>
          <p:nvPr/>
        </p:nvCxnSpPr>
        <p:spPr>
          <a:xfrm flipV="1">
            <a:off x="4567320" y="2974680"/>
            <a:ext cx="2160" cy="23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7" name="Straight Arrow Connector 27"/>
          <p:cNvCxnSpPr>
            <a:stCxn id="450" idx="0"/>
            <a:endCxn id="449" idx="3"/>
          </p:cNvCxnSpPr>
          <p:nvPr/>
        </p:nvCxnSpPr>
        <p:spPr>
          <a:xfrm flipH="1" flipV="1">
            <a:off x="5819040" y="2580840"/>
            <a:ext cx="1437480" cy="11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58" name="Straight Arrow Connector 29"/>
          <p:cNvCxnSpPr>
            <a:stCxn id="450" idx="2"/>
            <a:endCxn id="452" idx="3"/>
          </p:cNvCxnSpPr>
          <p:nvPr/>
        </p:nvCxnSpPr>
        <p:spPr>
          <a:xfrm flipH="1">
            <a:off x="5817600" y="4524120"/>
            <a:ext cx="1438920" cy="116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59" name="Slide Number Placeholder 1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2AFC-88C9-4A32-9EFA-695524234659}" type="slidenum">
              <a:rPr b="0" lang="hr-H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08:21:15Z</dcterms:created>
  <dc:creator>Marko Greguric</dc:creator>
  <dc:description/>
  <dc:language>en-US</dc:language>
  <cp:lastModifiedBy>Korisnik</cp:lastModifiedBy>
  <dcterms:modified xsi:type="dcterms:W3CDTF">2012-05-07T17:13:44Z</dcterms:modified>
  <cp:revision>100</cp:revision>
  <dc:subject/>
  <dc:title>Slide 1</dc:title>
</cp:coreProperties>
</file>