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0FB-0A20-4136-A823-EB0107AD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A79-06E2-43B3-8830-C37376B5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906-FC7D-4344-94A1-5461EB05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497-3B6E-41AF-9E29-CA19BA56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F009-167C-4F32-9022-AAFB1077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0C92-E579-4B54-B719-867F914A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F119-2BC9-46CC-A90A-D2878064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BDCC-E37D-488E-A852-3E4662D2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D22-E276-41A4-B902-14D9582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6507-6C71-41FB-BAF0-BAFE2DC6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FC6E-B569-4A8F-BF18-E553F83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746-C459-486A-8AF6-830003FE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C2C7-C606-4044-8316-135307B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B20-D494-48DA-A8E9-3B6BD727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8EED-B988-47CE-B3EA-7AC4EEBD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2549-E8AE-4E6C-9E38-4CF10901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88E3-59A7-484C-85BB-6C048B85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DCA-18DA-438C-97CE-B1A6FCD9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AE32-FA05-49EB-A24F-018CC36C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5B1-8249-466C-A445-BF85DF00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15C-3A9F-48DD-9E9C-4B11B70F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EADC-E9D5-46DF-93C3-08786A3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EAF-9670-46E1-8AF6-BF3145A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86E-9808-4281-95B6-28CAF4D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7235-D210-49C3-8446-EBE86A9AC5C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vi-V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0665-F26C-4ED2-8E63-5765EC0A99F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916360" y="6245280"/>
            <a:ext cx="33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ržavni stručni skup za stručne suradnike pedag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Arial"/>
              </a:rPr>
              <a:t>Profesionalni razvoj u školi – izazovi i moguć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jek, 7. – 9. svibnja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Učinkovit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profesionalnog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Što valja imati na um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700360" y="6245280"/>
            <a:ext cx="352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ezulta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je statistički značajne razlike u procjeni </a:t>
            </a: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nastav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tributima učinkovitosti u sadašnjim i idealnim uvje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jveći nerazmjera između postojećeg i poželjnog struč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avršavanja procjenjuju ponajprije kod 3 atribu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temeljenost stručnog usavršavanja na rezultatim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analize obrazovnih rezultata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)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odrška profesionalnom razvoju je kontinuirana (i nak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tručnog skup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.)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temeljenost na identificiranim potrebama nastav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t-test na zavisnim uzorci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843280" y="6245280"/>
            <a:ext cx="331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ezulta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ji statistički značajna razlika u procjeni </a:t>
            </a: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savjet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sutnosti atributa učinkovitosti SU u sadašnjem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željnom 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vjetnici procjenjuju postojanje najvećeg nerazmjera k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 atribu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)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ključuje sustavno praćenje napretka nastavnika i podrš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2.) osigurano je primjereno vrijeme (trajanje) i ostali potrebni izv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(t-test na zavisnim uzorcima) * osim kod atributa: u i izvan šk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2771640" y="6245280"/>
            <a:ext cx="34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ezulta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oji podudarnost između procjena pojedinih atributa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Arial"/>
              </a:rPr>
              <a:t>najvažnijih atribu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U strane nastavnika, voditelja ŽSV-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vjetnika Agenci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dvojeni atribut kod sve 3 skup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smjerenosti na postizanje krajnjeg cilja struč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usavršavanja – unapređenje kvalitete izvođenja nast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te indirektno poboljšanje obrazovnih ish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2771640" y="6245280"/>
            <a:ext cx="352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ezultat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oje statistički značajne razlike u procje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kupnog </a:t>
            </a: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zadovoljst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postojeći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 od str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tavnika, voditelja ŽSV-a i savjetnika Agen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ko je najzadovoljnij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) voditelji ŽSV-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M=3,94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) nastavnic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M=3,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3.) savjetnici Agencij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(M=3,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2771640" y="6245280"/>
            <a:ext cx="33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Rezultat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toje atributi učinkovitosti koji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predviđaju mogućnost poveć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zadovoljstv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SU od strane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nastavn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savjetnika Agenci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avn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romovira kontinuirano istraživanje vlastite prakse i refleksiv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napređuje znanja predmetnih sadržaja i metodičko-didaktička zn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održava se u ško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vezano je sa sustavom napredovanja u zvanja mentor i savjetni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smjereno na unapređenje rada škole u cjel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temelji se na trenutno dostupnim najrecentnijim znanstve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poznaj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vjetn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drška profesionalnom razvoju je kontinuir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vođeno je jasnom vizijom kvalitetne nast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(regresijska analiza * oprez pri interpretaciji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2700360" y="6245280"/>
            <a:ext cx="36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guć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razini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ticanje kvalitete nastave (nastavn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movrednovanje (NCC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iguranje kvalitete/samovrednovanje (ASOO, e-kvalite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razini sustava (AZO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ručni skupovi na županijskoj raz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eriodično (državna raz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europskoj raz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grami cjeloživotnog učenja (COMENIUS, mrež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gram Pestaloz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2916360" y="6245280"/>
            <a:ext cx="33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Europs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mrež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politik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vođen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ff0000"/>
                </a:solidFill>
                <a:latin typeface="Arial"/>
              </a:rPr>
              <a:t>European Policy Network on School Leadership</a:t>
            </a: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 – EPNo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000000"/>
                </a:solidFill>
                <a:latin typeface="Arial"/>
              </a:rPr>
              <a:t>Grant Agreement EAC-2010-138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udionici: ministarstva obrazovanja, obrazovne agencije, europske udruge ravnatelja i učitelja, istraživački instituti te stručnjaci za obrazovne politike: 34 partnerske institucije, 22 zemlje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lj: suradnja i promišljanje (zajedničko konstruiranje, upravljanje i dijeljenje znanja) s ciljem informiranja i kreiranja preporuka prema autorima politika na temu poboljšavanja vođenja škola u Europi.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ajanje: 4 godine (početak provedbe:  201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EPNoSL: Forum e-učenja – POZIV SVIMA DA SE UKLJUČ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 26. ožujka do 4. svibnja 2012. </a:t>
            </a: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http://www.schoolleadership.e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uktura: a) video zapisi; b) webinari i rasprava; c) predavanja i 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ja Milovic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w9vxhdgL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Documents and Settings\smilovic\Desktop\e-learning-forum.png"/>
          <p:cNvPicPr/>
          <p:nvPr/>
        </p:nvPicPr>
        <p:blipFill>
          <a:blip r:embed="rId1"/>
          <a:stretch/>
        </p:blipFill>
        <p:spPr>
          <a:xfrm>
            <a:off x="4356000" y="476280"/>
            <a:ext cx="122400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:\Users\Yorgis\Desktop\DEF flag-logoeac-LLP_EN.jpg"/>
          <p:cNvPicPr/>
          <p:nvPr/>
        </p:nvPicPr>
        <p:blipFill>
          <a:blip r:embed="rId2"/>
          <a:stretch/>
        </p:blipFill>
        <p:spPr>
          <a:xfrm>
            <a:off x="2556000" y="549360"/>
            <a:ext cx="1619280" cy="65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:\Users\Yorgis\Desktop\EPNoSL Logo with text.jpg"/>
          <p:cNvPicPr/>
          <p:nvPr/>
        </p:nvPicPr>
        <p:blipFill>
          <a:blip r:embed="rId3"/>
          <a:stretch/>
        </p:blipFill>
        <p:spPr>
          <a:xfrm>
            <a:off x="5867280" y="333360"/>
            <a:ext cx="3097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2700360" y="6245280"/>
            <a:ext cx="36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 kraj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o što se čini da svi žele za učenika, </a:t>
            </a:r>
            <a:r>
              <a:rPr b="0" lang="pl-PL" sz="2000" spc="-1" strike="noStrike">
                <a:solidFill>
                  <a:srgbClr val="cc0000"/>
                </a:solidFill>
                <a:latin typeface="Arial"/>
              </a:rPr>
              <a:t>široku lepezu poticaja za učen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je će učeniku omogućiti da doživljava, kreira, rješava proble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risti svoje iskustvo i surađuje sa drugima, je iz nekog razlo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kraćeno nastavniku u njihovom procesu uč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Lieberman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931120" y="5661000"/>
            <a:ext cx="3522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3399"/>
                </a:solidFill>
                <a:latin typeface="Arial"/>
              </a:rPr>
              <a:t>Hvala na pažnji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 one koji žele znati još viš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uropska komisija: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uropa 202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- Strategija pametnog, održivog i inkluzivnog r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ttp://www.azoo.hr/index.php?option=com_content&amp;view=category&amp;layout=blog&amp;id=107&amp;Itemid=3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egic framework for European cooperation in education and training (‘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T 20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ttp://www.atee1.org/uploads/EUpolicies/updated_strategic_framework_for_eucooperation_council_et2020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U i OECD (2010).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Teachers’ Professional Development: Europe in international compariso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OECD TALIS, 200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ttp://ec.europa.eu/education/school-education/doc/talis/report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cKeinsey (2007)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w the world’s best-performing schools come out on top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ttp://mckinseyonsociety.com/how-the-worlds-best-performing-schools-come-out-on-top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2843280" y="6245280"/>
            <a:ext cx="331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adrž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U polaziš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činkovi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5 atributa učinkovit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zultati is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Arial"/>
              </a:rPr>
              <a:t>Education and Training 2020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Obrazovanje i osposobljavanj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emlje članice nasto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a cjeloživotno učenje i mobilnost postanu stva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boljšati kvalitetu i učinkovitost obrazovanja i osposobljavanj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mogućavajući svim učenicima stjecanje temeljnih vještina i kompetencija potrebnih za zapošljivost, uključujući inicijativu „Nove vještine za nova radna mjesta”, </a:t>
            </a:r>
            <a:r>
              <a:rPr b="0" lang="hr-HR" sz="2000" spc="-1" strike="noStrike">
                <a:solidFill>
                  <a:srgbClr val="cc0000"/>
                </a:solidFill>
                <a:latin typeface="Arial"/>
              </a:rPr>
              <a:t>osiguravanjem visoke kvalitete poučavanja i usavršavanja nastavn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te poboljšavanjem privlačnosti i učinkovitosti svih razina obrazovanja i osposoblj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micati jednakost, socijalnu koheziju i aktivno građanst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ažiti kreativnost i inovacije na svim razinama obrazovanja i osposoblj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771640" y="6245280"/>
            <a:ext cx="34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napređenje kompetencija 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 21. stoljeće (EK, 2008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 prioritetna područ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mjerenost prema kompeten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soka razina kvalitete učenja za svakog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čitelji/nastavnici i školsko osob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cc0000"/>
                </a:solidFill>
                <a:latin typeface="Arial"/>
              </a:rPr>
              <a:t>Kvaliteta nastavnika je najvažniji faktor koji direktno utječe na postignuća učenika na razini škol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hr-HR" sz="2800" spc="-1" strike="noStrike">
                <a:solidFill>
                  <a:srgbClr val="333399"/>
                </a:solidFill>
                <a:latin typeface="Arial"/>
              </a:rPr>
              <a:t>Bez učinkovitog vođenja škole (ravnatelja/pedagoga), nije izgledno da će škola razviti kulturu visokih očekivanja i kontinuiranog unapređenja kvalitete.”     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(McKinsey, 200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2916360" y="6245280"/>
            <a:ext cx="32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2843280" y="6245280"/>
            <a:ext cx="331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tručno usavršavanje u 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adicionalni oblici (seminari, predavanja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veće zadovoljstvo radion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dovoljstvo kvalitetom (prosječ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tori: Agencija, škola, os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ebe (OŠ): praktična znanja, primjeri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ebe (SSŠ): rad s učenicima s teškoćama i sadržaji stru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slabiji doprinos SU (OŠ): IKT, zakonodav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veći doprinos SU (OŠ): primjena nastavnih metoda, određivanje nastavnih cil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slabiji doprinos US (SŠ): rad s učenicima s teškoćama i smetnjama u ponašanju, razredništvo, suradnja s roditeljima, zakonodav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veći doprinos SU (SŠ): primjena nastavnih metoda, određivanje nastavnih ciljeva, nastavno gradivo (stru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(Pavin, Rijavec i Miljević-Riđički, 200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(Pavin, 2005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činkoviti P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"kontinuirani proces razvoja, uključuje izobrazbu, primjenu u praksi i povratnu informaciju te i osigurava dovoljno vremena i kontinuirane podrš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pješni programi uključuju nastavnike u aktivnosti učenja koje su slične onima koje nastavnici koriste u radu s učenicima te potiču razvoj zajednica nastavnika koji uč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orastu je interes za razvoj škola kao organizacija koje uče, a u kojima nastavnici sustavno razmjenjuju svoja znanja i iskustva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OECD,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2916360" y="6245280"/>
            <a:ext cx="32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2700360" y="6245280"/>
            <a:ext cx="34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Atributi učinkovitosti PR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skey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napređuje znanja predmetnih sadržaja i metodičko-didaktička zn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sigurano je primjereno vrijeme (trajanje) i ostali potrebni izvo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promovira suradnju među učiteljima i razmjenu iskusta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ključuje procedure vrednovanja stručnog usavrša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sklađeno je s reformskim inicijativama obrazovne polit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temeljeno je na modelu kvalitetnog pouča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ržava se u ško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razvija voditeljske (</a:t>
            </a:r>
            <a:r>
              <a:rPr b="0" i="1" lang="hr-HR" sz="2200" spc="-1" strike="noStrike">
                <a:solidFill>
                  <a:srgbClr val="000000"/>
                </a:solidFill>
                <a:latin typeface="Arial"/>
              </a:rPr>
              <a:t>leadership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) kompetencije nastav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melji se na identificiranim potrebama nastav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melji se na rezultatima analize obrazovnih rezultata uč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771640" y="6245280"/>
            <a:ext cx="338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Atributi učinkovitosti PR</a:t>
            </a:r>
            <a:br>
              <a:rPr sz="36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skey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1. usmjereno na unapređenje rada pojedinca-nastavnika i rada šk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cjelini (organizacije koja uč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2. podrška prof. razvoju je kontinuirana (i nakon stručnog sku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3. uključuje sustavno praćenje napretka nastavnika i podršku u šk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4. temelji se na najrecentnijim znanstvenim spozna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5. postoji raznolikost oblika stručnog usavrš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6. pruža mogućnost razumijevanja problema prakse sa znan. polaz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7. pomaže prihvaćanju različitosti i promoviranju jednak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8. vođeno je jasnom vizijom kvalitetnog poučavanja i uč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19. primjereno je specifičnostima razdoblja prof. razvoja nastav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0. promovira kontinuirano istraživanje vlastite prakse i refleksi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21. uključuje roditelje i ostale dio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2771640" y="6245280"/>
            <a:ext cx="345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Arial"/>
              </a:rPr>
              <a:t>mr. sc. Sanja Milović - viša savjetnica za međunarodnu suradn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odani atributi</a:t>
            </a:r>
            <a:br>
              <a:rPr sz="36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za potrebe istraži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22. usmjerenost na postizanje krajnjeg cilja stručno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savršavanja - unapređenje kvalitete izvođenja nasta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te indirektno poboljšanje obrazovnih ishoda učen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23. održava se izvan šk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24. promovira uključivanje nastavnika u IKT mreže/porta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za stručno usavršav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25. povezano je sa sustavom napredovanja u z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mentor i savjetni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Korisnik</cp:lastModifiedBy>
  <dcterms:modified xsi:type="dcterms:W3CDTF">2012-05-09T06:42:58Z</dcterms:modified>
  <cp:revision>129</cp:revision>
  <dc:subject/>
  <dc:title>Slide 1</dc:title>
</cp:coreProperties>
</file>