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13CA-182C-40EC-AF0C-A8C3A059537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0562-6F6A-466B-A4CA-B674D35873FB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0062-5F84-470A-886A-BC2F39D0B8C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E50B-F591-4062-AC79-3EEC55BFD45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8413-5940-47F7-9F94-4ED8E415326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9BFA-B293-4644-9A0F-7F4AF3B00B0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5598-D604-41F4-93A1-9C1846C8FAB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A69-0A45-4FA7-8EA8-B6BC1783D52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4CEB-D030-4096-9C31-8FF0239DCDC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463F-7F78-4E45-8D8C-B94B2D64565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E56-13CB-4D40-A8D7-7DFF9139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C90-A4E3-46F4-B509-E220B3E4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EC6-EB4E-4772-B3BF-58A6DA15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9B8-36ED-4E4F-B298-29274601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BB89-A1B0-495A-9A11-1A95B84A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4B8C-C845-422E-BB77-702CA870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0F55-30AA-4EEA-B528-B156BE62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9BF4-7041-42B7-9865-A8A12082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4B3C-FAE1-44B3-BD13-2321FB2A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168C-DEC6-40A6-9FED-1514C9EA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7A25-A697-4272-A660-0D75A5B2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EBD-FCC6-4272-B47C-168C0854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A425-C0AD-4A16-A347-725CBCC9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EA00-44FD-4A8E-8CCC-05BD59D3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1ED6-9B5A-4D56-9B38-785FE2E0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1F26-5802-49C9-8E12-72FCF9F6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705F-28CD-4740-85A6-429E8827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C83-D37A-44CD-B76A-1F4638FD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225C-ECE9-47D7-9CC6-F94B3ADE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AFF-1B0B-45A4-B310-7ECA14F3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EDA-BBF8-4020-81CE-5124B2B3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638-1BF3-4BD5-A6F6-6D39B2E1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6AB-8241-42B4-A81B-24676A95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DBA-7C73-43F4-A696-624CBE88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76FA-4A46-4496-8FF4-D13E0F473B13}" type="datetime">
              <a:rPr b="0" lang="sr-Latn-CS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D808-5356-4089-932B-A563261E2F49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FBC7-2D09-4F3A-85F5-4610BC303F2E}" type="datetime">
              <a:rPr b="0" lang="sr-Latn-CS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9D71-D62F-4813-B918-772512ABB22A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latka.domovic@ufzg.hr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33"/>
                </a:solidFill>
                <a:latin typeface="Arial"/>
              </a:rPr>
              <a:t>Profesionalni identitet učitelja i nastavnik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0920" y="3500280"/>
            <a:ext cx="806436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ržavni stručni skup za stručne suradnike pedagoge Osijek, 7. – 9. 5.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prof. dr. sc. Vlatka Domovi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Arial"/>
              </a:rPr>
              <a:t>Učiteljski fakultet, Zagreb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hr-HR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vlatka.domovic@ufzg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3D40-E945-46EB-85B5-AA75BA2FBD50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Karakteristike profesi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fesija se rukovodi etičkim kodeksom koji određuje profesionalnu praksu i definira profesionalne vrijednos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Budući da se vještine temeljene na znanju prakticiraju i u nerutinskim situacijama, neophodno je da profesionalci imaju slobodu u donošenju vlastitih procjena u skladu s  odgovarajućom prakso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4597-023C-4AF6-9948-5D1D7B200858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Karakteristike profesi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bog specifičnosti profesionalne prakse, organizirane profesije trebaju imati utjecaj na kreiranje relevantne politike, odnosno visok stupanj kontrole nad izvršavanjem svoje djelatnosti i visok stupanj autonomije u odnosu na držav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lanovi profesije iskazuju dugoročnu predanost profesiji i kontinuiranom usavršavanju svojih znanja i vješt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ug period školovanja, odgovornost u radu i djelovanje za dobrobit klijenata trebaju biti nagrađeni visokim statusom i plać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B111-A9FC-4A3D-AB43-6AC8EA38EFEB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6633"/>
                </a:solidFill>
                <a:latin typeface="Arial"/>
              </a:rPr>
              <a:t>Kada zanimanje prerasta u profesiju – povijesne prekretnice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edovni posao, puno radno vrij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snivanje prvih šk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snivanje prvih sveučiliš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snivanje prvih lokalnih profesionalnih udruž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snivanje prvih nacionalnih/internacionalnih profesionalnih udruž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zrada etičkog kodeksa profes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vođenje, utemeljivanje zakona o licenciran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787C-5DC8-4DE7-8EC9-5BA7A13BB800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Pitanje za diskusiju</a:t>
            </a: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Je li biti učitelj/nastavnik profesi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54F-F732-4BB8-A58B-CFD4A7F191A9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33"/>
                </a:solidFill>
                <a:latin typeface="Arial"/>
              </a:rPr>
              <a:t>Pitanja o razvoju učiteljske/nastavničke profesije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Je li učiteljska profesija dovoljno razvijena da sama definira što čini korpus njenih temeljnih profesionalnih znanj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ada i pod kojim okolnostima učitelji djeluju autonomn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ide li učitelji sebe kao tehničke izvođače unaprijed i izvana zadanih procedur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 kojim okolnostima učitelji sami definiraju pravila profesionalnog ponašanj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4198-F624-43CA-98FD-B506077995BB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33"/>
                </a:solidFill>
                <a:latin typeface="Arial"/>
              </a:rPr>
              <a:t>Pitanja o razvoju učiteljske/nastavničke profesije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a koji način preuzimaju odgovornost o primanju novih članov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Ekskomuniciranju li sami one koji se ne pridržavaju profesionalnih norm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 kojim okolnostima su sami kadri definirati profesionalne standarde, sustav licenciranja i relicenciranj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o koje mjere preuzimaju odgovornost za uvođenje novih članova u profesiju i kako sami propisuju trajno usavršavanj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44C4-33B4-4140-AC81-C899C47C54CA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33"/>
                </a:solidFill>
                <a:latin typeface="Arial"/>
              </a:rPr>
              <a:t>Pitanja o razvoju učiteljske/nastavničke profesije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liko i kako su uključeni u kreiranje sustava napredovanja, odnosno definiranja karijerne ljestv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liko sudjeluju u razvoju profesionalne baze znanj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ogu li učitelji utjecati na obrazovni sustav i njegove ciljeve i u kojoj mjer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akav status ima učiteljska profesija u javnosti i zaš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a koji način se formira i razvija profesionalna kultura učitelj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9924-D275-4FA5-956A-E3957EC05305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6633"/>
                </a:solidFill>
                <a:latin typeface="Arial"/>
              </a:rPr>
              <a:t>Nastavnička/učiteljska profesija – paradoks profesionalizma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oncept profesionalizma učitelja/nastavnika treba locirati u odnosu na promjenjiv povijesni, politički i socijalni kontek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oncept profesionalizma učitelja je neka vrsta ideologije koja daje učiteljima/nastavnicima autonomiju u djelovanju ali istovremeno legitimira kontrolu nad njima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B234-488A-444C-8064-8E2B50C35E22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Nastavnička/učiteljska profesija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ijep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ehnička racionalnost” – učitelj kao izvršitelj unaprijed definiranih ciljeva, planova i progra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tvorena profesionalnost” – učitelj kao refleksivni praktičar koji potiče promje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EF3B-6EE7-4A99-A67B-DD5E74BF1953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6633"/>
                </a:solidFill>
                <a:latin typeface="Arial"/>
              </a:rPr>
              <a:t>Četiri faze razvoja učiteljske profesionalizacije</a:t>
            </a:r>
            <a:r>
              <a:rPr b="0" lang="hr-HR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hr-HR" sz="2400" spc="-1" strike="noStrike">
                <a:solidFill>
                  <a:srgbClr val="006633"/>
                </a:solidFill>
                <a:latin typeface="Arial"/>
              </a:rPr>
              <a:t>(prema Hargreaves, 2000.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dprofesionalno razdob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doblje autonomnog profesionaliz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doblje kolegijalnog profesionaliz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stprofesionalno razdobl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6493-8B83-4CE3-94AA-79760C3AEABC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Moto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valiteta obrazovnog sustava ne može nadmašiti kvalitetu učitelja koji u njemu rad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McKinsey report, 200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6A61-AF24-481A-B460-7C01F6DA379F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  <a:ea typeface="Arial"/>
              </a:rPr>
              <a:t>Profesionalni identitet učitel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hr-HR" sz="3000" spc="-1" strike="noStrike">
                <a:solidFill>
                  <a:srgbClr val="000000"/>
                </a:solidFill>
                <a:latin typeface="Arial"/>
              </a:rPr>
              <a:t>Svjesno, mi poučavamo ono što zna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Arial"/>
              </a:rPr>
              <a:t>nesvjesno, mi poučavamo ono što jesmo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(Hamachek,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0650-8D79-446D-8477-71CDC9D614F0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Profesionalni identitet - definici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d identitetom se misli na to kako učitelji vide sami sebe profesionalno, što uključuje njihov osjećaj za vlastite ciljeve, odgovornosti, stil rada i poučavanja, učinkovitost, stupanj zadovoljstva i vlastito planiranje razvoja karijer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Kosnik i Beck, 200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fesionalni identitet čine nesvjesne potrebe, osjećaji, vrijednosti, modeli uloga, prethodna iskustva i ponašanja, koji zajedno stvaraju osjećaj identitet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Korthagen, 2004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66CE-B45F-4F98-B48F-100AD9A75513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33"/>
                </a:solidFill>
                <a:latin typeface="Arial"/>
                <a:ea typeface="Arial"/>
              </a:rPr>
              <a:t>Obilježja važna za analizu profesionalnog identiteta učitelja/nastavnika</a:t>
            </a:r>
            <a:r>
              <a:rPr b="0" lang="hr-HR" sz="2800" spc="-1" strike="noStrike">
                <a:solidFill>
                  <a:srgbClr val="006633"/>
                </a:solidFill>
                <a:latin typeface="Arial"/>
                <a:ea typeface="Arial"/>
              </a:rPr>
              <a:t> (</a:t>
            </a:r>
            <a:r>
              <a:rPr b="0" lang="hr-HR" sz="2000" spc="-1" strike="noStrike">
                <a:solidFill>
                  <a:srgbClr val="006633"/>
                </a:solidFill>
                <a:latin typeface="Arial"/>
                <a:ea typeface="Arial"/>
              </a:rPr>
              <a:t>Rodgers i Scott, 2008):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dentitet ovisi i razvija se unutar višestrukog konteksta, odnosno na njega utječu kulturne, povijesne, socijalne i političke promj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dentitet se formira u odnosu s drugima i uključuje emoc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dentitet je promjenjiv, nestabilan i višestr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dentitet uključuje konstrukciju i rekonstrukciju značenja kroz vrijem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E1E8-2281-444A-AB88-A063FC335990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Što čini profesionalni identitet?</a:t>
            </a:r>
            <a:br>
              <a:rPr sz="4200"/>
            </a:br>
            <a:r>
              <a:rPr b="0" lang="hr-HR" sz="1800" spc="-1" strike="noStrike">
                <a:solidFill>
                  <a:srgbClr val="006633"/>
                </a:solidFill>
                <a:latin typeface="Arial"/>
              </a:rPr>
              <a:t>(The onion model adaptiran prema Korthagen, 2004.) 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85880" y="2143080"/>
            <a:ext cx="4525920" cy="4525920"/>
          </a:xfrm>
          <a:prstGeom prst="rect">
            <a:avLst/>
          </a:prstGeom>
          <a:ln w="0">
            <a:noFill/>
          </a:ln>
        </p:spPr>
      </p:pic>
      <p:cxnSp>
        <p:nvCxnSpPr>
          <p:cNvPr id="161" name="Straight Arrow Connector 12"/>
          <p:cNvCxnSpPr/>
          <p:nvPr/>
        </p:nvCxnSpPr>
        <p:spPr>
          <a:xfrm flipV="1">
            <a:off x="3071880" y="1714320"/>
            <a:ext cx="2160" cy="429120"/>
          </a:xfrm>
          <a:prstGeom prst="straightConnector1">
            <a:avLst/>
          </a:prstGeom>
          <a:ln w="9360">
            <a:solidFill>
              <a:srgbClr val="cc9800"/>
            </a:solidFill>
            <a:miter/>
            <a:headEnd len="med" type="arrow" w="med"/>
            <a:tailEnd len="med" type="arrow" w="med"/>
          </a:ln>
        </p:spPr>
      </p:cxnSp>
      <p:sp>
        <p:nvSpPr>
          <p:cNvPr id="162" name="Rectangle 13"/>
          <p:cNvSpPr/>
          <p:nvPr/>
        </p:nvSpPr>
        <p:spPr>
          <a:xfrm>
            <a:off x="2571840" y="1500120"/>
            <a:ext cx="1000080" cy="21456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ffff"/>
                </a:solidFill>
                <a:latin typeface="Arial"/>
              </a:rPr>
              <a:t>Okol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7"/>
          <p:cNvSpPr/>
          <p:nvPr/>
        </p:nvSpPr>
        <p:spPr>
          <a:xfrm>
            <a:off x="3643200" y="1571760"/>
            <a:ext cx="571680" cy="144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4286160" y="1500120"/>
            <a:ext cx="2428920" cy="42876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ffff"/>
                </a:solidFill>
                <a:latin typeface="Calibri"/>
              </a:rPr>
              <a:t>S čime se morate suočiti/nositi</a:t>
            </a:r>
            <a:r>
              <a:rPr b="0" lang="hr-HR" sz="1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ffff"/>
                </a:solidFill>
                <a:latin typeface="Calibri"/>
              </a:rPr>
              <a:t>(Što utječe na Vas?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20"/>
          <p:cNvSpPr/>
          <p:nvPr/>
        </p:nvSpPr>
        <p:spPr>
          <a:xfrm>
            <a:off x="3643200" y="2357280"/>
            <a:ext cx="1071720" cy="180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4857840" y="2214720"/>
            <a:ext cx="1500120" cy="2142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ffff"/>
                </a:solidFill>
                <a:latin typeface="Arial"/>
              </a:rPr>
              <a:t>Što činit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7"/>
          <p:cNvSpPr/>
          <p:nvPr/>
        </p:nvSpPr>
        <p:spPr>
          <a:xfrm>
            <a:off x="3571920" y="2643120"/>
            <a:ext cx="1357200" cy="180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072040" y="2571840"/>
            <a:ext cx="1785960" cy="21420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ffff"/>
                </a:solidFill>
                <a:latin typeface="Calibri"/>
              </a:rPr>
              <a:t>Što možete</a:t>
            </a:r>
            <a:r>
              <a:rPr b="0" lang="hr-HR" sz="1100" spc="-1" strike="noStrike">
                <a:solidFill>
                  <a:srgbClr val="ffffff"/>
                </a:solidFill>
                <a:latin typeface="Arial"/>
              </a:rPr>
              <a:t>/znate</a:t>
            </a:r>
            <a:r>
              <a:rPr b="0" lang="hr-HR" sz="1100" spc="-1" strike="noStrike">
                <a:solidFill>
                  <a:srgbClr val="ffffff"/>
                </a:solidFill>
                <a:latin typeface="Calibri"/>
              </a:rPr>
              <a:t> učiniti</a:t>
            </a:r>
            <a:r>
              <a:rPr b="0" lang="hr-HR" sz="1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14"/>
          <p:cNvSpPr/>
          <p:nvPr/>
        </p:nvSpPr>
        <p:spPr>
          <a:xfrm>
            <a:off x="3571920" y="3000240"/>
            <a:ext cx="1643040" cy="14292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5286240" y="3000240"/>
            <a:ext cx="1785960" cy="21456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ffff"/>
                </a:solidFill>
                <a:latin typeface="Arial"/>
              </a:rPr>
              <a:t>U što vjerujet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9"/>
          <p:cNvSpPr/>
          <p:nvPr/>
        </p:nvSpPr>
        <p:spPr>
          <a:xfrm>
            <a:off x="3429000" y="3357720"/>
            <a:ext cx="2286000" cy="42840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5786280" y="3643200"/>
            <a:ext cx="1785960" cy="42876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ffff"/>
                </a:solidFill>
                <a:latin typeface="Calibri"/>
              </a:rPr>
              <a:t>Tko ste Vi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ffff"/>
                </a:solidFill>
                <a:latin typeface="Calibri"/>
              </a:rPr>
              <a:t>(Kako vidite svoju ulogu </a:t>
            </a:r>
            <a:r>
              <a:rPr b="0" lang="hr-HR" sz="1100" spc="-1" strike="noStrike">
                <a:solidFill>
                  <a:srgbClr val="ffffff"/>
                </a:solidFill>
                <a:latin typeface="Arial"/>
              </a:rPr>
              <a:t>u ….?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23"/>
          <p:cNvSpPr/>
          <p:nvPr/>
        </p:nvSpPr>
        <p:spPr>
          <a:xfrm>
            <a:off x="3429000" y="3714840"/>
            <a:ext cx="2500200" cy="928440"/>
          </a:xfrm>
          <a:prstGeom prst="line">
            <a:avLst/>
          </a:prstGeom>
          <a:ln w="9360">
            <a:solidFill>
              <a:srgbClr val="cc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6000840" y="4429080"/>
            <a:ext cx="1571400" cy="428760"/>
          </a:xfrm>
          <a:prstGeom prst="rect">
            <a:avLst/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ffff"/>
                </a:solidFill>
                <a:latin typeface="Calibri"/>
              </a:rPr>
              <a:t>Zašto ste ovdje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ffffff"/>
                </a:solidFill>
                <a:latin typeface="Calibri"/>
              </a:rPr>
              <a:t>(Čemu ste </a:t>
            </a:r>
            <a:r>
              <a:rPr b="0" lang="hr-HR" sz="11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r-HR" sz="1100" spc="-1" strike="noStrike">
                <a:solidFill>
                  <a:srgbClr val="ffffff"/>
                </a:solidFill>
                <a:latin typeface="Calibri"/>
              </a:rPr>
              <a:t>redani?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2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A224-CC29-449E-ABBF-3780187C36BA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6633"/>
                </a:solidFill>
                <a:latin typeface="Arial"/>
              </a:rPr>
              <a:t>Što čini profesionalni identitet učitelja/nastavnika? Vrste identiteta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duzetnički identitet učitelja/nastav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tivistički identitet učitelja/nastav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6307-0E69-4530-993C-C256832C40B1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33"/>
                </a:solidFill>
                <a:latin typeface="Arial"/>
              </a:rPr>
              <a:t>Poduzetnički identitet učitelja/ nastavnika je </a:t>
            </a:r>
            <a:r>
              <a:rPr b="0" lang="hr-HR" sz="2000" spc="-1" strike="noStrike">
                <a:solidFill>
                  <a:srgbClr val="006633"/>
                </a:solidFill>
                <a:latin typeface="Arial"/>
              </a:rPr>
              <a:t>(prema: Sachs, 2004)</a:t>
            </a:r>
            <a:br>
              <a:rPr sz="44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ndividualistič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atjecateljs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ontroliran i regulir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efiniran izv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ođen standard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C419-4FA3-41BF-9729-A516DF9EABD3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33"/>
                </a:solidFill>
                <a:latin typeface="Arial"/>
              </a:rPr>
              <a:t>Aktivistički identitet učitelja/</a:t>
            </a:r>
            <a:br>
              <a:rPr sz="4400"/>
            </a:br>
            <a:r>
              <a:rPr b="0" lang="hr-HR" sz="4400" spc="-1" strike="noStrike">
                <a:solidFill>
                  <a:srgbClr val="006633"/>
                </a:solidFill>
                <a:latin typeface="Arial"/>
              </a:rPr>
              <a:t>nastavnika je </a:t>
            </a:r>
            <a:r>
              <a:rPr b="0" lang="hr-HR" sz="2000" spc="-1" strike="noStrike">
                <a:solidFill>
                  <a:srgbClr val="006633"/>
                </a:solidFill>
                <a:latin typeface="Arial"/>
              </a:rPr>
              <a:t>(prema: Sachs, 2004)</a:t>
            </a:r>
            <a:br>
              <a:rPr sz="44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utemeljen na demokratskim princip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pregovara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urad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ocijalno kritič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rijentiran na buduć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trateš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29B9-DEFE-4866-B3D3-BD8A287589AA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6633"/>
                </a:solidFill>
                <a:latin typeface="Arial"/>
              </a:rPr>
              <a:t>Unutrašnji činitelji učiteljskog/</a:t>
            </a:r>
            <a:br>
              <a:rPr sz="4000"/>
            </a:br>
            <a:r>
              <a:rPr b="0" lang="hr-HR" sz="4000" spc="-1" strike="noStrike">
                <a:solidFill>
                  <a:srgbClr val="006633"/>
                </a:solidFill>
                <a:latin typeface="Arial"/>
              </a:rPr>
              <a:t>nastavničkog profesionalizma su: </a:t>
            </a:r>
            <a:r>
              <a:rPr b="0" lang="hr-HR" sz="2000" spc="-1" strike="noStrike">
                <a:solidFill>
                  <a:srgbClr val="006633"/>
                </a:solidFill>
                <a:latin typeface="Arial"/>
              </a:rPr>
              <a:t>(prema: Sachs, 2004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č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ključe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urad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ktiviz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F417-864A-4FA8-8A1D-D800B62F5AD9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Hvala na pažnji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Documents and Settings\Vlatka\My Documents\My Pictures\reachingout.jpg"/>
          <p:cNvPicPr/>
          <p:nvPr/>
        </p:nvPicPr>
        <p:blipFill>
          <a:blip r:embed="rId1"/>
          <a:stretch/>
        </p:blipFill>
        <p:spPr>
          <a:xfrm>
            <a:off x="1397160" y="1700280"/>
            <a:ext cx="6349680" cy="439272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5365-9F0B-4752-A6FF-99084D6E59EC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Pitanj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je profesij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azvoj učiteljske/nastavničke profesije – nedoumice i izazovi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fesionalni identitet učitelja/nastavnik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EB5D-47E1-4C91-B25E-9724E62A5F31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Što je profesija?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ema opće prihvaćene, jednoznačne definici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amo dvije profesije (?): medicina i pra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B3A7-A5B6-4F1C-AFCC-F9F1BB7FFC46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Definicije profesi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rupa pojedinaca koji slijede visoke etičke standarde, koja je prihvaćena od javnosti, posjeduje specijalna znanja i vještine stečene obrazovanjem na visokoj razini, i koja je osposobljena za primjenu tih znanja i vještina u interesu drugih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fesija uključuje primjenu specijaliziranih znanja uz nadoknadu klijen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BFDE-0E2F-42E2-828B-C0CB8B895146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Definicije profesi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fesije se razlikuju od drugih grupacija i zanimanja jer ih reprezentiraju profesionalna udruženja (komore, sindikati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fesija podrazumijeva razvoj formalnih kvalifikacija koje se temelje na obrazovanju i provjeri; pojavi regulacijskih tijela koja određuju primanje članova i propisuju disciplinske mjere i imaju neki stupanj monopo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6EB8-1716-4F2B-8413-EE836E0B9510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Definicije profesi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fesije uživaju visok stupanj autonomije – one mogu donositi neovisnu prosudbu o svom radu. Profesionalna autonomija može se održati jedino ako članovi profesije podvrgnu svoje aktivnosti i odluke kritičkoj evaluaciji drugih članova profesi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E9CC-214E-4B2D-8597-1E8F22BA1C90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Karakteristike profesi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fesija je posao koji se percipira kao društveno vrijedan i bitan za razvoj ključnih socijalnih i ljudskih vrijednost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stvarivanje te funkcije zahtijeva ovladanost visokom razinom specifičnih znanja i vještina. Profesionalno znanje utemeljeno je u empirijskim metodama prikupljanja podataka i kompleksnim teorija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Znanje i vještine primjenjuju se ne samo u svakodnevnoj, ustaljenoj praksi već služe i za  rješavanje različitih problemskih situa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D301-A18A-4159-A337-47F82F9B4036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Arial"/>
              </a:rPr>
              <a:t>Karakteristike profesij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vladavanje profesionalnim znanjem i vještinama zahtijeva dug period školovanja i usvajanja praktičnih vještina što se obično odvija na sveučilišt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grami obrazovanja sastavljeni su na način da omogućuju socijalizaciju, odnosno prihvaćanje profesionalnih vrijednosti, kulture i simbola kojima se kultura komunici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e se vrijednosti koncentriraju oko djelovanja članova profesije na dobrobit njihovih klijen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BEE4-3330-4C89-9D81-6C3C2D27715C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3:40:21Z</dcterms:created>
  <dc:creator>Zeljka Knezevic</dc:creator>
  <dc:description/>
  <dc:language>en-US</dc:language>
  <cp:lastModifiedBy>Korisnik</cp:lastModifiedBy>
  <dcterms:modified xsi:type="dcterms:W3CDTF">2012-05-07T17:18:24Z</dcterms:modified>
  <cp:revision>125</cp:revision>
  <dc:subject/>
  <dc:title>Slide 1</dc:title>
</cp:coreProperties>
</file>