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898-334F-423E-B68D-8B52D93A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D252-DA90-40A2-AEDE-9828A22A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566-B6D9-4EBC-947F-B3C9EAF9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AE6-805F-4488-813F-144843AD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3571-B5AF-4B5C-B818-B5625142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9EAA-B1A5-425C-A722-98642CFF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A11F-0C1F-4D2F-94AE-238F2875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0044-4D14-44D6-97E2-5D2145BC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15ED-26F0-4381-9FF1-44A04049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32EE-6BB6-4252-BEEB-3F142598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97F3-52A9-4CC7-B8B1-498DE9CC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EAAE-4B6F-4D53-8CC3-E8B70430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3804-7EA3-4C7F-BD60-5E1EC0BB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5644-0BB5-4C4C-B1F0-9341FFDC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9F0E-CCED-487F-9946-DDD18850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FE9C-6488-444E-AD4C-AAC4F254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E3BD-510E-4832-9865-EDA0A218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3419E-118A-44B3-A7ED-9D49353C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95DA5-BDE7-4297-BC4F-4052A523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C996D-375C-4AB4-9484-79F5ECD5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C5616-18DE-4AB6-954D-96F26DA2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AB2F8-BC33-41E0-AADD-9C3A1CBD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CE2-0A6D-4641-A1F1-541FB335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3EA88-3DAA-4C18-BEDF-D67CB375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A0CD4-B9F5-47AD-817D-5E8AFAA5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53FCC-3668-441E-B198-62D71E95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C770D-ECC3-43A4-9E18-36F50CD7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90FA6-A395-4F18-8572-AD6A054A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EBB67-C6E7-4C4A-82F2-F88A090A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01EA8-57F6-470B-B7B1-8D1E7DFA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02224-EF77-4901-BB34-52404160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BF0D7-7732-4117-84EB-9610876B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96A23-1B6C-4641-9DE4-73D84FC7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A014-B84E-4B4E-BF2F-6618D9EB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4E032-FB13-4E4C-9228-727A6D0D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7D65C-398D-4031-B321-0CDDAD72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1B0C4-1DFA-4E98-8566-C22E7527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50171-5D70-4B7D-BE4D-C7182DFB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B41DF-3E43-4D4A-99A6-502AB308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94052-026B-4C40-A95C-98BB6B30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CA143-610E-4BC9-A381-FAC45F7D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04F4E-EE3D-451B-B0B0-135E089A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E2EC3-404F-4008-B795-793C14E0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817CA-6F59-450F-9B9F-DFF4B4FC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919F-6B2D-40D1-9A21-8347911A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CF07E-117B-4929-8F54-F4C7F3F2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10FC7-5630-4031-A480-F2CF41C2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8CA89-1AEA-4D5D-BD2F-DDAB42C2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48774-7CF8-40EF-B446-0C01CE93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96810-2367-4BF3-BD9E-07A2AC8D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9A406-D7D8-428E-A26F-121D17A1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460B5-FBD8-4A38-A58F-48C8D9C7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B2BE9-741C-4B75-876D-3A004CF7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15C87-63D8-401E-A376-B7BA09FB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FD8D4-9782-45F5-B249-3F49C9E6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808-910E-48EE-A07C-C52F6E0F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86C6B-555F-4BA0-83A2-0352B4E9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60F6-7366-45CB-B40E-D74BE2EC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DD2-CB24-4068-9E27-757A14C0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E57-6B9A-4868-B0E4-CB99D871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ea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b58b8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b58b8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e3b30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e3b30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BED0-6E09-43C9-BBA5-F988C4F2E423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6ce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a19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ea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b58b8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b58b8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e3b30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e3b30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70DA-7796-4E90-897B-3A554F17E306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6ce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a19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ea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b58b8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b58b8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e3b30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e3b30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2961-3AAB-4143-A1D7-CE430208E196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ea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b58b8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b58b8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e3b30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e3b30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A87A-2B46-4E66-A271-53D92E855A8B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6ce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a19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ea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b58b8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b58b8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e3b30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e3b30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55AA-5C2D-42EE-AD31-3587903B9907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402920" y="3715920"/>
            <a:ext cx="701676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e3b30"/>
                </a:solidFill>
                <a:latin typeface="Times New Roman"/>
              </a:rPr>
              <a:t>Vlasta Vizek Vidović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4e3b30"/>
                </a:solidFill>
                <a:latin typeface="Times New Roman"/>
              </a:rPr>
              <a:t>Centar za istraživanje i razvoj obrazovanja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4e3b30"/>
                </a:solidFill>
                <a:latin typeface="Times New Roman"/>
              </a:rPr>
              <a:t>Institut za društvena istraživanja u Zagrebu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540000"/>
                </a:solidFill>
                <a:latin typeface="Times New Roman"/>
                <a:ea typeface="Times New Roman"/>
              </a:rPr>
              <a:t>Antonija Žižak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540000"/>
                </a:solidFill>
                <a:latin typeface="Times New Roman"/>
                <a:ea typeface="Times New Roman"/>
              </a:rPr>
              <a:t>Edukacijsko-rehabilitacijski fakultet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200" spc="-1" strike="noStrike">
                <a:solidFill>
                  <a:srgbClr val="540000"/>
                </a:solidFill>
                <a:latin typeface="Times New Roman"/>
                <a:ea typeface="Times New Roman"/>
              </a:rPr>
              <a:t>Sveučilište u Zagrebu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e3b30"/>
                </a:solidFill>
                <a:latin typeface="Times New Roman"/>
              </a:rPr>
              <a:t>Praćenje pripravnika</a:t>
            </a:r>
            <a:br>
              <a:rPr sz="3600"/>
            </a:br>
            <a:r>
              <a:rPr b="1" i="1" lang="hr-HR" sz="3600" spc="-1" strike="noStrike">
                <a:solidFill>
                  <a:srgbClr val="624139"/>
                </a:solidFill>
                <a:latin typeface="Times New Roman"/>
                <a:ea typeface="Times New Roman"/>
              </a:rPr>
              <a:t>Uloga mentora  i mentorske kompetencije</a:t>
            </a:r>
            <a:br>
              <a:rPr sz="3600"/>
            </a:b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540000"/>
                </a:solidFill>
                <a:latin typeface="Times New Roman"/>
              </a:rPr>
              <a:t>Uloge mentora – neizravan utjecaj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84360" y="1557360"/>
          <a:ext cx="7859520" cy="4572000"/>
        </p:xfrm>
        <a:graphic>
          <a:graphicData uri="http://schemas.openxmlformats.org/drawingml/2006/table">
            <a:tbl>
              <a:tblPr/>
              <a:tblGrid>
                <a:gridCol w="3960720"/>
                <a:gridCol w="389880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945a46"/>
                          </a:solidFill>
                          <a:latin typeface="Times New Roman"/>
                          <a:ea typeface="Times New Roman"/>
                        </a:rPr>
                        <a:t>POVEZIVAČ (facilitator, umrežitelj</a:t>
                      </a:r>
                      <a:r>
                        <a:rPr b="1" lang="hr-HR" sz="2000" spc="-1" strike="noStrike">
                          <a:solidFill>
                            <a:srgbClr val="62413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avna zadaća: pomoć početniku u građenju kolegijalne mreže podrš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je informacije, potiče, promat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58b80"/>
                      </a:solidFill>
                    </a:lnL>
                    <a:lnR w="5760">
                      <a:solidFill>
                        <a:srgbClr val="b58b80"/>
                      </a:solidFill>
                    </a:lnR>
                    <a:lnT w="12240">
                      <a:solidFill>
                        <a:srgbClr val="b58b80"/>
                      </a:solidFill>
                    </a:lnT>
                    <a:lnB w="5760">
                      <a:solidFill>
                        <a:srgbClr val="b58b80"/>
                      </a:solidFill>
                    </a:lnB>
                    <a:solidFill>
                      <a:srgbClr val="ffe9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945a46"/>
                          </a:solidFill>
                          <a:latin typeface="Times New Roman"/>
                          <a:ea typeface="Times New Roman"/>
                        </a:rPr>
                        <a:t>SAVJETOVATELJ (davatelj podrške</a:t>
                      </a:r>
                      <a:r>
                        <a:rPr b="1" lang="hr-HR" sz="2000" spc="-1" strike="noStrike">
                          <a:solidFill>
                            <a:srgbClr val="945a4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avna zadaća: razumijevanje potreba početnika, građenje samopouzdan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atizira, sluša, prihvaća, uspostavlja povjere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58b80"/>
                      </a:solidFill>
                    </a:lnL>
                    <a:lnR w="5760">
                      <a:solidFill>
                        <a:srgbClr val="b58b80"/>
                      </a:solidFill>
                    </a:lnR>
                    <a:lnT w="12240">
                      <a:solidFill>
                        <a:srgbClr val="b58b80"/>
                      </a:solidFill>
                    </a:lnT>
                    <a:lnB w="5760">
                      <a:solidFill>
                        <a:srgbClr val="b58b80"/>
                      </a:solidFill>
                    </a:lnB>
                    <a:solidFill>
                      <a:srgbClr val="ffe9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24139"/>
                </a:solidFill>
                <a:latin typeface="Times New Roman"/>
                <a:ea typeface="Times New Roman"/>
              </a:rPr>
              <a:t>Peta – konfliktna uloga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95280" y="1700280"/>
          <a:ext cx="8373960" cy="4402080"/>
        </p:xfrm>
        <a:graphic>
          <a:graphicData uri="http://schemas.openxmlformats.org/drawingml/2006/table">
            <a:tbl>
              <a:tblPr/>
              <a:tblGrid>
                <a:gridCol w="4259160"/>
                <a:gridCol w="41148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624139"/>
                          </a:solidFill>
                          <a:latin typeface="Times New Roman"/>
                          <a:ea typeface="Times New Roman"/>
                        </a:rPr>
                        <a:t>MEN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644e"/>
                      </a:solidFill>
                    </a:lnL>
                    <a:lnR w="5760">
                      <a:solidFill>
                        <a:srgbClr val="a5644e"/>
                      </a:solidFill>
                    </a:lnR>
                    <a:lnT w="5760">
                      <a:solidFill>
                        <a:srgbClr val="a5644e"/>
                      </a:solidFill>
                    </a:lnT>
                    <a:lnB w="12240">
                      <a:solidFill>
                        <a:srgbClr val="a5644e"/>
                      </a:solidFill>
                    </a:lnB>
                    <a:solidFill>
                      <a:srgbClr val="ffda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624139"/>
                          </a:solidFill>
                          <a:latin typeface="Times New Roman"/>
                          <a:ea typeface="Times New Roman"/>
                        </a:rPr>
                        <a:t>EVALUA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644e"/>
                      </a:solidFill>
                    </a:lnL>
                    <a:lnR w="5760">
                      <a:solidFill>
                        <a:srgbClr val="a5644e"/>
                      </a:solidFill>
                    </a:lnR>
                    <a:lnT w="5760">
                      <a:solidFill>
                        <a:srgbClr val="a5644e"/>
                      </a:solidFill>
                    </a:lnT>
                    <a:lnB w="12240">
                      <a:solidFill>
                        <a:srgbClr val="a5644e"/>
                      </a:solidFill>
                    </a:lnB>
                    <a:solidFill>
                      <a:srgbClr val="ffda7d"/>
                    </a:solidFill>
                  </a:tcPr>
                </a:tc>
              </a:tr>
              <a:tr h="382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ad1f1f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legijalna funk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ad1f1f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tinuirani pro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ad1f1f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voj kompetencija i autonomi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ad1f1f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ci su podloga za reflektir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ad1f1f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vjerljiv, profesionalni odn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ad1f1f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jena je formativ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buClr>
                          <a:srgbClr val="ad1f1f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torirani ima utjecaj na procjen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644e"/>
                      </a:solidFill>
                    </a:lnL>
                    <a:lnR w="5760">
                      <a:solidFill>
                        <a:srgbClr val="a5644e"/>
                      </a:solidFill>
                    </a:lnR>
                    <a:lnT w="12240">
                      <a:solidFill>
                        <a:srgbClr val="a5644e"/>
                      </a:solidFill>
                    </a:lnT>
                    <a:lnB w="5760">
                      <a:solidFill>
                        <a:srgbClr val="a5644e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1440" indent="-271440">
                        <a:lnSpc>
                          <a:spcPct val="110000"/>
                        </a:lnSpc>
                        <a:buClr>
                          <a:srgbClr val="800000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jerarhijska funk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1440" indent="-271440">
                        <a:lnSpc>
                          <a:spcPct val="110000"/>
                        </a:lnSpc>
                        <a:buClr>
                          <a:srgbClr val="800000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kratna aktivn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1440" indent="-271440">
                        <a:lnSpc>
                          <a:spcPct val="110000"/>
                        </a:lnSpc>
                        <a:buClr>
                          <a:srgbClr val="800000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jena kompeten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1440" indent="-271440">
                        <a:lnSpc>
                          <a:spcPct val="110000"/>
                        </a:lnSpc>
                        <a:buClr>
                          <a:srgbClr val="800000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aci su podloga za prosudb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1440" indent="-271440">
                        <a:lnSpc>
                          <a:spcPct val="110000"/>
                        </a:lnSpc>
                        <a:buClr>
                          <a:srgbClr val="800000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vanje javne ocje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1440" indent="-271440">
                        <a:lnSpc>
                          <a:spcPct val="110000"/>
                        </a:lnSpc>
                        <a:buClr>
                          <a:srgbClr val="800000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jena je sumativ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1440" indent="-271440">
                        <a:lnSpc>
                          <a:spcPct val="110000"/>
                        </a:lnSpc>
                        <a:buClr>
                          <a:srgbClr val="800000"/>
                        </a:buClr>
                        <a:buSzPct val="85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torirani nema utjecaj na procjen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644e"/>
                      </a:solidFill>
                    </a:lnL>
                    <a:lnR w="5760">
                      <a:solidFill>
                        <a:srgbClr val="a5644e"/>
                      </a:solidFill>
                    </a:lnR>
                    <a:lnT w="12240">
                      <a:solidFill>
                        <a:srgbClr val="a5644e"/>
                      </a:solidFill>
                    </a:lnT>
                    <a:lnB w="5760">
                      <a:solidFill>
                        <a:srgbClr val="a5644e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24139"/>
                </a:solidFill>
                <a:latin typeface="Times New Roman"/>
                <a:ea typeface="Times New Roman"/>
              </a:rPr>
              <a:t>Kompetencije uspješnih mentora</a:t>
            </a:r>
            <a:r>
              <a:rPr b="1" lang="hr-HR" sz="3600" spc="-1" strike="noStrike">
                <a:solidFill>
                  <a:srgbClr val="62413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57120" indent="-35712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oznaju se u području: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57120" indent="-35712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57120" indent="-357120">
              <a:lnSpc>
                <a:spcPct val="120000"/>
              </a:lnSpc>
              <a:spcBef>
                <a:spcPts val="575"/>
              </a:spcBef>
              <a:buClr>
                <a:srgbClr val="91581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0000"/>
                </a:solidFill>
                <a:latin typeface="Times New Roman"/>
                <a:ea typeface="Times New Roman"/>
              </a:rPr>
              <a:t>Profesionalnih kompetencij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57120" indent="-357120">
              <a:lnSpc>
                <a:spcPct val="120000"/>
              </a:lnSpc>
              <a:spcBef>
                <a:spcPts val="575"/>
              </a:spcBef>
              <a:buClr>
                <a:srgbClr val="91581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0000"/>
                </a:solidFill>
                <a:latin typeface="Times New Roman"/>
                <a:ea typeface="Times New Roman"/>
              </a:rPr>
              <a:t>Interpersonalnih kompetencij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57120" indent="-357120">
              <a:lnSpc>
                <a:spcPct val="120000"/>
              </a:lnSpc>
              <a:spcBef>
                <a:spcPts val="575"/>
              </a:spcBef>
              <a:buClr>
                <a:srgbClr val="91581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0000"/>
                </a:solidFill>
                <a:latin typeface="Times New Roman"/>
                <a:ea typeface="Times New Roman"/>
              </a:rPr>
              <a:t>Komunikacijskih vještin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57120" indent="-357120">
              <a:lnSpc>
                <a:spcPct val="120000"/>
              </a:lnSpc>
              <a:spcBef>
                <a:spcPts val="575"/>
              </a:spcBef>
              <a:buClr>
                <a:srgbClr val="91581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0000"/>
                </a:solidFill>
                <a:latin typeface="Times New Roman"/>
                <a:ea typeface="Times New Roman"/>
              </a:rPr>
              <a:t>Osobina ličnosti i uvjerenj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57120" indent="-357120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858160" cy="649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300" spc="-1" strike="noStrike">
                <a:solidFill>
                  <a:srgbClr val="624139"/>
                </a:solidFill>
                <a:latin typeface="Times New Roman"/>
                <a:ea typeface="Times New Roman"/>
              </a:rPr>
              <a:t>PROFESIONALNE KOMPETENCIJE- učitelji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692280"/>
            <a:ext cx="87487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o znanje o teorijskim osnovama učenja i poučavanja,  planiranju kurikuluma, dubinsko razumijevanje predmetnog gradiva, širok repertoar strategija poučavanja i provjere učeničkog postignuć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sobnost dubinske analize razrednih i organizacijskih proces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pješno primjenjivanje vještine upravljanja razred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ksa utemeljena na pristupu usmjerenom na učenik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iranost za uvođenje inovacija temeljenih na akcijskim istraživanjima i refleksivnoj praks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remnost na suradnju i povezivanje s kolegama i sustručnjacim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znavanje obilježja i dinamike prof. razvoja učitelj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sobnost kritičke refleksije o vlastitoj praks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asnoća ciljeva, organizacijske vještine i učinkovito upravljanje vremen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24139"/>
                </a:solidFill>
                <a:latin typeface="Times New Roman"/>
                <a:ea typeface="Times New Roman"/>
              </a:rPr>
              <a:t>PROFESIONALNE KOMPETENCIJE   - stručni suradnic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28400" y="1447920"/>
            <a:ext cx="8258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vanje obrazovnog sustava i funkcioniranja ško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vanje nastavnog proces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nja i vještine potrebne za podršku učenici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nja i vještine potrebne za savjetovanje  nastavnik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nja i vještine potrebne za pomoć roditeljim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remnost na suradnju i povezivanje s kolegama i ostalim sudionicima obrazovnog proces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znavanje obilježja i dinamike prof. razvoja učitelj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sobnost kritičke refleksije o vlastitoj praks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asnoća ciljeva, organizacijske vještine i učinkovito upravljanje vremen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INTERPERSONALNE</a:t>
            </a:r>
            <a:r>
              <a:rPr b="0" lang="hr-HR" sz="32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</a:t>
            </a:r>
            <a:r>
              <a:rPr b="1" lang="hr-HR" sz="32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KOMPETENCIJ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360" y="126828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sobnost uspostave poticajne, dinamičke i  suradničke atmosfe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sobnost prepoznavanje i primjerenog odgovaranja na uočena emocionalna stanja i profesionalne potrebe učitelja početnik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hvaćanje različitosti u mišljenjima, osjetljivost za sociokulturne različitosti te sposobnost za konstruktivno rješavanje konfliktnih situacij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gućnost procjene dosegnute razvojne razine početnika i mogućnost prilagodbe na pojedine faze mentorskog proces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gućnost razgraničenja uloge mentora i drugih srodnih uloga koje nadilaze  okvir mentorskog odnos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mnost na suradnju i povezivanje s kolegama i ostalim sudionicima obrazovnog proces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534b38"/>
                </a:solidFill>
                <a:latin typeface="Times New Roman"/>
                <a:ea typeface="Times New Roman"/>
              </a:rPr>
              <a:t>KOMUNIKACIJSKE VJEŠTI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ještine uspostave i održavanja međusobnog povjerenja i otvorenosti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ještine davanja konstruktivnih povratnih informacij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ještine aktivnog slušanj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ještine postavljanja  poticajnih pitanj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snoća i dobra strukturiranost izlaganj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azivanje predanosti i entuzijazma za mentorski ra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OSOBINE LIČNOSTI I UVJERENJ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55640" y="1412640"/>
            <a:ext cx="6840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 za mentoriranj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obni integrite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atičnos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zdanost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kretnos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pljivost i upornos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tnost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hovitos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mnost na cjeloživotno učenj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Symbol" charset="2"/>
              <a:buChar char="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ksibilnost, otvorenost za inovacij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0000" y="2491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Priroda mentorskog odnosa i mentorski zadaci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Pitanja za Vas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1628640"/>
            <a:ext cx="7772400" cy="39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5232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o je interpersonalni odnos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5232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52322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su pravila prihvatljiva u svim međuljudskim odnosima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Pitanja za Vas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447920"/>
            <a:ext cx="8147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603b1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te li na početku svoje profesionalne karijere imali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ora?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603b1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603b1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bi metafora  mogla dobro opisati  kako ste 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življavali svog mentora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Mentorski odno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95280" y="141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Profesionalni odno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4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moć i podrška se pružaju se kroz definirane uloge i na određenom (profesionalnom) području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a osoba pretežno pruža, a druga osoba pretežno prima podršku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oji zajednička, dogovorena odgovornost za odno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1440" indent="-27144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oji zajednički cilj – usmjerenost na pozitivan ishod u području profesionalnog razvoj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Faze u razvoju mentorskog odnosa</a:t>
            </a:r>
            <a:r>
              <a:rPr b="1" lang="hr-HR" sz="2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achary, 2000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55640" y="1773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-54288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42880" indent="-542880">
              <a:lnSpc>
                <a:spcPct val="120000"/>
              </a:lnSpc>
              <a:spcBef>
                <a:spcPts val="575"/>
              </a:spcBef>
              <a:buClr>
                <a:srgbClr val="603b1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0000"/>
                </a:solidFill>
                <a:latin typeface="Times New Roman"/>
                <a:ea typeface="Times New Roman"/>
              </a:rPr>
              <a:t>Pripremna faz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42880" indent="-542880">
              <a:lnSpc>
                <a:spcPct val="120000"/>
              </a:lnSpc>
              <a:spcBef>
                <a:spcPts val="575"/>
              </a:spcBef>
              <a:buClr>
                <a:srgbClr val="603b1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0000"/>
                </a:solidFill>
                <a:latin typeface="Times New Roman"/>
                <a:ea typeface="Times New Roman"/>
              </a:rPr>
              <a:t>Faza dogovaranj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42880" indent="-542880">
              <a:lnSpc>
                <a:spcPct val="120000"/>
              </a:lnSpc>
              <a:spcBef>
                <a:spcPts val="575"/>
              </a:spcBef>
              <a:buClr>
                <a:srgbClr val="603b1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0000"/>
                </a:solidFill>
                <a:latin typeface="Times New Roman"/>
                <a:ea typeface="Times New Roman"/>
              </a:rPr>
              <a:t>Faza rada uz podršku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42880" indent="-542880">
              <a:lnSpc>
                <a:spcPct val="120000"/>
              </a:lnSpc>
              <a:spcBef>
                <a:spcPts val="575"/>
              </a:spcBef>
              <a:buClr>
                <a:srgbClr val="603b1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0000"/>
                </a:solidFill>
                <a:latin typeface="Times New Roman"/>
                <a:ea typeface="Times New Roman"/>
              </a:rPr>
              <a:t>Faza završavanja odnos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542880" indent="-542880">
              <a:lnSpc>
                <a:spcPct val="120000"/>
              </a:lnSpc>
              <a:spcBef>
                <a:spcPts val="575"/>
              </a:spcBef>
              <a:buClr>
                <a:srgbClr val="603b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42880" indent="-542880">
              <a:spcBef>
                <a:spcPts val="575"/>
              </a:spcBef>
              <a:buClr>
                <a:srgbClr val="603b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Content Placeholder 3" descr=""/>
          <p:cNvPicPr/>
          <p:nvPr/>
        </p:nvPicPr>
        <p:blipFill>
          <a:blip r:embed="rId1"/>
          <a:srcRect l="21680" t="-679" r="0" b="64414"/>
          <a:stretch/>
        </p:blipFill>
        <p:spPr>
          <a:xfrm>
            <a:off x="179280" y="2205000"/>
            <a:ext cx="8640720" cy="3311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540000"/>
                </a:solidFill>
                <a:latin typeface="Times New Roman"/>
              </a:rPr>
              <a:t>Pripremna faza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540000"/>
                </a:solidFill>
                <a:latin typeface="Times New Roman"/>
              </a:rPr>
              <a:t>Faza dogovaranja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7" name="Content Placeholder 3" descr=""/>
          <p:cNvPicPr/>
          <p:nvPr/>
        </p:nvPicPr>
        <p:blipFill>
          <a:blip r:embed="rId1"/>
          <a:srcRect l="22810" t="44556" r="0" b="12153"/>
          <a:stretch/>
        </p:blipFill>
        <p:spPr>
          <a:xfrm>
            <a:off x="324000" y="1916280"/>
            <a:ext cx="8351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540000"/>
                </a:solidFill>
                <a:latin typeface="Times New Roman"/>
              </a:rPr>
              <a:t>Faza rada uz podršku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9" name="Content Placeholder 3" descr=""/>
          <p:cNvPicPr/>
          <p:nvPr/>
        </p:nvPicPr>
        <p:blipFill>
          <a:blip r:embed="rId1"/>
          <a:srcRect l="23230" t="0" r="0" b="60521"/>
          <a:stretch/>
        </p:blipFill>
        <p:spPr>
          <a:xfrm>
            <a:off x="250920" y="1916280"/>
            <a:ext cx="8426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Content Placeholder 3" descr=""/>
          <p:cNvPicPr/>
          <p:nvPr/>
        </p:nvPicPr>
        <p:blipFill>
          <a:blip r:embed="rId1"/>
          <a:srcRect l="22431" t="43354" r="0" b="10334"/>
          <a:stretch/>
        </p:blipFill>
        <p:spPr>
          <a:xfrm>
            <a:off x="250920" y="1700280"/>
            <a:ext cx="8424720" cy="475128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540000"/>
                </a:solidFill>
                <a:latin typeface="Times New Roman"/>
              </a:rPr>
              <a:t>Faza završavanja odnosa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Poželjna pravila za mentore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44792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0120" indent="-510120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510120" indent="-51012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lovljavati drugu osobu na dogovoreni nači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0120" indent="-51012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govoriti granice i sadržaj odnos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0120" indent="-51012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oriti otvoreno, iskreno i izravn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0120" indent="-51012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i potpuno uključen u odnos, zajedničke aktivnost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0120" indent="-51012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štovati dogovore sadržajno i vremensk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0120" indent="-51012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vojite vrijeme za zajednički cilj i ra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0120" indent="-51012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azati iskreni interes za drugu osobu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0120" indent="-51012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čeno u povjerenju čuvati kao tajnu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0120" indent="-51012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ijeliti “dobre vijesti” s drugom osob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0120" indent="-51012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mjenjivati konstruktivnu kritiku/pohvalu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0120" indent="-51012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govarati o odnosu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0120" indent="-510120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43800" cy="1487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540000"/>
                </a:solidFill>
                <a:latin typeface="Times New Roman"/>
                <a:ea typeface="Times New Roman"/>
              </a:rPr>
              <a:t>Mentorski zadaci</a:t>
            </a:r>
            <a:br>
              <a:rPr sz="3600"/>
            </a:br>
            <a:r>
              <a:rPr b="1" lang="hr-HR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1" lang="hr-HR" sz="2400" spc="-1" strike="noStrike">
                <a:solidFill>
                  <a:srgbClr val="945a46"/>
                </a:solidFill>
                <a:latin typeface="Times New Roman"/>
                <a:ea typeface="Times New Roman"/>
              </a:rPr>
              <a:t>RESPONSIVNOST                         PROAKTIVNOST</a:t>
            </a:r>
            <a:r>
              <a:rPr b="1" lang="hr-HR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684360" y="1557360"/>
          <a:ext cx="8208720" cy="5056200"/>
        </p:xfrm>
        <a:graphic>
          <a:graphicData uri="http://schemas.openxmlformats.org/drawingml/2006/table">
            <a:tbl>
              <a:tblPr/>
              <a:tblGrid>
                <a:gridCol w="4092480"/>
                <a:gridCol w="4116240"/>
              </a:tblGrid>
              <a:tr h="509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8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građuje povjerenje i povjerljiv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8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jetuje i vo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8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hvaća i odaje prizn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8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je profesionalnu podrš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8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ira kompetentnu praks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8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ašnjava i dijeli iskust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8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ira kompetentn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8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avlja pitan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8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di ide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19574"/>
                      </a:solidFill>
                    </a:lnT>
                    <a:lnB w="5760">
                      <a:solidFill>
                        <a:srgbClr val="a19574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iče samostaln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iče samoprocjen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iče  reflektir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aje prizn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je povratnu informacij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iče suradničko planir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di dijalog koji uključuje zajedničko donošenje odluka i rješavanje proble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iče i omogućava redefiniranje odnos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19574"/>
                      </a:solidFill>
                    </a:lnT>
                    <a:lnB w="5760">
                      <a:solidFill>
                        <a:srgbClr val="a19574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0755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540000"/>
                </a:solidFill>
                <a:latin typeface="Times New Roman"/>
              </a:rPr>
              <a:t>Što mislite kakvu podršku trebaju naši mentori?</a:t>
            </a:r>
            <a:br>
              <a:rPr sz="2800"/>
            </a:br>
            <a:r>
              <a:rPr b="0" lang="hr-HR" sz="2400" spc="-1" strike="noStrike">
                <a:solidFill>
                  <a:srgbClr val="540000"/>
                </a:solidFill>
                <a:latin typeface="Times New Roman"/>
              </a:rPr>
              <a:t>Rangirajte oblike podrške:   rang 1 -  najpotrebnija</a:t>
            </a:r>
            <a:br>
              <a:rPr sz="2400"/>
            </a:br>
            <a:r>
              <a:rPr b="0" lang="hr-HR" sz="2400" spc="-1" strike="noStrike">
                <a:solidFill>
                  <a:srgbClr val="540000"/>
                </a:solidFill>
                <a:latin typeface="Times New Roman"/>
              </a:rPr>
              <a:t>                                              rang 5 - najviše zadovoljav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8920" y="2286000"/>
            <a:ext cx="4170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Rang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----    Izvori za samostalno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savršavanj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----    Kolegijalna podrška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----    Obrazovni programi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----    Supervizija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----    Zakonska regulativa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44280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945a46"/>
                </a:solidFill>
                <a:latin typeface="Arial"/>
              </a:rPr>
              <a:t>35 mentora za pripravnike razredne nastave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428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42800" indent="-442800">
              <a:lnSpc>
                <a:spcPct val="100000"/>
              </a:lnSpc>
              <a:spcBef>
                <a:spcPts val="575"/>
              </a:spcBef>
              <a:buClr>
                <a:srgbClr val="8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Obrazovni programi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42800" indent="-442800">
              <a:lnSpc>
                <a:spcPct val="100000"/>
              </a:lnSpc>
              <a:spcBef>
                <a:spcPts val="575"/>
              </a:spcBef>
              <a:buClr>
                <a:srgbClr val="8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Izvori za samostalno  usavršavanj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42800" indent="-442800">
              <a:lnSpc>
                <a:spcPct val="100000"/>
              </a:lnSpc>
              <a:spcBef>
                <a:spcPts val="575"/>
              </a:spcBef>
              <a:buClr>
                <a:srgbClr val="8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Supervizija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42800" indent="-442800">
              <a:lnSpc>
                <a:spcPct val="100000"/>
              </a:lnSpc>
              <a:spcBef>
                <a:spcPts val="575"/>
              </a:spcBef>
              <a:buClr>
                <a:srgbClr val="8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Zakonska regulativa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42800" indent="-442800">
              <a:lnSpc>
                <a:spcPct val="100000"/>
              </a:lnSpc>
              <a:spcBef>
                <a:spcPts val="575"/>
              </a:spcBef>
              <a:buClr>
                <a:srgbClr val="8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Kolegijalna podrška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921440" cy="4508280"/>
          </a:xfrm>
          <a:prstGeom prst="rect">
            <a:avLst/>
          </a:prstGeom>
          <a:solidFill>
            <a:srgbClr val="ffe9b3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MENTORSKI PARADOKS</a:t>
            </a:r>
            <a:br>
              <a:rPr sz="4000"/>
            </a:br>
            <a:br>
              <a:rPr sz="4000"/>
            </a:br>
            <a:r>
              <a:rPr b="0" lang="hr-HR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Mentor je osoba koja čini sve što može da postupno postane nepotrebna!</a:t>
            </a:r>
            <a:br>
              <a:rPr sz="4000"/>
            </a:br>
            <a:r>
              <a:rPr b="0" lang="hr-HR" sz="4000" spc="-1" strike="noStrike">
                <a:solidFill>
                  <a:srgbClr val="54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hr-HR" sz="4000" spc="-1" strike="noStrike">
                <a:solidFill>
                  <a:srgbClr val="540000"/>
                </a:solidFill>
                <a:latin typeface="Franklin Gothic Book"/>
              </a:rPr>
              <a:t> </a:t>
            </a:r>
            <a:r>
              <a:rPr b="0" lang="hr-HR" sz="2200" spc="-1" strike="noStrike">
                <a:solidFill>
                  <a:srgbClr val="540000"/>
                </a:solidFill>
                <a:latin typeface="Franklin Gothic Book"/>
              </a:rPr>
              <a:t>T.</a:t>
            </a:r>
            <a:r>
              <a:rPr b="0" lang="hr-HR" sz="2200" spc="-1" strike="noStrike">
                <a:solidFill>
                  <a:srgbClr val="4e3b30"/>
                </a:solidFill>
                <a:latin typeface="Franklin Gothic Book"/>
              </a:rPr>
              <a:t> Carruther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95280" y="4941720"/>
            <a:ext cx="8277120" cy="17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žica Atena podarila je Mentoru, učitelju Odisejevog sina Telemaha,  obilježja dobročinitelja, dobrog  slušača, mudraca, zainteresiranog i prisutnog kad je teško i potrebno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185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vala na pažnji!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91" name="Picture 2" descr="http://www.atmeweb.org/images/int_photo_resources.jpg"/>
          <p:cNvPicPr/>
          <p:nvPr/>
        </p:nvPicPr>
        <p:blipFill>
          <a:blip r:embed="rId1"/>
          <a:stretch/>
        </p:blipFill>
        <p:spPr>
          <a:xfrm>
            <a:off x="1332000" y="1628640"/>
            <a:ext cx="68403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68360" y="980640"/>
            <a:ext cx="8074080" cy="4032360"/>
          </a:xfrm>
          <a:prstGeom prst="rect">
            <a:avLst/>
          </a:prstGeom>
          <a:solidFill>
            <a:srgbClr val="ffe9b3"/>
          </a:solidFill>
          <a:ln w="0">
            <a:noFill/>
          </a:ln>
        </p:spPr>
        <p:txBody>
          <a:bodyPr anchor="t">
            <a:normAutofit fontScale="99000"/>
          </a:bodyPr>
          <a:p>
            <a:pPr marL="2685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85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Mentor:</a:t>
            </a:r>
            <a:endParaRPr b="0" lang="en-US" sz="3900" spc="-1" strike="noStrike">
              <a:solidFill>
                <a:srgbClr val="000000"/>
              </a:solidFill>
              <a:latin typeface="Perpetua"/>
            </a:endParaRPr>
          </a:p>
          <a:p>
            <a:pPr marL="2685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Perpetua"/>
            </a:endParaRPr>
          </a:p>
          <a:p>
            <a:pPr marL="2685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skusan i uspješan stručnjak koji svojevoljno preuzima odgovornost za podršku i poticanje profesionalnog rasta i razvoja neiskusnijeg kolege, gradeći odnos uzajamne dobrobiti.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85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nclair, 2003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1581f"/>
                </a:solidFill>
                <a:latin typeface="Times New Roman"/>
                <a:ea typeface="Times New Roman"/>
              </a:rPr>
              <a:t>Poželjni ishodi mentoriranja početnika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4360" y="1700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42800" indent="-44280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ski ishod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442800" indent="-44280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cijski ishod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442800" indent="-44280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ocionalni ishodi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442800" indent="-442800">
              <a:lnSpc>
                <a:spcPct val="10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hodi vezani uz razvoj karijere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800000"/>
                </a:solidFill>
                <a:latin typeface="Times New Roman"/>
              </a:rPr>
              <a:t>Kompetencijski i motivacijski ishodi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50920" y="1197000"/>
          <a:ext cx="8459640" cy="5292720"/>
        </p:xfrm>
        <a:graphic>
          <a:graphicData uri="http://schemas.openxmlformats.org/drawingml/2006/table">
            <a:tbl>
              <a:tblPr/>
              <a:tblGrid>
                <a:gridCol w="2735280"/>
                <a:gridCol w="572436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7c4b3b"/>
                          </a:solidFill>
                          <a:latin typeface="Times New Roman"/>
                          <a:ea typeface="Times New Roman"/>
                        </a:rPr>
                        <a:t>KOMPETENCIJS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58b80"/>
                      </a:solidFill>
                    </a:lnL>
                    <a:lnR w="5760">
                      <a:solidFill>
                        <a:srgbClr val="b58b80"/>
                      </a:solidFill>
                    </a:lnR>
                    <a:lnT w="5760">
                      <a:solidFill>
                        <a:srgbClr val="b58b80"/>
                      </a:solidFill>
                    </a:lnT>
                    <a:lnB w="5760">
                      <a:solidFill>
                        <a:srgbClr val="b58b80"/>
                      </a:solidFill>
                    </a:lnB>
                    <a:solidFill>
                      <a:srgbClr val="ffe9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jecanje znan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apređenje općih profesionalnih vješt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apređenje praktičnih profesionalnih vješt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jecanje novih stavova i uvjerenja o profesij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58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umijevanje organizacijske kul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58b80"/>
                      </a:solidFill>
                    </a:lnL>
                    <a:lnR w="5760">
                      <a:solidFill>
                        <a:srgbClr val="b58b80"/>
                      </a:solidFill>
                    </a:lnR>
                    <a:lnT w="5760">
                      <a:solidFill>
                        <a:srgbClr val="b58b80"/>
                      </a:solidFill>
                    </a:lnT>
                    <a:lnB w="5760">
                      <a:solidFill>
                        <a:srgbClr val="b58b80"/>
                      </a:solidFill>
                    </a:lnB>
                    <a:solidFill>
                      <a:srgbClr val="ffe9b3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7c4b3b"/>
                          </a:solidFill>
                          <a:latin typeface="Times New Roman"/>
                          <a:ea typeface="Times New Roman"/>
                        </a:rPr>
                        <a:t>MOTIVACIJS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58b80"/>
                      </a:solidFill>
                    </a:lnL>
                    <a:lnR w="5760">
                      <a:solidFill>
                        <a:srgbClr val="b58b80"/>
                      </a:solidFill>
                    </a:lnR>
                    <a:lnT w="5760">
                      <a:solidFill>
                        <a:srgbClr val="b58b80"/>
                      </a:solidFill>
                    </a:lnT>
                    <a:lnB w="5760">
                      <a:solidFill>
                        <a:srgbClr val="b58b80"/>
                      </a:solidFill>
                    </a:lnB>
                    <a:solidFill>
                      <a:srgbClr val="ffe9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snije samopoim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jećaj samoefikas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snoća profesionalnih ciljeva i vrijed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inzična motivacija za ra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hvaćanje novih izazo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uzimanje odgovornosti i inicij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58b80"/>
                      </a:solidFill>
                    </a:lnL>
                    <a:lnR w="5760">
                      <a:solidFill>
                        <a:srgbClr val="b58b80"/>
                      </a:solidFill>
                    </a:lnR>
                    <a:lnT w="5760">
                      <a:solidFill>
                        <a:srgbClr val="b58b80"/>
                      </a:solidFill>
                    </a:lnT>
                    <a:lnB w="5760">
                      <a:solidFill>
                        <a:srgbClr val="b58b80"/>
                      </a:solidFill>
                    </a:lnB>
                    <a:solidFill>
                      <a:srgbClr val="ffe9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468360" y="1773360"/>
          <a:ext cx="8388360" cy="4197240"/>
        </p:xfrm>
        <a:graphic>
          <a:graphicData uri="http://schemas.openxmlformats.org/drawingml/2006/table">
            <a:tbl>
              <a:tblPr/>
              <a:tblGrid>
                <a:gridCol w="2374920"/>
                <a:gridCol w="601344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c4b3b"/>
                          </a:solidFill>
                          <a:latin typeface="Times New Roman"/>
                          <a:ea typeface="Times New Roman"/>
                        </a:rPr>
                        <a:t>EMOCIONAL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58b80"/>
                      </a:solidFill>
                    </a:lnL>
                    <a:lnR w="5760">
                      <a:solidFill>
                        <a:srgbClr val="b58b80"/>
                      </a:solidFill>
                    </a:lnR>
                    <a:lnT w="5760">
                      <a:solidFill>
                        <a:srgbClr val="b58b80"/>
                      </a:solidFill>
                    </a:lnT>
                    <a:lnB w="5760">
                      <a:solidFill>
                        <a:srgbClr val="b58b80"/>
                      </a:solidFill>
                    </a:lnB>
                    <a:solidFill>
                      <a:srgbClr val="ffe9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33480"/>
                          <a:tab algn="l" pos="147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hvaćanje novih izazo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33480"/>
                          <a:tab algn="l" pos="147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većano samopoštov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33480"/>
                          <a:tab algn="l" pos="147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dovoljstvo posl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33480"/>
                          <a:tab algn="l" pos="147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jećaj veće autonomije u rad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33480"/>
                          <a:tab algn="l" pos="147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jećaj pripad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33480"/>
                          <a:tab algn="l" pos="147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anjeni rizik od stresa i sagorijevan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58b80"/>
                      </a:solidFill>
                    </a:lnL>
                    <a:lnR w="5760">
                      <a:solidFill>
                        <a:srgbClr val="b58b80"/>
                      </a:solidFill>
                    </a:lnR>
                    <a:lnT w="5760">
                      <a:solidFill>
                        <a:srgbClr val="b58b80"/>
                      </a:solidFill>
                    </a:lnT>
                    <a:lnB w="5760">
                      <a:solidFill>
                        <a:srgbClr val="b58b80"/>
                      </a:solidFill>
                    </a:lnB>
                    <a:solidFill>
                      <a:srgbClr val="ffe9b3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c4b3b"/>
                          </a:solidFill>
                          <a:latin typeface="Times New Roman"/>
                          <a:ea typeface="Times New Roman"/>
                        </a:rPr>
                        <a:t>VEZANI UZ RAZV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7c4b3b"/>
                          </a:solidFill>
                          <a:latin typeface="Times New Roman"/>
                          <a:ea typeface="Times New Roman"/>
                        </a:rPr>
                        <a:t>KARIJ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58b80"/>
                      </a:solidFill>
                    </a:lnL>
                    <a:lnR w="5760">
                      <a:solidFill>
                        <a:srgbClr val="b58b80"/>
                      </a:solidFill>
                    </a:lnR>
                    <a:lnT w="5760">
                      <a:solidFill>
                        <a:srgbClr val="b58b80"/>
                      </a:solidFill>
                    </a:lnT>
                    <a:lnB w="5760">
                      <a:solidFill>
                        <a:srgbClr val="b58b80"/>
                      </a:solidFill>
                    </a:lnB>
                    <a:solidFill>
                      <a:srgbClr val="ffe9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25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varenje karijernih cilje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25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jećaj bolje kontrole nad karijer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25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urnost u mogućnost postizanja karijernih cilje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125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većana vidljivost u okoli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58b80"/>
                      </a:solidFill>
                    </a:lnL>
                    <a:lnR w="5760">
                      <a:solidFill>
                        <a:srgbClr val="b58b80"/>
                      </a:solidFill>
                    </a:lnR>
                    <a:lnT w="5760">
                      <a:solidFill>
                        <a:srgbClr val="b58b80"/>
                      </a:solidFill>
                    </a:lnT>
                    <a:lnB w="5760">
                      <a:solidFill>
                        <a:srgbClr val="b58b80"/>
                      </a:solidFill>
                    </a:lnB>
                    <a:solidFill>
                      <a:srgbClr val="ffe9b3"/>
                    </a:solidFill>
                  </a:tcPr>
                </a:tc>
              </a:tr>
            </a:tbl>
          </a:graphicData>
        </a:graphic>
      </p:graphicFrame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800000"/>
                </a:solidFill>
                <a:latin typeface="Times New Roman"/>
              </a:rPr>
              <a:t>Emocionalni i karijerni ishodi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624139"/>
                </a:solidFill>
                <a:latin typeface="Times New Roman"/>
                <a:ea typeface="Times New Roman"/>
              </a:rPr>
              <a:t>Dimenzije i vrste mentorskih uloga</a:t>
            </a:r>
            <a:br>
              <a:rPr sz="2000"/>
            </a:br>
            <a:r>
              <a:rPr b="1" lang="hr-HR" sz="2000" spc="-1" strike="noStrike">
                <a:solidFill>
                  <a:srgbClr val="926255"/>
                </a:solidFill>
                <a:latin typeface="Franklin Gothic Book"/>
              </a:rPr>
              <a:t>                                                                                     </a:t>
            </a:r>
            <a:r>
              <a:rPr b="1" lang="hr-HR" sz="20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(</a:t>
            </a:r>
            <a:r>
              <a:rPr b="0" i="1" lang="hr-HR" sz="20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Clutterback, 2004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277080" y="1413000"/>
            <a:ext cx="217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Izravan utjec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132000" y="5950080"/>
            <a:ext cx="3079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926255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540000"/>
                </a:solidFill>
                <a:latin typeface="Times New Roman"/>
                <a:ea typeface="Times New Roman"/>
              </a:rPr>
              <a:t>Neizravan utjec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534960" y="4869000"/>
            <a:ext cx="8609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    </a:t>
            </a:r>
            <a:r>
              <a:rPr b="1" lang="hr-HR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vezivač</a:t>
            </a:r>
            <a:r>
              <a:rPr b="1" lang="hr-HR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i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tworker)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hr-HR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vjetovatelj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sellor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3429000"/>
            <a:ext cx="88930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22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Potreba za                                                                                        Potreba za </a:t>
            </a:r>
            <a:r>
              <a:rPr b="1" lang="hr-HR" sz="22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</a:t>
            </a:r>
            <a:r>
              <a:rPr b="1" lang="hr-HR" sz="22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kognitivnim rastom                                                    socijalnom podrškom</a:t>
            </a:r>
            <a:r>
              <a:rPr b="1" lang="hr-HR" sz="24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1187280" y="263700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hr-HR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rener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ach)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hr-HR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aštitnik</a:t>
            </a:r>
            <a:r>
              <a:rPr b="1" lang="hr-HR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i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uardian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Straight Arrow Connector 24"/>
          <p:cNvCxnSpPr/>
          <p:nvPr/>
        </p:nvCxnSpPr>
        <p:spPr>
          <a:xfrm>
            <a:off x="4427280" y="1915920"/>
            <a:ext cx="1080" cy="4034520"/>
          </a:xfrm>
          <a:prstGeom prst="straightConnector1">
            <a:avLst/>
          </a:prstGeom>
          <a:ln w="38160">
            <a:solidFill>
              <a:srgbClr val="7c4b3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48" name="Straight Arrow Connector 27"/>
          <p:cNvCxnSpPr/>
          <p:nvPr/>
        </p:nvCxnSpPr>
        <p:spPr>
          <a:xfrm>
            <a:off x="1692000" y="3789000"/>
            <a:ext cx="5258520" cy="1080"/>
          </a:xfrm>
          <a:prstGeom prst="straightConnector1">
            <a:avLst/>
          </a:prstGeom>
          <a:ln w="38160">
            <a:solidFill>
              <a:srgbClr val="7c4b3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540000"/>
                </a:solidFill>
                <a:latin typeface="Times New Roman"/>
                <a:ea typeface="Times New Roman"/>
              </a:rPr>
              <a:t>Uloge mentora – izravan utjecaj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24000" y="1484280"/>
          <a:ext cx="8229600" cy="465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6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945a46"/>
                          </a:solidFill>
                          <a:latin typeface="Times New Roman"/>
                          <a:ea typeface="Times New Roman"/>
                        </a:rPr>
                        <a:t>TREN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945a46"/>
                          </a:solidFill>
                          <a:latin typeface="Times New Roman"/>
                          <a:ea typeface="Times New Roman"/>
                        </a:rPr>
                        <a:t>(kritički prijatelj, tutor</a:t>
                      </a:r>
                      <a:r>
                        <a:rPr b="1" lang="hr-HR" sz="2800" spc="-1" strike="noStrike">
                          <a:solidFill>
                            <a:srgbClr val="624139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avna zadaća: smanjivanje početnikove ovisnosti i postupno povećavanje odgovornosti i refleksiv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onstrira, daje povratnu informaciju, modelira, usmjer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58b80"/>
                      </a:solidFill>
                    </a:lnL>
                    <a:lnR w="5760">
                      <a:solidFill>
                        <a:srgbClr val="b58b80"/>
                      </a:solidFill>
                    </a:lnR>
                    <a:lnT w="5760">
                      <a:solidFill>
                        <a:srgbClr val="b58b80"/>
                      </a:solidFill>
                    </a:lnT>
                    <a:lnB w="5760">
                      <a:solidFill>
                        <a:srgbClr val="b58b80"/>
                      </a:solidFill>
                    </a:lnB>
                    <a:solidFill>
                      <a:srgbClr val="ffe9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945a46"/>
                          </a:solidFill>
                          <a:latin typeface="Times New Roman"/>
                          <a:ea typeface="Times New Roman"/>
                        </a:rPr>
                        <a:t>ZAŠTITN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945a4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hr-HR" sz="2800" spc="-1" strike="noStrike">
                          <a:solidFill>
                            <a:srgbClr val="945a46"/>
                          </a:solidFill>
                          <a:latin typeface="Times New Roman"/>
                          <a:ea typeface="Times New Roman"/>
                        </a:rPr>
                        <a:t>(vodič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avna zadaća: poticanje na definiranje ciljeva, prepoznavanje rizika, upoznavanje pravila, normi i standar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iče, definira pravila u odnosima, pomaže, brine o odnos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58b80"/>
                      </a:solidFill>
                    </a:lnL>
                    <a:lnR w="5760">
                      <a:solidFill>
                        <a:srgbClr val="b58b80"/>
                      </a:solidFill>
                    </a:lnR>
                    <a:lnT w="5760">
                      <a:solidFill>
                        <a:srgbClr val="b58b80"/>
                      </a:solidFill>
                    </a:lnT>
                    <a:lnB w="5760">
                      <a:solidFill>
                        <a:srgbClr val="b58b80"/>
                      </a:solidFill>
                    </a:lnB>
                    <a:solidFill>
                      <a:srgbClr val="ffe9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18:13:07Z</dcterms:created>
  <dc:creator>HP 520</dc:creator>
  <dc:description/>
  <dc:language>en-US</dc:language>
  <cp:lastModifiedBy>Vlasta Vizek Vidovic</cp:lastModifiedBy>
  <dcterms:modified xsi:type="dcterms:W3CDTF">2012-05-06T15:03:47Z</dcterms:modified>
  <cp:revision>92</cp:revision>
  <dc:subject/>
  <dc:title>Uloga mentora i mentorske kompetencije</dc:title>
</cp:coreProperties>
</file>