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B0E3-6F09-4556-BF75-1B96DC0BD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6B0C-5914-4E5A-AD42-80BD23F1C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5280" y="3861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7521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5280" y="3861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77960" y="3861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23280" y="17521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0920" y="17521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5280" y="3861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23280" y="3861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0920" y="3861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52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77960" y="17521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5280" y="121932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7960" y="17521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5280" y="3861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7521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77960" y="3861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7521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5280" y="3861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8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0520" y="26028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38040" y="2286000"/>
            <a:ext cx="79390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Osiguranje kvalitete u strukovnom obrazovanju </a:t>
            </a:r>
            <a:br>
              <a:rPr sz="2000"/>
            </a:br>
            <a:r>
              <a:rPr b="1" lang="hr-HR" sz="2000" spc="-1" strike="noStrike">
                <a:solidFill>
                  <a:srgbClr val="000000"/>
                </a:solidFill>
                <a:latin typeface="Tahoma"/>
              </a:rPr>
              <a:t>               - samovrjednovanje škola -</a:t>
            </a:r>
            <a:br>
              <a:rPr sz="1400"/>
            </a:br>
            <a:br>
              <a:rPr sz="1400"/>
            </a:b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Calibri"/>
              </a:rPr>
              <a:t>Ivo Tunjić, dipl. ing.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Calibri"/>
              </a:rPr>
              <a:t>Agencija za strukovno obrazovanje i obrazovanje odraslih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Calibri"/>
              </a:rPr>
              <a:t>Osijek, 8. svibnja 2012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309680" y="4214880"/>
            <a:ext cx="79675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  <a:ea typeface="Verdana"/>
              </a:rPr>
              <a:t>Samovrjednovanje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952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Verdana"/>
              </a:rPr>
              <a:t>Svrha samovrjednovanja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otkriti trenutno stanje analizirajući rezultate od prethodne godine 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sporediti s kriterijima, specifikacijama, standardima ili najboljim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rimjerima praks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donositi prosudbe o dokazima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tvrditi potencijal za unaprjeđenj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odrediti jesu li postignuti ciljevi iz plana unaprjeđenja od prethodnog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ciklusa samovrjednovanja 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Verdana"/>
              </a:rPr>
              <a:t>Rezultat samovrjednovanja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rednosti i nedostaci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novi plan unaprjeđenja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Samovrjednovanje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952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Osiguranje kvalitete često se smatra procesom kojim ustanove za strukovno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obrazovanje mjere svoju izvedbu u odnosu na određeni niz kriterija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 čitavom procesu, često se zaboravlja da je osiguranje kvalitete zapravo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bitno za cjelokupnu zajednicu a ne samo proces donošenja prosudbi.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Vrlo je važno da osiguranje kvalitete bude usmjereno na zaštitu i poticanje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čenika a ne samo na ispunjavanje nekih kriterija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čenici su u samom središtu onoga što radimo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  <a:ea typeface="Verdana"/>
              </a:rPr>
              <a:t>Samovrjednovanje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952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Verdana"/>
              </a:rPr>
              <a:t>pomoću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ovratnih informacija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pitnici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fokus-grupe, itd.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raćenja (svih radnika i aktivnosti ustanove)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revizije postupaka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sklađenost postupaka i propisa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analize dokumenata i statističkih podataka  (većinom pomoću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internetskog alata)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  <a:ea typeface="Verdana"/>
              </a:rPr>
              <a:t>Što je nova vrijednost pri uvođenju  samovrjednovanja?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95280" y="1989000"/>
            <a:ext cx="7772400" cy="38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roces samovrjednovanja ustanova prema zadanim kriterijima, istim za sve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Osiguranje dokaz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Samovrjednovanje počinje  isticanjem pozitivnog, jakih strana ustanove i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osvješćivanjem svih potencijala ustanove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Nema natjecanja među ustanovama, ustanova se natječe sama sa sobom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kako bi sutra bila bolja nego je danas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Internetski alat za samovrjednovanje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952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stanova će kroz njega moći pratiti svoj napredak kroz godine,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vidjeti gdje se nalazi u odnosu na nacionalne ciljeve,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spoređivati se s drugim ustanovama,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ostavljati nove kriterije i planove za budući rast i razvoj,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alat svim savjetnicima koji će im omogućavati lakši rad i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suradnju sa ustanovama, u svrhu praćenja svih postignuća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stanove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81240" y="259920"/>
            <a:ext cx="77752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ski alat za samovrjednovanje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290600" y="692280"/>
            <a:ext cx="7607160" cy="511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  <a:ea typeface="Verdana"/>
              </a:rPr>
              <a:t>Svrha vanjskog nadzora 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952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davanje neovisnog mišljenja o kvaliteti učenja, postignutim standardima i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činkovitosti pri upravljanju resursim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omaganje ustanovama da se utvrde prednosti i nedostaci te istaknu primjeri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dobre prakse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 u="sng">
                <a:solidFill>
                  <a:srgbClr val="000000"/>
                </a:solidFill>
                <a:uFillTx/>
                <a:latin typeface="Verdana"/>
              </a:rPr>
              <a:t>potvrđivanje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rocesa samovrjednovanja i planiranja unapređenja ustanove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romicanje kulture samovrjednovanja pružanjem smjernica i podrške,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što vodi ka trajnom unaprjeđivanju i održavanju kvalitete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Priručnik za samovrjednovanje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95280" y="692280"/>
            <a:ext cx="7772400" cy="50990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Izrađen u sklopu ASOO-ovog IPA projekta  “Razvoj osiguranja kvalitete u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strukovnom obrazovanju i osposobljavanju, testiranjem i revidiranjem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očetnih prijedloga proizašlih iz  EQARF-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Svrha mu je pomoći ustanovama za strukovno obrazovanje u vrjednovanju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svoga rad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Sadržaj Priručnika za samovrjednovanje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952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1. poglavlje: 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Područja i kriteriji kvalitete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(izvori dokaza, primjeri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rosudbi, statistički podatci i podatci o uspješnosti,  zadatci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koordinatora  samovrjednovanja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2. poglavlje: </a:t>
            </a:r>
            <a:r>
              <a:rPr b="1" lang="hr-HR" sz="1800" spc="-1" strike="noStrike">
                <a:solidFill>
                  <a:srgbClr val="00b050"/>
                </a:solidFill>
                <a:latin typeface="Verdana"/>
              </a:rPr>
              <a:t>Samovrjednovanje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(smjernice za provođenje i pisanj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zvješća o samovrjednovanju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Sadržaj Priručnika za samovrjednovanje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952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3. poglavlje: </a:t>
            </a:r>
            <a:r>
              <a:rPr b="1" lang="hr-HR" sz="1800" spc="-1" strike="noStrike">
                <a:solidFill>
                  <a:srgbClr val="ffc000"/>
                </a:solidFill>
                <a:latin typeface="Verdana"/>
              </a:rPr>
              <a:t>Dodatni materijali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(naslovna stranica i obrasci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zvješća o samovrjednovanju, popis za provjeru pripreme za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amovrjednovanje i  dugoročnog razvojnog plana, proces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donošenja odluka pri samovrjednovanju, KREDA analiza,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nternetski alat za samovrjednovanje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4. poglavlje: </a:t>
            </a:r>
            <a:r>
              <a:rPr b="1" lang="hr-HR" sz="1800" spc="-1" strike="noStrike">
                <a:solidFill>
                  <a:srgbClr val="ff0000"/>
                </a:solidFill>
                <a:latin typeface="Verdana"/>
              </a:rPr>
              <a:t>Dodatci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(pojmovnik o kvaliteti, Brošura o kvaliteti,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rimjeri dovršenih izvješća o samovrjednovanju, smjernice za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raćenje nastave, primjeri postupaka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Cilj predavanja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952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nformirati sudionike o procesu samovrjednovanja u školama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  <a:ea typeface="Verdana"/>
              </a:rPr>
              <a:t>Ciklus kvalitete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260880" y="1811160"/>
            <a:ext cx="3841560" cy="3921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2952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080"/>
                </a:solidFill>
                <a:latin typeface="Verdana"/>
              </a:rPr>
              <a:t>              </a:t>
            </a: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Hvala na pozornosti!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  <a:ea typeface="Verdana"/>
              </a:rPr>
              <a:t>Zakon o strukovnom obrazovanju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952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Članak 11.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Ustanove za strukovno obrazovanje dužne su provoditi samovr</a:t>
            </a: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ednovanje i vanjsko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vr</a:t>
            </a: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ednovanje.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(2) Samovr</a:t>
            </a: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ednovanje se provodi za sljedeća ključna područja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planiranje i programiranje rada,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poučavanje i podrška učenju,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postignuća polaznika,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materijalni uvjeti i ljudski potencijali,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profesionalni razvoj zaposlenika,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međuljudski odnosi u ustanovi za strukovno obrazovanje,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rukovođenje i upravljanje,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suradnja s ostalim dionicima.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(3) Vanjsko vr</a:t>
            </a: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ednovanje obavlja Nacionalni centar za vanjsko vr</a:t>
            </a: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ednovanje obrazovanj</a:t>
            </a: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  <a:ea typeface="Verdana"/>
              </a:rPr>
              <a:t>Zakon o strukovnom obrazovanju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952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Članak 12.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Samovr</a:t>
            </a: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ednovanje ustanove za strukovno obrazovanje prati i vrednuje Povjerenstvo za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kvalitetu, kojega imenuje tijelo upravljanja ustanove za strukovno obrazovanje. Način i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postupak izbora članova Povjerenstva za kvalitetu utvrđuje se statutom ustanove za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strukovno obrazovanje.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(2) Povjerenstvo za kvalitetu ima 7 članova, i to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4 člana iz reda nastavnika i stručnih suradnika,1 član iz reda dionika na prijedlog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osnivača,1 član iz reda polaznika, 1 član iz reda</a:t>
            </a: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roditelja.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(3) Upute o elementima i načinu provođenja samovr</a:t>
            </a: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ednovanja izradit će Agencija.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(4) Povjerenstvo za kvalitetu do kraja rujna za proteklu školsku godinu izrađuje izvješće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te g</a:t>
            </a: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dostavlja tijelu upravljanja ustanove za strukovno obrazovanje i Agenciji.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vi-VN" sz="1400" spc="-1" strike="noStrike">
                <a:solidFill>
                  <a:srgbClr val="000000"/>
                </a:solidFill>
                <a:latin typeface="Verdana"/>
              </a:rPr>
              <a:t>Sadržaj i način izradbe izvješća propisuje Agencija.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Europski referentni okvir za osiguranje kvalitete u strukovnom obrazovanju i osposobljavanju (EQARF-VET) temelji se na šest načel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94920" y="2349000"/>
            <a:ext cx="7689960" cy="34419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27144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stanove za strukovno obrazovanje odgovorne su za kvalitetu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271440" indent="-271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sluge koju pružaju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271440" indent="-271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27144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samovrjednovanje na godišnjoj razini prema kritetijima kvalitete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27144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27144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vrjednovanje prema kriterijim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27144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27144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vrjednovanje kompetencija dokaz pomoću kojeg se dokazuje kompetentnost i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271440" indent="-271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sklađenost s kriterijim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27144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27144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ostavljanje referentnih mjerila i uspoređivanje s nacionalnim  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271440" indent="-271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indikatorim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271440" indent="-271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271440" indent="-271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ciklus kvalitet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planiraj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čini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rovjeri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reagiraj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271440" indent="-27144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  <a:ea typeface="Verdana"/>
              </a:rPr>
              <a:t>Okvir za kvalitetu u Republici Hrvatskoj 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952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Samovrjednovanje prema 6 prioritetnih područja: 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laniranje i programiranje rad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oučavanje i podrška učenju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ostignuća polaznik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Materijalni uvjeti i ljudski potencijali; profesionalni razvoj radnik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Međuljudski odnosi; suradnja s ostalim dionicima; promicanje ustanove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za strukovno obrazovanje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6. Rukovođenje i upravljanje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  <a:ea typeface="Verdana"/>
              </a:rPr>
              <a:t>Samovrjednovanje</a:t>
            </a:r>
            <a:br>
              <a:rPr sz="2400"/>
            </a:b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952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Samovrjednovanje,</a:t>
            </a: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roces koji je pod kontrolom 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samih ustanova za strukovno obrazovanje i za 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koji su same odgovorne, može se definirati kao 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sustavan i progresivan proces procjenjivanja u 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kojem ustanove prikupljaju i analiziraju </a:t>
            </a:r>
            <a:r>
              <a:rPr b="0" i="1" lang="hr-HR" sz="2400" spc="-1" strike="noStrike">
                <a:solidFill>
                  <a:srgbClr val="000000"/>
                </a:solidFill>
                <a:latin typeface="Verdana"/>
              </a:rPr>
              <a:t>dokaze 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kako bi donijele </a:t>
            </a:r>
            <a:r>
              <a:rPr b="0" i="1" lang="hr-HR" sz="2400" spc="-1" strike="noStrike">
                <a:solidFill>
                  <a:srgbClr val="000000"/>
                </a:solidFill>
                <a:latin typeface="Verdana"/>
              </a:rPr>
              <a:t>prosudbe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i="1" lang="hr-HR" sz="2400" spc="-1" strike="noStrike">
                <a:solidFill>
                  <a:srgbClr val="000000"/>
                </a:solidFill>
                <a:latin typeface="Verdana"/>
              </a:rPr>
              <a:t>odluke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o svojoj 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hr-HR" sz="2400" spc="-1" strike="noStrike">
                <a:solidFill>
                  <a:srgbClr val="000000"/>
                </a:solidFill>
                <a:latin typeface="Verdana"/>
              </a:rPr>
              <a:t>izvedbi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u odnosu na dogovorene </a:t>
            </a:r>
            <a:r>
              <a:rPr b="0" i="1" lang="hr-HR" sz="2400" spc="-1" strike="noStrike">
                <a:solidFill>
                  <a:srgbClr val="000000"/>
                </a:solidFill>
                <a:latin typeface="Verdana"/>
              </a:rPr>
              <a:t>kriterije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i 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hr-HR" sz="2400" spc="-1" strike="noStrike">
                <a:solidFill>
                  <a:srgbClr val="000000"/>
                </a:solidFill>
                <a:latin typeface="Verdana"/>
              </a:rPr>
              <a:t>indikatore. 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761240" cy="4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Samovrjednovanj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952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stanove za strukovno obrazovanje su dužne  provoditi samovrjednovanje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i one su odgovorne za kvalitetu odgojno-obrazovnog procesa u ustanovi.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Samovrjednovanje je godišnji ciklus s kojim se procjenjuje izvedba i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rezultati iz prethodne školske godine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Samovrjednovanje se provodi prema kriterijim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Samovrjednovanje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952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Sve ustanove za strukovno obrazovanje procjenjuju se prema istim kriterijima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Samovrjednovanje je usmjereno na odgojno-obrazovni proces i na mogućnost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stanove u zadovoljavanju kriterija za samovrjednovanje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Dokazi moraju pokazivati da su prosudbe koje je ustanova donijela točne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 budućnosti, ustanove će se moći uspoređivati s drugim ustanovama i s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nacionalnim ciljevima, ali i prosjecim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Hrvatski okvir za samovrjednovanje temelji se na ciklusu kvalitete 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2:51:10Z</dcterms:created>
  <dc:creator>nbuic</dc:creator>
  <dc:description/>
  <dc:language>en-US</dc:language>
  <cp:lastModifiedBy>Ivo Tunjić</cp:lastModifiedBy>
  <dcterms:modified xsi:type="dcterms:W3CDTF">2012-05-08T05:27:55Z</dcterms:modified>
  <cp:revision>391</cp:revision>
  <dc:subject/>
  <dc:title>Naslov</dc:title>
</cp:coreProperties>
</file>