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9"/>
          </p:nvPr>
        </p:nvSpPr>
        <p:spPr>
          <a:xfrm>
            <a:off x="381744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0"/>
          </p:nvPr>
        </p:nvSpPr>
        <p:spPr>
          <a:xfrm>
            <a:off x="0" y="937728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1"/>
          </p:nvPr>
        </p:nvSpPr>
        <p:spPr>
          <a:xfrm>
            <a:off x="381744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28F7-18EC-473C-AC6C-10E592D4EFE2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38FF-AAD0-4929-96E0-B2F3D8B51A9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463B-DB8C-41F7-930A-69534D3983C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A940-A137-4A70-9AAD-47D0635BF28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EB99-476B-4383-BAFE-E0613920F45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C3DE-1096-432C-BF08-420C6FC16E8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2904-13A9-4748-9A44-0BE6FA0D743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3F7E-177F-4F04-BA27-DB5CA488247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6B3E-A089-4DDE-B3D2-CCA6080828F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44C-237F-478E-BDE1-F3C3261982A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3997-F29F-48F9-BEB5-ADC5F7721AF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C303-4C36-44EE-A195-4003C28A0E0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DF9C-F074-4644-93A3-96691A88B4B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5E1-3192-4B4F-867F-DAA26E3E43B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EEAA-2AFB-4659-B033-714060FECA7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AA5-97FE-4F81-ACFA-85895B44A44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39280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17800" y="937728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1384-1D7C-4644-A8D7-0A148553905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E25-329C-4F37-8BD6-04864723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4AD-4C77-417A-BB7F-3586362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0C32E-6FA7-4EA7-BA6A-42313104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859C2-18E4-49CE-86A3-01BC789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4DD8D5-11EF-4617-9594-64C0EC8C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2B9CD-0F47-4ABB-A4F4-134D9C4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1D6BFA-8383-463A-B1AE-82A5AB1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3FE9BC-FD7F-4738-B0B0-00EAE7F6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B64755-46F5-412E-881B-F09B3E30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0EBCA-9F0D-4CA2-B7C4-EC473891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EF6159-90A5-4D5B-8826-815339A1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35450C-142C-43DB-BDE8-349FE29D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F2D5-2E54-4682-A8DF-0195B3C3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235CCB-2244-4221-8971-B68CD9B5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61582-26D6-4838-8F52-3393F710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98A410-9A37-4DD5-A276-FD05A48B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1C251F-0043-4F85-834E-76F51FBC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4119D3-F915-465E-BB3A-0103B7AB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D0EEE4-EDF2-4785-91E1-7F69977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E1C321-C636-466E-80C1-460EB58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084AD2-79B1-4681-B162-D4CB358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3905E-391C-45B7-8C7A-9B992B2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DD5D76-E430-462D-9D37-DAC48C10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6CD-DFB9-4F4B-9A39-2AA78584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31B5F-4EFA-4180-B54E-E7C8CC76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1F98F6-DFE3-489E-B963-37B46893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032121-FB9E-4E33-B040-CBB1B809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87B1F4-1CB5-46BE-8311-DFDD486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E6599-14CE-4191-87F3-2C6F0B95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2AF21D-EC56-4F6D-8DC5-0259506D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15D63-2C3C-4066-83D4-AFF57BF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F079ED-537C-4F2A-B092-0BD8FDA9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03760D-A28F-4ACF-B0D2-FAF4322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BF6F29-5713-40F9-BC9F-4C2EF69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B1FDC-DE0F-4EDF-8EF8-6A5CE81F97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27E3A-A396-4E8E-AAA3-8A629284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B25DB-A4C2-4BFD-B9EA-0BBACF10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C5C42A-8C49-4DCD-8140-24088323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A325F0-2F38-472D-A101-5F967239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FC2637-D64F-4A46-8C9F-6804C491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9F1469-604B-4C80-8789-E5C53B6D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F00E8D-C1A3-4C14-8888-E1799966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C1B362-7F90-4AFF-B9A9-7F6B2443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F8F79-0358-4CBF-A5D1-B160524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6779F6-AFE0-4E26-B226-DDE5370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0FB02-2094-4DDA-A040-CD702ED3394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177091-26AA-4DA4-9519-41351FF9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665B4A-EDCD-4FD9-AE6F-5DED9B0E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22DAC6-D1B1-47E1-B4C3-887E6DCA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9F31DD-5F47-4CE3-9214-C4788DB7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9C7526-78BD-4101-BE04-C120455B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318CFB-BB38-4571-A9A5-6FEB5C2D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9BD56E-0602-4572-9270-DC4E5D4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32711-AD20-47C8-B1F6-C5CCABE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B6C7F-D4A9-4A9C-93A6-E9083EC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9EBDE0-3D79-4C4C-B48D-C126DF5A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2B9BE-00D2-4AB0-801E-37D6FF55283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F95D7-3D18-48ED-B58F-CFACB252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26B76-BB91-440B-BF41-070200B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A6B153-49B2-4146-8679-9A2788C2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9B6A21-47B0-4B16-8717-3832B81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19ADC-1739-4496-95F6-2A2D179C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1ED10E-D670-4C0C-B776-908791DB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ABDB3F-C2EA-4D38-A3B9-60752CB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33A9D-4910-4629-A74E-1B3562B3C7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73AF4-D85B-419F-ABFD-F458CF7E6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7BBC9-03B0-41AC-9E33-80F7F7D8F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75BA0-3A1A-4B26-B858-C753F2587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83B-F31B-4484-A803-1D78DFE0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3FFA5-62C9-48B4-ABBA-3CCD99C106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0783-E847-4E8D-AA98-16887ABE9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89243-6FA3-4A1A-8215-B7F87B899C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48112-2F57-45EE-8C8C-231B0190C7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55A79-DF85-4E41-881D-AC57BE7967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76057C-38FE-4B13-8B42-3F9F0AEF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15527-5EB8-4A56-B6CE-CD2576E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FA76A-F38B-4E34-8A35-7F45B2D0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36F7C-9EEE-4B84-8FE4-252612D9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9162D-02A3-4889-9506-AE4F4F38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C0B-92C7-45AF-B4AF-AB5327CC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7DA9C-034B-41CC-A02D-B5D70AA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97A3B-457B-4197-9B2D-A54EFF9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8689B-BABE-4697-BAC3-45E22C2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C77D7-BBBD-499B-8CCA-F71B4E6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71288-0229-413A-98B6-F450D7C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410B2-75D5-4DF3-8DE9-FA1A94C8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103BA-046C-476A-A655-80F6D51E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3BB20-5439-460B-BE5F-8BCAEE0E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69F9C-945A-401F-8851-1E09E253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35195-A171-4D8C-906F-69B1447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BD1-79C9-4747-83D2-FDBF9C29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2FD7B-654F-4A75-A612-F907ED4B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089B2D-BE2B-4BBF-97F2-2EFE7384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C5A2D-C2A2-4227-A34B-B068AF57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BB103-47B5-4A6B-8314-58F472C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D9D30-285A-43EF-BA49-6C01F9D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17BEA-457F-48AC-AB43-1FBB9419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3536E-EF94-4D70-B5E4-92E0A23D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16B59-6AFB-4042-BDE0-A170AC23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0148E-E88B-429D-8B81-ED56CAB4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294C1-C56E-400F-BB01-53C267A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B9C-F25E-4644-8C03-6C860E65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D9320-DCF7-45F8-B71C-E75CB99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065E0-8B09-4AFB-9DC9-CBC61BF2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835C1-35AF-4892-858D-87D58901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E04A3-2C41-4CE9-8987-AAFC1CDB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8ED6A-48AB-4CF7-A481-0DF89FD0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282E0-448F-4424-AE2A-4780A25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1C546-6C79-4B2A-9727-5DBA3CB8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AE4F3-1B1A-47CF-BE7D-2B3F3333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879C1-5A12-4515-9867-DC87C462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5F9C4-7F05-4E69-90D6-588528A2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A12-31A0-4E5E-ABF0-28F2F66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BDDA7-5767-4CAA-8935-9FC76222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E524C-05A7-402D-BC63-D90A9409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CD56A-A9B0-4DAD-A022-4BE015F2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8CB9C-F779-4BDD-866F-722DC83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61679-D918-4849-8F5B-704BBDB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5F4AF-4F1A-4DA9-9615-44707227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4A096-329F-4DBC-8CF5-C194E3C3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602BF-294F-4135-BE62-945DAD5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D5456-34E2-4589-8605-425E6C0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8CA9C-3D49-48DB-A2B7-0FC2C82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986-701F-4922-8397-E57FF72F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7EF6C-0BF6-448D-9F23-B622A7FB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43950-BFF5-4E52-AA85-4E18BE2B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3CC88-9D72-40B2-AFAF-E33F1B32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FADCA-CA65-4289-91B1-2F94F661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3D88B-24CF-47C0-B317-A345423B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5D7B7-6765-4A83-8730-C009F4D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BBB243-33DE-478B-920A-28268A7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64209-3FBF-412E-9674-0A5B717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D13387-6D9C-40B7-A8B8-9C8EF2A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47177-216F-40B5-AF8E-A4665B97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BCB-24BB-4D49-89C9-27351A8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B1F74-1080-4ED9-A064-BC1FE9AD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BA915-0EAA-4B27-A2FB-91C3247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679D3-0202-4883-BBAE-7F2CA5DC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5DEFC-296C-4988-854B-8893CA3D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C6266-0BF1-4EA1-89DA-5BD3F740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51E51-45BB-40B0-86AD-C6DA48B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E08CA-A3FB-4B41-A079-6A55844F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B2181B-1E1E-47AB-823F-E1425845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162F66-F81A-48D6-8BC7-F7A08D08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9E2B6-09C0-4A84-8F00-BE674FDF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7BF-4546-4917-944D-A5386B8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42960" y="213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5D095-48C8-479D-92D8-35C20D73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3319E1-963D-4F82-B14B-347A95B2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8C63D-8B22-49B9-AD8B-7FE230FF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7F03C7-9630-4FDA-B4E4-7AB69A6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21158-9658-4DA2-8A39-6894576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C0EF5-B681-4889-B044-E33EF095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602121-FF05-41CE-9957-3CA953C5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FC02B4-6CBF-48D1-8BDD-72B927C6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95735-7EEC-43BF-A85F-3BFA8BCD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AE0EBC-2B13-4C6B-B978-1FFDE401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8E8-228D-4540-9C15-E98360B1E4D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1509-9257-4305-9764-152E5EE09C7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9173-D263-4D68-A777-56B2CA648034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E8A-D8D3-4673-850A-42B768ABE6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6B3-F803-45AE-B545-97854C3F85B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47" name="Slika 6" descr="logotitle.jpg"/>
          <p:cNvPicPr/>
          <p:nvPr/>
        </p:nvPicPr>
        <p:blipFill>
          <a:blip r:embed="rId5"/>
          <a:stretch/>
        </p:blipFill>
        <p:spPr>
          <a:xfrm>
            <a:off x="214200" y="428760"/>
            <a:ext cx="3614760" cy="1420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722-117A-4FDC-A855-790C19E9BF2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F49-05CF-4E21-96B4-6C891A08DD74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2C17-484F-4782-B2A4-09B4124BEFE8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45A7-0CEC-4DD3-9382-62874F582CC5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FAE-7852-4B5F-9680-953D4ED8CAE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EA1-5EC0-485F-9389-A46AE999E155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846C-B5EA-47E8-BB24-B7D580BDA4D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logo_LLP_hr.jpg"/>
          <p:cNvPicPr/>
          <p:nvPr/>
        </p:nvPicPr>
        <p:blipFill>
          <a:blip r:embed="rId2"/>
          <a:stretch/>
        </p:blipFill>
        <p:spPr>
          <a:xfrm>
            <a:off x="357120" y="6357960"/>
            <a:ext cx="1109880" cy="428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logo_mladi_hr.jpg"/>
          <p:cNvPicPr/>
          <p:nvPr/>
        </p:nvPicPr>
        <p:blipFill>
          <a:blip r:embed="rId3"/>
          <a:stretch/>
        </p:blipFill>
        <p:spPr>
          <a:xfrm>
            <a:off x="1714680" y="6335640"/>
            <a:ext cx="747360" cy="522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euraxess.png"/>
          <p:cNvPicPr/>
          <p:nvPr/>
        </p:nvPicPr>
        <p:blipFill>
          <a:blip r:embed="rId4"/>
          <a:stretch/>
        </p:blipFill>
        <p:spPr>
          <a:xfrm>
            <a:off x="2643120" y="6346800"/>
            <a:ext cx="642960" cy="511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zaglavlje"/>
          <p:cNvPicPr/>
          <p:nvPr/>
        </p:nvPicPr>
        <p:blipFill>
          <a:blip r:embed="rId5"/>
          <a:stretch/>
        </p:blipFill>
        <p:spPr>
          <a:xfrm>
            <a:off x="71280" y="285840"/>
            <a:ext cx="8839440" cy="9745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5af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3F61-99D6-43FE-88EE-EEAC7BA06804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obilnost.hr/" TargetMode="External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25afc9"/>
                </a:solidFill>
                <a:latin typeface="Arial"/>
              </a:rPr>
              <a:t>Mogućnosti za profesionalni razvoj u školama kroz obrazovne programe Europske unije</a:t>
            </a:r>
            <a:br>
              <a:rPr sz="3200"/>
            </a:br>
            <a:br>
              <a:rPr sz="3200"/>
            </a:br>
            <a:r>
              <a:rPr b="0" lang="hr-HR" sz="2400" spc="-1" strike="noStrike">
                <a:solidFill>
                  <a:srgbClr val="d6570e"/>
                </a:solidFill>
                <a:latin typeface="Arial"/>
              </a:rPr>
              <a:t>Državni stručni skup za stručne suradnike pedagoge</a:t>
            </a:r>
            <a:br>
              <a:rPr sz="2400"/>
            </a:br>
            <a:r>
              <a:rPr b="0" lang="hr-HR" sz="2400" spc="-1" strike="noStrike">
                <a:solidFill>
                  <a:srgbClr val="d6570e"/>
                </a:solidFill>
                <a:latin typeface="Arial"/>
              </a:rPr>
              <a:t> Osijek,</a:t>
            </a:r>
            <a:r>
              <a:rPr b="0" lang="pl-PL" sz="2400" spc="-1" strike="noStrike">
                <a:solidFill>
                  <a:srgbClr val="d6570e"/>
                </a:solidFill>
                <a:latin typeface="Arial"/>
              </a:rPr>
              <a:t>7.-9. svibnja 2012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d6570e"/>
                </a:solidFill>
                <a:latin typeface="Arial"/>
              </a:rPr>
              <a:t>Filip Gašparović</a:t>
            </a:r>
            <a:r>
              <a:rPr b="1" lang="pl-PL" sz="2000" spc="-1" strike="noStrike">
                <a:solidFill>
                  <a:srgbClr val="25afc9"/>
                </a:solidFill>
                <a:latin typeface="Arial"/>
              </a:rPr>
              <a:t> </a:t>
            </a:r>
            <a:br>
              <a:rPr sz="2400"/>
            </a:br>
            <a:br>
              <a:rPr sz="3200"/>
            </a:br>
            <a:br>
              <a:rPr sz="3200"/>
            </a:br>
            <a:br>
              <a:rPr sz="1800"/>
            </a:br>
            <a:br>
              <a:rPr sz="18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6629400" y="333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Primjeri Comenius stručnih usavršavanj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7f7f7f"/>
                </a:solidFill>
                <a:latin typeface="Calibri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7f7f7f"/>
                </a:solidFill>
                <a:latin typeface="Calibri"/>
                <a:ea typeface="Arial"/>
              </a:rPr>
              <a:t>Outdoor Environmental Education - Taking Learning Outdoors </a:t>
            </a:r>
            <a:r>
              <a:rPr b="1" i="1" lang="en-GB" sz="2400" spc="-1" strike="noStrike">
                <a:solidFill>
                  <a:srgbClr val="7f7f7f"/>
                </a:solidFill>
                <a:latin typeface="Calibri"/>
                <a:ea typeface="Arial"/>
              </a:rPr>
              <a:t>”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Švedska, 20. – 27. svibnja 2012. 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“</a:t>
            </a:r>
            <a:r>
              <a:rPr b="1" i="1" lang="en-US" sz="2300" spc="-1" strike="noStrike">
                <a:solidFill>
                  <a:srgbClr val="7f7f7f"/>
                </a:solidFill>
                <a:latin typeface="Calibri"/>
                <a:ea typeface="Arial"/>
              </a:rPr>
              <a:t>Cooperative Learning: a method to develop social and learning skills for inclusion in educational and social contexts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”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Italija, 20. – 24. lipnja 2012.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“</a:t>
            </a:r>
            <a:r>
              <a:rPr b="1" i="1" lang="en-GB" sz="2300" spc="-1" strike="noStrike">
                <a:solidFill>
                  <a:srgbClr val="7f7f7f"/>
                </a:solidFill>
                <a:latin typeface="Calibri"/>
                <a:ea typeface="Arial"/>
              </a:rPr>
              <a:t>Children with special needs: integration of disabilities in classroom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”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Italija, 10. – 14. listopada 2012.</a:t>
            </a:r>
            <a:r>
              <a:rPr b="0" i="1" lang="en-US" sz="2300" spc="-1" strike="noStrike">
                <a:solidFill>
                  <a:srgbClr val="2fb1cc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2fb1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Comenius stručna usavršavanj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Najčešće teme iz područja metodike stranih jezika, didaktike i pedagogije te kulture i geografij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Najpopularnija odredišta: Velika Britanija,Irska, Portugal, Italija, Njemačka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Prosječan iznos financijske potpore: 2300 EUR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Prosječno trajanje: 7 dana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Comenius partnerstav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7f7f7f"/>
                </a:solidFill>
                <a:latin typeface="Arial"/>
              </a:rPr>
              <a:t>Manji projekti suradnje dvaju ili više škola na temama od zajedničkog interesa. Partnerstva uključuju lokalne aktivnosti poput terenskog rada, izrade publikacija, provođenja istraživanja itd., te mobilnosti u druge držav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bilateralna, multilateralna i regio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Ciljna skupina: nastavno i nenastavno osoblje, učenici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Trajanje: 2 godin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Primjer Comenius regio partnerstav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7f7f7f"/>
                </a:solidFill>
                <a:latin typeface="Arial"/>
              </a:rPr>
              <a:t>Europski koordinator projekta: </a:t>
            </a:r>
            <a:r>
              <a:rPr b="0" lang="hr-HR" sz="2400" spc="-1" strike="noStrike">
                <a:solidFill>
                  <a:srgbClr val="7f7f7f"/>
                </a:solidFill>
                <a:latin typeface="Arial"/>
                <a:ea typeface="Calibri"/>
              </a:rPr>
              <a:t>Taurage District Municipality Administration,   Litva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Arial"/>
                <a:ea typeface="Calibri"/>
              </a:rPr>
              <a:t>Nacionalni koordinator projekta: Karlovačka županija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Arial"/>
                <a:ea typeface="Calibri"/>
              </a:rPr>
              <a:t>Partneri u projektu: 5 ustanova iz Litve + 7 ustanova iz RH (Grad Karlovac, Dječji vrtić Karlovac, Prva osnovna škola Ogulin, Osnovna škola Draganići, Osnovna škola Dragojle Jarnević; Osnovna škola Grabrik, Udruga Carpe Diem)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Arial"/>
                <a:ea typeface="Calibri"/>
              </a:rPr>
              <a:t>Naziv projekta: „Violets in schools”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7f7f"/>
                </a:solidFill>
                <a:latin typeface="Arial"/>
                <a:ea typeface="Calibri"/>
              </a:rPr>
              <a:t>Svrha projekta: Edukacija o prevenciji nasilja u školama i društvu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b1cc"/>
                </a:solidFill>
                <a:latin typeface="Arial"/>
              </a:rPr>
              <a:t>Transverzalni program –</a:t>
            </a:r>
            <a:br>
              <a:rPr sz="3600"/>
            </a:br>
            <a:r>
              <a:rPr b="0" lang="hr-HR" sz="3600" spc="-1" strike="noStrike">
                <a:solidFill>
                  <a:srgbClr val="2fb1cc"/>
                </a:solidFill>
                <a:latin typeface="Arial"/>
              </a:rPr>
              <a:t>Studijski posjeti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09520" y="13791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just">
              <a:lnSpc>
                <a:spcPct val="80000"/>
              </a:lnSpc>
              <a:spcBef>
                <a:spcPts val="150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808285"/>
                </a:solidFill>
                <a:latin typeface="Arial"/>
                <a:ea typeface="Arial"/>
              </a:rPr>
              <a:t>kratki posjeti u trajanju 3 – 5 dana, 8-15 sudionika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808285"/>
                </a:solidFill>
                <a:latin typeface="Arial"/>
                <a:ea typeface="Arial"/>
              </a:rPr>
              <a:t>međunarodna diskusija fokusirana na politike obrazovanja i osposobljavanja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808285"/>
                </a:solidFill>
                <a:latin typeface="Arial"/>
                <a:ea typeface="Arial"/>
              </a:rPr>
              <a:t>namijenjeni donositeljima odluka u obrazovanju i onima koji sudjeluju u kreiranju i/ili implementiranju obrazovnih politika i politika strukovne   izobrazbe i osposobljavanja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808285"/>
                </a:solidFill>
                <a:latin typeface="Arial"/>
                <a:ea typeface="Arial"/>
              </a:rPr>
              <a:t>pedagozi i savjetnici za profesionalno usmjeravanje, ravnatelji i nastavnici mentori/savjetnici, </a:t>
            </a:r>
            <a:r>
              <a:rPr b="0" lang="hr-HR" sz="2000" spc="-1" strike="noStrike">
                <a:solidFill>
                  <a:srgbClr val="808285"/>
                </a:solidFill>
                <a:latin typeface="Arial"/>
                <a:ea typeface="Arial"/>
              </a:rPr>
              <a:t>prosvjetni inspektori, </a:t>
            </a:r>
            <a:r>
              <a:rPr b="0" lang="vi-VN" sz="2000" spc="-1" strike="noStrike">
                <a:solidFill>
                  <a:srgbClr val="808285"/>
                </a:solidFill>
                <a:latin typeface="Arial"/>
                <a:ea typeface="Arial"/>
              </a:rPr>
              <a:t>predstavnici lokalne, regionalne i državne vlasti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285"/>
                </a:solidFill>
                <a:latin typeface="Arial"/>
                <a:ea typeface="Arial"/>
              </a:rPr>
              <a:t>Odabiru se posjeti iz Kataloga studijskih posjeta koji odgovaraju profesionalnom iskustvu, profilu i potrebama prijavitelja: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8285"/>
                </a:solidFill>
                <a:latin typeface="Arial"/>
                <a:ea typeface="Arial"/>
              </a:rPr>
              <a:t>     </a:t>
            </a:r>
            <a:r>
              <a:rPr b="1" i="1" lang="hr-HR" sz="2000" spc="-1" strike="noStrike">
                <a:solidFill>
                  <a:srgbClr val="808285"/>
                </a:solidFill>
                <a:latin typeface="Arial"/>
                <a:ea typeface="Arial"/>
              </a:rPr>
              <a:t>www.studyvisits.cedefop.europa.eu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195480" indent="-195480" algn="just">
              <a:lnSpc>
                <a:spcPct val="80000"/>
              </a:lnSpc>
              <a:spcBef>
                <a:spcPts val="499"/>
              </a:spcBef>
              <a:buClr>
                <a:srgbClr val="8082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Primjeri Studijskih posjet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7f7f7f"/>
                </a:solidFill>
                <a:latin typeface="Calibri"/>
                <a:ea typeface="Arial"/>
              </a:rPr>
              <a:t> 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“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Internal evaluation system in general education in Estonia”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Estonija, 23. – 27. travnja 2012. 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“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Teachers’ professional development for raising the quality of teaching”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Poljska, 11. – 15. lipnja 2012.</a:t>
            </a:r>
            <a:r>
              <a:rPr b="0" i="1" lang="en-US" sz="2300" spc="-1" strike="noStrike">
                <a:solidFill>
                  <a:srgbClr val="2fb1cc"/>
                </a:solidFill>
                <a:latin typeface="Calibri"/>
                <a:ea typeface="Arial"/>
              </a:rPr>
              <a:t> 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“ </a:t>
            </a:r>
            <a:r>
              <a:rPr b="1" i="1" lang="hr-HR" sz="2300" spc="-1" strike="noStrike">
                <a:solidFill>
                  <a:srgbClr val="7f7f7f"/>
                </a:solidFill>
                <a:latin typeface="Calibri"/>
                <a:ea typeface="Arial"/>
              </a:rPr>
              <a:t>Identifying and supporting gifted children in Poland”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300" spc="-1" strike="noStrike">
                <a:solidFill>
                  <a:srgbClr val="2fb1cc"/>
                </a:solidFill>
                <a:latin typeface="Calibri"/>
                <a:ea typeface="Arial"/>
              </a:rPr>
              <a:t>Poljska, 7. – 11. svibnja 2012.</a:t>
            </a: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Arial"/>
                <a:ea typeface="Arial"/>
              </a:rPr>
              <a:t>Republika Hrvatska je službeno od 1. siječnja 2011. godine postala dio Euroguidance mreže EK koja je prvotno osnovana 1992. kao podrška sustavu profesionalnog usmjeravanja.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7f7f7f"/>
                </a:solidFill>
                <a:latin typeface="Arial"/>
                <a:ea typeface="Arial"/>
              </a:rPr>
              <a:t>Glavni ciljevi: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Arial"/>
                <a:ea typeface="Arial"/>
              </a:rPr>
              <a:t>Promicanje europske dimenzije u profesionalnom usmjeravanju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Arial"/>
                <a:ea typeface="Arial"/>
              </a:rPr>
              <a:t>Pružanje informacija o cjeloživotnom profesionalnom usmjeravanju i mobilnosti u svrhu učenja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7f7f7f"/>
                </a:solidFill>
                <a:latin typeface="Calibri"/>
                <a:ea typeface="Arial"/>
              </a:rPr>
              <a:t>  </a:t>
            </a: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Euroguidance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Euroguidance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Euroguidance  centar Hrvatska djeluje u okviru Agencije za mobilnosti i provodi sljedeće aktivnosti: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objavljuje novosti i informacije o primjerima dobre prakse u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profesionalnom usmjeravanju iz europskih zemalja: kroz mrežnu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stranicu, on-line newsletter, relevantne publikacije i priručnike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daje pristup informacijama o nadolazećim studijskim posjetima u   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europskim zemljama vezanima za teme iz područja profesionalnog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usmjeravanj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objavljuje na mrežnoj stranici priručnike i poveznice na aktualne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metode, tehnike i alate za rad u profesionalnom usmjeravanju i 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savjetovanju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pruža informacije o mogućnostima učenja i usavršavanja u drugim 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europskim zemljama te potpore za mobilnost kroz aktivnosti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     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  <a:ea typeface="Arial"/>
              </a:rPr>
              <a:t>Programa za cjeloživotno učenje i Mladi na djelu.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8a9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Primjer aktivnosti Euroguidance centr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7da94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da941"/>
                </a:solidFill>
                <a:latin typeface="Arial"/>
                <a:ea typeface="Arial"/>
              </a:rPr>
              <a:t>Studijski posjet za savjetnike u profesionalnom usmjeravanju u organizaciji centra Euroguidance Hrvatska (studeni 2011.)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(posjet europskoj zemlji u trajanju 5 dana  - primjer dobre prakse: radne metodologije, praksa, tehnike, sustav profesionalnog usmjeravanja)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buClr>
                <a:srgbClr val="7da941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7da941"/>
                </a:solidFill>
                <a:latin typeface="Arial"/>
                <a:ea typeface="Arial"/>
              </a:rPr>
              <a:t>Trening / seminar za savjetnike (Zagreb, prosinac 2011.)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predstavljanje sudionika studijskog posjeta – diseminacija iskustva i     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      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znanja stečenih na studijskom posjetu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     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Pratite obavijesti  na </a:t>
            </a:r>
            <a:r>
              <a:rPr b="0" lang="hr-HR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mobilnost.hr</a:t>
            </a:r>
            <a:r>
              <a:rPr b="0" lang="hr-HR" sz="2000" spc="-1" strike="noStrike">
                <a:solidFill>
                  <a:srgbClr val="7f7f7f"/>
                </a:solidFill>
                <a:latin typeface="Arial"/>
                <a:ea typeface="Arial"/>
              </a:rPr>
              <a:t>  i </a:t>
            </a:r>
            <a:r>
              <a:rPr b="0" lang="hr-HR" sz="2000" spc="-1" strike="noStrike" u="sng">
                <a:solidFill>
                  <a:srgbClr val="25afc9"/>
                </a:solidFill>
                <a:uFillTx/>
                <a:latin typeface="Arial"/>
                <a:ea typeface="Arial"/>
              </a:rPr>
              <a:t>www.euroguidance.net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25afc9"/>
                </a:solidFill>
                <a:latin typeface="Arial"/>
              </a:rPr>
              <a:t>Dostupna sredstva (LLP)</a:t>
            </a:r>
            <a:br>
              <a:rPr sz="3000"/>
            </a:br>
            <a:endParaRPr b="0" lang="en-US" sz="3000" spc="-1" strike="noStrike">
              <a:solidFill>
                <a:srgbClr val="25afc9"/>
              </a:solidFill>
              <a:latin typeface="Arial"/>
            </a:endParaRPr>
          </a:p>
        </p:txBody>
      </p:sp>
      <p:pic>
        <p:nvPicPr>
          <p:cNvPr id="644" name="Chart 1" descr=""/>
          <p:cNvPicPr/>
          <p:nvPr/>
        </p:nvPicPr>
        <p:blipFill>
          <a:blip r:embed="rId1"/>
          <a:stretch/>
        </p:blipFill>
        <p:spPr>
          <a:xfrm>
            <a:off x="249120" y="1268280"/>
            <a:ext cx="864576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Sadržaj prezentacije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Arial"/>
              </a:rPr>
              <a:t>Agencija za mobilnost i programe EU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Arial"/>
              </a:rPr>
              <a:t>Programi, mreže i inicijative EU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Arial"/>
              </a:rPr>
              <a:t>Primjeri projekata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f7f7f"/>
                </a:solidFill>
                <a:latin typeface="Arial"/>
              </a:rPr>
              <a:t>Način prijave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24000" y="1413000"/>
          <a:ext cx="8569080" cy="4176720"/>
        </p:xfrm>
        <a:graphic>
          <a:graphicData uri="http://schemas.openxmlformats.org/drawingml/2006/table">
            <a:tbl>
              <a:tblPr/>
              <a:tblGrid>
                <a:gridCol w="1414440"/>
                <a:gridCol w="1420560"/>
                <a:gridCol w="1417680"/>
                <a:gridCol w="1417680"/>
                <a:gridCol w="1417680"/>
                <a:gridCol w="1481040"/>
              </a:tblGrid>
              <a:tr h="1388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en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onardo da Vi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a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ndtv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verzal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5afc9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0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3320"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EUKUPN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46" name="TextBox 2"/>
          <p:cNvSpPr/>
          <p:nvPr/>
        </p:nvSpPr>
        <p:spPr>
          <a:xfrm>
            <a:off x="395280" y="573264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* Preliminarni pod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Broj sudionika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Natječaj LLP 2012.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78920" y="119700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Otvoreni rokovi: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- Comenius/Grundtvig Stručna usavršavanja:   </a:t>
            </a: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17.09.2012.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Pripremni posjeti: </a:t>
            </a: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08.06.2012.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                                </a:t>
            </a: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14.09.2012.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                                </a:t>
            </a: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09.11.2012.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Studijski posjeti:  </a:t>
            </a:r>
            <a:r>
              <a:rPr b="1" lang="hr-HR" sz="2800" spc="-1" strike="noStrike">
                <a:solidFill>
                  <a:srgbClr val="7f7f7f"/>
                </a:solidFill>
                <a:latin typeface="Arial"/>
              </a:rPr>
              <a:t>12.10.2012.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f7f7f"/>
                </a:solidFill>
                <a:latin typeface="Arial"/>
              </a:rPr>
              <a:t>Euroguidance: redovito pratiti mrežne stranice Agencij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4" descr="C:\Users\abozicev\Desktop\logo2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989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" descr="ampeu PP_zaglavlje.jpg"/>
          <p:cNvPicPr/>
          <p:nvPr/>
        </p:nvPicPr>
        <p:blipFill>
          <a:blip r:embed="rId2"/>
          <a:stretch/>
        </p:blipFill>
        <p:spPr>
          <a:xfrm>
            <a:off x="190440" y="274680"/>
            <a:ext cx="8763120" cy="920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ampeu PP_logotipi pr.jpg"/>
          <p:cNvPicPr/>
          <p:nvPr/>
        </p:nvPicPr>
        <p:blipFill>
          <a:blip r:embed="rId3"/>
          <a:stretch/>
        </p:blipFill>
        <p:spPr>
          <a:xfrm>
            <a:off x="184320" y="6248520"/>
            <a:ext cx="4235400" cy="49032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Kako</a:t>
            </a:r>
            <a:r>
              <a:rPr b="0" lang="hr-HR" sz="4000" spc="-1" strike="noStrike">
                <a:solidFill>
                  <a:srgbClr val="2fb1cc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krenuti?</a:t>
            </a:r>
            <a:endParaRPr b="0" lang="en-US" sz="32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195200"/>
            <a:ext cx="822960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1. Pronaći sebe u </a:t>
            </a:r>
            <a:r>
              <a:rPr b="1" lang="hr-HR" sz="2800" spc="-1" strike="noStrike">
                <a:solidFill>
                  <a:srgbClr val="de6e46"/>
                </a:solidFill>
                <a:latin typeface="Arial"/>
              </a:rPr>
              <a:t>programu/programima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- AMPEU brošura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- AMPEU mrežna stranica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2. Proučiti natječajnu dokumentaciju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3. Ideju pretočiti u </a:t>
            </a:r>
            <a:r>
              <a:rPr b="1" lang="hr-HR" sz="2800" spc="-1" strike="noStrike">
                <a:solidFill>
                  <a:srgbClr val="2fb1cc"/>
                </a:solidFill>
                <a:latin typeface="Arial"/>
              </a:rPr>
              <a:t>nacrt projekta 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4. Kontaktirati </a:t>
            </a:r>
            <a:r>
              <a:rPr b="1" lang="hr-HR" sz="2800" spc="-1" strike="noStrike">
                <a:solidFill>
                  <a:srgbClr val="de6e46"/>
                </a:solidFill>
                <a:latin typeface="Arial"/>
              </a:rPr>
              <a:t>AMPEU </a:t>
            </a: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po potrebi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5. Pratiti </a:t>
            </a:r>
            <a:r>
              <a:rPr b="1" lang="hr-HR" sz="2800" spc="-1" strike="noStrike">
                <a:solidFill>
                  <a:srgbClr val="2fb1cc"/>
                </a:solidFill>
                <a:latin typeface="Arial"/>
              </a:rPr>
              <a:t>mrežne stranice</a:t>
            </a:r>
            <a:r>
              <a:rPr b="0" lang="hr-HR" sz="2800" spc="-1" strike="noStrike">
                <a:solidFill>
                  <a:srgbClr val="2fb1cc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i mail-ov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8285"/>
                </a:solidFill>
                <a:latin typeface="Arial"/>
              </a:rPr>
              <a:t>6. Prijaviti se na </a:t>
            </a:r>
            <a:r>
              <a:rPr b="1" lang="hr-HR" sz="2800" spc="-1" strike="noStrike">
                <a:solidFill>
                  <a:srgbClr val="de6e46"/>
                </a:solidFill>
                <a:latin typeface="Arial"/>
              </a:rPr>
              <a:t>natječaj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Kontakt</a:t>
            </a:r>
            <a:endParaRPr b="0" lang="en-US" sz="3200" spc="-1" strike="noStrike">
              <a:solidFill>
                <a:srgbClr val="25afc9"/>
              </a:solidFill>
              <a:latin typeface="Arial"/>
            </a:endParaRPr>
          </a:p>
        </p:txBody>
      </p:sp>
      <p:pic>
        <p:nvPicPr>
          <p:cNvPr id="656" name="Picture 4" descr="plavi balon"/>
          <p:cNvPicPr/>
          <p:nvPr/>
        </p:nvPicPr>
        <p:blipFill>
          <a:blip r:embed="rId1"/>
          <a:stretch/>
        </p:blipFill>
        <p:spPr>
          <a:xfrm>
            <a:off x="4929120" y="2192400"/>
            <a:ext cx="3857760" cy="3343320"/>
          </a:xfrm>
          <a:prstGeom prst="rect">
            <a:avLst/>
          </a:prstGeom>
          <a:ln w="0">
            <a:noFill/>
          </a:ln>
        </p:spPr>
      </p:pic>
      <p:sp>
        <p:nvSpPr>
          <p:cNvPr id="657" name="Pravokutnik 4"/>
          <p:cNvSpPr/>
          <p:nvPr/>
        </p:nvSpPr>
        <p:spPr>
          <a:xfrm>
            <a:off x="5715000" y="327348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Pita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Group 8" descr=""/>
          <p:cNvPicPr/>
          <p:nvPr/>
        </p:nvPicPr>
        <p:blipFill>
          <a:blip r:embed="rId2"/>
          <a:stretch/>
        </p:blipFill>
        <p:spPr>
          <a:xfrm>
            <a:off x="212760" y="2000160"/>
            <a:ext cx="4645080" cy="3430800"/>
          </a:xfrm>
          <a:prstGeom prst="rect">
            <a:avLst/>
          </a:prstGeom>
          <a:ln w="0">
            <a:noFill/>
          </a:ln>
        </p:spPr>
      </p:pic>
      <p:sp>
        <p:nvSpPr>
          <p:cNvPr id="659" name="Elipsasti oblačić 7"/>
          <p:cNvSpPr/>
          <p:nvPr/>
        </p:nvSpPr>
        <p:spPr>
          <a:xfrm>
            <a:off x="4000680" y="1143000"/>
            <a:ext cx="2714400" cy="1643040"/>
          </a:xfrm>
          <a:prstGeom prst="wedgeEllipseCallout">
            <a:avLst>
              <a:gd name="adj1" fmla="val -37620"/>
              <a:gd name="adj2" fmla="val 66981"/>
            </a:avLst>
          </a:prstGeom>
          <a:solidFill>
            <a:srgbClr val="de6e4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Hvala na pozornos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5"/>
          <p:cNvSpPr/>
          <p:nvPr/>
        </p:nvSpPr>
        <p:spPr>
          <a:xfrm>
            <a:off x="179280" y="1184400"/>
            <a:ext cx="8785440" cy="2388960"/>
          </a:xfrm>
          <a:prstGeom prst="rect">
            <a:avLst/>
          </a:prstGeom>
          <a:solidFill>
            <a:srgbClr val="2fb1cc">
              <a:alpha val="86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63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Što je Agencija za mobilnost i programe EU?</a:t>
            </a:r>
            <a:endParaRPr b="0" lang="en-US" sz="32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45692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Agencija za mobilnost i programe Europske unije (AMPEU)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je javna ustanova koja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u Republici Hrvatskoj 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provodi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programe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Europske unije iz područja obrazovanja te formalnog i neformalnog učenja.</a:t>
            </a:r>
            <a:endParaRPr b="0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6072120" y="5500800"/>
            <a:ext cx="3000600" cy="135720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604800" y="37162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08080"/>
                </a:solidFill>
                <a:latin typeface="Arial"/>
              </a:rPr>
              <a:t>Koristeći fondove Europske unije</a:t>
            </a:r>
            <a:r>
              <a:rPr b="1" lang="hr-HR" sz="24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1" lang="vi-VN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AMPEU ulaže 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obrazovanje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,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 učenje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i mobilnost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 građana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modernizaciju obrazovnog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808080"/>
                </a:solidFill>
                <a:latin typeface="Arial"/>
              </a:rPr>
              <a:t>internacionalizaciju </a:t>
            </a:r>
            <a:r>
              <a:rPr b="0" lang="hr-HR" sz="2400" spc="-1" strike="noStrike">
                <a:solidFill>
                  <a:srgbClr val="808080"/>
                </a:solidFill>
                <a:latin typeface="Arial"/>
              </a:rPr>
              <a:t>u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C:\Users\abozicev\Desktop\logo2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989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ampeu PP_zaglavlje.jpg"/>
          <p:cNvPicPr/>
          <p:nvPr/>
        </p:nvPicPr>
        <p:blipFill>
          <a:blip r:embed="rId2"/>
          <a:stretch/>
        </p:blipFill>
        <p:spPr>
          <a:xfrm>
            <a:off x="190440" y="222120"/>
            <a:ext cx="8763120" cy="9208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gradFill rotWithShape="0">
            <a:gsLst>
              <a:gs pos="0">
                <a:srgbClr val="106a7d"/>
              </a:gs>
              <a:gs pos="100000">
                <a:srgbClr val="23b9d8"/>
              </a:gs>
            </a:gsLst>
            <a:lin ang="27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AMPEU provodi programe EU koji su namijenjeni:</a:t>
            </a: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edškolskoj dobi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snovnom i srednjem obrazovanju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isokom obrazovanju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obrazovanju odraslih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udrugama mladih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znanstvenicim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2" name="Content Placeholder 3"/>
          <p:cNvSpPr/>
          <p:nvPr/>
        </p:nvSpPr>
        <p:spPr>
          <a:xfrm>
            <a:off x="5214960" y="1600200"/>
            <a:ext cx="3571920" cy="4525920"/>
          </a:xfrm>
          <a:prstGeom prst="rect">
            <a:avLst/>
          </a:prstGeom>
          <a:gradFill rotWithShape="0">
            <a:gsLst>
              <a:gs pos="0">
                <a:srgbClr val="883a1e"/>
              </a:gs>
              <a:gs pos="100000">
                <a:srgbClr val="e9693b"/>
              </a:gs>
            </a:gsLst>
            <a:lin ang="27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gram za cjeloživotno učenj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gram Mladi na dje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URAXESS People, FP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rasmus Mundus, Bolonja eksperti, CEEPUS, Tempus, Bilateralne stipend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Europass, Euroguidance, Euro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Right Arrow 14"/>
          <p:cNvGrpSpPr/>
          <p:nvPr/>
        </p:nvGrpSpPr>
        <p:grpSpPr>
          <a:xfrm>
            <a:off x="3627360" y="3402000"/>
            <a:ext cx="1639800" cy="609480"/>
            <a:chOff x="3627360" y="3402000"/>
            <a:chExt cx="1639800" cy="609480"/>
          </a:xfrm>
        </p:grpSpPr>
        <p:pic>
          <p:nvPicPr>
            <p:cNvPr id="604" name="Right Arrow 14" descr=""/>
            <p:cNvPicPr/>
            <p:nvPr/>
          </p:nvPicPr>
          <p:blipFill>
            <a:blip r:embed="rId3"/>
            <a:stretch/>
          </p:blipFill>
          <p:spPr>
            <a:xfrm>
              <a:off x="3627360" y="3402000"/>
              <a:ext cx="1639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3678120" y="3554280"/>
              <a:ext cx="14115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fb1cc"/>
                </a:solidFill>
                <a:latin typeface="Arial"/>
              </a:rPr>
              <a:t>Programi u nadležnosti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Što je Program za cjeloživotno </a:t>
            </a:r>
            <a:br>
              <a:rPr sz="3200"/>
            </a:b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učenje?</a:t>
            </a:r>
            <a:endParaRPr b="0" lang="en-US" sz="32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Najveći program Europske komisije u području obrazovanja i </a:t>
            </a:r>
            <a:r>
              <a:rPr b="0" lang="hr-HR" sz="1800" spc="-1" strike="noStrike">
                <a:solidFill>
                  <a:srgbClr val="938678"/>
                </a:solidFill>
                <a:latin typeface="Arial"/>
              </a:rPr>
              <a:t>osposobljavanja, pokriva razdoblje 2007.-2013.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Proračun od 7 milijardi eura na europskoj razini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U Programu sudjeluje 27 država članica Europske unije te Island, </a:t>
            </a:r>
            <a:r>
              <a:rPr b="0" lang="sr-Latn-RS" sz="1800" spc="-1" strike="noStrike">
                <a:solidFill>
                  <a:srgbClr val="938678"/>
                </a:solidFill>
                <a:latin typeface="Arial"/>
              </a:rPr>
              <a:t>Lihtenštajn</a:t>
            </a: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, Norveška i Tursk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Od 2009. godine Republika Hrvatska</a:t>
            </a:r>
            <a:r>
              <a:rPr b="0" lang="hr-HR" sz="1800" spc="-1" strike="noStrike">
                <a:solidFill>
                  <a:srgbClr val="938678"/>
                </a:solidFill>
                <a:latin typeface="Arial"/>
              </a:rPr>
              <a:t> u tzv. </a:t>
            </a:r>
            <a:r>
              <a:rPr b="1" i="1" lang="hr-HR" sz="1800" spc="-1" strike="noStrike">
                <a:solidFill>
                  <a:srgbClr val="938678"/>
                </a:solidFill>
                <a:latin typeface="Arial"/>
              </a:rPr>
              <a:t>Pripremnim mjerama </a:t>
            </a:r>
            <a:r>
              <a:rPr b="0" lang="hr-HR" sz="1800" spc="-1" strike="noStrike">
                <a:solidFill>
                  <a:srgbClr val="938678"/>
                </a:solidFill>
                <a:latin typeface="Arial"/>
              </a:rPr>
              <a:t>(sudjelovanje u ograničenom opsegu radi jačanja kapaciteta)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de6e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od 1. siječnja 2011. godine RH i Švicarska ravnopravne sudionice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938678"/>
                </a:solidFill>
                <a:latin typeface="Arial"/>
              </a:rPr>
              <a:t>Ciljevi: EU kao konkurentno gospodarstvo, društvo znanja, bolji poslovi, više poslova, jača društvena kohezij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386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2fb1cc"/>
                </a:solidFill>
                <a:latin typeface="Arial"/>
              </a:rPr>
              <a:t>Program za cjeloživotno učenje </a:t>
            </a:r>
            <a:br>
              <a:rPr sz="2800"/>
            </a:br>
            <a:r>
              <a:rPr b="1" lang="hr-HR" sz="2800" spc="-1" strike="noStrike">
                <a:solidFill>
                  <a:srgbClr val="2fb1cc"/>
                </a:solidFill>
                <a:latin typeface="Arial"/>
              </a:rPr>
              <a:t>- struktura</a:t>
            </a:r>
            <a:r>
              <a:rPr b="1" lang="hr-HR" sz="3600" spc="-1" strike="noStrike">
                <a:solidFill>
                  <a:srgbClr val="2fb1cc"/>
                </a:solidFill>
                <a:latin typeface="Arial"/>
              </a:rPr>
              <a:t> </a:t>
            </a:r>
            <a:r>
              <a:rPr b="0" lang="hr-HR" sz="3600" spc="-1" strike="noStrike">
                <a:solidFill>
                  <a:srgbClr val="2fb1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  <p:grpSp>
        <p:nvGrpSpPr>
          <p:cNvPr id="610" name="Rezervirano mjesto sadržaja 6"/>
          <p:cNvGrpSpPr/>
          <p:nvPr/>
        </p:nvGrpSpPr>
        <p:grpSpPr>
          <a:xfrm>
            <a:off x="179280" y="1628640"/>
            <a:ext cx="8753760" cy="4054680"/>
            <a:chOff x="179280" y="1628640"/>
            <a:chExt cx="8753760" cy="4054680"/>
          </a:xfrm>
        </p:grpSpPr>
        <p:pic>
          <p:nvPicPr>
            <p:cNvPr id="611" name="Zaobljeni pravokutnik 6" descr=""/>
            <p:cNvPicPr/>
            <p:nvPr/>
          </p:nvPicPr>
          <p:blipFill>
            <a:blip r:embed="rId1"/>
            <a:stretch/>
          </p:blipFill>
          <p:spPr>
            <a:xfrm>
              <a:off x="179280" y="4510800"/>
              <a:ext cx="8753760" cy="11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18"/>
            <p:cNvSpPr/>
            <p:nvPr/>
          </p:nvSpPr>
          <p:spPr>
            <a:xfrm>
              <a:off x="220320" y="2233080"/>
              <a:ext cx="184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7"/>
            <p:cNvSpPr/>
            <p:nvPr/>
          </p:nvSpPr>
          <p:spPr>
            <a:xfrm>
              <a:off x="664200" y="4861080"/>
              <a:ext cx="184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Elipsa 9" descr=""/>
            <p:cNvPicPr/>
            <p:nvPr/>
          </p:nvPicPr>
          <p:blipFill>
            <a:blip r:embed="rId2"/>
            <a:stretch/>
          </p:blipFill>
          <p:spPr>
            <a:xfrm>
              <a:off x="185040" y="2122200"/>
              <a:ext cx="2584080" cy="21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Elipsa 10" descr=""/>
            <p:cNvPicPr/>
            <p:nvPr/>
          </p:nvPicPr>
          <p:blipFill>
            <a:blip r:embed="rId3"/>
            <a:stretch/>
          </p:blipFill>
          <p:spPr>
            <a:xfrm>
              <a:off x="2280600" y="2122200"/>
              <a:ext cx="2455560" cy="21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Elipsa 11" descr=""/>
            <p:cNvPicPr/>
            <p:nvPr/>
          </p:nvPicPr>
          <p:blipFill>
            <a:blip r:embed="rId4"/>
            <a:stretch/>
          </p:blipFill>
          <p:spPr>
            <a:xfrm>
              <a:off x="4333320" y="2122200"/>
              <a:ext cx="2522880" cy="21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Elipsa 12" descr=""/>
            <p:cNvPicPr/>
            <p:nvPr/>
          </p:nvPicPr>
          <p:blipFill>
            <a:blip r:embed="rId5"/>
            <a:stretch/>
          </p:blipFill>
          <p:spPr>
            <a:xfrm>
              <a:off x="6471360" y="2085480"/>
              <a:ext cx="2455560" cy="21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Zaobljeni pravokutnik 13"/>
            <p:cNvSpPr/>
            <p:nvPr/>
          </p:nvSpPr>
          <p:spPr>
            <a:xfrm>
              <a:off x="1012680" y="1628640"/>
              <a:ext cx="7087320" cy="58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d6570e"/>
                  </a:solidFill>
                  <a:latin typeface="Arial"/>
                </a:rPr>
                <a:t>Program za cjeloživotno učenj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b1cc"/>
                </a:solidFill>
                <a:latin typeface="Arial"/>
              </a:rPr>
              <a:t>Potencijalni prijavitelji/sudionici</a:t>
            </a:r>
            <a:endParaRPr b="0" lang="en-US" sz="3200" spc="-1" strike="noStrike">
              <a:solidFill>
                <a:srgbClr val="25afc9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24000" y="1484280"/>
          <a:ext cx="8362800" cy="4970520"/>
        </p:xfrm>
        <a:graphic>
          <a:graphicData uri="http://schemas.openxmlformats.org/drawingml/2006/table">
            <a:tbl>
              <a:tblPr/>
              <a:tblGrid>
                <a:gridCol w="2781000"/>
                <a:gridCol w="2791080"/>
                <a:gridCol w="2790720"/>
              </a:tblGrid>
              <a:tr h="97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6570e"/>
                          </a:solidFill>
                          <a:latin typeface="Arial"/>
                        </a:rPr>
                        <a:t>Pot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6570e"/>
                          </a:solidFill>
                          <a:latin typeface="Arial"/>
                        </a:rPr>
                        <a:t>Tko se može prijaviti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d6570e"/>
                          </a:solidFill>
                          <a:latin typeface="Arial"/>
                        </a:rPr>
                        <a:t>Tko može sudjelovati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i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novne i srednje škole, vrtići, javna tijela odgovorna za obrazovanje, udruge, visoka učiliš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nici, nenastavno osoblje, prosvjetni savjetnici, pedagozi, učenici, zaposlenici javnih tijela, članovi udr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sm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oka učilišta, tvrtke, udruge nastavnika i studen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i, nastavnici, nenastavno osoblje, zaposlenici tvrtki, članovi udru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ardo da Vin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ednje strukovne škole, visoka učilišta, tvrtke, javne ustanove, udruge za strukovno obraz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čenici, praktikanti, nastavnici strukovnih predmeta, pedagozi, nezaposleni, nenastavno osoblje, zaposlenici tvrtki, udruge, nedavno diplomir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ndtv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nove za obrazovanje odraslih, visoka učilišta, udruge za obrazovanje odraslih, tvrt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stavnici, nenastavno osoblje, pedagozi, prosvjetni savjetnici, odrasli učenici, zaposlenici javnih tijela i tvrtki, članovi udruga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Diagram 3" descr=""/>
          <p:cNvPicPr/>
          <p:nvPr/>
        </p:nvPicPr>
        <p:blipFill>
          <a:blip r:embed="rId1"/>
          <a:stretch/>
        </p:blipFill>
        <p:spPr>
          <a:xfrm>
            <a:off x="2193840" y="1195560"/>
            <a:ext cx="7925040" cy="482724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28960" y="14256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25afc9"/>
                </a:solidFill>
                <a:latin typeface="Arial"/>
              </a:rPr>
              <a:t>3 osnovne vrste aktivnosti</a:t>
            </a:r>
            <a:endParaRPr b="0" lang="en-US" sz="3600" spc="-1" strike="noStrike">
              <a:solidFill>
                <a:srgbClr val="25af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63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b1cc"/>
                </a:solidFill>
                <a:latin typeface="Arial"/>
              </a:rPr>
              <a:t>Comenius</a:t>
            </a:r>
            <a:br>
              <a:rPr sz="4000"/>
            </a:br>
            <a:r>
              <a:rPr b="0" lang="hr-HR" sz="1800" spc="-1" strike="noStrike">
                <a:solidFill>
                  <a:srgbClr val="2fb1cc"/>
                </a:solidFill>
                <a:latin typeface="Arial"/>
              </a:rPr>
              <a:t>predškolski odgoj, osnovno i opće srednje obrazovanje</a:t>
            </a:r>
            <a:endParaRPr b="0" lang="en-US" sz="1800" spc="-1" strike="noStrike">
              <a:solidFill>
                <a:srgbClr val="25afc9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79280" y="1412640"/>
            <a:ext cx="8785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Stručna usavršavanja</a:t>
            </a: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  Razmjena učenika</a:t>
            </a: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Partnerstva          Pripremni posjeti          Asistenti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e6e46"/>
                </a:solidFill>
                <a:latin typeface="Arial"/>
              </a:rPr>
              <a:t>Stručna usavršavanj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Odlazak u inozemstvo s ciljem usavršavanja vještina iz područja  metodike, osposobljavanja, savjetovanja i upravljanja te šireg razumijevanja školskog obrazovanj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Trajanje: 1 dan – 6 tjedan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f7f7f"/>
                </a:solidFill>
                <a:latin typeface="Arial"/>
              </a:rPr>
              <a:t>Ciljna skupina: nastavno i nenastavno osoblje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Oblici stručnih usavršavanja: strukturirani stručni seminar, „job shadowing”, sudjelovanje na europskoj konferenciji ili seminaru, tečaj stranih jezika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7f7f7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Online baza stručnih usavršavanja Europske komisije:   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7f7f7f"/>
                </a:solidFill>
                <a:latin typeface="Arial"/>
              </a:rPr>
              <a:t>       </a:t>
            </a:r>
            <a:r>
              <a:rPr b="1" lang="hr-HR" sz="1800" spc="-1" strike="noStrike">
                <a:solidFill>
                  <a:srgbClr val="7f7f7f"/>
                </a:solidFill>
                <a:latin typeface="Arial"/>
              </a:rPr>
              <a:t>www.ec.europa.eu/education/trainingdatabase</a:t>
            </a: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80828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7:16:12Z</dcterms:created>
  <dc:creator>fgasparovic</dc:creator>
  <dc:description/>
  <dc:language>en-US</dc:language>
  <cp:lastModifiedBy>Filip Gašparović</cp:lastModifiedBy>
  <cp:lastPrinted>2012-05-08T11:27:00Z</cp:lastPrinted>
  <dcterms:modified xsi:type="dcterms:W3CDTF">2012-05-08T12:50:04Z</dcterms:modified>
  <cp:revision>434</cp:revision>
  <dc:subject/>
  <dc:title>Hermes</dc:title>
</cp:coreProperties>
</file>