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D793-48C3-48EE-8EFD-FFE95D68B875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89B8-3AA4-43F6-8957-C883E82E50DD}" type="slidenum">
              <a:rPr b="0" lang="hr-HR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ilj OOR  je osposobiti za vrijeme koje dolazi, različito od današnjeg i teško je predvidjeti koja će konkretna znanja i vještine biti nužna.Stoga je najbolje da ih pripremimo da sami uče, da budu otvoreni i spremni učiti cijeli život. Stoga u doneseni Ciljevi....koji su svrstani u 4 područja učenja i razvoj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47AD-17EC-4842-9675-566E2FB58F14}" type="slidenum">
              <a:rPr b="0" lang="hr-HR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Razvoj kognitivnih sposobnosti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740B-641D-4BE1-91B5-C5C9F401FD9B}" type="slidenum">
              <a:rPr b="0" lang="hr-HR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sihomotorično područje, stiče se proceduralno znanje,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kako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se nešto može naprav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FF52-3E82-4BD7-B7E3-2752DD199EDA}" type="slidenum">
              <a:rPr b="0" lang="hr-HR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ednako pravo za obrazovanje za sve, razvijanje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kompletne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ličnosti koja je postigla </a:t>
            </a:r>
            <a:r>
              <a:rPr b="1" lang="hr-HR" sz="1200" spc="-1" strike="noStrike">
                <a:solidFill>
                  <a:srgbClr val="000000"/>
                </a:solidFill>
                <a:latin typeface="Arial"/>
              </a:rPr>
              <a:t>samoostvaren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E654-5601-4285-9967-1BE8CA4683CF}" type="slidenum">
              <a:rPr b="0" lang="hr-HR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ocijalne vještine, spremnost na suradnju, važno u procesu globalizac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9702-3D4B-49DD-8DD6-C221EDC5EA29}" type="slidenum">
              <a:rPr b="0" lang="hr-HR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F444-14D9-4C9C-9544-3E5FEBF93A70}" type="slidenum">
              <a:rPr b="0" lang="hr-HR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3338-870E-459F-BB9F-DD413C296B56}" type="slidenum">
              <a:rPr b="0" lang="hr-HR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hr-H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026C-5F03-404E-B0C6-1769454D8C86}" type="slidenum">
              <a:rPr b="0" lang="hr-HR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Što o temama održivog razvoja kažu pojedine studije i teoretičar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3EE4D-682B-4BB9-AC7A-1265D4EB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C20B-0A95-489B-9264-0E900889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71163-4578-456E-909C-C7DE5E71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69D27-A725-43E9-AC57-028A0DCF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C626-878B-4C4A-8B18-21FE0481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BD40-80DD-4066-95D1-7642EF1F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DBF5-6E96-42F4-A9DB-569BF8E8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4B9C-214F-4FA4-8C07-99FE6C91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71F4-28E9-4989-B290-D3F8FF34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F119-14BC-4EE9-BC3B-18F899F1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3278-6286-4C5B-9658-3580D103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5C39E-FF4E-4DDC-89E8-C223E239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59E1-CB42-4039-B2F8-0B555BD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8BD1-5EDD-47FE-B9CE-03A9B9C0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9119-D4B7-4992-A5DC-1E25D4C9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BB14-3C94-4538-8F40-E9706CC6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2F26-8D2E-46A5-8762-F384C2417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5CD9-4B54-4058-9C37-304915D5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33243-372B-4907-9A95-7F515F0C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FD87-0D2E-460E-AE3B-EA8F45D8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7FC9-4528-49B7-BB38-CA2C420C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EAFE-B924-43E6-A44F-3C481F21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F18F4-D8EE-4B3A-ACB1-575FA159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974F-04BA-49DD-869E-6054FA25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82BE-EA00-4215-A03F-252134ACE773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7BDB-357D-4FF4-BE25-F37DFB888A63}" type="slidenum">
              <a:rPr b="0" lang="hr-HR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ffff"/>
                </a:solidFill>
                <a:latin typeface="Arial"/>
              </a:rPr>
              <a:t>Teme i kompetencije</a:t>
            </a:r>
            <a:endParaRPr b="0" lang="en-US" sz="5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00"/>
                </a:solidFill>
                <a:latin typeface="Arial"/>
              </a:rPr>
              <a:t>Osnova je razvijanje učeničkih kompetencija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ni će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čiti uči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čiti čini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čiti bi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čiti živjeti i raditi zajedn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1400" spc="-1" strike="noStrike">
                <a:solidFill>
                  <a:srgbClr val="003300"/>
                </a:solidFill>
                <a:latin typeface="Arial"/>
              </a:rPr>
              <a:t>(Ciljevi obrazovanja u 21. stoljeću, UNESCO; J.Delors, 1998.)</a:t>
            </a: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2484360" y="2708280"/>
            <a:ext cx="42483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hr-HR" sz="4400" spc="-1" strike="noStrike">
                <a:solidFill>
                  <a:srgbClr val="336600"/>
                </a:solidFill>
                <a:latin typeface="Arial"/>
              </a:rPr>
              <a:t>“</a:t>
            </a:r>
            <a:r>
              <a:rPr b="1" i="1" lang="hr-HR" sz="4400" spc="-1" strike="noStrike">
                <a:solidFill>
                  <a:srgbClr val="336600"/>
                </a:solidFill>
                <a:latin typeface="Arial"/>
              </a:rPr>
              <a:t>učiti učiti”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 rot="20706000">
            <a:off x="95760" y="2349000"/>
            <a:ext cx="51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analitička pitanja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/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kritičko mišljen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 rot="21306000">
            <a:off x="1439280" y="1196640"/>
            <a:ext cx="50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kompleksnost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/s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istemsko mišljen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923000" y="220500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zapreke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/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rješavanje 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problem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 rot="20931000">
            <a:off x="1447560" y="508464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upravljanje promjenama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/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definiranje 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problem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 rot="20433000">
            <a:off x="2662200" y="3933720"/>
            <a:ext cx="66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kreativno mišljenje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/or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ij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ent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acija ka budućnos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100080" y="378936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interdisciplinarnost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/holisti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čki pristup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 flipH="1" flipV="1">
            <a:off x="2123640" y="2997000"/>
            <a:ext cx="1295640" cy="21564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 flipH="1" flipV="1">
            <a:off x="3708000" y="2491920"/>
            <a:ext cx="358920" cy="28908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 flipV="1">
            <a:off x="4786200" y="1628640"/>
            <a:ext cx="506520" cy="1152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6156360" y="2636640"/>
            <a:ext cx="431640" cy="21564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Line 15"/>
          <p:cNvSpPr/>
          <p:nvPr/>
        </p:nvSpPr>
        <p:spPr>
          <a:xfrm>
            <a:off x="5580000" y="3500280"/>
            <a:ext cx="504720" cy="36036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9" name="Line 16"/>
          <p:cNvSpPr/>
          <p:nvPr/>
        </p:nvSpPr>
        <p:spPr>
          <a:xfrm flipH="1">
            <a:off x="3347640" y="3500280"/>
            <a:ext cx="576360" cy="28908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4788000" y="3500280"/>
            <a:ext cx="792000" cy="151308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2124000" y="2781360"/>
            <a:ext cx="4535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336600"/>
                </a:solidFill>
                <a:latin typeface="Arial"/>
              </a:rPr>
              <a:t>“</a:t>
            </a:r>
            <a:r>
              <a:rPr b="1" i="1" lang="hr-HR" sz="4400" spc="-1" strike="noStrike">
                <a:solidFill>
                  <a:srgbClr val="336600"/>
                </a:solidFill>
                <a:latin typeface="Arial"/>
              </a:rPr>
              <a:t>učiti činiti”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 rot="20809200">
            <a:off x="924840" y="981000"/>
            <a:ext cx="397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primijeniti znanja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u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kontekstu životne situaci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266800" y="1916280"/>
            <a:ext cx="36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odlučivati u situacijam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neizvjesnos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4385160" y="4365720"/>
            <a:ext cx="43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suočiti se s krizama i rizicim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 rot="1056600">
            <a:off x="843840" y="4284000"/>
            <a:ext cx="40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djelovati s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-odgovornošću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-opredjeljenjem/odlučnošć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-samopoštovanje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6" name="Line 9"/>
          <p:cNvSpPr/>
          <p:nvPr/>
        </p:nvSpPr>
        <p:spPr>
          <a:xfrm flipH="1">
            <a:off x="2556000" y="3716280"/>
            <a:ext cx="576000" cy="36036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7" name="Line 10"/>
          <p:cNvSpPr/>
          <p:nvPr/>
        </p:nvSpPr>
        <p:spPr>
          <a:xfrm flipH="1" flipV="1">
            <a:off x="2771280" y="1988640"/>
            <a:ext cx="863640" cy="100836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 flipV="1">
            <a:off x="4572000" y="2349000"/>
            <a:ext cx="720720" cy="5749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9" name="Line 12"/>
          <p:cNvSpPr/>
          <p:nvPr/>
        </p:nvSpPr>
        <p:spPr>
          <a:xfrm>
            <a:off x="5003640" y="3716280"/>
            <a:ext cx="648000" cy="64944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2987640" y="2924280"/>
            <a:ext cx="46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336600"/>
                </a:solidFill>
                <a:latin typeface="Arial"/>
              </a:rPr>
              <a:t>“</a:t>
            </a:r>
            <a:r>
              <a:rPr b="1" i="1" lang="hr-HR" sz="4400" spc="-1" strike="noStrike">
                <a:solidFill>
                  <a:srgbClr val="336600"/>
                </a:solidFill>
                <a:latin typeface="Arial"/>
              </a:rPr>
              <a:t>učiti biti”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203480" y="3789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samosvijes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751680" y="2205000"/>
            <a:ext cx="264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samoizražavanje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i komunikacij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4998600" y="1700280"/>
            <a:ext cx="29772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sposobnost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savladavanja stres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384360" y="4724280"/>
            <a:ext cx="37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sposobnost utvrđivanja i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razjašnjavanja vrednot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Line 9"/>
          <p:cNvSpPr/>
          <p:nvPr/>
        </p:nvSpPr>
        <p:spPr>
          <a:xfrm>
            <a:off x="5003640" y="3933720"/>
            <a:ext cx="0" cy="71928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 flipH="1">
            <a:off x="3347640" y="3860640"/>
            <a:ext cx="863640" cy="144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Line 11"/>
          <p:cNvSpPr/>
          <p:nvPr/>
        </p:nvSpPr>
        <p:spPr>
          <a:xfrm flipH="1" flipV="1">
            <a:off x="4066920" y="2708280"/>
            <a:ext cx="360360" cy="43344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8" name="Line 12"/>
          <p:cNvSpPr/>
          <p:nvPr/>
        </p:nvSpPr>
        <p:spPr>
          <a:xfrm flipV="1">
            <a:off x="5292720" y="2637000"/>
            <a:ext cx="503280" cy="504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39640" y="2781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336600"/>
                </a:solidFill>
                <a:latin typeface="Arial"/>
              </a:rPr>
              <a:t>“</a:t>
            </a:r>
            <a:r>
              <a:rPr b="1" i="1" lang="hr-HR" sz="4400" spc="-1" strike="noStrike">
                <a:solidFill>
                  <a:srgbClr val="336600"/>
                </a:solidFill>
                <a:latin typeface="Arial"/>
              </a:rPr>
              <a:t>učiti živjeti i raditi zajedno”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 rot="20905800">
            <a:off x="506520" y="1483920"/>
            <a:ext cx="33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odgovorno djelovanje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(lo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kalno i globalno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09880" y="3933720"/>
            <a:ext cx="36446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identificiranje socijalnih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partner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i njihovih interes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104280" y="2421000"/>
            <a:ext cx="2978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suradnja/timski rad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 rot="889800">
            <a:off x="5938920" y="1483920"/>
            <a:ext cx="259236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sudjelovanje u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demokratskom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odlučivanj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 rot="21169200">
            <a:off x="1943280" y="544464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pregovaranje i postizanje sporazum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 rot="547800">
            <a:off x="4184640" y="436572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podjela zaduženja/odgovornos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3909600" y="54936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uvažavanje drugih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 flipH="1">
            <a:off x="3276360" y="3716280"/>
            <a:ext cx="647640" cy="21744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H="1">
            <a:off x="3850920" y="3716280"/>
            <a:ext cx="576360" cy="1728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5796000" y="3716280"/>
            <a:ext cx="288720" cy="504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0" name="Line 16"/>
          <p:cNvSpPr/>
          <p:nvPr/>
        </p:nvSpPr>
        <p:spPr>
          <a:xfrm flipV="1">
            <a:off x="6372360" y="2565360"/>
            <a:ext cx="360360" cy="43200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Line 17"/>
          <p:cNvSpPr/>
          <p:nvPr/>
        </p:nvSpPr>
        <p:spPr>
          <a:xfrm flipV="1">
            <a:off x="4572000" y="2781000"/>
            <a:ext cx="71280" cy="36036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 flipV="1">
            <a:off x="5364000" y="1125000"/>
            <a:ext cx="71640" cy="180036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3" name="Line 19"/>
          <p:cNvSpPr/>
          <p:nvPr/>
        </p:nvSpPr>
        <p:spPr>
          <a:xfrm flipH="1" flipV="1">
            <a:off x="2556000" y="2349360"/>
            <a:ext cx="503280" cy="71928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OOR pretpostavlja promjen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smjerenost na vrednote - odgoj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Interdisciplinarnost – integriranje sadržaj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Suradnju, kvalitetnu komunikaciju, demokratičnos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Sustavnu samoprocjenu i unapređivan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Autonomiju škola – školski kurikulu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Otvorenost škola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00"/>
                </a:solidFill>
                <a:latin typeface="Arial"/>
              </a:rPr>
              <a:t>Kako OOR provodimo/ kako OOR unaprijediti?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sklopu nastave – u razredu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školi (izvan redovite nastave)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upravljanju školom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kontaktima s dionicima izvan škole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U školskom sustavu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Kakva je potpora potrebna od strane “prosvjetnih vlasti”?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-2989440" y="6093000"/>
            <a:ext cx="754560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9" name="Freeform 4"/>
          <p:cNvSpPr/>
          <p:nvPr/>
        </p:nvSpPr>
        <p:spPr>
          <a:xfrm>
            <a:off x="2050920" y="2205000"/>
            <a:ext cx="3961080" cy="2592360"/>
          </a:xfrm>
          <a:custGeom>
            <a:avLst/>
            <a:gdLst>
              <a:gd name="textAreaLeft" fmla="*/ 0 w 3961080"/>
              <a:gd name="textAreaRight" fmla="*/ 3961440 w 3961080"/>
              <a:gd name="textAreaTop" fmla="*/ 0 h 2592360"/>
              <a:gd name="textAreaBottom" fmla="*/ 2592360 h 2592360"/>
            </a:gdLst>
            <a:ahLst/>
            <a:rect l="textAreaLeft" t="textAreaTop" r="textAreaRight" b="textAreaBottom"/>
            <a:pathLst>
              <a:path w="1905" h="855">
                <a:moveTo>
                  <a:pt x="0" y="825"/>
                </a:moveTo>
                <a:cubicBezTo>
                  <a:pt x="64" y="492"/>
                  <a:pt x="129" y="159"/>
                  <a:pt x="273" y="144"/>
                </a:cubicBezTo>
                <a:cubicBezTo>
                  <a:pt x="417" y="129"/>
                  <a:pt x="847" y="621"/>
                  <a:pt x="862" y="734"/>
                </a:cubicBezTo>
                <a:cubicBezTo>
                  <a:pt x="877" y="847"/>
                  <a:pt x="446" y="855"/>
                  <a:pt x="363" y="825"/>
                </a:cubicBezTo>
                <a:cubicBezTo>
                  <a:pt x="280" y="795"/>
                  <a:pt x="340" y="628"/>
                  <a:pt x="363" y="552"/>
                </a:cubicBezTo>
                <a:cubicBezTo>
                  <a:pt x="386" y="476"/>
                  <a:pt x="431" y="424"/>
                  <a:pt x="499" y="371"/>
                </a:cubicBezTo>
                <a:cubicBezTo>
                  <a:pt x="567" y="318"/>
                  <a:pt x="651" y="273"/>
                  <a:pt x="772" y="235"/>
                </a:cubicBezTo>
                <a:cubicBezTo>
                  <a:pt x="893" y="197"/>
                  <a:pt x="1089" y="129"/>
                  <a:pt x="1225" y="144"/>
                </a:cubicBezTo>
                <a:cubicBezTo>
                  <a:pt x="1361" y="159"/>
                  <a:pt x="1512" y="243"/>
                  <a:pt x="1588" y="326"/>
                </a:cubicBezTo>
                <a:cubicBezTo>
                  <a:pt x="1664" y="409"/>
                  <a:pt x="1724" y="568"/>
                  <a:pt x="1679" y="643"/>
                </a:cubicBezTo>
                <a:cubicBezTo>
                  <a:pt x="1634" y="718"/>
                  <a:pt x="1399" y="794"/>
                  <a:pt x="1316" y="779"/>
                </a:cubicBezTo>
                <a:cubicBezTo>
                  <a:pt x="1233" y="764"/>
                  <a:pt x="1210" y="635"/>
                  <a:pt x="1180" y="552"/>
                </a:cubicBezTo>
                <a:cubicBezTo>
                  <a:pt x="1150" y="469"/>
                  <a:pt x="1104" y="363"/>
                  <a:pt x="1134" y="280"/>
                </a:cubicBezTo>
                <a:cubicBezTo>
                  <a:pt x="1164" y="197"/>
                  <a:pt x="1270" y="98"/>
                  <a:pt x="1361" y="53"/>
                </a:cubicBezTo>
                <a:cubicBezTo>
                  <a:pt x="1452" y="8"/>
                  <a:pt x="1588" y="16"/>
                  <a:pt x="1679" y="8"/>
                </a:cubicBezTo>
                <a:cubicBezTo>
                  <a:pt x="1770" y="0"/>
                  <a:pt x="1875" y="15"/>
                  <a:pt x="1905" y="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5651640" y="1628640"/>
            <a:ext cx="2305080" cy="1225800"/>
          </a:xfrm>
          <a:prstGeom prst="pie">
            <a:avLst/>
          </a:prstGeom>
          <a:solidFill>
            <a:srgbClr val="66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aea16"/>
                </a:solidFill>
                <a:latin typeface="Arial"/>
              </a:rPr>
              <a:t>Re</a:t>
            </a:r>
            <a:r>
              <a:rPr b="1" lang="hr-HR" sz="2400" spc="-1" strike="noStrike">
                <a:solidFill>
                  <a:srgbClr val="eaea16"/>
                </a:solidFill>
                <a:latin typeface="Arial"/>
              </a:rPr>
              <a:t>zulta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616200">
            <a:off x="0" y="2781000"/>
            <a:ext cx="2411280" cy="1366920"/>
          </a:xfrm>
          <a:prstGeom prst="rightArrow">
            <a:avLst>
              <a:gd name="adj1" fmla="val 50000"/>
              <a:gd name="adj2" fmla="val 44101"/>
            </a:avLst>
          </a:prstGeom>
          <a:solidFill>
            <a:srgbClr val="66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eaea16"/>
                </a:solidFill>
                <a:latin typeface="Arial"/>
              </a:rPr>
              <a:t>i</a:t>
            </a:r>
            <a:r>
              <a:rPr b="1" lang="de-DE" sz="2400" spc="-1" strike="noStrike">
                <a:solidFill>
                  <a:srgbClr val="eaea16"/>
                </a:solidFill>
                <a:latin typeface="Arial"/>
              </a:rPr>
              <a:t>de</a:t>
            </a:r>
            <a:r>
              <a:rPr b="1" lang="hr-HR" sz="2400" spc="-1" strike="noStrike">
                <a:solidFill>
                  <a:srgbClr val="eaea16"/>
                </a:solidFill>
                <a:latin typeface="Arial"/>
              </a:rPr>
              <a:t>j</a:t>
            </a:r>
            <a:r>
              <a:rPr b="1" lang="de-DE" sz="2400" spc="-1" strike="noStrike">
                <a:solidFill>
                  <a:srgbClr val="eaea1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 rot="20096400">
            <a:off x="2195640" y="2924280"/>
            <a:ext cx="3466800" cy="485640"/>
          </a:xfrm>
          <a:prstGeom prst="rightArrow">
            <a:avLst>
              <a:gd name="adj1" fmla="val 50000"/>
              <a:gd name="adj2" fmla="val 178466"/>
            </a:avLst>
          </a:prstGeom>
          <a:solidFill>
            <a:srgbClr val="ff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3" name="Freeform 13"/>
          <p:cNvSpPr/>
          <p:nvPr/>
        </p:nvSpPr>
        <p:spPr>
          <a:xfrm>
            <a:off x="7596360" y="-316080"/>
            <a:ext cx="3960720" cy="2592720"/>
          </a:xfrm>
          <a:custGeom>
            <a:avLst/>
            <a:gdLst>
              <a:gd name="textAreaLeft" fmla="*/ 0 w 3960720"/>
              <a:gd name="textAreaRight" fmla="*/ 3961080 w 3960720"/>
              <a:gd name="textAreaTop" fmla="*/ 0 h 2592720"/>
              <a:gd name="textAreaBottom" fmla="*/ 2593080 h 2592720"/>
            </a:gdLst>
            <a:ahLst/>
            <a:rect l="textAreaLeft" t="textAreaTop" r="textAreaRight" b="textAreaBottom"/>
            <a:pathLst>
              <a:path w="1905" h="855">
                <a:moveTo>
                  <a:pt x="0" y="825"/>
                </a:moveTo>
                <a:cubicBezTo>
                  <a:pt x="64" y="492"/>
                  <a:pt x="129" y="159"/>
                  <a:pt x="273" y="144"/>
                </a:cubicBezTo>
                <a:cubicBezTo>
                  <a:pt x="417" y="129"/>
                  <a:pt x="847" y="621"/>
                  <a:pt x="862" y="734"/>
                </a:cubicBezTo>
                <a:cubicBezTo>
                  <a:pt x="877" y="847"/>
                  <a:pt x="446" y="855"/>
                  <a:pt x="363" y="825"/>
                </a:cubicBezTo>
                <a:cubicBezTo>
                  <a:pt x="280" y="795"/>
                  <a:pt x="340" y="628"/>
                  <a:pt x="363" y="552"/>
                </a:cubicBezTo>
                <a:cubicBezTo>
                  <a:pt x="386" y="476"/>
                  <a:pt x="431" y="424"/>
                  <a:pt x="499" y="371"/>
                </a:cubicBezTo>
                <a:cubicBezTo>
                  <a:pt x="567" y="318"/>
                  <a:pt x="651" y="273"/>
                  <a:pt x="772" y="235"/>
                </a:cubicBezTo>
                <a:cubicBezTo>
                  <a:pt x="893" y="197"/>
                  <a:pt x="1089" y="129"/>
                  <a:pt x="1225" y="144"/>
                </a:cubicBezTo>
                <a:cubicBezTo>
                  <a:pt x="1361" y="159"/>
                  <a:pt x="1512" y="243"/>
                  <a:pt x="1588" y="326"/>
                </a:cubicBezTo>
                <a:cubicBezTo>
                  <a:pt x="1664" y="409"/>
                  <a:pt x="1724" y="568"/>
                  <a:pt x="1679" y="643"/>
                </a:cubicBezTo>
                <a:cubicBezTo>
                  <a:pt x="1634" y="718"/>
                  <a:pt x="1399" y="794"/>
                  <a:pt x="1316" y="779"/>
                </a:cubicBezTo>
                <a:cubicBezTo>
                  <a:pt x="1233" y="764"/>
                  <a:pt x="1210" y="635"/>
                  <a:pt x="1180" y="552"/>
                </a:cubicBezTo>
                <a:cubicBezTo>
                  <a:pt x="1150" y="469"/>
                  <a:pt x="1104" y="363"/>
                  <a:pt x="1134" y="280"/>
                </a:cubicBezTo>
                <a:cubicBezTo>
                  <a:pt x="1164" y="197"/>
                  <a:pt x="1270" y="98"/>
                  <a:pt x="1361" y="53"/>
                </a:cubicBezTo>
                <a:cubicBezTo>
                  <a:pt x="1452" y="8"/>
                  <a:pt x="1588" y="16"/>
                  <a:pt x="1679" y="8"/>
                </a:cubicBezTo>
                <a:cubicBezTo>
                  <a:pt x="1770" y="0"/>
                  <a:pt x="1875" y="15"/>
                  <a:pt x="1905" y="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4" name="AutoShape 14"/>
          <p:cNvSpPr/>
          <p:nvPr/>
        </p:nvSpPr>
        <p:spPr>
          <a:xfrm rot="18460800">
            <a:off x="792000" y="4473000"/>
            <a:ext cx="2305080" cy="1225440"/>
          </a:xfrm>
          <a:prstGeom prst="pie">
            <a:avLst/>
          </a:prstGeom>
          <a:solidFill>
            <a:srgbClr val="66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eaea16"/>
                </a:solidFill>
                <a:latin typeface="Arial"/>
              </a:rPr>
              <a:t>djelovan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4920" y="1628280"/>
            <a:ext cx="3745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 vas priredila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3300"/>
                </a:solidFill>
                <a:latin typeface="Brush Script Std"/>
              </a:rPr>
              <a:t>Borjanka Smojver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563640" y="5013000"/>
            <a:ext cx="548316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45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00"/>
                </a:solidFill>
                <a:latin typeface="Bookman Old Style"/>
              </a:rPr>
              <a:t>Koristeći materijale sa seminara „Odgoj i obrazovanje za održivi razvoj – Inovacije na području obrazovanja nastavnika“ (OOR) autora mag. Regine Steiner i  prof. dr. mag Franz Raditz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28" name="Picture 11" descr="9"/>
          <p:cNvPicPr/>
          <p:nvPr/>
        </p:nvPicPr>
        <p:blipFill>
          <a:blip r:embed="rId1"/>
          <a:stretch/>
        </p:blipFill>
        <p:spPr>
          <a:xfrm>
            <a:off x="4506840" y="765000"/>
            <a:ext cx="3532320" cy="3672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DM28SJCAX01C1BCA7VJ10FCA1L1QDLCANPUSJ7CAWX3MS1CAD59O2ECAVHA835CAXCZ0O2CA9UZX2JCAVNXV5NCA3UABGPCA3N8ZE2CAI0S0ZFCAA8Q8ZUCA5X3G5YCAFNKRUOCA0IBVKGCAGELYCUCA8S9O7Q"/>
          <p:cNvPicPr/>
          <p:nvPr/>
        </p:nvPicPr>
        <p:blipFill>
          <a:blip r:embed="rId2"/>
          <a:stretch/>
        </p:blipFill>
        <p:spPr>
          <a:xfrm>
            <a:off x="395280" y="3860640"/>
            <a:ext cx="2921040" cy="21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00"/>
                </a:solidFill>
                <a:latin typeface="Arial"/>
              </a:rPr>
              <a:t>Literatura: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Obrazovanje za održivi razvoj” priručnik, AZOO i Kulturkontakt Austrij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Regina Steiner, Forum za obrazovanje za zaštitu okoliša, Umweltbildun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osch, P. Rauch, F.Kreis, Obrazovanje za održivi razvoj, Studije o umrežavanju stručnog usavršavanja nastavnika, škole i okoliša, Studienverlag Insbruck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Philipp Mayring, Uvod u kvalitativna društvena istraživanja, upute o kvalitativnom razmišljanju, Beltz Verlag – Weinheim i Bas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Altlichter/Posch, Lehrere erforschen ihren Unterricht, Klinkhar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00"/>
                </a:solidFill>
                <a:latin typeface="Arial"/>
              </a:rPr>
              <a:t>2005-2014 - UN desetljeće obrazovanja za</a:t>
            </a:r>
            <a:br>
              <a:rPr sz="4000"/>
            </a:br>
            <a:r>
              <a:rPr b="1" lang="hr-HR" sz="4000" spc="-1" strike="noStrike">
                <a:solidFill>
                  <a:srgbClr val="003300"/>
                </a:solidFill>
                <a:latin typeface="Arial"/>
              </a:rPr>
              <a:t>održivi razvoj</a:t>
            </a:r>
            <a:br>
              <a:rPr sz="4000"/>
            </a:b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3486240"/>
            <a:ext cx="9144000" cy="20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3300"/>
                </a:solidFill>
                <a:latin typeface="Arial"/>
              </a:rPr>
              <a:t>                 </a:t>
            </a:r>
            <a:r>
              <a:rPr b="0" i="1" lang="hr-HR" sz="2800" spc="-1" strike="noStrike">
                <a:solidFill>
                  <a:srgbClr val="003300"/>
                </a:solidFill>
                <a:latin typeface="Arial"/>
              </a:rPr>
              <a:t>Zahvaljujemo na pozornosti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10364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hr-HR" sz="2800" spc="-1" strike="noStrike">
                <a:solidFill>
                  <a:srgbClr val="003300"/>
                </a:solidFill>
                <a:latin typeface="Arial"/>
              </a:rPr>
              <a:t>Cilj UN-ova desetljeća za OR je osposobiti ljude za prepoznavanje postojećih problema na regionalnoj i na globalnoj razini, za njihovu procjenu i za aktivno sudjelovanje u procesima razvoja i oblikovanja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00"/>
                </a:solidFill>
                <a:latin typeface="Arial"/>
              </a:rPr>
              <a:t>Tematska područja desetljeća obrazovanja za</a:t>
            </a:r>
            <a:br>
              <a:rPr sz="2800"/>
            </a:br>
            <a:r>
              <a:rPr b="1" lang="hr-HR" sz="2800" spc="-1" strike="noStrike">
                <a:solidFill>
                  <a:srgbClr val="003300"/>
                </a:solidFill>
                <a:latin typeface="Arial"/>
              </a:rPr>
              <a:t>održivi razvoj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jednakost spolov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dravstvena zaštit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zaštita okoliš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razvoj zeml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ljudska prav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ulturna raznolikos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mir i sigurnos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drživi razvoj gradov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drživa proizvodnja i potrošnj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2195640" y="3068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6600"/>
                </a:solidFill>
                <a:latin typeface="Tahoma"/>
              </a:rPr>
              <a:t>Ključne teme OOR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179280" y="364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mi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68360" y="422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336600"/>
                </a:solidFill>
                <a:latin typeface="Tahoma"/>
              </a:rPr>
              <a:t>t</a:t>
            </a: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ik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2340000" y="57340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građanstvo, demokracij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1042920" y="501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ljudska prav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4643280" y="508464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eliminacija siromaštv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5867280" y="4365720"/>
            <a:ext cx="16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raznolikos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6948360" y="364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zaštita okoliš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4643280" y="1268280"/>
            <a:ext cx="50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upravljanje prirodnim resursim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5867280" y="213372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klimatske promjen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7308720" y="2924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zdravl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324000" y="2205000"/>
            <a:ext cx="345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društvena odgovornos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179280" y="126828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obrasci proizvodnje i potrošn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179280" y="292428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ekonomij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2195640" y="549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00"/>
                </a:solidFill>
                <a:latin typeface="Tahoma"/>
              </a:rPr>
              <a:t>razvoj ruralnih i gradskih područj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 flipH="1">
            <a:off x="1332000" y="3716280"/>
            <a:ext cx="1079280" cy="57636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 flipH="1">
            <a:off x="2050920" y="3860640"/>
            <a:ext cx="865440" cy="936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 flipH="1">
            <a:off x="3635280" y="3716280"/>
            <a:ext cx="216000" cy="1944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9" name="Line 27"/>
          <p:cNvSpPr/>
          <p:nvPr/>
        </p:nvSpPr>
        <p:spPr>
          <a:xfrm>
            <a:off x="4643280" y="3716280"/>
            <a:ext cx="649440" cy="136836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0" name="Line 28"/>
          <p:cNvSpPr/>
          <p:nvPr/>
        </p:nvSpPr>
        <p:spPr>
          <a:xfrm>
            <a:off x="5580000" y="3645000"/>
            <a:ext cx="792360" cy="79200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1" name="Line 29"/>
          <p:cNvSpPr/>
          <p:nvPr/>
        </p:nvSpPr>
        <p:spPr>
          <a:xfrm>
            <a:off x="6300720" y="3645000"/>
            <a:ext cx="647640" cy="21564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2" name="Line 30"/>
          <p:cNvSpPr/>
          <p:nvPr/>
        </p:nvSpPr>
        <p:spPr>
          <a:xfrm flipV="1">
            <a:off x="6659640" y="3284280"/>
            <a:ext cx="576360" cy="7308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3" name="Line 31"/>
          <p:cNvSpPr/>
          <p:nvPr/>
        </p:nvSpPr>
        <p:spPr>
          <a:xfrm flipV="1">
            <a:off x="6227640" y="2636640"/>
            <a:ext cx="505080" cy="43308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4" name="Line 32"/>
          <p:cNvSpPr/>
          <p:nvPr/>
        </p:nvSpPr>
        <p:spPr>
          <a:xfrm flipV="1">
            <a:off x="5076720" y="1844640"/>
            <a:ext cx="432000" cy="122544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Line 33"/>
          <p:cNvSpPr/>
          <p:nvPr/>
        </p:nvSpPr>
        <p:spPr>
          <a:xfrm flipV="1">
            <a:off x="4427640" y="1125360"/>
            <a:ext cx="73080" cy="1944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 flipH="1" flipV="1">
            <a:off x="3635280" y="1773000"/>
            <a:ext cx="217440" cy="136836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 flipH="1" flipV="1">
            <a:off x="2771280" y="2637000"/>
            <a:ext cx="287640" cy="5047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Line 36"/>
          <p:cNvSpPr/>
          <p:nvPr/>
        </p:nvSpPr>
        <p:spPr>
          <a:xfrm flipH="1" flipV="1">
            <a:off x="1692360" y="3141360"/>
            <a:ext cx="503280" cy="14292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 flipH="1">
            <a:off x="826920" y="3500280"/>
            <a:ext cx="1441440" cy="360360"/>
          </a:xfrm>
          <a:prstGeom prst="line">
            <a:avLst/>
          </a:prstGeom>
          <a:ln w="93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00"/>
                </a:solidFill>
                <a:latin typeface="Arial"/>
              </a:rPr>
              <a:t>Pedagoški principi</a:t>
            </a:r>
            <a:br>
              <a:rPr sz="2800"/>
            </a:br>
            <a:r>
              <a:rPr b="1" lang="hr-HR" sz="2800" spc="-1" strike="noStrike">
                <a:solidFill>
                  <a:srgbClr val="003300"/>
                </a:solidFill>
                <a:latin typeface="Arial"/>
              </a:rPr>
              <a:t>obrazovanja za održivi razvoj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1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nterdisciplinarno i cjelovito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rijentirano na vrijednos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tiče kritičko razmišljan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rijentacija na rješavanje problem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metodička raznolikos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tvorenost za sudjelovanj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lokalna relevantnos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(UNESCO,2005.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52" name="Picture 4" descr="imagesCAC2EBJM"/>
          <p:cNvPicPr/>
          <p:nvPr/>
        </p:nvPicPr>
        <p:blipFill>
          <a:blip r:embed="rId1"/>
          <a:stretch/>
        </p:blipFill>
        <p:spPr>
          <a:xfrm>
            <a:off x="5292720" y="3357720"/>
            <a:ext cx="303372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900000" y="333360"/>
            <a:ext cx="7417080" cy="6889680"/>
            <a:chOff x="900000" y="333360"/>
            <a:chExt cx="7417080" cy="6889680"/>
          </a:xfrm>
        </p:grpSpPr>
        <p:sp>
          <p:nvSpPr>
            <p:cNvPr id="154" name="AutoShape 3"/>
            <p:cNvSpPr/>
            <p:nvPr/>
          </p:nvSpPr>
          <p:spPr>
            <a:xfrm>
              <a:off x="900000" y="333360"/>
              <a:ext cx="7417080" cy="68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5" name="Oval 4"/>
            <p:cNvSpPr/>
            <p:nvPr/>
          </p:nvSpPr>
          <p:spPr>
            <a:xfrm>
              <a:off x="900000" y="333360"/>
              <a:ext cx="7417080" cy="563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3300"/>
                  </a:solidFill>
                  <a:latin typeface="Times New Roman"/>
                </a:rPr>
                <a:t>Umrežavanje i partnerstvo s drugim školama i stručnim institucijama</a:t>
              </a:r>
              <a:endParaRPr b="0" lang="en-US" sz="1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6" name="Oval 5"/>
            <p:cNvSpPr/>
            <p:nvPr/>
          </p:nvSpPr>
          <p:spPr>
            <a:xfrm>
              <a:off x="900000" y="1460520"/>
              <a:ext cx="6133320" cy="350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3300"/>
                  </a:solidFill>
                  <a:latin typeface="Times New Roman"/>
                </a:rPr>
                <a:t>Upravljanje školom, odnosi u školi, školsko ozračje</a:t>
              </a:r>
              <a:endParaRPr b="0" lang="en-US" sz="1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3300"/>
                  </a:solidFill>
                  <a:latin typeface="Times New Roman"/>
                </a:rPr>
                <a:t>Školska politika i planiranje, vrednovanje uspješnosti</a:t>
              </a:r>
              <a:endParaRPr b="0" lang="en-US" sz="1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57" name="Oval 6"/>
            <p:cNvSpPr/>
            <p:nvPr/>
          </p:nvSpPr>
          <p:spPr>
            <a:xfrm>
              <a:off x="900000" y="2212200"/>
              <a:ext cx="4278960" cy="2004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200" spc="-1" strike="noStrike">
                  <a:solidFill>
                    <a:srgbClr val="003300"/>
                  </a:solidFill>
                  <a:latin typeface="Times New Roman"/>
                </a:rPr>
                <a:t>Neposredan rad učitelja/nastavnika s učenicima: suradničko i iskustveno učenje, učenici aktivno stječu kompetencije, sudjeluju u odlučivanju; potiče se razvoj stavova i vrijednosti, razvija kritičko i kompleksno mišljenje, kreativnost, orijentiranost prema budućnosti, vježba se donošenje odluka i prihvaćanje odgovornosti</a:t>
              </a:r>
              <a:endParaRPr b="0" lang="en-US" sz="1200" spc="-1" strike="noStrike">
                <a:solidFill>
                  <a:srgbClr val="00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vaka aktivnost provodi se na više razin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00"/>
                </a:solidFill>
                <a:latin typeface="Arial"/>
              </a:rPr>
              <a:t>Tema u okviru OOR mora...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4005360"/>
            <a:ext cx="91440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iti središnja i/ili globalna tema za održive procese razvoja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biti tema s dugoročnijim značenjem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imati kao podlogu diferencirano znanje,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pokazivati što je moguće veći potencijal za djelovanje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hr-HR" sz="24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i="1" lang="hr-HR" sz="2400" spc="-1" strike="noStrike">
                <a:solidFill>
                  <a:srgbClr val="003300"/>
                </a:solidFill>
                <a:latin typeface="Arial"/>
              </a:rPr>
              <a:t>Gerhard de Haan i drugi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1" name="Picture 4" descr="imagesCAE6IHXD"/>
          <p:cNvPicPr/>
          <p:nvPr/>
        </p:nvPicPr>
        <p:blipFill>
          <a:blip r:embed="rId1"/>
          <a:stretch/>
        </p:blipFill>
        <p:spPr>
          <a:xfrm>
            <a:off x="2556000" y="1484280"/>
            <a:ext cx="3168360" cy="19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00"/>
                </a:solidFill>
                <a:latin typeface="Arial"/>
              </a:rPr>
              <a:t>Posljedice za školu i nastavu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773360"/>
            <a:ext cx="91440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Novi izazov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ompleksnost - umreženo i sustavno razmišljanje (interdisciplinarnost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rijentacija na (bolju) budućnost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Orijentacija na vrijednosti, održanje poštovanja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Kritičko razmišljanje, mogućnost prosudb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Sudjelovanje, preuzimanje odgovornosti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Mogućnost za suradnju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Uzimanje iskustva u obzi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0" i="1" lang="hr-HR" sz="2400" spc="-1" strike="noStrike">
                <a:solidFill>
                  <a:srgbClr val="003300"/>
                </a:solidFill>
                <a:latin typeface="Arial"/>
              </a:rPr>
              <a:t>(Kyburz-Graber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16720" y="5528880"/>
            <a:ext cx="217008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1T10:52:19Z</dcterms:created>
  <dc:creator>Borjanka</dc:creator>
  <dc:description/>
  <dc:language>en-US</dc:language>
  <cp:lastModifiedBy>bsmojver</cp:lastModifiedBy>
  <dcterms:modified xsi:type="dcterms:W3CDTF">2012-01-17T12:35:19Z</dcterms:modified>
  <cp:revision>17</cp:revision>
  <dc:subject/>
  <dc:title>Teme i kompetencije</dc:title>
</cp:coreProperties>
</file>