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41.jpeg" ContentType="image/jpeg"/>
  <Override PartName="/ppt/media/image14.jpeg" ContentType="image/jpeg"/>
  <Override PartName="/ppt/media/image54.png" ContentType="image/png"/>
  <Override PartName="/ppt/media/image45.jpeg" ContentType="image/jpeg"/>
  <Override PartName="/ppt/media/image16.wmf" ContentType="image/x-wmf"/>
  <Override PartName="/ppt/media/image50.jpeg" ContentType="image/jpeg"/>
  <Override PartName="/ppt/media/image6.jpeg" ContentType="image/jpeg"/>
  <Override PartName="/ppt/media/image63.jpeg" ContentType="image/jpeg"/>
  <Override PartName="/ppt/media/image27.jpeg" ContentType="image/jpeg"/>
  <Override PartName="/ppt/media/image10.jpeg" ContentType="image/jpeg"/>
  <Override PartName="/ppt/media/image52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60.jpeg" ContentType="image/jpeg"/>
  <Override PartName="/ppt/media/image3.jpeg" ContentType="image/jpeg"/>
  <Override PartName="/ppt/media/image21.jpeg" ContentType="image/jpeg"/>
  <Override PartName="/ppt/media/image2.wmf" ContentType="image/x-wmf"/>
  <Override PartName="/ppt/media/image25.jpeg" ContentType="image/jpeg"/>
  <Override PartName="/ppt/media/image62.wmf" ContentType="image/x-wmf"/>
  <Override PartName="/ppt/media/image24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29.jpeg" ContentType="image/jpeg"/>
  <Override PartName="/ppt/media/image37.wmf" ContentType="image/x-wmf"/>
  <Override PartName="/ppt/media/image12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9955-A1AF-4986-9251-91BF2C04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666-73B1-473D-B84A-34A49120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D3B-B1DE-4294-944E-9DAA9D75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B122-EA65-4627-8DA3-0E028221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D0D5-F1F6-41BE-930E-C3A542F5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39BF-A72A-4B0B-AD4A-A00C1EBE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214-DC27-41E4-A833-FCA7CB67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C44-1086-4EC6-8412-76024C8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9D6B-486F-4820-BEF1-445E752D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BE68-259E-432D-ABF8-20482FCE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53AE-AE86-4859-9409-0E6B569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55C-A8A5-49CC-B11C-B1D068F4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BED3-5312-4CA6-A224-E94F7CC94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Uvod u obrazovanje za održivi razvoj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Gospodarstvo je kotač zamašnjak razvoja društ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181440" y="2492280"/>
            <a:ext cx="3961080" cy="4525920"/>
          </a:xfrm>
          <a:prstGeom prst="rect">
            <a:avLst/>
          </a:prstGeom>
          <a:solidFill>
            <a:srgbClr val="dbd2e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ežna moć stanovništva ograničavajući je čimbe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ne k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zlike bogatih i siromaš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rošački mentalitet (treba li nam to sve za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emu pomažemo a čemu štetimo kupujuć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83200" y="2730600"/>
            <a:ext cx="4060800" cy="4127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rušt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252720" y="5013360"/>
            <a:ext cx="9396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zumijevanje socijalnih institucija i njihove uloge u smjeru promjene i razvoja, kao i demokratskih i participativnih sustava, koji omogućuju slobodno izražavanje vlastitog mišljenja, izbor vlade i vlasti, postizanje konsenzusa i zadovoljenje najrazličitijih zahtje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Što je tu razvo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vijesno – podjela rada i poslova – raslojava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ganiziranje radi olakšavanja života I amortiziranja nepog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ruštvo ima zakone i moral.    Demokracija – stvarnost ili 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3934080" cy="2950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ivilizacija, tekovina društvenog život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96720" y="5157720"/>
            <a:ext cx="9720000" cy="194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iti civiliziran znači biti prilagođen – uspješno prikriti “negativne osobin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jecu učimo: ne laži, ne kradi, podijeli s potrebitima…. Mada smo svjedoci takvih oblika ponašanja kao široko prihvaćenih u društ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478320" cy="2279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522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e li  razvijeno društvo bez razlika, jednakih uvjeta, mogućnosti ostvarivanja osobnih potreba… realnost ili utopija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irodni okoli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181440" y="5013000"/>
            <a:ext cx="93250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vijest o ograničenosti resursa i krhkosti fizičkoga okoliša, kao i o posljedicama ljudske aktivnosti i odluka (s odlučnošću da se briga o okolišu uvede u socijalni i gospodarski politički razvoj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227640" y="2133720"/>
            <a:ext cx="2773440" cy="2570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stoji li “razvoj okoliša”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03280" y="2781360"/>
            <a:ext cx="62658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ve ljudske aktivnosti remete ravnotežu u prirodi, no neke od njih ona može apsorbir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zakona ekologi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ve je međusobno povez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šta nikad ne nest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roda zna najbo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platan ručak ne post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2519640" cy="2468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Što treba postići obrazovanjem za održivi razvoj u sve tri, jednako važne i međusobno prožete kompon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-181080" y="4941360"/>
            <a:ext cx="9577440" cy="16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ospodarst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gospodarska komponenta): Učinkovitija upotreba resursa, nove proizvodne tehnologije, kvaliteta dobara i usluga, strukture vlasti, pravedna podjela, mogućnost zaposlenj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333360"/>
            <a:ext cx="3987720" cy="299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-360" y="4552560"/>
            <a:ext cx="57243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oboda, sigurnost, stabilnost, zdravlje, razvoj osobnosti, jednakopravnost, solidarnost, održanje kulturne različitosti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745080" cy="25052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Društvo (socijalna komponenta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35564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GENDA 21 - Preamb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"1.1 Čovječanstvo se nalazi pred odlučujućim trenutkom u svojoj povijesti. Svjedoci smo sve veće neravnopravnosti između naroda i unutar nacija, siromaštvo je u porastu, sve je više gladi, bolesti i nepismenih... Štoviše, ubrzano je onečišćenje ekosustava o kojima ovisi i naša dobrobit.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Arial"/>
              </a:rPr>
              <a:t>Program promjena za 21 st. sa svj. Skupa državnika u Rio de Janeiru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6720" y="1341360"/>
            <a:ext cx="2995560" cy="417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324360" y="5013000"/>
            <a:ext cx="972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rodni okoliš</a:t>
            </a: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(ekološka komponenta): Održanje prirodnih resursa, biodiverzitet, kružni tok tvari, emisije, iskorištavanja zemljišta, ne odgađanje rješavanja problema, estetska vrijednost prirode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3267360" cy="267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59280" y="189000"/>
            <a:ext cx="3384720" cy="31575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amen spoticanja u 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kao prazan kompromis (pojedinačni interesi dovode često do pobjede kratkoročnih opcij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kao normativni koncept - tko određuje vrijednos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 se ne može planir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glašavanje odgovornosti pojedinca i premalo pažnje posvećene strukturalnim komponent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233280"/>
            <a:ext cx="8785080" cy="662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651280" y="404280"/>
            <a:ext cx="3251160" cy="33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 može se zaštititi okoliš, dok polovica čovječanstva živi u siromaštv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508720" y="4365360"/>
            <a:ext cx="363528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z povezivanja ovih dvaju problema nema dugoročnoga razvoja na ovome opljačkanom plan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5651640" cy="45482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6360" y="333360"/>
            <a:ext cx="3816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rživi razvoj je regulator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j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rema Kant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6177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5440320"/>
            <a:ext cx="93106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ma recepta, postoje različita rješe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732720" y="0"/>
            <a:ext cx="229212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4000" y="3645000"/>
            <a:ext cx="3492360" cy="230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181440" y="18864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dgoj i obrazovanje u smjeru održivog razvoja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emelji se na vrijednostima u čijem je središtu poštovanje: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360" y="3500280"/>
            <a:ext cx="9325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rema drugima, uključujući sadašnje i buduće  narašt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rema različitosti i raznolik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rema okoliš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prema resursima planeta koji nastanjuje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59280" y="333360"/>
            <a:ext cx="2954160" cy="3024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252720" y="5059440"/>
            <a:ext cx="9791640" cy="1798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OOR nam pomaže shvatiti sebe i druge i našu povezanost sa širom društvenom okolinom i prirodnim okolišem - trajna osnova za izgradnju pošt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Što je to održivi razvo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24000" y="4957920"/>
            <a:ext cx="946800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takav razvoj društva koji neće umanjiti ili ugroziti mogućnost razvoja budućih generacija               ……razvoj unutar prihvatljivog kapaciteta okoliša       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4038480" cy="3021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anse koje pruža 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181440" y="3068640"/>
            <a:ext cx="932508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Širenj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oncentracije na proble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koliša te socijalne probleme, kao i probleme razvoja uzimajući u obzir globalnu dimenziju i dimenziju buduć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gućnosti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pajanja s ostalim inicijativam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zbog neodređenosti koncepta - dinamičko polje za kreativna rješ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djelovanje svi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ruštvenih skup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ka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ces učenj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orijentacija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-252360" y="0"/>
            <a:ext cx="9648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Učiti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znači kretati se među proturječnostima a pritom ne gubiti ravnotežu niti biti rastrzan ili se inertno prikloniti jednoj strani, već otpor koristiti kao sredstvo kretanja, kao spoznaju </a:t>
            </a: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(Frigga Haug)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012000" y="3357720"/>
            <a:ext cx="2463840" cy="3063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zazovi za obrazovanj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drživi razvo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915920"/>
            <a:ext cx="9144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OR kao emancipirajući način obrazovanja, a ne samo kao informacija i tr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asnost instrumentalizacije obrazovanja i nesposobnost orijentacije na djelo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4110120"/>
            <a:ext cx="3457440" cy="258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932360" y="3789360"/>
            <a:ext cx="3295800" cy="2894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4076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škola je samo jedan od mnogih utjecaja - prevelika očeki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rješavanje sadašnjih problema nije zadaća dj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bez pedagogije katastro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nesrazmjer između vizija i društvene stvar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zjasniti stvari i ojačat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jud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1600200"/>
            <a:ext cx="493236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ije riječ tek o samoostvarenju individualne osobnosti, već i o preuzimanju odgovornosti u društvu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1468440"/>
            <a:ext cx="2598480" cy="2093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859280" y="3951360"/>
            <a:ext cx="3113280" cy="2579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217440" y="-360"/>
            <a:ext cx="93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66"/>
                </a:solidFill>
                <a:latin typeface="Arial"/>
              </a:rPr>
              <a:t>Zahtjevi koji se stavljaju pred</a:t>
            </a:r>
            <a:br>
              <a:rPr sz="3200"/>
            </a:br>
            <a:r>
              <a:rPr b="1" lang="hr-HR" sz="3200" spc="-1" strike="noStrike">
                <a:solidFill>
                  <a:srgbClr val="ff0066"/>
                </a:solidFill>
                <a:latin typeface="Arial"/>
              </a:rPr>
              <a:t>pedagošku viziju OOR (</a:t>
            </a:r>
            <a:r>
              <a:rPr b="1" lang="hr-HR" sz="2400" spc="-1" strike="noStrike">
                <a:solidFill>
                  <a:srgbClr val="ff0066"/>
                </a:solidFill>
                <a:latin typeface="Arial"/>
              </a:rPr>
              <a:t>Christine Künzli, 200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252360" y="4408560"/>
            <a:ext cx="9540720" cy="2449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sprkos priznavanja društvenih problema, osigurati optimiz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varnost je kompleksna i pluralistička – pedagoška vizija ne smije predlagati jedinstven pog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edagogizacija društvene vizije ne smije biti i jedina mjera za njeno provođenje, nužne su i političke i društvene promjene.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2664000" cy="2663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Bild 001"/>
          <p:cNvPicPr/>
          <p:nvPr/>
        </p:nvPicPr>
        <p:blipFill>
          <a:blip r:embed="rId1"/>
          <a:stretch/>
        </p:blipFill>
        <p:spPr>
          <a:xfrm>
            <a:off x="684360" y="109440"/>
            <a:ext cx="7921440" cy="67485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>
    <p:comb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brazovanje za održivost je borba za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čuvanje vrijednosti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UNESCO 200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-324000" y="4581360"/>
            <a:ext cx="91440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važavanje drugih,                                         uvažavanje različitosti,                                        obzir prema prirodnim resursima našega planeta, razumijevanje, smisao za pravednost, odgovornost, spremnost na dijalog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08720" y="2901960"/>
            <a:ext cx="3384360" cy="2556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1" descr=""/>
          <p:cNvPicPr/>
          <p:nvPr/>
        </p:nvPicPr>
        <p:blipFill>
          <a:blip r:embed="rId1"/>
          <a:stretch/>
        </p:blipFill>
        <p:spPr>
          <a:xfrm>
            <a:off x="0" y="23493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351240" y="1628640"/>
            <a:ext cx="5792760" cy="3508560"/>
          </a:xfrm>
          <a:custGeom>
            <a:avLst/>
            <a:gdLst/>
            <a:ahLst/>
            <a:rect l="l" t="t" r="r" b="b"/>
            <a:pathLst>
              <a:path w="3649" h="2210">
                <a:moveTo>
                  <a:pt x="13" y="2150"/>
                </a:moveTo>
                <a:cubicBezTo>
                  <a:pt x="61" y="1968"/>
                  <a:pt x="0" y="2210"/>
                  <a:pt x="32" y="1689"/>
                </a:cubicBezTo>
                <a:cubicBezTo>
                  <a:pt x="33" y="1675"/>
                  <a:pt x="46" y="1664"/>
                  <a:pt x="51" y="1651"/>
                </a:cubicBezTo>
                <a:cubicBezTo>
                  <a:pt x="65" y="1613"/>
                  <a:pt x="90" y="1536"/>
                  <a:pt x="90" y="1536"/>
                </a:cubicBezTo>
                <a:cubicBezTo>
                  <a:pt x="95" y="1497"/>
                  <a:pt x="106" y="1459"/>
                  <a:pt x="109" y="1420"/>
                </a:cubicBezTo>
                <a:cubicBezTo>
                  <a:pt x="128" y="1151"/>
                  <a:pt x="95" y="1267"/>
                  <a:pt x="128" y="1161"/>
                </a:cubicBezTo>
                <a:cubicBezTo>
                  <a:pt x="146" y="1020"/>
                  <a:pt x="109" y="1119"/>
                  <a:pt x="186" y="1075"/>
                </a:cubicBezTo>
                <a:cubicBezTo>
                  <a:pt x="196" y="1069"/>
                  <a:pt x="196" y="1053"/>
                  <a:pt x="205" y="1046"/>
                </a:cubicBezTo>
                <a:cubicBezTo>
                  <a:pt x="213" y="1040"/>
                  <a:pt x="224" y="1039"/>
                  <a:pt x="234" y="1036"/>
                </a:cubicBezTo>
                <a:cubicBezTo>
                  <a:pt x="273" y="1096"/>
                  <a:pt x="268" y="1173"/>
                  <a:pt x="301" y="1238"/>
                </a:cubicBezTo>
                <a:cubicBezTo>
                  <a:pt x="310" y="1289"/>
                  <a:pt x="317" y="1317"/>
                  <a:pt x="339" y="1363"/>
                </a:cubicBezTo>
                <a:cubicBezTo>
                  <a:pt x="342" y="1387"/>
                  <a:pt x="351" y="1476"/>
                  <a:pt x="359" y="1507"/>
                </a:cubicBezTo>
                <a:cubicBezTo>
                  <a:pt x="371" y="1552"/>
                  <a:pt x="398" y="1586"/>
                  <a:pt x="407" y="1632"/>
                </a:cubicBezTo>
                <a:cubicBezTo>
                  <a:pt x="428" y="1741"/>
                  <a:pt x="451" y="1849"/>
                  <a:pt x="474" y="1958"/>
                </a:cubicBezTo>
                <a:cubicBezTo>
                  <a:pt x="471" y="2012"/>
                  <a:pt x="481" y="2069"/>
                  <a:pt x="464" y="2121"/>
                </a:cubicBezTo>
                <a:cubicBezTo>
                  <a:pt x="460" y="2134"/>
                  <a:pt x="439" y="2107"/>
                  <a:pt x="426" y="2102"/>
                </a:cubicBezTo>
                <a:cubicBezTo>
                  <a:pt x="407" y="2095"/>
                  <a:pt x="368" y="2083"/>
                  <a:pt x="368" y="2083"/>
                </a:cubicBezTo>
                <a:cubicBezTo>
                  <a:pt x="327" y="2020"/>
                  <a:pt x="306" y="1992"/>
                  <a:pt x="291" y="1920"/>
                </a:cubicBezTo>
                <a:cubicBezTo>
                  <a:pt x="302" y="1700"/>
                  <a:pt x="328" y="1501"/>
                  <a:pt x="407" y="1296"/>
                </a:cubicBezTo>
                <a:cubicBezTo>
                  <a:pt x="427" y="1244"/>
                  <a:pt x="450" y="1186"/>
                  <a:pt x="464" y="1132"/>
                </a:cubicBezTo>
                <a:cubicBezTo>
                  <a:pt x="469" y="1113"/>
                  <a:pt x="467" y="1093"/>
                  <a:pt x="474" y="1075"/>
                </a:cubicBezTo>
                <a:cubicBezTo>
                  <a:pt x="487" y="1042"/>
                  <a:pt x="522" y="979"/>
                  <a:pt x="522" y="979"/>
                </a:cubicBezTo>
                <a:cubicBezTo>
                  <a:pt x="530" y="925"/>
                  <a:pt x="540" y="881"/>
                  <a:pt x="570" y="835"/>
                </a:cubicBezTo>
                <a:cubicBezTo>
                  <a:pt x="573" y="820"/>
                  <a:pt x="580" y="784"/>
                  <a:pt x="589" y="768"/>
                </a:cubicBezTo>
                <a:cubicBezTo>
                  <a:pt x="600" y="748"/>
                  <a:pt x="627" y="710"/>
                  <a:pt x="627" y="710"/>
                </a:cubicBezTo>
                <a:cubicBezTo>
                  <a:pt x="675" y="714"/>
                  <a:pt x="731" y="702"/>
                  <a:pt x="771" y="729"/>
                </a:cubicBezTo>
                <a:cubicBezTo>
                  <a:pt x="883" y="804"/>
                  <a:pt x="711" y="714"/>
                  <a:pt x="839" y="777"/>
                </a:cubicBezTo>
                <a:cubicBezTo>
                  <a:pt x="864" y="815"/>
                  <a:pt x="887" y="861"/>
                  <a:pt x="906" y="902"/>
                </a:cubicBezTo>
                <a:cubicBezTo>
                  <a:pt x="926" y="946"/>
                  <a:pt x="929" y="978"/>
                  <a:pt x="954" y="1017"/>
                </a:cubicBezTo>
                <a:cubicBezTo>
                  <a:pt x="962" y="1113"/>
                  <a:pt x="978" y="1194"/>
                  <a:pt x="1002" y="1286"/>
                </a:cubicBezTo>
                <a:cubicBezTo>
                  <a:pt x="1018" y="1510"/>
                  <a:pt x="1068" y="1763"/>
                  <a:pt x="858" y="1900"/>
                </a:cubicBezTo>
                <a:cubicBezTo>
                  <a:pt x="852" y="1913"/>
                  <a:pt x="852" y="1933"/>
                  <a:pt x="839" y="1939"/>
                </a:cubicBezTo>
                <a:cubicBezTo>
                  <a:pt x="823" y="1946"/>
                  <a:pt x="777" y="1881"/>
                  <a:pt x="771" y="1872"/>
                </a:cubicBezTo>
                <a:cubicBezTo>
                  <a:pt x="746" y="1762"/>
                  <a:pt x="762" y="1664"/>
                  <a:pt x="781" y="1555"/>
                </a:cubicBezTo>
                <a:cubicBezTo>
                  <a:pt x="784" y="1433"/>
                  <a:pt x="783" y="1311"/>
                  <a:pt x="791" y="1190"/>
                </a:cubicBezTo>
                <a:cubicBezTo>
                  <a:pt x="792" y="1170"/>
                  <a:pt x="804" y="1152"/>
                  <a:pt x="810" y="1132"/>
                </a:cubicBezTo>
                <a:cubicBezTo>
                  <a:pt x="822" y="1092"/>
                  <a:pt x="822" y="1046"/>
                  <a:pt x="839" y="1008"/>
                </a:cubicBezTo>
                <a:cubicBezTo>
                  <a:pt x="879" y="918"/>
                  <a:pt x="853" y="999"/>
                  <a:pt x="896" y="921"/>
                </a:cubicBezTo>
                <a:cubicBezTo>
                  <a:pt x="924" y="870"/>
                  <a:pt x="949" y="817"/>
                  <a:pt x="983" y="768"/>
                </a:cubicBezTo>
                <a:cubicBezTo>
                  <a:pt x="1008" y="732"/>
                  <a:pt x="1056" y="644"/>
                  <a:pt x="1107" y="624"/>
                </a:cubicBezTo>
                <a:cubicBezTo>
                  <a:pt x="1135" y="613"/>
                  <a:pt x="1166" y="614"/>
                  <a:pt x="1194" y="604"/>
                </a:cubicBezTo>
                <a:cubicBezTo>
                  <a:pt x="1203" y="607"/>
                  <a:pt x="1295" y="639"/>
                  <a:pt x="1299" y="643"/>
                </a:cubicBezTo>
                <a:cubicBezTo>
                  <a:pt x="1316" y="663"/>
                  <a:pt x="1310" y="695"/>
                  <a:pt x="1319" y="720"/>
                </a:cubicBezTo>
                <a:cubicBezTo>
                  <a:pt x="1323" y="982"/>
                  <a:pt x="1342" y="1245"/>
                  <a:pt x="1338" y="1507"/>
                </a:cubicBezTo>
                <a:cubicBezTo>
                  <a:pt x="1336" y="1621"/>
                  <a:pt x="1402" y="1835"/>
                  <a:pt x="1261" y="1872"/>
                </a:cubicBezTo>
                <a:cubicBezTo>
                  <a:pt x="1220" y="1861"/>
                  <a:pt x="1182" y="1838"/>
                  <a:pt x="1146" y="1814"/>
                </a:cubicBezTo>
                <a:cubicBezTo>
                  <a:pt x="1113" y="1747"/>
                  <a:pt x="1114" y="1694"/>
                  <a:pt x="1136" y="1622"/>
                </a:cubicBezTo>
                <a:cubicBezTo>
                  <a:pt x="1162" y="1447"/>
                  <a:pt x="1250" y="1298"/>
                  <a:pt x="1328" y="1142"/>
                </a:cubicBezTo>
                <a:cubicBezTo>
                  <a:pt x="1416" y="966"/>
                  <a:pt x="1505" y="781"/>
                  <a:pt x="1626" y="624"/>
                </a:cubicBezTo>
                <a:cubicBezTo>
                  <a:pt x="1683" y="550"/>
                  <a:pt x="1752" y="486"/>
                  <a:pt x="1808" y="412"/>
                </a:cubicBezTo>
                <a:cubicBezTo>
                  <a:pt x="1939" y="237"/>
                  <a:pt x="1878" y="304"/>
                  <a:pt x="1981" y="201"/>
                </a:cubicBezTo>
                <a:cubicBezTo>
                  <a:pt x="1984" y="185"/>
                  <a:pt x="1984" y="168"/>
                  <a:pt x="1991" y="153"/>
                </a:cubicBezTo>
                <a:cubicBezTo>
                  <a:pt x="2003" y="128"/>
                  <a:pt x="2039" y="86"/>
                  <a:pt x="2039" y="86"/>
                </a:cubicBezTo>
                <a:cubicBezTo>
                  <a:pt x="2045" y="220"/>
                  <a:pt x="2045" y="355"/>
                  <a:pt x="2058" y="489"/>
                </a:cubicBezTo>
                <a:cubicBezTo>
                  <a:pt x="2066" y="573"/>
                  <a:pt x="2095" y="655"/>
                  <a:pt x="2106" y="739"/>
                </a:cubicBezTo>
                <a:cubicBezTo>
                  <a:pt x="2102" y="941"/>
                  <a:pt x="2145" y="1151"/>
                  <a:pt x="2087" y="1344"/>
                </a:cubicBezTo>
                <a:cubicBezTo>
                  <a:pt x="2066" y="1415"/>
                  <a:pt x="2027" y="1479"/>
                  <a:pt x="1981" y="1536"/>
                </a:cubicBezTo>
                <a:cubicBezTo>
                  <a:pt x="1964" y="1557"/>
                  <a:pt x="1923" y="1593"/>
                  <a:pt x="1923" y="1593"/>
                </a:cubicBezTo>
                <a:cubicBezTo>
                  <a:pt x="1858" y="1578"/>
                  <a:pt x="1854" y="1551"/>
                  <a:pt x="1837" y="1488"/>
                </a:cubicBezTo>
                <a:cubicBezTo>
                  <a:pt x="1858" y="1384"/>
                  <a:pt x="1893" y="1291"/>
                  <a:pt x="1923" y="1190"/>
                </a:cubicBezTo>
                <a:cubicBezTo>
                  <a:pt x="1934" y="1152"/>
                  <a:pt x="1930" y="1108"/>
                  <a:pt x="1952" y="1075"/>
                </a:cubicBezTo>
                <a:cubicBezTo>
                  <a:pt x="2069" y="900"/>
                  <a:pt x="2167" y="712"/>
                  <a:pt x="2269" y="528"/>
                </a:cubicBezTo>
                <a:cubicBezTo>
                  <a:pt x="2310" y="454"/>
                  <a:pt x="2327" y="373"/>
                  <a:pt x="2365" y="297"/>
                </a:cubicBezTo>
                <a:cubicBezTo>
                  <a:pt x="2409" y="208"/>
                  <a:pt x="2473" y="129"/>
                  <a:pt x="2528" y="48"/>
                </a:cubicBezTo>
                <a:cubicBezTo>
                  <a:pt x="2607" y="161"/>
                  <a:pt x="2696" y="286"/>
                  <a:pt x="2730" y="422"/>
                </a:cubicBezTo>
                <a:cubicBezTo>
                  <a:pt x="2764" y="557"/>
                  <a:pt x="2769" y="680"/>
                  <a:pt x="2826" y="806"/>
                </a:cubicBezTo>
                <a:cubicBezTo>
                  <a:pt x="2829" y="832"/>
                  <a:pt x="2828" y="858"/>
                  <a:pt x="2835" y="883"/>
                </a:cubicBezTo>
                <a:cubicBezTo>
                  <a:pt x="2841" y="907"/>
                  <a:pt x="2859" y="926"/>
                  <a:pt x="2864" y="950"/>
                </a:cubicBezTo>
                <a:cubicBezTo>
                  <a:pt x="2879" y="1016"/>
                  <a:pt x="2880" y="1085"/>
                  <a:pt x="2893" y="1152"/>
                </a:cubicBezTo>
                <a:cubicBezTo>
                  <a:pt x="2896" y="1168"/>
                  <a:pt x="2897" y="1185"/>
                  <a:pt x="2903" y="1200"/>
                </a:cubicBezTo>
                <a:cubicBezTo>
                  <a:pt x="2913" y="1226"/>
                  <a:pt x="2941" y="1276"/>
                  <a:pt x="2941" y="1276"/>
                </a:cubicBezTo>
                <a:cubicBezTo>
                  <a:pt x="2967" y="1427"/>
                  <a:pt x="2939" y="1581"/>
                  <a:pt x="2807" y="1670"/>
                </a:cubicBezTo>
                <a:cubicBezTo>
                  <a:pt x="2781" y="1645"/>
                  <a:pt x="2751" y="1642"/>
                  <a:pt x="2720" y="1622"/>
                </a:cubicBezTo>
                <a:cubicBezTo>
                  <a:pt x="2689" y="1574"/>
                  <a:pt x="2689" y="1550"/>
                  <a:pt x="2682" y="1488"/>
                </a:cubicBezTo>
                <a:cubicBezTo>
                  <a:pt x="2685" y="1411"/>
                  <a:pt x="2686" y="1334"/>
                  <a:pt x="2691" y="1257"/>
                </a:cubicBezTo>
                <a:cubicBezTo>
                  <a:pt x="2694" y="1213"/>
                  <a:pt x="2714" y="1171"/>
                  <a:pt x="2730" y="1132"/>
                </a:cubicBezTo>
                <a:cubicBezTo>
                  <a:pt x="2749" y="1084"/>
                  <a:pt x="2757" y="1035"/>
                  <a:pt x="2778" y="988"/>
                </a:cubicBezTo>
                <a:cubicBezTo>
                  <a:pt x="2842" y="848"/>
                  <a:pt x="2938" y="725"/>
                  <a:pt x="3018" y="595"/>
                </a:cubicBezTo>
                <a:cubicBezTo>
                  <a:pt x="3069" y="512"/>
                  <a:pt x="3105" y="425"/>
                  <a:pt x="3162" y="345"/>
                </a:cubicBezTo>
                <a:cubicBezTo>
                  <a:pt x="3168" y="323"/>
                  <a:pt x="3173" y="300"/>
                  <a:pt x="3181" y="278"/>
                </a:cubicBezTo>
                <a:cubicBezTo>
                  <a:pt x="3189" y="255"/>
                  <a:pt x="3203" y="234"/>
                  <a:pt x="3210" y="211"/>
                </a:cubicBezTo>
                <a:cubicBezTo>
                  <a:pt x="3232" y="141"/>
                  <a:pt x="3245" y="70"/>
                  <a:pt x="3267" y="0"/>
                </a:cubicBezTo>
                <a:cubicBezTo>
                  <a:pt x="3353" y="108"/>
                  <a:pt x="3319" y="71"/>
                  <a:pt x="3363" y="182"/>
                </a:cubicBezTo>
                <a:cubicBezTo>
                  <a:pt x="3378" y="284"/>
                  <a:pt x="3427" y="405"/>
                  <a:pt x="3469" y="499"/>
                </a:cubicBezTo>
                <a:cubicBezTo>
                  <a:pt x="3481" y="560"/>
                  <a:pt x="3496" y="620"/>
                  <a:pt x="3507" y="681"/>
                </a:cubicBezTo>
                <a:cubicBezTo>
                  <a:pt x="3521" y="764"/>
                  <a:pt x="3500" y="860"/>
                  <a:pt x="3546" y="931"/>
                </a:cubicBezTo>
                <a:cubicBezTo>
                  <a:pt x="3579" y="982"/>
                  <a:pt x="3605" y="1039"/>
                  <a:pt x="3632" y="1094"/>
                </a:cubicBezTo>
                <a:cubicBezTo>
                  <a:pt x="3626" y="1126"/>
                  <a:pt x="3625" y="1160"/>
                  <a:pt x="3613" y="1190"/>
                </a:cubicBezTo>
                <a:cubicBezTo>
                  <a:pt x="3592" y="1245"/>
                  <a:pt x="3498" y="1249"/>
                  <a:pt x="3459" y="1286"/>
                </a:cubicBezTo>
                <a:cubicBezTo>
                  <a:pt x="3385" y="1236"/>
                  <a:pt x="3376" y="1214"/>
                  <a:pt x="3354" y="1123"/>
                </a:cubicBezTo>
                <a:cubicBezTo>
                  <a:pt x="3370" y="1002"/>
                  <a:pt x="3412" y="899"/>
                  <a:pt x="3459" y="787"/>
                </a:cubicBezTo>
                <a:cubicBezTo>
                  <a:pt x="3486" y="722"/>
                  <a:pt x="3495" y="661"/>
                  <a:pt x="3527" y="595"/>
                </a:cubicBezTo>
                <a:cubicBezTo>
                  <a:pt x="3544" y="560"/>
                  <a:pt x="3557" y="524"/>
                  <a:pt x="3575" y="489"/>
                </a:cubicBezTo>
                <a:cubicBezTo>
                  <a:pt x="3599" y="442"/>
                  <a:pt x="3649" y="380"/>
                  <a:pt x="3623" y="3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1700280"/>
            <a:ext cx="4892760" cy="4013280"/>
          </a:xfrm>
          <a:custGeom>
            <a:avLst/>
            <a:gdLst/>
            <a:ahLst/>
            <a:rect l="l" t="t" r="r" b="b"/>
            <a:pathLst>
              <a:path w="3082" h="2528">
                <a:moveTo>
                  <a:pt x="0" y="1987"/>
                </a:moveTo>
                <a:cubicBezTo>
                  <a:pt x="9" y="1909"/>
                  <a:pt x="31" y="1834"/>
                  <a:pt x="39" y="1756"/>
                </a:cubicBezTo>
                <a:cubicBezTo>
                  <a:pt x="64" y="1521"/>
                  <a:pt x="71" y="1282"/>
                  <a:pt x="96" y="1046"/>
                </a:cubicBezTo>
                <a:cubicBezTo>
                  <a:pt x="100" y="972"/>
                  <a:pt x="91" y="676"/>
                  <a:pt x="211" y="633"/>
                </a:cubicBezTo>
                <a:cubicBezTo>
                  <a:pt x="258" y="586"/>
                  <a:pt x="302" y="562"/>
                  <a:pt x="365" y="547"/>
                </a:cubicBezTo>
                <a:cubicBezTo>
                  <a:pt x="412" y="557"/>
                  <a:pt x="462" y="559"/>
                  <a:pt x="499" y="595"/>
                </a:cubicBezTo>
                <a:cubicBezTo>
                  <a:pt x="515" y="611"/>
                  <a:pt x="538" y="652"/>
                  <a:pt x="538" y="652"/>
                </a:cubicBezTo>
                <a:cubicBezTo>
                  <a:pt x="568" y="750"/>
                  <a:pt x="559" y="866"/>
                  <a:pt x="576" y="969"/>
                </a:cubicBezTo>
                <a:cubicBezTo>
                  <a:pt x="588" y="1043"/>
                  <a:pt x="615" y="1190"/>
                  <a:pt x="615" y="1190"/>
                </a:cubicBezTo>
                <a:cubicBezTo>
                  <a:pt x="608" y="1417"/>
                  <a:pt x="603" y="1645"/>
                  <a:pt x="595" y="1872"/>
                </a:cubicBezTo>
                <a:cubicBezTo>
                  <a:pt x="590" y="2006"/>
                  <a:pt x="571" y="2191"/>
                  <a:pt x="490" y="2304"/>
                </a:cubicBezTo>
                <a:cubicBezTo>
                  <a:pt x="330" y="2528"/>
                  <a:pt x="574" y="2159"/>
                  <a:pt x="442" y="2361"/>
                </a:cubicBezTo>
                <a:cubicBezTo>
                  <a:pt x="420" y="2345"/>
                  <a:pt x="394" y="2332"/>
                  <a:pt x="375" y="2313"/>
                </a:cubicBezTo>
                <a:cubicBezTo>
                  <a:pt x="336" y="2274"/>
                  <a:pt x="290" y="2165"/>
                  <a:pt x="269" y="2112"/>
                </a:cubicBezTo>
                <a:cubicBezTo>
                  <a:pt x="278" y="1809"/>
                  <a:pt x="292" y="1466"/>
                  <a:pt x="413" y="1180"/>
                </a:cubicBezTo>
                <a:cubicBezTo>
                  <a:pt x="450" y="1092"/>
                  <a:pt x="496" y="1007"/>
                  <a:pt x="538" y="921"/>
                </a:cubicBezTo>
                <a:cubicBezTo>
                  <a:pt x="584" y="825"/>
                  <a:pt x="677" y="760"/>
                  <a:pt x="749" y="681"/>
                </a:cubicBezTo>
                <a:cubicBezTo>
                  <a:pt x="827" y="595"/>
                  <a:pt x="917" y="523"/>
                  <a:pt x="999" y="441"/>
                </a:cubicBezTo>
                <a:cubicBezTo>
                  <a:pt x="1010" y="430"/>
                  <a:pt x="1012" y="409"/>
                  <a:pt x="1027" y="403"/>
                </a:cubicBezTo>
                <a:cubicBezTo>
                  <a:pt x="1084" y="379"/>
                  <a:pt x="1149" y="386"/>
                  <a:pt x="1210" y="374"/>
                </a:cubicBezTo>
                <a:cubicBezTo>
                  <a:pt x="1210" y="374"/>
                  <a:pt x="1351" y="380"/>
                  <a:pt x="1383" y="412"/>
                </a:cubicBezTo>
                <a:cubicBezTo>
                  <a:pt x="1451" y="480"/>
                  <a:pt x="1462" y="592"/>
                  <a:pt x="1507" y="672"/>
                </a:cubicBezTo>
                <a:cubicBezTo>
                  <a:pt x="1523" y="700"/>
                  <a:pt x="1546" y="723"/>
                  <a:pt x="1565" y="748"/>
                </a:cubicBezTo>
                <a:cubicBezTo>
                  <a:pt x="1588" y="925"/>
                  <a:pt x="1570" y="846"/>
                  <a:pt x="1613" y="988"/>
                </a:cubicBezTo>
                <a:cubicBezTo>
                  <a:pt x="1638" y="1181"/>
                  <a:pt x="1636" y="1348"/>
                  <a:pt x="1594" y="1545"/>
                </a:cubicBezTo>
                <a:cubicBezTo>
                  <a:pt x="1580" y="1612"/>
                  <a:pt x="1528" y="1666"/>
                  <a:pt x="1498" y="1728"/>
                </a:cubicBezTo>
                <a:cubicBezTo>
                  <a:pt x="1447" y="1835"/>
                  <a:pt x="1397" y="1926"/>
                  <a:pt x="1277" y="1968"/>
                </a:cubicBezTo>
                <a:cubicBezTo>
                  <a:pt x="1222" y="1910"/>
                  <a:pt x="1196" y="1764"/>
                  <a:pt x="1181" y="1689"/>
                </a:cubicBezTo>
                <a:cubicBezTo>
                  <a:pt x="1191" y="1609"/>
                  <a:pt x="1189" y="1527"/>
                  <a:pt x="1210" y="1449"/>
                </a:cubicBezTo>
                <a:cubicBezTo>
                  <a:pt x="1277" y="1196"/>
                  <a:pt x="1401" y="1025"/>
                  <a:pt x="1488" y="787"/>
                </a:cubicBezTo>
                <a:cubicBezTo>
                  <a:pt x="1502" y="750"/>
                  <a:pt x="1504" y="709"/>
                  <a:pt x="1517" y="672"/>
                </a:cubicBezTo>
                <a:cubicBezTo>
                  <a:pt x="1568" y="529"/>
                  <a:pt x="1665" y="397"/>
                  <a:pt x="1699" y="249"/>
                </a:cubicBezTo>
                <a:cubicBezTo>
                  <a:pt x="1962" y="283"/>
                  <a:pt x="2131" y="549"/>
                  <a:pt x="2256" y="758"/>
                </a:cubicBezTo>
                <a:cubicBezTo>
                  <a:pt x="2293" y="820"/>
                  <a:pt x="2305" y="865"/>
                  <a:pt x="2352" y="921"/>
                </a:cubicBezTo>
                <a:cubicBezTo>
                  <a:pt x="2407" y="1114"/>
                  <a:pt x="2420" y="1332"/>
                  <a:pt x="2199" y="1411"/>
                </a:cubicBezTo>
                <a:cubicBezTo>
                  <a:pt x="2167" y="1348"/>
                  <a:pt x="2180" y="1380"/>
                  <a:pt x="2151" y="1286"/>
                </a:cubicBezTo>
                <a:cubicBezTo>
                  <a:pt x="2144" y="1264"/>
                  <a:pt x="2131" y="1219"/>
                  <a:pt x="2131" y="1219"/>
                </a:cubicBezTo>
                <a:cubicBezTo>
                  <a:pt x="2105" y="913"/>
                  <a:pt x="2165" y="784"/>
                  <a:pt x="2304" y="518"/>
                </a:cubicBezTo>
                <a:cubicBezTo>
                  <a:pt x="2341" y="448"/>
                  <a:pt x="2380" y="378"/>
                  <a:pt x="2429" y="316"/>
                </a:cubicBezTo>
                <a:cubicBezTo>
                  <a:pt x="2498" y="230"/>
                  <a:pt x="2561" y="142"/>
                  <a:pt x="2650" y="76"/>
                </a:cubicBezTo>
                <a:cubicBezTo>
                  <a:pt x="2671" y="61"/>
                  <a:pt x="2693" y="47"/>
                  <a:pt x="2717" y="38"/>
                </a:cubicBezTo>
                <a:cubicBezTo>
                  <a:pt x="2760" y="22"/>
                  <a:pt x="2851" y="0"/>
                  <a:pt x="2851" y="0"/>
                </a:cubicBezTo>
                <a:cubicBezTo>
                  <a:pt x="2874" y="3"/>
                  <a:pt x="2897" y="3"/>
                  <a:pt x="2919" y="9"/>
                </a:cubicBezTo>
                <a:cubicBezTo>
                  <a:pt x="2968" y="23"/>
                  <a:pt x="2944" y="64"/>
                  <a:pt x="2967" y="96"/>
                </a:cubicBezTo>
                <a:cubicBezTo>
                  <a:pt x="2976" y="109"/>
                  <a:pt x="2992" y="115"/>
                  <a:pt x="3005" y="124"/>
                </a:cubicBezTo>
                <a:cubicBezTo>
                  <a:pt x="3041" y="196"/>
                  <a:pt x="3047" y="267"/>
                  <a:pt x="3063" y="345"/>
                </a:cubicBezTo>
                <a:cubicBezTo>
                  <a:pt x="3053" y="572"/>
                  <a:pt x="3048" y="800"/>
                  <a:pt x="3034" y="1027"/>
                </a:cubicBezTo>
                <a:cubicBezTo>
                  <a:pt x="3032" y="1053"/>
                  <a:pt x="3020" y="1078"/>
                  <a:pt x="3015" y="1104"/>
                </a:cubicBezTo>
                <a:cubicBezTo>
                  <a:pt x="2981" y="1298"/>
                  <a:pt x="2955" y="1432"/>
                  <a:pt x="2755" y="1497"/>
                </a:cubicBezTo>
                <a:cubicBezTo>
                  <a:pt x="2648" y="1443"/>
                  <a:pt x="2726" y="1263"/>
                  <a:pt x="2755" y="1171"/>
                </a:cubicBezTo>
                <a:cubicBezTo>
                  <a:pt x="2788" y="1068"/>
                  <a:pt x="2821" y="967"/>
                  <a:pt x="2851" y="864"/>
                </a:cubicBezTo>
                <a:cubicBezTo>
                  <a:pt x="2905" y="676"/>
                  <a:pt x="2938" y="495"/>
                  <a:pt x="3043" y="326"/>
                </a:cubicBezTo>
                <a:cubicBezTo>
                  <a:pt x="3072" y="230"/>
                  <a:pt x="3082" y="232"/>
                  <a:pt x="3082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Osnova je razvijanje učeničkih kompetencija </a:t>
            </a:r>
            <a:r>
              <a:rPr b="1" lang="hr-HR" sz="1400" spc="-1" strike="noStrike">
                <a:solidFill>
                  <a:srgbClr val="ffff00"/>
                </a:solidFill>
                <a:latin typeface="Arial"/>
              </a:rPr>
              <a:t>(Ciljevi obrazovanja u 21. stoljeću, UNESCO; J.Delors, 1998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360" y="4581360"/>
            <a:ext cx="5219640" cy="24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ni ć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čiti uč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čiti čin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čiti b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čiti živjeti i raditi zajed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81440" y="-360"/>
            <a:ext cx="9612360" cy="135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a nekima u sebi sadrži nepomirljivu kontradikciju - “održivost” i “razvoj” suprotstavljene su kategorije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181080" y="4220640"/>
            <a:ext cx="3276720" cy="26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i jedna ga definicija u potpunosti ne opisuje. Sam koncept je maglovit i slož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971640" y="233280"/>
            <a:ext cx="6913440" cy="6624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5-2014 - UN desetljeće obrazovanja za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drživi razvoj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486240"/>
            <a:ext cx="9144000" cy="2043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razovanje za održivi razvoj” priručnik, Azoo i Kulturkontakt Austr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gina Steiner, Forum za obrazovanje za zaštitu okoliša, Umweltbil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ch, P. Rauch, F%Kreis, Obrazovanje za održivi razvoj, Studije o umrežavanju stručnog usavršavanja nastavnika, škole i okoliša, Studienverlag Insb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hilipp Mayring, Uvod u kvalitativna društvena istraživanja, upute o kvalitativnom razmišljanju, Beltz Verlag – Weinheim i Ba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tlichter/Posch, Lehrere erforschen ihren Unterricht, Klink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Za vas priredila:</a:t>
            </a:r>
            <a:br>
              <a:rPr sz="3200"/>
            </a:b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Sanda Mlačić</a:t>
            </a:r>
            <a:br>
              <a:rPr sz="3200"/>
            </a:br>
            <a:r>
              <a:rPr b="1" lang="hr-HR" sz="3200" spc="-1" strike="noStrike">
                <a:solidFill>
                  <a:srgbClr val="ff0000"/>
                </a:solidFill>
                <a:latin typeface="Arial"/>
              </a:rPr>
              <a:t>sanda.mlacic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-252720" y="4941360"/>
            <a:ext cx="9612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0000"/>
                </a:solidFill>
                <a:latin typeface="Arial"/>
              </a:rPr>
              <a:t>Koristeći materijale sa seminara „Odgoj i obrazovanje za održivi razvoj – Inovacije na području obrazovanja nastavnika“ (OOR) autora mag. Regine Steiner i  prof. dr. mag Franz Rad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vala na pozornosti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az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3573360"/>
            <a:ext cx="33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Promjene              - Put k cilju         - Uspon na bolje  - Povećavanje mogućnosti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0" y="1989000"/>
            <a:ext cx="4168800" cy="4394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692280"/>
            <a:ext cx="31687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rživi je razvoj takav razvoj, koji omogućuje zadovoljavanje potreba u sadašnjosti bez ugrožavanja mogućnosti budućih generacija da i one zadovoljavaju svoje potre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vjetska komisija za okoliš i razvoj, 1987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03640" y="1341360"/>
            <a:ext cx="5940360" cy="445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Tri su komponente održivog razvo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329080" cy="863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ospodarst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252720" y="4986000"/>
            <a:ext cx="9396360" cy="1871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Osjetljivost naspram granica, mogućnosti gospodarskoga rasta i njegova utjecaja na društvo i okoliš (i trud oko osobnoga ponašanja u konzumerskom društvu, te uzimanje u obzir ekoloških i gospodarskih posljedica takvoga ponašanj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020000" y="260280"/>
            <a:ext cx="1781280" cy="2232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79280" y="1844640"/>
            <a:ext cx="3456000" cy="29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Što je tu razvoj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24360" y="4192560"/>
            <a:ext cx="5400720" cy="26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laganje u gospodar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aranje novih radnih mj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varanje novih trž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ac koji se obrće i ulaže dal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724360" y="2771640"/>
            <a:ext cx="3419640" cy="2025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8:43:57Z</dcterms:created>
  <dc:creator>sanda</dc:creator>
  <dc:description/>
  <dc:language>en-US</dc:language>
  <cp:lastModifiedBy>mlacic</cp:lastModifiedBy>
  <dcterms:modified xsi:type="dcterms:W3CDTF">2012-01-20T16:03:00Z</dcterms:modified>
  <cp:revision>32</cp:revision>
  <dc:subject/>
  <dc:title>Uvod u održivi razvoj  Regina Steiner FORUM Umweltbildung</dc:title>
</cp:coreProperties>
</file>