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B98A-FC14-4632-80E7-74AD0003A7F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 suradnji Agencije za odgoj i obrazovanje s hrvatskim uredom austrijske udruge za međunarodnu suradnju Kultur-kontakt realiziran je trogodišnji projekt osposobljavanja i usavršavanja multiplikatora ili poučavatelja za obrazovanje za održivi razvoj. Multiplikatori, njih 11, različitih je stručnih sprema i teritorijalne zastupljenosti. Uz  njih educirano je i 5 savjetnica AZOO. Rezvijali su svoj vlastiti projekr (razvojni), na njemu se upoznavali s različitim metodama rada, primjenjivali iskustveno isuradničko učenje. Projekt je sazrijevao uz stalnu analizu, prezentaciju, refleksiju, evaluaciju i tako  se je kod multiplikatora razvijala široka lepeza kompetencija. Vlastiti projekt poslužio je kao konkretan materijal na kome se krivudavim putem razvijale razne kompetencije. </a:t>
            </a: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Timsko mentoriranje, kritički prijatelji!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Cijeli projekt rezultirao je; školskim projektom, zbirkom metodoloških alata, priručnikom, završnom Konferencijom (10 zemalja iz regije i 100 sudionika), Kurikulumom za provedbu budućih edukacija. Pozvati S i R da ispričaju svoje iskustvo! Zašto samo odgoj?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9E05-1786-4E12-BEC6-82B5B52E04B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ojekt je osmišljen s ciljem obogaćivanja stručnog usavršavanja prosvjetnih djelatnika u području obrazovanja za održivi razvoj, u skladu s ciljevima UN-ova Desetljeća obrazovanja za održivi razvoj i Strategijom održivog razvoja Republike Hrvatske, a u kontekstu kurikularnih promjena u hrvatskom obrazovnom sustavu.  Obrazovanju za održivi razvoj pristupa se interdisciplinarno, a opći se ciljevi projekta modificiraju u specifične ciljeve odgojno-obrazovne ustanove.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BC7F-CC9F-45B2-B63A-C6FADC17AF3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 suradnji sa savjetnicama AZOO, multiplikatori moderiraju, odnosno mentoriraju rad malih grupa polaznika, koji tijekom dvogodišnjeg ciklusa edukacije razvijaju vlastiti školski projekt obrazovanja za održivi razvoj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98AD-0E91-4329-B950-31F8820D902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0BB7-F013-400A-8B2A-4693C991E5F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0571-5887-4C44-A79C-57E37A49077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A3D7-711F-4FFE-8C38-0F4726CF98F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2230-C966-44EC-8571-7D05B6B8355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9EE6-FCC6-4921-964F-6667EC56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ADC-6295-4F8D-BD8A-4D1CAFC4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F08-DE5C-425D-A28B-A8F34163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3FB-8BE1-4243-8029-1A734D0A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D16E-A432-4E6C-9D5C-644BC1EC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58B0-0E8B-4BAB-8E40-AE82FE73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76BD-7BA6-442E-8A05-358500F5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E7C1-ED91-483E-BB38-403A7837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2DEF-19DB-4E22-B1CD-3447AA19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4AA9-464C-4179-944A-B15F6161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BF3E-0E87-401A-A075-E05408A6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5A8-0FFD-421B-BC3A-22857C4E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331A-0E98-4E3E-822C-338FB2EC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E678-0AAC-4977-A894-954CDF5E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1AF1-544F-4B2E-B930-9F9E9B0E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9BFE-EBDB-41A7-B45A-9A617DCA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BDE0-F478-4F53-8090-CD59C390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208D6-904C-46FD-AB96-5DCF50A0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D6EA5-D46B-48E0-B342-7015C9BD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F66C4-8FE9-483E-8B0B-144149D3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B3BA-6676-46A9-8B66-578A5A87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F14B1-2F48-4161-8319-27EEDB7E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4998-4BFB-4C71-BFF5-33DA530C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7E39E-0F6E-4325-AFEA-AB8641D7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BF17B-7F11-440F-8086-20C88165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D955E-C8C5-47F0-A9FF-8E38DEEA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C8F96-EA4C-445D-A757-789279D4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076D5-52E1-4CAF-85EE-DA75D0D1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83B44-5F5B-43AE-A8AE-5787215F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2882C-EFDF-4F36-921D-FAA02898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A12C3-9CCC-4A65-BC71-9781128A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A121B-0B5E-4119-B9C3-64DD7E61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1A517-1A6A-4422-A7B8-D2A00D51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5903-44CD-4322-8765-9C7C1CE5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10887-436A-4AC2-8008-2A563957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06A18-9D4B-4BA5-93BF-057E9355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429F8-6C60-4325-888F-B2043692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EC119-3166-4908-88A2-34B1CAAF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247D0-55E0-4DBC-AFD9-27704522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806C5-23E0-43CE-984B-235AC74C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737CF-6F17-48B7-AF2C-125CF725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93939-B81B-4328-A57F-F3BDB94B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CCAFE-7E91-4D38-A3A0-52EC7FF8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E5DFE-9E95-4836-8C62-A82E8F99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3AA-1777-40F0-A5B0-DB1DCA6F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61115-CFD5-452B-A7E2-C607EC9A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DD05E-0E65-4C04-9014-990E44A4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FBFE9-24B6-47BE-B08D-B6EE9B54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A9EB8-C6DA-4BB1-A4C1-4194D9D2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1A47C-C4E1-4FDC-9B6F-6BD0B847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23AC8-82BD-4755-88D8-5C0EC0CB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7BFEB-C783-4058-91CA-9906E8D0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32441-DB3E-497B-84F8-07B868A5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3C692-6AE9-4BA3-8C33-F82B2275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CEDC2-4E3B-463F-B75B-35910031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2FC-71C2-4BE8-9F57-3F9122B6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16CB4-84DC-4AF0-9443-B2755524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32BD0-7763-40BE-AA0E-12385069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5CB0E-AEED-490F-AEEF-C0997752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C4B1C-D8DB-469D-9DBD-D12F89A6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788C4-8326-4866-A924-43E4601F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09F5C-D2A0-47A0-BA52-F9E4D153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A1C30-D1D6-4314-A854-B44F8554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7CE75-328A-4B94-BFF1-BFF8DCEF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86C08-895A-4528-8ADB-D616600F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7166E-2472-4655-8F3A-E8AE52D6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5E4-57ED-4CD0-93A7-27C035BA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5A74B-A1A1-4728-9504-0E85BD58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D46AB-1856-444C-AF2E-ED221387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B72DD-A999-4D1F-8489-546CC40F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19486-3360-4305-84D7-BD245ADA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FF0E1-F263-42A1-80E8-085F9A28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DEE2E-5C9C-48D5-9DB5-DA3037D8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73C7A-BC6E-43CC-8683-011A3361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AC7C6-16DB-44EA-B976-0601880E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13F55-5271-4370-B055-AC3667A4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4C865-C8D0-435F-A110-6AFB2AF9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C50-36FD-4D37-BBD0-E8B41EE7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21108-D3CD-472A-8D04-9D92747C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B4F8F-0AEC-4C8A-B280-44DBD8E8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824F6-AE2B-4530-AD5C-CA12C939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89F92-FCE8-465F-BB61-82DD1827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C82ED-FEB7-4A50-A023-62153081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5375E-6138-4CC7-8157-DB460DA4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A8665-1458-4DDB-88C9-1A886146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45916-7AA2-46DD-9489-A53D2DDC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A0111-8BC5-42F9-8D01-A940836A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6B33C-86E1-4084-A265-E7C53C19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7A2-E87F-4E18-ABB1-5992480F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8D8C1-5545-4839-9A86-ADF13F76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8E33E-5C8E-45E4-A593-6D35E389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94B8E-6DA4-4B91-901D-AB43D39C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0FC3F-AE33-4183-978C-699E591A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6649F-5151-49B5-AA23-6A3302E1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87617-D7BB-4B21-AD4B-FB4A0BDA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EFB31-ACE1-4FC4-9CBC-FA8F6767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48D7-BE7B-4FE6-8C20-E1DAFBF924EA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F343-1DF6-40D2-ADD5-4B7D32D8A644}" type="slidenum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5CFB-F1B2-4E6E-96CF-99C0855E052A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A2A1-0988-437C-97ED-24A05C7A74C8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FFEE-8FCA-4058-9A12-6CCFBC408F57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EC45-3B8F-4BBA-9D79-CACD930DEA9F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2EA7-C2D8-4B31-889F-6313BA1B921F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025E-F927-4D9D-A4DB-5BC6075F7F4C}" type="slidenum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536400" y="1603440"/>
            <a:ext cx="8406000" cy="21333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7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6840" y="1480680"/>
            <a:ext cx="8435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  <a:ea typeface="Calibri"/>
              </a:rPr>
              <a:t>obogaćivanje stručnog usavršavanja prosvjetnih djelatnika u području obrazovanja za održivi razvoj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  <a:ea typeface="Calibri"/>
              </a:rPr>
              <a:t>(UN-Desetljeće obrazovanja za održivi razvoj;  Strategija održivog razvoja Republike Hrvatske; kurikularne promjena u hrvatskom obrazovnom sustavu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  <a:ea typeface="Calibri"/>
              </a:rPr>
              <a:t>potpora intredisciplinarnom pristupu i interdisciplinarnim aktivnostima na području obrazovanja za održivi razvoj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  <a:ea typeface="Calibri"/>
              </a:rPr>
              <a:t>razvijanje kompetencija potrebnih za kvalitetno planiranje i vodenje akcijskog istraživanja, odnosno projekta OO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  <a:ea typeface="Calibri"/>
              </a:rPr>
              <a:t>poticaj za unaprjeđenje suradnje između škola te suradnje škola sa školskim okruženjem u aktivnostima vezanim za O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195120" y="244440"/>
            <a:ext cx="84981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multiplikator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avjetnice AZO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20-25 prosvjetnih radnika različitih struka (četiri regije u RH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šest jednodnevnih modula tijekom dvije godine (3+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dvogodišnje razvijanje vlastitog školskog projekta s krovnom temom O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Modul 1: Pojam održivog razvoja i promišljanje o potrebnim kompetencij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Modul 2: Kriteriji kvalitete u obrazovanju za održivi razvoj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Modul 3: Idejna razrada vlastitog projek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Modul 4: Razvoj školskih projekata, refleksije uz praćen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Modul 5: Evaluacija školskih projek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Modul 6: Kompetencije u obrazovanju za održivi razvoj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Lucida Sans Unicode"/>
              </a:rPr>
              <a:t>Ciljevi modula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Lucida Sans Unicode"/>
              </a:rPr>
              <a:t>upoznati i znati odrediti kriterije po kojima prosuđujemo o održivosti nekog prijek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Lucida Sans Unicode"/>
              </a:rPr>
              <a:t>odrediti kompetencije učenika koje se razvijaju kroz OOR i potrebne kompetencije učitelja/nastavnika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Lucida Sans Unicode"/>
              </a:rPr>
              <a:t>revidirati stanje u vlastitoj sredini, odabrati načine i odlučiti se za djelovanje na novom projektu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Lucida Sans Unicode"/>
              </a:rPr>
              <a:t>isplanirati inicijalne aktivnosti, procijeniti ih i kategorizirati prema imenovanim kriterijima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96840" y="-146160"/>
            <a:ext cx="84614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195560" y="-6480"/>
            <a:ext cx="8302320" cy="573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1187280" y="47592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9.30 – 10.00 Upoznavanje i predstavljanje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10.00 – 10.15 Predstavljanje projekta, plana i program seminara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10.15 – 10.25 Očekivanja i pretpostavk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10.25 – 12.00 Određivanje kriterija kvalitete projekta održivog razvoja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12.00 – 12.40 Stanka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12.40 – 12.55 Uvod u održivi razvoj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12.55 – 13.40 Određivanje kompetencija nastavnika nositelja projekta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13.40 – 14.25 Osvještavanje kompetencija učenika koje će se razvijati kroz rad na projektu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14,25 - 14,40 Stanka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14.40 – 14.50 Samoevaluacija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14.50 – 15.20 Održivi razvoj –teme i kompetencij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15.20 – 15.35 Određivanje i planiranje budućeg projekta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15.35 – 15.45 Evaluacija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</a:t>
            </a: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1. Poznavanje tematike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razumijevanje širine i kompleksnosti koncepta održivog razvoja (okoliš, društvo, gospodarstvo)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poznavanje kompetencija koje OOR treba razviti kod učenika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poznavanje osnova znanosti/ znanstvenih objašnjenja i znanstve­nih načela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2. Empatija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sposobnost razumijevanja osjećaja drugih, uživljavanje u tuđe osjećaje s ciljem postizanja obostrana pozitivnoga osobnog stava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3. Spremnost na suradnju – timski rad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pozitivan odnos prema suradnicima i radu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sposobnost slušanja suradnika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spremnost na dogovor i držanje dogovora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interdisciplinarni pristup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4. Kreativnost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pronalaženje novih ideja, spoznaja, rješenja, metoda u sasvim no­vim, neuobičajenim, nemogućim uvjetima i nepredvidivim situ­acijama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5. Motiviranost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posjedovanje vizije, opredjeljenja, entuzijazma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spremnost na stručno usavršavanje i profesionalni razvoj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upornost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Lucida Sans Unicode"/>
              </a:rPr>
              <a:t>6. Organizacijske vještine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vještina planiranja, sposobnost poticanja, organiziranja i vođenja učenika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298440" y="219240"/>
            <a:ext cx="83948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3:28:36Z</dcterms:created>
  <dc:creator>bsmojver</dc:creator>
  <dc:description/>
  <dc:language>en-US</dc:language>
  <cp:lastModifiedBy>Marina</cp:lastModifiedBy>
  <dcterms:modified xsi:type="dcterms:W3CDTF">2012-01-11T23:45:35Z</dcterms:modified>
  <cp:revision>26</cp:revision>
  <dc:subject/>
  <dc:title>Obrazovanje za održivi razvoj</dc:title>
</cp:coreProperties>
</file>