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dt" idx="6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 type="ftr" idx="6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 type="sldNum" idx="6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CA0B-1417-4F21-A943-3E34B4D60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3528-3C46-4DA9-A2E5-4FE725AA3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B9B5-350E-4C9D-B248-1667D29F9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F1389-5962-4834-81BB-55E478DE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C11AF-EDD8-4991-8B35-81BB919C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DDEEB-4786-4995-8AF4-6D49E801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088A9-03B1-4C26-893A-4189F3A1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29822-0DF2-48F2-96EB-39241B64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DA906-A93D-4017-ABF9-B3E860BD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4788E-61DE-4CC9-B24A-702D941D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D897B-8131-476E-94D0-483A2F46B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3734B-52EF-40FF-B63C-08252A40E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7F771-86D5-4704-8F15-8DBA574B2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642FA-D7D4-4CE9-87CB-38B66C29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3157A-36DE-49A4-A4A8-B7C40F96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D5EB0-490C-45DF-A7FD-17E1A019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F1467-22EC-4EAE-96F2-D08C134A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65DE6-98E2-467F-B013-3D28D1C9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C57FB-5B1E-40EC-A551-C5803EEF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FA82C-D814-4311-AB8D-950EB92A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8E609-DC64-42FD-85E7-BA7A2CA2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A046C-DDDF-47B3-8F9F-4D423415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AA455-D5BE-4248-85C8-6F23044E8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2041A-AA3E-40F6-BC9E-8E8A76A93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3DC03-B305-4B1C-B46A-B1CD422FD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AAAD4-74CB-4A22-AA9E-8DD9A127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1DBB1-F196-424F-AE50-954C2AE1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FC4D8-22F5-468E-A4D5-863D6D4A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A0A02-DED1-4BE1-AA5D-E4A124FE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F4361-B084-41A7-86CE-D5F39444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0D01E-BEBD-4D78-BC9A-9763DF9C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5F182-3B4B-47C9-9C8E-430AEE23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88699-6BA8-46AA-8C79-B1C6A887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F5E50-111D-47E2-A709-3D7A2B5C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20C15-8692-4365-AC5F-B37F31D05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20C52-CD0B-4721-A161-8C4C581C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56774A-4FA8-470A-98E8-664BBF2A7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2803AF-5513-4BD0-876B-CA9005CC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9B243-963C-4FFB-8015-12BC4D28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279B8-A202-434A-A6B5-9FE79F31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FA6BA-134D-44AB-ADBC-5915A1E7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376AE-AFA3-4439-879F-79F7477D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5CE71-C8EF-4BBC-88D6-42629D1A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77203-9DAB-44DD-8BB0-21EA1D78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32D217-5211-40BB-B5E6-78BA2F9F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923D4-2B5D-4FD3-86F8-AC77D348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84393-DC07-45A6-8E2C-9002FB2BF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43007A-74D4-4664-B1DC-2FDD12BFB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F0822A-B1C5-4BB3-8808-12B50776E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6994A6-D8B6-469A-A742-D4DE1EB7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540010-5AEF-47F3-B159-3EB23F82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0EDBD-12EA-4004-8044-BD7E8463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75E63D-8A67-4513-977E-2119E058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01ED7-7D61-4C8A-ABC0-F30778AB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866902-8930-4B84-BC1A-CE7D50DD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B67D6-07AD-47E3-ABF0-7E82CF4C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1C6C88-F2AF-4716-BEE5-1C9D6F09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1AE892-4E7D-4928-9D01-687780F7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6F4809-533C-4ABD-9130-4ACC119A2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AB7A6E-A232-4933-8570-B9B04917B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A7376-308F-4B28-88FD-7072977B0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51B03-7E2D-4151-9888-67988A88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96E47-8F90-4CF3-86D8-D85370CD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B1D47-A7B9-424B-A015-F344D500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A656A-D6B7-4C7B-B966-4A9DD7A8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AB81A-44EF-4A40-ADA6-2F3D0A6E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761B5-01D5-4766-9E1F-8713C3AF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13B18-5B3B-4389-A54B-DEDBF544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E288A-7718-4B38-9833-5FDC6070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DA8BF-7A09-47ED-ACB3-7CC34488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BC7B9-80B9-4AF1-AD2E-C399260F3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23815-22C2-4B8D-9B4C-EF34894A6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4A406-08DA-451D-AA6E-7D66EDF5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CE19E9-C063-4E63-B906-69BF9C60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569FC4-9254-4CBC-9E0C-526E46D3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DD8F12-0BC3-41AB-8A64-A3493527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BE7EC-3AD3-498D-9DDB-7F4E4AD2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16C617-B94F-42C4-AEB1-173C7FC8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6EA46-E62E-43AE-8F8B-22CC70E9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8E16C2-5B04-4D58-B9C5-514FFEFD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FABF5A-0C6B-4509-B8C8-2623157F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C71E3-EFD7-43CB-8B11-648AB957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D00276-A37B-4620-8DC5-4392875F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BC30F6-496E-480D-BC3C-F22733A9F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9973B7-7047-4F87-9885-86C0CF77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92A38D-7980-4C39-A6B1-E6587C9C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BD73C3-A0E4-4991-954B-1554D5AC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2FABAB-26E9-4A26-936C-6C17CAF5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1F779F-D786-475D-85A2-5CA8929E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F792EF-82BD-425A-A337-B24D6B7E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358B25-26A8-41FB-BDA5-732A5C00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92B07B-4311-4579-9E54-AA89D141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FC3A0D-0380-4752-88DA-F6049CC2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EA744E-C9C4-4258-B5CD-74610FA7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B14758-5A47-4DE2-A873-A70F51077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68E0B4-8EEC-4B32-AF40-5E819B849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E77039-5CE7-465C-AA11-D44A33644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0C7F09-98C3-4F84-A8AA-84B4A3F0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6D26BA-CFC4-4074-AF1C-95D6E468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0CB8F1-80F8-4DEA-A986-6D4E3890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F1D86D-7461-46F0-A325-EE49F3F0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B9F341-869A-43C0-91FC-7F0C686E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C9FD7F-692E-4B40-B219-D5F6D2DF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A310FE-7733-4F2E-8EEA-06B987D9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99D99D-8264-4729-8EBC-A49E8B7E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989714-B52A-4F9E-832A-413CD1FD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043756-8815-424B-A5BC-6180D6CAC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56C0CB-859D-4653-912C-FFD737821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6F62DE-E016-4454-8260-DDB6466AD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ADC153-6BD3-4E50-90EA-5DF8AD15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E0D03E-C082-41B8-ACA0-7DCE6477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F55544-510F-4059-843A-35979250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F783B2-2430-4AF4-AC78-1AEC7461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3723FE-FBC9-4649-84DF-5503C594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82D54C-7BF1-4342-9162-3E7C2A8C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72FE6E-CEA2-45FB-8EEA-492AB772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BD909B-4F4F-4398-A82C-18D9A715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783865-B345-4065-94F7-7DDD8A5A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89ECEE-149F-49EC-AF52-CD363C7F8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5BE168-D62F-4CE3-B44C-4E6D356E6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6F6F32-33F4-458F-886A-D387F2C4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2CE49D-FA2B-4C07-AE96-6BEB8ED3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4ACF02-3654-4571-840D-23143FEC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F793B5-386B-4B5D-84EB-CE577323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E33604-A510-40C8-852C-0CE9214E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768FE4-0FDC-4B11-947F-FB602F9E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141C08-44DB-42C0-9D85-F8433E10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A6DA63-E002-4BB9-B301-08FF98EA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FAAB6D-80F9-4272-ABE8-90492199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B7DCDC-1CA3-4FEE-8A39-447E895C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221ED0-92B0-41BE-AF28-F7DD7EA1A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A0CDEE-E2B7-46B7-AC81-33ABB41C1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59589D-0B5D-4C30-9BAD-48DDC7B73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9C9222-5A58-45AF-85C7-F379F07B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B75E16-DF56-45E9-B648-BE5E925D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9FD094-800E-4FB5-8043-C67059EE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AB5969-653B-42D9-8B33-45228177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C46D81-CB09-4A8C-AF2E-A34CE8CA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C063E4-2B95-4E23-B84A-90F3C7B2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7E5BEC-31AF-4E05-9353-4BF94009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517BA3-A802-4531-A65A-08B960BF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E43562-4993-4E1B-8D79-90282DD9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B691AC-6E02-4800-94B1-B4CD50A07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C3042F-EEC7-4C75-8415-B6B2DA79A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20BCA3-3AA0-4A89-BB6D-88FEED84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C81955-62A1-4B6B-BB74-4964A6E5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91F061-6017-426A-9298-1BDD716F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2B895F-9996-4627-95A1-A26622C2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6D251C-4985-4845-860E-543927E1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8C719E-D09E-4B8F-B7DD-9CA738B8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91A9F8-F6B8-474C-8A7F-0144B24F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A0B49A-38CC-4D9C-8CEA-6FBDF321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8C1F52-EEFD-4FEE-927C-700D82CD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3AEF43-3A17-45BE-83FA-05B32BEA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EC3F71-F9F8-4655-9382-66E9D04CA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DE3E42-12EA-41BD-A926-F1F92D570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A17BB0-3986-4833-B5B3-2A3030C30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5D1BBB-A45F-4749-9667-669040CE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811973-4452-480B-92FD-8FDD82FE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EA0120-36B1-4D17-AC23-8D74B979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550E98-C7E9-4507-A30C-3959051E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DA7C55-F2B9-45AA-869E-2A159A71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743C83-073F-48C0-9481-3A269C88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6C2751-78BF-49F0-8232-612E2CCA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8A35D7-B56B-4EF4-8627-53F309AD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FB70FA-23C0-4CC5-AB20-D7ED9601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D2C2A2-8AD0-46B0-87C4-2ACC8EC20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763B40-674A-4B28-AB17-D9E8C07B0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FDACA8-8B1A-4CD8-BA10-28A206F89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16607D-ECC7-4121-8267-D121C4CC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2E6C3F-FC6D-4F1E-A56E-D24B4EE9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8E17A9-F12C-4CB0-A22A-EDEE6EB8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8BD564-8BE5-4169-ABE7-C647AE27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7F7444-8D5B-4E69-BDEC-1FAB4B44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8308D3-020A-4119-ACF8-66994AAE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3BE8BD-0AE0-47EF-BAFE-F7F068CC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14FED8-23B4-484B-BF0F-2F8CF688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E5B52D-EF64-47EF-83D3-32D8B7D8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894664-F654-4D9C-8073-4C5E4FAB8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E22151-5870-4B1E-8BB3-D45C12BE6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379964-621D-47B2-9D53-0B2681C24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1DFE77-BFEF-4C79-AACB-387C926C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957556-490C-4535-A613-63C1E3E4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D28B04-34EA-49A5-AD59-F1126ACE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0410A3-5A1D-4264-8AE4-C866486D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FBDB0C-AF31-4FF5-A55C-1B9EF90F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80552F-66AF-4D1B-AD89-EB5EBBC4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FC6F34-28DB-487D-9038-18963F4A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9860B1-7485-4F4E-817E-171630FD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593902-9FA9-4007-9227-F364E6D0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8098FC-C056-4B45-9284-64C3307E8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D1BE6F-BE38-47A8-A954-C28839F6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370B-A006-4692-A3A5-34F16FB6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0EA8-B240-4F62-AF05-B5868AD8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A4A4-F9B5-41DB-87AB-9006C0B6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E207-8346-46A1-A47A-884C1B2D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4136-BC1F-4C49-88C5-887E9CEC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58D6-FE05-4090-9022-BEF6A660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B841-2DB0-4D78-8D2F-1B31A777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DBC0-BC2E-4B54-BAD8-0A96CC71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C34F-0BB5-42BB-9188-4431E406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4C44-911E-4BEC-B157-CBEC8C54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191D-FB9F-407F-839B-DF639062C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C5A2-5BEB-4E34-B45E-24318D6B5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B4CB-B5D3-4CFF-B823-0BAA88E76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558B-A121-45A7-9830-C035765C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6289-F513-44FC-9322-A17008E9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4ADE-555A-4662-9378-26D16A1E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1F15-238A-4B92-859D-BC4047A6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DDE9-3360-4ADF-9AEC-B16CCEC3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ED0C-9BB1-4449-86BE-49735F67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80A2-D16F-4F46-B20A-BB192D23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211E-84AA-46D7-A7B4-FE351F24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195C-EBD6-4751-AE21-6A0B936D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5F73-EEC3-4974-B062-8A10F8DED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6A76-6E4A-4314-B753-9CDBF6FD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13205-9D2F-4026-8AC4-B3F36CAC5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F155A-39A1-456A-910E-47F75A81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FBB10-4FE2-429E-B29C-A05322FF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52A10-AB83-4C71-B01E-7FDF3824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94AFD-C422-468E-BF95-E1FA1D81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5D8B8-78E8-43BA-BB25-38D86A42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3CCDA-DF30-461C-AF69-5A3C903C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FD528-2B77-4A5F-89A3-304465D9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EBE40-5D1D-4DC7-99D8-DC0D9B09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B467A-7494-4AE4-AFC2-097F9844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83060-3C1A-446E-99BC-56D8EC906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9C220-7C6E-4CCF-9F85-3B3532429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EB6FC-7742-49D8-A650-EBC8C4041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DE9C2-8864-4092-9FAD-ABAC9C41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482DB-A2E9-4A75-8034-0C02B3FF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14086-7024-4555-86F5-34E80183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756C4-AA48-4780-AF7B-A33A803E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B0061-A7D6-490E-9BD6-A0D9323E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09A68-F6BB-4AAA-8FAF-47336F57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2C47D-2221-42BD-8125-282ACA1B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BC1CB-FB77-4223-9CD1-6D129218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D97B7-FB34-4842-ABB4-DD9A908C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AC4F5-4D5E-4F38-B009-B82786526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096B3-02EA-48A7-BD26-DB1A6DF5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49532-9ABF-4EAB-9EEE-73AB3718D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4C44B-80C6-4F0D-814D-43641F49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C082D-1028-4414-877C-6A1B51B7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0231F-0298-40DD-88E3-90BB7CDB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65657-EE44-4143-A4C5-A23E867A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344C8-1A0B-4BA5-B700-529D7FFC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303A6-F640-4499-B33C-67FF7F36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B7D1F-0EC3-44AC-BB21-3026B6C8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3680F-026A-438F-81CD-95FD75F2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F7512-44F9-4813-A091-9D34470E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B9AAE-7F76-44EA-A286-6D7E3D44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91D18-ACBD-4CF7-A44C-6DECA8CE8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A25BB-4788-4A5E-A97E-89FCD368F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6A62B-C509-431B-B97C-8F1EF487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168F8-C764-4F38-BB14-587CE90B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1" name="Rounded Rectangle 7"/>
          <p:cNvGrpSpPr/>
          <p:nvPr/>
        </p:nvGrpSpPr>
        <p:grpSpPr>
          <a:xfrm>
            <a:off x="-60480" y="1182600"/>
            <a:ext cx="7479000" cy="328680"/>
            <a:chOff x="-60480" y="1182600"/>
            <a:chExt cx="7479000" cy="328680"/>
          </a:xfrm>
        </p:grpSpPr>
        <p:pic>
          <p:nvPicPr>
            <p:cNvPr id="2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82600"/>
              <a:ext cx="74790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" name="Picture 5" descr="AZOO1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397" name="Rounded Rectangle 7"/>
          <p:cNvGrpSpPr/>
          <p:nvPr/>
        </p:nvGrpSpPr>
        <p:grpSpPr>
          <a:xfrm>
            <a:off x="-60480" y="1182600"/>
            <a:ext cx="7479000" cy="328680"/>
            <a:chOff x="-60480" y="1182600"/>
            <a:chExt cx="7479000" cy="328680"/>
          </a:xfrm>
        </p:grpSpPr>
        <p:pic>
          <p:nvPicPr>
            <p:cNvPr id="39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82600"/>
              <a:ext cx="74790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E4B2-BB44-4982-B742-CC11E2F2E7C4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442" name="Rounded Rectangle 7"/>
          <p:cNvGrpSpPr/>
          <p:nvPr/>
        </p:nvGrpSpPr>
        <p:grpSpPr>
          <a:xfrm>
            <a:off x="-60480" y="1182600"/>
            <a:ext cx="7479000" cy="328680"/>
            <a:chOff x="-60480" y="1182600"/>
            <a:chExt cx="7479000" cy="328680"/>
          </a:xfrm>
        </p:grpSpPr>
        <p:pic>
          <p:nvPicPr>
            <p:cNvPr id="44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82600"/>
              <a:ext cx="74790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1AC0-557F-48C1-8438-10E956D45A19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487" name="Rounded Rectangle 7"/>
          <p:cNvGrpSpPr/>
          <p:nvPr/>
        </p:nvGrpSpPr>
        <p:grpSpPr>
          <a:xfrm>
            <a:off x="-60480" y="1182600"/>
            <a:ext cx="7479000" cy="328680"/>
            <a:chOff x="-60480" y="1182600"/>
            <a:chExt cx="7479000" cy="328680"/>
          </a:xfrm>
        </p:grpSpPr>
        <p:pic>
          <p:nvPicPr>
            <p:cNvPr id="48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82600"/>
              <a:ext cx="74790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9CDB-3283-4CE9-BF82-A2196591F631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2" name="Rounded Rectangle 7"/>
          <p:cNvGrpSpPr/>
          <p:nvPr/>
        </p:nvGrpSpPr>
        <p:grpSpPr>
          <a:xfrm>
            <a:off x="-60480" y="6613560"/>
            <a:ext cx="6405840" cy="330120"/>
            <a:chOff x="-60480" y="6613560"/>
            <a:chExt cx="6405840" cy="330120"/>
          </a:xfrm>
        </p:grpSpPr>
        <p:pic>
          <p:nvPicPr>
            <p:cNvPr id="53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13560"/>
              <a:ext cx="6405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D7B6-011D-4323-9350-BF78BAC2CC8A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6" name="Rounded Rectangle 7"/>
          <p:cNvGrpSpPr/>
          <p:nvPr/>
        </p:nvGrpSpPr>
        <p:grpSpPr>
          <a:xfrm>
            <a:off x="-60480" y="6613560"/>
            <a:ext cx="6405840" cy="330120"/>
            <a:chOff x="-60480" y="6613560"/>
            <a:chExt cx="6405840" cy="330120"/>
          </a:xfrm>
        </p:grpSpPr>
        <p:pic>
          <p:nvPicPr>
            <p:cNvPr id="577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13560"/>
              <a:ext cx="6405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1B5D-F02E-4B3C-A9E0-207D7DA70BEB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0" name="Rounded Rectangle 7"/>
          <p:cNvGrpSpPr/>
          <p:nvPr/>
        </p:nvGrpSpPr>
        <p:grpSpPr>
          <a:xfrm>
            <a:off x="-60480" y="6613560"/>
            <a:ext cx="6405840" cy="330120"/>
            <a:chOff x="-60480" y="6613560"/>
            <a:chExt cx="6405840" cy="330120"/>
          </a:xfrm>
        </p:grpSpPr>
        <p:pic>
          <p:nvPicPr>
            <p:cNvPr id="621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13560"/>
              <a:ext cx="6405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C6B1-6F38-4996-BA0D-5EE79772AB6C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64" name="Rounded Rectangle 7"/>
          <p:cNvGrpSpPr/>
          <p:nvPr/>
        </p:nvGrpSpPr>
        <p:grpSpPr>
          <a:xfrm>
            <a:off x="-60480" y="6613560"/>
            <a:ext cx="6405840" cy="330120"/>
            <a:chOff x="-60480" y="6613560"/>
            <a:chExt cx="6405840" cy="330120"/>
          </a:xfrm>
        </p:grpSpPr>
        <p:pic>
          <p:nvPicPr>
            <p:cNvPr id="665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13560"/>
              <a:ext cx="6405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4BB0-14D1-4ADA-B878-E2CD30169D7D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08" name="Rounded Rectangle 7"/>
          <p:cNvGrpSpPr/>
          <p:nvPr/>
        </p:nvGrpSpPr>
        <p:grpSpPr>
          <a:xfrm>
            <a:off x="-60480" y="6613560"/>
            <a:ext cx="6405840" cy="330120"/>
            <a:chOff x="-60480" y="6613560"/>
            <a:chExt cx="6405840" cy="330120"/>
          </a:xfrm>
        </p:grpSpPr>
        <p:pic>
          <p:nvPicPr>
            <p:cNvPr id="709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13560"/>
              <a:ext cx="6405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CB66-B186-44A6-8C4E-62FF0ABDF5C4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2" name="Rounded Rectangle 7"/>
          <p:cNvGrpSpPr/>
          <p:nvPr/>
        </p:nvGrpSpPr>
        <p:grpSpPr>
          <a:xfrm>
            <a:off x="-60480" y="6613560"/>
            <a:ext cx="6405840" cy="330120"/>
            <a:chOff x="-60480" y="6613560"/>
            <a:chExt cx="6405840" cy="330120"/>
          </a:xfrm>
        </p:grpSpPr>
        <p:pic>
          <p:nvPicPr>
            <p:cNvPr id="75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13560"/>
              <a:ext cx="6405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415B-D595-4222-8239-506FE8660DAA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6" name="Rounded Rectangle 7"/>
          <p:cNvGrpSpPr/>
          <p:nvPr/>
        </p:nvGrpSpPr>
        <p:grpSpPr>
          <a:xfrm>
            <a:off x="-60480" y="6613560"/>
            <a:ext cx="6405840" cy="330120"/>
            <a:chOff x="-60480" y="6613560"/>
            <a:chExt cx="6405840" cy="330120"/>
          </a:xfrm>
        </p:grpSpPr>
        <p:pic>
          <p:nvPicPr>
            <p:cNvPr id="797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13560"/>
              <a:ext cx="6405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F1D8-26BF-41DF-8FB2-AC3E6992509A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Rounded Rectangle 7"/>
          <p:cNvGrpSpPr/>
          <p:nvPr/>
        </p:nvGrpSpPr>
        <p:grpSpPr>
          <a:xfrm>
            <a:off x="-60480" y="1182600"/>
            <a:ext cx="7479000" cy="328680"/>
            <a:chOff x="-60480" y="1182600"/>
            <a:chExt cx="7479000" cy="328680"/>
          </a:xfrm>
        </p:grpSpPr>
        <p:pic>
          <p:nvPicPr>
            <p:cNvPr id="47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82600"/>
              <a:ext cx="74790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40" name="Rounded Rectangle 7"/>
          <p:cNvGrpSpPr/>
          <p:nvPr/>
        </p:nvGrpSpPr>
        <p:grpSpPr>
          <a:xfrm>
            <a:off x="-60480" y="6613560"/>
            <a:ext cx="6405840" cy="330120"/>
            <a:chOff x="-60480" y="6613560"/>
            <a:chExt cx="6405840" cy="330120"/>
          </a:xfrm>
        </p:grpSpPr>
        <p:pic>
          <p:nvPicPr>
            <p:cNvPr id="841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13560"/>
              <a:ext cx="6405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2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5AE2-2EAC-4EEB-9424-46510F937C59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84" name="Rounded Rectangle 7"/>
          <p:cNvGrpSpPr/>
          <p:nvPr/>
        </p:nvGrpSpPr>
        <p:grpSpPr>
          <a:xfrm>
            <a:off x="-60480" y="6613560"/>
            <a:ext cx="6405840" cy="330120"/>
            <a:chOff x="-60480" y="6613560"/>
            <a:chExt cx="6405840" cy="330120"/>
          </a:xfrm>
        </p:grpSpPr>
        <p:pic>
          <p:nvPicPr>
            <p:cNvPr id="885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13560"/>
              <a:ext cx="6405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55C0-A855-4A03-9338-D41A60DDE869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28" name="Rounded Rectangle 7"/>
          <p:cNvGrpSpPr/>
          <p:nvPr/>
        </p:nvGrpSpPr>
        <p:grpSpPr>
          <a:xfrm>
            <a:off x="-60480" y="6613560"/>
            <a:ext cx="6405840" cy="330120"/>
            <a:chOff x="-60480" y="6613560"/>
            <a:chExt cx="6405840" cy="330120"/>
          </a:xfrm>
        </p:grpSpPr>
        <p:pic>
          <p:nvPicPr>
            <p:cNvPr id="929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13560"/>
              <a:ext cx="6405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762D-34F2-4A87-8C68-274153988698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72" name="Rounded Rectangle 7"/>
          <p:cNvGrpSpPr/>
          <p:nvPr/>
        </p:nvGrpSpPr>
        <p:grpSpPr>
          <a:xfrm>
            <a:off x="-60480" y="6613560"/>
            <a:ext cx="6405840" cy="330120"/>
            <a:chOff x="-60480" y="6613560"/>
            <a:chExt cx="6405840" cy="330120"/>
          </a:xfrm>
        </p:grpSpPr>
        <p:pic>
          <p:nvPicPr>
            <p:cNvPr id="97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13560"/>
              <a:ext cx="6405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4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70F5-D173-4AA9-8CBD-A364F185F8B3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A3A9-6287-4E91-B507-6DBE239CDC1B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grpSp>
        <p:nvGrpSpPr>
          <p:cNvPr id="87" name="Rounded Rectangle 7"/>
          <p:cNvGrpSpPr/>
          <p:nvPr/>
        </p:nvGrpSpPr>
        <p:grpSpPr>
          <a:xfrm>
            <a:off x="-60480" y="6613560"/>
            <a:ext cx="6405840" cy="330120"/>
            <a:chOff x="-60480" y="6613560"/>
            <a:chExt cx="6405840" cy="330120"/>
          </a:xfrm>
        </p:grpSpPr>
        <p:pic>
          <p:nvPicPr>
            <p:cNvPr id="8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13560"/>
              <a:ext cx="6405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127" name="Rounded Rectangle 7"/>
          <p:cNvGrpSpPr/>
          <p:nvPr/>
        </p:nvGrpSpPr>
        <p:grpSpPr>
          <a:xfrm>
            <a:off x="-60480" y="1182600"/>
            <a:ext cx="7479000" cy="328680"/>
            <a:chOff x="-60480" y="1182600"/>
            <a:chExt cx="7479000" cy="328680"/>
          </a:xfrm>
        </p:grpSpPr>
        <p:pic>
          <p:nvPicPr>
            <p:cNvPr id="12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82600"/>
              <a:ext cx="74790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E657-0771-4D23-908A-C492E8182B80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172" name="Rounded Rectangle 7"/>
          <p:cNvGrpSpPr/>
          <p:nvPr/>
        </p:nvGrpSpPr>
        <p:grpSpPr>
          <a:xfrm>
            <a:off x="-60480" y="1182600"/>
            <a:ext cx="7479000" cy="328680"/>
            <a:chOff x="-60480" y="1182600"/>
            <a:chExt cx="7479000" cy="328680"/>
          </a:xfrm>
        </p:grpSpPr>
        <p:pic>
          <p:nvPicPr>
            <p:cNvPr id="17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82600"/>
              <a:ext cx="74790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FC47-65FC-47D9-8B1A-F536F363E1A3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217" name="Rounded Rectangle 7"/>
          <p:cNvGrpSpPr/>
          <p:nvPr/>
        </p:nvGrpSpPr>
        <p:grpSpPr>
          <a:xfrm>
            <a:off x="-60480" y="1182600"/>
            <a:ext cx="7479000" cy="328680"/>
            <a:chOff x="-60480" y="1182600"/>
            <a:chExt cx="7479000" cy="328680"/>
          </a:xfrm>
        </p:grpSpPr>
        <p:pic>
          <p:nvPicPr>
            <p:cNvPr id="21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82600"/>
              <a:ext cx="74790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4D4B-0229-4356-8ED2-C38F43D1E8F7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262" name="Rounded Rectangle 7"/>
          <p:cNvGrpSpPr/>
          <p:nvPr/>
        </p:nvGrpSpPr>
        <p:grpSpPr>
          <a:xfrm>
            <a:off x="-60480" y="1182600"/>
            <a:ext cx="7479000" cy="328680"/>
            <a:chOff x="-60480" y="1182600"/>
            <a:chExt cx="7479000" cy="328680"/>
          </a:xfrm>
        </p:grpSpPr>
        <p:pic>
          <p:nvPicPr>
            <p:cNvPr id="26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82600"/>
              <a:ext cx="74790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C193-7C34-4FDB-9921-6F75921A3C1F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307" name="Rounded Rectangle 7"/>
          <p:cNvGrpSpPr/>
          <p:nvPr/>
        </p:nvGrpSpPr>
        <p:grpSpPr>
          <a:xfrm>
            <a:off x="-60480" y="1182600"/>
            <a:ext cx="7479000" cy="328680"/>
            <a:chOff x="-60480" y="1182600"/>
            <a:chExt cx="7479000" cy="328680"/>
          </a:xfrm>
        </p:grpSpPr>
        <p:pic>
          <p:nvPicPr>
            <p:cNvPr id="30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82600"/>
              <a:ext cx="74790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B735-C513-4576-8187-8D9ABFAAF24C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352" name="Rounded Rectangle 7"/>
          <p:cNvGrpSpPr/>
          <p:nvPr/>
        </p:nvGrpSpPr>
        <p:grpSpPr>
          <a:xfrm>
            <a:off x="-60480" y="1182600"/>
            <a:ext cx="7479000" cy="328680"/>
            <a:chOff x="-60480" y="1182600"/>
            <a:chExt cx="7479000" cy="328680"/>
          </a:xfrm>
        </p:grpSpPr>
        <p:pic>
          <p:nvPicPr>
            <p:cNvPr id="35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82600"/>
              <a:ext cx="74790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691F-8DEA-4B4F-8282-594EF79DCD75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00000"/>
                </a:solidFill>
                <a:latin typeface="Times New Roman"/>
              </a:rPr>
              <a:t>Nastavni sadržaji geografije i građanski odgoj i obrazovanje </a:t>
            </a:r>
            <a:br>
              <a:rPr sz="3200"/>
            </a:br>
            <a:r>
              <a:rPr b="1" lang="pl-PL" sz="2400" spc="-1" strike="noStrike">
                <a:solidFill>
                  <a:srgbClr val="c00000"/>
                </a:solidFill>
                <a:latin typeface="Times New Roman"/>
              </a:rPr>
              <a:t>– primjer interdisciplinarnog povezivanja nastavnih sadržaja</a:t>
            </a:r>
            <a:endParaRPr b="1" lang="en-US" sz="2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1500120" y="4785840"/>
            <a:ext cx="7416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Međužupanijski stručni sku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za </a:t>
            </a:r>
            <a:r>
              <a:rPr b="0" lang="hr-HR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učitelje i nastavnike geograf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Nastava geografije u odgoju i obrazovanj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usmjerenom na razvoj kompetenc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Gimnazija M.A.Reljkovića,</a:t>
            </a:r>
            <a:r>
              <a:rPr b="0" i="1" lang="vi-VN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4. srp</a:t>
            </a:r>
            <a:r>
              <a:rPr b="0" i="1" lang="vi-VN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nja 201</a:t>
            </a:r>
            <a:r>
              <a:rPr b="0" i="1" lang="hr-HR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3</a:t>
            </a:r>
            <a:r>
              <a:rPr b="0" i="1" lang="vi-VN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,</a:t>
            </a:r>
            <a:r>
              <a:rPr b="0" i="1" lang="hr-HR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Vinkovc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0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0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6" name="Diagram 5"/>
          <p:cNvGrpSpPr/>
          <p:nvPr/>
        </p:nvGrpSpPr>
        <p:grpSpPr>
          <a:xfrm>
            <a:off x="2324160" y="1803240"/>
            <a:ext cx="4060800" cy="3352680"/>
            <a:chOff x="2324160" y="1803240"/>
            <a:chExt cx="4060800" cy="3352680"/>
          </a:xfrm>
        </p:grpSpPr>
        <p:sp>
          <p:nvSpPr>
            <p:cNvPr id="1097" name="_s3076"/>
            <p:cNvSpPr/>
            <p:nvPr/>
          </p:nvSpPr>
          <p:spPr>
            <a:xfrm>
              <a:off x="3503520" y="2398680"/>
              <a:ext cx="1701720" cy="1701720"/>
            </a:xfrm>
            <a:prstGeom prst="ellipse">
              <a:avLst/>
            </a:prstGeom>
            <a:solidFill>
              <a:srgbClr val="c0504d">
                <a:alpha val="50000"/>
              </a:srgbClr>
            </a:solidFill>
            <a:ln w="4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_s3077"/>
            <p:cNvSpPr/>
            <p:nvPr/>
          </p:nvSpPr>
          <p:spPr>
            <a:xfrm>
              <a:off x="4062240" y="1803240"/>
              <a:ext cx="58572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Times New Roman"/>
                </a:rPr>
                <a:t>POVEZANOST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Times New Roman"/>
                </a:rPr>
                <a:t>ODGOJNO-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Times New Roman"/>
                </a:rPr>
                <a:t>OBRAZOVNIH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Times New Roman"/>
                </a:rPr>
                <a:t>SADRŽAJA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_s3078"/>
            <p:cNvSpPr/>
            <p:nvPr/>
          </p:nvSpPr>
          <p:spPr>
            <a:xfrm>
              <a:off x="4064040" y="3369960"/>
              <a:ext cx="1701720" cy="1702080"/>
            </a:xfrm>
            <a:prstGeom prst="ellipse">
              <a:avLst/>
            </a:prstGeom>
            <a:solidFill>
              <a:srgbClr val="0000ff">
                <a:alpha val="50000"/>
              </a:srgbClr>
            </a:solidFill>
            <a:ln w="4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_s3079"/>
            <p:cNvSpPr/>
            <p:nvPr/>
          </p:nvSpPr>
          <p:spPr>
            <a:xfrm>
              <a:off x="5798880" y="4730400"/>
              <a:ext cx="5860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Times New Roman"/>
                </a:rPr>
                <a:t>UČINKOVITA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Times New Roman"/>
                </a:rPr>
                <a:t>RACIONALIZACIJA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_s3080"/>
            <p:cNvSpPr/>
            <p:nvPr/>
          </p:nvSpPr>
          <p:spPr>
            <a:xfrm>
              <a:off x="2941560" y="3368520"/>
              <a:ext cx="1701720" cy="1701720"/>
            </a:xfrm>
            <a:prstGeom prst="ellipse">
              <a:avLst/>
            </a:prstGeom>
            <a:solidFill>
              <a:srgbClr val="800080">
                <a:alpha val="50000"/>
              </a:srgbClr>
            </a:solidFill>
            <a:ln w="4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_s3081"/>
            <p:cNvSpPr/>
            <p:nvPr/>
          </p:nvSpPr>
          <p:spPr>
            <a:xfrm>
              <a:off x="2324160" y="4730400"/>
              <a:ext cx="58572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Times New Roman"/>
                </a:rPr>
                <a:t>                   </a:t>
              </a:r>
              <a:r>
                <a:rPr b="1" lang="hr-HR" sz="1800" spc="-1" strike="noStrike">
                  <a:solidFill>
                    <a:srgbClr val="000000"/>
                  </a:solidFill>
                  <a:latin typeface="Times New Roman"/>
                </a:rPr>
                <a:t>CJELOVITI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r>
                <a:rPr b="1" lang="hr-HR" sz="1800" spc="-1" strike="noStrike">
                  <a:solidFill>
                    <a:srgbClr val="000000"/>
                  </a:solidFill>
                  <a:latin typeface="Times New Roman"/>
                </a:rPr>
                <a:t>RAZVOJ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1" lang="hr-HR" sz="1800" spc="-1" strike="noStrike">
                  <a:solidFill>
                    <a:srgbClr val="000000"/>
                  </a:solidFill>
                  <a:latin typeface="Times New Roman"/>
                </a:rPr>
                <a:t>UČENIKA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Times New Roman"/>
              </a:rPr>
              <a:t>Interdisciplinarno poučavanje</a:t>
            </a:r>
            <a:endParaRPr b="1" lang="en-US" sz="24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Cilj radionice</a:t>
            </a:r>
            <a:r>
              <a:rPr b="1" i="1" lang="hr-HR" sz="2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785600"/>
            <a:ext cx="822960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zdvojiti ishode učenja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GOO-a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oji koreliraju s nastavnim sadržajima geograf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epoznati nastavne sadržaje geografije u interdisciplinarnom poučavanj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lanirati integrirano i interdisciplinarno poučavanje u nastavnom proces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Times New Roman"/>
                <a:ea typeface="Arial"/>
              </a:rPr>
              <a:t>Eksperimentalna provedba GOO-a, šk.god. 2012/13. i 2013/14., 12 škola</a:t>
            </a:r>
            <a:endParaRPr b="1" lang="en-US" sz="2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402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IPA projekt i MM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OŠ Ivan Goran Kovačić, Petri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OŠ „Ivan Goran Kovačić”, Du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Re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OŠ Siniše Glavaševića, Vukov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OŠ „Ivan Goran Kovačić”, Veli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konomska i turistička škola,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Daruv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rednja škola Obrovac, Obrova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48320" y="1785960"/>
            <a:ext cx="4495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ZOO i MZ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OŠ „Đuro Ester”, Koprivn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III. osnovna škola Čakovec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Čakove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OŠ Pavleka Miškine, Zagre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OŠ Matije Gupca, Zagre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Gimnazija „Fran Galović”,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Koprivn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rednja škola Dugo Selo, Dugo Se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-3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Arial"/>
                <a:ea typeface="Arial"/>
              </a:rPr>
              <a:t>Građanska kompetencija</a:t>
            </a:r>
            <a:endParaRPr b="1" lang="en-US" sz="2400" spc="-1" strike="noStrike">
              <a:solidFill>
                <a:srgbClr val="c00000"/>
              </a:solidFill>
              <a:latin typeface="Calibri"/>
            </a:endParaRPr>
          </a:p>
        </p:txBody>
      </p:sp>
      <p:graphicFrame>
        <p:nvGraphicFramePr>
          <p:cNvPr id="1110" name=""/>
          <p:cNvGraphicFramePr/>
          <p:nvPr/>
        </p:nvGraphicFramePr>
        <p:xfrm>
          <a:off x="468360" y="1844640"/>
          <a:ext cx="8066160" cy="3932280"/>
        </p:xfrm>
        <a:graphic>
          <a:graphicData uri="http://schemas.openxmlformats.org/drawingml/2006/table">
            <a:tbl>
              <a:tblPr/>
              <a:tblGrid>
                <a:gridCol w="3168720"/>
                <a:gridCol w="489744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dgojno-obrazovni ciklu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ipadništvo određenoj zajednici u sklopu koje učenik ostvaruje odgovarajuća prava i ima odgovarajuće odgovornosti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ciklus (1.  - 4. razred OŠ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čenik kao građanin razredne, školske i lokalne zajednic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i 3. ciklus (5.  - 8. razred OŠ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čenik kao građanin hrvatske domovinske zajednic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ciklus (1. i 2. razred SŠ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čenik kao građanin hrvatske domovinske zajednice te građanin europske i međunarodne zajednic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50384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Upute za rad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ogledajte isječak karte koji imate i pronađite svoju skupinu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azvrstajte se po OŠ/ SŠ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zaberite glasnogovornika skupi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dgovorite na pitanj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zvijestite druge o rezultatima rada skupi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oslušajte druge skupine i diskutirajte o rezultatim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6.   Za kraj, ispunite anket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Pitanja za skupinu</a:t>
            </a:r>
            <a:r>
              <a:rPr b="1" lang="hr-HR" sz="2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3516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Koji ishodi učenja u odabranoj dimenziji znanja čine poveznicu GOO-a i geografij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Izdvojite jedan ishod učenja GOO-a i povežite ga sa sadržajima iz geografij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Za odabrani ishod učenja navedite nastavnu cjelinu/ jedinicu/ razred u kojemu se poučav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Izdvojite ishode učenja u geografiji za odabranu nastavnu jedinic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Definirajte zadatak kojim ćete provjeriti navedeni ishod učenj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Za odabrani ishod/  nastavni sadržaj navedite oblik integracije nastavnih sadržaja geografije i GOO-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Opišite kojim nastavnim metodama i oblicima rada biste poučavali nastavne sadržaj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Times New Roman"/>
                <a:ea typeface="Arial"/>
              </a:rPr>
              <a:t>Izvješća skupina OŠ/ SŠ</a:t>
            </a:r>
            <a:endParaRPr b="1" lang="en-US" sz="2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78560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Š/ S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rijedlozi i zaključci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Times New Roman"/>
              </a:rPr>
              <a:t>Poruka za kraj</a:t>
            </a:r>
            <a:endParaRPr b="1" lang="en-US" sz="2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1332000" y="1773360"/>
            <a:ext cx="6912000" cy="3527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astavne scenarije treba osmišljavati na integraciji odgojno-obrazovnih sadržaja, povezivanju dijelova pojedinih nastavnih tema u cjelinu, povezivanju nastavnih sadržaja sa životnim okruženjem učenika, a da se pri tom uključuju pojedinačni aspekti određenog predmeta ili znanosti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Kostović-Vranješ, V., Šolić, S.: Nastavni sadržaji Prirode i društva-polazište za interdisciplinarno poučavanje u razrednoj nastavi, Život i škola, br.25 (1/2011.), god.57., str. 207-21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Terhart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Times New Roman"/>
              </a:rPr>
              <a:t>Literatura i izvori</a:t>
            </a:r>
            <a:endParaRPr b="1" lang="en-US" sz="2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785600"/>
            <a:ext cx="8229600" cy="25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Kostović-Vranješ, V., Šolić, S.: Nastavni sadržaji Prirode i društva-polazište za interdisciplinarno poučavanje u razrednoj nastavi, Život i škola, br.25 (1/2011.), god.57., str. 207-21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Kurikulum građanskog odgoja i obrazo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ww.azoo.h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ww.mzos.h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TextBox 3"/>
          <p:cNvSpPr/>
          <p:nvPr/>
        </p:nvSpPr>
        <p:spPr>
          <a:xfrm>
            <a:off x="1979640" y="270828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Zahvaljujem na sudjelovanju!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Times New Roman"/>
              </a:rPr>
              <a:t>Plan rada: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785600"/>
            <a:ext cx="8229600" cy="20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uvod u interdisciplinarno i integrirano poučavan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upute za rad u radionic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rad u skupinama: OŠ/ S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prezentiranje r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rijedlozi i zaključc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Times New Roman"/>
              </a:rPr>
              <a:t>Interdisciplinarno poučavanje</a:t>
            </a:r>
            <a:endParaRPr b="1" lang="en-US" sz="2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78560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Interdisciplinarna nasta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Integrirana nasta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Integrirani kurikul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Tematska nasta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Sinergistička nastava  ili  “efekt 2 + 2 = 5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Times New Roman"/>
              </a:rPr>
              <a:t>Definicija ili objašnjenje</a:t>
            </a:r>
            <a:endParaRPr b="1" lang="en-US" sz="2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oces izgradnje znanja u kojem se problem analizira primjenjujući različite disciplinarne pristupe što u konačnici omogućuje interdisciplinarno razumijevanje, integriranje znanja i razmišljanj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(Kostović-Vranješ, V., Šolić, S.: Nastavni sadržaji Prirode i društva-polazište za interdisciplinarno poučavanje u razrednoj nastavi, Život i škola, br.25 (1/2011.), god.57., str. 207-216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Times New Roman"/>
              </a:rPr>
              <a:t>Oblici integracije nastavnih sadržaja</a:t>
            </a:r>
            <a:endParaRPr b="1" lang="en-US" sz="2400" spc="-1" strike="noStrike">
              <a:solidFill>
                <a:srgbClr val="c00000"/>
              </a:solidFill>
              <a:latin typeface="Calibri"/>
            </a:endParaRPr>
          </a:p>
        </p:txBody>
      </p:sp>
      <p:grpSp>
        <p:nvGrpSpPr>
          <p:cNvPr id="1072" name="Diagram 5"/>
          <p:cNvGrpSpPr/>
          <p:nvPr/>
        </p:nvGrpSpPr>
        <p:grpSpPr>
          <a:xfrm>
            <a:off x="2908080" y="2261160"/>
            <a:ext cx="4152960" cy="3377160"/>
            <a:chOff x="2908080" y="2261160"/>
            <a:chExt cx="4152960" cy="3377160"/>
          </a:xfrm>
        </p:grpSpPr>
        <p:sp>
          <p:nvSpPr>
            <p:cNvPr id="1073" name="_s1028"/>
            <p:cNvSpPr/>
            <p:nvPr/>
          </p:nvSpPr>
          <p:spPr>
            <a:xfrm>
              <a:off x="2908080" y="3208320"/>
              <a:ext cx="2576880" cy="2430000"/>
            </a:xfrm>
            <a:prstGeom prst="donut">
              <a:avLst>
                <a:gd name="adj" fmla="val 16666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_s1029"/>
            <p:cNvSpPr/>
            <p:nvPr/>
          </p:nvSpPr>
          <p:spPr>
            <a:xfrm>
              <a:off x="6374520" y="3340440"/>
              <a:ext cx="686520" cy="53928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Times New Roman"/>
                </a:rPr>
                <a:t>MODEL PARTNERSTVA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_s1030"/>
            <p:cNvSpPr/>
            <p:nvPr/>
          </p:nvSpPr>
          <p:spPr>
            <a:xfrm>
              <a:off x="3336480" y="3612600"/>
              <a:ext cx="1717920" cy="1620000"/>
            </a:xfrm>
            <a:prstGeom prst="donut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_s1031"/>
            <p:cNvSpPr/>
            <p:nvPr/>
          </p:nvSpPr>
          <p:spPr>
            <a:xfrm>
              <a:off x="6374520" y="2800800"/>
              <a:ext cx="686520" cy="53928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Times New Roman"/>
                </a:rPr>
                <a:t>MODEL ZAJEDNIŠTVA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_s1032"/>
            <p:cNvSpPr/>
            <p:nvPr/>
          </p:nvSpPr>
          <p:spPr>
            <a:xfrm>
              <a:off x="3767040" y="4018320"/>
              <a:ext cx="858600" cy="8100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_s1033"/>
            <p:cNvSpPr/>
            <p:nvPr/>
          </p:nvSpPr>
          <p:spPr>
            <a:xfrm>
              <a:off x="6374520" y="2261160"/>
              <a:ext cx="686520" cy="53928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Times New Roman"/>
                </a:rPr>
                <a:t>MODEL POVEZIVANJA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9" name="Rectangle 14"/>
          <p:cNvSpPr/>
          <p:nvPr/>
        </p:nvSpPr>
        <p:spPr>
          <a:xfrm>
            <a:off x="324000" y="1916280"/>
            <a:ext cx="2592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Razina integracije nastavnih sadržaja ovisno o specifičnostima sadržaja, planiranim ishodima i uzrastu učenika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ako ih provoditi?</a:t>
            </a:r>
            <a:endParaRPr b="1" lang="en-US" sz="2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500040" y="1428840"/>
            <a:ext cx="8229600" cy="42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model povezivanja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umrežavanje sadržaja, vještina i koncepata jednog nastavnog predmeta s drugim, u praksi izvodi ga jedan učitelj koji samostalno bira, raspoređuje i planira međupredmetne veze i to kada uvodi novi pojam ili kada sadržajem drugog predmeta želi dopuniti poučavano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 model zajedništva –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li više učitelja integriraju slične teme, vještine i koncepte određenih predmeta tako da jedan utvrdi predznanje i započne obradu, a nakon toga slijedi integracija nastavnih sadržaj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model partnerstva –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vnopravno i istovremeno uključuje dva ili više predmeta, a učitelji poučavaju zajedno u istoj učionici, uključuje i timski i suradnički rad učitelja u kojemu oni zajedno traže temu, utvrđuju interdisciplinarne veze, planiraju tijek rada i zajedno realiziraju nastav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2" name="Organization Chart 5"/>
          <p:cNvGrpSpPr/>
          <p:nvPr/>
        </p:nvGrpSpPr>
        <p:grpSpPr>
          <a:xfrm>
            <a:off x="468360" y="692280"/>
            <a:ext cx="8228880" cy="4855680"/>
            <a:chOff x="468360" y="692280"/>
            <a:chExt cx="8228880" cy="4855680"/>
          </a:xfrm>
        </p:grpSpPr>
        <p:cxnSp>
          <p:nvCxnSpPr>
            <p:cNvPr id="1083" name="_s2052"/>
            <p:cNvCxnSpPr>
              <a:stCxn id="1084" idx="0"/>
              <a:endCxn id="1085" idx="2"/>
            </p:cNvCxnSpPr>
            <p:nvPr/>
          </p:nvCxnSpPr>
          <p:spPr>
            <a:xfrm flipV="1" rot="16200000">
              <a:off x="5697000" y="1518840"/>
              <a:ext cx="971640" cy="320112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6" name="_s2053"/>
            <p:cNvCxnSpPr>
              <a:stCxn id="1087" idx="0"/>
              <a:endCxn id="1085" idx="2"/>
            </p:cNvCxnSpPr>
            <p:nvPr/>
          </p:nvCxnSpPr>
          <p:spPr>
            <a:xfrm flipV="1" rot="16200000">
              <a:off x="4629960" y="2585880"/>
              <a:ext cx="971640" cy="106740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8" name="_s2054"/>
            <p:cNvCxnSpPr>
              <a:stCxn id="1089" idx="0"/>
              <a:endCxn id="1085" idx="2"/>
            </p:cNvCxnSpPr>
            <p:nvPr/>
          </p:nvCxnSpPr>
          <p:spPr>
            <a:xfrm flipH="1" flipV="1" rot="5400000">
              <a:off x="3563640" y="2586240"/>
              <a:ext cx="971640" cy="106704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0" name="_s2055"/>
            <p:cNvCxnSpPr>
              <a:stCxn id="1091" idx="0"/>
              <a:endCxn id="1085" idx="2"/>
            </p:cNvCxnSpPr>
            <p:nvPr/>
          </p:nvCxnSpPr>
          <p:spPr>
            <a:xfrm flipH="1" flipV="1" rot="5400000">
              <a:off x="2496600" y="1519200"/>
              <a:ext cx="971640" cy="320076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85" name="_s2056"/>
            <p:cNvSpPr/>
            <p:nvPr/>
          </p:nvSpPr>
          <p:spPr>
            <a:xfrm>
              <a:off x="3668400" y="692280"/>
              <a:ext cx="1828440" cy="194220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1942200"/>
                <a:gd name="textAreaBottom" fmla="*/ 1853280 h 1942200"/>
              </a:gdLst>
              <a:ahLst/>
              <a:rect l="textAreaLeft" t="textAreaTop" r="textAreaRight" b="textAreaBottom"/>
              <a:pathLst>
                <a:path w="21600" h="22944">
                  <a:moveTo>
                    <a:pt x="3600" y="0"/>
                  </a:moveTo>
                  <a:arcTo wR="3600" hR="3600" stAng="16200000" swAng="-5400000"/>
                  <a:lnTo>
                    <a:pt x="0" y="19344"/>
                  </a:lnTo>
                  <a:arcTo wR="3600" hR="3600" stAng="10800000" swAng="-5400000"/>
                  <a:lnTo>
                    <a:pt x="18000" y="2294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500" spc="-1" strike="noStrike">
                  <a:solidFill>
                    <a:srgbClr val="000000"/>
                  </a:solidFill>
                  <a:latin typeface="Times New Roman"/>
                </a:rPr>
                <a:t>TRADICIONALNA 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500" spc="-1" strike="noStrike">
                  <a:solidFill>
                    <a:srgbClr val="000000"/>
                  </a:solidFill>
                  <a:latin typeface="Times New Roman"/>
                </a:rPr>
                <a:t>NASTAVA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_s2057"/>
            <p:cNvSpPr/>
            <p:nvPr/>
          </p:nvSpPr>
          <p:spPr>
            <a:xfrm>
              <a:off x="468360" y="3605760"/>
              <a:ext cx="1828440" cy="194220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1942200"/>
                <a:gd name="textAreaBottom" fmla="*/ 1853280 h 1942200"/>
              </a:gdLst>
              <a:ahLst/>
              <a:rect l="textAreaLeft" t="textAreaTop" r="textAreaRight" b="textAreaBottom"/>
              <a:pathLst>
                <a:path w="21600" h="22944">
                  <a:moveTo>
                    <a:pt x="3600" y="0"/>
                  </a:moveTo>
                  <a:arcTo wR="3600" hR="3600" stAng="16200000" swAng="-5400000"/>
                  <a:lnTo>
                    <a:pt x="0" y="19344"/>
                  </a:lnTo>
                  <a:arcTo wR="3600" hR="3600" stAng="10800000" swAng="-5400000"/>
                  <a:lnTo>
                    <a:pt x="18000" y="2294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500" spc="-1" strike="noStrike">
                  <a:solidFill>
                    <a:srgbClr val="000000"/>
                  </a:solidFill>
                  <a:latin typeface="Times New Roman"/>
                </a:rPr>
                <a:t>PREDMETNO – 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500" spc="-1" strike="noStrike">
                  <a:solidFill>
                    <a:srgbClr val="000000"/>
                  </a:solidFill>
                  <a:latin typeface="Times New Roman"/>
                </a:rPr>
                <a:t>SATNI SUSTAV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_s2058"/>
            <p:cNvSpPr/>
            <p:nvPr/>
          </p:nvSpPr>
          <p:spPr>
            <a:xfrm>
              <a:off x="2601720" y="3605760"/>
              <a:ext cx="1828440" cy="194220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1942200"/>
                <a:gd name="textAreaBottom" fmla="*/ 1853280 h 1942200"/>
              </a:gdLst>
              <a:ahLst/>
              <a:rect l="textAreaLeft" t="textAreaTop" r="textAreaRight" b="textAreaBottom"/>
              <a:pathLst>
                <a:path w="21600" h="22944">
                  <a:moveTo>
                    <a:pt x="3600" y="0"/>
                  </a:moveTo>
                  <a:arcTo wR="3600" hR="3600" stAng="16200000" swAng="-5400000"/>
                  <a:lnTo>
                    <a:pt x="0" y="19344"/>
                  </a:lnTo>
                  <a:arcTo wR="3600" hR="3600" stAng="10800000" swAng="-5400000"/>
                  <a:lnTo>
                    <a:pt x="18000" y="2294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Times New Roman"/>
                </a:rPr>
                <a:t>NERACIONALNOST 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_s2059"/>
            <p:cNvSpPr/>
            <p:nvPr/>
          </p:nvSpPr>
          <p:spPr>
            <a:xfrm>
              <a:off x="4735440" y="3605760"/>
              <a:ext cx="1828440" cy="194220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1942200"/>
                <a:gd name="textAreaBottom" fmla="*/ 1853280 h 1942200"/>
              </a:gdLst>
              <a:ahLst/>
              <a:rect l="textAreaLeft" t="textAreaTop" r="textAreaRight" b="textAreaBottom"/>
              <a:pathLst>
                <a:path w="21600" h="22944">
                  <a:moveTo>
                    <a:pt x="3600" y="0"/>
                  </a:moveTo>
                  <a:arcTo wR="3600" hR="3600" stAng="16200000" swAng="-5400000"/>
                  <a:lnTo>
                    <a:pt x="0" y="19344"/>
                  </a:lnTo>
                  <a:arcTo wR="3600" hR="3600" stAng="10800000" swAng="-5400000"/>
                  <a:lnTo>
                    <a:pt x="18000" y="2294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500" spc="-1" strike="noStrike">
                  <a:solidFill>
                    <a:srgbClr val="000000"/>
                  </a:solidFill>
                  <a:latin typeface="Times New Roman"/>
                </a:rPr>
                <a:t>RASCJEPKANOST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_s2060"/>
            <p:cNvSpPr/>
            <p:nvPr/>
          </p:nvSpPr>
          <p:spPr>
            <a:xfrm>
              <a:off x="6868800" y="3605760"/>
              <a:ext cx="1828440" cy="194220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1942200"/>
                <a:gd name="textAreaBottom" fmla="*/ 1853280 h 1942200"/>
              </a:gdLst>
              <a:ahLst/>
              <a:rect l="textAreaLeft" t="textAreaTop" r="textAreaRight" b="textAreaBottom"/>
              <a:pathLst>
                <a:path w="21600" h="22944">
                  <a:moveTo>
                    <a:pt x="3600" y="0"/>
                  </a:moveTo>
                  <a:arcTo wR="3600" hR="3600" stAng="16200000" swAng="-5400000"/>
                  <a:lnTo>
                    <a:pt x="0" y="19344"/>
                  </a:lnTo>
                  <a:arcTo wR="3600" hR="3600" stAng="10800000" swAng="-5400000"/>
                  <a:lnTo>
                    <a:pt x="18000" y="2294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500" spc="-1" strike="noStrike">
                  <a:solidFill>
                    <a:srgbClr val="000000"/>
                  </a:solidFill>
                  <a:latin typeface="Times New Roman"/>
                </a:rPr>
                <a:t>IZOLIRANOST 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500" spc="-1" strike="noStrike">
                  <a:solidFill>
                    <a:srgbClr val="000000"/>
                  </a:solidFill>
                  <a:latin typeface="Times New Roman"/>
                </a:rPr>
                <a:t>NASTAVNIH 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500" spc="-1" strike="noStrike">
                  <a:solidFill>
                    <a:srgbClr val="000000"/>
                  </a:solidFill>
                  <a:latin typeface="Times New Roman"/>
                </a:rPr>
                <a:t>SADRŽAJA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Times New Roman"/>
              </a:rPr>
              <a:t>Primjena interdisciplinarnog učenja</a:t>
            </a:r>
            <a:endParaRPr b="1" lang="en-US" sz="2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Kako je interdisciplinarno učenje proces blizak načinu na koji ljudski mozak prirodno funkcionira tako je potrebno započeti s primjenom integrirane nastave već u ranom djetinjstvu, u razvojnom periodu djeteta u kojem se stvaraju temelji za učenje kako učit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Times New Roman"/>
              </a:rPr>
              <a:t>Posljedice primjene integracije sadržaja u nastavi</a:t>
            </a:r>
            <a:endParaRPr b="1" lang="en-US" sz="2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Povećava se učenikova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motivacija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za osobno angažiranje u procesu stjecanja znanja i razvijanja vješt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Potiče svjesnost o važnosti i značenju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spoznava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Omogućava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povezivanj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e iscjepkanih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zna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Poboljšava učenje i stjecanje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trajnih znanja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kao i učinkovitu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primjen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9T17:02:39Z</dcterms:created>
  <dc:creator>Korisnik</dc:creator>
  <dc:description/>
  <dc:language>en-US</dc:language>
  <cp:lastModifiedBy>Korisnik</cp:lastModifiedBy>
  <dcterms:modified xsi:type="dcterms:W3CDTF">2013-07-04T06:19:16Z</dcterms:modified>
  <cp:revision>83</cp:revision>
  <dc:subject/>
  <dc:title>ULOGA RAVNATELJA U UVOĐENJU PRIPRAVNIKA U SAMOSTALAN RAD</dc:title>
</cp:coreProperties>
</file>