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F500-4951-497B-AFBF-53972A9A6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0B1C-A0E8-4442-B2F0-0BA5FF583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tručno-metodička priprema za polaganje stručnog is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7C194-7204-42DD-9E6C-418B47CF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65FBB-0FC3-44ED-9E90-4F4B2664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9E762-B049-4937-84D1-4441026A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1ABAF-13D0-4E73-8A14-33C0D8B0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94660-2ACB-4764-8FBB-EA83B3C7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202B0-0AEF-4356-9A34-483E38BE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FDE94-72BA-4C73-BEDA-82F04481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0D7DC-0F20-410F-9F0C-F6AB1716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C31E0-CEA5-4CB6-88D2-60138B78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90569-C7C6-4580-9099-7BA58D5A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B746D-0005-4AF1-9876-D0CC50B8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E031-F06B-40A6-AA4B-8C25CB5F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26BB7-0CB8-403F-91D5-B40432CF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8A2F8-46E5-48ED-BC1F-30270555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4FB4E-A4D5-4098-9F3C-99060BE7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2A1F4-A675-497C-B62D-FEC7A479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DBE1A-4782-4103-8D98-B099651A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D42F7-CECF-45FB-83CC-4134B1F0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7C765-AE56-4036-9A4E-A59537D5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09F2F-14F6-42F3-8052-F3AAB7F9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020D7-0F23-49BB-AA22-74411B3F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261C9-4D45-4E68-9E4B-2474727B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2567F-8507-48CC-8A1B-EA3A29E8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044DD-F974-45CA-9A68-4C0B021A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ED114-DD6D-4421-A798-0234C064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9BF88-2E69-446C-A44F-6E4E2A38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14477-0A6B-44B5-B6E4-BF243D97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8EB4E-9A78-41A7-87E1-2B8C95AA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2D70D-903A-44A5-B943-7A108C01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D202E-4CD2-4608-AA91-F995E8CC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CC0ED-B4C7-4EDC-AABA-2252E433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90B18-D448-411B-AC89-0800B13C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62E7C-F3AD-4DF2-9991-37EA7541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ABB78-49FD-4A6B-954A-C283DA60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B6529-B72B-4254-A022-FCEA782C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3A5F9-07BD-4AC2-A2DF-B733D81A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A9BA9-0A2D-49B2-8032-0C2A0E11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57AA2-62AA-47B7-8989-D5C05C1D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4F0F4-A88D-4EE7-9687-F5BD2523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3E92A-4D84-45DE-B7B9-62154425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CBEB1-D0EE-4191-9322-AD70BAE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95788-04DA-45EE-8AA2-C40AD54E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8A9D2-0E30-4703-BD62-9B4919D5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D911E-BFDA-40E9-A5D8-E2CFAF4C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0EC63-2729-412E-B280-7A83A7E3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C5D17-6EAA-43B8-9CD0-C2CC9F3F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AB5E7-6BF7-45EC-BE6F-4BD5DA35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4F7FA-7EFA-4518-9AAC-600A9425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E54F2-8AA4-4ACB-9DC2-EE84988C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E90CE-49BD-402D-87BE-065621B5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B9461-FE59-4B59-8A07-B1FA0444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6C734-8E48-4ADC-95E0-94F07CF0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08E39-BC44-40B3-9CED-4691B990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89ACF-BB28-4103-B961-77EF639E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35DDF-5A62-4825-AA82-7D356F6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CCD34-8AEC-45CF-B34D-EDD97C8F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60178-6520-4B66-82D7-5F7F7B69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2E3C5-3885-40DB-A14E-A18A8314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6238F-6C5C-4CA3-A127-7893B507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C0FC1-0CE9-4F68-8E9D-1E401DC7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A39CA-4D9F-43B1-A504-C3A2631F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02ADC-29C7-4E66-84A3-46FE4327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A0326-567F-4133-8B66-F376708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54BC3-02F2-4645-B116-91478DEA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36747-2AFF-4700-8ED6-B2CE386A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F716D-573B-4E48-AFD3-9927F01C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6D86C-1BA5-4B20-9AC7-733E7B14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3AD09-CA22-42A8-A7D2-210938AB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8DDF0-4D51-49D4-9080-4906A300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1F772-0E6B-4466-BB5B-E9CC5E5E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F46CA-AC82-4646-AAB7-586CCA6E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75D08-CAD6-4FF1-9F7F-499BA9E0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BD5BE-0BCB-4BF2-9AF1-49D4E453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839FD-0113-4251-94C7-34C5D675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EC4D9-5833-4887-98A9-5942BF45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B423D-AD21-4AE0-AA78-1557B6B5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34F09-E4A9-410F-96AE-D1C725AC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9E60C-95C7-4A6C-AC53-27BF6427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DA701-21AF-4ACF-9EC8-FDE22A60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D3C42-3011-452C-ADD0-8911B7A2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28C39-1005-46BE-8023-7CC3FBC1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E5DE4-87B1-4990-9983-9721B43E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D4F44-E9A2-4D87-91A4-8771602D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B786F-F9EF-43F3-A718-CCFE21F3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CD4BC-E8B6-474A-A5FD-E7A55B41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7AEA1-8148-4AC8-A897-C010A581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074E5-632F-4B09-BAB9-8C96932C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B2B8B-45E0-4C46-923F-E42CC67E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63AB3-E8AA-4F25-A71D-A77951E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7E258-82CA-417E-887D-02CE50D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6F476-1382-43AD-BC9C-31EDE5AC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7DD3E-E238-478B-B795-21C5E3D6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ECE77-D8EB-427C-9098-B464D8E2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42774-2AB4-479D-BE0B-52A1FC6E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7C29A-55F8-4B04-ADC3-C8BFAC42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AB6A9-5B72-45C5-A8EA-59CDBFA0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F27FF-7A1E-46BC-A83D-CAEEACB8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F9A71-BE26-4C82-AB25-4AFF5FA4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C990E-E575-4D4D-86BC-18F223E3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2FFD0-3B4A-42F0-877C-B634494A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DFE29-8BBB-4877-8FDF-D9C3C16C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763A6-6F6F-4C74-B515-578024AF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3FEDF-9AC2-4521-A2C9-4193F7AE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1711B-9F6E-4F62-8C54-EA63C0C2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F811C-3A54-4AB9-9D4D-112ED02A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A5739-0309-41E3-B582-7CDE4096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99D7F-7F2D-44F6-A502-70A6954D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24E45-72CE-4467-B7F0-5B78D2E6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0B556-E984-41F5-A78E-774D64AF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39335-4ED5-4945-8944-C9A75134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8F88E-2B21-459E-B1F0-AED581DE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42861-5405-486A-BA51-DB28831B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67CDF-8398-441F-9906-ED03CDA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30C0C-ACDF-453A-B7E4-C13CEF46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3C4C0-3F31-46B6-8C4C-0BF5926E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779E9E-592E-4796-9E99-7EF096C0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11ED8-ACA5-4D26-9CF7-B11E76B9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208482-DC54-4E63-872D-62276ABD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B2C8B-F472-4184-83E1-3C19226D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7BF9F2-A78C-45D5-BF62-FD3F8B4A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1522E-4E8D-40EA-B768-C15525AF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F90988-F3AA-4553-9D3A-A4E757C1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04D6D-77A6-477D-AD88-B5E0B9B7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0DD9A-D009-412A-B9EA-4B3F5A09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C3181-7F36-453B-A1E6-D637462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B1E24-729D-44C9-8B12-BBCC651D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3D8E9-3647-41B3-BA1F-0F5DD42F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6A8E0-6CD8-43AA-9722-3CE2A5E4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00393-2512-4BC6-9EF2-6EBBF37C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3639E-6FAA-4D16-8762-32976187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760284-EA61-4ABB-BCA1-32FAABBA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41506-EE75-4D4D-B998-C44223C0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10278-08D7-4DA3-9D91-4607BD59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A23350-F172-43B6-84F9-9E91B3C1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E3120-FF6D-4495-B379-EAE1DCAE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05A63C-D534-4B0C-BBE5-3EFF9F95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2FD58-ECE2-4538-A5B1-55D84586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11F4B-4F89-46A6-B2DF-725BD03A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19973-1518-4977-879E-797E659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E4BB6-78E5-470D-83B7-A7B863FB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E2099-9B5B-4A0B-A276-DFCBF342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A8333-8739-4915-94AB-400C3C3B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4A21F-FA51-4A52-829D-145D5F5D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3EF68-30C6-472C-B012-E21D7657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BBEE4-0FAB-4C8B-8134-FE866112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A02E7-19A1-4040-9BED-F9E3301B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2C6A6-C9F1-4B95-AD96-50E3F245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348C3-3AF4-4ADA-AEC2-841203CB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DF60C-C60A-47E6-8DCE-96DDC03F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FB7C91-B6C8-4485-884A-0C2FF398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3A6A7-C3E7-4AC8-91C8-D97D7231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3A10E-464B-405D-9631-4B05BCEF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E63D0B-D9AC-45F0-AD56-82DEA387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FA3CDB-E891-4465-AB94-40EBB7C0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0F2F0-1760-4A5D-893F-7004B0E3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F8C3A6-88FB-4963-9C00-C6B2FFF7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43A95F-7601-4610-A6C7-68A4CAA7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E1C787-4BBA-40A5-8F2B-6A7BA681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B310D7-B2F4-456B-86A6-F74E0795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8CA58-2C36-45CE-A391-1296E9A8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CA18D7-B8B9-4A49-B1C5-1B65FF5E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BEB54-7F56-4DFE-AEA1-42264EBC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B60708-9916-4EB6-B744-46412575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852BE-C7FF-4AA1-BABF-4899B684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3ECBDC-E016-4349-A8A0-77BD56C0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45C6CE-61E2-42F0-A87F-F44B84DD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AF9F9C-36A5-4F2F-A848-ACAACBE5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D1EF7-F9D7-4F80-A45A-81376D3B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2E2FB6-3C63-48AD-8F98-6A3FC3CC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ED6CD8-2272-45C7-8DA2-B4EBC0D9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708E6-FF36-4DFB-B769-00BA10EF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4E93F-9106-472F-9C53-4242F1B8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603E3-304B-467A-84A7-B264E62D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10409-E33E-4C18-BCB2-ABB8C588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9F73B9-3E46-472D-A05B-55EE1AAD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95402-8DF8-4D9E-9D9B-6F1B5BA8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4F186A-9780-44C7-8E3D-96CA4F47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096B16-606B-455B-9A36-A7578B2A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4CE0E-96E8-40C9-BBEB-81C3640B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7453A-F799-44C9-805E-69F69C7C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A026CF-9F0C-4AAB-8368-3AC2DCAE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FE1C38-EDE3-4A49-B9B0-508993CF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149714-6F00-4AAF-A088-767E155C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90D2B-C318-44C1-9767-4C9DDE2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4E68DE-CE53-46F4-87EA-A87AFBEF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D0FA0C-2535-4C59-83CE-FA0FA4CD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743C8D-A5A8-45AF-94AF-614AD307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9906AA-D096-4512-B0FD-5EE75341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8ECC7-5B7B-4A49-9305-D8EF8B0D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C8D-0BE2-4FDD-82CB-D79CAA25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03A-D0F3-4C59-A0C6-E9674EAB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8EA-4631-4749-A620-91DD957A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CAF-8E8F-4CF8-8C8B-38E798E6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3A1-270C-444E-8CF5-824FD026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7BC-87AA-47AA-BA42-AA0BA038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164-A024-49DE-A00E-7F0FF5F4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9FC-33F2-44C5-A1F2-E80D59CD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DA6-5723-4ACD-BCF9-56DA9B1F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088-5A16-431C-90D3-A050A9E7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84B-3C4C-4490-B64A-6BED9966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9A6-A2A7-4936-9EBC-E56E7A91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DC47-8B05-49A0-B53D-168DC65B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A350-FE89-473B-B66A-F2C8D9E0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4370-32EC-4459-B528-832EACA0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843C-2EB2-45CD-BED3-CAD8973E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3497-4690-46F1-AB0C-0371DA40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0BE0-8B54-4841-9533-CC5ED659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1129-527B-4597-A5EA-76990018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62CC-8230-4928-9806-96B53ACB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050E-A0A9-4690-BD3A-F115C6CB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D590-A716-4ED6-ACE7-B7022535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1CC7-22A0-48E6-99D7-DEA3627B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3E00-AE16-49F0-8AE0-58330D03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C5AF-81BA-41B4-90A5-43D2F78C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4D26-B66A-4542-B34E-8DF57506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FF38-055B-46E3-8546-C3909D70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81FC-51DB-4CF5-94FB-C13421CC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018E-0211-47A0-8E53-6B501ED8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35B7-61D4-4CBC-A1FF-9696D906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1BB9-6111-4B11-80A7-4939D230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8280D-4C99-452C-A173-5372FDAE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6E011-2B91-48C0-84CF-B00C51DF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6CF8-4A8B-4316-A73B-9DA680AE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E4FE-3EB4-4EF3-8928-8DBBDE30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86CB-4C06-4E71-962D-AD469F39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95047-6E8B-40A0-A0CA-C0B506CC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4ABB3-B137-4928-8275-F8B12484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C1E10-6AC3-48FD-996A-A3310418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4658-7B47-4CC5-BDC3-882EAA34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A2191-CC80-4E7B-929E-1DD51837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DA8F-3DBE-4215-A9A2-1B6F8846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4CAD-6AB1-46BC-887C-2C85B53D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D193-F4B2-4C65-A527-03B9D8A5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F4FF1-DB18-4F0C-9431-23B83535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DE1D5-2F19-4C74-A8D2-19D60EE7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F8BB-FB81-49C4-AC93-BA023FE5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2B9A-EB45-479C-AA75-51EF2BAF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18477-B4DC-4F22-95B1-8592C697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89D72-DFB8-4FD1-8E83-C103476D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082F-A3E5-421D-9351-2F13AE78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E5CEC-BD78-44FD-9E01-14CDA99D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C50FB-9FC8-4222-8B25-DA981585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6719C-9865-40D6-91AA-8235C7C4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F4B34-963D-4C37-BC58-B2071794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5EC23-91D2-46D3-8FB4-A5597D94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A149A-F421-46DE-A00F-EDFD2EF6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C2C61-8500-4290-9851-BBBD83AA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16D81-FC3D-466A-AC4F-48895116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87031-F3FD-4C2D-94C1-DF11EA34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74226-AF8C-437E-A2B3-AEBDDFEC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9C41C-7C12-4140-866C-F1E1899D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EF6B-FA1C-4BE1-921F-DF5604F1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2C95-96E0-40D5-B13E-A861B8221897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4ABB-2388-4F03-8A08-429F7C9CFB08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318C-C3B7-4EB0-A1D8-C91416A683A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9F5E-D863-48C3-8BB7-E2FABFF8E3FE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7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E9C7-E6F6-4B3D-8093-25D2F60A5213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1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2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7283-EE47-45F4-B939-137DF785AAE6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5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6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2AE2-8164-441D-8438-C3F3AAB03CA7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9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10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D42-59BA-47D5-B935-1E81C4BE1075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3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5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56D6-C9FB-4307-8430-371A0BC83DC0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2A4A-DD1A-4B9D-8A72-6066734BAD7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1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4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4153-3820-4477-8AD3-AB60F795FA4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5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6C7B-F7AE-4B62-8288-887ABFA28612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9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30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70E2-3142-4790-9EAA-0F61CFEFCB92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3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7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01D4-987B-49BE-B58C-B0F80CCAA1A2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5B00-9BFE-4E8F-AF70-A1F698924D21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8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714B-CB7B-4ADB-92B4-FFA6C1B7C4A3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61FA-39F6-46E5-8117-647FD9FB1471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4393-EDFA-4919-BDD8-92B100336491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363C-016F-415F-BB5B-826442945B73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B936-51BA-4661-8238-2DDC1D8CC84E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A33C-0651-4281-BC02-1E66FA0B56A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6"/>
          <p:cNvSpPr/>
          <p:nvPr/>
        </p:nvSpPr>
        <p:spPr>
          <a:xfrm>
            <a:off x="611280" y="1341360"/>
            <a:ext cx="6983280" cy="46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Analiza s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00000"/>
                </a:solidFill>
                <a:latin typeface="Arial"/>
              </a:rPr>
              <a:t>Sonja Burčar, prof.</a:t>
            </a:r>
            <a:br>
              <a:rPr sz="2000"/>
            </a:br>
            <a:r>
              <a:rPr b="0" lang="hr-HR" sz="2000" spc="-1" strike="noStrike">
                <a:solidFill>
                  <a:srgbClr val="c00000"/>
                </a:solidFill>
                <a:latin typeface="Arial"/>
              </a:rPr>
              <a:t>viša savjetnica za geografiju</a:t>
            </a:r>
            <a:br>
              <a:rPr sz="2000"/>
            </a:br>
            <a:r>
              <a:rPr b="0" lang="hr-HR" sz="2000" spc="-1" strike="noStrike">
                <a:solidFill>
                  <a:srgbClr val="c00000"/>
                </a:solidFill>
                <a:latin typeface="Arial"/>
              </a:rPr>
              <a:t>AZOO, Podružnica Osije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đužupanijski stručni skup pripravnika i mentora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telja i nastavnika geografije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rovitičko-podravske, Požeško-slavonske, Brodsko-posavske, Osječko-baranjske i Vukovarsko-srijemske županije</a:t>
            </a:r>
            <a:br>
              <a:rPr sz="2000"/>
            </a:b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Uvođenje pripravnika u samostalni odgojno-obrazovni rad i polaganje stručnog ispita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5. ožujka 2013., OŠ Ivana Filipovića, Osije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Arial"/>
              </a:rPr>
              <a:t>Organizacija nastavnog sata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vodna etapa – usmjerena na motivaciju, može biti i ponavljanje naučenog, poticati spremnost na učenje, utrti put postavljanju probl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java cil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da novih nastavnih sadržaja – kombinacijom različitih oblika postižu se bolji rezultati, pripremiti odgovarajući kvalitetni radni materij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ježba i ponavljanje – korak do usvajanja grad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maća zadać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Arial"/>
              </a:rPr>
              <a:t>Raščlamba sata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vođenje nastave - na što obratiti pozorno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obnost, odnos, jez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zentacija nastavnih sadrža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munikacija s učenic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tiviranje uče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aćenje rada uče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tvarenost cilje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govor nakon sa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osobnost uočavanja vlastitih postupa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ijest o mogućim alternativa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remnost na usavrša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Arial"/>
              </a:rPr>
              <a:t>Samovrednovanje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1619280" y="1484280"/>
          <a:ext cx="6408720" cy="4240080"/>
        </p:xfrm>
        <a:graphic>
          <a:graphicData uri="http://schemas.openxmlformats.org/drawingml/2006/table">
            <a:tbl>
              <a:tblPr/>
              <a:tblGrid>
                <a:gridCol w="3024000"/>
                <a:gridCol w="338472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DA analiz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me se možemo pohvaliti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kojim se teškoćama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odnevn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usrećemo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2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ji su na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neiskori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i resursi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to nas koči na putu prema napretku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2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mo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o napraviti da budemo jo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ji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o nam može pomoći u napretku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sobe, institucije…)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Bradley Hand ITC"/>
                <a:ea typeface="Arial"/>
              </a:rPr>
              <a:t>   </a:t>
            </a:r>
            <a:r>
              <a:rPr b="1" lang="hr-HR" sz="3600" spc="-1" strike="noStrike">
                <a:solidFill>
                  <a:srgbClr val="c00000"/>
                </a:solidFill>
                <a:latin typeface="Bradley Hand ITC"/>
                <a:ea typeface="Arial"/>
              </a:rPr>
              <a:t>Pitanja?</a:t>
            </a:r>
            <a:endParaRPr b="1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5" name="Rectangle 7"/>
          <p:cNvSpPr/>
          <p:nvPr/>
        </p:nvSpPr>
        <p:spPr>
          <a:xfrm>
            <a:off x="1643040" y="3643200"/>
            <a:ext cx="6697800" cy="2122560"/>
          </a:xfrm>
          <a:prstGeom prst="rect">
            <a:avLst/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čenje nas ne bi trebalo samo dovesti nekud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no nam treba omogućiti (pomoći) da kasnij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demo dalje na mnogo lakši način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. Bru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2920" y="5214600"/>
            <a:ext cx="58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  <a:ea typeface="Arial"/>
              </a:rPr>
              <a:t>Hvala na sudjelovanju!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714240" y="228564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pute za rad/ praćenje nast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isana pripre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todički podsjet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acija nastavnog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vođenje nastavnog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ščlamba s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movredno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3"/>
          <p:cNvSpPr/>
          <p:nvPr/>
        </p:nvSpPr>
        <p:spPr>
          <a:xfrm>
            <a:off x="298800" y="42876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lan izlaganj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8501040" cy="24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etaljno razrađena sa svim sastavnicama ( ciljevi, zadaci, oblici i metode rada, prilozi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lovnica: glavni naslov, podaci o nastavnom predmetu, razrednom odjelu, nastavnoj cjelini i jedinici, nadnevak, škola, ime i prezime pristupnika, ime i prezime nastavnika mentora na stručnom ispit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3"/>
          <p:cNvSpPr/>
          <p:nvPr/>
        </p:nvSpPr>
        <p:spPr>
          <a:xfrm>
            <a:off x="320760" y="428760"/>
            <a:ext cx="76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isana priprema za nastavni sat na stručnom ispit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357120" y="171468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ip sata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j 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daci nastave, oblici rada i nastavne metode, nastavna sredstva i pomagala, korelacija s drugim nastavnim predmetima, literatura/ izvori znanja za učenike i nastav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ganizacija nastavnoga sata: etape, njihovo trajanje i nastavne metode koje se koriste u pojedinoj et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rtikulacija nastavnog sata unutar svake etape, nastavna sredstva i pomagala, nastavne met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n plo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pis prilo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Rectangle 3"/>
          <p:cNvSpPr/>
          <p:nvPr/>
        </p:nvSpPr>
        <p:spPr>
          <a:xfrm>
            <a:off x="325800" y="42876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lementi pisane pripreme za nastavni sat na stručnom ispit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ip 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lj nastavne jedinice/ 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daci nastave: znanja, geografske vještine, stavovi                                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Bloomova taksonom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lici 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vne met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vna sredstva i pomag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ljučni pojm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relac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cija nastavnog 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lan ploč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Metodički podsjetnik 1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8501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Text Placeholder 2"/>
          <p:cNvSpPr/>
          <p:nvPr/>
        </p:nvSpPr>
        <p:spPr>
          <a:xfrm>
            <a:off x="928800" y="1571760"/>
            <a:ext cx="65008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ip sata: obrada, ponavljanje/vježbanje, provjeravanj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lici rada: samostalni rad, rad u parovima, skupni rad, frontalni rad, timska nastava, teorija igre, projektna nastav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daktički                     ili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5"/>
          <p:cNvSpPr/>
          <p:nvPr/>
        </p:nvSpPr>
        <p:spPr>
          <a:xfrm>
            <a:off x="2643120" y="3357720"/>
            <a:ext cx="1152720" cy="863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Metodički podsjetnik 2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8501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Text Placeholder 2"/>
          <p:cNvSpPr/>
          <p:nvPr/>
        </p:nvSpPr>
        <p:spPr>
          <a:xfrm>
            <a:off x="928800" y="1571760"/>
            <a:ext cx="65008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vne metode= način rada u nastavi, demonstracijske i verbalne, odnose se na nastavnikov i učenikov načina rada: usmenog izlaganja, razgovora, demonstracije, rada s tekstom, grafičkih radova, izvanškolsko učenje, programirana nastava, učenje pomoću računal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Metodički podsjetnik 3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785840" y="1571400"/>
            <a:ext cx="40388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iljevi obrazovanja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uvremeni pristu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gnitivno područje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n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spozna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fektivno područje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avov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interesi, motivaci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sihomotoričko područje (tjelesne aktivnosti 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vješti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 Placeholder 2"/>
          <p:cNvSpPr/>
          <p:nvPr/>
        </p:nvSpPr>
        <p:spPr>
          <a:xfrm>
            <a:off x="928800" y="1571760"/>
            <a:ext cx="3571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iljevi obrazovanja 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tradicionalni pristu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) Materijalni – znanja/ spoznaj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) Funkcionalni – sposobnos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) Odgojni – stajališ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Metodički podsjetnik 4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5720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785840" y="1428840"/>
            <a:ext cx="4038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astavna pomagala ili prib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jim se služe nastavnici i učeni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obradi nastavnog sadrža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bor za pisanje, pomagala z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rtanje, ručni alat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emonstracijska pomagal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sperimentalna pomagal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strumenti, aparati, strojev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lektronski uređa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na se mora uskladiti 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ljevima učenja i metodičko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daktičkim zahtjevima nastavno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 Placeholder 2"/>
          <p:cNvSpPr/>
          <p:nvPr/>
        </p:nvSpPr>
        <p:spPr>
          <a:xfrm>
            <a:off x="428760" y="1428840"/>
            <a:ext cx="41432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astavna sredstva ili izvori znanj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 didaktički oblikovani, objektivno dani predmeti, proizvodi ljudskog rada, koji u nastavi služe kao izvori spoznavanja, odnosno učenj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mjenjuju izvornu stvarno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djela: tekstualna, vizualna, auditivna, audiovizualn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nekad, isti predmet može biti nastavno sredstvo i pomagal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reduju između prostorne stvarnosti i učenik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02:39Z</dcterms:created>
  <dc:creator>Korisnik</dc:creator>
  <dc:description/>
  <dc:language>en-US</dc:language>
  <cp:lastModifiedBy>Sonja</cp:lastModifiedBy>
  <dcterms:modified xsi:type="dcterms:W3CDTF">2013-03-24T10:56:18Z</dcterms:modified>
  <cp:revision>66</cp:revision>
  <dc:subject/>
  <dc:title>ULOGA RAVNATELJA U UVOĐENJU PRIPRAVNIKA U SAMOSTALAN RAD</dc:title>
</cp:coreProperties>
</file>