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4449-BDD6-4201-9E21-AA38C49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1F06-8289-4ECE-9799-933F51AF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8A467-33D9-4FAA-9ED4-A900D84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D08C3-4C2B-4EE3-BEC5-B0EE5593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6371-CED6-4554-B69C-7CEE986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FEB0D-F9A3-4142-A1B1-1896816A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BDD6E-967F-4603-B532-80E3C50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BDBE5-DCB6-4CA4-B161-04F2540B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822E3-601F-4147-B3E3-531599C8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70DB-71C5-4187-9158-F360AE1A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181E-E0EE-47A9-9D10-08A7A91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EA1D2-F8EB-4E1E-B488-0CA67512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8E03-037D-4B4F-ADA7-126490B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12D5-F30E-4C98-A98C-0FC31095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F9DE-17BE-4CBB-93E4-0BCEBEF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6A88-A1CE-4087-882C-FDBDDB4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CE270-B395-4B18-80C5-5142C634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3A4A1-CDE7-4DDC-9C44-DC38AD0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3B051-D7FF-4B27-8F4C-78572B6C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7AAC-10D9-4046-A9DF-0A5A9097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3E208-1A65-44FF-9196-E04195E4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8835-9B20-4882-B183-427478E3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30681-ED14-44A9-9615-F34B049E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CD963-DD12-49D9-8DD9-C8EAB903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C6BB-33E6-46A1-87AA-48559AD6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1DCC-702A-4B55-B916-E39A5E02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3326-1B1E-462A-A767-729CA572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FB5D-FA23-41C4-B08C-A68CE78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CE41E-D349-499C-95CE-39F54161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7473-501E-4900-9792-C53F830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7BE9-DA99-486E-B832-4AD5A01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CCEB-44A4-4A0A-ADCC-80838C5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DE49B-EA1D-4C8F-B366-6F57F022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9F76B-9097-4915-828C-71592473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4478D-382C-451C-8C36-65CA7A54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E1496-F432-4CE7-B3D2-09DD96F3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48459-7974-4FE0-ADC6-4395E40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B659C-36C2-4D6B-891E-494DF3FF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2CCA9-319E-4DCB-BE1B-ED0FF626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2DE51-B8EA-4869-BCE8-E4B81C4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4D134-694F-49D1-8503-51E0EB9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E1E10-177C-470A-B40C-ED9E61C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76F81-D84B-4C17-875F-B639360A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D0832-3499-4A8E-8AFD-4C279DF0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299AE-E4C1-430B-9C96-82CE122C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56859-591E-4E4D-AE6F-63EA55CB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F66AF-07CE-448D-BE42-E97CD142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28F79-CE7C-4EB7-A363-55BC0DA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4EC4B-60DC-4891-9EED-9AE2BB8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F919-08FF-4877-A590-8AC342C8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49349-79B3-4C03-A9DD-09F2596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30FEC-00A3-43F2-8234-2A9E448A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61E4F-6D3E-46C2-BBBB-CE40AAD4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28A00-F011-4865-B718-ED555C58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5F494-CEB8-4DAF-85C8-54959CB2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19B51-99BB-4BA4-85AF-AC6849F5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CB446-017E-4981-8614-12190E90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4D25-82A3-424D-86EA-7AC64CC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DCE1A-6CDE-48F1-805F-5E80646B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8FF40-A86D-4F5B-BF9F-96BDAE2C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B352E-2A00-4EF2-85E3-B8763DF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170CB-C11E-43B2-B520-12B5B398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306E2-F593-447F-AC55-357CB57A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759CB-E731-48B5-886C-E0203AC3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CCEFC-2525-4926-8447-C5152B1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F12A4-16BE-44FF-BEC0-91FCF07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9D31A-8D83-4334-A3B9-E71C113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F0F7B-32B7-4409-BA6C-CC99B262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FB14-B592-41A9-B5B0-D4741294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2248-56BB-4683-AC80-18E7F0B6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888E7-9AA5-4F9F-B5CB-6286B92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A536A-6DBA-4C7D-AA86-659976A7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D5A22-CA81-4094-AC9E-F38A2C2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40A39-F95A-4858-92CE-34901CF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24DD4-0C0F-4304-9669-6D47B9D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C3EDD-D100-4EEB-B420-1503051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CA3A4-24A1-4F39-874B-1E4FE49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72F7A-E5EC-4A3A-9541-860972A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9E86B-C841-4F0F-B361-043668B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90D96-6601-4345-99C8-7ACB17B6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F3759-69B7-49E9-B5D5-C62543E9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8FBD7-D944-4D4A-9A34-37847677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83E61-0A9E-4733-BF4F-EAF9F54F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6D8E9-E10E-41D7-906E-B866DE4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7FD34-A795-4773-806C-28199720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43084-DEA3-4D87-8AB9-2E9D6E0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49E8D-C524-4168-AE02-EBDA4A81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0D8E8-BE07-4C8E-BE84-1EFDAC6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5C367-2C37-40B8-89FD-A891B0F5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101C4-5980-47E8-980C-6C04C97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E9E5D-0DF9-4398-81FF-96FF8B22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74ED4-3204-4A8A-9368-672F492A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E024F-9FE2-4DA6-8B3A-E311F12C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7B498-862A-4B56-BAC6-35A87ED3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AC52B-1E14-4BC1-9EA4-53C7B37D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135A0-988C-45EC-A2F3-ACFABA3A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F75B2-E9A0-4E41-80B6-0E9271EC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28A8E-3FC1-440D-8F46-E61A75E4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28309-A000-49DA-B804-3A2A3110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6F57B-AEDB-4853-924F-47DDFC6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AC58D-BA4F-489D-A0B2-DF8EFCD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325FF-2202-4FEA-8E7B-65A5216D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492DB-365F-4FFC-87CE-FC452320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8B2FF-ABFD-4B52-B106-C75E328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45573-6751-4BE7-8301-7AE05762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8BE61-5123-4470-A788-CBE54350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EE9F6-4BE1-4A92-BA44-ED5456C6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76C23-4BF6-421D-ADDD-BFE9CD2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FEBA8-4DB3-4E7A-BB9E-61B7644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BF369-78CD-45FE-93AB-67CB331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0F2E6-921F-4E7F-AD1A-8CBEA057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1624B-F81F-420D-84BD-F5F270D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A661E-6627-48CB-8E77-B78C84A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FEE6D-2A6B-44E9-A2CE-4B58F2A5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A252B-6420-41E1-BAD2-52F52DD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C0702-E2D5-4439-A6B5-4CBD2AC9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6E4CF-0330-41DA-8C87-82FAB806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DEA11-C869-417F-9E0C-8D1CDAD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174F1-88BB-41E8-9997-48C11401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7360A-DDAF-44E7-A407-8309BAB7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78C86-AD2F-4D29-AB06-7EDE9FE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5F94F-E4CD-4A75-8A8E-CC55124D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C49F0-A25C-4A37-B2CD-5BAC819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329DA5-1E48-41E2-96E6-9B62804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49DA6-3945-4F68-847C-00E6ACF6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DE89D-DE36-4286-BA5B-344786C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396CD-CDB8-4F30-81F9-77498F8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CFA42-CFB1-43A9-B9EF-EC0398A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2CA26-4822-4077-B812-1263BD53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A4B7E-720B-4170-B8F1-8C589CBA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45095-F396-442F-881D-586E10F4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0B7F0-DCB0-4FE1-8CED-5152C9C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20BD96-C974-4712-B34B-17642B0B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300909-018C-45A2-A8D5-F358221A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85506-C2C9-42A3-9C2F-32E6A405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7BDD6-6C91-46B9-A749-9770D5C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7CCDC-1501-4C2F-9007-1F44684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97C78-3DE5-4061-BF47-AB2418DC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1615F-2CBB-41BE-A29B-F521625A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238E0-F764-4D93-B8AC-F3CD85E2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662B4-24E3-433A-B064-1DB15D5A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DE926-61CE-41F3-A5DA-8A4E312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DDA8F-C912-400D-A2A9-724D639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552A2-753F-4745-82B2-EC89D65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89779D-58AE-433E-8100-8DF51B5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B46C7-9F7A-4EBC-B659-BBE6F121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9BEFA-7C3E-4A04-AF38-DF8CC8C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29C88-C219-4D0D-988D-1AFD6DA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5E140-F920-49EF-9EE1-6F1DBC4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842A0-8716-42F2-9996-DC6E1140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F5EE8-C3BC-4A47-A24E-5914482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F61D0-B06A-4441-9925-C2017105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79C57-02EB-4315-A26E-2BAE4B9E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596CA-DE6D-4518-B8B8-D008AE3B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01800E-AC44-4235-BCAC-729AC405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FADB3-D2C5-448E-8CBE-F99B5C59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C4A20-D10E-4A48-A603-CB40AD8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34D79-8F90-4360-9EBB-20CDFB5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7E2AF-9624-4C42-B3F2-6C0D7196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D59BD9-6E5F-4993-B624-25344047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5745B-74B7-4651-A278-2F48B12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50785-48CF-436C-90AA-A4CFCA20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AC7B4-5429-4753-846E-95EF2A8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CCA0A-D8A1-445C-B338-ECC81117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CB9E8-F510-45ED-815B-B5BADD35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4E5-6C88-4C9E-B6A4-A9083726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D0C-F0FE-4984-BE56-2550FD52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962-A64C-496E-9AB2-A8CBE8C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4D6-2C58-44B4-BFB7-CAC1141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165-781D-4757-AB9C-A9E74DC9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4C6-1163-4BCB-8488-AE58B756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39A-F579-4879-BC5E-B22B5E83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D24-0198-417D-B87D-58430AA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2DD-2418-4BC7-8963-E1E29D4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1B6-4BDF-4EE5-9F76-69025682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A96-EFF7-451B-A539-2487A43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789-9BE9-48A9-AC2A-B7251557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969A-0E3C-4AE4-AC26-BC394B22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38DA-DF4C-450D-9DF4-433AAE0E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726-3F86-43D0-B82C-5905CB0B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99E4-2FA0-4145-B057-6BF575B2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7F60-97E0-4AD3-94CE-F9E0910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FBA-A82C-49C8-9C0C-00DFFC8B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8BC9-4045-449F-81AE-D0B5A77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A16-681F-4DCC-A538-BBCA186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F656-2A35-4BB7-868C-5BAD432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3B8-F668-4003-8DD9-FE9F7BD5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589-D16B-4C91-AA08-35EF6130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0EAB-23F8-4F09-9CFB-27684FFB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1588E-73AD-419B-938C-E7523DC7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8F61E-262C-4E32-8CAA-275E7AD5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655C-39D0-4FE8-B903-05113B37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ADF1-0384-4E10-9E8B-F9DA911B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59FC-BEDE-4984-A095-222F8B7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C4B6-B8D3-4A80-8A17-A357CDFC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6265-D9D0-47C2-9674-68A2F5B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F2E47-F682-4D04-A3A4-B9750749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9879-9C5E-4DBF-90C2-C5D57B2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63C72-6F36-49DF-9B64-49B09A1E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A21A-9D9C-45BF-8A93-E1679FA8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E656-4FD2-413B-B141-FAF8EF74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2AAA3-E925-4516-8C49-00879BB6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943D-1CC7-4A4E-ACBC-1E8FF461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3D33-AD6B-4574-B45C-C12DB46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06FD-06C5-4ACB-AA7B-D1E09C1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6EEA-E2E8-4F49-A1AD-4F3E8B2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41F6-25F9-4314-A47C-5302CB6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71C72-E027-4EF2-9B12-2C74FBDA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46FF6-8EFB-4FDE-AF33-0270317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5C5A-17BA-426F-8058-9C02BCD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8223-1F34-4ECB-9653-F44B7C9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18F3-22C3-4181-A0D5-D18535E5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C141-9F80-4B97-A7FE-F298F4A3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EF7F-2423-498C-8EBE-9959801A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39BB-863B-4134-A3FE-235DA10C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79CE-A2BC-450F-9B4D-A36471D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2E0E-B55E-4BBA-BC9D-E010A5E2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1067E-2DE3-4886-9A2B-59C45A39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8DA8-E5EE-402B-A795-5BB606A5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FB6CD-A038-440E-A7CA-601C28AF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40A4-ECD7-496F-97AA-6A37459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678D-518B-44CB-A380-9F1E4B05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CE32-627C-4E54-8784-D71AB90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677CB-65C4-4242-8F1B-BD2CFD2F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FB93-BBCC-43D1-BC3C-4BC2C2A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E346-FE56-44D3-BD4F-758EB7BB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3A5A-15B4-4123-8D0A-1512F0C4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E641-ADF6-4E05-BF4C-FF82909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919-DC1D-42F5-8561-F673D4DCA83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2145-3B39-426B-80C6-1CC341A7163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3FC-E7B7-493B-940C-443BC646B3E1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39FF-E365-4D79-8B7B-C93802857FA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2B6D-1F90-4864-8496-70E71914FF7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D7A2-990B-49D3-B1EB-E9B8E32999A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978-5C66-4647-919D-B1C8F0E742C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93B3-497A-4C41-9790-817CF1DE786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C8A-5212-45C3-A7C7-72B772A4AD8E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9176-62CA-4442-942D-6999DEAC3B98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4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4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98EF-C1BB-4856-A659-E81A16C3BED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BB2C-CF9C-422B-A512-DEBFC0E5381C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08880"/>
            <a:ext cx="6400800" cy="334800"/>
            <a:chOff x="-60480" y="6608880"/>
            <a:chExt cx="6400800" cy="33480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08880"/>
              <a:ext cx="64008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7A81-D061-402A-8EE9-4D0CF778911D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84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1517-BE5B-4B56-A9C7-861C3EF28472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7909-F702-4BB5-95B5-1235FE4F5BF4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EA83-00C0-4AC1-A2E1-2A3798A2BF83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664D-63C2-4DB2-B77D-70227E4B15DF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6570-8F0F-4654-92A9-7A243CF89DFA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76480"/>
            <a:ext cx="7472520" cy="334800"/>
            <a:chOff x="-60480" y="1176480"/>
            <a:chExt cx="7472520" cy="33480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76480"/>
              <a:ext cx="7472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8375-EB78-419C-A036-2785D19EA709}" type="slidenum"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STRUČNI SKUP ZA RAVNATELJE SREDNJIH ŠKOLA U PRVOM MANDAT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KE I PROPUSTI U RADU RAVNATELJA SREDNJIH ŠK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kon o zaštiti od nasilja u obitelji (Narodne novine, broj 116/03)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članak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dravstveni djelatnik, djelatnik socijalne skrbi, psiholog, socijalni radnik, socijalni pedagog i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djelatnik odgojno-obrazovne ustanove dužni su prijaviti policiji ili nadležnom općinskom državnom odvjetništvu za počinjenje nasilja u obitelji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iz članka 4. ovoga Zakona za koje su saznali u obavljanju svoje duž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*čl. 108. Obiteljski zakon i čl. 70. ZOOOSŠ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kon o radu (Narodne novine, broj 149/09)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3. Ugovor o ra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jesto rada (3 moguć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ji predmet predaje (dvopredmetni slučajev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ređeno ili neodređeno radno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uno ili nepuno radno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odatni uvjeti (probni rok, stručni ispit, pedagoško-psihološko obrazovan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71. Zabrana otkaza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1) Za vrijeme trudnoće, korištenja rodiljnog, roditeljskog, posvojiteljskog dopusta, rada s polovicom punog radnog vremena, rada u skraćenom radnom vremenu zbog pojačane njege djeteta, dopusta trudnice ili majke koja doji dijete, te dopusta ili rada u skraćenom radnom vremenu radi skrbi i njege djeteta s težim smetnjama u razvoju, odnosno u roku od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petnaest dana od prestanka trudnoće ili prestanka korištenja tih prava,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poslodavac ne može otkazati ugovor o rad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trudnici i osobi koja se koristi nekim od spomenutih pr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71. st. 2.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2) Otkaz je ništetan ako je na dan davanja otkaza poslodavcu bilo poznato postojanje okolnosti iz stavka 1. ovoga članka, il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ko radnik u roku od petnaest dana od dostave otkaza obavijesti poslodavca o postojanju okolnosti iz stavka 1. ovoga članka te o tome dostavi odgovarajuću potvrdu ovlaštenog liječnika ili drugog ovlaštenog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107. Redoviti otkaz – tehnološki višak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rajanje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a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valid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veze uzdrž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roširivanja ili mijenjanja odredaba 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stavnica radi jako dobro, bolje od ostal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stavnica je zadnja zapos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108. Izvanredni otkaz ugovora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roku od 15 dana od dana saznanja za činjenicu na kojoj se otkaz temel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otpremnine i otkaznog ro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trebno je paziti na formalne, sadržajne i pravne propu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111. Postupak prije otkaziv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isano upozorenje na obveze iz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davac je dužan omogućiti radniku da iznese svoju obr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davac je dužan razmotriti obr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118. Savjetovanje radničkog vijeća o otkaz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ražiti pisanim putem mišlj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motriti mišljenje prije donošenja odlu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slodavac ne mora uvažiti mišlj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c00000"/>
                </a:solidFill>
                <a:uFillTx/>
                <a:latin typeface="Calibri"/>
              </a:rPr>
              <a:t>Zakon o odgoju i obrazovanju u osnovnoj i srednjoj školi (Narodne novine, broj 87/08,  86/09, 92/10 i 105/10)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37. škola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mož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irati izlete, ekskurzije i…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38. škola je dužna izraditi detaljan program (za aktivnost iz čl. 3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51. st. 4. nastavni sat traje 45 minut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56. u školi se upotrebljavaju udžbenici koje je odobrilo Ministar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51. st. 1. al. 2., kaznene odredbe, novčane kaz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61. prava i obveze uče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st. 2. pohađanje nastave,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zlozi izlaganja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očene pogreške i propusti u stručno-pedagoškim i inspekcijskim nadzo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očene pogreške u svakodnevnim razgovor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poruke voditelja ŽSV-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liska i delikatna“ prva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i cijeli prvi mandat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posljedice pogreš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73. st. 2. Uspjeh učenika 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ključna ocjen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za svaki nastavni predmet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utvrđuje se javno u razrednom odjelu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, odnosno obrazovnoj skupin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a kraju nastavne god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75. st. 2. popravni ispit… krajem lipnja i krajem kolovo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88. st. 1. obveza samo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92. st. 1. škola može započeti s radom nakon što je pribavila rješe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51. st. 1. al. 3., kaznene odredbe, novčane kazn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08. st. 2. pripravnički staž traje godinu d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17. st. 4. Postupak licenciranja provodi NCVVO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25. st. 6.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sjećuje nastavu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nalizira rad učitelj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 (prioriteti, obrasci praćenj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136. st. 2.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Ako roditelj zanemaruje svoje obveze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iz stavka 1. ovog članka,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škola mu je dužna uputiti pisani poziv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za razgovor s razrednikom i stručnim suradnicima ško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čl. 136. st. 4.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Ako roditelj učestalo zanemaruje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obveze iz stavka 1. ovog članka,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škola je dužna o tome obavijestiti ured državne uprave, odnosno Gradski ured i nadležnu ustanovu socijalne skrbi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koji su dužni izvijestiti školu o poduzetim mjerama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čl. 157. st. 1. Učitelji, nastavnici i stručni suradnici koji su zasnovali radni odnos u osnovnoj ili srednjoj školi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prije 12. ožujka 1994. nisu obvezni polagati stručni ispit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rema odredbama ovog Zakona.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ZOOOSŠ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Čl. 138. st.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Učenik na kraju prvog polugodišta </a:t>
            </a:r>
            <a:r>
              <a:rPr b="1" lang="hr-HR" sz="3600" spc="-1" strike="noStrike" u="sng">
                <a:solidFill>
                  <a:srgbClr val="000000"/>
                </a:solidFill>
                <a:uFillTx/>
                <a:latin typeface="Calibri"/>
              </a:rPr>
              <a:t>dobiva pisano izvješće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 o postignutom uspjehu iz nastavnih predmeta i o vladanj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ravnatelja vezane uz djelatnost AZO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žiranje i stručni is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predovanja i obnove z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učno-pedagošk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Načelne 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a briga pripravnici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nekim slučajevima ništa, posljedice…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ne nadzire stažir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to radi stručna suradnica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skakanje“ pripravničkog staža (čl. 109.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Veće 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menovano povjerenstvo za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prijavljeno stažir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zrađe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realiziran program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ntor ne ispunjava svoje obve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odgovarajuća stručna sprema pripravnik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apsolvent ili nestručna osob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stale pogreške i propusti kod stažir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javljivanje stažiranja kod kraćih zam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a ili zakašnjela prijava stažir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menovanje za mentora osobe koja to ne može b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avještavanje Agencije za odgoj i obrazovanje o prelasku pripravnika u drugu šk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staje izvješće o ostvarenom pripravničkom staž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i propusti u postupku napredov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a doku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vjerena dokument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isana doku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statak potrebnih preslika dokumen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laganje nepotrebne dokumentacije (koja se ne bodu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o slanje izvorne dokumen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Razlike između inspekcijskog i stručno-pedagoškog nadzor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novna zadaća prosvjetne inspekcije je nadziranje zakonitosti rada šk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snovna zadaća stručno-pedagoškog nadzora je stručno-pedagoški rad djelatnika šk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i propusti u postupku napredovan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ocjenjivanje na tiskani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vrednovanje izvannastavnih aktiv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vrednovanje stručnog usavrša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zbrojeni bod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ašnjeli podnes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itna ocjena rad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 vezi zasnivanja radnog odnos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o zasnivanje radnog odn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stu spreme (neodređeno vrije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tupanj spreme (neodređeno vrije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propisanih uvjeta za zasnivanje radnog odnos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o zasnivanje radnog odnosa na određeno vrij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uglasnost školskog odb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pri raskidanju ugovora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savjetuje radničko vijeće prije ot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18. 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štuje propisane kriterije za tehnološki višak (čl. 107. 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širivanje kriterija za tehnološki viš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ogreške vezane uz ugovor o radu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tuzakonit ug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i radnik ima nekoliko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ugovora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 ugovor o radu (čl. 13. ZOR-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ugovora i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ugovoru piše jedno,a radnik radi drug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rješenja o zaduženju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avilno ili nepotpuno napisana rješ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izdana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Pravilnik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ugovorom o ra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 skladu s člankom 104. Zak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javljen prekovremeni rad (inspekcij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an prekovremeni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ćanje prekovremenog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sklađenost zaduženj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u 6 dokumen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ijenjanje obvez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e promjene mjesta r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vnatelj ne vrši uvid u na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analize rad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čenik „oslobođen“ IN na kraju polugodišta (čl. 27. st. 2. i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bacivanje učenika s nastave iz učio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lanje učenika kuć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lazak iz škole  za vrijeme odmor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Veće pogreš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trajanja sata (čl. 51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kraćivanje nast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učvršćeni gol *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mjena nastavnog plana i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a šteta *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odzakonskih ak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oraba neodobrenih udžb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e pogreš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nošenje svojih poslova na dru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rebna dežurstv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znavanje propisa * (ZUP, ZOR…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znavanje uredskog posl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otreba korekturnog laka 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pedagoškoj) dokumentac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e pogreš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olektivne naplate št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kupljanje novca (fotokopiranje, toaletni papir i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ve što se plaća nije obvez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zivanje na nečiju izjavu umjesto na uporište u propi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Stručno-pedagoški nadzor: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nadležnosti je Agencije za odgoj i obrazo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ode ga savjetnici i viši savjetn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vjetnici su po statusu javni služben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avjetnici imaju položen stručni isp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kon nadzora pišu nal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dlažu mje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užaju stručnu pomoć nastavnic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ažni iskazi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postupanje ili nepostupanje u slučaju ozljed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provedba Pravilnika o načinima, postupcima i elementima vrednovanj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e odabrano razredniš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ežurstva nastavnika i drugih rad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no vrijeme, termin za primanje strana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hvatljiv termin informacija za roditelje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 plan i program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duzimanje mjera *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avještavanje (roditelja, policije, CSS itd.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ih tragova i dok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egledana pedagoška dokument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a vrijeme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analize odgojno-obrazovnog s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veobuhvatne analize uspjeh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ovođenje samo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SP nadzorom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evidencije o neprihvatljivim oblicima ponašanja učenika (čl. 67. al. 7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izricanje pedagoških mj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formalni i pravni propu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blem facebooka (nastavnici, učenici)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izdavanje pisanog izvješća na kraju 1. polugodišta * (čl. 138. st. 3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htjev za preispitivanje ocjene nije obavilo nastavničko vijeće (čl. 76. st. 1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vjerenstvo za polaganje ispita nije odredilo nastavničko vijeće (čl. 76. st. 4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roditelj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sazvano vijeće učenika niti jedan 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održan niti jedan roditeljski sasta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i broj roditeljskih sastan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3 najmanje, čl. 16. st. 3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utvrđene nadzorom u zadnjih šest mjeseci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vremenika pisanih radov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remenik nije objavljen ne propisani način (čl. 10. st. 2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kriterija za ocjenjivanje učen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čl. 12. st. 3.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argumenata za ocjenu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je imenovana osoba za zaštitu dostojanstva radnika *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3 predmetna ispita u jednom d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običajena organizacija ra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eki uvijek po pod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pedagoga samo u jednoj smj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ravnatelja samo prije p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2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dabir razred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ganizacijska nepreciznost (2 sata 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stava HJ blok sat četvrtak i pet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zamjene odsutnih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eviše “rupa” u rasporedu za učen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Organizacija rada i nastave 3</a:t>
            </a:r>
            <a:br>
              <a:rPr sz="3200"/>
            </a:b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edan predmet dvije osobe (npr. vjerona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zakonite promjene mjesta rada, posla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Uporišta u propisim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kon o odgoju i obrazovanju u osnovnoj i srednjoj školi (Narodne novine, broj 87/08, 86/09, 92/10, 105/10, 90/11 i 16/12)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kon o ustanovama (Narodne novine, broj 76/93, 29/97 i 47/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kon o Agenciji za odgoj i obrazovanje (Narodne novine, broj 85/0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kon o stručno-pedagoškom nadzoru (Narodne novine, broj 73/9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Zakon o prosvjetnoj inspekciji (Narodne novine, broj 61/11 i 16/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nema GPIPR šk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nema GPIPR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nije donesen u propisanom ro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izuzetno loš GPIPR (pa se ne može tretirati kao GPIP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* nije provedena rasprava na nastavničkom vijeću i vijeću rodi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 preambule,  potpisa  i  peč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sažetaka glavnih podataka na počet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 sadržaja  i  numeracije  stra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 plan i program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grešno razrađen plan i program rada ravnatel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o  stručno  usavrš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razrađena  zaduženja  nastav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pr. 20 sati nast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Godišnji plan i program rada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eventivnog  program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 programa  za suzbijanje  nasilja ili je nerazrađ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ema samovredno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ih dokaza o provedenim aktivnostim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laniranje 1. roka popravnog isp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dokumentacije o popravnim ispi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tpuna dokument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npr. nema pisanog rada uče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d nepotpunog povjeren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vezane uz popravne ispit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isanog traga da li je učenik znao, djelomično znao ili nije zn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pečata, potpisa, datu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oštivanje Pravilnika (kolizija Statuta i Praviln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imjerena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više pit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čl. 73. st. 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javno, u razrednom odjelu, na kraju)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ljučna ocjena koja je nestručno izved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ažnjavanje oc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ma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malo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isu upisane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risanje oc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11“ na jednom s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učenika koji nije prisu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kasno“ upis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rubriku za ocjene upisivati samo ocj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koristiti korekturni 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upisivati običnom olov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spekcijske primjedbe“ (+, -, *, ?, /,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pisno praćenje u koliziji s oc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4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isivanje ocjene u nedefinirani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isivanje ocjene u neodgovarajuću rubr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pisan dva puta isti element u ime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gradiva koje nije obrađ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cjenjivanje gradiva koje nije predviđeno NP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kon o Agenciji za odgoj i obrazovanje (Narodne novine, broj 85/06)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čl. 4. (izvadak)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uža stručnu  pomoć al.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odi stručno usavršavanje al.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odi stručne ispite al.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odi stručno napredovanje al.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bavlja stručno-pedagoški nadzor al.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5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bjektivno ocjenjiva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(isti nastavnik, isti pisani rad, dvije ocje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 kriteriji ocjenjivanja („rešetka“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argumentirana ocjena iz vlad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lizija Zakona (čl. 73.) i Pravilnika (čl. 15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dovoljna fleksibilnost u „posebnim situacijam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ogreške kod ocjenjivanja učenika 6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loša komunikacija nastavnika (u vezi ocje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obavještavanje roditelj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davanje pisanih radova na uv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čuvanje pisanih rad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Preporuk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dobra komunikacija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(paziti na neprimjerene izja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icajno rukovođenje i upravlj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stvarati nepotrebno „neprijatelje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vjera usklađenosti svjedodžbe, matične knjige i imenika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vati pedagošku dokumentaciju, praviti pisane bilješke, poduzimati…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odnosa obrade, ponavljanja i ispit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planova i 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kontrola ocjena i ocjenjiv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ontrola neopravdanih izostanaka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gledati neke bilježnice uče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Preporuke 3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važnost pisanih trag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imati potvrdu o primitku pisanog do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rovjera osobnih  dosj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 poslovati s nepouzdanim turističkim agenc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steklo zvanje mentora ili savjetn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nazočnost ravnatelja u ško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/>
          </p:nvPr>
        </p:nvSpPr>
        <p:spPr>
          <a:xfrm>
            <a:off x="468360" y="162720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Financijsko poslovanje Škole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nije u nadležnosti Agencije za odgoj i obrazovanje imajući u vidu čl. 150. st. 2. Zakona o odgoju i obrazovanju u osnovnoj i srednjoj školi (Narodne novine, broj 87/08,  86/09, 92/10 i 105/10). U navedenom članku piš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Nadzor i kontrolu namjenskog trošenja sredstava koja se školskim ustanovama osiguravaju iz državnog proračuna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obavlja Ministarstvo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, a nadzor i kontrolu namjenskog trošenja sredstava koja se školskim ustanovama osiguravaju iz proračuna jedinice lokalne i područne (regionalne) samouprave i drugih izvora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obavlja osniva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Što ne spada u SP nadzor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Ostalo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Privatni život i moralne vrijednosti također nisu predmet stručno-pedagoškog nadz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Navodne prijetnje i mobing također nisu predmet stručno-pedagoškog nadzora, a oštećena strana može se žaliti imenovanoj osobi za zaštitu dostojanstva radnika, školskom odboru (koji ravnatelja imenuje i razrješava) ili pokrenuti postupak tužbom kod nadležnog su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azrješenja ravnatelja 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 zakup školskog pro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zakonito zapošlja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eški financijski prekrša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koračenje ovla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votvorenje dokument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votvorenje potpi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poduzimanje potrebnih mj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Razrješenja ravnatelja 2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 u="sng">
                <a:solidFill>
                  <a:srgbClr val="000000"/>
                </a:solidFill>
                <a:uFillTx/>
                <a:latin typeface="Calibri"/>
              </a:rPr>
              <a:t>upisi učenika u S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9182160" cy="678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hr-HR" sz="4400" spc="-1" strike="noStrike">
                <a:solidFill>
                  <a:srgbClr val="c00000"/>
                </a:solidFill>
                <a:latin typeface="Calibri"/>
              </a:rPr>
              <a:t>Hvala!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Zakon o prosvjetnoj inspekciji </a:t>
            </a:r>
            <a:br>
              <a:rPr sz="3200"/>
            </a:br>
            <a:r>
              <a:rPr b="1" lang="hr-HR" sz="3200" spc="-1" strike="noStrike" u="sng">
                <a:solidFill>
                  <a:srgbClr val="c00000"/>
                </a:solidFill>
                <a:uFillTx/>
                <a:latin typeface="Calibri"/>
              </a:rPr>
              <a:t>čl. 23. st. 1.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nspektor će zatražiti stručno-pedagoški ili drugi stručni nadzor ako u provedbi inspekcijskog nadzora uoči stručno-pedagoške ili druge stručne propuste, nedostatke ili nepravilnosti, ili ako procijeni da je za utvrđivanje činjenica i ocjenu stanja u nadziranoj ustanovi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potrebno stručno-pedagoško, odnosno drugo stručno zn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23. st. 2.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 osnovi izvješća o stručno-pedagoškom, odnosno drugom stručnom nadzoru inspektor može učitelju, nastavniku, stručnom suradniku i drugoj osobi koja obavlja odgojno-obrazovne poslo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. narediti otklanjanje propusta, nedostataka, odnosno nepravilnosti u određenom rok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2. zabraniti obavljanje odgojno-obrazovn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Calibri"/>
              </a:rPr>
              <a:t>čl. 23. st. 3.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ješenje s naredbom, odnosno zabranom iz stavka 2. ovoga članka inspektor može donijeti ako su u stručno-pedagoškom, odnosno drugom stručnom nadzoru utvrđeni propusti, nedostaci ili nepravilnosti i ako je 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Calibri"/>
              </a:rPr>
              <a:t>osoba ovlaštena za stručno-pedagoški, odnosno drugi stručni nadzor, predložila naredbu, odnosno zabranu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41:54Z</dcterms:created>
  <dc:creator>Željka</dc:creator>
  <dc:description/>
  <dc:language>en-US</dc:language>
  <cp:lastModifiedBy>mrogac</cp:lastModifiedBy>
  <dcterms:modified xsi:type="dcterms:W3CDTF">2013-02-08T14:19:14Z</dcterms:modified>
  <cp:revision>49</cp:revision>
  <dc:subject/>
  <dc:title>Slide 1</dc:title>
</cp:coreProperties>
</file>