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8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wind.wav" ContentType="audio/x-wav"/>
  <Override PartName="/ppt/media/image7.jpeg" ContentType="image/jpeg"/>
  <Override PartName="/ppt/media/image10.wmf" ContentType="image/x-wmf"/>
  <Override PartName="/ppt/media/image6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C01E-4CBC-4CD2-87C2-200744F3D7A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457C-9A4A-49B3-B445-DBB1C5F79A09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7920" y="4427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Istraživanja su pokazala da ljudi provode preko 70 posto budnog vremena uključeni u neke od komunikacijskih aktivnosti: slušanju, čitanju, govorenju ili pisanj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Kako vidite, više od polovice tog vremena provodimo slušajući (30 posto otpada na medije, radio i TV, a 23 posto na druge ljude, uključujući telefonske razgovor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Istraživanja također pokazuju da menedžeri provode čak 70 posto dnevnih aktivnosti u slušanju. Što je viša pozicija - viši je postota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100" spc="-1" strike="noStrike">
                <a:solidFill>
                  <a:srgbClr val="000000"/>
                </a:solidFill>
                <a:latin typeface="Arial"/>
              </a:rPr>
              <a:t>Da li se slažet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100" spc="-1" strike="noStrike">
                <a:solidFill>
                  <a:srgbClr val="000000"/>
                </a:solidFill>
                <a:latin typeface="Arial"/>
              </a:rPr>
              <a:t>Situacije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: telefon (mobi), sastanaci, razgovori poslovni i privatni, seminari i s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Ali kažu, slušamo samo sa </a:t>
            </a: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25 posto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naših mogućnosti, što znači da 75 posto onoga što slušamo ignoriramo, brzo zaboravimo, iskrivimo ili ne razumijem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osječna osoba zapamti 50 posto onoga što je čula u 10-min.razgovoru, a zatim pola od toga zaboravi za 48 sat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Mislimo da slušamo i kad neslušamo, zato što imamo uši i primamo zvukove – to je automatizam. To jednako kao da mislimo da znamo čitati jer vidim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AF7-0057-4BC4-9A4E-D3E42720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AD6-9C96-4F4A-A7BE-99CA997B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8FA-210B-4FCD-A521-3F060A14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6DD-D5C2-4CA6-82A9-5126E7FC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D2330-AD5E-4359-B3AF-1738E521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B8BF8-FBEB-4DF2-9833-051FE99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65A02-67CE-42B7-9DA9-F691EE51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05C5A-080A-40B6-8A11-D708CD87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2C014-339D-4DC0-9EC5-6B7C85EA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84EF3-8240-406B-A447-B2A35883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D1CA1-6AD7-45CE-BAC8-702F53CE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A4D-AFAF-4556-B34C-549A0E9D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33C3-DDF5-410D-83F2-2E8355E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57C09-289A-4D0F-B72C-A60A8A1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379F-1F0D-4E83-A581-8493E4E0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EB3F9-2507-44A0-93D8-C2899E72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8DCF5-9973-47F7-AFDB-120CA550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192-464F-4789-B182-7E6ED24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96B-AB37-4470-BE46-FB7E4FE2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104-13FE-405A-9939-DB368B0F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F8C-2DFE-408B-B659-5E10E3A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81A-EDBD-406B-B4DC-531768C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EAC-E6FE-4EF3-A609-2C2C19D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3B9-F006-4ED6-AC67-12172A9C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F45-4B7D-4897-A1E6-9FCEE3DFF20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B83-DB2B-49AA-93B8-68EB5C848C88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tor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>
            <a:off x="5580000" y="5157720"/>
            <a:ext cx="1476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IJEK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4211640" y="5805360"/>
            <a:ext cx="410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2.  veljače  2013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250920" y="549360"/>
            <a:ext cx="86486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VJEŠTINE KOMUNICIRANJ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7" descr="agencija_hr"/>
          <p:cNvPicPr/>
          <p:nvPr/>
        </p:nvPicPr>
        <p:blipFill>
          <a:blip r:embed="rId2"/>
          <a:stretch/>
        </p:blipFill>
        <p:spPr>
          <a:xfrm>
            <a:off x="5508720" y="4076640"/>
            <a:ext cx="1728720" cy="854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95" name="WordArt 8"/>
          <p:cNvSpPr txBox="1"/>
          <p:nvPr/>
        </p:nvSpPr>
        <p:spPr>
          <a:xfrm>
            <a:off x="5580000" y="6237360"/>
            <a:ext cx="17049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Pripremio: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Arial Black"/>
              </a:rPr>
              <a:t>Zoran Pavletić </a:t>
            </a:r>
            <a:endParaRPr b="0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Arial Black"/>
              <a:ea typeface="Arial Black"/>
            </a:endParaRPr>
          </a:p>
        </p:txBody>
      </p:sp>
      <p:pic>
        <p:nvPicPr>
          <p:cNvPr id="96" name="neverbalna komunikacija.wmv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34084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redstavlja dijeljenja znanja interakcijom sa drugim jedinkama i predmetim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Ovo uključuje vizualne metode, kao što su znakovni jezik, te auditorne, ka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što su glas i muzika, kao i fizikalne, kao što je dodir</a:t>
            </a: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LOŽEN PRO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ČIJI USPJEH NIJE UVIJEK ZAJAMČ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2484360" y="1052640"/>
            <a:ext cx="4057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OMUNIKACIJA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tvar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anj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međuljudsk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ih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odnos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održava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nj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i podržava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nje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ljudsk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ih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vez</a:t>
            </a:r>
            <a:r>
              <a:rPr b="0" i="1" lang="hr-HR" sz="16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SNOVA I UVJ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SPJEHA SVIH POSLOVNIH I PRIVATNIH MEĐULJUDSKIH ODN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2340000" y="1052640"/>
            <a:ext cx="43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OMUNICIRANJE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JEŠTINA 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JEŠTINA SLUŠ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VJEŠTINA PIS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611280" y="765000"/>
            <a:ext cx="761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OMUNIKACIJSKE  VJEŠTINE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547640" y="476280"/>
            <a:ext cx="1152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78%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1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1900" spc="-1" strike="noStrike">
                <a:solidFill>
                  <a:srgbClr val="ffffff"/>
                </a:solidFill>
                <a:latin typeface="Tahoma"/>
              </a:rPr>
              <a:t>9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8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hr-HR" sz="19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87280" y="404280"/>
            <a:ext cx="4248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neverbalna komunik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glas i dik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sadržaj  i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iječ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zvučni signifikanti (jačina i boja gla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zraz lica, držanje tijel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zualni kontakt oči u oči,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estikul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nixon"/>
          <p:cNvPicPr/>
          <p:nvPr/>
        </p:nvPicPr>
        <p:blipFill>
          <a:blip r:embed="rId1"/>
          <a:stretch/>
        </p:blipFill>
        <p:spPr>
          <a:xfrm>
            <a:off x="1692360" y="3573360"/>
            <a:ext cx="2098440" cy="23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jfk"/>
          <p:cNvPicPr/>
          <p:nvPr/>
        </p:nvPicPr>
        <p:blipFill>
          <a:blip r:embed="rId2"/>
          <a:stretch/>
        </p:blipFill>
        <p:spPr>
          <a:xfrm>
            <a:off x="4643280" y="3573360"/>
            <a:ext cx="2089440" cy="2378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1908000" y="476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hr-HR" sz="3200" spc="-1" strike="noStrike">
                <a:solidFill>
                  <a:srgbClr val="ffffff"/>
                </a:solidFill>
                <a:latin typeface="Tahoma"/>
              </a:rPr>
              <a:t>Svakim danom, u svakom pogledu, sve više i više napredujem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".</a:t>
            </a:r>
            <a:br>
              <a:rPr sz="3200"/>
            </a:b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ff"/>
                </a:solidFill>
                <a:latin typeface="Tahoma"/>
              </a:rPr>
              <a:t>"Ja sam mudar/ra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2843280" y="981000"/>
            <a:ext cx="3162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IRMACIJ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840960" y="2150280"/>
            <a:ext cx="7462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William Jam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''Kad god se sretne dvoje ljudi u stvari je prisut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 lju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svatko od njih poima seb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svakoga od njih poimaju drugi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vi su uistinu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588000" y="4869000"/>
            <a:ext cx="15336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 flipV="1">
            <a:off x="611280" y="549000"/>
            <a:ext cx="1439640" cy="1366920"/>
          </a:xfrm>
          <a:prstGeom prst="line">
            <a:avLst/>
          </a:prstGeom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Oval 3"/>
          <p:cNvSpPr/>
          <p:nvPr/>
        </p:nvSpPr>
        <p:spPr>
          <a:xfrm>
            <a:off x="1116000" y="2205000"/>
            <a:ext cx="1943280" cy="2592360"/>
          </a:xfrm>
          <a:prstGeom prst="ellipse">
            <a:avLst/>
          </a:prstGeom>
          <a:solidFill>
            <a:srgbClr val="fcefa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5724360" y="2276640"/>
            <a:ext cx="1943280" cy="2592360"/>
          </a:xfrm>
          <a:prstGeom prst="ellipse">
            <a:avLst/>
          </a:prstGeom>
          <a:solidFill>
            <a:srgbClr val="e7fca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987640" y="2781360"/>
            <a:ext cx="2879640" cy="13460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346040"/>
              <a:gd name="textAreaBottom" fmla="*/ 480600 h 13460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db2d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2987640" y="3068640"/>
            <a:ext cx="2808360" cy="11304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130400"/>
              <a:gd name="textAreaBottom" fmla="*/ 403560 h 11304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dfec3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987640" y="3357720"/>
            <a:ext cx="2808360" cy="11300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130040"/>
              <a:gd name="textAreaBottom" fmla="*/ 403560 h 11300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3b34b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WordArt 8"/>
          <p:cNvSpPr txBox="1"/>
          <p:nvPr/>
        </p:nvSpPr>
        <p:spPr>
          <a:xfrm rot="19072800">
            <a:off x="179280" y="836640"/>
            <a:ext cx="172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E PAR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1547640" y="4869000"/>
            <a:ext cx="943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WordArt 10"/>
          <p:cNvSpPr txBox="1"/>
          <p:nvPr/>
        </p:nvSpPr>
        <p:spPr>
          <a:xfrm>
            <a:off x="6227640" y="4941720"/>
            <a:ext cx="943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WordArt 11"/>
          <p:cNvSpPr txBox="1"/>
          <p:nvPr/>
        </p:nvSpPr>
        <p:spPr>
          <a:xfrm>
            <a:off x="3276720" y="1700280"/>
            <a:ext cx="23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LIČNOST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3419640" y="4437000"/>
            <a:ext cx="208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ZL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3166920" y="3110040"/>
            <a:ext cx="2810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RADNJ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Tahoma"/>
              </a:rPr>
              <a:t>EMOCIJE / PROFESIONA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ahoma"/>
              </a:rPr>
              <a:t>JA SAM OK – TI SI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ahoma"/>
              </a:rPr>
              <a:t>JA NISAM OK – TI SI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ahoma"/>
              </a:rPr>
              <a:t>JA SAM OK – TI NISI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Tahoma"/>
              </a:rPr>
              <a:t>JA NISAM OK – TI NISI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013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900" spc="-1" strike="noStrike">
                <a:solidFill>
                  <a:srgbClr val="ffffff"/>
                </a:solidFill>
                <a:latin typeface="Tahoma"/>
              </a:rPr>
              <a:t>Doživljavat će vas</a:t>
            </a:r>
            <a:r>
              <a:rPr b="1" lang="es-ES_tradnl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900" spc="-1" strike="noStrike">
                <a:solidFill>
                  <a:srgbClr val="ffffff"/>
                </a:solidFill>
                <a:latin typeface="Tahoma"/>
              </a:rPr>
              <a:t>ka</a:t>
            </a:r>
            <a:r>
              <a:rPr b="1" lang="es-ES_tradnl" sz="2900" spc="-1" strike="noStrike">
                <a:solidFill>
                  <a:srgbClr val="ffffff"/>
                </a:solidFill>
                <a:latin typeface="Tahoma"/>
              </a:rPr>
              <a:t>o osob</a:t>
            </a:r>
            <a:r>
              <a:rPr b="1" lang="hr-HR" sz="29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900" spc="-1" strike="noStrike">
                <a:solidFill>
                  <a:srgbClr val="ffffff"/>
                </a:solidFill>
                <a:latin typeface="Tahoma"/>
              </a:rPr>
              <a:t> koja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1" lang="hr-HR" sz="29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1" lang="es-ES_tradnl" sz="2900" spc="-1" strike="noStrike">
                <a:solidFill>
                  <a:srgbClr val="ffffff"/>
                </a:solidFill>
                <a:latin typeface="Tahoma"/>
              </a:rPr>
              <a:t>prijateljska i spremna na sura</a:t>
            </a:r>
            <a:r>
              <a:rPr b="1" lang="hr-HR" sz="29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900" spc="-1" strike="noStrike">
                <a:solidFill>
                  <a:srgbClr val="ffffff"/>
                </a:solidFill>
                <a:latin typeface="Tahoma"/>
              </a:rPr>
              <a:t>nju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ako gledate sugovornika u lice,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ako se smješkate, potvrdno kimate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glavom 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dok drugi govore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pokazujete otvorene dlanove,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povremeno dotičete lice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ne držite prekrižene ruke ili noge u stranu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malo se nagnete naprijed ili ako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2900" spc="-1" strike="noStrike">
                <a:solidFill>
                  <a:srgbClr val="ffffff"/>
                </a:solidFill>
                <a:latin typeface="Tahoma"/>
              </a:rPr>
              <a:t>se približavate sugovorniku</a:t>
            </a:r>
            <a:r>
              <a:rPr b="0" lang="hr-HR" sz="29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00000" y="1700280"/>
            <a:ext cx="331164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DA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5219640" y="1916280"/>
            <a:ext cx="28083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N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179280" y="549360"/>
            <a:ext cx="874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GOVOR  O  ZAJEDNIČKOM  RADU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Tahoma"/>
              </a:rPr>
              <a:t>Proksemički znakov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Rezultat su</a:t>
            </a: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 udaljenosti i rasporeda sugovornika u prostoriji</a:t>
            </a:r>
            <a:r>
              <a:rPr b="0" lang="hr-HR" sz="25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Javni prostor više od 3,5 m (za govor većoj skupini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Socijalni prostor 1,2 – 3,5 m (prodavači, suradnici, nepoznati ljudi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Osobni prostor 45 – 120 cm (prijatelji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Intimni prostor 15 – 45 cm (supružnici, zaljubljeni, djeca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33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hr-HR" sz="3200" spc="-1" strike="noStrike">
                <a:solidFill>
                  <a:srgbClr val="000000"/>
                </a:solidFill>
                <a:latin typeface="Monotype Corsiva"/>
              </a:rPr>
              <a:t>Razlog zbog kojega imamo dva uha a samo jedna usta je da bismo mogli  više slušati a manje govoriti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66"/>
                </a:solidFill>
                <a:latin typeface="Bookman Old Style"/>
              </a:rPr>
              <a:t>Latinska poslovic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i="1" lang="hr-HR" sz="3200" spc="-1" strike="noStrike">
                <a:solidFill>
                  <a:srgbClr val="000000"/>
                </a:solidFill>
                <a:latin typeface="Monotype Corsiva"/>
              </a:rPr>
              <a:t>U poslu veći dio svog vremena   provodimo slušajući, a manji čitajući  i govoreći. Ipak, najčešće nas nikada nitko nije učio slušati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200" spc="-1" strike="noStrike">
                <a:solidFill>
                  <a:srgbClr val="000066"/>
                </a:solidFill>
                <a:latin typeface="Bookman Old Style"/>
              </a:rPr>
              <a:t>Anonimni psiholo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8604360" y="6381720"/>
            <a:ext cx="3045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ahoma"/>
              </a:rPr>
              <a:t>Izrazite u postocima kolik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luš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ovor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iše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či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5805360"/>
            <a:ext cx="80168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70% budnog vremena komuniciram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539640" y="1125360"/>
          <a:ext cx="783432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78343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539640" y="404640"/>
            <a:ext cx="77756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  <a:ea typeface="Arial"/>
              </a:rPr>
              <a:t>Koliko i kako slušam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9640" y="1197000"/>
            <a:ext cx="4537080" cy="111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lušamo sa 25 posto svojih mogućn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amtimo 50 posto od onoga što čuje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od toga zaboravimo pola za 48 sa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WordArt 5"/>
          <p:cNvSpPr txBox="1"/>
          <p:nvPr/>
        </p:nvSpPr>
        <p:spPr>
          <a:xfrm rot="20193600">
            <a:off x="1332000" y="2707920"/>
            <a:ext cx="627228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JE  DA  SE  HVAL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3780000" y="1484280"/>
            <a:ext cx="1485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MOJTE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3851280" y="2852640"/>
            <a:ext cx="1485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MOJTE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3780000" y="3860640"/>
            <a:ext cx="13525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ČINITE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9640" y="4791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PosterBodoni BT"/>
                <a:ea typeface="Times New Roman"/>
              </a:rPr>
              <a:t>KAD STE U KONFLIKTU, TREBATE NEŠT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333399"/>
                </a:solidFill>
                <a:latin typeface="PosterBodoni BT"/>
                <a:ea typeface="Times New Roman"/>
              </a:rPr>
              <a:t>ILI STE SUOČENI S NEPRIHVATLJIVIM ZAHTJEVI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95280" y="22302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PosterBodoni BT"/>
                <a:ea typeface="Times New Roman"/>
              </a:rPr>
              <a:t>ISPRIČAVATI SE, POVLAČITI, UBLAŽAVATI SITUACIJU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PosterBodoni BT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ff0000"/>
                </a:solidFill>
                <a:latin typeface="PosterBodoni BT"/>
                <a:ea typeface="Times New Roman"/>
              </a:rPr>
              <a:t>PREPUSTITI SE DRUGIM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611280" y="3467880"/>
            <a:ext cx="75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PosterBodoni BT"/>
                <a:ea typeface="Times New Roman"/>
              </a:rPr>
              <a:t>NAPADATI, TUĆI SE, PRISILJAVATI, VIKATI, VRIJEDJAT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80880" y="4588200"/>
            <a:ext cx="829476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JASNO I ODLUČNO ISKAŽITE SVOJE POTREBE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UVJERENJA ILI PRAV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NAUČITE REĆI ''NE'' NA UVJERLJIV NAČI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PONAVLJAJTE SVOJ ISKAZ SMIREN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8000"/>
                </a:solidFill>
                <a:latin typeface="PosterBodoni BT"/>
                <a:ea typeface="Times New Roman"/>
              </a:rPr>
              <a:t>I SA SIGURNOŠĆU SVE DOK VAS NE ČUJU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800080"/>
                </a:solidFill>
                <a:latin typeface="PosterBodoni BT"/>
                <a:ea typeface="Times New Roman"/>
              </a:rPr>
              <a:t>POPTUNO JE UREDU TRAŽITI ONO ŠTO ŽELIT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800080"/>
                </a:solidFill>
                <a:latin typeface="PosterBodoni BT"/>
                <a:ea typeface="Times New Roman"/>
              </a:rPr>
              <a:t> </a:t>
            </a:r>
            <a:r>
              <a:rPr b="0" i="1" lang="hr-HR" sz="1800" spc="-1" strike="noStrike">
                <a:solidFill>
                  <a:srgbClr val="800080"/>
                </a:solidFill>
                <a:latin typeface="PosterBodoni BT"/>
                <a:ea typeface="Times New Roman"/>
              </a:rPr>
              <a:t>ČAK I AKO TO NE MOŽETE UVIJEK DOBIT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757080" y="625320"/>
            <a:ext cx="7642440" cy="965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AKO  PLIVATI  S  MORSKIM    PSIMA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75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NE SKAČI U MORE AKO NE ZNAŠ   PLIVA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NE SKAČI AKO VIDIŠ PERAJU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AKO SI VEĆ SKOČIO I VIDIŠ PERAJU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NEMOJ IZGUBITI PRISEBNOS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AKO TE UGRIZE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NE KRVARI PREVIŠE, PRIVUĆI ĆEŠ OSTA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AKO SI VEĆ NAPADNUT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POKUŠAJ DEZORGANIZIRATI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66"/>
                </a:solidFill>
                <a:latin typeface="Tahoma"/>
              </a:rPr>
              <a:t>ORGANIZIRANI NAPAD NA TEB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i="1" lang="hr-HR" sz="2600" spc="-1" strike="noStrike">
                <a:solidFill>
                  <a:srgbClr val="00c600"/>
                </a:solidFill>
                <a:latin typeface="Tahoma"/>
              </a:rPr>
              <a:t>J. Coustea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1763640" y="765000"/>
            <a:ext cx="590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VNATELJICA / RAVNATELJ</a:t>
            </a:r>
            <a:endParaRPr b="0" lang="en-US" sz="32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03640" y="2585880"/>
            <a:ext cx="2789280" cy="2583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395280" y="2147760"/>
            <a:ext cx="856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očni konta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kretn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vidjeti otvorene, zatvorene lju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   tjelesni konta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relaksira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kretanje po prosto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zaustaviti se ponek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ton, gl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smiješa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osjećaji uspješnosti su poseb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(energija, optimizam, entuzijaz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-  slušan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Fields Of Love.mp3" descr=""/>
          <p:cNvPicPr/>
          <p:nvPr/>
        </p:nvPicPr>
        <p:blipFill>
          <a:blip r:embed="rId1"/>
          <a:stretch/>
        </p:blipFill>
        <p:spPr>
          <a:xfrm>
            <a:off x="5796000" y="486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j0425802"/>
          <p:cNvPicPr/>
          <p:nvPr/>
        </p:nvPicPr>
        <p:blipFill>
          <a:blip r:embed="rId2"/>
          <a:stretch/>
        </p:blipFill>
        <p:spPr>
          <a:xfrm>
            <a:off x="468360" y="476280"/>
            <a:ext cx="6551640" cy="4581360"/>
          </a:xfrm>
          <a:prstGeom prst="rect">
            <a:avLst/>
          </a:prstGeom>
          <a:ln w="0">
            <a:noFill/>
          </a:ln>
        </p:spPr>
      </p:pic>
      <p:sp>
        <p:nvSpPr>
          <p:cNvPr id="203" name="WordArt 7"/>
          <p:cNvSpPr txBox="1"/>
          <p:nvPr/>
        </p:nvSpPr>
        <p:spPr>
          <a:xfrm>
            <a:off x="5724360" y="5516640"/>
            <a:ext cx="233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mericana XBdCn BT"/>
              </a:rPr>
              <a:t>Hvala na pažnji,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mericana XBdCn BT"/>
              <a:ea typeface="Americana XBdCn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mericana XBdCn BT"/>
              </a:rPr>
              <a:t>            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mericana XBdCn BT"/>
              </a:rPr>
              <a:t>Zora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mericana XBdCn BT"/>
              <a:ea typeface="Americana XBdCn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7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24000" y="620640"/>
            <a:ext cx="849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Imaš li pitanje – pitaj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lobodno iznesi svoj primj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Zatraži objašnjenje ako ti nešto n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jas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4. Poštuj tuđe ideje, odgovore i primjer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5. Odustani od uobičajenog i normalnog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tereotipnog i poznatog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upusti se u neobično, nestandardno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zato inventivno i kreativ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Budi skeptičan – ‘’ne kupuj’’ sve što će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čuti bez razmišljanj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7. Primijeni nauče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68360" y="684360"/>
            <a:ext cx="86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zahtijevaj od voditelja odgovore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va pitanja – on ih ne zn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zatvaraj se riječima: ‘’lijepa teori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li......’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očekujte da vam sve biti jedn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nimljivo – predložite svoje i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 iskustva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morate voditi detaljne bilješ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aše sudjelovanje i doživljaj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u dovoljn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00"/>
                </a:solidFill>
                <a:latin typeface="Tahoma"/>
              </a:rPr>
              <a:t>PIRAMIDA POUČAVAN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Diagram 3"/>
          <p:cNvGrpSpPr/>
          <p:nvPr/>
        </p:nvGrpSpPr>
        <p:grpSpPr>
          <a:xfrm>
            <a:off x="2023920" y="1470240"/>
            <a:ext cx="5257800" cy="4552920"/>
            <a:chOff x="2023920" y="1470240"/>
            <a:chExt cx="5257800" cy="4552920"/>
          </a:xfrm>
        </p:grpSpPr>
        <p:sp>
          <p:nvSpPr>
            <p:cNvPr id="107" name="_s1028"/>
            <p:cNvSpPr/>
            <p:nvPr/>
          </p:nvSpPr>
          <p:spPr>
            <a:xfrm flipV="1">
              <a:off x="4276800" y="1470240"/>
              <a:ext cx="752400" cy="650880"/>
            </a:xfrm>
            <a:custGeom>
              <a:avLst/>
              <a:gdLst>
                <a:gd name="textAreaLeft" fmla="*/ 270000 w 752400"/>
                <a:gd name="textAreaRight" fmla="*/ 482400 w 752400"/>
                <a:gd name="textAreaTop" fmla="*/ 233640 h 650880"/>
                <a:gd name="textAreaBottom" fmla="*/ 41724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083554"/>
                  </a:solidFill>
                  <a:latin typeface="Arial"/>
                </a:rPr>
                <a:t>PREDAVANJE 5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 flipV="1">
              <a:off x="3902040" y="2121120"/>
              <a:ext cx="1501920" cy="650880"/>
            </a:xfrm>
            <a:custGeom>
              <a:avLst/>
              <a:gdLst>
                <a:gd name="textAreaLeft" fmla="*/ 330120 w 1501920"/>
                <a:gd name="textAreaRight" fmla="*/ 1171800 w 1501920"/>
                <a:gd name="textAreaTop" fmla="*/ 142920 h 650880"/>
                <a:gd name="textAreaBottom" fmla="*/ 50796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083554"/>
                  </a:solidFill>
                  <a:latin typeface="Arial"/>
                </a:rPr>
                <a:t>ČITANJE 10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flipV="1">
              <a:off x="3525840" y="2771280"/>
              <a:ext cx="2254320" cy="649080"/>
            </a:xfrm>
            <a:custGeom>
              <a:avLst/>
              <a:gdLst>
                <a:gd name="textAreaLeft" fmla="*/ 391320 w 2254320"/>
                <a:gd name="textAreaRight" fmla="*/ 1863000 w 2254320"/>
                <a:gd name="textAreaTop" fmla="*/ 112680 h 649080"/>
                <a:gd name="textAreaBottom" fmla="*/ 53640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083554"/>
                  </a:solidFill>
                  <a:latin typeface="Arial"/>
                </a:rPr>
                <a:t>AUDIOVIZUELNA 20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 flipV="1">
              <a:off x="3151080" y="3421080"/>
              <a:ext cx="3003840" cy="650880"/>
            </a:xfrm>
            <a:custGeom>
              <a:avLst/>
              <a:gdLst>
                <a:gd name="textAreaLeft" fmla="*/ 451800 w 3003840"/>
                <a:gd name="textAreaRight" fmla="*/ 2552040 w 3003840"/>
                <a:gd name="textAreaTop" fmla="*/ 97920 h 650880"/>
                <a:gd name="textAreaBottom" fmla="*/ 55296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083554"/>
                  </a:solidFill>
                  <a:latin typeface="Arial"/>
                </a:rPr>
                <a:t>DEMONSTRACIJE 30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 flipV="1">
              <a:off x="2774880" y="4071960"/>
              <a:ext cx="3756240" cy="650880"/>
            </a:xfrm>
            <a:custGeom>
              <a:avLst/>
              <a:gdLst>
                <a:gd name="textAreaLeft" fmla="*/ 513000 w 3756240"/>
                <a:gd name="textAreaRight" fmla="*/ 3243240 w 3756240"/>
                <a:gd name="textAreaTop" fmla="*/ 88920 h 650880"/>
                <a:gd name="textAreaBottom" fmla="*/ 56196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ffff"/>
                  </a:solidFill>
                  <a:latin typeface="Arial"/>
                </a:rPr>
                <a:t>DISKUSIJE 50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 flipV="1">
              <a:off x="2400480" y="4722840"/>
              <a:ext cx="4505040" cy="650880"/>
            </a:xfrm>
            <a:custGeom>
              <a:avLst/>
              <a:gdLst>
                <a:gd name="textAreaLeft" fmla="*/ 573480 w 4505040"/>
                <a:gd name="textAreaRight" fmla="*/ 3931560 w 4505040"/>
                <a:gd name="textAreaTop" fmla="*/ 82800 h 650880"/>
                <a:gd name="textAreaBottom" fmla="*/ 568080 h 65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ffff"/>
                  </a:solidFill>
                  <a:latin typeface="Arial"/>
                </a:rPr>
                <a:t>PRAKTIČNI RAD 70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 flipV="1">
              <a:off x="2023920" y="5373720"/>
              <a:ext cx="5257800" cy="649440"/>
            </a:xfrm>
            <a:custGeom>
              <a:avLst/>
              <a:gdLst>
                <a:gd name="textAreaLeft" fmla="*/ 634680 w 5257800"/>
                <a:gd name="textAreaRight" fmla="*/ 4623120 w 5257800"/>
                <a:gd name="textAreaTop" fmla="*/ 78120 h 649440"/>
                <a:gd name="textAreaBottom" fmla="*/ 57132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1800" spc="-1" strike="noStrike">
                  <a:solidFill>
                    <a:srgbClr val="ffffff"/>
                  </a:solidFill>
                  <a:latin typeface="Arial"/>
                </a:rPr>
                <a:t>UČENJE OD DRUGIH 90%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1.   KOLIKO JE ONO ŠTO RADITE ODRAZ  VAS SAMIH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2.   POKAZUJETE  LI OSOBNI INTERES I ENTUZIJAZAM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3.   JE LI VAŠ “TJELESNI” GOVOR USKLAĐEN 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ONIM ŠTO GOVORITE I O ČEMU GOVORI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4.   UPOTREBLJAVATE  LI HUMOR U   SVOM NASTUPU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5.   UPOTREBLJAVATE  LI KONTAKT OČIM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6.   JE  LI VAM GLAS ZANIMLJIV I  VARIJABILA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7.   POSTAVLJATE LI  POTICAJNA   PITANJ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8.   OSJEĆATE LI SE PRIRODNO U SVOJOJ ULOZI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69992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</a:rPr>
              <a:t>CENTAR SVEGA JE ČOVJEK SA SVOJIM POTREB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183200" y="3257640"/>
            <a:ext cx="560160" cy="560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99"/>
                </a:solidFill>
                <a:latin typeface="Tahoma"/>
              </a:rPr>
              <a:t>ČOVJEK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SVJESNO ODLUČU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15% OSOBINA NASLJED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85% OSOBINA PRIHVAĆA  IZ OKO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ŽELI ČUTI ONO ŠTO MU ODGOV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LAKO JE MANIPULIR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Tahoma"/>
              </a:rPr>
              <a:t>ZAKON USPJEHA: RIJEŠITI PROBLEM KOMUNIK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2195640" y="33336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JEŠAVANJE PROBLEMA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1" name="Freeform 3"/>
          <p:cNvSpPr/>
          <p:nvPr/>
        </p:nvSpPr>
        <p:spPr>
          <a:xfrm rot="21424200">
            <a:off x="1908000" y="1557000"/>
            <a:ext cx="5372280" cy="2592360"/>
          </a:xfrm>
          <a:custGeom>
            <a:avLst/>
            <a:gdLst>
              <a:gd name="textAreaLeft" fmla="*/ 0 w 5372280"/>
              <a:gd name="textAreaRight" fmla="*/ 5372640 w 5372280"/>
              <a:gd name="textAreaTop" fmla="*/ 0 h 2592360"/>
              <a:gd name="textAreaBottom" fmla="*/ 2592720 h 2592360"/>
            </a:gdLst>
            <a:ahLst/>
            <a:rect l="textAreaLeft" t="textAreaTop" r="textAreaRight" b="textAreaBottom"/>
            <a:pathLst>
              <a:path w="8562" h="4912">
                <a:moveTo>
                  <a:pt x="25" y="4518"/>
                </a:moveTo>
                <a:cubicBezTo>
                  <a:pt x="48" y="4448"/>
                  <a:pt x="84" y="4396"/>
                  <a:pt x="128" y="4338"/>
                </a:cubicBezTo>
                <a:cubicBezTo>
                  <a:pt x="160" y="4240"/>
                  <a:pt x="137" y="4283"/>
                  <a:pt x="192" y="4209"/>
                </a:cubicBezTo>
                <a:cubicBezTo>
                  <a:pt x="226" y="4077"/>
                  <a:pt x="314" y="4032"/>
                  <a:pt x="385" y="3926"/>
                </a:cubicBezTo>
                <a:cubicBezTo>
                  <a:pt x="389" y="3870"/>
                  <a:pt x="391" y="3814"/>
                  <a:pt x="398" y="3759"/>
                </a:cubicBezTo>
                <a:cubicBezTo>
                  <a:pt x="411" y="3660"/>
                  <a:pt x="498" y="3570"/>
                  <a:pt x="552" y="3489"/>
                </a:cubicBezTo>
                <a:cubicBezTo>
                  <a:pt x="565" y="3470"/>
                  <a:pt x="537" y="3533"/>
                  <a:pt x="526" y="3553"/>
                </a:cubicBezTo>
                <a:cubicBezTo>
                  <a:pt x="511" y="3580"/>
                  <a:pt x="475" y="3631"/>
                  <a:pt x="475" y="3631"/>
                </a:cubicBezTo>
                <a:cubicBezTo>
                  <a:pt x="441" y="3762"/>
                  <a:pt x="491" y="3595"/>
                  <a:pt x="423" y="3733"/>
                </a:cubicBezTo>
                <a:cubicBezTo>
                  <a:pt x="415" y="3749"/>
                  <a:pt x="418" y="3769"/>
                  <a:pt x="411" y="3785"/>
                </a:cubicBezTo>
                <a:cubicBezTo>
                  <a:pt x="405" y="3799"/>
                  <a:pt x="393" y="3810"/>
                  <a:pt x="385" y="3823"/>
                </a:cubicBezTo>
                <a:cubicBezTo>
                  <a:pt x="340" y="3900"/>
                  <a:pt x="296" y="3975"/>
                  <a:pt x="256" y="4055"/>
                </a:cubicBezTo>
                <a:cubicBezTo>
                  <a:pt x="243" y="4081"/>
                  <a:pt x="232" y="4107"/>
                  <a:pt x="218" y="4132"/>
                </a:cubicBezTo>
                <a:cubicBezTo>
                  <a:pt x="203" y="4159"/>
                  <a:pt x="166" y="4209"/>
                  <a:pt x="166" y="4209"/>
                </a:cubicBezTo>
                <a:cubicBezTo>
                  <a:pt x="146" y="4290"/>
                  <a:pt x="162" y="4248"/>
                  <a:pt x="102" y="4338"/>
                </a:cubicBezTo>
                <a:cubicBezTo>
                  <a:pt x="93" y="4351"/>
                  <a:pt x="76" y="4376"/>
                  <a:pt x="76" y="4376"/>
                </a:cubicBezTo>
                <a:cubicBezTo>
                  <a:pt x="46" y="4468"/>
                  <a:pt x="66" y="4431"/>
                  <a:pt x="25" y="4492"/>
                </a:cubicBezTo>
                <a:cubicBezTo>
                  <a:pt x="58" y="4362"/>
                  <a:pt x="126" y="4235"/>
                  <a:pt x="192" y="4119"/>
                </a:cubicBezTo>
                <a:cubicBezTo>
                  <a:pt x="230" y="4053"/>
                  <a:pt x="248" y="3988"/>
                  <a:pt x="295" y="3926"/>
                </a:cubicBezTo>
                <a:cubicBezTo>
                  <a:pt x="323" y="3845"/>
                  <a:pt x="333" y="3850"/>
                  <a:pt x="385" y="3785"/>
                </a:cubicBezTo>
                <a:cubicBezTo>
                  <a:pt x="404" y="3761"/>
                  <a:pt x="419" y="3734"/>
                  <a:pt x="436" y="3708"/>
                </a:cubicBezTo>
                <a:cubicBezTo>
                  <a:pt x="445" y="3695"/>
                  <a:pt x="462" y="3669"/>
                  <a:pt x="462" y="3669"/>
                </a:cubicBezTo>
                <a:cubicBezTo>
                  <a:pt x="490" y="3558"/>
                  <a:pt x="578" y="3462"/>
                  <a:pt x="629" y="3361"/>
                </a:cubicBezTo>
                <a:cubicBezTo>
                  <a:pt x="697" y="3225"/>
                  <a:pt x="776" y="3087"/>
                  <a:pt x="861" y="2962"/>
                </a:cubicBezTo>
                <a:cubicBezTo>
                  <a:pt x="875" y="2902"/>
                  <a:pt x="903" y="2859"/>
                  <a:pt x="938" y="2808"/>
                </a:cubicBezTo>
                <a:cubicBezTo>
                  <a:pt x="969" y="2715"/>
                  <a:pt x="925" y="2828"/>
                  <a:pt x="989" y="2731"/>
                </a:cubicBezTo>
                <a:cubicBezTo>
                  <a:pt x="997" y="2720"/>
                  <a:pt x="994" y="2703"/>
                  <a:pt x="1002" y="2692"/>
                </a:cubicBezTo>
                <a:cubicBezTo>
                  <a:pt x="1012" y="2677"/>
                  <a:pt x="1029" y="2667"/>
                  <a:pt x="1041" y="2653"/>
                </a:cubicBezTo>
                <a:cubicBezTo>
                  <a:pt x="1055" y="2637"/>
                  <a:pt x="1068" y="2620"/>
                  <a:pt x="1079" y="2602"/>
                </a:cubicBezTo>
                <a:cubicBezTo>
                  <a:pt x="1153" y="2484"/>
                  <a:pt x="1209" y="2368"/>
                  <a:pt x="1311" y="2268"/>
                </a:cubicBezTo>
                <a:cubicBezTo>
                  <a:pt x="1325" y="2239"/>
                  <a:pt x="1328" y="2203"/>
                  <a:pt x="1349" y="2178"/>
                </a:cubicBezTo>
                <a:cubicBezTo>
                  <a:pt x="1361" y="2163"/>
                  <a:pt x="1427" y="2132"/>
                  <a:pt x="1439" y="2126"/>
                </a:cubicBezTo>
                <a:cubicBezTo>
                  <a:pt x="1514" y="2021"/>
                  <a:pt x="1477" y="2062"/>
                  <a:pt x="1542" y="1998"/>
                </a:cubicBezTo>
                <a:cubicBezTo>
                  <a:pt x="1560" y="1944"/>
                  <a:pt x="1578" y="1932"/>
                  <a:pt x="1619" y="1895"/>
                </a:cubicBezTo>
                <a:cubicBezTo>
                  <a:pt x="1650" y="1867"/>
                  <a:pt x="1675" y="1830"/>
                  <a:pt x="1709" y="1805"/>
                </a:cubicBezTo>
                <a:cubicBezTo>
                  <a:pt x="1726" y="1792"/>
                  <a:pt x="1745" y="1780"/>
                  <a:pt x="1761" y="1766"/>
                </a:cubicBezTo>
                <a:cubicBezTo>
                  <a:pt x="1836" y="1701"/>
                  <a:pt x="1781" y="1725"/>
                  <a:pt x="1851" y="1702"/>
                </a:cubicBezTo>
                <a:cubicBezTo>
                  <a:pt x="1880" y="1609"/>
                  <a:pt x="1938" y="1561"/>
                  <a:pt x="1992" y="1483"/>
                </a:cubicBezTo>
                <a:cubicBezTo>
                  <a:pt x="2017" y="1447"/>
                  <a:pt x="2033" y="1405"/>
                  <a:pt x="2056" y="1368"/>
                </a:cubicBezTo>
                <a:cubicBezTo>
                  <a:pt x="2135" y="1242"/>
                  <a:pt x="2233" y="1124"/>
                  <a:pt x="2352" y="1033"/>
                </a:cubicBezTo>
                <a:cubicBezTo>
                  <a:pt x="2407" y="925"/>
                  <a:pt x="2345" y="1027"/>
                  <a:pt x="2416" y="956"/>
                </a:cubicBezTo>
                <a:cubicBezTo>
                  <a:pt x="2469" y="903"/>
                  <a:pt x="2504" y="841"/>
                  <a:pt x="2571" y="802"/>
                </a:cubicBezTo>
                <a:cubicBezTo>
                  <a:pt x="2601" y="785"/>
                  <a:pt x="2629" y="765"/>
                  <a:pt x="2661" y="751"/>
                </a:cubicBezTo>
                <a:cubicBezTo>
                  <a:pt x="2686" y="740"/>
                  <a:pt x="2738" y="725"/>
                  <a:pt x="2738" y="725"/>
                </a:cubicBezTo>
                <a:cubicBezTo>
                  <a:pt x="2852" y="638"/>
                  <a:pt x="2984" y="570"/>
                  <a:pt x="3111" y="506"/>
                </a:cubicBezTo>
                <a:cubicBezTo>
                  <a:pt x="3155" y="484"/>
                  <a:pt x="3205" y="469"/>
                  <a:pt x="3252" y="455"/>
                </a:cubicBezTo>
                <a:cubicBezTo>
                  <a:pt x="3278" y="447"/>
                  <a:pt x="3329" y="429"/>
                  <a:pt x="3329" y="429"/>
                </a:cubicBezTo>
                <a:cubicBezTo>
                  <a:pt x="3440" y="320"/>
                  <a:pt x="3503" y="272"/>
                  <a:pt x="3651" y="198"/>
                </a:cubicBezTo>
                <a:cubicBezTo>
                  <a:pt x="3682" y="183"/>
                  <a:pt x="3707" y="150"/>
                  <a:pt x="3741" y="146"/>
                </a:cubicBezTo>
                <a:cubicBezTo>
                  <a:pt x="3830" y="135"/>
                  <a:pt x="3921" y="137"/>
                  <a:pt x="4011" y="133"/>
                </a:cubicBezTo>
                <a:cubicBezTo>
                  <a:pt x="4169" y="137"/>
                  <a:pt x="4329" y="128"/>
                  <a:pt x="4486" y="146"/>
                </a:cubicBezTo>
                <a:cubicBezTo>
                  <a:pt x="4524" y="150"/>
                  <a:pt x="4555" y="181"/>
                  <a:pt x="4589" y="198"/>
                </a:cubicBezTo>
                <a:cubicBezTo>
                  <a:pt x="4633" y="220"/>
                  <a:pt x="4707" y="222"/>
                  <a:pt x="4756" y="236"/>
                </a:cubicBezTo>
                <a:cubicBezTo>
                  <a:pt x="4805" y="250"/>
                  <a:pt x="4840" y="282"/>
                  <a:pt x="4885" y="301"/>
                </a:cubicBezTo>
                <a:cubicBezTo>
                  <a:pt x="4930" y="320"/>
                  <a:pt x="5085" y="325"/>
                  <a:pt x="5091" y="326"/>
                </a:cubicBezTo>
                <a:cubicBezTo>
                  <a:pt x="5108" y="335"/>
                  <a:pt x="5124" y="346"/>
                  <a:pt x="5142" y="352"/>
                </a:cubicBezTo>
                <a:cubicBezTo>
                  <a:pt x="5163" y="359"/>
                  <a:pt x="5186" y="356"/>
                  <a:pt x="5206" y="365"/>
                </a:cubicBezTo>
                <a:cubicBezTo>
                  <a:pt x="5376" y="440"/>
                  <a:pt x="5152" y="376"/>
                  <a:pt x="5309" y="416"/>
                </a:cubicBezTo>
                <a:cubicBezTo>
                  <a:pt x="5388" y="469"/>
                  <a:pt x="5449" y="535"/>
                  <a:pt x="5541" y="558"/>
                </a:cubicBezTo>
                <a:cubicBezTo>
                  <a:pt x="5549" y="571"/>
                  <a:pt x="5556" y="585"/>
                  <a:pt x="5566" y="596"/>
                </a:cubicBezTo>
                <a:cubicBezTo>
                  <a:pt x="5586" y="619"/>
                  <a:pt x="5613" y="636"/>
                  <a:pt x="5631" y="661"/>
                </a:cubicBezTo>
                <a:cubicBezTo>
                  <a:pt x="5639" y="672"/>
                  <a:pt x="5632" y="692"/>
                  <a:pt x="5643" y="699"/>
                </a:cubicBezTo>
                <a:cubicBezTo>
                  <a:pt x="5653" y="706"/>
                  <a:pt x="5792" y="724"/>
                  <a:pt x="5798" y="725"/>
                </a:cubicBezTo>
                <a:cubicBezTo>
                  <a:pt x="5865" y="748"/>
                  <a:pt x="5938" y="750"/>
                  <a:pt x="6003" y="776"/>
                </a:cubicBezTo>
                <a:cubicBezTo>
                  <a:pt x="6129" y="826"/>
                  <a:pt x="6203" y="934"/>
                  <a:pt x="6312" y="1008"/>
                </a:cubicBezTo>
                <a:cubicBezTo>
                  <a:pt x="6329" y="1034"/>
                  <a:pt x="6342" y="1062"/>
                  <a:pt x="6363" y="1085"/>
                </a:cubicBezTo>
                <a:cubicBezTo>
                  <a:pt x="6493" y="1230"/>
                  <a:pt x="6356" y="1034"/>
                  <a:pt x="6441" y="1162"/>
                </a:cubicBezTo>
                <a:cubicBezTo>
                  <a:pt x="6466" y="1243"/>
                  <a:pt x="6433" y="1158"/>
                  <a:pt x="6505" y="1252"/>
                </a:cubicBezTo>
                <a:cubicBezTo>
                  <a:pt x="6517" y="1267"/>
                  <a:pt x="6518" y="1290"/>
                  <a:pt x="6531" y="1303"/>
                </a:cubicBezTo>
                <a:cubicBezTo>
                  <a:pt x="6557" y="1329"/>
                  <a:pt x="6599" y="1338"/>
                  <a:pt x="6621" y="1368"/>
                </a:cubicBezTo>
                <a:cubicBezTo>
                  <a:pt x="6709" y="1487"/>
                  <a:pt x="6598" y="1346"/>
                  <a:pt x="6723" y="1471"/>
                </a:cubicBezTo>
                <a:cubicBezTo>
                  <a:pt x="6747" y="1495"/>
                  <a:pt x="6764" y="1524"/>
                  <a:pt x="6788" y="1548"/>
                </a:cubicBezTo>
                <a:cubicBezTo>
                  <a:pt x="6897" y="1657"/>
                  <a:pt x="6863" y="1589"/>
                  <a:pt x="6955" y="1715"/>
                </a:cubicBezTo>
                <a:cubicBezTo>
                  <a:pt x="6979" y="1748"/>
                  <a:pt x="6994" y="1786"/>
                  <a:pt x="7019" y="1818"/>
                </a:cubicBezTo>
                <a:cubicBezTo>
                  <a:pt x="7041" y="1847"/>
                  <a:pt x="7073" y="1867"/>
                  <a:pt x="7096" y="1895"/>
                </a:cubicBezTo>
                <a:cubicBezTo>
                  <a:pt x="7138" y="1945"/>
                  <a:pt x="7195" y="2016"/>
                  <a:pt x="7225" y="2075"/>
                </a:cubicBezTo>
                <a:cubicBezTo>
                  <a:pt x="7235" y="2096"/>
                  <a:pt x="7239" y="2119"/>
                  <a:pt x="7251" y="2139"/>
                </a:cubicBezTo>
                <a:cubicBezTo>
                  <a:pt x="7261" y="2154"/>
                  <a:pt x="7278" y="2163"/>
                  <a:pt x="7289" y="2178"/>
                </a:cubicBezTo>
                <a:cubicBezTo>
                  <a:pt x="7300" y="2194"/>
                  <a:pt x="7306" y="2212"/>
                  <a:pt x="7315" y="2229"/>
                </a:cubicBezTo>
                <a:cubicBezTo>
                  <a:pt x="7337" y="2315"/>
                  <a:pt x="7403" y="2367"/>
                  <a:pt x="7443" y="2448"/>
                </a:cubicBezTo>
                <a:cubicBezTo>
                  <a:pt x="7489" y="2541"/>
                  <a:pt x="7478" y="2569"/>
                  <a:pt x="7521" y="2666"/>
                </a:cubicBezTo>
                <a:cubicBezTo>
                  <a:pt x="7632" y="2915"/>
                  <a:pt x="7546" y="2650"/>
                  <a:pt x="7623" y="2898"/>
                </a:cubicBezTo>
                <a:cubicBezTo>
                  <a:pt x="7652" y="2990"/>
                  <a:pt x="7686" y="3069"/>
                  <a:pt x="7726" y="3155"/>
                </a:cubicBezTo>
                <a:cubicBezTo>
                  <a:pt x="7741" y="3188"/>
                  <a:pt x="7745" y="3227"/>
                  <a:pt x="7765" y="3258"/>
                </a:cubicBezTo>
                <a:cubicBezTo>
                  <a:pt x="7776" y="3276"/>
                  <a:pt x="7799" y="3283"/>
                  <a:pt x="7816" y="3296"/>
                </a:cubicBezTo>
                <a:cubicBezTo>
                  <a:pt x="7877" y="3448"/>
                  <a:pt x="7991" y="3580"/>
                  <a:pt x="8073" y="3721"/>
                </a:cubicBezTo>
                <a:cubicBezTo>
                  <a:pt x="8092" y="3795"/>
                  <a:pt x="8124" y="3856"/>
                  <a:pt x="8151" y="3926"/>
                </a:cubicBezTo>
                <a:cubicBezTo>
                  <a:pt x="8183" y="4011"/>
                  <a:pt x="8189" y="4107"/>
                  <a:pt x="8241" y="4183"/>
                </a:cubicBezTo>
                <a:cubicBezTo>
                  <a:pt x="8245" y="4196"/>
                  <a:pt x="8246" y="4210"/>
                  <a:pt x="8253" y="4222"/>
                </a:cubicBezTo>
                <a:cubicBezTo>
                  <a:pt x="8264" y="4241"/>
                  <a:pt x="8286" y="4252"/>
                  <a:pt x="8292" y="4273"/>
                </a:cubicBezTo>
                <a:cubicBezTo>
                  <a:pt x="8296" y="4286"/>
                  <a:pt x="8283" y="4299"/>
                  <a:pt x="8279" y="4312"/>
                </a:cubicBezTo>
                <a:cubicBezTo>
                  <a:pt x="8288" y="4333"/>
                  <a:pt x="8295" y="4355"/>
                  <a:pt x="8305" y="4376"/>
                </a:cubicBezTo>
                <a:cubicBezTo>
                  <a:pt x="8317" y="4402"/>
                  <a:pt x="8332" y="4427"/>
                  <a:pt x="8343" y="4453"/>
                </a:cubicBezTo>
                <a:cubicBezTo>
                  <a:pt x="8382" y="4544"/>
                  <a:pt x="8400" y="4631"/>
                  <a:pt x="8459" y="4711"/>
                </a:cubicBezTo>
                <a:cubicBezTo>
                  <a:pt x="8464" y="4734"/>
                  <a:pt x="8473" y="4912"/>
                  <a:pt x="8511" y="4801"/>
                </a:cubicBezTo>
                <a:cubicBezTo>
                  <a:pt x="8475" y="4693"/>
                  <a:pt x="8535" y="4862"/>
                  <a:pt x="8446" y="4685"/>
                </a:cubicBezTo>
                <a:cubicBezTo>
                  <a:pt x="8438" y="4669"/>
                  <a:pt x="8440" y="4649"/>
                  <a:pt x="8433" y="4633"/>
                </a:cubicBezTo>
                <a:cubicBezTo>
                  <a:pt x="8417" y="4595"/>
                  <a:pt x="8392" y="4552"/>
                  <a:pt x="8369" y="4518"/>
                </a:cubicBezTo>
                <a:cubicBezTo>
                  <a:pt x="8321" y="4373"/>
                  <a:pt x="8397" y="4592"/>
                  <a:pt x="8331" y="4441"/>
                </a:cubicBezTo>
                <a:cubicBezTo>
                  <a:pt x="8286" y="4338"/>
                  <a:pt x="8251" y="4226"/>
                  <a:pt x="8215" y="4119"/>
                </a:cubicBezTo>
                <a:cubicBezTo>
                  <a:pt x="8188" y="4038"/>
                  <a:pt x="8199" y="3964"/>
                  <a:pt x="8125" y="3913"/>
                </a:cubicBezTo>
                <a:cubicBezTo>
                  <a:pt x="8086" y="3856"/>
                  <a:pt x="8085" y="3813"/>
                  <a:pt x="8061" y="3746"/>
                </a:cubicBezTo>
                <a:cubicBezTo>
                  <a:pt x="7937" y="3395"/>
                  <a:pt x="8080" y="3863"/>
                  <a:pt x="7971" y="3463"/>
                </a:cubicBezTo>
                <a:cubicBezTo>
                  <a:pt x="7930" y="3314"/>
                  <a:pt x="7879" y="3243"/>
                  <a:pt x="7816" y="3116"/>
                </a:cubicBezTo>
                <a:cubicBezTo>
                  <a:pt x="7785" y="3054"/>
                  <a:pt x="7782" y="3018"/>
                  <a:pt x="7739" y="2962"/>
                </a:cubicBezTo>
                <a:cubicBezTo>
                  <a:pt x="7727" y="2925"/>
                  <a:pt x="7723" y="2858"/>
                  <a:pt x="7688" y="2833"/>
                </a:cubicBezTo>
                <a:cubicBezTo>
                  <a:pt x="7669" y="2820"/>
                  <a:pt x="7645" y="2816"/>
                  <a:pt x="7623" y="2808"/>
                </a:cubicBezTo>
                <a:cubicBezTo>
                  <a:pt x="7556" y="2727"/>
                  <a:pt x="7510" y="2641"/>
                  <a:pt x="7456" y="2551"/>
                </a:cubicBezTo>
                <a:cubicBezTo>
                  <a:pt x="7435" y="2517"/>
                  <a:pt x="7341" y="2382"/>
                  <a:pt x="7315" y="2319"/>
                </a:cubicBezTo>
                <a:cubicBezTo>
                  <a:pt x="7301" y="2285"/>
                  <a:pt x="7297" y="2246"/>
                  <a:pt x="7276" y="2216"/>
                </a:cubicBezTo>
                <a:cubicBezTo>
                  <a:pt x="7158" y="2049"/>
                  <a:pt x="7286" y="2275"/>
                  <a:pt x="7186" y="2113"/>
                </a:cubicBezTo>
                <a:cubicBezTo>
                  <a:pt x="7094" y="1965"/>
                  <a:pt x="7267" y="2205"/>
                  <a:pt x="7122" y="1959"/>
                </a:cubicBezTo>
                <a:cubicBezTo>
                  <a:pt x="7097" y="1917"/>
                  <a:pt x="7056" y="1886"/>
                  <a:pt x="7032" y="1843"/>
                </a:cubicBezTo>
                <a:cubicBezTo>
                  <a:pt x="7004" y="1795"/>
                  <a:pt x="6997" y="1737"/>
                  <a:pt x="6968" y="1689"/>
                </a:cubicBezTo>
                <a:cubicBezTo>
                  <a:pt x="6945" y="1650"/>
                  <a:pt x="6906" y="1622"/>
                  <a:pt x="6878" y="1586"/>
                </a:cubicBezTo>
                <a:cubicBezTo>
                  <a:pt x="6804" y="1489"/>
                  <a:pt x="6733" y="1331"/>
                  <a:pt x="6608" y="1291"/>
                </a:cubicBezTo>
                <a:cubicBezTo>
                  <a:pt x="6534" y="1217"/>
                  <a:pt x="6580" y="1267"/>
                  <a:pt x="6479" y="1136"/>
                </a:cubicBezTo>
                <a:cubicBezTo>
                  <a:pt x="6457" y="1107"/>
                  <a:pt x="6424" y="1088"/>
                  <a:pt x="6402" y="1059"/>
                </a:cubicBezTo>
                <a:cubicBezTo>
                  <a:pt x="6377" y="1027"/>
                  <a:pt x="6368" y="983"/>
                  <a:pt x="6338" y="956"/>
                </a:cubicBezTo>
                <a:cubicBezTo>
                  <a:pt x="6306" y="926"/>
                  <a:pt x="6259" y="916"/>
                  <a:pt x="6222" y="892"/>
                </a:cubicBezTo>
                <a:cubicBezTo>
                  <a:pt x="6056" y="782"/>
                  <a:pt x="6168" y="815"/>
                  <a:pt x="6042" y="789"/>
                </a:cubicBezTo>
                <a:cubicBezTo>
                  <a:pt x="5993" y="718"/>
                  <a:pt x="6043" y="782"/>
                  <a:pt x="5965" y="712"/>
                </a:cubicBezTo>
                <a:cubicBezTo>
                  <a:pt x="5808" y="572"/>
                  <a:pt x="5728" y="518"/>
                  <a:pt x="5528" y="493"/>
                </a:cubicBezTo>
                <a:cubicBezTo>
                  <a:pt x="5431" y="425"/>
                  <a:pt x="5326" y="339"/>
                  <a:pt x="5206" y="313"/>
                </a:cubicBezTo>
                <a:cubicBezTo>
                  <a:pt x="5126" y="295"/>
                  <a:pt x="5043" y="297"/>
                  <a:pt x="4962" y="288"/>
                </a:cubicBezTo>
                <a:cubicBezTo>
                  <a:pt x="4913" y="276"/>
                  <a:pt x="4883" y="269"/>
                  <a:pt x="4833" y="249"/>
                </a:cubicBezTo>
                <a:cubicBezTo>
                  <a:pt x="4783" y="229"/>
                  <a:pt x="4742" y="192"/>
                  <a:pt x="4692" y="172"/>
                </a:cubicBezTo>
                <a:cubicBezTo>
                  <a:pt x="4556" y="117"/>
                  <a:pt x="4413" y="94"/>
                  <a:pt x="4268" y="82"/>
                </a:cubicBezTo>
                <a:cubicBezTo>
                  <a:pt x="4053" y="28"/>
                  <a:pt x="3798" y="126"/>
                  <a:pt x="3612" y="236"/>
                </a:cubicBezTo>
                <a:cubicBezTo>
                  <a:pt x="3548" y="223"/>
                  <a:pt x="3483" y="214"/>
                  <a:pt x="3419" y="198"/>
                </a:cubicBezTo>
                <a:cubicBezTo>
                  <a:pt x="3363" y="206"/>
                  <a:pt x="3306" y="207"/>
                  <a:pt x="3252" y="223"/>
                </a:cubicBezTo>
                <a:cubicBezTo>
                  <a:pt x="3160" y="250"/>
                  <a:pt x="3074" y="337"/>
                  <a:pt x="3008" y="403"/>
                </a:cubicBezTo>
                <a:cubicBezTo>
                  <a:pt x="2999" y="429"/>
                  <a:pt x="3001" y="462"/>
                  <a:pt x="2982" y="481"/>
                </a:cubicBezTo>
                <a:cubicBezTo>
                  <a:pt x="2947" y="516"/>
                  <a:pt x="2895" y="530"/>
                  <a:pt x="2853" y="558"/>
                </a:cubicBezTo>
                <a:cubicBezTo>
                  <a:pt x="2726" y="642"/>
                  <a:pt x="2588" y="706"/>
                  <a:pt x="2468" y="802"/>
                </a:cubicBezTo>
                <a:cubicBezTo>
                  <a:pt x="2361" y="887"/>
                  <a:pt x="2256" y="975"/>
                  <a:pt x="2159" y="1072"/>
                </a:cubicBezTo>
                <a:cubicBezTo>
                  <a:pt x="2100" y="1131"/>
                  <a:pt x="2049" y="1206"/>
                  <a:pt x="1979" y="1252"/>
                </a:cubicBezTo>
                <a:cubicBezTo>
                  <a:pt x="1956" y="1290"/>
                  <a:pt x="1943" y="1333"/>
                  <a:pt x="1915" y="1368"/>
                </a:cubicBezTo>
                <a:cubicBezTo>
                  <a:pt x="1892" y="1396"/>
                  <a:pt x="1858" y="1415"/>
                  <a:pt x="1838" y="1445"/>
                </a:cubicBezTo>
                <a:cubicBezTo>
                  <a:pt x="1793" y="1514"/>
                  <a:pt x="1761" y="1590"/>
                  <a:pt x="1722" y="1663"/>
                </a:cubicBezTo>
                <a:cubicBezTo>
                  <a:pt x="1705" y="1695"/>
                  <a:pt x="1695" y="1731"/>
                  <a:pt x="1683" y="1766"/>
                </a:cubicBezTo>
                <a:cubicBezTo>
                  <a:pt x="1674" y="1791"/>
                  <a:pt x="1677" y="1824"/>
                  <a:pt x="1658" y="1843"/>
                </a:cubicBezTo>
                <a:cubicBezTo>
                  <a:pt x="1623" y="1879"/>
                  <a:pt x="1568" y="1889"/>
                  <a:pt x="1529" y="1921"/>
                </a:cubicBezTo>
                <a:cubicBezTo>
                  <a:pt x="1434" y="1998"/>
                  <a:pt x="1326" y="2124"/>
                  <a:pt x="1259" y="2229"/>
                </a:cubicBezTo>
                <a:cubicBezTo>
                  <a:pt x="1209" y="2307"/>
                  <a:pt x="1159" y="2480"/>
                  <a:pt x="1092" y="2525"/>
                </a:cubicBezTo>
                <a:cubicBezTo>
                  <a:pt x="1009" y="2660"/>
                  <a:pt x="922" y="2802"/>
                  <a:pt x="861" y="2949"/>
                </a:cubicBezTo>
                <a:cubicBezTo>
                  <a:pt x="771" y="3169"/>
                  <a:pt x="876" y="2969"/>
                  <a:pt x="771" y="3155"/>
                </a:cubicBezTo>
                <a:cubicBezTo>
                  <a:pt x="744" y="3313"/>
                  <a:pt x="786" y="3178"/>
                  <a:pt x="719" y="3258"/>
                </a:cubicBezTo>
                <a:cubicBezTo>
                  <a:pt x="679" y="3306"/>
                  <a:pt x="636" y="3441"/>
                  <a:pt x="616" y="3502"/>
                </a:cubicBezTo>
                <a:cubicBezTo>
                  <a:pt x="504" y="3841"/>
                  <a:pt x="692" y="3358"/>
                  <a:pt x="539" y="3708"/>
                </a:cubicBezTo>
                <a:cubicBezTo>
                  <a:pt x="533" y="3723"/>
                  <a:pt x="498" y="3834"/>
                  <a:pt x="475" y="3862"/>
                </a:cubicBezTo>
                <a:cubicBezTo>
                  <a:pt x="437" y="3909"/>
                  <a:pt x="382" y="3942"/>
                  <a:pt x="346" y="3991"/>
                </a:cubicBezTo>
                <a:cubicBezTo>
                  <a:pt x="267" y="4097"/>
                  <a:pt x="195" y="4206"/>
                  <a:pt x="102" y="4299"/>
                </a:cubicBezTo>
                <a:cubicBezTo>
                  <a:pt x="86" y="4348"/>
                  <a:pt x="38" y="4441"/>
                  <a:pt x="38" y="4441"/>
                </a:cubicBezTo>
                <a:cubicBezTo>
                  <a:pt x="34" y="4509"/>
                  <a:pt x="31" y="4578"/>
                  <a:pt x="25" y="4646"/>
                </a:cubicBezTo>
                <a:cubicBezTo>
                  <a:pt x="22" y="4685"/>
                  <a:pt x="0" y="4725"/>
                  <a:pt x="12" y="4762"/>
                </a:cubicBezTo>
                <a:cubicBezTo>
                  <a:pt x="21" y="4788"/>
                  <a:pt x="29" y="4711"/>
                  <a:pt x="38" y="4685"/>
                </a:cubicBezTo>
                <a:cubicBezTo>
                  <a:pt x="43" y="4670"/>
                  <a:pt x="57" y="4660"/>
                  <a:pt x="63" y="4646"/>
                </a:cubicBezTo>
                <a:cubicBezTo>
                  <a:pt x="93" y="4579"/>
                  <a:pt x="100" y="4514"/>
                  <a:pt x="115" y="4441"/>
                </a:cubicBezTo>
                <a:cubicBezTo>
                  <a:pt x="130" y="4369"/>
                  <a:pt x="199" y="4314"/>
                  <a:pt x="243" y="4261"/>
                </a:cubicBezTo>
                <a:cubicBezTo>
                  <a:pt x="353" y="4129"/>
                  <a:pt x="197" y="4308"/>
                  <a:pt x="282" y="4183"/>
                </a:cubicBezTo>
                <a:cubicBezTo>
                  <a:pt x="292" y="4168"/>
                  <a:pt x="309" y="4159"/>
                  <a:pt x="321" y="4145"/>
                </a:cubicBezTo>
                <a:cubicBezTo>
                  <a:pt x="340" y="4123"/>
                  <a:pt x="360" y="4079"/>
                  <a:pt x="372" y="4055"/>
                </a:cubicBezTo>
                <a:cubicBezTo>
                  <a:pt x="459" y="3705"/>
                  <a:pt x="700" y="3461"/>
                  <a:pt x="899" y="3181"/>
                </a:cubicBezTo>
                <a:cubicBezTo>
                  <a:pt x="941" y="2893"/>
                  <a:pt x="977" y="2598"/>
                  <a:pt x="1131" y="2345"/>
                </a:cubicBezTo>
                <a:cubicBezTo>
                  <a:pt x="1155" y="2241"/>
                  <a:pt x="1275" y="2204"/>
                  <a:pt x="1336" y="2113"/>
                </a:cubicBezTo>
                <a:cubicBezTo>
                  <a:pt x="1362" y="2075"/>
                  <a:pt x="1383" y="2033"/>
                  <a:pt x="1413" y="1998"/>
                </a:cubicBezTo>
                <a:cubicBezTo>
                  <a:pt x="1463" y="1941"/>
                  <a:pt x="1530" y="1900"/>
                  <a:pt x="1581" y="1843"/>
                </a:cubicBezTo>
                <a:cubicBezTo>
                  <a:pt x="1649" y="1767"/>
                  <a:pt x="1672" y="1672"/>
                  <a:pt x="1722" y="1586"/>
                </a:cubicBezTo>
                <a:cubicBezTo>
                  <a:pt x="1841" y="1382"/>
                  <a:pt x="1988" y="1140"/>
                  <a:pt x="2185" y="995"/>
                </a:cubicBezTo>
                <a:cubicBezTo>
                  <a:pt x="2314" y="900"/>
                  <a:pt x="2451" y="794"/>
                  <a:pt x="2596" y="725"/>
                </a:cubicBezTo>
                <a:cubicBezTo>
                  <a:pt x="2647" y="701"/>
                  <a:pt x="2699" y="680"/>
                  <a:pt x="2751" y="661"/>
                </a:cubicBezTo>
                <a:cubicBezTo>
                  <a:pt x="2814" y="637"/>
                  <a:pt x="2943" y="596"/>
                  <a:pt x="2943" y="596"/>
                </a:cubicBezTo>
                <a:cubicBezTo>
                  <a:pt x="2973" y="570"/>
                  <a:pt x="3001" y="543"/>
                  <a:pt x="3033" y="519"/>
                </a:cubicBezTo>
                <a:cubicBezTo>
                  <a:pt x="3070" y="491"/>
                  <a:pt x="3113" y="471"/>
                  <a:pt x="3149" y="442"/>
                </a:cubicBezTo>
                <a:cubicBezTo>
                  <a:pt x="3182" y="415"/>
                  <a:pt x="3205" y="378"/>
                  <a:pt x="3239" y="352"/>
                </a:cubicBezTo>
                <a:cubicBezTo>
                  <a:pt x="3521" y="137"/>
                  <a:pt x="3459" y="215"/>
                  <a:pt x="3381" y="262"/>
                </a:cubicBezTo>
                <a:cubicBezTo>
                  <a:pt x="3351" y="280"/>
                  <a:pt x="3320" y="295"/>
                  <a:pt x="3291" y="313"/>
                </a:cubicBezTo>
                <a:cubicBezTo>
                  <a:pt x="3263" y="330"/>
                  <a:pt x="3092" y="440"/>
                  <a:pt x="3033" y="481"/>
                </a:cubicBezTo>
                <a:cubicBezTo>
                  <a:pt x="2889" y="581"/>
                  <a:pt x="2753" y="688"/>
                  <a:pt x="2609" y="789"/>
                </a:cubicBezTo>
                <a:cubicBezTo>
                  <a:pt x="2536" y="840"/>
                  <a:pt x="2400" y="936"/>
                  <a:pt x="2352" y="995"/>
                </a:cubicBezTo>
                <a:cubicBezTo>
                  <a:pt x="2313" y="1042"/>
                  <a:pt x="2275" y="1089"/>
                  <a:pt x="2236" y="1136"/>
                </a:cubicBezTo>
                <a:cubicBezTo>
                  <a:pt x="2150" y="1240"/>
                  <a:pt x="2038" y="1314"/>
                  <a:pt x="1953" y="1419"/>
                </a:cubicBezTo>
                <a:cubicBezTo>
                  <a:pt x="1915" y="1466"/>
                  <a:pt x="1881" y="1518"/>
                  <a:pt x="1838" y="1561"/>
                </a:cubicBezTo>
                <a:cubicBezTo>
                  <a:pt x="1758" y="1640"/>
                  <a:pt x="1722" y="1674"/>
                  <a:pt x="1671" y="1766"/>
                </a:cubicBezTo>
                <a:cubicBezTo>
                  <a:pt x="1659" y="1788"/>
                  <a:pt x="1643" y="1808"/>
                  <a:pt x="1632" y="1831"/>
                </a:cubicBezTo>
                <a:cubicBezTo>
                  <a:pt x="1626" y="1843"/>
                  <a:pt x="1607" y="1875"/>
                  <a:pt x="1619" y="1869"/>
                </a:cubicBezTo>
                <a:cubicBezTo>
                  <a:pt x="1648" y="1854"/>
                  <a:pt x="1707" y="1718"/>
                  <a:pt x="1709" y="1715"/>
                </a:cubicBezTo>
                <a:cubicBezTo>
                  <a:pt x="1743" y="1658"/>
                  <a:pt x="1806" y="1582"/>
                  <a:pt x="1851" y="1535"/>
                </a:cubicBezTo>
                <a:cubicBezTo>
                  <a:pt x="1901" y="1482"/>
                  <a:pt x="1954" y="1432"/>
                  <a:pt x="2005" y="1381"/>
                </a:cubicBezTo>
                <a:cubicBezTo>
                  <a:pt x="2029" y="1357"/>
                  <a:pt x="2061" y="1342"/>
                  <a:pt x="2082" y="1316"/>
                </a:cubicBezTo>
                <a:cubicBezTo>
                  <a:pt x="2178" y="1198"/>
                  <a:pt x="2263" y="1056"/>
                  <a:pt x="2352" y="931"/>
                </a:cubicBezTo>
                <a:cubicBezTo>
                  <a:pt x="2399" y="865"/>
                  <a:pt x="2515" y="799"/>
                  <a:pt x="2571" y="738"/>
                </a:cubicBezTo>
                <a:cubicBezTo>
                  <a:pt x="2596" y="711"/>
                  <a:pt x="2610" y="675"/>
                  <a:pt x="2635" y="648"/>
                </a:cubicBezTo>
                <a:cubicBezTo>
                  <a:pt x="2653" y="628"/>
                  <a:pt x="2680" y="615"/>
                  <a:pt x="2699" y="596"/>
                </a:cubicBezTo>
                <a:cubicBezTo>
                  <a:pt x="2816" y="479"/>
                  <a:pt x="3007" y="283"/>
                  <a:pt x="3175" y="249"/>
                </a:cubicBezTo>
                <a:cubicBezTo>
                  <a:pt x="3432" y="140"/>
                  <a:pt x="3569" y="121"/>
                  <a:pt x="3856" y="108"/>
                </a:cubicBezTo>
                <a:cubicBezTo>
                  <a:pt x="3941" y="52"/>
                  <a:pt x="3862" y="97"/>
                  <a:pt x="4036" y="56"/>
                </a:cubicBezTo>
                <a:cubicBezTo>
                  <a:pt x="4276" y="0"/>
                  <a:pt x="3952" y="58"/>
                  <a:pt x="4191" y="18"/>
                </a:cubicBezTo>
                <a:cubicBezTo>
                  <a:pt x="4332" y="38"/>
                  <a:pt x="4474" y="49"/>
                  <a:pt x="4615" y="69"/>
                </a:cubicBezTo>
                <a:cubicBezTo>
                  <a:pt x="4695" y="81"/>
                  <a:pt x="4665" y="80"/>
                  <a:pt x="4743" y="108"/>
                </a:cubicBezTo>
                <a:cubicBezTo>
                  <a:pt x="4769" y="117"/>
                  <a:pt x="4821" y="133"/>
                  <a:pt x="4821" y="133"/>
                </a:cubicBezTo>
                <a:cubicBezTo>
                  <a:pt x="4949" y="220"/>
                  <a:pt x="5144" y="160"/>
                  <a:pt x="5296" y="236"/>
                </a:cubicBezTo>
                <a:cubicBezTo>
                  <a:pt x="5359" y="267"/>
                  <a:pt x="5393" y="316"/>
                  <a:pt x="5451" y="352"/>
                </a:cubicBezTo>
                <a:cubicBezTo>
                  <a:pt x="5512" y="390"/>
                  <a:pt x="5494" y="361"/>
                  <a:pt x="5541" y="416"/>
                </a:cubicBezTo>
                <a:cubicBezTo>
                  <a:pt x="5684" y="585"/>
                  <a:pt x="5588" y="502"/>
                  <a:pt x="5708" y="596"/>
                </a:cubicBezTo>
                <a:cubicBezTo>
                  <a:pt x="5729" y="630"/>
                  <a:pt x="5746" y="668"/>
                  <a:pt x="5772" y="699"/>
                </a:cubicBezTo>
                <a:cubicBezTo>
                  <a:pt x="5798" y="729"/>
                  <a:pt x="5840" y="743"/>
                  <a:pt x="5862" y="776"/>
                </a:cubicBezTo>
                <a:cubicBezTo>
                  <a:pt x="5876" y="798"/>
                  <a:pt x="5862" y="830"/>
                  <a:pt x="5875" y="853"/>
                </a:cubicBezTo>
                <a:cubicBezTo>
                  <a:pt x="5882" y="865"/>
                  <a:pt x="5900" y="862"/>
                  <a:pt x="5913" y="866"/>
                </a:cubicBezTo>
                <a:cubicBezTo>
                  <a:pt x="5977" y="884"/>
                  <a:pt x="6041" y="902"/>
                  <a:pt x="6106" y="918"/>
                </a:cubicBezTo>
                <a:cubicBezTo>
                  <a:pt x="6144" y="928"/>
                  <a:pt x="6184" y="932"/>
                  <a:pt x="6222" y="943"/>
                </a:cubicBezTo>
                <a:cubicBezTo>
                  <a:pt x="6287" y="962"/>
                  <a:pt x="6415" y="1008"/>
                  <a:pt x="6415" y="1008"/>
                </a:cubicBezTo>
                <a:cubicBezTo>
                  <a:pt x="6455" y="1038"/>
                  <a:pt x="6505" y="1053"/>
                  <a:pt x="6543" y="1085"/>
                </a:cubicBezTo>
                <a:cubicBezTo>
                  <a:pt x="6577" y="1114"/>
                  <a:pt x="6560" y="1174"/>
                  <a:pt x="6582" y="1213"/>
                </a:cubicBezTo>
                <a:cubicBezTo>
                  <a:pt x="6596" y="1238"/>
                  <a:pt x="6686" y="1290"/>
                  <a:pt x="6711" y="1303"/>
                </a:cubicBezTo>
                <a:cubicBezTo>
                  <a:pt x="6801" y="1352"/>
                  <a:pt x="6877" y="1405"/>
                  <a:pt x="6955" y="1471"/>
                </a:cubicBezTo>
                <a:cubicBezTo>
                  <a:pt x="6972" y="1501"/>
                  <a:pt x="6985" y="1534"/>
                  <a:pt x="7006" y="1561"/>
                </a:cubicBezTo>
                <a:cubicBezTo>
                  <a:pt x="7032" y="1594"/>
                  <a:pt x="7078" y="1612"/>
                  <a:pt x="7096" y="1651"/>
                </a:cubicBezTo>
                <a:cubicBezTo>
                  <a:pt x="7123" y="1710"/>
                  <a:pt x="7115" y="1781"/>
                  <a:pt x="7135" y="1843"/>
                </a:cubicBezTo>
                <a:cubicBezTo>
                  <a:pt x="7154" y="1904"/>
                  <a:pt x="7189" y="1959"/>
                  <a:pt x="7225" y="2011"/>
                </a:cubicBezTo>
                <a:cubicBezTo>
                  <a:pt x="7288" y="2103"/>
                  <a:pt x="7307" y="2085"/>
                  <a:pt x="7353" y="2178"/>
                </a:cubicBezTo>
                <a:cubicBezTo>
                  <a:pt x="7411" y="2294"/>
                  <a:pt x="7403" y="2437"/>
                  <a:pt x="7469" y="2551"/>
                </a:cubicBezTo>
                <a:cubicBezTo>
                  <a:pt x="7508" y="2618"/>
                  <a:pt x="7561" y="2673"/>
                  <a:pt x="7611" y="2731"/>
                </a:cubicBezTo>
                <a:cubicBezTo>
                  <a:pt x="7686" y="2920"/>
                  <a:pt x="7776" y="3102"/>
                  <a:pt x="7868" y="3283"/>
                </a:cubicBezTo>
                <a:cubicBezTo>
                  <a:pt x="7882" y="3311"/>
                  <a:pt x="7879" y="3345"/>
                  <a:pt x="7893" y="3373"/>
                </a:cubicBezTo>
                <a:cubicBezTo>
                  <a:pt x="7914" y="3415"/>
                  <a:pt x="7949" y="3448"/>
                  <a:pt x="7971" y="3489"/>
                </a:cubicBezTo>
                <a:cubicBezTo>
                  <a:pt x="8036" y="3611"/>
                  <a:pt x="8085" y="3726"/>
                  <a:pt x="8138" y="3849"/>
                </a:cubicBezTo>
                <a:cubicBezTo>
                  <a:pt x="8149" y="3914"/>
                  <a:pt x="8171" y="4010"/>
                  <a:pt x="8202" y="4068"/>
                </a:cubicBezTo>
                <a:cubicBezTo>
                  <a:pt x="8240" y="4139"/>
                  <a:pt x="8331" y="4273"/>
                  <a:pt x="8331" y="4273"/>
                </a:cubicBezTo>
                <a:cubicBezTo>
                  <a:pt x="8335" y="4296"/>
                  <a:pt x="8363" y="4458"/>
                  <a:pt x="8382" y="4492"/>
                </a:cubicBezTo>
                <a:cubicBezTo>
                  <a:pt x="8410" y="4543"/>
                  <a:pt x="8463" y="4579"/>
                  <a:pt x="8485" y="4633"/>
                </a:cubicBezTo>
                <a:cubicBezTo>
                  <a:pt x="8512" y="4701"/>
                  <a:pt x="8529" y="4773"/>
                  <a:pt x="8562" y="4839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87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234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32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325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68360" y="37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-3997440" y="238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Freeform 11"/>
          <p:cNvSpPr/>
          <p:nvPr/>
        </p:nvSpPr>
        <p:spPr>
          <a:xfrm>
            <a:off x="1332000" y="2276640"/>
            <a:ext cx="6565680" cy="482400"/>
          </a:xfrm>
          <a:custGeom>
            <a:avLst/>
            <a:gdLst>
              <a:gd name="textAreaLeft" fmla="*/ 0 w 6565680"/>
              <a:gd name="textAreaRight" fmla="*/ 6566040 w 65656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0340" h="759">
                <a:moveTo>
                  <a:pt x="640" y="527"/>
                </a:moveTo>
                <a:cubicBezTo>
                  <a:pt x="753" y="356"/>
                  <a:pt x="911" y="340"/>
                  <a:pt x="1102" y="309"/>
                </a:cubicBezTo>
                <a:cubicBezTo>
                  <a:pt x="1327" y="336"/>
                  <a:pt x="1507" y="350"/>
                  <a:pt x="1707" y="450"/>
                </a:cubicBezTo>
                <a:cubicBezTo>
                  <a:pt x="1815" y="504"/>
                  <a:pt x="1837" y="525"/>
                  <a:pt x="1938" y="592"/>
                </a:cubicBezTo>
                <a:cubicBezTo>
                  <a:pt x="1951" y="601"/>
                  <a:pt x="1977" y="617"/>
                  <a:pt x="1977" y="617"/>
                </a:cubicBezTo>
                <a:cubicBezTo>
                  <a:pt x="2071" y="605"/>
                  <a:pt x="2169" y="605"/>
                  <a:pt x="2260" y="579"/>
                </a:cubicBezTo>
                <a:cubicBezTo>
                  <a:pt x="2291" y="570"/>
                  <a:pt x="2319" y="550"/>
                  <a:pt x="2350" y="540"/>
                </a:cubicBezTo>
                <a:cubicBezTo>
                  <a:pt x="2435" y="512"/>
                  <a:pt x="2521" y="487"/>
                  <a:pt x="2607" y="463"/>
                </a:cubicBezTo>
                <a:cubicBezTo>
                  <a:pt x="2682" y="442"/>
                  <a:pt x="2762" y="440"/>
                  <a:pt x="2838" y="424"/>
                </a:cubicBezTo>
                <a:cubicBezTo>
                  <a:pt x="2913" y="408"/>
                  <a:pt x="2982" y="375"/>
                  <a:pt x="3057" y="360"/>
                </a:cubicBezTo>
                <a:cubicBezTo>
                  <a:pt x="3190" y="433"/>
                  <a:pt x="3307" y="545"/>
                  <a:pt x="3455" y="579"/>
                </a:cubicBezTo>
                <a:cubicBezTo>
                  <a:pt x="3686" y="632"/>
                  <a:pt x="3566" y="606"/>
                  <a:pt x="3815" y="656"/>
                </a:cubicBezTo>
                <a:cubicBezTo>
                  <a:pt x="3987" y="643"/>
                  <a:pt x="4159" y="638"/>
                  <a:pt x="4330" y="617"/>
                </a:cubicBezTo>
                <a:cubicBezTo>
                  <a:pt x="4436" y="604"/>
                  <a:pt x="4493" y="513"/>
                  <a:pt x="4587" y="476"/>
                </a:cubicBezTo>
                <a:cubicBezTo>
                  <a:pt x="4756" y="410"/>
                  <a:pt x="4920" y="377"/>
                  <a:pt x="5101" y="360"/>
                </a:cubicBezTo>
                <a:cubicBezTo>
                  <a:pt x="5244" y="376"/>
                  <a:pt x="5348" y="341"/>
                  <a:pt x="5410" y="463"/>
                </a:cubicBezTo>
                <a:cubicBezTo>
                  <a:pt x="5749" y="425"/>
                  <a:pt x="6086" y="372"/>
                  <a:pt x="6425" y="334"/>
                </a:cubicBezTo>
                <a:cubicBezTo>
                  <a:pt x="6761" y="348"/>
                  <a:pt x="6944" y="342"/>
                  <a:pt x="7222" y="399"/>
                </a:cubicBezTo>
                <a:cubicBezTo>
                  <a:pt x="7294" y="381"/>
                  <a:pt x="7359" y="339"/>
                  <a:pt x="7428" y="309"/>
                </a:cubicBezTo>
                <a:cubicBezTo>
                  <a:pt x="7762" y="317"/>
                  <a:pt x="8097" y="318"/>
                  <a:pt x="8431" y="334"/>
                </a:cubicBezTo>
                <a:cubicBezTo>
                  <a:pt x="8481" y="336"/>
                  <a:pt x="8526" y="366"/>
                  <a:pt x="8572" y="386"/>
                </a:cubicBezTo>
                <a:cubicBezTo>
                  <a:pt x="8607" y="401"/>
                  <a:pt x="8675" y="437"/>
                  <a:pt x="8675" y="437"/>
                </a:cubicBezTo>
                <a:cubicBezTo>
                  <a:pt x="8697" y="429"/>
                  <a:pt x="8722" y="427"/>
                  <a:pt x="8740" y="412"/>
                </a:cubicBezTo>
                <a:cubicBezTo>
                  <a:pt x="8767" y="389"/>
                  <a:pt x="8749" y="341"/>
                  <a:pt x="8765" y="309"/>
                </a:cubicBezTo>
                <a:cubicBezTo>
                  <a:pt x="8773" y="293"/>
                  <a:pt x="8791" y="283"/>
                  <a:pt x="8804" y="270"/>
                </a:cubicBezTo>
                <a:cubicBezTo>
                  <a:pt x="9022" y="307"/>
                  <a:pt x="9240" y="345"/>
                  <a:pt x="9460" y="360"/>
                </a:cubicBezTo>
                <a:cubicBezTo>
                  <a:pt x="9524" y="369"/>
                  <a:pt x="9588" y="381"/>
                  <a:pt x="9652" y="386"/>
                </a:cubicBezTo>
                <a:cubicBezTo>
                  <a:pt x="9746" y="394"/>
                  <a:pt x="9841" y="389"/>
                  <a:pt x="9935" y="399"/>
                </a:cubicBezTo>
                <a:cubicBezTo>
                  <a:pt x="9992" y="405"/>
                  <a:pt x="10046" y="427"/>
                  <a:pt x="10102" y="437"/>
                </a:cubicBezTo>
                <a:cubicBezTo>
                  <a:pt x="10251" y="497"/>
                  <a:pt x="10186" y="498"/>
                  <a:pt x="10295" y="476"/>
                </a:cubicBezTo>
                <a:cubicBezTo>
                  <a:pt x="10156" y="441"/>
                  <a:pt x="10027" y="357"/>
                  <a:pt x="9884" y="322"/>
                </a:cubicBezTo>
                <a:cubicBezTo>
                  <a:pt x="9833" y="309"/>
                  <a:pt x="9781" y="308"/>
                  <a:pt x="9730" y="296"/>
                </a:cubicBezTo>
                <a:cubicBezTo>
                  <a:pt x="9517" y="246"/>
                  <a:pt x="9329" y="191"/>
                  <a:pt x="9112" y="167"/>
                </a:cubicBezTo>
                <a:cubicBezTo>
                  <a:pt x="9010" y="177"/>
                  <a:pt x="8923" y="188"/>
                  <a:pt x="8842" y="257"/>
                </a:cubicBezTo>
                <a:cubicBezTo>
                  <a:pt x="8782" y="308"/>
                  <a:pt x="8743" y="385"/>
                  <a:pt x="8675" y="424"/>
                </a:cubicBezTo>
                <a:cubicBezTo>
                  <a:pt x="8538" y="503"/>
                  <a:pt x="8420" y="572"/>
                  <a:pt x="8264" y="592"/>
                </a:cubicBezTo>
                <a:cubicBezTo>
                  <a:pt x="8148" y="588"/>
                  <a:pt x="8032" y="593"/>
                  <a:pt x="7917" y="579"/>
                </a:cubicBezTo>
                <a:cubicBezTo>
                  <a:pt x="7888" y="575"/>
                  <a:pt x="7867" y="550"/>
                  <a:pt x="7840" y="540"/>
                </a:cubicBezTo>
                <a:cubicBezTo>
                  <a:pt x="7772" y="513"/>
                  <a:pt x="7703" y="489"/>
                  <a:pt x="7634" y="463"/>
                </a:cubicBezTo>
                <a:cubicBezTo>
                  <a:pt x="7537" y="427"/>
                  <a:pt x="7481" y="418"/>
                  <a:pt x="7402" y="373"/>
                </a:cubicBezTo>
                <a:cubicBezTo>
                  <a:pt x="7385" y="363"/>
                  <a:pt x="7369" y="353"/>
                  <a:pt x="7351" y="347"/>
                </a:cubicBezTo>
                <a:cubicBezTo>
                  <a:pt x="7317" y="336"/>
                  <a:pt x="7248" y="322"/>
                  <a:pt x="7248" y="322"/>
                </a:cubicBezTo>
                <a:cubicBezTo>
                  <a:pt x="7141" y="366"/>
                  <a:pt x="7062" y="405"/>
                  <a:pt x="6965" y="463"/>
                </a:cubicBezTo>
                <a:cubicBezTo>
                  <a:pt x="6939" y="479"/>
                  <a:pt x="6914" y="497"/>
                  <a:pt x="6888" y="514"/>
                </a:cubicBezTo>
                <a:cubicBezTo>
                  <a:pt x="6875" y="523"/>
                  <a:pt x="6850" y="540"/>
                  <a:pt x="6850" y="540"/>
                </a:cubicBezTo>
                <a:cubicBezTo>
                  <a:pt x="6682" y="521"/>
                  <a:pt x="6631" y="529"/>
                  <a:pt x="6490" y="476"/>
                </a:cubicBezTo>
                <a:cubicBezTo>
                  <a:pt x="6306" y="407"/>
                  <a:pt x="6282" y="366"/>
                  <a:pt x="6091" y="232"/>
                </a:cubicBezTo>
                <a:cubicBezTo>
                  <a:pt x="6001" y="169"/>
                  <a:pt x="5896" y="150"/>
                  <a:pt x="5795" y="116"/>
                </a:cubicBezTo>
                <a:cubicBezTo>
                  <a:pt x="5718" y="120"/>
                  <a:pt x="5641" y="122"/>
                  <a:pt x="5564" y="129"/>
                </a:cubicBezTo>
                <a:cubicBezTo>
                  <a:pt x="5464" y="139"/>
                  <a:pt x="5394" y="223"/>
                  <a:pt x="5307" y="257"/>
                </a:cubicBezTo>
                <a:cubicBezTo>
                  <a:pt x="5258" y="296"/>
                  <a:pt x="5208" y="355"/>
                  <a:pt x="5152" y="386"/>
                </a:cubicBezTo>
                <a:cubicBezTo>
                  <a:pt x="4997" y="473"/>
                  <a:pt x="4806" y="463"/>
                  <a:pt x="4638" y="476"/>
                </a:cubicBezTo>
                <a:cubicBezTo>
                  <a:pt x="4574" y="569"/>
                  <a:pt x="4621" y="524"/>
                  <a:pt x="4407" y="489"/>
                </a:cubicBezTo>
                <a:cubicBezTo>
                  <a:pt x="4303" y="472"/>
                  <a:pt x="4202" y="427"/>
                  <a:pt x="4098" y="412"/>
                </a:cubicBezTo>
                <a:cubicBezTo>
                  <a:pt x="4043" y="404"/>
                  <a:pt x="3987" y="403"/>
                  <a:pt x="3931" y="399"/>
                </a:cubicBezTo>
                <a:cubicBezTo>
                  <a:pt x="3813" y="379"/>
                  <a:pt x="3704" y="384"/>
                  <a:pt x="3597" y="437"/>
                </a:cubicBezTo>
                <a:cubicBezTo>
                  <a:pt x="3546" y="513"/>
                  <a:pt x="3484" y="520"/>
                  <a:pt x="3404" y="553"/>
                </a:cubicBezTo>
                <a:cubicBezTo>
                  <a:pt x="3353" y="544"/>
                  <a:pt x="3299" y="544"/>
                  <a:pt x="3250" y="527"/>
                </a:cubicBezTo>
                <a:cubicBezTo>
                  <a:pt x="3212" y="514"/>
                  <a:pt x="3181" y="484"/>
                  <a:pt x="3147" y="463"/>
                </a:cubicBezTo>
                <a:cubicBezTo>
                  <a:pt x="3095" y="431"/>
                  <a:pt x="2965" y="412"/>
                  <a:pt x="2890" y="399"/>
                </a:cubicBezTo>
                <a:cubicBezTo>
                  <a:pt x="2817" y="403"/>
                  <a:pt x="2744" y="403"/>
                  <a:pt x="2671" y="412"/>
                </a:cubicBezTo>
                <a:cubicBezTo>
                  <a:pt x="2640" y="416"/>
                  <a:pt x="2612" y="436"/>
                  <a:pt x="2581" y="437"/>
                </a:cubicBezTo>
                <a:cubicBezTo>
                  <a:pt x="2541" y="438"/>
                  <a:pt x="2247" y="417"/>
                  <a:pt x="2182" y="412"/>
                </a:cubicBezTo>
                <a:cubicBezTo>
                  <a:pt x="1931" y="377"/>
                  <a:pt x="1676" y="314"/>
                  <a:pt x="1424" y="296"/>
                </a:cubicBezTo>
                <a:cubicBezTo>
                  <a:pt x="1224" y="262"/>
                  <a:pt x="1021" y="235"/>
                  <a:pt x="820" y="206"/>
                </a:cubicBezTo>
                <a:cubicBezTo>
                  <a:pt x="730" y="217"/>
                  <a:pt x="635" y="213"/>
                  <a:pt x="550" y="244"/>
                </a:cubicBezTo>
                <a:cubicBezTo>
                  <a:pt x="512" y="258"/>
                  <a:pt x="503" y="285"/>
                  <a:pt x="472" y="309"/>
                </a:cubicBezTo>
                <a:cubicBezTo>
                  <a:pt x="448" y="328"/>
                  <a:pt x="395" y="360"/>
                  <a:pt x="395" y="360"/>
                </a:cubicBezTo>
                <a:cubicBezTo>
                  <a:pt x="363" y="355"/>
                  <a:pt x="263" y="332"/>
                  <a:pt x="228" y="360"/>
                </a:cubicBezTo>
                <a:cubicBezTo>
                  <a:pt x="217" y="369"/>
                  <a:pt x="237" y="386"/>
                  <a:pt x="241" y="399"/>
                </a:cubicBezTo>
                <a:cubicBezTo>
                  <a:pt x="211" y="502"/>
                  <a:pt x="203" y="616"/>
                  <a:pt x="87" y="656"/>
                </a:cubicBezTo>
                <a:cubicBezTo>
                  <a:pt x="29" y="618"/>
                  <a:pt x="0" y="614"/>
                  <a:pt x="61" y="502"/>
                </a:cubicBezTo>
                <a:cubicBezTo>
                  <a:pt x="71" y="483"/>
                  <a:pt x="103" y="491"/>
                  <a:pt x="125" y="489"/>
                </a:cubicBezTo>
                <a:cubicBezTo>
                  <a:pt x="202" y="482"/>
                  <a:pt x="280" y="480"/>
                  <a:pt x="357" y="476"/>
                </a:cubicBezTo>
                <a:cubicBezTo>
                  <a:pt x="507" y="425"/>
                  <a:pt x="519" y="439"/>
                  <a:pt x="717" y="450"/>
                </a:cubicBezTo>
                <a:cubicBezTo>
                  <a:pt x="797" y="483"/>
                  <a:pt x="879" y="513"/>
                  <a:pt x="961" y="540"/>
                </a:cubicBezTo>
                <a:cubicBezTo>
                  <a:pt x="1051" y="525"/>
                  <a:pt x="1119" y="528"/>
                  <a:pt x="1192" y="476"/>
                </a:cubicBezTo>
                <a:cubicBezTo>
                  <a:pt x="1365" y="352"/>
                  <a:pt x="1381" y="146"/>
                  <a:pt x="1604" y="90"/>
                </a:cubicBezTo>
                <a:cubicBezTo>
                  <a:pt x="1660" y="99"/>
                  <a:pt x="1717" y="99"/>
                  <a:pt x="1771" y="116"/>
                </a:cubicBezTo>
                <a:cubicBezTo>
                  <a:pt x="1800" y="125"/>
                  <a:pt x="1822" y="151"/>
                  <a:pt x="1848" y="167"/>
                </a:cubicBezTo>
                <a:cubicBezTo>
                  <a:pt x="1907" y="203"/>
                  <a:pt x="1964" y="244"/>
                  <a:pt x="2028" y="270"/>
                </a:cubicBezTo>
                <a:cubicBezTo>
                  <a:pt x="2068" y="286"/>
                  <a:pt x="2123" y="305"/>
                  <a:pt x="2157" y="334"/>
                </a:cubicBezTo>
                <a:cubicBezTo>
                  <a:pt x="2272" y="432"/>
                  <a:pt x="2352" y="536"/>
                  <a:pt x="2491" y="604"/>
                </a:cubicBezTo>
                <a:cubicBezTo>
                  <a:pt x="2548" y="662"/>
                  <a:pt x="2596" y="690"/>
                  <a:pt x="2671" y="720"/>
                </a:cubicBezTo>
                <a:cubicBezTo>
                  <a:pt x="2788" y="660"/>
                  <a:pt x="2707" y="703"/>
                  <a:pt x="2915" y="579"/>
                </a:cubicBezTo>
                <a:cubicBezTo>
                  <a:pt x="2958" y="553"/>
                  <a:pt x="2996" y="517"/>
                  <a:pt x="3044" y="502"/>
                </a:cubicBezTo>
                <a:cubicBezTo>
                  <a:pt x="3100" y="485"/>
                  <a:pt x="3155" y="467"/>
                  <a:pt x="3211" y="450"/>
                </a:cubicBezTo>
                <a:cubicBezTo>
                  <a:pt x="3321" y="377"/>
                  <a:pt x="3419" y="333"/>
                  <a:pt x="3545" y="296"/>
                </a:cubicBezTo>
                <a:cubicBezTo>
                  <a:pt x="3618" y="309"/>
                  <a:pt x="3693" y="312"/>
                  <a:pt x="3764" y="334"/>
                </a:cubicBezTo>
                <a:cubicBezTo>
                  <a:pt x="3794" y="343"/>
                  <a:pt x="3816" y="367"/>
                  <a:pt x="3841" y="386"/>
                </a:cubicBezTo>
                <a:cubicBezTo>
                  <a:pt x="3889" y="423"/>
                  <a:pt x="3935" y="463"/>
                  <a:pt x="3982" y="502"/>
                </a:cubicBezTo>
                <a:cubicBezTo>
                  <a:pt x="4052" y="560"/>
                  <a:pt x="4079" y="640"/>
                  <a:pt x="4162" y="682"/>
                </a:cubicBezTo>
                <a:cubicBezTo>
                  <a:pt x="4199" y="754"/>
                  <a:pt x="4202" y="740"/>
                  <a:pt x="4278" y="759"/>
                </a:cubicBezTo>
                <a:cubicBezTo>
                  <a:pt x="4321" y="750"/>
                  <a:pt x="4368" y="753"/>
                  <a:pt x="4407" y="733"/>
                </a:cubicBezTo>
                <a:cubicBezTo>
                  <a:pt x="4424" y="725"/>
                  <a:pt x="4423" y="699"/>
                  <a:pt x="4432" y="682"/>
                </a:cubicBezTo>
                <a:cubicBezTo>
                  <a:pt x="4444" y="660"/>
                  <a:pt x="4460" y="640"/>
                  <a:pt x="4471" y="617"/>
                </a:cubicBezTo>
                <a:cubicBezTo>
                  <a:pt x="4543" y="475"/>
                  <a:pt x="4521" y="333"/>
                  <a:pt x="4702" y="296"/>
                </a:cubicBezTo>
                <a:cubicBezTo>
                  <a:pt x="4758" y="302"/>
                  <a:pt x="4839" y="275"/>
                  <a:pt x="4870" y="322"/>
                </a:cubicBezTo>
                <a:cubicBezTo>
                  <a:pt x="4882" y="340"/>
                  <a:pt x="4862" y="377"/>
                  <a:pt x="4882" y="386"/>
                </a:cubicBezTo>
                <a:cubicBezTo>
                  <a:pt x="4929" y="408"/>
                  <a:pt x="4985" y="395"/>
                  <a:pt x="5037" y="399"/>
                </a:cubicBezTo>
                <a:cubicBezTo>
                  <a:pt x="5350" y="420"/>
                  <a:pt x="5662" y="434"/>
                  <a:pt x="5975" y="450"/>
                </a:cubicBezTo>
                <a:cubicBezTo>
                  <a:pt x="6351" y="427"/>
                  <a:pt x="6363" y="475"/>
                  <a:pt x="6618" y="322"/>
                </a:cubicBezTo>
                <a:cubicBezTo>
                  <a:pt x="6639" y="309"/>
                  <a:pt x="6650" y="284"/>
                  <a:pt x="6670" y="270"/>
                </a:cubicBezTo>
                <a:cubicBezTo>
                  <a:pt x="6698" y="250"/>
                  <a:pt x="6730" y="236"/>
                  <a:pt x="6760" y="219"/>
                </a:cubicBezTo>
                <a:cubicBezTo>
                  <a:pt x="6777" y="210"/>
                  <a:pt x="6796" y="204"/>
                  <a:pt x="6811" y="193"/>
                </a:cubicBezTo>
                <a:cubicBezTo>
                  <a:pt x="6826" y="182"/>
                  <a:pt x="6834" y="163"/>
                  <a:pt x="6850" y="154"/>
                </a:cubicBezTo>
                <a:cubicBezTo>
                  <a:pt x="6874" y="141"/>
                  <a:pt x="6927" y="129"/>
                  <a:pt x="6927" y="129"/>
                </a:cubicBezTo>
                <a:cubicBezTo>
                  <a:pt x="6984" y="172"/>
                  <a:pt x="7014" y="217"/>
                  <a:pt x="7042" y="283"/>
                </a:cubicBezTo>
                <a:cubicBezTo>
                  <a:pt x="7052" y="308"/>
                  <a:pt x="7056" y="343"/>
                  <a:pt x="7081" y="360"/>
                </a:cubicBezTo>
                <a:cubicBezTo>
                  <a:pt x="7135" y="396"/>
                  <a:pt x="7294" y="390"/>
                  <a:pt x="7364" y="399"/>
                </a:cubicBezTo>
                <a:cubicBezTo>
                  <a:pt x="7637" y="468"/>
                  <a:pt x="7857" y="386"/>
                  <a:pt x="8097" y="296"/>
                </a:cubicBezTo>
                <a:cubicBezTo>
                  <a:pt x="8152" y="276"/>
                  <a:pt x="8207" y="258"/>
                  <a:pt x="8264" y="244"/>
                </a:cubicBezTo>
                <a:cubicBezTo>
                  <a:pt x="8306" y="234"/>
                  <a:pt x="8392" y="219"/>
                  <a:pt x="8392" y="219"/>
                </a:cubicBezTo>
                <a:cubicBezTo>
                  <a:pt x="8517" y="231"/>
                  <a:pt x="8626" y="226"/>
                  <a:pt x="8740" y="270"/>
                </a:cubicBezTo>
                <a:cubicBezTo>
                  <a:pt x="8829" y="305"/>
                  <a:pt x="8924" y="378"/>
                  <a:pt x="9022" y="386"/>
                </a:cubicBezTo>
                <a:cubicBezTo>
                  <a:pt x="9116" y="393"/>
                  <a:pt x="9211" y="395"/>
                  <a:pt x="9305" y="399"/>
                </a:cubicBezTo>
                <a:cubicBezTo>
                  <a:pt x="9414" y="344"/>
                  <a:pt x="9531" y="323"/>
                  <a:pt x="9652" y="309"/>
                </a:cubicBezTo>
                <a:cubicBezTo>
                  <a:pt x="9811" y="313"/>
                  <a:pt x="9969" y="314"/>
                  <a:pt x="10128" y="322"/>
                </a:cubicBezTo>
                <a:cubicBezTo>
                  <a:pt x="10173" y="324"/>
                  <a:pt x="10257" y="360"/>
                  <a:pt x="10257" y="360"/>
                </a:cubicBezTo>
                <a:cubicBezTo>
                  <a:pt x="10270" y="369"/>
                  <a:pt x="10280" y="386"/>
                  <a:pt x="10295" y="386"/>
                </a:cubicBezTo>
                <a:cubicBezTo>
                  <a:pt x="10311" y="386"/>
                  <a:pt x="10340" y="375"/>
                  <a:pt x="10334" y="360"/>
                </a:cubicBezTo>
                <a:cubicBezTo>
                  <a:pt x="10325" y="337"/>
                  <a:pt x="10291" y="335"/>
                  <a:pt x="10270" y="322"/>
                </a:cubicBezTo>
                <a:cubicBezTo>
                  <a:pt x="10184" y="349"/>
                  <a:pt x="10123" y="352"/>
                  <a:pt x="10025" y="360"/>
                </a:cubicBezTo>
                <a:cubicBezTo>
                  <a:pt x="9818" y="402"/>
                  <a:pt x="9594" y="387"/>
                  <a:pt x="9382" y="399"/>
                </a:cubicBezTo>
                <a:cubicBezTo>
                  <a:pt x="9115" y="451"/>
                  <a:pt x="9297" y="425"/>
                  <a:pt x="8830" y="412"/>
                </a:cubicBezTo>
                <a:cubicBezTo>
                  <a:pt x="8711" y="395"/>
                  <a:pt x="8601" y="351"/>
                  <a:pt x="8482" y="334"/>
                </a:cubicBezTo>
                <a:cubicBezTo>
                  <a:pt x="8412" y="311"/>
                  <a:pt x="8369" y="292"/>
                  <a:pt x="8290" y="296"/>
                </a:cubicBezTo>
                <a:cubicBezTo>
                  <a:pt x="8162" y="303"/>
                  <a:pt x="8066" y="375"/>
                  <a:pt x="7955" y="424"/>
                </a:cubicBezTo>
                <a:cubicBezTo>
                  <a:pt x="7851" y="470"/>
                  <a:pt x="7743" y="499"/>
                  <a:pt x="7634" y="527"/>
                </a:cubicBezTo>
                <a:cubicBezTo>
                  <a:pt x="7587" y="514"/>
                  <a:pt x="7536" y="510"/>
                  <a:pt x="7492" y="489"/>
                </a:cubicBezTo>
                <a:cubicBezTo>
                  <a:pt x="7478" y="483"/>
                  <a:pt x="7482" y="453"/>
                  <a:pt x="7467" y="450"/>
                </a:cubicBezTo>
                <a:cubicBezTo>
                  <a:pt x="7379" y="431"/>
                  <a:pt x="7287" y="433"/>
                  <a:pt x="7197" y="424"/>
                </a:cubicBezTo>
                <a:cubicBezTo>
                  <a:pt x="6860" y="241"/>
                  <a:pt x="6509" y="70"/>
                  <a:pt x="6130" y="0"/>
                </a:cubicBezTo>
                <a:cubicBezTo>
                  <a:pt x="6066" y="9"/>
                  <a:pt x="6000" y="12"/>
                  <a:pt x="5937" y="26"/>
                </a:cubicBezTo>
                <a:cubicBezTo>
                  <a:pt x="5884" y="38"/>
                  <a:pt x="5782" y="77"/>
                  <a:pt x="5782" y="77"/>
                </a:cubicBezTo>
                <a:cubicBezTo>
                  <a:pt x="5705" y="129"/>
                  <a:pt x="5691" y="138"/>
                  <a:pt x="5602" y="154"/>
                </a:cubicBezTo>
                <a:cubicBezTo>
                  <a:pt x="5556" y="182"/>
                  <a:pt x="5506" y="203"/>
                  <a:pt x="5461" y="232"/>
                </a:cubicBezTo>
                <a:cubicBezTo>
                  <a:pt x="5398" y="272"/>
                  <a:pt x="5347" y="340"/>
                  <a:pt x="5281" y="373"/>
                </a:cubicBezTo>
                <a:cubicBezTo>
                  <a:pt x="5255" y="386"/>
                  <a:pt x="5202" y="394"/>
                  <a:pt x="5178" y="399"/>
                </a:cubicBezTo>
                <a:cubicBezTo>
                  <a:pt x="5135" y="395"/>
                  <a:pt x="5090" y="403"/>
                  <a:pt x="5050" y="386"/>
                </a:cubicBezTo>
                <a:cubicBezTo>
                  <a:pt x="5032" y="378"/>
                  <a:pt x="5036" y="349"/>
                  <a:pt x="5024" y="334"/>
                </a:cubicBezTo>
                <a:cubicBezTo>
                  <a:pt x="4938" y="231"/>
                  <a:pt x="4959" y="245"/>
                  <a:pt x="4882" y="219"/>
                </a:cubicBezTo>
                <a:cubicBezTo>
                  <a:pt x="4835" y="223"/>
                  <a:pt x="4787" y="222"/>
                  <a:pt x="4741" y="232"/>
                </a:cubicBezTo>
                <a:cubicBezTo>
                  <a:pt x="4698" y="241"/>
                  <a:pt x="4668" y="309"/>
                  <a:pt x="4651" y="334"/>
                </a:cubicBezTo>
                <a:cubicBezTo>
                  <a:pt x="4609" y="397"/>
                  <a:pt x="4569" y="459"/>
                  <a:pt x="4535" y="527"/>
                </a:cubicBezTo>
                <a:cubicBezTo>
                  <a:pt x="4429" y="522"/>
                  <a:pt x="3931" y="511"/>
                  <a:pt x="3738" y="476"/>
                </a:cubicBezTo>
                <a:cubicBezTo>
                  <a:pt x="3557" y="443"/>
                  <a:pt x="3378" y="399"/>
                  <a:pt x="3198" y="360"/>
                </a:cubicBezTo>
                <a:cubicBezTo>
                  <a:pt x="2959" y="309"/>
                  <a:pt x="2763" y="310"/>
                  <a:pt x="2530" y="219"/>
                </a:cubicBezTo>
                <a:cubicBezTo>
                  <a:pt x="2472" y="132"/>
                  <a:pt x="2388" y="172"/>
                  <a:pt x="2285" y="180"/>
                </a:cubicBezTo>
                <a:cubicBezTo>
                  <a:pt x="2185" y="283"/>
                  <a:pt x="2046" y="334"/>
                  <a:pt x="1938" y="424"/>
                </a:cubicBezTo>
                <a:cubicBezTo>
                  <a:pt x="1705" y="618"/>
                  <a:pt x="1972" y="430"/>
                  <a:pt x="1771" y="566"/>
                </a:cubicBezTo>
                <a:cubicBezTo>
                  <a:pt x="1756" y="576"/>
                  <a:pt x="1749" y="597"/>
                  <a:pt x="1732" y="604"/>
                </a:cubicBezTo>
                <a:cubicBezTo>
                  <a:pt x="1704" y="615"/>
                  <a:pt x="1672" y="613"/>
                  <a:pt x="1642" y="617"/>
                </a:cubicBezTo>
                <a:cubicBezTo>
                  <a:pt x="1501" y="604"/>
                  <a:pt x="1356" y="612"/>
                  <a:pt x="1218" y="579"/>
                </a:cubicBezTo>
                <a:cubicBezTo>
                  <a:pt x="1121" y="556"/>
                  <a:pt x="1038" y="493"/>
                  <a:pt x="948" y="450"/>
                </a:cubicBezTo>
                <a:cubicBezTo>
                  <a:pt x="844" y="400"/>
                  <a:pt x="712" y="366"/>
                  <a:pt x="601" y="334"/>
                </a:cubicBezTo>
                <a:cubicBezTo>
                  <a:pt x="347" y="385"/>
                  <a:pt x="459" y="341"/>
                  <a:pt x="318" y="450"/>
                </a:cubicBezTo>
                <a:cubicBezTo>
                  <a:pt x="282" y="478"/>
                  <a:pt x="234" y="485"/>
                  <a:pt x="202" y="514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3276720" y="4437000"/>
            <a:ext cx="2400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OMUNIKACIJA</a:t>
            </a:r>
            <a:endParaRPr b="0" lang="en-US" sz="32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3635280" y="5157720"/>
            <a:ext cx="18669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FIRMACIJA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3780000" y="5877000"/>
            <a:ext cx="16380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RADNJA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4211640" y="2565360"/>
            <a:ext cx="838080" cy="914400"/>
            <a:chOff x="4211640" y="2565360"/>
            <a:chExt cx="838080" cy="914400"/>
          </a:xfrm>
        </p:grpSpPr>
        <p:sp>
          <p:nvSpPr>
            <p:cNvPr id="134" name="AutoShape 16"/>
            <p:cNvSpPr/>
            <p:nvPr/>
          </p:nvSpPr>
          <p:spPr>
            <a:xfrm>
              <a:off x="4211640" y="2565360"/>
              <a:ext cx="838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4325760" y="2908080"/>
              <a:ext cx="609480" cy="571320"/>
            </a:xfrm>
            <a:prstGeom prst="upArrowCallout">
              <a:avLst>
                <a:gd name="adj1" fmla="val 26672"/>
                <a:gd name="adj2" fmla="val 53339"/>
                <a:gd name="adj3" fmla="val 16667"/>
                <a:gd name="adj4" fmla="val 14089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8:14:40Z</dcterms:created>
  <dc:creator>Hreljin Europronet</dc:creator>
  <dc:description/>
  <dc:language>en-US</dc:language>
  <cp:lastModifiedBy>User</cp:lastModifiedBy>
  <dcterms:modified xsi:type="dcterms:W3CDTF">2013-02-13T07:48:07Z</dcterms:modified>
  <cp:revision>59</cp:revision>
  <dc:subject/>
  <dc:title>Slide 1</dc:title>
</cp:coreProperties>
</file>