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  <p:sldId id="291" r:id="rId60"/>
    <p:sldId id="292" r:id="rId61"/>
    <p:sldId id="293" r:id="rId62"/>
    <p:sldId id="294" r:id="rId63"/>
    <p:sldId id="295" r:id="rId64"/>
    <p:sldId id="296" r:id="rId65"/>
    <p:sldId id="297" r:id="rId66"/>
    <p:sldId id="298" r:id="rId67"/>
    <p:sldId id="29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slide" Target="slides/slide36.xml"/><Relationship Id="rId61" Type="http://schemas.openxmlformats.org/officeDocument/2006/relationships/slide" Target="slides/slide37.xml"/><Relationship Id="rId62" Type="http://schemas.openxmlformats.org/officeDocument/2006/relationships/slide" Target="slides/slide38.xml"/><Relationship Id="rId63" Type="http://schemas.openxmlformats.org/officeDocument/2006/relationships/slide" Target="slides/slide39.xml"/><Relationship Id="rId64" Type="http://schemas.openxmlformats.org/officeDocument/2006/relationships/slide" Target="slides/slide40.xml"/><Relationship Id="rId65" Type="http://schemas.openxmlformats.org/officeDocument/2006/relationships/slide" Target="slides/slide41.xml"/><Relationship Id="rId66" Type="http://schemas.openxmlformats.org/officeDocument/2006/relationships/slide" Target="slides/slide42.xml"/><Relationship Id="rId67" Type="http://schemas.openxmlformats.org/officeDocument/2006/relationships/slide" Target="slides/slide43.xml"/><Relationship Id="rId68" Type="http://schemas.openxmlformats.org/officeDocument/2006/relationships/slide" Target="slides/slide4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589C-9C14-4012-9F58-BD1B3863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4CF8-C8A8-4C55-A2E3-121C38A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81DC-4AC4-435A-9DDD-2C470543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C58A6-C515-4A46-A6B6-DCB3310E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61FA-D05D-48A6-BEE1-43E659C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52B9-9EA1-4D0C-AF5F-81D6700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6A25C-04E5-4420-912A-896951B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9A553-FF40-4BC7-A269-5B9B0122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E684F-703B-4F24-9ED1-B20CFC8A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7BE6-5237-4472-919A-AEA42DEC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925F-0621-4390-883D-82AB2F4D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25FA-9475-433F-9F70-587AA6FB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5678-6B38-4185-A81A-C5EF45C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FE51-F3BD-409D-B6B2-2484ADE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03493-2D6F-4C58-BD91-89EA371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26FA-EDE0-4218-863C-3C19989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DEC9-28D3-42D2-8240-CE76EFB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50D0-F8CE-4E35-AF8B-9E31003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62293-542A-4042-AAD1-A2094C9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E9E4E-ACD8-47F1-BCF5-C8C6EFDE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C947-F97D-44BD-8443-779C1947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5F81E-257A-497C-A915-8EB17D38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D0242-BB14-47F9-869F-6266A47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843D-564E-47AF-AB10-26EB815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861B-DEB9-4F77-AB0C-F86544BD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0DA3-A70A-4534-82A9-40258304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CF51E-49ED-4533-819E-18E153B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0EFA0-2CDD-4712-B565-2FFAB97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F370-36A0-4DB8-B4AC-DBF06A2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4209A-4887-48D7-A78A-F7EAF2C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1C337-2609-402B-AE28-653A909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974CC-3607-4BB1-A7EA-16D016B9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1790B-5B10-4E58-A652-7B766B1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9560-6016-49B2-9358-E5D87DC4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CEDFF-7617-4E58-BB63-B3B8F643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626B-4529-4D5C-9054-4457C9C9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C357D-2DCF-4236-A239-9F0E7A1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8A70-82A4-48C7-81BD-4041A7A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4DEBB-F2AA-49B8-B865-ED3E6132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1221-7C83-4D4E-B428-786C27B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94EE6-78DC-43A2-B386-7B7A692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55EB-174D-4218-91EE-B075A770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F4BA0-94EA-41C7-8630-EAC9B79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CBEFF-815D-435F-9C84-EC920398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D58C5-21B9-4590-9CF0-55423E5D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8DD19-6C05-4603-B0DB-FA8F86CE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9A56-7B20-4D49-B235-82AA51A2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30DFC-BECD-4812-80FA-ACF12498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FB7F5-A60A-4AE8-861B-B7E4428E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27904-18F3-416E-8744-D2FCCD5F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1903-D562-403D-B900-0ECBA7C8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4BE7F-D13D-4B62-BC08-BF52B485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5D150-6ABE-4436-A572-5A67167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EE5E6-817C-4697-8CFF-AF82421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549E-8F64-4863-BDCB-DBFF950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54BC-C009-43DA-8283-E5B9EE48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73C28-3BCE-41CC-AD65-8016C7C5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C92C-81DF-4AC2-A26C-B2FC19D8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85EE8-F853-42C8-B9FC-9A6642E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25A30-E344-4607-B3FF-42F5566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E8673-9E14-4503-B226-C56172E7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60AEF-084F-4021-876B-7D4E55DC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B0BF-D6E2-4C51-9DA2-DA4BDDD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2A5D6-F216-4629-841E-B212BD2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704E-DFD9-4EE5-B199-73244B5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94B8-4CF5-488F-9B97-287ADCAA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56604-7BEB-43FC-82F9-7638E13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B5551-F9BD-4BE6-90C8-6E1B5251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9B6D0-B488-41E5-9F54-8245BE28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3D526-C5A4-4880-9B83-CFFCE023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51E87-3AB8-4E29-82B5-7D6C4950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6012C-95B5-416C-B070-E76408C5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B48AD-B16A-43AE-BCA5-221FC70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D2F52-5627-4972-B268-79224DE6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0D7B0-DFA4-4B45-B379-0C10575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4668F-491E-418B-8631-5093BB9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91AA6-069B-4A02-9B3C-B9C602C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497D8-F401-46CB-B78B-E1D8269F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1533-4E3D-4A56-9ECE-9D9B395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4EE84-CBF6-483B-9D5B-22851372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820CD-2128-4389-ADEE-1BCF00D4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51DFF-0F3F-4277-A35D-99A6FF00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26B6A-1364-482A-AA6F-AEB5943C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ED118-06AB-4FF1-9552-7E7C5E3F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546B8-7D5B-4FD8-9265-8DCE8A0A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7853C-73F9-44CF-BE0E-61761DE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CB011-45F9-4D1A-B78D-50E9CA15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65670-3B6A-4A21-BB95-8864292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87F5E-5C0C-46C7-BF99-E2CC51E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BAB27-ED6A-4FBE-8FC9-5F72068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24A18-828D-417D-A272-B3A9091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5D7F2-2233-4A11-AA81-59728D16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3BD1E-3574-42F2-AD07-1F9A94A4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E28F6-7ED1-4132-9ED4-686596A5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C5681-1336-47AB-8EDD-153EB43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C453C-B437-42D7-ADEA-311BB78D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B749B-8EE9-4DB5-AA4E-C6F3C40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9B705A-B44E-4009-8562-F6F1E2EC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C35F5-8D33-46E7-945E-E4DAD1E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254956-8918-422E-B356-73B503E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9E893-FED0-462A-80E3-B1BEEB9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AF407-33D0-4AEB-8E8C-5FC2DE7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E4165-E4C5-445D-BE29-4EA6EDB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3AF00-FAA3-44C2-9B28-9E6E2A1D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6DF7B-4FB9-4320-84E3-2766AE13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27710-B6FA-4976-8539-D6D0FB12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19CBC-FFC4-4406-B193-FA05BB3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23005-BD8B-479E-A5FF-92543E9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C7450-788B-40ED-B77E-0200C3A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810FE-3D89-4EAC-8CF5-6B91072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4CA0B-EE7A-4811-8837-781601B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F20D7-DBC6-4279-9CE6-500D7AA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F5399-573E-4B4C-9200-6AC71B6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3ADF0-D7D9-482E-A47D-2030EB2C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1C650-DF54-4E57-BFAD-F5D1A74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36CCC-D814-4A54-8484-174821C2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E4B50-1A59-4284-9054-A03D138A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BFDBF-D481-465D-8AD9-B728028A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F87A3-8999-41F4-AA3D-75D3F6BC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6BFFF-13DB-4FD1-BC12-5B98FC4A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65E20-33E7-49B0-A3FC-7914954C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02D9A-BA8B-40CE-B269-51BBA26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15DA7-E6BF-4991-A6BF-5F63600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D76B7-731F-4628-9FB6-1832A7E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EE0692-F30A-45EE-92BD-62CB6672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BE99A-EB2D-4995-9390-84029AE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636B3-4D48-47BF-8BE4-A06A2D57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38246-0BD2-41ED-BD5C-8AB7AE4C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B4B3B-1924-41CE-BF41-5A6CE179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F466C-8A96-4732-B91E-6E7AB863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5E92BD-52FD-408F-9E30-3FA335B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0130E-6117-4D7C-8114-E7BF2E55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85199-F133-4DA3-A106-532028DD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A208A5-C911-43C3-ACDA-9450F02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FD360-07BE-458E-8801-674B3FD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22726-443F-4BE8-9098-9C7141D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21FDC-AD64-466A-950F-B589174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77AEA-FBF6-4E18-AD0C-4F05617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0B872-7B7A-4964-83AD-11F7BB97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562E0-6DDA-4EF7-BF2F-2C61500D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875E3-18C6-46CE-8A27-5D653F8C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AC6CA-6D98-4936-B579-C54B7372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B377C-BE3F-408E-8874-D9F3A867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E62EA-DB99-4F62-81D6-F3649EA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47CAB-3AB9-48E1-97E2-21040D3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E17CB-CB7E-4B6B-B72A-D7E6446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07CE66-E9F5-49B9-B3C2-1EEDEEF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91F87-4204-47A0-82B4-75D2267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49E6C-609F-4BB8-ABD3-E494A9F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F1359-5987-4C83-802E-D20EBE8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94CF1-9B0B-4C92-99D0-540C3FEC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88B3F-7DE8-4BBF-9103-1DB6BC55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94B4C-53E1-4413-AF2F-4197E415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245037-473B-4518-9638-B8535C41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FFF8D-5AED-455F-9B8D-995C38DF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AB6CF-E42B-47BE-92D3-51436E31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87B7A5-5202-4B60-9ACD-78B7615B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D4678-E1FF-4D0A-9F75-3686A5D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0C708-77F1-485F-AB05-33551E8F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CA7BD-405F-432D-AC3C-79ABE0F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CD67BC-D0DA-4584-9CFD-E079FE6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B1CFAC-34D9-412C-9596-7676819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4243D-CD51-4600-81D9-0F17E4F6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17D47-9D27-44E7-979E-D72EA5A1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DF7B5B-BC85-48EB-A7E7-CBF3B77D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F5828-70C6-4451-9104-29E782CC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91A64-3F42-4A62-8752-09EABB1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21329-FF11-4FEF-A66C-EFF67D0A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CF7B1-B4D1-4E1E-8929-48EFADE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A6668-9131-45CF-B16D-530596B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FB0820-5227-4FFA-8B28-79859E6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D2389C-E172-49F9-8B31-4E439E9D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415FB-DA6A-458B-8506-0370A0B0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EF105-9B7F-4FE3-A0DF-67EB875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2472D-6180-475C-9214-2BAEB89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E219F4-C623-4F85-A1A5-083D4E62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A2416-1EEC-4485-B022-99D7818B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2A8-BC86-4DA9-91D2-30D0F80D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0C9-8CF9-4701-9B7B-7D78957F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3EB-D6E0-43DB-B48B-EF8CD49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AAA-912D-4BC1-A8DB-D0F3C969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75B-2502-4624-B014-DFB4B3C6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D7B-2C5C-4120-94D1-C07FB79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1EC-BF5A-4A54-AEDF-0969B7B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5B5-3262-4E0D-8894-E5300D0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ECE-D8BA-4775-B1C8-B34BCB12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579-EDCD-4B43-9347-9EF4FC43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F8D-A218-4D4A-A9D3-AE963401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73E-9E77-4ED7-B190-B21846D0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7E8A-7D29-4464-97E6-3661ADDC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6557-7212-4E64-8FE5-59FACAD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77BD-2446-47D5-B8B2-255E1357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736-AC4C-4D12-9FB6-A6F5086E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C678-A972-455B-BAD8-36453870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D356-7164-482B-ABEA-27E44DEC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D3DC-1FA6-4BE1-8C21-11E6746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3738-8A54-4ABB-A2DB-628E928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BFAA-A869-4EBA-A38D-4F4A9A8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F651-2B6E-470E-8294-0B3ADB7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D7C5-A8BE-471E-9D57-B9341A05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96EA-1A2E-483A-8D98-0474D3A3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F0CF-BB68-4F2F-852F-78FF9DDC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030E-6054-40A7-8502-1DCF673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88DE-6CAC-4CA1-AD10-D02C1BC6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9F51-2D41-42DE-BC12-E2425AA1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D016-C243-4826-9D4B-A6775812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AD57-B496-461A-A8F0-AB4C617B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0C28-4D52-4AD9-91F6-4A00741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4012-387C-4941-88C1-07995CA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256CC-04C4-41B9-B7C7-93F6CD8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A8CA-AB34-4EF7-8D25-D545AE2D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0EB8-4C41-4B11-A11A-39467AF6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0EE3-4BDB-41FA-8747-FACABEAC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4FEFB-C7D3-4055-A566-2AD9CB71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C766C-D91F-4D41-99A5-3D94733D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4A1D-3C85-4FD0-B0B0-A8EAE51E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5350-AA0F-4F08-B8AC-733B3E1E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176DA-9E34-4ACD-BEC1-A9322B29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E178-74D2-49CD-A367-3972A5C1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1A07-59C7-41E1-8B66-C0DFE1D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29AF-E50E-4589-B5B2-9B43B08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8C2EF-C0EC-4D12-82AA-2827A10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36B8-8F04-4A1C-8188-426C151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E9C96-628D-4EB0-8C4A-47AC3485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03CC-4D77-4589-8044-04D5B7EA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C5BC8-7EF2-4832-A730-A3202672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634D-0982-4CD4-867E-BE5102C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0F77-72B4-4E65-918D-A73C470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283D7-6BA3-4A3D-9499-F0B6718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70B01-F72C-4A38-A7FB-C93BB8B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5214600"/>
            <a:ext cx="442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18669-3F2A-4EF3-94BE-08CDE8E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FA6F-F11A-4906-89FB-C5C5C4C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0B40-C56B-4852-BB36-2746B815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017D2-6D35-443C-AEDF-359452C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5CDC3-A440-4E60-9193-C24E1D8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BDCC-0115-4C4B-B46A-779112F4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862A-D347-4F5A-9AEE-16CC5DEF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093F-7AC9-4B9A-9E93-68D0F318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2E4C0-1508-4E57-8B2A-27364A7C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498A-A453-4082-AC04-CEEDB64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DA83-4888-4059-9515-6C0F12795FB0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E7C4-A366-4ABE-8A76-0326D880217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C9CB-3ADA-45E2-B4F3-B2F7C50423B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D7A-22EB-442D-9960-C8EA6800059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6480-B171-4B0E-B08E-305791A8EB0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FFEF-BD85-4F25-B94B-727E972983A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3D96-00D1-4A09-A48D-68736F2DE5F6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74AD-6174-4B19-88BD-F809A124331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C8C1-F53E-49E7-A311-FDC1FE2B326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7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CE0-6070-424B-B8FF-AEEF529767F5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1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9D8-CE4D-4CA8-9738-EF02E95A0E3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5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3A5-AD74-4C16-98CC-B2D6D3AA099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9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30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DF4F-668D-481D-B94C-E7A5C267E79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3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7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55E3-F772-4922-8C80-9F6B61AA1A4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574D-A775-4420-84B6-07D7070086B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DC8-997F-4F5B-BEAB-5FA7129C11B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35FA-827F-4AB7-BF07-562843AD830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9A9-5FCC-406C-BD20-55EEC0A9170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1C43-B956-435E-A904-871D091DCC3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7E43-958C-4901-AD17-FE497488F847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 u="sng">
                <a:solidFill>
                  <a:srgbClr val="c00000"/>
                </a:solidFill>
                <a:uFillTx/>
                <a:latin typeface="Calibri"/>
              </a:rPr>
              <a:t>Rad ravnatelja srednje škole u prvom mandatu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viši savjet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Mario Rogač, pro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 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izdvajanje za školstvo (postotak BN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tatus i plać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broj visokoobrazovanih u R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nema sustavnog praćenja i vrednov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imenovanja ravnatel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stav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sebnih kriterija za izbo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četnog osposoblj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rije stupanja na duž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aćenja i vrednovanja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voljno decentraliz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pecifični problem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napredovanja (trenut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ma licenciran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abe ovlasti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dostatak pravne zašt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malo iskorišteni najbolj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avjetnici za ravnatel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kada (puno, pa nitko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a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rebalo bi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ložaj ravnatelja u škol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bre i loše strane pos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i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igon za iskušavan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a okoline prema ravnatel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ažnost dobrog poče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ne ulo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mostalnost i kreativ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vnatelji u svijet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ličita rješenja ime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razine: državna, pokrajinska, lokal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posobljavanje prije početka rada i licenciranje (uglavn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i odnos u većini zema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nzivno usavršavanje i praćenje rada u prvom mand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dovito praćenje i vrednovanje rad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užanje stručne pomoći i informaci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obe za pružanje pomoć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AZOO, MZOS, UHSR, GLOS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oditelji ŽSV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kusni i uspješni ravnat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i s NSO licen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ternetske stranice AZOO, UHSR, MZOS, ZNAMEN, UTIRU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njige (namijenjene ravnatelji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SO ravnatelji 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uzana Hitre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 Rašan-Križanac, Zagr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arijan Puljiz,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ražen Blažeka, Čakov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lan Labus, Zapreš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Čedomir Ružeć, La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nježana Barabaš-Seršić, Osij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senija Beljan, Opat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ravnateljski“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planirani posl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lekcija i delegiranje pos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acija rada i praćenje realiz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ćenje rada, ispravljanje pogrešaka i propusta, pravovremeno izvješć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stavnika, pedagoške dokumentacij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ova i progra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dministrativna pism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redsko poslovanje (Uredba, ZU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čin obraćanja i pis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učavanje pr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cedure i protok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finan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govornost za sigu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2800"/>
            </a:b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     u prvom mandatu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ambicioz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hrabr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optereće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kreativ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i ravnatelj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tragovi (dopisi, obavijesti, izvješća, službene bilješke, zapisnici,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vrda o primitku dopi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odgovori na pisane podnes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snivanje i raskidanje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užbe i žalbe, odgovori, nazo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ažn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eventivni program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ogram za suzbijanje nasilj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čno usavršavanje sebe i drug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rješavanju nasi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OO stanja u razrednom odje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naliza uspjeha i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ažno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obavještavanje nadležnih institu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ZOS, AZOO, CSS, DORH, POLIC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zivi roditeljima (službeni), pisana izvješ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gurnost učenika (čl 67. Zakona st. 1. al.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a o NOPU (čl 67. Zakona st. 1. al. 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a i obveze učenika (čl. 61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remenik i popis poslo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rasci i koncep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i kurik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rganizacija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ulaza i izl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spored sa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opterećenje učenika, rupe u raspore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movrednovanje rada škole (čl. 88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grami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PIP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kolski kurik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alizacija programa (dokazi provedb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kvirni i izvedbeni programi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anovi i programi rada razre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Uče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ovi “Pravilnik o ocjenjivanju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vremenik, zapis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i bilješ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ostanc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imjena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a važn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predmet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kumentacija o izletima i ekskurzijama učenika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i 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ov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a pedagoška dokumentaci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tične knji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pomenic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redna knj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bilježja ravnatelja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u prvom mandatu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amljeni (prepušteni sami seb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sigur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bun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stre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pre)velika oček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tpuno novi pos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lika odgov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jvažniji podzakonski akti škol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atut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tički kodeks (čl. 58. st. 1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ućni  (školski) red (čl. 58. st. 2. i 3. Za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avilnici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na  ra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d  pož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zaštiti  okoliš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promicanju  spoznaja o štetnosti  duhanskih proizvo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i pravil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e  knji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k  o  radu  školskog  sportskog  klu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slov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legijalnih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nastavničkog vijeć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razrednih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vije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slovni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vnik o radu komisije za stažiranje (Glasnik MPŠ, br. 5, 30. 4. 1996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pisni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nastavničkog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razrednih vijeć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sjednica  vijeća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pisnici vijeć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struktura zapsi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Evidencij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o suradnji s roditel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o neprihvatljivim oblicima ponašanja uče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a zamjene nenazočnih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rada izvannastavnih aktivnost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videncije radnog vre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test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, dozvole,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porabna dozv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 stručnih su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rmin informacija za rodite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WEB stranica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tički razmotriti rad pretho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vjeriti osobne dosjee 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oslanjati se na usmene por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jvažnije rješavati odmah ili u najkraćem roku (priorite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ajnica škole mora znati gdje je ravnatel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davati lažne isk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drediti razine k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drediti interne protokole i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smjeriti rješavanje problema na Šk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Hitnost postupanja u posebnim situa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ažnost svjedoka, ovjerenih presl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tvarati nepotrebne suk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“bježati” od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ložaj ravnatelja u RH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ložaj 1. vr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Uredba VR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slovodni i stručni voditelj ško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(čl. 125. st. 1. Zakon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mati jasne i realne plan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kušati imati što veću podrš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 prvom mandatu što više čitati i uč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ažnije 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čuvajte zdravlje i živ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sao je važan ali nije najvažn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raditi premalo ni previ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ekirati se oko stvari na koji nemate utjecaj ili nisu u vašoj ingerenc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uzimati “prevelike zalogaj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ko doista ne ide bolje je odus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a opasnos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Upisi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znena odgovornost u raznim zakon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azneni 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OO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kon o pravobranitelju za dje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FINANCIJSKO POSL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Najveći izvori proble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oša komunik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e i način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igurnost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dgovornost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25. st. 2. 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je odgovoran za zakonitost rada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čni rad školske ustano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ašto vi dozvolit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Znate li da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Što ste poduzel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Status  ravnatel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: funkcija, položaj ili radno mjesto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tuacija u zadnjih dvadesetak god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ministar, skupština, školski od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- nekad sa, nekad bez suglasnosti mini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oblem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a stoljeća komuniz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movinski r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mobilizacija, prognanici i izbjeglice, oskud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ijeratno razdobl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e dužnosnika u nadležnom Ministarstvu (9  ministara  od 1990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Ministr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latko Pavlet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esna Girardi-Jurk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jilja Vok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Božidar Pugeln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nsi Ivaniše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Vladimir Stru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ragan Primor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Radovan Fuc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Željko Jovan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vostruko više pomoć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ično u Zavodu za školstv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danas AZO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lično u županijskim ured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(pročelnici za školstv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3-02-08T13:56:34Z</dcterms:modified>
  <cp:revision>28</cp:revision>
  <dc:subject/>
  <dc:title>Slide 1</dc:title>
</cp:coreProperties>
</file>