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48A-E116-40F2-AB15-D538EBF4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D37-09A4-4FC3-AD92-1B9781C4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FE0-EF6B-4F3B-96E0-39D8FAF0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3BE-A877-41A3-B553-BD7D9A01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B68-AEDF-4E69-94A7-4FB9C326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870-6D39-4610-8283-A5679217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01B-3FD6-4E08-AD6B-51C1773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7B8-89F5-48CA-9E71-0002DFA8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8A2-B39E-4446-B663-5F723940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7F5-FCF1-426D-9E02-B327157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7EA-ABB5-4C68-9D83-A526691A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119-D19C-4183-9AC0-090C074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E243-5779-4483-87F0-408D2E937FA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Vrjednovanje učenika s teškoćama u razvo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kolovoz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Praćenje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obuhvaća sustavno uočavanj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bilježenje zapažanja o učenikovu radu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napredovanju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u ostvarivanju očekivani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odgojno-obrazovnih postignuć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definiranih nacionalnim kurikulumo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nastavnim planom i programom 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školskim kurikulumom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Provjeravanje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je 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mjerenje postignute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razine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znanja, 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vještina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, sposobnosti i stavova u određenom nastavnom predmetu, školskom i izvanškolskom radu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Ocjenjivanje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je pridavanje brojčane , bodovne i/ili opisne vrijednosti rezultatima praćenja i provjeravanja učeničkog rada i napred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Svako praćenje i provjeravanje ne mora nužno završiti ocjenjivanj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Radni zadatak br. 1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Ispunite radni list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akon što ste izvršili radni zadatak razmijenite listiće s koleg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ocijenite se međusob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Kvalitetno vrjednov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56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rjednovanjem procjenjujemo koliko su ostvareni 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ciljevi 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odgojno obrazovnog r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Ti ciljevi odnose se na 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tri područja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akademsk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socio-emocionalno (stavovi, uvjerenja, sustav vrijednosti, ponašanje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psihomotoričk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ačin na koji se provodi vrjednovanje utječe na 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motivaciju učenika 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i kvalitetu nastavnog proce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9040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Motivacijom 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težimo za postizanjem uspjeha i biramo aktivnosti koje će nas dovesti do cilj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Motivacija je povezana sa psihičkom potrebom da se osjećamo važni, vrijedni, cijenjeni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 u="sng">
                <a:solidFill>
                  <a:srgbClr val="ffffff"/>
                </a:solidFill>
                <a:uFillTx/>
                <a:latin typeface="Calibri"/>
              </a:rPr>
              <a:t>Zadovoljavamo je težeći uspjehu , izbjegavajući neuspjeh kako bismo sačuvali samopoštovanje.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>
                <a:solidFill>
                  <a:srgbClr val="ffffff"/>
                </a:solidFill>
                <a:latin typeface="Calibri"/>
              </a:rPr>
              <a:t>Rezultat čestog neuspjeha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može biti naučena bespomoćnost i učenik se prestaje truditi. Izbjegava aktivnosti u kojima nije uspješan. Vjeruje da ne može postići cil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hr-HR" sz="2700" spc="-1" strike="noStrike">
                <a:solidFill>
                  <a:srgbClr val="ffffff"/>
                </a:solidFill>
                <a:latin typeface="Calibri"/>
              </a:rPr>
              <a:t>Ako ne učim, nitko mi ne može reći da sam glup. Škola me ne zanima.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Načela dobrog vrjednov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Odrediti cilj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(krajnji cilj je uključivanje i osposobljavanje za živo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Tehnike vrjednovanja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su sredstva za prikupljanje podataka.Prikupljene podatke treba pažljivo obraditi i protumači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Učitelji zajedno s učenicima 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analiziraju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podatke i 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planiraju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daljnje kor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Krajnji cilj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vrjednovanja je utvrditi što učenik zna i može te kako ga potaknuti na kvalitetniji rad (čl.3. Pravilnika: Učitelj/nastavnik u osnovnoj i srednjoj školi vrjednuje učenikova postignuća tako da poštuje osobnost učenika i različitosti među njim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alibri"/>
              </a:rPr>
              <a:t>Zahtjevi pred učiteljem/nastavnik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1. Zahtjev za 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objektivnošću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(vrjednovanje i ocjenjivanje u odnosu na unaprijed utvrđeni kriteri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2. Zahtjev za 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individualizacijom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( voditi računa o osobinama učenika, okolnostima rada, napretku učenika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hr-HR" sz="2800" spc="-1" strike="noStrike" u="sng">
                <a:solidFill>
                  <a:srgbClr val="ffffff"/>
                </a:solidFill>
                <a:uFillTx/>
                <a:latin typeface="Calibri"/>
              </a:rPr>
              <a:t>!!! Suprotnost navedenih zahtje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 U zaključnoj ocjeni 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kombinirati različite postupke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pazeći na važnost stjecanja realne slike o sebi, svojim mogućnostima i postignuć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90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Radni zadatak br. 2 (individualno i grupn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Učenica pohađa 8 razred. Ima rješenje o prilagođenom programu ( ispodprosječno intelektualno funkcioniranje, ADD, disgraf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ročitajte pisani rad, ispravite pogrješke i ocijeni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916360" y="836640"/>
            <a:ext cx="359244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0881-mid"/>
          <p:cNvPicPr/>
          <p:nvPr/>
        </p:nvPicPr>
        <p:blipFill>
          <a:blip r:embed="rId2"/>
          <a:stretch/>
        </p:blipFill>
        <p:spPr>
          <a:xfrm>
            <a:off x="3238560" y="10112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900000" y="2997360"/>
            <a:ext cx="7488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Bio jednom jedan dječak veoma ružnog karaktera. Njegov otac mu je jednog dana dao vrećicu sa čavlima i rekao mu da zabije po jedan čavao u vrata  svaki put kad se bude ružno ponašao i/ili kad se posvađa s nek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libri"/>
              </a:rPr>
              <a:t>Vrste vrednov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Inicijalno vrjednovanje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na početku nastavne godine u svrhu planiranja i program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ne ocjenjuje 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zajedno s učenicima analiziramo rezul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traje dulje vrije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ohranjujemo 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Sumativno vrednovanje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provodi se na kraju obrade, utvrđivanja nastavne cjeline i obrazovnog razdobl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Koriste se pismene i usmene provjere, pisanje eseja, testov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Rezultira orijentacijom na ocjenu ,a ne na zna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836280"/>
            <a:ext cx="80866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Formativno vrjednovanje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rovodi se tijekom dijela obrade. Rezultati govore o naučenim dijelovima gradiva, što treba još raditi, kojim metodama, što slijedi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- Krajnji cilj je kvalitetnija nastava, veća motivacija za učenje i samim tim  viša postignuć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Formativno vrjednovanje je osnova za individualizirano poučavanje. Ono se temelji na onome što učenici već znaju i što mogu naučit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rjednovanje je poticajno ako učenici dobiju odgovore na pitan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Što se od mene očekuje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Što sam kvalitetno naučio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Što trebam naučiti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hr-HR" sz="2800" spc="-1" strike="noStrike">
                <a:solidFill>
                  <a:srgbClr val="ffffff"/>
                </a:solidFill>
                <a:latin typeface="Calibri"/>
              </a:rPr>
              <a:t>Što trebam činiti kako bi to postigao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Calibri"/>
              </a:rPr>
              <a:t>Uzroci slabe objektivnosti vrjednova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Gradivo je preteško i nerazumlj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itanja su nejasna ili preteš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revisoka očekivanja i kriteriji učitelja/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Nedostatak vre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Rijetko provjeravanje zn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Loša razredna klima i odnos s učeni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Calibri"/>
              </a:rPr>
              <a:t>Posljedice slabe objektivnosti vrjednova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Akademsko znanje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podložno je objektivnom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ocjenjivanju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za razliku od ocjenjivanja psihomotornih ( likovni, glazbeni, tjelesni) i socioemocionalnih vještina i sposobn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Školski uspjeh utječe na </a:t>
            </a: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samopoštovanje i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samopouzdanje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dakle na mentalno zdravlje učenika. (priča: Kirur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Učenici s teškoćama teško mogu kompenzirati osjećaj neuspješnosti u ško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Calibri"/>
              </a:rPr>
              <a:t>Ocjena je izvor stresa ,ali i sastavni dio života.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Kronični stres  ima za posljedicu ozbiljne zdravstvene, socijalne i psihičke problem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Radni zadatak br.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Učenik V. razreda, bez rješenja, s emocionalnim poteškoćama (povučen, otežano komunicira, ima česte glavobolj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Složena obiteljska situ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Posljednju godinu dana suočio se sa četiri smrtna slučaja u obitel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Rad u skupini: prokomentirajte i zapišite osvrt na praćenje, ocjene i zaključite ocjenu na kraju nastavne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Calibri"/>
              </a:rPr>
              <a:t>Praćenje učenikovih postignuć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isane bilješke moraju biti </a:t>
            </a: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poticajne,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uočljive, razumljive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Moraju </a:t>
            </a: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jasno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iskazivati učenikovo napredovanje, čime je ovladao i za što je osposoblj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Moraju </a:t>
            </a:r>
            <a:r>
              <a:rPr b="0" i="1" lang="hr-HR" sz="3200" spc="-1" strike="noStrike">
                <a:solidFill>
                  <a:srgbClr val="ffffff"/>
                </a:solidFill>
                <a:latin typeface="Calibri"/>
              </a:rPr>
              <a:t>poštovati osob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Svrha je pomoć učiteljima u konačnom ocjenjivanju uspje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752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pecifični 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Calibri"/>
              </a:rPr>
              <a:t>oblici provjeravanja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 znanja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(Naputak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dulje vrijeme rješavanja pisanih tekst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prilagodba pisanog materij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u usmenoj provjeri učitelj/nastavnik treba imati strpljenja i čekati do učenik odgovor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ako učenik ima teškoća u čitanju (disleksija) znanje je potrebno provjeravati usmeno, ili da mu netko čita pitanja na koja će on odgovoriti usmeno ili pism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slične su metode i kod disgraf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- ako se radi o učenicima sa smetnjama koncentracije, znanje je potrebno provjeravati češće, u kraćim vremenskim jedinicama i s manjim brojem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hoto 1"/>
          <p:cNvPicPr/>
          <p:nvPr/>
        </p:nvPicPr>
        <p:blipFill>
          <a:blip r:embed="rId2"/>
          <a:stretch/>
        </p:blipFill>
        <p:spPr>
          <a:xfrm>
            <a:off x="1476360" y="1628640"/>
            <a:ext cx="1714680" cy="1268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755640" y="306864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Prvog dana je zabio 37 čavla. Sljedećih tjedana naučio je kontrolirati se i broj zabijenih čavala se smanjivao iz dana u dan. Otkrio je da je lakše kontrolirati se umjesto zabijati čav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Calibri"/>
              </a:rPr>
              <a:t>Važnost tehnike </a:t>
            </a:r>
            <a:r>
              <a:rPr b="1" lang="hr-HR" sz="4000" spc="-1" strike="noStrike" u="sng">
                <a:solidFill>
                  <a:srgbClr val="ffffff"/>
                </a:solidFill>
                <a:uFillTx/>
                <a:latin typeface="Calibri"/>
              </a:rPr>
              <a:t>provjerava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Odrediti najučinkovitiji način provjeravanja za svakog učenika s teškoć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Oblik pitanja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sugestivna (“ Je li…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potpit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kratka, jasna, razumlj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provjeriti razumijevanje postavljenog pit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- duljina trajanja ispitivanja ( do 6 m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Ocjenjiv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Ocjenjivanje je posljednja etapa u pedagoškom postupku praćenja i provjerav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Usko je vezano za spoznaje o učeniku prikupljene u tim etap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Ocjena je 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povratna informacija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 namijenjena učeniku, učitelju, roditeljima, stručnoj službi škole, komisijama za upis, prosvjetnim vlast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libri"/>
              </a:rPr>
              <a:t>Čl.11. Pravil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Osnovni 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Calibri"/>
              </a:rPr>
              <a:t>elementi ocjenjivanja</a:t>
            </a: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 učenika u postupcima provjeravanja je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ovjeravanje, razumijevanje i primjena nastavnih sadrža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usmeno i pisano izražav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učenici s teškoćama u razvoju mogu se provjeravati samo usmeno ili samo pisano, ovisno o vrsti teškoć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aktična i kreativna primjena usvojenih znanja, stupanj razvijenih vještina i sposobno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Calibri"/>
              </a:rPr>
              <a:t>odnos prema radu i izvršavanju obv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Calibri"/>
              </a:rPr>
              <a:t>napredovanje u razvoju sukladno učenikovim psihofizičkim sposobnostima i mogućnost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libri"/>
              </a:rPr>
              <a:t>Pogrješke pri ocjenjivan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993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Halo efekt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(osvijestiti osjećaje prema učeniku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Logička pogrješka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(učitelj predaje više predmet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Pogrješka sredine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(učitelj uglavnom “daje“ prosječne ocje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Pogrješka razlikovanja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(učitelj koristi ocjene između: ¾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Pogrješku kontrasta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(učitelj mijenja kriterij ocjenjivanja ovisno o kvaliteti znanja učenik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Pogrješka prilagođavanja kvaliteti skupine</a:t>
            </a:r>
            <a:r>
              <a:rPr b="0" lang="hr-HR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2700" spc="-1" strike="noStrike">
                <a:solidFill>
                  <a:srgbClr val="ffffff"/>
                </a:solidFill>
                <a:latin typeface="Calibri"/>
              </a:rPr>
              <a:t>/razre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Poticajnost ocjenjiv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Podcrtati pogrješke (ne križati, šarati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Obrazložiti pogrj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Napisati komentar (kratku, jasnu, razumljivu rečenicu o tome što je učenik napravio dobro i na čemu treba radi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Dati priliku za ispra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729490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5729490-md"/>
          <p:cNvPicPr/>
          <p:nvPr/>
        </p:nvPicPr>
        <p:blipFill>
          <a:blip r:embed="rId4"/>
          <a:srcRect l="2501" t="2898" r="2501" b="2898"/>
          <a:stretch/>
        </p:blipFill>
        <p:spPr>
          <a:xfrm>
            <a:off x="380880" y="228600"/>
            <a:ext cx="8534520" cy="62895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971800" y="22096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400a8"/>
                    </a:gs>
                    <a:gs pos="100000">
                      <a:srgbClr val="9e009e"/>
                    </a:gs>
                  </a:gsLst>
                  <a:lin ang="5400000"/>
                </a:gradFill>
                <a:latin typeface="Arial Black"/>
              </a:rPr>
              <a:t>UČI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400a8"/>
                  </a:gs>
                  <a:gs pos="100000">
                    <a:srgbClr val="9e009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905120" y="3581280"/>
            <a:ext cx="5638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400a8"/>
                    </a:gs>
                    <a:gs pos="100000">
                      <a:srgbClr val="9e009e"/>
                    </a:gs>
                  </a:gsLst>
                  <a:lin ang="5400000"/>
                </a:gradFill>
                <a:latin typeface="Arial Black"/>
              </a:rPr>
              <a:t>OD PT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400a8"/>
                  </a:gs>
                  <a:gs pos="100000">
                    <a:srgbClr val="9e009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5885199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6" name="WordArt 3"/>
          <p:cNvSpPr txBox="1"/>
          <p:nvPr/>
        </p:nvSpPr>
        <p:spPr>
          <a:xfrm>
            <a:off x="1447920" y="5335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ato divljih ptica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ti u obliku slova "V".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752480" y="4876920"/>
            <a:ext cx="6477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šući krilima svaka ptica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vara uzgon i tako pomaže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tici koja leti iza nje.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9P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1066680" y="5029200"/>
            <a:ext cx="746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4f81bd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ok ptice lete zajedno,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4f81bd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4f81bd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omet letenja je 71% veći nego 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4f81bd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4f81bd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da jedna ptica leti sama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4f81bd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4" descr="animvogelsjp0"/>
          <p:cNvPicPr/>
          <p:nvPr/>
        </p:nvPicPr>
        <p:blipFill>
          <a:blip r:embed="rId3"/>
          <a:stretch/>
        </p:blipFill>
        <p:spPr>
          <a:xfrm>
            <a:off x="3809880" y="380880"/>
            <a:ext cx="4953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1281068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905120" y="4952880"/>
            <a:ext cx="5410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9c9ff"/>
                </a:solidFill>
                <a:latin typeface="Arial"/>
                <a:ea typeface="Arial"/>
              </a:rPr>
              <a:t>Ljudi koji imaju isti cilj i smisao za zajednicu mogu mnogo lakše i brže dospjeti tamo kamo su se uputili upravo zato što jedni drugima pružaju podršku i povjerenje.</a:t>
            </a:r>
            <a:r>
              <a:rPr b="0" lang="en-US" sz="1800" spc="-1" strike="noStrike">
                <a:solidFill>
                  <a:srgbClr val="c9c9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417 -0.00324 L 3.33333E-006 -0.62821 E">
                                      <p:cBhvr>
                                        <p:cTn id="20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1068105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733920" y="3733920"/>
            <a:ext cx="51051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Arial"/>
                <a:ea typeface="Arial"/>
              </a:rPr>
              <a:t>Kada jedna ptica napusti formaciju, odmah osjeti težinu i otpor, pa se brzo vraća natrag kako bi se koristila prednostima uzgona ptica ispred sebe.</a:t>
            </a:r>
            <a:r>
              <a:rPr b="0" lang="en-US" sz="1800" spc="-1" strike="noStrike">
                <a:solidFill>
                  <a:srgbClr val="c9c9ff"/>
                </a:solidFill>
                <a:latin typeface="Arial"/>
                <a:ea typeface="Arial"/>
              </a:rPr>
              <a:t> </a:t>
            </a:r>
            <a:r>
              <a:rPr b="0" lang="en-US" sz="100" spc="-1" strike="noStrike">
                <a:solidFill>
                  <a:srgbClr val="c9c9ff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c9c9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hoto 2"/>
          <p:cNvPicPr/>
          <p:nvPr/>
        </p:nvPicPr>
        <p:blipFill>
          <a:blip r:embed="rId2"/>
          <a:stretch/>
        </p:blipFill>
        <p:spPr>
          <a:xfrm>
            <a:off x="1422360" y="1731960"/>
            <a:ext cx="1714680" cy="1268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755640" y="3284640"/>
            <a:ext cx="770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Na kraju je došao dan kada dječak nije zabio niti jedan čavao u vrata. Tada je otišao kod oca i reče mu da danas nije zabio niti jedan čav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9pri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4343400" y="3844800"/>
            <a:ext cx="4572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Imamo li barem toliko razbora koliko ga imaju ptice, ostat ćemo u formaciji s onima koji idu u onom smjeru u kojem i mi želimo ići i prihvatit ćemo njihovu pomoć kao što ćemo je i sami pruž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imvogelsjp0"/>
          <p:cNvPicPr/>
          <p:nvPr/>
        </p:nvPicPr>
        <p:blipFill>
          <a:blip r:embed="rId3"/>
          <a:stretch/>
        </p:blipFill>
        <p:spPr>
          <a:xfrm>
            <a:off x="2666880" y="228600"/>
            <a:ext cx="4038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3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2971800"/>
            <a:ext cx="4038480" cy="37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Arial"/>
                <a:ea typeface="Arial"/>
              </a:rPr>
              <a:t>Kad se ptica na čelu jata umori, vraća se na bilo koje mjesto u formaciji, tada druga preuzima čelno mjes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imvogelsjp0"/>
          <p:cNvPicPr/>
          <p:nvPr/>
        </p:nvPicPr>
        <p:blipFill>
          <a:blip r:embed="rId3"/>
          <a:stretch/>
        </p:blipFill>
        <p:spPr>
          <a:xfrm>
            <a:off x="0" y="914400"/>
            <a:ext cx="40384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343964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3349800"/>
            <a:ext cx="457200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Prihvatimo činjenicu prema kojoj će svatko doći na red da radi težak posao i da vođenjem moramo dijeliti međusobno-jer kod ljudi, kao i kod ptica, postoji i međuovis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_sunce_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4724280" y="4038480"/>
            <a:ext cx="41911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6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Ptica koja leti u začelju povremeno se glasa kako bi ohrabrila one naprijed da održe konstantnu brzi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nimvogelsjp0"/>
          <p:cNvPicPr/>
          <p:nvPr/>
        </p:nvPicPr>
        <p:blipFill>
          <a:blip r:embed="rId3"/>
          <a:stretch/>
        </p:blipFill>
        <p:spPr>
          <a:xfrm>
            <a:off x="4419720" y="380880"/>
            <a:ext cx="449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icture11"/>
          <p:cNvPicPr/>
          <p:nvPr/>
        </p:nvPicPr>
        <p:blipFill>
          <a:blip r:embed="rId2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0" y="28954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Budimo sigurni da je naše glasanje iz posljednjih redova ohrabrujuće, a ne nekakvo drukč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n_sunce_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0" y="525780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Ako se neka ptica iz formacije razboli, ozljedi ili bude pogođena, druge dvije će izići iz te formacije i slijediti je kako bi joj pomogle i zaštitile 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imvogelsjp0"/>
          <p:cNvPicPr/>
          <p:nvPr/>
        </p:nvPicPr>
        <p:blipFill>
          <a:blip r:embed="rId3"/>
          <a:stretch/>
        </p:blipFill>
        <p:spPr>
          <a:xfrm>
            <a:off x="1828800" y="457200"/>
            <a:ext cx="4038480" cy="798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3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3"/>
          <p:cNvSpPr txBox="1"/>
          <p:nvPr/>
        </p:nvSpPr>
        <p:spPr>
          <a:xfrm>
            <a:off x="1143000" y="4800600"/>
            <a:ext cx="6648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e85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ne ostaju s njom sve dok ona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e85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e85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ije sposobna ponovno poletjeti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e85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e85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li dok ne ugine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e85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3" name="Picture 4" descr="animvogelsjp0"/>
          <p:cNvPicPr/>
          <p:nvPr/>
        </p:nvPicPr>
        <p:blipFill>
          <a:blip r:embed="rId3"/>
          <a:stretch/>
        </p:blipFill>
        <p:spPr>
          <a:xfrm>
            <a:off x="1143000" y="914400"/>
            <a:ext cx="4038480" cy="79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5Šo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-152280" y="228600"/>
            <a:ext cx="5029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Tek se tada daju na put, lete same ili se priključuju drugoj formaci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5648968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47" name="Text Box 3"/>
          <p:cNvSpPr/>
          <p:nvPr/>
        </p:nvSpPr>
        <p:spPr>
          <a:xfrm>
            <a:off x="3124080" y="2346480"/>
            <a:ext cx="5867640" cy="330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Georgia"/>
                <a:ea typeface="Arial"/>
              </a:rPr>
              <a:t>Imamo li barem toliko razbora koliko ga imaju ptice, i mi ćemo-kad smo u nevolji-ostati jedni uz druge, kao što uvijek ostajemo kad nam je lako i lije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7391520" y="6477120"/>
            <a:ext cx="15238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-- Oscar C. Eliaso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8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ffffff"/>
                </a:solidFill>
                <a:latin typeface="Calibri"/>
              </a:rPr>
              <a:t>Hvala na pažnji 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hoto 2"/>
          <p:cNvPicPr/>
          <p:nvPr/>
        </p:nvPicPr>
        <p:blipFill>
          <a:blip r:embed="rId2"/>
          <a:stretch/>
        </p:blipFill>
        <p:spPr>
          <a:xfrm>
            <a:off x="3614760" y="1733400"/>
            <a:ext cx="1714320" cy="1268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755640" y="3141720"/>
            <a:ext cx="7632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Otac mu je tada rekao da izvadi čavao iz vrata za svaki dan kada ne bude izgubio strpljenje. Dani su prolazili i na kraju je dječak rekao ocu da je izvadio sve čavle iz vr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hoto 1"/>
          <p:cNvPicPr/>
          <p:nvPr/>
        </p:nvPicPr>
        <p:blipFill>
          <a:blip r:embed="rId2"/>
          <a:stretch/>
        </p:blipFill>
        <p:spPr>
          <a:xfrm>
            <a:off x="822240" y="1731960"/>
            <a:ext cx="1714680" cy="1268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684360" y="3284640"/>
            <a:ext cx="7775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Otac je odveo sina do vrata i rekao mu: “Sine, ponašao si se vrlo dobro, a vidi koliko rupa ima u vratim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4360" y="306864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Nikad više neće biti kao prije. Kad se posvađaš s nekim i kad mu kažeš ružne stvari ostavljaš mu ranu kao ov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Photo 2"/>
          <p:cNvPicPr/>
          <p:nvPr/>
        </p:nvPicPr>
        <p:blipFill>
          <a:blip r:embed="rId2"/>
          <a:stretch/>
        </p:blipFill>
        <p:spPr>
          <a:xfrm>
            <a:off x="6453360" y="379872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Osnove za vrjednov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Pravilnik </a:t>
            </a: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o načinu praćenja i ocjenjivanja učenika u osnovnoj i srednjoj š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Naputak o praćenju i ocjenjivanju učenika s teškoćama u razvoju u osnovnoj i srednjoj ško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Calibri"/>
              </a:rPr>
              <a:t>Vrjednovanje </a:t>
            </a:r>
            <a:r>
              <a:rPr b="0" lang="hr-HR" sz="4400" spc="-1" strike="noStrike">
                <a:solidFill>
                  <a:srgbClr val="ffffff"/>
                </a:solidFill>
                <a:latin typeface="Calibri"/>
              </a:rPr>
              <a:t>(čl.2 Pravilnika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libri"/>
              </a:rPr>
              <a:t>Vrjednovanje postignuća učenika je postupak određivanja stupnja ostvarenosti ciljeva nastavnog proce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ffff"/>
                </a:solidFill>
                <a:uFillTx/>
                <a:latin typeface="Calibri"/>
              </a:rPr>
              <a:t>Vrjednovanje se sastoji o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prać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provjer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MP900439409[1]"/>
          <p:cNvPicPr/>
          <p:nvPr/>
        </p:nvPicPr>
        <p:blipFill>
          <a:blip r:embed="rId2"/>
          <a:stretch/>
        </p:blipFill>
        <p:spPr>
          <a:xfrm>
            <a:off x="7142040" y="5391000"/>
            <a:ext cx="2001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7:59:14Z</dcterms:created>
  <dc:creator>Korisnik</dc:creator>
  <dc:description/>
  <dc:language>en-US</dc:language>
  <cp:lastModifiedBy>etondum</cp:lastModifiedBy>
  <dcterms:modified xsi:type="dcterms:W3CDTF">2011-08-25T19:18:34Z</dcterms:modified>
  <cp:revision>17</cp:revision>
  <dc:subject/>
  <dc:title>Praćenje i ocjenjivanje učenika s teškoćama u razvoju</dc:title>
</cp:coreProperties>
</file>