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8.jpeg" ContentType="image/jpeg"/>
  <Override PartName="/ppt/media/image28.png" ContentType="image/png"/>
  <Override PartName="/ppt/media/image31.wmf" ContentType="image/x-wmf"/>
  <Override PartName="/ppt/media/image11.png" ContentType="image/png"/>
  <Override PartName="/ppt/media/image5.jpeg" ContentType="image/jpeg"/>
  <Override PartName="/ppt/media/image9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12.png" ContentType="image/png"/>
  <Override PartName="/ppt/media/image30.jpeg" ContentType="image/jpeg"/>
  <Override PartName="/ppt/media/image15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3FB6-A5CF-4200-866D-959A66E9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2FC1-F2E1-4C5E-ACCE-6F02DBDF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3092E-AB82-4086-B4CE-FBC9C347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CFFFC-77EB-404E-8DC3-EFB41726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1745B-EB08-4DFF-9CC3-E28283E8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851FA-5695-4027-B601-7899D170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80864-79F6-4A01-B250-E288B62B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384AD-3403-40CC-A1F5-C4829F1D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85214-80F0-4B77-9E21-DB314BAB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FD2D4-762B-4001-98F2-34BA99F3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3F86F-8448-4BD2-BF36-D7BB173A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75B4D-FABB-43A8-900E-8DBE50B9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973-61F6-42D9-99D8-45F56F19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1FBA1-8BCA-4154-B09A-CB46521B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EED8D-4AE4-4959-A550-58013135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456D1-A75B-4671-8734-F90B5F1D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CDCB8-554D-4689-94A9-8AB9803C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E4968-7688-467D-9125-B84840A9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78DE1-AD57-4F60-BF65-1DFF3E92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A5F37-72DD-4E8C-B09E-B1B8137C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799B8-C70F-4871-8ED2-30F37FC8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CA58C-FDF3-4298-AF19-408AED90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49854-0E2B-4828-BC9A-B2186083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4198-E672-419A-B247-C94DF54A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1C588-AF1B-43FA-A7FA-4AB0B42C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2519D-39F3-45BF-B234-83323622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CE0C0-46E5-4C68-8B1C-6D3848A4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552DC-0D96-48E7-AA41-2A79A0A8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C2636-7617-4B33-8749-DAD0CABB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CD6A3-F980-453C-A0A6-42A31FEE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66C9B-1A74-43C0-A068-589E9F75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F3F39-7623-483B-859C-EF0859DA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082BE-5595-4100-8DBE-B6D6A40C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D2D63-C83A-4923-AA08-0E1EEF4D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F57A-155F-4D7F-BB1E-6EBE7872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E8E65-4957-45EE-A915-A7644472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C6B55-8721-4178-8E11-95AD81BA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9A55A-BE9E-425E-96A0-036B4969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B01C2-CBB3-44B6-AD8F-C77EA5C2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DBC64-188E-4124-9881-08D16C9C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459D0-EB35-4524-81F7-E7175130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49CFB-5166-46DD-A30B-58AF1652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C8464-955B-43B1-8471-334E443B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BFCE4-137D-4A42-BEF3-DAC603FF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02460-6A81-4606-A41A-78B57815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15B1-5EA1-45D6-AB82-469267B2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0553A-F23C-498D-A290-41CEC285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B8842-538D-4A5A-A824-5CFEF92D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38CD8-B68B-4490-B2F4-9F6B9065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0C0EB-1DBB-4119-9A91-0A64BB4A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B617A-F88A-44C4-A63F-FE0B607F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345BB-E1D6-45F9-B951-05BA6A6F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97833-C92A-45BF-AD58-AD319BC0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6D9515-C207-43AF-BA50-771B1330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B542B-9EF9-4A50-B061-1367D318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474C95-48B1-43C8-88A7-DBBD60B3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6DD3-75CA-4EF8-BE85-CE1B007A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84A617-2203-4DCE-9639-7A7C310F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927DDA-2988-44C2-B9F5-20F2F89F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CA283-5904-48BC-AF0F-D81D6CFA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C3779-392C-4E90-8CB2-615C4AF2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1A276-0AC9-4964-B486-A4DBE5F8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103D49-88B3-4FC3-A45F-E18EB537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53E32D-C184-4253-8E96-404AA222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D324C9-61B4-4803-83DA-A1D33BAC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F8BFF0-6D7B-46D1-A488-6B38C6E7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4D826B-13A8-4666-917B-25B76672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83C8-0E6E-4DEC-89DC-FED22486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B4D4BF-BB8A-42D0-89E8-F3272B79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F0704A-7298-4189-84C8-00F16C4C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DFB758-2A89-4131-B8C5-60853177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127884-816F-4FF0-B699-E1032EA2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12BF58-CA21-4417-8697-985370A4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180BAC-47ED-4F6E-B17B-E17A19F8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64ABDD-BEC1-4886-928C-E36ECFC8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05DF35-C3CA-4B79-BCEC-6525C95B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0364C8-B0BD-4CDA-BDD6-C05B3148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E1E499-223B-45F0-9B28-EABE7047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31DE-95DD-4C29-8559-14982950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971240-2EB4-43BC-A0A5-6D65EDD9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5B5D61-795F-4924-8759-4C91BFA6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891DD3-5B47-4FEC-9F86-4A0F6531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9EF225-F5DF-473E-A1FF-D62CDD45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77F6D7-D2E2-487D-9C7F-02E0C94D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E34067-D71B-4CF4-BC35-18AD459B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FDDA42-36EA-4181-BEC4-E7C9B5B7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30BE49-715F-4B55-A006-DDCF3617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9E9CC8-A9DE-493C-AF1D-7FED0ADF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2AF1C8-4D14-4DDD-AA64-51E3F59B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7022-4AB0-4B26-8154-33BB62F5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136C19-2EB4-487B-85BD-33900712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3BBCF9-9EFF-4A17-A686-B9D738CF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259DE4-7813-4073-88AE-5B257C65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152C7F-D342-4AF2-840F-457222F6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DA813A-83C4-4371-B7E1-EEA422F8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21FCBD-0D51-47BD-9090-21B26D8B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6C7C2C-3A3B-4E04-9970-5622EC91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D0790F-6253-4B66-AE44-9B936884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D09B6A-549C-414D-AA42-176B802D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B33A6C-C59E-4A06-9B1A-2BCDCC6F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5040-357E-4FAF-8226-3B38495C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1A79EE-ADBB-4A3B-89CF-4FDE33D4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254306-A619-4F93-AD0C-24CCA717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FC3A39-F4BB-4C8A-80A2-B11BE52F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8EE09D-06EC-47A8-B3E2-D2E149E9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D09AD4-F665-41BF-A7B4-FCDEA39B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B66D4B-0CA5-4A28-98D3-3D98A1BE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59E9CC-2786-492C-AD4A-3A19E33D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886DDC-F43E-4FD8-A68E-2A8B0ADF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C78062-D487-49CB-A856-84EB5D46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B27F0E-AB91-40D1-83B9-CF33F7B8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B3D-1C86-4191-BD18-808CE5CC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74EE-D282-4917-96CD-437FEF9F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1B634E-F339-4D24-9B54-12B85E1D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933215-56CF-4203-ABA3-23630186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64FD2D-D99B-4097-B9C9-6EF21923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64E518-D7C4-4836-A007-671F2A7A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9B6897-9CA4-45A7-95D4-144BB470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7ADB8E3-61FB-4682-820B-7B345B6C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9353D45-A8DB-457B-AB3A-FA026AEF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7060C69-AD35-4A73-A8FE-A0992367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6E68450-5F33-4295-8EE8-8E9B488D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877FCDF-34CF-41CA-A1DE-EAD0408A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AC66-0205-475E-98A3-27E401EB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9A8337F-2C33-4818-8EAE-6224329D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F4DBB08-808A-423A-8209-62F34A2F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9B4E2EA-D44F-4407-B072-F3DD8B93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B9C6D79-5C6D-4F1F-BBA3-5A2ADFD2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2CD37AB-5B1E-4599-B0F2-AD0F0528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8A6F09A-53E2-4839-B9EE-9AEEB978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A1860D4-11D5-43CF-B9D8-4DBE819F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77FF-78F5-4EED-9523-449C1836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E1DA-F123-40BB-A900-1F2A13EB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F368-E5AF-41EA-A4EC-380828E6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23F2D-7669-46D7-8ABB-A53D18D5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2110A-4A24-4B04-A6FD-61004A9F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37125-F4BD-460B-98D3-A50EEF78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CDA95-7B94-4A33-9820-6EAD8758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7801D-451C-419E-A691-A991553C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009A-B2AE-48B0-BE70-7AFCCC1C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652E5-7241-4341-A083-52FFB017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AEAAC-162C-4835-9EBA-28FD0831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538CE-D536-40CC-A20F-92CB6120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B39BD-FDAB-416B-9710-C815E15B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683E0-BC36-454E-AB99-7D60190B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5582C-DB4C-4D7E-8F19-34EACBE7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A0306-6F68-483C-A98D-8DA226CD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3F5C5-B8E2-42F4-9025-7B6ECB87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359B4-446D-461B-83D1-8A9920B2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706C6-1DB7-4EE2-95BB-8FA333AD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751-4764-420E-AFA2-D12741A2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BE25B-B497-486C-B993-E73F7AB8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76051-D39E-4D99-99B4-08E386F0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FBE67-67C0-4BFC-A3AB-F1127FA0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F3136-E855-4D87-8D87-44F61E53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A636D-1C17-4298-818F-28EA38F7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F4295-DA94-4A87-A44D-E4BEC487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AFE3B-3F96-4047-98E8-3AD67307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51C9E-608E-4152-8508-AF130FEB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B1516-D688-4284-A239-48E970CF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0FB06-C8D3-4624-87A5-402B40A0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DB0C-1E9B-4E18-80D1-41AE173B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2B798-94BF-4015-8AB7-DD842A96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27913-1D2F-442C-B825-B9D440AA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780FB-A010-4DF2-9F0C-2F7C3634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77CFE-7EC7-4627-8B35-3529617E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6D69A-1837-4F71-AE5B-EC427616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41A38-F05B-44CD-9B07-A4112CDF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993AE-FE87-426B-AD41-E652DAF9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0830B-2841-4730-AD57-CFA8D4AF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08138-75AE-41D1-94E6-6C7F8F50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A9B11-DC84-4CB2-AA34-E7B03AFC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38F0-F98F-4CEE-813B-15057911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0B036-B668-4DD6-A54B-62405E6D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00126-5A0E-4A54-9275-3DE62E97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C764D-F150-4361-AF43-1792A892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01103-787F-4710-839D-390A0C1B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39F2D-DB9D-479E-ADC2-1FC1F2F8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06631-7BA1-41A3-B7CF-540EB9CB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82121-F820-4152-A9A6-07D464AF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31658-EFC3-4A05-B3F0-11B65CB0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18014-1203-46F0-A67B-DB795055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0A8B0-D015-4934-BACC-343964E7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8C09-33F7-41EB-867C-CF0D315C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DC9AC-B317-4D5E-99B9-F77664DA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83A39-C15A-4B6C-A5DD-42867EF0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05684-3C6C-4AF7-BDFE-E42A35FC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C9618-71F0-43A5-8CF5-64738715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81C25-1722-479A-9746-39B26F60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4BCD9-CF3C-4AED-AF94-FF9EBC9D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4E7E7-2ECC-43E1-9AE9-58208CFF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DEDF2-C2C3-473E-8237-8B18AD48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1971D-ECF7-4BBE-BB7B-A0C4019E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D7522-13A3-4432-8570-B5F59ACC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C289-90FB-4F4E-B443-72782E23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B8AB4-79D1-49D2-85E6-9D085616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ECD94-1A4C-4E53-9EF7-6DF97AE6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35F69-B845-4BAE-BB9A-69365B2F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50B6A-44C2-4D89-A3E8-82ED51A3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0160E-F162-4C41-BE67-FDAE42A4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C977F-402F-44B0-9D89-F9A9ABE5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0D962-3C8F-452A-8921-6F964FAB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A6695-E764-4926-A828-A1B19CBD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1CC6B-6052-4CDD-816A-676F051B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A2BF6-7785-41F9-8F87-2E30A4CD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802B-20FA-4A4D-BFEF-798D6BFF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E83F9-4F42-4142-A71A-1256A51E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61047-E1F1-4CC5-870D-59976BE7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4BB55-B23C-403F-9DE2-9087B2E5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4C6B8-480C-42AC-A31A-1B635E76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8C2DE-D46F-44DA-9208-36EF9B35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4AAFD-EFBC-4E6B-8905-9B0FFB63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013D7-6353-4778-A4D9-3F656600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5E2D4-4243-4AB7-B3AA-12D06487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79083-1AF7-41BD-A0C8-F6564BB8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C233E-3057-49E2-9D39-AB96366E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EC4F-351C-4789-AD8C-D0E94A9119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03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BB42-0495-4AE6-BCE1-18D3152A8C7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4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3E50-213D-4A2E-8726-92E3F07EF16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9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AC5E-DEBE-4BF6-BDD5-B816C2000473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535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29D5-25F0-4FFE-916B-FF54D2F7137E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579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4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4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4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0AE0-9666-47CE-90FD-29838F1BD0E1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4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4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4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8893-5994-47D5-9281-573052EEE39A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666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4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4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8F15-EA35-4F0C-8813-F60E1C7C31C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71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9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50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51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D6FB-C812-4C5E-BA65-6511624D0E20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75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ftr" idx="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sldNum" idx="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4DD1-9800-4AAC-8909-F55AD5B8228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dt" idx="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2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9388-AAC2-4617-9829-6CA81CC0F14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6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Freeform 7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88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0" name="Straight Connector 11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91" name="Chevron 12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Chevron 13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8054-BD12-4491-8609-5239D053AA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6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Freeform 7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37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9" name="Straight Connector 11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8D50-E9AD-4CE9-8691-67F6D06179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AAF8-B489-43CB-A12D-8C5BC94EB3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reeform 6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25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7" name="Straight Connector 11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BFE0-88C6-4209-BBFF-DA2A770015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270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5D7C-C928-46C4-A125-D03FAC1A2F82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15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6172-C26C-4901-9A79-772A41FE3D6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59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26E7-398E-474E-B678-3F260923323E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0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Rectangle 2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119560" cy="2878200"/>
          </a:xfrm>
          <a:prstGeom prst="rect">
            <a:avLst/>
          </a:prstGeom>
          <a:ln w="0">
            <a:noFill/>
          </a:ln>
        </p:spPr>
      </p:pic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1447560" y="441972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rebuchet MS"/>
              </a:rPr>
              <a:t>Split, 29.i 30. kolovoz 2011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Trebuchet MS"/>
              </a:rPr>
              <a:t>A sada malo radimo…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Ovo je za djecu koja su različit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Djecu koja ne dobivaju najbolje ocjen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Djecu koja se ne uklapaju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koja plešu u ritmu nekog drugog bubnj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Ovo je zato što će kad odrastu povijes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pokazat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NJIHOVA RAZLIČITOST UČINILA IH J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JEDINSTVENIM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ac66bb"/>
                </a:solidFill>
                <a:latin typeface="Trebuchet MS"/>
              </a:rPr>
              <a:t>PRISJETIMO SE…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Učenje je proces , ali nije svakom djetetu prirodan i jednostava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Danas ima sve više djece s nekim dijagnosticiranim poremećajem učenja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Dijagnosticirane poremećaje učenja nije moguće izliječiti, ali se mogu znatno ublažiti njihovi simptomi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ac66bb"/>
                </a:solidFill>
                <a:latin typeface="Trebuchet MS"/>
              </a:rPr>
              <a:t>NAJUČESTALIJI POREMEĆAJI UČENJA KOD DJEC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rebuchet MS"/>
              </a:rPr>
              <a:t>Disleksij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rebuchet MS"/>
              </a:rPr>
              <a:t>Disgrafija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rebuchet MS"/>
              </a:rPr>
              <a:t>Deficit pažnje/hiperaktivni poremećaj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rebuchet MS"/>
              </a:rPr>
              <a:t>DIiskalkulija( nešto rjeđa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ac66bb"/>
                </a:solidFill>
                <a:latin typeface="Trebuchet MS"/>
              </a:rPr>
              <a:t>DISLEKSIJA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Nije boles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Sindrom koji utječe na sposobnost savladavanja vještina čitanja,pisanja i usvajanja školskog gradiv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Moguće je značajno umanjiti pravovremenom i ciljanom pomoć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Nije uvjetovana </a:t>
            </a:r>
            <a:r>
              <a:rPr b="1" lang="hr-HR" sz="2800" spc="-1" strike="noStrike">
                <a:solidFill>
                  <a:srgbClr val="000000"/>
                </a:solidFill>
                <a:latin typeface="Trebuchet MS"/>
              </a:rPr>
              <a:t>intelektualnim deficito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ac66bb"/>
                </a:solidFill>
                <a:latin typeface="Trebuchet MS"/>
              </a:rPr>
              <a:t>DISGRAFIJA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Stalna nesposobnost djeteta da savlada vještinu pisanja prema pravopisnim pravilim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Dijete poznaje pravopisno pravilo, ali i dalje griješi u primjeni isto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Uočava se u tipičnim i trajnim greškam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Najčešća je u jedinstvu s disleksij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ac66bb"/>
                </a:solidFill>
                <a:latin typeface="Trebuchet MS"/>
              </a:rPr>
              <a:t>ADHD I ADD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Poremećaj samokontrole praćen poremećajem pažnje, nemirom i impulzivnošću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Gotovo 2/3 djece s teškoćama čitanja, pisanja i računanja su djeca s deficitom pažnj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ac66bb"/>
                </a:solidFill>
                <a:latin typeface="Trebuchet MS"/>
              </a:rPr>
              <a:t>DISKALKULIJA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Skup specifičnih teškoća u učenju matematike/aritmetike i obavljanju aritmetičkih zadatak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Može se pojavljivati u svim ili samo određenim matematičkim područjim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Dijete napreduje u usvajanju gradiva , ali mnogo sporije od vršnjaka i neadekvatno mentalnoj dob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62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1.  u potrebi unaprjeđivanja potencijala učenika s ciljem povećanja uspješnosti njegove edukacije  pa time i socijalne integracije  (potreb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23880" indent="-623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23880" indent="-62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2. u mijenjanju očekivanja socijalne sredi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23880" indent="-62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(učitelja, roditelja, učenika u razredu) prema učenicima s teškoćama radi pružanja maksimalne potpore u njihovom razvoju  ( dr. sc. Stančić, 2009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Oval 4"/>
          <p:cNvSpPr/>
          <p:nvPr/>
        </p:nvSpPr>
        <p:spPr>
          <a:xfrm rot="20924400">
            <a:off x="3200400" y="4952520"/>
            <a:ext cx="5029200" cy="121932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205e6c">
                  <a:alpha val="48235"/>
                </a:srgbClr>
              </a:gs>
            </a:gsLst>
            <a:lin ang="6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ubPieSlice"/>
          <p:cNvSpPr/>
          <p:nvPr/>
        </p:nvSpPr>
        <p:spPr>
          <a:xfrm rot="21058200">
            <a:off x="914400" y="1143000"/>
            <a:ext cx="6262560" cy="4937040"/>
          </a:xfrm>
          <a:prstGeom prst="pie">
            <a:avLst/>
          </a:prstGeom>
          <a:gradFill rotWithShape="0">
            <a:gsLst>
              <a:gs pos="0">
                <a:srgbClr val="8c8c8c"/>
              </a:gs>
              <a:gs pos="100000">
                <a:srgbClr val="b2b2b2"/>
              </a:gs>
            </a:gsLst>
            <a:lin ang="19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ubPieSlice"/>
          <p:cNvSpPr/>
          <p:nvPr/>
        </p:nvSpPr>
        <p:spPr>
          <a:xfrm rot="19858800">
            <a:off x="1350720" y="1636200"/>
            <a:ext cx="6153120" cy="4275360"/>
          </a:xfrm>
          <a:prstGeom prst="pie">
            <a:avLst/>
          </a:prstGeom>
          <a:gradFill rotWithShape="0">
            <a:gsLst>
              <a:gs pos="0">
                <a:srgbClr val="aea2cc"/>
              </a:gs>
              <a:gs pos="100000">
                <a:srgbClr val="554f63"/>
              </a:gs>
            </a:gsLst>
            <a:lin ang="4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ubPieSlice"/>
          <p:cNvSpPr/>
          <p:nvPr/>
        </p:nvSpPr>
        <p:spPr>
          <a:xfrm rot="19868400">
            <a:off x="1338120" y="1634760"/>
            <a:ext cx="6154920" cy="4303800"/>
          </a:xfrm>
          <a:prstGeom prst="pie">
            <a:avLst/>
          </a:prstGeom>
          <a:gradFill rotWithShape="0">
            <a:gsLst>
              <a:gs pos="0">
                <a:srgbClr val="bbd1a8"/>
              </a:gs>
              <a:gs pos="100000">
                <a:srgbClr val="94b676"/>
              </a:gs>
            </a:gsLst>
            <a:lin ang="206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ubPieSlice"/>
          <p:cNvSpPr/>
          <p:nvPr/>
        </p:nvSpPr>
        <p:spPr>
          <a:xfrm rot="19868400">
            <a:off x="1025280" y="1349280"/>
            <a:ext cx="6226200" cy="4272120"/>
          </a:xfrm>
          <a:prstGeom prst="pie">
            <a:avLst/>
          </a:prstGeom>
          <a:gradFill rotWithShape="0">
            <a:gsLst>
              <a:gs pos="0">
                <a:srgbClr val="73c1bf"/>
              </a:gs>
              <a:gs pos="100000">
                <a:srgbClr val="264040"/>
              </a:gs>
            </a:gsLst>
            <a:lin ang="44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ubPieSlice"/>
          <p:cNvSpPr/>
          <p:nvPr/>
        </p:nvSpPr>
        <p:spPr>
          <a:xfrm rot="19868400">
            <a:off x="1325520" y="1644120"/>
            <a:ext cx="6191280" cy="4253040"/>
          </a:xfrm>
          <a:prstGeom prst="pie">
            <a:avLst/>
          </a:prstGeom>
          <a:gradFill rotWithShape="0">
            <a:gsLst>
              <a:gs pos="0">
                <a:srgbClr val="499bd9"/>
              </a:gs>
              <a:gs pos="100000">
                <a:srgbClr val="316791"/>
              </a:gs>
            </a:gsLst>
            <a:lin ang="206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ubPieSlice"/>
          <p:cNvSpPr/>
          <p:nvPr/>
        </p:nvSpPr>
        <p:spPr>
          <a:xfrm rot="19868400">
            <a:off x="1365120" y="1665000"/>
            <a:ext cx="6140520" cy="4252680"/>
          </a:xfrm>
          <a:prstGeom prst="pie">
            <a:avLst/>
          </a:prstGeom>
          <a:gradFill rotWithShape="0">
            <a:gsLst>
              <a:gs pos="0">
                <a:srgbClr val="e9e3a9"/>
              </a:gs>
              <a:gs pos="100000">
                <a:srgbClr val="ccbe34"/>
              </a:gs>
            </a:gsLst>
            <a:lin ang="206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14"/>
          <p:cNvSpPr/>
          <p:nvPr/>
        </p:nvSpPr>
        <p:spPr>
          <a:xfrm>
            <a:off x="2736360" y="243828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Lucida Sans Unicode"/>
              </a:rPr>
              <a:t>Ciljev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 Box 15"/>
          <p:cNvSpPr/>
          <p:nvPr/>
        </p:nvSpPr>
        <p:spPr>
          <a:xfrm>
            <a:off x="4792680" y="17524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Lucida Sans Unicode"/>
              </a:rPr>
              <a:t>Sadrža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16"/>
          <p:cNvSpPr/>
          <p:nvPr/>
        </p:nvSpPr>
        <p:spPr>
          <a:xfrm>
            <a:off x="5943600" y="2590920"/>
            <a:ext cx="26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Lucida Sans Unicode"/>
              </a:rPr>
              <a:t>Postupc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Lucida Sans Unicode"/>
              </a:rPr>
              <a:t>(metod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17"/>
          <p:cNvSpPr/>
          <p:nvPr/>
        </p:nvSpPr>
        <p:spPr>
          <a:xfrm>
            <a:off x="5158800" y="449568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Lucida Sans Unicode"/>
              </a:rPr>
              <a:t>Nositel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 Box 18"/>
          <p:cNvSpPr/>
          <p:nvPr/>
        </p:nvSpPr>
        <p:spPr>
          <a:xfrm>
            <a:off x="2743200" y="525780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Lucida Sans Unicode"/>
              </a:rPr>
              <a:t>Realizac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19"/>
          <p:cNvSpPr/>
          <p:nvPr/>
        </p:nvSpPr>
        <p:spPr>
          <a:xfrm>
            <a:off x="1523880" y="4419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Lucida Sans Unicode"/>
              </a:rPr>
              <a:t>Vrednovan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Oval 21"/>
          <p:cNvSpPr/>
          <p:nvPr/>
        </p:nvSpPr>
        <p:spPr>
          <a:xfrm rot="19733400">
            <a:off x="3169800" y="2939760"/>
            <a:ext cx="2568600" cy="1582560"/>
          </a:xfrm>
          <a:prstGeom prst="ellipse">
            <a:avLst/>
          </a:prstGeom>
          <a:gradFill rotWithShape="0">
            <a:gsLst>
              <a:gs pos="0">
                <a:srgbClr val="1c2a00"/>
              </a:gs>
              <a:gs pos="50000">
                <a:srgbClr val="669900"/>
              </a:gs>
              <a:gs pos="100000">
                <a:srgbClr val="1c2a00"/>
              </a:gs>
            </a:gsLst>
            <a:lin ang="456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AutoShape 22"/>
          <p:cNvSpPr/>
          <p:nvPr/>
        </p:nvSpPr>
        <p:spPr>
          <a:xfrm rot="19729800">
            <a:off x="3119400" y="2610000"/>
            <a:ext cx="2535120" cy="2085840"/>
          </a:xfrm>
          <a:prstGeom prst="pie">
            <a:avLst/>
          </a:prstGeom>
          <a:gradFill rotWithShape="0">
            <a:gsLst>
              <a:gs pos="0">
                <a:srgbClr val="ffcc00"/>
              </a:gs>
              <a:gs pos="100000">
                <a:srgbClr val="ffe683"/>
              </a:gs>
            </a:gsLst>
            <a:lin ang="4572000"/>
          </a:gradFill>
          <a:ln w="0">
            <a:noFill/>
          </a:ln>
          <a:effectLst>
            <a:outerShdw dist="180599" dir="3039742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 Box 23"/>
          <p:cNvSpPr/>
          <p:nvPr/>
        </p:nvSpPr>
        <p:spPr>
          <a:xfrm rot="19738200">
            <a:off x="3543840" y="2996280"/>
            <a:ext cx="1957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Lucida Sans Unicode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Lucida Sans Unicode"/>
              </a:rPr>
              <a:t>IOOP</a:t>
            </a:r>
            <a:r>
              <a:rPr b="1" lang="hr-HR" sz="28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19"/>
          <p:cNvSpPr/>
          <p:nvPr/>
        </p:nvSpPr>
        <p:spPr>
          <a:xfrm>
            <a:off x="304920" y="3049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d490c5"/>
                </a:solidFill>
                <a:latin typeface="Lucida Sans Unicode"/>
              </a:rPr>
              <a:t>Planiranje  IOOP-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7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914400" y="2242800"/>
            <a:ext cx="73152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                      </a:t>
            </a:r>
            <a:r>
              <a:rPr b="1" lang="hr-HR" sz="2600" spc="-1" strike="noStrike">
                <a:solidFill>
                  <a:srgbClr val="ffffff"/>
                </a:solidFill>
                <a:latin typeface="Trebuchet MS"/>
              </a:rPr>
              <a:t>Postoji priča o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Trebuchet MS"/>
              </a:rPr>
              <a:t>                      </a:t>
            </a:r>
            <a:r>
              <a:rPr b="1" lang="hr-HR" sz="2600" spc="-1" strike="noStrike">
                <a:solidFill>
                  <a:srgbClr val="ffffff"/>
                </a:solidFill>
                <a:latin typeface="Trebuchet MS"/>
              </a:rPr>
              <a:t>kornjači…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Rectangle 2" descr=""/>
          <p:cNvPicPr/>
          <p:nvPr/>
        </p:nvPicPr>
        <p:blipFill>
          <a:blip r:embed="rId1"/>
          <a:stretch/>
        </p:blipFill>
        <p:spPr>
          <a:xfrm>
            <a:off x="-19080" y="378000"/>
            <a:ext cx="8486640" cy="115236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Individualizirani program izrađen za pojedinog učenika s teškoćam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de66"/>
                </a:solidFill>
                <a:latin typeface="Trebuchet MS"/>
              </a:rPr>
              <a:t>Nema univerzalnih IOOP-a</a:t>
            </a: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 ( koliko učenika toliko IOOP-a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de66"/>
                </a:solidFill>
                <a:latin typeface="Trebuchet MS"/>
              </a:rPr>
              <a:t>Osnova</a:t>
            </a: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  za izradu IOOP-a je okvirni nastavni plan i program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Usklađen je s programskim zahtjevima, prije svega sposobnostima, a ne ograničenjima učenik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Novi termin : IOO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Izrađuje se  za sve učenike s posebnim potrebama temeljem rješenja Ureda državne uprave i odluke Učiteljskog vijeć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Izrađuju ih učitelji uz pomoć stručnih suradnik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IOOP mora biti dostupan roditeljim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Trebuchet MS"/>
              </a:rPr>
              <a:t>Članak 4. Pravilnika o djeci s teškoćama u razvoju obuhvaća učenike koji nastavu pohađaju po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Trebuchet MS"/>
              </a:rPr>
              <a:t>a) individualiziranom pristupu ( prilagodba metoda i ciljeva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Trebuchet MS"/>
              </a:rPr>
              <a:t>b) prilagođenom programu ( prilagodba sadržaja u okviru gradiva razreda koji učenik pohađa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Posebni program (čl.7., čl. 10., čl.12.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 txBox="1"/>
          <p:nvPr/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1.Priprema za izradu IOOP-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Upoznati se (stručna služba, RV, roditelji…)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-    s rješenje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s vrstom teškoć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s posljedicama na odgojno obrazovni pro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rebuchet MS"/>
              </a:rPr>
              <a:t>Važno je upoznati dijete!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2.1. inicijalna procjen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2.2. prilagodba  u edukacijskom procesu   (nastavnih sadržaja)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godišnj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mjesečn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2.3.praćenje i vrednovanj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Trebuchet MS"/>
              </a:rPr>
              <a:t>1. Utvrđivanje sposobnosti (tehnika čitanja, pisanja, razumijevanja, usmenog i pismenog izražavanja, slušanja, korištenja pribora, radne navike…)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Trebuchet MS"/>
              </a:rPr>
              <a:t>2.  Razine znanja (prisjećanje, prepoznavanje, reprodukcija, operativnost, stvaralačku procjenu kvalitete znanja koja ovisi o stupnju usvojenosti činjenica i generalizacija ) . Težište je stjecanje operativno funkcionalnih znanja.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Trebuchet MS"/>
              </a:rPr>
              <a:t>3.  Interesa ( što voli raditi, motivacija…)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Trebuchet MS"/>
              </a:rPr>
              <a:t>4.  Potreba ( što treba razvijati, na čemu treba raditi…)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Prilagođavanje nastavnih programa vrši se na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vremensku dimenziju (godišnje, mjesečno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sadržaj nastavnog predmeta (područja, teme i ključni pojmovi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ciljevi i aktivnosti učenik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plan podrške (metode i postupci prilagođavanja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praćenj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 txBox="1"/>
          <p:nvPr/>
        </p:nvSpPr>
        <p:spPr>
          <a:xfrm>
            <a:off x="53352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U skladu s planiranim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Praćenje i vrednovanje je </a:t>
            </a:r>
            <a:r>
              <a:rPr b="1" lang="hr-HR" sz="2800" spc="-1" strike="noStrike">
                <a:solidFill>
                  <a:srgbClr val="000000"/>
                </a:solidFill>
                <a:latin typeface="Trebuchet MS"/>
              </a:rPr>
              <a:t>temelj</a:t>
            </a: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 novog planiranj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Roditelj mora biti upoznat s evaluacijom IOOP-a  na kraju polugodišta i na kraju šk.god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Rectangle 2" descr=""/>
          <p:cNvPicPr/>
          <p:nvPr/>
        </p:nvPicPr>
        <p:blipFill>
          <a:blip r:embed="rId1"/>
          <a:stretch/>
        </p:blipFill>
        <p:spPr>
          <a:xfrm>
            <a:off x="-6480" y="298440"/>
            <a:ext cx="7888320" cy="1433520"/>
          </a:xfrm>
          <a:prstGeom prst="rect">
            <a:avLst/>
          </a:prstGeom>
          <a:ln w="0">
            <a:noFill/>
          </a:ln>
        </p:spPr>
      </p:pic>
      <p:sp>
        <p:nvSpPr>
          <p:cNvPr id="868" name="PlaceHolder 1"/>
          <p:cNvSpPr>
            <a:spLocks noGrp="1"/>
          </p:cNvSpPr>
          <p:nvPr>
            <p:ph/>
          </p:nvPr>
        </p:nvSpPr>
        <p:spPr>
          <a:xfrm>
            <a:off x="-360" y="9144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cc00ff"/>
                </a:solidFill>
                <a:latin typeface="Trebuchet MS"/>
              </a:rPr>
              <a:t> </a:t>
            </a:r>
            <a:r>
              <a:rPr b="0" lang="hr-HR" sz="2100" spc="-1" strike="noStrike">
                <a:solidFill>
                  <a:srgbClr val="ffde66"/>
                </a:solidFill>
                <a:latin typeface="Matura MT Script Capitals"/>
              </a:rPr>
              <a:t>      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9144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de66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 lvl="1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b13f9a"/>
                </a:solidFill>
                <a:latin typeface="Matura MT Script Capitals"/>
              </a:rPr>
              <a:t>KAKO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prema slijedećim obrascim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869" name="Picture 4" descr="science_ecology.gif"/>
          <p:cNvPicPr/>
          <p:nvPr/>
        </p:nvPicPr>
        <p:blipFill>
          <a:blip r:embed="rId2"/>
          <a:stretch/>
        </p:blipFill>
        <p:spPr>
          <a:xfrm>
            <a:off x="6934320" y="5410080"/>
            <a:ext cx="1981080" cy="1284480"/>
          </a:xfrm>
          <a:prstGeom prst="rect">
            <a:avLst/>
          </a:prstGeom>
          <a:ln w="0">
            <a:noFill/>
          </a:ln>
        </p:spPr>
      </p:pic>
      <p:sp>
        <p:nvSpPr>
          <p:cNvPr id="870" name="Curved Down Arrow 5"/>
          <p:cNvSpPr/>
          <p:nvPr/>
        </p:nvSpPr>
        <p:spPr>
          <a:xfrm rot="4425000">
            <a:off x="6385320" y="3167640"/>
            <a:ext cx="1789200" cy="993600"/>
          </a:xfrm>
          <a:custGeom>
            <a:avLst/>
            <a:gdLst>
              <a:gd name="textAreaLeft" fmla="*/ 353880 w 1789200"/>
              <a:gd name="textAreaRight" fmla="*/ 1310760 w 1789200"/>
              <a:gd name="textAreaTop" fmla="*/ 132840 h 993600"/>
              <a:gd name="textAreaBottom" fmla="*/ 860760 h 993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51" hR="21600" stAng="10800000" swAng="5400000"/>
                <a:lnTo>
                  <a:pt x="11550" y="0"/>
                </a:lnTo>
                <a:arcTo wR="8551" hR="21600" stAng="-5400000" swAng="3413127"/>
                <a:lnTo>
                  <a:pt x="21328" y="16200"/>
                </a:lnTo>
                <a:lnTo>
                  <a:pt x="18601" y="21600"/>
                </a:lnTo>
                <a:lnTo>
                  <a:pt x="15329" y="16200"/>
                </a:lnTo>
                <a:lnTo>
                  <a:pt x="16829" y="16200"/>
                </a:lnTo>
                <a:arcTo wR="8551" hR="21600" stAng="-1986873" swAng="-3171118"/>
                <a:lnTo>
                  <a:pt x="10050" y="335"/>
                </a:lnTo>
                <a:arcTo wR="8551" hR="21600" stAng="-5642009" swAng="-5157991"/>
                <a:close/>
              </a:path>
              <a:path fill="darkenLess" w="21600" h="21600">
                <a:moveTo>
                  <a:pt x="0" y="21600"/>
                </a:moveTo>
                <a:arcTo wR="8551" hR="21600" stAng="10800000" swAng="5400000"/>
                <a:lnTo>
                  <a:pt x="8551" y="0"/>
                </a:lnTo>
                <a:arcTo wR="8551" hR="21600" stAng="-5400000" swAng="242009"/>
                <a:lnTo>
                  <a:pt x="10050" y="335"/>
                </a:lnTo>
                <a:arcTo wR="8551" hR="21600" stAng="-5642009" swAng="-5157991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5" descr="008"/>
          <p:cNvPicPr/>
          <p:nvPr/>
        </p:nvPicPr>
        <p:blipFill>
          <a:blip r:embed="rId2"/>
          <a:stretch/>
        </p:blipFill>
        <p:spPr>
          <a:xfrm>
            <a:off x="457200" y="228600"/>
            <a:ext cx="809784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Dječak je na cesti pronašao kornjaču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Nikada  dotad nije vidio živu kornjaču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Htio ju je malo bolje pogledati, ali se kornjača zavukla u svoj oklop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Zbunjeno ju je okretao ne znajući kako da je izmami iz oklop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Na kraju je uzeo slamku i počeo je bockati kroz otvore za noge, glavu i rep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Ugleda ga baka pa mu reče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Ne ćeš tako izmamiti kornjaču, tako je samo plašiš. Ostavi je na suncu i odmakni se od nje, pa će sama izaći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Dječak je posluša. I doista kornjača poče polako izvirivati iz oklop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4" descr="Picture1"/>
          <p:cNvPicPr/>
          <p:nvPr/>
        </p:nvPicPr>
        <p:blipFill>
          <a:blip r:embed="rId2"/>
          <a:stretch/>
        </p:blipFill>
        <p:spPr>
          <a:xfrm rot="1252200">
            <a:off x="6710040" y="484200"/>
            <a:ext cx="1081080" cy="79380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6" descr="009"/>
          <p:cNvPicPr/>
          <p:nvPr/>
        </p:nvPicPr>
        <p:blipFill>
          <a:blip r:embed="rId3"/>
          <a:stretch/>
        </p:blipFill>
        <p:spPr>
          <a:xfrm>
            <a:off x="457200" y="152280"/>
            <a:ext cx="80215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80" name="Picture 26" descr="010"/>
          <p:cNvPicPr/>
          <p:nvPr/>
        </p:nvPicPr>
        <p:blipFill>
          <a:blip r:embed="rId1"/>
          <a:stretch/>
        </p:blipFill>
        <p:spPr>
          <a:xfrm>
            <a:off x="609480" y="152280"/>
            <a:ext cx="8174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rebuchet MS"/>
              </a:rPr>
              <a:t>Budi voda, a ne stijena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Voda je gipka: traži nove putove, probija nove prolaze, prilagođava se ili mijenja smjer da zaobiđe prepreke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A stijena nepomično stoji na istome mjestu i tvrdoglavo prkosi vremenu koje je nagriza i mrvi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Trebuchet MS"/>
              </a:rPr>
              <a:t>Stara japanska poslovic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000000"/>
                </a:solidFill>
                <a:latin typeface="Trebuchet MS"/>
              </a:rPr>
              <a:t>Hvala na strpljenju</a:t>
            </a:r>
            <a:endParaRPr b="0" lang="en-US" sz="4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r-HR" sz="4300" spc="-1" strike="noStrike">
                <a:solidFill>
                  <a:srgbClr val="000000"/>
                </a:solidFill>
                <a:latin typeface="Trebuchet MS"/>
              </a:rPr>
              <a:t>i pažnji!</a:t>
            </a:r>
            <a:endParaRPr b="0" lang="en-US" sz="4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Katica Dumanić, dipl. defektolo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3808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S kornjačama je kao i s ljudima : učinit će sve što poželiš, samo ako ih potakneš na pravi nači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Kornjače možeš potaknuti Sunčevom toplinom, a ljude potičeš ljubaznošću, osmjehom…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Kad netko osjeti tvoju ljudskost i toplinu, spreman je mnogo toga učiniti za teb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Kao najčešći činitelji motivacije navode se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0" lang="hr-HR" sz="2800" spc="-1" strike="noStrike">
                <a:solidFill>
                  <a:srgbClr val="ffde66"/>
                </a:solidFill>
                <a:latin typeface="Trebuchet MS"/>
              </a:rPr>
              <a:t>Temeljne potrebe</a:t>
            </a: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2. Ciljevi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3. Uvjerenj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4. Vrijednost i težina zadatak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5. Očekivanja uspjeha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Koliko mi kao odrasli ljudi prepoznajemo svoje potrebe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- Jesmo  li uvijek svjesni onoga što nam  je u tom trenutku potrebno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- Jesmo li svjesni koja ponašanja proizlaze iz nezadovoljenja naših potreba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-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ako prepoznati  svoje  i tuđe potrebe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Potreba </a:t>
            </a:r>
            <a:r>
              <a:rPr b="0" lang="hr-HR" sz="2500" spc="-1" strike="noStrike">
                <a:solidFill>
                  <a:srgbClr val="000000"/>
                </a:solidFill>
                <a:latin typeface="Trebuchet MS"/>
              </a:rPr>
              <a:t>je manjak ili višak nečega što bi da je prisutno u prikladnoj količini pridonijelo dobru stanju organizma, odnosno ličnosti.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U svim fazama razvoja djetetove potrebe ne mogu biti uvijek zadovoljene kao i naš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Svi u životu imamo više potreb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Često na putu do zadovoljenja potreba imamo različite prepreke( teškoće u razvoju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rebuchet MS"/>
              </a:rPr>
              <a:t>Prepreke izazivaju frustracij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rebuchet MS"/>
              </a:rPr>
              <a:t>Nezadovoljena potreba za ljubavlju jedan je od najčešćih izvora neprilagođenosti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rebuchet MS"/>
              </a:rPr>
              <a:t>Ljubav i sigurnost stečeni u prvim godinama života preventiva su kasnijih poremećaja( smetnji u ponašanju, delikvencije, ovisnosti, nasilja…)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rebuchet MS"/>
              </a:rPr>
              <a:t>Velika i važna uloga obitelji ( roditelja, baka i djedova…)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Prepoznavanje potreba znači razumjeti ih i odgovoriti najbolje na njih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Jednom kad završi školovanje svijet će biti drugačiji. Naći će mjesto na kojem nije važno je li sa sedam godina izražajno čitao ili pravilno pisa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( school ili scholl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Ali, ako se počne mrziti jer je loše u školi, upast će u ponor iz kojeg će pokušavati izaći cijeli živo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razen</dc:creator>
  <dc:description/>
  <dc:language>en-US</dc:language>
  <cp:lastModifiedBy>Kompjuter</cp:lastModifiedBy>
  <dcterms:modified xsi:type="dcterms:W3CDTF">2011-08-29T20:25:25Z</dcterms:modified>
  <cp:revision>23</cp:revision>
  <dc:subject/>
  <dc:title>Slide 1</dc:title>
</cp:coreProperties>
</file>