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145E2-E76E-43C8-BE17-863684C01AD5}" type="slidenum"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(dopunjalke, supstitucijske tabele, tabele pridruživanja, asocijacij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čenik može dobiti i višu ocjenu iako u pojedinoj sastavnici zaostaje,učitelj procjenjuje jesu li pojedini  elementi ocjene relevantniji za učenikove razvojne funkcij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1325-AA6B-44E4-949C-E74DCD960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BC44-65E5-4AD4-8412-C05D64322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2250-62F6-48DB-B608-F3501AD81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5B75-4FC5-40CD-A034-4CA4ED322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F5D43-F410-4DD9-85A0-18537B6D6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BC175-2067-4714-A40E-20C313F88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AB37E-6457-479F-A707-34C00BB5A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E0AB2-88D7-4B67-BD8C-60D4A5A91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84952-9C36-464C-B10F-2B5FF3F39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A48BD-602E-4021-8EFE-C8153635D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DC7D2-23B3-4E5A-9192-6C94582BF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3C94-F464-4457-8423-95C931228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B2331-3DE5-46D6-818D-C44A45A14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E20DC-BEF5-4B78-A470-358879E27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637B6-6E64-4E52-99C0-145EDA28B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913B1-D20C-4BDA-A3B6-07709CBF7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7D58B-4F53-4803-95E9-A8F85E3B0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456D-7CF9-48F3-A4FD-5AA1EEBCE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335D-3B51-4914-B0F7-686DF58D3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1888-1273-4F74-9EC2-67C8B965C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AB11-BB5D-4976-A7B8-F29F69410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EED4-804B-454D-B6BA-EFB18E2F8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3316-05C7-4776-9EBA-1739D615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1EC4-8071-432A-9C13-28A61493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C7C70-0EE3-423B-912E-0223B619A111}" type="slidenum">
              <a:rPr b="0" lang="hr-H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FB8D1-A6FB-48FB-87E5-55F56E7AE44A}" type="slidenum">
              <a:rPr b="0" lang="hr-H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Školsko ocjenjivanje znanja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Ivana Lekić, prof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viša savjetnica za engleski i njemački jezi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AZOO, Podružnica Spli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Tolstojeva 3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021 340 977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ivana.lekic@azoo.h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Govorne sposobnosti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odgovaranje i postavljanje pitanja (u vezi s tekstom i slobodna pitanja), opis predmeta, ljudi, radnji i situacija temeljem različitih poticaja, prepričavanje situacija, vođenje razgovora u okviru prethodno usvojenih situacija, simulacija na poznatu temu s prenošenjem na osobne situacij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postignuća provjeravamo govornim putem, tj. učenik treba pokazati da je stekao određenu razinu govornog izražavanj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ovorno izražavanj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vrjednuje se na sljedeći način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odliča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učenik slobodno i bez oklijevanja izriče svoje misli; aktivan je u konverzaciji, čita i priča s razumijevanjem korektno i tečno s pravilnim izgovorom, fluentno govori bez većih gramatičkih grešaka; zanimljivo i stilski ujednačeno se izražav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vrlo dobar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učenik govori korektno, ali je u pojedinim elementima nesiguran; govori uz manje gramatičke greške, koje međutim ne utječu na razumijevanje smisla rečenice; ponekad upotrijebi riječ ili frazu neadekvatno, te s pogrešnim izgovorom; govori prirodnom brzinom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dobar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učenik se može sporazumijevati i pri tome se služi skromnim fondom riječi; smisao je ponekad nejasan zbog gramatičkih grešaka i pogrešnog redoslijeda riječi; ima poteškoća u čitanju, izgovoru i intonaciji, ali je cjelina prihvatljiva i razumljiv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ovolja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učenik pravi ozbiljne greške u konverzaciji i izgovoru zbog čega se teško zaključuje što želi reći; rijetko nalazi odgovarajuće riječi i fraze, teško se izražava, a rječnik mu je oskudan; u izgovoru pravi ozbiljne gramatičke greške koje dovode u pitanje razumijevanje teksta; govori sporo i s puno oklijevanj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nedovoljan</a:t>
            </a: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: učenik se ne može samostalno izražavati u usmenom obliku; jedva savladava najosnovniji vokabular, a loš izgovor onemogućuje razumijevanje sadržaja; nije savladao ni najosnovnije gramatičke struktur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*</a:t>
            </a:r>
            <a:r>
              <a:rPr b="0" i="1" lang="hr-H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hr-HR" sz="2400" spc="-1" strike="noStrike">
                <a:solidFill>
                  <a:srgbClr val="000000"/>
                </a:solidFill>
                <a:latin typeface="Verdana"/>
              </a:rPr>
              <a:t>Usmeni odgovor učenika se procjenjuju prema gore navedenim elementima, a u skladu s predviđenim planom i programom za svaki razred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*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hr-HR" sz="2000" spc="-1" strike="noStrike">
                <a:solidFill>
                  <a:srgbClr val="000000"/>
                </a:solidFill>
                <a:latin typeface="Verdana"/>
              </a:rPr>
              <a:t>Vještina govora trebala bi se vrednovati kontinuirano, kako bi se potaknulo učenike da na svakom satu interveniraju i sudjeluju. Na taj se način nakon više sati u slijedu može vrednovati aktivnost učenika i kao takva ocijeniti ocjenom od 1 do 5. Također se može provesti klasično usmeno ispitivanje, gdje se jednog učenika u jednom nastavnom satu ispituje najviše 10 minuta.</a:t>
            </a:r>
            <a:r>
              <a:rPr b="0" i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Sposobnost pisanog izražavanj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čno pisanje po diktatu; točno pisanje u rješavanju zadataka reproduktivnog tipa; točno pisanje pri modifikaciji rečenica i tekstova prema uputama, pisanje sastava i sažetaka, pisma, kraja priče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 algn="just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kratke pisane provjere znanj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za provjeru vještine pisanja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(u trajanju do 15 minuta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iktati, kratki vođeni sastavci, odgovori na pitanja, komunikacijske vježbe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Napomena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pjeh učenika u takvim provjerama ne upisuje se u rubriku za ocjenjivanje nego u rubriku bilješke u imenik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 algn="just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isane provjer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za provjeru vještine pisanja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(u trajanju duljem od 15 minuta) zadać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sažetci, kraći sastavi prema zadanom modelu, vođeni sastav, pisanje razglednice, pisma, kratke priče, kraja priče…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razraditi kriterije vrjednovanja diktata te zadatka poluotvorenoga ili otvorenoga tip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u razradi kriterija vrjednovanja diktata (po broju pogrješaka) voditi računa  o tome je li tekst diktata poznat ili nepozna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izraditi tablice za ocjenjivanje zadatka poluotvorenoga ili otvorenoga tipa (npr. po kriterijima: izvršenje zadatka, povezanost ideja i struktura unutar teksta, gramatika, vokabular), na osnovi postignutih bodova iz svakog pojedinog kriterija daje se konačna ocjena tj. kao konačni rezultat procjene zadatka upisuje se jedna ocjena u rubrici pisanog izražavanj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Jezične zakonitosti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poznavanje gramatičkih oblika, razumijevanje njihove uporabe, svjesna primjena naučenih kategorija u poznatim te izmijenjenim situacijam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amatička pravila se ne ispituju (kao definicije), ali bi učenik trebao biti u stanju objasniti najjednostavnije gramatičke pojave pogotovo kad u govoru ili pismu načini pogrješk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naznačiti kako se vrjednuje usvojenost jezičnih zakonitosti, pisanim putem i/ili usmen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naznačiti kriterije vrjednovanja, npr. kroz postotk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*</a:t>
            </a:r>
            <a:r>
              <a:rPr b="1" i="1" lang="hr-HR" sz="2000" spc="-1" strike="noStrike">
                <a:solidFill>
                  <a:srgbClr val="000000"/>
                </a:solidFill>
                <a:latin typeface="Verdana"/>
              </a:rPr>
              <a:t>Kriteriji za ocjenu pisanih radova se mogu smanjiti, po procjeni profesora, s obzirom na uspješnost u razredu, ali se ne smiju povisit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5. rubrika??? SŠ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DA ili NE- ovisno o specifičnostima plana i programa, zanimanja… npr. obvezna lektira, poslovno dopisivanje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ukoliko se element navede, učenik mora biti ocijenjen iz te sastavnice praćenja najmanje jednom ocjenom u svakom polugodišt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lektirno djelo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 birati sukladno korelacijskoj vezi s gradivom hrvatskog jezika, usklađenosti s temama i sadržajima ponuđenim u odobrenom udžbeniku, ali prije svega sukladno interesima i znanju učenika (npr. u 4. razredu gimnazije preporučena je razina </a:t>
            </a:r>
            <a:r>
              <a:rPr b="0" i="1" lang="hr-HR" sz="2000" spc="-1" strike="noStrike">
                <a:solidFill>
                  <a:srgbClr val="000000"/>
                </a:solidFill>
                <a:latin typeface="Verdana"/>
              </a:rPr>
              <a:t>upper-intermediate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), preporuka je obrađivati kraća, metodički obrađena lektirna djela pisaca izvornog govornog područja (npr. </a:t>
            </a:r>
            <a:r>
              <a:rPr b="0" i="1" lang="hr-HR" sz="2000" spc="-1" strike="noStrike">
                <a:solidFill>
                  <a:srgbClr val="000000"/>
                </a:solidFill>
                <a:latin typeface="Verdana"/>
              </a:rPr>
              <a:t>short stories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 ili pripovjetke). S obzirom na ukupno tjedno opterećenje učenika te rad u smjenama motivaciju učenika za čitanjem moguće je održati samo kraćim metodički obrađenim lektirnim književnim djelima koji će odgovarati senzibilitetu učenika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Verdana"/>
              </a:rPr>
              <a:t>ukoliko se u 5. rubrici vrjednuju projektni zadaci, kreativni rad (npr. izrada tematskih postera, držanje prezentacija, pisanje poezije i sl.) u rubriku bilješke upisivati datume i zabilješke iz kojih je razvidno o kojem se elementu radi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9900"/>
                </a:solidFill>
                <a:latin typeface="Garamond"/>
              </a:rPr>
              <a:t>Pravilnik o načinima, postupcima i elementima vrednovanja učenika u OŠ i SŠ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sastavnice vrednovanja: praćenje, provjeravanje i ocjenjivanj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načini, postupci i elementi vrednovanja postignute razine kompetencija proizlaze iz nacionalnog, predmetnog i školskog kurikuluma, Nastavnog plana i programa, Pravilnika i pravila ponašanja učenika koje donosi škol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Ostale odredbe Pravilnik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ktivnosti u procesu vrednovanja provode se transparentno, javno i kontinuirano, poštujući učenikovu osobnost i dajući svakom učeniku priliku (javnost ocjene, čuvanje ocijenjenih pisanih radova…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meno provjeravanje znanj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isane provjere znanj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icijalno provjeravanj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ođenje pisanih provjera znanj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navljanje pisane provjere znanj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Zaključna ocjen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Usmeno provjeravanje znanj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just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svi usmeni oblici provjere postignute razine kompetencija učenika koji rezultiraju ocjen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just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provodi se kontinuirano tijekom nastavne godine, u pravilu poslije obrađenih i uvježbanih nastavnih sadržaj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just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može se provoditi na svakom nastavnom satu bez obveze najave i u pravilu smije trajati najdulje 10 minuta po učenik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just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u jednom danu učenik smije biti provjeravan iz dva predmeta (ako učenik taj dan ima pisanu provjeru, može se usmeno provjeravati samo iz jednog nastavnog predmet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just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datum usmene provjere obvezno unijeti u rubriku bilježaka u imeniku (uz bilješke o praćenju u tu se rubriku unosi eventualno naziv cjeline koja se provjeravala, omjer postignutih i mogućih bodova na pisanoj provjeri znanja, teme seminarskih i drugih radova, redovitost izvršavanja zadatka itd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Pisane provjere znanj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kratke pisane provjere znanja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(u trajanju do 15 minuta)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 diktati, kratki vođeni sastavci, odgovori na pitanja, komunikacijske vježbe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hr-HR" sz="2000" spc="-1" strike="noStrike" u="sng">
                <a:solidFill>
                  <a:srgbClr val="000000"/>
                </a:solidFill>
                <a:uFillTx/>
                <a:latin typeface="Verdana"/>
              </a:rPr>
              <a:t>Napomena 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uspjeh učenika u takvim provjerama ne upisuje se u rubriku za ocjenjivanje nego u rubriku bilješke u imenik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just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Pisane provjere (u trajanju duljem od 15 minut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just"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zadaće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 (sažetci, kraći sastavi prema zadanom modelu, vođeni sastav, pisanje razglednice, pisma, kratke priče, kraja priče…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just"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testovi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 i 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ispiti znanj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(npr. inicijalni, polugodišnji, prognostički, završni.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Inicijalno provjeravanj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Inicijalno provjeravanje- uvid u postignutu razinu kompetencija učenik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najavljuje se i provodi do kraja 2. radnog tjedna od početka nastavne god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ne ubraja se u broj planiranih provjera iz čl. 10 Pravilnik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rezultat se upisuje u rubriku bilješke o praćenju učenik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provesti kvanititativnu i kvalitativnu analizu inicijalne provjere znanj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Provođenje pisanih provjera znanja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-511920" algn="just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kontinuirano tijekom nastavne godine (najviše 1 u jednom danu, 4 u jednom tjednu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920" indent="-511920" algn="just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Okvirni vremenik pisanih provjera (predlaže predmetni učitelj/nastavnik, usklađuje i donosi UV/NV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920" indent="-511920" algn="just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objavljuje se javno za sve razredne odjele do kraja 3. tjedna nastave u svakom polugodištu (u strukovnim školama se vremenik objavljuje za svaki naredni mjesec, najkasnije 15 dana unaprije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920" indent="-511920" algn="just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izrađuje se prema izvedbenom nastavnom planu i programu i rasporedu sati pojedinih razrednih odjel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920" indent="-511920" algn="just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kratke pisane provjere se najavljuju i upisuju 5 nastavnih dana prije provedb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920" indent="-511920" algn="just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Preduvjeti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920" indent="-511920" algn="just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uvježbati, ponoviti i utvrditi nastavno gradivo koje će se pismeno provjerit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920" indent="-511920" algn="just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izvijestiti učenike o opsegu gradiva koje će se pismeno provjeriti, elementima i mjerilima ocjenjivanj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Ponavljanje pisane provjere znanj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akon pisane provjere s neočekivanim postignućima učenika (nedovoljnim za nastavak poučavanja i učenja), učitelj treba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just"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tvrditi uzroke neuspjeha i ponoviti pisanu provjeru (o dogovorenom treba izvijestiti razrednika i stručnog suradnika škol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just"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ije ponavljanja provjere organizirati dopunsku nastav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just"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esti ponovljenu provjeru u redovnoj nastav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Zaključna ocjen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Verdana"/>
              </a:rPr>
              <a:t>odraz učenikovih cjelokupnih odgojno-obrazovnih postignuća tijekom šk. god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Verdana"/>
              </a:rPr>
              <a:t>utemeljena je na bilješkama o praćenju te ocjenama upisanim u imeni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Verdana"/>
              </a:rPr>
              <a:t>ne treba biti matematički zbroj ocjenskih elemenata raznih sastavnica praćenj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Verdana"/>
              </a:rPr>
              <a:t>izvodi se i objavljuje na zadnjem nastavnom sat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K R A J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čitelj/nastavnik utvrđuje elemente ocjenjivanja te načine i postupke vrednovanja s učiteljima/nastavnicima istog nastavnog premeta (stručni aktiv škole usklađuje načine, postupke i elemente praćenja na lokalnoj, regionalnoj i nacionalnoj razini) i s njima upoznaje učenike, razrednike, stručnu služb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ditelji imaju pravo znati elemente ocjenjivanja te načine i postupke vrednovanja za svaki predmet (posredno preko razrednika ili na individualnim razgovorima s predmetnim učiteljem/nastavnikom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Što trebaju sadržavati zaključci aktiva?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emente ocjenjivanja/praćenj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ačine i postupke vrjednovanj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Što se vrednuje i na koji nači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Sastavnice praćenj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azumijevanj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vorne sposobnost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osobnosti pisanog izražavanj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ezične zakonitosti/uporaba jezik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??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Preporučuje s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razraditi elemente ocjenjivanja/praćenja te načine i postupke vrjednovanja za svaki razred/godinu učenj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navesti podatke o broju i vrsti pisanih provjera koje će se provoditi i razrađene kriterije vrednovanja tih provjera, tablice za ocjenjivanje zadataka otvorenoga tipa, bodovne skale za dikt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navesti predviđa li se inicijalno provjeravanje i za kog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definirati što je pisana provjera s neočekivanim postignućem učenik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navesti da se temeljem jednoga usmenoga odgovora mogu donijeti ocjene iz 2 sastavnica praćenja,npr. razumijevanja i govorenja ili da se temeljem jedne pisane provjere, koja se sastoji od više segmenata npr. razumijevanja čitanjem/slušanjem i pisanja ili  pisanja i uporabe jezika, mogu donijeti 2 ocjen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Primjer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Razumijevanj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zumijevanje poruka, zapovijedi i informacija provjeravamo pomoću izvršavanja zapovijedi, rješavanja zadataka na temelju poticaj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zumijevanje snimljenog teksta, teksta snimljenog na osnovi poznatog leksika, ali u izmijenjenoj situaciji provjeravamo pomoću odgovora (odabiranjem točnog  odgovora, rješavanjem zadataka pomoću tablica, odgovorima na pitanja kojima se reproducira tekst) ili ispravne govorne reakcije na poticaj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zumijevanje tiskanog teksta provjeravamo prepoznavanjem pojedinih elemenata (odabiranjem točnog  odgovora, rješavanjem zadataka pomoću tablica, odgovorima na pitanja kojima se reproducira teks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zumijevanje osnovnog smisla teksta provjeravamo pomoću interpretativnih pitanja, iznošenjem glavnih misli (sažetak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Razumijevanje- usmena provjer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dliča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učenik razumije sugovornika i usmena izlaganja normalnim tempom, u potpunosti razumije pisani i odslušani tekst, s lakoćom povezuje sadržaj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rlo doba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razumije pitanja, ali je ponekad potrebno nešto ponoviti; razumije pisani i odslušani sadržaj u cijelosti, ali ne i svaku pojedinos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oba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razumije izlaganja i pitanja postavljena sporijim tempom, ponekad je nužno ponoviti i pojednostavniti neke dijelove rečeni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ovolja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ima minimum razumijevanja i napreduje uz pomoć nastavnika; slabo razumije pisanu i slušanu materij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edovolja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ne razumije usmena izlaganja, pisanu ili slušanu materiju ni uz pomoć nastavnik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Razumijevanje-provjera pisanim putem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Primje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Slušni testovi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, jednako kao i 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testovi razumijevanja pročitanog teksta 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najavljuju se unaprijed Vremenikom, a vrjednuju se  prema sljedećim kriterijima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minimalan broj bodova odnosno postotak za pozitivnu ocjenu ..%- dovoljan (2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..% - dobar (3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..% - vrlo dobar (4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..% - odličan (5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*</a:t>
            </a:r>
            <a:r>
              <a:rPr b="1" i="1" lang="hr-HR" sz="2000" spc="-1" strike="noStrike">
                <a:solidFill>
                  <a:srgbClr val="000000"/>
                </a:solidFill>
                <a:latin typeface="Verdana"/>
              </a:rPr>
              <a:t>Kriteriji za ocjenu pisanih radova se mogu smanjiti, po procjeni profesora, s obzirom na uspješnost u razredu, ali se ne smiju povisit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5T12:21:57Z</dcterms:created>
  <dc:creator>ivana lekic</dc:creator>
  <dc:description/>
  <dc:language>en-US</dc:language>
  <cp:lastModifiedBy>ivana lekic</cp:lastModifiedBy>
  <dcterms:modified xsi:type="dcterms:W3CDTF">2011-09-07T11:49:09Z</dcterms:modified>
  <cp:revision>21</cp:revision>
  <dc:subject/>
  <dc:title>Praćenje i ocjenjivanje učenika u nastavi stranoga jezika</dc:title>
</cp:coreProperties>
</file>