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D6BDC-2065-45F6-A53A-94031BB8C350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F9C17-7456-436E-A5A8-B7819CC6E2E6}" type="slidenum"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0FD5F-52D1-4269-B0E0-DFF1C83FA51C}" type="slidenum"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8B59D-91E3-488B-843A-6CC6BB512A6E}" type="slidenum"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99cc00"/>
                </a:solidFill>
                <a:latin typeface="Calibri"/>
              </a:rPr>
              <a:t>IZAĐITE iz prostorije, ako je ikako moguće, pod odmorom prošetajte na zraku, iskoristite vikend, otputujte na jedan dan…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e22c4a"/>
                </a:solidFill>
                <a:latin typeface="Calibri"/>
              </a:rPr>
              <a:t>NITKo nije savršen, ako niste savršeni ne znači da ne vrijedit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e22c4a"/>
                </a:solidFill>
                <a:latin typeface="Calibri"/>
              </a:rPr>
              <a:t>NITKo nije savršen, ako niste savršeni ne znači da ne vrijedi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e22c4a"/>
                </a:solidFill>
                <a:latin typeface="Calibri"/>
              </a:rPr>
              <a:t>NITKo nije savršen, ako niste savršeni ne znači da ne vrijedit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e22c4a"/>
                </a:solidFill>
                <a:latin typeface="Calibri"/>
              </a:rPr>
              <a:t>NITKo nije savršen, ako niste savršeni ne znači da ne vrijedi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A54C0-AA6A-4C56-B7DD-A787E7F700AC}" type="slidenum"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C09F-4C0A-433A-91AB-6D97AF163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06CD-9ECE-463B-A5CC-5D52EEF58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7DA3-572C-4ECA-A783-A4122F6FA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3194-324E-438F-B5FE-FCA089C52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CAC3-0185-4C3A-BAD8-C5C347CBF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692B-98B7-444B-A3F7-536573244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A1F3-1A26-456B-A9B3-33B360501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C2C1-F51F-4355-8F01-D97FAB750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8CCB-2BED-4EA6-AEC6-81F3FE153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6F72-EEB2-459F-B9BA-796954C21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8072-5A87-47A8-9778-A15E5A17C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0D02-4CE1-4E91-A3AC-9C3EC570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02641-7DDF-41C8-88FE-09F7933ECF0E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mages.google.hr/imgres?imgurl=http://italy.indymedia.org/uploads/2006/05/anger.gif&amp;imgrefurl=http://www.companycounselor.com/2007/05/anger_and_forgiveness_part_i.html&amp;h=344&amp;w=351&amp;sz=8&amp;hl=hr&amp;start=9&amp;um=1&amp;tbnid=zUjI6nW9J2ZWeM:&amp;tbnh=118&amp;tbnw=120&amp;prev=/images?q=anger&amp;um=1&amp;hl=hr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tres.edu.pl/main1_pliki/image003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8000" y="2143080"/>
            <a:ext cx="89280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hr-HR" sz="4000" spc="-1" strike="noStrike">
                <a:solidFill>
                  <a:srgbClr val="e22c4a"/>
                </a:solidFill>
                <a:latin typeface="Aharoni"/>
                <a:ea typeface="Aharoni"/>
              </a:rPr>
              <a:t>STRES  U UČITELJSKOM ZVANJ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1763640" y="4437000"/>
            <a:ext cx="5113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Dr.sc. Zlatka Kozjak Mikić,  školski psiholog i nastavnik psihologije, Škola za primalje Zagr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1619280" y="5805360"/>
            <a:ext cx="62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Stručni  skupovi učitelja matematike u osnovnim školama, Krapina, Paterinja, Karlovac, Zagreb, kolovoz, 20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95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8000" spc="-1" strike="noStrike">
                <a:solidFill>
                  <a:srgbClr val="ff3300"/>
                </a:solidFill>
                <a:latin typeface="Comic Sans MS"/>
              </a:rPr>
              <a:t>Izvori stresa u nastavi/ školi?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826920" y="764640"/>
            <a:ext cx="7715520" cy="543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straživanja učiteljskog stres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0000"/>
                </a:solidFill>
                <a:latin typeface="Arial"/>
              </a:rPr>
              <a:t>Lewis, 2006.  (SA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0000"/>
                </a:solidFill>
                <a:latin typeface="Arial"/>
              </a:rPr>
              <a:t>Fisher, 2011.   (VB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0000"/>
                </a:solidFill>
                <a:latin typeface="Arial"/>
              </a:rPr>
              <a:t>Ljubin- Golub, Bilić, Milolaža, 2011. (H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d3f8f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održavanje razredne discipline i diskusi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problematični raz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loš odnos učenika prema rad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neugodno i drsko ponašanje učenik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nemogućnost posvećivanja učenik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čenici koji imaju loš odnos prema školi i kojima nedostaje motivacija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- poticanje na r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veličina razred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vrijeme za pripremu i ispravljanje  ispita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7" descr="nastava"/>
          <p:cNvPicPr/>
          <p:nvPr/>
        </p:nvPicPr>
        <p:blipFill>
          <a:blip r:embed="rId1"/>
          <a:stretch/>
        </p:blipFill>
        <p:spPr>
          <a:xfrm>
            <a:off x="3492360" y="0"/>
            <a:ext cx="219708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* brze promjene u kurikulumu i organizaci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itisci vremenskih roko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zahtjevi profesionalnog razvo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nadzori, inspekcij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žalbe učeni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7960" y="1599840"/>
            <a:ext cx="4244760" cy="4924440"/>
          </a:xfrm>
          <a:prstGeom prst="rect">
            <a:avLst/>
          </a:prstGeom>
          <a:solidFill>
            <a:srgbClr val="d3f8fd"/>
          </a:solidFill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komunikacija i sukobi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 kolegama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, ravnatelj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sjećaj potc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jenjenosti u društv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jenjivan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komunikacija i nedostatak potpore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oditel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ovjeravanje ispravno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astavnih pomagala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Nadzori, inspekcij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7" descr="nastava"/>
          <p:cNvPicPr/>
          <p:nvPr/>
        </p:nvPicPr>
        <p:blipFill>
          <a:blip r:embed="rId1"/>
          <a:stretch/>
        </p:blipFill>
        <p:spPr>
          <a:xfrm>
            <a:off x="3492360" y="0"/>
            <a:ext cx="219708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0000"/>
                </a:solidFill>
                <a:latin typeface="Calibri"/>
              </a:rPr>
              <a:t>Posebni izvori   za učitelje matematik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Doktorska disertacija 2007, SAD 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Ispitivanje uvjeta rada, izazova i  napetosti nastavnika matematike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3" descr="C:\Users\Zlatka\Downloads\Nova mapa\pitagora.jpg"/>
          <p:cNvPicPr/>
          <p:nvPr/>
        </p:nvPicPr>
        <p:blipFill>
          <a:blip r:embed="rId1"/>
          <a:stretch/>
        </p:blipFill>
        <p:spPr>
          <a:xfrm>
            <a:off x="3059280" y="4076640"/>
            <a:ext cx="25653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395280" y="188640"/>
            <a:ext cx="82296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jedan od najvažnijih nastavnih predmeta za nastavak školova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jedan od najzahtjevnijih nastavnih predmeta (koncentracija, pažnja, vježba…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redrasude o tome da je matematika teško razumljiva, osobito za djevoj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jedan od predmeta s najlošijim zaključnim ocjenama i najviše instrukci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620640"/>
            <a:ext cx="829152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800" spc="-1" strike="noStrike">
                <a:solidFill>
                  <a:srgbClr val="000000"/>
                </a:solidFill>
                <a:latin typeface="Comic Sans MS"/>
              </a:rPr>
              <a:t>U  stresu ste? 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800" spc="-1" strike="noStrike">
                <a:solidFill>
                  <a:srgbClr val="ff3300"/>
                </a:solidFill>
                <a:latin typeface="Comic Sans MS"/>
              </a:rPr>
              <a:t>PO ČEMU</a:t>
            </a:r>
            <a:r>
              <a:rPr b="0" lang="hr-HR" sz="8800" spc="-1" strike="noStrike">
                <a:solidFill>
                  <a:srgbClr val="000000"/>
                </a:solidFill>
                <a:latin typeface="Comic Sans MS"/>
              </a:rPr>
              <a:t>  znate?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3" descr="ANd9GcRtdIE8mST2rrFDu2gKS99YK1WVc6-0h0BY6x2HKHZniP4Ta-ND08u-QFvULA"/>
          <p:cNvPicPr/>
          <p:nvPr/>
        </p:nvPicPr>
        <p:blipFill>
          <a:blip r:embed="rId1"/>
          <a:stretch/>
        </p:blipFill>
        <p:spPr>
          <a:xfrm>
            <a:off x="6156360" y="5013360"/>
            <a:ext cx="279072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Content Placeholder 99329"/>
          <p:cNvGrpSpPr/>
          <p:nvPr/>
        </p:nvGrpSpPr>
        <p:grpSpPr>
          <a:xfrm>
            <a:off x="1332000" y="1143360"/>
            <a:ext cx="6273720" cy="3797640"/>
            <a:chOff x="1332000" y="1143360"/>
            <a:chExt cx="6273720" cy="3797640"/>
          </a:xfrm>
        </p:grpSpPr>
        <p:sp>
          <p:nvSpPr>
            <p:cNvPr id="104" name="_s1028"/>
            <p:cNvSpPr/>
            <p:nvPr/>
          </p:nvSpPr>
          <p:spPr>
            <a:xfrm>
              <a:off x="3621240" y="1818000"/>
              <a:ext cx="1697040" cy="1928520"/>
            </a:xfrm>
            <a:prstGeom prst="ellipse">
              <a:avLst/>
            </a:prstGeom>
            <a:solidFill>
              <a:srgbClr val="66ffff">
                <a:alpha val="50000"/>
              </a:srgbClr>
            </a:solidFill>
            <a:ln w="468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1029"/>
            <p:cNvSpPr/>
            <p:nvPr/>
          </p:nvSpPr>
          <p:spPr>
            <a:xfrm>
              <a:off x="3621240" y="1143360"/>
              <a:ext cx="169704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00"/>
                  </a:solidFill>
                  <a:latin typeface="Arial"/>
                </a:rPr>
                <a:t>Misli: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00"/>
                  </a:solidFill>
                  <a:latin typeface="Arial"/>
                </a:rPr>
                <a:t>Ima li sve to smisla?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00"/>
                  </a:solidFill>
                  <a:latin typeface="Arial"/>
                </a:rPr>
                <a:t>Do kad ću ovako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00"/>
                  </a:solidFill>
                  <a:latin typeface="Arial"/>
                </a:rPr>
                <a:t>Toj djeci i onako nije stalo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00"/>
                  </a:solidFill>
                  <a:latin typeface="Arial"/>
                </a:rPr>
                <a:t>smanjena koncentracija,  “paralelni film”, negativne misli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1030"/>
            <p:cNvSpPr/>
            <p:nvPr/>
          </p:nvSpPr>
          <p:spPr>
            <a:xfrm>
              <a:off x="4179960" y="2918880"/>
              <a:ext cx="1697040" cy="1928520"/>
            </a:xfrm>
            <a:prstGeom prst="ellipse">
              <a:avLst/>
            </a:prstGeom>
            <a:solidFill>
              <a:srgbClr val="99ccff">
                <a:alpha val="50000"/>
              </a:srgbClr>
            </a:solidFill>
            <a:ln w="46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031"/>
            <p:cNvSpPr/>
            <p:nvPr/>
          </p:nvSpPr>
          <p:spPr>
            <a:xfrm>
              <a:off x="5908680" y="4459680"/>
              <a:ext cx="169704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00"/>
                  </a:solidFill>
                  <a:latin typeface="Arial"/>
                </a:rPr>
                <a:t>Ponašanje: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00"/>
                  </a:solidFill>
                  <a:latin typeface="Arial"/>
                </a:rPr>
                <a:t>odustajanje, alkohol/ cigare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00"/>
                  </a:solidFill>
                  <a:latin typeface="Arial"/>
                </a:rPr>
                <a:t>povlačenje, češći sukobi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00"/>
                  </a:solidFill>
                  <a:latin typeface="Arial"/>
                </a:rPr>
                <a:t>umor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1032"/>
            <p:cNvSpPr/>
            <p:nvPr/>
          </p:nvSpPr>
          <p:spPr>
            <a:xfrm>
              <a:off x="3062160" y="2918880"/>
              <a:ext cx="1697040" cy="1928520"/>
            </a:xfrm>
            <a:prstGeom prst="ellipse">
              <a:avLst/>
            </a:prstGeom>
            <a:solidFill>
              <a:srgbClr val="24bbfe">
                <a:alpha val="50000"/>
              </a:srgbClr>
            </a:solidFill>
            <a:ln w="468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033"/>
            <p:cNvSpPr/>
            <p:nvPr/>
          </p:nvSpPr>
          <p:spPr>
            <a:xfrm>
              <a:off x="1332000" y="4459680"/>
              <a:ext cx="1697040" cy="48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ff3300"/>
                  </a:solidFill>
                  <a:latin typeface="Arial"/>
                </a:rPr>
                <a:t>Emocije: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3300"/>
                  </a:solidFill>
                  <a:latin typeface="Arial"/>
                </a:rPr>
                <a:t>ljutnja, anksioznost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3300"/>
                  </a:solidFill>
                  <a:latin typeface="Arial"/>
                </a:rPr>
                <a:t>napetost, frustracija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3300"/>
                  </a:solidFill>
                  <a:latin typeface="Arial"/>
                </a:rPr>
                <a:t>depresivnost, razdražljivost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Oval 10"/>
          <p:cNvSpPr/>
          <p:nvPr/>
        </p:nvSpPr>
        <p:spPr>
          <a:xfrm>
            <a:off x="2124000" y="5300640"/>
            <a:ext cx="4753080" cy="1557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2843280" y="5445000"/>
            <a:ext cx="36003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Tjelesne manifestacij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bolovi, problemi s probavom, kožom, tahikardije, smanjeni imunite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95280" y="764640"/>
            <a:ext cx="82915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6000" spc="-1" strike="noStrike">
                <a:solidFill>
                  <a:srgbClr val="000000"/>
                </a:solidFill>
                <a:latin typeface="Comic Sans MS"/>
              </a:rPr>
              <a:t>Utjecaj stresa na kvalitetu  poučavanja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visoka razina učiteljskog stresa povezana je 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ff3300"/>
                </a:solidFill>
                <a:latin typeface="Calibri"/>
              </a:rPr>
              <a:t>većim nezadovoljstvom poslom, napuštanjem profesije, </a:t>
            </a:r>
            <a:r>
              <a:rPr b="0" lang="hr-HR" sz="3200" spc="-1" strike="noStrike">
                <a:solidFill>
                  <a:srgbClr val="ff0000"/>
                </a:solidFill>
                <a:latin typeface="Calibri"/>
              </a:rPr>
              <a:t>dugoročno- manje ulaganj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0" i="1" lang="hr-HR" sz="3200" spc="-1" strike="noStrike">
                <a:solidFill>
                  <a:srgbClr val="ff0000"/>
                </a:solidFill>
                <a:latin typeface="Calibri"/>
              </a:rPr>
              <a:t>“odradit ću koliko baš moram”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33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3300"/>
                </a:solidFill>
                <a:latin typeface="Calibri"/>
              </a:rPr>
              <a:t>lošijim radnim učinko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3300"/>
                </a:solidFill>
                <a:latin typeface="Calibri"/>
              </a:rPr>
              <a:t>lošijom komunikacijo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3300"/>
                </a:solidFill>
                <a:latin typeface="Calibri"/>
              </a:rPr>
              <a:t>zdravstvenim problemim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4" descr="C:\Users\Zlatka\Downloads\Nova mapa\kockice3.gif"/>
          <p:cNvPicPr/>
          <p:nvPr/>
        </p:nvPicPr>
        <p:blipFill>
          <a:blip r:embed="rId1"/>
          <a:stretch/>
        </p:blipFill>
        <p:spPr>
          <a:xfrm>
            <a:off x="5076720" y="3789360"/>
            <a:ext cx="362124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95280" y="620640"/>
            <a:ext cx="829152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800" spc="-1" strike="noStrike">
                <a:solidFill>
                  <a:srgbClr val="000000"/>
                </a:solidFill>
                <a:latin typeface="Comic Sans MS"/>
              </a:rPr>
              <a:t>Stres-  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hr-HR" sz="4000" spc="-1" strike="noStrike">
                <a:solidFill>
                  <a:srgbClr val="000000"/>
                </a:solidFill>
                <a:latin typeface="Comic Sans MS"/>
              </a:rPr>
              <a:t>bolest 21. stoljeća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Comic Sans MS"/>
              </a:rPr>
              <a:t>(WHO)</a:t>
            </a:r>
            <a:r>
              <a:rPr b="0" lang="hr-HR" sz="8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5" descr="ANd9GcRtdIE8mST2rrFDu2gKS99YK1WVc6-0h0BY6x2HKHZniP4Ta-ND08u-QFvULA"/>
          <p:cNvPicPr/>
          <p:nvPr/>
        </p:nvPicPr>
        <p:blipFill>
          <a:blip r:embed="rId1"/>
          <a:stretch/>
        </p:blipFill>
        <p:spPr>
          <a:xfrm>
            <a:off x="5724360" y="2997360"/>
            <a:ext cx="2791080" cy="163800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C:\Users\Zlatka\Downloads\Nova mapa\brojevi.jpg"/>
          <p:cNvPicPr/>
          <p:nvPr/>
        </p:nvPicPr>
        <p:blipFill>
          <a:blip r:embed="rId2"/>
          <a:stretch/>
        </p:blipFill>
        <p:spPr>
          <a:xfrm>
            <a:off x="307800" y="2708280"/>
            <a:ext cx="26575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78920" y="974520"/>
            <a:ext cx="4243320" cy="3816360"/>
          </a:xfrm>
          <a:prstGeom prst="rect">
            <a:avLst/>
          </a:prstGeom>
          <a:solidFill>
            <a:srgbClr val="25dee7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Konstruktivni stres (eustr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umjereni st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Povećava nap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Stimulira kreativn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Potiče nas na akcij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Doživljaj izazo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873320" y="2565360"/>
            <a:ext cx="4032360" cy="4114800"/>
          </a:xfrm>
          <a:prstGeom prst="rect">
            <a:avLst/>
          </a:prstGeom>
          <a:solidFill>
            <a:srgbClr val="99ff66"/>
          </a:solidFill>
          <a:ln w="9360">
            <a:solidFill>
              <a:srgbClr val="66ff33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Destruktivni stres (distr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Gubitak motivaci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Smanjena učinkovitost (nesreće, bolesti, fluktuacije, nezadovoljstva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Ugrožava fizički i mentalni integritet osob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4" descr="C:\Users\Zlatka\Downloads\Nova mapa\indijanac.jpg"/>
          <p:cNvPicPr/>
          <p:nvPr/>
        </p:nvPicPr>
        <p:blipFill>
          <a:blip r:embed="rId1"/>
          <a:stretch/>
        </p:blipFill>
        <p:spPr>
          <a:xfrm>
            <a:off x="5724360" y="95400"/>
            <a:ext cx="2016360" cy="23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57360" y="274320"/>
            <a:ext cx="6686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8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457360" y="1600200"/>
            <a:ext cx="668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4" descr="hands-template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179280" y="2781360"/>
            <a:ext cx="820908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7200" spc="-1" strike="noStrike">
                <a:solidFill>
                  <a:srgbClr val="ff3300"/>
                </a:solidFill>
                <a:latin typeface="Comic Sans MS"/>
              </a:rPr>
              <a:t>Kontrola stres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7200" spc="-1" strike="noStrike">
                <a:solidFill>
                  <a:srgbClr val="ff3300"/>
                </a:solidFill>
                <a:latin typeface="Comic Sans MS"/>
              </a:rPr>
              <a:t>u učiteljskom poslu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http://t1.gstatic.com/images?q=tbn:ANd9GcQmDCmt5QGKlCYCelmb8dOn-9-dVScbbuE2ya7eLxvks5-Em8PWRA"/>
          <p:cNvPicPr/>
          <p:nvPr/>
        </p:nvPicPr>
        <p:blipFill>
          <a:blip r:embed="rId2"/>
          <a:stretch/>
        </p:blipFill>
        <p:spPr>
          <a:xfrm>
            <a:off x="3132000" y="476280"/>
            <a:ext cx="26640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395280" y="404640"/>
            <a:ext cx="3456000" cy="2109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80808"/>
                </a:solidFill>
                <a:latin typeface="Tahoma"/>
              </a:rPr>
              <a:t>MIJENJATI UZRO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80808"/>
                </a:solidFill>
                <a:latin typeface="Tahoma"/>
              </a:rPr>
              <a:t>ST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5791320" y="476280"/>
            <a:ext cx="3028680" cy="1962000"/>
          </a:xfrm>
          <a:prstGeom prst="rect">
            <a:avLst/>
          </a:prstGeom>
          <a:solidFill>
            <a:srgbClr val="23d3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80808"/>
                </a:solidFill>
                <a:latin typeface="Tahoma"/>
              </a:rPr>
              <a:t>RAZVIJA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80808"/>
                </a:solidFill>
                <a:latin typeface="Tahoma"/>
              </a:rPr>
              <a:t>VJEŠTI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80808"/>
                </a:solidFill>
                <a:latin typeface="Tahoma"/>
              </a:rPr>
              <a:t>SUOČAV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2916360" y="2565360"/>
            <a:ext cx="3384360" cy="10688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cc00"/>
                </a:solidFill>
                <a:latin typeface="Comic Sans MS"/>
              </a:rPr>
              <a:t>UPRAVLJANJE STRES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250920" y="3886200"/>
            <a:ext cx="3330360" cy="263844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80808"/>
                </a:solidFill>
                <a:latin typeface="Tahoma"/>
              </a:rPr>
              <a:t>RADITI 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80808"/>
                </a:solidFill>
                <a:latin typeface="Tahoma"/>
              </a:rPr>
              <a:t>VLASTIT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80808"/>
                </a:solidFill>
                <a:latin typeface="Tahoma"/>
              </a:rPr>
              <a:t>MISL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5562720" y="3886200"/>
            <a:ext cx="3330360" cy="2782800"/>
          </a:xfrm>
          <a:prstGeom prst="rect">
            <a:avLst/>
          </a:prstGeom>
          <a:solidFill>
            <a:srgbClr val="feae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80808"/>
                </a:solidFill>
                <a:latin typeface="Tahoma"/>
              </a:rPr>
              <a:t>URAVNOTEŽI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80808"/>
                </a:solidFill>
                <a:latin typeface="Tahoma"/>
              </a:rPr>
              <a:t>ŽIVOT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80808"/>
                </a:solidFill>
                <a:latin typeface="Tahoma"/>
              </a:rPr>
              <a:t>ST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2050920" y="249228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8"/>
          <p:cNvSpPr/>
          <p:nvPr/>
        </p:nvSpPr>
        <p:spPr>
          <a:xfrm flipV="1">
            <a:off x="1979640" y="3573000"/>
            <a:ext cx="9144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9"/>
          <p:cNvSpPr/>
          <p:nvPr/>
        </p:nvSpPr>
        <p:spPr>
          <a:xfrm flipH="1">
            <a:off x="6156000" y="234936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0"/>
          <p:cNvSpPr/>
          <p:nvPr/>
        </p:nvSpPr>
        <p:spPr>
          <a:xfrm flipH="1" flipV="1">
            <a:off x="6300360" y="335772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PREVENCI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fizičke aktivnosti- kretivni rad, vježba, hodanje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socijalni kontakti- formalni, neformaln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Supervizija, mentorst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dodatne edukaci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prepoznavanje simptom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jasno definiranje osobnih gran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dobra organizacija vreme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ugađanje samom seb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relaksac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7" descr="ang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64000" y="2292480"/>
            <a:ext cx="288000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Korištenje suvremene tehnologije (pametna ploča, CD- i, edukativni kompjuterski materijal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izrada i razmjena priprema na nastavne sate (baza zajedničkih priprem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Zatražite pomoć u svladavanju teškoća- svakodnevno se pojavljuju novi  problemi za koje nismo educiran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riprema za stresnu situaciju</a:t>
            </a: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Zamišljajte pozitivan ishod situacije (koliko toga ste već uspješno savladali?!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Stopirajte i preoblikujte negativne mis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Napravite pregled svojih pozitivnih osobi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bitnih za situaciju koja vas očeku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Podsjetite se da tjeskobu nije potrebn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u potpunosti eliminira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Vježbajte što ćete učiniti u stresnoj situacij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4" descr="test"/>
          <p:cNvPicPr/>
          <p:nvPr/>
        </p:nvPicPr>
        <p:blipFill>
          <a:blip r:embed="rId1"/>
          <a:stretch/>
        </p:blipFill>
        <p:spPr>
          <a:xfrm>
            <a:off x="6948360" y="4724280"/>
            <a:ext cx="1954440" cy="19065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StopSign"/>
          <p:cNvPicPr/>
          <p:nvPr/>
        </p:nvPicPr>
        <p:blipFill>
          <a:blip r:embed="rId2"/>
          <a:stretch/>
        </p:blipFill>
        <p:spPr>
          <a:xfrm>
            <a:off x="7380360" y="189000"/>
            <a:ext cx="144144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643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Ugodite seb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3300"/>
                </a:solidFill>
                <a:latin typeface="Calibri"/>
              </a:rPr>
              <a:t>Što ste zadnje dobro učinili za sebe? Kad ste zadnji put „ne radili ništa”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3300"/>
                </a:solidFill>
                <a:latin typeface="Calibri"/>
              </a:rPr>
              <a:t>Koliko često brinete o sebi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33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f5f5f"/>
                </a:solidFill>
                <a:latin typeface="Calibri"/>
              </a:rPr>
              <a:t>Što možete učiniti u svakom danu za sebe, barem 10 mi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lanirajte tjedne obaveze i PREKRIŽITE ono što ste obavili- uživajte, jer je VEĆ PUNO IZA V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ad osjetite da vas preplavljuje stres- uzmite odmo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cc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cc00"/>
                </a:solidFill>
                <a:latin typeface="Calibri"/>
              </a:rPr>
              <a:t>Postavite pred sebe realna očekivanja  i ne dopustite drugima da od Vas imaju nerealna očekiva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e22c4a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e22c4a"/>
                </a:solidFill>
                <a:latin typeface="Calibri"/>
              </a:rPr>
              <a:t>Izbjegnite perfekcioniz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e22c4a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e22c4a"/>
                </a:solidFill>
                <a:latin typeface="Calibri"/>
              </a:rPr>
              <a:t>Razgovarajte  s ljudima o tome kako se osjeć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5" descr="ANd9GcRaR9xixyLuHAO9dHvpBnblVNLJuWDdjJi2KiQhS3zBjfHCNRdgJg"/>
          <p:cNvPicPr/>
          <p:nvPr/>
        </p:nvPicPr>
        <p:blipFill>
          <a:blip r:embed="rId1"/>
          <a:stretch/>
        </p:blipFill>
        <p:spPr>
          <a:xfrm>
            <a:off x="324000" y="333360"/>
            <a:ext cx="4032000" cy="394344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6"/>
          <p:cNvSpPr/>
          <p:nvPr/>
        </p:nvSpPr>
        <p:spPr>
          <a:xfrm>
            <a:off x="4859280" y="765000"/>
            <a:ext cx="3889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cc00"/>
                </a:solidFill>
                <a:latin typeface="Arial"/>
              </a:rPr>
              <a:t>A gdje je HUM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cc00"/>
                </a:solidFill>
                <a:latin typeface="Arial"/>
              </a:rPr>
              <a:t>Gledajte zabavne filmove i predst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8" descr="a2e246276dbef592_Humor_Picture_A"/>
          <p:cNvPicPr/>
          <p:nvPr/>
        </p:nvPicPr>
        <p:blipFill>
          <a:blip r:embed="rId2"/>
          <a:stretch/>
        </p:blipFill>
        <p:spPr>
          <a:xfrm>
            <a:off x="4859280" y="3860640"/>
            <a:ext cx="380988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Dijagra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tencijalnih izvora stre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image00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68360" y="2997360"/>
            <a:ext cx="3067200" cy="34574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e22c4a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e22c4a"/>
                </a:solidFill>
                <a:latin typeface="Calibri"/>
              </a:rPr>
              <a:t>Podijelite smijeh sa svojim učenicima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e22c4a"/>
                </a:solidFill>
                <a:latin typeface="Calibri"/>
              </a:rPr>
              <a:t>vic dana,  povremene matematičke igre za dobar rad razreda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e22c4a"/>
                </a:solidFill>
                <a:latin typeface="Calibri"/>
              </a:rPr>
              <a:t>* Razmislite što, kao dio zbornice, možete učiniti da doprinesete manjem stresu u škol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8" descr="kommunikation"/>
          <p:cNvPicPr/>
          <p:nvPr/>
        </p:nvPicPr>
        <p:blipFill>
          <a:blip r:embed="rId1"/>
          <a:stretch/>
        </p:blipFill>
        <p:spPr>
          <a:xfrm>
            <a:off x="2987640" y="4221000"/>
            <a:ext cx="2808360" cy="22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800" spc="-1" strike="noStrike">
                <a:solidFill>
                  <a:srgbClr val="ff3300"/>
                </a:solidFill>
                <a:latin typeface="Comic Sans MS"/>
              </a:rPr>
              <a:t>I na kraju....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Calibri"/>
              </a:rPr>
              <a:t>Jeste li “fulali” profesiju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Odgovorite na sljedeća pitanja s DA ili NE i zabilježite svoje odgovore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8" descr="nastavnik%20slika"/>
          <p:cNvPicPr/>
          <p:nvPr/>
        </p:nvPicPr>
        <p:blipFill>
          <a:blip r:embed="rId1"/>
          <a:stretch/>
        </p:blipFill>
        <p:spPr>
          <a:xfrm>
            <a:off x="3132000" y="3695760"/>
            <a:ext cx="3313080" cy="31273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"/>
          <p:cNvPicPr/>
          <p:nvPr/>
        </p:nvPicPr>
        <p:blipFill>
          <a:blip r:embed="rId2"/>
          <a:stretch/>
        </p:blipFill>
        <p:spPr>
          <a:xfrm>
            <a:off x="3564000" y="1197000"/>
            <a:ext cx="181296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Izvori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9640" y="1052640"/>
            <a:ext cx="835344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Fisher, M.H.(2011): Factors influencing stress, burnout and retention in secondary teachers, Current Issues in Education, vol 14(1) i http:// cie.asv.ed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Lazarus, R.S. i Folkman, S.(2004): </a:t>
            </a:r>
            <a:r>
              <a:rPr b="0" i="1" lang="hr-HR" sz="1800" spc="-1" strike="noStrike">
                <a:solidFill>
                  <a:srgbClr val="000000"/>
                </a:solidFill>
                <a:latin typeface="Arial"/>
              </a:rPr>
              <a:t>Stres, procjena i suočavanje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, Jastrebarsko, Naklada Sla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Lewis,G.(2006): Novice mathematics teachers, stress and teaching in the spirit of the NCTM standards, u Alatorres, S., Cortina,J.L., Saiz,M. i Mendez, A. (eds):Proceedings of the 28 th annual meeting of the North American chapter of international group for the psychology of mathematics education,Merida, Mexic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Ljubin Golub, T.; Bilić, V.; Miloloža, M.(2011): Uloga upravljanja emocijama i socijalne podrške u odnosu radnih stresora i doživljenih psihičkih i psihosomatskih tegoba nastavnika, 20. Dani Ramira i Zorana Bujasa, Sažeci priopćenja. / Čorkalo Biruški, D., Vukasović, T. (ur.). - Zagreb : Odsjek za psihologiju Filozofskog fakulteta Sveučilišta u Zagrebu i Hrvatsko psihološko društv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Trankiem,B.(2009). </a:t>
            </a:r>
            <a:r>
              <a:rPr b="0" i="1" lang="hr-HR" sz="1800" spc="-1" strike="noStrike">
                <a:solidFill>
                  <a:srgbClr val="000000"/>
                </a:solidFill>
                <a:latin typeface="Arial"/>
              </a:rPr>
              <a:t>Stres u razredu,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Zagreb, Profi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Živković, Ž . </a:t>
            </a:r>
            <a:r>
              <a:rPr b="0" i="1" lang="hr-HR" sz="1800" spc="-1" strike="noStrike">
                <a:solidFill>
                  <a:srgbClr val="000000"/>
                </a:solidFill>
                <a:latin typeface="Arial"/>
              </a:rPr>
              <a:t>Stres u nastavi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, Intern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000000"/>
                </a:solidFill>
                <a:latin typeface="Arial"/>
              </a:rPr>
              <a:t>Stres.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www.sajt.com. h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5" descr="ANd9GcR5YDZoQ3yeiPtZiM3y7ZYPtDcnfN7Awh-i69ddUiC1XsDUmiqbaZTriwdm"/>
          <p:cNvPicPr/>
          <p:nvPr/>
        </p:nvPicPr>
        <p:blipFill>
          <a:blip r:embed="rId1"/>
          <a:stretch/>
        </p:blipFill>
        <p:spPr>
          <a:xfrm>
            <a:off x="2050920" y="1839960"/>
            <a:ext cx="4753080" cy="33638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544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zkozjakm@net.h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ff3300"/>
                </a:solidFill>
                <a:latin typeface="Comic Sans MS"/>
              </a:rPr>
              <a:t>Kako to da dolazimo u stanje stresa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ff3300"/>
                </a:solidFill>
                <a:latin typeface="Comic Sans MS"/>
              </a:rPr>
              <a:t>Kako to da </a:t>
            </a:r>
            <a:r>
              <a:rPr b="1" lang="hr-HR" sz="4000" spc="-1" strike="noStrike" u="sng">
                <a:solidFill>
                  <a:srgbClr val="ff3300"/>
                </a:solidFill>
                <a:uFillTx/>
                <a:latin typeface="Comic Sans MS"/>
              </a:rPr>
              <a:t>ista situacija </a:t>
            </a:r>
            <a:r>
              <a:rPr b="1" lang="hr-HR" sz="4000" spc="-1" strike="noStrike">
                <a:solidFill>
                  <a:srgbClr val="ff3300"/>
                </a:solidFill>
                <a:latin typeface="Comic Sans MS"/>
              </a:rPr>
              <a:t>ko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hr-HR" sz="4000" spc="-1" strike="noStrike">
                <a:solidFill>
                  <a:srgbClr val="ff3300"/>
                </a:solidFill>
                <a:latin typeface="Comic Sans MS"/>
              </a:rPr>
              <a:t>ljudi izaziva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 u="sng">
                <a:solidFill>
                  <a:srgbClr val="ff3300"/>
                </a:solidFill>
                <a:uFillTx/>
                <a:latin typeface="Comic Sans MS"/>
              </a:rPr>
              <a:t>različiti stupanj stresa</a:t>
            </a:r>
            <a:r>
              <a:rPr b="1" lang="hr-HR" sz="4000" spc="-1" strike="noStrike">
                <a:solidFill>
                  <a:srgbClr val="ff330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250920" y="4724280"/>
            <a:ext cx="1873080" cy="1368720"/>
          </a:xfrm>
          <a:prstGeom prst="rect">
            <a:avLst/>
          </a:prstGeom>
          <a:solidFill>
            <a:srgbClr val="66ff33"/>
          </a:solidFill>
          <a:ln w="93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STRE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objektivan događa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3"/>
          <p:cNvSpPr/>
          <p:nvPr/>
        </p:nvSpPr>
        <p:spPr>
          <a:xfrm>
            <a:off x="2987640" y="3068640"/>
            <a:ext cx="3095640" cy="2665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f9f915">
              <a:alpha val="2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4"/>
          <p:cNvSpPr/>
          <p:nvPr/>
        </p:nvSpPr>
        <p:spPr>
          <a:xfrm rot="20886000">
            <a:off x="6443280" y="3240000"/>
            <a:ext cx="3132000" cy="3618000"/>
          </a:xfrm>
          <a:prstGeom prst="irregularSeal2">
            <a:avLst/>
          </a:prstGeom>
          <a:gradFill rotWithShape="0">
            <a:gsLst>
              <a:gs pos="0">
                <a:srgbClr val="ff0000">
                  <a:alpha val="77254"/>
                </a:srgbClr>
              </a:gs>
              <a:gs pos="100000">
                <a:srgbClr val="a20000">
                  <a:alpha val="7607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5"/>
          <p:cNvSpPr/>
          <p:nvPr/>
        </p:nvSpPr>
        <p:spPr>
          <a:xfrm flipV="1">
            <a:off x="2124000" y="4508280"/>
            <a:ext cx="107964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6"/>
          <p:cNvSpPr/>
          <p:nvPr/>
        </p:nvSpPr>
        <p:spPr>
          <a:xfrm>
            <a:off x="6084720" y="4221000"/>
            <a:ext cx="432000" cy="287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3635280" y="3500280"/>
            <a:ext cx="2160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PROCJ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Tumačenje događa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6948360" y="4508640"/>
            <a:ext cx="197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ST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Subjektivni odgov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9"/>
          <p:cNvSpPr/>
          <p:nvPr/>
        </p:nvSpPr>
        <p:spPr>
          <a:xfrm>
            <a:off x="4859280" y="1052640"/>
            <a:ext cx="3024360" cy="1468440"/>
          </a:xfrm>
          <a:prstGeom prst="wedgeEllipseCallout">
            <a:avLst>
              <a:gd name="adj1" fmla="val -44328"/>
              <a:gd name="adj2" fmla="val 78106"/>
            </a:avLst>
          </a:prstGeom>
          <a:solidFill>
            <a:srgbClr val="23d3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ahoma"/>
                <a:ea typeface="Arial"/>
              </a:rPr>
              <a:t>Neću moći udovoljiti zahtjevu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0"/>
          <p:cNvSpPr/>
          <p:nvPr/>
        </p:nvSpPr>
        <p:spPr>
          <a:xfrm>
            <a:off x="250920" y="333360"/>
            <a:ext cx="3529080" cy="2376360"/>
          </a:xfrm>
          <a:prstGeom prst="wedgeEllipseCallout">
            <a:avLst>
              <a:gd name="adj1" fmla="val 48472"/>
              <a:gd name="adj2" fmla="val 62689"/>
            </a:avLst>
          </a:prstGeom>
          <a:solidFill>
            <a:srgbClr val="23d3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ahoma"/>
                <a:ea typeface="Arial"/>
              </a:rPr>
              <a:t>Promjene do kojih će (posljedice) doći će biti nepovolj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12"/>
          <p:cNvSpPr/>
          <p:nvPr/>
        </p:nvSpPr>
        <p:spPr>
          <a:xfrm>
            <a:off x="1979640" y="3141720"/>
            <a:ext cx="1419120" cy="914400"/>
          </a:xfrm>
          <a:prstGeom prst="ellipse">
            <a:avLst/>
          </a:prstGeom>
          <a:solidFill>
            <a:srgbClr val="f9f9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13"/>
          <p:cNvSpPr/>
          <p:nvPr/>
        </p:nvSpPr>
        <p:spPr>
          <a:xfrm>
            <a:off x="5364000" y="3068640"/>
            <a:ext cx="1440000" cy="914400"/>
          </a:xfrm>
          <a:prstGeom prst="ellipse">
            <a:avLst/>
          </a:prstGeom>
          <a:solidFill>
            <a:srgbClr val="f9f9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4"/>
          <p:cNvSpPr/>
          <p:nvPr/>
        </p:nvSpPr>
        <p:spPr>
          <a:xfrm>
            <a:off x="2195640" y="3429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obr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5"/>
          <p:cNvSpPr/>
          <p:nvPr/>
        </p:nvSpPr>
        <p:spPr>
          <a:xfrm>
            <a:off x="5724360" y="328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Loš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16"/>
          <p:cNvSpPr/>
          <p:nvPr/>
        </p:nvSpPr>
        <p:spPr>
          <a:xfrm>
            <a:off x="3780000" y="5084640"/>
            <a:ext cx="1439640" cy="914400"/>
          </a:xfrm>
          <a:prstGeom prst="ellipse">
            <a:avLst/>
          </a:prstGeom>
          <a:solidFill>
            <a:srgbClr val="f9f9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7"/>
          <p:cNvSpPr/>
          <p:nvPr/>
        </p:nvSpPr>
        <p:spPr>
          <a:xfrm>
            <a:off x="3851280" y="537372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Neutraln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RANJIVOST/ OTPORNOST NA ST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919191"/>
                </a:solidFill>
                <a:latin typeface="Calibri"/>
              </a:rPr>
              <a:t>Intenzitet/ trajanje stres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919191"/>
                </a:solidFill>
                <a:latin typeface="Arial"/>
              </a:rPr>
              <a:t>Individualne karakteristi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919191"/>
                </a:solidFill>
                <a:latin typeface="Calibri"/>
              </a:rPr>
              <a:t>Opće životne okolnosti- staž(!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919191"/>
                </a:solidFill>
                <a:latin typeface="Calibri"/>
              </a:rPr>
              <a:t>Prijelazna životna razdobl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5" descr="stres_istresanje1"/>
          <p:cNvPicPr/>
          <p:nvPr/>
        </p:nvPicPr>
        <p:blipFill>
          <a:blip r:embed="rId1"/>
          <a:stretch/>
        </p:blipFill>
        <p:spPr>
          <a:xfrm>
            <a:off x="2843280" y="4221000"/>
            <a:ext cx="3314520" cy="2409840"/>
          </a:xfrm>
          <a:prstGeom prst="rect">
            <a:avLst/>
          </a:prstGeom>
          <a:ln w="0">
            <a:noFill/>
          </a:ln>
        </p:spPr>
      </p:pic>
      <p:sp>
        <p:nvSpPr>
          <p:cNvPr id="77" name="Oval 6"/>
          <p:cNvSpPr/>
          <p:nvPr/>
        </p:nvSpPr>
        <p:spPr>
          <a:xfrm rot="19497600">
            <a:off x="826560" y="4005360"/>
            <a:ext cx="1729080" cy="20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826920" y="479736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adolescen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1"/>
          <p:cNvSpPr/>
          <p:nvPr/>
        </p:nvSpPr>
        <p:spPr>
          <a:xfrm rot="3925200">
            <a:off x="6660360" y="3788640"/>
            <a:ext cx="1728720" cy="20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6732720" y="4508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menopau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13"/>
          <p:cNvSpPr/>
          <p:nvPr/>
        </p:nvSpPr>
        <p:spPr>
          <a:xfrm rot="3391200">
            <a:off x="423000" y="1627920"/>
            <a:ext cx="1677960" cy="20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4"/>
          <p:cNvSpPr/>
          <p:nvPr/>
        </p:nvSpPr>
        <p:spPr>
          <a:xfrm>
            <a:off x="755640" y="2276640"/>
            <a:ext cx="136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eseljenje/ promjena pos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Calibri"/>
              </a:rPr>
              <a:t>INDIVIDUALNE KARAKTERISTIK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erfekcioniz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treba samodokaziva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edostatak osobnih gran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evelika očekivanja od poduzetih aktivn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manjak asertivnosti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6" descr="ANd9GcQnrhs9U3KCmg3Bj8Vit5youQ8YyPa0wfZAR9wk15fWoHHUQqvt0UpHfeOatQ"/>
          <p:cNvPicPr/>
          <p:nvPr/>
        </p:nvPicPr>
        <p:blipFill>
          <a:blip r:embed="rId1"/>
          <a:stretch/>
        </p:blipFill>
        <p:spPr>
          <a:xfrm>
            <a:off x="3924360" y="1052640"/>
            <a:ext cx="270504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The Guardian”, travanj, 201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nastavničko zvanje jedno od najstresniji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Istraživanje, 2000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41.5% učitelja/ nastavnika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VB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izjasnilo se d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u pod visokim stresom na  pos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C:\Users\Zlatka\Downloads\Nova mapa\srce.jpg"/>
          <p:cNvPicPr/>
          <p:nvPr/>
        </p:nvPicPr>
        <p:blipFill>
          <a:blip r:embed="rId1"/>
          <a:stretch/>
        </p:blipFill>
        <p:spPr>
          <a:xfrm>
            <a:off x="5796000" y="115920"/>
            <a:ext cx="3203640" cy="15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720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- nastavničko zvanje je „emocionalno toksično i potencijalno frustrirajuće”- Fisher, 201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AD, 2007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16 % učitelja iz javnih škola napušta profesiju svake godine (prosjek ostalih 11%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3" descr="C:\Users\Zlatka\Downloads\Nova mapa\slikica 4.jpg"/>
          <p:cNvPicPr/>
          <p:nvPr/>
        </p:nvPicPr>
        <p:blipFill>
          <a:blip r:embed="rId1"/>
          <a:stretch/>
        </p:blipFill>
        <p:spPr>
          <a:xfrm>
            <a:off x="3419640" y="4869000"/>
            <a:ext cx="2160360" cy="17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0T22:20:53Z</dcterms:created>
  <dc:creator>Éric Vadeboncoeur</dc:creator>
  <dc:description/>
  <dc:language>en-US</dc:language>
  <cp:lastModifiedBy>Zlatka</cp:lastModifiedBy>
  <dcterms:modified xsi:type="dcterms:W3CDTF">2012-08-30T06:53:47Z</dcterms:modified>
  <cp:revision>98</cp:revision>
  <dc:subject/>
  <dc:title>PRESENTATION  NAME</dc:title>
</cp:coreProperties>
</file>