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1.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AAE-C908-443A-BCE8-A6749B3E24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2A8F-FA1A-47DF-9F47-E46E0CCB93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8D43-765A-483B-8BF6-46C9AB1DDB3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808B-DC1B-4043-BDD3-D13A7F0B4F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704F-4E96-4C94-BF1A-FCE599D937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D65E-FC7C-4202-8608-B8B38F60E4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A114-7762-4DCA-9FDB-CE1EEFAE43A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0C15-630D-4F1D-93A9-1F8EAE57AA4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F2C0-02B8-4F63-B06A-7693BC1DEA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E6C7-2810-4694-A8DC-13B84F62CA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F9CC-09F9-4226-92AD-C0228D6752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5D62-D282-49F3-9591-D71AF75078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2E4A-FE99-4247-86B7-08226DE945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3B4E-4015-41DB-94CF-B2049B0EBCA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B014-F967-40B0-BD3B-93E6EAC060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A23F-7470-4E7C-9A9F-54DAF9E0EB0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E2EA-B74E-46FA-97F0-51263C2C27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7781-332C-473D-A163-BBC69C1B795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3DC2-B995-422C-84A2-FF9E837CE1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 Ljubičasta košulj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CD0B-0E83-4A75-B947-1C378B49F6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B3D3-A08A-4301-B8A0-7773951A00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ako ovo prenijeti u razred? Put ka traženju  može biti i dobar i loš, ali imaju isti cilj- mijenjanje sličice jer ih ne zadovoljav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CD7D-E158-4396-9873-03776071FA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EBEB-08F5-491A-89D8-96FDD6DBEC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C5DE-72E0-48A9-A664-8E68197D5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0A0D-5EAE-464C-89F1-208954AFD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3B798-6CC5-4BEE-9F54-FD114C77B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169A3-6CF0-44E9-AFF9-C8E8D51D0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7553C7-9E43-450F-A2C5-696F2A64B3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9A7F54-272E-46C1-A21D-0F9B38A5C8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4F794-56A4-4376-A0FE-8B17740DE8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262638-1A3F-4B0D-9DF3-95B14C94EE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F184D-EAA5-4492-A3B0-AE2E2582F6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693AA-D6D1-488D-98F8-CA73AB4BB9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D2B5B-D5F4-464A-8588-58172C148F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2796-C7AD-4788-9A11-35EF6D61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7C246-2263-4777-B711-12A64E093D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1891A-4B34-4E74-89F4-54E401A587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50D17-D0E6-468D-94CD-55B9646149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2EB0CF-5A1D-42AF-9394-3EF5AA0E0B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DC056-0CAA-49A5-A3B7-BB7629DEC3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6496E-103D-45EF-883C-84B2A6B89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7D38-3417-4A5A-A193-78C4BAA8C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4543-712A-4B1E-B81A-EB316C8B2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09A6-D45A-4CE1-9150-C061C7037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A2A07-D325-42A7-BB6E-7DE273A1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9E04-1C5D-474D-8C86-6CD442924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22D0-A0DA-4FCD-A5C6-5AF524E35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B125-7A3F-4400-B97F-1862D6BFE9F7}" type="slidenum">
              <a:rPr b="0" lang="hr-H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4F34-FA5B-4A05-8180-A81FF9F66CF7}" type="slidenum">
              <a:rPr b="0" lang="hr-H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hyperlink" Target="http://www.google.hr/imgres?imgurl=http://www.ezadar.hr/repository/image_raw/137953/medium_full/&amp;imgrefurl=http://www.ezadar.hr/clanak/gosca-kafica-dobila-i-popila-deterdzent-umjesto-mineralne&amp;usg=__SARocxMO_Qm6u8aKMbnJd9tNKoM=&amp;h=115&amp;w=178&amp;sz=7&amp;hl=hr&amp;start=47&amp;zoom=1&amp;tbnid=jZLVkjVwEUR9NM:&amp;tbnh=92&amp;tbnw=142&amp;prev=/images%3Fq%3D%25C4%258Da%25C5%25A1a%2Bpolu%2Bpuna%26hl%3Dhr%26sa%3DG%26gbv%3D2%26biw%3D1016%26bih%3D570%26tbs%3Disch:1&amp;itbs=1&amp;iact=hc&amp;vpx=460&amp;vpy=370&amp;dur=865&amp;hovh=92&amp;hovw=142&amp;tx=110&amp;ty=38&amp;ei=dqOlTN6-G5SSjAeB_-SUDA&amp;oei=Q6OlTIuFL8aLswaI_8WwCA&amp;esq=13&amp;page=4&amp;ndsp=17&amp;ved=1t:429,r:8,s:47"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hr/imgres?imgurl=http://www.hrvatska.dk/Members/fika/Auti/Auti.jpg&amp;imgrefurl=http://www.hrvatska.dk/pic_display.asp%3Fid%3D1035&amp;usg=__WnoTrP-TXvQSCeYe46df5XhAHLE=&amp;h=428&amp;w=500&amp;sz=35&amp;hl=hr&amp;start=0&amp;zoom=1&amp;tbnid=UWcbjtqWUcXAuM:&amp;tbnh=146&amp;tbnw=242&amp;prev=/images%3Fq%3Dauti%26hl%3Dhr%26gbv%3D2%26biw%3D1016%26bih%3D570%26tbs%3Disch:1&amp;itbs=1&amp;iact=hc&amp;vpx=604&amp;vpy=105&amp;dur=1466&amp;hovh=208&amp;hovw=243&amp;tx=131&amp;ty=83&amp;ei=CaalTMvWOoKQjAeD2LiVDA&amp;oei=6KWlTN2YB4mDswa17cSnCA&amp;esq=4&amp;page=1&amp;ndsp=12&amp;ved=1t:429,r:2,s:0" TargetMode="External"/><Relationship Id="rId2" Type="http://schemas.openxmlformats.org/officeDocument/2006/relationships/image" Target="../media/image13.jpeg"/><Relationship Id="rId3" Type="http://schemas.openxmlformats.org/officeDocument/2006/relationships/hyperlink" Target="http://www.google.hr/imgres?imgurl=http://www.sarajevo-x.com/media/images/vijesti/080716038.2_mn.jpg&amp;imgrefurl=http://www.sarajevo-x.com/zanimljivosti/clanak/080716038&amp;usg=__4JogfdTGsiGz2QevaAAFgQ2UU_Y=&amp;h=385&amp;w=550&amp;sz=60&amp;hl=hr&amp;start=71&amp;zoom=1&amp;tbnid=zrV1KGSybNay-M:&amp;tbnh=111&amp;tbnw=159&amp;prev=/images%3Fq%3Djahte%26hl%3Dhr%26gbv%3D2%26biw%3D1016%26bih%3D570%26tbs%3Disch:1&amp;itbs=1&amp;iact=hc&amp;vpx=705&amp;vpy=130&amp;dur=1288&amp;hovh=188&amp;hovw=268&amp;tx=223&amp;ty=99&amp;ei=3KalTO6yCseOjAf5leCnDA&amp;oei=xKalTKa8KsnOswaa4Z2bCA&amp;esq=6&amp;page=6&amp;ndsp=15&amp;ved=1t:429,r:9,s:71" TargetMode="External"/><Relationship Id="rId4" Type="http://schemas.openxmlformats.org/officeDocument/2006/relationships/image" Target="../media/image14.jpeg"/><Relationship Id="rId5" Type="http://schemas.openxmlformats.org/officeDocument/2006/relationships/hyperlink" Target="http://www.google.hr/imgres?imgurl=http://recimikakodapostanembogat.com/blog/wp-content/uploads/2009/02/euro_novac_pare_lova_do_krova_eura.jpg&amp;imgrefurl=http://recimikakodapostanembogat.com/blog/2009/11/01/rokfelerov-odgovor/&amp;usg=__rKv5G3MODdLsNXTF-STnXEovmeY=&amp;h=309&amp;w=469&amp;sz=48&amp;hl=hr&amp;start=0&amp;zoom=1&amp;tbnid=YGxAiUQM9zOS2M:&amp;tbnh=127&amp;tbnw=182&amp;prev=/images%3Fq%3Dnovac%2Beuro%26hl%3Dhr%26sa%3DG%26gbv%3D2%26biw%3D1016%26bih%3D570%26tbs%3Disch:1&amp;itbs=1&amp;iact=hc&amp;vpx=229&amp;vpy=114&amp;dur=993&amp;hovh=182&amp;hovw=277&amp;tx=177&amp;ty=88&amp;ei=IqelTJSnCpWSjAebjJGpDA&amp;oei=C6elTNjAJY-VswaXn-idCA&amp;esq=6&amp;page=1&amp;ndsp=15&amp;ved=1t:429,r:1,s:0" TargetMode="External"/><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hyperlink" Target="http://www.google.hr/imgres?imgurl=http://www.neatorama.com/images/2005/shoe-car.jpg&amp;imgrefurl=http://www.forum.hr/showthread.php%3Ft%3D170667&amp;usg=__WliPQ384MM0FGkFKhJyGsEbWJyU=&amp;h=401&amp;w=480&amp;sz=26&amp;hl=hr&amp;start=12&amp;zoom=1&amp;tbnid=Cp5v5nvXHakCBM:&amp;tbnh=130&amp;tbnw=155&amp;prev=/images%3Fq%3Dauti%26hl%3Dhr%26gbv%3D2%26biw%3D1016%26bih%3D570%26tbs%3Disch:1&amp;itbs=1&amp;iact=hc&amp;vpx=306&amp;vpy=256&amp;dur=100&amp;hovh=205&amp;hovw=246&amp;tx=139&amp;ty=136&amp;ei=b6alTMnOHZGUjAfsldm6DA&amp;oei=6KWlTN2YB4mDswa17cSnCA&amp;esq=5&amp;page=2&amp;ndsp=15&amp;ved=1t:429,r:6,s:12" TargetMode="External"/><Relationship Id="rId6" Type="http://schemas.openxmlformats.org/officeDocument/2006/relationships/image" Target="../media/image20.jpeg"/><Relationship Id="rId7" Type="http://schemas.openxmlformats.org/officeDocument/2006/relationships/hyperlink" Target="http://www.google.hr/imgres?imgurl=http://2.bp.blogspot.com/_K7C0aw_b-BU/SPwUms7dVoI/AAAAAAAAGis/MCMcLm5Eb_0/s400/20080419-lifestyle--wardrobe.jpg&amp;imgrefurl=http://jochoo.blogspot.com/2008_10_01_archive.html&amp;usg=__QfTtrEF6nTFCis4Ahl4uFVydZNc=&amp;h=263&amp;w=350&amp;sz=30&amp;hl=hr&amp;start=0&amp;zoom=1&amp;tbnid=YSOUCH8QeBjzIM:&amp;tbnh=144&amp;tbnw=191&amp;prev=/images%3Fq%3Dwardrobe%26hl%3Dhr%26sa%3DG%26gbv%3D2%26biw%3D1016%26bih%3D570%26tbs%3Disch:1&amp;itbs=1&amp;iact=hc&amp;vpx=450&amp;vpy=80&amp;dur=4776&amp;hovh=195&amp;hovw=259&amp;tx=201&amp;ty=67&amp;ei=wrKlTMW-D8eQjAePtJCyDA&amp;oei=hLKlTPyiB8uQswaLidmjCA&amp;esq=18&amp;page=1&amp;ndsp=14&amp;ved=1t:429,r:2,s:0" TargetMode="External"/><Relationship Id="rId8" Type="http://schemas.openxmlformats.org/officeDocument/2006/relationships/image" Target="../media/image21.jpe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oogle.hr/imgres?imgurl=http://www.robinchung.com/articles/top5/images/frustration.jpg&amp;imgrefurl=http://www.robinchung.com/articles/top5/sourcesofdailyfrustration.html&amp;usg=__Sv5FvrLPfnCkAVaOMxl2NTxO1-A=&amp;h=653&amp;w=654&amp;sz=149&amp;hl=hr&amp;start=0&amp;zoom=1&amp;tbnid=vypy-Ah_yPQMWM:&amp;tbnh=138&amp;tbnw=155&amp;prev=/images%3Fq%3Dfrustration%26um%3D1%26hl%3Dhr%26client%3Dfirefox-a%26rls%3Dorg.mozilla:en-US:official%26biw%3D1016%26bih%3D570%26tbs%3Disch:1&amp;um=1&amp;itbs=1&amp;iact=hc&amp;vpx=131&amp;vpy=216&amp;dur=293&amp;hovh=224&amp;hovw=225&amp;tx=102&amp;ty=123&amp;ei=VNOqTIC0HsOQjAfkyYTQBw&amp;oei=9tKqTOv_CMfHswbD9LHHAw&amp;esq=15&amp;page=1&amp;ndsp=15&amp;ved=1t:429,r:5,s:0" TargetMode="External"/><Relationship Id="rId2" Type="http://schemas.openxmlformats.org/officeDocument/2006/relationships/image" Target="../media/image23.jpeg"/><Relationship Id="rId3" Type="http://schemas.openxmlformats.org/officeDocument/2006/relationships/hyperlink" Target="http://www.google.hr/imgres?imgurl=http://woodrow.typepad.com/the_ponderings_of_woodrow/images/frustration.gif&amp;imgrefurl=http://woodrow.typepad.com/the_ponderings_of_woodrow/2006/04/index.html&amp;usg=__AISD6bpJO2j2BJ_e3XSttQWNLSE=&amp;h=345&amp;w=400&amp;sz=24&amp;hl=hr&amp;start=0&amp;zoom=1&amp;tbnid=FLHbD-OeDg8jLM:&amp;tbnh=138&amp;tbnw=160&amp;prev=/images%3Fq%3Dfrustration%26um%3D1%26hl%3Dhr%26client%3Dfirefox-a%26rls%3Dorg.mozilla:en-US:official%26biw%3D1016%26bih%3D570%26tbs%3Disch:1&amp;um=1&amp;itbs=1&amp;iact=hc&amp;vpx=270&amp;vpy=269&amp;dur=3296&amp;hovh=208&amp;hovw=242&amp;tx=133&amp;ty=128&amp;ei=jtOqTMCgJJCTjAeNypS8Bw&amp;oei=9tKqTOv_CMfHswbD9LHHAw&amp;esq=21&amp;page=1&amp;ndsp=15&amp;ved=1t:429,r:11,s:0" TargetMode="External"/><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hr/imgres?imgurl=http://www.mudremisli.com/wp-content/uploads/2009/07/sloboda.jpg&amp;imgrefurl=http://www.mudremisli.com/page/125/&amp;usg=__XeTRmJj-PU7FrBCNkFlKXdcUyH4=&amp;h=804&amp;w=1000&amp;sz=57&amp;hl=hr&amp;start=17&amp;zoom=1&amp;tbnid=J1-vlVYVSLyXYM:&amp;tbnh=128&amp;tbnw=158&amp;prev=/images%3Fq%3Dsloboda%26um%3D1%26hl%3Dhr%26client%3Dfirefox-a%26sa%3DG%26rls%3Dorg.mozilla:en-US:official%26biw%3D1016%26bih%3D570%26tbs%3Disch:1&amp;um=1&amp;itbs=1&amp;iact=hc&amp;vpx=121&amp;vpy=238&amp;dur=15797&amp;hovh=201&amp;hovw=250&amp;tx=175&amp;ty=119&amp;ei=9L2lTJOyLIqRjAfAt8m-DA&amp;oei=zL2lTMOGB4LHswaTu62YCA&amp;esq=12&amp;page=2&amp;ndsp=15&amp;ved=1t:429,r:5,s:17" TargetMode="External"/><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google.hr/imgres?imgurl=http://free-du.htnet.hr/digital/Ante_Konjuh.files/ikona_swivel.gif&amp;imgrefurl=http://mojsvijetfotosa.blogger.ba/arhiva/%3Fstart%3D10&amp;usg=__ClDR8Dyxbo2tnOgCoQHymgA8tBM=&amp;h=234&amp;w=232&amp;sz=20&amp;hl=hr&amp;start=44&amp;zoom=1&amp;tbnid=8BXvDqVby-1wrM:&amp;tbnh=124&amp;tbnw=123&amp;prev=/images%3Fq%3Dfilter%2Bfotoaparata%26hl%3Dhr%26sa%3DX%26gbv%3D2%26biw%3D1016%26bih%3D570%26tbs%3Disch:1&amp;itbs=1&amp;iact=hc&amp;vpx=135&amp;vpy=234&amp;dur=3824&amp;hovh=187&amp;hovw=185&amp;tx=108&amp;ty=81&amp;ei=zp-lTJi5LseQjAfLt8CyDA&amp;oei=aJ-lTN2nBpSCswbK1tWqCA&amp;esq=31&amp;page=4&amp;ndsp=16&amp;ved=1t:429,r:11,s:44"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google.hr/imgres?imgurl=http://www.aolcdn.com/red_galleries/devil-angel-costume-400a100407.jpg&amp;imgrefurl=http://sa-mar.bloger.hr/post/zena-predator/929212.aspx&amp;usg=__-D5YmpVufih6zgpx37PXv72R2fU=&amp;h=400&amp;w=400&amp;sz=20&amp;hl=hr&amp;start=0&amp;zoom=1&amp;tbnid=bWW5oFIxKl2tqM:&amp;tbnh=150&amp;tbnw=150&amp;prev=/images%3Fq%3D%25C5%25BEena%2Ban%25C4%2591eo%26hl%3Dhr%26biw%3D1016%26bih%3D570%26gbv%3D2%26tbs%3Disch:1&amp;itbs=1&amp;iact=hc&amp;vpx=240&amp;vpy=68&amp;dur=1357&amp;hovh=225&amp;hovw=225&amp;tx=117&amp;ty=66&amp;ei=pZylTJKiLs2Sswbj26iXCA&amp;oei=pZylTJKiLs2Sswbj26iXCA&amp;esq=1&amp;page=1&amp;ndsp=18&amp;ved=1t:429,r:1,s:0"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google.hr/imgres?imgurl=http://img210.imageshack.us/img210/751/0196022bmh4.jpg&amp;imgrefurl=http://zena.hr/forum/tema/plasticna_operacija_neuspjesna/6/405&amp;usg=__mdOs89WeRDHj8z-dPY-rd5Bjmgw=&amp;h=360&amp;w=600&amp;sz=84&amp;hl=hr&amp;start=0&amp;zoom=1&amp;tbnid=TblC4R6SHnUOvM:&amp;tbnh=109&amp;tbnw=192&amp;prev=/images%3Fq%3Dplasti%25C4%258Dne%2Boperacije%26hl%3Dhr%26biw%3D1016%26bih%3D570%26gbv%3D2%26tbs%3Disch:1&amp;itbs=1&amp;iact=hc&amp;vpx=321&amp;vpy=77&amp;dur=1176&amp;hovh=174&amp;hovw=290&amp;tx=192&amp;ty=106&amp;ei=T52lTJf1EMuDswa91s2qCA&amp;oei=T52lTJf1EMuDswa91s2qCA&amp;esq=1&amp;page=1&amp;ndsp=14&amp;ved=1t:429,r:12,s:0" TargetMode="External"/><Relationship Id="rId2" Type="http://schemas.openxmlformats.org/officeDocument/2006/relationships/image" Target="../media/image7.jpeg"/><Relationship Id="rId3" Type="http://schemas.openxmlformats.org/officeDocument/2006/relationships/hyperlink" Target="http://www.google.hr/imgres?imgurl=http://www.themarijuanaobserver.com/wp-content/uploads/2009/09/michael-jackson.jpg&amp;imgrefurl=http://www.tipitv.hr/crolywood/clanak/582/default.aspx&amp;usg=__DJ8G2G_fS0hwZ8fHKdYCc9hQE7o=&amp;h=398&amp;w=401&amp;sz=22&amp;hl=hr&amp;start=0&amp;zoom=1&amp;tbnid=7_9v4O5lCh9lZM:&amp;tbnh=132&amp;tbnw=124&amp;prev=/images%3Fq%3Dmichael%2Bjackson%26hl%3Dhr%26biw%3D1016%26bih%3D570%26gbv%3D2%26tbs%3Disch:1&amp;itbs=1&amp;iact=hc&amp;vpx=661&amp;vpy=43&amp;dur=127&amp;hovh=224&amp;hovw=225&amp;tx=146&amp;ty=134&amp;ei=752lTP6mOYqRjAeBtcm-DA&amp;oei=yp2lTPfCO4PIswaU2pmgCA&amp;esq=4&amp;page=1&amp;ndsp=19&amp;ved=1t:429,r:17,s:0" TargetMode="External"/><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ogle.hr/imgres?imgurl=http://www.amsoil.com/products/oil_airfilters/EAO_ExplodedFilter_900px.jpg&amp;imgrefurl=http://www.amsoil.com/storefront/eao.aspx&amp;usg=__9RvJeQlIoGdbQUZEpcfpN-89jUI=&amp;h=638&amp;w=900&amp;sz=71&amp;hl=hr&amp;start=16&amp;zoom=1&amp;tbnid=qyo3Mrtm-OzekM:&amp;tbnh=128&amp;tbnw=181&amp;prev=/images%3Fq%3Dfilter%26hl%3Dhr%26gbv%3D2%26biw%3D1016%26bih%3D570%26tbs%3Disch:1&amp;itbs=1&amp;iact=hc&amp;vpx=237&amp;vpy=182&amp;dur=1403&amp;hovh=189&amp;hovw=267&amp;tx=169&amp;ty=78&amp;ei=WqClTKfoE9C6jAfLiNGfDA&amp;oei=UaClTPWVMofHswbqwPmUCA&amp;esq=2&amp;page=2&amp;ndsp=16&amp;ved=1t:429,r:1,s:16"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hr/imgres?imgurl=http://www.dagbladet.no/dinside/2001/02/05/piercing.JPG&amp;imgrefurl=http://www.sodahead.com/living/what-is-the-weirdest-piercing-you-have-seen-on-someone/question-22795/&amp;usg=__et7EzrcutOPlf9vZPBKKckcNQ_s=&amp;h=300&amp;w=248&amp;sz=25&amp;hl=hr&amp;start=33&amp;zoom=1&amp;tbnid=YcC6u56s0j6W6M:&amp;tbnh=148&amp;tbnw=105&amp;prev=/images%3Fq%3Dpiercing%26hl%3Dhr%26gbv%3D2%26biw%3D1016%26bih%3D570%26tbs%3Disch:1&amp;itbs=1&amp;iact=hc&amp;vpx=705&amp;vpy=221&amp;dur=513&amp;hovh=240&amp;hovw=198&amp;tx=119&amp;ty=85&amp;ei=0KGlTOyqDpaSjAehw_CpDA&amp;oei=LKGlTM7EL4jAswad2-CcCA&amp;esq=49&amp;page=3&amp;ndsp=18&amp;ved=1t:429,r:5,s:33" TargetMode="External"/><Relationship Id="rId2" Type="http://schemas.openxmlformats.org/officeDocument/2006/relationships/image" Target="../media/image10.jpeg"/><Relationship Id="rId3" Type="http://schemas.openxmlformats.org/officeDocument/2006/relationships/hyperlink" Target="http://www.google.hr/imgres?imgurl=http://isiria.files.wordpress.com/2008/12/tattoo-face.jpg&amp;imgrefurl=http://www.1st-tattoodesign.co.cc/&amp;usg=__URKZJdzC3S-CsB3wR5dltoq2hYs=&amp;h=348&amp;w=380&amp;sz=94&amp;hl=hr&amp;start=69&amp;zoom=1&amp;tbnid=j-hfUDVqlM1wHM:&amp;tbnh=124&amp;tbnw=131&amp;prev=/images%3Fq%3Dtattoo%26hl%3Dhr%26sa%3DX%26gbv%3D2%26biw%3D1016%26bih%3D570%26tbs%3Disch:1&amp;itbs=1&amp;iact=hc&amp;vpx=670&amp;vpy=262&amp;dur=3228&amp;hovh=215&amp;hovw=235&amp;tx=118&amp;ty=107&amp;ei=3qKlTI_EIZaSjAefw_CpDA&amp;oei=K6KlTP_EFsmKswal_bGeCA&amp;esq=27&amp;page=5&amp;ndsp=18&amp;ved=1t:429,r:10,s:69"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ERCEPCIJA, FRUSTRACIJA I KREATIVNOST </a:t>
            </a:r>
            <a:r>
              <a:rPr b="0" lang="hr-HR" sz="3200" spc="-1" strike="noStrike">
                <a:solidFill>
                  <a:srgbClr val="ffffff"/>
                </a:solidFill>
                <a:latin typeface="Tahoma"/>
              </a:rPr>
              <a:t>OSNOVE  SU TOLERANCIJE NA RAZLIČITOST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2800" spc="-1" strike="noStrike">
                <a:solidFill>
                  <a:srgbClr val="ffffff"/>
                </a:solidFill>
                <a:latin typeface="Tahoma"/>
              </a:rPr>
              <a:t>Tanja Jakovac, prof.</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Osnovna škola Ivana Gorana Kovačića Vrbovsk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692280"/>
            <a:ext cx="4038480" cy="4114800"/>
          </a:xfrm>
          <a:prstGeom prst="rect">
            <a:avLst/>
          </a:prstGeom>
          <a:noFill/>
          <a:ln w="0">
            <a:noFill/>
          </a:ln>
        </p:spPr>
        <p:txBody>
          <a:bodyPr anchor="t">
            <a:normAutofit fontScale="87000"/>
          </a:bodyPr>
          <a:p>
            <a:pPr marL="298440" indent="-29844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Želimo li preuzeti kontrolu nad svojim životom moramo postati svjesni da naša osjetilna kamera snima svijet onakvim kakvim ga mi želimo, a ne onakvim kakav uistinu je. </a:t>
            </a:r>
            <a:endParaRPr b="0" lang="en-US" sz="2400" spc="-1" strike="noStrike">
              <a:solidFill>
                <a:srgbClr val="ffffff"/>
              </a:solidFill>
              <a:latin typeface="Tahoma"/>
            </a:endParaRPr>
          </a:p>
          <a:p>
            <a:pPr marL="298440" indent="-29844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Mi ga želimo vidjeti što je moguće sličnijim slikama u našim glavama.</a:t>
            </a:r>
            <a:endParaRPr b="0" lang="en-US" sz="2400" spc="-1" strike="noStrike">
              <a:solidFill>
                <a:srgbClr val="ffffff"/>
              </a:solidFill>
              <a:latin typeface="Tahoma"/>
            </a:endParaRPr>
          </a:p>
          <a:p>
            <a:pPr marL="298440" indent="-29844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Da li i naši učenici  žele isto što i mi ?</a:t>
            </a:r>
            <a:endParaRPr b="0" lang="en-US" sz="2400" spc="-1" strike="noStrike">
              <a:solidFill>
                <a:srgbClr val="ffffff"/>
              </a:solidFill>
              <a:latin typeface="Tahoma"/>
            </a:endParaRPr>
          </a:p>
        </p:txBody>
      </p:sp>
      <p:pic>
        <p:nvPicPr>
          <p:cNvPr id="114" name="Picture 5" descr="ANd9GcQ0xdZUez2cLJFdp059OqeeY7tPlA9Ns2Elo_MdJaCkTguT_pE&amp;t=1&amp;usg=__Q2FZOFPpRldiG5nQJgWkZWQX3Zc=">
            <a:hlinkClick r:id="rId1"/>
          </p:cNvPr>
          <p:cNvPicPr/>
          <p:nvPr/>
        </p:nvPicPr>
        <p:blipFill>
          <a:blip r:embed="rId2"/>
          <a:stretch/>
        </p:blipFill>
        <p:spPr>
          <a:xfrm>
            <a:off x="5148360" y="2060640"/>
            <a:ext cx="3456000" cy="2808360"/>
          </a:xfrm>
          <a:prstGeom prst="rect">
            <a:avLst/>
          </a:prstGeom>
          <a:ln w="0">
            <a:noFill/>
          </a:ln>
        </p:spPr>
      </p:pic>
    </p:spTree>
  </p:cSld>
  <p:transition spd="med">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3">
                                            <p:txEl>
                                              <p:pRg st="0" end="0"/>
                                            </p:txEl>
                                          </p:spTgt>
                                        </p:tgtEl>
                                        <p:attrNameLst>
                                          <p:attrName>style.visibility</p:attrName>
                                        </p:attrNameLst>
                                      </p:cBhvr>
                                      <p:to>
                                        <p:strVal val="visible"/>
                                      </p:to>
                                    </p:set>
                                    <p:anim calcmode="lin" valueType="num">
                                      <p:cBhvr additive="base">
                                        <p:cTn id="71" dur="2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13">
                                            <p:txEl>
                                              <p:pRg st="0" end="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13">
                                            <p:txEl>
                                              <p:pRg st="1" end="1"/>
                                            </p:txEl>
                                          </p:spTgt>
                                        </p:tgtEl>
                                        <p:attrNameLst>
                                          <p:attrName>style.visibility</p:attrName>
                                        </p:attrNameLst>
                                      </p:cBhvr>
                                      <p:to>
                                        <p:strVal val="visible"/>
                                      </p:to>
                                    </p:set>
                                    <p:anim calcmode="lin" valueType="num">
                                      <p:cBhvr additive="base">
                                        <p:cTn id="75" dur="2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113">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3">
                                            <p:txEl>
                                              <p:pRg st="2" end="2"/>
                                            </p:txEl>
                                          </p:spTgt>
                                        </p:tgtEl>
                                        <p:attrNameLst>
                                          <p:attrName>style.visibility</p:attrName>
                                        </p:attrNameLst>
                                      </p:cBhvr>
                                      <p:to>
                                        <p:strVal val="visible"/>
                                      </p:to>
                                    </p:set>
                                    <p:anim calcmode="lin" valueType="num">
                                      <p:cBhvr additive="base">
                                        <p:cTn id="79" dur="2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95280" y="0"/>
            <a:ext cx="8291520" cy="6019920"/>
          </a:xfrm>
          <a:prstGeom prst="rect">
            <a:avLst/>
          </a:prstGeom>
          <a:noFill/>
          <a:ln w="0">
            <a:noFill/>
          </a:ln>
        </p:spPr>
        <p:txBody>
          <a:bodyPr anchor="t">
            <a:normAutofit fontScale="83000"/>
          </a:bodyPr>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u="sng">
                <a:solidFill>
                  <a:srgbClr val="ffffff"/>
                </a:solidFill>
                <a:uFillTx/>
                <a:latin typeface="Sylfaen"/>
              </a:rPr>
              <a:t>Stoga je potrebno uvijek imati na umu:</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Ne trebamo proglašavati nešto lošim samo zato jer je drukčije od onoga što želimo. </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Mnogo je lakše zadovoljiti potrebe u drukčijem, nego u nekom lošem svijetu.</a:t>
            </a:r>
            <a:endParaRPr b="0" lang="en-US" sz="2800" spc="-1" strike="noStrike">
              <a:solidFill>
                <a:srgbClr val="ffffff"/>
              </a:solidFill>
              <a:latin typeface="Tahoma"/>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Kad loše oznake pripisujemo onome što vidimo, mi time povećavamo razliku između onoga što vidimo i onoga što želimo i što je ona veća više moramo učiniti kako bismo je smanjil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387360"/>
            <a:ext cx="8158320" cy="144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Sylfaen"/>
              </a:rPr>
              <a:t>2. Filteri sustava vrijednosti</a:t>
            </a:r>
            <a:endParaRPr b="0" lang="en-US" sz="3600" spc="-1" strike="noStrike">
              <a:solidFill>
                <a:srgbClr val="ffffff"/>
              </a:solidFill>
              <a:latin typeface="Tahoma"/>
            </a:endParaRPr>
          </a:p>
        </p:txBody>
      </p:sp>
      <p:sp>
        <p:nvSpPr>
          <p:cNvPr id="117" name="PlaceHolder 2"/>
          <p:cNvSpPr>
            <a:spLocks noGrp="1"/>
          </p:cNvSpPr>
          <p:nvPr>
            <p:ph/>
          </p:nvPr>
        </p:nvSpPr>
        <p:spPr>
          <a:xfrm>
            <a:off x="394920" y="765000"/>
            <a:ext cx="8280360" cy="4104000"/>
          </a:xfrm>
          <a:prstGeom prst="rect">
            <a:avLst/>
          </a:prstGeom>
          <a:noFill/>
          <a:ln w="0">
            <a:noFill/>
          </a:ln>
        </p:spPr>
        <p:txBody>
          <a:bodyPr anchor="t">
            <a:normAutofit fontScale="95000"/>
          </a:bodyPr>
          <a:p>
            <a:pPr marL="325800" indent="-325800">
              <a:lnSpc>
                <a:spcPct val="80000"/>
              </a:lnSpc>
              <a:spcBef>
                <a:spcPts val="499"/>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Iza spremišta vrijednosti, svi mi imamo sustave vrijednosti, kao krajnje filtere kroz koje prolazi gotovo sve što zamjećujemo</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Filteri mode, novca, domoljublja, vjere....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Ljudi koji u svojim kamerama imaju filtar novca sve gledaju kroz “koliko to košta?”</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Ako su opsjednuti ekonomskim statusom i žele impresionirati svojim bogatstvom, tada im je dobro sve što je skupo, a loše sve ono što je jeftino</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Vjernici filtriraju sve kroz učenje Biblije, Kurana, Veda...-</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Sylfaen"/>
              </a:rPr>
              <a:t>    </a:t>
            </a:r>
            <a:r>
              <a:rPr b="1" lang="hr-HR" sz="2000" spc="-1" strike="noStrike">
                <a:solidFill>
                  <a:srgbClr val="ffffff"/>
                </a:solidFill>
                <a:latin typeface="Sylfaen"/>
              </a:rPr>
              <a:t>dobro je sve ono što podržava pisanu Božju riječ</a:t>
            </a:r>
            <a:endParaRPr b="0" lang="en-US" sz="2000" spc="-1" strike="noStrike">
              <a:solidFill>
                <a:srgbClr val="ffffff"/>
              </a:solidFill>
              <a:latin typeface="Tahoma"/>
            </a:endParaRPr>
          </a:p>
        </p:txBody>
      </p:sp>
      <p:pic>
        <p:nvPicPr>
          <p:cNvPr id="118" name="Picture 6" descr="ANd9GcSbLakfQhVCfIfrdRZqSKsGY_0ywsyF2oL8-lyvezpKbHArVe4&amp;t=1&amp;usg=__q6kqx54Fafu2T3JtqYB7bw2ca8g=">
            <a:hlinkClick r:id="rId1"/>
          </p:cNvPr>
          <p:cNvPicPr/>
          <p:nvPr/>
        </p:nvPicPr>
        <p:blipFill>
          <a:blip r:embed="rId2"/>
          <a:stretch/>
        </p:blipFill>
        <p:spPr>
          <a:xfrm>
            <a:off x="179280" y="4653000"/>
            <a:ext cx="2314800" cy="1981080"/>
          </a:xfrm>
          <a:prstGeom prst="rect">
            <a:avLst/>
          </a:prstGeom>
          <a:ln w="0">
            <a:noFill/>
          </a:ln>
        </p:spPr>
      </p:pic>
      <p:pic>
        <p:nvPicPr>
          <p:cNvPr id="119" name="Picture 8" descr="ANd9GcTZC8uhiCBgR-mkGLo4yHz26atJNPUEQqy2Nlxv6TaS-YUrhnI&amp;t=1&amp;usg=__4R9uBsGs3beW3R9-xOceDGV5pYg=">
            <a:hlinkClick r:id="rId3"/>
          </p:cNvPr>
          <p:cNvPicPr/>
          <p:nvPr/>
        </p:nvPicPr>
        <p:blipFill>
          <a:blip r:embed="rId4"/>
          <a:stretch/>
        </p:blipFill>
        <p:spPr>
          <a:xfrm>
            <a:off x="5940360" y="4869000"/>
            <a:ext cx="2552760" cy="1790640"/>
          </a:xfrm>
          <a:prstGeom prst="rect">
            <a:avLst/>
          </a:prstGeom>
          <a:ln w="0">
            <a:noFill/>
          </a:ln>
        </p:spPr>
      </p:pic>
      <p:pic>
        <p:nvPicPr>
          <p:cNvPr id="120" name="Picture 10" descr="ANd9GcRVFkqBLXCRvhbNR8_j84n1q9pXEl3lMEJuyhR9dXEfhbU7ZBg&amp;t=1&amp;usg=__zfyyzPyztQ4VvBNBNAvAe9j8bkI=">
            <a:hlinkClick r:id="rId5"/>
          </p:cNvPr>
          <p:cNvPicPr/>
          <p:nvPr/>
        </p:nvPicPr>
        <p:blipFill>
          <a:blip r:embed="rId6"/>
          <a:stretch/>
        </p:blipFill>
        <p:spPr>
          <a:xfrm>
            <a:off x="2916360" y="4869000"/>
            <a:ext cx="2638440" cy="173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ff"/>
              </a:solidFill>
              <a:latin typeface="Tahoma"/>
            </a:endParaRPr>
          </a:p>
        </p:txBody>
      </p:sp>
      <p:pic>
        <p:nvPicPr>
          <p:cNvPr id="122" name="Picture 4" descr=""/>
          <p:cNvPicPr/>
          <p:nvPr/>
        </p:nvPicPr>
        <p:blipFill>
          <a:blip r:embed="rId1"/>
          <a:stretch/>
        </p:blipFill>
        <p:spPr>
          <a:xfrm>
            <a:off x="4067280" y="3933720"/>
            <a:ext cx="1780920" cy="2571840"/>
          </a:xfrm>
          <a:prstGeom prst="rect">
            <a:avLst/>
          </a:prstGeom>
          <a:ln w="0">
            <a:noFill/>
          </a:ln>
        </p:spPr>
      </p:pic>
      <p:pic>
        <p:nvPicPr>
          <p:cNvPr id="123" name="Picture 6" descr=""/>
          <p:cNvPicPr/>
          <p:nvPr/>
        </p:nvPicPr>
        <p:blipFill>
          <a:blip r:embed="rId2"/>
          <a:stretch/>
        </p:blipFill>
        <p:spPr>
          <a:xfrm>
            <a:off x="6227640" y="3860640"/>
            <a:ext cx="1857600" cy="2457720"/>
          </a:xfrm>
          <a:prstGeom prst="rect">
            <a:avLst/>
          </a:prstGeom>
          <a:ln w="0">
            <a:noFill/>
          </a:ln>
        </p:spPr>
      </p:pic>
      <p:pic>
        <p:nvPicPr>
          <p:cNvPr id="124" name="Picture 7" descr=""/>
          <p:cNvPicPr/>
          <p:nvPr/>
        </p:nvPicPr>
        <p:blipFill>
          <a:blip r:embed="rId3"/>
          <a:stretch/>
        </p:blipFill>
        <p:spPr>
          <a:xfrm>
            <a:off x="324000" y="4724280"/>
            <a:ext cx="2619360" cy="1743120"/>
          </a:xfrm>
          <a:prstGeom prst="rect">
            <a:avLst/>
          </a:prstGeom>
          <a:ln w="0">
            <a:noFill/>
          </a:ln>
        </p:spPr>
      </p:pic>
      <p:pic>
        <p:nvPicPr>
          <p:cNvPr id="125" name="Picture 8" descr=""/>
          <p:cNvPicPr/>
          <p:nvPr/>
        </p:nvPicPr>
        <p:blipFill>
          <a:blip r:embed="rId4"/>
          <a:stretch/>
        </p:blipFill>
        <p:spPr>
          <a:xfrm>
            <a:off x="179280" y="907920"/>
            <a:ext cx="3598920" cy="3488040"/>
          </a:xfrm>
          <a:prstGeom prst="rect">
            <a:avLst/>
          </a:prstGeom>
          <a:ln w="0">
            <a:noFill/>
          </a:ln>
        </p:spPr>
      </p:pic>
      <p:pic>
        <p:nvPicPr>
          <p:cNvPr id="126" name="Picture 10" descr="ANd9GcTH29kJ1o0qYraBtLUa3uGm8pFmRbBA3c02Fl2UUrzOUOVFNx4&amp;t=1&amp;usg=__nwRFExhSdQN3zVSouG2FfOj7tdk=">
            <a:hlinkClick r:id="rId5"/>
          </p:cNvPr>
          <p:cNvPicPr/>
          <p:nvPr/>
        </p:nvPicPr>
        <p:blipFill>
          <a:blip r:embed="rId6"/>
          <a:stretch/>
        </p:blipFill>
        <p:spPr>
          <a:xfrm>
            <a:off x="6372360" y="836640"/>
            <a:ext cx="2342880" cy="1952640"/>
          </a:xfrm>
          <a:prstGeom prst="rect">
            <a:avLst/>
          </a:prstGeom>
          <a:ln w="0">
            <a:noFill/>
          </a:ln>
        </p:spPr>
      </p:pic>
      <p:sp>
        <p:nvSpPr>
          <p:cNvPr id="127" name="Text Box 11"/>
          <p:cNvSpPr/>
          <p:nvPr/>
        </p:nvSpPr>
        <p:spPr>
          <a:xfrm>
            <a:off x="632160" y="130320"/>
            <a:ext cx="236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Filter mode</a:t>
            </a:r>
            <a:endParaRPr b="0" lang="en-US" sz="3200" spc="-1" strike="noStrike">
              <a:solidFill>
                <a:srgbClr val="ffffff"/>
              </a:solidFill>
              <a:latin typeface="Tahoma"/>
            </a:endParaRPr>
          </a:p>
        </p:txBody>
      </p:sp>
      <p:pic>
        <p:nvPicPr>
          <p:cNvPr id="128" name="Picture 13" descr="ANd9GcTWjaRwNZQyEbF5ru-UKTxLKh2S7QePjaJY3RvTInBGEEcxk48&amp;t=1&amp;usg=__dxdG5rbk8bx7AVFrOwbsQrTIVo8=">
            <a:hlinkClick r:id="rId7"/>
          </p:cNvPr>
          <p:cNvPicPr/>
          <p:nvPr/>
        </p:nvPicPr>
        <p:blipFill>
          <a:blip r:embed="rId8"/>
          <a:stretch/>
        </p:blipFill>
        <p:spPr>
          <a:xfrm>
            <a:off x="3851280" y="1413000"/>
            <a:ext cx="2467080" cy="185724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18">
                                  <p:stCondLst>
                                    <p:cond delay="0"/>
                                  </p:stCondLst>
                                  <p:iterate type="lt">
                                    <p:tmAbs val="20"/>
                                  </p:iterate>
                                  <p:childTnLst>
                                    <p:set>
                                      <p:cBhvr>
                                        <p:cTn id="86" dur="500" fill="hold"/>
                                        <p:tgtEl>
                                          <p:spTgt spid="12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4000" y="836640"/>
            <a:ext cx="8362800" cy="5183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r>
              <a:rPr b="0" lang="hr-HR" sz="3200" spc="-1" strike="noStrike">
                <a:solidFill>
                  <a:srgbClr val="ffffff"/>
                </a:solidFill>
                <a:latin typeface="Sylfaen"/>
              </a:rPr>
              <a:t>Vrijednosni sustavi nam također pomažu da se slažemo sa drugima. Bez obzira na to koliko osoban i nejasan bio sustav, gotovo ćemo uvijek steći doživljaj moći i pripadan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frustration"/>
          <p:cNvPicPr/>
          <p:nvPr/>
        </p:nvPicPr>
        <p:blipFill>
          <a:blip r:embed="rId1"/>
          <a:stretch/>
        </p:blipFill>
        <p:spPr>
          <a:xfrm>
            <a:off x="0" y="0"/>
            <a:ext cx="9144000" cy="6864480"/>
          </a:xfrm>
          <a:prstGeom prst="rect">
            <a:avLst/>
          </a:prstGeom>
          <a:ln w="0">
            <a:noFill/>
          </a:ln>
        </p:spPr>
      </p:pic>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99"/>
                </a:solidFill>
                <a:latin typeface="Sylfaen"/>
              </a:rPr>
              <a:t>FRUSTRACIJE</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99"/>
                </a:solidFill>
                <a:latin typeface="Sylfaen"/>
              </a:rPr>
              <a:t>    </a:t>
            </a:r>
            <a:r>
              <a:rPr b="0" i="1" lang="en-US" sz="2800" spc="-1" strike="noStrike">
                <a:solidFill>
                  <a:srgbClr val="000099"/>
                </a:solidFill>
                <a:latin typeface="Sylfaen"/>
              </a:rPr>
              <a:t>Frustracija (lat. frustratio = zavaravanje, osujećivanje) stanje je osjećajne napetosti, neugode, nemira i nezadovoljstva, izazvano zaprekama ili poteškoćama u ostvarenju nekog cilja ili zadovoljenju neke potrebe.</a:t>
            </a:r>
            <a:r>
              <a:rPr b="0" lang="hr-HR" sz="2800" spc="-1" strike="noStrike">
                <a:solidFill>
                  <a:srgbClr val="ffffff"/>
                </a:solidFill>
                <a:latin typeface="Sylfae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Sylfaen"/>
              </a:rPr>
              <a:t>FRUSTRACIJE</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r>
              <a:rPr b="0" lang="hr-HR" sz="3200" spc="-1" strike="noStrike">
                <a:solidFill>
                  <a:srgbClr val="ffffff"/>
                </a:solidFill>
                <a:latin typeface="Sylfaen"/>
              </a:rPr>
              <a:t>Ukoliko je razlika između onoga što želimo (slika u našoj glavi) i onoga što imamo (način na koji vidimo situacije u svijetu oko nas) velika, nastaje frustracija.</a:t>
            </a:r>
            <a:endParaRPr b="0" lang="en-US" sz="3200" spc="-1" strike="noStrike">
              <a:solidFill>
                <a:srgbClr val="ffffff"/>
              </a:solidFill>
              <a:latin typeface="Tahoma"/>
            </a:endParaRPr>
          </a:p>
        </p:txBody>
      </p:sp>
      <p:pic>
        <p:nvPicPr>
          <p:cNvPr id="135" name="Picture 5" descr="ANd9GcQHlzDClwigrYScb9mGbfO8IA9XNt9lrOeKSfd44YgfYNn0cMM&amp;t=1&amp;usg=__PWfhOg5M-CyQJjrNBshaoV0xpUk=">
            <a:hlinkClick r:id="rId1"/>
          </p:cNvPr>
          <p:cNvPicPr/>
          <p:nvPr/>
        </p:nvPicPr>
        <p:blipFill>
          <a:blip r:embed="rId2"/>
          <a:stretch/>
        </p:blipFill>
        <p:spPr>
          <a:xfrm>
            <a:off x="1403280" y="4076640"/>
            <a:ext cx="2143080" cy="2133720"/>
          </a:xfrm>
          <a:prstGeom prst="rect">
            <a:avLst/>
          </a:prstGeom>
          <a:ln w="0">
            <a:noFill/>
          </a:ln>
        </p:spPr>
      </p:pic>
      <p:pic>
        <p:nvPicPr>
          <p:cNvPr id="136" name="Picture 7" descr="ANd9GcQToa4hEvxctQdYt9yV96Mz1zAiOvUMOAIK0P-58NYg52rkpi8&amp;t=1&amp;usg=__lCclZfLIvMbzK4dWD1x-rvBjxlY=">
            <a:hlinkClick r:id="rId3"/>
          </p:cNvPr>
          <p:cNvPicPr/>
          <p:nvPr/>
        </p:nvPicPr>
        <p:blipFill>
          <a:blip r:embed="rId4"/>
          <a:stretch/>
        </p:blipFill>
        <p:spPr>
          <a:xfrm>
            <a:off x="4932360" y="4149720"/>
            <a:ext cx="230508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79280" y="259920"/>
            <a:ext cx="8507520" cy="575964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Frustraciju može izazvati bilo što s neke beskrajne liste:</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ponašanje učenik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ponašanje kolege                                             razbijanje vaze               raspoloženje ravnatelj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raspoloženja roditelj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školski kurikulum</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stručna usavršavanj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obrazovni sustav</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 </a:t>
            </a:r>
            <a:r>
              <a:rPr b="0" lang="hr-HR" sz="2800" spc="-1" strike="noStrike">
                <a:solidFill>
                  <a:srgbClr val="ffffff"/>
                </a:solidFill>
                <a:latin typeface="Sylfaen"/>
              </a:rPr>
              <a:t>pedagoške mjere….</a:t>
            </a:r>
            <a:endParaRPr b="0" lang="en-US" sz="2800" spc="-1" strike="noStrike">
              <a:solidFill>
                <a:srgbClr val="ffffff"/>
              </a:solidFill>
              <a:latin typeface="Tahoma"/>
            </a:endParaRPr>
          </a:p>
        </p:txBody>
      </p:sp>
      <p:pic>
        <p:nvPicPr>
          <p:cNvPr id="138" name="Picture 4" descr="imagesCAZ6GXMD"/>
          <p:cNvPicPr/>
          <p:nvPr/>
        </p:nvPicPr>
        <p:blipFill>
          <a:blip r:embed="rId1"/>
          <a:stretch/>
        </p:blipFill>
        <p:spPr>
          <a:xfrm>
            <a:off x="179280" y="1700280"/>
            <a:ext cx="3745080" cy="36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99680" y="214200"/>
            <a:ext cx="8218440" cy="2656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Zanimljivo je :</a:t>
            </a:r>
            <a:br>
              <a:rPr sz="3200"/>
            </a:br>
            <a:r>
              <a:rPr b="0" lang="hr-HR" sz="3200" spc="-1" strike="noStrike">
                <a:solidFill>
                  <a:srgbClr val="00c600"/>
                </a:solidFill>
                <a:latin typeface="Sylfaen"/>
              </a:rPr>
              <a:t>  Zbog čega se i dalje držimo slike u svojoj glavi, kad su iscrpljene sve mogućnosti da bi je u stvarnom svijetu mogli doseći?</a:t>
            </a:r>
            <a:br>
              <a:rPr sz="3200"/>
            </a:br>
            <a:endParaRPr b="0" lang="en-US" sz="32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Ne vjerujemo da bi nas neka druga bolja ili drukčija slika mogla zadovoljiti kao ona koju ne možemo ostvarit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Čini se da ne možemo napustiti nadu o tome kako ćemo ipak doći do ponašanja kojim ćemo uspjeti dobiti ono što želi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4171680" cy="575964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Iako iziskuje više napora, imat ćemo bolju kontrolu nad vlastitim životom ako svaku situaciju procijenimo čim se s njome suočimo, umjesto da je pretjerano filtriramo kroz bilo koji vrijednosni sustav.</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Što je manje vrijednosnih sustava u našim kamerama, manje ćemo etiketirati, biti ćemo više slobodni i biti ćemo pod manjim pritiskom dok budemo djelovali.</a:t>
            </a:r>
            <a:endParaRPr b="0" lang="en-US" sz="2400" spc="-1" strike="noStrike">
              <a:solidFill>
                <a:srgbClr val="ffffff"/>
              </a:solidFill>
              <a:latin typeface="Tahoma"/>
            </a:endParaRPr>
          </a:p>
        </p:txBody>
      </p:sp>
      <p:pic>
        <p:nvPicPr>
          <p:cNvPr id="142" name="Picture 5" descr="ANd9GcQo-fvzIDjtBSrHM72-ofi8w9CHc_YsjziAA7KOBtcA1a1MmCs&amp;t=1&amp;usg=__DmSqY04YdL7HnYXCh-DVWqDmtvQ=">
            <a:hlinkClick r:id="rId1"/>
          </p:cNvPr>
          <p:cNvPicPr/>
          <p:nvPr/>
        </p:nvPicPr>
        <p:blipFill>
          <a:blip r:embed="rId2"/>
          <a:stretch/>
        </p:blipFill>
        <p:spPr>
          <a:xfrm>
            <a:off x="4716360" y="1052640"/>
            <a:ext cx="4103640" cy="37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521496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r-HR" sz="3600" spc="-1" strike="noStrike">
                <a:solidFill>
                  <a:srgbClr val="ffffff"/>
                </a:solidFill>
                <a:latin typeface="Sylfaen"/>
              </a:rPr>
              <a:t>OSNOVE  SU TOLERANCIJE NA RAZLIČITOSTI</a:t>
            </a:r>
            <a:endParaRPr b="0" lang="en-US" sz="3600" spc="-1" strike="noStrike">
              <a:solidFill>
                <a:srgbClr val="ffffff"/>
              </a:solidFill>
              <a:latin typeface="Tahoma"/>
            </a:endParaRPr>
          </a:p>
        </p:txBody>
      </p:sp>
      <p:sp>
        <p:nvSpPr>
          <p:cNvPr id="93" name="Pravokutnik 4"/>
          <p:cNvSpPr/>
          <p:nvPr/>
        </p:nvSpPr>
        <p:spPr>
          <a:xfrm>
            <a:off x="357120" y="500040"/>
            <a:ext cx="8072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Sylfaen"/>
              </a:rPr>
              <a:t>PERCEPCIJA, FRUSTRACIJA I KREATIVNOST </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2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2000" fill="hold"/>
                                        <p:tgtEl>
                                          <p:spTgt spid="92"/>
                                        </p:tgtEl>
                                        <p:attrNameLst>
                                          <p:attrName>ppt_x</p:attrName>
                                        </p:attrNameLst>
                                      </p:cBhvr>
                                      <p:tavLst>
                                        <p:tav tm="0">
                                          <p:val>
                                            <p:strVal val="#ppt_x"/>
                                          </p:val>
                                        </p:tav>
                                        <p:tav tm="100000">
                                          <p:val>
                                            <p:strVal val="#ppt_x"/>
                                          </p:val>
                                        </p:tav>
                                      </p:tavLst>
                                    </p:anim>
                                    <p:anim calcmode="lin" valueType="num">
                                      <p:cBhvr additive="base">
                                        <p:cTn id="14" dur="2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3df796"/>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23640" y="404640"/>
            <a:ext cx="7993080" cy="56152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endParaRPr b="0" lang="en-US" sz="32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Sylfaen"/>
              </a:rPr>
              <a:t>KREATIVNOST</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ŽIVOT BEZ KREATIVNOSTI  JEDVA DA BI BIO VRIJEDAN ŽIVLJENJA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cript MT Bold"/>
              </a:rPr>
              <a:t>                                                       </a:t>
            </a:r>
            <a:r>
              <a:rPr b="0" lang="hr-HR" sz="3200" spc="-1" strike="noStrike">
                <a:solidFill>
                  <a:srgbClr val="ffffff"/>
                </a:solidFill>
                <a:latin typeface="Script MT Bold"/>
              </a:rPr>
              <a:t>Glass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88640"/>
            <a:ext cx="4171680" cy="6669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400" spc="-1" strike="noStrike">
                <a:solidFill>
                  <a:srgbClr val="ffffff"/>
                </a:solidFill>
                <a:latin typeface="Sylfaen"/>
              </a:rPr>
              <a:t>Kreativnost je stvaranje nečeg novog, što nikada prije nije postojalo u životu njenog kreatora</a:t>
            </a:r>
            <a:endParaRPr b="0" lang="en-US" sz="2400" spc="-1" strike="noStrike">
              <a:solidFill>
                <a:srgbClr val="ffffff"/>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Većina nas sklona je podcjenjivati vlastitu kreativnost. O njoj mislimo kao o nekom posebnom daru koji posjeduju samo rijetki sretnici, a mi je nećemo nikada imati.</a:t>
            </a:r>
            <a:endParaRPr b="0" lang="en-US" sz="2400" spc="-1" strike="noStrike">
              <a:solidFill>
                <a:srgbClr val="ffffff"/>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Šteta je tako misliti, jer smo svi mnogo kreativniji nego što mislimo.</a:t>
            </a:r>
            <a:endParaRPr b="0" lang="en-US" sz="2400" spc="-1" strike="noStrike">
              <a:solidFill>
                <a:srgbClr val="ffffff"/>
              </a:solidFill>
              <a:latin typeface="Tahoma"/>
            </a:endParaRPr>
          </a:p>
        </p:txBody>
      </p:sp>
      <p:pic>
        <p:nvPicPr>
          <p:cNvPr id="146" name="Picture 8" descr="imagesCAETFPHO"/>
          <p:cNvPicPr/>
          <p:nvPr/>
        </p:nvPicPr>
        <p:blipFill>
          <a:blip r:embed="rId1"/>
          <a:stretch/>
        </p:blipFill>
        <p:spPr>
          <a:xfrm>
            <a:off x="4643280" y="1773360"/>
            <a:ext cx="4321440" cy="331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000" y="549360"/>
            <a:ext cx="4174920" cy="5759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c600"/>
                </a:solidFill>
                <a:latin typeface="Sylfaen"/>
              </a:rPr>
              <a:t>Zašto je kreativnost važna  u razumijevanju različitosti???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Ako uz pomoć onoga što znamo ne možemo dobiti ono što želimo, kreirat ćemo nova ponašanja</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8" name="Picture 5" descr="ANd9GcQ4vCLuMf4OC_EILe-im661LDzWrAHtp_oiBV0ZOPAiZxrXgfc&amp;t=1&amp;usg=__L6WR_qgUTYzoNMGurUzAUlUqMU8="/>
          <p:cNvPicPr/>
          <p:nvPr/>
        </p:nvPicPr>
        <p:blipFill>
          <a:blip r:embed="rId1"/>
          <a:stretch/>
        </p:blipFill>
        <p:spPr>
          <a:xfrm>
            <a:off x="4643280" y="1557360"/>
            <a:ext cx="4105440" cy="38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68000" y="0"/>
            <a:ext cx="4032360" cy="6858000"/>
          </a:xfrm>
          <a:prstGeom prst="rect">
            <a:avLst/>
          </a:prstGeom>
          <a:noFill/>
          <a:ln w="0">
            <a:noFill/>
          </a:ln>
        </p:spPr>
        <p:txBody>
          <a:bodyPr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Naš kreativni sustav se nikada ne zatvara i ne odustaje.</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On nam neprekidno, na svoj način, pokušava pomoći  da se bolje nosimo sa našom frustriranošću, usamljenošću ili nečim drugim što želimo, dodajući kreativnost ponašanju koje već imamo ili, povremeno, stvarajući potpuno novo ponašanje, koje bi u danoj situaciji moglo biti djelotvornije.</a:t>
            </a:r>
            <a:endParaRPr b="0" lang="en-US" sz="2400" spc="-1" strike="noStrike">
              <a:solidFill>
                <a:srgbClr val="ffffff"/>
              </a:solidFill>
              <a:latin typeface="Tahoma"/>
            </a:endParaRPr>
          </a:p>
        </p:txBody>
      </p:sp>
      <p:pic>
        <p:nvPicPr>
          <p:cNvPr id="150" name="Picture 4" descr="imagesCASXBR6J"/>
          <p:cNvPicPr/>
          <p:nvPr/>
        </p:nvPicPr>
        <p:blipFill>
          <a:blip r:embed="rId1"/>
          <a:stretch/>
        </p:blipFill>
        <p:spPr>
          <a:xfrm>
            <a:off x="5148360" y="1052640"/>
            <a:ext cx="2981160" cy="403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ahoma"/>
              </a:rPr>
              <a:t>Na kraju – </a:t>
            </a:r>
            <a:br>
              <a:rPr sz="4400"/>
            </a:br>
            <a:r>
              <a:rPr b="0" lang="hr-HR" sz="4400" spc="-1" strike="noStrike">
                <a:solidFill>
                  <a:srgbClr val="ffffff"/>
                </a:solidFill>
                <a:latin typeface="Tahoma"/>
              </a:rPr>
              <a:t>Što je potrebno zapamtiti?</a:t>
            </a:r>
            <a:endParaRPr b="0" lang="en-US" sz="4400" spc="-1" strike="noStrike">
              <a:solidFill>
                <a:srgbClr val="ffffff"/>
              </a:solidFill>
              <a:latin typeface="Tahoma"/>
            </a:endParaRPr>
          </a:p>
        </p:txBody>
      </p:sp>
      <p:sp>
        <p:nvSpPr>
          <p:cNvPr id="152" name=""/>
          <p:cNvSpPr txBox="1"/>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i dajemo samo informaciju. Koliko će ona pasti na plodno tlo ovisi o drugom čovjeku  nikako o nam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otivirati učenike za učenje  možemo jedino kroz stvaranje  kvalitetnih odnosa sa njim</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še sličice u glavi možemo mijenjati jer samo tako izbjegavamo frustraciju</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e možemo mijenjati druge nego samo seb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ažno je znati da svatko od nas ima kreativan sustav koji nam pomaže suočavati se sa novim situacij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57120" y="-214200"/>
            <a:ext cx="8229600" cy="4114800"/>
          </a:xfrm>
          <a:prstGeom prst="rect">
            <a:avLst/>
          </a:prstGeom>
          <a:noFill/>
          <a:ln w="0">
            <a:noFill/>
          </a:ln>
        </p:spPr>
        <p:txBody>
          <a:bodyPr anchor="t">
            <a:normAutofit fontScale="67000"/>
          </a:bodyPr>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96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ffffff"/>
                </a:solidFill>
                <a:latin typeface="Sylfaen"/>
              </a:rPr>
              <a:t>Sve navedeno</a:t>
            </a:r>
            <a:endParaRPr b="0" lang="en-US" sz="6000" spc="-1" strike="noStrike">
              <a:solidFill>
                <a:srgbClr val="ffffff"/>
              </a:solidFill>
              <a:latin typeface="Tahoma"/>
            </a:endParaRPr>
          </a:p>
          <a:p>
            <a:pPr marL="2296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ffffff"/>
                </a:solidFill>
                <a:latin typeface="Sylfaen"/>
              </a:rPr>
              <a:t> </a:t>
            </a:r>
            <a:r>
              <a:rPr b="0" lang="hr-HR" sz="6000" spc="-1" strike="noStrike">
                <a:solidFill>
                  <a:srgbClr val="ffffff"/>
                </a:solidFill>
                <a:latin typeface="Sylfaen"/>
              </a:rPr>
              <a:t>nam pomaže  razumjeti različitosti koje nas okružuju</a:t>
            </a:r>
            <a:endParaRPr b="0" lang="en-US" sz="6000" spc="-1" strike="noStrike">
              <a:solidFill>
                <a:srgbClr val="ffffff"/>
              </a:solidFill>
              <a:latin typeface="Tahoma"/>
            </a:endParaRPr>
          </a:p>
          <a:p>
            <a:pPr marL="2296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2296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ffffff"/>
                </a:solidFill>
                <a:latin typeface="Sylfaen"/>
              </a:rPr>
              <a:t>HVALA</a:t>
            </a:r>
            <a:endParaRPr b="0" lang="en-US" sz="6000" spc="-1" strike="noStrike">
              <a:solidFill>
                <a:srgbClr val="ffffff"/>
              </a:solidFill>
              <a:latin typeface="Tahoma"/>
            </a:endParaRPr>
          </a:p>
          <a:p>
            <a:pPr marL="2296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ahoma"/>
              </a:rPr>
              <a:t>Možemo li prenositi znanje?</a:t>
            </a:r>
            <a:endParaRPr b="0" lang="en-US" sz="4400" spc="-1" strike="noStrike">
              <a:solidFill>
                <a:srgbClr val="ffffff"/>
              </a:solidFill>
              <a:latin typeface="Tahoma"/>
            </a:endParaRPr>
          </a:p>
        </p:txBody>
      </p:sp>
      <p:sp>
        <p:nvSpPr>
          <p:cNvPr id="95" name=""/>
          <p:cNvSpPr txBox="1"/>
          <p:nvPr/>
        </p:nvSpPr>
        <p:spPr>
          <a:xfrm>
            <a:off x="395280" y="1413000"/>
            <a:ext cx="822960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E – mi ne možemo prenositi znanje !!!</a:t>
            </a:r>
            <a:endParaRPr b="0" lang="en-US" sz="2800" spc="-1" strike="noStrike">
              <a:solidFill>
                <a:srgbClr val="ffffff"/>
              </a:solidFill>
              <a:latin typeface="Tahom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Što možemo i što uistinu radimo?</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ajemo informaciju</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Što rade  naši učenici – oni koji primaju informaciju?</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ni odabiru primiti ili ne primiti  tu informaciju.</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 koji način to rade ovisi o njihovim svjetovima kvalitete. Ovisi o njihovim  kapacitetima koje imaju.</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ko stvarju svoje kapacitete?</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
                                        </p:tgtEl>
                                        <p:attrNameLst>
                                          <p:attrName>style.visibility</p:attrName>
                                        </p:attrNameLst>
                                      </p:cBhvr>
                                      <p:to>
                                        <p:strVal val="visible"/>
                                      </p:to>
                                    </p:set>
                                    <p:anim calcmode="lin" valueType="num">
                                      <p:cBhvr additive="base">
                                        <p:cTn id="21" dur="500" fill="hold"/>
                                        <p:tgtEl>
                                          <p:spTgt spid="94"/>
                                        </p:tgtEl>
                                        <p:attrNameLst>
                                          <p:attrName>ppt_x</p:attrName>
                                        </p:attrNameLst>
                                      </p:cBhvr>
                                      <p:tavLst>
                                        <p:tav tm="0">
                                          <p:val>
                                            <p:strVal val="#ppt_x"/>
                                          </p:val>
                                        </p:tav>
                                        <p:tav tm="100000">
                                          <p:val>
                                            <p:strVal val="#ppt_x"/>
                                          </p:val>
                                        </p:tav>
                                      </p:tavLst>
                                    </p:anim>
                                    <p:anim calcmode="lin" valueType="num">
                                      <p:cBhvr additive="base">
                                        <p:cTn id="2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7" dur="2000"/>
                                        <p:tgtEl>
                                          <p:spTgt spid="9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32" dur="2000"/>
                                        <p:tgtEl>
                                          <p:spTgt spid="95">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7" dur="2000"/>
                                        <p:tgtEl>
                                          <p:spTgt spid="95">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5">
                                            <p:txEl>
                                              <p:pRg st="3" end="3"/>
                                            </p:txEl>
                                          </p:spTgt>
                                        </p:tgtEl>
                                        <p:attrNameLst>
                                          <p:attrName>style.visibility</p:attrName>
                                        </p:attrNameLst>
                                      </p:cBhvr>
                                      <p:to>
                                        <p:strVal val="visible"/>
                                      </p:to>
                                    </p:set>
                                    <p:animEffect filter="box(in)" transition="in">
                                      <p:cBhvr additive="repl">
                                        <p:cTn id="42" dur="2000"/>
                                        <p:tgtEl>
                                          <p:spTgt spid="95">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5">
                                            <p:txEl>
                                              <p:pRg st="4" end="4"/>
                                            </p:txEl>
                                          </p:spTgt>
                                        </p:tgtEl>
                                        <p:attrNameLst>
                                          <p:attrName>style.visibility</p:attrName>
                                        </p:attrNameLst>
                                      </p:cBhvr>
                                      <p:to>
                                        <p:strVal val="visible"/>
                                      </p:to>
                                    </p:set>
                                    <p:anim calcmode="lin" valueType="num">
                                      <p:cBhvr additive="base">
                                        <p:cTn id="47" dur="2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95">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95">
                                            <p:txEl>
                                              <p:pRg st="5" end="5"/>
                                            </p:txEl>
                                          </p:spTgt>
                                        </p:tgtEl>
                                        <p:attrNameLst>
                                          <p:attrName>style.visibility</p:attrName>
                                        </p:attrNameLst>
                                      </p:cBhvr>
                                      <p:to>
                                        <p:strVal val="visible"/>
                                      </p:to>
                                    </p:set>
                                    <p:anim calcmode="lin" valueType="num">
                                      <p:cBhvr additive="base">
                                        <p:cTn id="51" dur="2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95">
                                            <p:txEl>
                                              <p:pRg st="6" end="6"/>
                                            </p:txEl>
                                          </p:spTgt>
                                        </p:tgtEl>
                                        <p:attrNameLst>
                                          <p:attrName>style.visibility</p:attrName>
                                        </p:attrNameLst>
                                      </p:cBhvr>
                                      <p:to>
                                        <p:strVal val="visible"/>
                                      </p:to>
                                    </p:set>
                                    <p:animEffect filter="box(in)" transition="in">
                                      <p:cBhvr additive="repl">
                                        <p:cTn id="57" dur="20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Sylfaen"/>
              </a:rPr>
              <a:t>PERCEPCIJA</a:t>
            </a:r>
            <a:endParaRPr b="0" lang="en-US" sz="4400" spc="-1" strike="noStrike">
              <a:solidFill>
                <a:srgbClr val="ffffff"/>
              </a:solidFill>
              <a:latin typeface="Tahoma"/>
            </a:endParaRPr>
          </a:p>
        </p:txBody>
      </p:sp>
      <p:sp>
        <p:nvSpPr>
          <p:cNvPr id="97" name="PlaceHolder 2"/>
          <p:cNvSpPr>
            <a:spLocks noGrp="1"/>
          </p:cNvSpPr>
          <p:nvPr>
            <p:ph/>
          </p:nvPr>
        </p:nvSpPr>
        <p:spPr>
          <a:xfrm>
            <a:off x="-360" y="1905120"/>
            <a:ext cx="8172360" cy="4044960"/>
          </a:xfrm>
          <a:prstGeom prst="rect">
            <a:avLst/>
          </a:prstGeom>
          <a:noFill/>
          <a:ln w="0">
            <a:noFill/>
          </a:ln>
        </p:spPr>
        <p:txBody>
          <a:bodyPr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r>
              <a:rPr b="0" lang="hr-HR" sz="3200" spc="-1" strike="noStrike">
                <a:solidFill>
                  <a:srgbClr val="ffffff"/>
                </a:solidFill>
                <a:latin typeface="Sylfaen"/>
              </a:rPr>
              <a:t>Živa bića kontaktiraju osjetilima (vizualno, auditivno, gustativno, taktilno...) s vanjskim svijetom ali i s vlastitim mozgom i tijelom</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Sylfaen"/>
              </a:rPr>
              <a:t>   </a:t>
            </a:r>
            <a:r>
              <a:rPr b="0" lang="hr-HR" sz="3200" spc="-1" strike="noStrike">
                <a:solidFill>
                  <a:srgbClr val="ffffff"/>
                </a:solidFill>
                <a:latin typeface="Sylfaen"/>
              </a:rPr>
              <a:t>Možemo  zamisliti da su sva ta osjetila ugrađena u kameru koja može snimiti sve ono što primamo našim osjetilima</a:t>
            </a:r>
            <a:endParaRPr b="0" lang="en-US" sz="3200" spc="-1" strike="noStrike">
              <a:solidFill>
                <a:srgbClr val="ffffff"/>
              </a:solidFill>
              <a:latin typeface="Tahoma"/>
            </a:endParaRPr>
          </a:p>
        </p:txBody>
      </p:sp>
      <p:pic>
        <p:nvPicPr>
          <p:cNvPr id="98" name="Picture 4" descr=""/>
          <p:cNvPicPr/>
          <p:nvPr/>
        </p:nvPicPr>
        <p:blipFill>
          <a:blip r:embed="rId1"/>
          <a:stretch/>
        </p:blipFill>
        <p:spPr>
          <a:xfrm>
            <a:off x="6877080" y="4933800"/>
            <a:ext cx="2266920" cy="1924200"/>
          </a:xfrm>
          <a:prstGeom prst="rect">
            <a:avLst/>
          </a:prstGeom>
          <a:ln w="0">
            <a:noFill/>
          </a:ln>
        </p:spPr>
      </p:pic>
      <p:pic>
        <p:nvPicPr>
          <p:cNvPr id="99" name="Picture 6" descr="ANd9GcS62-H5FUXT67awvAPIzCKgJjvPA5nljbWX8qssv72X8Xr9Rvo&amp;t=1&amp;usg=__z8qBviflP90P5p0YV18tLcN_cek=">
            <a:hlinkClick r:id="rId2"/>
          </p:cNvPr>
          <p:cNvPicPr/>
          <p:nvPr/>
        </p:nvPicPr>
        <p:blipFill>
          <a:blip r:embed="rId3"/>
          <a:stretch/>
        </p:blipFill>
        <p:spPr>
          <a:xfrm>
            <a:off x="684360" y="189000"/>
            <a:ext cx="1904760" cy="21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000" y="980640"/>
            <a:ext cx="8218440" cy="5038920"/>
          </a:xfrm>
          <a:prstGeom prst="rect">
            <a:avLst/>
          </a:prstGeom>
          <a:noFill/>
          <a:ln w="0">
            <a:noFill/>
          </a:ln>
        </p:spPr>
        <p:txBody>
          <a:bodyPr anchor="t">
            <a:normAutofit fontScale="95000"/>
          </a:bodyPr>
          <a:p>
            <a:pPr marL="325800" indent="-325800">
              <a:lnSpc>
                <a:spcPct val="8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Sličica= zamjedba (percepcija)</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Osobni album (slike u našoj glavi) je naš idealni svijet, odnosno svijet u kojem bismo voljeli živjeti i u kojem su na ovaj ili onaj način zadovoljene sve naše potrebe</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Naši albumi uvijek sadrže vrlo određene sličice onoga što će zadovoljiti naše potrebe ( sloboda, pripadanje, zabava , moć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Pohranjujemo sve ono što nas na bilo koji način zadovolja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24000" y="764640"/>
            <a:ext cx="4176720" cy="6093000"/>
          </a:xfrm>
          <a:prstGeom prst="rect">
            <a:avLst/>
          </a:prstGeom>
          <a:noFill/>
          <a:ln w="0">
            <a:noFill/>
          </a:ln>
        </p:spPr>
        <p:txBody>
          <a:bodyPr anchor="t">
            <a:normAutofit fontScale="96000"/>
          </a:bodyPr>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Kad nas slika koja se godinama nalazi u našem albumu prestane zadovoljavati na način kako bi mi željeli, potražit ćemo novu koja će nas više zadovoljavati i njome zamijeniti staru</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Mijenjajući važne slike, mijenjamo svoje život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Sylfaen"/>
              </a:rPr>
              <a:t>Npr. nastava matematike , rastavljeni roditelji, iskusni učitelji, djeca  PUP</a:t>
            </a:r>
            <a:endParaRPr b="0" lang="en-US" sz="1800" spc="-1" strike="noStrike">
              <a:solidFill>
                <a:srgbClr val="ffffff"/>
              </a:solidFill>
              <a:latin typeface="Tahoma"/>
            </a:endParaRPr>
          </a:p>
        </p:txBody>
      </p:sp>
      <p:pic>
        <p:nvPicPr>
          <p:cNvPr id="102" name="Picture 7" descr="ANd9GcSpRHq9OtrZyzJP0duCAqTXVfzIRodHx7V9DbGPCC2Kg243ugQ&amp;t=1&amp;usg=__A4ObFfQuSwbwb4JUqBCBejneDF0=">
            <a:hlinkClick r:id="rId1"/>
          </p:cNvPr>
          <p:cNvPicPr/>
          <p:nvPr/>
        </p:nvPicPr>
        <p:blipFill>
          <a:blip r:embed="rId2"/>
          <a:stretch/>
        </p:blipFill>
        <p:spPr>
          <a:xfrm>
            <a:off x="4500720" y="836640"/>
            <a:ext cx="446400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981000"/>
            <a:ext cx="4038480" cy="4114800"/>
          </a:xfrm>
          <a:prstGeom prst="rect">
            <a:avLst/>
          </a:prstGeom>
          <a:noFill/>
          <a:ln w="0">
            <a:noFill/>
          </a:ln>
        </p:spPr>
        <p:txBody>
          <a:bodyPr anchor="t">
            <a:normAutofit fontScale="81000"/>
          </a:bodyPr>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Velika je snaga naših sličica. U neprekidnom nastojanju da ih zadovoljimo, možemo ići tako daleko da počnemo izabirati ponašanja koja mogu ugroziti naš život</a:t>
            </a:r>
            <a:endParaRPr b="0" lang="en-US" sz="2800" spc="-1" strike="noStrike">
              <a:solidFill>
                <a:srgbClr val="ffffff"/>
              </a:solidFill>
              <a:latin typeface="Tahoma"/>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Pr. Anorexia nervosa, alkoholizam, agresivnost</a:t>
            </a:r>
            <a:endParaRPr b="0" lang="en-US" sz="2800" spc="-1" strike="noStrike">
              <a:solidFill>
                <a:srgbClr val="ffffff"/>
              </a:solidFill>
              <a:latin typeface="Tahoma"/>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    </a:t>
            </a:r>
            <a:r>
              <a:rPr b="0" lang="hr-HR" sz="2800" spc="-1" strike="noStrike">
                <a:solidFill>
                  <a:srgbClr val="ffffff"/>
                </a:solidFill>
                <a:latin typeface="Sylfaen"/>
              </a:rPr>
              <a:t>suicidnost….</a:t>
            </a:r>
            <a:endParaRPr b="0" lang="en-US" sz="2800" spc="-1" strike="noStrike">
              <a:solidFill>
                <a:srgbClr val="ffffff"/>
              </a:solidFill>
              <a:latin typeface="Tahoma"/>
            </a:endParaRPr>
          </a:p>
        </p:txBody>
      </p:sp>
      <p:pic>
        <p:nvPicPr>
          <p:cNvPr id="104" name="Picture 5" descr="ANd9GcScbWCRGAgbp_wG3cQuko4PSLcl_H-t5Fe0PmqbS9ATOyQRD7k&amp;t=1&amp;usg=__-LqOrghpKIOMQeE2jVBajYLusKg=">
            <a:hlinkClick r:id="rId1"/>
          </p:cNvPr>
          <p:cNvPicPr/>
          <p:nvPr/>
        </p:nvPicPr>
        <p:blipFill>
          <a:blip r:embed="rId2"/>
          <a:stretch/>
        </p:blipFill>
        <p:spPr>
          <a:xfrm>
            <a:off x="4859280" y="692280"/>
            <a:ext cx="3816360" cy="2162160"/>
          </a:xfrm>
          <a:prstGeom prst="rect">
            <a:avLst/>
          </a:prstGeom>
          <a:ln w="0">
            <a:noFill/>
          </a:ln>
        </p:spPr>
      </p:pic>
      <p:pic>
        <p:nvPicPr>
          <p:cNvPr id="105" name="Picture 7" descr="ANd9GcRFCbc4B0g4R_pq87Yu5dxcvT_ViQk_TqcbBtRPc2ykixdS9wc&amp;t=1&amp;usg=__SjiWwlqgM4zIsLBx2cdsG_1BON4=">
            <a:hlinkClick r:id="rId3"/>
          </p:cNvPr>
          <p:cNvPicPr/>
          <p:nvPr/>
        </p:nvPicPr>
        <p:blipFill>
          <a:blip r:embed="rId4"/>
          <a:stretch/>
        </p:blipFill>
        <p:spPr>
          <a:xfrm>
            <a:off x="5508720" y="386064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Sylfaen"/>
              </a:rPr>
              <a:t>FILTERI</a:t>
            </a:r>
            <a:endParaRPr b="0" lang="en-US" sz="4400" spc="-1" strike="noStrike">
              <a:solidFill>
                <a:srgbClr val="ffffff"/>
              </a:solidFill>
              <a:latin typeface="Tahoma"/>
            </a:endParaRPr>
          </a:p>
        </p:txBody>
      </p:sp>
      <p:sp>
        <p:nvSpPr>
          <p:cNvPr id="107" name="PlaceHolder 2"/>
          <p:cNvSpPr>
            <a:spLocks noGrp="1"/>
          </p:cNvSpPr>
          <p:nvPr>
            <p:ph/>
          </p:nvPr>
        </p:nvSpPr>
        <p:spPr>
          <a:xfrm>
            <a:off x="468360" y="1484280"/>
            <a:ext cx="4038480" cy="4114800"/>
          </a:xfrm>
          <a:prstGeom prst="rect">
            <a:avLst/>
          </a:prstGeom>
          <a:noFill/>
          <a:ln w="0">
            <a:noFill/>
          </a:ln>
        </p:spPr>
        <p:txBody>
          <a:bodyPr anchor="t">
            <a:normAutofit fontScale="87000"/>
          </a:bodyPr>
          <a:p>
            <a:pPr marL="529920" indent="-529920">
              <a:lnSpc>
                <a:spcPct val="100000"/>
              </a:lnSpc>
              <a:spcBef>
                <a:spcPts val="700"/>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U pozadini naših osjetilnih kamera svi mi imamo:</a:t>
            </a:r>
            <a:endParaRPr b="0" lang="en-US" sz="2800" spc="-1" strike="noStrike">
              <a:solidFill>
                <a:srgbClr val="ffffff"/>
              </a:solidFill>
              <a:latin typeface="Tahoma"/>
            </a:endParaRPr>
          </a:p>
          <a:p>
            <a:pPr marL="529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29920" indent="-529920">
              <a:lnSpc>
                <a:spcPct val="100000"/>
              </a:lnSpc>
              <a:spcBef>
                <a:spcPts val="700"/>
              </a:spcBef>
              <a:buClr>
                <a:srgbClr val="ffcc00"/>
              </a:buClr>
              <a:buSzPct val="12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Sylfaen"/>
              </a:rPr>
              <a:t>Filteri vlastitih vrijednosti (ukupnog znanja)</a:t>
            </a:r>
            <a:endParaRPr b="0" lang="en-US" sz="2800" spc="-1" strike="noStrike">
              <a:solidFill>
                <a:srgbClr val="ffffff"/>
              </a:solidFill>
              <a:latin typeface="Tahoma"/>
            </a:endParaRPr>
          </a:p>
          <a:p>
            <a:pPr marL="529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29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cc00"/>
                </a:solidFill>
                <a:latin typeface="Sylfaen"/>
              </a:rPr>
              <a:t>2.  </a:t>
            </a:r>
            <a:r>
              <a:rPr b="0" lang="hr-HR" sz="2800" spc="-1" strike="noStrike">
                <a:solidFill>
                  <a:srgbClr val="ffffff"/>
                </a:solidFill>
                <a:latin typeface="Sylfaen"/>
              </a:rPr>
              <a:t>Filtere sustava vrijednosti</a:t>
            </a:r>
            <a:endParaRPr b="0" lang="en-US" sz="2800" spc="-1" strike="noStrike">
              <a:solidFill>
                <a:srgbClr val="ffffff"/>
              </a:solidFill>
              <a:latin typeface="Tahoma"/>
            </a:endParaRPr>
          </a:p>
          <a:p>
            <a:pPr marL="529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ANd9GcQDOgKv_2HJCv8GqX0CbKQ134ElPRpDf4llhIGGXtjULbbyhj0&amp;t=1&amp;usg=__xztrlmdpxrIvWVjTlZG7pCG9Ous=">
            <a:hlinkClick r:id="rId1"/>
          </p:cNvPr>
          <p:cNvPicPr/>
          <p:nvPr/>
        </p:nvPicPr>
        <p:blipFill>
          <a:blip r:embed="rId2"/>
          <a:stretch/>
        </p:blipFill>
        <p:spPr>
          <a:xfrm>
            <a:off x="4643280" y="2060640"/>
            <a:ext cx="4105440" cy="3529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08"/>
                                        </p:tgtEl>
                                        <p:attrNameLst>
                                          <p:attrName>style.visibility</p:attrName>
                                        </p:attrNameLst>
                                      </p:cBhvr>
                                      <p:to>
                                        <p:strVal val="visible"/>
                                      </p:to>
                                    </p:set>
                                    <p:animEffect filter="diamond(in)" transition="in">
                                      <p:cBhvr additive="repl">
                                        <p:cTn id="64"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Sylfaen"/>
              </a:rPr>
              <a:t>1. Filteri vlastitih vrijednosti</a:t>
            </a:r>
            <a:endParaRPr b="0" lang="en-US" sz="4400" spc="-1" strike="noStrike">
              <a:solidFill>
                <a:srgbClr val="ffffff"/>
              </a:solidFill>
              <a:latin typeface="Tahoma"/>
            </a:endParaRPr>
          </a:p>
        </p:txBody>
      </p:sp>
      <p:sp>
        <p:nvSpPr>
          <p:cNvPr id="110" name="PlaceHolder 2"/>
          <p:cNvSpPr>
            <a:spLocks noGrp="1"/>
          </p:cNvSpPr>
          <p:nvPr>
            <p:ph/>
          </p:nvPr>
        </p:nvSpPr>
        <p:spPr>
          <a:xfrm>
            <a:off x="323640" y="1557000"/>
            <a:ext cx="4608360" cy="5040360"/>
          </a:xfrm>
          <a:prstGeom prst="rect">
            <a:avLst/>
          </a:prstGeom>
          <a:noFill/>
          <a:ln w="0">
            <a:noFill/>
          </a:ln>
        </p:spPr>
        <p:txBody>
          <a:bodyPr anchor="t">
            <a:normAutofit fontScale="93000"/>
          </a:bodyPr>
          <a:p>
            <a:pPr marL="318960" indent="-31896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Sylfaen"/>
              </a:rPr>
              <a:t>“</a:t>
            </a:r>
            <a:r>
              <a:rPr b="1" lang="hr-HR" sz="2400" spc="-1" strike="noStrike">
                <a:solidFill>
                  <a:srgbClr val="ffffff"/>
                </a:solidFill>
                <a:latin typeface="Sylfaen"/>
              </a:rPr>
              <a:t>Ljepota je u očima promatrača”,</a:t>
            </a:r>
            <a:r>
              <a:rPr b="0" lang="hr-HR" sz="2400" spc="-1" strike="noStrike">
                <a:solidFill>
                  <a:srgbClr val="ffffff"/>
                </a:solidFill>
                <a:latin typeface="Sylfaen"/>
              </a:rPr>
              <a:t> a tako isto i ružnoća, genijalnost, podlost...</a:t>
            </a:r>
            <a:endParaRPr b="0" lang="en-US" sz="2400" spc="-1" strike="noStrike">
              <a:solidFill>
                <a:srgbClr val="ffffff"/>
              </a:solidFill>
              <a:latin typeface="Tahoma"/>
            </a:endParaRPr>
          </a:p>
          <a:p>
            <a:pPr marL="318960" indent="-31896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Sve naše vrijednosti, dobre ili loše, dolaze iz nas samih. Mi dajemo povjerenje ljudima koji nas okružuju ( prijateljima , učiteljima….)</a:t>
            </a:r>
            <a:endParaRPr b="0" lang="en-US" sz="2400" spc="-1" strike="noStrike">
              <a:solidFill>
                <a:srgbClr val="ffffff"/>
              </a:solidFill>
              <a:latin typeface="Tahoma"/>
            </a:endParaRPr>
          </a:p>
          <a:p>
            <a:pPr marL="318960" indent="-318960">
              <a:lnSpc>
                <a:spcPct val="100000"/>
              </a:lnSpc>
              <a:spcBef>
                <a:spcPts val="60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Sylfaen"/>
              </a:rPr>
              <a:t>U stvarnom svijetu, gdje sve postoji, nema nikakvih vrijednosti, nema određenja bilo koje vrste.</a:t>
            </a:r>
            <a:endParaRPr b="0" lang="en-US" sz="2400" spc="-1" strike="noStrike">
              <a:solidFill>
                <a:srgbClr val="ffffff"/>
              </a:solidFill>
              <a:latin typeface="Tahoma"/>
            </a:endParaRPr>
          </a:p>
          <a:p>
            <a:pPr marL="318960" indent="-318960">
              <a:lnSpc>
                <a:spcPct val="100000"/>
              </a:lnSpc>
              <a:spcBef>
                <a:spcPts val="451"/>
              </a:spcBef>
              <a:buClr>
                <a:srgbClr val="ffcc00"/>
              </a:buClr>
              <a:buSzPct val="12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Sylfaen"/>
              </a:rPr>
              <a:t>Npr. netko voli matematiku, a nekome je ona noćna mora….</a:t>
            </a:r>
            <a:endParaRPr b="0" lang="en-US" sz="1800" spc="-1" strike="noStrike">
              <a:solidFill>
                <a:srgbClr val="ffffff"/>
              </a:solidFill>
              <a:latin typeface="Tahoma"/>
            </a:endParaRPr>
          </a:p>
        </p:txBody>
      </p:sp>
      <p:pic>
        <p:nvPicPr>
          <p:cNvPr id="111" name="Picture 5" descr="ANd9GcRhBAcMOioAC6GYM7aCTIrtx8YFzzgKShf9h6glwvtSftSDmpw&amp;t=1&amp;usg=__IUpgEVqoD1cU9bGoYZIpRbClnx0=">
            <a:hlinkClick r:id="rId1"/>
          </p:cNvPr>
          <p:cNvPicPr/>
          <p:nvPr/>
        </p:nvPicPr>
        <p:blipFill>
          <a:blip r:embed="rId2"/>
          <a:stretch/>
        </p:blipFill>
        <p:spPr>
          <a:xfrm>
            <a:off x="5651640" y="1484280"/>
            <a:ext cx="2089080" cy="2286000"/>
          </a:xfrm>
          <a:prstGeom prst="rect">
            <a:avLst/>
          </a:prstGeom>
          <a:ln w="0">
            <a:noFill/>
          </a:ln>
        </p:spPr>
      </p:pic>
      <p:pic>
        <p:nvPicPr>
          <p:cNvPr id="112" name="Picture 7" descr="ANd9GcQnJG4z5sHClJU5rZmAlilYyugdMR_ZYyPfGATRzzJafybnUg8&amp;t=1&amp;usg=__atF0n2mGN9eD7ROYgR2W3kBhEGE=">
            <a:hlinkClick r:id="rId3"/>
          </p:cNvPr>
          <p:cNvPicPr/>
          <p:nvPr/>
        </p:nvPicPr>
        <p:blipFill>
          <a:blip r:embed="rId4"/>
          <a:stretch/>
        </p:blipFill>
        <p:spPr>
          <a:xfrm>
            <a:off x="5292720" y="4076640"/>
            <a:ext cx="280836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6:40:08Z</dcterms:created>
  <dc:creator>massimo</dc:creator>
  <dc:description/>
  <dc:language>en-US</dc:language>
  <cp:lastModifiedBy>akovac</cp:lastModifiedBy>
  <dcterms:modified xsi:type="dcterms:W3CDTF">2012-08-31T09:34:25Z</dcterms:modified>
  <cp:revision>111</cp:revision>
  <dc:subject/>
  <dc:title>PERCEPCIJA, FRUSTRACIJE I KREATIVNOST</dc:title>
</cp:coreProperties>
</file>