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3.wmf" ContentType="image/x-wmf"/>
  <Override PartName="/ppt/media/image26.wmf" ContentType="image/x-wmf"/>
  <Override PartName="/ppt/media/image27.wmf" ContentType="image/x-wmf"/>
  <Override PartName="/ppt/media/image15.wmf" ContentType="image/x-wmf"/>
  <Override PartName="/ppt/media/image2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186A-8F74-46E6-8738-AEF604D9C81A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67FE-F491-4851-AB52-A60D2FE9722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B66F-3DC2-4099-9144-81546DD8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7C8-8422-46D5-B99E-D3CD1A8E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A2B-D1EC-48D0-927F-1C5161E4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2ACA-8C29-4C33-AC2D-C9AFD074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7CF05-4643-4780-952E-9A7C0DB620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332B2-890B-4719-AC83-3281CCC6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41F34-916F-41E7-B9F9-E326F9BC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AE100-1229-435B-B058-0A242AFB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D7CC6-72EE-4843-952F-BAA47D6C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5094E-9C39-4795-832C-5F43C789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34921-4839-4C34-9E8E-3D5BAD21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621-CA71-4AE5-BFA0-0F735ACA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F1E7A-589B-422B-A865-319594FC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6A84C-C4DC-40FE-B7E2-BD4ABBFB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8704E-A7A9-485A-BDA4-C4A9CAC7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FDC82-6EEC-40AD-9E07-1EB6D4A8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379BE-E131-4BF9-B091-3DF460B153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FEDE8-E046-4FC7-9583-898043A7D7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0A5F04-77B9-4928-9905-2E7BE045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8FD895-AC07-4A17-B188-AA5D2251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0F2919-7007-425D-9D2A-61C62773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CC687-68CB-421E-87D9-D1FA918B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BE0-C60B-4AAC-B261-0B3016D2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DF0B1-5CC1-48D6-BD45-B85D8BC3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269384-53B9-413B-9F62-D4B4E0F5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8500DE-E3C1-4E2E-AB54-A4EB3F0C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52D05C-707A-49C9-8B33-60EA7C33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7CBBCA-EEA7-499D-B7CD-8799D413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737203-FAD2-488D-AC63-2EF983D4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66A0C5-38E1-49E3-B2DC-49B0338EEC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BF32E-488F-4D64-9B12-6B4B88D850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0B6E0-BAE8-4BB0-A23F-A848F4BB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06FEF-FC19-405F-874F-026E133D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95E-A878-42CB-B690-E6C7773B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C9DA-CDED-4916-AF79-5AB5683B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27EC-4D33-4D12-9B8D-69E7983C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DE06-AB4E-4005-A88B-F309DA39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9303D-53F3-410E-A107-1698607D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67A14-960B-43A6-ACAA-770EEC09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E7B84-7261-4C5B-A5A3-2CCF9750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1CC3C-3113-45F9-98BE-5EB060F6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EE87B-B9CE-44BA-9BB6-1F208B10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9EC44-7758-4721-AFB6-9811D5B3E5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E48-6A2B-4A47-83B6-C56EE643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1FD-DE03-4472-981A-F6B7C533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F65-281A-451B-A358-66E089F9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0EA-FC62-4275-AADE-B2E46E17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86E-5443-44E0-A8BD-657E803D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8821-BAAC-4C3D-B4D0-1C772479C8D6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390C-2F82-4970-A53F-0248B5988022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E75A-C384-4A5B-9F71-86C38CB75EA8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2491-2327-4DCD-9986-E87C5BB811B1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4%20konstrukcije%20pravlinog%20peterokuta-stranica.ggb" TargetMode="Externa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4%20konstrukcije%20pravlinog%20peterokuta-upisana.ggb" TargetMode="Externa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4%20konstrukcije%20pravlinog%20peterokuta-opisana.ggb" TargetMode="Externa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1413000"/>
            <a:ext cx="9144000" cy="20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66cc"/>
                </a:solidFill>
                <a:latin typeface="Calibri"/>
              </a:rPr>
              <a:t>Zašto je pentagram (i) simbol ljubav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kstniOkvir 5"/>
          <p:cNvSpPr/>
          <p:nvPr/>
        </p:nvSpPr>
        <p:spPr>
          <a:xfrm>
            <a:off x="6084720" y="5732640"/>
            <a:ext cx="30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drag Brkić, prof.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Š Poreč</a:t>
            </a:r>
            <a:br>
              <a:rPr sz="1800"/>
            </a:br>
            <a:r>
              <a:rPr b="0" i="1" lang="hr-HR" sz="1800" spc="-1" strike="noStrike">
                <a:solidFill>
                  <a:srgbClr val="0000ff"/>
                </a:solidFill>
                <a:latin typeface="Arial"/>
              </a:rPr>
              <a:t>predrag.brkic@pu.htnet.h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kstniOkvir 5"/>
          <p:cNvSpPr/>
          <p:nvPr/>
        </p:nvSpPr>
        <p:spPr>
          <a:xfrm>
            <a:off x="-84960" y="6027840"/>
            <a:ext cx="376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jeka, 26./27. lipnja 2012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zervirano mjesto broja slajda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F4DD-02E5-4772-8C02-8C68D898417E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avokutnik 3"/>
          <p:cNvSpPr/>
          <p:nvPr/>
        </p:nvSpPr>
        <p:spPr>
          <a:xfrm>
            <a:off x="0" y="28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Arial"/>
              </a:rPr>
              <a:t>Kako poredati 10 učenika u 5 redova, tako da u svakom retku budu po 4 učenika i da je razmak među njima pravi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0" y="-360"/>
            <a:ext cx="3960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-2a</a:t>
            </a:r>
            <a:r>
              <a:rPr b="0" i="1" lang="hr-HR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d - a</a:t>
            </a:r>
            <a:r>
              <a:rPr b="0" i="1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=0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3924360" y="5300640"/>
                <a:ext cx="20955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3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6"/>
              <p:cNvSpPr txBox="1"/>
              <p:nvPr/>
            </p:nvSpPr>
            <p:spPr>
              <a:xfrm>
                <a:off x="7020000" y="5157720"/>
                <a:ext cx="18511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Rectangle 8"/>
          <p:cNvSpPr/>
          <p:nvPr/>
        </p:nvSpPr>
        <p:spPr>
          <a:xfrm>
            <a:off x="252720" y="558972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d=-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9"/>
              <p:cNvSpPr txBox="1"/>
              <p:nvPr/>
            </p:nvSpPr>
            <p:spPr>
              <a:xfrm>
                <a:off x="3492360" y="549360"/>
                <a:ext cx="8812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Rectangle 10"/>
          <p:cNvSpPr/>
          <p:nvPr/>
        </p:nvSpPr>
        <p:spPr>
          <a:xfrm>
            <a:off x="395280" y="16304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hr-HR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- 2t - 1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470520" y="4075560"/>
            <a:ext cx="25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(t +1)( t</a:t>
            </a:r>
            <a:r>
              <a:rPr b="0" i="1" lang="hr-H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- t - 1)=0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250920" y="7639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Supstituci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1"/>
          <p:cNvSpPr/>
          <p:nvPr/>
        </p:nvSpPr>
        <p:spPr>
          <a:xfrm>
            <a:off x="225000" y="2277360"/>
            <a:ext cx="36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hr-HR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i="1" lang="hr-HR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– t + t</a:t>
            </a:r>
            <a:r>
              <a:rPr b="0" i="1" lang="hr-HR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– t – 1=0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jeva vitičasta zagrada 12"/>
          <p:cNvSpPr/>
          <p:nvPr/>
        </p:nvSpPr>
        <p:spPr>
          <a:xfrm rot="16200000">
            <a:off x="6121440" y="3392280"/>
            <a:ext cx="357120" cy="1151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151280"/>
              <a:gd name="textAreaBottom" fmla="*/ 114228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0"/>
                  <a:pt x="10800" y="560"/>
                </a:cubicBezTo>
                <a:lnTo>
                  <a:pt x="10800" y="10240"/>
                </a:lnTo>
                <a:cubicBezTo>
                  <a:pt x="10800" y="10520"/>
                  <a:pt x="5400" y="10800"/>
                  <a:pt x="0" y="10800"/>
                </a:cubicBezTo>
                <a:cubicBezTo>
                  <a:pt x="5400" y="10800"/>
                  <a:pt x="10800" y="11080"/>
                  <a:pt x="10800" y="11360"/>
                </a:cubicBezTo>
                <a:lnTo>
                  <a:pt x="10800" y="21040"/>
                </a:lnTo>
                <a:cubicBezTo>
                  <a:pt x="10800" y="213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jeva vitičasta zagrada 13"/>
          <p:cNvSpPr/>
          <p:nvPr/>
        </p:nvSpPr>
        <p:spPr>
          <a:xfrm rot="16200000">
            <a:off x="757080" y="2130120"/>
            <a:ext cx="357120" cy="1513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360 h 1513080"/>
              <a:gd name="textAreaBottom" fmla="*/ 15037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4"/>
                  <a:pt x="10800" y="427"/>
                </a:cubicBezTo>
                <a:lnTo>
                  <a:pt x="10800" y="10373"/>
                </a:lnTo>
                <a:cubicBezTo>
                  <a:pt x="10800" y="10587"/>
                  <a:pt x="5400" y="10800"/>
                  <a:pt x="0" y="10800"/>
                </a:cubicBezTo>
                <a:cubicBezTo>
                  <a:pt x="5400" y="10800"/>
                  <a:pt x="10800" y="11014"/>
                  <a:pt x="10800" y="11227"/>
                </a:cubicBezTo>
                <a:lnTo>
                  <a:pt x="10800" y="21173"/>
                </a:lnTo>
                <a:cubicBezTo>
                  <a:pt x="10800" y="2138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199440" y="3285000"/>
            <a:ext cx="36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t ( t</a:t>
            </a:r>
            <a:r>
              <a:rPr b="0" i="1" lang="hr-H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- t - 1) + ( t</a:t>
            </a:r>
            <a:r>
              <a:rPr b="0" i="1" lang="hr-H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- t - 1)  =0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ravokutnik 15"/>
          <p:cNvSpPr/>
          <p:nvPr/>
        </p:nvSpPr>
        <p:spPr>
          <a:xfrm>
            <a:off x="5651640" y="2708280"/>
            <a:ext cx="16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hr-H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- t – 1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6"/>
              <p:cNvSpPr txBox="1"/>
              <p:nvPr/>
            </p:nvSpPr>
            <p:spPr>
              <a:xfrm>
                <a:off x="5734080" y="3141720"/>
                <a:ext cx="20779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17"/>
              <p:cNvSpPr txBox="1"/>
              <p:nvPr/>
            </p:nvSpPr>
            <p:spPr>
              <a:xfrm>
                <a:off x="5751360" y="4154400"/>
                <a:ext cx="15922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Lijeva vitičasta zagrada 19"/>
          <p:cNvSpPr/>
          <p:nvPr/>
        </p:nvSpPr>
        <p:spPr>
          <a:xfrm rot="16200000">
            <a:off x="2485080" y="2130840"/>
            <a:ext cx="357120" cy="151164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511640"/>
              <a:gd name="textAreaBottom" fmla="*/ 1502640 h 15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4"/>
                  <a:pt x="10800" y="427"/>
                </a:cubicBezTo>
                <a:lnTo>
                  <a:pt x="10800" y="10373"/>
                </a:lnTo>
                <a:cubicBezTo>
                  <a:pt x="10800" y="10587"/>
                  <a:pt x="5400" y="10800"/>
                  <a:pt x="0" y="10800"/>
                </a:cubicBezTo>
                <a:cubicBezTo>
                  <a:pt x="5400" y="10800"/>
                  <a:pt x="10800" y="11014"/>
                  <a:pt x="10800" y="11227"/>
                </a:cubicBezTo>
                <a:lnTo>
                  <a:pt x="10800" y="21173"/>
                </a:lnTo>
                <a:cubicBezTo>
                  <a:pt x="10800" y="2138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Ravni poveznik sa strelicom 22"/>
          <p:cNvCxnSpPr>
            <a:endCxn id="305" idx="0"/>
          </p:cNvCxnSpPr>
          <p:nvPr/>
        </p:nvCxnSpPr>
        <p:spPr>
          <a:xfrm flipH="1">
            <a:off x="651600" y="4581000"/>
            <a:ext cx="17532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9" name="Ravni poveznik sa strelicom 24"/>
          <p:cNvCxnSpPr/>
          <p:nvPr/>
        </p:nvCxnSpPr>
        <p:spPr>
          <a:xfrm>
            <a:off x="1979280" y="4508640"/>
            <a:ext cx="2592720" cy="7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0" name="Rezervirano mjesto broja slajda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73E8-7E67-432C-951B-2155579181AB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zervirano mjesto podnožja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2" dur="1" fill="hold"/>
                                  <p:tgtEl>
                                    <p:spTgt spid="3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  <p:animClr clrSpc="rgb">
                                <p:cBhvr>
                                  <p:cTn id="583" dur="1" fill="hold"/>
                                  <p:tgtEl>
                                    <p:spTgt spid="3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(II</a:t>
            </a:r>
            <a:r>
              <a:rPr b="1" lang="hr-HR" sz="36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) Zadatak:</a:t>
            </a:r>
            <a:br>
              <a:rPr sz="25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a) Dopuniti tablicu relacijama koje vrijede u pravilnom peterokutu  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ako znaš da j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15" descr=""/>
          <p:cNvPicPr/>
          <p:nvPr/>
        </p:nvPicPr>
        <p:blipFill>
          <a:blip r:embed="rId1"/>
          <a:stretch/>
        </p:blipFill>
        <p:spPr>
          <a:xfrm>
            <a:off x="2828880" y="2475000"/>
            <a:ext cx="1771560" cy="6285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4" descr=""/>
          <p:cNvPicPr/>
          <p:nvPr/>
        </p:nvPicPr>
        <p:blipFill>
          <a:blip r:embed="rId2"/>
          <a:stretch/>
        </p:blipFill>
        <p:spPr>
          <a:xfrm>
            <a:off x="4873680" y="2494080"/>
            <a:ext cx="1533600" cy="514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"/>
          <p:cNvPicPr/>
          <p:nvPr/>
        </p:nvPicPr>
        <p:blipFill>
          <a:blip r:embed="rId3"/>
          <a:stretch/>
        </p:blipFill>
        <p:spPr>
          <a:xfrm>
            <a:off x="7023240" y="2522520"/>
            <a:ext cx="1685880" cy="504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"/>
          <p:cNvPicPr/>
          <p:nvPr/>
        </p:nvPicPr>
        <p:blipFill>
          <a:blip r:embed="rId4"/>
          <a:stretch/>
        </p:blipFill>
        <p:spPr>
          <a:xfrm>
            <a:off x="717480" y="3111480"/>
            <a:ext cx="1524240" cy="542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"/>
          <p:cNvPicPr/>
          <p:nvPr/>
        </p:nvPicPr>
        <p:blipFill>
          <a:blip r:embed="rId5"/>
          <a:stretch/>
        </p:blipFill>
        <p:spPr>
          <a:xfrm>
            <a:off x="4892760" y="3149640"/>
            <a:ext cx="1609560" cy="542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6"/>
          <a:stretch/>
        </p:blipFill>
        <p:spPr>
          <a:xfrm>
            <a:off x="6927840" y="3139920"/>
            <a:ext cx="1685880" cy="505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"/>
          <p:cNvPicPr/>
          <p:nvPr/>
        </p:nvPicPr>
        <p:blipFill>
          <a:blip r:embed="rId7"/>
          <a:stretch/>
        </p:blipFill>
        <p:spPr>
          <a:xfrm>
            <a:off x="717480" y="3747960"/>
            <a:ext cx="1695600" cy="542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"/>
          <p:cNvPicPr/>
          <p:nvPr/>
        </p:nvPicPr>
        <p:blipFill>
          <a:blip r:embed="rId8"/>
          <a:stretch/>
        </p:blipFill>
        <p:spPr>
          <a:xfrm>
            <a:off x="2762280" y="3747960"/>
            <a:ext cx="1695600" cy="542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"/>
          <p:cNvPicPr/>
          <p:nvPr/>
        </p:nvPicPr>
        <p:blipFill>
          <a:blip r:embed="rId9"/>
          <a:stretch/>
        </p:blipFill>
        <p:spPr>
          <a:xfrm>
            <a:off x="6985080" y="3824280"/>
            <a:ext cx="1657440" cy="504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10"/>
          <a:stretch/>
        </p:blipFill>
        <p:spPr>
          <a:xfrm>
            <a:off x="717480" y="4384800"/>
            <a:ext cx="1724040" cy="542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"/>
          <p:cNvPicPr/>
          <p:nvPr/>
        </p:nvPicPr>
        <p:blipFill>
          <a:blip r:embed="rId11"/>
          <a:stretch/>
        </p:blipFill>
        <p:spPr>
          <a:xfrm>
            <a:off x="2762280" y="4384800"/>
            <a:ext cx="1704960" cy="542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12"/>
          <a:stretch/>
        </p:blipFill>
        <p:spPr>
          <a:xfrm>
            <a:off x="4807080" y="4384800"/>
            <a:ext cx="1514520" cy="54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5" name=""/>
          <p:cNvGraphicFramePr/>
          <p:nvPr/>
        </p:nvGraphicFramePr>
        <p:xfrm>
          <a:off x="179280" y="1773360"/>
          <a:ext cx="8648640" cy="3247920"/>
        </p:xfrm>
        <a:graphic>
          <a:graphicData uri="http://schemas.openxmlformats.org/drawingml/2006/table">
            <a:tbl>
              <a:tblPr/>
              <a:tblGrid>
                <a:gridCol w="470160"/>
                <a:gridCol w="2044440"/>
                <a:gridCol w="2044800"/>
                <a:gridCol w="2044800"/>
                <a:gridCol w="2044440"/>
              </a:tblGrid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radijus opisane kružni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ρ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radijus upisane kružni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Pravokutnik 52"/>
          <p:cNvSpPr/>
          <p:nvPr/>
        </p:nvSpPr>
        <p:spPr>
          <a:xfrm>
            <a:off x="0" y="5805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b) Za svaku od navedenih relacija u pravilnom peterokutu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osmisliti geometrijsku konstruk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2340000" y="817560"/>
                <a:ext cx="16351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8" name="Rezervirano mjesto broja slajda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AA7C-0FA1-4CFF-9CCF-802964ABD92B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zervirano mjesto podnožja 1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II</a:t>
            </a:r>
            <a:r>
              <a:rPr b="1" lang="hr-HR" sz="3600" spc="-1" strike="noStrike" baseline="-25000">
                <a:solidFill>
                  <a:srgbClr val="0000ff"/>
                </a:solidFill>
                <a:latin typeface="Calibri"/>
              </a:rPr>
              <a:t>3</a:t>
            </a: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 Zlatni omjeri u pravilnom peterokutu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14"/>
          <p:cNvGrpSpPr/>
          <p:nvPr/>
        </p:nvGrpSpPr>
        <p:grpSpPr>
          <a:xfrm>
            <a:off x="39960" y="964440"/>
            <a:ext cx="6312600" cy="1240200"/>
            <a:chOff x="39960" y="964440"/>
            <a:chExt cx="6312600" cy="1240200"/>
          </a:xfrm>
        </p:grpSpPr>
        <mc:AlternateContent>
          <mc:Choice xmlns:a14="http://schemas.microsoft.com/office/drawing/2010/main" Requires="a14">
            <p:sp>
              <p:nvSpPr>
                <p:cNvPr id="342" name="Object 7"/>
                <p:cNvSpPr txBox="1"/>
                <p:nvPr/>
              </p:nvSpPr>
              <p:spPr>
                <a:xfrm>
                  <a:off x="641520" y="1370880"/>
                  <a:ext cx="3611520" cy="83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=</m:t>
                      </m:r>
                      <m:f>
                        <m:num>
                          <m:r>
                            <m:t xml:space="preserve">a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5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Rectangle 12"/>
            <p:cNvSpPr/>
            <p:nvPr/>
          </p:nvSpPr>
          <p:spPr>
            <a:xfrm>
              <a:off x="39960" y="964440"/>
              <a:ext cx="631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514440" indent="-514440">
                <a:buClr>
                  <a:srgbClr val="000000"/>
                </a:buClr>
                <a:buFont typeface="Arial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Arial"/>
                </a:rPr>
                <a:t>Omjer duljine </a:t>
              </a:r>
              <a:r>
                <a:rPr b="0" lang="hr-HR" sz="2400" spc="-1" strike="noStrike">
                  <a:solidFill>
                    <a:srgbClr val="d60093"/>
                  </a:solidFill>
                  <a:latin typeface="Arial"/>
                </a:rPr>
                <a:t>dijagonale</a:t>
              </a:r>
              <a:r>
                <a:rPr b="0" lang="hr-HR" sz="2400" spc="-1" strike="noStrike">
                  <a:solidFill>
                    <a:srgbClr val="000000"/>
                  </a:solidFill>
                  <a:latin typeface="Arial"/>
                </a:rPr>
                <a:t> i duljine </a:t>
              </a:r>
              <a:r>
                <a:rPr b="0" lang="hr-HR" sz="2400" spc="-1" strike="noStrike">
                  <a:solidFill>
                    <a:srgbClr val="ff0000"/>
                  </a:solidFill>
                  <a:latin typeface="Arial"/>
                </a:rPr>
                <a:t>stranice</a:t>
              </a:r>
              <a:r>
                <a:rPr b="0" lang="hr-HR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13"/>
          <p:cNvGrpSpPr/>
          <p:nvPr/>
        </p:nvGrpSpPr>
        <p:grpSpPr>
          <a:xfrm>
            <a:off x="0" y="4628160"/>
            <a:ext cx="8838720" cy="1303920"/>
            <a:chOff x="0" y="4628160"/>
            <a:chExt cx="8838720" cy="1303920"/>
          </a:xfrm>
        </p:grpSpPr>
        <mc:AlternateContent>
          <mc:Choice xmlns:a14="http://schemas.microsoft.com/office/drawing/2010/main" Requires="a14">
            <p:sp>
              <p:nvSpPr>
                <p:cNvPr id="345" name="Object 5"/>
                <p:cNvSpPr txBox="1"/>
                <p:nvPr/>
              </p:nvSpPr>
              <p:spPr>
                <a:xfrm>
                  <a:off x="297360" y="5144760"/>
                  <a:ext cx="506556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  <m:r>
                                <m:t xml:space="preserve"> </m:t>
                              </m:r>
                              <m:r>
                                <m:t xml:space="preserve">'</m:t>
                              </m:r>
                            </m:e>
                          </m:d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  <m:r>
                                <m:t xml:space="preserve"> </m:t>
                              </m:r>
                              <m:r>
                                <m:t xml:space="preserve">'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a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5</m:t>
                                  </m:r>
                                </m:e>
                              </m:rad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(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6" name="Rectangle 11"/>
            <p:cNvSpPr/>
            <p:nvPr/>
          </p:nvSpPr>
          <p:spPr>
            <a:xfrm>
              <a:off x="0" y="4628160"/>
              <a:ext cx="883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III.</a:t>
              </a:r>
              <a:r>
                <a:rPr b="0" lang="hr-H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Arial"/>
                </a:rPr>
                <a:t>Na dijagonali AD točka B’ dijeli dijagonalu u zlatnom omjer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Rectangle 9"/>
          <p:cNvSpPr/>
          <p:nvPr/>
        </p:nvSpPr>
        <p:spPr>
          <a:xfrm>
            <a:off x="0" y="2726280"/>
            <a:ext cx="572436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eterokut A’B’C’D’E’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 izračunati d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IABI=IAB’I=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AC’I=IC’E’I=</a:t>
            </a:r>
            <a:r>
              <a:rPr b="1" lang="hr-HR" sz="24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lang="hr-HR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C’B’I=IA’B’I=</a:t>
            </a:r>
            <a:r>
              <a:rPr b="1" lang="hr-HR" sz="24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hr-HR" sz="2400" spc="-1" strike="noStrike" baseline="-25000">
                <a:solidFill>
                  <a:srgbClr val="ffc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ravokutnik 21"/>
          <p:cNvSpPr/>
          <p:nvPr/>
        </p:nvSpPr>
        <p:spPr>
          <a:xfrm>
            <a:off x="2484360" y="3860640"/>
            <a:ext cx="27194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24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lang="hr-HR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hr-HR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hr-HR" sz="24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i="1" lang="hr-HR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hr-HR" sz="24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i="1" lang="hr-HR" sz="2400" spc="-1" strike="noStrike" baseline="-25000">
                <a:solidFill>
                  <a:srgbClr val="ffc000"/>
                </a:solidFill>
                <a:latin typeface="Arial"/>
              </a:rPr>
              <a:t>1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 =K</a:t>
            </a:r>
            <a:r>
              <a:rPr b="1" i="1" lang="hr-HR" sz="24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20520" y="6166800"/>
            <a:ext cx="79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dijagonali AD točka C’ dijeli AB’ u zlatnom om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zervirano mjesto broja slajda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E436-E43F-478A-9CFC-B6052D1A1AC2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zervirano mjesto podnožja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6" descr=""/>
          <p:cNvPicPr/>
          <p:nvPr/>
        </p:nvPicPr>
        <p:blipFill>
          <a:blip r:embed="rId1"/>
          <a:stretch/>
        </p:blipFill>
        <p:spPr>
          <a:xfrm>
            <a:off x="5504040" y="836640"/>
            <a:ext cx="3639960" cy="360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3" name="Object 5"/>
              <p:cNvSpPr txBox="1"/>
              <p:nvPr/>
            </p:nvSpPr>
            <p:spPr>
              <a:xfrm>
                <a:off x="7759800" y="692280"/>
                <a:ext cx="138420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=</m:t>
                    </m:r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5"/>
              <p:cNvSpPr txBox="1"/>
              <p:nvPr/>
            </p:nvSpPr>
            <p:spPr>
              <a:xfrm>
                <a:off x="7797960" y="1197000"/>
                <a:ext cx="1346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=</m:t>
                    </m:r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III. 4 konstrukcije pravilnog peteroku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1196640"/>
            <a:ext cx="47530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Calibri"/>
              </a:rPr>
              <a:t>III</a:t>
            </a:r>
            <a:r>
              <a:rPr b="1" lang="hr-HR" sz="2400" spc="-1" strike="noStrike" baseline="-25000">
                <a:solidFill>
                  <a:srgbClr val="0000ff"/>
                </a:solidFill>
                <a:latin typeface="Calibri"/>
              </a:rPr>
              <a:t>1</a:t>
            </a:r>
            <a:r>
              <a:rPr b="1" lang="hr-HR" sz="2400" spc="-1" strike="noStrike">
                <a:solidFill>
                  <a:srgbClr val="0000ff"/>
                </a:solidFill>
                <a:latin typeface="Calibri"/>
              </a:rPr>
              <a:t>  Zadana </a:t>
            </a:r>
            <a:r>
              <a:rPr b="0" lang="hr-H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uljina stranice </a:t>
            </a:r>
            <a:r>
              <a:rPr b="1" i="1" lang="hr-HR" sz="2400" spc="-1" strike="noStrike">
                <a:solidFill>
                  <a:srgbClr val="0000ff"/>
                </a:solidFill>
                <a:latin typeface="Calibri"/>
              </a:rPr>
              <a:t>a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5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514760" cy="575964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5"/>
              <p:cNvSpPr txBox="1"/>
              <p:nvPr/>
            </p:nvSpPr>
            <p:spPr>
              <a:xfrm>
                <a:off x="971640" y="1844640"/>
                <a:ext cx="15843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Pravokutnik 6"/>
          <p:cNvSpPr/>
          <p:nvPr/>
        </p:nvSpPr>
        <p:spPr>
          <a:xfrm>
            <a:off x="250920" y="62064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ttp://apleti.normala.hr:8180/xwiki/bin/view/Mnogokuti/PravilniPeterok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zervirano mjesto broja slajda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FBFA-3116-4F07-A5B1-CF1E31FCC004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zervirano mjesto podnožja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-360" y="333000"/>
            <a:ext cx="713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Calibri"/>
              </a:rPr>
              <a:t>III</a:t>
            </a:r>
            <a:r>
              <a:rPr b="1" lang="hr-HR" sz="24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1" lang="hr-HR" sz="2400" spc="-1" strike="noStrike">
                <a:solidFill>
                  <a:srgbClr val="0000ff"/>
                </a:solidFill>
                <a:latin typeface="Calibri"/>
              </a:rPr>
              <a:t> Zadana duljina polumjera </a:t>
            </a:r>
            <a:r>
              <a:rPr b="0" lang="hr-H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pisane kružnice </a:t>
            </a:r>
            <a:r>
              <a:rPr b="1" i="1" lang="el-GR" sz="2400" spc="-1" strike="noStrike">
                <a:solidFill>
                  <a:srgbClr val="0000ff"/>
                </a:solidFill>
                <a:latin typeface="Calibri"/>
              </a:rPr>
              <a:t>ρ</a:t>
            </a:r>
            <a:r>
              <a:rPr b="1" i="1" lang="hr-HR" sz="2400" spc="-1" strike="noStrike">
                <a:solidFill>
                  <a:srgbClr val="0000ff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1327320" y="1038240"/>
            <a:ext cx="7853040" cy="58467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4"/>
              <p:cNvSpPr txBox="1"/>
              <p:nvPr/>
            </p:nvSpPr>
            <p:spPr>
              <a:xfrm>
                <a:off x="6516720" y="237960"/>
                <a:ext cx="19447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Rezervirano mjesto broja slajd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565A-863D-4B7A-B0D4-4088F1C9D46A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zervirano mjesto podnožja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0" y="189000"/>
            <a:ext cx="7236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ff"/>
                </a:solidFill>
                <a:latin typeface="Arial"/>
              </a:rPr>
              <a:t>III</a:t>
            </a:r>
            <a:r>
              <a:rPr b="1" lang="hr-HR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hr-HR" sz="2000" spc="-1" strike="noStrike">
                <a:solidFill>
                  <a:srgbClr val="0000ff"/>
                </a:solidFill>
                <a:latin typeface="Verdana"/>
              </a:rPr>
              <a:t> Zadana duljina polumjera </a:t>
            </a:r>
            <a:r>
              <a:rPr b="0" lang="hr-HR" sz="20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opisane kružnice </a:t>
            </a:r>
            <a:r>
              <a:rPr b="1" i="1" lang="hr-HR" sz="2000" spc="-1" strike="noStrike">
                <a:solidFill>
                  <a:srgbClr val="0000ff"/>
                </a:solidFill>
                <a:latin typeface="Verdana"/>
              </a:rPr>
              <a:t>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2"/>
          <a:stretch/>
        </p:blipFill>
        <p:spPr>
          <a:xfrm>
            <a:off x="3814920" y="693720"/>
            <a:ext cx="5294160" cy="61200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7020000" y="44280"/>
                <a:ext cx="2089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Rezervirano mjesto broja slajd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FC27-ABFA-4C01-A72F-44D31C56C06D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zervirano mjesto podnožja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179280" y="260280"/>
            <a:ext cx="6707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ff"/>
                </a:solidFill>
                <a:latin typeface="Arial"/>
              </a:rPr>
              <a:t>III</a:t>
            </a:r>
            <a:r>
              <a:rPr b="1" lang="hr-HR" sz="20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hr-HR" sz="2000" spc="-1" strike="noStrike">
                <a:solidFill>
                  <a:srgbClr val="0000ff"/>
                </a:solidFill>
                <a:latin typeface="Verdana"/>
              </a:rPr>
              <a:t> Zadana duljina </a:t>
            </a:r>
            <a:r>
              <a:rPr b="1" lang="hr-HR" sz="2000" spc="-1" strike="noStrike" u="sng">
                <a:solidFill>
                  <a:srgbClr val="0000ff"/>
                </a:solidFill>
                <a:uFillTx/>
                <a:latin typeface="Verdana"/>
              </a:rPr>
              <a:t>dijagonale</a:t>
            </a:r>
            <a:r>
              <a:rPr b="1" lang="hr-HR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i="1" lang="hr-HR" sz="2000" spc="-1" strike="noStrike">
                <a:solidFill>
                  <a:srgbClr val="0000ff"/>
                </a:solidFill>
                <a:latin typeface="Verdana"/>
              </a:rPr>
              <a:t>d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1463760" y="812880"/>
            <a:ext cx="7645320" cy="60008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6"/>
              <p:cNvSpPr txBox="1"/>
              <p:nvPr/>
            </p:nvSpPr>
            <p:spPr>
              <a:xfrm>
                <a:off x="5003640" y="101520"/>
                <a:ext cx="18720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Rezervirano mjesto broja slajd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C82F-288D-4054-89F6-52D8F7C64540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zervirano mjesto podnožj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IV. O ljubavi  i o mistici broje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191040" cy="3809880"/>
          </a:xfrm>
          <a:prstGeom prst="rect">
            <a:avLst/>
          </a:prstGeom>
          <a:ln w="0">
            <a:noFill/>
          </a:ln>
        </p:spPr>
      </p:pic>
      <p:sp>
        <p:nvSpPr>
          <p:cNvPr id="384" name="Pravokutnik 4"/>
          <p:cNvSpPr/>
          <p:nvPr/>
        </p:nvSpPr>
        <p:spPr>
          <a:xfrm>
            <a:off x="0" y="134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itagora od Samos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569. pr. Kr. - 475. pr. Kr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ravokutnik 5"/>
          <p:cNvSpPr/>
          <p:nvPr/>
        </p:nvSpPr>
        <p:spPr>
          <a:xfrm>
            <a:off x="0" y="191628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itagorejska škol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tajnovitost i zajedniš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ajni znak prepoznavanja-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pen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0" y="2732400"/>
            <a:ext cx="586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vojstva brojeva ( parni, neparni, muški , ženski , savršeni) 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mistika brojev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filozofija, vegetarijanstvo …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broj kutova u trokutu jednak je kao dva prava kuta.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itagorin poučak-dokaz 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tkriće iracionalnih brojev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nesumjerljivost duljine hipotenuze u pravokutnom jednakokračnom trokutu duljinom katete-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užasnut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tajili to otkriće 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latonova tijela- Platon učenik. 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ravokutnik 6"/>
          <p:cNvSpPr/>
          <p:nvPr/>
        </p:nvSpPr>
        <p:spPr>
          <a:xfrm>
            <a:off x="0" y="765000"/>
            <a:ext cx="565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hr-HR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 Pitagora i pitagorejsk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zervirano mjesto broja slajda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320B-FE36-4D7F-999B-06AFBF82B33E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zervirano mjesto podnožja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22960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IV</a:t>
            </a:r>
            <a:r>
              <a:rPr b="1" lang="hr-HR" sz="36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  O mistici broje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126828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Broj 1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: Monada-izvor svega, izvan naše dimenzije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Broj 2: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Dijada-(dvojstvo) nije dvostruko veći (nego manji) jer je u našoj dimenziji, ženski broj- rađanje (može se podijeliti na dva jednaka dijela)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Broj 3: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Trijada- muški broj, želi se nametnuti (veći), dvojka nije dovoljna, danas sveto trojstvo, osnova trokuta i svih svojstav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Broj 4: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Tetrakis-godišnja doba, strane svijeta, Zemlja,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zervirano mjesto broja slajd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4460-90D6-4F70-AB5A-38BA42EA1074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zervirano mjesto podnožj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IV</a:t>
            </a:r>
            <a:r>
              <a:rPr b="1" lang="hr-HR" sz="36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  O mistici broja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ravokutnik 3"/>
          <p:cNvSpPr/>
          <p:nvPr/>
        </p:nvSpPr>
        <p:spPr>
          <a:xfrm>
            <a:off x="0" y="836640"/>
            <a:ext cx="914400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Broj 5: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Pe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Arial"/>
              </a:rPr>
              <a:t>Produkt zbroja (spoja) ženske Dijade i muške Trijad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Arial"/>
              </a:rPr>
              <a:t>za Grke-pitagorejce </a:t>
            </a:r>
            <a:r>
              <a:rPr b="1" lang="hr-HR" sz="2000" spc="-1" strike="noStrike">
                <a:solidFill>
                  <a:srgbClr val="ff0000"/>
                </a:solidFill>
                <a:latin typeface="Verdana"/>
                <a:ea typeface="Arial"/>
              </a:rPr>
              <a:t>broj ljubavi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  <a:ea typeface="Arial"/>
              </a:rPr>
              <a:t>Afroditin broj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imbol  broja 5 je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pentagram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Arial"/>
              </a:rPr>
              <a:t>pravilna petokraka zvijez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Arial"/>
              </a:rPr>
              <a:t>drevni magijski simbol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Arial"/>
              </a:rPr>
              <a:t>tajna lozinka i geometrijski simbol </a:t>
            </a:r>
            <a:r>
              <a:rPr b="1" lang="hr-HR" sz="2000" spc="-1" strike="noStrike">
                <a:solidFill>
                  <a:srgbClr val="ff0000"/>
                </a:solidFill>
                <a:latin typeface="Verdana"/>
                <a:ea typeface="Arial"/>
              </a:rPr>
              <a:t>pitagorejskog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Arial"/>
              </a:rPr>
              <a:t> bratst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Zvijezda u sebi sadrži savršene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zlatne rez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Arial"/>
              </a:rPr>
              <a:t>u središtu obrnuti peterokut u koji je moguće upisati novu, ali obrnutu zvijezdu, a u ovu opet novu i tako u beskra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Verdana"/>
                <a:ea typeface="Arial"/>
              </a:rPr>
              <a:t>beskrajno rađanje i produženje vrst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1"/>
          <a:srcRect l="30340" t="21076" r="19411" b="10738"/>
          <a:stretch/>
        </p:blipFill>
        <p:spPr>
          <a:xfrm>
            <a:off x="7091280" y="4805280"/>
            <a:ext cx="2052720" cy="2052720"/>
          </a:xfrm>
          <a:prstGeom prst="rect">
            <a:avLst/>
          </a:prstGeom>
          <a:ln w="0">
            <a:noFill/>
          </a:ln>
        </p:spPr>
      </p:pic>
      <p:sp>
        <p:nvSpPr>
          <p:cNvPr id="397" name="Pravokutnik 4"/>
          <p:cNvSpPr/>
          <p:nvPr/>
        </p:nvSpPr>
        <p:spPr>
          <a:xfrm>
            <a:off x="0" y="5950080"/>
            <a:ext cx="70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0360" indent="-360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  <a:ea typeface="Arial"/>
              </a:rPr>
              <a:t>Broj 10: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Arial"/>
              </a:rPr>
              <a:t>Dekada( ili tetrakis)- savršeni, broj sveti broj 1+2+3+4=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0" descr=""/>
          <p:cNvPicPr/>
          <p:nvPr/>
        </p:nvPicPr>
        <p:blipFill>
          <a:blip r:embed="rId2"/>
          <a:srcRect l="3343" t="4195" r="1044" b="0"/>
          <a:stretch/>
        </p:blipFill>
        <p:spPr>
          <a:xfrm>
            <a:off x="7608960" y="1628640"/>
            <a:ext cx="1535040" cy="1511280"/>
          </a:xfrm>
          <a:prstGeom prst="rect">
            <a:avLst/>
          </a:prstGeom>
          <a:ln w="0">
            <a:noFill/>
          </a:ln>
        </p:spPr>
      </p:pic>
      <p:sp>
        <p:nvSpPr>
          <p:cNvPr id="399" name="Rezervirano mjesto broja slajda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851A-78AA-47CB-878F-56FC367FCCFE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zervirano mjesto podnožja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zervirano mjesto broja slajd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415A-12A4-4553-B93D-11E307F57AC1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ravokutnik 5"/>
          <p:cNvSpPr/>
          <p:nvPr/>
        </p:nvSpPr>
        <p:spPr>
          <a:xfrm>
            <a:off x="0" y="62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Sadrža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ravokutnik 6"/>
          <p:cNvSpPr/>
          <p:nvPr/>
        </p:nvSpPr>
        <p:spPr>
          <a:xfrm>
            <a:off x="0" y="1341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latni rez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avilni peteroku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4 geometrijske konstrukcije pravilnog peterokuta,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 ljubavi  i o mistici broj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ravokutnik 7"/>
          <p:cNvSpPr/>
          <p:nvPr/>
        </p:nvSpPr>
        <p:spPr>
          <a:xfrm>
            <a:off x="3203640" y="328464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veznica!!!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6" descr=""/>
          <p:cNvPicPr/>
          <p:nvPr/>
        </p:nvPicPr>
        <p:blipFill>
          <a:blip r:embed="rId1"/>
          <a:stretch/>
        </p:blipFill>
        <p:spPr>
          <a:xfrm>
            <a:off x="1979640" y="0"/>
            <a:ext cx="5373720" cy="5398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"/>
          <p:cNvPicPr/>
          <p:nvPr/>
        </p:nvPicPr>
        <p:blipFill>
          <a:blip r:embed="rId2"/>
          <a:stretch/>
        </p:blipFill>
        <p:spPr>
          <a:xfrm>
            <a:off x="1976400" y="0"/>
            <a:ext cx="5373720" cy="5398920"/>
          </a:xfrm>
          <a:prstGeom prst="rect">
            <a:avLst/>
          </a:prstGeom>
          <a:ln w="0">
            <a:noFill/>
          </a:ln>
        </p:spPr>
      </p:pic>
      <p:sp>
        <p:nvSpPr>
          <p:cNvPr id="403" name="Pravokutnik 4"/>
          <p:cNvSpPr/>
          <p:nvPr/>
        </p:nvSpPr>
        <p:spPr>
          <a:xfrm>
            <a:off x="0" y="5157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lavolomka: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ako poredati 10 učenika u 5 redova, a da u svakom redu budu po 4 učenika i da razmak bude “pravila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kstniOkvir 5"/>
          <p:cNvSpPr/>
          <p:nvPr/>
        </p:nvSpPr>
        <p:spPr>
          <a:xfrm>
            <a:off x="7200" y="836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 na kraj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zervirano mjesto broja slajd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04F2-AEF5-44A4-8BCB-57E630F5EB42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ravokutnik 2"/>
          <p:cNvSpPr/>
          <p:nvPr/>
        </p:nvSpPr>
        <p:spPr>
          <a:xfrm>
            <a:off x="0" y="1989000"/>
            <a:ext cx="91440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itera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ttp://likovna-kultura.ufzg.hr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http://zlatni-rez.blogspot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ttp://e.math.unizg.hr/old/64je65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. Dujella,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Fibonaccijevi brojev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HMD, Zagreb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. Hohenwarter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eoGebr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http://www.geogebra.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http://www.akvarij.net/index.php?option=com_content&amp;task=view&amp;id=473&amp;Itemid=11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ttp://www-groups.dcs.st-and.ac.uk/~history/Mathematicians/Pythagora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ttp://apleti.normala.hr:8180/xwiki/bin/view/Mnogokuti/PravilniPeterok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ttp://apleti.normala.hr:8180/xwiki/bin/view/Planimetrija/SpiralaDrugogKorij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94BA-A054-4E6D-850E-ED6FCD43295A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ravokutnik 6"/>
          <p:cNvSpPr/>
          <p:nvPr/>
        </p:nvSpPr>
        <p:spPr>
          <a:xfrm>
            <a:off x="0" y="5769000"/>
            <a:ext cx="7236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drag.brkic@pu.htnet.hr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http://www.os-porec.skole.hr/skola/djelatnici/predrag_brk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upa 7"/>
          <p:cNvGrpSpPr/>
          <p:nvPr/>
        </p:nvGrpSpPr>
        <p:grpSpPr>
          <a:xfrm>
            <a:off x="968400" y="2349360"/>
            <a:ext cx="6843600" cy="2549520"/>
            <a:chOff x="968400" y="2349360"/>
            <a:chExt cx="6843600" cy="2549520"/>
          </a:xfrm>
        </p:grpSpPr>
        <p:sp>
          <p:nvSpPr>
            <p:cNvPr id="410" name="Srce 7"/>
            <p:cNvSpPr/>
            <p:nvPr/>
          </p:nvSpPr>
          <p:spPr>
            <a:xfrm>
              <a:off x="5772240" y="2568240"/>
              <a:ext cx="2039760" cy="2038320"/>
            </a:xfrm>
            <a:custGeom>
              <a:avLst/>
              <a:gdLst>
                <a:gd name="textAreaLeft" fmla="*/ 339840 w 2039760"/>
                <a:gd name="textAreaRight" fmla="*/ 1699920 w 2039760"/>
                <a:gd name="textAreaTop" fmla="*/ 509400 h 2038320"/>
                <a:gd name="textAreaBottom" fmla="*/ 1359000 h 2038320"/>
              </a:gdLst>
              <a:ahLst/>
              <a:rect l="textAreaLeft" t="textAreaTop" r="textAreaRight" b="textAreaBottom"/>
              <a:pathLst>
                <a:path w="1008597" h="1007372">
                  <a:moveTo>
                    <a:pt x="504299" y="251843"/>
                  </a:moveTo>
                  <a:cubicBezTo>
                    <a:pt x="714423" y="-335791"/>
                    <a:pt x="1533908" y="251843"/>
                    <a:pt x="504299" y="1007372"/>
                  </a:cubicBezTo>
                  <a:cubicBezTo>
                    <a:pt x="-525311" y="251843"/>
                    <a:pt x="294174" y="-335791"/>
                    <a:pt x="504299" y="251843"/>
                  </a:cubicBez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kstniOkvir 6"/>
            <p:cNvSpPr/>
            <p:nvPr/>
          </p:nvSpPr>
          <p:spPr>
            <a:xfrm>
              <a:off x="4249080" y="2567520"/>
              <a:ext cx="8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9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2" name="Picture 2" descr=""/>
            <p:cNvPicPr/>
            <p:nvPr/>
          </p:nvPicPr>
          <p:blipFill>
            <a:blip r:embed="rId1"/>
            <a:srcRect l="0" t="3815" r="0" b="0"/>
            <a:stretch/>
          </p:blipFill>
          <p:spPr>
            <a:xfrm>
              <a:off x="968400" y="2349360"/>
              <a:ext cx="2758680" cy="254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Rezervirano mjesto broja slajda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85D4-50B9-46D9-B580-BC39D4234801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zervirano mjesto podnožj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zervirano mjesto broja slajd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3F35-BDF9-42FC-BC9B-2DAA4A1EA90D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ravokutnik 5"/>
          <p:cNvSpPr/>
          <p:nvPr/>
        </p:nvSpPr>
        <p:spPr>
          <a:xfrm>
            <a:off x="0" y="13413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zlatni omjer (rez, broj) , božanske proporcij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entagra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entagon-pravilni peterokut,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eometrijske konstrukcije-geogebra, geometer’s sketch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nesumjerljivost dužina-iracional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jekti i dokazi u nastavi matematike (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dodatna nastav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itagorejska mistika broj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130824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Calibri"/>
              </a:rPr>
              <a:t>Pojmov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5424480" y="200340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5423040" y="2003400"/>
            <a:ext cx="18288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4"/>
          <p:cNvGrpSpPr/>
          <p:nvPr/>
        </p:nvGrpSpPr>
        <p:grpSpPr>
          <a:xfrm>
            <a:off x="684360" y="620640"/>
            <a:ext cx="5975280" cy="1870920"/>
            <a:chOff x="684360" y="620640"/>
            <a:chExt cx="5975280" cy="1870920"/>
          </a:xfrm>
        </p:grpSpPr>
        <p:grpSp>
          <p:nvGrpSpPr>
            <p:cNvPr id="184" name="Group 5"/>
            <p:cNvGrpSpPr/>
            <p:nvPr/>
          </p:nvGrpSpPr>
          <p:grpSpPr>
            <a:xfrm>
              <a:off x="684360" y="1035360"/>
              <a:ext cx="5975280" cy="1456200"/>
              <a:chOff x="684360" y="1035360"/>
              <a:chExt cx="5975280" cy="1456200"/>
            </a:xfrm>
          </p:grpSpPr>
          <p:sp>
            <p:nvSpPr>
              <p:cNvPr id="185" name="Text Box 6"/>
              <p:cNvSpPr/>
              <p:nvPr/>
            </p:nvSpPr>
            <p:spPr>
              <a:xfrm>
                <a:off x="3143160" y="1875240"/>
                <a:ext cx="1215360" cy="61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6" name="Picture 7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684360" y="1035360"/>
                <a:ext cx="5975280" cy="770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7" name="AutoShape 8"/>
            <p:cNvSpPr/>
            <p:nvPr/>
          </p:nvSpPr>
          <p:spPr>
            <a:xfrm rot="5400000">
              <a:off x="3484800" y="-1231920"/>
              <a:ext cx="231120" cy="4861080"/>
            </a:xfrm>
            <a:custGeom>
              <a:avLst/>
              <a:gdLst>
                <a:gd name="textAreaLeft" fmla="*/ 147600 w 231120"/>
                <a:gd name="textAreaRight" fmla="*/ 231480 w 231120"/>
                <a:gd name="textAreaTop" fmla="*/ 126720 h 4861080"/>
                <a:gd name="textAreaBottom" fmla="*/ 4734360 h 486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3358080" y="620640"/>
              <a:ext cx="48564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I. Zlatni rez- božanski omjer, zlatni omj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2205000"/>
            <a:ext cx="8893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Točka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dijeli dužinu       u omjeru koji nazivamo </a:t>
            </a:r>
            <a:r>
              <a:rPr b="1" lang="hr-HR" sz="3000" spc="-1" strike="noStrike">
                <a:solidFill>
                  <a:srgbClr val="c0504d"/>
                </a:solidFill>
                <a:latin typeface="Calibri"/>
              </a:rPr>
              <a:t>zlatni omjer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, ako je omjer duljina duljeg dijela dužine (</a:t>
            </a:r>
            <a:r>
              <a:rPr b="0" lang="hr-HR" sz="30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) i kraćeg dijela dužine (</a:t>
            </a:r>
            <a:r>
              <a:rPr b="0" lang="hr-HR" sz="3000" spc="-1" strike="noStrike">
                <a:solidFill>
                  <a:srgbClr val="ff0000"/>
                </a:solidFill>
                <a:latin typeface="Calibri"/>
              </a:rPr>
              <a:t>a-x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) jednak omjeru duljina cijele dužine (</a:t>
            </a:r>
            <a:r>
              <a:rPr b="0" lang="hr-HR" sz="3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) i duljeg dijela dužine (</a:t>
            </a:r>
            <a:r>
              <a:rPr b="0" lang="hr-HR" sz="30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2"/>
              <p:cNvSpPr txBox="1"/>
              <p:nvPr/>
            </p:nvSpPr>
            <p:spPr>
              <a:xfrm>
                <a:off x="3564000" y="2205000"/>
                <a:ext cx="576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3" name="Text Box 16"/>
          <p:cNvSpPr/>
          <p:nvPr/>
        </p:nvSpPr>
        <p:spPr>
          <a:xfrm>
            <a:off x="407880" y="53006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li kao na sli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3" descr="golden_ratio"/>
          <p:cNvPicPr/>
          <p:nvPr/>
        </p:nvPicPr>
        <p:blipFill>
          <a:blip r:embed="rId2"/>
          <a:stretch/>
        </p:blipFill>
        <p:spPr>
          <a:xfrm>
            <a:off x="2700360" y="5229360"/>
            <a:ext cx="3276720" cy="695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6516720" y="5157720"/>
                <a:ext cx="10764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Pravokutnik 14"/>
          <p:cNvSpPr/>
          <p:nvPr/>
        </p:nvSpPr>
        <p:spPr>
          <a:xfrm>
            <a:off x="1619280" y="429264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333399"/>
                </a:solidFill>
                <a:latin typeface="Verdana"/>
              </a:rPr>
              <a:t>x:(a – x) = a : x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zervirano mjesto broja slajda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B516-D97B-4D24-B750-03714DE607FF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zervirano mjesto podnožja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4788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Calibri"/>
              </a:rPr>
              <a:t>(I</a:t>
            </a:r>
            <a:r>
              <a:rPr b="1" lang="hr-HR" sz="3200" spc="-1" strike="noStrike" baseline="-25000">
                <a:solidFill>
                  <a:srgbClr val="0000ff"/>
                </a:solidFill>
                <a:latin typeface="Calibri"/>
              </a:rPr>
              <a:t>1</a:t>
            </a:r>
            <a:r>
              <a:rPr b="1" lang="hr-HR" sz="3200" spc="-1" strike="noStrike">
                <a:solidFill>
                  <a:srgbClr val="0000ff"/>
                </a:solidFill>
                <a:latin typeface="Calibri"/>
              </a:rPr>
              <a:t>) Konstrukcija </a:t>
            </a:r>
            <a:br>
              <a:rPr sz="3200"/>
            </a:br>
            <a:r>
              <a:rPr b="1" lang="hr-HR" sz="2400" spc="-1" strike="noStrike">
                <a:solidFill>
                  <a:srgbClr val="0000ff"/>
                </a:solidFill>
                <a:latin typeface="Calibri"/>
              </a:rPr>
              <a:t>       (7. razr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6"/>
              <p:cNvSpPr txBox="1"/>
              <p:nvPr/>
            </p:nvSpPr>
            <p:spPr>
              <a:xfrm>
                <a:off x="2340000" y="3429000"/>
                <a:ext cx="1393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7"/>
              <p:cNvSpPr txBox="1"/>
              <p:nvPr/>
            </p:nvSpPr>
            <p:spPr>
              <a:xfrm>
                <a:off x="1517760" y="4468680"/>
                <a:ext cx="3827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3"/>
              <p:cNvSpPr txBox="1"/>
              <p:nvPr/>
            </p:nvSpPr>
            <p:spPr>
              <a:xfrm>
                <a:off x="324000" y="1916280"/>
                <a:ext cx="140796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e>
                        </m:bar>
                        <m:r>
                          <m:t xml:space="preserve">⊥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BT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Text Box 14"/>
          <p:cNvSpPr/>
          <p:nvPr/>
        </p:nvSpPr>
        <p:spPr>
          <a:xfrm>
            <a:off x="34920" y="5931000"/>
            <a:ext cx="8510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Drugi način: </a:t>
            </a:r>
            <a:r>
              <a:rPr b="1" lang="hr-HR" sz="2400" spc="-1" strike="noStrike">
                <a:solidFill>
                  <a:srgbClr val="0000ff"/>
                </a:solidFill>
                <a:latin typeface="Calibri"/>
              </a:rPr>
              <a:t>spirala korijena</a:t>
            </a:r>
            <a:br>
              <a:rPr sz="24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ttp://apleti.normala.hr:8180/xwiki/bin/view/Planimetrija/SpiralaDrugogKorij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4"/>
              <p:cNvSpPr txBox="1"/>
              <p:nvPr/>
            </p:nvSpPr>
            <p:spPr>
              <a:xfrm>
                <a:off x="324000" y="1341360"/>
                <a:ext cx="1203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Ravni poveznik 21"/>
          <p:cNvSpPr/>
          <p:nvPr/>
        </p:nvSpPr>
        <p:spPr>
          <a:xfrm>
            <a:off x="3059280" y="1341360"/>
            <a:ext cx="554508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upa 26"/>
          <p:cNvGrpSpPr/>
          <p:nvPr/>
        </p:nvGrpSpPr>
        <p:grpSpPr>
          <a:xfrm>
            <a:off x="4867560" y="333360"/>
            <a:ext cx="7487640" cy="7487640"/>
            <a:chOff x="4867560" y="333360"/>
            <a:chExt cx="7487640" cy="7487640"/>
          </a:xfrm>
        </p:grpSpPr>
        <p:cxnSp>
          <p:nvCxnSpPr>
            <p:cNvPr id="208" name="Ravni poveznik sa strelicom 11"/>
            <p:cNvCxnSpPr/>
            <p:nvPr/>
          </p:nvCxnSpPr>
          <p:spPr>
            <a:xfrm flipH="1">
              <a:off x="6658920" y="1988280"/>
              <a:ext cx="146520" cy="14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9" name="Luk 25"/>
            <p:cNvSpPr/>
            <p:nvPr/>
          </p:nvSpPr>
          <p:spPr>
            <a:xfrm rot="17733000">
              <a:off x="5803560" y="1269720"/>
              <a:ext cx="5614920" cy="5614920"/>
            </a:xfrm>
            <a:custGeom>
              <a:avLst/>
              <a:gdLst>
                <a:gd name="textAreaLeft" fmla="*/ 2807640 w 5614920"/>
                <a:gd name="textAreaRight" fmla="*/ 5345280 w 5614920"/>
                <a:gd name="textAreaTop" fmla="*/ 0 h 5614920"/>
                <a:gd name="textAreaBottom" fmla="*/ 1606320 h 5614920"/>
              </a:gdLst>
              <a:ahLst/>
              <a:rect l="textAreaLeft" t="textAreaTop" r="textAreaRight" b="textAreaBottom"/>
              <a:pathLst>
                <a:path stroke="0" w="5616000" h="5616000">
                  <a:moveTo>
                    <a:pt x="2808003" y="0"/>
                  </a:moveTo>
                  <a:lnTo>
                    <a:pt x="2808003" y="0"/>
                  </a:lnTo>
                  <a:arcTo wR="2808000" hR="2808000" stAng="-5399996" swAng="3880436"/>
                  <a:lnTo>
                    <a:pt x="2808000" y="2808000"/>
                  </a:lnTo>
                  <a:close/>
                </a:path>
                <a:path fill="none" w="5616000" h="5616000">
                  <a:moveTo>
                    <a:pt x="2808003" y="0"/>
                  </a:moveTo>
                  <a:lnTo>
                    <a:pt x="2808003" y="0"/>
                  </a:lnTo>
                  <a:arcTo wR="2808000" hR="2808000" stAng="-5399996" swAng="3880436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upa 34"/>
          <p:cNvGrpSpPr/>
          <p:nvPr/>
        </p:nvGrpSpPr>
        <p:grpSpPr>
          <a:xfrm>
            <a:off x="-398520" y="-2101680"/>
            <a:ext cx="6884640" cy="6884280"/>
            <a:chOff x="-398520" y="-2101680"/>
            <a:chExt cx="6884640" cy="6884280"/>
          </a:xfrm>
        </p:grpSpPr>
        <p:cxnSp>
          <p:nvCxnSpPr>
            <p:cNvPr id="211" name="Ravni poveznik sa strelicom 14"/>
            <p:cNvCxnSpPr/>
            <p:nvPr/>
          </p:nvCxnSpPr>
          <p:spPr>
            <a:xfrm flipH="1" flipV="1">
              <a:off x="6299280" y="1699560"/>
              <a:ext cx="216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2" name="Luk 28"/>
            <p:cNvSpPr/>
            <p:nvPr/>
          </p:nvSpPr>
          <p:spPr>
            <a:xfrm rot="5340000">
              <a:off x="-339840" y="-2043000"/>
              <a:ext cx="6767280" cy="6767640"/>
            </a:xfrm>
            <a:custGeom>
              <a:avLst/>
              <a:gdLst>
                <a:gd name="textAreaLeft" fmla="*/ 3383640 w 6767280"/>
                <a:gd name="textAreaRight" fmla="*/ 4942440 w 6767280"/>
                <a:gd name="textAreaTop" fmla="*/ 0 h 6767640"/>
                <a:gd name="textAreaBottom" fmla="*/ 380520 h 6767640"/>
              </a:gdLst>
              <a:ahLst/>
              <a:rect l="textAreaLeft" t="textAreaTop" r="textAreaRight" b="textAreaBottom"/>
              <a:pathLst>
                <a:path stroke="0" w="6768000" h="6768000">
                  <a:moveTo>
                    <a:pt x="3384004" y="0"/>
                  </a:moveTo>
                  <a:lnTo>
                    <a:pt x="3384004" y="0"/>
                  </a:lnTo>
                  <a:arcTo wR="3384000" hR="3384000" stAng="-5399996" swAng="1645988"/>
                  <a:lnTo>
                    <a:pt x="3384000" y="3384000"/>
                  </a:lnTo>
                  <a:close/>
                </a:path>
                <a:path fill="none" w="6768000" h="6768000">
                  <a:moveTo>
                    <a:pt x="3384004" y="0"/>
                  </a:moveTo>
                  <a:lnTo>
                    <a:pt x="3384004" y="0"/>
                  </a:lnTo>
                  <a:arcTo wR="3384000" hR="3384000" stAng="-5399996" swAng="164598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upa 37"/>
          <p:cNvGrpSpPr/>
          <p:nvPr/>
        </p:nvGrpSpPr>
        <p:grpSpPr>
          <a:xfrm>
            <a:off x="2991240" y="765000"/>
            <a:ext cx="5657040" cy="603360"/>
            <a:chOff x="2991240" y="765000"/>
            <a:chExt cx="5657040" cy="603360"/>
          </a:xfrm>
        </p:grpSpPr>
        <p:sp>
          <p:nvSpPr>
            <p:cNvPr id="214" name="Ravni poveznik 13"/>
            <p:cNvSpPr/>
            <p:nvPr/>
          </p:nvSpPr>
          <p:spPr>
            <a:xfrm flipV="1">
              <a:off x="3059640" y="1268280"/>
              <a:ext cx="5545080" cy="7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kstniOkvir 35"/>
            <p:cNvSpPr/>
            <p:nvPr/>
          </p:nvSpPr>
          <p:spPr>
            <a:xfrm>
              <a:off x="2991240" y="90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kstniOkvir 36"/>
            <p:cNvSpPr/>
            <p:nvPr/>
          </p:nvSpPr>
          <p:spPr>
            <a:xfrm>
              <a:off x="8247960" y="76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kstniOkvir 39"/>
          <p:cNvSpPr/>
          <p:nvPr/>
        </p:nvSpPr>
        <p:spPr>
          <a:xfrm>
            <a:off x="5727600" y="2924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kstniOkvir 40"/>
          <p:cNvSpPr/>
          <p:nvPr/>
        </p:nvSpPr>
        <p:spPr>
          <a:xfrm>
            <a:off x="6231600" y="76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upa 43"/>
          <p:cNvGrpSpPr/>
          <p:nvPr/>
        </p:nvGrpSpPr>
        <p:grpSpPr>
          <a:xfrm>
            <a:off x="8388360" y="1268280"/>
            <a:ext cx="781560" cy="3197160"/>
            <a:chOff x="8388360" y="1268280"/>
            <a:chExt cx="781560" cy="3197160"/>
          </a:xfrm>
        </p:grpSpPr>
        <p:grpSp>
          <p:nvGrpSpPr>
            <p:cNvPr id="220" name="Grupa 27"/>
            <p:cNvGrpSpPr/>
            <p:nvPr/>
          </p:nvGrpSpPr>
          <p:grpSpPr>
            <a:xfrm>
              <a:off x="8388360" y="1268280"/>
              <a:ext cx="216000" cy="2809440"/>
              <a:chOff x="8388360" y="1268280"/>
              <a:chExt cx="216000" cy="2809440"/>
            </a:xfrm>
          </p:grpSpPr>
          <p:sp>
            <p:nvSpPr>
              <p:cNvPr id="221" name="Ravni poveznik 16"/>
              <p:cNvSpPr/>
              <p:nvPr/>
            </p:nvSpPr>
            <p:spPr>
              <a:xfrm>
                <a:off x="8604360" y="1268280"/>
                <a:ext cx="0" cy="280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Pravokutnik 19"/>
              <p:cNvSpPr/>
              <p:nvPr/>
            </p:nvSpPr>
            <p:spPr>
              <a:xfrm>
                <a:off x="8388360" y="1268280"/>
                <a:ext cx="216000" cy="2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TekstniOkvir 38"/>
            <p:cNvSpPr/>
            <p:nvPr/>
          </p:nvSpPr>
          <p:spPr>
            <a:xfrm>
              <a:off x="8679240" y="4005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kstniOkvir 41"/>
            <p:cNvSpPr/>
            <p:nvPr/>
          </p:nvSpPr>
          <p:spPr>
            <a:xfrm>
              <a:off x="8608320" y="22766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2400" spc="-1" strike="noStrike">
                  <a:solidFill>
                    <a:srgbClr val="000000"/>
                  </a:solidFill>
                  <a:latin typeface="Arial"/>
                </a:rPr>
                <a:t>a/</a:t>
              </a:r>
              <a:r>
                <a:rPr b="1" i="1" lang="hr-H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kstniOkvir 42"/>
          <p:cNvSpPr/>
          <p:nvPr/>
        </p:nvSpPr>
        <p:spPr>
          <a:xfrm>
            <a:off x="5151240" y="83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zervirano mjesto broja slajda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D9A1-794C-4163-8E16-469431954AF9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0" y="350028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Uočimo da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(I</a:t>
            </a:r>
            <a:r>
              <a:rPr b="1" lang="hr-HR" sz="36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) Dokaz konstrukcije: </a:t>
            </a:r>
            <a:br>
              <a:rPr sz="4000"/>
            </a:b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dodatna nastava, 8. razred, iracionalni brojev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9810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ka je C točka koja dijeli dužinu AB u zlatnom omjer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755640" y="3284640"/>
                <a:ext cx="3095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Rectangle 8"/>
          <p:cNvSpPr/>
          <p:nvPr/>
        </p:nvSpPr>
        <p:spPr>
          <a:xfrm>
            <a:off x="-36360" y="2924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hr-H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+ a x - a</a:t>
            </a:r>
            <a:r>
              <a:rPr b="0" i="1" lang="hr-H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=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9"/>
              <p:cNvSpPr txBox="1"/>
              <p:nvPr/>
            </p:nvSpPr>
            <p:spPr>
              <a:xfrm>
                <a:off x="250920" y="5985000"/>
                <a:ext cx="14796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1"/>
              <p:cNvSpPr txBox="1"/>
              <p:nvPr/>
            </p:nvSpPr>
            <p:spPr>
              <a:xfrm>
                <a:off x="2627280" y="6095880"/>
                <a:ext cx="14511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3"/>
              <p:cNvSpPr txBox="1"/>
              <p:nvPr/>
            </p:nvSpPr>
            <p:spPr>
              <a:xfrm>
                <a:off x="1254240" y="5027760"/>
                <a:ext cx="15429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Rectangle 1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6"/>
          <p:cNvGrpSpPr/>
          <p:nvPr/>
        </p:nvGrpSpPr>
        <p:grpSpPr>
          <a:xfrm>
            <a:off x="0" y="1197000"/>
            <a:ext cx="5688000" cy="1439280"/>
            <a:chOff x="0" y="1197000"/>
            <a:chExt cx="5688000" cy="1439280"/>
          </a:xfrm>
        </p:grpSpPr>
        <p:grpSp>
          <p:nvGrpSpPr>
            <p:cNvPr id="239" name="Group 17"/>
            <p:cNvGrpSpPr/>
            <p:nvPr/>
          </p:nvGrpSpPr>
          <p:grpSpPr>
            <a:xfrm>
              <a:off x="0" y="1515960"/>
              <a:ext cx="5688000" cy="1120320"/>
              <a:chOff x="0" y="1515960"/>
              <a:chExt cx="5688000" cy="1120320"/>
            </a:xfrm>
          </p:grpSpPr>
          <p:sp>
            <p:nvSpPr>
              <p:cNvPr id="240" name="Text Box 18"/>
              <p:cNvSpPr/>
              <p:nvPr/>
            </p:nvSpPr>
            <p:spPr>
              <a:xfrm>
                <a:off x="2340720" y="2162160"/>
                <a:ext cx="115668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" name="Picture 19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0" y="1515960"/>
                <a:ext cx="5688000" cy="59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2" name="AutoShape 20"/>
            <p:cNvSpPr/>
            <p:nvPr/>
          </p:nvSpPr>
          <p:spPr>
            <a:xfrm rot="5400000">
              <a:off x="2687400" y="-672120"/>
              <a:ext cx="177840" cy="4627440"/>
            </a:xfrm>
            <a:custGeom>
              <a:avLst/>
              <a:gdLst>
                <a:gd name="textAreaLeft" fmla="*/ 113760 w 177840"/>
                <a:gd name="textAreaRight" fmla="*/ 177840 w 177840"/>
                <a:gd name="textAreaTop" fmla="*/ 120600 h 4627440"/>
                <a:gd name="textAreaBottom" fmla="*/ 4506840 h 46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1"/>
            <p:cNvSpPr/>
            <p:nvPr/>
          </p:nvSpPr>
          <p:spPr>
            <a:xfrm>
              <a:off x="2545200" y="1197000"/>
              <a:ext cx="462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Object 18"/>
              <p:cNvSpPr txBox="1"/>
              <p:nvPr/>
            </p:nvSpPr>
            <p:spPr>
              <a:xfrm>
                <a:off x="6084720" y="5772240"/>
                <a:ext cx="21812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Lijeva vitičasta zagrada 19"/>
          <p:cNvSpPr/>
          <p:nvPr/>
        </p:nvSpPr>
        <p:spPr>
          <a:xfrm rot="16200000">
            <a:off x="1439640" y="4113000"/>
            <a:ext cx="287280" cy="151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513080"/>
              <a:gd name="textAreaBottom" fmla="*/ 150588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"/>
                  <a:pt x="10800" y="342"/>
                </a:cubicBezTo>
                <a:lnTo>
                  <a:pt x="10800" y="10458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1"/>
                  <a:pt x="10800" y="11142"/>
                </a:cubicBezTo>
                <a:lnTo>
                  <a:pt x="10800" y="21258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723960" y="4129200"/>
                <a:ext cx="27241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7" name="Pravokutnik 21"/>
          <p:cNvSpPr/>
          <p:nvPr/>
        </p:nvSpPr>
        <p:spPr>
          <a:xfrm>
            <a:off x="755640" y="2349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x:(a – x) = a :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zervirano mjesto broja slajda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3BBD-6F65-4D6B-8867-ACFE4A74E59F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upa 36"/>
          <p:cNvGrpSpPr/>
          <p:nvPr/>
        </p:nvGrpSpPr>
        <p:grpSpPr>
          <a:xfrm>
            <a:off x="632160" y="1592640"/>
            <a:ext cx="2691720" cy="2699640"/>
            <a:chOff x="632160" y="1592640"/>
            <a:chExt cx="2691720" cy="2699640"/>
          </a:xfrm>
        </p:grpSpPr>
        <p:sp>
          <p:nvSpPr>
            <p:cNvPr id="250" name="Luk 34"/>
            <p:cNvSpPr/>
            <p:nvPr/>
          </p:nvSpPr>
          <p:spPr>
            <a:xfrm rot="19486800">
              <a:off x="1019160" y="1966680"/>
              <a:ext cx="1917720" cy="1950840"/>
            </a:xfrm>
            <a:custGeom>
              <a:avLst/>
              <a:gdLst>
                <a:gd name="textAreaLeft" fmla="*/ 610560 w 1917720"/>
                <a:gd name="textAreaRight" fmla="*/ 1918080 w 1917720"/>
                <a:gd name="textAreaTop" fmla="*/ 0 h 1950840"/>
                <a:gd name="textAreaBottom" fmla="*/ 975600 h 1950840"/>
              </a:gdLst>
              <a:ahLst/>
              <a:rect l="textAreaLeft" t="textAreaTop" r="textAreaRight" b="textAreaBottom"/>
              <a:pathLst>
                <a:path stroke="0" w="1918587" h="1950995">
                  <a:moveTo>
                    <a:pt x="610897" y="66608"/>
                  </a:moveTo>
                  <a:lnTo>
                    <a:pt x="610897" y="66608"/>
                  </a:lnTo>
                  <a:arcTo wR="959294" hR="975498" stAng="-6658371" swAng="6658378"/>
                  <a:lnTo>
                    <a:pt x="959294" y="975498"/>
                  </a:lnTo>
                  <a:close/>
                </a:path>
                <a:path fill="none" w="1918587" h="1950995">
                  <a:moveTo>
                    <a:pt x="610897" y="66608"/>
                  </a:moveTo>
                  <a:lnTo>
                    <a:pt x="610897" y="66608"/>
                  </a:lnTo>
                  <a:arcTo wR="959294" hR="975498" stAng="-6658371" swAng="6658378"/>
                </a:path>
              </a:pathLst>
            </a:custGeom>
            <a:noFill/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uk 35"/>
            <p:cNvSpPr/>
            <p:nvPr/>
          </p:nvSpPr>
          <p:spPr>
            <a:xfrm rot="18871200">
              <a:off x="1592640" y="2249640"/>
              <a:ext cx="914400" cy="912960"/>
            </a:xfrm>
            <a:custGeom>
              <a:avLst/>
              <a:gdLst>
                <a:gd name="textAreaLeft" fmla="*/ 457200 w 914400"/>
                <a:gd name="textAreaRight" fmla="*/ 914760 w 914400"/>
                <a:gd name="textAreaTop" fmla="*/ 0 h 912960"/>
                <a:gd name="textAreaBottom" fmla="*/ 456480 h 912960"/>
              </a:gdLst>
              <a:ahLst/>
              <a:rect l="textAreaLeft" t="textAreaTop" r="textAreaRight" b="textAreaBottom"/>
              <a:pathLst>
                <a:path stroke="0" w="914380" h="913235">
                  <a:moveTo>
                    <a:pt x="457191" y="0"/>
                  </a:moveTo>
                  <a:lnTo>
                    <a:pt x="457191" y="0"/>
                  </a:lnTo>
                  <a:arcTo wR="457190" hR="456618" stAng="-5399992" swAng="5400000"/>
                  <a:lnTo>
                    <a:pt x="457190" y="456618"/>
                  </a:lnTo>
                  <a:close/>
                </a:path>
                <a:path fill="none" w="914380" h="913235">
                  <a:moveTo>
                    <a:pt x="457191" y="0"/>
                  </a:moveTo>
                  <a:lnTo>
                    <a:pt x="457191" y="0"/>
                  </a:lnTo>
                  <a:arcTo wR="457190" hR="456618" stAng="-5399992" swAng="5400000"/>
                </a:path>
              </a:pathLst>
            </a:custGeom>
            <a:noFill/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I</a:t>
            </a:r>
            <a:r>
              <a:rPr b="1" lang="hr-HR" sz="3600" spc="-1" strike="noStrike" baseline="-25000">
                <a:solidFill>
                  <a:srgbClr val="0000ff"/>
                </a:solidFill>
                <a:latin typeface="Calibri"/>
              </a:rPr>
              <a:t>3</a:t>
            </a: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) Koeficijent  zlatnog omjera K</a:t>
            </a:r>
            <a:r>
              <a:rPr b="1" lang="hr-HR" sz="3600" spc="-1" strike="noStrike" baseline="-25000">
                <a:solidFill>
                  <a:srgbClr val="0000ff"/>
                </a:solidFill>
                <a:latin typeface="Calibri"/>
              </a:rPr>
              <a:t>z</a:t>
            </a: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:</a:t>
            </a:r>
            <a:br>
              <a:rPr sz="3600"/>
            </a:br>
            <a:r>
              <a:rPr b="1" lang="hr-HR" sz="2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( 7. razred-mjerenje, 8.razred-iracionalni brojev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250920" y="4094280"/>
                <a:ext cx="31654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284040" y="2820960"/>
                <a:ext cx="28609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5" name="Rectangle 6"/>
          <p:cNvSpPr/>
          <p:nvPr/>
        </p:nvSpPr>
        <p:spPr>
          <a:xfrm>
            <a:off x="372960" y="5516640"/>
            <a:ext cx="654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1" lang="hr-HR" sz="2400" spc="-1" strike="noStrike" baseline="-25000">
                <a:solidFill>
                  <a:srgbClr val="ff3300"/>
                </a:solidFill>
                <a:latin typeface="Arial"/>
              </a:rPr>
              <a:t>z</a:t>
            </a:r>
            <a:r>
              <a:rPr b="0" lang="hr-HR" sz="2400" spc="-1" strike="noStrike">
                <a:solidFill>
                  <a:srgbClr val="ff3300"/>
                </a:solidFill>
                <a:latin typeface="Arial"/>
              </a:rPr>
              <a:t>≈1.6180339887498948482045868343656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7"/>
          <p:cNvGrpSpPr/>
          <p:nvPr/>
        </p:nvGrpSpPr>
        <p:grpSpPr>
          <a:xfrm>
            <a:off x="2627280" y="1052640"/>
            <a:ext cx="6121440" cy="2735640"/>
            <a:chOff x="2627280" y="1052640"/>
            <a:chExt cx="6121440" cy="2735640"/>
          </a:xfrm>
        </p:grpSpPr>
        <p:grpSp>
          <p:nvGrpSpPr>
            <p:cNvPr id="257" name="Group 8"/>
            <p:cNvGrpSpPr/>
            <p:nvPr/>
          </p:nvGrpSpPr>
          <p:grpSpPr>
            <a:xfrm>
              <a:off x="2627280" y="1658880"/>
              <a:ext cx="6121440" cy="2129400"/>
              <a:chOff x="2627280" y="1658880"/>
              <a:chExt cx="6121440" cy="2129400"/>
            </a:xfrm>
          </p:grpSpPr>
          <p:sp>
            <p:nvSpPr>
              <p:cNvPr id="258" name="Text Box 9"/>
              <p:cNvSpPr/>
              <p:nvPr/>
            </p:nvSpPr>
            <p:spPr>
              <a:xfrm>
                <a:off x="5146200" y="2887200"/>
                <a:ext cx="1244880" cy="9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9" name="Picture 10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2627280" y="1658880"/>
                <a:ext cx="6121440" cy="1126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0" name="AutoShape 11"/>
            <p:cNvSpPr/>
            <p:nvPr/>
          </p:nvSpPr>
          <p:spPr>
            <a:xfrm rot="5400000">
              <a:off x="5445720" y="-592560"/>
              <a:ext cx="338040" cy="4979880"/>
            </a:xfrm>
            <a:custGeom>
              <a:avLst/>
              <a:gdLst>
                <a:gd name="textAreaLeft" fmla="*/ 216000 w 338040"/>
                <a:gd name="textAreaRight" fmla="*/ 338400 w 338040"/>
                <a:gd name="textAreaTop" fmla="*/ 129600 h 4979880"/>
                <a:gd name="textAreaBottom" fmla="*/ 4850280 h 497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2"/>
            <p:cNvSpPr/>
            <p:nvPr/>
          </p:nvSpPr>
          <p:spPr>
            <a:xfrm>
              <a:off x="5366520" y="1052640"/>
              <a:ext cx="49752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2" name="Object 14"/>
              <p:cNvSpPr txBox="1"/>
              <p:nvPr/>
            </p:nvSpPr>
            <p:spPr>
              <a:xfrm>
                <a:off x="324000" y="1484280"/>
                <a:ext cx="211932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Rectangle 6"/>
          <p:cNvSpPr/>
          <p:nvPr/>
        </p:nvSpPr>
        <p:spPr>
          <a:xfrm>
            <a:off x="424440" y="6093000"/>
            <a:ext cx="428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1" lang="hr-HR" sz="2400" spc="-1" strike="noStrike" baseline="-25000">
                <a:solidFill>
                  <a:srgbClr val="ff3300"/>
                </a:solidFill>
                <a:latin typeface="Arial"/>
              </a:rPr>
              <a:t>z</a:t>
            </a:r>
            <a:r>
              <a:rPr b="0" lang="hr-HR" sz="2400" spc="-1" strike="noStrike">
                <a:solidFill>
                  <a:srgbClr val="ff3300"/>
                </a:solidFill>
                <a:latin typeface="Arial"/>
              </a:rPr>
              <a:t>-zlatni broj, božanski broj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zervirano mjesto broja slajda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90B8-C618-49C7-944E-EC37929A31B6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zervirano mjesto podnožja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3815" r="3951" b="0"/>
          <a:stretch/>
        </p:blipFill>
        <p:spPr>
          <a:xfrm>
            <a:off x="4754520" y="2708280"/>
            <a:ext cx="4389480" cy="4211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II. Pravilan peterok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12536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nogokut je pravilan ako su mu sve stranice jednake duljine i svi unutarnji kutovi jednake veličine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pravilnom peterokutu sve dijagonale su jednake duljine </a:t>
            </a:r>
            <a:r>
              <a:rPr b="0" lang="hr-HR" sz="2400" spc="-1" strike="noStrike">
                <a:solidFill>
                  <a:srgbClr val="0000ff"/>
                </a:solidFill>
                <a:latin typeface="Calibri"/>
              </a:rPr>
              <a:t>(sukladnosti trokuta ABC i ADE,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nutarnji kutovi 108</a:t>
            </a: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).</a:t>
            </a:r>
            <a:br>
              <a:rPr sz="2400"/>
            </a:b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TVRDNJ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Ako je </a:t>
            </a:r>
            <a:r>
              <a:rPr b="1" i="1" lang="hr-HR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duljina stranice i </a:t>
            </a:r>
            <a:r>
              <a:rPr b="1" i="1" lang="hr-HR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uljina dijagonale pravilnog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eterokuta onda vrijed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"/>
              <p:cNvSpPr txBox="1"/>
              <p:nvPr/>
            </p:nvSpPr>
            <p:spPr>
              <a:xfrm>
                <a:off x="1763640" y="4467240"/>
                <a:ext cx="19447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Rezervirano mjesto broja slajd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0679-DA47-4AFE-85F8-AFB67A62ACB9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zervirano mjesto podnožj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(II</a:t>
            </a:r>
            <a:r>
              <a:rPr b="1" lang="hr-HR" sz="3600" spc="-1" strike="noStrike" baseline="-25000">
                <a:solidFill>
                  <a:srgbClr val="0000ff"/>
                </a:solidFill>
                <a:latin typeface="Calibri"/>
              </a:rPr>
              <a:t>1</a:t>
            </a:r>
            <a:r>
              <a:rPr b="1" lang="hr-HR" sz="3600" spc="-1" strike="noStrike">
                <a:solidFill>
                  <a:srgbClr val="0000ff"/>
                </a:solidFill>
                <a:latin typeface="Calibri"/>
              </a:rPr>
              <a:t>) Dokaz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(8.razred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rcRect l="2188" t="3815" r="0" b="0"/>
          <a:stretch/>
        </p:blipFill>
        <p:spPr>
          <a:xfrm>
            <a:off x="4859280" y="1665360"/>
            <a:ext cx="4392720" cy="4140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1"/>
          <p:cNvSpPr/>
          <p:nvPr/>
        </p:nvSpPr>
        <p:spPr>
          <a:xfrm>
            <a:off x="0" y="7650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a) Uz oznake kao na slici promatrati trokute </a:t>
            </a: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∆EB'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∆AE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o su slični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jednakokračn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trokuti (kutovi 36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36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 108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2"/>
              <p:cNvSpPr txBox="1"/>
              <p:nvPr/>
            </p:nvSpPr>
            <p:spPr>
              <a:xfrm>
                <a:off x="179280" y="1700280"/>
                <a:ext cx="167652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D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D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Text Box 14"/>
          <p:cNvSpPr/>
          <p:nvPr/>
        </p:nvSpPr>
        <p:spPr>
          <a:xfrm>
            <a:off x="0" y="2708280"/>
            <a:ext cx="44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b) Analogno iz sličnosti trokuta  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∆B'DQ i  ∆ADP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5"/>
              <p:cNvSpPr txBox="1"/>
              <p:nvPr/>
            </p:nvSpPr>
            <p:spPr>
              <a:xfrm>
                <a:off x="0" y="3645000"/>
                <a:ext cx="23050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d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9" name="Text Box 16"/>
          <p:cNvSpPr/>
          <p:nvPr/>
        </p:nvSpPr>
        <p:spPr>
          <a:xfrm>
            <a:off x="0" y="465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c) Kako je:   IB’QI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EQI - IEB’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upa 12"/>
          <p:cNvGrpSpPr/>
          <p:nvPr/>
        </p:nvGrpSpPr>
        <p:grpSpPr>
          <a:xfrm>
            <a:off x="5661000" y="4643280"/>
            <a:ext cx="960480" cy="729000"/>
            <a:chOff x="5661000" y="4643280"/>
            <a:chExt cx="960480" cy="729000"/>
          </a:xfrm>
        </p:grpSpPr>
        <p:sp>
          <p:nvSpPr>
            <p:cNvPr id="281" name="TekstniOkvir 8"/>
            <p:cNvSpPr/>
            <p:nvPr/>
          </p:nvSpPr>
          <p:spPr>
            <a:xfrm>
              <a:off x="5661000" y="4643280"/>
              <a:ext cx="5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0" lang="hr-HR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kstniOkvir 10"/>
            <p:cNvSpPr/>
            <p:nvPr/>
          </p:nvSpPr>
          <p:spPr>
            <a:xfrm>
              <a:off x="5948640" y="4715280"/>
              <a:ext cx="5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0" lang="hr-HR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kstniOkvir 11"/>
            <p:cNvSpPr/>
            <p:nvPr/>
          </p:nvSpPr>
          <p:spPr>
            <a:xfrm>
              <a:off x="6114600" y="5004000"/>
              <a:ext cx="5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0" lang="hr-HR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4" name="Object 12"/>
              <p:cNvSpPr txBox="1"/>
              <p:nvPr/>
            </p:nvSpPr>
            <p:spPr>
              <a:xfrm>
                <a:off x="2556000" y="1628640"/>
                <a:ext cx="22622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15"/>
              <p:cNvSpPr txBox="1"/>
              <p:nvPr/>
            </p:nvSpPr>
            <p:spPr>
              <a:xfrm>
                <a:off x="3132000" y="3357720"/>
                <a:ext cx="14432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15"/>
              <p:cNvSpPr txBox="1"/>
              <p:nvPr/>
            </p:nvSpPr>
            <p:spPr>
              <a:xfrm>
                <a:off x="250920" y="5229360"/>
                <a:ext cx="28558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5"/>
              <p:cNvSpPr txBox="1"/>
              <p:nvPr/>
            </p:nvSpPr>
            <p:spPr>
              <a:xfrm>
                <a:off x="4427640" y="5950080"/>
                <a:ext cx="282888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/>
                    </m:f>
                    <m:r>
                      <m:t xml:space="preserve">2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Text Box 16"/>
          <p:cNvSpPr/>
          <p:nvPr/>
        </p:nvSpPr>
        <p:spPr>
          <a:xfrm>
            <a:off x="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d) Izjednačavanjem (b) i (c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zervirano mjesto broja slajda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E976-664F-42AB-81EA-349813B82BEE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zervirano mjesto podnožja 1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Jednakokračni trokut 21"/>
          <p:cNvSpPr/>
          <p:nvPr/>
        </p:nvSpPr>
        <p:spPr>
          <a:xfrm rot="8627400">
            <a:off x="5121000" y="2426760"/>
            <a:ext cx="2376360" cy="865440"/>
          </a:xfrm>
          <a:prstGeom prst="triangle">
            <a:avLst>
              <a:gd name="adj" fmla="val 50000"/>
            </a:avLst>
          </a:prstGeom>
          <a:solidFill>
            <a:srgbClr val="2eeea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Jednakokračni trokut 22"/>
          <p:cNvSpPr/>
          <p:nvPr/>
        </p:nvSpPr>
        <p:spPr>
          <a:xfrm rot="17262000">
            <a:off x="3929760" y="2705760"/>
            <a:ext cx="3710160" cy="136224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avni poveznik 24"/>
          <p:cNvSpPr/>
          <p:nvPr/>
        </p:nvSpPr>
        <p:spPr>
          <a:xfrm flipV="1">
            <a:off x="6588000" y="1827000"/>
            <a:ext cx="409680" cy="138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avni poveznik 25"/>
          <p:cNvSpPr/>
          <p:nvPr/>
        </p:nvSpPr>
        <p:spPr>
          <a:xfrm flipV="1">
            <a:off x="5135400" y="1827000"/>
            <a:ext cx="1862280" cy="1352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avni poveznik 31"/>
          <p:cNvSpPr/>
          <p:nvPr/>
        </p:nvSpPr>
        <p:spPr>
          <a:xfrm flipV="1">
            <a:off x="5869080" y="1827360"/>
            <a:ext cx="1128600" cy="353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avni poveznik 34"/>
          <p:cNvSpPr/>
          <p:nvPr/>
        </p:nvSpPr>
        <p:spPr>
          <a:xfrm flipV="1">
            <a:off x="6588000" y="1827000"/>
            <a:ext cx="409680" cy="138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avni poveznik 37"/>
          <p:cNvSpPr/>
          <p:nvPr/>
        </p:nvSpPr>
        <p:spPr>
          <a:xfrm>
            <a:off x="6588000" y="3213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avni poveznik 42"/>
          <p:cNvSpPr/>
          <p:nvPr/>
        </p:nvSpPr>
        <p:spPr>
          <a:xfrm flipV="1">
            <a:off x="5867280" y="1810800"/>
            <a:ext cx="1128960" cy="353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avni poveznik 43"/>
          <p:cNvSpPr/>
          <p:nvPr/>
        </p:nvSpPr>
        <p:spPr>
          <a:xfrm>
            <a:off x="5869080" y="5361120"/>
            <a:ext cx="115092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2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20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2000" fill="hold"/>
                                        <p:tgtEl>
                                          <p:spTgt spid="29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8" dur="20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2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21:18:02Z</dcterms:created>
  <dc:creator>blazenka i predrag</dc:creator>
  <dc:description/>
  <dc:language>en-US</dc:language>
  <cp:lastModifiedBy>bip</cp:lastModifiedBy>
  <dcterms:modified xsi:type="dcterms:W3CDTF">2012-06-26T05:01:45Z</dcterms:modified>
  <cp:revision>245</cp:revision>
  <dc:subject/>
  <dc:title>Pravilan mnogokut</dc:title>
</cp:coreProperties>
</file>