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8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F389-BBCD-404A-A07B-28ABBA599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835A-4AA2-4F66-A4D0-C7CA56C78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zervirano mjesto podnožja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93A4-3EAE-44B9-949F-9BEE0A1F7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zervirano mjesto podnožja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AEC0-A689-4161-8F7C-D0091272E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zervirano mjesto podnožja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B065D-E80D-4A2A-982E-1C1DC0EE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EB4F1-C904-477A-A756-E57A0D93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DC4A5-616D-4236-B8BE-F9EF1F95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0C7F8-60AA-4D86-9091-38AE22B9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D8E1F-4D39-4125-9C49-24BBA5A9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CEAD2-6A96-4DFF-92A2-EB140B44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67342-D813-4BC9-8DFB-2A52FDAC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2124C-9EB9-4126-93E9-200E286B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834F4-BDAC-46C5-958A-865E3820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E88F2-17BE-41A7-9C9C-C6EE3293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85B94-71B1-4570-970E-59CD599A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46F7A-CF27-4B4C-8BFC-7FB90130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176C6-24FE-4872-87DA-6CAB8B38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3D601-01FB-4811-A4DD-353CEBA0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8830B-9354-4DA2-96F0-48FE0965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9908F-E65F-4F10-A780-79A8D3D7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15D6D-B965-45CA-B746-D5382275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8A7C0-65F0-472B-9925-9A02B234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B002F-E997-47F9-B50A-E6094700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92C67-D21F-4B3B-97CF-91E71B07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8671D-F23B-4C7A-B226-03E460B6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5860E-CDE0-4682-BB2E-403DF230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38981-BE4B-44E8-A988-CE661726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99EFD-F7ED-43CC-9DA2-DA5D1DC3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80C1F-AD35-4FE2-9256-1F896C53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440A3-0937-4510-924F-34F0190C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79973-5ED1-4138-8C3A-D0726115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3A365-BFF0-4733-A85A-954093A7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916C8-8B66-4AD8-94AA-6A46992E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A3F36-1BE2-4F98-BDA1-90955F77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0B03F-9586-4867-8546-75421011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040D6-C08C-4678-8568-D2C7B0A1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FB60B-2EE1-4E6B-9A6A-2933FB4C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A53F9-8207-427F-B61F-EAD75732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FB9E1-085C-4273-AB41-04DB943F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72A75-F6F2-4C19-A8B2-D84CAC72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E8DD4-468F-42F6-8EE1-14013350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16C94-9B7A-4D72-961E-2F89BE2B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8823B-9E4C-42D3-B20F-67DC5CCE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6382D-57DD-4EC5-8EA9-30294488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8B76C-7D76-4CC7-934B-1257B34E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A8A24-1192-4D87-854A-878A97FA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DAC4E-A8A5-481F-B560-477A13D4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F1E0C-18F6-4C13-8C4C-EC025B8D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1D2E0-1A86-441E-91B7-5049422D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09528-A817-4E7D-8DAE-7CD0E1F1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5D147-CBFD-4D98-8FEF-6BA9E172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947F0-A1D8-4D95-98E7-C2EF6CF1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75D35-DB67-41BD-8956-F3A72012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00BE9-FADC-41B6-8528-75ADD487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7A86D-3941-40B6-8C7B-84D3223A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9D2F2-7047-4B45-8F11-46C8942F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63194-6803-464E-85D9-B88CF996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5CDE9-CB4F-4552-BD50-79136A2D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9F53F-A9AF-4241-AA2B-36C3F436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E5830-3B51-454D-80CA-56EB6809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EE78C-1524-45ED-BEA3-ADC47EEF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DE07A-249A-4C57-B69C-B4FF722B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E047E-E7B2-49C6-835E-6D51AC9D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B4EEB-575B-44D0-AD7C-23C14276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D3E3E-F37F-4074-ADB9-A35C1F39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F4449-7E36-40B1-BF76-0A32CA90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80315-4FAC-4E16-9D22-A75EC00F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EA041-C677-4FC6-8FD3-AE562FBD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52DDB-99C9-4ABE-A3CA-D4F928F8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9C62B-E39A-42C4-872D-C4AAD587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2BC97-9753-4095-9A00-7D2206DB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D0406-8F80-428D-8C75-7FDE8117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8CE20-3CA0-4E7A-A3B8-B9E993E0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93B1F-6508-4CB4-A864-DA4FEA59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F83E9-65EA-41F6-98EC-A392039D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55CC6-9122-447E-AF26-4256919B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3A48B-5213-4467-A40B-FDD5CB41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0678A-C0D3-48C4-9846-98F4C02C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51CB6-91AC-4704-8472-4FE6A71A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63782-75BA-41A5-98E0-EE926B0F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908A5-1C5D-48A9-945A-39AF1EC1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2E23D-6CE0-4257-9188-BCCA797E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8F36A-79EF-4E42-881B-B22885CA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F491F-DC97-42AD-BC94-21974A25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D6BDB-303A-4A23-B32C-4B3CA3F7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AEB41C-EAC1-4294-98F3-4DB3F71B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964BB1-D1A3-4F16-A4E3-1F76618C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9473DF-4E88-47BB-9BFC-4FFD6523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A10D5-824A-4FAB-A670-BABED359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D3DF1-B322-43F3-ABB9-24E05454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32203-C5D5-47FA-B560-CB866F22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C1198-C005-4265-B03F-E14CF7DF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6BAC0-FBE5-47C1-84EF-4522D844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D01D73-650A-4075-8AC0-3114F913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27D6B-EDF7-4709-BAB9-64032614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363BA-38F5-4BF7-89C5-DA1ADC5B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06D1E-61DA-45E4-9791-EEAB0B08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5181C-98C1-420A-9BA8-DF4D5E45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A69C7C-0F58-44EC-86A3-AE08BD83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3ECFC-A819-4550-B946-97398C5D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0E1381-4B66-4C7B-909E-F561D5A9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C0C707-2E5C-4C2C-A117-F89C900B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7E241-E79B-4C05-98D4-4684DC28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FABA67-D861-46C2-AAB1-56A2D77F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51FAF-36D2-46DF-8E51-0D4E8C7B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1D4266-8B16-479B-A672-F0CE4A91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14C85-509F-488F-858E-127CA0E4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0D1A6-2DF3-4142-8D2B-760B30A1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1B04ED-AAB4-4ECE-A582-461C3FEE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025090-FCED-48F5-841D-AB3F001D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3E4A62-F3F4-495F-9527-3DE606D5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3C2957-BDDA-4970-BD58-C04BBF6C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9F78AA-B0B7-4BA0-88F3-40960542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3B8F8D-1C84-481B-ADDD-2E2400C8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BE4ED6-3794-4693-8654-67B6DA11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7C9A25-5A91-4071-89C4-EB41A02B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B48EAC-06AC-4C8B-A1EA-0FAA7C56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06359A-FC8D-4D82-A528-39F839CD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0771BE-5AC5-4FFD-BD0D-98536123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1647EC-D2C2-4E7D-898F-24434EEA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4F7CC0-A2C2-4358-91D9-600EF519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17B3E7-859E-4FC3-A499-FE34EB5E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778946-F1C7-4811-8788-7D4F764A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15FE94-1CCA-40E6-9B39-E318A1FE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99C5D6-03B4-446F-81C4-6CBCE5BB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BF0742-14C9-4799-9BA5-5E8AFA36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543488-A41E-4B5E-9A13-28C4DBAC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517AA1-191D-49DC-9A5B-E5BE9526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15AD90-ACB5-4DEE-83B7-854B28FA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622630-9E01-4706-9E43-7A6CA774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B90E82-5F7E-4F64-BF34-B6293BFE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4C4B8F-1926-452A-B9CC-E281FC67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65B5C-870D-4573-B9ED-52820AA1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B51469-F647-462E-A80B-16237F98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05CB14-D566-43B8-ACB9-D90F9F4B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059800-1CD7-4F16-8B97-77746070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1AF91F-73A7-4C52-92C1-906D1647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AC77D6-BC31-412F-A5E8-53892CF2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5B14E9-953B-4534-8A0A-920278D3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3B3C41-9821-4F36-98C0-EBCCEFBC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D193F5-0E59-456C-B90B-EC4D4E4B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DD95DC-8784-489D-8BEA-25B0A828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59340C-C7C5-45C2-AC46-C7963C01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BA4F93-F08E-43DE-BA76-7B61885F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37B4A1-E92B-436A-B645-3681AB77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89E51E-2939-461A-AB30-14873C3F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E552BA-53F9-4754-885A-9349C1A5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5013D-42D4-4503-8C94-F08BABFC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1B1290-F77D-44EF-9C96-3034FAEE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CEED42-91FA-4025-9111-DEDED8F2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276EF3-BDEC-47FA-B6F1-B3B6A043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29EDB1-7CB3-4830-A829-612658C6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7FD4BD-2888-4EE2-9804-B194B20B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1EE006-E9F0-466A-9185-10D6753C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A283C6-8CAF-4757-BEB8-FADD6CA0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20EA8F-DBDC-4EC4-ADA8-B8EDF4B8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31A22-5D4E-4B00-805C-62DD1D82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B39506-CF44-4439-8F5B-25EBD423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857520-978D-4B2A-A640-4FAFC1ED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535EFF-CC9E-41C1-8D0E-54C670DE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1FEBC7-AB16-4671-8D9E-858A6CC7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954783-899A-4A2B-A64E-DF40F8A3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705C17-914A-42FD-920E-2400C85E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27E1AE-A32E-41D3-BE87-9C5983FD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D115C0-B78E-4D93-A05C-48BF33FA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3B9455-4404-46C2-90B5-36CA9BFC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1554B9-5507-467F-8CF1-CF240A8B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30E740-3409-4612-B3A9-F16E3A34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487ECF-9D4C-4913-8E77-6E1B45BE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5A5538-4312-4840-B8CF-D736919C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09A81E-B44C-49A0-88CC-40292230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6D8739-789D-491A-91A0-6EB80444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F8BDDF-C5EF-4B04-892A-273D0282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30BBFE-62EC-45B5-BA7F-B1062EAF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3F369D-B005-40B7-8453-CA2241B1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B52C5E-96D0-46CE-A391-D80441BF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10BB84-334E-4D7F-A46B-F553FCCB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F69902-67B5-4B9C-A894-9E56F99F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25ADA2-FD82-4ED2-B6C1-0C7165B0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4300A8-3ED9-40C7-8B48-4FEF04A9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CA716A-C3BE-456D-97D1-DBA2A382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3A47-F661-4ACC-95BC-B6A43903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54C-8852-4374-A114-114F2187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5FC-32E8-4353-BDF5-05232ED5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617-C646-48F2-A248-20A97FCF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5B1-98E3-4FDD-AA5F-B65568DA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2C0-E64F-4D12-ABF6-46E34057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DCC5-739D-4EB9-B12C-2D066362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706-4F6D-421A-8351-5E768A10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D6D-D27D-48F8-B3F8-B223A6BB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56E7-BEED-4944-B03F-46F4A018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2B4-FA00-4308-9AE9-4D9E018E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E4D-829D-4784-988A-0A1AF1CA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B5C9-F2B3-41F1-A925-E7D0C556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B379-C844-42FE-A9B0-DC623090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F869-41B4-43F8-BBFA-E7733F4F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2AB4-7BD8-41A1-A466-09997C07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C03D-EEBB-499B-BEFC-080E8D9B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DB8E-9385-49D5-8E0C-4168EFBA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EB2D-0465-404D-B5A4-DC371ABB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A16E-2141-472D-AE13-F76B240D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222C-22B4-4510-9BF4-049ABD73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3AA5-3871-4E1C-A18B-4AB1F9DD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1017-7EF1-4B97-A121-6AB1A552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695F-4E8F-4360-89AB-374821D3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C5E4F-303F-437A-8E53-2207AB2A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B646F-FB8D-4835-907B-633F67B1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649B5-19C0-4F39-A26E-CC212A7D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8CAD4-EF2F-4F90-81B5-9E4E4C88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5C400-0249-46BF-A3E8-A3F8E7B2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318EE-086F-4331-A06F-A9BF5092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92949-6015-420D-BD71-292AA0C6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BA4B5-6FF5-4D80-B6CF-FC1A22BE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37AAA-F5C1-4FFF-8A03-C4505FFB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2AF7A-F4FB-4BA6-A0F9-35D51416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E4F0A-4422-423D-ACCA-9AE459C9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AC40E-DCE3-42D6-ACFB-127B34AA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0BE05-9F92-4C6C-A6F5-3BB8B1E3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5578D-6AD6-43FF-8AF0-EEF2FE1B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78D1C-71AD-4690-AF12-44669448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930C7-DE41-4D49-9E0C-963B621E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13140-B1DB-4AC5-8555-3F837799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3D245-C0B3-4916-B478-8059204D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81A74-54D4-4A69-A94A-93D87EA4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CBF1B-8C61-4618-B48E-CBC8A76D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8AA04-0B73-4DFD-B630-5B421F54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EB81F-C882-4BD4-BFF1-6F5C0CFC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5949B-3105-4922-915C-7AFB637B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CA737-C17C-4048-AA0C-1FB9F8C0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E5970-0E22-4D91-95B4-5C38D434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DA465-5A7B-49CD-84CD-2EDCD312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46474-1622-40AB-93E5-06584037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E52F9-8ED9-46CF-8E12-3B561D7E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63705-ABDD-42FD-B90C-77EE2366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1B746-47E5-489D-BE4D-9A982208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8F73D-4EA4-49CC-AA6F-541F88AA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5204E-9E7B-427A-B190-27FF9717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39F17-AFC7-405A-B420-AE939840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006CE-BA8A-4065-B465-04FBE912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9C0BE-BDFA-45B1-84C9-3355B914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E4E8B-C50B-4BE5-B5B4-6C03A122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A521E-2BA5-464B-9D91-22150D71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4A152-604B-4563-AB27-B7F1DE82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65CBF-05CC-4BF4-B9BD-CC9E79F0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Picture 5" descr="AZOO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9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0023-AB9D-45BC-9533-77BE24CF60DB}" type="datetime">
              <a:rPr b="0" lang="sr-Latn-CS" sz="18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FB3A-6142-4947-B5C4-4199E5A49866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4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4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E012-7FF9-4099-81A9-5E8831E1989B}" type="datetime">
              <a:rPr b="0" lang="sr-Latn-CS" sz="18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174A-19C3-494D-B424-8F7D1980466F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8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3FCD-E1DA-45FB-A544-CE3C9FD10BCE}" type="datetime">
              <a:rPr b="0" lang="sr-Latn-CS" sz="18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FDBE-8814-4D8A-AC43-A2A0B15107B9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3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7F36-3474-402C-BDA7-E3474B230296}" type="datetime">
              <a:rPr b="0" lang="sr-Latn-CS" sz="18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B0D9-1C58-430B-B295-29C959C75FC2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6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7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D428-D24B-4B8E-81D9-50243ED9C621}" type="datetime">
              <a:rPr b="0" lang="sr-Latn-CS" sz="18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6F47-B4C6-4D12-B6A6-C396A158638F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0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2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1F2F-8B59-48F1-B261-9A14463963A9}" type="datetime">
              <a:rPr b="0" lang="sr-Latn-CS" sz="18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34ED-C2CA-4D9F-BCB8-80DCD5AE7349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6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F1C5-B3A4-4871-9A1C-FA25BD380F37}" type="datetime">
              <a:rPr b="0" lang="sr-Latn-CS" sz="18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D37A-4429-447F-8E66-C5B13DC7F60A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8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0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77CC-4368-4789-BC62-AD9CBFBDE803}" type="datetime">
              <a:rPr b="0" lang="sr-Latn-CS" sz="18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2387-6FFF-4212-A730-1B4807425A76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5E76-3E04-4528-98F9-B6A7FFDDF3E5}" type="datetime">
              <a:rPr b="0" lang="sr-Latn-CS" sz="18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A785-B065-4B52-A259-4EFC0AAF3100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6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9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27E0-B719-4EF9-93F8-AB2F6EAEC2C6}" type="datetime">
              <a:rPr b="0" lang="sr-Latn-CS" sz="18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3A45-7835-452A-8599-E3F2A30A6B29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0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4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7E9E-B7DE-450C-8905-9E353C54949A}" type="datetime">
              <a:rPr b="0" lang="sr-Latn-CS" sz="18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D8F7-B065-4F6E-982A-018A0ED706B0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8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F583-01CE-4C98-845D-938BB2DDACFD}" type="datetime">
              <a:rPr b="0" lang="sr-Latn-CS" sz="18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3C7D-2315-4142-A748-D29064D756BC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8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2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FE71-2E39-4F61-BB7C-EC724AF0C794}" type="datetime">
              <a:rPr b="0" lang="sr-Latn-CS" sz="18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E7EA-94EC-465B-9383-2DFC2DDF7ADF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8E41-C77F-410F-BEC1-3B646FBD9C8C}" type="datetime">
              <a:rPr b="0" lang="sr-Latn-CS" sz="18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59B6-6769-46EE-9C4D-491033601E3D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grpSp>
        <p:nvGrpSpPr>
          <p:cNvPr id="87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2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2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BDCA-412B-4FE8-9865-A36925D1DD14}" type="datetime">
              <a:rPr b="0" lang="sr-Latn-CS" sz="18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4F11-B17B-469B-8EAA-A07974E59540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7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D948-9F76-49F3-AC3C-06D59EE69A1F}" type="datetime">
              <a:rPr b="0" lang="sr-Latn-CS" sz="18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2A6C-11EC-489F-8011-F28675F78CDA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1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1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0141-8841-4654-BC82-8A1478E5DCD4}" type="datetime">
              <a:rPr b="0" lang="sr-Latn-CS" sz="18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590E-7EF5-48E4-89A6-B131BA8A191B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6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6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E31C-CE85-47D4-A666-1A8C0196DDCE}" type="datetime">
              <a:rPr b="0" lang="sr-Latn-CS" sz="18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D517-A7DC-4BB2-A5FA-BD45DB31FDC5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0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0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F09A-0D82-400A-B75B-E548B98FC28C}" type="datetime">
              <a:rPr b="0" lang="sr-Latn-CS" sz="18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EA74-C667-4AA0-99D5-92A9EA2EDC00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5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E300-A231-49E8-9D75-A648DADAFA0C}" type="datetime">
              <a:rPr b="0" lang="sr-Latn-CS" sz="1800" spc="-1" strike="noStrike">
                <a:solidFill>
                  <a:srgbClr val="000000"/>
                </a:solidFill>
                <a:latin typeface="Calibri"/>
              </a:rPr>
              <a:t>30.07.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DC85-1AA8-481D-8574-837A76318E8F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94920" y="249192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c00000"/>
                </a:solidFill>
                <a:latin typeface="Arial"/>
              </a:rPr>
              <a:t>Ponešto, što bi moglo zanimati</a:t>
            </a:r>
            <a:br>
              <a:rPr sz="4000"/>
            </a:br>
            <a:r>
              <a:rPr b="1" lang="hr-HR" sz="4000" spc="-1" strike="noStrike">
                <a:solidFill>
                  <a:srgbClr val="c00000"/>
                </a:solidFill>
                <a:latin typeface="Arial"/>
              </a:rPr>
              <a:t>učitelje matematike!</a:t>
            </a:r>
            <a:br>
              <a:rPr sz="4000"/>
            </a:b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3851280" y="4941360"/>
            <a:ext cx="4384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nica Kova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Zaključak”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to manje znaš više novaca zarađuješ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i koji ne mogu pratiti ovaj “dokaz” zarađuju puno novaca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0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Razmotrimo zadatak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i su prijatelja išli u hotel. Noćenje je koštalo 30 eura. Svaki od prijatelja je dao po 10 eu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što kasnije recepcionar se sjeti da noćenje košta 25 eura. Poslao je pomoćnika da trojici prijatelja vrati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5 eur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1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moćnik nije mogao podijeliti 5 eura trojici prijatelja pa je svakomu dao po 1 euro, a sebi je zadržao 2 eu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kle, svaki od prijatelja je platio po 9 eura što zajedno iznosi 27eur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moćnik je zadržao 2 eura, pa je sve zajedno 29 eu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 gdje je 1 euro?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2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A ovaj zadatak (za ocjenu jedva dovoljan)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49952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redi površinu pravokutnog trokuta kojemu je duljina hipotenuze 10 cm, a visina na tu hipotenuzu 6 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ješen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3" name="Object 8"/>
          <p:cNvGraphicFramePr/>
          <p:nvPr/>
        </p:nvGraphicFramePr>
        <p:xfrm>
          <a:off x="3059280" y="4394160"/>
          <a:ext cx="180000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4394160"/>
                    <a:ext cx="180000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3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Imaju li podaci u zadatku smisla?</a:t>
            </a:r>
            <a:br>
              <a:rPr sz="3200"/>
            </a:b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udući se radi o pravokutnom trokutu, središte njemu opisane kružnice nalazi se u polovištu hipotenuze te je njezin radijus 5 cm. Duljina visine spuštene na hipotenuzu ne može biti veća od 5 cm,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što znači da trokut sa zadanim elementima ne postoj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9" name="Picture 4" descr=""/>
          <p:cNvPicPr/>
          <p:nvPr/>
        </p:nvPicPr>
        <p:blipFill>
          <a:blip r:embed="rId1"/>
          <a:stretch/>
        </p:blipFill>
        <p:spPr>
          <a:xfrm>
            <a:off x="4067280" y="3645000"/>
            <a:ext cx="3178080" cy="3213000"/>
          </a:xfrm>
          <a:prstGeom prst="rect">
            <a:avLst/>
          </a:prstGeom>
          <a:ln w="0">
            <a:noFill/>
          </a:ln>
        </p:spPr>
      </p:pic>
      <p:sp>
        <p:nvSpPr>
          <p:cNvPr id="1070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4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58"/>
          <p:cNvSpPr/>
          <p:nvPr/>
        </p:nvSpPr>
        <p:spPr>
          <a:xfrm>
            <a:off x="395280" y="242100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Jeste li se ikad upitali, zašto se zapisuje: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1 “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jedan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”, 2 “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dva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”, 3 “tr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”…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57"/>
          <p:cNvSpPr/>
          <p:nvPr/>
        </p:nvSpPr>
        <p:spPr>
          <a:xfrm>
            <a:off x="142920" y="71280"/>
            <a:ext cx="728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Arapske znamenke (u počecima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5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Oval 5"/>
          <p:cNvSpPr/>
          <p:nvPr/>
        </p:nvSpPr>
        <p:spPr>
          <a:xfrm>
            <a:off x="900000" y="2133720"/>
            <a:ext cx="789120" cy="14396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Group 8"/>
          <p:cNvGrpSpPr/>
          <p:nvPr/>
        </p:nvGrpSpPr>
        <p:grpSpPr>
          <a:xfrm>
            <a:off x="2268360" y="2060280"/>
            <a:ext cx="432000" cy="1511280"/>
            <a:chOff x="2268360" y="2060280"/>
            <a:chExt cx="432000" cy="1511280"/>
          </a:xfrm>
        </p:grpSpPr>
        <p:sp>
          <p:nvSpPr>
            <p:cNvPr id="1076" name="Line 6"/>
            <p:cNvSpPr/>
            <p:nvPr/>
          </p:nvSpPr>
          <p:spPr>
            <a:xfrm flipV="1">
              <a:off x="2268360" y="2060280"/>
              <a:ext cx="432000" cy="55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7"/>
            <p:cNvSpPr/>
            <p:nvPr/>
          </p:nvSpPr>
          <p:spPr>
            <a:xfrm>
              <a:off x="2700360" y="2060640"/>
              <a:ext cx="0" cy="1510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Group 13"/>
          <p:cNvGrpSpPr/>
          <p:nvPr/>
        </p:nvGrpSpPr>
        <p:grpSpPr>
          <a:xfrm>
            <a:off x="3409920" y="2151000"/>
            <a:ext cx="999720" cy="1401480"/>
            <a:chOff x="3409920" y="2151000"/>
            <a:chExt cx="999720" cy="1401480"/>
          </a:xfrm>
        </p:grpSpPr>
        <p:sp>
          <p:nvSpPr>
            <p:cNvPr id="1079" name="Line 9"/>
            <p:cNvSpPr/>
            <p:nvPr/>
          </p:nvSpPr>
          <p:spPr>
            <a:xfrm>
              <a:off x="3531240" y="2164320"/>
              <a:ext cx="878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10"/>
            <p:cNvSpPr/>
            <p:nvPr/>
          </p:nvSpPr>
          <p:spPr>
            <a:xfrm flipH="1">
              <a:off x="3438000" y="2151000"/>
              <a:ext cx="957600" cy="1401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11"/>
            <p:cNvSpPr/>
            <p:nvPr/>
          </p:nvSpPr>
          <p:spPr>
            <a:xfrm>
              <a:off x="3409920" y="3552480"/>
              <a:ext cx="878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Line 14"/>
          <p:cNvSpPr/>
          <p:nvPr/>
        </p:nvSpPr>
        <p:spPr>
          <a:xfrm>
            <a:off x="4427640" y="522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65"/>
          <p:cNvGrpSpPr/>
          <p:nvPr/>
        </p:nvGrpSpPr>
        <p:grpSpPr>
          <a:xfrm>
            <a:off x="5219640" y="2151000"/>
            <a:ext cx="875880" cy="1427040"/>
            <a:chOff x="5219640" y="2151000"/>
            <a:chExt cx="875880" cy="1427040"/>
          </a:xfrm>
        </p:grpSpPr>
        <p:sp>
          <p:nvSpPr>
            <p:cNvPr id="1084" name="Line 15"/>
            <p:cNvSpPr/>
            <p:nvPr/>
          </p:nvSpPr>
          <p:spPr>
            <a:xfrm>
              <a:off x="5229720" y="2161440"/>
              <a:ext cx="86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16"/>
            <p:cNvSpPr/>
            <p:nvPr/>
          </p:nvSpPr>
          <p:spPr>
            <a:xfrm>
              <a:off x="5219640" y="3567600"/>
              <a:ext cx="86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17"/>
            <p:cNvSpPr/>
            <p:nvPr/>
          </p:nvSpPr>
          <p:spPr>
            <a:xfrm flipH="1">
              <a:off x="5623560" y="2151000"/>
              <a:ext cx="471600" cy="681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18"/>
            <p:cNvSpPr/>
            <p:nvPr/>
          </p:nvSpPr>
          <p:spPr>
            <a:xfrm>
              <a:off x="5613480" y="2811240"/>
              <a:ext cx="471600" cy="766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Group 64"/>
          <p:cNvGrpSpPr/>
          <p:nvPr/>
        </p:nvGrpSpPr>
        <p:grpSpPr>
          <a:xfrm>
            <a:off x="7093080" y="2057400"/>
            <a:ext cx="720360" cy="1584000"/>
            <a:chOff x="7093080" y="2057400"/>
            <a:chExt cx="720360" cy="1584000"/>
          </a:xfrm>
        </p:grpSpPr>
        <p:sp>
          <p:nvSpPr>
            <p:cNvPr id="1089" name="Line 20"/>
            <p:cNvSpPr/>
            <p:nvPr/>
          </p:nvSpPr>
          <p:spPr>
            <a:xfrm>
              <a:off x="7813440" y="2057400"/>
              <a:ext cx="0" cy="158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21"/>
            <p:cNvSpPr/>
            <p:nvPr/>
          </p:nvSpPr>
          <p:spPr>
            <a:xfrm>
              <a:off x="7093080" y="2974320"/>
              <a:ext cx="72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Line 22"/>
            <p:cNvSpPr/>
            <p:nvPr/>
          </p:nvSpPr>
          <p:spPr>
            <a:xfrm flipV="1">
              <a:off x="7093080" y="2069280"/>
              <a:ext cx="720360" cy="91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Group 63"/>
          <p:cNvGrpSpPr/>
          <p:nvPr/>
        </p:nvGrpSpPr>
        <p:grpSpPr>
          <a:xfrm>
            <a:off x="1042920" y="4576680"/>
            <a:ext cx="863280" cy="1512720"/>
            <a:chOff x="1042920" y="4576680"/>
            <a:chExt cx="863280" cy="1512720"/>
          </a:xfrm>
        </p:grpSpPr>
        <p:sp>
          <p:nvSpPr>
            <p:cNvPr id="1093" name="Line 24"/>
            <p:cNvSpPr/>
            <p:nvPr/>
          </p:nvSpPr>
          <p:spPr>
            <a:xfrm>
              <a:off x="1042920" y="4576680"/>
              <a:ext cx="863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25"/>
            <p:cNvSpPr/>
            <p:nvPr/>
          </p:nvSpPr>
          <p:spPr>
            <a:xfrm>
              <a:off x="1042920" y="5298840"/>
              <a:ext cx="863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26"/>
            <p:cNvSpPr/>
            <p:nvPr/>
          </p:nvSpPr>
          <p:spPr>
            <a:xfrm>
              <a:off x="1042920" y="6089400"/>
              <a:ext cx="863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27"/>
            <p:cNvSpPr/>
            <p:nvPr/>
          </p:nvSpPr>
          <p:spPr>
            <a:xfrm>
              <a:off x="1076760" y="4586760"/>
              <a:ext cx="0" cy="711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28"/>
            <p:cNvSpPr/>
            <p:nvPr/>
          </p:nvSpPr>
          <p:spPr>
            <a:xfrm>
              <a:off x="1871640" y="5298840"/>
              <a:ext cx="0" cy="790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29"/>
            <p:cNvSpPr/>
            <p:nvPr/>
          </p:nvSpPr>
          <p:spPr>
            <a:xfrm>
              <a:off x="1076760" y="5852160"/>
              <a:ext cx="0" cy="23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Group 53"/>
          <p:cNvGrpSpPr/>
          <p:nvPr/>
        </p:nvGrpSpPr>
        <p:grpSpPr>
          <a:xfrm>
            <a:off x="4356000" y="4530600"/>
            <a:ext cx="804600" cy="1584000"/>
            <a:chOff x="4356000" y="4530600"/>
            <a:chExt cx="804600" cy="1584000"/>
          </a:xfrm>
        </p:grpSpPr>
        <p:sp>
          <p:nvSpPr>
            <p:cNvPr id="1100" name="Line 31"/>
            <p:cNvSpPr/>
            <p:nvPr/>
          </p:nvSpPr>
          <p:spPr>
            <a:xfrm>
              <a:off x="4368600" y="455436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32"/>
            <p:cNvSpPr/>
            <p:nvPr/>
          </p:nvSpPr>
          <p:spPr>
            <a:xfrm flipH="1">
              <a:off x="4503240" y="4533840"/>
              <a:ext cx="647640" cy="1580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33"/>
            <p:cNvSpPr/>
            <p:nvPr/>
          </p:nvSpPr>
          <p:spPr>
            <a:xfrm>
              <a:off x="4630320" y="541404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34"/>
            <p:cNvSpPr/>
            <p:nvPr/>
          </p:nvSpPr>
          <p:spPr>
            <a:xfrm>
              <a:off x="4381200" y="4530600"/>
              <a:ext cx="0" cy="473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35"/>
            <p:cNvSpPr/>
            <p:nvPr/>
          </p:nvSpPr>
          <p:spPr>
            <a:xfrm>
              <a:off x="4356000" y="5015160"/>
              <a:ext cx="215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Group 52"/>
          <p:cNvGrpSpPr/>
          <p:nvPr/>
        </p:nvGrpSpPr>
        <p:grpSpPr>
          <a:xfrm>
            <a:off x="5940360" y="4556160"/>
            <a:ext cx="948960" cy="1584000"/>
            <a:chOff x="5940360" y="4556160"/>
            <a:chExt cx="948960" cy="1584000"/>
          </a:xfrm>
        </p:grpSpPr>
        <p:sp>
          <p:nvSpPr>
            <p:cNvPr id="1106" name="Line 37"/>
            <p:cNvSpPr/>
            <p:nvPr/>
          </p:nvSpPr>
          <p:spPr>
            <a:xfrm>
              <a:off x="5940360" y="4575960"/>
              <a:ext cx="94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Line 38"/>
            <p:cNvSpPr/>
            <p:nvPr/>
          </p:nvSpPr>
          <p:spPr>
            <a:xfrm>
              <a:off x="5940360" y="6120720"/>
              <a:ext cx="94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39"/>
            <p:cNvSpPr/>
            <p:nvPr/>
          </p:nvSpPr>
          <p:spPr>
            <a:xfrm flipV="1">
              <a:off x="5940360" y="4556160"/>
              <a:ext cx="948960" cy="158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40"/>
            <p:cNvSpPr/>
            <p:nvPr/>
          </p:nvSpPr>
          <p:spPr>
            <a:xfrm>
              <a:off x="5940360" y="4556160"/>
              <a:ext cx="948960" cy="158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Group 62"/>
          <p:cNvGrpSpPr/>
          <p:nvPr/>
        </p:nvGrpSpPr>
        <p:grpSpPr>
          <a:xfrm>
            <a:off x="2700360" y="4576680"/>
            <a:ext cx="864720" cy="1512720"/>
            <a:chOff x="2700360" y="4576680"/>
            <a:chExt cx="864720" cy="1512720"/>
          </a:xfrm>
        </p:grpSpPr>
        <p:sp>
          <p:nvSpPr>
            <p:cNvPr id="1111" name="Line 55"/>
            <p:cNvSpPr/>
            <p:nvPr/>
          </p:nvSpPr>
          <p:spPr>
            <a:xfrm flipH="1">
              <a:off x="2700360" y="4576680"/>
              <a:ext cx="83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56"/>
            <p:cNvSpPr/>
            <p:nvPr/>
          </p:nvSpPr>
          <p:spPr>
            <a:xfrm flipH="1">
              <a:off x="2733480" y="5292720"/>
              <a:ext cx="83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57"/>
            <p:cNvSpPr/>
            <p:nvPr/>
          </p:nvSpPr>
          <p:spPr>
            <a:xfrm flipH="1">
              <a:off x="2722320" y="6066720"/>
              <a:ext cx="83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58"/>
            <p:cNvSpPr/>
            <p:nvPr/>
          </p:nvSpPr>
          <p:spPr>
            <a:xfrm>
              <a:off x="2733480" y="4576680"/>
              <a:ext cx="0" cy="716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59"/>
            <p:cNvSpPr/>
            <p:nvPr/>
          </p:nvSpPr>
          <p:spPr>
            <a:xfrm>
              <a:off x="2733480" y="5292720"/>
              <a:ext cx="0" cy="79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61"/>
            <p:cNvSpPr/>
            <p:nvPr/>
          </p:nvSpPr>
          <p:spPr>
            <a:xfrm>
              <a:off x="3530160" y="5294160"/>
              <a:ext cx="0" cy="79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Oval 70"/>
          <p:cNvSpPr/>
          <p:nvPr/>
        </p:nvSpPr>
        <p:spPr>
          <a:xfrm>
            <a:off x="2543040" y="2413080"/>
            <a:ext cx="73080" cy="7308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Group 126"/>
          <p:cNvGrpSpPr/>
          <p:nvPr/>
        </p:nvGrpSpPr>
        <p:grpSpPr>
          <a:xfrm>
            <a:off x="3622680" y="2243160"/>
            <a:ext cx="590400" cy="1233360"/>
            <a:chOff x="3622680" y="2243160"/>
            <a:chExt cx="590400" cy="1233360"/>
          </a:xfrm>
        </p:grpSpPr>
        <p:sp>
          <p:nvSpPr>
            <p:cNvPr id="1119" name="Oval 69"/>
            <p:cNvSpPr/>
            <p:nvPr/>
          </p:nvSpPr>
          <p:spPr>
            <a:xfrm>
              <a:off x="4140360" y="2243160"/>
              <a:ext cx="7272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73"/>
            <p:cNvSpPr/>
            <p:nvPr/>
          </p:nvSpPr>
          <p:spPr>
            <a:xfrm>
              <a:off x="3622680" y="3403800"/>
              <a:ext cx="73080" cy="7272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Group 119"/>
          <p:cNvGrpSpPr/>
          <p:nvPr/>
        </p:nvGrpSpPr>
        <p:grpSpPr>
          <a:xfrm>
            <a:off x="7304040" y="2395440"/>
            <a:ext cx="423720" cy="758880"/>
            <a:chOff x="7304040" y="2395440"/>
            <a:chExt cx="423720" cy="758880"/>
          </a:xfrm>
        </p:grpSpPr>
        <p:sp>
          <p:nvSpPr>
            <p:cNvPr id="1122" name="Oval 74"/>
            <p:cNvSpPr/>
            <p:nvPr/>
          </p:nvSpPr>
          <p:spPr>
            <a:xfrm>
              <a:off x="7304040" y="282708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75"/>
            <p:cNvSpPr/>
            <p:nvPr/>
          </p:nvSpPr>
          <p:spPr>
            <a:xfrm>
              <a:off x="7655040" y="3081240"/>
              <a:ext cx="7272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76"/>
            <p:cNvSpPr/>
            <p:nvPr/>
          </p:nvSpPr>
          <p:spPr>
            <a:xfrm>
              <a:off x="7655040" y="2395440"/>
              <a:ext cx="7272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77"/>
            <p:cNvSpPr/>
            <p:nvPr/>
          </p:nvSpPr>
          <p:spPr>
            <a:xfrm>
              <a:off x="7651800" y="281448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127"/>
          <p:cNvGrpSpPr/>
          <p:nvPr/>
        </p:nvGrpSpPr>
        <p:grpSpPr>
          <a:xfrm>
            <a:off x="5737320" y="2255760"/>
            <a:ext cx="169920" cy="1220760"/>
            <a:chOff x="5737320" y="2255760"/>
            <a:chExt cx="169920" cy="1220760"/>
          </a:xfrm>
        </p:grpSpPr>
        <p:sp>
          <p:nvSpPr>
            <p:cNvPr id="1127" name="Oval 71"/>
            <p:cNvSpPr/>
            <p:nvPr/>
          </p:nvSpPr>
          <p:spPr>
            <a:xfrm>
              <a:off x="5737320" y="2806920"/>
              <a:ext cx="73080" cy="7272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72"/>
            <p:cNvSpPr/>
            <p:nvPr/>
          </p:nvSpPr>
          <p:spPr>
            <a:xfrm>
              <a:off x="5796000" y="225576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Oval 78"/>
            <p:cNvSpPr/>
            <p:nvPr/>
          </p:nvSpPr>
          <p:spPr>
            <a:xfrm>
              <a:off x="5834160" y="3403800"/>
              <a:ext cx="73080" cy="7272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Group 122"/>
          <p:cNvGrpSpPr/>
          <p:nvPr/>
        </p:nvGrpSpPr>
        <p:grpSpPr>
          <a:xfrm>
            <a:off x="1162080" y="4660920"/>
            <a:ext cx="615960" cy="1344600"/>
            <a:chOff x="1162080" y="4660920"/>
            <a:chExt cx="615960" cy="1344600"/>
          </a:xfrm>
        </p:grpSpPr>
        <p:sp>
          <p:nvSpPr>
            <p:cNvPr id="1131" name="Oval 81"/>
            <p:cNvSpPr/>
            <p:nvPr/>
          </p:nvSpPr>
          <p:spPr>
            <a:xfrm>
              <a:off x="1171440" y="4660920"/>
              <a:ext cx="73080" cy="7272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82"/>
            <p:cNvSpPr/>
            <p:nvPr/>
          </p:nvSpPr>
          <p:spPr>
            <a:xfrm>
              <a:off x="1174680" y="513216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83"/>
            <p:cNvSpPr/>
            <p:nvPr/>
          </p:nvSpPr>
          <p:spPr>
            <a:xfrm>
              <a:off x="1704960" y="5381640"/>
              <a:ext cx="73080" cy="7272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Oval 84"/>
            <p:cNvSpPr/>
            <p:nvPr/>
          </p:nvSpPr>
          <p:spPr>
            <a:xfrm>
              <a:off x="1692360" y="5919840"/>
              <a:ext cx="73080" cy="7272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Oval 85"/>
            <p:cNvSpPr/>
            <p:nvPr/>
          </p:nvSpPr>
          <p:spPr>
            <a:xfrm>
              <a:off x="1162080" y="593244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Group 121"/>
          <p:cNvGrpSpPr/>
          <p:nvPr/>
        </p:nvGrpSpPr>
        <p:grpSpPr>
          <a:xfrm>
            <a:off x="2828880" y="4660920"/>
            <a:ext cx="577800" cy="1332000"/>
            <a:chOff x="2828880" y="4660920"/>
            <a:chExt cx="577800" cy="1332000"/>
          </a:xfrm>
        </p:grpSpPr>
        <p:sp>
          <p:nvSpPr>
            <p:cNvPr id="1137" name="Oval 79"/>
            <p:cNvSpPr/>
            <p:nvPr/>
          </p:nvSpPr>
          <p:spPr>
            <a:xfrm>
              <a:off x="2828880" y="514044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Oval 80"/>
            <p:cNvSpPr/>
            <p:nvPr/>
          </p:nvSpPr>
          <p:spPr>
            <a:xfrm>
              <a:off x="2833560" y="466092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Oval 87"/>
            <p:cNvSpPr/>
            <p:nvPr/>
          </p:nvSpPr>
          <p:spPr>
            <a:xfrm>
              <a:off x="3324240" y="591984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Oval 88"/>
            <p:cNvSpPr/>
            <p:nvPr/>
          </p:nvSpPr>
          <p:spPr>
            <a:xfrm>
              <a:off x="2828880" y="591192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Oval 89"/>
            <p:cNvSpPr/>
            <p:nvPr/>
          </p:nvSpPr>
          <p:spPr>
            <a:xfrm>
              <a:off x="3333960" y="5386680"/>
              <a:ext cx="72720" cy="7272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Oval 90"/>
            <p:cNvSpPr/>
            <p:nvPr/>
          </p:nvSpPr>
          <p:spPr>
            <a:xfrm>
              <a:off x="2833560" y="538164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Group 123"/>
          <p:cNvGrpSpPr/>
          <p:nvPr/>
        </p:nvGrpSpPr>
        <p:grpSpPr>
          <a:xfrm>
            <a:off x="4449600" y="4622760"/>
            <a:ext cx="555840" cy="941400"/>
            <a:chOff x="4449600" y="4622760"/>
            <a:chExt cx="555840" cy="941400"/>
          </a:xfrm>
        </p:grpSpPr>
        <p:sp>
          <p:nvSpPr>
            <p:cNvPr id="1144" name="Oval 86"/>
            <p:cNvSpPr/>
            <p:nvPr/>
          </p:nvSpPr>
          <p:spPr>
            <a:xfrm>
              <a:off x="4452840" y="462744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95"/>
            <p:cNvSpPr/>
            <p:nvPr/>
          </p:nvSpPr>
          <p:spPr>
            <a:xfrm>
              <a:off x="4838760" y="549108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Oval 96"/>
            <p:cNvSpPr/>
            <p:nvPr/>
          </p:nvSpPr>
          <p:spPr>
            <a:xfrm>
              <a:off x="4605480" y="5487840"/>
              <a:ext cx="7272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Oval 97"/>
            <p:cNvSpPr/>
            <p:nvPr/>
          </p:nvSpPr>
          <p:spPr>
            <a:xfrm>
              <a:off x="4923000" y="5262480"/>
              <a:ext cx="7272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98"/>
            <p:cNvSpPr/>
            <p:nvPr/>
          </p:nvSpPr>
          <p:spPr>
            <a:xfrm>
              <a:off x="4668840" y="526248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99"/>
            <p:cNvSpPr/>
            <p:nvPr/>
          </p:nvSpPr>
          <p:spPr>
            <a:xfrm>
              <a:off x="4932360" y="462276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00"/>
            <p:cNvSpPr/>
            <p:nvPr/>
          </p:nvSpPr>
          <p:spPr>
            <a:xfrm>
              <a:off x="4449600" y="486540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Group 124"/>
          <p:cNvGrpSpPr/>
          <p:nvPr/>
        </p:nvGrpSpPr>
        <p:grpSpPr>
          <a:xfrm>
            <a:off x="6110280" y="4648320"/>
            <a:ext cx="622080" cy="1395360"/>
            <a:chOff x="6110280" y="4648320"/>
            <a:chExt cx="622080" cy="1395360"/>
          </a:xfrm>
        </p:grpSpPr>
        <p:sp>
          <p:nvSpPr>
            <p:cNvPr id="1152" name="Oval 91"/>
            <p:cNvSpPr/>
            <p:nvPr/>
          </p:nvSpPr>
          <p:spPr>
            <a:xfrm>
              <a:off x="6377040" y="5546880"/>
              <a:ext cx="7272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92"/>
            <p:cNvSpPr/>
            <p:nvPr/>
          </p:nvSpPr>
          <p:spPr>
            <a:xfrm>
              <a:off x="6364080" y="507204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val 93"/>
            <p:cNvSpPr/>
            <p:nvPr/>
          </p:nvSpPr>
          <p:spPr>
            <a:xfrm>
              <a:off x="6659640" y="4648320"/>
              <a:ext cx="7272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94"/>
            <p:cNvSpPr/>
            <p:nvPr/>
          </p:nvSpPr>
          <p:spPr>
            <a:xfrm>
              <a:off x="6126120" y="465300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101"/>
            <p:cNvSpPr/>
            <p:nvPr/>
          </p:nvSpPr>
          <p:spPr>
            <a:xfrm>
              <a:off x="6618240" y="595800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102"/>
            <p:cNvSpPr/>
            <p:nvPr/>
          </p:nvSpPr>
          <p:spPr>
            <a:xfrm>
              <a:off x="6110280" y="597060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val 103"/>
            <p:cNvSpPr/>
            <p:nvPr/>
          </p:nvSpPr>
          <p:spPr>
            <a:xfrm>
              <a:off x="6527880" y="5297400"/>
              <a:ext cx="7272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104"/>
            <p:cNvSpPr/>
            <p:nvPr/>
          </p:nvSpPr>
          <p:spPr>
            <a:xfrm>
              <a:off x="6219720" y="531324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125"/>
          <p:cNvGrpSpPr/>
          <p:nvPr/>
        </p:nvGrpSpPr>
        <p:grpSpPr>
          <a:xfrm>
            <a:off x="7621560" y="4699080"/>
            <a:ext cx="611280" cy="1365120"/>
            <a:chOff x="7621560" y="4699080"/>
            <a:chExt cx="611280" cy="1365120"/>
          </a:xfrm>
        </p:grpSpPr>
        <p:sp>
          <p:nvSpPr>
            <p:cNvPr id="1161" name="Oval 105"/>
            <p:cNvSpPr/>
            <p:nvPr/>
          </p:nvSpPr>
          <p:spPr>
            <a:xfrm>
              <a:off x="7629480" y="470376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Oval 106"/>
            <p:cNvSpPr/>
            <p:nvPr/>
          </p:nvSpPr>
          <p:spPr>
            <a:xfrm>
              <a:off x="8151840" y="469908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Oval 107"/>
            <p:cNvSpPr/>
            <p:nvPr/>
          </p:nvSpPr>
          <p:spPr>
            <a:xfrm>
              <a:off x="8159760" y="598824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Oval 108"/>
            <p:cNvSpPr/>
            <p:nvPr/>
          </p:nvSpPr>
          <p:spPr>
            <a:xfrm>
              <a:off x="8159760" y="515772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Oval 109"/>
            <p:cNvSpPr/>
            <p:nvPr/>
          </p:nvSpPr>
          <p:spPr>
            <a:xfrm>
              <a:off x="7621560" y="516096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Oval 110"/>
            <p:cNvSpPr/>
            <p:nvPr/>
          </p:nvSpPr>
          <p:spPr>
            <a:xfrm>
              <a:off x="7642080" y="5991480"/>
              <a:ext cx="73080" cy="7272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val 111"/>
            <p:cNvSpPr/>
            <p:nvPr/>
          </p:nvSpPr>
          <p:spPr>
            <a:xfrm>
              <a:off x="7837560" y="571176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Oval 112"/>
            <p:cNvSpPr/>
            <p:nvPr/>
          </p:nvSpPr>
          <p:spPr>
            <a:xfrm>
              <a:off x="7642080" y="5721480"/>
              <a:ext cx="73080" cy="7308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oup 115"/>
          <p:cNvGrpSpPr/>
          <p:nvPr/>
        </p:nvGrpSpPr>
        <p:grpSpPr>
          <a:xfrm>
            <a:off x="7524720" y="4581360"/>
            <a:ext cx="804960" cy="1582920"/>
            <a:chOff x="7524720" y="4581360"/>
            <a:chExt cx="804960" cy="1582920"/>
          </a:xfrm>
        </p:grpSpPr>
        <p:sp>
          <p:nvSpPr>
            <p:cNvPr id="1170" name="Line 48"/>
            <p:cNvSpPr/>
            <p:nvPr/>
          </p:nvSpPr>
          <p:spPr>
            <a:xfrm>
              <a:off x="8313840" y="4581360"/>
              <a:ext cx="0" cy="74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1" name="Group 114"/>
            <p:cNvGrpSpPr/>
            <p:nvPr/>
          </p:nvGrpSpPr>
          <p:grpSpPr>
            <a:xfrm>
              <a:off x="7524720" y="4581360"/>
              <a:ext cx="804960" cy="1582920"/>
              <a:chOff x="7524720" y="4581360"/>
              <a:chExt cx="804960" cy="1582920"/>
            </a:xfrm>
          </p:grpSpPr>
          <p:sp>
            <p:nvSpPr>
              <p:cNvPr id="1172" name="Line 42"/>
              <p:cNvSpPr/>
              <p:nvPr/>
            </p:nvSpPr>
            <p:spPr>
              <a:xfrm>
                <a:off x="7524720" y="4619520"/>
                <a:ext cx="777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Line 43"/>
              <p:cNvSpPr/>
              <p:nvPr/>
            </p:nvSpPr>
            <p:spPr>
              <a:xfrm>
                <a:off x="7539120" y="5302080"/>
                <a:ext cx="776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Line 44"/>
              <p:cNvSpPr/>
              <p:nvPr/>
            </p:nvSpPr>
            <p:spPr>
              <a:xfrm>
                <a:off x="7551720" y="6141960"/>
                <a:ext cx="777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Line 45"/>
              <p:cNvSpPr/>
              <p:nvPr/>
            </p:nvSpPr>
            <p:spPr>
              <a:xfrm>
                <a:off x="7548480" y="4581360"/>
                <a:ext cx="0" cy="749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46"/>
              <p:cNvSpPr/>
              <p:nvPr/>
            </p:nvSpPr>
            <p:spPr>
              <a:xfrm>
                <a:off x="8315280" y="5330520"/>
                <a:ext cx="0" cy="833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47"/>
              <p:cNvSpPr/>
              <p:nvPr/>
            </p:nvSpPr>
            <p:spPr>
              <a:xfrm>
                <a:off x="7569360" y="5663880"/>
                <a:ext cx="0" cy="500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Line 50"/>
              <p:cNvSpPr/>
              <p:nvPr/>
            </p:nvSpPr>
            <p:spPr>
              <a:xfrm>
                <a:off x="7977240" y="5601960"/>
                <a:ext cx="0" cy="252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Line 113"/>
              <p:cNvSpPr/>
              <p:nvPr/>
            </p:nvSpPr>
            <p:spPr>
              <a:xfrm>
                <a:off x="7537320" y="5635440"/>
                <a:ext cx="43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0" name="Text Box 116"/>
          <p:cNvSpPr/>
          <p:nvPr/>
        </p:nvSpPr>
        <p:spPr>
          <a:xfrm>
            <a:off x="901800" y="2637000"/>
            <a:ext cx="82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0000"/>
                </a:solidFill>
                <a:latin typeface="Arial"/>
              </a:rPr>
              <a:t>NEM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0000"/>
                </a:solidFill>
                <a:latin typeface="Arial"/>
              </a:rPr>
              <a:t>KUTOV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110"/>
          <p:cNvSpPr/>
          <p:nvPr/>
        </p:nvSpPr>
        <p:spPr>
          <a:xfrm>
            <a:off x="142920" y="71280"/>
            <a:ext cx="728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Jednostavno, zapis određuje broj kuto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11"/>
          <p:cNvSpPr/>
          <p:nvPr/>
        </p:nvSpPr>
        <p:spPr>
          <a:xfrm>
            <a:off x="140328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Elipsa 110"/>
          <p:cNvSpPr/>
          <p:nvPr/>
        </p:nvSpPr>
        <p:spPr>
          <a:xfrm>
            <a:off x="8139240" y="537372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6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Malo o nekim brojevim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itagora: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roj upravlja svemirom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itagorejci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V. i VI. st. prije Krista) su smatrali da se sve zakonitosti svijeta mogu izraziti brojevima, zato jer je svijet splet harmonije i bro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"/>
          <p:cNvSpPr/>
          <p:nvPr/>
        </p:nvSpPr>
        <p:spPr>
          <a:xfrm>
            <a:off x="8296200" y="6307200"/>
            <a:ext cx="8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7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Tajna broja 7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zmimo bilo koji četveroznamenkasti broj i napišimo ga dva puta (npr. 24682468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aj broj podijelimo s 13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biveni rezultat podijelimo četveroznamenkastim brojem kojega smo odabrali na počet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hr-HR" sz="2800" spc="-1" strike="noStrike">
                <a:solidFill>
                  <a:srgbClr val="c00000"/>
                </a:solidFill>
                <a:latin typeface="Arial"/>
              </a:rPr>
              <a:t>Rezultat je broj 73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8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Zašto?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napišemo dva puta četveroznamenkasti broj to je isto kao da taj broj pomnožimo s 10 001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stražujte i nađite nove primje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9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395280" y="16999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Dok mislim znam, a kada treb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odgovoriti ne znam“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Sv. August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"/>
          <p:cNvSpPr/>
          <p:nvPr/>
        </p:nvSpPr>
        <p:spPr>
          <a:xfrm>
            <a:off x="8532720" y="652464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2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A broj 22 ?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aberite bilo koje tri različite znamen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risteći ih napišite sve moguće dvoznamenkaste brojeve različitih znamena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dijelite zbroj dvoznamenkastih brojeva sa zbrojem odabranih znamen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cc00"/>
                </a:solidFill>
                <a:latin typeface="Arial"/>
              </a:rPr>
              <a:t>                                     </a:t>
            </a:r>
            <a:r>
              <a:rPr b="0" lang="hr-HR" sz="2800" spc="-1" strike="noStrike">
                <a:solidFill>
                  <a:srgbClr val="c00000"/>
                </a:solidFill>
                <a:latin typeface="Arial"/>
              </a:rPr>
              <a:t>Rezultat je 2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20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Rješenj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ka su x, y i z tri različite znamen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broj svih mogućih dvoznamenkastih brojeva je: xy+xz+yx+yz+zx+zy=10x+y+10x+z+10y+x+10y+z+10z+x+10z+y=22x+22y+22z=22(x+y+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2(x+y+z):(x+y+z)=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21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Brojevi 13 i 16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drat broja 16 je 256, a zbroj njegovih znamenaka je 1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drat broja 13 je 169, a zbroj njegovih znamenaka je 1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22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tângulo 4"/>
          <p:cNvSpPr/>
          <p:nvPr/>
        </p:nvSpPr>
        <p:spPr>
          <a:xfrm>
            <a:off x="-396720" y="1628640"/>
            <a:ext cx="9540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 x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+ 1</a:t>
            </a:r>
            <a:r>
              <a:rPr b="1" lang="pt-BR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pt-BR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9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2 x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pt-BR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 9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23 x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 8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1" lang="pt-BR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pt-BR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87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234 x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+ 4</a:t>
            </a:r>
            <a:r>
              <a:rPr b="1" lang="pt-BR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pt-BR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876</a:t>
            </a:r>
            <a:br>
              <a:rPr sz="3200"/>
            </a:br>
            <a:r>
              <a:rPr b="1" lang="hr-HR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2345 x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+ 5</a:t>
            </a:r>
            <a:r>
              <a:rPr b="1" lang="pt-BR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pt-BR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87 65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23456 x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+ 6</a:t>
            </a:r>
            <a:r>
              <a:rPr b="1" lang="pt-BR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pt-BR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87654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234567 x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+ 7</a:t>
            </a:r>
            <a:r>
              <a:rPr b="1" lang="pt-BR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pt-BR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876543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2345678 x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+ 8</a:t>
            </a:r>
            <a:r>
              <a:rPr b="1" lang="pt-BR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pt-BR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8765432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23456789 x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+ 9</a:t>
            </a:r>
            <a:r>
              <a:rPr b="1" lang="pt-BR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pt-BR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8765432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8"/>
          <p:cNvSpPr/>
          <p:nvPr/>
        </p:nvSpPr>
        <p:spPr>
          <a:xfrm>
            <a:off x="611280" y="189000"/>
            <a:ext cx="49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hr-HR" sz="3600" spc="-1" strike="noStrike">
                <a:solidFill>
                  <a:srgbClr val="c00000"/>
                </a:solidFill>
                <a:latin typeface="Arial"/>
              </a:rPr>
              <a:t>Čudesne” simetrij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23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tângulo 4"/>
          <p:cNvSpPr/>
          <p:nvPr/>
        </p:nvSpPr>
        <p:spPr>
          <a:xfrm>
            <a:off x="571680" y="836640"/>
            <a:ext cx="774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1 x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+ 2 =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11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12 x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+ 3 =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111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123 x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+ 4 =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1111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1234 x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+ 5 =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11111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12345 x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+ 6 =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111111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123456 x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+ 7 =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1111111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1234567 x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+ 8 =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11111111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12345678 x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+ 9 =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111111111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123456789 x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+10=</a:t>
            </a:r>
            <a:r>
              <a:rPr b="1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111111111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24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tângulo 1"/>
          <p:cNvSpPr/>
          <p:nvPr/>
        </p:nvSpPr>
        <p:spPr>
          <a:xfrm>
            <a:off x="826920" y="1484280"/>
            <a:ext cx="712980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 x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7 =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8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8 x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6 =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88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87 x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5 =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888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876 x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4 =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8888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8765 x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3 =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88888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87654 x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2 =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888888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876543 x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1 =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8888888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8765432 x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0 =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88888888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25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tângulo 1"/>
          <p:cNvSpPr/>
          <p:nvPr/>
        </p:nvSpPr>
        <p:spPr>
          <a:xfrm>
            <a:off x="900000" y="1484280"/>
            <a:ext cx="712800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1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1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11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121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111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12321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1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1111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34321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11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11111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3454321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111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111111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345654321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1111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1111111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34567654321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11111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11111111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3456787654321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1111111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111111111 =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345678987654321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tângulo 2"/>
          <p:cNvSpPr/>
          <p:nvPr/>
        </p:nvSpPr>
        <p:spPr>
          <a:xfrm>
            <a:off x="1285920" y="500040"/>
            <a:ext cx="671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26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Europski kod na proizvodim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naljepnici svakog proizvoda nacrtane su tamne crte, a ispod njih su brojev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oće li biti sličnosti sa sljedećom prič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27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Mikroprocesori u školskim uniformam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Brazilu mikroprocesori će biti ugrađeni u majice koji su sastavni dio školske uniforme i morat će ih nositi svi učenici stariji od 14 god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enzor na ulazu u školu će sve nepravilnosti registrirati, a računalo odmah slati roditeljima SMS poru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28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ličan sustava nadzora imaju i Ir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Australiji će svaki građanin prijaviti najbližem policajcu kada u vrijeme nastave na ulici vidi uniformirano dije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00000"/>
                </a:solidFill>
                <a:latin typeface="Arial"/>
              </a:rPr>
              <a:t>A kod nas!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Iz članka Među nama u Šk. n. Br.12 od 27. ožujka 2012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29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689004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Jedan zadatak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0" y="1341000"/>
            <a:ext cx="9144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usreli se dva prijatelja A i B. Osoba B je matematič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A kaže: Imam tri si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B:  Koliko imaju godin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A:  Produkt njihovih godina je 36, a zbroj njihovih godina je broj koji je na ovoj kuć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B:  Razmišlja i kaže: Daj mi još jedan podata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A:  Moj najstariji sin ima plave oč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B:  Hvala znam i kaže rješen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Rezervirano mjesto datuma 3"/>
          <p:cNvSpPr/>
          <p:nvPr/>
        </p:nvSpPr>
        <p:spPr>
          <a:xfrm>
            <a:off x="1792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8532720" y="652464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3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I još nešto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ežte li vejoratvi da svtanro mežtoe rzmjautei što peiš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emra itsžrainjvau na Cmabrigde Uinervtisjyu, njie btino po kjoem rdeu su sovla solžnea, vžano je smao da su pvro i poljsdenje sovlo na pavrom mesjtu.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A ujivek msmlio kkao je tčonsot psianja</a:t>
            </a:r>
            <a:br>
              <a:rPr sz="2800"/>
            </a:b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vžana!</a:t>
            </a:r>
            <a:br>
              <a:rPr sz="2800"/>
            </a:br>
            <a:br>
              <a:rPr sz="2800"/>
            </a:br>
            <a:br>
              <a:rPr sz="2400"/>
            </a:br>
            <a:br>
              <a:rPr sz="2000"/>
            </a:b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30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Nastava je i “predstava”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30268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čitelj je, dakle i glumac. Jeste li ikada poželjeli vidjeti sebe kako “glumite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gledajmo snimku jednog nastavnoga s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nimite i vi barem jedan svoj nastavni sa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lozi: Procjena uspješnosti nastavnoga sata, Mali test postignuća i Svjedodžba iz 1855. god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31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c00000"/>
                </a:solidFill>
                <a:latin typeface="Arial"/>
              </a:rPr>
              <a:t>Hval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c00000"/>
                </a:solidFill>
                <a:latin typeface="Arial"/>
              </a:rPr>
              <a:t>na susretu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8" name="Picture 4" descr="matematicki sat"/>
          <p:cNvPicPr/>
          <p:nvPr/>
        </p:nvPicPr>
        <p:blipFill>
          <a:blip r:embed="rId1"/>
          <a:stretch/>
        </p:blipFill>
        <p:spPr>
          <a:xfrm>
            <a:off x="3635280" y="981000"/>
            <a:ext cx="5508720" cy="5365800"/>
          </a:xfrm>
          <a:prstGeom prst="rect">
            <a:avLst/>
          </a:prstGeom>
          <a:ln w="0">
            <a:noFill/>
          </a:ln>
        </p:spPr>
      </p:pic>
      <p:sp>
        <p:nvSpPr>
          <p:cNvPr id="1229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32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4321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Rješenje</a:t>
            </a:r>
            <a:br>
              <a:rPr sz="3200"/>
            </a:b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323640" y="1773000"/>
            <a:ext cx="856908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bc=36 (postoji 8 mogućnos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36,1,1) – (18,2,1) – (12,3,1) – (9,4,1) – (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9,2,2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) – (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6,6,1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) – ( 6,3,2) – (4,3,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hr-HR" sz="2800" spc="-1" strike="noStrike">
                <a:solidFill>
                  <a:srgbClr val="c00000"/>
                </a:solidFill>
                <a:latin typeface="Arial"/>
              </a:rPr>
              <a:t>Rješenje: 9,2,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"/>
          <p:cNvSpPr/>
          <p:nvPr/>
        </p:nvSpPr>
        <p:spPr>
          <a:xfrm>
            <a:off x="8532720" y="652464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4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Jedna dosjetk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0" y="1341360"/>
            <a:ext cx="86868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bert Einstein često je obilazio sveučilišta i predavao o teoriji relativnosti. Jednoga dana vozač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u reč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:  „Gospodine profesore, vaše predavanje sam poslušao već 30 puta. Znam ga napamet. Mogao bih vas zamijeniti. 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"Odlično", dajem vam priliku.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vdje, kamo putujemo, me ne poznaju.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jte mi vašu vozačku kapu, a vi se predstavite kao profesor Einstein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Rezervirano mjesto datuma 3"/>
          <p:cNvSpPr/>
          <p:nvPr/>
        </p:nvSpPr>
        <p:spPr>
          <a:xfrm>
            <a:off x="1792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zervirano mjesto broja slajda 5"/>
          <p:cNvSpPr/>
          <p:nvPr/>
        </p:nvSpPr>
        <p:spPr>
          <a:xfrm>
            <a:off x="7956720" y="6245280"/>
            <a:ext cx="793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8532720" y="652464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5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ozač j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rsno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držao predavanje. Kad je htio otići, neki profesor mu je postavio komplicirano pitanje iz matematik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ozač se nije dao smesti, već je samo mirno odgovorio: "Iznenađen sam da mi postavljate tako jednostavno pitanje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dgovor zna čak i moj vozač. Pitajte ga!"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"/>
          <p:cNvSpPr/>
          <p:nvPr/>
        </p:nvSpPr>
        <p:spPr>
          <a:xfrm>
            <a:off x="8532720" y="652464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6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Koliko zarađujemo? (Našalimo se…)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ore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čitelji nikada ne mogu zaraditi novaca koliko zarade inženjeri (biznismen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ka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tpostavim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nanje je Moć (Snag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rijeme je Nov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"/>
          <p:cNvSpPr/>
          <p:nvPr/>
        </p:nvSpPr>
        <p:spPr>
          <a:xfrm>
            <a:off x="8532720" y="652464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7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ženjer zna da j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naga (Moć)=Rad/ Vrij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udući da je Snaga (Moć)=Znanje 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rijeme =Novac slijed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00000"/>
                </a:solidFill>
                <a:latin typeface="Arial"/>
              </a:rPr>
              <a:t>Znanje =Rad/Novac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t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00000"/>
                </a:solidFill>
                <a:latin typeface="Arial"/>
              </a:rPr>
              <a:t>Novac = Rad/Znan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"/>
          <p:cNvSpPr/>
          <p:nvPr/>
        </p:nvSpPr>
        <p:spPr>
          <a:xfrm>
            <a:off x="8532720" y="652464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8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00000"/>
                </a:solidFill>
                <a:latin typeface="Arial"/>
              </a:rPr>
              <a:t>Novac = Rad/Znan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da Znanje teži 0 Novac teži  beskonač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00000"/>
                </a:solidFill>
                <a:latin typeface="Arial"/>
              </a:rPr>
              <a:t>Znanje =Rad/Nov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da  Novac teži 0 Znanje teži beskonač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"/>
          <p:cNvSpPr/>
          <p:nvPr/>
        </p:nvSpPr>
        <p:spPr>
          <a:xfrm>
            <a:off x="8317080" y="652464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9/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7:02:39Z</dcterms:created>
  <dc:creator>Anica Kovac;Robert Gortan</dc:creator>
  <dc:description/>
  <dc:language>en-US</dc:language>
  <cp:lastModifiedBy>akovac</cp:lastModifiedBy>
  <dcterms:modified xsi:type="dcterms:W3CDTF">2012-09-04T08:30:02Z</dcterms:modified>
  <cp:revision>473</cp:revision>
  <dc:subject/>
  <dc:title>Opatija 2012</dc:title>
</cp:coreProperties>
</file>