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9620-7CB4-4619-A497-0C54E36899C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rnold J. Toynbee, 1934.  - slabljenje kreativne manj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F. Capra, 1982 – The 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6C3-5F4E-40C0-852A-3ACF0759196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A9B-F37D-4E4C-9503-62454332681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BDA-D651-4CD7-BAC5-B8EEEF7F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D3E-F28C-4500-8E9C-F4A4144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890-03AD-456C-98F9-FA442C78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A69-2025-42F6-ABF3-B0DC3570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BDA-52A0-4BDF-98BD-E7A4475D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28F-C08B-4B61-830C-B2841E9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71B-A12E-4157-B1EB-46C52DE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9DF-8656-4B3B-A440-3AAB261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807-C4FC-48C4-B630-DB4C449B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97A-B84E-4005-A3CE-A5DA33E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7CC-8024-4CC4-90A5-4494B2E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1BE-FDBC-4ECD-84AF-A1E99C2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ACAB-4A70-4A20-93F0-326E0367AA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E3A-9C23-4A5D-B10F-96076A03D7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116000" y="2251080"/>
            <a:ext cx="73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Calibri"/>
              </a:rPr>
              <a:t>ZNAČAJ I STANDARD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Calibri"/>
              </a:rPr>
              <a:t>RAZVOJA KREATIVN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Calibri"/>
              </a:rPr>
              <a:t>U OSNOVNOJ ŠKOL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babies_44"/>
          <p:cNvPicPr/>
          <p:nvPr/>
        </p:nvPicPr>
        <p:blipFill>
          <a:blip r:embed="rId1"/>
          <a:stretch/>
        </p:blipFill>
        <p:spPr>
          <a:xfrm>
            <a:off x="6643800" y="907920"/>
            <a:ext cx="1458720" cy="1032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6323040" y="453960"/>
            <a:ext cx="21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Calibri"/>
              </a:rPr>
              <a:t>ŠKOLSKA PSIHOLO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D0E-1B40-4270-898C-91445AFC36F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900000" y="2060640"/>
            <a:ext cx="72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U ŽIVOTU UVIJEK POSTOJI SAMO JEDNO PRAVO RJEŠENJ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FF52-2363-4F8D-B9BF-9A03B45F8B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116000" y="2133720"/>
            <a:ext cx="669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jedina sigurnost u životu je – nesigurno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SAMOCENZUR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idej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2870-3A6C-43E0-B2C4-9536AAF7AD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771640" y="2276640"/>
            <a:ext cx="43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aradoks </a:t>
            </a: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specijalizacij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C8E3-5D7E-42C6-B594-39DCAB735D8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900000" y="299736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BOJITE LI SE NEUSPJEH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3B1-E58F-45AD-AFF4-E9682F22018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258920" y="1052640"/>
            <a:ext cx="67690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NE POSTOJI NEUSPJE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d god pokušamo nešto napraviti i ne uspijemo, to nije neuspjeh - naučili smo nešto što ne rad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d netko kaže da nikad nije napravio pogrešku, mi u biti pričamo s osobom koja nikad nije pokušala nešto no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CBD9-F26A-4019-A966-0ED460E0E9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900000" y="285264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KAKO RAZMIŠLJ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FF8-4F06-43D0-989F-A6CDB509B0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826920" y="2060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životna iskustva su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neutraln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i im dajemo smisao našim načinom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interpretacij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0213-DC28-42F9-89CB-C9DD0A4301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763640" y="1413000"/>
            <a:ext cx="60483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ISKLJUČUJUĆE MIŠLJENJE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logično, analitično, razumno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sključuju se sve informacije koje nisu vezane za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raženje načina kako eliminirati moguć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A55-C03B-4533-ACCC-FBF0D0EBF95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763640" y="2276640"/>
            <a:ext cx="5616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UKLJUČUJUĆE MIŠLJENJ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kreativno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- traže se načini kako uključiti sve, uključujući i stvari koje su potpuno različite i nepoveza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4A0E-FD37-414C-974A-C2A0069140E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1403280" y="1484280"/>
            <a:ext cx="66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MAŠT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je važnija od zn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Znanje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je ograničeno na sve što trenutno znamo i razumije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Mašt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je neograničena, ona obuhvaća sve ono što će ikad biti dostupno znanju i razumijevanju..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Albert Einste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3E0F-2230-4948-83D1-DBBD53DE8F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84360" y="912960"/>
            <a:ext cx="7929360" cy="3727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042920" y="501336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Nastanak i nestanak civilizacija na Sredozemlju (prema Capra, 1982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6ED-774A-4442-AE05-962D4C210B7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042920" y="836640"/>
            <a:ext cx="71294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KREATIVNOST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imati puno znanja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boraviti na nj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idjeti neočekivane poveznice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ne imati mentalnu zbr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diti puno i marljivo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 raditi ništa dok se informacije “misaono obrađuj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tvarati mnoštvo ideja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prihvaćati da su mnoge beskoris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ledati na istu stvar kao i svi drugi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idjeti nešto dr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željeti uspjeh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hvatiti neuspj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iti ustrajan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ne tvrdogl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lušati “stručnjake”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ALI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nati kako ih ne č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75A3-4F51-43A2-9F53-60CA78EF113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40000" y="2205000"/>
            <a:ext cx="58323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0000"/>
                </a:solidFill>
                <a:latin typeface="Calibri"/>
              </a:rPr>
              <a:t>Hvala na pažnj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mamce.ilic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099/2440-5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048/220-3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>
            <a:alphaModFix amt="46000"/>
          </a:blip>
          <a:stretch/>
        </p:blipFill>
        <p:spPr>
          <a:xfrm>
            <a:off x="611280" y="476280"/>
            <a:ext cx="2300040" cy="26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sp>
        <p:nvSpPr>
          <p:cNvPr id="13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285-37FB-441B-8A2C-65B573EB68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258920" y="2421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ZNAMO LI KAKO ĆE SVIJET IZGLEDATI ZA PET GOD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3169-04F0-4D59-B41C-D4998965F91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258920" y="2205000"/>
            <a:ext cx="662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anas djecu obrazujemo za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NEZAMISLIVO,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stoga ih podučavajmo kreativnos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ir Ke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3CF-96A0-433C-B366-4F4082A6465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843280" y="1773360"/>
            <a:ext cx="36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KREATIV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71A-CCD0-4EC2-AACE-2B5CADA29F7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403280" y="2708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DA LI STE VI KREATIV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DC45-86AF-4A34-846A-A1A99E0647B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extBox 4" descr=""/>
          <p:cNvPicPr/>
          <p:nvPr/>
        </p:nvPicPr>
        <p:blipFill>
          <a:blip r:embed="rId1"/>
          <a:stretch/>
        </p:blipFill>
        <p:spPr>
          <a:xfrm>
            <a:off x="1542960" y="1798560"/>
            <a:ext cx="63453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7DEB-46FC-4338-9788-8240C9A4B72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050920" y="2276640"/>
            <a:ext cx="496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reativni rade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strastveno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uno i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stvaraju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nevjerojatan broj ideja, od kojih je većina </a:t>
            </a: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LOŠIH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ipanj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Mamče Ilić, psiho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EC7-7711-4B75-8C2F-D6AF8C44C1A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40000" y="2492280"/>
            <a:ext cx="482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ENERGIZIRANJE</a:t>
            </a: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ozg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37:51Z</dcterms:created>
  <dc:creator>Maki</dc:creator>
  <dc:description/>
  <dc:language>en-US</dc:language>
  <cp:lastModifiedBy>User</cp:lastModifiedBy>
  <dcterms:modified xsi:type="dcterms:W3CDTF">2012-07-02T06:44:56Z</dcterms:modified>
  <cp:revision>138</cp:revision>
  <dc:subject/>
  <dc:title>PowerPoint Presentation</dc:title>
</cp:coreProperties>
</file>