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F5D-AC26-41EF-99BD-332633DEAB7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5C60-FACA-41B2-86F7-0C3AA3C7302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25B-EDBB-4600-B35D-CDB428DEFFD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F34-7B6C-4208-A330-F1CE95CD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D18-030E-461F-9024-79B05A4A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94A-8EC1-4BF2-8FCC-412B46A3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467-FF30-445A-A5FE-FC42F63E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9F8-90C4-4C27-9D5F-8438CF6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C71-85DD-45D9-BABA-7067B02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764-F596-4B0D-AEA6-A75F0BCA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9B7-5BCF-4F32-9BBA-EC90B9CA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753-4214-439B-8A0C-5CDCD058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2B0-0115-4DA8-877C-92CF990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C7F-1F84-48F6-85B3-F08D4F1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923-B8D7-4DDC-BE9A-9590EA9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d7"/>
            </a:gs>
            <a:gs pos="100000">
              <a:srgbClr val="ffebfa">
                <a:alpha val="54117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087-24CD-44C8-848D-F6A3CFDF5C43}" type="slidenum">
              <a:rPr b="0" lang="hr-HR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vjera/Lektira-Martina.doc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dovni-velja&#269;a7-12.doc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IOOP-Ivan.doc" TargetMode="External"/><Relationship Id="rId2" Type="http://schemas.openxmlformats.org/officeDocument/2006/relationships/hyperlink" Target="file:///IOOP-Martina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868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VRJEDNOVANJE POSTIGNUĆA 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UČENIKA S POSEBNIM OBRAZOVNIM POTREBAMA 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tručni skup za učitelje i nastavnike Hrvatskoga jezika Primorsko-goranske županije 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1960"/>
            <a:ext cx="64008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patija, 27. kolovoza 201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Vilma Lukanovi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ć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učiteljica savjetnic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ablica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5042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ica 1" descr=""/>
          <p:cNvPicPr/>
          <p:nvPr/>
        </p:nvPicPr>
        <p:blipFill>
          <a:blip r:embed="rId1"/>
          <a:stretch/>
        </p:blipFill>
        <p:spPr>
          <a:xfrm>
            <a:off x="426960" y="365040"/>
            <a:ext cx="8504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ablica 1" descr=""/>
          <p:cNvPicPr/>
          <p:nvPr/>
        </p:nvPicPr>
        <p:blipFill>
          <a:blip r:embed="rId1"/>
          <a:stretch/>
        </p:blipFill>
        <p:spPr>
          <a:xfrm>
            <a:off x="426960" y="365040"/>
            <a:ext cx="850428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ablica 1" descr=""/>
          <p:cNvPicPr/>
          <p:nvPr/>
        </p:nvPicPr>
        <p:blipFill>
          <a:blip r:embed="rId1"/>
          <a:stretch/>
        </p:blipFill>
        <p:spPr>
          <a:xfrm>
            <a:off x="426960" y="639720"/>
            <a:ext cx="85042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rategije potpore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prilagodba metoda, sredstava, oblika, postupaka, zahtjev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403992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9680" y="1857240"/>
            <a:ext cx="40402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dvajanje bitnog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lagođavanje teksta: uvećanje i pojačanje tiska, isticanje u tekstu  (uokvirivanje, podcrtava-nje); umetanje crta za nadopunjavanje tekst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većanje prostora za pisanje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3280" y="1285560"/>
            <a:ext cx="40420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85960"/>
            <a:ext cx="4041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dvajanje bitnog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lagođavanje teksta: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samo velika slo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uvećanje i pojačanje tiska, isticanje u tekstu  (uokvirivanje, podcrta-vanje); umetanje crta za nadopunjavanje teksta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većanje prostora za pisan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rategije potpore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prilagodba metoda, sredstava, oblika, postupaka, zahtjeva)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nastavak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ulje vrijeme rješavanja zadataka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čko približavanje učeniku prigodom zadavanja zadatka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ulje vrijeme rješavanja zadata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čko približavanje učenici prigodom zadavanja i rješavanja zadat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čitanje zadatka i dodatno objašnjavanje dijelova zadataka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864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rategije potpore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prilagodba metoda, sredstava, oblika, postupaka, zahtjeva)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nastavak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404028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680" y="2286000"/>
            <a:ext cx="4039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hvala uloženog napora 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štivanje zajedničkih dogovora u odnosu na provođenje planiranih aktivnosti 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ticanje interakcije i suradničkog učenja (sudjelovanje u igrama i radu u skupinama - radionice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3280" y="1714680"/>
            <a:ext cx="404208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3280" y="2286000"/>
            <a:ext cx="4042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hvala uloženog napora 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štivanje zajedničkih dogovora u odnosu na provođenje planiranih aktivnosti 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ticanje interakcije i suradničkog učenja (sudjelovanje u radu u skupinama – radionice)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dopuštanje povremenog ustajanj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UPROTNE REČENICE – prilagodba; 1. primj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785880"/>
          <a:ext cx="8572320" cy="582120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rogram redovne nast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lagođeni program - Iv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 Zadane jednostavne rečenice poveži u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nezavisno složene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protne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rečenic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zor!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Ako uporabiš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ri različita suprotna veznik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 dobit ćeš dodatni bod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)Zanimljiv je Robinsonov živo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e bismo željeli biti na njegovu mjes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) Nije se utopio poput ostali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splivao je na pusti oto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) Nije očajavao. Odlučio je preživje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ane jednostavne rečenice poveži u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zavisno složene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otne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čenic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r!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ko uporabiš 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 različita suprotna veznika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bit ćeš dodatni bod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Zanimljiv je Robinsonov živo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bismo željeli biti na njegovu mjes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imljiv je Robinsonov život ____ 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mo željeli biti na njegovu mjes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Nije se utopio poput ostali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livao je na pusti oto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je se utopio poput ostalih _______ je isplivao na pusti oto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Nije očajavao. Odlučio je preživje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je očajavao_____ je odlučio preživj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UPROTNE REČENICE – prilagodba; 1. primjer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POVEŽI ZADANE REČENICE. PAZI NA SMISAO REČENICE!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)   MLADIĆ SE NIJE UTOP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ISPLIVAO JE NA PUSTI OTOK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MLADIĆ SE NIJE UTOPIO, ________ JE ISPLIVAO NA PUSTI OTOK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B) ZANIMLJIV JE NJEGOV ŽIVOT.  NE ZAVIDIMO MU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NIMLJIV JE NJEGOV ŽIVOT, _______ MU NE ZAVIDIM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2. REČENICE KOJE SI NAPISALA U 1. ZADATKU JESU: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) SASTAV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B) SUPROT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UPROTNE REČENICE – prilagodba; 2. primj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857160"/>
          <a:ext cx="8286480" cy="571176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rogram redovne nast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lagođeni program - Iv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odcrtaj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edikate,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okruži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znike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na crtu napiši kakva je svaka rečenica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o sadržaju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insona ćemo osuditi ili ćemo mu se divit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__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Pustolov se nadao spasu, no ostao je na otoku cijelu vječnost.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Želio je upoznati ljude te otkriti nove krajeve.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Roman je nastao davno, a još izaziva pozornost stvaralaca.                                        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Zaokruži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veznik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dredi je li rečenica sastavna (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, rastavna (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ili suprotna (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obinsona ćemo osuditi ili ćemo mu se divi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             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A         R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) Pustolov se nadao spasu, no ostao je na otoku cijelu vječno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             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A         R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SU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) Želio je upoznati ljude te otkriti nove krajeve.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SA         R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) Roman je nastao davno, a još izaziva pozornost stvaralaca.               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SA         R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42960" y="515520"/>
            <a:ext cx="8072280" cy="60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razovni ish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očit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obrazac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liziranog odgojno-obrazovnog programa (IOOP-a)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za učenike s </a:t>
            </a:r>
            <a:r>
              <a:rPr b="0" lang="hr-HR" sz="17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azličitim teškoćam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 učenj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ovezat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mjesečni plan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nastave Hrvatskoga jezika s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liziranim odgojno-obrazovnim programom (IOOP-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sporediti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obrazovna postignuća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aktivnosti učenik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strategije potpore</a:t>
            </a:r>
            <a:r>
              <a:rPr b="0" lang="hr-HR" sz="1700" spc="-1" strike="noStrike">
                <a:solidFill>
                  <a:srgbClr val="eeece1"/>
                </a:solidFill>
                <a:latin typeface="Arial"/>
                <a:ea typeface="Times New Roman"/>
              </a:rPr>
              <a:t>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na </a:t>
            </a:r>
            <a:r>
              <a:rPr b="0" lang="hr-HR" sz="17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azličitim razinam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ilagodb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poznat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model prilagođavanj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zadataka za provjeru znanja učenika s teškoća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rat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razine prilagodbe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zadataka za provjeru znanja učenika s teškoća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 skupinama </a:t>
            </a: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zradit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prilagodbu primjera zadatak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za vrjednovanje učenika s teškoćam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ijenit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primjerenost zadatak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opisanim učenici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vrjednovati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ponuđeni model programiranja </a:t>
            </a:r>
            <a:r>
              <a:rPr b="0" lang="hr-H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u nastavnoj praks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SUPROTNE REČENICE – prilagodba; 2. primjer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Mart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714240" y="1522080"/>
            <a:ext cx="7929720" cy="4680720"/>
          </a:xfrm>
          <a:prstGeom prst="rect">
            <a:avLst/>
          </a:prstGeom>
          <a:solidFill>
            <a:srgbClr val="eaeaea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OKRUŽIVANJE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RATICE ODREDI JE LI REČE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STAVNA (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RASTAVNA (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ILI SUPROTNA (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OSUDIT ĆEMO NAŠEG MORNARA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L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ĆEMO MU SE DIVITI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NADAO SE SPASU,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STAO JE NA OTO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ŽELIO JE UPOZNATI LJUDE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TKRITI NOVE KRAJEVE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LEKTIRA – Martina</a:t>
            </a:r>
            <a:br>
              <a:rPr sz="2000"/>
            </a:br>
            <a:r>
              <a:rPr b="0" lang="hr-HR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Provjera\Lektira-Martina.do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Comic Sans MS"/>
              </a:rPr>
              <a:t>RAD U SKUPINAMA</a:t>
            </a:r>
            <a:br>
              <a:rPr sz="800"/>
            </a:br>
            <a:br>
              <a:rPr sz="800"/>
            </a:b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Što svaka skupina treba imati na stol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85840" y="2285640"/>
            <a:ext cx="40719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825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17375e"/>
                </a:solidFill>
                <a:latin typeface="Corbel"/>
              </a:rPr>
              <a:t>listić s uputama za rad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825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17375e"/>
                </a:solidFill>
                <a:latin typeface="Corbel"/>
              </a:rPr>
              <a:t>listić s izvatkom iz PIP-a i sa zadatkom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825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17375e"/>
                </a:solidFill>
                <a:latin typeface="Corbel"/>
              </a:rPr>
              <a:t>listić s popisom strategija potpore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825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17375e"/>
                </a:solidFill>
                <a:latin typeface="Corbel"/>
              </a:rPr>
              <a:t>papir veličine A3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2" name="Picture 6" descr="C:\Documents and Settings\Vilma\Local Settings\Temporary Internet Files\Content.IE5\MG44RWYO\MP900446574[1].jpg"/>
          <p:cNvPicPr/>
          <p:nvPr/>
        </p:nvPicPr>
        <p:blipFill>
          <a:blip r:embed="rId1"/>
          <a:stretch/>
        </p:blipFill>
        <p:spPr>
          <a:xfrm>
            <a:off x="500040" y="2286000"/>
            <a:ext cx="42148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864396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orbel"/>
              </a:rPr>
              <a:t>Upute za ra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Zadatak namijenjen provjeri znanja učenika koji nastavu prate prema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Corbel"/>
              </a:rPr>
              <a:t>redovnom programu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prilagodite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:   - učeniku/učenici A (sličnom Ivanu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- učeniku/učenici B (sličnom Martini)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Da biste zadatak uspješno obavili, pomoći će vam priložena tablica. Unutar skupine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raspravite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o potrebnim prilagodbama pa tablicu ispunite koristeći pritom dobivene pisane materijale (izvadak iz 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Corbel"/>
              </a:rPr>
              <a:t>Plana i programa Hrvatskoga jezika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Corbel"/>
              </a:rPr>
              <a:t> (PIP-a)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, i 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Corbel"/>
              </a:rPr>
              <a:t>strategije potpore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Corbel"/>
              </a:rPr>
              <a:t>)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Prilagođene zadatke za ovu prigodu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napišite rukom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na papir A3 formata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koji se nalazi na vašem stolu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0040" y="3214800"/>
          <a:ext cx="8215200" cy="3241440"/>
        </p:xfrm>
        <a:graphic>
          <a:graphicData uri="http://schemas.openxmlformats.org/drawingml/2006/table">
            <a:tbl>
              <a:tblPr/>
              <a:tblGrid>
                <a:gridCol w="714240"/>
                <a:gridCol w="1785960"/>
                <a:gridCol w="1979640"/>
                <a:gridCol w="1795680"/>
                <a:gridCol w="1939680"/>
              </a:tblGrid>
              <a:tr h="85392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čenik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če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držaj eduk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područja/teme/ključni pojmov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iljevi za uče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obrazovna postignuć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ktivnosti za uče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rategije potp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prilagodba metoda, sredstava, oblika, postupaka, zahtje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937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376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760" y="4000680"/>
            <a:ext cx="835812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adatak (redovna nastava):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Bio je to nizak čovjek, mršav i brzih pokreta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a) Dopuni: Istaknuti su pridjevi u I. stupnju ili ______________________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b) Zadanu rečenicu prepiši tako da pridjeve staviš u komparativ. Pritom pripazi 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  na promjene u osnovi pridjeva. </a:t>
            </a: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428760"/>
            <a:ext cx="8215200" cy="31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ZADATAK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azred: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izvadak iz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Plana i programa Hrvatskoga jezika (PIP-a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7. Stupnjevanje pridjev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Ključni pojmovi: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stupnjevanje i stupnjevi (pozitiv, komparativ, superlativ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Obrazovna postignuća: 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imenovati i prepoznavati pozitiv, komparativ i superlativ u govorenju i pisanju; prepoznati i razumjeti njihove odnose u stupnjevanju; pravilno rabiti komparativ i superlativ najčešćih pridjeva, moći tvoriti komparative i superlative plodnim načinima (sufiksima -iji i naj-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Zadatak 1 - 5. razred</a:t>
            </a:r>
            <a:br>
              <a:rPr sz="3600"/>
            </a:b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Stupnjevanje pridjeva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840" y="1428480"/>
            <a:ext cx="40399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 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Bio je to </a:t>
            </a: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nizak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čovje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rbel"/>
              </a:rPr>
              <a:t>Dopuni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staknuti pridjev je u I. stupn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li  _____________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sti pridjev stavi u </a:t>
            </a: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komparativ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ritom pripazi na </a:t>
            </a: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promjenu 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osnovi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pridjev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00360" y="1499760"/>
            <a:ext cx="4400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 B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STUPNJUJ ZADAN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PRIDJEV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SLIJEDI PRIMJE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>
                <a:solidFill>
                  <a:srgbClr val="000000"/>
                </a:solidFill>
                <a:latin typeface="Corbel"/>
              </a:rPr>
              <a:t>MLAD</a:t>
            </a:r>
            <a:r>
              <a:rPr b="0" i="1" lang="hr-HR" sz="27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hr-HR" sz="2700" spc="-1" strike="noStrike">
                <a:solidFill>
                  <a:srgbClr val="000000"/>
                </a:solidFill>
                <a:latin typeface="Corbel"/>
              </a:rPr>
              <a:t>     MLAĐI    NAJMLAĐI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DRAG</a:t>
            </a: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   _______      ________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STAR</a:t>
            </a: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700" spc="-1" strike="noStrike">
                <a:solidFill>
                  <a:srgbClr val="000000"/>
                </a:solidFill>
                <a:latin typeface="Corbel"/>
              </a:rPr>
              <a:t>   _______      ________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3285720"/>
            <a:ext cx="79945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 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adatak (redovna nastava):</a:t>
            </a:r>
            <a:br>
              <a:rPr sz="2000"/>
            </a:br>
            <a:r>
              <a:rPr b="0" lang="hr-HR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vog ljeta posjetili ste Sjeverni Velebit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adanu rečenicu preoblikuj: </a:t>
            </a:r>
            <a:br>
              <a:rPr sz="1800"/>
            </a:br>
            <a:br>
              <a:rPr sz="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) u upitnu rečenicu: 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b) u niječnu rečenicu: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6760" y="28548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ZADATAK 2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razred: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6.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izvadak iz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Plana i programa Hrvatskoga jezika (PIP-a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7. Izricanje prošlosti perfektom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Ključni pojmovi: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perfekt, krnji perfekt.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Obrazovna postignuća: 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prepoznati perfekt, razumjeti njegovo osnovno značenje, vladati oblicima perfekta pomoćnih glagola; prikladno rabiti perfekt u govorenju i pisanju; razlikovati prezent i perfekt u govorenju i pisanju.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Zadatak 2 – 6. razred</a:t>
            </a:r>
            <a:br>
              <a:rPr sz="3600"/>
            </a:b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Izricanje prošlosti perfektom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Corbel"/>
              </a:rPr>
              <a:t>Posjetili ste Velebi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Zadanu rečenicu preoblikuj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a) u </a:t>
            </a:r>
            <a:r>
              <a:rPr b="1" lang="hr-HR" sz="2600" spc="-1" strike="noStrike">
                <a:solidFill>
                  <a:srgbClr val="000000"/>
                </a:solidFill>
                <a:latin typeface="Corbel"/>
              </a:rPr>
              <a:t>upitnu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 rečenicu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_______ _______ posjetili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Velebit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b) u </a:t>
            </a:r>
            <a:r>
              <a:rPr b="1" lang="hr-HR" sz="2600" spc="-1" strike="noStrike">
                <a:solidFill>
                  <a:srgbClr val="000000"/>
                </a:solidFill>
                <a:latin typeface="Corbel"/>
              </a:rPr>
              <a:t>niječnu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 rečenicu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________ posjetili  Velebi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B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orbel"/>
              </a:rPr>
              <a:t>POSJETILI STE VELEB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rbel"/>
              </a:rPr>
              <a:t>UPITNI 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OBLIK ZADANE</a:t>
            </a:r>
            <a:r>
              <a:rPr b="1" lang="hr-HR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REČENICE GLASI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rbe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DA LI STE POSJETILI VELEBI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B) JESTE LI POSJETILI VELEBI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 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adatak (redovna nastava):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Uz istaknute priložne oznake napiši pitanja na koja odgovaraju te vrstu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  pitanje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vrsta PO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) Tlo je već gorjel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od nogam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_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b) Prosjak 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ad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šutio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_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c) Stade molit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a mahove nešto glasni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    __________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)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Tih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a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moj otac bio veoma zabrinut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_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br>
              <a:rPr sz="1400"/>
            </a:b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320" y="50004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ZADATAK 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azred: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zvadak iz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lana i programa Hrvatskoga jezika (PIP-a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2. Priložne oznak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ljučni pojmovi: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priložne oznake, priložna oznaka mjesta, vremena, način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brazovna postignuća: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očiti priložne oznake u rečenici, razlikovati priložne oznake mjesta, vremena, načina.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2868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Zadatak 3 – 7. razred</a:t>
            </a:r>
            <a:br>
              <a:rPr sz="5400"/>
            </a:b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 Priložne oznake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42640"/>
            <a:ext cx="4038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Istaknutim priložnim oznakama odredi  </a:t>
            </a:r>
            <a:r>
              <a:rPr b="1" lang="hr-HR" sz="2000" spc="-1" strike="noStrike">
                <a:solidFill>
                  <a:srgbClr val="000000"/>
                </a:solidFill>
                <a:latin typeface="Corbel"/>
              </a:rPr>
              <a:t>pitanje</a:t>
            </a: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 na koje odgovaraju i </a:t>
            </a:r>
            <a:r>
              <a:rPr b="1" lang="hr-HR" sz="2000" spc="-1" strike="noStrike">
                <a:solidFill>
                  <a:srgbClr val="000000"/>
                </a:solidFill>
                <a:latin typeface="Corbel"/>
              </a:rPr>
              <a:t>vrstu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a) </a:t>
            </a: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Tlo je već gorjelo </a:t>
            </a:r>
            <a:r>
              <a:rPr b="1" lang="hr-HR" sz="2000" spc="-1" strike="noStrike">
                <a:solidFill>
                  <a:srgbClr val="000000"/>
                </a:solidFill>
                <a:latin typeface="Corbel"/>
              </a:rPr>
              <a:t>pod nogama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________         PO M / V / 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                                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pitanj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b) </a:t>
            </a: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Prosjak je </a:t>
            </a:r>
            <a:r>
              <a:rPr b="1" lang="hr-HR" sz="2000" spc="-1" strike="noStrike">
                <a:solidFill>
                  <a:srgbClr val="000000"/>
                </a:solidFill>
                <a:latin typeface="Corbel"/>
              </a:rPr>
              <a:t>sada </a:t>
            </a: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šutio.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________        PO M / V / 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                                 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pitanj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c)</a:t>
            </a: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 Stade moliti </a:t>
            </a:r>
            <a:r>
              <a:rPr b="1" lang="hr-HR" sz="2000" spc="-1" strike="noStrike">
                <a:solidFill>
                  <a:srgbClr val="000000"/>
                </a:solidFill>
                <a:latin typeface="Corbel"/>
              </a:rPr>
              <a:t>nešto glasnije</a:t>
            </a:r>
            <a:r>
              <a:rPr b="0" lang="hr-HR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________         PO M / V / 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                                 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pitanj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1071360"/>
            <a:ext cx="4281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B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KOJE SU </a:t>
            </a:r>
            <a:r>
              <a:rPr b="1" lang="hr-HR" sz="2800" spc="-1" strike="noStrike">
                <a:solidFill>
                  <a:srgbClr val="000000"/>
                </a:solidFill>
                <a:latin typeface="Corbel"/>
              </a:rPr>
              <a:t>VRSTE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 ISTAKNUTE  </a:t>
            </a:r>
            <a:r>
              <a:rPr b="1" lang="hr-HR" sz="2800" spc="-1" strike="noStrike">
                <a:solidFill>
                  <a:srgbClr val="000000"/>
                </a:solidFill>
                <a:latin typeface="Corbel"/>
              </a:rPr>
              <a:t>PRILOŽNE OZNAKE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?  </a:t>
            </a: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Corbel"/>
              </a:rPr>
              <a:t>ZAOKRUŽI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) TLO JE VEĆ GORJELO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orbel"/>
              </a:rPr>
              <a:t>POD NOGAMA.</a:t>
            </a:r>
            <a:r>
              <a:rPr b="1" lang="hr-HR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OM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                    POV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B) 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PROSJAK JE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orbel"/>
              </a:rPr>
              <a:t>SADA 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ŠUTIO.</a:t>
            </a: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         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OM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      POV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C) 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STADE MOLITI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orbel"/>
              </a:rPr>
              <a:t>NEŠTO GLASNIJE</a:t>
            </a:r>
            <a:r>
              <a:rPr b="0" lang="hr-HR" sz="28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OM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        P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120" name="Ravni poveznik sa strelicom 7"/>
          <p:cNvCxnSpPr/>
          <p:nvPr/>
        </p:nvCxnSpPr>
        <p:spPr>
          <a:xfrm flipH="1">
            <a:off x="5357520" y="3499920"/>
            <a:ext cx="720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Ravni poveznik sa strelicom 9"/>
          <p:cNvCxnSpPr/>
          <p:nvPr/>
        </p:nvCxnSpPr>
        <p:spPr>
          <a:xfrm>
            <a:off x="7071120" y="3499920"/>
            <a:ext cx="1436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Ravni poveznik sa strelicom 12"/>
          <p:cNvCxnSpPr/>
          <p:nvPr/>
        </p:nvCxnSpPr>
        <p:spPr>
          <a:xfrm flipH="1">
            <a:off x="7000200" y="4572000"/>
            <a:ext cx="2149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Ravni poveznik sa strelicom 14"/>
          <p:cNvCxnSpPr/>
          <p:nvPr/>
        </p:nvCxnSpPr>
        <p:spPr>
          <a:xfrm>
            <a:off x="7715160" y="4500360"/>
            <a:ext cx="21528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Ravni poveznik sa strelicom 16"/>
          <p:cNvCxnSpPr/>
          <p:nvPr/>
        </p:nvCxnSpPr>
        <p:spPr>
          <a:xfrm flipH="1">
            <a:off x="5214240" y="6072120"/>
            <a:ext cx="2149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Ravni poveznik sa strelicom 18"/>
          <p:cNvCxnSpPr/>
          <p:nvPr/>
        </p:nvCxnSpPr>
        <p:spPr>
          <a:xfrm>
            <a:off x="6428160" y="6071760"/>
            <a:ext cx="1436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Comic Sans MS"/>
              </a:rPr>
              <a:t>Plan rada  u nastavi Hrvatskoga jezika  - mjesec veljača</a:t>
            </a:r>
            <a:br>
              <a:rPr sz="2900"/>
            </a:br>
            <a:r>
              <a:rPr b="0" lang="hr-HR" sz="29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Redovni-veljača7-12.doc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307152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zadatak (redovna nastava):</a:t>
            </a:r>
            <a:br>
              <a:rPr sz="1600"/>
            </a:br>
            <a:r>
              <a:rPr b="0" lang="hr-HR" sz="8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6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ozorno pročitaj tekst napisan na narječju.</a:t>
            </a:r>
            <a:br>
              <a:rPr sz="1600"/>
            </a:br>
            <a:r>
              <a:rPr b="0" lang="hr-HR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600"/>
            </a:b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iki su mislili da su zaraj tega njegove pisme ča i' je piva u sebi, kad i' je štampa u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ibriman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ostale nikako nime...</a:t>
            </a:r>
            <a:br>
              <a:rPr sz="1600"/>
            </a:br>
            <a:r>
              <a:rPr b="0" lang="hr-HR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dredi narječje kojim je napisan tekst i ispiši osnovnu odrednicu narječj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</a:t>
            </a:r>
            <a:br>
              <a:rPr sz="1600"/>
            </a:br>
            <a:r>
              <a:rPr b="0" lang="hr-HR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dredi govor kojim je napisan tekst i ispiši jednu riječ kojom dokazuješ svoj odgovor.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</a:t>
            </a:r>
            <a:br>
              <a:rPr sz="1600"/>
            </a:br>
            <a:br>
              <a:rPr sz="800"/>
            </a:br>
            <a:r>
              <a:rPr b="0" lang="hr-HR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odcrtanu narječnicu zamijeni standardnom riječju u odgovarajućem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dežu i broj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00" y="213840"/>
            <a:ext cx="842940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omic Sans MS"/>
              </a:rPr>
              <a:t>ZADATAK 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 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razred: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izvadak iz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Plana i programa Hrvatskoga jezika (PIP-a):</a:t>
            </a: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9.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Osnovna obilježja hrvatskih narječja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Ključni pojmovi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: hrvatska narječja, štokavsko narječje i hrvatski književni jezik, hrvatski standardni jezik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orbel"/>
              </a:rPr>
              <a:t>Obrazovna postignuća</a:t>
            </a:r>
            <a:r>
              <a:rPr b="0" i="1" lang="hr-HR" sz="1600" spc="-1" strike="noStrike">
                <a:solidFill>
                  <a:srgbClr val="000000"/>
                </a:solidFill>
                <a:latin typeface="Corbel"/>
              </a:rPr>
              <a:t>: razlikovati najvažnija obilježja svakoga hrvatskoga narječja i glavne prostore gdje se govore; razlikovati štokavsko narječje od hrvatskoga književnog jezika; razumjeti odnos naziva hrvatski književni jezik i hrvatski standardni jezik, razlikovati ih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59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Zadatak 4 – 8. razred</a:t>
            </a:r>
            <a:r>
              <a:rPr b="0" lang="hr-HR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5900"/>
            </a:br>
            <a:r>
              <a:rPr b="0" lang="hr-HR" sz="2400" spc="-1" strike="noStrike">
                <a:solidFill>
                  <a:srgbClr val="c00000"/>
                </a:solidFill>
                <a:latin typeface="Comic Sans MS"/>
              </a:rPr>
              <a:t>Osnovna obilježja hrvatskih narječj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356840"/>
            <a:ext cx="42102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Pozorno pročitaj tekst napisan na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narječju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Niki su mislili da su zaraj tega njegov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pisme ča i' je piva u sebi, kad i' je štampa 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libriman, ostale nikako nime.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a) Imenuj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narječje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kojim je napisan teks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b) U tekstu zaokruži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osnovnu odrednic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toga  narječja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c) </a:t>
            </a:r>
            <a:r>
              <a:rPr b="0" i="1" lang="hr-HR" sz="1800" spc="-1" strike="noStrike">
                <a:solidFill>
                  <a:srgbClr val="000000"/>
                </a:solidFill>
                <a:latin typeface="Corbel"/>
              </a:rPr>
              <a:t>Izaberi točan odgovor. 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Tekst je napisan </a:t>
            </a:r>
            <a:r>
              <a:rPr b="1" lang="hr-HR" sz="1800" spc="-1" strike="noStrike">
                <a:solidFill>
                  <a:srgbClr val="000000"/>
                </a:solidFill>
                <a:latin typeface="Corbel"/>
              </a:rPr>
              <a:t>ekavskim govorom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DA  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Corbe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57440" y="1428840"/>
            <a:ext cx="450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ČENIK B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orbel"/>
              </a:rPr>
              <a:t>PISME ČA JE PIVA, BILE S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orbel"/>
              </a:rPr>
              <a:t>LIP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A) NARJEČJE KOJIM JE NAPI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SANA ZADANA REČENICA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JEST:   A) </a:t>
            </a:r>
            <a:r>
              <a:rPr b="1" lang="hr-HR" sz="2600" spc="-1" strike="noStrike">
                <a:solidFill>
                  <a:srgbClr val="000000"/>
                </a:solidFill>
                <a:latin typeface="Corbel"/>
              </a:rPr>
              <a:t>ČA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KAVSKO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B) </a:t>
            </a:r>
            <a:r>
              <a:rPr b="1" lang="hr-HR" sz="2600" spc="-1" strike="noStrike">
                <a:solidFill>
                  <a:srgbClr val="000000"/>
                </a:solidFill>
                <a:latin typeface="Corbel"/>
              </a:rPr>
              <a:t>KAJ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KAVSKO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C) </a:t>
            </a:r>
            <a:r>
              <a:rPr b="1" lang="hr-HR" sz="2600" spc="-1" strike="noStrike">
                <a:solidFill>
                  <a:srgbClr val="000000"/>
                </a:solidFill>
                <a:latin typeface="Corbel"/>
              </a:rPr>
              <a:t>ŠTO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KAVSKO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hr-HR" sz="2600" spc="-1" strike="noStrike">
                <a:solidFill>
                  <a:srgbClr val="000000"/>
                </a:solidFill>
                <a:latin typeface="Corbel"/>
              </a:rPr>
              <a:t>B) U REČENICI ZAOKRUŽI RIJEČ KOJA TO DOKAZUJ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vilma.lukanovic@ri.t-com.h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Misao za kraj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43760" y="1928880"/>
            <a:ext cx="254304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64a2"/>
                </a:solidFill>
                <a:latin typeface="Lucida Calligraphy"/>
              </a:rPr>
              <a:t>Ljudi grad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64a2"/>
                </a:solidFill>
                <a:latin typeface="Lucida Calligraphy"/>
              </a:rPr>
              <a:t>previš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64a2"/>
                </a:solidFill>
                <a:latin typeface="Lucida Calligraphy"/>
              </a:rPr>
              <a:t>zidova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64a2"/>
                </a:solidFill>
                <a:latin typeface="Lucida Calligraphy"/>
              </a:rPr>
              <a:t>a premal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64a2"/>
                </a:solidFill>
                <a:latin typeface="Lucida Calligraphy"/>
              </a:rPr>
              <a:t>mostov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8064a2"/>
                </a:solidFill>
                <a:latin typeface="Lucida Calligraphy"/>
              </a:rPr>
              <a:t>  </a:t>
            </a:r>
            <a:r>
              <a:rPr b="0" lang="hr-HR" sz="1800" spc="-1" strike="noStrike">
                <a:solidFill>
                  <a:srgbClr val="8064a2"/>
                </a:solidFill>
                <a:latin typeface="Lucida Calligraphy"/>
              </a:rPr>
              <a:t>Isaac Newt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4" name="Picture 15" descr="C:\Documents and Settings\Vilma\Local Settings\Temporary Internet Files\Content.IE5\324R9227\MP900407355[1].jpg"/>
          <p:cNvPicPr/>
          <p:nvPr/>
        </p:nvPicPr>
        <p:blipFill>
          <a:blip r:embed="rId1"/>
          <a:stretch/>
        </p:blipFill>
        <p:spPr>
          <a:xfrm>
            <a:off x="500040" y="1928880"/>
            <a:ext cx="5429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INDIVIDUALIZIRANI ODGOJNO-OBRAZOVNI PROGRAM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(IOOP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icijalna procjen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40402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6760" y="1999800"/>
            <a:ext cx="42116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rječnik - uglavnom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svojeni potrebni nazivi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i  njihovo razumijevan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povezano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usmeno izražava-n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čit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tiskana i pisana 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slov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uglavnom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zadovoljavajuća 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tehnika čitanj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razumijevanje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bitnih odred-nica pročitanog/gledanog/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/slušanog sadržaj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150012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9080" y="1928520"/>
            <a:ext cx="45007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rječnik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svakodnevne komunikacije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, djelomično usvojeno nazivl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usmeno izražavanje uglavnom na razin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odgovora na pitanj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čita sv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tiskana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slov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slabo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razvijena tehnika (slovkanje, sinteza 2-4 slova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razumijevanje 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poznatih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eleme-nata pročitanog/gledanog/  /slušano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orbel"/>
              </a:rPr>
              <a:t>INDIVIDUALIZIRANI ODGOJNO-OBRAZOVNI PROGRAM (IOOP)</a:t>
            </a:r>
            <a:br>
              <a:rPr sz="4000"/>
            </a:b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nicijalna procjena - </a:t>
            </a:r>
            <a:r>
              <a:rPr b="0" i="1" lang="hr-HR" sz="2400" spc="-1" strike="noStrike">
                <a:solidFill>
                  <a:srgbClr val="000000"/>
                </a:solidFill>
                <a:latin typeface="Corbel"/>
              </a:rPr>
              <a:t>nastava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0402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85600"/>
            <a:ext cx="40402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amćen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bitnih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odrednica pročitanog/gledanog/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/slušano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repisivanje -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djelomično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potpuno i točno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isan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tiskanim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slovim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povezano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pisanje kraćeg sadržaj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naglašena sposobnost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pamćenja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tekst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3280" y="1285560"/>
            <a:ext cx="40420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3280" y="1785960"/>
            <a:ext cx="4042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otežano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pamćenje - samo nekih elemenat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repisivanje -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 manjoj mjeri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potpuno i točn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isanje tiskanim slovima - na razin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dopunjavanj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isanje kraćeg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teksta uz usmjeravan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orbel"/>
              </a:rPr>
              <a:t>INDIVIDUALIZIRANI ODGOJNO-OBRAZOVNI PROGRAM (IOOP)</a:t>
            </a:r>
            <a:br>
              <a:rPr sz="4000"/>
            </a:b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nicijalna procjena - </a:t>
            </a:r>
            <a:r>
              <a:rPr b="0" i="1" lang="hr-HR" sz="2400" spc="-1" strike="noStrike">
                <a:solidFill>
                  <a:srgbClr val="000000"/>
                </a:solidFill>
                <a:latin typeface="Corbel"/>
              </a:rPr>
              <a:t>nastava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9680" y="1285560"/>
            <a:ext cx="40402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9680" y="1714680"/>
            <a:ext cx="40402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otrebn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povremena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pomoć i usmjeravan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motivacija da se nauči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 za što bolju ocjen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uspješno rješavan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različitih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vrsta zadata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uglavnom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uspješno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usvajanje sadržaj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3280" y="1285560"/>
            <a:ext cx="404208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rbel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00360" y="1714320"/>
            <a:ext cx="4041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otrebn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stalna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 pomoć i usmjeravanj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interes samo za one sadržaje učenja koji se usvajaju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bez teškoć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rješavanje zadatak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po naučenom modelu</a:t>
            </a: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, poznatog tip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rbel"/>
              </a:rPr>
              <a:t>poznavanje nekih činjenica koje s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rbel"/>
              </a:rPr>
              <a:t>ne povezu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dividualizirani odgojno-obrazovni program (IOO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IOOP-Ivan.do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IOOP-Martina.do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ablica 6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5042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ablica 6" descr=""/>
          <p:cNvPicPr/>
          <p:nvPr/>
        </p:nvPicPr>
        <p:blipFill>
          <a:blip r:embed="rId1"/>
          <a:stretch/>
        </p:blipFill>
        <p:spPr>
          <a:xfrm>
            <a:off x="426960" y="365040"/>
            <a:ext cx="850428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7:15:24Z</dcterms:created>
  <dc:creator>VILMA</dc:creator>
  <dc:description/>
  <dc:language>en-US</dc:language>
  <cp:lastModifiedBy>HJ</cp:lastModifiedBy>
  <dcterms:modified xsi:type="dcterms:W3CDTF">2012-08-26T10:26:57Z</dcterms:modified>
  <cp:revision>186</cp:revision>
  <dc:subject/>
  <dc:title>INDIVIDUALIZIRANI ODGOJNO-OBRAZOVNI PROGRAM (IOOP) Veljača – Ivan</dc:title>
</cp:coreProperties>
</file>