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wmf" ContentType="image/x-wmf"/>
  <Override PartName="/ppt/media/image14.jpeg" ContentType="image/jpeg"/>
  <Override PartName="/ppt/media/image1.png" ContentType="image/pn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1.jpeg" ContentType="image/jpeg"/>
  <Override PartName="/ppt/media/image7.jpeg" ContentType="image/jpeg"/>
  <Override PartName="/ppt/media/image9.png" ContentType="image/png"/>
  <Override PartName="/ppt/media/image6.jpeg" ContentType="image/jpeg"/>
  <Override PartName="/ppt/media/image10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134A-07A7-4929-BD05-F11C2B03BAAA}" type="slidenum">
              <a:rPr b="1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Ovo bi promijenila!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02FA-559C-4C2E-B9DB-8E2C44D39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7346-4994-4A21-A04C-6766D72C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B6E2-079B-44D7-8D2F-A99E7077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EF84-4DEB-4EBC-80A5-893E07574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DA13-12DB-428B-8A57-57F46396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18CB-6F4F-4F67-B72F-4B9779B6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D268-7DAD-4133-8942-56BBFD62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5462-6945-4D50-B9D7-E21DDAF2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DEAD-F09A-43FE-9665-ED878A00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693A-C834-4D8C-BC2F-96FB8952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D040-A2DF-405A-8EE7-A6FA4F22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4CEF-A163-4188-B45B-916C3ED3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6534-AF34-44BF-95EF-3C03A211DCFE}" type="slidenum">
              <a:rPr b="0" lang="hr-H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2b5481"/>
                </a:solidFill>
                <a:latin typeface="Arial"/>
              </a:rPr>
              <a:t>	</a:t>
            </a:r>
            <a:r>
              <a:rPr b="0" lang="hr-HR" sz="4000" spc="-1" strike="noStrike">
                <a:solidFill>
                  <a:srgbClr val="2b5481"/>
                </a:solidFill>
                <a:latin typeface="Arial"/>
              </a:rPr>
              <a:t>UČENICI S POSEBNIM ODGOJNO OBRAZOVNIM POTREBAMA U REDOVNOM SUSTAVU OBRAZOVANJ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51577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b5481"/>
                </a:solidFill>
                <a:latin typeface="Arial"/>
              </a:rPr>
              <a:t>Predavač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b5481"/>
                </a:solidFill>
                <a:latin typeface="Arial"/>
              </a:rPr>
              <a:t>mr Gordana Galić, prof. defektolo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b5481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2b5481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2b5481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2b5481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2b5481"/>
                </a:solidFill>
                <a:latin typeface="Arial"/>
              </a:rPr>
              <a:t>Opatija, 27. 8. 2012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6" descr="bimbi"/>
          <p:cNvPicPr/>
          <p:nvPr/>
        </p:nvPicPr>
        <p:blipFill>
          <a:blip r:embed="rId1"/>
          <a:srcRect l="0" t="0" r="33892" b="0"/>
          <a:stretch/>
        </p:blipFill>
        <p:spPr>
          <a:xfrm>
            <a:off x="3276720" y="3828960"/>
            <a:ext cx="3313080" cy="104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  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Radi prirode oštećenja ovi će učenici imati veća odstupanja u usvajanju nekih nastavnih sadržaja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hrvatski jezik – diktati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glazbena kultura - pjevanje, slušanje glazbenih djela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strani jezik – vježbe slušanja i izgovora, dikta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2" name="Picture 5" descr="x23641193777881115775"/>
          <p:cNvPicPr/>
          <p:nvPr/>
        </p:nvPicPr>
        <p:blipFill>
          <a:blip r:embed="rId1"/>
          <a:stretch/>
        </p:blipFill>
        <p:spPr>
          <a:xfrm>
            <a:off x="368280" y="380880"/>
            <a:ext cx="4132440" cy="6000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abeceda2"/>
          <p:cNvPicPr/>
          <p:nvPr/>
        </p:nvPicPr>
        <p:blipFill>
          <a:blip r:embed="rId2"/>
          <a:stretch/>
        </p:blipFill>
        <p:spPr>
          <a:xfrm>
            <a:off x="4861080" y="380880"/>
            <a:ext cx="3963960" cy="60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387360"/>
            <a:ext cx="8077320" cy="57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0066"/>
                </a:solidFill>
                <a:latin typeface="Tahoma"/>
              </a:rPr>
              <a:t>3. UČENICI S POREMEĆAJEM GOVORNO- GLASOVNE KOMUNIKACIJE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99"/>
                </a:solidFill>
                <a:latin typeface="Tahoma"/>
              </a:rPr>
              <a:t>a)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oremećaj glasa -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neprimjerena visina, kvalitet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glasnoća i trajanje gla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99"/>
                </a:solidFill>
                <a:latin typeface="Tahoma"/>
              </a:rPr>
              <a:t>b)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oremećaj gov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99"/>
                </a:solidFill>
                <a:latin typeface="Tahoma"/>
              </a:rPr>
              <a:t>    </a:t>
            </a:r>
            <a:r>
              <a:rPr b="1" lang="hr-HR" sz="2400" spc="-1" strike="noStrike">
                <a:solidFill>
                  <a:srgbClr val="336699"/>
                </a:solidFill>
                <a:latin typeface="Tahoma"/>
              </a:rPr>
              <a:t>-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artikulacijski  poremećaji</a:t>
            </a:r>
            <a:r>
              <a:rPr b="0" i="1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koje karakteriziraju</a:t>
            </a:r>
            <a:r>
              <a:rPr b="0" i="1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teškoće u vidu ispuštanja, iskrivljavanja, zamjenjivanja i dodavanja glasova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(dislalija – poremećaj izgovor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99"/>
                </a:solidFill>
                <a:latin typeface="Tahoma"/>
              </a:rPr>
              <a:t>    </a:t>
            </a:r>
            <a:r>
              <a:rPr b="1" lang="hr-HR" sz="2400" spc="-1" strike="noStrike">
                <a:solidFill>
                  <a:srgbClr val="336699"/>
                </a:solidFill>
                <a:latin typeface="Tahoma"/>
              </a:rPr>
              <a:t>-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oremećaji fluentnosti</a:t>
            </a:r>
            <a:r>
              <a:rPr b="1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(mucanje i brzopletost)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254160" y="395280"/>
            <a:ext cx="8661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0066"/>
                </a:solidFill>
                <a:latin typeface="Tahoma"/>
              </a:rPr>
              <a:t>4. UČENICI S MOTORIČKIM POREMEĆAJIMA 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0066"/>
                </a:solidFill>
                <a:latin typeface="Tahoma"/>
              </a:rPr>
              <a:t>KRONIČNIM BOLESTI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533520" y="1676520"/>
            <a:ext cx="7924680" cy="49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Učenike s motoričkim poremećajima i kroničnim bolestima dijelimo na: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1250"/>
              </a:spcBef>
              <a:buClr>
                <a:srgbClr val="6600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Arial"/>
              </a:rPr>
              <a:t>učenike</a:t>
            </a:r>
            <a:r>
              <a:rPr b="0" lang="hr-HR" sz="2000" spc="-1" strike="noStrike">
                <a:solidFill>
                  <a:srgbClr val="336699"/>
                </a:solidFill>
                <a:latin typeface="Arial"/>
                <a:ea typeface="Arial"/>
              </a:rPr>
              <a:t> s oštećenjem lokomotornog sustava (kosti, zglobovi, mišići)</a:t>
            </a:r>
            <a:r>
              <a:rPr b="0" lang="hr-HR" sz="2000" spc="-1" strike="noStrike">
                <a:solidFill>
                  <a:srgbClr val="336699"/>
                </a:solidFill>
                <a:latin typeface="Arial"/>
              </a:rPr>
              <a:t> npr. iščašenje kuka, deformacije kralježnice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1250"/>
              </a:spcBef>
              <a:buClr>
                <a:srgbClr val="6600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Arial"/>
              </a:rPr>
              <a:t>učenike</a:t>
            </a:r>
            <a:r>
              <a:rPr b="0" lang="hr-HR" sz="2000" spc="-1" strike="noStrike">
                <a:solidFill>
                  <a:srgbClr val="336699"/>
                </a:solidFill>
                <a:latin typeface="Arial"/>
                <a:ea typeface="Arial"/>
              </a:rPr>
              <a:t> s oštećenjem središnjeg živčanog sustav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1250"/>
              </a:spcBef>
              <a:buClr>
                <a:srgbClr val="6600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Arial"/>
              </a:rPr>
              <a:t>učenike</a:t>
            </a:r>
            <a:r>
              <a:rPr b="0" lang="hr-HR" sz="2000" spc="-1" strike="noStrike">
                <a:solidFill>
                  <a:srgbClr val="336699"/>
                </a:solidFill>
                <a:latin typeface="Arial"/>
                <a:ea typeface="Arial"/>
              </a:rPr>
              <a:t> s oštećenjem perifernog živčanog sustava</a:t>
            </a:r>
            <a:r>
              <a:rPr b="0" lang="hr-HR" sz="2000" spc="-1" strike="noStrike">
                <a:solidFill>
                  <a:srgbClr val="336699"/>
                </a:solidFill>
                <a:latin typeface="Arial"/>
              </a:rPr>
              <a:t> (leđne moždine i perifernih živaca) – posljedica bolesti, trauma ili nasljeđ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1250"/>
              </a:spcBef>
              <a:buClr>
                <a:srgbClr val="6600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Arial"/>
              </a:rPr>
              <a:t>učenike</a:t>
            </a:r>
            <a:r>
              <a:rPr b="0" lang="hr-HR" sz="2000" spc="-1" strike="noStrike">
                <a:solidFill>
                  <a:srgbClr val="336699"/>
                </a:solidFill>
                <a:latin typeface="Arial"/>
                <a:ea typeface="Arial"/>
              </a:rPr>
              <a:t> s kroničnim bolestima drugih sustava</a:t>
            </a:r>
            <a:r>
              <a:rPr b="0" lang="hr-HR" sz="2000" spc="-1" strike="noStrike">
                <a:solidFill>
                  <a:srgbClr val="336699"/>
                </a:solidFill>
                <a:latin typeface="Arial"/>
              </a:rPr>
              <a:t> (bolesti srca, krvožilnog sustava, probavnog, dišnog sustava…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660066"/>
                </a:solidFill>
                <a:latin typeface="Tahoma"/>
              </a:rPr>
              <a:t>Učenici s motoričkim poremećajima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Title 1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Content Placeholder 2"/>
          <p:cNvSpPr/>
          <p:nvPr/>
        </p:nvSpPr>
        <p:spPr>
          <a:xfrm>
            <a:off x="457200" y="1484280"/>
            <a:ext cx="82296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Arial"/>
                <a:ea typeface="Arial"/>
              </a:rPr>
              <a:t>Osnovne karakteristike djece s motoričkim poremećajima su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Arial"/>
                <a:ea typeface="Arial"/>
              </a:rPr>
              <a:t>različiti oblici i težina poremećaja pokreta i položaja tije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Arial"/>
                <a:ea typeface="Arial"/>
              </a:rPr>
              <a:t>smanjena ili onemogućena funkcija pojedinih dijelova tijela (ruku, nogu, kralježnice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Arial"/>
                <a:ea typeface="Arial"/>
              </a:rPr>
              <a:t>nepostojanje dijelova tijela (urođena nerazvijenost, bolest ili nezgod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69192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osljedica oštećenja središnjeg živčanog sustava je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cerebralna paraliz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Cerebralna paraliza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je zajednički naziv za skupinu motoričkih poremećaja pokreta i/ili položaja, te motoričkih funkcija</a:t>
            </a:r>
            <a:r>
              <a:rPr b="0" lang="hr-HR" sz="2400" spc="-1" strike="noStrike">
                <a:solidFill>
                  <a:srgbClr val="3366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neprogredirajuće stanje, a ne bol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rezultat je poremećaja funkcije mozg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0066"/>
                </a:solidFill>
                <a:latin typeface="Tahoma"/>
              </a:rPr>
              <a:t>Pridružene teškoć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Kod djece s cerebralnom paralizom često su prisutne i druge razvojne smetnje poput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oštećenja vid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oštećenje sluh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oštećenje govornog i jezičnog razvoj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erceptivne smetnj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epilepsij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sniženo intelektualno funkcioniranje</a:t>
            </a:r>
            <a:r>
              <a:rPr b="0" lang="hr-HR" sz="2400" spc="-1" strike="noStrike">
                <a:solidFill>
                  <a:srgbClr val="336699"/>
                </a:solidFill>
                <a:latin typeface="Times New Roman"/>
              </a:rPr>
              <a:t> (p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rocjenjuje se da tre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ć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ina osoba s cerebralnom paralizom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ima 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deficite intelektualnog funkcioniranja</a:t>
            </a:r>
            <a:r>
              <a:rPr b="0" lang="hr-HR" sz="2400" spc="-1" strike="noStrike">
                <a:solidFill>
                  <a:srgbClr val="3366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smetnje ponašanja i učenja te emocionalne smetnj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0066"/>
                </a:solidFill>
                <a:latin typeface="Tahoma"/>
              </a:rPr>
              <a:t>Percepcij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0066"/>
                </a:solidFill>
                <a:latin typeface="Tahoma"/>
                <a:ea typeface="Times New Roman"/>
              </a:rPr>
              <a:t>PERCEPCIJA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  <a:ea typeface="Times New Roman"/>
              </a:rPr>
              <a:t>je psihički proces kojim zahva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ć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  <a:ea typeface="Times New Roman"/>
              </a:rPr>
              <a:t>amo predmete i pojave vanjskog svijeta u cjelini, na osnovu informacija iz senzornih organa (osjeta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procesi bitni za percepciju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1. </a:t>
            </a:r>
            <a:r>
              <a:rPr b="0" lang="hr-HR" sz="2800" spc="-1" strike="noStrike">
                <a:solidFill>
                  <a:srgbClr val="660066"/>
                </a:solidFill>
                <a:latin typeface="Tahoma"/>
              </a:rPr>
              <a:t>Selektivnost:</a:t>
            </a: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 ne zapažamo sve podražaje iz okoline nego odabiremo one koji su nam zanimljivi, potrebni i s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2. </a:t>
            </a:r>
            <a:r>
              <a:rPr b="0" lang="hr-HR" sz="2800" spc="-1" strike="noStrike">
                <a:solidFill>
                  <a:srgbClr val="660066"/>
                </a:solidFill>
                <a:latin typeface="Tahoma"/>
              </a:rPr>
              <a:t>Aktivnost:</a:t>
            </a: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 tražimo podražaje koji su nam važn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0066"/>
                </a:solidFill>
                <a:latin typeface="Tahoma"/>
              </a:rPr>
              <a:t>Perceptivne teškoć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Kod učenika s cerebralnom paralizom očituju se sljedeće perceptivne teškoć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na području vizualne precepci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na području auditivne percepci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na području prostornog i motornog funkcioniranja, teškoći orijentaci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teškoće u obavljanju pojedinih zadata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vizuo- konstruktivne slabost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69192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1"/>
          <a:stretch/>
        </p:blipFill>
        <p:spPr>
          <a:xfrm>
            <a:off x="800280" y="1371600"/>
            <a:ext cx="2971800" cy="1585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"/>
          <p:cNvPicPr/>
          <p:nvPr/>
        </p:nvPicPr>
        <p:blipFill>
          <a:blip r:embed="rId2"/>
          <a:stretch/>
        </p:blipFill>
        <p:spPr>
          <a:xfrm>
            <a:off x="3772080" y="3429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765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 u="sng">
                <a:solidFill>
                  <a:srgbClr val="336699"/>
                </a:solidFill>
                <a:uFillTx/>
                <a:latin typeface="Arial"/>
              </a:rPr>
              <a:t>Učenici s posebnim potrebama</a:t>
            </a:r>
            <a:r>
              <a:rPr b="0" lang="hr-HR" sz="36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6699"/>
                </a:solidFill>
                <a:latin typeface="Arial"/>
              </a:rPr>
              <a:t>1. daroviti učenic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6699"/>
                </a:solidFill>
                <a:latin typeface="Arial"/>
              </a:rPr>
              <a:t>2. </a:t>
            </a:r>
            <a:r>
              <a:rPr b="1" lang="hr-HR" sz="4000" spc="-1" strike="noStrike">
                <a:solidFill>
                  <a:srgbClr val="336699"/>
                </a:solidFill>
                <a:latin typeface="Arial"/>
              </a:rPr>
              <a:t>učenici s teškoćam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ZAKON O ODGOJU I OBRAZOVANJU U OSNOVNOJ I SREDNJOJ ŠKOLI (‘08); čl.6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19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77560"/>
            <a:ext cx="8229600" cy="63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0066"/>
                </a:solidFill>
                <a:latin typeface="Tahoma"/>
              </a:rPr>
              <a:t>2.</a:t>
            </a:r>
            <a:r>
              <a:rPr b="1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4000" spc="-1" strike="noStrike">
                <a:solidFill>
                  <a:srgbClr val="660066"/>
                </a:solidFill>
                <a:latin typeface="Tahoma"/>
              </a:rPr>
              <a:t>Kronične bolesti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ostojanje bolesti koja je trajnijeg karaktera, promjenjiv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težine (razdoblja poboljšanja i pogoršanja) koja mož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uzrokovati potrebu posebnih uvjeta, metoda i sredsta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336699"/>
                </a:solidFill>
                <a:uFillTx/>
                <a:latin typeface="Tahoma"/>
              </a:rPr>
              <a:t>Preporuke za rad s učenicima s kroničnim bolesti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336699"/>
                </a:solidFill>
                <a:latin typeface="Franklin Gothic Heavy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rilagođavati </a:t>
            </a:r>
            <a:r>
              <a:rPr b="1" lang="hr-HR" sz="2400" spc="-1" strike="noStrike">
                <a:solidFill>
                  <a:srgbClr val="336699"/>
                </a:solidFill>
                <a:latin typeface="Tahoma"/>
              </a:rPr>
              <a:t>tempo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rada (ako se zbog bolest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ili medikamentozne terapije brže umaraju 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sporije reagiraju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336699"/>
                </a:solidFill>
                <a:latin typeface="Franklin Gothic Heavy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ostale posebnosti u odnosu na zdravstvene potre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učenika dogovarati s liječnik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336699"/>
                </a:solidFill>
                <a:latin typeface="Franklin Gothic Heavy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održavati stalnu vezu i izmjenjivati informacije 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napredovanju i specifičnim potrebama učenika 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učiteljima koji rade na bolničkom odjelu (nastava u kući)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0066"/>
                </a:solidFill>
                <a:latin typeface="Tahoma"/>
              </a:rPr>
              <a:t>5. UČENICI SA SNIŽENIM INTELEKTUALNIM </a:t>
            </a:r>
            <a:br>
              <a:rPr sz="3200"/>
            </a:br>
            <a:r>
              <a:rPr b="0" lang="hr-HR" sz="3200" spc="-1" strike="noStrike">
                <a:solidFill>
                  <a:srgbClr val="660066"/>
                </a:solidFill>
                <a:latin typeface="Tahoma"/>
              </a:rPr>
              <a:t>SPOSOBNOSTIM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lnSpc>
                <a:spcPct val="105000"/>
              </a:lnSpc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Pojam intelektualne te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koće odnosi se na stanje, obično prisutno od rođenja ili nastalo do 18. godine život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105000"/>
              </a:lnSpc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To je trajno stanje koje obilježavaju znatno ispodprosječne intelektualne sposobnosti, a kao posljedicu ima znatna ograničenja u 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intelektualnom funkcioniranju i adaptivnom pona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anju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 izražena u socijalnim i praktičnim vje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tinam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105000"/>
              </a:lnSpc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stanje (NE BOLEST) – ne može se liječi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105000"/>
              </a:lnSpc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če</a:t>
            </a:r>
            <a:r>
              <a:rPr b="0" lang="hr-HR" sz="2400" spc="-1" strike="noStrike">
                <a:solidFill>
                  <a:srgbClr val="336699"/>
                </a:solidFill>
                <a:latin typeface="Arial"/>
              </a:rPr>
              <a:t>š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će kod dječaka nego kod djevojč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105000"/>
              </a:lnSpc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uzroci različiti (nasljednost, rana o</a:t>
            </a:r>
            <a:r>
              <a:rPr b="0" lang="hr-HR" sz="2400" spc="-1" strike="noStrike">
                <a:solidFill>
                  <a:srgbClr val="336699"/>
                </a:solidFill>
                <a:latin typeface="Arial"/>
              </a:rPr>
              <a:t>š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tećenja u embrionalnom razvoju, trudnoća i perinatalni problemi, zdravstveni problemi u dojenačkoj dobi, utjecaj okoline, nepoznat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660066"/>
                </a:solidFill>
                <a:latin typeface="Tahoma"/>
              </a:rPr>
              <a:t>Učenici sa sniženim intelektualnim sposobnostima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5000"/>
              </a:lnSpc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0066"/>
                </a:solidFill>
                <a:latin typeface="Tahoma"/>
              </a:rPr>
              <a:t>Odstupanja u intelektualnom funkcioniranju</a:t>
            </a: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 najče</a:t>
            </a: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š</a:t>
            </a: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će se prepoznaju kao te</a:t>
            </a: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š</a:t>
            </a: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koće u izvođenju različitih misaonih operacija (naročito generaliziranja i apstrahiranja, analiziranja, povezivanja i zaključivanja, rje</a:t>
            </a: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š</a:t>
            </a: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avanja problema) </a:t>
            </a: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š</a:t>
            </a: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to znatno otežava usvajanje apstraktnih sadržaja učenj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105000"/>
              </a:lnSpc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Vrlo često su prisutne i te</a:t>
            </a: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š</a:t>
            </a: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koće na području percepcije, zapamćivanja i pamćenja, pozornosti, govorne recepcije i ekspresije, koje također utječu na procese učenja.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660066"/>
                </a:solidFill>
                <a:latin typeface="Tahoma"/>
              </a:rPr>
              <a:t>Učenici sa sniženim intelektualnim sposobnostima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07144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0066"/>
                </a:solidFill>
                <a:latin typeface="Tahoma"/>
              </a:rPr>
              <a:t>Na području adaptivnog pona</a:t>
            </a:r>
            <a:r>
              <a:rPr b="0" lang="pl-PL" sz="2800" spc="-1" strike="noStrike">
                <a:solidFill>
                  <a:srgbClr val="660066"/>
                </a:solidFill>
                <a:latin typeface="Arial"/>
              </a:rPr>
              <a:t>š</a:t>
            </a:r>
            <a:r>
              <a:rPr b="0" lang="pl-PL" sz="2800" spc="-1" strike="noStrike">
                <a:solidFill>
                  <a:srgbClr val="660066"/>
                </a:solidFill>
                <a:latin typeface="Tahoma"/>
              </a:rPr>
              <a:t>anja</a:t>
            </a:r>
            <a:r>
              <a:rPr b="0" lang="pl-PL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pl-PL" sz="2800" spc="-1" strike="noStrike">
                <a:solidFill>
                  <a:srgbClr val="000066"/>
                </a:solidFill>
                <a:latin typeface="Tahoma"/>
              </a:rPr>
              <a:t>(područja: komunikacija, briga o sebi, stanovanje, snalaženje u okolini, samousmjeravanje, zdravlje, sigurnost, slobodno vrijeme, rad, funkcionalna akademska znanja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pl-PL" sz="2800" spc="-1" strike="noStrike">
                <a:solidFill>
                  <a:srgbClr val="000066"/>
                </a:solidFill>
                <a:latin typeface="Tahoma"/>
              </a:rPr>
              <a:t>te</a:t>
            </a:r>
            <a:r>
              <a:rPr b="0" lang="pl-PL" sz="2800" spc="-1" strike="noStrike">
                <a:solidFill>
                  <a:srgbClr val="000066"/>
                </a:solidFill>
                <a:latin typeface="Arial"/>
              </a:rPr>
              <a:t>š</a:t>
            </a:r>
            <a:r>
              <a:rPr b="0" lang="pl-PL" sz="2800" spc="-1" strike="noStrike">
                <a:solidFill>
                  <a:srgbClr val="000066"/>
                </a:solidFill>
                <a:latin typeface="Tahoma"/>
              </a:rPr>
              <a:t>koće se uočavaju u primjeni naučenih </a:t>
            </a:r>
            <a:r>
              <a:rPr b="0" lang="pl-PL" sz="2800" spc="-1" strike="noStrike">
                <a:solidFill>
                  <a:srgbClr val="000066"/>
                </a:solidFill>
                <a:latin typeface="Arial"/>
              </a:rPr>
              <a:t>š</a:t>
            </a:r>
            <a:r>
              <a:rPr b="0" lang="pl-PL" sz="2800" spc="-1" strike="noStrike">
                <a:solidFill>
                  <a:srgbClr val="000066"/>
                </a:solidFill>
                <a:latin typeface="Tahoma"/>
              </a:rPr>
              <a:t>kolskih sadržaja i snalaženja u novim socijalnim situacija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660066"/>
                </a:solidFill>
                <a:latin typeface="Arial"/>
              </a:rPr>
              <a:t>Podjela intelektualnih teškoća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0066"/>
                </a:solidFill>
                <a:latin typeface="Arial"/>
              </a:rPr>
              <a:t>LMR </a:t>
            </a:r>
            <a:r>
              <a:rPr b="0" lang="hr-HR" sz="32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hr-HR" sz="2800" spc="-1" strike="noStrike">
                <a:solidFill>
                  <a:srgbClr val="336699"/>
                </a:solidFill>
                <a:latin typeface="Arial"/>
              </a:rPr>
              <a:t>kvocijent inteligencije je približno u rasponu od 50 do 69; mentalna dob 7-11 godin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0066"/>
                </a:solidFill>
                <a:latin typeface="Arial"/>
              </a:rPr>
              <a:t>UMR</a:t>
            </a:r>
            <a:r>
              <a:rPr b="0" lang="hr-HR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336699"/>
                </a:solidFill>
                <a:latin typeface="Arial"/>
              </a:rPr>
              <a:t>- kvocijent inteligencije  kreće se približno u rasponu od 35 do 4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0066"/>
                </a:solidFill>
                <a:latin typeface="Arial"/>
              </a:rPr>
              <a:t>Teža MR</a:t>
            </a:r>
            <a:r>
              <a:rPr b="0" lang="hr-HR" sz="3200" spc="-1" strike="noStrike">
                <a:solidFill>
                  <a:srgbClr val="336699"/>
                </a:solidFill>
                <a:latin typeface="Arial"/>
              </a:rPr>
              <a:t> - </a:t>
            </a:r>
            <a:r>
              <a:rPr b="0" lang="hr-HR" sz="2800" spc="-1" strike="noStrike">
                <a:solidFill>
                  <a:srgbClr val="336699"/>
                </a:solidFill>
                <a:latin typeface="Arial"/>
              </a:rPr>
              <a:t>kvocijent inteligencije se kreće približno u rasponu od 20 do 3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0066"/>
                </a:solidFill>
                <a:latin typeface="Arial"/>
              </a:rPr>
              <a:t>Teška MR</a:t>
            </a:r>
            <a:r>
              <a:rPr b="0" lang="hr-HR" sz="3200" spc="-1" strike="noStrike">
                <a:solidFill>
                  <a:srgbClr val="336699"/>
                </a:solidFill>
                <a:latin typeface="Arial"/>
              </a:rPr>
              <a:t> - </a:t>
            </a:r>
            <a:r>
              <a:rPr b="0" lang="hr-HR" sz="2800" spc="-1" strike="noStrike">
                <a:solidFill>
                  <a:srgbClr val="336699"/>
                </a:solidFill>
                <a:latin typeface="Arial"/>
              </a:rPr>
              <a:t>kvocijent inteligencije djece s teškom mentalnom retardacijom približno se kreće u rasponu od 0 do 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660066"/>
                </a:solidFill>
                <a:latin typeface="Tahoma"/>
              </a:rPr>
              <a:t>Osobitosti učenika sniženih intelektualnih sposobnosti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00cc"/>
                </a:solidFill>
                <a:latin typeface="Tahoma"/>
              </a:rPr>
              <a:t>smanjena sposobnost za učenje</a:t>
            </a: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očituje se u kvalitativnim i kvantitativnim odstupanjima na području spoznaje, govora, motorike i pona</a:t>
            </a: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š</a:t>
            </a: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anja, tj. u obrazovnim dostignućima i stupnju socijalizacije pojedinca</a:t>
            </a: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bez obzira na etiologiju, imaju </a:t>
            </a:r>
            <a:r>
              <a:rPr b="0" lang="hr-HR" sz="2400" spc="-1" strike="noStrike">
                <a:solidFill>
                  <a:srgbClr val="cc00cc"/>
                </a:solidFill>
                <a:latin typeface="Tahoma"/>
              </a:rPr>
              <a:t>siroma</a:t>
            </a:r>
            <a:r>
              <a:rPr b="0" lang="hr-HR" sz="2400" spc="-1" strike="noStrike">
                <a:solidFill>
                  <a:srgbClr val="cc00cc"/>
                </a:solidFill>
                <a:latin typeface="Arial"/>
              </a:rPr>
              <a:t>š</a:t>
            </a:r>
            <a:r>
              <a:rPr b="0" lang="hr-HR" sz="2400" spc="-1" strike="noStrike">
                <a:solidFill>
                  <a:srgbClr val="cc00cc"/>
                </a:solidFill>
                <a:latin typeface="Tahoma"/>
              </a:rPr>
              <a:t>an rječnik</a:t>
            </a: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, a ni one riječi koje znaju ne koriste dovoljno. Ova karakteristika je povezana sa inteligencijom, tj. </a:t>
            </a: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š</a:t>
            </a: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to je veća intelektualna sposobnost djeteta, bogatiji mu je rječnik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00cc"/>
                </a:solidFill>
                <a:latin typeface="Tahoma"/>
              </a:rPr>
              <a:t>perceptivne te</a:t>
            </a:r>
            <a:r>
              <a:rPr b="0" lang="hr-HR" sz="2400" spc="-1" strike="noStrike">
                <a:solidFill>
                  <a:srgbClr val="cc00cc"/>
                </a:solidFill>
                <a:latin typeface="Arial"/>
              </a:rPr>
              <a:t>š</a:t>
            </a:r>
            <a:r>
              <a:rPr b="0" lang="hr-HR" sz="2400" spc="-1" strike="noStrike">
                <a:solidFill>
                  <a:srgbClr val="cc00cc"/>
                </a:solidFill>
                <a:latin typeface="Tahoma"/>
              </a:rPr>
              <a:t>koće</a:t>
            </a:r>
            <a:r>
              <a:rPr b="0" lang="hr-HR" sz="2400" spc="-1" strike="noStrike">
                <a:solidFill>
                  <a:srgbClr val="cc00cc"/>
                </a:solidFill>
                <a:latin typeface="Arial"/>
              </a:rPr>
              <a:t> npr. </a:t>
            </a:r>
            <a:r>
              <a:rPr b="0" lang="hr-HR" sz="2400" spc="-1" strike="noStrike">
                <a:solidFill>
                  <a:srgbClr val="cc00cc"/>
                </a:solidFill>
                <a:latin typeface="Tahoma"/>
              </a:rPr>
              <a:t>brzinu prepoznavanja</a:t>
            </a:r>
            <a:r>
              <a:rPr b="0" lang="hr-HR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određenog perceptivnog sklopa, npr. slike - podražaj mora dugo djelovati da bi ga djeca s IT mogla percipira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660066"/>
                </a:solidFill>
                <a:latin typeface="Tahoma"/>
              </a:rPr>
              <a:t>Osobitosti učenika sniženih intelektualnih sposobnosti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00cc"/>
                </a:solidFill>
                <a:latin typeface="Arial"/>
              </a:rPr>
              <a:t>Teškoće na području p</a:t>
            </a:r>
            <a:r>
              <a:rPr b="0" lang="hr-HR" sz="2400" spc="-1" strike="noStrike">
                <a:solidFill>
                  <a:srgbClr val="cc00cc"/>
                </a:solidFill>
                <a:latin typeface="Tahoma"/>
              </a:rPr>
              <a:t>amćenj</a:t>
            </a:r>
            <a:r>
              <a:rPr b="0" lang="hr-HR" sz="2400" spc="-1" strike="noStrike">
                <a:solidFill>
                  <a:srgbClr val="cc00cc"/>
                </a:solidFill>
                <a:latin typeface="Arial"/>
              </a:rPr>
              <a:t>a</a:t>
            </a:r>
            <a:r>
              <a:rPr b="0" lang="hr-HR" sz="2400" spc="-1" strike="noStrike">
                <a:solidFill>
                  <a:srgbClr val="cc00cc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cc00cc"/>
                </a:solidFill>
                <a:latin typeface="Arial"/>
              </a:rPr>
              <a:t>(pamćenje </a:t>
            </a: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je takva psihička pojava koja na doživljajnom ili subjektivnom planu uključuje procese usvajanja ili memoriranja i zadržavanja različitih sadržaja, dok se na vanjskom ili pona</a:t>
            </a: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š</a:t>
            </a: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ajnom planu očituje u ponavljanju ili reprodukciji tih sadržaja kao i njihovu prepoznavanju</a:t>
            </a: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Istraživanja pokazala da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neki autori smatraju da značajne razlike ne postoje, dok većina autora smatra da su osobe sa IT slabije u tim komponentam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660066"/>
                </a:solidFill>
                <a:latin typeface="Tahoma"/>
              </a:rPr>
              <a:t>Osobitosti učenika sniženih intelektualnih sposobnosti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Rezultati ispitivanja </a:t>
            </a:r>
            <a:r>
              <a:rPr b="0" lang="hr-HR" sz="2400" spc="-1" strike="noStrike">
                <a:solidFill>
                  <a:srgbClr val="cc00cc"/>
                </a:solidFill>
                <a:latin typeface="Tahoma"/>
              </a:rPr>
              <a:t>selektivne pažnje</a:t>
            </a: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 (usmjeravanje pažnje na one osobine predmeta, pojava i osoba koje su bitne) pokazuju da se kod učenika s  IT ta sposobnost razvija sporije, pa čak i kad su izjednačeni po mentalnoj dobi sa ispitanicima prosječne inteligencij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00cc"/>
                </a:solidFill>
                <a:latin typeface="Tahoma"/>
              </a:rPr>
              <a:t>Koncentracija</a:t>
            </a: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 je sposobnost da se duži vremenski period bez prekida usmjeri pažnja na zadatak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Istraživanja su pokazala da djeca s IT, bez obzira na etiologiju, imaju podjednako velike te</a:t>
            </a: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š</a:t>
            </a: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koće u održavanju koncentracije, a kao skupina značajno su slabiji od ispitanika prosječnog razvoj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660066"/>
                </a:solidFill>
                <a:latin typeface="Tahoma"/>
              </a:rPr>
              <a:t>Osobitosti učenika sniženih intelektualnih sposobnosti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cc00cc"/>
                </a:solidFill>
                <a:latin typeface="Tahoma"/>
              </a:rPr>
              <a:t>Učenici s lakom mentalnom retardacij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Učenici s LMR su vi</a:t>
            </a: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š</a:t>
            </a: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e obilježeni genetičkim čimbenicima i subkulturnom okolinom, a manje organskim o</a:t>
            </a: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š</a:t>
            </a: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tećenjima živčanog sustav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Osnovna pedago</a:t>
            </a: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š</a:t>
            </a: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ka značajka djece s LMR je da se one uz sustavnu stručnu pomoć mogu odgajati, obrazovati, rehabilitirati i socijalizirati u posebnim, poluintegriranim i integriranim uvjetima odgoja i obrazovanja, ovisno o dodatnim teškoćama u razvoju.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660066"/>
                </a:solidFill>
                <a:latin typeface="Tahoma"/>
              </a:rPr>
              <a:t>Pridružene te</a:t>
            </a:r>
            <a:r>
              <a:rPr b="0" lang="hr-HR" sz="3600" spc="-1" strike="noStrike">
                <a:solidFill>
                  <a:srgbClr val="660066"/>
                </a:solidFill>
                <a:latin typeface="Arial"/>
              </a:rPr>
              <a:t>š</a:t>
            </a:r>
            <a:r>
              <a:rPr b="0" lang="hr-HR" sz="3600" spc="-1" strike="noStrike">
                <a:solidFill>
                  <a:srgbClr val="660066"/>
                </a:solidFill>
                <a:latin typeface="Tahoma"/>
              </a:rPr>
              <a:t>koće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Mogu se javiti i druge utjecajne te</a:t>
            </a: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š</a:t>
            </a: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koće kao </a:t>
            </a: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š</a:t>
            </a: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to su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5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00cc"/>
                </a:solidFill>
                <a:latin typeface="Tahoma"/>
              </a:rPr>
              <a:t>epilepsija, tjelesna i senzorička o</a:t>
            </a:r>
            <a:r>
              <a:rPr b="0" lang="hr-HR" sz="2400" spc="-1" strike="noStrike">
                <a:solidFill>
                  <a:srgbClr val="cc00cc"/>
                </a:solidFill>
                <a:latin typeface="Arial"/>
              </a:rPr>
              <a:t>š</a:t>
            </a:r>
            <a:r>
              <a:rPr b="0" lang="hr-HR" sz="2400" spc="-1" strike="noStrike">
                <a:solidFill>
                  <a:srgbClr val="cc00cc"/>
                </a:solidFill>
                <a:latin typeface="Tahoma"/>
              </a:rPr>
              <a:t>tećenja, poremećaji govora</a:t>
            </a: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 i drug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5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0066"/>
                </a:solidFill>
                <a:latin typeface="Tahoma"/>
              </a:rPr>
              <a:t>Ne može se govoriti o jedinstvenoj slici pona</a:t>
            </a:r>
            <a:r>
              <a:rPr b="1" lang="hr-HR" sz="2400" spc="-1" strike="noStrike">
                <a:solidFill>
                  <a:srgbClr val="660066"/>
                </a:solidFill>
                <a:latin typeface="Arial"/>
              </a:rPr>
              <a:t>š</a:t>
            </a:r>
            <a:r>
              <a:rPr b="1" lang="hr-HR" sz="2400" spc="-1" strike="noStrike">
                <a:solidFill>
                  <a:srgbClr val="660066"/>
                </a:solidFill>
                <a:latin typeface="Tahoma"/>
              </a:rPr>
              <a:t>anja učenika sa sniženim intelektualnim sposobnostima</a:t>
            </a: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, ali se kao opća osobina te djece može navesti nedovoljna zrelost emocionalnih reakcija, nesposobnost procjene socijalnih situacija, nesigurnost i ovisnost o drugim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5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Postojeće razlike u pona</a:t>
            </a: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š</a:t>
            </a: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anju proizlaze iz vrste i težine o</a:t>
            </a: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š</a:t>
            </a: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tećenja, te socijalnih iskustava koja su za svako dijete specifič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 u="sng">
                <a:solidFill>
                  <a:srgbClr val="336699"/>
                </a:solidFill>
                <a:uFillTx/>
                <a:latin typeface="Arial"/>
              </a:rPr>
              <a:t>Učenici s teškoćama </a:t>
            </a:r>
            <a:r>
              <a:rPr b="0" lang="hr-HR" sz="2800" spc="-1" strike="noStrike" u="sng">
                <a:solidFill>
                  <a:srgbClr val="336699"/>
                </a:solidFill>
                <a:uFillTx/>
                <a:latin typeface="Arial"/>
              </a:rPr>
              <a:t>(čl. 65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b5481"/>
                </a:solidFill>
                <a:latin typeface="Tahoma"/>
              </a:rPr>
              <a:t>učenici s teškoćama u razvoj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5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b5481"/>
                </a:solidFill>
                <a:latin typeface="Tahoma"/>
              </a:rPr>
              <a:t>učenici s teškoćama u učenju, problemima u ponašanju i emocionalnim problem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5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b5481"/>
                </a:solidFill>
                <a:latin typeface="Tahoma"/>
              </a:rPr>
              <a:t>učenici s teškoćama uvjetovanim odgojnim, socijalnim, ekonomskim, kulturalnim i  jezičnim čimbenic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660066"/>
                </a:solidFill>
                <a:uFillTx/>
                <a:latin typeface="Tahoma"/>
              </a:rPr>
              <a:t>Preporuke za rad s učenicima </a:t>
            </a:r>
            <a:br>
              <a:rPr sz="3200"/>
            </a:br>
            <a:r>
              <a:rPr b="1" lang="hr-HR" sz="3200" spc="-1" strike="noStrike" u="sng">
                <a:solidFill>
                  <a:srgbClr val="660066"/>
                </a:solidFill>
                <a:uFillTx/>
                <a:latin typeface="Tahoma"/>
              </a:rPr>
              <a:t>s posebnim odgojno obrazovnim potrebam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660066"/>
                </a:solidFill>
                <a:uFillTx/>
                <a:latin typeface="Tahoma"/>
              </a:rPr>
              <a:t>Preporuke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336699"/>
                </a:solidFill>
                <a:latin typeface="Franklin Gothic Heavy"/>
              </a:rPr>
              <a:t>●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cc00cc"/>
                </a:solidFill>
                <a:latin typeface="Tahoma"/>
              </a:rPr>
              <a:t>primjereno mjesto za sjedenje uz individualnu rasvjetu ili u prednjim klupama (vizualni kontakt s učiteljem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336699"/>
                </a:solidFill>
                <a:latin typeface="Franklin Gothic Heavy"/>
              </a:rPr>
              <a:t>●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cc00cc"/>
                </a:solidFill>
                <a:latin typeface="Tahoma"/>
              </a:rPr>
              <a:t>osigurati više vremena za aktivnosti na sat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336699"/>
                </a:solidFill>
                <a:latin typeface="Franklin Gothic Heavy"/>
              </a:rPr>
              <a:t>●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udžbenici i pisani didaktički materijal na “brajici” il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  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uvećanom crnom tisku (Times New Roman 14-2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336699"/>
                </a:solidFill>
                <a:latin typeface="Franklin Gothic Heavy"/>
              </a:rPr>
              <a:t>●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cc00cc"/>
                </a:solidFill>
                <a:latin typeface="Tahoma"/>
              </a:rPr>
              <a:t>pripremiti tiskane tekstove (plan ploč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336699"/>
                </a:solidFill>
                <a:latin typeface="Franklin Gothic Heavy"/>
              </a:rPr>
              <a:t>●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koristiti bilježnice s jače otisnutim crtovljem i većim proredom na bijeloj ili žutoj podloz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336699"/>
                </a:solidFill>
                <a:latin typeface="Franklin Gothic Heavy"/>
              </a:rPr>
              <a:t>●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meke olovke koje ostavljaju deblji trag ili flomaster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336699"/>
                </a:solidFill>
                <a:latin typeface="Franklin Gothic Heavy"/>
              </a:rPr>
              <a:t>●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omogućiti uporabu diktafona na satu i korištenje poveća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336699"/>
                </a:solidFill>
                <a:latin typeface="Franklin Gothic Heavy"/>
              </a:rPr>
              <a:t>●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slijepi učenici: “</a:t>
            </a:r>
            <a:r>
              <a:rPr b="0" lang="hr-HR" sz="2000" spc="-1" strike="noStrike">
                <a:solidFill>
                  <a:srgbClr val="336699"/>
                </a:solidFill>
                <a:latin typeface="Arial"/>
              </a:rPr>
              <a:t>B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rajev” pisaći stroj, prilagođeno prijenosno računalo, kalkulator za slijepe, reljefne sheme i zemljovid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660066"/>
                </a:solidFill>
                <a:uFillTx/>
                <a:latin typeface="Tahoma"/>
              </a:rPr>
              <a:t>Preporuke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336699"/>
                </a:solidFill>
                <a:latin typeface="Tahoma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nastojati biti okrenut licem prema učenicima kada im se obraća govor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●  </a:t>
            </a:r>
            <a:r>
              <a:rPr b="0" lang="hr-HR" sz="2000" spc="-1" strike="noStrike">
                <a:solidFill>
                  <a:srgbClr val="cc00cc"/>
                </a:solidFill>
                <a:latin typeface="Tahoma"/>
              </a:rPr>
              <a:t>prilagoditi govor (izražajan, jasan, pauze)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●  </a:t>
            </a:r>
            <a:r>
              <a:rPr b="0" lang="hr-HR" sz="2000" spc="-1" strike="noStrike">
                <a:solidFill>
                  <a:srgbClr val="cc00cc"/>
                </a:solidFill>
                <a:latin typeface="Tahoma"/>
              </a:rPr>
              <a:t>provjeriti razumijevanje novih, nepoznatih riječi (pojašnjenje, slikovni materija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● 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postavljati kratka, jednostavna pitanja (poznate riječi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●  </a:t>
            </a:r>
            <a:r>
              <a:rPr b="0" lang="hr-HR" sz="2000" spc="-1" strike="noStrike">
                <a:solidFill>
                  <a:srgbClr val="cc00cc"/>
                </a:solidFill>
                <a:latin typeface="Tahoma"/>
              </a:rPr>
              <a:t>pismene provjere znanja (češće, manje cjelin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●  </a:t>
            </a:r>
            <a:r>
              <a:rPr b="0" lang="hr-HR" sz="2000" spc="-1" strike="noStrike">
                <a:solidFill>
                  <a:srgbClr val="cc00cc"/>
                </a:solidFill>
                <a:latin typeface="Tahoma"/>
              </a:rPr>
              <a:t>ocjenjivati sadržaj, a ne gramatičku ispravnost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● 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korištenje vizualnih sredstava (slike, fotografije, računalni programi, dijafilmovi…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● 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provjeriti razumijevanje zadataka za domaću zadać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● 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korištenje znakovnog jezika (asistent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660066"/>
                </a:solidFill>
                <a:uFillTx/>
                <a:latin typeface="Tahoma"/>
              </a:rPr>
              <a:t>Preporuke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● </a:t>
            </a:r>
            <a:r>
              <a:rPr b="0" lang="hr-HR" sz="2000" spc="-1" strike="noStrike" u="sng">
                <a:solidFill>
                  <a:srgbClr val="336699"/>
                </a:solidFill>
                <a:uFillTx/>
                <a:latin typeface="Tahoma"/>
              </a:rPr>
              <a:t>mucanje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 nikada ne ispravljati (osvještavati, oponašati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●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obraćati se učeniku smirenim, tišim i sporijim govor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●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smanjiti stresne i napete situacije (ne ustrajati u zahtjevu da učenik govori ukoliko to ne želi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● </a:t>
            </a:r>
            <a:r>
              <a:rPr b="0" lang="hr-HR" sz="2000" spc="-1" strike="noStrike">
                <a:solidFill>
                  <a:srgbClr val="cc00cc"/>
                </a:solidFill>
                <a:latin typeface="Tahoma"/>
              </a:rPr>
              <a:t>dati dovoljno vremena da izrazi svoje misli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●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ne završavati riječi i rečenice umjesto učenik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● </a:t>
            </a:r>
            <a:r>
              <a:rPr b="0" lang="hr-HR" sz="2000" spc="-1" strike="noStrike" u="sng">
                <a:solidFill>
                  <a:srgbClr val="336699"/>
                </a:solidFill>
                <a:uFillTx/>
                <a:latin typeface="Tahoma"/>
              </a:rPr>
              <a:t>brzopletom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 učeniku dati strukturu i redoslijed obavljanja zadatak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●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polako ponavljanje uputa, usmjeravanje pažnje na bit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● </a:t>
            </a:r>
            <a:r>
              <a:rPr b="0" lang="hr-HR" sz="2000" spc="-1" strike="noStrike">
                <a:solidFill>
                  <a:srgbClr val="cc00cc"/>
                </a:solidFill>
                <a:latin typeface="Tahoma"/>
              </a:rPr>
              <a:t>prilagoditi tisak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(manje cjeline, povećan razmak, podebljane bitne riječi, bez suvišnih detalja…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660066"/>
                </a:solidFill>
                <a:uFillTx/>
                <a:latin typeface="Tahoma"/>
              </a:rPr>
              <a:t>Preporuke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●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učionica treba biti u prizemlju ako nisu riješene barije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●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osigurati prostor za kretanje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(razmjestiti stolov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●</a:t>
            </a:r>
            <a:r>
              <a:rPr b="0" i="1" lang="hr-HR" sz="2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prilagoditi namještaj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(stol, ploha, sjedalica, držač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336699"/>
                </a:solidFill>
                <a:latin typeface="Franklin Gothic Heavy"/>
              </a:rPr>
              <a:t>●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primjeren pribor (bilježnice velikog formata)  i pomagala za pisanj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336699"/>
                </a:solidFill>
                <a:latin typeface="Franklin Gothic Heavy"/>
              </a:rPr>
              <a:t>●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fiksiranje papira ili bilježnice za radnu podlog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336699"/>
                </a:solidFill>
                <a:latin typeface="Franklin Gothic Heavy"/>
              </a:rPr>
              <a:t>●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omogućiti pisanje samo velikim tiskanim slovi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336699"/>
                </a:solidFill>
                <a:latin typeface="Franklin Gothic Heavy"/>
              </a:rPr>
              <a:t>●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drugi oblici rada i pomagala (diktiranje drugoj osobi, snimk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336699"/>
                </a:solidFill>
                <a:latin typeface="Franklin Gothic Heavy"/>
              </a:rPr>
              <a:t>●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cc00cc"/>
                </a:solidFill>
                <a:latin typeface="Tahoma"/>
              </a:rPr>
              <a:t>osigurati više vremena za grafičke aktivnost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336699"/>
                </a:solidFill>
                <a:latin typeface="Franklin Gothic Heavy"/>
              </a:rPr>
              <a:t>●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cc00cc"/>
                </a:solidFill>
                <a:latin typeface="Tahoma"/>
              </a:rPr>
              <a:t>pripremiti tekst plana ploče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336699"/>
                </a:solidFill>
                <a:latin typeface="Franklin Gothic Heavy"/>
              </a:rPr>
              <a:t>●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pomagalo za držanje knjige u optimalnom položaj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0066"/>
                </a:solidFill>
                <a:latin typeface="Tahoma"/>
              </a:rPr>
              <a:t>OPĆI ZAHTJEVI (ukratko ponovimo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uspostaviti pozitivan odnos, pohvaliti svaki </a:t>
            </a:r>
            <a:r>
              <a:rPr b="0" lang="hr-HR" sz="2400" spc="-1" strike="noStrike" u="sng">
                <a:solidFill>
                  <a:srgbClr val="336699"/>
                </a:solidFill>
                <a:uFillTx/>
                <a:latin typeface="Tahoma"/>
              </a:rPr>
              <a:t>trud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koji učenik ulaže bez obzira na urada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omogućiti adekvatno mjesto u razredu; ukloniti sve što ometa pažnj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rilagođavati sadržaje, metode, postupke, zahtjeve i sredstva sukladno sposobnostima učeni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omogućiti dulje vrijeme za rad, postepeno ukidanje pomoć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više vježbe, češće provjere razumijevanja naučeno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oticati učenika i vršnjake na pozitivnu interakciju provođenjem zajedničkih aktivnosti u kojima je učenik uspješ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rilagodbe govora, prema potrebi tis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0066"/>
                </a:solidFill>
                <a:latin typeface="Tahoma"/>
              </a:rPr>
              <a:t>ZAHTJEVI U ODNOSU NA NASTAVNE SADRŽAJ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laniranje i programiranje temeljiti na inicijalnoj procje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6699"/>
                </a:solidFill>
                <a:latin typeface="Tahoma"/>
              </a:rPr>
              <a:t>primjereno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336699"/>
                </a:solidFill>
                <a:latin typeface="Tahoma"/>
              </a:rPr>
              <a:t>ciljano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336699"/>
                </a:solidFill>
                <a:latin typeface="Tahoma"/>
              </a:rPr>
              <a:t>osmi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š</a:t>
            </a:r>
            <a:r>
              <a:rPr b="0" lang="de-DE" sz="2400" spc="-1" strike="noStrike">
                <a:solidFill>
                  <a:srgbClr val="336699"/>
                </a:solidFill>
                <a:latin typeface="Tahoma"/>
              </a:rPr>
              <a:t>ljeno perceptivno potkrijepljenje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(</a:t>
            </a:r>
            <a:r>
              <a:rPr b="0" lang="de-DE" sz="2400" spc="-1" strike="noStrike">
                <a:solidFill>
                  <a:srgbClr val="336699"/>
                </a:solidFill>
                <a:latin typeface="Tahoma"/>
              </a:rPr>
              <a:t>neposredna stvarnost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336699"/>
                </a:solidFill>
                <a:latin typeface="Tahoma"/>
              </a:rPr>
              <a:t>slika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336699"/>
                </a:solidFill>
                <a:latin typeface="Tahoma"/>
              </a:rPr>
              <a:t>simbol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ojednostavljivanje sadržaja rada, usvajanje manjeg broja činjenica uz povezivanje s potrebama svakodnevnog živo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složene zadatke, radnje, raščlaniti na male korake učen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teorijske sadržaje prilagoditi isticanjem/sažimanjem bitnog; semantičko pojednostavljivan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kod samostalnog učenja označiti bitno, sažeti tekst, izraditi kognitivnu mapu, koristiti zornu podršk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85672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0066"/>
                </a:solidFill>
                <a:latin typeface="Tahoma"/>
              </a:rPr>
              <a:t>ZAHTJEVI U ODNOSU NA NASTAVNE METODE I POSTUPK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metoda demonstracije pri objašnjavanju sadržaja, događaja, radnje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izlaganje uskladiti s jednostavnim pojmovnim fondom, koncentracijom i pažnjom (kraće, jednostavne rečenice, bitno, slikovno predočavanje, provjera razumijevanj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koristiti pomoćna pitan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rimjereno uključivanje učenika u čitanj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umjesto zapisivanja koristiti gotove materijale, nastavne listić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dulji vremenski period kod diktiranja ili zamjenski cilj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doziranje zadata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0066"/>
                </a:solidFill>
                <a:latin typeface="Tahoma"/>
              </a:rPr>
              <a:t>ZAHTJEVI U ODNOSU NA PROVJERAVANJE I OCJENJIVANJ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rovoditi u skladu s Pravilnik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dozirati vrijeme ispitivanja (češće, kraće, manje cjelin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odabrati učeniku lakši oblik provje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ocjenjivati brojčano i opisno (1-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temeljiti se na zahtjevima postavljenim u IOOP-u (prilagođeni progra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učenika ocjenjivati i uspoređivati u odnosu na inicijalno predznanje, a ne u odnosu na ostale učenike u razred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920"/>
            <a:ext cx="914400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hr-HR" sz="2400" spc="-1" strike="noStrike">
                <a:solidFill>
                  <a:srgbClr val="660066"/>
                </a:solidFill>
                <a:latin typeface="Tahoma"/>
              </a:rPr>
              <a:t>PRILAGOĐAVANJE SREDSTAVA I ZAHTJEVA U NJIHOVOJ UPORAB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kad god je moguće koristiti izvornu stvarn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u radu koristiti jednostavan, konkretan materijal bez puno detalja koji ometaju promatran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izrada individualiziranih nastavnih listić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produljeno vrijeme za rješavanje zadataka, čitanje i pismene radove, učenje, korištenje nastavnih materija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koristiti nastavna pomagala za podršku u radu (okviri za praćenje slijeda čitanja, naglašena crtovlja.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koristiti dostupne udžbenike i radne bilježnice za djecu s teškoća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0066"/>
                </a:solidFill>
                <a:latin typeface="Tahoma"/>
              </a:rPr>
              <a:t>Orijentacijska lista Pravilnika o </a:t>
            </a:r>
            <a:r>
              <a:rPr b="1" lang="hr-HR" sz="2400" spc="-1" strike="noStrike">
                <a:solidFill>
                  <a:srgbClr val="660066"/>
                </a:solidFill>
                <a:latin typeface="Tahoma"/>
                <a:ea typeface="Times New Roman"/>
              </a:rPr>
              <a:t>osnovnoškolskom odgoju i obrazovanju </a:t>
            </a:r>
            <a:r>
              <a:rPr b="1" lang="hr-HR" sz="2400" spc="-1" strike="noStrike">
                <a:solidFill>
                  <a:srgbClr val="660066"/>
                </a:solidFill>
                <a:latin typeface="Tahoma"/>
              </a:rPr>
              <a:t>učenika s teškoćama u razvoju</a:t>
            </a:r>
            <a:r>
              <a:rPr b="0" lang="hr-HR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660066"/>
                </a:solidFill>
                <a:latin typeface="Tahoma"/>
              </a:rPr>
              <a:t>(1991. godina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128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1. učenici s oštećenjem v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2. učenici s oštećenjem sluh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3. učenici s  poremećajima govorno-glasovn</a:t>
            </a:r>
            <a:r>
              <a:rPr b="0" lang="hr-HR" sz="2000" spc="-1" strike="noStrike">
                <a:solidFill>
                  <a:srgbClr val="336699"/>
                </a:solidFill>
                <a:latin typeface="Times New Roman"/>
              </a:rPr>
              <a:t>e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 komunikacij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4. učenici s motoričkim poremećajima i kroničnim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    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bolesti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5. učenici sa sniženim intelektualnim sposobnosti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6. učenici s poremećajima pažnje/hiperaktivnost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7. učenici sa specifičnim teškoćama učen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8. učenici s poremećajima u ponašanju i emocionalni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  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poremećaji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9. učenici s poremećajima iz autističnog spektr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0066"/>
                </a:solidFill>
                <a:latin typeface="Tahoma"/>
              </a:rPr>
              <a:t>6. UČENICI SA ADHD-om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Razvojni poremećaj s izraženim simptom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nepažnj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i/il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hiperaktivnosti-impulzivnost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koji s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maladaptivni</a:t>
            </a: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 (klinički značajno oštećenje socijalnog, akademskog ili radnog funkcioniranja -DSM IV,1994), 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ne odgovaraju razvojnom stupnju.</a:t>
            </a:r>
            <a:r>
              <a:rPr b="0" lang="hr-HR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700" spc="-1" strike="noStrike">
                <a:solidFill>
                  <a:srgbClr val="660066"/>
                </a:solidFill>
                <a:latin typeface="Tahoma"/>
              </a:rPr>
              <a:t>Osobine učenika s ADHD-om</a:t>
            </a:r>
            <a:endParaRPr b="0" lang="en-US" sz="37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Najviše teškoća u situacijama u kojima se traži trajnija pažnja ili mentalni napor (učenje u razredu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Osjetljivi na promjene u okolini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Vidni, slušni ili drugi uznemiravajući podražaji izazivaju nemir i smetnje koncentracije (mnogo ljudi, žamor, lupanje stvarima, kretanje u prostoru, previše aplikacija po zidovima); nemir je jače izražen u skučenim prostori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Osjetljivi na promjene vremena,  tlaka i druga atmosferska zbivanja – razdražljivi, nemirni, slabo koncentrirani i slabo uč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4140360" y="6308640"/>
            <a:ext cx="6109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DA41-B653-4391-A4F5-E00A9876F76A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9" descr="22"/>
          <p:cNvPicPr/>
          <p:nvPr/>
        </p:nvPicPr>
        <p:blipFill>
          <a:blip r:embed="rId1"/>
          <a:stretch/>
        </p:blipFill>
        <p:spPr>
          <a:xfrm>
            <a:off x="0" y="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5"/>
          <p:cNvSpPr/>
          <p:nvPr/>
        </p:nvSpPr>
        <p:spPr>
          <a:xfrm>
            <a:off x="8280360" y="63882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20720" y="149652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336699"/>
                </a:solidFill>
                <a:latin typeface="Tahoma"/>
              </a:rPr>
              <a:t>Uzrok je:</a:t>
            </a:r>
            <a:r>
              <a:rPr b="1" lang="hr-HR" sz="4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hr-HR" sz="3200" spc="-1" strike="noStrike">
                <a:solidFill>
                  <a:srgbClr val="660066"/>
                </a:solidFill>
                <a:latin typeface="Tahoma"/>
              </a:rPr>
              <a:t>biološka različitost u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660066"/>
                </a:solidFill>
                <a:latin typeface="Tahoma"/>
              </a:rPr>
              <a:t>                       </a:t>
            </a:r>
            <a:r>
              <a:rPr b="1" lang="hr-HR" sz="3200" spc="-1" strike="noStrike">
                <a:solidFill>
                  <a:srgbClr val="660066"/>
                </a:solidFill>
                <a:latin typeface="Tahoma"/>
              </a:rPr>
              <a:t>funkcioniranju SŽS-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koja može nastati pod utjecaj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naslijeđa il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različitih nepovoljnih čimbenika koji mogu djelovati tijekom trudnoće, poroda ili nakon rođenja djete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4067280" y="6388200"/>
            <a:ext cx="539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9457-9122-4B74-8C5A-B7E2400141D5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700" spc="-1" strike="noStrike">
                <a:solidFill>
                  <a:srgbClr val="660066"/>
                </a:solidFill>
                <a:latin typeface="Tahoma"/>
              </a:rPr>
              <a:t>Intervencije učitelja</a:t>
            </a:r>
            <a:endParaRPr b="0" lang="en-US" sz="37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Maksimalno upoznati osobnost i mogućnosti učen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Pružiti učeniku strogo strukturirane i motivirajuće sadrža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Upoznati suučenike o posebnim potrebama učenika s ADHD-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Uspostaviti </a:t>
            </a:r>
            <a:r>
              <a:rPr b="0" lang="hr-HR" sz="3200" spc="-1" strike="noStrike">
                <a:solidFill>
                  <a:srgbClr val="660066"/>
                </a:solidFill>
                <a:latin typeface="Tahoma"/>
              </a:rPr>
              <a:t>jasna pravila i biti dosljed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Često i bez odgode pohvaljivati učen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99444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700" spc="-1" strike="noStrike">
                <a:solidFill>
                  <a:srgbClr val="660066"/>
                </a:solidFill>
                <a:latin typeface="Tahoma"/>
              </a:rPr>
              <a:t>ADHD – postupci podrške</a:t>
            </a:r>
            <a:br>
              <a:rPr sz="3700"/>
            </a:br>
            <a:r>
              <a:rPr b="0" lang="hr-HR" sz="3700" spc="-1" strike="noStrike">
                <a:solidFill>
                  <a:srgbClr val="660066"/>
                </a:solidFill>
                <a:latin typeface="Tahoma"/>
              </a:rPr>
              <a:t>Jasne granice</a:t>
            </a:r>
            <a:endParaRPr b="0" lang="en-US" sz="37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Postavite jasna pravila u razredu. Učenik  s ADHD poremećajem TREBA strukturiranu situaciju i jasne granice, jer ih samo ne može postaviti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Impulzivnost- unutarnji gov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06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6922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4000"/>
          </a:bodyPr>
          <a:p>
            <a:pPr marL="82080" indent="-82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0066"/>
                </a:solidFill>
                <a:latin typeface="Tahoma"/>
              </a:rPr>
              <a:t>7. UČENICI SA SPECIFIČNIM TEŠKOĆA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2080" indent="-82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0066"/>
                </a:solidFill>
                <a:latin typeface="Tahoma"/>
              </a:rPr>
              <a:t>    </a:t>
            </a:r>
            <a:r>
              <a:rPr b="0" lang="hr-HR" sz="3200" spc="-1" strike="noStrike">
                <a:solidFill>
                  <a:srgbClr val="660066"/>
                </a:solidFill>
                <a:latin typeface="Tahoma"/>
              </a:rPr>
              <a:t>UČEN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2080" indent="-82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2080" indent="-8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●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normalna ili natprosječna inteligen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2080" indent="-8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neusklađenost sposobnosti i postignuć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2080" indent="-8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zaostajanje u postignuću u specifičnim područji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2080" indent="-8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smetnje pažnj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2080" indent="-8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erceptivne smetnj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2080" indent="-8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teškoće u prostornoj orijentacij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2080" indent="-8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teškoće s motivacijom i samoregulacijom ponašan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2080" indent="-8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specifične smetnje pamćenja i gov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2080" indent="-8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nerazvijene vještine učen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2080" indent="-8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06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6922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2000"/>
          </a:bodyPr>
          <a:p>
            <a:pPr marL="109440" indent="-1094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●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učenici s poteškoćama u govoru-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disfazij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09440" indent="-1094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senzorna (receptivna) ne razumije što mu se govor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09440" indent="-1094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motorna (ekspresivna) razumije ali poteškoće u govor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09440" indent="-1094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●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učenici s poremećajem čitanja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disleksij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09440" indent="-1094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●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učenici s poremećajem pisanja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disgrafij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09440" indent="-1094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●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oremećaj matematičkih sposobnosti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diskalkulij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09440" indent="-1094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●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teškoćama u kratkotrajnom pamćenj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09440" indent="-1094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●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teškoćama percepcije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09440" indent="-109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9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50560" y="380880"/>
            <a:ext cx="8435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0066"/>
                </a:solidFill>
                <a:latin typeface="Tahoma"/>
              </a:rPr>
              <a:t>DISLEKSIJA- </a:t>
            </a:r>
            <a:r>
              <a:rPr b="0" lang="hr-HR" sz="2400" spc="-1" strike="noStrike">
                <a:solidFill>
                  <a:srgbClr val="660066"/>
                </a:solidFill>
                <a:latin typeface="Tahoma"/>
              </a:rPr>
              <a:t>poteškoće u usvajanju čitan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OKAZATELJI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teškoće u povezivanja grafema s fonemom (slovo - glas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teškoće u povezivanju glasova i slogova u riječi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premještanje ili umetanje slogova (vrata-trava, novi-vino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zamjene grafički sličnih slova (b-d, b-p, m-n, dobar-bodar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zamjene fonetski sličnih slova (d-t, g-k, b-p, z-s, brati-prat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zamjene slogova (on-no, ej-je) i riječi (mračni-mačka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dodavanje slova i slogova (brada-barada, mrkva-markva, brod-borod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teškoće u slijedu pravca čitan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vraća se na već pročitani 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izostavlja riječi ili cijele redo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49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3808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Ovaj tekst napisala je djevojčica (3.razred) koja ima disleksiju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Animacija je rađena po njezinim uputama. Kada čita, ona otprilik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ovako vidi tekst.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4" descr="vrcenje"/>
          <p:cNvPicPr/>
          <p:nvPr/>
        </p:nvPicPr>
        <p:blipFill>
          <a:blip r:embed="rId1"/>
          <a:stretch/>
        </p:blipFill>
        <p:spPr>
          <a:xfrm>
            <a:off x="0" y="2592360"/>
            <a:ext cx="8964720" cy="18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49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3808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0066"/>
                </a:solidFill>
                <a:latin typeface="Tahoma"/>
              </a:rPr>
              <a:t>DISGRAFIJA</a:t>
            </a:r>
            <a:r>
              <a:rPr b="0" i="1" lang="hr-HR" sz="2400" spc="-1" strike="noStrike">
                <a:solidFill>
                  <a:srgbClr val="660066"/>
                </a:solidFill>
                <a:latin typeface="Tahoma"/>
              </a:rPr>
              <a:t> -</a:t>
            </a:r>
            <a:r>
              <a:rPr b="0" lang="hr-HR" sz="2400" spc="-1" strike="noStrike">
                <a:solidFill>
                  <a:srgbClr val="660066"/>
                </a:solidFill>
                <a:latin typeface="Tahoma"/>
              </a:rPr>
              <a:t> teškoće u ovladavanju vještinama pisan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OKAZATELJI: - nepravilno držanje olovke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                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sporo i neuredno pisanje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                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pisanje izvan crtovlj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                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zrcalno pisanje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                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nepoznavanje grafem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                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pisana slova su odvojen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                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pisanje više riječi zajedno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                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premještanje, umetanje, izostavljan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                  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slova i slogo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                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trajanje i nakon kraja 2. razred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0066"/>
                </a:solidFill>
                <a:latin typeface="Tahoma"/>
              </a:rPr>
              <a:t>1. UČENICI S OŠTEĆENJEM VID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99"/>
                </a:solidFill>
                <a:latin typeface="Tahoma"/>
              </a:rPr>
              <a:t>1. Sljepoća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336699"/>
                </a:solidFill>
                <a:latin typeface="Franklin Gothic Heavy"/>
              </a:rPr>
              <a:t>●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ostatak vida na boljem oku s korekcijskim staklom do 5% uz suženje vidnog polja na 20 stupnjeva ili ispod 20 stupnjeva, potreba edukacije na Brailleovom pism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336699"/>
                </a:solidFill>
                <a:latin typeface="Franklin Gothic Heavy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koncentrično suženje vidnog polja oka s vidni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oljem širine 5-10 stupnje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336699"/>
                </a:solidFill>
                <a:latin typeface="Franklin Gothic Heavy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bez obzira na oštrinu vida nesposobnost čitanja slova ili znakova veličine Jaeger 8 na blizinu (font Times New Roman 22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99"/>
                </a:solidFill>
                <a:latin typeface="Tahoma"/>
              </a:rPr>
              <a:t>2. Slabovidnos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i="1" lang="hr-HR" sz="2400" spc="-1" strike="noStrike">
                <a:solidFill>
                  <a:srgbClr val="336699"/>
                </a:solidFill>
                <a:latin typeface="Franklin Gothic Heavy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oštrina vida na boljem oku s korekcijskim staklom o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40 % i manje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49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4" descr="13-kruh"/>
          <p:cNvPicPr/>
          <p:nvPr/>
        </p:nvPicPr>
        <p:blipFill>
          <a:blip r:embed="rId1"/>
          <a:stretch/>
        </p:blipFill>
        <p:spPr>
          <a:xfrm>
            <a:off x="457200" y="620640"/>
            <a:ext cx="3970440" cy="3022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19-kaktus"/>
          <p:cNvPicPr/>
          <p:nvPr/>
        </p:nvPicPr>
        <p:blipFill>
          <a:blip r:embed="rId2"/>
          <a:stretch/>
        </p:blipFill>
        <p:spPr>
          <a:xfrm>
            <a:off x="4572000" y="3753000"/>
            <a:ext cx="4392720" cy="284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4080" y="1142640"/>
            <a:ext cx="799956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95280" y="549360"/>
            <a:ext cx="849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0" y="0"/>
            <a:ext cx="9144000" cy="6531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336699"/>
                </a:solidFill>
                <a:uFillTx/>
                <a:latin typeface="Tahoma"/>
              </a:rPr>
              <a:t>Preporuke za rad s učenicima sa specifičnim teškoćama učen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duže vremensko razdoblje za usvajanje nekih tem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●</a:t>
            </a: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koristiti različite vrste podražaja – vidne, slušne, dodirne ko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obrade novih sadržaj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●</a:t>
            </a: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dati prednost češćim usmenim oblicima u poučavanju 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rovjeravanju znanj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●</a:t>
            </a: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sistematski provjeravati da li je učenik razumio sadržaj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ojmove i definicije te dati dodatna objašnjenj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izbjegavati učenikovo čitanje na glas ili pisanje na ploči pr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razredom (osim ako učenik na izrazi tu želju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●</a:t>
            </a: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koristiti prerađene, sažete, jednostavnije tekstove (i kod čitanja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lektire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u udžbeniku jasno označiti mjesta koja su bitna – rečenic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ravilo, primjer, slika, postupak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4080" y="1142640"/>
            <a:ext cx="799956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0" y="0"/>
            <a:ext cx="9144000" cy="82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●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koristiti mnogo konkretnih primjera, slika, povezanih 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oznatim sadržajim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zadavati manji broj zadataka, a zadatke rasporediti po težin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(lakši, teži, lakš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●</a:t>
            </a: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odijeliti zadaću na više faz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●</a:t>
            </a: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ismeno rješavanje zadataka ne ograničiti vremenski, a grešk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tipa disleksije ne ocjenjivati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greške u pisanju ne ispravljati nego ih samo naznačiti (podvuć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riječ ) kako bi učenik sam naučio i ispravio greške uz pomoć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udžbenika ili rječnik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kod učenja koristiti slikovne podsjetnike odnosno pomoć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učeniku da nauči tehniku vizualizacije i bržeg zapamćivanja te d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uči uz pomoć kognitivnih mapa koje samostalno izrađuje p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odručjima koje uč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ohrabrivati učenika za spontano izražavanje i poticati ga n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samostalnost u rad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9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920" y="304560"/>
            <a:ext cx="864216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0066"/>
                </a:solidFill>
                <a:latin typeface="Tahoma"/>
              </a:rPr>
              <a:t>8. UČENICI S POREMEĆAJIMA U PONAŠANJ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0066"/>
                </a:solidFill>
                <a:latin typeface="Tahoma"/>
              </a:rPr>
              <a:t>    </a:t>
            </a:r>
            <a:r>
              <a:rPr b="0" lang="hr-HR" sz="2800" spc="-1" strike="noStrike">
                <a:solidFill>
                  <a:srgbClr val="660066"/>
                </a:solidFill>
                <a:latin typeface="Tahoma"/>
              </a:rPr>
              <a:t>I EMOCIONALNIM POREMEĆAJ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UP- ponašanja koja izlaze iz okvira općeprihvaćenih normi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  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onašanja određene sredine, štetna su i opasna za t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  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osobu i/ili njenu okolinu, te zahtijevaju organiziran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  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stručnu intervencij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0066"/>
                </a:solidFill>
                <a:latin typeface="Tahoma"/>
              </a:rPr>
              <a:t>KLASIFIKA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1. </a:t>
            </a:r>
            <a:r>
              <a:rPr b="0" lang="hr-HR" sz="2400" spc="-1" strike="noStrike" u="sng">
                <a:solidFill>
                  <a:srgbClr val="336699"/>
                </a:solidFill>
                <a:uFillTx/>
                <a:latin typeface="Tahoma"/>
              </a:rPr>
              <a:t>aktivni poremećaji</a:t>
            </a:r>
            <a:r>
              <a:rPr b="0" lang="hr-HR" sz="2400" spc="-1" strike="noStrike" u="sng">
                <a:solidFill>
                  <a:srgbClr val="336699"/>
                </a:solidFill>
                <a:uFillTx/>
                <a:latin typeface="Tahoma"/>
              </a:rPr>
              <a:t>-</a:t>
            </a:r>
            <a:r>
              <a:rPr b="1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usmjereno prema drugima (agresivnost, drskost, suprotstavljanje, neposlušnost, zadirkivanje, izazivanje, destruktivnost, delikvencija…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2. </a:t>
            </a:r>
            <a:r>
              <a:rPr b="0" lang="hr-HR" sz="2400" spc="-1" strike="noStrike" u="sng">
                <a:solidFill>
                  <a:srgbClr val="336699"/>
                </a:solidFill>
                <a:uFillTx/>
                <a:latin typeface="Tahoma"/>
              </a:rPr>
              <a:t>pasivni poremećaji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kontroliraju i usmjerena su prema sebi, (npr. anksioznost, povučenost, stidljivost, plašljivost, tuga,  depresivnost, somatske teškoće…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STRUČNA POMOĆ- socijalni pedagog, psiholog, psihijat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0066"/>
                </a:solidFill>
                <a:latin typeface="Tahoma"/>
              </a:rPr>
              <a:t>9. UČENICI S POREMEĆAJIMA  IZ AUTISTIČNOG SPEKTRA</a:t>
            </a:r>
            <a:r>
              <a:rPr b="0" lang="hr-HR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Franklin Gothic Heavy"/>
              </a:rPr>
              <a:t>●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Autizam se ubraja u skupinu pervarzivnih razvojnih poremećaj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336699"/>
                </a:solidFill>
                <a:latin typeface="Franklin Gothic Heavy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Obilježja pervazivnih razvojnih poremećaj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kvalitativno oštećenje socijalnih interakcij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kvalitativno oštećenje komunikacij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ograničeni, ponavljajući stereotipni obrasci ponašan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interesa i aktivnosti.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115920"/>
            <a:ext cx="903600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336699"/>
                </a:solidFill>
                <a:uFillTx/>
                <a:latin typeface="Tahoma"/>
              </a:rPr>
              <a:t>Preporuke za rad s učenicima iz autističnog spekt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0066"/>
                </a:solidFill>
                <a:latin typeface="Tahoma"/>
              </a:rPr>
              <a:t>OPĆI ZAHTJEV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0066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spremnost škole, učitelja (prihvaćanje i razumijevanj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spremnost za suradnju s edukacijsko-rehabilitacijskim stručnjakom za potporu i roditelji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kontinuirana dostupnost stručne podršk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IOOP, manji broj učenika u razredu, bez drugih učenika s teškoća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omoćnik u nastav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856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0066"/>
                </a:solidFill>
                <a:latin typeface="Tahoma"/>
              </a:rPr>
              <a:t>ZAHTJEVI U ODNOSU NA NASTAVNE SADRŽAJ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individualno planiranje i poučavanje usmjereno na funkcionalna i praktična znanja i vještine s ciljem podizanja razine socijalne kompetencije i prihvatljivih oblika ponašan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akademska znanja – kao i kod učenika s I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razvijati komunikacijske i socijalizacijske sposobnost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0066"/>
                </a:solidFill>
                <a:latin typeface="Tahoma"/>
              </a:rPr>
              <a:t>ZAHTJEVI U ODNOSU NA METODE I POSTUPKE I U ODNOSU NA PROVJERAVANJE I OCJENJIVANJ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kao i kod učenika s I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voditi računa o stupnju emocionalnog razvo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naučeno vježbati u različitim situacijama s različitim osoba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pravilno i individualno rasporediti period rada i odmo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koristiti slikovnu podršku za bolje razumijevanje situacija, konteksta,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hr-HR" sz="2400" spc="-1" strike="noStrike">
                <a:solidFill>
                  <a:srgbClr val="660066"/>
                </a:solidFill>
                <a:latin typeface="Tahoma"/>
              </a:rPr>
              <a:t>PRILAGOĐAVANJE SREDSTAVA I ZAHTJEVA U NJIHOVOJ UPOTREB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osigurati mogućnost osamljivanja i odm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odabrati primjereno mjesto s obzirom na senzoričku preosjetljiv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ukoliko je moguća djelomična integra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uključuje specifične oblike podrške (logoterapija, kineziterapija, senzorička integracija, terapija igrom.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0066"/>
                </a:solidFill>
                <a:latin typeface="Tahoma"/>
              </a:rPr>
              <a:t>PRAVILNIK</a:t>
            </a:r>
            <a:br>
              <a:rPr sz="2400"/>
            </a:br>
            <a:r>
              <a:rPr b="0" lang="hr-HR" sz="2400" spc="-1" strike="noStrike">
                <a:solidFill>
                  <a:srgbClr val="660066"/>
                </a:solidFill>
                <a:latin typeface="Tahoma"/>
              </a:rPr>
              <a:t>O NAČINIMA, POSTUPCIMA I ELEMENTIMA VREDNOVANJA UČENIKA U OSNOVNOJ I SREDNJOJ ŠKOLI</a:t>
            </a: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9999"/>
                </a:solidFill>
                <a:latin typeface="Tahoma"/>
              </a:rPr>
              <a:t>Članak 5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9999"/>
                </a:solidFill>
                <a:latin typeface="Tahoma"/>
              </a:rPr>
              <a:t>Vrednovanje učenika s teškoća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(1) Kod učenika s teškoćama treba vrednovati njegov odnos prema radu i postavljenim zadacima te odgojnim vrijednostim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(2) Načine, postupke i elemente vrednovanja učenika s teškoćama, koji savladavaju individualne programe i posebne kurikulume uključujući i vladanje, učitelji/nastavnici trebaju primjeriti teškoći i osobnosti učenik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0066"/>
                </a:solidFill>
                <a:latin typeface="Tahoma"/>
              </a:rPr>
              <a:t>PRAVILNIK</a:t>
            </a:r>
            <a:br>
              <a:rPr sz="2400"/>
            </a:br>
            <a:r>
              <a:rPr b="0" lang="hr-HR" sz="2400" spc="-1" strike="noStrike">
                <a:solidFill>
                  <a:srgbClr val="660066"/>
                </a:solidFill>
                <a:latin typeface="Tahoma"/>
              </a:rPr>
              <a:t>O NAČINIMA, POSTUPCIMA I ELEMENTIMA VREDNOVANJA UČENIKA U OSNOVNOJ I SREDNJOJ ŠKOLI</a:t>
            </a: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(3) Vrednovanje valja usmjeriti na poticanje učenika na aktivno sudjelovanje u nastavi i izvannastavnim aktivnostima, razvijati njegovo samopouzdanje i osjećaj napredovanja kako bi kvalitetno iskoristio očuvane sposobnosti i razvio nov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(4) Načini i postupci vrednovanja trebaju biti u skladu s preporukama stručnoga tima za pojedino područje, primjereni stupnju i vrsti teškoće te jasni sv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Suženje vidnog pol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4" descr="Rijeka20"/>
          <p:cNvPicPr/>
          <p:nvPr/>
        </p:nvPicPr>
        <p:blipFill>
          <a:blip r:embed="rId1"/>
          <a:stretch/>
        </p:blipFill>
        <p:spPr>
          <a:xfrm>
            <a:off x="0" y="0"/>
            <a:ext cx="4643280" cy="3486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suženje Rijeka20"/>
          <p:cNvPicPr/>
          <p:nvPr/>
        </p:nvPicPr>
        <p:blipFill>
          <a:blip r:embed="rId2"/>
          <a:stretch/>
        </p:blipFill>
        <p:spPr>
          <a:xfrm>
            <a:off x="4643280" y="3479760"/>
            <a:ext cx="450072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0066"/>
                </a:solidFill>
                <a:latin typeface="Tahoma"/>
              </a:rPr>
              <a:t>PRAVILNIK</a:t>
            </a:r>
            <a:br>
              <a:rPr sz="2400"/>
            </a:br>
            <a:r>
              <a:rPr b="0" lang="hr-HR" sz="2400" spc="-1" strike="noStrike">
                <a:solidFill>
                  <a:srgbClr val="660066"/>
                </a:solidFill>
                <a:latin typeface="Tahoma"/>
              </a:rPr>
              <a:t>O NAČINIMA, POSTUPCIMA I ELEMENTIMA VREDNOVANJA UČENIKA U OSNOVNOJ I SREDNJOJ ŠKOLI</a:t>
            </a: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(5) Razinu razvijenosti kompetencija učenika treba provjeravati oblikom u kojemu mu njegova teškoća najmanje smeta i u kojemu se najbolje može izraziti. Pogreške nastale zbog teškoće moraju se ispraviti, ali ne smiju utjecati na cjelokupno vrednovanje rada, tj. na ocjenu. Ocjenu treba popratiti opisn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(6) Ako učenik ima izražene teškoće u glasovno-govornoj komunikaciji, može mu se omogućiti provjeravanje u pisanome obliku u dogovoru s razrednim vijećem ško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(7)</a:t>
            </a:r>
            <a:r>
              <a:rPr b="0" lang="hr-HR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Ako učenik ima izražene teškoće u pisanoj komunikaciji, učeniku treba omogućiti provjeravanje u usmenome obliku u dogovoru s razrednim vijećem ško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0066"/>
                </a:solidFill>
                <a:latin typeface="Tahoma"/>
              </a:rPr>
              <a:t>“ </a:t>
            </a:r>
            <a:r>
              <a:rPr b="1" lang="hr-HR" sz="2800" spc="-1" strike="noStrike">
                <a:solidFill>
                  <a:srgbClr val="660066"/>
                </a:solidFill>
                <a:latin typeface="Tahoma"/>
              </a:rPr>
              <a:t>AKO DIJETE NE MOŽE UČITI NA NAČIN NA KOJI GA POUČAVAMO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66"/>
                </a:solidFill>
                <a:latin typeface="Tahoma"/>
              </a:rPr>
              <a:t>   </a:t>
            </a:r>
            <a:r>
              <a:rPr b="1" lang="hr-HR" sz="2800" spc="-1" strike="noStrike">
                <a:solidFill>
                  <a:srgbClr val="660066"/>
                </a:solidFill>
                <a:latin typeface="Tahoma"/>
              </a:rPr>
              <a:t>ONDA TREBAMO POUČAVATI NA NAČIN NA KOJI ONO MOŽE UČITI. 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5" descr="bimbi"/>
          <p:cNvPicPr/>
          <p:nvPr/>
        </p:nvPicPr>
        <p:blipFill>
          <a:blip r:embed="rId1"/>
          <a:srcRect l="0" t="0" r="33892" b="0"/>
          <a:stretch/>
        </p:blipFill>
        <p:spPr>
          <a:xfrm>
            <a:off x="684360" y="3124080"/>
            <a:ext cx="741672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0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152280"/>
            <a:ext cx="9144000" cy="67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cc00cc"/>
                </a:solidFill>
                <a:latin typeface="Arial"/>
                <a:ea typeface="Arial"/>
              </a:rPr>
              <a:t>Literatur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Arial"/>
                <a:ea typeface="Arial"/>
              </a:rPr>
              <a:t>Kocijan–Hercigonja, D. i sur.: Mentalna retardacija: biologijske osnove, klasifikacija i mentalno-zdravstveni problemi, Naklada Slap, Jastrebarsko, 2000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Arial"/>
                <a:ea typeface="Arial"/>
              </a:rPr>
              <a:t>Dijagnostički i statistički priručnik za duševne poremećaje: DSM-IV: međunarodna verzija s MKB-10 šiframa, Naklada Slap, Jastrebarsko, 1996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Arial"/>
                <a:ea typeface="Arial"/>
              </a:rPr>
              <a:t>Sekušak-Galešev, S. (2002): Bio-psiho-socijalne karakteristike adolescenata s mentalnom retardacijom u: Mentalna retardacija, Udruga za promicanje inkluzije, Zagre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Arial"/>
                <a:ea typeface="Arial"/>
              </a:rPr>
              <a:t>Došen, A. i Igriċ, Lj. (ur.) (2002): Unapređivanje skrbi za osobe s mentalnom retardacijom, Sinopsis predavanja i vježbi, Edukacijsko-rehabilitacijski fakultet Sveučilišta u Zagrebu, Zagreb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J</a:t>
            </a:r>
            <a:r>
              <a:rPr b="0" lang="hr-HR" sz="2000" spc="-1" strike="noStrike">
                <a:solidFill>
                  <a:srgbClr val="336699"/>
                </a:solidFill>
                <a:latin typeface="Arial"/>
                <a:ea typeface="Arial"/>
              </a:rPr>
              <a:t>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 HORVATI</a:t>
            </a:r>
            <a:r>
              <a:rPr b="0" lang="hr-HR" sz="2000" spc="-1" strike="noStrike">
                <a:solidFill>
                  <a:srgbClr val="336699"/>
                </a:solidFill>
                <a:latin typeface="Arial"/>
                <a:ea typeface="Arial"/>
              </a:rPr>
              <a:t>Ć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, I</a:t>
            </a:r>
            <a:r>
              <a:rPr b="0" lang="hr-HR" sz="2000" spc="-1" strike="noStrike">
                <a:solidFill>
                  <a:srgbClr val="336699"/>
                </a:solidFill>
                <a:latin typeface="Arial"/>
                <a:ea typeface="Arial"/>
              </a:rPr>
              <a:t>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 JOKOVI</a:t>
            </a:r>
            <a:r>
              <a:rPr b="0" lang="hr-HR" sz="2000" spc="-1" strike="noStrike">
                <a:solidFill>
                  <a:srgbClr val="336699"/>
                </a:solidFill>
                <a:latin typeface="Arial"/>
                <a:ea typeface="Arial"/>
              </a:rPr>
              <a:t>Ć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  OREB, R</a:t>
            </a:r>
            <a:r>
              <a:rPr b="0" lang="hr-HR" sz="2000" spc="-1" strike="noStrike">
                <a:solidFill>
                  <a:srgbClr val="336699"/>
                </a:solidFill>
                <a:latin typeface="Arial"/>
                <a:ea typeface="Arial"/>
              </a:rPr>
              <a:t>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 PINJATELA</a:t>
            </a:r>
            <a:r>
              <a:rPr b="0" lang="hr-HR" sz="2000" spc="-1" strike="noStrike">
                <a:solidFill>
                  <a:srgbClr val="336699"/>
                </a:solidFill>
                <a:latin typeface="Arial"/>
                <a:ea typeface="Arial"/>
              </a:rPr>
              <a:t>.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Ošte</a:t>
            </a:r>
            <a:r>
              <a:rPr b="0" lang="hr-HR" sz="2000" spc="-1" strike="noStrike">
                <a:solidFill>
                  <a:srgbClr val="336699"/>
                </a:solidFill>
                <a:latin typeface="Arial"/>
                <a:ea typeface="Arial"/>
              </a:rPr>
              <a:t>ć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enja središnjeg živ</a:t>
            </a:r>
            <a:r>
              <a:rPr b="0" lang="hr-HR" sz="2000" spc="-1" strike="noStrike">
                <a:solidFill>
                  <a:srgbClr val="336699"/>
                </a:solidFill>
                <a:latin typeface="Arial"/>
                <a:ea typeface="Arial"/>
              </a:rPr>
              <a:t>č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anog sustava</a:t>
            </a:r>
            <a:r>
              <a:rPr b="0" lang="hr-HR" sz="2000" spc="-1" strike="noStrike">
                <a:solidFill>
                  <a:srgbClr val="336699"/>
                </a:solidFill>
                <a:latin typeface="Arial"/>
                <a:ea typeface="Arial"/>
              </a:rPr>
              <a:t>.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Hrvatska revija za rehabilitacijska istraživanja</a:t>
            </a:r>
            <a:r>
              <a:rPr b="0" lang="hr-HR" sz="2000" spc="-1" strike="noStrike">
                <a:solidFill>
                  <a:srgbClr val="336699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2009, Vol 45, br. 1, str. 99-1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336699"/>
                </a:solidFill>
                <a:latin typeface="Arial"/>
                <a:ea typeface="Arial"/>
              </a:rPr>
              <a:t>M. KOVAČIĆ. Edukacijski problemi djeteta s cerebralnom paralizom. Cerebralna paraliza: multidisciplinarni pristup. Savez za cerebralnu i dječju paralizu Hrvatske, Zagreb, 1996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hr-HR" sz="3600" spc="-1" strike="noStrike">
                <a:solidFill>
                  <a:srgbClr val="336699"/>
                </a:solidFill>
                <a:latin typeface="Tahoma"/>
              </a:rPr>
              <a:t>U</a:t>
            </a:r>
            <a:r>
              <a:rPr b="0" lang="vi-VN" sz="3600" spc="-1" strike="noStrike">
                <a:solidFill>
                  <a:srgbClr val="336699"/>
                </a:solidFill>
                <a:latin typeface="Tahoma"/>
              </a:rPr>
              <a:t>čenici </a:t>
            </a:r>
            <a:r>
              <a:rPr b="0" lang="hr-HR" sz="3600" spc="-1" strike="noStrike">
                <a:solidFill>
                  <a:srgbClr val="336699"/>
                </a:solidFill>
                <a:latin typeface="Tahoma"/>
              </a:rPr>
              <a:t>s </a:t>
            </a:r>
            <a:r>
              <a:rPr b="0" lang="vi-VN" sz="3600" spc="-1" strike="noStrike">
                <a:solidFill>
                  <a:srgbClr val="336699"/>
                </a:solidFill>
                <a:latin typeface="Tahoma"/>
              </a:rPr>
              <a:t>oštećenje</a:t>
            </a:r>
            <a:r>
              <a:rPr b="0" lang="hr-HR" sz="3600" spc="-1" strike="noStrike">
                <a:solidFill>
                  <a:srgbClr val="336699"/>
                </a:solidFill>
                <a:latin typeface="Tahoma"/>
              </a:rPr>
              <a:t>m</a:t>
            </a:r>
            <a:r>
              <a:rPr b="0" lang="vi-VN" sz="3600" spc="-1" strike="noStrike">
                <a:solidFill>
                  <a:srgbClr val="336699"/>
                </a:solidFill>
                <a:latin typeface="Tahoma"/>
              </a:rPr>
              <a:t> vida </a:t>
            </a:r>
            <a:r>
              <a:rPr b="0" lang="hr-HR" sz="3600" spc="-1" strike="noStrike">
                <a:solidFill>
                  <a:srgbClr val="336699"/>
                </a:solidFill>
                <a:latin typeface="Tahoma"/>
              </a:rPr>
              <a:t>nužno </a:t>
            </a:r>
            <a:r>
              <a:rPr b="0" lang="vi-VN" sz="3600" spc="-1" strike="noStrike">
                <a:solidFill>
                  <a:srgbClr val="336699"/>
                </a:solidFill>
                <a:latin typeface="Tahoma"/>
              </a:rPr>
              <a:t>ne zaostaju u intelektualnom razvoju za vršnjacima koji vide </a:t>
            </a:r>
            <a:r>
              <a:rPr b="0" lang="hr-HR" sz="3600" spc="-1" strike="noStrike">
                <a:solidFill>
                  <a:srgbClr val="336699"/>
                </a:solidFill>
                <a:latin typeface="Tahoma"/>
              </a:rPr>
              <a:t>te </a:t>
            </a:r>
            <a:r>
              <a:rPr b="0" lang="vi-VN" sz="3600" spc="-1" strike="noStrike">
                <a:solidFill>
                  <a:srgbClr val="336699"/>
                </a:solidFill>
                <a:latin typeface="Tahoma"/>
              </a:rPr>
              <a:t>svladavaju redoviti nastavni plan i program predviđen za pojedini razred</a:t>
            </a:r>
            <a:r>
              <a:rPr b="0" lang="hr-HR" sz="3600" spc="-1" strike="noStrike">
                <a:solidFill>
                  <a:srgbClr val="336699"/>
                </a:solidFill>
                <a:latin typeface="Tahoma"/>
              </a:rPr>
              <a:t> uz primjenu individualiziranih postupaka i prilagodbu metoda, sredstava i načina rada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37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277560"/>
            <a:ext cx="8435880" cy="63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Brailleovo  pis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4" descr="braillovo-pismo-abeceda"/>
          <p:cNvPicPr/>
          <p:nvPr/>
        </p:nvPicPr>
        <p:blipFill>
          <a:blip r:embed="rId1"/>
          <a:stretch/>
        </p:blipFill>
        <p:spPr>
          <a:xfrm>
            <a:off x="5183280" y="0"/>
            <a:ext cx="3960720" cy="3870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b_pisac"/>
          <p:cNvPicPr/>
          <p:nvPr/>
        </p:nvPicPr>
        <p:blipFill>
          <a:blip r:embed="rId2"/>
          <a:stretch/>
        </p:blipFill>
        <p:spPr>
          <a:xfrm>
            <a:off x="0" y="3544920"/>
            <a:ext cx="5410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0066"/>
                </a:solidFill>
                <a:latin typeface="Tahoma"/>
              </a:rPr>
              <a:t>2. UČENICI S OŠTEĆENJEM SLUHA</a:t>
            </a:r>
            <a:r>
              <a:rPr b="0" lang="hr-HR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714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99"/>
                </a:solidFill>
                <a:latin typeface="Tahoma"/>
              </a:rPr>
              <a:t>1. Gluhoć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gubitak sluha iznad 91 d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ne mogu se služiti sluhom u govornom sporazumijevanj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99"/>
                </a:solidFill>
                <a:latin typeface="Tahoma"/>
              </a:rPr>
              <a:t>2. Nagluhos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gubitak sluha od 25 do 90 Db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osnovno sredstvo komunikacije j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govor i po potrebi znakovni jezi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5" descr="83520010-full"/>
          <p:cNvPicPr/>
          <p:nvPr/>
        </p:nvPicPr>
        <p:blipFill>
          <a:blip r:embed="rId1"/>
          <a:stretch/>
        </p:blipFill>
        <p:spPr>
          <a:xfrm>
            <a:off x="5889600" y="3144960"/>
            <a:ext cx="2797200" cy="3284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13:18:29Z</dcterms:created>
  <dc:creator>Tamara</dc:creator>
  <dc:description/>
  <dc:language>en-US</dc:language>
  <cp:lastModifiedBy>Doma</cp:lastModifiedBy>
  <dcterms:modified xsi:type="dcterms:W3CDTF">2012-08-27T07:50:07Z</dcterms:modified>
  <cp:revision>135</cp:revision>
  <dc:subject/>
  <dc:title>pp općenito</dc:title>
</cp:coreProperties>
</file>