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31.png" ContentType="image/png"/>
  <Override PartName="/ppt/media/image32.png" ContentType="image/pn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39.gif" ContentType="image/gif"/>
  <Override PartName="/ppt/media/image41.png" ContentType="image/png"/>
  <Override PartName="/ppt/media/image43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158-F7BD-4854-9019-E2E24C1A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2F9-572C-4434-A99D-D565B07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FD2-6B5B-497D-9C7A-BE9FF96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FB3-78B7-4BD2-86C5-65F38BAE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6C1-75FE-4C63-95B1-E4C2CCAB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10F-4B18-47CC-A93D-046FADEA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3B1-E74E-4C5B-B3B6-D6DDF98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C9C-73CD-43EB-8582-05A5CE0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17D-83A5-4A10-8B30-1CD2320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1CA-8F55-4CF1-B9A5-DBE49E7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0DC-9221-4755-9B55-7D2B463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424-60D3-4563-9DA6-A681984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9DB-07DC-4A7F-A3B0-22387A0A51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car%2Bdricing%2Bclipart&amp;source=images&amp;cd=&amp;cad=rja&amp;docid=vX97gdB4Mmwl6M&amp;tbnid=Dt09YzxdzMXCJM:&amp;ved=&amp;url=http%3A%2F%2Fwww.123rf.com%2Fclipart-vector%2Fcar.html&amp;ei=2iPHUaiVJY7DswaEk4DoBw&amp;psig=AFQjCNHCw_MOAaNZKBNXs2mgn8pDOdwdNA&amp;ust=1372091672459598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confused%2Bstudents&amp;source=images&amp;cd=&amp;cad=rja&amp;docid=qTV7k5a3CyBOMM&amp;tbnid=Qe4CfOT-GJK-_M:&amp;ved=&amp;url=http%3A%2F%2Fclassonmonday.com%2Fapplication-faqs.php&amp;ei=cizTUdTiHKSr4ATOhIDYCA&amp;bvm=bv.48705608,d.bGE&amp;psig=AFQjCNEmCIVbWWo_sG4FNGcfXOMjDZoTfw&amp;ust=1372880370761305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hr/url?sa=i&amp;rct=j&amp;q=confused%2Bstudents&amp;source=images&amp;cd=&amp;cad=rja&amp;docid=sZSbU9cTKGPUtM&amp;tbnid=HgsGbiYRxr75yM:&amp;ved=&amp;url=http%3A%2F%2Fwww.coetail.com%2Fangelarichel%2F2013%2F02%2F24%2Fwhere-can-students-geek-out%2F&amp;ei=cizTUdTiHKSr4ATOhIDYCA&amp;bvm=bv.48705608,d.bGE&amp;psig=AFQjCNEmCIVbWWo_sG4FNGcfXOMjDZoTfw&amp;ust=1372880370761305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oogle.hr/url?sa=i&amp;rct=j&amp;q=confused%2Bstudents&amp;source=images&amp;cd=&amp;cad=rja&amp;docid=lmrKL60s2TApWM&amp;tbnid=Q9z7-8K1C-ZwdM:&amp;ved=&amp;url=http%3A%2F%2Ffabriziopgcap.wordpress.com%2F2012%2F02%2F&amp;ei=cizTUdTiHKSr4ATOhIDYCA&amp;bvm=bv.48705608,d.bGE&amp;psig=AFQjCNEmCIVbWWo_sG4FNGcfXOMjDZoTfw&amp;ust=1372880370761305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hyperlink" Target="http://www.google.hr/url?sa=i&amp;rct=j&amp;q=speed%2Bclipart&amp;source=images&amp;cd=&amp;cad=rja&amp;docid=A77Y9FGqk6wYTM&amp;tbnid=BxNCxp_-4U06ZM:&amp;ved=&amp;url=http%3A%2F%2Fen.clipart-fr.com%2Fsearch_clipart.php%3Fkeyword%3Dspeed&amp;ei=v_vSUYXnHcWo4gS7j4GgBw&amp;bvm=bv.48705608,d.bGE&amp;psig=AFQjCNHyHtgTgUP7mQESLhRuD32-JLVy2Q&amp;ust=1372867903921595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www.google.hr/url?sa=i&amp;rct=j&amp;q=square%2Bclipart&amp;source=images&amp;cd=&amp;cad=rja&amp;docid=B9UI4B77YLlwdM&amp;tbnid=KjBV0HA3TyRB8M:&amp;ved=0CAUQjRw&amp;url=http%3A%2F%2Fbestclipartblog.com%2F22-square-clip-art.html%2Fsquare-clipart-6&amp;ei=EfzSUde5NoXStAaAn4DIBg&amp;bvm=bv.48705608,d.bGE&amp;psig=AFQjCNHDcj5k3X9eOOZv2tXvE_YvSUilbQ&amp;ust=1372867963485465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hyperlink" Target="http://www.google.hr/url?sa=i&amp;rct=j&amp;q=fahrenheit%2Bcelzius&amp;source=images&amp;cd=&amp;cad=rja&amp;docid=1vu2M7ld7BU0gM&amp;tbnid=Zb4S4pinhFxqpM:&amp;ved=&amp;url=http%3A%2F%2Fwww.verenigdestaten.info%2Freisinfo-temperatuur%2F&amp;ei=q_zSUcP9DsaB4AT39IDwBQ&amp;psig=AFQjCNH9dKDJBJLzWy3RG0iGRwmwcE7OtQ&amp;ust=1372868139618313" TargetMode="External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hyperlink" Target="http://www.google.hr/url?sa=i&amp;rct=j&amp;q=&amp;source=images&amp;cd=&amp;cad=rja&amp;docid=_ee08uw-NR-RNM&amp;tbnid=U06uDIjm0A-kqM:&amp;ved=0CAUQjRw&amp;url=http%3A%2F%2Fvector.me%2Fsearch%2Fanimated-school-bus&amp;ei=G0nHUbDyIoPWtAb-6IDoCA&amp;bvm=bv.48293060,d.bGE&amp;psig=AFQjCNG29d9_kLwgJUIgTH6IS6ZguMF6OA&amp;ust=1372101197213337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google.hr/url?sa=i&amp;source=images&amp;cd=&amp;cad=rja&amp;docid=05NFvFL4GsnfHM&amp;tbnid=coY5GoHJox9oSM:&amp;ved=0CAgQjRwwADgS&amp;url=http%3A%2F%2Fvector.me%2Fbrowse%2F108662%2Ffunny_bus_stop_clip_art&amp;ei=2UnHUceZMoTa4QTxwICQDw&amp;psig=AFQjCNFpsA6OiHmYsNI3qpXR69AIFw1k-g&amp;ust=1372101465865847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fat%20teacher%20clipart&amp;source=images&amp;cd=&amp;cad=rja&amp;docid=bJ8dJnLSYgJgaM&amp;tbnid=9cnfTCGVYrhoqM:&amp;ved=0CAUQjRw&amp;url=http%3A%2F%2Fenglishcottage.blogfa.com%2Ftag%2FMORE-ABOUT&amp;ei=XCjIUe31Do_AswaXyYHYCw&amp;bvm=bv.48293060,d.bGE&amp;psig=AFQjCNElwXhaSzdmhvkslitqbQVsl1u8bg&amp;ust=1372158404202091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fat%20teacher%20clipart&amp;source=images&amp;cd=&amp;cad=rja&amp;docid=bJ8dJnLSYgJgaM&amp;tbnid=9cnfTCGVYrhoqM:&amp;ved=0CAUQjRw&amp;url=http%3A%2F%2Fenglishcottage.blogfa.com%2Ftag%2FMORE-ABOUT&amp;ei=XCjIUe31Do_AswaXyYHYCw&amp;bvm=bv.48293060,d.bGE&amp;psig=AFQjCNElwXhaSzdmhvkslitqbQVsl1u8bg&amp;ust=1372158404202091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graph%2B%2B%2Bclip%2Bart&amp;source=images&amp;cd=&amp;cad=rja&amp;docid=k3sFQJR6XmtdKM&amp;tbnid=gQ-SPul0hFR_EM:&amp;ved=0CAUQjRw&amp;url=http%3A%2F%2Fwww.easyvectors.com%2Fbrowse%2Fother%2Fgraph-chart-icon-symbol-clip-art&amp;ei=pW7FUeGIL4bzsga7roDIBw&amp;psig=AFQjCNF3prA-f1iOxszAAHzniFvaa8QHBQ&amp;ust=1371979809951816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google.hr/url?sa=i&amp;rct=j&amp;q=value%20table%20linear%20model&amp;source=images&amp;cd=&amp;cad=rja&amp;docid=-t5RBO5xdhkysM&amp;tbnid=qT062mBQtwZFsM:&amp;ved=0CAUQjRw&amp;url=http%3A%2F%2Fbreckenridge.glk12.org%2Fmod%2Fbook%2Ftool%2Fprint%2Findex.php%3Fid%3D11301&amp;ei=i3LFUfD5NIfYsgaZ6oFQ&amp;psig=AFQjCNGD0CHsvemmE8OmBoDMgX6IiGwgAQ&amp;ust=1371980761214782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hr/url?sa=i&amp;rct=j&amp;q=&amp;source=images&amp;cd=&amp;cad=rja&amp;docid=9gN6EqKNYUBO3M&amp;tbnid=5Wj5YwnOy4_fSM:&amp;ved=0CAUQjRw&amp;url=http%3A%2F%2Frapgenius.com%2F1596785%2F8th-harmony-monotype%2FThats-all-it-offers-piggy-bank-filled-with-coppers&amp;ei=ckzHUb3fIsibtQbXkYGoDA&amp;bvm=bv.48293060,d.bGE&amp;psig=AFQjCNGo_Ofs5pf_c-1MYOe8QNLvWIqewQ&amp;ust=1372102125843783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2840" y="1785960"/>
            <a:ext cx="57229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INEARNA FUN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14620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4"/>
          <p:cNvSpPr txBox="1"/>
          <p:nvPr/>
        </p:nvSpPr>
        <p:spPr>
          <a:xfrm rot="20811600">
            <a:off x="4290480" y="2552400"/>
            <a:ext cx="4375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000"/>
                    </a:gs>
                    <a:gs pos="100000">
                      <a:srgbClr val="ffff00"/>
                    </a:gs>
                  </a:gsLst>
                  <a:lin ang="618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VAKODNEVNOM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000"/>
                  </a:gs>
                  <a:gs pos="100000">
                    <a:srgbClr val="ffff00"/>
                  </a:gs>
                </a:gsLst>
                <a:lin ang="618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000"/>
                    </a:gs>
                    <a:gs pos="100000">
                      <a:srgbClr val="ffff00"/>
                    </a:gs>
                  </a:gsLst>
                  <a:lin ang="618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ŽIVOTU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000"/>
                  </a:gs>
                  <a:gs pos="100000">
                    <a:srgbClr val="ffff00"/>
                  </a:gs>
                </a:gsLst>
                <a:lin ang="618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071960" y="50720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nad Sol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357720" y="542916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fesor matematike i fiz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14240" y="1071720"/>
            <a:ext cx="78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žimo podatke tabli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43040" y="2643120"/>
          <a:ext cx="6500880" cy="1828800"/>
        </p:xfrm>
        <a:graphic>
          <a:graphicData uri="http://schemas.openxmlformats.org/drawingml/2006/table">
            <a:tbl>
              <a:tblPr/>
              <a:tblGrid>
                <a:gridCol w="1084320"/>
                <a:gridCol w="1082520"/>
                <a:gridCol w="1084320"/>
                <a:gridCol w="1082880"/>
                <a:gridCol w="1083960"/>
                <a:gridCol w="1082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 mjes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nos nov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10"/>
          <p:cNvSpPr/>
          <p:nvPr/>
        </p:nvSpPr>
        <p:spPr>
          <a:xfrm>
            <a:off x="5572080" y="50720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4500720" y="5072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342900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6715080" y="50720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9 ·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ircular Arrow 15"/>
          <p:cNvSpPr/>
          <p:nvPr/>
        </p:nvSpPr>
        <p:spPr>
          <a:xfrm>
            <a:off x="328608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ircular Arrow 16"/>
          <p:cNvSpPr/>
          <p:nvPr/>
        </p:nvSpPr>
        <p:spPr>
          <a:xfrm>
            <a:off x="442908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ircular Arrow 17"/>
          <p:cNvSpPr/>
          <p:nvPr/>
        </p:nvSpPr>
        <p:spPr>
          <a:xfrm>
            <a:off x="557208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ircular Arrow 19"/>
          <p:cNvSpPr/>
          <p:nvPr/>
        </p:nvSpPr>
        <p:spPr>
          <a:xfrm>
            <a:off x="671508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357720" y="4500720"/>
            <a:ext cx="952200" cy="48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357800" y="4572000"/>
            <a:ext cx="952560" cy="48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429160" y="4572000"/>
            <a:ext cx="952560" cy="48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5"/>
          <a:stretch/>
        </p:blipFill>
        <p:spPr>
          <a:xfrm>
            <a:off x="6572160" y="4572000"/>
            <a:ext cx="952560" cy="485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4"/>
          <p:cNvSpPr/>
          <p:nvPr/>
        </p:nvSpPr>
        <p:spPr>
          <a:xfrm>
            <a:off x="3500280" y="1928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4572000" y="1928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715000" y="1928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6715080" y="19288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9 ·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1643040" y="56437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 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f(x)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50·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+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714240" y="1071720"/>
            <a:ext cx="78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žimo grafičk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71760" y="1857240"/>
          <a:ext cx="6572160" cy="1828800"/>
        </p:xfrm>
        <a:graphic>
          <a:graphicData uri="http://schemas.openxmlformats.org/drawingml/2006/table">
            <a:tbl>
              <a:tblPr/>
              <a:tblGrid>
                <a:gridCol w="1095120"/>
                <a:gridCol w="1095480"/>
                <a:gridCol w="1095480"/>
                <a:gridCol w="1095120"/>
                <a:gridCol w="1095480"/>
                <a:gridCol w="1095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 mjes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nos nov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k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1214280" y="407196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A(0,100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B (1,150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C(2, 200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D(3,250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E(12,7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6"/>
          <p:cNvCxnSpPr/>
          <p:nvPr/>
        </p:nvCxnSpPr>
        <p:spPr>
          <a:xfrm flipH="1">
            <a:off x="2428920" y="3714840"/>
            <a:ext cx="6433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 flipH="1">
            <a:off x="3643200" y="3714840"/>
            <a:ext cx="6433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 flipH="1">
            <a:off x="4857840" y="3714840"/>
            <a:ext cx="6433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 flipH="1">
            <a:off x="6285960" y="3714840"/>
            <a:ext cx="2149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11"/>
          <p:cNvCxnSpPr/>
          <p:nvPr/>
        </p:nvCxnSpPr>
        <p:spPr>
          <a:xfrm flipH="1">
            <a:off x="7643520" y="3714840"/>
            <a:ext cx="7200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13"/>
          <p:cNvSpPr/>
          <p:nvPr/>
        </p:nvSpPr>
        <p:spPr>
          <a:xfrm>
            <a:off x="1714680" y="521496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x) = 50·x +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857240" y="1785960"/>
            <a:ext cx="6570720" cy="3786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714680" y="564372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  f(x) = 50·x +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500040" y="1500120"/>
            <a:ext cx="4143240" cy="254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4"/>
          <a:stretch/>
        </p:blipFill>
        <p:spPr>
          <a:xfrm>
            <a:off x="1785960" y="1285920"/>
            <a:ext cx="6362640" cy="414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5"/>
          <a:stretch/>
        </p:blipFill>
        <p:spPr>
          <a:xfrm>
            <a:off x="4572000" y="1428840"/>
            <a:ext cx="40575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aci u tablici prikazuju put koji auto prijeđe svakih pola s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4280" y="2714760"/>
          <a:ext cx="6929640" cy="1247760"/>
        </p:xfrm>
        <a:graphic>
          <a:graphicData uri="http://schemas.openxmlformats.org/drawingml/2006/table">
            <a:tbl>
              <a:tblPr/>
              <a:tblGrid>
                <a:gridCol w="1285920"/>
                <a:gridCol w="1143000"/>
                <a:gridCol w="1071720"/>
                <a:gridCol w="1119240"/>
                <a:gridCol w="1155600"/>
                <a:gridCol w="115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ijeme u  sa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u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4"/>
          <p:cNvSpPr/>
          <p:nvPr/>
        </p:nvSpPr>
        <p:spPr>
          <a:xfrm>
            <a:off x="2071800" y="3929040"/>
            <a:ext cx="2928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?  </a:t>
            </a:r>
            <a:r>
              <a:rPr b="0" lang="hr-HR" sz="60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hr-HR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8" descr="http://us.cdn3.123rf.com/168nwm/yayayoy/yayayoy1301/yayayoy130100009/17563693-young-kid-driving-a-race-ca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4143240"/>
            <a:ext cx="2482920" cy="2143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785960" y="407196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kažite grafički ovisnost prijeđenog puta o vre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o glasi linearna funkcija kojom opisujemo zavisnost prijeđenog puta o vremenu?     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4280" y="2714760"/>
          <a:ext cx="6929640" cy="1247760"/>
        </p:xfrm>
        <a:graphic>
          <a:graphicData uri="http://schemas.openxmlformats.org/drawingml/2006/table">
            <a:tbl>
              <a:tblPr/>
              <a:tblGrid>
                <a:gridCol w="1285920"/>
                <a:gridCol w="1143000"/>
                <a:gridCol w="1071720"/>
                <a:gridCol w="1119240"/>
                <a:gridCol w="1155600"/>
                <a:gridCol w="115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ijeme u  sa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u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3"/>
          <p:cNvSpPr/>
          <p:nvPr/>
        </p:nvSpPr>
        <p:spPr>
          <a:xfrm>
            <a:off x="1071720" y="128592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ledajmo tablic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ircular Arrow 4"/>
          <p:cNvSpPr/>
          <p:nvPr/>
        </p:nvSpPr>
        <p:spPr>
          <a:xfrm>
            <a:off x="314316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ircular Arrow 5"/>
          <p:cNvSpPr/>
          <p:nvPr/>
        </p:nvSpPr>
        <p:spPr>
          <a:xfrm>
            <a:off x="4286160" y="2286000"/>
            <a:ext cx="97812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ircular Arrow 6"/>
          <p:cNvSpPr/>
          <p:nvPr/>
        </p:nvSpPr>
        <p:spPr>
          <a:xfrm>
            <a:off x="5500800" y="2286000"/>
            <a:ext cx="97776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ircular Arrow 7"/>
          <p:cNvSpPr/>
          <p:nvPr/>
        </p:nvSpPr>
        <p:spPr>
          <a:xfrm>
            <a:off x="6643800" y="2286000"/>
            <a:ext cx="977760" cy="9777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3214800" y="4000680"/>
            <a:ext cx="952560" cy="48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4357800" y="4000680"/>
            <a:ext cx="952560" cy="48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4"/>
          <a:stretch/>
        </p:blipFill>
        <p:spPr>
          <a:xfrm>
            <a:off x="5500800" y="4000680"/>
            <a:ext cx="952560" cy="48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5"/>
          <a:stretch/>
        </p:blipFill>
        <p:spPr>
          <a:xfrm>
            <a:off x="6643800" y="4000680"/>
            <a:ext cx="95256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2"/>
          <p:cNvSpPr/>
          <p:nvPr/>
        </p:nvSpPr>
        <p:spPr>
          <a:xfrm>
            <a:off x="321480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35780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557208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671508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3286080" y="4500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4429080" y="4500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5572080" y="4500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6715080" y="4500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1785960" y="52862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(x) = a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4857840" y="52862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5572080" y="507204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5429160" y="5011560"/>
            <a:ext cx="15001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20_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6786720" y="528624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42960" y="11430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mo:        f(x) = 40·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14240" y="19288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možemo naći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928800" y="28576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43000" y="36432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   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f(x) = 40·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000680" y="500076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ut = brzina · vri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own Arrow 8"/>
          <p:cNvSpPr/>
          <p:nvPr/>
        </p:nvSpPr>
        <p:spPr>
          <a:xfrm rot="2302200">
            <a:off x="4530240" y="4122720"/>
            <a:ext cx="428760" cy="85716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3096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own Arrow 9"/>
          <p:cNvSpPr/>
          <p:nvPr/>
        </p:nvSpPr>
        <p:spPr>
          <a:xfrm rot="1677000">
            <a:off x="5790960" y="4183200"/>
            <a:ext cx="428400" cy="857160"/>
          </a:xfrm>
          <a:prstGeom prst="down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3726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0"/>
          <p:cNvSpPr/>
          <p:nvPr/>
        </p:nvSpPr>
        <p:spPr>
          <a:xfrm rot="20494200">
            <a:off x="6857640" y="4114800"/>
            <a:ext cx="428760" cy="97776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6504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6200" y="57150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s = v ·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14280" y="14288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i put auto prijeđe za 10 sat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285920" y="221472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x) = 40·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3500280" y="30718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10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1928880" y="392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10) = 40·10 = 4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785960" y="47149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Auto prijeđe put od 400 km za 10 s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214280" y="1428840"/>
            <a:ext cx="66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koje vrijeme će auto prijeći put od 160 k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428840" y="264312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x) = 40·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1428840" y="32860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x) = 160 km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iznosi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1714680" y="400068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60 = 40 ·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2143080" y="464328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x = 160 : 40 = 4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714680" y="54291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Auto prijeđe put od 160 km za 4 s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2500200" y="1643040"/>
            <a:ext cx="5334120" cy="451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3"/>
          <a:stretch/>
        </p:blipFill>
        <p:spPr>
          <a:xfrm>
            <a:off x="2571840" y="1714680"/>
            <a:ext cx="542916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785880" y="121428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rafički prika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 rot="18855600">
            <a:off x="5293800" y="2394720"/>
            <a:ext cx="27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y = 40·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7429680" y="5286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571840" y="1714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a između temperature izražene u kelvinima i Celzijevim stupnjevima dana je formulom   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 = t + 273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2786040" y="3929040"/>
            <a:ext cx="2928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2d050"/>
                </a:solidFill>
                <a:latin typeface="Arial"/>
              </a:rPr>
              <a:t>?  </a:t>
            </a:r>
            <a:r>
              <a:rPr b="0" lang="hr-HR" sz="6000" spc="-1" strike="noStrike">
                <a:solidFill>
                  <a:srgbClr val="92d050"/>
                </a:solidFill>
                <a:latin typeface="Arial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6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1" lang="hr-HR" sz="9600" spc="-1" strike="noStrike">
                <a:solidFill>
                  <a:srgbClr val="92d05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user\Desktop\science_air_temperature.gif"/>
          <p:cNvPicPr/>
          <p:nvPr/>
        </p:nvPicPr>
        <p:blipFill>
          <a:blip r:embed="rId2"/>
          <a:stretch/>
        </p:blipFill>
        <p:spPr>
          <a:xfrm>
            <a:off x="5143680" y="3071880"/>
            <a:ext cx="3484440" cy="30193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1928880" y="3317760"/>
            <a:ext cx="66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vorite:     20 ˚C = _______ K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84 K  = _______ ˚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kažite grafički zavisnost temperature  u kelvinima o temperaturi u Celzijevim stupnjevima.    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classonmonday.com/resources/college%20student%20studying%202.jpg">
            <a:hlinkClick r:id="rId2"/>
          </p:cNvPr>
          <p:cNvPicPr/>
          <p:nvPr/>
        </p:nvPicPr>
        <p:blipFill>
          <a:blip r:embed="rId3"/>
          <a:stretch/>
        </p:blipFill>
        <p:spPr>
          <a:xfrm rot="21318600">
            <a:off x="1143000" y="2570040"/>
            <a:ext cx="1797120" cy="1835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 rot="19408800">
            <a:off x="236520" y="160812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O OVO TREBAMO ZN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 rot="2172600">
            <a:off x="4609080" y="1737000"/>
            <a:ext cx="43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EBA LI NAM T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643120" y="500076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TO UČI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t2.gstatic.com/images?q=tbn:ANd9GcQN3soaVgdxXK6Xn4HIX1k-qQQvqNMCHWClTNSF3BJIDqDbRv8Y">
            <a:hlinkClick r:id="rId4"/>
          </p:cNvPr>
          <p:cNvPicPr/>
          <p:nvPr/>
        </p:nvPicPr>
        <p:blipFill>
          <a:blip r:embed="rId5"/>
          <a:stretch/>
        </p:blipFill>
        <p:spPr>
          <a:xfrm rot="1898400">
            <a:off x="5825880" y="3060720"/>
            <a:ext cx="232704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fabriziopgcap.files.wordpress.com/2012/02/permissive-parenting-style-confused-woman-and-question-mar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1785960"/>
            <a:ext cx="20001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kažimo tabli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4280" y="2643120"/>
          <a:ext cx="6215400" cy="1428840"/>
        </p:xfrm>
        <a:graphic>
          <a:graphicData uri="http://schemas.openxmlformats.org/drawingml/2006/table">
            <a:tbl>
              <a:tblPr/>
              <a:tblGrid>
                <a:gridCol w="1571760"/>
                <a:gridCol w="928800"/>
                <a:gridCol w="928440"/>
                <a:gridCol w="928800"/>
                <a:gridCol w="1000080"/>
                <a:gridCol w="85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˚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u  kelvin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95" name="Rectangle 3"/>
          <p:cNvSpPr/>
          <p:nvPr/>
        </p:nvSpPr>
        <p:spPr>
          <a:xfrm>
            <a:off x="2286000" y="4214880"/>
            <a:ext cx="264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(t) = t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357280" y="4786200"/>
            <a:ext cx="25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f(-30) = 2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357280" y="5429160"/>
            <a:ext cx="25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f(-10) = 2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429160" y="4214880"/>
            <a:ext cx="25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f(0) =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286240" y="4786200"/>
            <a:ext cx="25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f(20) =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143680" y="5357880"/>
            <a:ext cx="2500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f(100) = 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786040" y="3429000"/>
            <a:ext cx="952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43200" y="3429000"/>
            <a:ext cx="952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643280" y="3429000"/>
            <a:ext cx="952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572080" y="3429000"/>
            <a:ext cx="952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500880" y="3429000"/>
            <a:ext cx="952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3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500280" y="2143080"/>
            <a:ext cx="2333880" cy="135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28760" y="15001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T = t +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71680" y="2643120"/>
            <a:ext cx="264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emperatura u kelvi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286240" y="2500200"/>
            <a:ext cx="3000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emperatura u Celzijevim stupnje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 rot="5719200">
            <a:off x="1761120" y="1556280"/>
            <a:ext cx="1171800" cy="116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2500200" y="414324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t) = t + 273          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t = 20 ˚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357280" y="4857840"/>
            <a:ext cx="5572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 273 =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000240" y="5572080"/>
            <a:ext cx="3143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1" i="1" lang="sr-Latn-CS" sz="3200" spc="-1" strike="noStrike">
                <a:solidFill>
                  <a:srgbClr val="ff0000"/>
                </a:solidFill>
                <a:latin typeface="Arial"/>
              </a:rPr>
              <a:t>˚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C = 293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3500280" y="1785960"/>
            <a:ext cx="2333880" cy="1357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2876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T = t +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00040" y="2071800"/>
            <a:ext cx="264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emperatura u kelvi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57880" y="1928880"/>
            <a:ext cx="30002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emperatura u Celzijevim stupnje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 rot="5719200">
            <a:off x="1761480" y="1127520"/>
            <a:ext cx="1171440" cy="1160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1643040" y="3500280"/>
            <a:ext cx="6572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f(t) = 184               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t) = t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28880" y="407196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184 = t + 2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143080" y="47149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Latn-CS" sz="3200" spc="-1" strike="noStrike">
                <a:solidFill>
                  <a:srgbClr val="ff0000"/>
                </a:solidFill>
                <a:latin typeface="Arial"/>
              </a:rPr>
              <a:t>t = 184 – 273 = - 89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43120" y="55008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84 K = - 89˚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5338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Formu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28760" y="35719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°F = °C · 1.8 + 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6715080" y="2500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·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429000" y="55008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 = 4 ·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6786720" y="5143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 = v ·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214880" y="38577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 = m ·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6643800" y="928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en.clipart-fr.com/data/clipart/looney/looney_0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2928960"/>
            <a:ext cx="1697040" cy="2333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bestclipartblog.com/clipart-pics/-square-clipart-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28880" y="4714920"/>
            <a:ext cx="142560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4214880" y="1714680"/>
            <a:ext cx="1238040" cy="2095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http://www.verenigdestaten.info/wp-content/uploads/2012/06/CelsiusFahrenhei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43000" y="1143000"/>
            <a:ext cx="1571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ut 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vica svakodnev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utuje u škol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 slici je graf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kazano njego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ibanje do šk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071720" cy="174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4286160" y="128592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4500720" y="492912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?   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hr-HR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000160" y="514368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išite njegovo gib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ut 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2214720" y="2214720"/>
            <a:ext cx="4498920" cy="3929040"/>
          </a:xfrm>
          <a:prstGeom prst="rect">
            <a:avLst/>
          </a:prstGeom>
          <a:ln w="0">
            <a:noFill/>
          </a:ln>
        </p:spPr>
      </p:pic>
      <p:sp>
        <p:nvSpPr>
          <p:cNvPr id="246" name="Up Arrow 7"/>
          <p:cNvSpPr/>
          <p:nvPr/>
        </p:nvSpPr>
        <p:spPr>
          <a:xfrm rot="19320000">
            <a:off x="2480760" y="2145960"/>
            <a:ext cx="204840" cy="3255840"/>
          </a:xfrm>
          <a:prstGeom prst="upArrow">
            <a:avLst>
              <a:gd name="adj1" fmla="val 50000"/>
              <a:gd name="adj2" fmla="val 4996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928800" y="642960"/>
            <a:ext cx="1085760" cy="1762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png-5.vector.me/files/images/1/6/164029/school_bus_vehicle_clip_art_thum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3800" y="3286080"/>
            <a:ext cx="1895400" cy="1066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http://vector.me/files/images/1/0/108662/funny_bus_stop_clip_art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4920" y="1071720"/>
            <a:ext cx="852480" cy="1357200"/>
          </a:xfrm>
          <a:prstGeom prst="rect">
            <a:avLst/>
          </a:prstGeom>
          <a:ln w="0">
            <a:noFill/>
          </a:ln>
        </p:spPr>
      </p:pic>
      <p:sp>
        <p:nvSpPr>
          <p:cNvPr id="250" name="Up Arrow 13"/>
          <p:cNvSpPr/>
          <p:nvPr/>
        </p:nvSpPr>
        <p:spPr>
          <a:xfrm>
            <a:off x="4714920" y="2643120"/>
            <a:ext cx="214200" cy="2000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Arrow 14"/>
          <p:cNvSpPr/>
          <p:nvPr/>
        </p:nvSpPr>
        <p:spPr>
          <a:xfrm>
            <a:off x="5500800" y="3857760"/>
            <a:ext cx="12142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Naš uč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785880" y="135720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š učitelj matematike ima masu 120 kg i odlučio je smršaviti. Novim načinom prehrane i vježbanjem trebao bi mršavje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a kilograma na tjed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parkbenchchiropractic.com/frederickdc/wp-content/uploads/2011/01/clip-art-of-fat-man-runn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3071880"/>
            <a:ext cx="2476440" cy="30477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1643040" y="3571920"/>
            <a:ext cx="507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će smršaviti za 8 tjed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mu treba da smanji masu na 100 k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Naš uč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71680" y="128592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1 tjedna:   120 kg – 2 kg =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118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2 tjedna:   120 kg –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·2 kg =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116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3 tjedna:   120 kg –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·2 kg =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114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714680" y="5715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f(x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– 2·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+ 12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785960" y="4000680"/>
            <a:ext cx="2428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Masa 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x tjed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357800" y="44290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120 – 2 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429240" y="3786120"/>
            <a:ext cx="24289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broj tje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rovedenih mršave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00040" y="32860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8 tjedana:  120 kg –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· 2 kg =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104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3714840" y="278604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  .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Naš uč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857160" y="1214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f(x) = – 2·x + 12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214280" y="178596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eli smršavjeti na 100 kg, pa je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(x) = 100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928800" y="28576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rštavanjem:  100 = – 2·x + 12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1500120" y="35719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ješavanjem jednadžbe dobiv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x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parkbenchchiropractic.com/frederickdc/wp-content/uploads/2011/01/clip-art-of-fat-man-runn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72200" y="1714680"/>
            <a:ext cx="1567080" cy="19285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3"/>
          <p:cNvSpPr/>
          <p:nvPr/>
        </p:nvSpPr>
        <p:spPr>
          <a:xfrm>
            <a:off x="1785960" y="48578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itelju će trebati 10 tjedana da dostigne željenu ma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7"/>
          <p:cNvSpPr/>
          <p:nvPr/>
        </p:nvSpPr>
        <p:spPr>
          <a:xfrm>
            <a:off x="1785960" y="1785960"/>
            <a:ext cx="60008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ažno mjesto u mate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svakodnevno susrećemo veliči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je zavise jedna o drugo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ke od tih zavisnosti opisujem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moću linearne fu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moću nje objašnjavamo ra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jave iz prirode i događanja u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dnevnom živ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71800" y="7858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LINEARNA FUNK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Naš uč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67520" cy="4496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1785960" y="1214280"/>
            <a:ext cx="5229360" cy="4553280"/>
          </a:xfrm>
          <a:prstGeom prst="rect">
            <a:avLst/>
          </a:prstGeom>
          <a:ln w="0">
            <a:noFill/>
          </a:ln>
        </p:spPr>
      </p:pic>
      <p:sp>
        <p:nvSpPr>
          <p:cNvPr id="274" name="Left Arrow 15"/>
          <p:cNvSpPr/>
          <p:nvPr/>
        </p:nvSpPr>
        <p:spPr>
          <a:xfrm>
            <a:off x="2571840" y="2214720"/>
            <a:ext cx="3571920" cy="357120"/>
          </a:xfrm>
          <a:prstGeom prst="lef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4"/>
          <a:stretch/>
        </p:blipFill>
        <p:spPr>
          <a:xfrm>
            <a:off x="1714680" y="1143000"/>
            <a:ext cx="5352840" cy="457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parkbenchchiropractic.com/frederickdc/wp-content/uploads/2011/01/clip-art-of-fat-man-running.jpg"/>
          <p:cNvPicPr/>
          <p:nvPr/>
        </p:nvPicPr>
        <p:blipFill>
          <a:blip r:embed="rId5"/>
          <a:stretch/>
        </p:blipFill>
        <p:spPr>
          <a:xfrm>
            <a:off x="6072120" y="928800"/>
            <a:ext cx="2352600" cy="28954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6"/>
          <p:cNvSpPr/>
          <p:nvPr/>
        </p:nvSpPr>
        <p:spPr>
          <a:xfrm rot="835800">
            <a:off x="3809880" y="154152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ackpot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n Arrow 17"/>
          <p:cNvSpPr/>
          <p:nvPr/>
        </p:nvSpPr>
        <p:spPr>
          <a:xfrm>
            <a:off x="4572000" y="214308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6500880" y="3929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f(x) = -2x+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1"/>
          <p:cNvSpPr/>
          <p:nvPr/>
        </p:nvSpPr>
        <p:spPr>
          <a:xfrm flipV="1">
            <a:off x="2357280" y="1714320"/>
            <a:ext cx="3571920" cy="642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500880" y="4286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"/>
              </a:rPr>
              <a:t>f(x) =  2x+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oš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535788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 i Marta igraju zajedno košarku. Na jednoj košarkaškoj utakmici Ana je postigla dva puta više koševa negoli Ma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4.bp.blogspot.com/-PBNFYYxpI60/UJgcEkfzkYI/AAAAAAAAA-0/HYCRLmDLgEs/s1600/girl20basketball20clipart20medium_gif_opt404x617o00s404x617.gif"/>
          <p:cNvPicPr/>
          <p:nvPr/>
        </p:nvPicPr>
        <p:blipFill>
          <a:blip r:embed="rId2"/>
          <a:stretch/>
        </p:blipFill>
        <p:spPr>
          <a:xfrm>
            <a:off x="6286680" y="928800"/>
            <a:ext cx="1857240" cy="28335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1928880" y="364320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Ana postigla 24 koša, koliko je koševa postigla Ma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ži linearnom funkcijom zavisnost između postignutih koševa Ane i Mar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38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oš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714840" y="642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ako zadamo rezul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2000160" y="135720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na je postigla dva puta više koševa negoli M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785960" y="2143080"/>
            <a:ext cx="3162240" cy="3175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3"/>
          <a:stretch/>
        </p:blipFill>
        <p:spPr>
          <a:xfrm>
            <a:off x="5425920" y="2143080"/>
            <a:ext cx="2918160" cy="29764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8"/>
          <p:cNvSpPr/>
          <p:nvPr/>
        </p:nvSpPr>
        <p:spPr>
          <a:xfrm>
            <a:off x="2286000" y="5429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b050"/>
                </a:solidFill>
                <a:latin typeface="Arial"/>
              </a:rPr>
              <a:t>f(x)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5929200" y="5429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38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oš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3714840" y="642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ako zadamo rezul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2000160" y="135720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na je postigla dva puta više koševa negoli M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425920" y="2143080"/>
            <a:ext cx="2918160" cy="2976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1928880" y="2143080"/>
            <a:ext cx="3252600" cy="32529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8"/>
          <p:cNvSpPr/>
          <p:nvPr/>
        </p:nvSpPr>
        <p:spPr>
          <a:xfrm>
            <a:off x="2286000" y="5429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f(x)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8"/>
          <p:cNvSpPr/>
          <p:nvPr/>
        </p:nvSpPr>
        <p:spPr>
          <a:xfrm>
            <a:off x="5929200" y="5429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39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te ima ušteđenih 100kn, a Marko 200 kn. Ante je odlučio svakoga dana uštedjeti još po 20 kn, a Marko još po 10 k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Koliko će ušteđenog novca imati Ante nakon 5 dana, a koliko Mark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)Nakon koliko dana će Marko i 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ti jednaki iznos ušteđen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v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aturalno puto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van je na maturalno putovanje u Zadar ponio 700 kn. Odlučio je svaki dan potrošiti 50 k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ormulom zapiši izračun z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ostali iznos Ivanovog no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maturalno putovanje tr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8 dana koliko će novca ost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va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Slado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rvoje pojede svaki dan 2 kuglice sladole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Ako jedna kuglica sladoleda košta 5 k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ko novca potroši Hrvoje za mjese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) Koliko sladoleda može Hrvo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upiti za 35 k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4296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jena jedne litre benzina iznosi 10 k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j auto troši svakih 16 km jednu litru benz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Koliko će me koštati put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 Zagreba do Splita ako 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daljenost između ta d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ada 400 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Prikažite linearn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kcijom zavisnost izmeđ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ličine goriva i cijene to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or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Users\user\Desktop\416_teachers_ppt\potrosnja-goriva-automobili.jpg"/>
          <p:cNvPicPr/>
          <p:nvPr/>
        </p:nvPicPr>
        <p:blipFill>
          <a:blip r:embed="rId2"/>
          <a:stretch/>
        </p:blipFill>
        <p:spPr>
          <a:xfrm>
            <a:off x="928800" y="2357280"/>
            <a:ext cx="2500200" cy="1970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68000" y="404640"/>
            <a:ext cx="7675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Gor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Za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mjesečno zaradite 3000 kn, a potrošite 2 750 kn koliko ćete imati nakon 6 mjese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kaži linearnom funkcijo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visnost između zarađenog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ošenog no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4"/>
          <p:cNvSpPr/>
          <p:nvPr/>
        </p:nvSpPr>
        <p:spPr>
          <a:xfrm>
            <a:off x="642960" y="5716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MJERI NA TESTOVIMA ZN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42960" y="1143000"/>
            <a:ext cx="807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lefonska pretplata mjesečno iznosi 50 kn. Za svaku minutu razgovora korisnik dodatno plaća 0.25 k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piši formulu linearne funkcije kojom se zapisuje zavisnost iznosa mjesečnog telefonskog računa o broju minuta razgov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Koliko iznosi mjesečni telefonsk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čun ako je u tom mjese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govarano 140 min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857160" y="7142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KO IZGLEDA LINEARNA FUNKCI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643280" y="55720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(x) = a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143680" y="1571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, b – koeficijenti linearne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85880" y="150012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 – argument ili nezavisna varij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3080" y="46432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 – vrijednost funkcije ili zavisna varij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2286000" y="2571840"/>
            <a:ext cx="4410000" cy="18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2643120" y="1214280"/>
            <a:ext cx="112392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5286240" y="4286160"/>
            <a:ext cx="1067040" cy="145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5"/>
          <a:stretch/>
        </p:blipFill>
        <p:spPr>
          <a:xfrm>
            <a:off x="2928960" y="3071880"/>
            <a:ext cx="29052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4"/>
          <p:cNvSpPr/>
          <p:nvPr/>
        </p:nvSpPr>
        <p:spPr>
          <a:xfrm>
            <a:off x="642960" y="5716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MJERI NA TESTOVIMA ZN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642960" y="1143000"/>
            <a:ext cx="8072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jstor svoj dolazak naplaćuje 60 kn. Svaki sat rada dodatno naplaćuje 50 k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Napiši formulu linearne funk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jom se opisuje zavisnost nov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ji majstor naplaćuje o vreme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jegova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Koliko je dugo majstor radio ak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naplatio 285 k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4"/>
          <p:cNvSpPr/>
          <p:nvPr/>
        </p:nvSpPr>
        <p:spPr>
          <a:xfrm>
            <a:off x="2786040" y="500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357200" y="1000080"/>
            <a:ext cx="67150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˝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ije dovoljno steći znanje: treba ga i upotrijebiti!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˝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arko Tulije Cic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˝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čiti nekog kako se rješavaju zadaci znači i odgajati mu vo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˝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. Pol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'Ne predaje učitelj ono što želi, ne predaje učitelj ono što zna, učitelj predaje ono što jest.'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'Najbolji učitelji ujedno su i najteži učitelji: oni od učenika zahtijevaju razmišljanje.''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W. Gla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eki ljudi vide stvari kao što jesu i pitaju se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Zašto ? Ja snivam o stvarima koje ni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ikada postojale i kažem: Zašto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J.F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28480" y="10000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Zahvaljujem Vam na pažnj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http://2.bp.blogspot.com/_jJSDB1XkZyc/TTnA0_lQ8ZI/AAAAAAAAAZU/1S1UifqtBzE/s1600/alg_sleeping_school.jpg"/>
          <p:cNvPicPr/>
          <p:nvPr/>
        </p:nvPicPr>
        <p:blipFill>
          <a:blip r:embed="rId2"/>
          <a:stretch/>
        </p:blipFill>
        <p:spPr>
          <a:xfrm>
            <a:off x="2286000" y="1857240"/>
            <a:ext cx="46195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785880" y="5716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Četiri načina ″prikazivanja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easyvectors.com/assets/images/vectors/afbig/graph-chart-icon-symbol-clip-ar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857240"/>
            <a:ext cx="2548080" cy="2345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breckenridge.glk12.org/pluginfile.php/12692/mod_book/chapter/2452/Power/images/ModelTableEx1-2.png">
            <a:hlinkClick r:id="rId4"/>
          </p:cNvPr>
          <p:cNvPicPr/>
          <p:nvPr/>
        </p:nvPicPr>
        <p:blipFill>
          <a:blip r:embed="rId5"/>
          <a:stretch/>
        </p:blipFill>
        <p:spPr>
          <a:xfrm rot="945600">
            <a:off x="4644720" y="998640"/>
            <a:ext cx="2975040" cy="2531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857240" y="51436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°F = °C · 1.8 + 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 rot="21093600">
            <a:off x="5285160" y="4005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kaži zavisnost opsega kvadrata o duljini njegove stranice linearnom funkcij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te ima ušteđenih 100 kn i svaki mjesec dobiva od oca dodatnih 50 k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28840" y="2928960"/>
            <a:ext cx="7215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će imati za dva mjese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mu treba da uštedi 300 k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6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1643040" y="2643120"/>
            <a:ext cx="29289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hr-HR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s3.amazonaws.com/rapgenius/filepicker/JxVw1VrxRpyJRcDBeZpG_piggy_bank_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264312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000080" y="1214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novca ima Ante na počet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428840" y="185724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 početku Ante ima 100 k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28800" y="250020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novca će Ante imati nakon mjesec dana, nakon dva mjeseca, nakon tri mjese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00080" y="1214280"/>
            <a:ext cx="7000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1500120" y="400068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mjesec dana:   100 + 50 = 15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dva mjeseca:   100 + 2·50 = 2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tri mjeseca:     100 + 3·50 = 25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71680" y="135720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liko će novca Ante imati za godinu d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000080" y="200016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mjesec dana:   100 + 50 = 15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dva mjeseca:   100 + 2·50 = 2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tri mjeseca:     100 + 3·50 = 25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.   .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857240" y="5286240"/>
            <a:ext cx="67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primjećuj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214280" y="400068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Za godinu d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 + 12 ·50 = 7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Šted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42960" y="1357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 +        50= 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15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 +  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· 50 =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2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 +  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· 50 =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250 kn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 +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12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· 50 =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700 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357200" y="38577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broj mjeseci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· 50 =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iznos nov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143680" y="1214280"/>
            <a:ext cx="371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nos novca dobijem tako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0 pomnožim s brojem mjeseci i  tome dodam 1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785960" y="4929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          </a:t>
            </a: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f(x)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a  ·   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+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500120" y="41432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f0"/>
                </a:solidFill>
                <a:latin typeface="Arial"/>
              </a:rPr>
              <a:t>Iznos novc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= 50 · </a:t>
            </a:r>
            <a:r>
              <a:rPr b="0" lang="hr-HR" sz="3200" spc="-1" strike="noStrike">
                <a:solidFill>
                  <a:srgbClr val="00b050"/>
                </a:solidFill>
                <a:latin typeface="Arial"/>
              </a:rPr>
              <a:t>broj mjeseci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+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785960" y="56437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earna funkcija:  f(x) = 50·x +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k</cp:lastModifiedBy>
  <dcterms:modified xsi:type="dcterms:W3CDTF">2013-07-05T07:37:00Z</dcterms:modified>
  <cp:revision>204</cp:revision>
  <dc:subject/>
  <dc:title>Diapositiva 1</dc:title>
</cp:coreProperties>
</file>