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8.wmf" ContentType="image/x-wmf"/>
  <Override PartName="/ppt/media/image11.wmf" ContentType="image/x-wmf"/>
  <Override PartName="/ppt/media/image17.jpeg" ContentType="image/jpeg"/>
  <Override PartName="/ppt/media/image9.wmf" ContentType="image/x-wmf"/>
  <Override PartName="/ppt/media/image7.wmf" ContentType="image/x-wmf"/>
  <Override PartName="/ppt/media/image20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8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2.wmf" ContentType="image/x-wmf"/>
  <Override PartName="/ppt/media/image3.wmf" ContentType="image/x-wmf"/>
  <Override PartName="/ppt/media/image13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comments/comment3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josip" initials="j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<Relationship Id="rId48" Type="http://schemas.openxmlformats.org/officeDocument/2006/relationships/commentAuthors" Target="commentAuthors.xml"/>
</Relationships>
</file>

<file path=ppt/comments/comment38.xml><?xml version="1.0" encoding="utf-8"?>
<p:cmLst xmlns:p="http://schemas.openxmlformats.org/presentationml/2006/main">
  <p:cm authorId="0" dt="2013-06-23T22:38:46.000000000" idx="1">
    <p:pos x="5268" y="3414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7A18-30D7-433A-81D0-5E94A5701339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Australian Counciil for Educational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tvrđene su 3 podvrs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C506-672D-4131-B900-C7CC1B3C6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A8E6-BBAE-407A-B9E5-3446D27C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57C3-C4BC-4B77-BF91-F7B147F1B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9D77-532C-49E2-B1BD-92329C1AD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0EDE-D948-4C48-B866-9F003F505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BF4D6-9E58-40A4-A98A-96F283AC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48330-78F8-4904-B54B-E648DE5C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1CD1-0999-4833-B5DB-2AAB994F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3992-1135-4ED0-8741-5E5393E9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9C42-5F30-4D47-874D-D0CED539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7144-9A51-4F10-A301-D51E92A6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135D-C967-46FC-B8F1-8DF85BA1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20E27-8BFB-4E1B-8695-655314F5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9B7E-1656-4AA7-AD9C-97B8A583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3B08-940F-44FA-B0E4-BC25A85E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75B9B-E783-4E92-A0F8-70F477D8A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362D-DA08-46B3-886D-471C97ACF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2400-6C15-40CE-867E-C50F19DC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F5D7-5446-455D-A611-8DB21BBA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3E8F-6FAC-4E26-8570-20B487BB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9758-4C02-490A-9241-2FAE051D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00EF-AC6F-4BE9-A799-E4B2E30E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7670-FBCB-46D7-9B78-ADD9576C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97AC-6C48-472A-9B32-287C26E7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FA2A-22B0-4F74-A8A6-40719FF6EF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A98C-383D-4844-AD9A-D9C3871E73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.xml"/><Relationship Id="rId3" Type="http://schemas.openxmlformats.org/officeDocument/2006/relationships/comments" Target="../comments/comment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pisa.hr/" TargetMode="External"/><Relationship Id="rId2" Type="http://schemas.openxmlformats.org/officeDocument/2006/relationships/hyperlink" Target="http://www.google.hr/" TargetMode="Externa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Analiza PISA testiranja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71640" y="393336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zvodi je ACER, organizacija iz Australij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26920" y="4210200"/>
            <a:ext cx="7689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01960" y="4600440"/>
            <a:ext cx="506052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ustralijsko vijeće za istraživanje u obrazovanju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59480" y="5392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Jabuke i crnogoric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ašti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835280" y="2924280"/>
          <a:ext cx="2771640" cy="123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924280"/>
                    <a:ext cx="277164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5580000" y="2852640"/>
            <a:ext cx="2208240" cy="1692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4932360" y="4649760"/>
            <a:ext cx="2625840" cy="22082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187280" y="3789360"/>
            <a:ext cx="187200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1 jabuka,8 crnogoric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48000" y="4221000"/>
            <a:ext cx="129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4 jabuk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16 crno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85080" y="2924280"/>
            <a:ext cx="1079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9 jabu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24 crno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12000" y="4797360"/>
            <a:ext cx="115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16 jabu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32 crno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imjeri zadataka iz matematik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buke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bla jabuke u obliku kvadrata, oko njih crnogorična zaštita.Prikaz je predočen tablicom.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ko voćar povećava voćnjak , što će brže rasti, broj jabuka ili crnogoričnih stabala? Kako ste zaključili?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c0c0c"/>
                </a:solidFill>
                <a:latin typeface="Arial"/>
              </a:rPr>
              <a:t>Odgovor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Kod 8 je jednak broj jabuka  i broj stabala crnogoričnih stabala. Poslije će broj jabuka biti veći od broja crnogorice.J=n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 C=8n sam koristio.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Ako je n&lt;8, J&lt;C.Ako je n=8, J=C. Ako je n&gt;8, J&gt;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917960" y="1905120"/>
          <a:ext cx="3686400" cy="448128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73980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. Redova jabuk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.Stabala jabuk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. Crnogoričnih stabal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imijenimo u nastav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jveći opseg radnji pruža –Jabuke i crnogorica-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jef od pijeska s jabukama i crnogoric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 tekstilu izvesti kvadrate s jabukama i crnogoric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mjesto jabuka grah, a umjesto crnogorice kukuruz i sve posaditi u kutij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ćnjak. Posaditi kao što je i u zadatku jabuke i crnogoric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gu se formirati različiti numerički zadac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b7"/>
                </a:solidFill>
                <a:latin typeface="Arial Black"/>
              </a:rPr>
              <a:t>Formiranje zadataka</a:t>
            </a:r>
            <a:br>
              <a:rPr sz="4400"/>
            </a:br>
            <a:r>
              <a:rPr b="1" lang="hr-HR" sz="4400" spc="-1" strike="noStrike">
                <a:solidFill>
                  <a:srgbClr val="ffffb7"/>
                </a:solidFill>
                <a:latin typeface="Arial Black"/>
              </a:rPr>
              <a:t>Jabuke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~&gt;</a:t>
            </a:r>
            <a:r>
              <a:rPr b="1" lang="hr-HR" sz="4400" spc="-1" strike="noStrike">
                <a:solidFill>
                  <a:srgbClr val="ffffb7"/>
                </a:solidFill>
                <a:latin typeface="Arial Black"/>
              </a:rPr>
              <a:t>Crnogoric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Ukupni broj jabuka može biti samo kvadrat nekog broja.—Neka je ukupni broj jabuka 121, koliko ima crnogoričnih stabala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Korijen iz 121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j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11 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11. U obzir dolazi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11.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Broj jabuka u jednom redu i broj redova jabuka je isti </a:t>
            </a:r>
            <a:r>
              <a:rPr b="0" lang="hr-HR" sz="2400" spc="-1" strike="noStrike">
                <a:solidFill>
                  <a:srgbClr val="ff0000"/>
                </a:solidFill>
                <a:latin typeface="Arial"/>
                <a:ea typeface="Arial"/>
              </a:rPr>
              <a:t>n=1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Sada se uvrštava u </a:t>
            </a:r>
            <a:r>
              <a:rPr b="0" lang="hr-HR" sz="2400" spc="-1" strike="noStrike">
                <a:solidFill>
                  <a:srgbClr val="ff0000"/>
                </a:solidFill>
                <a:latin typeface="Arial"/>
                <a:ea typeface="Arial"/>
              </a:rPr>
              <a:t>C=8n. C=8x11=88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b7"/>
                </a:solidFill>
                <a:latin typeface="Arial Black"/>
              </a:rPr>
              <a:t>Formiranje zadataka</a:t>
            </a:r>
            <a:br>
              <a:rPr sz="4400"/>
            </a:br>
            <a:r>
              <a:rPr b="1" lang="hr-HR" sz="4400" spc="-1" strike="noStrike">
                <a:solidFill>
                  <a:srgbClr val="ffffb7"/>
                </a:solidFill>
                <a:latin typeface="Arial Black"/>
              </a:rPr>
              <a:t>Crnogorica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~&gt;</a:t>
            </a:r>
            <a:r>
              <a:rPr b="1" lang="hr-HR" sz="4400" spc="-1" strike="noStrike">
                <a:solidFill>
                  <a:srgbClr val="ffffb7"/>
                </a:solidFill>
                <a:latin typeface="Arial Black"/>
              </a:rPr>
              <a:t>Jabuk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Broj crnogoričnih stabala 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mora biti djeljiv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s 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ffffff"/>
                </a:solidFill>
                <a:latin typeface="Arial"/>
              </a:rPr>
              <a:t>Zadatak.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Ukupni broj crnogoričnih stabala je 72, koliko ima jabuk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7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  <a:ea typeface="Arial"/>
              </a:rPr>
              <a:t>8 =9. Broj jabuka u 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  <a:ea typeface="Arial"/>
              </a:rPr>
              <a:t>jednom redu i broj jabuka je 9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Arial"/>
                <a:ea typeface="Arial"/>
              </a:rPr>
              <a:t>J=n</a:t>
            </a:r>
            <a:r>
              <a:rPr b="0" lang="hr-HR" sz="32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 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  <a:ea typeface="Arial"/>
              </a:rPr>
              <a:t> J=9</a:t>
            </a:r>
            <a:r>
              <a:rPr b="0" lang="hr-HR" sz="32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  <a:ea typeface="Arial"/>
              </a:rPr>
              <a:t>=8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Formiranje zadataka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oznat zbroj jabuka i crnogorice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Arial"/>
              </a:rPr>
              <a:t>Neka je ukupni zbroj jabuka i crnogorice 65, koliko ima jabuka, a koliko crnogoric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hr-HR" sz="1400" spc="-1" strike="noStrike">
                <a:solidFill>
                  <a:srgbClr val="ffffff"/>
                </a:solidFill>
                <a:latin typeface="Arial"/>
                <a:ea typeface="Arial"/>
              </a:rPr>
              <a:t>C=6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Arial"/>
                <a:ea typeface="Arial"/>
              </a:rPr>
              <a:t>C=8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Arial"/>
                <a:ea typeface="Arial"/>
              </a:rPr>
              <a:t>J=n</a:t>
            </a:r>
            <a:r>
              <a:rPr b="0" lang="hr-HR" sz="1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lang="hr-HR" sz="1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hr-HR" sz="1400" spc="-1" strike="noStrike">
                <a:solidFill>
                  <a:srgbClr val="ffffff"/>
                </a:solidFill>
                <a:latin typeface="Arial"/>
                <a:ea typeface="Arial"/>
              </a:rPr>
              <a:t>8n=6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0000"/>
                </a:solidFill>
                <a:latin typeface="Arial"/>
                <a:ea typeface="Arial"/>
              </a:rPr>
              <a:t>n(n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+</a:t>
            </a:r>
            <a:r>
              <a:rPr b="0" lang="hr-HR" sz="1400" spc="-1" strike="noStrike">
                <a:solidFill>
                  <a:srgbClr val="ff0000"/>
                </a:solidFill>
                <a:latin typeface="Arial"/>
                <a:ea typeface="Arial"/>
              </a:rPr>
              <a:t>8)=6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Arial"/>
                <a:ea typeface="Arial"/>
              </a:rPr>
              <a:t>Rastavit ćemo ih na faktore, mogu biti a ne moraju biti prosti, samo se moraju </a:t>
            </a:r>
            <a:r>
              <a:rPr b="0" lang="hr-HR" sz="1400" spc="-1" strike="noStrike">
                <a:solidFill>
                  <a:srgbClr val="ff0000"/>
                </a:solidFill>
                <a:latin typeface="Arial"/>
                <a:ea typeface="Arial"/>
              </a:rPr>
              <a:t>razlikovati za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Arial"/>
                <a:ea typeface="Arial"/>
              </a:rPr>
              <a:t>5x 13=6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Arial"/>
                <a:ea typeface="Arial"/>
              </a:rPr>
              <a:t>n=5; 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hr-HR" sz="1400" spc="-1" strike="noStrike">
                <a:solidFill>
                  <a:srgbClr val="ffffff"/>
                </a:solidFill>
                <a:latin typeface="Arial"/>
                <a:ea typeface="Arial"/>
              </a:rPr>
              <a:t>8= 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hr-HR" sz="1400" spc="-1" strike="noStrike">
                <a:solidFill>
                  <a:srgbClr val="ffffff"/>
                </a:solidFill>
                <a:latin typeface="Arial"/>
                <a:ea typeface="Arial"/>
              </a:rPr>
              <a:t>8=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Arial"/>
                <a:ea typeface="Arial"/>
              </a:rPr>
              <a:t>C=8n=8x5=4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Arial"/>
                <a:ea typeface="Arial"/>
              </a:rPr>
              <a:t>J=n</a:t>
            </a:r>
            <a:r>
              <a:rPr b="0" lang="hr-HR" sz="1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hr-HR" sz="1400" spc="-1" strike="noStrike">
                <a:solidFill>
                  <a:srgbClr val="ffffff"/>
                </a:solidFill>
                <a:latin typeface="Arial"/>
                <a:ea typeface="Arial"/>
              </a:rPr>
              <a:t>=5</a:t>
            </a:r>
            <a:r>
              <a:rPr b="0" lang="hr-HR" sz="1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hr-HR" sz="1400" spc="-1" strike="noStrike">
                <a:solidFill>
                  <a:srgbClr val="ffffff"/>
                </a:solidFill>
                <a:latin typeface="Arial"/>
                <a:ea typeface="Arial"/>
              </a:rPr>
              <a:t>=2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Arial"/>
                <a:ea typeface="Arial"/>
              </a:rPr>
              <a:t>Odgovor: Jabuka ima 25, a crnogoričnih stabala 4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Arial"/>
                <a:ea typeface="Arial"/>
              </a:rPr>
              <a:t>Zadatak se može riješiti i pomoću Viette-ove formule za kvadratnu jednadžbu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367240" y="1904760"/>
            <a:ext cx="3029040" cy="20192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076720" y="3492360"/>
            <a:ext cx="388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8861400" y="6858000"/>
                <a:ext cx="1108080" cy="20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Formiranje zadataka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oznat zbroj jabuka i crnogorice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Arial"/>
              </a:rPr>
              <a:t>Neka je ukupni zbroj jabuka i crnogorice 65, koliko ima jabuka, a koliko crnogoric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hr-HR" sz="1400" spc="-1" strike="noStrike">
                <a:solidFill>
                  <a:srgbClr val="ffffff"/>
                </a:solidFill>
                <a:latin typeface="Arial"/>
                <a:ea typeface="Arial"/>
              </a:rPr>
              <a:t>C=6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Arial"/>
                <a:ea typeface="Arial"/>
              </a:rPr>
              <a:t>C=8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Arial"/>
                <a:ea typeface="Arial"/>
              </a:rPr>
              <a:t>J=n</a:t>
            </a:r>
            <a:r>
              <a:rPr b="0" lang="hr-HR" sz="1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lang="hr-HR" sz="1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hr-HR" sz="1400" spc="-1" strike="noStrike">
                <a:solidFill>
                  <a:srgbClr val="ffffff"/>
                </a:solidFill>
                <a:latin typeface="Arial"/>
                <a:ea typeface="Arial"/>
              </a:rPr>
              <a:t>8n=6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0000"/>
                </a:solidFill>
                <a:latin typeface="Arial"/>
                <a:ea typeface="Arial"/>
              </a:rPr>
              <a:t>n(n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+</a:t>
            </a:r>
            <a:r>
              <a:rPr b="0" lang="hr-HR" sz="1400" spc="-1" strike="noStrike">
                <a:solidFill>
                  <a:srgbClr val="ff0000"/>
                </a:solidFill>
                <a:latin typeface="Arial"/>
                <a:ea typeface="Arial"/>
              </a:rPr>
              <a:t>8)=6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Arial"/>
                <a:ea typeface="Arial"/>
              </a:rPr>
              <a:t>Rastavit ćemo ih na faktore, mogu biti a ne moraju biti prosti, samo se moraju </a:t>
            </a:r>
            <a:r>
              <a:rPr b="0" lang="hr-HR" sz="1400" spc="-1" strike="noStrike">
                <a:solidFill>
                  <a:srgbClr val="ff0000"/>
                </a:solidFill>
                <a:latin typeface="Arial"/>
                <a:ea typeface="Arial"/>
              </a:rPr>
              <a:t>razlikovati za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Arial"/>
                <a:ea typeface="Arial"/>
              </a:rPr>
              <a:t>5x 13=6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Arial"/>
                <a:ea typeface="Arial"/>
              </a:rPr>
              <a:t>n=5; 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hr-HR" sz="1400" spc="-1" strike="noStrike">
                <a:solidFill>
                  <a:srgbClr val="ffffff"/>
                </a:solidFill>
                <a:latin typeface="Arial"/>
                <a:ea typeface="Arial"/>
              </a:rPr>
              <a:t>8= 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hr-HR" sz="1400" spc="-1" strike="noStrike">
                <a:solidFill>
                  <a:srgbClr val="ffffff"/>
                </a:solidFill>
                <a:latin typeface="Arial"/>
                <a:ea typeface="Arial"/>
              </a:rPr>
              <a:t>8=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Arial"/>
                <a:ea typeface="Arial"/>
              </a:rPr>
              <a:t>C=8n=8x5=4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Arial"/>
                <a:ea typeface="Arial"/>
              </a:rPr>
              <a:t>J=n</a:t>
            </a:r>
            <a:r>
              <a:rPr b="0" lang="hr-HR" sz="1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hr-HR" sz="1400" spc="-1" strike="noStrike">
                <a:solidFill>
                  <a:srgbClr val="ffffff"/>
                </a:solidFill>
                <a:latin typeface="Arial"/>
                <a:ea typeface="Arial"/>
              </a:rPr>
              <a:t>=5</a:t>
            </a:r>
            <a:r>
              <a:rPr b="0" lang="hr-HR" sz="1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hr-HR" sz="1400" spc="-1" strike="noStrike">
                <a:solidFill>
                  <a:srgbClr val="ffffff"/>
                </a:solidFill>
                <a:latin typeface="Arial"/>
                <a:ea typeface="Arial"/>
              </a:rPr>
              <a:t>=2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Arial"/>
                <a:ea typeface="Arial"/>
              </a:rPr>
              <a:t>Odgovor: Jabuka ima 25, a crnogoričnih stabala 4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Arial"/>
                <a:ea typeface="Arial"/>
              </a:rPr>
              <a:t>Zadatak se može riješiti i pomoću </a:t>
            </a:r>
            <a:r>
              <a:rPr b="0" lang="hr-HR" sz="1400" spc="-1" strike="noStrike">
                <a:solidFill>
                  <a:srgbClr val="ff0000"/>
                </a:solidFill>
                <a:latin typeface="Arial"/>
                <a:ea typeface="Arial"/>
              </a:rPr>
              <a:t>Viette-ove formule</a:t>
            </a:r>
            <a:r>
              <a:rPr b="0" lang="hr-HR" sz="1400" spc="-1" strike="noStrike">
                <a:solidFill>
                  <a:srgbClr val="ffffff"/>
                </a:solidFill>
                <a:latin typeface="Arial"/>
                <a:ea typeface="Arial"/>
              </a:rPr>
              <a:t> za kvadratnu jednadžbu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Arial"/>
                <a:ea typeface="Arial"/>
              </a:rPr>
              <a:t>Broj n&lt;8, Pravac C=8n je </a:t>
            </a:r>
            <a:r>
              <a:rPr b="0" lang="hr-HR" sz="1400" spc="-1" strike="noStrike">
                <a:solidFill>
                  <a:srgbClr val="ff0000"/>
                </a:solidFill>
                <a:latin typeface="Arial"/>
                <a:ea typeface="Arial"/>
              </a:rPr>
              <a:t>unutar</a:t>
            </a:r>
            <a:r>
              <a:rPr b="0" lang="hr-HR" sz="1400" spc="-1" strike="noStrike">
                <a:solidFill>
                  <a:srgbClr val="ffffff"/>
                </a:solidFill>
                <a:latin typeface="Arial"/>
                <a:ea typeface="Arial"/>
              </a:rPr>
              <a:t> grane parabol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367240" y="1904760"/>
            <a:ext cx="3029040" cy="20192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076720" y="3492360"/>
            <a:ext cx="388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7451640" y="6857640"/>
            <a:ext cx="39276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ormiranje zadataka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znat zbroj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Ukupni zbroj jabuka i crnogorice je </a:t>
            </a: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128.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Koliko ima crnogorice, a koliko jabuk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128=n(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+</a:t>
            </a:r>
            <a:r>
              <a:rPr b="0" lang="hr-HR" sz="2400" spc="-1" strike="noStrike">
                <a:solidFill>
                  <a:srgbClr val="ff0000"/>
                </a:solidFill>
                <a:latin typeface="Arial"/>
                <a:ea typeface="Arial"/>
              </a:rPr>
              <a:t>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128=2x64=2x2x32=2x2x2x16=</a:t>
            </a:r>
            <a:r>
              <a:rPr b="0" lang="hr-HR" sz="2400" spc="-1" strike="noStrike">
                <a:solidFill>
                  <a:srgbClr val="ff0000"/>
                </a:solidFill>
                <a:latin typeface="Arial"/>
                <a:ea typeface="Arial"/>
              </a:rPr>
              <a:t>8x16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n=8 ;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8=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8=16, </a:t>
            </a:r>
            <a:r>
              <a:rPr b="0" lang="hr-HR" sz="2400" spc="-1" strike="noStrike">
                <a:solidFill>
                  <a:srgbClr val="ff0000"/>
                </a:solidFill>
                <a:latin typeface="Arial"/>
                <a:ea typeface="Arial"/>
              </a:rPr>
              <a:t>16 i 8 se razlikuju za 8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J=n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=8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=64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C=8n=8x8=6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"/>
                <a:ea typeface="Arial"/>
              </a:rPr>
              <a:t>Broj jabuka je 64, broj crnogorice je isto 64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. Točka u kojoj se sijeku pravac i grana parabole je grafičko rješenje sustava. Njezine su koordinate </a:t>
            </a:r>
            <a:r>
              <a:rPr b="0" lang="hr-HR" sz="2400" spc="-1" strike="noStrike">
                <a:solidFill>
                  <a:srgbClr val="ff0000"/>
                </a:solidFill>
                <a:latin typeface="Arial"/>
                <a:ea typeface="Arial"/>
              </a:rPr>
              <a:t>x=8 i y=6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ormiranje zadataka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znato ukupn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Ukupna suma jabuka i crnogorice je </a:t>
            </a: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15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.Koliko ima jabuka, a koliko crnogori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153=n(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8). Broj 153 je djeljiv brojem 9, jer mu je suma znamenaka djeljiva brojem 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153=9x17. Vidimo da se faktori razlikuju za  </a:t>
            </a:r>
            <a:r>
              <a:rPr b="0" lang="hr-HR" sz="2400" spc="-1" strike="noStrike">
                <a:solidFill>
                  <a:srgbClr val="ff0000"/>
                </a:solidFill>
                <a:latin typeface="Arial"/>
                <a:ea typeface="Arial"/>
              </a:rPr>
              <a:t>8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n=9;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8=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8=1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"/>
                <a:ea typeface="Arial"/>
              </a:rPr>
              <a:t>J=n</a:t>
            </a:r>
            <a:r>
              <a:rPr b="0" lang="hr-HR" sz="24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0" lang="hr-HR" sz="2400" spc="-1" strike="noStrike">
                <a:solidFill>
                  <a:srgbClr val="ff0000"/>
                </a:solidFill>
                <a:latin typeface="Arial"/>
                <a:ea typeface="Arial"/>
              </a:rPr>
              <a:t>=9</a:t>
            </a:r>
            <a:r>
              <a:rPr b="0" lang="hr-HR" sz="24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0" lang="hr-HR" sz="2400" spc="-1" strike="noStrike">
                <a:solidFill>
                  <a:srgbClr val="ff0000"/>
                </a:solidFill>
                <a:latin typeface="Arial"/>
                <a:ea typeface="Arial"/>
              </a:rPr>
              <a:t>=8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"/>
                <a:ea typeface="Arial"/>
              </a:rPr>
              <a:t>C=8n=8x9=7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Broj jabuka je 81, a crnogorice je 7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Broj jabuka grafički prikaz je </a:t>
            </a:r>
            <a:r>
              <a:rPr b="0" lang="hr-HR" sz="2400" spc="-1" strike="noStrike">
                <a:solidFill>
                  <a:srgbClr val="ff0000"/>
                </a:solidFill>
                <a:latin typeface="Arial"/>
                <a:ea typeface="Arial"/>
              </a:rPr>
              <a:t>grana parabole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, a broj crnogorice je </a:t>
            </a:r>
            <a:r>
              <a:rPr b="0" lang="hr-HR" sz="2400" spc="-1" strike="noStrike">
                <a:solidFill>
                  <a:srgbClr val="ff0000"/>
                </a:solidFill>
                <a:latin typeface="Arial"/>
                <a:ea typeface="Arial"/>
              </a:rPr>
              <a:t>pravac.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 Ovdje je pravac </a:t>
            </a:r>
            <a:r>
              <a:rPr b="0" lang="hr-HR" sz="2400" spc="-1" strike="noStrike">
                <a:solidFill>
                  <a:srgbClr val="ff0000"/>
                </a:solidFill>
                <a:latin typeface="Arial"/>
                <a:ea typeface="Arial"/>
              </a:rPr>
              <a:t>izvan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 grane parabole.Ovo je slučaj kada je </a:t>
            </a:r>
            <a:r>
              <a:rPr b="0" lang="hr-HR" sz="2400" spc="-1" strike="noStrike">
                <a:solidFill>
                  <a:srgbClr val="ff0000"/>
                </a:solidFill>
                <a:latin typeface="Arial"/>
                <a:ea typeface="Arial"/>
              </a:rPr>
              <a:t>n&gt;8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nalogija na kock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Ako su 3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crne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kocke izvana, onda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je unutra 1 crvena. Koliko je crnih kocki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=27 ; 1</a:t>
            </a:r>
            <a:r>
              <a:rPr b="0" lang="hr-HR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=1; 2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1=26. </a:t>
            </a:r>
            <a:r>
              <a:rPr b="0" lang="hr-HR" sz="1800" spc="-1" strike="noStrike">
                <a:solidFill>
                  <a:srgbClr val="ff0000"/>
                </a:solidFill>
                <a:latin typeface="Arial"/>
                <a:ea typeface="Arial"/>
              </a:rPr>
              <a:t>Broj crnih kocki je 2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Ovdje je primjer da ne možemo udvostručiti kocku.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Neka je izvana 5 crnih, a iznutra 3 crvene. Koliki je broj crnih kocki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hr-HR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=125 ; 3</a:t>
            </a:r>
            <a:r>
              <a:rPr b="0" lang="hr-HR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=27; 12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27=98. </a:t>
            </a:r>
            <a:r>
              <a:rPr b="0" lang="hr-HR" sz="1800" spc="-1" strike="noStrike">
                <a:solidFill>
                  <a:srgbClr val="ff0000"/>
                </a:solidFill>
                <a:latin typeface="Arial"/>
                <a:ea typeface="Arial"/>
              </a:rPr>
              <a:t>Broj crnih kocki je 98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0" lang="hr-HR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=216; 4</a:t>
            </a:r>
            <a:r>
              <a:rPr b="0" lang="hr-HR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=84; 21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84=132. Broj crnih kocki je 13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Uvo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PISA-u  je utemeljila organizacija OECD ispitivanje kvalitete obrazovanja u Australij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PISA je kratica početnih riječ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-Program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f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-Internat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-Stu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-Asse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Prijevod na hrvatskom glas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Međunarodna procjena znanja i vještina učenik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iramidalni krov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Četverostrana piramida: a=b=12m. Točka E je polovište brida AT. Kolika je površina baze? Kolika je duljina grede E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Četverostrana piramida: a=b je određena s jednim nezavisnim elemento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Rješenje: Površina je baze 144 m</a:t>
            </a:r>
            <a:r>
              <a:rPr b="0" lang="hr-HR" sz="1800" spc="-1" strike="noStrike" baseline="30000">
                <a:solidFill>
                  <a:srgbClr val="ff0000"/>
                </a:solidFill>
                <a:latin typeface="Arial"/>
              </a:rPr>
              <a:t>2.</a:t>
            </a: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 Duljina grede EF je 6 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835280" y="3068640"/>
            <a:ext cx="381312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Otkucaji src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a formula y=220-x. Nova formula y=208-0.7x. Y-broj otkucaja u minuti, x-starost u godinama. Za koliko će godina broj otkucaja biti isti? Koliki će biti broj otkucaja za 0 godina po staroj i novoj formuli, a koliki za 100 godina? Koje pravilo dopušta veći broj otkucaja mlađim osobam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258920" y="3213000"/>
            <a:ext cx="2314440" cy="11620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258920" y="4508640"/>
            <a:ext cx="2666880" cy="17143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140360" y="3068640"/>
            <a:ext cx="467964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ff0000"/>
                </a:solidFill>
                <a:latin typeface="Arial"/>
              </a:rPr>
              <a:t>Rješenje:220-x=208-0.7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0" i="1" lang="hr-HR" sz="1800" spc="-1" strike="noStrike">
                <a:solidFill>
                  <a:srgbClr val="ff0000"/>
                </a:solidFill>
                <a:latin typeface="Arial"/>
              </a:rPr>
              <a:t>220-208=x-0.7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ff0000"/>
                </a:solidFill>
                <a:latin typeface="Arial"/>
              </a:rPr>
              <a:t>                        </a:t>
            </a:r>
            <a:r>
              <a:rPr b="0" i="1" lang="hr-HR" sz="1800" spc="-1" strike="noStrike">
                <a:solidFill>
                  <a:srgbClr val="ff0000"/>
                </a:solidFill>
                <a:latin typeface="Arial"/>
              </a:rPr>
              <a:t>12=0.3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ff0000"/>
                </a:solidFill>
                <a:latin typeface="Arial"/>
              </a:rPr>
              <a:t>                          </a:t>
            </a:r>
            <a:r>
              <a:rPr b="0" i="1" lang="hr-HR" sz="1800" spc="-1" strike="noStrike">
                <a:solidFill>
                  <a:srgbClr val="ff0000"/>
                </a:solidFill>
                <a:latin typeface="Arial"/>
              </a:rPr>
              <a:t>x=12:0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ff0000"/>
                </a:solidFill>
                <a:latin typeface="Arial"/>
              </a:rPr>
              <a:t>                         </a:t>
            </a:r>
            <a:r>
              <a:rPr b="0" i="1" lang="hr-HR" sz="1800" spc="-1" strike="noStrike">
                <a:solidFill>
                  <a:srgbClr val="ff0000"/>
                </a:solidFill>
                <a:latin typeface="Arial"/>
              </a:rPr>
              <a:t>x=40 godina, isti b. otk.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ff0000"/>
                </a:solidFill>
                <a:latin typeface="Arial"/>
              </a:rPr>
              <a:t>Stara 220-0=220; Nova 208-0.7p0=208. Staro pravilo dopušta više vrijednosti otkucaja srca mlađima.—Dob 0 g, stara y=220-0=22o.—Dob 0, nova y=208-0.7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*</a:t>
            </a:r>
            <a:r>
              <a:rPr b="0" i="1" lang="hr-HR" sz="1800" spc="-1" strike="noStrike">
                <a:solidFill>
                  <a:srgbClr val="ff0000"/>
                </a:solidFill>
                <a:latin typeface="Arial"/>
                <a:ea typeface="Arial"/>
              </a:rPr>
              <a:t>0=208.—Dob 100,stara y=220-100=120.nova y=208-0.7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*</a:t>
            </a:r>
            <a:r>
              <a:rPr b="0" i="1" lang="hr-HR" sz="1800" spc="-1" strike="noStrike">
                <a:solidFill>
                  <a:srgbClr val="ff0000"/>
                </a:solidFill>
                <a:latin typeface="Arial"/>
                <a:ea typeface="Arial"/>
              </a:rPr>
              <a:t>100=208-70=138.Novo pravilo dopušta stogodišnjacima veći broj otkucaj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ežišta po godinam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3640" y="2492280"/>
            <a:ext cx="16398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aspo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63840" y="212256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42920" y="3213000"/>
            <a:ext cx="5041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2000.-glavna čitalačka pismen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2003.-glavna matematička pismen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2006.-glavna prirodoslovna pismen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2009.-glavna čitalačka pismen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2012.-glavna matematička pismen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2015.-glavna prirodoslovna pismen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467480" y="1906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956200" y="3562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irodoslovna pismenos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064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irodoslovna pismenost  je definirana kao sposobnost korištenja prirodoslovnog  znanj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900000" y="4796640"/>
            <a:ext cx="28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042920" y="2492280"/>
            <a:ext cx="2343240" cy="19526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635280" y="2276640"/>
            <a:ext cx="518472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Prirodoslovna pismeno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e podijeljena u 3 podvrste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 Prirodoslovni proces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-Razumijevanje prirodnih zakona, sposobnost priopćavanja prirodnih sila i vrijednost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II Prirodoslovni koncept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–To su ideje na našu fizičku okolinu, naš okoliš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III Prirodoslovne situacij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- Podrazumijevaju stvarnu životnu pojavu u kojoj se mogu primijeniti prirodne znanost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djela prirodoslovne pismenost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809640" y="1866960"/>
            <a:ext cx="7992360" cy="4175280"/>
            <a:chOff x="809640" y="1866960"/>
            <a:chExt cx="7992360" cy="4175280"/>
          </a:xfrm>
        </p:grpSpPr>
        <p:cxnSp>
          <p:nvCxnSpPr>
            <p:cNvPr id="217" name="_s62487"/>
            <p:cNvCxnSpPr>
              <a:stCxn id="218" idx="0"/>
              <a:endCxn id="219" idx="2"/>
            </p:cNvCxnSpPr>
            <p:nvPr/>
          </p:nvCxnSpPr>
          <p:spPr>
            <a:xfrm flipV="1" rot="16200000">
              <a:off x="5798520" y="2555280"/>
              <a:ext cx="812160" cy="2797920"/>
            </a:xfrm>
            <a:prstGeom prst="bentConnector3">
              <a:avLst>
                <a:gd name="adj1" fmla="val 14101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220" name="_s62486"/>
            <p:cNvCxnSpPr>
              <a:stCxn id="221" idx="0"/>
              <a:endCxn id="219" idx="2"/>
            </p:cNvCxnSpPr>
            <p:nvPr/>
          </p:nvCxnSpPr>
          <p:spPr>
            <a:xfrm flipV="1">
              <a:off x="4806000" y="3548520"/>
              <a:ext cx="2880" cy="81216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222" name="_s62485"/>
            <p:cNvCxnSpPr>
              <a:stCxn id="223" idx="0"/>
              <a:endCxn id="219" idx="2"/>
            </p:cNvCxnSpPr>
            <p:nvPr/>
          </p:nvCxnSpPr>
          <p:spPr>
            <a:xfrm flipH="1" flipV="1" rot="5400000">
              <a:off x="3000960" y="2555640"/>
              <a:ext cx="812160" cy="2797920"/>
            </a:xfrm>
            <a:prstGeom prst="bentConnector3">
              <a:avLst>
                <a:gd name="adj1" fmla="val 14101"/>
              </a:avLst>
            </a:prstGeom>
            <a:ln w="38160">
              <a:solidFill>
                <a:srgbClr val="ffffff"/>
              </a:solidFill>
              <a:miter/>
            </a:ln>
          </p:spPr>
        </p:cxnSp>
        <p:sp>
          <p:nvSpPr>
            <p:cNvPr id="219" name="_s62481"/>
            <p:cNvSpPr/>
            <p:nvPr/>
          </p:nvSpPr>
          <p:spPr>
            <a:xfrm>
              <a:off x="3606840" y="1866960"/>
              <a:ext cx="2400120" cy="167004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Prirodoslovn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pismenos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_s62482"/>
            <p:cNvSpPr/>
            <p:nvPr/>
          </p:nvSpPr>
          <p:spPr>
            <a:xfrm>
              <a:off x="809640" y="4372200"/>
              <a:ext cx="2397600" cy="167004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P. proces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_s62483"/>
            <p:cNvSpPr/>
            <p:nvPr/>
          </p:nvSpPr>
          <p:spPr>
            <a:xfrm>
              <a:off x="3606840" y="4372200"/>
              <a:ext cx="2397600" cy="167004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P. koncept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_s62484"/>
            <p:cNvSpPr/>
            <p:nvPr/>
          </p:nvSpPr>
          <p:spPr>
            <a:xfrm>
              <a:off x="6404400" y="4372200"/>
              <a:ext cx="2397600" cy="167004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P. situacij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irodoslovni proces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838080" y="1905120"/>
            <a:ext cx="8006760" cy="4189680"/>
            <a:chOff x="838080" y="1905120"/>
            <a:chExt cx="8006760" cy="4189680"/>
          </a:xfrm>
        </p:grpSpPr>
        <p:cxnSp>
          <p:nvCxnSpPr>
            <p:cNvPr id="226" name="_s64533"/>
            <p:cNvCxnSpPr>
              <a:stCxn id="227" idx="0"/>
              <a:endCxn id="228" idx="2"/>
            </p:cNvCxnSpPr>
            <p:nvPr/>
          </p:nvCxnSpPr>
          <p:spPr>
            <a:xfrm flipV="1" rot="16200000">
              <a:off x="6072120" y="2350080"/>
              <a:ext cx="838440" cy="3298320"/>
            </a:xfrm>
            <a:prstGeom prst="bentConnector3">
              <a:avLst>
                <a:gd name="adj1" fmla="val 1361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9" name="_s64527"/>
            <p:cNvCxnSpPr>
              <a:stCxn id="230" idx="0"/>
              <a:endCxn id="228" idx="2"/>
            </p:cNvCxnSpPr>
            <p:nvPr/>
          </p:nvCxnSpPr>
          <p:spPr>
            <a:xfrm flipV="1" rot="16200000">
              <a:off x="5247720" y="3174480"/>
              <a:ext cx="838440" cy="1649520"/>
            </a:xfrm>
            <a:prstGeom prst="bentConnector3">
              <a:avLst>
                <a:gd name="adj1" fmla="val 1361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1" name="_s64524"/>
            <p:cNvCxnSpPr>
              <a:stCxn id="232" idx="0"/>
              <a:endCxn id="228" idx="2"/>
            </p:cNvCxnSpPr>
            <p:nvPr/>
          </p:nvCxnSpPr>
          <p:spPr>
            <a:xfrm flipV="1" rot="16200000">
              <a:off x="4424040" y="3998160"/>
              <a:ext cx="838440" cy="2160"/>
            </a:xfrm>
            <a:prstGeom prst="bentConnector3">
              <a:avLst>
                <a:gd name="adj1" fmla="val 1361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3" name="_s64523"/>
            <p:cNvCxnSpPr>
              <a:stCxn id="234" idx="0"/>
              <a:endCxn id="228" idx="2"/>
            </p:cNvCxnSpPr>
            <p:nvPr/>
          </p:nvCxnSpPr>
          <p:spPr>
            <a:xfrm flipH="1" flipV="1" rot="5400000">
              <a:off x="3598920" y="3174840"/>
              <a:ext cx="838440" cy="1649520"/>
            </a:xfrm>
            <a:prstGeom prst="bentConnector3">
              <a:avLst>
                <a:gd name="adj1" fmla="val 1361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5" name="_s64522"/>
            <p:cNvCxnSpPr>
              <a:stCxn id="236" idx="0"/>
              <a:endCxn id="228" idx="2"/>
            </p:cNvCxnSpPr>
            <p:nvPr/>
          </p:nvCxnSpPr>
          <p:spPr>
            <a:xfrm flipH="1" flipV="1" rot="5400000">
              <a:off x="2774520" y="2350440"/>
              <a:ext cx="838440" cy="3298320"/>
            </a:xfrm>
            <a:prstGeom prst="bentConnector3">
              <a:avLst>
                <a:gd name="adj1" fmla="val 1361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28" name="_s64518"/>
            <p:cNvSpPr/>
            <p:nvPr/>
          </p:nvSpPr>
          <p:spPr>
            <a:xfrm>
              <a:off x="4133880" y="1905120"/>
              <a:ext cx="1413360" cy="1675800"/>
            </a:xfrm>
            <a:custGeom>
              <a:avLst/>
              <a:gdLst>
                <a:gd name="textAreaLeft" fmla="*/ 68760 w 1413360"/>
                <a:gd name="textAreaRight" fmla="*/ 1344600 w 1413360"/>
                <a:gd name="textAreaTop" fmla="*/ 68760 h 1675800"/>
                <a:gd name="textAreaBottom" fmla="*/ 1607040 h 1675800"/>
              </a:gdLst>
              <a:ahLst/>
              <a:rect l="textAreaLeft" t="textAreaTop" r="textAreaRight" b="textAreaBottom"/>
              <a:pathLst>
                <a:path w="21600" h="25610">
                  <a:moveTo>
                    <a:pt x="3600" y="0"/>
                  </a:moveTo>
                  <a:arcTo wR="3600" hR="3600" stAng="16200000" swAng="-5400000"/>
                  <a:lnTo>
                    <a:pt x="0" y="22010"/>
                  </a:lnTo>
                  <a:arcTo wR="3600" hR="3600" stAng="10800000" swAng="-5400000"/>
                  <a:lnTo>
                    <a:pt x="18000" y="256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Pr. proces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_s64519"/>
            <p:cNvSpPr/>
            <p:nvPr/>
          </p:nvSpPr>
          <p:spPr>
            <a:xfrm>
              <a:off x="838080" y="4419000"/>
              <a:ext cx="1413360" cy="1675800"/>
            </a:xfrm>
            <a:custGeom>
              <a:avLst/>
              <a:gdLst>
                <a:gd name="textAreaLeft" fmla="*/ 68760 w 1413360"/>
                <a:gd name="textAreaRight" fmla="*/ 1344600 w 1413360"/>
                <a:gd name="textAreaTop" fmla="*/ 68760 h 1675800"/>
                <a:gd name="textAreaBottom" fmla="*/ 1607040 h 1675800"/>
              </a:gdLst>
              <a:ahLst/>
              <a:rect l="textAreaLeft" t="textAreaTop" r="textAreaRight" b="textAreaBottom"/>
              <a:pathLst>
                <a:path w="21600" h="25610">
                  <a:moveTo>
                    <a:pt x="3600" y="0"/>
                  </a:moveTo>
                  <a:arcTo wR="3600" hR="3600" stAng="16200000" swAng="-5400000"/>
                  <a:lnTo>
                    <a:pt x="0" y="22010"/>
                  </a:lnTo>
                  <a:arcTo wR="3600" hR="3600" stAng="10800000" swAng="-5400000"/>
                  <a:lnTo>
                    <a:pt x="18000" y="256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"/>
                </a:rPr>
                <a:t>Prepoznavanj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i="1" lang="en-US" sz="1200" spc="-1" strike="noStrike">
                  <a:solidFill>
                    <a:srgbClr val="ffffff"/>
                  </a:solidFill>
                  <a:latin typeface="Arial"/>
                </a:rPr>
                <a:t>istr. pitanj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_s64520"/>
            <p:cNvSpPr/>
            <p:nvPr/>
          </p:nvSpPr>
          <p:spPr>
            <a:xfrm>
              <a:off x="2486880" y="4419000"/>
              <a:ext cx="1413360" cy="1675800"/>
            </a:xfrm>
            <a:custGeom>
              <a:avLst/>
              <a:gdLst>
                <a:gd name="textAreaLeft" fmla="*/ 68760 w 1413360"/>
                <a:gd name="textAreaRight" fmla="*/ 1344600 w 1413360"/>
                <a:gd name="textAreaTop" fmla="*/ 68760 h 1675800"/>
                <a:gd name="textAreaBottom" fmla="*/ 1607040 h 1675800"/>
              </a:gdLst>
              <a:ahLst/>
              <a:rect l="textAreaLeft" t="textAreaTop" r="textAreaRight" b="textAreaBottom"/>
              <a:pathLst>
                <a:path w="21600" h="25610">
                  <a:moveTo>
                    <a:pt x="3600" y="0"/>
                  </a:moveTo>
                  <a:arcTo wR="3600" hR="3600" stAng="16200000" swAng="-5400000"/>
                  <a:lnTo>
                    <a:pt x="0" y="22010"/>
                  </a:lnTo>
                  <a:arcTo wR="3600" hR="3600" stAng="10800000" swAng="-5400000"/>
                  <a:lnTo>
                    <a:pt x="18000" y="256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"/>
                </a:rPr>
                <a:t>Dokazi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"/>
                </a:rPr>
                <a:t>istraživanj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_s64521"/>
            <p:cNvSpPr/>
            <p:nvPr/>
          </p:nvSpPr>
          <p:spPr>
            <a:xfrm>
              <a:off x="4135680" y="4419000"/>
              <a:ext cx="1413360" cy="1675800"/>
            </a:xfrm>
            <a:custGeom>
              <a:avLst/>
              <a:gdLst>
                <a:gd name="textAreaLeft" fmla="*/ 68760 w 1413360"/>
                <a:gd name="textAreaRight" fmla="*/ 1344600 w 1413360"/>
                <a:gd name="textAreaTop" fmla="*/ 68760 h 1675800"/>
                <a:gd name="textAreaBottom" fmla="*/ 1607040 h 1675800"/>
              </a:gdLst>
              <a:ahLst/>
              <a:rect l="textAreaLeft" t="textAreaTop" r="textAreaRight" b="textAreaBottom"/>
              <a:pathLst>
                <a:path w="21600" h="25610">
                  <a:moveTo>
                    <a:pt x="3600" y="0"/>
                  </a:moveTo>
                  <a:arcTo wR="3600" hR="3600" stAng="16200000" swAng="-5400000"/>
                  <a:lnTo>
                    <a:pt x="0" y="22010"/>
                  </a:lnTo>
                  <a:arcTo wR="3600" hR="3600" stAng="10800000" swAng="-5400000"/>
                  <a:lnTo>
                    <a:pt x="18000" y="256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r-HR" sz="1200" spc="-1" strike="noStrike">
                  <a:solidFill>
                    <a:srgbClr val="ffffff"/>
                  </a:solidFill>
                  <a:latin typeface="Arial"/>
                </a:rPr>
                <a:t>Izv.i vredn.zaklj</a:t>
              </a:r>
              <a:r>
                <a:rPr b="0" i="1" lang="hr-HR" sz="1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_s64526"/>
            <p:cNvSpPr/>
            <p:nvPr/>
          </p:nvSpPr>
          <p:spPr>
            <a:xfrm>
              <a:off x="5784840" y="4419000"/>
              <a:ext cx="1413360" cy="1675800"/>
            </a:xfrm>
            <a:custGeom>
              <a:avLst/>
              <a:gdLst>
                <a:gd name="textAreaLeft" fmla="*/ 68760 w 1413360"/>
                <a:gd name="textAreaRight" fmla="*/ 1344600 w 1413360"/>
                <a:gd name="textAreaTop" fmla="*/ 68760 h 1675800"/>
                <a:gd name="textAreaBottom" fmla="*/ 1607040 h 1675800"/>
              </a:gdLst>
              <a:ahLst/>
              <a:rect l="textAreaLeft" t="textAreaTop" r="textAreaRight" b="textAreaBottom"/>
              <a:pathLst>
                <a:path w="21600" h="25610">
                  <a:moveTo>
                    <a:pt x="3600" y="0"/>
                  </a:moveTo>
                  <a:arcTo wR="3600" hR="3600" stAng="16200000" swAng="-5400000"/>
                  <a:lnTo>
                    <a:pt x="0" y="22010"/>
                  </a:lnTo>
                  <a:arcTo wR="3600" hR="3600" stAng="10800000" swAng="-5400000"/>
                  <a:lnTo>
                    <a:pt x="18000" y="256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r-HR" sz="1200" spc="-1" strike="noStrike">
                  <a:solidFill>
                    <a:srgbClr val="ffffff"/>
                  </a:solidFill>
                  <a:latin typeface="Arial"/>
                </a:rPr>
                <a:t>Priopć. I valjanost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r-HR" sz="1200" spc="-1" strike="noStrike">
                  <a:solidFill>
                    <a:srgbClr val="ffffff"/>
                  </a:solidFill>
                  <a:latin typeface="Arial"/>
                </a:rPr>
                <a:t>zaključak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_s64532"/>
            <p:cNvSpPr/>
            <p:nvPr/>
          </p:nvSpPr>
          <p:spPr>
            <a:xfrm>
              <a:off x="7433640" y="4419000"/>
              <a:ext cx="1411200" cy="1675800"/>
            </a:xfrm>
            <a:custGeom>
              <a:avLst/>
              <a:gdLst>
                <a:gd name="textAreaLeft" fmla="*/ 68760 w 1411200"/>
                <a:gd name="textAreaRight" fmla="*/ 1342440 w 1411200"/>
                <a:gd name="textAreaTop" fmla="*/ 68760 h 1675800"/>
                <a:gd name="textAreaBottom" fmla="*/ 1607040 h 1675800"/>
              </a:gdLst>
              <a:ahLst/>
              <a:rect l="textAreaLeft" t="textAreaTop" r="textAreaRight" b="textAreaBottom"/>
              <a:pathLst>
                <a:path w="21600" h="25649">
                  <a:moveTo>
                    <a:pt x="3600" y="0"/>
                  </a:moveTo>
                  <a:arcTo wR="3600" hR="3600" stAng="16200000" swAng="-5400000"/>
                  <a:lnTo>
                    <a:pt x="0" y="22049"/>
                  </a:lnTo>
                  <a:arcTo wR="3600" hR="3600" stAng="10800000" swAng="-5400000"/>
                  <a:lnTo>
                    <a:pt x="18000" y="256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r-HR" sz="1200" spc="-1" strike="noStrike">
                  <a:solidFill>
                    <a:srgbClr val="ffffff"/>
                  </a:solidFill>
                  <a:latin typeface="Arial"/>
                </a:rPr>
                <a:t>Pok. I razum . Pr.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r-HR" sz="1200" spc="-1" strike="noStrike">
                  <a:solidFill>
                    <a:srgbClr val="ffffff"/>
                  </a:solidFill>
                  <a:latin typeface="Arial"/>
                </a:rPr>
                <a:t>koncepat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1835280" y="333360"/>
            <a:ext cx="5581440" cy="5562720"/>
            <a:chOff x="1835280" y="333360"/>
            <a:chExt cx="5581440" cy="5562720"/>
          </a:xfrm>
        </p:grpSpPr>
        <p:sp>
          <p:nvSpPr>
            <p:cNvPr id="238" name="_s75809"/>
            <p:cNvSpPr/>
            <p:nvPr/>
          </p:nvSpPr>
          <p:spPr>
            <a:xfrm flipH="1" flipV="1">
              <a:off x="3681360" y="1504800"/>
              <a:ext cx="711360" cy="1231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_s75808"/>
            <p:cNvSpPr/>
            <p:nvPr/>
          </p:nvSpPr>
          <p:spPr>
            <a:xfrm>
              <a:off x="2987640" y="692280"/>
              <a:ext cx="900000" cy="9000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11.Eko-sustav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_s75807"/>
            <p:cNvSpPr/>
            <p:nvPr/>
          </p:nvSpPr>
          <p:spPr>
            <a:xfrm flipH="1" flipV="1">
              <a:off x="2997360" y="2190600"/>
              <a:ext cx="1231920" cy="711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_s75806"/>
            <p:cNvSpPr/>
            <p:nvPr/>
          </p:nvSpPr>
          <p:spPr>
            <a:xfrm>
              <a:off x="2124000" y="1484280"/>
              <a:ext cx="900360" cy="9000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12.Geološk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promjen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_s75805"/>
            <p:cNvSpPr/>
            <p:nvPr/>
          </p:nvSpPr>
          <p:spPr>
            <a:xfrm flipH="1">
              <a:off x="2747520" y="3125880"/>
              <a:ext cx="1422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_s75804"/>
            <p:cNvSpPr/>
            <p:nvPr/>
          </p:nvSpPr>
          <p:spPr>
            <a:xfrm>
              <a:off x="1835280" y="2708280"/>
              <a:ext cx="900000" cy="9000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1.Struktur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svojstv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tvar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_s75803"/>
            <p:cNvSpPr/>
            <p:nvPr/>
          </p:nvSpPr>
          <p:spPr>
            <a:xfrm flipH="1">
              <a:off x="2998800" y="3349800"/>
              <a:ext cx="1231920" cy="711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_s75802"/>
            <p:cNvSpPr/>
            <p:nvPr/>
          </p:nvSpPr>
          <p:spPr>
            <a:xfrm>
              <a:off x="2195640" y="3860640"/>
              <a:ext cx="900000" cy="9003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2.Atmosfersk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promjen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_s75801"/>
            <p:cNvSpPr/>
            <p:nvPr/>
          </p:nvSpPr>
          <p:spPr>
            <a:xfrm flipH="1">
              <a:off x="3684600" y="3513240"/>
              <a:ext cx="711360" cy="1231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_s75800"/>
            <p:cNvSpPr/>
            <p:nvPr/>
          </p:nvSpPr>
          <p:spPr>
            <a:xfrm>
              <a:off x="2987640" y="4653000"/>
              <a:ext cx="900000" cy="9000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3.Kemijsk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fizikaln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promjene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_s75799"/>
            <p:cNvSpPr/>
            <p:nvPr/>
          </p:nvSpPr>
          <p:spPr>
            <a:xfrm>
              <a:off x="4619520" y="3571920"/>
              <a:ext cx="0" cy="1422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_s75798"/>
            <p:cNvSpPr/>
            <p:nvPr/>
          </p:nvSpPr>
          <p:spPr>
            <a:xfrm>
              <a:off x="4167360" y="4995720"/>
              <a:ext cx="900000" cy="9003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4Transformiranj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energij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_s75797"/>
            <p:cNvSpPr/>
            <p:nvPr/>
          </p:nvSpPr>
          <p:spPr>
            <a:xfrm>
              <a:off x="4843440" y="3511440"/>
              <a:ext cx="711360" cy="1231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_s75796"/>
            <p:cNvSpPr/>
            <p:nvPr/>
          </p:nvSpPr>
          <p:spPr>
            <a:xfrm>
              <a:off x="5327640" y="4684680"/>
              <a:ext cx="900000" cy="9000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5.Sil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gibanj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_s75795"/>
            <p:cNvSpPr/>
            <p:nvPr/>
          </p:nvSpPr>
          <p:spPr>
            <a:xfrm>
              <a:off x="5006880" y="3346560"/>
              <a:ext cx="1231920" cy="711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_s75794"/>
            <p:cNvSpPr/>
            <p:nvPr/>
          </p:nvSpPr>
          <p:spPr>
            <a:xfrm>
              <a:off x="6176880" y="3835440"/>
              <a:ext cx="900360" cy="9000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6.Oblik 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funkcij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_s75793"/>
            <p:cNvSpPr/>
            <p:nvPr/>
          </p:nvSpPr>
          <p:spPr>
            <a:xfrm>
              <a:off x="5065560" y="3122640"/>
              <a:ext cx="14227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_s75792"/>
            <p:cNvSpPr/>
            <p:nvPr/>
          </p:nvSpPr>
          <p:spPr>
            <a:xfrm>
              <a:off x="6516720" y="2781360"/>
              <a:ext cx="900000" cy="9000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7.Biologija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čovjek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_s75791"/>
            <p:cNvSpPr/>
            <p:nvPr/>
          </p:nvSpPr>
          <p:spPr>
            <a:xfrm flipV="1">
              <a:off x="5005440" y="2187360"/>
              <a:ext cx="1231920" cy="711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_s75790"/>
            <p:cNvSpPr/>
            <p:nvPr/>
          </p:nvSpPr>
          <p:spPr>
            <a:xfrm>
              <a:off x="6156360" y="1484280"/>
              <a:ext cx="900000" cy="9000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8.Fiziološk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promjene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_s75789"/>
            <p:cNvSpPr/>
            <p:nvPr/>
          </p:nvSpPr>
          <p:spPr>
            <a:xfrm flipV="1">
              <a:off x="4840200" y="1503360"/>
              <a:ext cx="711360" cy="1231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_s75788"/>
            <p:cNvSpPr/>
            <p:nvPr/>
          </p:nvSpPr>
          <p:spPr>
            <a:xfrm>
              <a:off x="5327640" y="665280"/>
              <a:ext cx="900000" cy="9000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9.Biološka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raznolikos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_s75785"/>
            <p:cNvSpPr/>
            <p:nvPr/>
          </p:nvSpPr>
          <p:spPr>
            <a:xfrm flipV="1">
              <a:off x="4616280" y="1253880"/>
              <a:ext cx="0" cy="1422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_s75784"/>
            <p:cNvSpPr/>
            <p:nvPr/>
          </p:nvSpPr>
          <p:spPr>
            <a:xfrm>
              <a:off x="4211640" y="333360"/>
              <a:ext cx="900000" cy="9000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10.Genetsk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kontrol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_s75783"/>
            <p:cNvSpPr/>
            <p:nvPr/>
          </p:nvSpPr>
          <p:spPr>
            <a:xfrm>
              <a:off x="4167360" y="2676600"/>
              <a:ext cx="900000" cy="9000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 u="sng">
                  <a:solidFill>
                    <a:srgbClr val="ff0000"/>
                  </a:solidFill>
                  <a:uFillTx/>
                  <a:latin typeface="Arial"/>
                </a:rPr>
                <a:t>Pr. koncept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irodoslovne situacij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838080" y="1905120"/>
            <a:ext cx="8006760" cy="4189680"/>
            <a:chOff x="838080" y="1905120"/>
            <a:chExt cx="8006760" cy="4189680"/>
          </a:xfrm>
        </p:grpSpPr>
        <p:cxnSp>
          <p:nvCxnSpPr>
            <p:cNvPr id="265" name="_s68620"/>
            <p:cNvCxnSpPr>
              <a:stCxn id="266" idx="3"/>
              <a:endCxn id="267" idx="2"/>
            </p:cNvCxnSpPr>
            <p:nvPr/>
          </p:nvCxnSpPr>
          <p:spPr>
            <a:xfrm flipV="1">
              <a:off x="4269600" y="2952000"/>
              <a:ext cx="572400" cy="2619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8" name="_s68619"/>
            <p:cNvCxnSpPr>
              <a:stCxn id="269" idx="1"/>
              <a:endCxn id="267" idx="2"/>
            </p:cNvCxnSpPr>
            <p:nvPr/>
          </p:nvCxnSpPr>
          <p:spPr>
            <a:xfrm rot="10800000">
              <a:off x="4840560" y="2951640"/>
              <a:ext cx="572400" cy="1047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0" name="_s68618"/>
            <p:cNvCxnSpPr>
              <a:stCxn id="271" idx="3"/>
              <a:endCxn id="267" idx="2"/>
            </p:cNvCxnSpPr>
            <p:nvPr/>
          </p:nvCxnSpPr>
          <p:spPr>
            <a:xfrm flipV="1">
              <a:off x="4269600" y="2951640"/>
              <a:ext cx="572400" cy="1047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67" name="_s68614"/>
            <p:cNvSpPr/>
            <p:nvPr/>
          </p:nvSpPr>
          <p:spPr>
            <a:xfrm>
              <a:off x="3125520" y="1905120"/>
              <a:ext cx="3431520" cy="10472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200" spc="-1" strike="noStrike">
                  <a:solidFill>
                    <a:srgbClr val="ffffff"/>
                  </a:solidFill>
                  <a:latin typeface="Arial"/>
                </a:rPr>
                <a:t>Pr. situacije</a:t>
              </a:r>
              <a:endParaRPr b="0" lang="en-US" sz="5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_s68615"/>
            <p:cNvSpPr/>
            <p:nvPr/>
          </p:nvSpPr>
          <p:spPr>
            <a:xfrm>
              <a:off x="838080" y="3476160"/>
              <a:ext cx="3431520" cy="10472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nanost o životu i zdravlj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_s68616"/>
            <p:cNvSpPr/>
            <p:nvPr/>
          </p:nvSpPr>
          <p:spPr>
            <a:xfrm>
              <a:off x="5413320" y="3476160"/>
              <a:ext cx="3431520" cy="10472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nanost o Zemlji i okoliš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_s68617"/>
            <p:cNvSpPr/>
            <p:nvPr/>
          </p:nvSpPr>
          <p:spPr>
            <a:xfrm>
              <a:off x="838080" y="5047560"/>
              <a:ext cx="3431520" cy="10472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nanost o tehnologij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8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akcije na PISA testiranj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Arial"/>
              </a:rPr>
              <a:t>Pruski ministar prosvjete August von Trott zu Solz je školski sat skratio sa 60 minuta na 45, godine 1911., 2. listopad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Arial"/>
              </a:rPr>
              <a:t>Obzirom na slabe rezultate, Njemačka mijenja trajanje školskog sat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4919760" y="2690640"/>
          <a:ext cx="3924360" cy="26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19760" y="2690640"/>
                    <a:ext cx="3924360" cy="26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1274760" y="4005360"/>
            <a:ext cx="3441600" cy="1202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Gimnazija u Neussu-67.5 m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Gimnazija u Troisdorfu-60 m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R. Schulle u Kolnu- 90 m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lavna obilježja OECD-a program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838080" y="1905120"/>
            <a:ext cx="8006760" cy="4190400"/>
            <a:chOff x="838080" y="1905120"/>
            <a:chExt cx="8006760" cy="4190400"/>
          </a:xfrm>
        </p:grpSpPr>
        <p:cxnSp>
          <p:nvCxnSpPr>
            <p:cNvPr id="279" name="_s72729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6584040" y="4470840"/>
              <a:ext cx="184320" cy="2335680"/>
            </a:xfrm>
            <a:prstGeom prst="bentConnector3">
              <a:avLst>
                <a:gd name="adj1" fmla="val 4951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2" name="_s72727"/>
            <p:cNvCxnSpPr>
              <a:stCxn id="283" idx="0"/>
              <a:endCxn id="281" idx="2"/>
            </p:cNvCxnSpPr>
            <p:nvPr/>
          </p:nvCxnSpPr>
          <p:spPr>
            <a:xfrm flipV="1">
              <a:off x="5508360" y="5546880"/>
              <a:ext cx="2520" cy="184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4" name="_s72725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4249800" y="4471920"/>
              <a:ext cx="184320" cy="2333880"/>
            </a:xfrm>
            <a:prstGeom prst="bentConnector3">
              <a:avLst>
                <a:gd name="adj1" fmla="val 4951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6" name="_s72723"/>
            <p:cNvCxnSpPr>
              <a:stCxn id="281" idx="1"/>
              <a:endCxn id="287" idx="2"/>
            </p:cNvCxnSpPr>
            <p:nvPr/>
          </p:nvCxnSpPr>
          <p:spPr>
            <a:xfrm rot="10800000">
              <a:off x="1838160" y="2268720"/>
              <a:ext cx="2669760" cy="3098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8" name="_s72721"/>
            <p:cNvCxnSpPr>
              <a:stCxn id="289" idx="1"/>
              <a:endCxn id="287" idx="2"/>
            </p:cNvCxnSpPr>
            <p:nvPr/>
          </p:nvCxnSpPr>
          <p:spPr>
            <a:xfrm rot="10800000">
              <a:off x="1838160" y="2268720"/>
              <a:ext cx="2669760" cy="2551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0" name="_s72719"/>
            <p:cNvCxnSpPr>
              <a:stCxn id="291" idx="1"/>
              <a:endCxn id="287" idx="2"/>
            </p:cNvCxnSpPr>
            <p:nvPr/>
          </p:nvCxnSpPr>
          <p:spPr>
            <a:xfrm rot="10800000">
              <a:off x="1838160" y="2268720"/>
              <a:ext cx="2669760" cy="2005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2" name="_s72716"/>
            <p:cNvCxnSpPr>
              <a:stCxn id="293" idx="1"/>
              <a:endCxn id="287" idx="2"/>
            </p:cNvCxnSpPr>
            <p:nvPr/>
          </p:nvCxnSpPr>
          <p:spPr>
            <a:xfrm rot="10800000">
              <a:off x="1838160" y="2268720"/>
              <a:ext cx="2669760" cy="1460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4" name="_s72715"/>
            <p:cNvCxnSpPr>
              <a:stCxn id="295" idx="1"/>
              <a:endCxn id="287" idx="2"/>
            </p:cNvCxnSpPr>
            <p:nvPr/>
          </p:nvCxnSpPr>
          <p:spPr>
            <a:xfrm rot="10800000">
              <a:off x="1838160" y="2268720"/>
              <a:ext cx="2669760" cy="9122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6" name="_s72714"/>
            <p:cNvCxnSpPr>
              <a:stCxn id="297" idx="1"/>
              <a:endCxn id="287" idx="2"/>
            </p:cNvCxnSpPr>
            <p:nvPr/>
          </p:nvCxnSpPr>
          <p:spPr>
            <a:xfrm rot="10800000">
              <a:off x="1838160" y="2268720"/>
              <a:ext cx="2669760" cy="366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87" name="_s72710"/>
            <p:cNvSpPr/>
            <p:nvPr/>
          </p:nvSpPr>
          <p:spPr>
            <a:xfrm>
              <a:off x="838080" y="1905120"/>
              <a:ext cx="2001600" cy="3643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ffffff"/>
                  </a:solidFill>
                  <a:latin typeface="Arial"/>
                </a:rPr>
                <a:t>OECD program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_s72711"/>
            <p:cNvSpPr/>
            <p:nvPr/>
          </p:nvSpPr>
          <p:spPr>
            <a:xfrm>
              <a:off x="4507920" y="2451960"/>
              <a:ext cx="2001600" cy="3643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ffffff"/>
                  </a:solidFill>
                  <a:latin typeface="Arial"/>
                </a:rPr>
                <a:t>Politika obrazovanj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_s72712"/>
            <p:cNvSpPr/>
            <p:nvPr/>
          </p:nvSpPr>
          <p:spPr>
            <a:xfrm>
              <a:off x="4507920" y="2998800"/>
              <a:ext cx="2001600" cy="3643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ffffff"/>
                  </a:solidFill>
                  <a:latin typeface="Arial"/>
                </a:rPr>
                <a:t>Sposobnost primjene znanj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_s72713"/>
            <p:cNvSpPr/>
            <p:nvPr/>
          </p:nvSpPr>
          <p:spPr>
            <a:xfrm>
              <a:off x="4507920" y="3545640"/>
              <a:ext cx="2001600" cy="3643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ffffff"/>
                  </a:solidFill>
                  <a:latin typeface="Arial"/>
                </a:rPr>
                <a:t>Cijelo životno učenje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_s72718"/>
            <p:cNvSpPr/>
            <p:nvPr/>
          </p:nvSpPr>
          <p:spPr>
            <a:xfrm>
              <a:off x="4507920" y="4092480"/>
              <a:ext cx="2001600" cy="3632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ffffff"/>
                  </a:solidFill>
                  <a:latin typeface="Arial"/>
                </a:rPr>
                <a:t>Redovito praćenje svake 3 godine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_s72720"/>
            <p:cNvSpPr/>
            <p:nvPr/>
          </p:nvSpPr>
          <p:spPr>
            <a:xfrm>
              <a:off x="4507920" y="4638600"/>
              <a:ext cx="2001600" cy="3643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ffffff"/>
                  </a:solidFill>
                  <a:latin typeface="Arial"/>
                </a:rPr>
                <a:t>Velika geografska pokrivenost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_s72722"/>
            <p:cNvSpPr/>
            <p:nvPr/>
          </p:nvSpPr>
          <p:spPr>
            <a:xfrm>
              <a:off x="4507920" y="5185440"/>
              <a:ext cx="2001600" cy="3632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ffffff"/>
                  </a:solidFill>
                  <a:latin typeface="Arial"/>
                </a:rPr>
                <a:t>Tri tipa rezultat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_s72724"/>
            <p:cNvSpPr/>
            <p:nvPr/>
          </p:nvSpPr>
          <p:spPr>
            <a:xfrm>
              <a:off x="2172600" y="5731200"/>
              <a:ext cx="2001600" cy="3643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900" spc="-1" strike="noStrike">
                  <a:solidFill>
                    <a:srgbClr val="ffffff"/>
                  </a:solidFill>
                  <a:latin typeface="Arial"/>
                </a:rPr>
                <a:t>Osnovnii(znanje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_s72726"/>
            <p:cNvSpPr/>
            <p:nvPr/>
          </p:nvSpPr>
          <p:spPr>
            <a:xfrm>
              <a:off x="4507920" y="5731200"/>
              <a:ext cx="2001600" cy="3628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900" spc="-1" strike="noStrike">
                  <a:solidFill>
                    <a:srgbClr val="ffffff"/>
                  </a:solidFill>
                  <a:latin typeface="Arial"/>
                </a:rPr>
                <a:t>Kontekstuallni(socioo ekonomskii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_s72728"/>
            <p:cNvSpPr/>
            <p:nvPr/>
          </p:nvSpPr>
          <p:spPr>
            <a:xfrm>
              <a:off x="6843240" y="5731200"/>
              <a:ext cx="2001600" cy="3628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900" spc="-1" strike="noStrike">
                  <a:solidFill>
                    <a:srgbClr val="ffffff"/>
                  </a:solidFill>
                  <a:latin typeface="Arial"/>
                </a:rPr>
                <a:t>Trendovsko promatranje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ismenos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dje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908000" y="27000"/>
            <a:ext cx="6383520" cy="6857280"/>
            <a:chOff x="1908000" y="27000"/>
            <a:chExt cx="6383520" cy="6857280"/>
          </a:xfrm>
        </p:grpSpPr>
        <p:cxnSp>
          <p:nvCxnSpPr>
            <p:cNvPr id="115" name="_s85037"/>
            <p:cNvCxnSpPr>
              <a:stCxn id="116" idx="0"/>
              <a:endCxn id="117" idx="2"/>
            </p:cNvCxnSpPr>
            <p:nvPr/>
          </p:nvCxnSpPr>
          <p:spPr>
            <a:xfrm flipV="1" rot="16200000">
              <a:off x="3715200" y="2187000"/>
              <a:ext cx="490320" cy="1067040"/>
            </a:xfrm>
            <a:prstGeom prst="bentConnector3">
              <a:avLst>
                <a:gd name="adj1" fmla="val 3828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8" name="_s85035"/>
            <p:cNvCxnSpPr>
              <a:stCxn id="119" idx="0"/>
              <a:endCxn id="117" idx="2"/>
            </p:cNvCxnSpPr>
            <p:nvPr/>
          </p:nvCxnSpPr>
          <p:spPr>
            <a:xfrm flipV="1">
              <a:off x="3427200" y="2475720"/>
              <a:ext cx="1440" cy="490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0" name="_s85033"/>
            <p:cNvCxnSpPr>
              <a:stCxn id="121" idx="0"/>
              <a:endCxn id="117" idx="2"/>
            </p:cNvCxnSpPr>
            <p:nvPr/>
          </p:nvCxnSpPr>
          <p:spPr>
            <a:xfrm flipH="1" flipV="1" rot="5400000">
              <a:off x="2649960" y="2189160"/>
              <a:ext cx="490320" cy="1063440"/>
            </a:xfrm>
            <a:prstGeom prst="bentConnector3">
              <a:avLst>
                <a:gd name="adj1" fmla="val 3828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2" name="_s85031"/>
            <p:cNvCxnSpPr>
              <a:stCxn id="123" idx="0"/>
              <a:endCxn id="124" idx="2"/>
            </p:cNvCxnSpPr>
            <p:nvPr/>
          </p:nvCxnSpPr>
          <p:spPr>
            <a:xfrm flipV="1" rot="16200000">
              <a:off x="7058520" y="2188800"/>
              <a:ext cx="490320" cy="1063440"/>
            </a:xfrm>
            <a:prstGeom prst="bentConnector3">
              <a:avLst>
                <a:gd name="adj1" fmla="val 3828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5" name="_s85029"/>
            <p:cNvCxnSpPr>
              <a:stCxn id="126" idx="0"/>
              <a:endCxn id="124" idx="2"/>
            </p:cNvCxnSpPr>
            <p:nvPr/>
          </p:nvCxnSpPr>
          <p:spPr>
            <a:xfrm flipV="1">
              <a:off x="6772320" y="2475720"/>
              <a:ext cx="1440" cy="490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7" name="_s85027"/>
            <p:cNvCxnSpPr>
              <a:stCxn id="128" idx="0"/>
              <a:endCxn id="124" idx="2"/>
            </p:cNvCxnSpPr>
            <p:nvPr/>
          </p:nvCxnSpPr>
          <p:spPr>
            <a:xfrm flipH="1" flipV="1" rot="5400000">
              <a:off x="5994720" y="2188440"/>
              <a:ext cx="490320" cy="1064880"/>
            </a:xfrm>
            <a:prstGeom prst="bentConnector3">
              <a:avLst>
                <a:gd name="adj1" fmla="val 3828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9" name="_s85025"/>
            <p:cNvCxnSpPr>
              <a:stCxn id="130" idx="0"/>
              <a:endCxn id="131" idx="2"/>
            </p:cNvCxnSpPr>
            <p:nvPr/>
          </p:nvCxnSpPr>
          <p:spPr>
            <a:xfrm flipV="1" rot="16200000">
              <a:off x="3447720" y="5393160"/>
              <a:ext cx="490320" cy="532440"/>
            </a:xfrm>
            <a:prstGeom prst="bentConnector3">
              <a:avLst>
                <a:gd name="adj1" fmla="val 3828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2" name="_s85023"/>
            <p:cNvCxnSpPr>
              <a:stCxn id="133" idx="0"/>
              <a:endCxn id="131" idx="2"/>
            </p:cNvCxnSpPr>
            <p:nvPr/>
          </p:nvCxnSpPr>
          <p:spPr>
            <a:xfrm flipH="1" flipV="1" rot="5400000">
              <a:off x="2916360" y="5393520"/>
              <a:ext cx="490320" cy="531720"/>
            </a:xfrm>
            <a:prstGeom prst="bentConnector3">
              <a:avLst>
                <a:gd name="adj1" fmla="val 3828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4" name="_s85021"/>
            <p:cNvCxnSpPr>
              <a:stCxn id="131" idx="3"/>
              <a:endCxn id="135" idx="2"/>
            </p:cNvCxnSpPr>
            <p:nvPr/>
          </p:nvCxnSpPr>
          <p:spPr>
            <a:xfrm flipV="1">
              <a:off x="3882960" y="1005840"/>
              <a:ext cx="1217880" cy="3919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6" name="_s85020"/>
            <p:cNvCxnSpPr>
              <a:stCxn id="124" idx="1"/>
              <a:endCxn id="135" idx="2"/>
            </p:cNvCxnSpPr>
            <p:nvPr/>
          </p:nvCxnSpPr>
          <p:spPr>
            <a:xfrm rot="10800000">
              <a:off x="5100120" y="1005840"/>
              <a:ext cx="1216080" cy="9802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7" name="_s85019"/>
            <p:cNvCxnSpPr>
              <a:stCxn id="117" idx="3"/>
              <a:endCxn id="135" idx="2"/>
            </p:cNvCxnSpPr>
            <p:nvPr/>
          </p:nvCxnSpPr>
          <p:spPr>
            <a:xfrm flipV="1">
              <a:off x="3882960" y="1005840"/>
              <a:ext cx="1217880" cy="9802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35" name="_s85015"/>
            <p:cNvSpPr/>
            <p:nvPr/>
          </p:nvSpPr>
          <p:spPr>
            <a:xfrm>
              <a:off x="4644720" y="27000"/>
              <a:ext cx="912240" cy="979560"/>
            </a:xfrm>
            <a:custGeom>
              <a:avLst/>
              <a:gdLst>
                <a:gd name="textAreaLeft" fmla="*/ 44280 w 912240"/>
                <a:gd name="textAreaRight" fmla="*/ 867960 w 912240"/>
                <a:gd name="textAreaTop" fmla="*/ 44280 h 979560"/>
                <a:gd name="textAreaBottom" fmla="*/ 935280 h 979560"/>
              </a:gdLst>
              <a:ahLst/>
              <a:rect l="textAreaLeft" t="textAreaTop" r="textAreaRight" b="textAreaBottom"/>
              <a:pathLst>
                <a:path w="21600" h="23193">
                  <a:moveTo>
                    <a:pt x="3600" y="0"/>
                  </a:moveTo>
                  <a:arcTo wR="3600" hR="3600" stAng="16200000" swAng="-5400000"/>
                  <a:lnTo>
                    <a:pt x="0" y="19593"/>
                  </a:lnTo>
                  <a:arcTo wR="3600" hR="3600" stAng="10800000" swAng="-5400000"/>
                  <a:lnTo>
                    <a:pt x="18000" y="231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c0c0c"/>
                  </a:solidFill>
                  <a:latin typeface="Arial"/>
                </a:rPr>
                <a:t>Pismenos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85016"/>
            <p:cNvSpPr/>
            <p:nvPr/>
          </p:nvSpPr>
          <p:spPr>
            <a:xfrm>
              <a:off x="2972160" y="1496160"/>
              <a:ext cx="912240" cy="979560"/>
            </a:xfrm>
            <a:custGeom>
              <a:avLst/>
              <a:gdLst>
                <a:gd name="textAreaLeft" fmla="*/ 44280 w 912240"/>
                <a:gd name="textAreaRight" fmla="*/ 867960 w 912240"/>
                <a:gd name="textAreaTop" fmla="*/ 44280 h 979560"/>
                <a:gd name="textAreaBottom" fmla="*/ 935280 h 979560"/>
              </a:gdLst>
              <a:ahLst/>
              <a:rect l="textAreaLeft" t="textAreaTop" r="textAreaRight" b="textAreaBottom"/>
              <a:pathLst>
                <a:path w="21600" h="23193">
                  <a:moveTo>
                    <a:pt x="3600" y="0"/>
                  </a:moveTo>
                  <a:arcTo wR="3600" hR="3600" stAng="16200000" swAng="-5400000"/>
                  <a:lnTo>
                    <a:pt x="0" y="19593"/>
                  </a:lnTo>
                  <a:arcTo wR="3600" hR="3600" stAng="10800000" swAng="-5400000"/>
                  <a:lnTo>
                    <a:pt x="18000" y="231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0000"/>
                  </a:solidFill>
                  <a:latin typeface="Arial"/>
                </a:rPr>
                <a:t>Prirodoslov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_s85017"/>
            <p:cNvSpPr/>
            <p:nvPr/>
          </p:nvSpPr>
          <p:spPr>
            <a:xfrm>
              <a:off x="6316200" y="1496160"/>
              <a:ext cx="912240" cy="979560"/>
            </a:xfrm>
            <a:custGeom>
              <a:avLst/>
              <a:gdLst>
                <a:gd name="textAreaLeft" fmla="*/ 44280 w 912240"/>
                <a:gd name="textAreaRight" fmla="*/ 867960 w 912240"/>
                <a:gd name="textAreaTop" fmla="*/ 44280 h 979560"/>
                <a:gd name="textAreaBottom" fmla="*/ 935280 h 979560"/>
              </a:gdLst>
              <a:ahLst/>
              <a:rect l="textAreaLeft" t="textAreaTop" r="textAreaRight" b="textAreaBottom"/>
              <a:pathLst>
                <a:path w="21600" h="23193">
                  <a:moveTo>
                    <a:pt x="3600" y="0"/>
                  </a:moveTo>
                  <a:arcTo wR="3600" hR="3600" stAng="16200000" swAng="-5400000"/>
                  <a:lnTo>
                    <a:pt x="0" y="19593"/>
                  </a:lnTo>
                  <a:arcTo wR="3600" hR="3600" stAng="10800000" swAng="-5400000"/>
                  <a:lnTo>
                    <a:pt x="18000" y="231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0000"/>
                  </a:solidFill>
                  <a:latin typeface="Arial"/>
                </a:rPr>
                <a:t>Matematičk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_s85018"/>
            <p:cNvSpPr/>
            <p:nvPr/>
          </p:nvSpPr>
          <p:spPr>
            <a:xfrm>
              <a:off x="2972160" y="4435200"/>
              <a:ext cx="912240" cy="979560"/>
            </a:xfrm>
            <a:custGeom>
              <a:avLst/>
              <a:gdLst>
                <a:gd name="textAreaLeft" fmla="*/ 44280 w 912240"/>
                <a:gd name="textAreaRight" fmla="*/ 867960 w 912240"/>
                <a:gd name="textAreaTop" fmla="*/ 44280 h 979560"/>
                <a:gd name="textAreaBottom" fmla="*/ 935280 h 979560"/>
              </a:gdLst>
              <a:ahLst/>
              <a:rect l="textAreaLeft" t="textAreaTop" r="textAreaRight" b="textAreaBottom"/>
              <a:pathLst>
                <a:path w="21600" h="23193">
                  <a:moveTo>
                    <a:pt x="3600" y="0"/>
                  </a:moveTo>
                  <a:arcTo wR="3600" hR="3600" stAng="16200000" swAng="-5400000"/>
                  <a:lnTo>
                    <a:pt x="0" y="19593"/>
                  </a:lnTo>
                  <a:arcTo wR="3600" hR="3600" stAng="10800000" swAng="-5400000"/>
                  <a:lnTo>
                    <a:pt x="18000" y="231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0000"/>
                  </a:solidFill>
                  <a:latin typeface="Arial"/>
                </a:rPr>
                <a:t>Čitalačk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_s85022"/>
            <p:cNvSpPr/>
            <p:nvPr/>
          </p:nvSpPr>
          <p:spPr>
            <a:xfrm>
              <a:off x="2440080" y="5904720"/>
              <a:ext cx="912240" cy="979560"/>
            </a:xfrm>
            <a:custGeom>
              <a:avLst/>
              <a:gdLst>
                <a:gd name="textAreaLeft" fmla="*/ 44280 w 912240"/>
                <a:gd name="textAreaRight" fmla="*/ 867960 w 912240"/>
                <a:gd name="textAreaTop" fmla="*/ 44280 h 979560"/>
                <a:gd name="textAreaBottom" fmla="*/ 935280 h 979560"/>
              </a:gdLst>
              <a:ahLst/>
              <a:rect l="textAreaLeft" t="textAreaTop" r="textAreaRight" b="textAreaBottom"/>
              <a:pathLst>
                <a:path w="21600" h="23193">
                  <a:moveTo>
                    <a:pt x="3600" y="0"/>
                  </a:moveTo>
                  <a:arcTo wR="3600" hR="3600" stAng="16200000" swAng="-5400000"/>
                  <a:lnTo>
                    <a:pt x="0" y="19593"/>
                  </a:lnTo>
                  <a:arcTo wR="3600" hR="3600" stAng="10800000" swAng="-5400000"/>
                  <a:lnTo>
                    <a:pt x="18000" y="231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Neprekinuti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tekstovi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(pripovijetke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_s85024"/>
            <p:cNvSpPr/>
            <p:nvPr/>
          </p:nvSpPr>
          <p:spPr>
            <a:xfrm>
              <a:off x="3504240" y="5904720"/>
              <a:ext cx="912240" cy="979560"/>
            </a:xfrm>
            <a:custGeom>
              <a:avLst/>
              <a:gdLst>
                <a:gd name="textAreaLeft" fmla="*/ 44280 w 912240"/>
                <a:gd name="textAreaRight" fmla="*/ 867960 w 912240"/>
                <a:gd name="textAreaTop" fmla="*/ 44280 h 979560"/>
                <a:gd name="textAreaBottom" fmla="*/ 935280 h 979560"/>
              </a:gdLst>
              <a:ahLst/>
              <a:rect l="textAreaLeft" t="textAreaTop" r="textAreaRight" b="textAreaBottom"/>
              <a:pathLst>
                <a:path w="21600" h="23193">
                  <a:moveTo>
                    <a:pt x="3600" y="0"/>
                  </a:moveTo>
                  <a:arcTo wR="3600" hR="3600" stAng="16200000" swAng="-5400000"/>
                  <a:lnTo>
                    <a:pt x="0" y="19593"/>
                  </a:lnTo>
                  <a:arcTo wR="3600" hR="3600" stAng="10800000" swAng="-5400000"/>
                  <a:lnTo>
                    <a:pt x="18000" y="231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r-HR" sz="1100" spc="-1" strike="noStrike">
                  <a:solidFill>
                    <a:srgbClr val="ffffff"/>
                  </a:solidFill>
                  <a:latin typeface="Arial"/>
                </a:rPr>
                <a:t>Prekiinuti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r-HR" sz="1100" spc="-1" strike="noStrike">
                  <a:solidFill>
                    <a:srgbClr val="ffffff"/>
                  </a:solidFill>
                  <a:latin typeface="Arial"/>
                </a:rPr>
                <a:t>(obrasci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_s85026"/>
            <p:cNvSpPr/>
            <p:nvPr/>
          </p:nvSpPr>
          <p:spPr>
            <a:xfrm>
              <a:off x="5252760" y="2965680"/>
              <a:ext cx="911160" cy="979560"/>
            </a:xfrm>
            <a:custGeom>
              <a:avLst/>
              <a:gdLst>
                <a:gd name="textAreaLeft" fmla="*/ 44280 w 911160"/>
                <a:gd name="textAreaRight" fmla="*/ 866880 w 911160"/>
                <a:gd name="textAreaTop" fmla="*/ 44280 h 979560"/>
                <a:gd name="textAreaBottom" fmla="*/ 935280 h 979560"/>
              </a:gdLst>
              <a:ahLst/>
              <a:rect l="textAreaLeft" t="textAreaTop" r="textAreaRight" b="textAreaBottom"/>
              <a:pathLst>
                <a:path w="21600" h="23221">
                  <a:moveTo>
                    <a:pt x="3600" y="0"/>
                  </a:moveTo>
                  <a:arcTo wR="3600" hR="3600" stAng="16200000" swAng="-5400000"/>
                  <a:lnTo>
                    <a:pt x="0" y="19621"/>
                  </a:lnTo>
                  <a:arcTo wR="3600" hR="3600" stAng="10800000" swAng="-5400000"/>
                  <a:lnTo>
                    <a:pt x="18000" y="232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M. Sadržaji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(prostor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_s85028"/>
            <p:cNvSpPr/>
            <p:nvPr/>
          </p:nvSpPr>
          <p:spPr>
            <a:xfrm>
              <a:off x="6316200" y="2965680"/>
              <a:ext cx="910800" cy="975600"/>
            </a:xfrm>
            <a:custGeom>
              <a:avLst/>
              <a:gdLst>
                <a:gd name="textAreaLeft" fmla="*/ 44280 w 910800"/>
                <a:gd name="textAreaRight" fmla="*/ 866520 w 910800"/>
                <a:gd name="textAreaTop" fmla="*/ 44280 h 975600"/>
                <a:gd name="textAreaBottom" fmla="*/ 931320 h 975600"/>
              </a:gdLst>
              <a:ahLst/>
              <a:rect l="textAreaLeft" t="textAreaTop" r="textAreaRight" b="textAreaBottom"/>
              <a:pathLst>
                <a:path w="21600" h="23136">
                  <a:moveTo>
                    <a:pt x="3600" y="0"/>
                  </a:moveTo>
                  <a:arcTo wR="3600" hR="3600" stAng="16200000" swAng="-5400000"/>
                  <a:lnTo>
                    <a:pt x="0" y="19536"/>
                  </a:lnTo>
                  <a:arcTo wR="3600" hR="3600" stAng="10800000" swAng="-5400000"/>
                  <a:lnTo>
                    <a:pt x="18000" y="231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r-HR" sz="1100" spc="-1" strike="noStrike">
                  <a:solidFill>
                    <a:srgbClr val="ffffff"/>
                  </a:solidFill>
                  <a:latin typeface="Arial"/>
                </a:rPr>
                <a:t>M. Procesi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r-HR" sz="1100" spc="-1" strike="noStrike">
                  <a:solidFill>
                    <a:srgbClr val="ffffff"/>
                  </a:solidFill>
                  <a:latin typeface="Arial"/>
                </a:rPr>
                <a:t>(matem. Jezik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r-HR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i="1" lang="hr-HR" sz="1100" spc="-1" strike="noStrike">
                  <a:solidFill>
                    <a:srgbClr val="ffffff"/>
                  </a:solidFill>
                  <a:latin typeface="Arial"/>
                </a:rPr>
                <a:t>i problema9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_s85030"/>
            <p:cNvSpPr/>
            <p:nvPr/>
          </p:nvSpPr>
          <p:spPr>
            <a:xfrm>
              <a:off x="7379280" y="2965680"/>
              <a:ext cx="912240" cy="975600"/>
            </a:xfrm>
            <a:custGeom>
              <a:avLst/>
              <a:gdLst>
                <a:gd name="textAreaLeft" fmla="*/ 44280 w 912240"/>
                <a:gd name="textAreaRight" fmla="*/ 867960 w 912240"/>
                <a:gd name="textAreaTop" fmla="*/ 44280 h 975600"/>
                <a:gd name="textAreaBottom" fmla="*/ 931320 h 975600"/>
              </a:gdLst>
              <a:ahLst/>
              <a:rect l="textAreaLeft" t="textAreaTop" r="textAreaRight" b="textAreaBottom"/>
              <a:pathLst>
                <a:path w="21600" h="23100">
                  <a:moveTo>
                    <a:pt x="3600" y="0"/>
                  </a:moveTo>
                  <a:arcTo wR="3600" hR="3600" stAng="16200000" swAng="-5400000"/>
                  <a:lnTo>
                    <a:pt x="0" y="19500"/>
                  </a:lnTo>
                  <a:arcTo wR="3600" hR="3600" stAng="10800000" swAng="-5400000"/>
                  <a:lnTo>
                    <a:pt x="18000" y="231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Konteks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8situacije 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_s85032"/>
            <p:cNvSpPr/>
            <p:nvPr/>
          </p:nvSpPr>
          <p:spPr>
            <a:xfrm>
              <a:off x="1908000" y="2965680"/>
              <a:ext cx="912240" cy="975600"/>
            </a:xfrm>
            <a:custGeom>
              <a:avLst/>
              <a:gdLst>
                <a:gd name="textAreaLeft" fmla="*/ 44280 w 912240"/>
                <a:gd name="textAreaRight" fmla="*/ 867960 w 912240"/>
                <a:gd name="textAreaTop" fmla="*/ 44280 h 975600"/>
                <a:gd name="textAreaBottom" fmla="*/ 931320 h 975600"/>
              </a:gdLst>
              <a:ahLst/>
              <a:rect l="textAreaLeft" t="textAreaTop" r="textAreaRight" b="textAreaBottom"/>
              <a:pathLst>
                <a:path w="21600" h="23100">
                  <a:moveTo>
                    <a:pt x="3600" y="0"/>
                  </a:moveTo>
                  <a:arcTo wR="3600" hR="3600" stAng="16200000" swAng="-5400000"/>
                  <a:lnTo>
                    <a:pt x="0" y="19500"/>
                  </a:lnTo>
                  <a:arcTo wR="3600" hR="3600" stAng="10800000" swAng="-5400000"/>
                  <a:lnTo>
                    <a:pt x="18000" y="231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P. procesi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_s85034"/>
            <p:cNvSpPr/>
            <p:nvPr/>
          </p:nvSpPr>
          <p:spPr>
            <a:xfrm>
              <a:off x="2972160" y="2965680"/>
              <a:ext cx="912240" cy="975600"/>
            </a:xfrm>
            <a:custGeom>
              <a:avLst/>
              <a:gdLst>
                <a:gd name="textAreaLeft" fmla="*/ 44280 w 912240"/>
                <a:gd name="textAreaRight" fmla="*/ 867960 w 912240"/>
                <a:gd name="textAreaTop" fmla="*/ 44280 h 975600"/>
                <a:gd name="textAreaBottom" fmla="*/ 931320 h 975600"/>
              </a:gdLst>
              <a:ahLst/>
              <a:rect l="textAreaLeft" t="textAreaTop" r="textAreaRight" b="textAreaBottom"/>
              <a:pathLst>
                <a:path w="21600" h="23100">
                  <a:moveTo>
                    <a:pt x="3600" y="0"/>
                  </a:moveTo>
                  <a:arcTo wR="3600" hR="3600" stAng="16200000" swAng="-5400000"/>
                  <a:lnTo>
                    <a:pt x="0" y="19500"/>
                  </a:lnTo>
                  <a:arcTo wR="3600" hR="3600" stAng="10800000" swAng="-5400000"/>
                  <a:lnTo>
                    <a:pt x="18000" y="231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P. koncepti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85036"/>
            <p:cNvSpPr/>
            <p:nvPr/>
          </p:nvSpPr>
          <p:spPr>
            <a:xfrm>
              <a:off x="4036320" y="2965680"/>
              <a:ext cx="912240" cy="975600"/>
            </a:xfrm>
            <a:custGeom>
              <a:avLst/>
              <a:gdLst>
                <a:gd name="textAreaLeft" fmla="*/ 44280 w 912240"/>
                <a:gd name="textAreaRight" fmla="*/ 867960 w 912240"/>
                <a:gd name="textAreaTop" fmla="*/ 44280 h 975600"/>
                <a:gd name="textAreaBottom" fmla="*/ 931320 h 975600"/>
              </a:gdLst>
              <a:ahLst/>
              <a:rect l="textAreaLeft" t="textAreaTop" r="textAreaRight" b="textAreaBottom"/>
              <a:pathLst>
                <a:path w="21600" h="23100">
                  <a:moveTo>
                    <a:pt x="3600" y="0"/>
                  </a:moveTo>
                  <a:arcTo wR="3600" hR="3600" stAng="16200000" swAng="-5400000"/>
                  <a:lnTo>
                    <a:pt x="0" y="19500"/>
                  </a:lnTo>
                  <a:arcTo wR="3600" hR="3600" stAng="10800000" swAng="-5400000"/>
                  <a:lnTo>
                    <a:pt x="18000" y="231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Pr. situacij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itanja iz prirodoslovlj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3616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rijatide Akropole u Ateni. –Krhotina mramora ima masu od 2.0 g prije nego se uroni u ocat.Slijedeći se dan osuši.Kolika će biti masa mramor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2556000" y="4508640"/>
            <a:ext cx="2089080" cy="13842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5091120" y="3860640"/>
            <a:ext cx="2793960" cy="2037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)Manja od 2.0 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)Točno 2.0 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)Između 2.0 i 2.4 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)Veća od 2.4 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očan je A odgov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itanja iz prirodoslovlj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Prirodoslovna cjel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987640" y="2457360"/>
            <a:ext cx="4734000" cy="290196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971640" y="2492280"/>
            <a:ext cx="1712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mrtnost rodilja od babinje groznice nema veze s potresima. Uzrok je slaba higijena.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Procesi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-Kritičko procjenjivanje znanstvenih dokaza.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Pojam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- Bolest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843280" y="544500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Situacija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-Povijes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859120" y="5805360"/>
            <a:ext cx="628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edan se patolog porezao i poslije umro. Pokazivao je simptome babinje groznice i nije prao ruke.—Danas su bakterije otporne na antibiotik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580000" y="1916280"/>
            <a:ext cx="349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I. Semmelweis(1.VII.1818-13.VIII.1865),liječni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itanja iz prirodoslovlj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Prirodoslovna cjel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4678200" y="2421000"/>
            <a:ext cx="4465800" cy="36273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1042920" y="2492280"/>
            <a:ext cx="345780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Do 10 km može oštetiti plućno tkivo i biljke.Od 10-40 km upija UV zrake iz Sunca.Kloro-fluoro- ugljici smanjuju ozon, to je uočeno 1974. 1987. je sastanak u Montrealu.—Objasniti ujaku nastanak O</a:t>
            </a:r>
            <a:r>
              <a:rPr b="0" i="1" lang="hr-HR" sz="1800" spc="-1" strike="noStrike" baseline="-25000">
                <a:solidFill>
                  <a:srgbClr val="ffffff"/>
                </a:solidFill>
                <a:latin typeface="Arial"/>
              </a:rPr>
              <a:t>3.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, koji samo zna da je O kisik.__ Strip --.Sunce dijeli molekulu O</a:t>
            </a:r>
            <a:r>
              <a:rPr b="0" i="1" lang="hr-HR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 na 2  atoma O. Atomi O se vežu s postojećim O</a:t>
            </a:r>
            <a:r>
              <a:rPr b="0" i="1" lang="hr-HR" sz="1800" spc="-1" strike="noStrike" baseline="-25000">
                <a:solidFill>
                  <a:srgbClr val="ffffff"/>
                </a:solidFill>
                <a:latin typeface="Arial"/>
              </a:rPr>
              <a:t>2. 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i tvore O</a:t>
            </a:r>
            <a:r>
              <a:rPr b="0" i="1" lang="hr-HR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.Sunce ne sudjeluje u procesu stvaranja, nego samo u procesu cijepanja molekule O</a:t>
            </a:r>
            <a:r>
              <a:rPr b="0" i="1" lang="hr-HR" sz="1800" spc="-1" strike="noStrike" baseline="-25000">
                <a:solidFill>
                  <a:srgbClr val="ffffff"/>
                </a:solidFill>
                <a:latin typeface="Arial"/>
              </a:rPr>
              <a:t>2.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659480" y="6093000"/>
            <a:ext cx="43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--Ujače, O je čestica kisika a broj uvećava količinu čestica u skupin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itanja iz prirodoslovlj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36160" y="24922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Prirodoslovna cjel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900000" y="3500280"/>
            <a:ext cx="40338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 vrijeme grmljavine se javlja “loš” oz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47600" y="4292640"/>
            <a:ext cx="390852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imjena:--Bez ozonskog omotača b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Ljudi obolijevali od raka kož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187280" y="5229360"/>
            <a:ext cx="3970440" cy="916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nanstvena nesigurnost za CFC daje pravo da se ne poduzimaju nikakve mjere.—Odgovor je 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292720" y="2997360"/>
            <a:ext cx="385128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zultati prirodoslovne pismenosti u Hrvatskoj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6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jes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78280" y="2368440"/>
            <a:ext cx="788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udjelovalo 57 zemalja.Uspjeh hrvatskih učenika je iznad prosjeka.2006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e sudjelovalo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5209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učenika. –Učenici koji posjeduju više od 11 knjig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spješniji su od učenika koji imaju do 10 knjiga.Značajni uspjeh postižu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oji imaju više od 100 knjiga.-Najviši stupanj obrazovanja roditelja najmanj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idonosi učenikovom uspjehu.Djeca roditelja sa srednjom stručno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premom, postižu bolje rezultate od djece roditelja s osnovnom školo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ljučne riječi: OECD PISA, Hrvatska, hrvatske regij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258920" y="450864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aši najbolji učenic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Iz www.skolica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258920" y="2492280"/>
            <a:ext cx="6913440" cy="2037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Mladen Borovina, učenik Gimnazije A. Mohorovičića u Rijec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Franka Tretinjak , učenica 3. r. XV. Gimnazije u Zagrebu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Nikolina Ukalović,učenica 3. r. II. Gimnazije u Zagrebu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Tin Deranja, učenik 3.r. XV. Gimnazije (MIOC) u Zagrebu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 u="sng">
                <a:solidFill>
                  <a:srgbClr val="ffffff"/>
                </a:solidFill>
                <a:uFillTx/>
                <a:latin typeface="Arial"/>
              </a:rPr>
              <a:t>Prema, Jutarnji list 2. 01. 2008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ajnovija-PISA 201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Težište na matematičkoj pismenosti, financijska pismenost mladih</a:t>
            </a:r>
            <a:r>
              <a:rPr b="0" lang="hr-HR" sz="2800" spc="-1" strike="noStrike">
                <a:solidFill>
                  <a:srgbClr val="ff0000"/>
                </a:solidFill>
                <a:latin typeface="Arial"/>
              </a:rPr>
              <a:t>.—Fin. pis. Je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ff0000"/>
                </a:solidFill>
                <a:latin typeface="Arial"/>
              </a:rPr>
              <a:t>razumijevanje i poznavanje financijskih koncepata i vješti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Mladi se  moraju uključivati u elektroničko bankarstvo, cijene proizvoda, dionice, određivati prioritet kod plaćanja i kupov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Upoznavanje s rizicima, računanje na nesigurne prilike, bolest starost i sličn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Osobnu odgovornost stalno pojačavat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Rasponi financijskih usluga i proizvo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b7"/>
                </a:solidFill>
                <a:latin typeface="Arial Black"/>
              </a:rPr>
              <a:t>Primjeri iz PISA 2012_Lis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PIN…Lisa je dobila PIN, što treba učiniti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A) Napisani PIN spremiti u novčani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B) Reći PIN svojim prijateljica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C) Napisati PIN na poleđini kart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D) Zapamtiti P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Najbolje je D) , a može poslužiti i 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b7"/>
                </a:solidFill>
                <a:latin typeface="Arial Black"/>
              </a:rPr>
              <a:t>Primjeri iz PISA 2012-Natash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7720" y="1916280"/>
            <a:ext cx="755028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Natasha radi u restoranu 3 večeri , svakog tjedna.Radi 4 h svaku večer i zarađuje 10 zeda po satu.Natasha zarađuje 80 zeda sa savjetima,svaki tjedan.Uštedi polovicu od ukupnog iznosa svakog tjedna. Želi uštedjeti 600 zeda za odmor. Koliko će tjedana štedjeti? </a:t>
            </a: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Rješenje.A) Za 4 h će zaraditi 4x10=40.B) Za 3 večeri će zaraditi 3x40=120.C) Ukupno tjedno je 12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+</a:t>
            </a:r>
            <a:r>
              <a:rPr b="0" lang="hr-HR" sz="2400" spc="-1" strike="noStrike">
                <a:solidFill>
                  <a:srgbClr val="ff0000"/>
                </a:solidFill>
                <a:latin typeface="Arial"/>
                <a:ea typeface="Arial"/>
              </a:rPr>
              <a:t>80=200.Pola od 200 je 100. D) 60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r>
              <a:rPr b="0" lang="hr-HR" sz="2400" spc="-1" strike="noStrike">
                <a:solidFill>
                  <a:srgbClr val="ff0000"/>
                </a:solidFill>
                <a:latin typeface="Arial"/>
                <a:ea typeface="Arial"/>
              </a:rPr>
              <a:t>100=6. E) Natasha će štedjeti 6 tjeda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6824520" y="280656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367240" y="4076280"/>
            <a:ext cx="3029040" cy="2019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imjeri PISA 2012-priorite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Claire i njezini prijatelji su radili 2 mjeseca. Nemaju nikakve uštede. Plaćeni su mjesečno i upravo su dobili plaće. Napravili su popis što će učinit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Dovesti kabelsku TV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Platiti stanarin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Kupiti namještaj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"/>
              </a:rPr>
              <a:t>Odgovor: 1. Platiti stanarinu. 2.Kupiti namještaj. 3. Dovesti kabelsk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dručj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36680" y="1904760"/>
            <a:ext cx="3908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Čitanje i razumijevanje tek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3913200" cy="28605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1187280" y="5300640"/>
            <a:ext cx="25815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Čitalačka pismenost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547640" y="26028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508720" y="2997360"/>
            <a:ext cx="1747800" cy="1693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364000" y="220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imjeri PISA 2012-rajči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Na tržnici se prodaju slobodne i upakirane rajčice.Cijena slobodnih rajčica je 2.75 zeda po kg, a upakiranih po 10 kg je 22 zeda. Koja je cijena povoljnija za kupc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Povoljnija je cijena pakiranih, jer 1 kg stoji 2.2 zeda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6551640" y="5194440"/>
            <a:ext cx="280656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zvori i literatur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ff0000"/>
                </a:solidFill>
                <a:latin typeface="Arial"/>
              </a:rPr>
              <a:t>www.pisa.oecd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www.pisa.h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ff0000"/>
                </a:solidFill>
                <a:latin typeface="Arial"/>
              </a:rPr>
              <a:t>www.skolica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www.google.h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ff0000"/>
                </a:solidFill>
                <a:latin typeface="Arial"/>
              </a:rPr>
              <a:t>Dubravka  Glasnović  Gracin:Miš,br.39. 2007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ff0000"/>
                </a:solidFill>
                <a:latin typeface="Arial"/>
              </a:rPr>
              <a:t>Željka Milin Šipuš:Miš,br. 20. 200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ff0000"/>
                </a:solidFill>
                <a:latin typeface="Arial"/>
              </a:rPr>
              <a:t>Školske novine br.25-26- 4. IX.201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ff0000"/>
                </a:solidFill>
                <a:latin typeface="Arial"/>
              </a:rPr>
              <a:t>Jutarnji list 2. 1. 2008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ff0000"/>
                </a:solidFill>
                <a:latin typeface="Arial"/>
              </a:rPr>
              <a:t>Različite TV i radio emisij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raj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2590920" y="3105000"/>
            <a:ext cx="4429080" cy="10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vala na pažnji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atematička pismenos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40592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ematička pismenost je definirana kao prepoznavanje matematičkih proble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3141720"/>
            <a:ext cx="3024360" cy="22701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00720" y="2371680"/>
            <a:ext cx="381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tvrđene su 3 podvrst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I Matematički sadrža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e definiran na opće matematičke pojmove na kojima se zasniva matematičko mišljenje (vjerojatnost, prostor,oblici,logičko zaključivanj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II Matematički procesi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 definirani općim matematičkim kompetencijama.Korištenje matematičkog jezika, modeliranja i vještina rješavanja problem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III Matematički kontekst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 primjena matematike na određene situacije 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rištenje matematičke pismenosti za pojedinca i društvenu zajednicu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Primjeri zadataka iz matematik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11280" y="3068640"/>
            <a:ext cx="678168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Rasvjeta-proces matematiza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Arial"/>
              </a:rPr>
              <a:t>Park –mjesto svjetiljk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Arial"/>
              </a:rPr>
              <a:t>-svjetiljka unutar troku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Arial"/>
              </a:rPr>
              <a:t>-središte trokutu opisane kružn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Arial"/>
              </a:rPr>
              <a:t>-konstrukcija središta pomoću simetrala stranica i opisane kružni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Arial"/>
              </a:rPr>
              <a:t>-analiz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hr-HR" sz="1600" spc="-1" strike="noStrike">
                <a:solidFill>
                  <a:srgbClr val="ffffff"/>
                </a:solidFill>
                <a:latin typeface="Arial"/>
              </a:rPr>
              <a:t>tupokutni trokut, izv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hr-HR" sz="1600" spc="-1" strike="noStrike">
                <a:solidFill>
                  <a:srgbClr val="ffffff"/>
                </a:solidFill>
                <a:latin typeface="Arial"/>
              </a:rPr>
              <a:t>pravokutni, u polovištu hipotenuz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hr-HR" sz="1600" spc="-1" strike="noStrike">
                <a:solidFill>
                  <a:srgbClr val="ffffff"/>
                </a:solidFill>
                <a:latin typeface="Arial"/>
              </a:rPr>
              <a:t>.jednakostranični, idealni par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64000" y="2565360"/>
            <a:ext cx="3600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b7"/>
                </a:solidFill>
                <a:latin typeface="Arial Black"/>
              </a:rPr>
              <a:t>Proces matematizacije ili matematičko modeliranj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Postavljanje problema u stvarnost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.—Svjetl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treba postaviti na pravo mjes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Prepoznavanje matematičkih koncepata.—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vjetiljka u središtu opisane kružn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Plan rješavanja matematičkim alatima.—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tvarnost nestaje, nastupa matematik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Rješavanje problema.—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Konstrukcija središta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opisane kružnice, pomoću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imetrala stran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Značenje rješenja u stvarnosti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.—Analiza o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trokutima i povratak  na 1. kora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b7"/>
                </a:solidFill>
                <a:latin typeface="Arial Black"/>
              </a:rPr>
              <a:t>Content-context-competencies~”3C”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Matematička pismenost u svojoj teoriji objedinjuje sadržaj, kontekst i sposobno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0000"/>
                </a:solidFill>
                <a:latin typeface="Arial"/>
              </a:rPr>
              <a:t>Content-sadržaj potreban za rješavanje problema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.—Središte opisane kružni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0000"/>
                </a:solidFill>
                <a:latin typeface="Arial"/>
              </a:rPr>
              <a:t>Context-kontekst je način na koji je opisana situacija u matematičkom zadatku.—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Svjetlo u park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0000"/>
                </a:solidFill>
                <a:latin typeface="Arial"/>
              </a:rPr>
              <a:t>Competencies-sposobnosti učenika da riješe zadatak.—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Znati konstruirati središte opisane kružn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imjeri zadataka iz matematik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vršina kontinenta-Procijenite površinu Antarktika. Napišite račun i objasnite kako ste do te procjene došli?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dgovor.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ao  površine nepravilnih oblika u fizici. Procjene iznose između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12x10</a:t>
            </a:r>
            <a:r>
              <a:rPr b="0" i="1" lang="en-US" sz="18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 i 18x10</a:t>
            </a:r>
            <a:r>
              <a:rPr b="0" i="1" lang="en-US" sz="1800" spc="-1" strike="noStrike" baseline="30000">
                <a:solidFill>
                  <a:srgbClr val="ff0000"/>
                </a:solidFill>
                <a:latin typeface="Arial"/>
              </a:rPr>
              <a:t>6.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km</a:t>
            </a:r>
            <a:r>
              <a:rPr b="0" i="1" lang="en-US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780000" y="2852640"/>
            <a:ext cx="452412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1:32:24Z</dcterms:created>
  <dc:creator>josip</dc:creator>
  <dc:description/>
  <dc:language>en-US</dc:language>
  <cp:lastModifiedBy>josip</cp:lastModifiedBy>
  <dcterms:modified xsi:type="dcterms:W3CDTF">2013-09-13T18:30:10Z</dcterms:modified>
  <cp:revision>50</cp:revision>
  <dc:subject/>
  <dc:title>Analiza PISA testiranja</dc:title>
</cp:coreProperties>
</file>