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72020-3E86-490F-9333-80A64B0FF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0BB5D-F982-4245-938C-F226F5022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61A87-0BF7-4BDB-9FD5-B358DAC0C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88B56-2D66-45CB-8AEA-5D3A88623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2943A-FFF3-439B-8C96-4F124E86D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1560C-5544-4F16-9A78-2039E6FD4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C8A7D-91E9-4A7D-9ED6-A6EB7CFFF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0AECD-B115-4D57-BE35-D414B8228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FB4EA-C033-40F9-A9E2-4BA9D1D24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A1CA9-6803-4BC5-B63E-DE39368CA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F7065-DA71-49D0-91C4-9ACCE36E2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80FF8-5009-428E-8B5F-AAFAA8CEA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91330-0A98-4274-9CB2-779A55D0F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4EEB2-5133-47A4-860D-B7068806A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19C89-121B-4AF1-AD37-1F50E5C70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BA4F5-654A-45D3-8703-100B64CFC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510FB-E17A-4FF6-8A0A-124F1317F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4EE78-6CFE-4E11-A700-87E3D4684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3C15E-4BCE-4FDA-8D3C-B3CBF6D80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43295-C47B-467D-B8BD-957EF1750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0B536-C43C-41DD-B968-EE1E01076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A925B-A3B7-4DB7-9BCD-437BCDF2C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C2F95-35F3-4F9F-9716-6E0114F5E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ADDA9-3D9F-4A2B-AC7A-38C35C618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A2445-9BCA-4C17-8568-3F3D3589B04D}" type="slidenum">
              <a:rPr b="0" lang="hr-H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6A14F-CC74-424C-8F34-FE018C18FD9C}" type="slidenum">
              <a:rPr b="0" lang="hr-H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6300" spc="-1" strike="noStrike">
                <a:solidFill>
                  <a:srgbClr val="ffffff"/>
                </a:solidFill>
                <a:latin typeface="Comic Sans MS"/>
              </a:rPr>
              <a:t>Sličnost u OŠ</a:t>
            </a:r>
            <a:endParaRPr b="0" lang="en-US" sz="6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                       </a:t>
            </a: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Branko Goleš, pro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200" spc="-1" strike="noStrike">
                <a:solidFill>
                  <a:srgbClr val="ffffff"/>
                </a:solidFill>
                <a:latin typeface="Comic Sans MS"/>
              </a:rPr>
              <a:t>4. nastavni s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omic Sans MS"/>
              </a:rPr>
              <a:t>Pojam sličnosti (uvod)</a:t>
            </a:r>
            <a:br>
              <a:rPr sz="3200"/>
            </a:br>
            <a:r>
              <a:rPr b="1" lang="hr-HR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Priča o modelu kaputa:</a:t>
            </a:r>
            <a:br>
              <a:rPr sz="3200"/>
            </a:b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  a) ista veličina, druga boja</a:t>
            </a:r>
            <a:br>
              <a:rPr sz="3200"/>
            </a:b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  b) različita veličina, ista boja</a:t>
            </a:r>
            <a:br>
              <a:rPr sz="3200"/>
            </a:b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Likovna kultura:</a:t>
            </a:r>
            <a:br>
              <a:rPr sz="3200"/>
            </a:b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  - fenjer na stolcu i s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Pokazivanje taktike igračima na pokaznoj ploči (posebno košarka)</a:t>
            </a:r>
            <a:br>
              <a:rPr sz="3200"/>
            </a:b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  - kakva mora biti ploča po obliku?</a:t>
            </a:r>
            <a:br>
              <a:rPr sz="3200"/>
            </a:b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    (skicirati!)</a:t>
            </a:r>
            <a:br>
              <a:rPr sz="3200"/>
            </a:b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Gledanje kroz mikroskop</a:t>
            </a:r>
            <a:br>
              <a:rPr sz="3200"/>
            </a:b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Uvećavanje slike u foto studij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Uvećavanje ili umanjivanje slike na fotokopirnom stroju (što se događa?)</a:t>
            </a:r>
            <a:br>
              <a:rPr sz="3200"/>
            </a:b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Idejna rješenja i nacrti stanova, kuća, zgrada, dvorana… arhitekti! (kakav je odnos te slike u odnosu na dimenzije buduće stvarne građevin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200" spc="-1" strike="noStrike">
                <a:solidFill>
                  <a:srgbClr val="ffffff"/>
                </a:solidFill>
                <a:latin typeface="Comic Sans MS"/>
              </a:rPr>
              <a:t>O Bubi!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Legendarni automobil ‘Buba’</a:t>
            </a:r>
            <a:br>
              <a:rPr sz="3200"/>
            </a:b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  - prepoznajemo li ga?</a:t>
            </a:r>
            <a:br>
              <a:rPr sz="3200"/>
            </a:b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  - po čemu?</a:t>
            </a:r>
            <a:br>
              <a:rPr sz="3200"/>
            </a:b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  - koliko je puta umanjen?</a:t>
            </a:r>
            <a:br>
              <a:rPr sz="3200"/>
            </a:b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Stvarne dimenzije Bube su:</a:t>
            </a:r>
            <a:br>
              <a:rPr sz="3200"/>
            </a:b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  - dužina 4.129 m = 412.9 cm</a:t>
            </a:r>
            <a:br>
              <a:rPr sz="3200"/>
            </a:b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  - širina 1.721 m = 172.1 cm</a:t>
            </a:r>
            <a:br>
              <a:rPr sz="3200"/>
            </a:b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  - visina 1.498 m = 149.8 c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200" spc="-1" strike="noStrike">
                <a:solidFill>
                  <a:srgbClr val="ffffff"/>
                </a:solidFill>
                <a:latin typeface="Comic Sans MS"/>
              </a:rPr>
              <a:t>O Bubi!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Znamo li duljinu autića (izmjeriti!), kako možemo otkriti njegovu širinu, odnosno visinu?</a:t>
            </a:r>
            <a:br>
              <a:rPr sz="3200"/>
            </a:br>
            <a:br>
              <a:rPr sz="3200"/>
            </a:b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412.9 cm : 16.8 cm = 24.58 ≈ 25</a:t>
            </a:r>
            <a:br>
              <a:rPr sz="3200"/>
            </a:b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172.1 cm  : 24.58 = 7.001 cm - širina 149.8 cm  : 24.58 = 6.1 cm - visina</a:t>
            </a:r>
            <a:br>
              <a:rPr sz="3200"/>
            </a:b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(provjeriti izračune mjerenjem!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Priča o nogometnom igralištu, povijesti nogometa i 10 yd</a:t>
            </a:r>
            <a:br>
              <a:rPr sz="3200"/>
            </a:b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  - rad u paru i frontalno</a:t>
            </a:r>
            <a:br>
              <a:rPr sz="3200"/>
            </a:b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  - kolike su dimenzije nacrtanog igrališta?</a:t>
            </a:r>
            <a:br>
              <a:rPr sz="3200"/>
            </a:b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  - polazimo od središnjeg kruga (?) i dobivamo mjerilo cca 641.4 :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200" spc="-1" strike="noStrike">
                <a:solidFill>
                  <a:srgbClr val="ffffff"/>
                </a:solidFill>
                <a:latin typeface="Comic Sans MS"/>
              </a:rPr>
              <a:t>Važna napomena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Kroz sve navedene primjere cijelo vrijeme ističemo ISTI OBLIK, tj. iste odgovarajuće kutove, te PROPORCIONALNOST duljina odgovarajućih dužin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200" spc="-1" strike="noStrike">
                <a:solidFill>
                  <a:srgbClr val="ffffff"/>
                </a:solidFill>
                <a:latin typeface="Comic Sans MS"/>
              </a:rPr>
              <a:t>Domaća zadaća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Zadatak. </a:t>
            </a:r>
            <a:br>
              <a:rPr sz="3200"/>
            </a:b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Mjerenje i uspoređivanje elemenata (kutova i stranica) likova sa slik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200" spc="-1" strike="noStrike">
                <a:solidFill>
                  <a:srgbClr val="ffffff"/>
                </a:solidFill>
                <a:latin typeface="Comic Sans MS"/>
              </a:rPr>
              <a:t>5. nastavni s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Potreban je detaljan komentar domaće zadać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Za provjeru usvojenosti temeljnih stvari može nam poslužiti forma kviza. Pogledajmo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200" spc="-1" strike="noStrike">
                <a:solidFill>
                  <a:srgbClr val="ffffff"/>
                </a:solidFill>
                <a:latin typeface="Comic Sans MS"/>
              </a:rPr>
              <a:t>U bilježnicu obavezno zapisati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Definiciju sličnih liko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Naglasiti važna svojstva sličnih likova:</a:t>
            </a:r>
            <a:br>
              <a:rPr sz="3200"/>
            </a:b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  - jednakost odgovarajućih kutova</a:t>
            </a:r>
            <a:br>
              <a:rPr sz="3200"/>
            </a:b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  - proporcionalnost duljina odgovarajućih dužina (stranica)</a:t>
            </a:r>
            <a:br>
              <a:rPr sz="3200"/>
            </a:b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  - uvesti pojam omjera ili koeficijenta sličnosti (pomoć dvaju ggb uradak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200" spc="-1" strike="noStrike">
                <a:solidFill>
                  <a:srgbClr val="ffffff"/>
                </a:solidFill>
                <a:latin typeface="Comic Sans MS"/>
              </a:rPr>
              <a:t>Trajno znanje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Kvalitativno </a:t>
            </a:r>
            <a:br>
              <a:rPr sz="3200"/>
            </a:b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  - isti oblik</a:t>
            </a:r>
            <a:br>
              <a:rPr sz="3200"/>
            </a:b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Kvantitativno </a:t>
            </a:r>
            <a:br>
              <a:rPr sz="3200"/>
            </a:b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  - kutovi jednake veličine</a:t>
            </a:r>
            <a:br>
              <a:rPr sz="3200"/>
            </a:b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  - proporcionalne duljine duž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Drugi dio sata možemo raditi u paru ili u grupama mali projekt pod nazivom ‘Stan’ ili kvalitetno pripremiti teren za individualno rješavanje zadać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Promotrimo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79246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Ili možemo zadati neki nepravilan lik (mnogokut) u kvadratnoj mreži i tražiti učenike da:</a:t>
            </a:r>
            <a:br>
              <a:rPr sz="3200"/>
            </a:b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  a) nacrtaju 2 puta manji lik od zadanoga</a:t>
            </a:r>
            <a:br>
              <a:rPr sz="3200"/>
            </a:b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  b) nacrtaju 3 puta veći lik od nacrtanoga (vidi primjer!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200" spc="-1" strike="noStrike">
                <a:solidFill>
                  <a:srgbClr val="ffffff"/>
                </a:solidFill>
                <a:latin typeface="Comic Sans MS"/>
              </a:rPr>
              <a:t>Domaća zadaća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33160" y="1905120"/>
            <a:ext cx="79246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Zad.1. Riješiti zadatak o stanu!!!</a:t>
            </a:r>
            <a:br>
              <a:rPr sz="3200"/>
            </a:b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Zad.2. Nacrtati dva slična pravokutnika.</a:t>
            </a:r>
            <a:br>
              <a:rPr sz="3200"/>
            </a:b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Zad.3. Nacrtati dva pravokutnika koji nisu međusobno sličn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horz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200" spc="-1" strike="noStrike">
                <a:solidFill>
                  <a:srgbClr val="ffffff"/>
                </a:solidFill>
                <a:latin typeface="Comic Sans MS"/>
              </a:rPr>
              <a:t>6. nastavni s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Važno je opet pažljivo prokomentirati domaću zadaću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Na osnovi svega pokazanog uvodimo pojam sličnosti trokuta kroz vrlo zorne i kvalitetne uratke u Geogebr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horz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Slijedi vrlo lijepa prezentacija o Talesu i Keopsovoj piramidi (korelacija sa povijesti, geografijom…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Rješavanje osnovnih zadataka o sličnosti trokuta koristeći omjer duljina odgovarajućih stranica (zapis u obliku proporcije ili pomoću ‘k’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200" spc="-1" strike="noStrike">
                <a:solidFill>
                  <a:srgbClr val="ffffff"/>
                </a:solidFill>
                <a:latin typeface="Comic Sans MS"/>
              </a:rPr>
              <a:t>Domaća zadaća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Zad.1. Nacrtati dva slična paralelogram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Zad.2. Nacrtati umanjeni tlocrt stana u mjerilu 2 :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Dva zadatka iz udžbenika </a:t>
            </a:r>
            <a:br>
              <a:rPr sz="3200"/>
            </a:b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(zadano npr. a, b, a’, c’ i treba  </a:t>
            </a:r>
            <a:br>
              <a:rPr sz="3200"/>
            </a:b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izračunati duljine ostalih stranica dvaju sličnih trokuta!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horz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200" spc="-1" strike="noStrike">
                <a:solidFill>
                  <a:srgbClr val="ffffff"/>
                </a:solidFill>
                <a:latin typeface="Comic Sans MS"/>
              </a:rPr>
              <a:t>7. nastavni s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Ispitati dvoje učenika usvojenost dosadašnjeg gradiva o sličnosti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Vježbanje raznih zadataka vezanih uz ovo gradivo. Miješati zadatke gdje se koriste ‘odresci’ sa onima gdje moramo upotrijebiti baš sličnost trokuta (uočiti na slici dužine koje NISU stranice trokuta!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horz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200" spc="-1" strike="noStrike">
                <a:solidFill>
                  <a:srgbClr val="ffffff"/>
                </a:solidFill>
                <a:latin typeface="Comic Sans MS"/>
              </a:rPr>
              <a:t>Domaća zadaća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Uz nekoliko standardnih zadataka zadati im da PRECIZNO nacrtaju trokut ABC s kutovima veličine</a:t>
            </a:r>
            <a:br>
              <a:rPr sz="3200"/>
            </a:br>
            <a:r>
              <a:rPr b="0" lang="el-GR" sz="3200" spc="-1" strike="noStrike">
                <a:solidFill>
                  <a:srgbClr val="000000"/>
                </a:solidFill>
                <a:latin typeface="Comic Sans MS"/>
              </a:rPr>
              <a:t>α</a:t>
            </a: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 = 65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°</a:t>
            </a: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  i  </a:t>
            </a:r>
            <a:r>
              <a:rPr b="0" lang="el-GR" sz="3200" spc="-1" strike="noStrike">
                <a:solidFill>
                  <a:srgbClr val="000000"/>
                </a:solidFill>
                <a:latin typeface="Comic Sans MS"/>
              </a:rPr>
              <a:t>β</a:t>
            </a: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 = 75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°</a:t>
            </a: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, te mu IZMJERE veličinu trećeg kuta i duljine svih triju stranica (važna predradnja za uvođenje K – K poučka o sličnosti trokuta)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horz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200" spc="-1" strike="noStrike">
                <a:solidFill>
                  <a:srgbClr val="ffffff"/>
                </a:solidFill>
                <a:latin typeface="Comic Sans MS"/>
              </a:rPr>
              <a:t>8. nastavni s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Prisjetiti učenike na sličnost dvaju mnogokuta i uvjete koji moraju biti zadovoljeni da bismo uopće utvrdili postojanje sličnosti (provjera jednakosti veličina SVIH odgovarajućih kutova, te proporcionalnost duljina SVIH odgovarajućih stranica! Slika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horz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Vrijedi li ista logika i za najmanje mnogokute - trokute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Vrijeme je da otkrijemo i poučak K-K o sličnosti trokuta (na osnovi zadaće radimo po materijalu!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200" spc="-1" strike="noStrike">
                <a:solidFill>
                  <a:srgbClr val="ffffff"/>
                </a:solidFill>
                <a:latin typeface="Comic Sans MS"/>
              </a:rPr>
              <a:t>Kataloške teme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1. Dijeljenje dužine na jednake dijelove</a:t>
            </a:r>
            <a:br>
              <a:rPr sz="3200"/>
            </a:b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   - ključni pojam – omjer duljina dviju</a:t>
            </a:r>
            <a:br>
              <a:rPr sz="3200"/>
            </a:b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     dužina</a:t>
            </a:r>
            <a:br>
              <a:rPr sz="3200"/>
            </a:b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   - obrazovna postignuća:</a:t>
            </a:r>
            <a:br>
              <a:rPr sz="3200"/>
            </a:b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         • omjer dužina</a:t>
            </a:r>
            <a:br>
              <a:rPr sz="3200"/>
            </a:b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         • proporcionalnost dužina</a:t>
            </a:r>
            <a:br>
              <a:rPr sz="3200"/>
            </a:b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         • Talesov pouča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horz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200" spc="-1" strike="noStrike">
                <a:solidFill>
                  <a:srgbClr val="ffffff"/>
                </a:solidFill>
                <a:latin typeface="Comic Sans MS"/>
              </a:rPr>
              <a:t>9. nastavni s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Zadaci, zadaci… vezani uz poučak K-K o sličnosti trokuta (naglasak je na dokazivanju sličnosti trokuta prije pisanja proporcije i samog izračunavanja traženih veličina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horz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200" spc="-1" strike="noStrike">
                <a:solidFill>
                  <a:srgbClr val="ffffff"/>
                </a:solidFill>
                <a:latin typeface="Comic Sans MS"/>
              </a:rPr>
              <a:t>10. nastavni s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33160" y="1828800"/>
            <a:ext cx="792468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Otkrivanje S – S – S poučka o sličnosti trokuta radom u parovima (vidi materijal!) i rješavanje prikladnih zadatak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4"/>
          <p:cNvSpPr/>
          <p:nvPr/>
        </p:nvSpPr>
        <p:spPr>
          <a:xfrm>
            <a:off x="3745440" y="324648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9. nastavni s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horz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200" spc="-1" strike="noStrike">
                <a:solidFill>
                  <a:srgbClr val="ffffff"/>
                </a:solidFill>
                <a:latin typeface="Comic Sans MS"/>
              </a:rPr>
              <a:t>11. nastavni s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Otkrivanje S – K – S poučka o sličnosti trokuta radom u parovima (vidi materijal!) i rješavanje prikladnih zadataka. Ali, sat započeti sa 3. zad. iz materijala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horz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200" spc="-1" strike="noStrike">
                <a:solidFill>
                  <a:srgbClr val="ffffff"/>
                </a:solidFill>
                <a:latin typeface="Comic Sans MS"/>
              </a:rPr>
              <a:t>12. nastavni s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33160" y="2057400"/>
            <a:ext cx="792468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Rješavanje zadataka vezanih uz primjenu sličnosti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horz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200" spc="-1" strike="noStrike">
                <a:solidFill>
                  <a:srgbClr val="ffffff"/>
                </a:solidFill>
                <a:latin typeface="Comic Sans MS"/>
              </a:rPr>
              <a:t>13. i 14. nastavni s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33160" y="1980720"/>
            <a:ext cx="792468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Priča o opsezima i površinama sličnih (likova) trokuta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U uvodu se vratiti na probleme pri rješavanju zadatka sa stanom (problem preračunavanja površine!!!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horz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Comic Sans MS"/>
              </a:rPr>
              <a:t>Doista ste bili strpljivi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Comic Sans MS"/>
              </a:rPr>
              <a:t>Hvala Vam !!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Comic Sans MS"/>
              </a:rPr>
              <a:t>Moja adresa:</a:t>
            </a:r>
            <a:br>
              <a:rPr sz="4000"/>
            </a:br>
            <a:br>
              <a:rPr sz="4000"/>
            </a:br>
            <a:r>
              <a:rPr b="0" lang="hr-HR" sz="40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hr-HR" sz="4000" spc="-1" strike="noStrike">
                <a:solidFill>
                  <a:srgbClr val="ff3300"/>
                </a:solidFill>
                <a:latin typeface="Comic Sans MS"/>
              </a:rPr>
              <a:t>brankogoles@inet.h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200" spc="-1" strike="noStrike">
                <a:solidFill>
                  <a:srgbClr val="ffffff"/>
                </a:solidFill>
                <a:latin typeface="Comic Sans MS"/>
              </a:rPr>
              <a:t>Kataloške teme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2. Sličnost trokuta i primjena</a:t>
            </a:r>
            <a:br>
              <a:rPr sz="3200"/>
            </a:b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    </a:t>
            </a:r>
            <a:br>
              <a:rPr sz="3200"/>
            </a:b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      - ključni pojmovi:</a:t>
            </a:r>
            <a:br>
              <a:rPr sz="3200"/>
            </a:b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         • slični trokuti</a:t>
            </a:r>
            <a:br>
              <a:rPr sz="3200"/>
            </a:b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         • koeficijent sličnosti</a:t>
            </a:r>
            <a:br>
              <a:rPr sz="3200"/>
            </a:br>
            <a:br>
              <a:rPr sz="3200"/>
            </a:b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      - novi simbol: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~</a:t>
            </a: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 (biti sliča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Obrazovna postignuća:</a:t>
            </a:r>
            <a:br>
              <a:rPr sz="3200"/>
            </a:b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   - pojam sličnosti trokuta</a:t>
            </a:r>
            <a:br>
              <a:rPr sz="3200"/>
            </a:b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   - poučci o sličnosti trokuta</a:t>
            </a:r>
            <a:br>
              <a:rPr sz="3200"/>
            </a:b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   - izračunavanje duljina stranica </a:t>
            </a:r>
            <a:br>
              <a:rPr sz="3200"/>
            </a:b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     sličnog trokuta</a:t>
            </a:r>
            <a:br>
              <a:rPr sz="3200"/>
            </a:b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   - izračunavanje opsega i površine</a:t>
            </a:r>
            <a:br>
              <a:rPr sz="3200"/>
            </a:b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     sličnog troku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200" spc="-1" strike="noStrike">
                <a:solidFill>
                  <a:srgbClr val="ffffff"/>
                </a:solidFill>
                <a:latin typeface="Comic Sans MS"/>
              </a:rPr>
              <a:t>1. nastavni s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O dijeljenju dužine na jednake dijelove</a:t>
            </a:r>
            <a:br>
              <a:rPr sz="3200"/>
            </a:b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  - kako geometrijski precizno odrediti stranicu jednakostraničnog trokuta opsega npr. 17 cm?</a:t>
            </a:r>
            <a:br>
              <a:rPr sz="3200"/>
            </a:b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  - slijedi demonstracija rješenja i objašnjenje istoga (N.Grgić, Z.Lobo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200" spc="-1" strike="noStrike">
                <a:solidFill>
                  <a:srgbClr val="ffffff"/>
                </a:solidFill>
                <a:latin typeface="Comic Sans MS"/>
              </a:rPr>
              <a:t>2. nastavni s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O dijeljenju dužine u zadanom omjeru</a:t>
            </a:r>
            <a:br>
              <a:rPr sz="3200"/>
            </a:b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  - na osnovi primjera od prethodnog sata prirodno uvodimo današnju temu (GGB uratci: Niko Grgić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200" spc="-1" strike="noStrike">
                <a:solidFill>
                  <a:srgbClr val="ffffff"/>
                </a:solidFill>
                <a:latin typeface="Comic Sans MS"/>
              </a:rPr>
              <a:t>3. nastavni s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Talesov poučak</a:t>
            </a:r>
            <a:br>
              <a:rPr sz="3200"/>
            </a:b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  - na temelju prethodnog sata i pripadne slike jednostavno (???) dolazimo do iskaza Talesovog poučka o ‘odrescima’ (vidi GGB predložak)</a:t>
            </a:r>
            <a:br>
              <a:rPr sz="3200"/>
            </a:b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  - bitno je naglasiti prijelaz na ‘zadatke’ gdje su zadane stvarne duljine odrezaka, a ne samo omjer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784836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- ispisati sve 4 mogućnosti zapisivanja proporcije (lijevi GGB urada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rješavanje 4 – 5 pripadnih zadataka o odrescima (desni GGB urada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zadavanje DZ (zadaci o odrescim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Branko Goles</cp:lastModifiedBy>
  <dcterms:modified xsi:type="dcterms:W3CDTF">2013-06-25T23:36:47Z</dcterms:modified>
  <cp:revision>3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