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E9E-4A03-4F62-A33D-A1DB02E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0BA-145B-48C9-9C2F-4DF2ECA9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8DC-C668-47FB-8FE9-E6E4E90F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EA9-E4CC-4B5B-A602-D3E1C6AD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9468-7E2F-46FC-8AA7-926E3872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D2E9-738D-47BC-9644-7822C2A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A7C-4FB7-4D20-A4D7-B08A0160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38C-C7F5-411A-9683-E7EC8B3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5E39-7CD8-4AAA-B754-C3DAA9B0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501D-F38B-4F42-BDD2-6A75FCA9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F335-1EE4-495F-84A6-DE002E2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08C-542D-4D65-A775-DBBE2987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C15F-3A42-4AB5-81DD-19F213A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BDD-3060-4A5C-8DC7-901CDA4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EE6C-865B-4B63-A1AB-5D535CF3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8729-E7E9-4416-B046-0D754700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6A1-18D0-438C-9741-6034757D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8E0-4C3A-448A-832F-6E79D9F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6BE-5901-45F1-AF62-AF7DEB0B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BB6-FE7D-4BBA-A83B-85138F6F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467-4B42-4A1C-A5E0-52467A9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AA8-EB55-42C7-8B56-EBC1AC9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E7D-B096-4E81-9779-EE675B5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A82-CDD4-4D31-B3E7-CD8DFE1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340-204C-4BC5-BAE2-AE216C351A0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1CE1-6E18-4503-AEBA-1C2C77E2DCA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24000" y="549360"/>
          <a:ext cx="8569080" cy="4464000"/>
        </p:xfrm>
        <a:graphic>
          <a:graphicData uri="http://schemas.openxmlformats.org/drawingml/2006/table">
            <a:tbl>
              <a:tblPr/>
              <a:tblGrid>
                <a:gridCol w="3311280"/>
                <a:gridCol w="5257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UPITN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ORIJENTACIJSKE N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ine nastavničkog posla (0 – 1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  39 blag s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  79 umjeren s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20 jak s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erećenost poslom u škol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 – 9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– 45 blaga optereć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– 69 umjerena optereć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92 jaka optereć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0B5-F927-4A61-924D-3B4C351D83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8:49:40Z</dcterms:created>
  <dc:creator>Lidija Arambasic</dc:creator>
  <dc:description/>
  <cp:keywords/>
  <dc:language>en-US</dc:language>
  <cp:lastModifiedBy>korisnik</cp:lastModifiedBy>
  <dcterms:modified xsi:type="dcterms:W3CDTF">2013-06-05T20:20:12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11033</vt:lpwstr>
  </property>
</Properties>
</file>