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0C7-9248-4CB9-AA98-71D4BD6D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FA5-6E23-4EEB-9270-7AA7FF8D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3014-331C-42E4-8FE1-A9909A64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15AB-AF8B-4005-94B5-2999B8B8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3AE-7E7B-4401-8100-C83CA5A0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6E16-8647-4E5B-A1A4-64F7F882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1F9A-28D3-4681-B22F-29E6406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F347-AFF2-497F-A459-3950720C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2EE3-7553-4332-AEA6-B71C6F1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C97E-2BE4-405A-B3D2-F6174898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C132-CB81-4A3A-A5A2-39FD21AE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F27A-0664-4385-9887-BCEF4B0A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0328-CA8B-436A-91C2-ADD4B39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41DB-CE25-43AA-841D-FB0EC80E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B7D9-7B07-452D-A48A-246AFA96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07C0-EBEA-4E92-AC10-6FC83E6F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A659-2FCD-4A38-B844-66838D43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293-DD2C-4EB1-AA44-780E5F23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4F1-9F4C-4D86-88DF-9C09792E5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C03-2CC9-4CC0-8A80-B38A396B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CD1-5525-4177-A28A-EF37DEA4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5B41-E218-4E7B-93A7-1F706F08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4C6-C76E-448C-8984-B1465A53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ACB-DCB8-4A69-A219-7939ED5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7229-94F3-4096-8A8C-7C6ED6D1B003}" type="slidenum">
              <a:rPr b="0" lang="hr-H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5A37-131F-4223-BE91-30C9F6EFB198}" type="slidenum">
              <a:rPr b="0" lang="hr-H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Demokratski školar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599840"/>
            <a:ext cx="403848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39625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11" descr="ik-likovni-1%281%29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085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to-class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33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Slika3"/>
          <p:cNvPicPr/>
          <p:nvPr/>
        </p:nvPicPr>
        <p:blipFill>
          <a:blip r:embed="rId3"/>
          <a:stretch/>
        </p:blipFill>
        <p:spPr>
          <a:xfrm>
            <a:off x="457200" y="3809880"/>
            <a:ext cx="4038480" cy="236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mozak"/>
          <p:cNvPicPr/>
          <p:nvPr/>
        </p:nvPicPr>
        <p:blipFill>
          <a:blip r:embed="rId4"/>
          <a:stretch/>
        </p:blipFill>
        <p:spPr>
          <a:xfrm>
            <a:off x="4572000" y="3809880"/>
            <a:ext cx="4114800" cy="2362320"/>
          </a:xfrm>
          <a:prstGeom prst="rect">
            <a:avLst/>
          </a:prstGeom>
          <a:ln w="0">
            <a:noFill/>
          </a:ln>
        </p:spPr>
      </p:pic>
      <p:pic>
        <p:nvPicPr>
          <p:cNvPr id="164" name="NOSA NOSA MICHEL TELO.mp3" descr=""/>
          <p:cNvPicPr/>
          <p:nvPr/>
        </p:nvPicPr>
        <p:blipFill>
          <a:blip r:embed="rId5"/>
          <a:stretch/>
        </p:blipFill>
        <p:spPr>
          <a:xfrm>
            <a:off x="2324160" y="2590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627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Nastavnice su se pripremale za nastavu GOO-a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Sljeme"/>
          <p:cNvPicPr/>
          <p:nvPr/>
        </p:nvPicPr>
        <p:blipFill>
          <a:blip r:embed="rId1"/>
          <a:stretch/>
        </p:blipFill>
        <p:spPr>
          <a:xfrm>
            <a:off x="457200" y="213372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I pripremale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tuhelj"/>
          <p:cNvPicPr/>
          <p:nvPr/>
        </p:nvPicPr>
        <p:blipFill>
          <a:blip r:embed="rId1"/>
          <a:stretch/>
        </p:blipFill>
        <p:spPr>
          <a:xfrm>
            <a:off x="457200" y="1600200"/>
            <a:ext cx="830592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Osmislile su odlazak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u dom umirovljen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županiju i poglavarstv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“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Borovo d.d.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tiska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8" descr="ANd9GcSDA2uYU19T8Rx68GHHUDpcD_MsVTKw394ZJd1sCd2s_v5vWI4L"/>
          <p:cNvPicPr/>
          <p:nvPr/>
        </p:nvPicPr>
        <p:blipFill>
          <a:blip r:embed="rId1"/>
          <a:stretch/>
        </p:blipFill>
        <p:spPr>
          <a:xfrm>
            <a:off x="4648320" y="3962520"/>
            <a:ext cx="4038480" cy="220968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10"/>
          <p:cNvSpPr/>
          <p:nvPr/>
        </p:nvSpPr>
        <p:spPr>
          <a:xfrm>
            <a:off x="155520" y="46080"/>
            <a:ext cx="20862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155520" y="46080"/>
            <a:ext cx="20862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14" descr="SchoolBus-Cartoon7-main_Full_0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te izradu projekta za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najbolju rođendansku proslav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     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modnu reviju od plastičnih boca i 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vreć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9" descr="likm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247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revija"/>
          <p:cNvPicPr/>
          <p:nvPr/>
        </p:nvPicPr>
        <p:blipFill>
          <a:blip r:embed="rId2"/>
          <a:stretch/>
        </p:blipFill>
        <p:spPr>
          <a:xfrm>
            <a:off x="4648320" y="1600200"/>
            <a:ext cx="407664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cc66"/>
                </a:solidFill>
                <a:latin typeface="Arial"/>
              </a:rPr>
              <a:t>Vidimo se na nastavi GOO-a ;)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8" descr="Thats_All_Folks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se donose pravila u nekome društvu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zašto nam je potrebna vlas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7" descr="2j17bz6"/>
          <p:cNvPicPr/>
          <p:nvPr/>
        </p:nvPicPr>
        <p:blipFill>
          <a:blip r:embed="rId1"/>
          <a:stretch/>
        </p:blipFill>
        <p:spPr>
          <a:xfrm>
            <a:off x="4648320" y="1600200"/>
            <a:ext cx="4209840" cy="4572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se pregovar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kontrolirati svoje emocij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9" descr="ANd9GcTAalKtObYAIVnt1i__NT7b2uFyyKd9QbKqNoa3Qlr6qwnue3pZdQ"/>
          <p:cNvPicPr/>
          <p:nvPr/>
        </p:nvPicPr>
        <p:blipFill>
          <a:blip r:embed="rId1"/>
          <a:stretch/>
        </p:blipFill>
        <p:spPr>
          <a:xfrm>
            <a:off x="4648320" y="3962520"/>
            <a:ext cx="4038480" cy="213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sukob"/>
          <p:cNvPicPr/>
          <p:nvPr/>
        </p:nvPicPr>
        <p:blipFill>
          <a:blip r:embed="rId2"/>
          <a:stretch/>
        </p:blipFill>
        <p:spPr>
          <a:xfrm>
            <a:off x="4572000" y="1600200"/>
            <a:ext cx="4114800" cy="22003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39621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su temeljna ljudska prav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su stereotipi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oje su opasnosti internet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9" descr="medi1"/>
          <p:cNvPicPr/>
          <p:nvPr/>
        </p:nvPicPr>
        <p:blipFill>
          <a:blip r:embed="rId1"/>
          <a:stretch/>
        </p:blipFill>
        <p:spPr>
          <a:xfrm>
            <a:off x="457200" y="1219320"/>
            <a:ext cx="4038480" cy="2590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ANd9GcRiyCttg1WNngbpTr92isQrw5-MCNfaCcGAhtewDiuDj9LvtQkj5A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39621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braniti svoje interes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učiniti ako vam se pokvari novi LCD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izabrati najbolje zanimanj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5" name="Picture 9" descr="ANd9GcTMS6GQPCNpzaZOEL_2Et6Di2vAGKXoHu0OpLoPRCm5IfVoyRAXag"/>
          <p:cNvPicPr/>
          <p:nvPr/>
        </p:nvPicPr>
        <p:blipFill>
          <a:blip r:embed="rId1"/>
          <a:stretch/>
        </p:blipFill>
        <p:spPr>
          <a:xfrm>
            <a:off x="45720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Izbor-zanimanja-2"/>
          <p:cNvPicPr/>
          <p:nvPr/>
        </p:nvPicPr>
        <p:blipFill>
          <a:blip r:embed="rId2"/>
          <a:stretch/>
        </p:blipFill>
        <p:spPr>
          <a:xfrm>
            <a:off x="380880" y="3962520"/>
            <a:ext cx="4114800" cy="2457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396216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Verdana"/>
              </a:rPr>
              <a:t>...</a:t>
            </a: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predstaviti  strancima svoj grad i domovinu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je demokracij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ako planirati svoje vrijem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Picture 9" descr="ANd9GcRL0C7lgBBXkEvknfjldngQY0EyoQCVMB90zy3mp3EHswDJg0t0xw"/>
          <p:cNvPicPr/>
          <p:nvPr/>
        </p:nvPicPr>
        <p:blipFill>
          <a:blip r:embed="rId1"/>
          <a:stretch/>
        </p:blipFill>
        <p:spPr>
          <a:xfrm>
            <a:off x="380880" y="16002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ANd9GcTvR74khozzDgjsxsWphIsgifoMYoT-xRvUKpoi7SK11zRUYB6h"/>
          <p:cNvPicPr/>
          <p:nvPr/>
        </p:nvPicPr>
        <p:blipFill>
          <a:blip r:embed="rId2"/>
          <a:stretch/>
        </p:blipFill>
        <p:spPr>
          <a:xfrm>
            <a:off x="457200" y="396252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voditi neku radnu skupinu i rješavati problem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je sloboda govora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9" descr="ANd9GcSiFqs-hjAdiJxrzcrSFG63NdfbL7GjzP09Oe5C7CMBI7mOyVwv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2209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ANd9GcSPii6Pez0cJ8a55_LXCBAB8IgLwdSLBW40nf1nybWsFnjtlVXv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cc66"/>
                </a:solidFill>
                <a:latin typeface="Arial"/>
              </a:rPr>
              <a:t>Znate li .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što je novac i kako ga najbolje koristiti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cc66"/>
                </a:solidFill>
                <a:latin typeface="Verdana"/>
              </a:rPr>
              <a:t>...koliko je važan čist okoliš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39621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8" descr="Karikatura%20Kosanovic"/>
          <p:cNvPicPr/>
          <p:nvPr/>
        </p:nvPicPr>
        <p:blipFill>
          <a:blip r:embed="rId1"/>
          <a:stretch/>
        </p:blipFill>
        <p:spPr>
          <a:xfrm>
            <a:off x="457200" y="3962520"/>
            <a:ext cx="4114800" cy="2219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0" descr="Gran%20Prix%202011"/>
          <p:cNvPicPr/>
          <p:nvPr/>
        </p:nvPicPr>
        <p:blipFill>
          <a:blip r:embed="rId2"/>
          <a:stretch/>
        </p:blipFill>
        <p:spPr>
          <a:xfrm>
            <a:off x="4572000" y="3962520"/>
            <a:ext cx="4114800" cy="22096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31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c66"/>
                </a:solidFill>
                <a:latin typeface="Arial"/>
              </a:rPr>
              <a:t>Odgovore na sva ta pitanja, a i mnoga ovdje nepostavljena..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saznat ćete na satim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GRAĐANSKOG ODGOJ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I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     </a:t>
            </a:r>
            <a:r>
              <a:rPr b="0" lang="hr-HR" sz="3200" spc="-1" strike="noStrike">
                <a:solidFill>
                  <a:srgbClr val="ffcc66"/>
                </a:solidFill>
                <a:latin typeface="Verdana"/>
              </a:rPr>
              <a:t>OBRAZOVAN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10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6:49:25Z</dcterms:created>
  <dc:creator>Barun</dc:creator>
  <dc:description/>
  <dc:language>en-US</dc:language>
  <cp:lastModifiedBy>OŠ S.GLAVAŠEVIĆA</cp:lastModifiedBy>
  <dcterms:modified xsi:type="dcterms:W3CDTF">2012-10-02T09:45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