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B347-A4D9-44F6-8AB1-3FD74D337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EB54-41E8-44BB-A165-6DC8E429B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95E17-BD75-48B2-BC0C-22A8CFAA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8A397-664C-4C21-8502-D401A3AD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E0FB9-FF2F-44A9-B322-1AC9B8BC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9C625-A3F6-4785-9AE9-1317D210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9DE1A-ED35-4A8A-B74E-C80A89BB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56B05-535B-408F-BB59-8D326A88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DC12F-2962-47A2-AEE8-CF936237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EA81D-EDA8-4F6A-9299-84F8A393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237F4-916A-4F04-AC15-BCFE818F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0B835-7EC3-4D1B-AECA-2A3BD99F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0678B-AAD9-47E6-A26A-DBD6FC15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3D2B8-DE3F-45DA-BE29-90C4D5AA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6A32E-AEA1-49C3-AB13-69685347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BFC3C-61F9-4C38-8525-1D722142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A96F4-4553-4D48-B177-E4D8B817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331C8-8678-465F-8FD2-133F6BD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2470E-EC3E-4031-9632-D986A590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07E9F-1137-4C94-98DE-CBDDE47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8CCC6-7CEF-4B70-9F16-9EA7FC58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744F4-420D-4AC9-B4E9-0FF029A3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2EDED-3369-463E-B093-294DAD34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91482-AC8D-4605-8EBA-DD3F0501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B0CFE-20C7-4F13-9E07-6EEA27DA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684DE-7F51-40AA-9C3C-7EE5EE9C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D29A2-A85E-4EB6-BBC0-82F1AA0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6B114-2E27-4E72-976D-FC5ABE1E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8AA97-6DEC-468B-9D5D-158519F1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C1A02-2D3E-411F-A7B1-3DCB6526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16F08-5FE9-4F45-B851-63ADD897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A18ED-9BC4-483C-8511-8C0A753F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5AE38-C6A2-4360-B5D7-A66E693F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148D4-1E23-41F1-9BCE-0CCD0803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D02CB9-A2AE-4B1C-B036-3FE28952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9C4F3-874E-404B-B75B-A4F236A8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AA3E3-FAAF-4470-A112-A7C271A2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00B26-ECD6-4B2B-8C46-064AA68A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54100-F7AC-4225-8F78-C07607BA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1B4D7-ACB6-48FD-9214-22E493D5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A4163-32B8-44A9-B414-37BA7276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66A18-7090-4475-A943-DAF6EFAB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FEEA4-F7F3-46AC-A096-4B3E882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DE82E-D5DD-43F8-B1E7-1F07C7B3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34DD8-9600-4811-9F96-7293FF27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48E2C-2ECF-4536-A298-29D59751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8A2EF-D842-4F01-92EF-600F1C4B4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ED65E-DF63-4BEC-A96F-112511B4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7D95F-C9C4-4FE7-8BB6-471659E0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197D5-D217-4CA8-B23C-C85437DD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AE812-9795-4D52-97C0-E8E872D9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652C4-B381-4015-B181-1771B00F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FF5BF-EA42-4AF9-95AA-FB56BD38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3FC66-41E5-4FE7-AAC5-D7FD14C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5DB25-0728-4421-AA40-FF1482B3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7F984-9844-407F-A9FE-CE64803E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91DBE-F909-4560-9AFA-8F1000C3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562A8-5A23-4F6F-ABAF-D9F92F57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4F640-1C5C-4815-84B6-BD830042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60043-C124-476D-8BB6-ABD10D6A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7ACBB-A260-4769-9EAE-8D0022A9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D326D-3254-489A-84C1-3440A146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2EDD0-26D0-4440-8277-5E3A78D3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8424F-EA1C-4DFD-B58A-44AAC181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63921-8C42-4B3C-96DF-A27F76A9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5C983-581B-42DE-9D8C-E537DD7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951720-BA02-4852-82D6-BAE7AEB2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D27B6-DD6C-493E-83A9-C9D5F28F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1EA93-1625-4D75-94BC-7184ADEC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55530-1030-4632-8F09-E396DBFC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481FD-9080-4DE8-8682-42C40067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28ACF-78E3-42FC-B2A0-EF1DE0DA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AF268-3CE3-4EFF-8B4C-19A2D1C8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4B1556-B019-4844-9C35-D571FB54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8A763-A79D-42F3-B968-19893F79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BC91D-0126-428A-9498-AA991870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FA376-38BC-4FC7-A358-88BF393E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560BA-F2F0-4705-9D10-CF5AEE37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DABAC-4175-4BB5-A310-5235FC3D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40D38-B144-4644-B2DE-4EB18BEC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52865-545F-4ABA-A12F-FFB4A172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5C769-374B-4BA3-9AB3-836789F0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6CF12-6FA0-4892-BE44-0FADBED6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A5C6F-B836-4121-9784-FDD33921A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E7A93-8F50-44EB-AFFE-DD7D9416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426F32-6419-4F7B-981A-2AC7998B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761F3-7B92-4CA4-9CC6-BF958CB6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622AE-FB47-4BA2-812D-19CA505F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D25DE-93BD-4ECE-956C-F72BDF54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B3925-226F-4667-A483-096E3BF4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2DDCF9-15AD-49EB-97DF-7C93736B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9F3C6-0744-4FA6-B8D3-6EBC5E73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AE746-612B-45A1-AC14-A3C67D30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EA9B7-6E62-4015-AFEA-758ABBEA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73C64-DBAB-42C8-9B04-4B184EDC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844E8-D0EB-483C-98A1-EC458CC7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FCAD0-3CFF-4999-8B92-CBBF6937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FC424-B593-462A-BD45-7E3D3C80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D571BC-D76D-45B1-B4E3-2C91FBCC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3484A-B077-48F4-BFDA-19B22102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ADAEA5-9EC4-4735-967F-E07C177C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433A1-B2E5-47DA-B1DA-0D19E306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351961-1289-4BA6-9376-7C36BDB9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48BE6-6A4E-49CE-BCC1-FE4D338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154622-DF91-41BE-BE79-A7CB0D40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577B0-DCB3-4A9A-AE3D-C17DB3D4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33756-6A37-4E15-AA0E-15D7B299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F03FCA-E8A5-4A88-8DE9-2BEE6B8E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A73D9-8599-4821-BA26-3633E026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971517-F70B-4A3B-860C-EA739B0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26950-841E-4E98-A8C2-6302D9F1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2F7B84-B271-4BFE-AA8A-EEEF58D6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32013-3A2E-4F35-884E-60E973D9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91D6A-C63A-468F-BAA7-5AFEB08D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43E549-3BA8-48C3-89DE-C496F6C4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2C6D61-F34D-4287-93C3-6BDDA81A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2574EB-10E5-4D49-AA61-577F08A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2C9D8-1D89-4215-95DC-55DB5FF2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6C6240-4C01-4EAD-A304-0434E4E0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04FB4A-00BE-4021-ACDC-21AEF07A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E0B4F-1D2B-46D7-A637-E0666A2B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8F278-8B30-43E7-AAD8-AAAD7F37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C416F5-6D81-4512-8CCF-8BAD3AC9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52A3A-0956-46E7-8CD7-11D8DD77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D8DEB-83F1-4B9F-9CDE-43763791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DD211-A028-4B4E-8AE9-DD03E4B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90012-68A8-48CE-A695-2101AEC0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BFC9D-5544-47CA-BE68-9A51A5E5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B1C5F-FC50-4F0C-9CBB-04762101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63ADE-7EF0-4196-BE0E-FE4A8598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18B404-044A-4E42-BDAB-3E742900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35DCAE-A038-4B9D-AFED-59C46876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ACFFC-A340-436C-83F7-803F4F28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EC69B-B53E-46C9-BBA7-8D74FC7C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16F866-603E-43B2-9B57-337E3BA3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00554-6257-4728-8601-0E9F7958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B718B-D742-4E8A-A308-D08BED30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4A4961-FEE1-4B72-BC90-691FE7A2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646AAA-0D19-4E4C-B961-7FDE6B71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46553-65BC-43B6-88DC-4C23506B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10A7AA-72CD-4325-B64B-C01212E7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31D1F-9E55-4D2B-8B0A-C6B349D3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993EA-4AA8-4CA0-AE64-FD9DB229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5EA0CD-11C1-41D9-AF5D-E31AF66C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86D698-2CFF-41C9-B9FF-20C1CC22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168D3F-D012-4328-B5B9-7FAD799F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CDBB01-4AF0-402E-AC2D-8240A685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ABD24-85E6-430D-803A-C70F12F3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97B0B-3FA2-4E33-91D9-811D1F61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3CE4D8-0D07-4301-8377-A1908D52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DD802F-6468-4AF3-A76C-AEFBDC79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32B6C8-A9AC-4235-92F3-F7F435CC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5615CD-F5E1-4872-8772-4035D400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474134-8CE9-466C-9584-9CD1B6D4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58033-86C3-4FE8-A9F6-B4C383BD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F261D2-D553-4459-8171-66B2ED8F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C71831-4C22-4158-A707-14902574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2BDF11-7299-4D97-977B-D9931AE2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69B8EA-698E-41A4-8804-E42DDA26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D81C0F-3126-44C4-9ACA-D91338BC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9873AF-DCF7-4D5F-8DAF-0F60D3AE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9D595B-0BD5-48AB-B94C-F97BB65A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4C37D9-5114-463A-86F7-0F2664FF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D6EDE-4D07-4E01-A8EC-0F445AAC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A128C9-F7CA-4C5C-A18C-B303B490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32FB8D-FAE1-45BA-B4E5-DF3A2DC4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66DDA-0FEC-40B2-B896-59C05583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CE8549-1B79-420A-A189-0DD7FD54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A672AE-5B7F-4DC5-BA29-3D3361D5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AC5DEE-73F1-4A07-9F61-29A2F1D5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E9F2C-BA56-4272-AC3F-7DCC981A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6178F-61CB-4838-A2D2-F2A54513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77D499-A693-4A54-A5A0-F5E7A9D8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541C3-FA59-4524-934B-AE7E2D99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2B557F-F926-4802-9FFA-1AB45B6D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0E0A1D-08D5-4864-A1C6-2783D32E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4A2123-0B10-4145-AAAF-7F611EAD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1B577C-8A35-4D8C-A84A-957B99D5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1BC148-99E5-40BE-AFBA-853F0556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E6397F-BC1F-4368-A478-9135C8C5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7FEC87-17AD-4058-9B13-CE54CDFE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6DF81D-A1FD-4F38-ACEE-F61B8434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A95BB0-8A6D-4354-AD35-B12FD561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65796E-EFD5-48C7-BCC8-E454ABD5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60709-4926-42CB-897A-89A2F381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CBC10-411A-4CE2-A768-32B880B0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BB75EA-3633-4C53-9415-13612F3F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078FA-BB62-4381-8A32-2CEC5428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6FF672-2F22-424E-9C53-7BC3104E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088124-4C52-4B91-82A8-A33540AA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4D1B8-3901-4999-B6B4-6175960C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3C4-5207-40EA-960B-3BD1DFF9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B22-4830-4F13-B8ED-5B6F592D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0EAD-C599-4DDE-BBAB-BD84C6B0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E003-D0BB-411C-9F3C-8C9D7BAE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C087-C163-49B3-9D6A-B8D45AC0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7F35-7499-4819-A065-43610374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4A3-AEE9-4211-BFE8-FE9F9DED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32D-AB9F-43B3-B2BE-0D352458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83C-653E-498D-8E3E-D3F6EA6E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F1D-84F4-4D8B-AEFA-DD8246CD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E0A-0283-4426-9E8E-195DEC62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96D-E5DC-45B2-AA75-5FC4DAE4E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21CF-8609-4183-BF30-35C23226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C196-DC59-48BC-BF28-6F876A09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2E2B-8217-46ED-807C-F16AF039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7D03-E59A-4260-8BEF-AF74FDF0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FAD2-FE94-4127-8323-9EC45C59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B0F1-55D5-4F07-A2F7-B881C286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CA18-1331-4F0B-BDE6-363AF991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D273-AF6C-4A07-A8B0-E205382A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5156-B741-4877-9C10-A7210D5A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7E31-AEAA-4EF2-97E8-161CDEEE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A92D-3E60-47F0-A584-A6138144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0E7A-E031-46C1-B646-7FED3FCF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2A43-A1EE-4A07-9BCF-B43E9018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190BE-8692-4442-A703-56AF1C50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FC82-857E-4258-AE66-4A2E2704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B108-855B-43D0-9B77-FDC86323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6B34-B53F-4267-A4E6-E99B3ACA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5269-EC0F-43A2-90C1-36A920AC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2DBAA-D355-47B6-8D5D-26331ACA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4C08D-4978-41D5-BDDA-E57919BB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78C3-C18B-4AD5-914A-E28C1A5C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420CD-21C1-48E8-8F27-1C12EBF8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25D82-988F-45F1-ACBA-F9AE3591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A7CE6-342C-40B6-A6A9-43E5FE24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3F937-A565-4EDB-9B02-78D52410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1A041-87AF-4161-926B-D72E5341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DAA9F-3289-45D0-BE35-425A44D9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C2F9E-2793-4631-8223-71788464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EA43A-629B-40BB-9856-136845B8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31486-F6AA-4B17-BCA1-B5038F00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2E02-DDC1-46BC-959A-EA0DEE80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2E8E-71AC-4BF9-8176-8776BCF5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71AA0-897B-43E8-95B4-76C03EFE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1C520-C527-4F93-A50C-A0E2F1DA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30187-F76A-4A3B-9D2C-68848905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3A29-9952-497C-B83F-5D28B53B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E2763-9695-469F-9C62-111DA4CD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898F8-F2BC-4DAA-A5AD-3BCB27D7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A8BCE-D670-486F-BFCC-67B80DAD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784A-766A-468A-BD91-17EBEE34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CED76-A62D-48FB-B908-639623CF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71427-C052-4443-B28F-238DA0F6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35D7A-9E0C-4322-9172-AF28F83D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418EF-556C-40D2-9151-B221E113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0E53B-5FCB-46C4-9B7D-F3914082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07A50-1FA0-4E0B-83C3-C87CA9AF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5418-AEB3-4F77-9F51-94410C13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F165A-CDA8-4724-9C92-9D4954A2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237F3-7F32-43B0-A505-97A2A165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D8460-D468-4294-8923-9A06BA48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640AA-CB4A-4B6B-8484-FF28B66C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8264-F5DF-4B1B-85F3-F8A5E22F24C3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431A-4804-437A-BC5A-959452B480F4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7E38-D519-4814-B2C4-B286F16470D3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60C3-35B1-432C-9118-A735D0A052D9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5D7F-63ED-4BA1-B7F9-DAB89391B92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09A2-9D13-4DE8-9CB0-E620A6AA687B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BA24-2541-46BB-BB36-8FB7382F35B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8537-D312-42E1-96EA-39FF0EF7B4F0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84CA-8AAA-480E-97D2-26ACE3C57E7A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6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9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E231-D21D-44C7-B363-FA59592FD741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0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4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AB27-76A0-4032-8B73-7738CEDBB417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4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8DF4-5F66-4A8E-A2F1-E39F786E4043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8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92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6DAA-A601-47DE-86FB-74410FD11854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9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DE8D-DE3A-49AA-8226-2808DB35FD51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CE3E-D191-460C-807A-AAE5CC117EF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87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EEAA-232C-4B68-AAB4-B08A34861610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3339-CD3D-4080-8F71-3C20D0A53561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06B4-C2B6-46D4-9D52-F57130BC5B46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466E-3D76-4C04-8802-2296B2F86C7F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FAD9-2341-4394-9C10-227702CF8808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45C4-71FB-4CD8-A2E3-3D7F58C92ED8}" type="slidenum">
              <a:rPr b="0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zoo.hr/index.php?option=com_content&amp;view=article&amp;id=4072:radni-materijali-i-radionice-za-provoenje-kurikuluma-zdravstvenog-odgoja-na-satu-razredne-zajednice-&amp;catid=442:zdravstveni-odgoj" TargetMode="External"/><Relationship Id="rId2" Type="http://schemas.openxmlformats.org/officeDocument/2006/relationships/hyperlink" Target="http://www.azoo.hr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000" spc="-1" strike="noStrike">
                <a:solidFill>
                  <a:srgbClr val="c00000"/>
                </a:solidFill>
                <a:latin typeface="Arial"/>
              </a:rPr>
              <a:t>Kurikulum zdravstvenog odgoja</a:t>
            </a:r>
            <a:endParaRPr b="1" lang="en-US" sz="4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187280" y="3789000"/>
            <a:ext cx="6400800" cy="143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1f497d"/>
                </a:solidFill>
                <a:latin typeface="Arial"/>
                <a:ea typeface="Arial"/>
              </a:rPr>
              <a:t>Međužupanijski stručni sk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1f497d"/>
                </a:solidFill>
                <a:latin typeface="Arial"/>
                <a:ea typeface="Arial"/>
              </a:rPr>
              <a:t>za voditelje ŽSV-a</a:t>
            </a:r>
            <a:r>
              <a:rPr b="0" lang="hr-HR" sz="2400" spc="-1" strike="noStrike">
                <a:solidFill>
                  <a:srgbClr val="1f497d"/>
                </a:solidFill>
                <a:latin typeface="Arial"/>
                <a:ea typeface="Arial"/>
              </a:rPr>
              <a:t> učitelja i nastavnika geografije</a:t>
            </a:r>
            <a:r>
              <a:rPr b="0" lang="vi-VN" sz="2400" spc="-1" strike="noStrike">
                <a:solidFill>
                  <a:srgbClr val="1f497d"/>
                </a:solidFill>
                <a:latin typeface="Arial"/>
                <a:ea typeface="Arial"/>
              </a:rPr>
              <a:t>, mentore i savjetn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1f497d"/>
                </a:solidFill>
                <a:latin typeface="Arial"/>
                <a:ea typeface="Arial"/>
              </a:rPr>
              <a:t>Elektrotehnička i p</a:t>
            </a:r>
            <a:r>
              <a:rPr b="0" lang="hr-HR" sz="2400" spc="-1" strike="noStrike">
                <a:solidFill>
                  <a:srgbClr val="1f497d"/>
                </a:solidFill>
                <a:latin typeface="Arial"/>
                <a:ea typeface="Arial"/>
              </a:rPr>
              <a:t>r</a:t>
            </a:r>
            <a:r>
              <a:rPr b="0" lang="vi-VN" sz="2400" spc="-1" strike="noStrike">
                <a:solidFill>
                  <a:srgbClr val="1f497d"/>
                </a:solidFill>
                <a:latin typeface="Arial"/>
                <a:ea typeface="Arial"/>
              </a:rPr>
              <a:t>ometna škola Osije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1f497d"/>
                </a:solidFill>
                <a:latin typeface="Arial"/>
                <a:ea typeface="Arial"/>
              </a:rPr>
              <a:t>8. siječnja 201</a:t>
            </a:r>
            <a:r>
              <a:rPr b="0" lang="hr-HR" sz="2400" spc="-1" strike="noStrike">
                <a:solidFill>
                  <a:srgbClr val="1f497d"/>
                </a:solidFill>
                <a:latin typeface="Arial"/>
                <a:ea typeface="Arial"/>
              </a:rPr>
              <a:t>3</a:t>
            </a:r>
            <a:r>
              <a:rPr b="0" lang="vi-VN" sz="2400" spc="-1" strike="noStrike">
                <a:solidFill>
                  <a:srgbClr val="1f497d"/>
                </a:solidFill>
                <a:latin typeface="Arial"/>
                <a:ea typeface="Arial"/>
              </a:rPr>
              <a:t>., Osij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286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c00000"/>
                </a:solidFill>
                <a:latin typeface="Arial"/>
              </a:rPr>
              <a:t>Provedba </a:t>
            </a:r>
            <a:endParaRPr b="1" lang="en-US" sz="2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adržaji integrirani u nastavne programe predmeta Priroda i društvo, Priroda, Biologija, Tjelesna i zdravstvena kultura, Psih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odatni sadržaji, 12 sati godišnje u okviru sata razred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Upute za rad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aterijale predstavljene u okviru eksperimentalnog programa prilagodite, integrirajte i nadopunite u skladu sa svojim znanjima, vještinama i kreativnim potencijal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ktivnosti koje planirate ostvariti u okviru sati razrednika pripremite u suradnji s kolegama iz drugih nastavnih područja, stručnim suradnicima i ostalim stručnjacima izvan škole (npr.liječnici, soc.radnici, sveučilišni profesori.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ije primjene programa upoznajte roditelje o aktivnostima koje planirate provesti i zatražite njihovu podršk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ipremite u suradnji s kolegama plan aktivnosti koji će pratiti, podržati i pojačati sadržaje koje ste prezentirali učenicima u okviru sata razred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rganizirajte stručno usavršavanje u školi prema potrebama odgojno-obrazovnih rad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ipremite plan ažuriranja informacija u koji ćete uključiti i učenike; pripremite materijale koji će vam pomoći u kvalitetnoj primjeni programskih aktivnosti (priručnici, informacije s mrežnih stranica i dr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Oblici i metode rada i poučavanja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ad u parovima i malim skupina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rganiziranje predavanja s diskusijama i panel-rasprava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edagoška radio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granje ulo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luja ide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azvoj stavova u raspravi i de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slučaje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rištenje dostupnih i primjerenih sadržaja sa internetskih stranica i korištenje ICT-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iprema i organiziranje lokalnih preventivnih aktivnosti (izložbe, obilježavanje prigodnih datuma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Dokument 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ikaz modula/  razred/  broj sati u okviru sata razred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oduli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Živjeti zdra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evencija nasilničkog ponaš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evencija ovis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polna/ rodna ravnopravnost i spolno odgovorno ponaš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azličiti broj sati po modulu i razred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ikaz planiranih nastavnih sadržaja i očekivanih isho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A – dodatni sadržaji i ishodi učenja (sat razredni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B – sadržaji i ishodi učenja koji su integrirani u postojeće sadržaje nastavnih predmeta, školskih preventivnih programa, sate razrednika i projek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AZOO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78560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adni materijali, vodič za pripremu i provedbu kurukuluma zdravstvenog odg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azoo.hr/index.php?option=com_content&amp;view=article&amp;id=4072:radni-materijali-i-radionice-za-provoenje-kurikuluma-zdravstvenog-odgoja-na-satu-razredne-zajednice-&amp;catid=442:zdravstveni-odgoj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5480" indent="-195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tručna usavršavanja učitelja i nastavn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95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Literatura i izvor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5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Kurikulum zdravstvenog odgo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5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azoo.h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95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/>
          </p:nvPr>
        </p:nvSpPr>
        <p:spPr>
          <a:xfrm>
            <a:off x="971280" y="4941720"/>
            <a:ext cx="4546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hvaljujem na pažnj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7:02:39Z</dcterms:created>
  <dc:creator>Korisnik</dc:creator>
  <dc:description/>
  <dc:language>en-US</dc:language>
  <cp:lastModifiedBy>sburcar</cp:lastModifiedBy>
  <dcterms:modified xsi:type="dcterms:W3CDTF">2013-01-09T08:08:13Z</dcterms:modified>
  <cp:revision>43</cp:revision>
  <dc:subject/>
  <dc:title>ULOGA RAVNATELJA U UVOĐENJU PRIPRAVNIKA U SAMOSTALAN RAD</dc:title>
</cp:coreProperties>
</file>