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C724-0419-4ACA-92DD-77615664090F}" type="slidenum">
              <a:rPr b="0" lang="hr-B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000000"/>
                </a:solidFill>
                <a:latin typeface="Calibri"/>
              </a:rPr>
              <a:t>B - Strukovna – teorijska znanja iz područja g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1200" spc="-1" strike="noStrike">
                <a:solidFill>
                  <a:srgbClr val="000000"/>
                </a:solidFill>
                <a:latin typeface="Calibri"/>
              </a:rPr>
              <a:t>C - </a:t>
            </a: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Planiranje, upravljanje razredom, poučavanje, ocjenjivanje, projektno planiranje i suradnja s lokalnom zajednicom, nevladinim organizacijama, vjerskim zajednicama, predstavnicima vlasti, kulturnih djelatnosti, stručnjacima, poduzetnicima, gospodarskim čimbenici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 – razvoj kompetencija: metodologija grupnog rada, suradničkog i istraživačkog učenja, komunikacijske vještine, rješavanje sukoba, medijaci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E82B-4CEA-4A2D-9080-643D8F7D0B3C}" type="slidenum">
              <a:rPr b="0" lang="hr-B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E96A-EB05-4F7F-AA85-B8B0C99A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8F0-4F29-4DCA-B33C-7A996D6B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A33-359F-4D90-8FB3-A6B4CC4E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AABA-B01D-4E57-813E-3ECB1D6F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3DB7-199C-4F34-B53E-B0997464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AAD5-B87B-4C85-B83F-EEFA6A6A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71BD-2B1E-474F-B588-E36D14AE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D614-A7E1-413A-AF4D-C5D4BDEA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B5CA-FA1D-4345-82D1-7D8F9C64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E31C-E7FD-427B-A87C-E6138ADF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817B-AA25-4650-B6A3-35F25EA6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A23B-0FC1-446E-B603-1E5699F8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38A8-BA3D-4F5E-84FC-D4DA89F5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DFB1-04B2-49E5-A98D-5C073B52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C8DE-AABB-4F1A-9DC2-2E5E23D9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9CE4-441D-45C1-9D70-0EF2A15B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3B0E-EF94-4B74-AA95-A88E8DD0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D41-44BA-4A5D-89E3-8A45E09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45B-2D79-41AA-ABAD-DFD38D1F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56B7-99ED-4D64-AC6F-B1F5557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464-1F06-4775-A989-A1F6FCB0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D5A3-3A06-4549-95A2-780BE0C5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DDD-EDD7-4A51-9679-5478985D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4CB6-9307-4F40-BAC7-3CAF88C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4945-6C19-4EB3-91DC-47BFF49C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F9BF-C176-4125-A567-B4815F96F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ovo doba ljudskih prava i demokracije u škola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" descr="C:\Users\Mire_MMH\Documents\Organizacija\MMH LOGO\MMH logo_veliki.jpg"/>
          <p:cNvPicPr/>
          <p:nvPr/>
        </p:nvPicPr>
        <p:blipFill>
          <a:blip r:embed="rId2"/>
          <a:stretch/>
        </p:blipFill>
        <p:spPr>
          <a:xfrm>
            <a:off x="324000" y="4724280"/>
            <a:ext cx="1584000" cy="946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CMS_logo.jpg"/>
          <p:cNvPicPr/>
          <p:nvPr/>
        </p:nvPicPr>
        <p:blipFill>
          <a:blip r:embed="rId3"/>
          <a:stretch/>
        </p:blipFill>
        <p:spPr>
          <a:xfrm>
            <a:off x="1979640" y="4797360"/>
            <a:ext cx="1368360" cy="866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EU_Flag.jpg"/>
          <p:cNvPicPr/>
          <p:nvPr/>
        </p:nvPicPr>
        <p:blipFill>
          <a:blip r:embed="rId4"/>
          <a:stretch/>
        </p:blipFill>
        <p:spPr>
          <a:xfrm>
            <a:off x="7164360" y="4869000"/>
            <a:ext cx="1152720" cy="784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9"/>
          <p:cNvSpPr/>
          <p:nvPr/>
        </p:nvSpPr>
        <p:spPr>
          <a:xfrm>
            <a:off x="2404440" y="30906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5" descr="GONG_logo.jpg"/>
          <p:cNvPicPr/>
          <p:nvPr/>
        </p:nvPicPr>
        <p:blipFill>
          <a:blip r:embed="rId5"/>
          <a:stretch/>
        </p:blipFill>
        <p:spPr>
          <a:xfrm>
            <a:off x="3708360" y="4869000"/>
            <a:ext cx="1511280" cy="66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2388240" y="3350880"/>
            <a:ext cx="1084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Broj sata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Nastavna jedinica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Temelji GRAĐANSKOG ODGOJA I OBRAZOVAN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Dimenzija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judskopravna dimenzija građanske kompetenci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Svrha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Razviti svijest o sebi kao demokratskim građanima RH temeljem poznavanja svojih prava i odgovornosti koje proizlaze iz Ustava i zako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Ishodi i ciljevi 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Shvatiti važnost demokratskog načina promišljanja o svekodnevnim događajima i odnosima te uočiti pravo i dužnosti kao temelj pravednog građanskog društ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Tema mjeseca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Vladavina prava</a:t>
            </a:r>
            <a:r>
              <a:rPr b="1" lang="hr-HR" sz="2600" spc="-1" strike="noStrike">
                <a:solidFill>
                  <a:srgbClr val="000000"/>
                </a:solidFill>
                <a:latin typeface="Verdana"/>
              </a:rPr>
              <a:t>„...jer djeca su budućnost, ona su nada u bolje sutra...“</a:t>
            </a: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  ( S. Glavašević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6628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ARTIKULACIJA SATA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 u="sng">
                <a:solidFill>
                  <a:srgbClr val="000000"/>
                </a:solidFill>
                <a:uFillTx/>
                <a:latin typeface="Verdana"/>
              </a:rPr>
              <a:t>Motivacija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( 5 minuta)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 „Vjetar puše za sve one koji“ ...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u barem jednom bacili papirić na pod..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u se barem jednom izrugivali prijatelju/prijatelji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u barem jednom nekome nešto ružno rekli ili opsova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u barem jednom otuđili prijatelju/prijateljici gumicu ili nešto sličn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u barem jednom širili ružne neistine o svom prijatelju/prijateljicisu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e barem jednom dopisivali s nepoznatim osobama preko internet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u se barem jednom osjećali isključenima iz društv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su barem jednom okrenuli glavu dok je prijatelj/prijateljica bila žrtvom nekog oblika nasilj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 u="sng">
                <a:solidFill>
                  <a:srgbClr val="000000"/>
                </a:solidFill>
                <a:uFillTx/>
                <a:latin typeface="Verdana"/>
              </a:rPr>
              <a:t>Razrada sata 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( 25 minuta) Učenicima prikazujemo PPT o temeljnim ciljevima i ishodima GOO-a, vrijednosnim spoznajama koje će se usvajati tijekom nastave, metodama i oblicima rada te o razlozima uvođenja ovoga nastavnoga predmeta u nastavu. </a:t>
            </a:r>
            <a:r>
              <a:rPr b="0" lang="hr-HR" sz="1700" spc="-1" strike="noStrike" u="sng">
                <a:solidFill>
                  <a:srgbClr val="000000"/>
                </a:solidFill>
                <a:uFillTx/>
                <a:latin typeface="Verdana"/>
              </a:rPr>
              <a:t>Zadatak: Zaštita ljudskih prava 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(Osnove demokracije – Vlast, pravda, odgovornost, privatnost; AZOO, str. 9.)Radom u skupinama učenici promišljaju o 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životu u prirodnome stanju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odgovarajući na pitanja: Kako bi izgledao razred bez propisa? Što bi se dogodilo kad nastavnici ne bi imali pravo voditi i usmjeravati učenike? Kakve bi bile prednosti, a kakvi nedostatci života u takvoj zajednici? Što bi se moglo dogoditi s ljudskim pravima? Kakav bi bio život ljudi?Sinteza ( 15 minuta)Iznošenje rezultata rada u skupinama te rasprava o tome. Usporedba sa zaključcima J. Lockea da bi jači i pametniji slabijima mogli oduzeti život, slobodu i vlasništvo; slabiji bi se mogli udružiti i oduzeti pravo jačima i pametnijima, a sve to bi dovelo do nesigurna i nezaštićena života.</a:t>
            </a:r>
            <a:r>
              <a:rPr b="0" lang="hr-HR" sz="1700" spc="-1" strike="noStrike" u="sng">
                <a:solidFill>
                  <a:srgbClr val="000000"/>
                </a:solidFill>
                <a:uFillTx/>
                <a:latin typeface="Verdana"/>
              </a:rPr>
              <a:t>Završni krug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- Odgovor na pitanje: Koja bi prava ljudi uvijek MORALI imati?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Napomena nakon provedbe sata:</a:t>
            </a:r>
            <a:r>
              <a:rPr b="0" lang="hr-H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6628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 u="sng">
                <a:solidFill>
                  <a:srgbClr val="000000"/>
                </a:solidFill>
                <a:uFillTx/>
                <a:latin typeface="Verdana"/>
              </a:rPr>
              <a:t>Razrada sata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( 25 minuta) Učenicima prikazujemo PPT o temeljnim ciljevima i ishodima GOO-a, vrijednosnim spoznajama koje će se usvajati tijekom nastave, metodama i oblicima rada te o razlozima uvođenja ovoga nastavnoga predmeta u nastavu. </a:t>
            </a:r>
            <a:r>
              <a:rPr b="0" lang="hr-HR" sz="2100" spc="-1" strike="noStrike" u="sng">
                <a:solidFill>
                  <a:srgbClr val="000000"/>
                </a:solidFill>
                <a:uFillTx/>
                <a:latin typeface="Verdana"/>
              </a:rPr>
              <a:t>Zadatak: Zaštita ljudskih prava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(Osnove demokracije – Vlast, pravda, odgovornost, privatnost; AZOO, str. 9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Radom u skupinama učenici promišljaju o 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životu u prirodnome stanju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odgovarajući na pitanj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ako bi izgledao razred bez propisa? Što bi se dogodilo kad nastavnici ne bi imali pravo voditi i usmjeravati učenike? Kakve bi bile prednosti, a kakvi nedostatci života u takvoj zajednici? Što bi se moglo dogoditi s ljudskim pravima? Kakav bi bio život ljudi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Sinteza ( 15 minuta)Iznošenje rezultata rada u skupinama te rasprava o tome. Usporedba sa zaključcima J. Lockea da bi jači i pametniji slabijima mogli oduzeti život, slobodu i vlasništvo; slabiji bi se mogli udružiti i oduzeti pravo jačima i pametnijima, a sve to bi dovelo do nesigurna i nezaštićena živo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Verdana"/>
              </a:rPr>
              <a:t>Završni krug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- Odgovor na pitanje: Koja bi prava ljudi uvijek MORALI imati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Napomena nakon provedbe sata:</a:t>
            </a: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iljevi projekta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drška u razvoju kurikuluma i metodologije za integraciju, implementaciju, monitoring i evaluaciju GOO-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zgradnja kapaciteta nastavnika i stručnog osoblja za provedbu GOO-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Javna kampan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kon donošenja NOK-a provođenje građanskog odgoja i obrazovanja 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postalo j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obvez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atn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Prema NOK-u iz 2010. </a:t>
            </a:r>
            <a:r>
              <a:rPr b="1" i="1" lang="hr-HR" sz="2100" spc="-1" strike="noStrike">
                <a:solidFill>
                  <a:srgbClr val="000000"/>
                </a:solidFill>
                <a:latin typeface="Verdana"/>
              </a:rPr>
              <a:t>građanski odgoj i obrazovanje</a:t>
            </a:r>
            <a:r>
              <a:rPr b="1" lang="hr-HR" sz="2100" spc="-1" strike="noStrike">
                <a:solidFill>
                  <a:srgbClr val="000000"/>
                </a:solidFill>
                <a:latin typeface="Verdana"/>
              </a:rPr>
              <a:t> utvrđen je kao: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Obvezni kroskurikularni predmet  u cjelokupnom odgojno-obrazovnom sustavu (od predškolskog do srednjoškolskog),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kao jedna od ključnih kompetencija za cjeloživotno učenje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kao izborni predmet u višim razredima osnovne škole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900" spc="-1" strike="noStrike">
                <a:solidFill>
                  <a:srgbClr val="000000"/>
                </a:solidFill>
                <a:latin typeface="Verdana"/>
              </a:rPr>
              <a:t>kao redoviti predmet u srednjoj školi (postojeći predmet politika i gospodarstv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O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Da bi s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ompetencije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utvrđene u NOK-u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gle sustavno razvijati od najranije dječje dobi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izrađuj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urikulum za građanski odgoj i obrazovanje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Sam  kurikulum neće opteretiti školsku satnic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hr-BA" sz="1600" spc="-1" strike="noStrike">
                <a:solidFill>
                  <a:srgbClr val="000000"/>
                </a:solidFill>
                <a:latin typeface="Verdana"/>
              </a:rPr>
              <a:t>omogućuje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odgojno-obrazovnim ustanovama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sustavno uključivanje građanskih kompetencija u kurikulume škola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 na fleksibilan i kreativan nači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BA" sz="1600" spc="-1" strike="noStrike">
                <a:solidFill>
                  <a:srgbClr val="000000"/>
                </a:solidFill>
                <a:latin typeface="Verdana"/>
              </a:rPr>
              <a:t>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ole će same utvrditi načine provedbe sukladno njihovim mogućnostima i osposobljenosti njihovih 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odgojitelja/ica, učitelja/ica i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stavnika</a:t>
            </a:r>
            <a:r>
              <a:rPr b="1" lang="hr-HR" sz="1600" spc="-1" strike="noStrike">
                <a:solidFill>
                  <a:srgbClr val="000000"/>
                </a:solidFill>
                <a:latin typeface="Verdana"/>
              </a:rPr>
              <a:t>/ic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Načini planiranja i provođenja kurikuluma za Građanski odgoj i obrazovanj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Prvi ciklus:    od 1- 4 razreda osnovne škole – međupredmetno i izvannastavno kao obvezna aktivnos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Drugi ciklus:   5 i 6 razred osnovne škole – dodatno se uvodi modularni pristup (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snove demokracije, Projekt Građanin, Medijacija, Prava potrošača i dr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Treći ciklus :  7 i 8 razred osnovne škole – integrativno +                  modularno + izborni predm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Četvrti ciklus: 1 i 2 razred srednje škole- integrativno+  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hr-HR" sz="1700" spc="-1" strike="noStrike">
                <a:solidFill>
                  <a:srgbClr val="000000"/>
                </a:solidFill>
                <a:latin typeface="Verdana"/>
              </a:rPr>
              <a:t>                modularno ali kao obvezni predm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 i E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Člankom 9.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Europske povelje o odgoju i obrazovanju za demokratsko građanstvo i ljudska prav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esenoj na Konferenciji ministara odgoja i obrazovanja Vijeća Europe u Ljubljani,2010. utvrđuje se da su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emlje članice dužne osposobiti sve odgojno-obrazovne radnik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a odgoj i obrazovanje za demokratsko građanstvo i ljudska prav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ko da oni steknu temeljno znanje i razumijevanje toga područja te osposobljenost upotrebe prikladnih metoda učenja i poučavanj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800" spc="-1" strike="noStrike">
                <a:solidFill>
                  <a:srgbClr val="000000"/>
                </a:solidFill>
                <a:latin typeface="Verdana"/>
              </a:rPr>
              <a:t>Kurikuk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8001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UKTURNE DIMENZIJE GRAĐANSKE KOMPETENCI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684360" y="2565360"/>
            <a:ext cx="813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Verdana"/>
              </a:rPr>
              <a:t>Ljudsko – prav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Verdana"/>
              </a:rPr>
              <a:t>Politič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Verdana"/>
              </a:rPr>
              <a:t>Društven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Verdana"/>
              </a:rPr>
              <a:t>Kulturološ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Verdana"/>
              </a:rPr>
              <a:t>Gospodars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200" spc="-1" strike="noStrike">
                <a:solidFill>
                  <a:srgbClr val="000000"/>
                </a:solidFill>
                <a:latin typeface="Verdana"/>
              </a:rPr>
              <a:t>Ekološ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ompetencije nastavn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Kompetencije nastavnika su razvrstane u pet područj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A)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Opća profesionalna znanja i vještine (pedagoška, razvojno-psihološka, sociološka, normativno-pravn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B)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Strukovna znanja i vještine u području GOO-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C)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Procesi učenja i poučavanja koji vode razvoju aktivnog i odgovornog građanstv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)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etode učenja i poučavanja GOO-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E) 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Metode vrednovanja i samovrednovanja u GOO-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1773000"/>
            <a:ext cx="77850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800" spc="-1" strike="noStrike">
                <a:solidFill>
                  <a:srgbClr val="000000"/>
                </a:solidFill>
                <a:latin typeface="Verdana"/>
              </a:rPr>
              <a:t>Funkcionalne dimenzi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280" y="3141720"/>
            <a:ext cx="800100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000" spc="-1" strike="noStrike">
                <a:solidFill>
                  <a:srgbClr val="000000"/>
                </a:solidFill>
                <a:latin typeface="Verdana"/>
              </a:rPr>
              <a:t>Građansko znanje i razumijeva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000" spc="-1" strike="noStrike">
                <a:solidFill>
                  <a:srgbClr val="000000"/>
                </a:solidFill>
                <a:latin typeface="Verdana"/>
              </a:rPr>
              <a:t>Građanske vještine i sposob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000" spc="-1" strike="noStrike">
                <a:solidFill>
                  <a:srgbClr val="000000"/>
                </a:solidFill>
                <a:latin typeface="Verdana"/>
              </a:rPr>
              <a:t>Građanske vrijednosti i stavo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611280" y="620640"/>
            <a:ext cx="778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3800" spc="-1" strike="noStrike">
                <a:solidFill>
                  <a:srgbClr val="000000"/>
                </a:solidFill>
                <a:latin typeface="Verdana"/>
              </a:rPr>
              <a:t>Kompetencije učenik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07:20:07Z</dcterms:created>
  <dc:creator>igor</dc:creator>
  <dc:description/>
  <dc:language>en-US</dc:language>
  <cp:lastModifiedBy>FullNameHere</cp:lastModifiedBy>
  <dcterms:modified xsi:type="dcterms:W3CDTF">2012-10-19T07:13:26Z</dcterms:modified>
  <cp:revision>20</cp:revision>
  <dc:subject/>
  <dc:title>Novo doba ljudskih prava i demokracije u školama</dc:title>
</cp:coreProperties>
</file>