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dt" idx="6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move the slide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 type="ftr" idx="6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 type="sldNum" idx="6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9C9BC-EBBC-4290-9292-7BACC79EA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15C17-7A57-4674-9E17-41778D65B504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0A3256-306E-4114-8595-CB5D6F645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053349-79E5-4B2B-BD36-939523B48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97C090-9998-4BB2-83FB-989ED7CC3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DA9632-0F15-48DD-944D-8B5DD486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C37F85-50A3-4BDB-8602-DDF723A8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930C6E-C41E-4B68-A752-37477F8F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CB275-EE64-4D28-B52C-18BAD4F14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A422EE-F176-4955-97D7-150EADAB1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73D29A-F81D-4784-81BE-C20D66238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F9021B-C060-499D-BE92-D1BE34442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EBC04D-D71F-474B-87C5-ED802949F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0A8AF9-0CA3-4616-BFD3-C9EDB30BA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F40E7C-AC9C-44C9-81DF-01CFF10B0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A900D5-6978-46ED-9D31-65D5765BC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F199A5-CC22-4D48-B67E-68000D02D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EE16A5-00D6-440A-AE7B-7664C8CBD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C0505F-72FB-4236-A58E-05CE6F3A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23FBC0-F523-48F6-AAD4-3C316273B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4E1A31-C76B-4E26-BEA0-3D23E5631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9FDF3D-3917-4CFF-ABFE-A2ACB6D91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FD9957-ED23-4923-BACE-C539221DD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69184D-6024-48F5-A106-E790D610F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09513B-310C-48B2-A8D3-3D24DB707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DAD453-C963-4A2C-9231-D81C4D333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00A207-B91E-4F3B-ADA0-11CAC1485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313AAA-7D1D-4F4D-9829-24C2A76C8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E010AE-4F0A-4ABA-8605-054BE0601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F91C19-077A-43EF-8C26-6E0A896B3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AFCCCC-93BB-44BD-8FEF-EB2DC9B7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FD0233-A440-40B3-9BA8-05F1E21D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25BB60-ACE2-4B56-985E-448780282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FD52B6-06CA-4910-8341-3319F4BB1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BD9442-3028-46E1-9791-2F50FC195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CCB3C2-5589-41F0-B6F9-40D378607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B0BB45-6329-40B4-9AA8-6B710ADA9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29E64A-9F1B-4A98-9096-0EBAFCFCC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1AC8D3-174C-4AEA-8578-4636BB49A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CF4C4A-8364-4736-920F-8654E963B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3DEC58-2633-4F9B-9659-CD1414703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A2E029-209B-4DA2-A855-4A1177DF5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ECF8C6-45AD-4B9E-861B-D30AA1EF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CC15F5-91BF-43C0-8FDD-F37CAA69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5A0431-9FE0-444A-BB4D-37547CC3E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F7BBAD-82E7-4CFE-AA1D-B6EF5A268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0775B2-68F4-4C72-A55A-479A56925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3901EF-E5F2-4929-8E17-28F4E195F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DD688E-6A84-47A6-B88F-C2A7C6209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DB84D4-3501-4108-B4AC-63EDD50B8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97510B-7E2E-4B8A-ABEA-E56C39720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2CF134-85AF-4862-903A-591694739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9CE621-59C3-4158-94C7-339FD5B3C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89BB52-FD46-4AED-A53C-47B550F5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1B27E7-7A6E-4101-885E-91BDF5308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E9AC25-DFB5-41E8-BFE7-9D76A338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6BEDCE-10D0-4647-81A3-3560A7D78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723922-5CCD-4B9C-B6CC-1631FE555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8D5ED5-BBC0-41FC-A004-49786F7DD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CC9E44-C026-4D0E-9624-2F3A04EB6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67A5DD-D6B2-4896-A93F-53178DC7E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A78F73-1179-4854-9B98-2BC083EAE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156266-4BB7-4C9C-87FC-24CF98BF6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2088DF-B448-4F0B-B35E-F8E0F9C91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39E585-56C7-483A-8F25-2375EA547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950A29-A930-4912-9346-63802A2EE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96B7D3-17B0-476C-8173-842FB805C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117CDE-1F87-4A58-8386-A57DD354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10565F-8645-4996-BE3A-596A2A46D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F7846A-333C-4D69-9C8C-AD915AB97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F9FA63-A150-4E78-ABA5-A34CFF173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A1B6E6-678F-4EC4-B6D9-D7EADF9E9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BA8AA6-4724-486F-BCB7-3FD6BB1BA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F2DBDC-BD41-4B17-9F24-2BCE7F717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22566D-CAAB-4994-9632-EFD7EB198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FA2A7C-C620-40F3-ADE6-D71B1FBDB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5B3790-2801-4949-B26A-A4F01B494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675BA6-6D25-4F91-BB40-8B7ED413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0DB659-7592-4CC7-816F-A12A993F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DB695C-D6B1-481E-B9F6-68740A5D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C64EB4-ED6B-4F45-A0D9-BB205D734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15AA8E-1B46-4466-A842-3658EEABA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582470-4B5F-48A6-AC80-383F0EF83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87B623-6E88-4AED-ACFE-6F3F069F9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1CC0D2-DB00-4933-837D-8AAB05BDD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BE2847-C6B9-4FB2-8D35-855B39A18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E22671-5257-4AA1-880F-149D78A46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0BE330-D5D8-4C7D-9E6F-FBFD5F8BD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DE78E2-550D-43F9-99FB-D691C8858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F32CAE-3DEA-447C-BA0E-D91529FF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7AF9DF-AC9B-4BC0-966B-889A22C73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B90385-8E86-4B3B-A0B0-9628E651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2C25CF-661A-48B8-9927-2B27B16F0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C238F9-688D-4501-A695-4554ACD6C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CD5A17-03C7-44E5-B824-86031FD60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B83547-A340-49F6-BB2D-98B15B028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087BD0-A821-46CC-946A-54E0B479D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893ED6-9A61-419A-A190-1B46218CB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61C3CB-40DD-4DA2-95CA-66BAD8318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1E9E53-E93C-4A9E-8D8D-78358F7F5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DA1E06-9F21-44F1-AD4B-98FED0DF9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2299F0-E80A-4C5E-B0A3-D369B32BD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BBD8D4-5B92-42D4-BF7A-EDA41E0B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2D403C-2E2D-42E8-8A71-FE63755F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FF34E6-9874-48CE-B953-AB86A843F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C48748-5F45-4427-8AFA-845955BD8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D573FC-BEEB-4618-A82E-44E896441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29A352-19E3-4FDF-A39A-E33B44D3C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E89557-F421-4BB1-8E75-84BEC95C8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248A24-4908-40E7-B7AC-41BC0DFDF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93337E-75F7-470C-839D-DE196F66C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CB3995-CAEE-4409-A04A-8B30BB666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DD64AB-AED4-42B3-AAD8-CF7CAB0B0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5081C8-18E9-4649-9B01-678A0D8AC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E1D36B-F331-46FB-958B-A736501A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2FCA65-2DF1-4B18-AF30-3A0F15E02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38708C-3569-4B73-BDD8-2E15A4173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F3469E-28AE-4716-910A-41985823E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262F20-65DA-423B-8748-0B82CD2B0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C38DF0-BDA0-4A43-BC80-FDA103A51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A5209F-0AA9-4354-962C-3ED910E10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C1966A-0C0D-47CF-8D88-74C045BDC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21C547-83B7-4EA4-89AE-959E7763F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B598FF-8AC8-40BD-A54E-553177F8D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4E24E3-BD6E-46DC-8AE6-650F76D60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4B5CEA-8D8F-4421-9AE1-98BCF180B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11F4DE-3D0D-4A33-B459-1E05E7007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6B15AA-D395-4778-955D-D97C47FC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BDAA61-ED12-4573-A4F4-B06A20D61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DCB2BB-0E37-489C-8A6F-21463C836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767117-24AC-425E-B476-288EACE8A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E843D4-5D03-488E-BB7B-B3B328D49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14E467-C9D3-43BA-A169-84A4BD7BA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0FE030-53C3-4453-9738-9DB7E931D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E10736-7A50-439C-9664-C41BC6EE1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9EB1EE-3F05-42D7-AAB4-9976F4071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BB2E75-905B-4F16-9D86-7539F5CF5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EB19E2-0D5E-4505-A798-46019405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D89369-32EA-43FF-BDAD-318AF6E23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4E536E-F032-4E1C-9C02-81C06D8FA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15EDC5-1BA2-4E9C-85BF-A0983EAD3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45B1AF-8D75-4762-B994-021DD2EFE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10FEF3-79A8-41D2-AC99-F16225443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43A573-7266-4997-9603-3954CF5A2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C6443F-6823-4E66-8071-528D1ED26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EE4008-0871-4AA9-91E1-71B7EA395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0F7C81-48D7-4FAF-A5C7-30D74A0F1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3394F5-A26C-4BD2-9D24-9D879BDB0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DFBC60-79F9-4CBB-BF0D-9AD46F53B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200614-FA09-4600-BB68-9B970B7B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5FE046-9339-428B-85A8-A4E1E3B5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2EAC03-7836-48E0-8C21-880EC897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9A4888-F9F7-4C1F-BE35-82231123F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FA27E8-5CA1-4500-AEC6-AB98C812D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0B80B1-4DE7-4CF6-BC11-AD7165F08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932079-FACA-4E32-8F5C-A7AF82CCA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19909A-5ABF-4941-A699-F83EF5409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99DBB7-2DE6-4681-A4CC-7BD174762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508C53-6B34-44D2-97FE-691A45B57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D8E199-FBD2-4DA3-9865-D34B2EC12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36F731-FB22-4415-871F-EC5B6B334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F8E76C-35D8-4A34-B400-01DBB6BF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530FD0-207F-40B2-8711-C92544431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963250-B3B3-4E88-958F-6756A26EE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FB2B60-3CF5-438E-9FA0-5D4C5AE48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E4F7C8-48B4-4B59-AA1F-47D719E0E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7206B8-0786-41BF-9C93-09C005AB3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E622A6-7FA3-4BF4-8FDB-1F53E1591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89E80E-D3D9-4B22-8B52-35E77B16A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A1FA09-0080-4268-81DF-BC7D12D24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CF5743-854F-42C8-9E4C-862FE9DAD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B0C75E-7BB1-461E-B4E1-93651940D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D80D46-4D5D-466C-A0FD-6FED0AB84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372D1C-3AAC-49C0-93B5-BF381373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142D0B-32DA-42D7-B0B0-EFCAC043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E69F7A-89E1-4435-92FC-8B42CCAA0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E3AFD6-6400-4A54-ABF9-A03CECAA6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AF9F7A-F7A0-442D-AD2D-951A9048C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E6D522-7524-4767-8FDF-928743837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4929701-CC01-416A-A1CE-29BE2170C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A25168-B72A-4EC7-B14A-AFB993AEE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4FA1C1-8404-4A62-AE4A-577199580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CE3C08-BFE5-4264-A6CA-881737671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175410-A8D2-4EB4-B036-D11DF5EB8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DA31F0-801E-4B4D-94C8-0E5F362F5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56968A-C178-4555-B4B9-52FF0983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D0A7FC-3B89-479C-84AD-EC2541B66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03283A-DFCA-4C13-8708-B601D7DF3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2D9FD5-C40C-423E-B960-31BD47F60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57A2B2-20A9-4806-B388-77288E297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E92E0A-9565-453F-8B40-2F8E37DE4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0E51-05E5-42B3-8767-21C9DBC0A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1133-B70B-4EED-B658-6A20D017F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E932-03F4-4EA6-92B7-9B5D187DC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1333-EA7E-4DB3-9B08-0FFA965D1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E657-2BD9-4E78-AD19-D29BC5C77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AC46-D1B0-4E95-9599-C48AF4FF3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2D7B-011C-4B0B-B6FB-B1E17753C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6272-EEFF-4297-8398-FCC1D281E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79A6-9DBD-456B-B13C-F60F95E6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CEF4-3C20-4514-8206-6517C7791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6606-E29F-425D-8A4E-7981E1839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9A10-C092-4E6F-A6CD-C69C987C9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91F91-1332-48C9-B239-6A974F41D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BCB3C-2FDC-4BA4-89FF-7BA2589C6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2AC26-2ADC-49E1-A2A8-E496E8D41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4F297-C4DA-45BD-B6D7-56C4B7E96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BB9EF-9CFE-4074-ABB9-FE211A774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28823-3CB3-4CD5-85FD-9B59FE563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4157F-DE5B-4C4E-A6A2-6B0544DA5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386CB-015A-41EC-949B-D1D659644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FD6FF-64ED-421C-8ED4-39F74501C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50E4A-BA31-458F-B50A-B54523286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71777-EA79-4BD4-B49D-E559963E6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72F7A-D33A-4366-9910-760697EE4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61CA0-ABED-4F68-A773-71D444354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E4A98-FA2E-4CE7-B915-52373DF8C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ACD34-D0A3-4F80-8DB4-84B8F4788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3F2FE-BFD3-4B10-B209-114423D7F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FB858-8268-46AC-924F-CF98AFF33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F6B85-0B75-4654-9FFC-0AFD21C74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7D68E-632A-48D5-B148-F5AD456F9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18302-E38C-4641-84A9-A7D2B8A28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A8E53-BAEC-46F2-882D-1716DCD29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C0A4F-0F62-467D-B209-30CB2748B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8002D-1FF5-4CF9-A7F5-CB6C75F6A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2852A-1405-41F2-807A-FCD841243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C0614-FAD1-42A1-8B29-F4DA37061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F67FE-F5D2-4456-A608-9A6AF83A3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984D8-C3E4-418B-9761-05DD7AEAD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1B05B-8152-4A97-BB20-4AED80233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2F2C4-F76D-4AC7-BAD4-CC8E70915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AF311-E99F-42AB-A028-E87B3AF9A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AE4F9-5F4C-41DF-AF50-EFBED1125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A9DEE-0639-4E6C-837B-B76F948E6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3A240-2369-4584-91B0-42A6BC615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0EA5F-9910-49C2-91CF-8359AE082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380A0-CC5D-47B3-97E1-FD81B2161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F88E2-3CEE-4CAD-A1E4-21C873ED0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13C514-6C4E-4146-97AC-E87EDD943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8378CA-2C1E-4DEB-ABA9-42162DF3A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E4CB35-0C30-4F0B-92A3-E2F783FC0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CF610-EFA0-4F5A-8664-86326A08C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B9B241-CCDC-48BA-B20F-5033C009E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142560" y="70920"/>
            <a:ext cx="7286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2B8ED-7FA2-4074-B30C-8E92DB477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89647-5C40-4C6D-9A68-2CF849B78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90E3D-1C8D-4AF5-9C9B-44FC5B1E0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87575-7CA8-487D-8A4F-911906FC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432360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15F53D-7A27-477F-9633-92EE1A5C7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78596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432360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71E842-F36C-4987-B904-DDDB18446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78596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432360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46C10E-4406-43AA-86BA-7066BF018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906C28-17E5-40F7-A581-91DD36793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4E4B36-A958-43FB-842D-6DF6CCB1D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0ADAE4-8D98-4E6B-A0A2-3ECE44146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1" name="Rounded Rectangle 7"/>
          <p:cNvGrpSpPr/>
          <p:nvPr/>
        </p:nvGrpSpPr>
        <p:grpSpPr>
          <a:xfrm>
            <a:off x="-60480" y="1182600"/>
            <a:ext cx="7479000" cy="328680"/>
            <a:chOff x="-60480" y="1182600"/>
            <a:chExt cx="7479000" cy="328680"/>
          </a:xfrm>
        </p:grpSpPr>
        <p:pic>
          <p:nvPicPr>
            <p:cNvPr id="2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82600"/>
              <a:ext cx="7479000" cy="3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" name="Picture 5" descr="AZOO1.jp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397" name="Rounded Rectangle 7"/>
          <p:cNvGrpSpPr/>
          <p:nvPr/>
        </p:nvGrpSpPr>
        <p:grpSpPr>
          <a:xfrm>
            <a:off x="-60480" y="1182600"/>
            <a:ext cx="7479000" cy="328680"/>
            <a:chOff x="-60480" y="1182600"/>
            <a:chExt cx="7479000" cy="328680"/>
          </a:xfrm>
        </p:grpSpPr>
        <p:pic>
          <p:nvPicPr>
            <p:cNvPr id="398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82600"/>
              <a:ext cx="7479000" cy="3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48575-7127-4A3D-B374-6FD54E016D0E}" type="slidenum">
              <a:rPr b="0" i="1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442" name="Rounded Rectangle 7"/>
          <p:cNvGrpSpPr/>
          <p:nvPr/>
        </p:nvGrpSpPr>
        <p:grpSpPr>
          <a:xfrm>
            <a:off x="-60480" y="1182600"/>
            <a:ext cx="7479000" cy="328680"/>
            <a:chOff x="-60480" y="1182600"/>
            <a:chExt cx="7479000" cy="328680"/>
          </a:xfrm>
        </p:grpSpPr>
        <p:pic>
          <p:nvPicPr>
            <p:cNvPr id="443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82600"/>
              <a:ext cx="7479000" cy="3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30365-5DAD-4EF1-BA16-E38E1D556897}" type="slidenum">
              <a:rPr b="0" i="1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487" name="Rounded Rectangle 7"/>
          <p:cNvGrpSpPr/>
          <p:nvPr/>
        </p:nvGrpSpPr>
        <p:grpSpPr>
          <a:xfrm>
            <a:off x="-60480" y="1182600"/>
            <a:ext cx="7479000" cy="328680"/>
            <a:chOff x="-60480" y="1182600"/>
            <a:chExt cx="7479000" cy="328680"/>
          </a:xfrm>
        </p:grpSpPr>
        <p:pic>
          <p:nvPicPr>
            <p:cNvPr id="488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82600"/>
              <a:ext cx="7479000" cy="3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7ED68-CACF-49F9-8109-89B2680C7E5C}" type="slidenum">
              <a:rPr b="0" i="1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2" name="Rounded Rectangle 7"/>
          <p:cNvGrpSpPr/>
          <p:nvPr/>
        </p:nvGrpSpPr>
        <p:grpSpPr>
          <a:xfrm>
            <a:off x="-60480" y="6613560"/>
            <a:ext cx="6405840" cy="330120"/>
            <a:chOff x="-60480" y="6613560"/>
            <a:chExt cx="6405840" cy="330120"/>
          </a:xfrm>
        </p:grpSpPr>
        <p:pic>
          <p:nvPicPr>
            <p:cNvPr id="533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13560"/>
              <a:ext cx="640584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F7FBA-EC25-4482-A611-83C062500F03}" type="slidenum">
              <a:rPr b="0" i="1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76" name="Rounded Rectangle 7"/>
          <p:cNvGrpSpPr/>
          <p:nvPr/>
        </p:nvGrpSpPr>
        <p:grpSpPr>
          <a:xfrm>
            <a:off x="-60480" y="6613560"/>
            <a:ext cx="6405840" cy="330120"/>
            <a:chOff x="-60480" y="6613560"/>
            <a:chExt cx="6405840" cy="330120"/>
          </a:xfrm>
        </p:grpSpPr>
        <p:pic>
          <p:nvPicPr>
            <p:cNvPr id="577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13560"/>
              <a:ext cx="640584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E5701-47D7-4ABD-9804-29E74F7E3AB1}" type="slidenum">
              <a:rPr b="0" i="1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20" name="Rounded Rectangle 7"/>
          <p:cNvGrpSpPr/>
          <p:nvPr/>
        </p:nvGrpSpPr>
        <p:grpSpPr>
          <a:xfrm>
            <a:off x="-60480" y="6613560"/>
            <a:ext cx="6405840" cy="330120"/>
            <a:chOff x="-60480" y="6613560"/>
            <a:chExt cx="6405840" cy="330120"/>
          </a:xfrm>
        </p:grpSpPr>
        <p:pic>
          <p:nvPicPr>
            <p:cNvPr id="621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13560"/>
              <a:ext cx="640584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2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DD5E7-7471-48DD-AA16-A710F25AEFC2}" type="slidenum">
              <a:rPr b="0" i="1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64" name="Rounded Rectangle 7"/>
          <p:cNvGrpSpPr/>
          <p:nvPr/>
        </p:nvGrpSpPr>
        <p:grpSpPr>
          <a:xfrm>
            <a:off x="-60480" y="6613560"/>
            <a:ext cx="6405840" cy="330120"/>
            <a:chOff x="-60480" y="6613560"/>
            <a:chExt cx="6405840" cy="330120"/>
          </a:xfrm>
        </p:grpSpPr>
        <p:pic>
          <p:nvPicPr>
            <p:cNvPr id="665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13560"/>
              <a:ext cx="640584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6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0963D-A609-4C26-91AE-68207E3C58C6}" type="slidenum">
              <a:rPr b="0" i="1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08" name="Rounded Rectangle 7"/>
          <p:cNvGrpSpPr/>
          <p:nvPr/>
        </p:nvGrpSpPr>
        <p:grpSpPr>
          <a:xfrm>
            <a:off x="-60480" y="6613560"/>
            <a:ext cx="6405840" cy="330120"/>
            <a:chOff x="-60480" y="6613560"/>
            <a:chExt cx="6405840" cy="330120"/>
          </a:xfrm>
        </p:grpSpPr>
        <p:pic>
          <p:nvPicPr>
            <p:cNvPr id="709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13560"/>
              <a:ext cx="640584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4F420-B044-4BFE-B40A-152DBD1263E3}" type="slidenum">
              <a:rPr b="0" i="1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1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52" name="Rounded Rectangle 7"/>
          <p:cNvGrpSpPr/>
          <p:nvPr/>
        </p:nvGrpSpPr>
        <p:grpSpPr>
          <a:xfrm>
            <a:off x="-60480" y="6613560"/>
            <a:ext cx="6405840" cy="330120"/>
            <a:chOff x="-60480" y="6613560"/>
            <a:chExt cx="6405840" cy="330120"/>
          </a:xfrm>
        </p:grpSpPr>
        <p:pic>
          <p:nvPicPr>
            <p:cNvPr id="753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13560"/>
              <a:ext cx="640584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4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3AF50-6A3F-4C12-A11C-EF0DA4705FBB}" type="slidenum">
              <a:rPr b="0" i="1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5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96" name="Rounded Rectangle 7"/>
          <p:cNvGrpSpPr/>
          <p:nvPr/>
        </p:nvGrpSpPr>
        <p:grpSpPr>
          <a:xfrm>
            <a:off x="-60480" y="6613560"/>
            <a:ext cx="6405840" cy="330120"/>
            <a:chOff x="-60480" y="6613560"/>
            <a:chExt cx="6405840" cy="330120"/>
          </a:xfrm>
        </p:grpSpPr>
        <p:pic>
          <p:nvPicPr>
            <p:cNvPr id="797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13560"/>
              <a:ext cx="640584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8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DF851-47FF-4955-9B78-3D1DB1550F8E}" type="slidenum">
              <a:rPr b="0" i="1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" name="Rounded Rectangle 7"/>
          <p:cNvGrpSpPr/>
          <p:nvPr/>
        </p:nvGrpSpPr>
        <p:grpSpPr>
          <a:xfrm>
            <a:off x="-60480" y="1182600"/>
            <a:ext cx="7479000" cy="328680"/>
            <a:chOff x="-60480" y="1182600"/>
            <a:chExt cx="7479000" cy="328680"/>
          </a:xfrm>
        </p:grpSpPr>
        <p:pic>
          <p:nvPicPr>
            <p:cNvPr id="47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82600"/>
              <a:ext cx="7479000" cy="3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9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40" name="Rounded Rectangle 7"/>
          <p:cNvGrpSpPr/>
          <p:nvPr/>
        </p:nvGrpSpPr>
        <p:grpSpPr>
          <a:xfrm>
            <a:off x="-60480" y="6613560"/>
            <a:ext cx="6405840" cy="330120"/>
            <a:chOff x="-60480" y="6613560"/>
            <a:chExt cx="6405840" cy="330120"/>
          </a:xfrm>
        </p:grpSpPr>
        <p:pic>
          <p:nvPicPr>
            <p:cNvPr id="841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13560"/>
              <a:ext cx="640584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2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32286-E69E-4D20-960F-1F7E2BC9BD21}" type="slidenum">
              <a:rPr b="0" i="1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3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84" name="Rounded Rectangle 7"/>
          <p:cNvGrpSpPr/>
          <p:nvPr/>
        </p:nvGrpSpPr>
        <p:grpSpPr>
          <a:xfrm>
            <a:off x="-60480" y="6613560"/>
            <a:ext cx="6405840" cy="330120"/>
            <a:chOff x="-60480" y="6613560"/>
            <a:chExt cx="6405840" cy="330120"/>
          </a:xfrm>
        </p:grpSpPr>
        <p:pic>
          <p:nvPicPr>
            <p:cNvPr id="885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13560"/>
              <a:ext cx="640584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6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B4856-9C03-4A1C-9923-D4577E3A1F08}" type="slidenum">
              <a:rPr b="0" i="1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28" name="Rounded Rectangle 7"/>
          <p:cNvGrpSpPr/>
          <p:nvPr/>
        </p:nvGrpSpPr>
        <p:grpSpPr>
          <a:xfrm>
            <a:off x="-60480" y="6613560"/>
            <a:ext cx="6405840" cy="330120"/>
            <a:chOff x="-60480" y="6613560"/>
            <a:chExt cx="6405840" cy="330120"/>
          </a:xfrm>
        </p:grpSpPr>
        <p:pic>
          <p:nvPicPr>
            <p:cNvPr id="929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13560"/>
              <a:ext cx="640584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0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80554-B7FD-459E-BCB7-EC2D5F4E20E9}" type="slidenum">
              <a:rPr b="0" i="1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1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72" name="Rounded Rectangle 7"/>
          <p:cNvGrpSpPr/>
          <p:nvPr/>
        </p:nvGrpSpPr>
        <p:grpSpPr>
          <a:xfrm>
            <a:off x="-60480" y="6613560"/>
            <a:ext cx="6405840" cy="330120"/>
            <a:chOff x="-60480" y="6613560"/>
            <a:chExt cx="6405840" cy="330120"/>
          </a:xfrm>
        </p:grpSpPr>
        <p:pic>
          <p:nvPicPr>
            <p:cNvPr id="973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13560"/>
              <a:ext cx="640584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4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37F26-84A3-4C37-996C-4D082B65F33A}" type="slidenum">
              <a:rPr b="0" i="1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50C93-2A89-4CFD-8031-2963B67BDD77}" type="slidenum">
              <a:rPr b="0" i="1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AZOO3.jpg"/>
          <p:cNvPicPr/>
          <p:nvPr/>
        </p:nvPicPr>
        <p:blipFill>
          <a:blip r:embed="rId2"/>
          <a:stretch/>
        </p:blipFill>
        <p:spPr>
          <a:xfrm>
            <a:off x="31680" y="0"/>
            <a:ext cx="908064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2560" y="5214600"/>
            <a:ext cx="44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grpSp>
        <p:nvGrpSpPr>
          <p:cNvPr id="87" name="Rounded Rectangle 7"/>
          <p:cNvGrpSpPr/>
          <p:nvPr/>
        </p:nvGrpSpPr>
        <p:grpSpPr>
          <a:xfrm>
            <a:off x="-60480" y="6613560"/>
            <a:ext cx="6405840" cy="330120"/>
            <a:chOff x="-60480" y="6613560"/>
            <a:chExt cx="6405840" cy="330120"/>
          </a:xfrm>
        </p:grpSpPr>
        <p:pic>
          <p:nvPicPr>
            <p:cNvPr id="88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6613560"/>
              <a:ext cx="640584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11160" y="6654960"/>
              <a:ext cx="6264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127" name="Rounded Rectangle 7"/>
          <p:cNvGrpSpPr/>
          <p:nvPr/>
        </p:nvGrpSpPr>
        <p:grpSpPr>
          <a:xfrm>
            <a:off x="-60480" y="1182600"/>
            <a:ext cx="7479000" cy="328680"/>
            <a:chOff x="-60480" y="1182600"/>
            <a:chExt cx="7479000" cy="328680"/>
          </a:xfrm>
        </p:grpSpPr>
        <p:pic>
          <p:nvPicPr>
            <p:cNvPr id="128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82600"/>
              <a:ext cx="7479000" cy="3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B5888-890A-4F4A-975F-B05ECF8533B5}" type="slidenum">
              <a:rPr b="0" i="1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172" name="Rounded Rectangle 7"/>
          <p:cNvGrpSpPr/>
          <p:nvPr/>
        </p:nvGrpSpPr>
        <p:grpSpPr>
          <a:xfrm>
            <a:off x="-60480" y="1182600"/>
            <a:ext cx="7479000" cy="328680"/>
            <a:chOff x="-60480" y="1182600"/>
            <a:chExt cx="7479000" cy="328680"/>
          </a:xfrm>
        </p:grpSpPr>
        <p:pic>
          <p:nvPicPr>
            <p:cNvPr id="173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82600"/>
              <a:ext cx="7479000" cy="3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3BDFB-D1E2-4C58-A041-298C5A035432}" type="slidenum">
              <a:rPr b="0" i="1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217" name="Rounded Rectangle 7"/>
          <p:cNvGrpSpPr/>
          <p:nvPr/>
        </p:nvGrpSpPr>
        <p:grpSpPr>
          <a:xfrm>
            <a:off x="-60480" y="1182600"/>
            <a:ext cx="7479000" cy="328680"/>
            <a:chOff x="-60480" y="1182600"/>
            <a:chExt cx="7479000" cy="328680"/>
          </a:xfrm>
        </p:grpSpPr>
        <p:pic>
          <p:nvPicPr>
            <p:cNvPr id="218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82600"/>
              <a:ext cx="7479000" cy="3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A3FAE-9FE8-46A8-BEDC-6845BF1C96F7}" type="slidenum">
              <a:rPr b="0" i="1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262" name="Rounded Rectangle 7"/>
          <p:cNvGrpSpPr/>
          <p:nvPr/>
        </p:nvGrpSpPr>
        <p:grpSpPr>
          <a:xfrm>
            <a:off x="-60480" y="1182600"/>
            <a:ext cx="7479000" cy="328680"/>
            <a:chOff x="-60480" y="1182600"/>
            <a:chExt cx="7479000" cy="328680"/>
          </a:xfrm>
        </p:grpSpPr>
        <p:pic>
          <p:nvPicPr>
            <p:cNvPr id="263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82600"/>
              <a:ext cx="7479000" cy="3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AAD1F-5932-466A-BCFC-B25439DFCDDB}" type="slidenum">
              <a:rPr b="0" i="1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307" name="Rounded Rectangle 7"/>
          <p:cNvGrpSpPr/>
          <p:nvPr/>
        </p:nvGrpSpPr>
        <p:grpSpPr>
          <a:xfrm>
            <a:off x="-60480" y="1182600"/>
            <a:ext cx="7479000" cy="328680"/>
            <a:chOff x="-60480" y="1182600"/>
            <a:chExt cx="7479000" cy="328680"/>
          </a:xfrm>
        </p:grpSpPr>
        <p:pic>
          <p:nvPicPr>
            <p:cNvPr id="308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82600"/>
              <a:ext cx="7479000" cy="3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B01B5-67EC-42A8-A397-30C029233EF2}" type="slidenum">
              <a:rPr b="0" i="1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6" descr="AZOO2.jpg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1866960"/>
          </a:xfrm>
          <a:prstGeom prst="rect">
            <a:avLst/>
          </a:prstGeom>
          <a:ln w="0">
            <a:noFill/>
          </a:ln>
        </p:spPr>
      </p:pic>
      <p:grpSp>
        <p:nvGrpSpPr>
          <p:cNvPr id="352" name="Rounded Rectangle 7"/>
          <p:cNvGrpSpPr/>
          <p:nvPr/>
        </p:nvGrpSpPr>
        <p:grpSpPr>
          <a:xfrm>
            <a:off x="-60480" y="1182600"/>
            <a:ext cx="7479000" cy="328680"/>
            <a:chOff x="-60480" y="1182600"/>
            <a:chExt cx="7479000" cy="328680"/>
          </a:xfrm>
        </p:grpSpPr>
        <p:pic>
          <p:nvPicPr>
            <p:cNvPr id="353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-60480" y="1182600"/>
              <a:ext cx="7479000" cy="3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11160" y="1225440"/>
              <a:ext cx="73357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hr-HR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C443D-85B5-4446-8F60-1E97B727026C}" type="slidenum">
              <a:rPr b="0" i="1" lang="hr-HR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azoo.hr/" TargetMode="External"/><Relationship Id="rId2" Type="http://schemas.openxmlformats.org/officeDocument/2006/relationships/hyperlink" Target="http://www.azoo.hr/" TargetMode="External"/><Relationship Id="rId3" Type="http://schemas.openxmlformats.org/officeDocument/2006/relationships/hyperlink" Target="http://www.azoo.hr/" TargetMode="External"/><Relationship Id="rId4" Type="http://schemas.openxmlformats.org/officeDocument/2006/relationships/hyperlink" Target="http://www.mzos.hr/" TargetMode="External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68360" y="19162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200" spc="-1" strike="noStrike">
                <a:solidFill>
                  <a:srgbClr val="c00000"/>
                </a:solidFill>
                <a:latin typeface="Arial"/>
              </a:rPr>
              <a:t>Kurikulum građanskog odgoja i obrazovanja</a:t>
            </a:r>
            <a:endParaRPr b="1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 type="subTitle"/>
          </p:nvPr>
        </p:nvSpPr>
        <p:spPr>
          <a:xfrm>
            <a:off x="1403280" y="4149720"/>
            <a:ext cx="6400800" cy="17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1f497d"/>
                </a:solidFill>
                <a:latin typeface="Arial"/>
                <a:ea typeface="Arial"/>
              </a:rPr>
              <a:t>Međužupanijski stručni skup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1f497d"/>
                </a:solidFill>
                <a:latin typeface="Arial"/>
                <a:ea typeface="Arial"/>
              </a:rPr>
              <a:t>za voditelje ŽSV-a učitelja i nastavnika geografije, mentore i savjetnik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1f497d"/>
                </a:solidFill>
                <a:latin typeface="Arial"/>
                <a:ea typeface="Arial"/>
              </a:rPr>
              <a:t>Elektrotehnička i prometna škola Osijek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1f497d"/>
                </a:solidFill>
                <a:latin typeface="Arial"/>
                <a:ea typeface="Arial"/>
              </a:rPr>
              <a:t>8. siječnja 2013., Osij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3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0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0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0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0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10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0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c00000"/>
                </a:solidFill>
                <a:latin typeface="Arial"/>
                <a:ea typeface="Arial"/>
              </a:rPr>
              <a:t>Elementi ocjenjivanja postignuća učenika u razvoju građanske kompetencije</a:t>
            </a:r>
            <a:endParaRPr b="1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85" name=""/>
          <p:cNvSpPr txBox="1"/>
          <p:nvPr/>
        </p:nvSpPr>
        <p:spPr>
          <a:xfrm>
            <a:off x="457200" y="1785600"/>
            <a:ext cx="829152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Arial"/>
                <a:ea typeface="Arial"/>
              </a:rPr>
              <a:t>Kada se građanski odgoj i obrazovanje ostvaruje kao </a:t>
            </a:r>
            <a:r>
              <a:rPr b="1" i="1" lang="vi-VN" sz="2000" spc="-1" strike="noStrike">
                <a:solidFill>
                  <a:srgbClr val="000000"/>
                </a:solidFill>
                <a:latin typeface="Arial"/>
                <a:ea typeface="Arial"/>
              </a:rPr>
              <a:t>izborni ili redoviti predmet 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  <a:ea typeface="Arial"/>
              </a:rPr>
              <a:t>podliježe Pravilniku o praćenju i ocjenjivanju odgojno-obrazovnih postignuća učenika u osnovnoj i srednjoj škol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Arial"/>
                <a:ea typeface="Arial"/>
              </a:rPr>
              <a:t>Kada se građanski odgoj i obrazovanje ostvaruje kao </a:t>
            </a:r>
            <a:r>
              <a:rPr b="1" i="1" lang="vi-VN" sz="2000" spc="-1" strike="noStrike">
                <a:solidFill>
                  <a:srgbClr val="000000"/>
                </a:solidFill>
                <a:latin typeface="Arial"/>
                <a:ea typeface="Arial"/>
              </a:rPr>
              <a:t>među predmetna tema, modularno, izvan-nastavno 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  <a:ea typeface="Arial"/>
              </a:rPr>
              <a:t>u svim razinama odgoja i obrazovanja u eksperimentalnoj fazi se ne ocjenjuj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Arial"/>
                <a:ea typeface="Arial"/>
              </a:rPr>
              <a:t>Tijekom eksperimentalne faze provjerit će se više mogućnosti i modela u eksperimentalnim školama, nakon čega će se najprikladniji model ocjenjivanja preporučiti svim školam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00000"/>
                </a:solidFill>
                <a:latin typeface="Arial"/>
                <a:ea typeface="Arial"/>
              </a:rPr>
              <a:t>Elementi ocjenjivanja postignuća učenika u razvoju građanske kompetencije</a:t>
            </a:r>
            <a:endParaRPr b="1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Činjenično znanje i razumijevanje – znanje što i znanje zašto: </a:t>
            </a:r>
            <a:r>
              <a:rPr b="1" i="1" lang="vi-VN" sz="2000" spc="-1" strike="noStrike">
                <a:solidFill>
                  <a:srgbClr val="000000"/>
                </a:solidFill>
                <a:latin typeface="Arial"/>
                <a:ea typeface="Arial"/>
              </a:rPr>
              <a:t>razumijevanje pojmova, vrednota, procesa, institucija i zakonitosti koje čine temelj aktivnog i odgovornog građanstva; potvrđuje se imenovanjem, određivanjem, opisivanjem, analizom, tumačenjem, usporedbom, vrednovanjem i zaključivanj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Provedbeno znanje – znanje kako: </a:t>
            </a:r>
            <a:r>
              <a:rPr b="1" i="1" lang="vi-VN" sz="2000" spc="-1" strike="noStrike">
                <a:solidFill>
                  <a:srgbClr val="000000"/>
                </a:solidFill>
                <a:latin typeface="Arial"/>
                <a:ea typeface="Arial"/>
              </a:rPr>
              <a:t>razvoj i primjena građanskih vještina i sposobnosti prilikom rješavanja problema koji spadaju u područje aktivnog i odgovornog građanstva; potvrđuje se uspješnom primjenom stečenih ili inovativnih znanja i vještina u konkretnoj situacij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Vrijednosno usmjerenje: </a:t>
            </a:r>
            <a:r>
              <a:rPr b="1" i="1" lang="vi-VN" sz="2000" spc="-1" strike="noStrike">
                <a:solidFill>
                  <a:srgbClr val="000000"/>
                </a:solidFill>
                <a:latin typeface="Arial"/>
                <a:ea typeface="Arial"/>
              </a:rPr>
              <a:t>razumijevanje i prihvaćanje vrednota koje čine temelj aktivnog i odgovornog građanstva; potvrđuje se odgovarajućim obrascima ponašan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00000"/>
                </a:solidFill>
                <a:latin typeface="Arial"/>
                <a:ea typeface="Arial"/>
              </a:rPr>
              <a:t>Vođenje dokumentacije za praćenje i ocjenjivanje GOO-a</a:t>
            </a:r>
            <a:endParaRPr b="1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89" name=""/>
          <p:cNvSpPr txBox="1"/>
          <p:nvPr/>
        </p:nvSpPr>
        <p:spPr>
          <a:xfrm>
            <a:off x="457200" y="1785960"/>
            <a:ext cx="8229600" cy="31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GOO kao međupredmetna tem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, izvan-nastavno u svim razinama odgoja i obrazovanja – rubrika u imeniku GOO, ocjene se upisuju u odgovarajuću rubriku u imeniku, u rubriku zapažanja i bilježaka vrsta aktivnosti prema elementima ocjenjivan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GOO kao nastavni predmet: u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konačnoj ocjeni uzimaju se u obzir evidencije o postignuću učenika u međupredmetnom ostvarivanju GOO-a, jedna konačna ocjena  iz GOO-a, ocjene se upisuju u odgovarajuću rubriku u imeniku, a u rubriku zapažanja i bilježaka vrsta aktivnosti prema elementima ocjenjivan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00000"/>
                </a:solidFill>
                <a:latin typeface="Arial"/>
                <a:ea typeface="Arial"/>
              </a:rPr>
              <a:t>Vođenje dokumentacije za praćenje i ocjenjivanje GOO-a</a:t>
            </a:r>
            <a:endParaRPr b="1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91" name=""/>
          <p:cNvSpPr txBox="1"/>
          <p:nvPr/>
        </p:nvSpPr>
        <p:spPr>
          <a:xfrm>
            <a:off x="468360" y="1557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Razredna mapa za GOO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-  podaci i materijali o tome kako su ostvarili planirane aktivnosti GOO-a s učenicima određenog razre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Učenički dnevnik iz GOO-a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– učenik opisuje u kojim je projektima i aktivnostima sudjelovao, što je tijekom godine izradio u vezi GOO – zapažanja, bilježaka, osvrti na naučeno, nove ideje i rješenja do kojih je došao. Prilaže potvrde, priznanja, zahvalnice, učeničke radov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00000"/>
                </a:solidFill>
                <a:latin typeface="Arial"/>
                <a:ea typeface="Arial"/>
              </a:rPr>
              <a:t>Upute za rad</a:t>
            </a:r>
            <a:endParaRPr b="1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93" name=""/>
          <p:cNvSpPr txBox="1"/>
          <p:nvPr/>
        </p:nvSpPr>
        <p:spPr>
          <a:xfrm>
            <a:off x="468360" y="162864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koristiti  interaktivne i participativne  metode učenja i poučavanja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kreirati i osmišljavati nova rješenja za nastavne procese usmjerene prema učeniku i više individualiziranim oblicima učenja - daroviti, djeca s teškoćama, različite sposobnosti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pronalaziti u čemu učenik može biti uspješan, na tome graditi njegovo samopouzdanje, motivaciju i uspjeh u učenj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omogućavati prepoznavanje talenata kao uporišta za uspješno učenje i planiranje uspješnog profesionalnog razvo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00000"/>
                </a:solidFill>
                <a:latin typeface="Arial"/>
                <a:ea typeface="Arial"/>
              </a:rPr>
              <a:t>Izvori i literatura, odluke i materijali</a:t>
            </a:r>
            <a:endParaRPr b="1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95" name=""/>
          <p:cNvSpPr txBox="1"/>
          <p:nvPr/>
        </p:nvSpPr>
        <p:spPr>
          <a:xfrm>
            <a:off x="394920" y="1844640"/>
            <a:ext cx="7993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www.</a:t>
            </a:r>
            <a:r>
              <a:rPr b="0" lang="hr-HR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azoo</a:t>
            </a:r>
            <a:r>
              <a:rPr b="0" lang="hr-HR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.h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4"/>
              </a:rPr>
              <a:t>www.mzos.h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  <a:ea typeface="Arial"/>
              </a:rPr>
              <a:t>Literatura i izvori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  <a:ea typeface="Arial"/>
              </a:rPr>
              <a:t>Kurikulum građanskog odgoja i obrazovanj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  <a:ea typeface="Arial"/>
              </a:rPr>
              <a:t>Lončarić Jelačić, N.: Osnovne odrednice GOO-a i mogućnosti njegova integriranja u plan i program ško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  <a:ea typeface="Arial"/>
              </a:rPr>
              <a:t>www.azoo.h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324000" y="494136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Zahvaljujem na pažnji! </a:t>
            </a:r>
            <a:br>
              <a:rPr sz="2800"/>
            </a:br>
            <a:endParaRPr b="1" lang="en-US" sz="2800" spc="-1" strike="noStrike">
              <a:solidFill>
                <a:srgbClr val="c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00000"/>
                </a:solidFill>
                <a:latin typeface="Arial"/>
                <a:ea typeface="Arial"/>
              </a:rPr>
              <a:t>                                </a:t>
            </a:r>
            <a:r>
              <a:rPr b="1" lang="hr-HR" sz="2800" spc="-1" strike="noStrike">
                <a:solidFill>
                  <a:srgbClr val="c00000"/>
                </a:solidFill>
                <a:latin typeface="Arial"/>
                <a:ea typeface="Arial"/>
              </a:rPr>
              <a:t>Ishod/ postignuće </a:t>
            </a:r>
            <a:endParaRPr b="1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66" name=""/>
          <p:cNvSpPr txBox="1"/>
          <p:nvPr/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Učenik kao emancipirani i društveno angažirani građanin različitih zajednica u kojima ima status nositelja prava i odgovornost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08000" y="2016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c00000"/>
                </a:solidFill>
                <a:latin typeface="Arial"/>
                <a:ea typeface="Arial"/>
              </a:rPr>
              <a:t>                </a:t>
            </a:r>
            <a:r>
              <a:rPr b="1" lang="vi-VN" sz="2000" spc="-1" strike="noStrike">
                <a:solidFill>
                  <a:srgbClr val="c00000"/>
                </a:solidFill>
                <a:latin typeface="Arial"/>
                <a:ea typeface="Arial"/>
              </a:rPr>
              <a:t>Status građanskog odgoja i obrazovanja u hrvatskom odgojno-</a:t>
            </a:r>
            <a:br>
              <a:rPr sz="2000"/>
            </a:br>
            <a:r>
              <a:rPr b="1" lang="hr-HR" sz="2000" spc="-1" strike="noStrike">
                <a:solidFill>
                  <a:srgbClr val="c00000"/>
                </a:solidFill>
                <a:latin typeface="Arial"/>
                <a:ea typeface="Arial"/>
              </a:rPr>
              <a:t>                                   </a:t>
            </a:r>
            <a:r>
              <a:rPr b="1" lang="vi-VN" sz="2000" spc="-1" strike="noStrike">
                <a:solidFill>
                  <a:srgbClr val="c00000"/>
                </a:solidFill>
                <a:latin typeface="Arial"/>
                <a:ea typeface="Arial"/>
              </a:rPr>
              <a:t>obrazovnom sustavu od 1999. do 2012. godine</a:t>
            </a:r>
            <a:endParaRPr b="1" lang="en-US" sz="2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68" name=""/>
          <p:cNvSpPr txBox="1"/>
          <p:nvPr/>
        </p:nvSpPr>
        <p:spPr>
          <a:xfrm>
            <a:off x="457200" y="1785960"/>
            <a:ext cx="8229600" cy="43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Arial"/>
                <a:ea typeface="Arial"/>
              </a:rPr>
              <a:t>1999. godine Vlada Republike Hrvatske donosi prvi Nacionalni program odgoja i obrazovanja za ljudska prava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  <a:ea typeface="Arial"/>
              </a:rPr>
              <a:t>lukom Vlade (Klasa: 004-01/99-01/05, urbroj: 503018-99-17, od 14. listopada 1999. obvezuje se Ministarstvo znanosti, obrazovanja i sporta na njegovu primjen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Arial"/>
                <a:ea typeface="Arial"/>
              </a:rPr>
              <a:t>Provedba toga programa ostala je na dobrovoljnoj osnovi sve do ove, 2012. godine, kada je dovršen novi Kurikulum građanskog odgoja i obrazovanja, a ministar je donio odluku o njegovoj eksperimentalnoj provedb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Arial"/>
                <a:ea typeface="Arial"/>
              </a:rPr>
              <a:t>Tijekom proteklog desetljeća razvijeni su brojni primjeri dobre prakse koji su, između ostalog, omogućili razvoj ovog Kurikulum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Arial"/>
                <a:ea typeface="Arial"/>
              </a:rPr>
              <a:t>Veći broj nacionalnih programa (od njih 34) integriran  je u odgojno-obrazovni sustav kroz Građanski odgoj i obrazovan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00000"/>
                </a:solidFill>
                <a:latin typeface="Arial"/>
                <a:ea typeface="Arial"/>
              </a:rPr>
              <a:t>Eksperimentalna provedba GOO-a, šk.god. 2012/13. i 2013/14., 12 škola</a:t>
            </a:r>
            <a:endParaRPr b="1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70" name=""/>
          <p:cNvSpPr txBox="1"/>
          <p:nvPr/>
        </p:nvSpPr>
        <p:spPr>
          <a:xfrm>
            <a:off x="457200" y="1785960"/>
            <a:ext cx="40384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IPA projekt i MM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OŠ Ivan Goran Kovačić, Petrin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OŠ „Ivan Goran Kovačić”, Duga Res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OŠ Siniše Glavaševića, Vukov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OŠ „Ivan Goran Kovačić”, Velik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Ekonomska i turistička škola,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Daruv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Srednja škola Obrovac, Obrova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"/>
          <p:cNvSpPr txBox="1"/>
          <p:nvPr/>
        </p:nvSpPr>
        <p:spPr>
          <a:xfrm>
            <a:off x="4648320" y="1785960"/>
            <a:ext cx="40384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AZOO i MZO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OŠ „Đuro Ester”, Koprivn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III. osnovna škola Čakovec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Čakove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OŠ Pavleka Miškine, Zagre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OŠ Matije Gupca, Zagre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Gimnazija „Fran Galović”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Koprivn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Srednja škola Dugo Selo, Dugo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Sel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728640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2800" spc="-1" strike="noStrike">
                <a:solidFill>
                  <a:srgbClr val="c00000"/>
                </a:solidFill>
                <a:latin typeface="Arial"/>
              </a:rPr>
              <a:t>Dokument</a:t>
            </a:r>
            <a:endParaRPr b="1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Arial"/>
              </a:rPr>
              <a:t>Okvir za razvoj kurikuluma GOO-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Arial"/>
              </a:rPr>
              <a:t>Nastavni plan GOO-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Arial"/>
              </a:rPr>
              <a:t>Elementi ocjenjivanja postignuća učenika u razvoju građanske kompetenci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Arial"/>
              </a:rPr>
              <a:t>Vođenje dokumentacije za praćenje i ocjenjivanje GOO-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Arial"/>
              </a:rPr>
              <a:t>Kompetencije učitelja za poučavanje i učenje GOO-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Arial"/>
              </a:rPr>
              <a:t>Kadrovski uvjeti za ostvarivanje kurikuluma GOO-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Arial"/>
              </a:rPr>
              <a:t>Ishodi ostvarivanja GOO-a po ciklusim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Arial"/>
              </a:rPr>
              <a:t>Izvori učenja i poučavanj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00000"/>
                </a:solidFill>
                <a:latin typeface="Arial"/>
                <a:ea typeface="Arial"/>
              </a:rPr>
              <a:t>Kompetencija, ishod učenja, postignuće</a:t>
            </a:r>
            <a:endParaRPr b="1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75" name=""/>
          <p:cNvSpPr txBox="1"/>
          <p:nvPr/>
        </p:nvSpPr>
        <p:spPr>
          <a:xfrm>
            <a:off x="457200" y="1785960"/>
            <a:ext cx="40384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Odgoj, obrazovanje, izobrazba, usavršavanje, samoučenje sa svrhom ispunjavanja potreba pojedinca i društvene zajedn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"/>
          <p:cNvSpPr txBox="1"/>
          <p:nvPr/>
        </p:nvSpPr>
        <p:spPr>
          <a:xfrm>
            <a:off x="4648320" y="1785600"/>
            <a:ext cx="4038480" cy="22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Znanja, vještine, stavovi i ponašanje koji odgovaraju standardima učinkovitog obavljanja nekog zadatka, a osiguravaju se odgojem i obrazovanje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-3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00000"/>
                </a:solidFill>
                <a:latin typeface="Arial"/>
                <a:ea typeface="Arial"/>
              </a:rPr>
              <a:t>Građanska kompetencija</a:t>
            </a:r>
            <a:endParaRPr b="1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graphicFrame>
        <p:nvGraphicFramePr>
          <p:cNvPr id="1078" name=""/>
          <p:cNvGraphicFramePr/>
          <p:nvPr/>
        </p:nvGraphicFramePr>
        <p:xfrm>
          <a:off x="468360" y="1844640"/>
          <a:ext cx="8066160" cy="3932280"/>
        </p:xfrm>
        <a:graphic>
          <a:graphicData uri="http://schemas.openxmlformats.org/drawingml/2006/table">
            <a:tbl>
              <a:tblPr/>
              <a:tblGrid>
                <a:gridCol w="3168720"/>
                <a:gridCol w="4897440"/>
              </a:tblGrid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dgojno-obrazovni ciklu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ipadništvo određenoj zajednici u sklopu koje učenik ostvaruje odgovarajuća prava i ima odgovarajuće odgovornosti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 ciklus (1.  - 4. razred OŠ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čenik kao građanin razredne, školske i lokalne zajednic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 i 3. ciklus (5.  - 8. razred OŠ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čenik kao građanin hrvatske domovinske zajednic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r-H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 ciklus (1. i 2. razred SŠ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čenik kao građanin hrvatske domovinske zajednice te građanin europske i međunarodne zajednic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00000"/>
                </a:solidFill>
                <a:latin typeface="Arial"/>
                <a:ea typeface="Arial"/>
              </a:rPr>
              <a:t>Dimenzije građanske kompetencije</a:t>
            </a:r>
            <a:endParaRPr b="1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80" name=""/>
          <p:cNvSpPr txBox="1"/>
          <p:nvPr/>
        </p:nvSpPr>
        <p:spPr>
          <a:xfrm>
            <a:off x="457200" y="1785960"/>
            <a:ext cx="40384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Funkcionaln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Znanje i razumijev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Vještine i sposobno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Vrijednosti i stavov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"/>
          <p:cNvSpPr txBox="1"/>
          <p:nvPr/>
        </p:nvSpPr>
        <p:spPr>
          <a:xfrm>
            <a:off x="4648320" y="1785960"/>
            <a:ext cx="40384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Strukturn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Ljudskoprav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Politič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Društve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Kultur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Gospodars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Ekološk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142560" y="70920"/>
            <a:ext cx="72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c00000"/>
                </a:solidFill>
                <a:latin typeface="Arial"/>
                <a:ea typeface="Arial"/>
              </a:rPr>
              <a:t>Nastavni plan GOO-a</a:t>
            </a:r>
            <a:endParaRPr b="1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vi-VN" sz="2000" spc="-1" strike="noStrike">
                <a:solidFill>
                  <a:srgbClr val="000000"/>
                </a:solidFill>
                <a:latin typeface="Arial"/>
                <a:ea typeface="Arial"/>
              </a:rPr>
              <a:t>1.- 4.  razred OŠ: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  <a:ea typeface="Arial"/>
              </a:rPr>
              <a:t>međupredmetno, izvan-nastavno:  projekti škole i društvene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  <a:ea typeface="Arial"/>
              </a:rPr>
              <a:t>zajednice u sklopu školskog kurik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uluma; uz mogućnost odabira modularnog pristup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vi-VN" sz="2000" spc="-1" strike="noStrike">
                <a:solidFill>
                  <a:srgbClr val="000000"/>
                </a:solidFill>
                <a:latin typeface="Arial"/>
                <a:ea typeface="Arial"/>
              </a:rPr>
              <a:t>5.- 8. razred OŠ:</a:t>
            </a:r>
            <a:r>
              <a:rPr b="1" i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  <a:ea typeface="Arial"/>
              </a:rPr>
              <a:t>međupredmetno, izvan-nastavno: projekti škole i društvene zajednice u sklopu školskog kurikuluma, s mogućnošću izbornog predmeta u 7. i 8. razredu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  <a:ea typeface="Arial"/>
              </a:rPr>
              <a:t>UKUPNO 35 sati godišnje, obvezno + 35 sati predmet ili moduli, izborn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i="1" lang="vi-VN" sz="2000" spc="-1" strike="noStrike">
                <a:solidFill>
                  <a:srgbClr val="000000"/>
                </a:solidFill>
                <a:latin typeface="Arial"/>
                <a:ea typeface="Arial"/>
              </a:rPr>
              <a:t>.-</a:t>
            </a:r>
            <a:r>
              <a:rPr b="1" i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vi-VN" sz="2000" spc="-1" strike="noStrike">
                <a:solidFill>
                  <a:srgbClr val="000000"/>
                </a:solidFill>
                <a:latin typeface="Arial"/>
                <a:ea typeface="Arial"/>
              </a:rPr>
              <a:t>2. razred SŠ: 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  <a:ea typeface="Arial"/>
              </a:rPr>
              <a:t>obvezni predmet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  <a:ea typeface="Arial"/>
              </a:rPr>
              <a:t> UKUPNO 35 sati godišnje, obvezno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  <a:ea typeface="Arial"/>
              </a:rPr>
              <a:t>međupredmetno, modularno, izvan-nastavno: projekti škole i društvene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  <a:ea typeface="Arial"/>
              </a:rPr>
              <a:t>zajednice u sklopu školskog kurikulum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  <a:ea typeface="Arial"/>
              </a:rPr>
              <a:t>UKUPNO 15 sati godišnje, obvezn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vi-VN" sz="2000" spc="-1" strike="noStrike">
                <a:solidFill>
                  <a:srgbClr val="000000"/>
                </a:solidFill>
                <a:latin typeface="Arial"/>
                <a:ea typeface="Arial"/>
              </a:rPr>
              <a:t>3.-</a:t>
            </a:r>
            <a:r>
              <a:rPr b="1" i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vi-VN" sz="2000" spc="-1" strike="noStrike">
                <a:solidFill>
                  <a:srgbClr val="000000"/>
                </a:solidFill>
                <a:latin typeface="Arial"/>
                <a:ea typeface="Arial"/>
              </a:rPr>
              <a:t>4. razred SŠ</a:t>
            </a:r>
            <a:r>
              <a:rPr b="1" i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  <a:ea typeface="Arial"/>
              </a:rPr>
              <a:t>modularno – tematski usmjereno na struku, izvan-nastavno: istraživački projekti škole i društvene zajednice u sklopu školskog kurikulum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  <a:ea typeface="Arial"/>
              </a:rPr>
              <a:t>UKUPNO 35 sati godišnje, obvezn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burcar</cp:lastModifiedBy>
  <dcterms:modified xsi:type="dcterms:W3CDTF">2013-09-23T11:01:42Z</dcterms:modified>
  <cp:revision>1</cp:revision>
  <dc:subject/>
  <dc:title>Kurikulum građanskog odgoja i obrazovanja</dc:title>
</cp:coreProperties>
</file>