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D507-19D0-4594-AE60-22CC10F8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E6B-E67B-47AB-83FA-1AC969D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748A-94D8-4317-BF16-DF449D30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6C6-9994-4C10-94D5-D7691C82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F7A-04C0-489A-80F4-3549C6506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9AF3-BD2B-44BC-BA32-17088952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42D-3082-41E8-86B2-61DB35E8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B1E-A4C5-40FD-95F4-A152C13F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D51-0BB9-4A4A-A0C6-7D41C2A4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3FD-293E-4145-A83E-A8E3F7E5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A40E-8255-4B36-AFDA-1A503BA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1713-103A-4897-949C-BE0E30E4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CC8F-6878-4736-92A6-6B72DD1281C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Georgia"/>
              </a:rPr>
              <a:t>DANAS UČENIK = SUTRA GRAĐAN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os-mokosica.skole.hr/upload/os-mokosica/images/static3/1183/Image/u%C4%8Denici%20u%20klupi.jpg"/>
          <p:cNvPicPr/>
          <p:nvPr/>
        </p:nvPicPr>
        <p:blipFill>
          <a:blip r:embed="rId1"/>
          <a:srcRect l="0" t="0" r="0" b="6765"/>
          <a:stretch/>
        </p:blipFill>
        <p:spPr>
          <a:xfrm rot="20832600">
            <a:off x="731880" y="2769840"/>
            <a:ext cx="2808360" cy="27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Picture 6" descr="http://www.makarska-danas.com/wp-content/uploads/2011/12/Voters.jpg"/>
          <p:cNvPicPr/>
          <p:nvPr/>
        </p:nvPicPr>
        <p:blipFill>
          <a:blip r:embed="rId2"/>
          <a:stretch/>
        </p:blipFill>
        <p:spPr>
          <a:xfrm rot="738600">
            <a:off x="4745160" y="2859120"/>
            <a:ext cx="3730680" cy="27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4" name="pink panther.wma" descr=""/>
          <p:cNvPicPr/>
          <p:nvPr/>
        </p:nvPicPr>
        <p:blipFill>
          <a:blip r:embed="rId3"/>
          <a:stretch/>
        </p:blipFill>
        <p:spPr>
          <a:xfrm>
            <a:off x="3995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453708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I odgovore na brojna druga pitanja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544500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ff0000"/>
                </a:solidFill>
                <a:latin typeface="Calibri"/>
              </a:rPr>
              <a:t>Vidimo se uskoro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2"/>
          <p:cNvSpPr/>
          <p:nvPr/>
        </p:nvSpPr>
        <p:spPr>
          <a:xfrm>
            <a:off x="155520" y="-1363680"/>
            <a:ext cx="285768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http://wealth4all.mojnetposao.info/wealth4all/wp-content/uploads/2012/05/pitanje1.jpg"/>
          <p:cNvPicPr/>
          <p:nvPr/>
        </p:nvPicPr>
        <p:blipFill>
          <a:blip r:embed="rId1"/>
          <a:srcRect l="13681" t="0" r="14009" b="6889"/>
          <a:stretch/>
        </p:blipFill>
        <p:spPr>
          <a:xfrm>
            <a:off x="4932360" y="549360"/>
            <a:ext cx="364644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000000"/>
                </a:solidFill>
                <a:latin typeface="Georgia"/>
              </a:rPr>
              <a:t>Nastavnice GOO-a Vas uvode u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sphotos-f.ak.fbcdn.net/hphotos-ak-prn1/557132_10151177593627138_1236153291_n.jpg"/>
          <p:cNvPicPr/>
          <p:nvPr/>
        </p:nvPicPr>
        <p:blipFill>
          <a:blip r:embed="rId1"/>
          <a:stretch/>
        </p:blipFill>
        <p:spPr>
          <a:xfrm>
            <a:off x="1590840" y="1212840"/>
            <a:ext cx="5243400" cy="964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50920" y="476280"/>
            <a:ext cx="2952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civilno druš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odgovornosti građ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vladavinu pr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odraz.hr/news/big/media/106283/shutterstock_earth.jpg"/>
          <p:cNvPicPr/>
          <p:nvPr/>
        </p:nvPicPr>
        <p:blipFill>
          <a:blip r:embed="rId1"/>
          <a:stretch/>
        </p:blipFill>
        <p:spPr>
          <a:xfrm>
            <a:off x="5138640" y="-6480"/>
            <a:ext cx="2176560" cy="2170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www.poslovni-savjetnik.com/sites/default/files/imagecache/slika_vijesti_velika/y207974215144255.jpg"/>
          <p:cNvPicPr/>
          <p:nvPr/>
        </p:nvPicPr>
        <p:blipFill>
          <a:blip r:embed="rId2"/>
          <a:stretch/>
        </p:blipFill>
        <p:spPr>
          <a:xfrm>
            <a:off x="4643280" y="2133720"/>
            <a:ext cx="288144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Picture 6" descr="http://media.gorannecin.rs/2010/09/Dru%C5%A1tvo-pravda.jpg"/>
          <p:cNvPicPr/>
          <p:nvPr/>
        </p:nvPicPr>
        <p:blipFill>
          <a:blip r:embed="rId3"/>
          <a:srcRect l="38718" t="0" r="0" b="0"/>
          <a:stretch/>
        </p:blipFill>
        <p:spPr>
          <a:xfrm>
            <a:off x="2627280" y="4653000"/>
            <a:ext cx="2011320" cy="1979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1" name="Picture 8" descr="http://static.burza.com.hr/clanci/gavel.jpg"/>
          <p:cNvPicPr/>
          <p:nvPr/>
        </p:nvPicPr>
        <p:blipFill>
          <a:blip r:embed="rId4"/>
          <a:stretch/>
        </p:blipFill>
        <p:spPr>
          <a:xfrm>
            <a:off x="4853160" y="4718160"/>
            <a:ext cx="4248000" cy="1993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Bavit ćete s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484280"/>
            <a:ext cx="33130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volontiranj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socijalnom solidarnošć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http://www.vcst.info/images/stories/volonteri.jpg"/>
          <p:cNvPicPr/>
          <p:nvPr/>
        </p:nvPicPr>
        <p:blipFill>
          <a:blip r:embed="rId1"/>
          <a:stretch/>
        </p:blipFill>
        <p:spPr>
          <a:xfrm>
            <a:off x="6261120" y="-6480"/>
            <a:ext cx="2889360" cy="288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czn.hr/Multimedija/Slike/Akcije/velikaAkcija_%C2%BBDobro_se_dobrim_vraca%C2%AB.jpg"/>
          <p:cNvPicPr/>
          <p:nvPr/>
        </p:nvPicPr>
        <p:blipFill>
          <a:blip r:embed="rId2"/>
          <a:stretch/>
        </p:blipFill>
        <p:spPr>
          <a:xfrm>
            <a:off x="2670120" y="3425760"/>
            <a:ext cx="6639120" cy="3687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os-sinise-glavasevica-vu.skole.hr/upload/os-sinise-glavasevica-vu/images/static3/1463/Image/ZADRUGA_ZASTAVA_novo.jpg"/>
          <p:cNvPicPr/>
          <p:nvPr/>
        </p:nvPicPr>
        <p:blipFill>
          <a:blip r:embed="rId3"/>
          <a:stretch/>
        </p:blipFill>
        <p:spPr>
          <a:xfrm>
            <a:off x="539640" y="4869000"/>
            <a:ext cx="2160720" cy="1441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1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1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6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600"/>
                            </p:stCondLst>
                            <p:childTnLst>
                              <p:par>
                                <p:cTn id="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7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Putovat ćet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8920" y="2349000"/>
            <a:ext cx="3251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različitim kulturama i religij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egeografija.org/wp-content/uploads/2012/03/religije-296x300.jpg"/>
          <p:cNvPicPr/>
          <p:nvPr/>
        </p:nvPicPr>
        <p:blipFill>
          <a:blip r:embed="rId2"/>
          <a:stretch/>
        </p:blipFill>
        <p:spPr>
          <a:xfrm>
            <a:off x="4834080" y="1085760"/>
            <a:ext cx="3498840" cy="4503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Upoznat ćet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000" y="1483920"/>
            <a:ext cx="403236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političke institucije i jedinice lokalne samoupr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gong.hr/slike/sabor13.jpg"/>
          <p:cNvPicPr/>
          <p:nvPr/>
        </p:nvPicPr>
        <p:blipFill>
          <a:blip r:embed="rId1"/>
          <a:stretch/>
        </p:blipFill>
        <p:spPr>
          <a:xfrm>
            <a:off x="390600" y="3492360"/>
            <a:ext cx="3797280" cy="2536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gong.hr/slike/Razno/1_1.jpg"/>
          <p:cNvPicPr/>
          <p:nvPr/>
        </p:nvPicPr>
        <p:blipFill>
          <a:blip r:embed="rId2"/>
          <a:stretch/>
        </p:blipFill>
        <p:spPr>
          <a:xfrm>
            <a:off x="4853160" y="396720"/>
            <a:ext cx="3790800" cy="2535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http://cache2.allpostersimages.com/p/LRG/21/2199/34HAD00Z/posters/bob-marley.jpg"/>
          <p:cNvPicPr/>
          <p:nvPr/>
        </p:nvPicPr>
        <p:blipFill>
          <a:blip r:embed="rId3"/>
          <a:srcRect l="13229" t="11887" r="11169" b="12511"/>
          <a:stretch/>
        </p:blipFill>
        <p:spPr>
          <a:xfrm>
            <a:off x="5364000" y="3068640"/>
            <a:ext cx="3600720" cy="3600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Prepoznat ćete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5805000"/>
            <a:ext cx="785808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značenje i važnost prava na zdravi okoli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2012-transformacijasvijesti.com/wp-content/uploads/2012/07/Industrija-tehnologija.jpg"/>
          <p:cNvPicPr/>
          <p:nvPr/>
        </p:nvPicPr>
        <p:blipFill>
          <a:blip r:embed="rId1"/>
          <a:stretch/>
        </p:blipFill>
        <p:spPr>
          <a:xfrm>
            <a:off x="826920" y="1341360"/>
            <a:ext cx="7628040" cy="431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Georgia"/>
              </a:rPr>
              <a:t>Razumjet ćet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920" y="1700280"/>
            <a:ext cx="3529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otvoreno tržište i gospodarski razvo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antikorupcij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liderpress.hr/static/media/cache/25/c5/25c5d2c5f5d748ecb151c40e1ecc8994.jpg"/>
          <p:cNvPicPr/>
          <p:nvPr/>
        </p:nvPicPr>
        <p:blipFill>
          <a:blip r:embed="rId1"/>
          <a:srcRect l="1495" t="18513" r="0" b="0"/>
          <a:stretch/>
        </p:blipFill>
        <p:spPr>
          <a:xfrm>
            <a:off x="3995640" y="2708280"/>
            <a:ext cx="4738680" cy="20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1" name="Picture 4" descr="http://www.poslovnipuls.com/wp-content/uploads/2012/07/euro_velika15.jpg"/>
          <p:cNvPicPr/>
          <p:nvPr/>
        </p:nvPicPr>
        <p:blipFill>
          <a:blip r:embed="rId2"/>
          <a:stretch/>
        </p:blipFill>
        <p:spPr>
          <a:xfrm>
            <a:off x="5364000" y="333360"/>
            <a:ext cx="345600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2" name="Picture 6" descr="http://www.mogibo.com/wp-content/uploads/2009/05/m-korupcijacharacters_v.jpg"/>
          <p:cNvPicPr/>
          <p:nvPr/>
        </p:nvPicPr>
        <p:blipFill>
          <a:blip r:embed="rId3"/>
          <a:stretch/>
        </p:blipFill>
        <p:spPr>
          <a:xfrm>
            <a:off x="963720" y="4937040"/>
            <a:ext cx="6967440" cy="1665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4000" y="549000"/>
            <a:ext cx="35272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eorgia"/>
              </a:rPr>
              <a:t>slobodu med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www.dw.de/image/0,,4809745_4,00.jpg"/>
          <p:cNvPicPr/>
          <p:nvPr/>
        </p:nvPicPr>
        <p:blipFill>
          <a:blip r:embed="rId1"/>
          <a:srcRect l="22105" t="0" r="13286" b="8024"/>
          <a:stretch/>
        </p:blipFill>
        <p:spPr>
          <a:xfrm>
            <a:off x="179280" y="1916280"/>
            <a:ext cx="4002120" cy="4213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Picture 6" descr="http://exoduus.com/wp-content/uploads/2011/03/mediji1.jpg"/>
          <p:cNvPicPr/>
          <p:nvPr/>
        </p:nvPicPr>
        <p:blipFill>
          <a:blip r:embed="rId2"/>
          <a:stretch/>
        </p:blipFill>
        <p:spPr>
          <a:xfrm>
            <a:off x="4500720" y="3789360"/>
            <a:ext cx="438120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6" name="Picture 8" descr="http://l.yimg.com/a/i/us/shine/health/television20.jpg"/>
          <p:cNvPicPr/>
          <p:nvPr/>
        </p:nvPicPr>
        <p:blipFill>
          <a:blip r:embed="rId3"/>
          <a:srcRect l="6310" t="8887" r="5343" b="4038"/>
          <a:stretch/>
        </p:blipFill>
        <p:spPr>
          <a:xfrm>
            <a:off x="4643280" y="260280"/>
            <a:ext cx="4168800" cy="32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3:49:54Z</dcterms:created>
  <dc:creator>informatika</dc:creator>
  <dc:description/>
  <dc:language>en-US</dc:language>
  <cp:lastModifiedBy>informatika</cp:lastModifiedBy>
  <dcterms:modified xsi:type="dcterms:W3CDTF">2012-10-02T16:16:43Z</dcterms:modified>
  <cp:revision>31</cp:revision>
  <dc:subject/>
  <dc:title>DANAS UČENIK = SUTRA GRAĐANIN</dc:title>
</cp:coreProperties>
</file>