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9D3-862C-4D05-94C3-5BE6B3998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802-32D7-43F8-8F59-E09178BC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6D3-47F7-4E86-A828-D58185CD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738-4152-4926-A472-2240B3FB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56B0-26E6-4E15-82C1-C9E0A998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366E-D471-4F54-9F55-CF71FDAE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F549-DBE8-4CEB-9ACB-4BE7F415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9BC-4F79-4C1D-994B-C35479C5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CC0B-A0A8-4FE4-A31F-0A64A000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9398-CA8C-45F0-A293-5D6E682D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17C-E1D1-46AB-8417-49C9FDC8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E09-83A1-4208-A917-F2288318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A6E5-2776-49DD-8B6E-3FC288D7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0A65-199C-4B90-9ADC-8FC4AC53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7F5F-CEAF-4723-8C0F-CF579072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29A9-584E-4AA4-BE19-F840A29A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819D-3855-4E47-8CE7-4B8A9212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6421-BA5D-4A9A-971D-CD215747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68B-B5BE-40A6-8366-294D3F55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10A-38C7-4855-AFE0-AAD584C2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BFD-FADA-4886-9BF7-93EC7ADD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A48-4C0E-4AAA-BCE4-C302D963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69D3-8FD8-48E7-AFA5-5760E449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C3D-B8D0-4549-84FB-2B30E1FB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8E5D-5E3A-4CF5-9905-4D4A1DA1290F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5009-1ADC-442B-A03E-8FF7F49468AE}" type="slidenum">
              <a:rPr b="0" lang="hr-H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GRAĐANSKI ODGOJ I OBRAZOVANJ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NASTAVI GEOGRAF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igranti, imigranti i izbjegl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100" spc="-1" strike="noStrike">
                <a:solidFill>
                  <a:srgbClr val="000000"/>
                </a:solidFill>
                <a:latin typeface="Arial"/>
              </a:rPr>
              <a:t>PITANJ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Ako “strani par” dobije dijete u vašoj zemlji, je li dijete također “stranac”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Gdje možete naći takve informacije? Tko ih sastavlja? Tko ih koristi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Koja je razlika između izbjeglice i tražitelje azila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1951. Konvencija UN u Ženevi donosi pravila i procedure za prihvat tražitelja azila. Koliko ih vaša zemlja primjenjuj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Koja je razlika između vize i American Express kartic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Arial"/>
              </a:rPr>
              <a:t>Koliko ljudi dolazi ostati i raditi u vašoj zemlji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AZLIČITO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ITANJ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mbria"/>
              </a:rPr>
              <a:t>Kada ste prvi put čuli za izraz “multikulturalno društvo”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mbria"/>
              </a:rPr>
              <a:t>Što ste podrazumijevali pod tim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ambria"/>
              </a:rPr>
              <a:t>A što vam to sada znač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6633"/>
                </a:solidFill>
                <a:latin typeface="Garamond"/>
              </a:rPr>
              <a:t>Današnja multikulturalna društva su, u većini slučajeva, posljedica političkih i gospodarskih zbivanja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TAN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oji tipovi migracije su se pojavili u ili iz vaše zemlje u periodu 1950 – 1970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SJEVER – JUG, PITANJE NERAVNOTEŽE</a:t>
            </a:r>
            <a:br>
              <a:rPr sz="2900"/>
            </a:b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Međunarodni gospodarski sustav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imljani ga dijele na Rimsko Carstvo i barbarski svije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akon Kolumbovih putovanja govorilo se o Novim i Starim svjetovim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željezna zavjesa” odijelila je Istočnu od Zapadne Europe krajem 2. svjetskog rata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od nedavno počeli smo govoriti o svijetu podijeljenom na Sjever i Jug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TANJ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žete li se sjetiti još koje podijel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Što smatrate siromaštvom? Koliko je ljudi u vašoj blizini siromašn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Što je “razvoj”? Što određuje njegove kriterij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Neravnoteža svih nas pomaže opstanku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TAN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ržavi poput Filipina teško je omogućiti sredstva za razvoj kad 47% cjelokupnog nacionalnog dohotka daje za nacionalni dug. Tko je po vašem mišljenju odgovoran za takvu situaciju? Kakav učinak bi takav nacionalni dug imao na zemlju u kojoj živi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 vašem mišljenju koja je razlika između “iseljenika”, “izbjeglice” i “raseljene osobe”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ISTOK – ZAPAD: NOVA POTRAGA ZA RAVNOTEŽOM</a:t>
            </a:r>
            <a:br>
              <a:rPr sz="1900"/>
            </a:br>
            <a:br>
              <a:rPr sz="1500"/>
            </a:br>
            <a:r>
              <a:rPr b="0" lang="en-US" sz="2100" spc="-1" strike="noStrike">
                <a:solidFill>
                  <a:srgbClr val="006633"/>
                </a:solidFill>
                <a:latin typeface="Garamond"/>
              </a:rPr>
              <a:t>Promijenjena lica Europe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Što je Europa? Gdje počinje? Gdje završava? Koliko zemalja ima u Europi? Tko se može nazvati Europljaninom? Postoji li europska kultura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rajem  1989. odgovori na ova pitanja naišli su na nove komplikacije. Raspad Sovjetskog Saveza; više od tri godine rata u bivšoj Jugoslaviji; ujedinjenje Njemačke; nezavisnost Češke Republike i Slovačke Republike – posljedice ovih tranzicija bile su golem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TANJ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Koje su najvažnije promjene u vašoj zemlji od 1989.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6633"/>
                </a:solidFill>
                <a:latin typeface="Garamond"/>
              </a:rPr>
              <a:t>Različite Europe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TANJ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Švedska, Austrija i Finska izglasale su priključenje EU. Što mislite zašto je većina glasača u Norveškoj glasala protiv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oje još oblike europske suradnje znate? Koje uspjehe i probleme imaju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Kako su jačale vanjske granice Europe, moglo bi se reći da je započela izgradnja “utvrda Europe”. Koliko se slažete s ovom analizom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jine u Euro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ada manjina nije manjina? Kada je moćna elita? Slažete li 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a li neki grad u vašoj blizini sličnu povij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liko ljudi treba za osnivanje “manjinske skupine”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oja bi ostala pravila trebale/mogle imati manjin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 li vaša zemlja potpisala i odobrila tu konvencij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4T09:37:51Z</dcterms:created>
  <dc:creator>FullNameHere</dc:creator>
  <dc:description/>
  <dc:language>en-US</dc:language>
  <cp:lastModifiedBy>FullNameHere</cp:lastModifiedBy>
  <dcterms:modified xsi:type="dcterms:W3CDTF">2013-01-02T07:54:40Z</dcterms:modified>
  <cp:revision>6</cp:revision>
  <dc:subject/>
  <dc:title>Slajd 1</dc:title>
</cp:coreProperties>
</file>