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BAD5-6997-44E3-8DEB-8923EFA6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94FE-03C2-4619-86D3-71D6E879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E75-7D2D-4670-94EC-6491B19D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5E9-EB31-49C9-89B0-8C7B01DB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6382-A075-42A3-A0F2-97228B98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2B1B-E5D0-4C4E-B179-056D9046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4001-2CDB-4B50-AC7D-56CD816D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9E3A-28C0-4A53-BFF8-17409740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1219-689F-4272-A37C-A8E9AEEC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429E-0C34-43BD-BFA1-BFE711AD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35CF-B4A7-44F4-B438-DFD9615A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7292-3209-4D40-B4AD-70E92FF5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8D49-D5AE-4840-B11B-72956A89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2338-1872-4EC6-B141-8CF59C27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B920-2886-45DA-8E25-0666E75F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D64C-8A33-46B6-9565-94DFE346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1AAB-20E1-4159-B300-F9C6EEDB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5CC-6A75-4251-908E-607205EF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B8B-A92E-43E0-9E65-D24B4A2A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39E2-EF4C-4554-91E1-5D5063F0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23F-4BB1-43F0-9B70-BEDF6E24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8AB9-9D1D-4D3C-97A0-C1404041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A0A-0A71-4544-95B2-A8620025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845-D672-45BB-8C63-08792631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36EC-AFE8-4642-AA74-EC5A2CB03339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5ECB-465A-4E1D-94CC-216F3AAD2D44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mmunityyouthwork.com/index.php/documents-d/download/category/1-pdf?download=23:svi-razliciti-svi-jednaki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so.hr/projekti-u-tijeku/tolerancija" TargetMode="External"/><Relationship Id="rId2" Type="http://schemas.openxmlformats.org/officeDocument/2006/relationships/hyperlink" Target="http://www.fso.hr/projekti-u-tijeku/tolerancija" TargetMode="External"/><Relationship Id="rId3" Type="http://schemas.openxmlformats.org/officeDocument/2006/relationships/hyperlink" Target="http://www.fso.hr/projekti-u-tijeku/tolerancija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hck.hr/?path=hr/static/page/Sto_radimo.Mladez.odgoj" TargetMode="External"/><Relationship Id="rId2" Type="http://schemas.openxmlformats.org/officeDocument/2006/relationships/hyperlink" Target="http://www.hck.hr/?path=hr/static/page/Sto_radimo.Mladez.odgoj" TargetMode="External"/><Relationship Id="rId3" Type="http://schemas.openxmlformats.org/officeDocument/2006/relationships/hyperlink" Target="http://www.hck.hr/?path=hr/static/page/Sto_radimo.Mladez.odgoj" TargetMode="External"/><Relationship Id="rId4" Type="http://schemas.openxmlformats.org/officeDocument/2006/relationships/hyperlink" Target="http://www.hck.hr/?path=hr/static/page/Sto_radimo.Mladez.odgoj" TargetMode="External"/><Relationship Id="rId5" Type="http://schemas.openxmlformats.org/officeDocument/2006/relationships/hyperlink" Target="http://www.hck.hr/?path=hr/static/page/Sto_radimo.Mladez.odgoj" TargetMode="External"/><Relationship Id="rId6" Type="http://schemas.openxmlformats.org/officeDocument/2006/relationships/hyperlink" Target="http://www.hck.hr/?path=hr/static/page/Sto_radimo.Mladez.odgoj" TargetMode="External"/><Relationship Id="rId7" Type="http://schemas.openxmlformats.org/officeDocument/2006/relationships/hyperlink" Target="http://www.hck.hr/?path=hr/static/page/Sto_radimo.Mladez.odgoj" TargetMode="External"/><Relationship Id="rId8" Type="http://schemas.openxmlformats.org/officeDocument/2006/relationships/hyperlink" Target="http://www.hck.hr/?path=hr/static/page/Sto_radimo.Mladez.odgoj" TargetMode="External"/><Relationship Id="rId9" Type="http://schemas.openxmlformats.org/officeDocument/2006/relationships/hyperlink" Target="http://www.hck.hr/?path=hr/static/page/Sto_radimo.Mladez.odgoj" TargetMode="External"/><Relationship Id="rId10" Type="http://schemas.openxmlformats.org/officeDocument/2006/relationships/hyperlink" Target="http://www.hck.hr/?path=hr/static/page/Sto_radimo.Mladez.odgoj" TargetMode="External"/><Relationship Id="rId11" Type="http://schemas.openxmlformats.org/officeDocument/2006/relationships/hyperlink" Target="http://www.hck.hr/?path=hr/static/page/Sto_radimo.Mladez.odgoj" TargetMode="External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Garamond"/>
              </a:rPr>
              <a:t>Uvod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Arial"/>
              </a:rPr>
              <a:t>Lako je r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i="1" lang="hr-HR" sz="3000" spc="-1" strike="noStrike">
                <a:solidFill>
                  <a:srgbClr val="000000"/>
                </a:solidFill>
                <a:latin typeface="Arial"/>
              </a:rPr>
              <a:t>i “Ja nemam predrasuda” ili “ Ja nisam rasist, dakle, ja nemam ništa s tim” ili “Nisam ja pozvao te izbjeglice”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Arial"/>
              </a:rPr>
              <a:t>Teško je r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i="1" lang="hr-HR" sz="3000" spc="-1" strike="noStrike">
                <a:solidFill>
                  <a:srgbClr val="000000"/>
                </a:solidFill>
                <a:latin typeface="Arial"/>
              </a:rPr>
              <a:t>i “Ne mogu biti kriv za ono što se dogodilo u prošlosti, ali želim preuzeti odgovornost da se to sigurno ne nastavi u budu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hr-HR" sz="3000" spc="-1" strike="noStrike">
                <a:solidFill>
                  <a:srgbClr val="000000"/>
                </a:solidFill>
                <a:latin typeface="Arial"/>
              </a:rPr>
              <a:t>nosti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ličnost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rađa tijel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uspravni hod, probavni, mišićni, koštani, živčani, krvožilni susta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sjećajna bić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jubav, bijes, ljutnja,ponos,strah, tuga, sreć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varao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umjetnosti, parkova i vrtova,prijevoznih sredstava, mjernih instrumenata, građevina i naselj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uštvena bić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život u obitelji, pomoć ljudima u nevolji, druženja, pomoć starijima i bolesni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zrazi lica uz osjećaj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mijeh-radost, plač-tuga, mrštenje-ljutnja, širom otvorene oči-stra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Stereotip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 u="sng">
                <a:solidFill>
                  <a:srgbClr val="006600"/>
                </a:solidFill>
                <a:uFillTx/>
                <a:latin typeface="Arial"/>
              </a:rPr>
              <a:t>uopćene slike, rasprostranjena uvjerenja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 pripadnicima neke skupine ljudi (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prema nacionalnosti, zanimanjima, vjeri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vrstavamo nekoga u određenu skupinu prema njegovom ponašanju, navikama, odijevanju i s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ogu biti pozitivn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češće su negativ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622080"/>
            <a:ext cx="70264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tereotipne interpretacij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836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800" spc="-1" strike="noStrike" u="sng">
                <a:solidFill>
                  <a:srgbClr val="000000"/>
                </a:solidFill>
                <a:uFillTx/>
                <a:latin typeface="Arial"/>
              </a:rPr>
              <a:t>Interpretacij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 u="sng">
                <a:solidFill>
                  <a:srgbClr val="000000"/>
                </a:solidFill>
                <a:uFillTx/>
                <a:latin typeface="Arial"/>
              </a:rPr>
              <a:t>Situacija                                              ako je u pitanju žena                            ako je u pitanju muškar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ff0000"/>
                </a:solidFill>
                <a:latin typeface="Arial"/>
              </a:rPr>
              <a:t>*Kasni na posao                                 Bila je kod frizera .                             Zapeo je u prome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000000"/>
                </a:solidFill>
                <a:latin typeface="Arial"/>
              </a:rPr>
              <a:t>*Razgovara s                                     Opet nekoga tračaju.                              Baš je fraj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r-HR" sz="1100" spc="-1" strike="noStrike">
                <a:solidFill>
                  <a:srgbClr val="000000"/>
                </a:solidFill>
                <a:latin typeface="Arial"/>
              </a:rPr>
              <a:t>kolegi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ff0000"/>
                </a:solidFill>
                <a:latin typeface="Arial"/>
              </a:rPr>
              <a:t>*Razgovara s                                  Stalno mu se nabacuje.                        Dogovaraju strategij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hr-HR" sz="1100" spc="-1" strike="noStrike">
                <a:solidFill>
                  <a:srgbClr val="ff0000"/>
                </a:solidFill>
                <a:latin typeface="Arial"/>
              </a:rPr>
              <a:t>koleg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000000"/>
                </a:solidFill>
                <a:latin typeface="Arial"/>
              </a:rPr>
              <a:t>*Čita novine                                      Zanima je samo horoskop.        Prati što se zbiva u zemlji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</a:t>
            </a:r>
            <a:r>
              <a:rPr b="1" lang="hr-HR" sz="1100" spc="-1" strike="noStrike">
                <a:solidFill>
                  <a:srgbClr val="000000"/>
                </a:solidFill>
                <a:latin typeface="Arial"/>
              </a:rPr>
              <a:t>svijetu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ff0000"/>
                </a:solidFill>
                <a:latin typeface="Arial"/>
              </a:rPr>
              <a:t>*Ide na službeni put                        Zanemaruje obitelj                                   Jadan, kako sam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                                             </a:t>
            </a:r>
            <a:r>
              <a:rPr b="1" lang="hr-HR" sz="1100" spc="-1" strike="noStrike">
                <a:solidFill>
                  <a:srgbClr val="ff0000"/>
                </a:solidFill>
                <a:latin typeface="Arial"/>
              </a:rPr>
              <a:t>naporno radi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hr-HR" sz="1100" spc="-1" strike="noStrike">
                <a:solidFill>
                  <a:srgbClr val="000000"/>
                </a:solidFill>
                <a:latin typeface="Arial"/>
              </a:rPr>
              <a:t>*Traži veću plaću                            Što ona želi?                         Tako i treba. Kad se već nis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1" lang="hr-HR" sz="1100" spc="-1" strike="noStrike">
                <a:solidFill>
                  <a:srgbClr val="000000"/>
                </a:solidFill>
                <a:latin typeface="Arial"/>
              </a:rPr>
              <a:t>sjetili da mu sami ponud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ff0000"/>
                </a:solidFill>
                <a:latin typeface="Arial"/>
              </a:rPr>
              <a:t>*Ljuti se na suradnike                        *Histerična baba!                                   Treba biti reda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000000"/>
                </a:solidFill>
                <a:latin typeface="Arial"/>
              </a:rPr>
              <a:t>*Bavi se politikom                           Gura se gdje joj                                Izuzetno je sposoba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hr-HR" sz="1100" spc="-1" strike="noStrike">
                <a:solidFill>
                  <a:srgbClr val="000000"/>
                </a:solidFill>
                <a:latin typeface="Arial"/>
              </a:rPr>
              <a:t>nije mjes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ff0000"/>
                </a:solidFill>
                <a:latin typeface="Arial"/>
              </a:rPr>
              <a:t>Stupa u brak                                 Uskoro će na porodiljni.                              Sad će se srediti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000000"/>
                </a:solidFill>
                <a:latin typeface="Arial"/>
              </a:rPr>
              <a:t>*Vodi dijete liječniku               Samo traži razlog da ne dođe na posao.      Ma, kako je to  brižan ot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ff0000"/>
                </a:solidFill>
                <a:latin typeface="Arial"/>
              </a:rPr>
              <a:t>*Priča se da dobro kuha                   Pa što onda?                                                 Sigurno ima lijenu žen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1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500"/>
                                        <p:tgtEl>
                                          <p:spTgt spid="1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0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10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0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07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redrasu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uđujemo ljude bez prethodnog upoznava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učim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h kao dio naše socijalizac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rlo teško su promjenj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žno je biti svjestan da ih posjeduje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artice predrasud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42560" y="1557360"/>
            <a:ext cx="3419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Škoti su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Konobarice su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ofesori su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cilijanci su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lavuše su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ičani su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rnci su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ječaci su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5080" y="1557360"/>
            <a:ext cx="3419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jevojčice su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nglezi su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rgovci su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almatinci  su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ađarice su 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Nijemci su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Japanci su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ladi su…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560" y="836280"/>
            <a:ext cx="702468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edrasude vs. stereotipi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Predrasuda je unaprijed donesen sud ili mišljenje o čemu što se dovoljno ne poznaje niti se temeljito i kritički proučilo, odnosno prije iskustva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proširen i ustaljen, unaprijed postavljen stereotipan stav, zasnovan na nedokazivim tvrdnjama i lažnim autoritetima o pripadnicima drugih religija, etnija, nacija i dr., ali i zaziranje od čega utemeljenog na drugačijim običajima ili navikama (prema vrstama jela, u izboru jestive/nejestive hrane itd.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1699920"/>
            <a:ext cx="34210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Stereotipi su stoga previše pojednostavljene i previše generalizirane apstrakcije o grupama Ijudi, uglavnom netočne, premda mogu sadržavati i zrno isti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artice stereotipa i predrasud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42560" y="1557360"/>
            <a:ext cx="34196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Žene su emotivnije od muškara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vi su Kinezi ist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jeca ne vole  povrć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ri ljudi su  tužn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lijani su dobri plesač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ječnici su potkupljiv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Škoti su škrt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vuše su glup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škarci su bezosjećajn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urci su prljav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5080" y="1557360"/>
            <a:ext cx="3419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škarci su hrabriji od žen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nci dobro trč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lavuše su nježnije od crnk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tarci su dosadn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Žene su plašljivije od muškara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rgovci su lopov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usi su pijani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ijemci su fašist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ladi su nepouzdan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slimani su zaostali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iskriminaci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6600"/>
                </a:solidFill>
                <a:uFillTx/>
                <a:latin typeface="Arial"/>
              </a:rPr>
              <a:t>ponašanj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a temelju stavova i predrasu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ljedica predrasu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liko se puta pretvaram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ako imamo predrasude, ne radimo diskriminaciju zbog okolnosti u kojima se nalazimo, ali usmjeravamo se i ističemo nedostat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jeca i tolerancij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ve spoznaje o tome “kakav je tko” stječu u obitel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stavlja se u školi, razred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006600"/>
                </a:solidFill>
                <a:uFillTx/>
                <a:latin typeface="Arial"/>
              </a:rPr>
              <a:t>nositelji predrasude</a:t>
            </a:r>
            <a:r>
              <a:rPr b="0" lang="en-US" sz="3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aju lažan osjećaj superiornosti (kasnije ih dovodi do neuspjeha i razočaranja u seb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manjuje im se mogućnost interakcije i postizanje širokih životnih iskustava (ksenofob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i="1" lang="en-US" sz="3800" spc="-1" strike="noStrike" u="sng">
                <a:solidFill>
                  <a:srgbClr val="006600"/>
                </a:solidFill>
                <a:uFillTx/>
                <a:latin typeface="Garamond"/>
              </a:rPr>
              <a:t>djeca žrtve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- imaju osjećaj manje vrijednosti i socijalne odbačenosti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4" name="Picture 2" descr="C:\Documents and Settings\Marija\Local Settings\Temporary Internet Files\Content.IE5\1R7GXUSR\MP900438811[1].jpg"/>
          <p:cNvPicPr/>
          <p:nvPr/>
        </p:nvPicPr>
        <p:blipFill>
          <a:blip r:embed="rId1"/>
          <a:stretch/>
        </p:blipFill>
        <p:spPr>
          <a:xfrm>
            <a:off x="1206360" y="2054160"/>
            <a:ext cx="4554720" cy="739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U Kini, u davna vremena, za vrijeme vladavine velikog ca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Knag-Hia, ružno su se posvađali jakobinski misionar i jezuit ok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vjerskih pitanja – tumačenja odredbi Tridenskog koncil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Počupaše se i za ko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Mandarin toga grada, saznavši za skandal, pošalje obojicu 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zatvor. Njegov zamjenika ga upit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Vaša Ekselencijo, koliko dugo želite da ostanu u zatvoru?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Dok se ne slože”, reče mandari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Ah!”, reče zamjenik, “bit će, dakle, u zatvoru cijeli život!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Dobro”, reče mandarin, “onda nek’ ostanu toliko dugo do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jedan drugom ne oproste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Oni nikada neće jedan drugome oprostiti”, reče zamjenik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dobro ih poznajem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No, onda”, reče mandarin, “nek’ ostanu toliko dugo dok se 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počnu ponašati da opraštaju jedan drugome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6633"/>
                </a:solidFill>
                <a:latin typeface="Garamond"/>
              </a:rPr>
              <a:t>S kojim se različitostima i sterotipima susrećemo u razredu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zgled učenika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ežina, visina, boja kose, način  odijevanj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or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čenici koji su se doselil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azb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cionalnost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rbi, Rom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jeca u procesu pedagoške opservacije – prilagođeni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lerancija se uči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eki od preduvjeta za učenje tolerancij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Empat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ostojanje moralnih vrijed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klonost prosocijalnom ponašanj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obro raspolože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oticaj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azlika između tolerancije i strpljivosti i netolerancij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ško pokretni muškarac prelazi cestu u trenutku kada prolazite automobil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pljiva osoba – sve mirno podnosi (ne zamjera sporost muškar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lerantna osoba - nastoji razumjeti sporost pješaka koji ga na neki način opterećuje, zamišlja život tog muškarca i s kakvim se sve teškoćama susreće kod “običnog” prelaska ces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tolerantna osoba – ljutita što se teško pokretan starac uopće nalazi na cesti, trubit će nastojeći požuriti njegov h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9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ijedlozi za rad s učenicima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communityyouthwork.com/index.php/documents-d/download/category/1-pdf?download=23:svi-razliciti-svi-jedna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Svi različiti-svi jedna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EUROPSKA KAMPANJA MLADIH  PROTIV RASIZMA, KSENOFOBIJE, ANTISEMITIZMA I NETOLERAN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BRAZOVNI PAK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600" spc="-1" strike="noStrike">
                <a:solidFill>
                  <a:srgbClr val="000000"/>
                </a:solidFill>
                <a:latin typeface="Arial"/>
              </a:rPr>
              <a:t>Ideje, izvori, metode i aktivnosti za neformal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interkulturalno obrazovanje mladih ljudi i odrasli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ijedlozi za rad s učenicim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hr-HR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fso</a:t>
            </a:r>
            <a:r>
              <a:rPr b="0" lang="hr-HR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.hr/projekti-u-tijeku/toleranc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Ružno pače, S kim bi, a s kim ne bi?, Etikete, ladice, kućice, U kojem si filmu? Glazbena slušaonica tolerancije, Moja obitelj je različita, Tko s nama živi, a tko slavi?, Facebook profil-nema tolerancije prema netoleranciji na Facebooku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rijedlozi za rad s učenicim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hr-HR" sz="2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ck</a:t>
            </a:r>
            <a:r>
              <a:rPr b="0" lang="hr-HR" sz="28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.hr/?</a:t>
            </a:r>
            <a:r>
              <a:rPr b="0" lang="hr-HR" sz="28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path</a:t>
            </a:r>
            <a:r>
              <a:rPr b="0" lang="hr-HR" sz="28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=hr/</a:t>
            </a:r>
            <a:r>
              <a:rPr b="0" lang="hr-HR" sz="28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static</a:t>
            </a:r>
            <a:r>
              <a:rPr b="0" lang="hr-HR" sz="28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/</a:t>
            </a:r>
            <a:r>
              <a:rPr b="0" lang="hr-HR" sz="28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page</a:t>
            </a:r>
            <a:r>
              <a:rPr b="0" lang="hr-HR" sz="28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/Sto_radimo.</a:t>
            </a:r>
            <a:r>
              <a:rPr b="0" lang="hr-HR" sz="28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Mladez</a:t>
            </a:r>
            <a:r>
              <a:rPr b="0" lang="hr-HR" sz="28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.odgoj#vredn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Humane vrednote - odgoj za humanost, Crveni kri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ilj: usvajanje životnih vještina (donošenja odluka, komunikacije, planiranja, odupiranja lošim nagovorima, tolerancije, razumijevanja potreba - vlastitih i zajednice it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vodi se od 1998. godin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zervirano mjesto sadržaja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995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Rezervirano mjesto sadržaja 3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53416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 kraj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živajmo u tome što smo jedinstveni i drugačiji od drugih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štujmo i prihvaćajmo drugačije od sebe, jer nam to čini život ljepšim i bogatijim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icanjem tolerancije činite dobro sebi i drugima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Literatura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075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Arial"/>
              </a:rPr>
              <a:t>Zajedno jači 2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; urednici J. Janković, A. Peko, Proni centar za socijalno podučavanje, Osijek – Vukovar 200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Arial"/>
              </a:rPr>
              <a:t>Bolje spriječiti, nego liječiti; 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Prevencija nasilja u adolescentskim vezama, priručnik za edukatore i edukatorice, CESI, Zagreb, 2004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Arial"/>
              </a:rPr>
              <a:t>Humane vrednote; Odgoj za humanost,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 Hrvatski Crveni križ, priručnik za učitelje, Zagreb, 2001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Arial"/>
              </a:rPr>
              <a:t>Prvi koraci;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 Amnesty International Hrvatske, Priručnik o odgoju i obrazovanju za ljudska prava, Zagreb, 2000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Arial"/>
              </a:rPr>
              <a:t>Svi različiti, svi jednaki; 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Obrazovni paket, Europski dom Slavonski Brod, svibanj 2000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Arial"/>
              </a:rPr>
              <a:t>Mirotvorni razred; 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 M. Čudina – Obradović, D. Težak, priručnik za učitelje o mirotvornom odgoju, Znamen, Zagreb, 1995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Arial"/>
              </a:rPr>
              <a:t>Ljudi; 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Peter Spier, 1980. , ilustrirana knjiga za djecu, intern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700" spc="-1" strike="noStrike">
                <a:solidFill>
                  <a:srgbClr val="000000"/>
                </a:solidFill>
                <a:latin typeface="Arial"/>
              </a:rPr>
              <a:t>Zbirka priprema</a:t>
            </a:r>
            <a:r>
              <a:rPr b="0" lang="hr-HR" sz="1700" spc="-1" strike="noStrike">
                <a:solidFill>
                  <a:srgbClr val="000000"/>
                </a:solidFill>
                <a:latin typeface="Arial"/>
              </a:rPr>
              <a:t> 2010. i 2011., Forum za slobodu odgo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427640" y="2133720"/>
            <a:ext cx="4200480" cy="4179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olerancija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4199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000" spc="-1" strike="noStrike">
                <a:solidFill>
                  <a:srgbClr val="000000"/>
                </a:solidFill>
                <a:latin typeface="Arial"/>
              </a:rPr>
              <a:t>tolerar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– podnositi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trpjeti i uvažavati tuđa mišljenja i uvjeren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Deklaracija o načelima tolerancij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esena 16. studenog 199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lerancija je poštivanje, prihvaćanje i uvažavanje bogatstva različitosti svjetskih kultura, oblika izražavanja i bivanja ljudi. Tolerancija se učvršćuje znanjem, otvorenošću, komunikacijom i slobodom misli, savjesti i uvjerenja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vjetski dan toleranc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lerancija ili snošljivost kao mehanizam reagiranja na različitosti je presudna za svako demokratsko i otvoreno društv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treba se povećava u doba globalizacije kada je kretanje informacija i ljudi puno intenzivnije i kada smo svakodnevno  suočeni s različitim  idejama, stavovima i identitetim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Što izaziva različitost u nama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Strah, čuđenje, nesigurnost, ugroženost, agresiju, ljutnju, tjeskobu, ali zainteresiranost da i o tim osjećajima treba raspravlja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vi osjećaju su normalni i prihvatljivi kao inicijalna percepci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azličito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ko prihvaćamo i usvajamo principe univerzalnosti ljudskih prava, solidarnosti i humanosti, nakon osvješćivanja tih osjećaja, nužna je produktivna reakcija-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LERANCIJA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roces koji se uči, gradi, komunicira i prilagođav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azličitost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zmišljanj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port,glazba,obveze,o nekoj osobi, događa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ar, mlad, odrasla osoba, dij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go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čom rješavati probleme, pozdravljati, razgovara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zgled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isina, boja kose, boja očiju, težina, boja kož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jerski običaj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v. Nikola, Uskrs,Božić, Ramaz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sobnost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čanje, pjevanje, skakanje, slikanje,koordinacija, rješavanje zadata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azličitosti izdvajamo kao poželjne ili nepoželjn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ja kože (kolonijalistički  razlog), a ne npr. veličina ili oblik uha kao biološka karakteristika na temelju koje  na žalost i dan danas vrednujemo lju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3:20:41Z</dcterms:created>
  <dc:creator>FullNameHere</dc:creator>
  <dc:description/>
  <dc:language>en-US</dc:language>
  <cp:lastModifiedBy>FullNameHere</cp:lastModifiedBy>
  <dcterms:modified xsi:type="dcterms:W3CDTF">2013-01-02T07:57:52Z</dcterms:modified>
  <cp:revision>8</cp:revision>
  <dc:subject/>
  <dc:title> Uvod </dc:title>
</cp:coreProperties>
</file>