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9C2C-AD80-4741-9E2B-F369F00E9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D82-52A6-4775-9B73-7EE831D5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FC1-01EE-4AB0-8D60-18A6AD02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A09-9FC5-4CD8-911C-E57DCB56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66C1-FCEF-490A-A651-ABB3199C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9F50-47EB-40C9-8BEC-B9507793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4F76-F1BA-4A76-A6EC-27F9EFF7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0D16-D51C-48A5-BC00-975EB63E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856B-7F6A-45EF-B40C-71578F0E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1310-B523-4BA8-AA59-FF690A8C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FF70D-C715-4EF8-B65D-EA2E6955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3FB9-01B8-4AD7-9726-9A921763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3BDD-E413-4107-ACB4-0D37B4A5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967D-8DF8-44E2-B707-C4C94B8E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25D6-0C67-40AF-A419-B5E0239A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80E5-F66C-4569-99FF-EA46477E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2D16-159D-4069-9B1B-6709A352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1387-5BE0-4F55-8327-20562538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F242-78D5-4882-9C09-DF87A013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323F-D426-48C0-9B4D-FB9AD4D5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C933-8BBF-4561-B5F3-68055573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0D8A-D924-4327-8B03-44D6400C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F96-4125-434E-8274-D5E7E3AB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2C8-2F3E-4174-85BE-F8595522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0593-A84F-4EA6-A6F9-BB1613E1794E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7659-E418-476B-AC36-231296709CBE}" type="slidenum">
              <a:rPr b="0" lang="hr-H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99"/>
                </a:solidFill>
                <a:latin typeface="Tahoma"/>
              </a:rPr>
              <a:t>PROJEKT  GRAĐAN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odul građanskog odgoja i obrazovan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da Tolić, voditeljica ŽSV-a za građanski odgoj za Osječko-baranjsku županij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Metodologija rada na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iručnik za nastavnike, AZO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zrada portfelja – pokazne mape u 4 dijela (format 70x100c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zrada dokumentacijske mape ( A4, oko 50 stranic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15 nastavnih sat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Pokazna mapa u 4 dijel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Content Placeholder 5" descr="2B.Manastir.jpg"/>
          <p:cNvPicPr/>
          <p:nvPr/>
        </p:nvPicPr>
        <p:blipFill>
          <a:blip r:embed="rId1"/>
          <a:stretch/>
        </p:blipFill>
        <p:spPr>
          <a:xfrm>
            <a:off x="2325600" y="2017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Dio portfelj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Content Placeholder 7" descr="IMG_1150.JPG"/>
          <p:cNvPicPr/>
          <p:nvPr/>
        </p:nvPicPr>
        <p:blipFill>
          <a:blip r:embed="rId1"/>
          <a:stretch/>
        </p:blipFill>
        <p:spPr>
          <a:xfrm>
            <a:off x="2325600" y="2017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Područje primje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blik rada u Vijeću učenika i na satima razrednog odje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izvannastavna aktiv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metoda obrade određene nastavne jedinice u pojedinom predmet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ojektni dan u škol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Predstavljanje projek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na školskoj razini – npr. pred Vijećem učenika, Nastavničkim vijećem ili Vijećem roditelja, školska smot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na županijskoj razini – županijska smot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na državnoj razini – državna smot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Tahoma"/>
              </a:rPr>
              <a:t>Predstavljanje projekta na ŽSV-u za etiku i politiku i gospodarstv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Picture 2" descr="D:\My Documents\AKTIV\OSET2011\P6110002 - Copy.JPG"/>
          <p:cNvPicPr/>
          <p:nvPr/>
        </p:nvPicPr>
        <p:blipFill>
          <a:blip r:embed="rId1"/>
          <a:stretch/>
        </p:blipFill>
        <p:spPr>
          <a:xfrm>
            <a:off x="2325600" y="2017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Županijska smot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Content Placeholder 5" descr="6PKCM.jpg"/>
          <p:cNvPicPr/>
          <p:nvPr/>
        </p:nvPicPr>
        <p:blipFill>
          <a:blip r:embed="rId1"/>
          <a:stretch/>
        </p:blipFill>
        <p:spPr>
          <a:xfrm>
            <a:off x="2325600" y="2017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Državna smot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Content Placeholder 5" descr="IMG_1196.JPG"/>
          <p:cNvPicPr/>
          <p:nvPr/>
        </p:nvPicPr>
        <p:blipFill>
          <a:blip r:embed="rId1"/>
          <a:stretch/>
        </p:blipFill>
        <p:spPr>
          <a:xfrm>
            <a:off x="2325600" y="2017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Državna smot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4" name="Picture 4" descr="Smotra"/>
          <p:cNvPicPr/>
          <p:nvPr/>
        </p:nvPicPr>
        <p:blipFill>
          <a:blip r:embed="rId1"/>
          <a:stretch/>
        </p:blipFill>
        <p:spPr>
          <a:xfrm>
            <a:off x="2249640" y="2212920"/>
            <a:ext cx="56386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Priručnici, dokumenti,upute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Na stranicama AZOO-e pod naslovom Građanski odgoj i obrazovan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Projekt Građanin – posebno važan modul građanskog odgoja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omiče najvažnije vrijednosti civilnog društva – ljudska prava i građanski odgo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tiče učenički i društveni aktiviz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razvija ključne kompetencije za život u građanskom društv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333399"/>
                </a:solidFill>
                <a:latin typeface="Tahoma"/>
              </a:rPr>
              <a:t>Voditelji programa na nacionalnoj razini :</a:t>
            </a:r>
            <a:br>
              <a:rPr sz="2800"/>
            </a:br>
            <a:r>
              <a:rPr b="0" lang="hr-HR" sz="2800" spc="-1" strike="noStrike">
                <a:solidFill>
                  <a:srgbClr val="333399"/>
                </a:solidFill>
                <a:latin typeface="Tahoma"/>
              </a:rPr>
              <a:t>Nevenka Lončarić-Jelačić i Tomislav Ogrinšak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4" descr="P5290039"/>
          <p:cNvPicPr/>
          <p:nvPr/>
        </p:nvPicPr>
        <p:blipFill>
          <a:blip r:embed="rId1"/>
          <a:stretch/>
        </p:blipFill>
        <p:spPr>
          <a:xfrm>
            <a:off x="-6480" y="1706400"/>
            <a:ext cx="5499360" cy="4127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PB110004"/>
          <p:cNvPicPr/>
          <p:nvPr/>
        </p:nvPicPr>
        <p:blipFill>
          <a:blip r:embed="rId2"/>
          <a:stretch/>
        </p:blipFill>
        <p:spPr>
          <a:xfrm>
            <a:off x="4206960" y="2779560"/>
            <a:ext cx="48146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Ljudska prav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Učenje o ljudskim pravima jedan je od temelja za razvoj odgovornog, tolerantnog i poticajnog okružen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Projekt Građan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blik projektne nastave nastao u SAD-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ovodi se u 65 zemalja svije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u RH se provodi od 2000.god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učenički projekti se predstavljaju na Državnoj Smotri projekata iz područja Nacionalnog programa odgoja i obrazovanja za ljudska prava i demokratsko građanst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Važnost Projekta Građan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ovezuje školu, roditelje i lokalnu zajednicu na rješavanju zajedničkih društvenih probl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mogućuje iskustveno učenje, stjecanje vještina komunikacije i zastupanja vlastitih stavova, te prezentacijske vješt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Aktivnost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ovođenje anke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ontakti s nositeljima vla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kontaktiranje s raznim uredima državne i lokalne uprave i samoupra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oučavanje Ustava, zakona i propi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Cilj Projekta Građan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učenici uče prepoznati problem i odabrati onaj problem koji žele rješava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rikupiti podatke o problemu koji istražuj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određuju plan akcije za rješavanje probl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Tijek rada na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zbor probl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straživanje društvene važnosti probl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blikovanje mogućih rješen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izbor najboljeg pristupa rješavanju probl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lan akci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edstavljanje plana akcije široj zajedni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333399"/>
                </a:solidFill>
                <a:latin typeface="Tahoma"/>
              </a:rPr>
              <a:t>Rezultati rada na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učenici uče kako koristiti zak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hvaćaju važnost vladavine prava i zašto treba biti odgovo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uče pridonositi općem dobru, biti aktivni građa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tječu praktično iskustvo, koje potiče osjećaj stručnosti i učinkovit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6T14:05:37Z</dcterms:created>
  <dc:creator>Nada</dc:creator>
  <dc:description/>
  <dc:language>en-US</dc:language>
  <cp:lastModifiedBy>pc</cp:lastModifiedBy>
  <dcterms:modified xsi:type="dcterms:W3CDTF">2013-01-07T21:48:34Z</dcterms:modified>
  <cp:revision>13</cp:revision>
  <dc:subject/>
  <dc:title>PROJEKT  GRAĐANIN</dc:title>
</cp:coreProperties>
</file>