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EFA6-9EF6-4277-94CC-20101251C5E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ezentiran predstavnicima MZOS, Agencije (30), Udruzi ravnatelja (25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 okviru projekta obrazovat će se 40 trenera (kandidati s iskustvom u edukaciji ravnatelja, učitelja, stručnih suradnika); trening traje 4 dana, a vodi ga ekspertni tim iz Institu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vaka škola odabire 3 člana u svoj tim koji prolazi edukaciju i prate ih educirani trener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Tijekom projekta izrađena posebna mrežna stranica s različitim materijalima (priručnici, savjetovanja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Završna konferencija okuplja sve sudionike; daje sažetak postignutih rezultata i smjernice za daljnji r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C962-EE45-4B96-99C3-14C0930133F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5EE-17F7-4B7E-9A41-310D7799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AA8-471C-4176-909B-E2A7C5FB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E241-2BE5-4BED-A68B-58509845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728A-C51F-4FEF-985F-1B2A7B0B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7EB-F0C5-4970-A925-C4FA4FAE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7224-E156-4D4B-80E8-8E5B97A6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675-BF41-4BBE-85D6-55C73A75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9B3-64E1-4BEF-B46A-F22BFDE2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E38-8C1C-4405-80D0-AB527514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987-F9F1-43FC-A0B8-336E0088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3CE-EF82-4611-8F30-82F373E1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333-0E0B-446A-AFA8-013BF221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A61A-8593-4B2D-8B37-A0D829F9DA6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skolskikurikulum.hr/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r-HR" sz="4800" spc="-1" strike="noStrike">
                <a:solidFill>
                  <a:srgbClr val="000000"/>
                </a:solidFill>
                <a:latin typeface="Calibri"/>
              </a:rPr>
              <a:t>Razvoj kurikulumske kul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28428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f7f7f"/>
                </a:solidFill>
                <a:latin typeface="Calibri"/>
              </a:rPr>
              <a:t>Osnaživanje škola za razvoj i implementaciju školskog kurikulu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f7f7f"/>
                </a:solidFill>
                <a:latin typeface="Calibri"/>
              </a:rPr>
              <a:t>Nataša Šporčić, prof. i dipl. knjižnič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skolskikurikulum.com.hr/wordpress/wp-content/themes/kurikulum/images/logoHeader.png"/>
          <p:cNvPicPr/>
          <p:nvPr/>
        </p:nvPicPr>
        <p:blipFill>
          <a:blip r:embed="rId1"/>
          <a:stretch/>
        </p:blipFill>
        <p:spPr>
          <a:xfrm>
            <a:off x="539640" y="333360"/>
            <a:ext cx="23036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Proces planiranja/razvoja Š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32000" y="1557360"/>
            <a:ext cx="6408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Kritička analiza postojećeg s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Identificiranje priorit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Postavljanje jasnih cilje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Dizajniranje i implement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Praćenje i evalu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Akcijski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Poboljšanja 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132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Uspješan kurikulum odgovara na ključna pitanj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23640" y="227664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Koji i kakvi su ishodi učenj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Kako organizirati poučavanje  i učenje učeni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Koliko uspješno smo ostvarili postavljene cilje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otografija0569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Calibri"/>
              </a:rPr>
              <a:t>Struktura ŠK</a:t>
            </a:r>
            <a:br>
              <a:rPr sz="4000"/>
            </a:b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Naslovi/poglavlja u dokumen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95280" y="1844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00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95959"/>
                </a:solidFill>
                <a:latin typeface="Calibri"/>
              </a:rPr>
              <a:t>Plan izrade Š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95959"/>
                </a:solidFill>
                <a:latin typeface="Calibri"/>
              </a:rPr>
              <a:t>Vizija i misija šk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95959"/>
                </a:solidFill>
                <a:latin typeface="Calibri"/>
              </a:rPr>
              <a:t>Vrijednost/načela Š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95959"/>
                </a:solidFill>
                <a:latin typeface="Calibri"/>
              </a:rPr>
              <a:t>Opis unutrašnjih i vanjskih uvjeta u kojima se realizira Š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95959"/>
                </a:solidFill>
                <a:latin typeface="Calibri"/>
              </a:rPr>
              <a:t>Analiza potreba i interesa uče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95959"/>
                </a:solidFill>
                <a:latin typeface="Calibri"/>
              </a:rPr>
              <a:t>Područja razvoja učenika (kurikulumska područj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95959"/>
                </a:solidFill>
                <a:latin typeface="Calibri"/>
              </a:rPr>
              <a:t>Način praćenja i vrednovanja Š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Plan izrade ŠK u OŠ V. Vidrića, Kut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11280" y="119664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imenovanje školskoga tima i prijav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edukacija tim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organizacija i koordinacija procesa u ško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anketiranje učenika (potrebe i interesi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analiza anke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diskusij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određivanje prioriteta, definiranje vizije, misije, ciljev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razrada aktivnost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priprema integriranog teksta Š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predstavljanje, rasprava i usvajanje Š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2700" spc="-1" strike="noStrike">
                <a:solidFill>
                  <a:srgbClr val="595959"/>
                </a:solidFill>
                <a:latin typeface="Calibri"/>
              </a:rPr>
              <a:t>supervizija Š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Školski t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32000" y="2276280"/>
            <a:ext cx="64087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stručni suradnik – školski knjižnič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učitelj razredne nast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učitelj predmetne nast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Eduka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10920" y="2349000"/>
            <a:ext cx="4608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trodnev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4 tren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predavanja i radio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upute za izradu 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P1000643.jpg"/>
          <p:cNvPicPr/>
          <p:nvPr/>
        </p:nvPicPr>
        <p:blipFill>
          <a:blip r:embed="rId1"/>
          <a:stretch/>
        </p:blipFill>
        <p:spPr>
          <a:xfrm>
            <a:off x="4643280" y="2060640"/>
            <a:ext cx="4129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Organizacija i koordinacija procesa u ško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6920" y="2349000"/>
            <a:ext cx="763272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ravnatelj i stručna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učiteljsko vijeć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stručni akti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Anketiranje učenika (potrebe i interesi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360" y="1844280"/>
            <a:ext cx="7920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anketu sastavili članovi školskoga t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sadrži 23 pi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obuhvaćeni učenici od 3. do 7. razre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ukupno 251 učenik (137 M, 114 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pitanja o školi, učenju, obitelji, slobodnom vremenu, INA, prijateljima, zdravlju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Analiza i diskus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136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najteži predme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1. matematika – 39,84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2. engleski jezik – 15,94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3. hrvatski jezik – 15,14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omiljeni predme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1. TZK – 46,22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2. likovna kultura – 28,69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3. glazbena kultura – 23,11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Osnovni podatci o projektu</a:t>
            </a:r>
            <a:br>
              <a:rPr sz="4400"/>
            </a:b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000" y="1052280"/>
            <a:ext cx="83516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Nositelj projek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Institut za društvena istraživanja , Centar za istraživanje i razvoj obrazovanja u Zagre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Partner u projektu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Forum za slobodu odgo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Trajanje: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19. 8. 2013. – 18. 2. 20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Financiranje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: 90,48% iz 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                      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(IPA, socijalni fo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images.jpg"/>
          <p:cNvPicPr/>
          <p:nvPr/>
        </p:nvPicPr>
        <p:blipFill>
          <a:blip r:embed="rId1"/>
          <a:stretch/>
        </p:blipFill>
        <p:spPr>
          <a:xfrm>
            <a:off x="3492360" y="907920"/>
            <a:ext cx="453564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index.jpg"/>
          <p:cNvPicPr/>
          <p:nvPr/>
        </p:nvPicPr>
        <p:blipFill>
          <a:blip r:embed="rId2"/>
          <a:stretch/>
        </p:blipFill>
        <p:spPr>
          <a:xfrm>
            <a:off x="5435640" y="3213000"/>
            <a:ext cx="2305080" cy="79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ogoflag.jpg"/>
          <p:cNvPicPr/>
          <p:nvPr/>
        </p:nvPicPr>
        <p:blipFill>
          <a:blip r:embed="rId3"/>
          <a:stretch/>
        </p:blipFill>
        <p:spPr>
          <a:xfrm>
            <a:off x="6227640" y="5229360"/>
            <a:ext cx="2305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424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koliko vremena dnevno provode čitajuć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a) manje od sata  - 47,01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b) od 1 do 2 sata – 38,25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c) od 2 do 3 sata – 10,76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d) više od 3 sata – 4,38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koliko vremena dnevno provode ispred ekra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a) manje od sata  - 19,92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b) od 1 do 2 sata – 35,06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c) od 2 do 3 sata – 24,30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d) više od 3 sata – 20,32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4000" y="475920"/>
            <a:ext cx="8820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imaš li problema sa zdravlj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DA – 62,15 % (alergije, glavobolje, kralježn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NE – 37,85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osjećaš li se ugodno u škol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DA – 86,85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NE  - 13,15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Određivanje prioriteta, vizije, misije, ciljeva ŠK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497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na temelju analize rezultata ankete, analize uspjeha učenika, zapažanja i praćenja učeničkih postignuć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prioriteti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1. JEZIČNO-KOMUNIKACIJSKO </a:t>
            </a: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2.PRIRODOSLOVNO-MATEMATIČKO </a:t>
            </a: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3. TJELESNO I ZDRAVSTVENO PODRUČ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Vizija i misija šk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95280" y="1052280"/>
            <a:ext cx="8353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VIZIJ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Analizirajući potrebe i interese učenika, želimo poboljšati komunikacijske sposobnosti učenika, pomoći i olakšati učenicima učenje matematike, omogućiti im skladan psihosomatski razvoj uz više kretanja i tjelesnog vježbanja te promicati odgoj za zaštitu prirode i okoliš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MISIJ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Unaprijediti komunikacijske vještine učenika, matematička znanja, tjelesno i emocionalno zdravlje te brigu za zaštitu prirode i okoliš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Vrijednosti i načela Š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24000" y="1052280"/>
            <a:ext cx="849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595959"/>
                </a:solidFill>
                <a:latin typeface="Calibri"/>
              </a:rPr>
              <a:t>Vrijednos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898989"/>
                </a:solidFill>
                <a:latin typeface="Calibri"/>
              </a:rPr>
              <a:t>Znanj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898989"/>
                </a:solidFill>
                <a:latin typeface="Calibri"/>
              </a:rPr>
              <a:t>Solidarno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898989"/>
                </a:solidFill>
                <a:latin typeface="Calibri"/>
              </a:rPr>
              <a:t>Identite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898989"/>
                </a:solidFill>
                <a:latin typeface="Calibri"/>
              </a:rPr>
              <a:t>Odgovornos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595959"/>
                </a:solidFill>
                <a:latin typeface="Calibri"/>
              </a:rPr>
              <a:t>Nače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898989"/>
                </a:solidFill>
                <a:latin typeface="Calibri"/>
              </a:rPr>
              <a:t>Jednakost obrazovnih mogućnosti za s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898989"/>
                </a:solidFill>
                <a:latin typeface="Calibri"/>
              </a:rPr>
              <a:t>Uključenost svih učenika u odgojno-obrazovni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Calibri"/>
              </a:rPr>
              <a:t>           </a:t>
            </a:r>
            <a:r>
              <a:rPr b="0" lang="hr-HR" sz="3000" spc="-1" strike="noStrike">
                <a:solidFill>
                  <a:srgbClr val="898989"/>
                </a:solidFill>
                <a:latin typeface="Calibri"/>
              </a:rPr>
              <a:t>susta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898989"/>
                </a:solidFill>
                <a:latin typeface="Calibri"/>
              </a:rPr>
              <a:t>Poštivanje ljudskih i dječjih prav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898989"/>
                </a:solidFill>
                <a:latin typeface="Calibri"/>
              </a:rPr>
              <a:t>Interkulturaliz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Razrada cilje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8000" y="1557360"/>
            <a:ext cx="8351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usklađeni s N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obavezno povezani s vizijom i misij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proizlaze iz potreba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konkretni i precizno definirani s jasnim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 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ishodima učenja (koji i kakv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razrađeni prema jedinstvenom obrasc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613080" y="-360"/>
            <a:ext cx="36003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Obraz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843280" y="620280"/>
            <a:ext cx="5905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595959"/>
                </a:solidFill>
                <a:latin typeface="Calibri"/>
              </a:rPr>
              <a:t>KURIKULUMSKO PODRUČJE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595959"/>
                </a:solidFill>
                <a:latin typeface="Calibri"/>
              </a:rPr>
              <a:t>CIKLU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595959"/>
                </a:solidFill>
                <a:latin typeface="Calibri"/>
              </a:rPr>
              <a:t>CILJ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595959"/>
                </a:solidFill>
                <a:latin typeface="Calibri"/>
              </a:rPr>
              <a:t>OBRAZLOŽENJE CILJ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595959"/>
                </a:solidFill>
                <a:latin typeface="Calibri"/>
              </a:rPr>
              <a:t>ISHOD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595959"/>
                </a:solidFill>
                <a:latin typeface="Calibri"/>
              </a:rPr>
              <a:t>NAČIN REALIZACIJ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hr-HR" sz="1700" spc="-1" strike="noStrike">
                <a:solidFill>
                  <a:srgbClr val="595959"/>
                </a:solidFill>
                <a:latin typeface="Calibri"/>
              </a:rPr>
              <a:t>Oblik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hr-HR" sz="1700" spc="-1" strike="noStrike">
                <a:solidFill>
                  <a:srgbClr val="595959"/>
                </a:solidFill>
                <a:latin typeface="Calibri"/>
              </a:rPr>
              <a:t>Sudionic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hr-HR" sz="1700" spc="-1" strike="noStrike">
                <a:solidFill>
                  <a:srgbClr val="595959"/>
                </a:solidFill>
                <a:latin typeface="Calibri"/>
              </a:rPr>
              <a:t>Načini učenj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hr-HR" sz="1700" spc="-1" strike="noStrike">
                <a:solidFill>
                  <a:srgbClr val="595959"/>
                </a:solidFill>
                <a:latin typeface="Calibri"/>
              </a:rPr>
              <a:t>Metode poučavanj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17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hr-HR" sz="1700" spc="-1" strike="noStrike">
                <a:solidFill>
                  <a:srgbClr val="595959"/>
                </a:solidFill>
                <a:latin typeface="Calibri"/>
              </a:rPr>
              <a:t>Trajanje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595959"/>
                </a:solidFill>
                <a:latin typeface="Calibri"/>
              </a:rPr>
              <a:t>RESURS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hr-HR" sz="1700" spc="-1" strike="noStrike">
                <a:solidFill>
                  <a:srgbClr val="595959"/>
                </a:solidFill>
                <a:latin typeface="Calibri"/>
              </a:rPr>
              <a:t>Ljuds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hr-HR" sz="1700" spc="-1" strike="noStrike">
                <a:solidFill>
                  <a:srgbClr val="595959"/>
                </a:solidFill>
                <a:latin typeface="Calibri"/>
              </a:rPr>
              <a:t>Materijal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595959"/>
                </a:solidFill>
                <a:latin typeface="Calibri"/>
              </a:rPr>
              <a:t>MOGUĆNOSTI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hr-HR" sz="1700" spc="-1" strike="noStrike">
                <a:solidFill>
                  <a:srgbClr val="595959"/>
                </a:solidFill>
                <a:latin typeface="Calibri"/>
              </a:rPr>
              <a:t>Unutar ško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hr-HR" sz="1700" spc="-1" strike="noStrike">
                <a:solidFill>
                  <a:srgbClr val="595959"/>
                </a:solidFill>
                <a:latin typeface="Calibri"/>
              </a:rPr>
              <a:t>Izvan ško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595959"/>
                </a:solidFill>
                <a:latin typeface="Calibri"/>
              </a:rPr>
              <a:t>MOGUĆE TEŠKOĆE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595959"/>
                </a:solidFill>
                <a:latin typeface="Calibri"/>
              </a:rPr>
              <a:t>NAČINI PRAĆENJA/EVALUACIJE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595959"/>
                </a:solidFill>
                <a:latin typeface="Calibri"/>
              </a:rPr>
              <a:t>ODGOVORNE OSOBE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595959"/>
                </a:solidFill>
                <a:latin typeface="Calibri"/>
              </a:rPr>
              <a:t>OČEKIVANI REZULTAT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95959"/>
                </a:solidFill>
                <a:latin typeface="Calibri"/>
              </a:rPr>
              <a:t>KURIKULUMSKO PODRUČJE</a:t>
            </a:r>
            <a:r>
              <a:rPr b="0" lang="hr-HR" sz="2400" spc="-1" strike="noStrike">
                <a:solidFill>
                  <a:srgbClr val="595959"/>
                </a:solidFill>
                <a:latin typeface="Calibri"/>
              </a:rPr>
              <a:t>: JEZIČNO- KOMUNIKACIJSK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95959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95959"/>
                </a:solidFill>
                <a:latin typeface="Calibri"/>
              </a:rPr>
              <a:t>CIKLUS</a:t>
            </a:r>
            <a:r>
              <a:rPr b="0" lang="hr-HR" sz="2400" spc="-1" strike="noStrike">
                <a:solidFill>
                  <a:srgbClr val="595959"/>
                </a:solidFill>
                <a:latin typeface="Calibri"/>
              </a:rPr>
              <a:t> (razred): 1.  (1. -  4. r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95959"/>
                </a:solidFill>
                <a:latin typeface="Calibri"/>
              </a:rPr>
              <a:t>CILJ</a:t>
            </a:r>
            <a:r>
              <a:rPr b="0" lang="hr-HR" sz="2400" spc="-1" strike="noStrike">
                <a:solidFill>
                  <a:srgbClr val="595959"/>
                </a:solidFill>
                <a:latin typeface="Calibri"/>
              </a:rPr>
              <a:t>: </a:t>
            </a:r>
            <a:r>
              <a:rPr b="1" lang="hr-HR" sz="2400" spc="-1" strike="noStrike">
                <a:solidFill>
                  <a:srgbClr val="595959"/>
                </a:solidFill>
                <a:latin typeface="Calibri"/>
              </a:rPr>
              <a:t>unaprijediti  čitanje i razumijevanje pročitan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95959"/>
                </a:solidFill>
                <a:latin typeface="Calibri"/>
              </a:rPr>
              <a:t>OBRAZLOŽENJE CILJA</a:t>
            </a:r>
            <a:r>
              <a:rPr b="0" lang="hr-HR" sz="2400" spc="-1" strike="noStrike">
                <a:solidFill>
                  <a:srgbClr val="595959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95959"/>
                </a:solidFill>
                <a:latin typeface="Calibri"/>
              </a:rPr>
              <a:t>S djecom uvježbavati različite tehnike čitanja s ciljem poboljšanja točnosti, brzine i izražajnosti čitanja i razumijevanja pročitano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95959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595959"/>
                </a:solidFill>
                <a:latin typeface="Calibri"/>
              </a:rPr>
              <a:t>OČEKIVANI ISHODI/POSTIGNUĆA </a:t>
            </a:r>
            <a:r>
              <a:rPr b="0" lang="hr-HR" sz="2000" spc="-1" strike="noStrike">
                <a:solidFill>
                  <a:srgbClr val="595959"/>
                </a:solidFill>
                <a:latin typeface="Calibri"/>
              </a:rPr>
              <a:t>(učenici će moći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95959"/>
                </a:solidFill>
                <a:latin typeface="Calibri"/>
              </a:rPr>
              <a:t>a) </a:t>
            </a:r>
            <a:r>
              <a:rPr b="1" lang="hr-HR" sz="2000" spc="-1" strike="noStrike">
                <a:solidFill>
                  <a:srgbClr val="595959"/>
                </a:solidFill>
                <a:latin typeface="Calibri"/>
              </a:rPr>
              <a:t>prvi razred</a:t>
            </a:r>
            <a:r>
              <a:rPr b="0" lang="hr-HR" sz="2000" spc="-1" strike="noStrike">
                <a:solidFill>
                  <a:srgbClr val="595959"/>
                </a:solidFill>
                <a:latin typeface="Calibri"/>
              </a:rPr>
              <a:t>:  čitati rečenice i kraće tekstove, razumijeti sadržaj pročitano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95959"/>
                </a:solidFill>
                <a:latin typeface="Calibri"/>
              </a:rPr>
              <a:t>b) </a:t>
            </a:r>
            <a:r>
              <a:rPr b="1" lang="hr-HR" sz="2000" spc="-1" strike="noStrike">
                <a:solidFill>
                  <a:srgbClr val="595959"/>
                </a:solidFill>
                <a:latin typeface="Calibri"/>
              </a:rPr>
              <a:t>drugi razred</a:t>
            </a:r>
            <a:r>
              <a:rPr b="0" lang="hr-HR" sz="2000" spc="-1" strike="noStrike">
                <a:solidFill>
                  <a:srgbClr val="595959"/>
                </a:solidFill>
                <a:latin typeface="Calibri"/>
              </a:rPr>
              <a:t>: razvijati sposobnost čitanja u sebi, čitanja naglas, čitanja po ulogama, razumjeti kraći samostalno pročitani tekst i rješavati zadatke vezane uz tek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95959"/>
                </a:solidFill>
                <a:latin typeface="Calibri"/>
              </a:rPr>
              <a:t>c) </a:t>
            </a:r>
            <a:r>
              <a:rPr b="1" lang="hr-HR" sz="2000" spc="-1" strike="noStrike">
                <a:solidFill>
                  <a:srgbClr val="595959"/>
                </a:solidFill>
                <a:latin typeface="Calibri"/>
              </a:rPr>
              <a:t>treći razred</a:t>
            </a:r>
            <a:r>
              <a:rPr b="0" lang="hr-HR" sz="2000" spc="-1" strike="noStrike">
                <a:solidFill>
                  <a:srgbClr val="595959"/>
                </a:solidFill>
                <a:latin typeface="Calibri"/>
              </a:rPr>
              <a:t>: unaprijediti tehnike i brzinu čitanja, razlikovati i izdvojiti potrebne, bitne i zanimljive podatke u različitim vrstama tekstova radi shvaćanja teksta i primjene pročitanog u rješavanju zadata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95959"/>
                </a:solidFill>
                <a:latin typeface="Calibri"/>
              </a:rPr>
              <a:t>d) </a:t>
            </a:r>
            <a:r>
              <a:rPr b="1" lang="hr-HR" sz="2000" spc="-1" strike="noStrike">
                <a:solidFill>
                  <a:srgbClr val="595959"/>
                </a:solidFill>
                <a:latin typeface="Calibri"/>
              </a:rPr>
              <a:t>četvrti razred</a:t>
            </a:r>
            <a:r>
              <a:rPr b="0" lang="hr-HR" sz="2000" spc="-1" strike="noStrike">
                <a:solidFill>
                  <a:srgbClr val="595959"/>
                </a:solidFill>
                <a:latin typeface="Calibri"/>
              </a:rPr>
              <a:t>: prepoznati važnost čitanja  neknjiževnih i književnoumjetničkih tekstova u svakodnevnomu životu, uočiti, razlikovati i opisati ključne riječi, ideje i jezična obilježja jednostavnijih neknjiževnih i književnoumjetničkih teksto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24000" y="47628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595959"/>
                </a:solidFill>
                <a:latin typeface="Calibri"/>
              </a:rPr>
              <a:t>NAČIN REALIZACIJ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595959"/>
                </a:solidFill>
                <a:latin typeface="Calibri"/>
              </a:rPr>
              <a:t>Oblik: </a:t>
            </a: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redovna nastava (hrvatski jezik, priroda i društvo i matematika), dopunska nastava (hrvatski jezik), dodatni rad (hrvatski jezik), izvannastavne aktivnosti (dramska skupina) </a:t>
            </a:r>
            <a:r>
              <a:rPr b="1" lang="hr-HR" sz="2500" spc="-1" strike="noStrike">
                <a:solidFill>
                  <a:srgbClr val="595959"/>
                </a:solidFill>
                <a:latin typeface="Calibri"/>
              </a:rPr>
              <a:t>Sudionici: </a:t>
            </a: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učenici, učitelji, stručni (knjižničar, defektolog) i vanjski suradnici (književnici, roditelji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595959"/>
                </a:solidFill>
                <a:latin typeface="Calibri"/>
              </a:rPr>
              <a:t>Načini učenja </a:t>
            </a: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(što rade učenici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Učenici čitaju (u sebi, naglas, izražajno), prepričavaju, dopunjuju, izvješćuju, pripovijedaju, rješavaju zadatke, uvažavaju jedni druge i slijede upute učitelj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595959"/>
                </a:solidFill>
                <a:latin typeface="Calibri"/>
              </a:rPr>
              <a:t>Metode poučavanja </a:t>
            </a: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(što rade učitelji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pripremaju materijale, motiviraju,objašnjavaju, usmjeravaju, demonstriraju, prate i vrednuju (opisno praćenje, brojčano praćenje , kvalitatovne i kvantitativne tablice čitanja s razumijevanjem, samoprocjena čitanja 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595959"/>
                </a:solidFill>
                <a:latin typeface="Calibri"/>
              </a:rPr>
              <a:t>Trajanje izvedbe</a:t>
            </a: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: tijekom nastavne godine  (tijekom školske godine 2014./ 2015.; 3 puta mjesečno 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POTREBNI RESURSI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a) </a:t>
            </a: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ljudski</a:t>
            </a: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: učitelji, učenici, </a:t>
            </a: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knjižničar</a:t>
            </a: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, defektolog, roditelji, književnic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b) </a:t>
            </a: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materijalni</a:t>
            </a: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: tiskani i elektronski materijal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MOGUĆE TEŠKOĆE</a:t>
            </a: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 : postojanje dijela učenika kojima hrvatski nije materinji jezik, nedostatak prateće opreme i resur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MOGUĆNOSTI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a) </a:t>
            </a: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unutar škole</a:t>
            </a: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: podrška ravnatelja, suradnja svih učitelja, stručnih suradnika i učenika, kompetencije učitelja, prostorni uvje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b) </a:t>
            </a: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izvan škole</a:t>
            </a: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: suradnja s roditeljim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NAČIN PRAĆENJA I PROVJERE ISHODA/POSTIGNUĆ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Tablice kvantitativne i kvalitativne analize,portfolio radova, razredna natjecanja u čitanju, fotografije i videozapis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ODGOVORNE OSOBE</a:t>
            </a: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: učitelji razredne nastave – Zdenka Ivanić, Mirjana Rosavec, Zemka Devlić, Radovan Pančić, Dragica Varat, Sanja Labus,Grozdana Škurić, Gordana Brlek, Gordana Rebić, Helena Vuković –Žarko, Mirela Sijarto, Zlatka Cigula, Katarina Požgaj, Ivana Antić, Sonja Markanovi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OČEKIVANI REZULTATI</a:t>
            </a: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: unaprjeđenje čitanja i razumjevanje pročitanoga, poboljšanje čitalačke kulture učenika, razvijanje i stjecanje navika čitanj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Članovi projektnoga tim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24000" y="1413000"/>
            <a:ext cx="8496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595959"/>
                </a:solidFill>
                <a:latin typeface="Arial"/>
              </a:rPr>
              <a:t>Jelena Matić</a:t>
            </a:r>
            <a:r>
              <a:rPr b="0" lang="vi-VN" sz="1800" spc="-1" strike="noStrike">
                <a:solidFill>
                  <a:srgbClr val="898989"/>
                </a:solidFill>
                <a:latin typeface="Arial"/>
              </a:rPr>
              <a:t>, projektni menađžer, Institut za društvena istraživanja u Zagreb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595959"/>
                </a:solidFill>
                <a:latin typeface="Arial"/>
              </a:rPr>
              <a:t>Mihaela Lesičak</a:t>
            </a:r>
            <a:r>
              <a:rPr b="0" lang="vi-VN" sz="1800" spc="-1" strike="noStrike">
                <a:solidFill>
                  <a:srgbClr val="898989"/>
                </a:solidFill>
                <a:latin typeface="Arial"/>
              </a:rPr>
              <a:t>, financijski i dokumentacijski menadžer, Institut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595959"/>
                </a:solidFill>
                <a:latin typeface="Arial"/>
              </a:rPr>
              <a:t>Eli Pijaca Plavšić</a:t>
            </a:r>
            <a:r>
              <a:rPr b="0" lang="vi-VN" sz="1800" spc="-1" strike="noStrike">
                <a:solidFill>
                  <a:srgbClr val="898989"/>
                </a:solidFill>
                <a:latin typeface="Arial"/>
              </a:rPr>
              <a:t>, projektni koordinator, Forum za slobodu odgoj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595959"/>
                </a:solidFill>
                <a:latin typeface="Arial"/>
              </a:rPr>
              <a:t>Katarina Grbavac</a:t>
            </a:r>
            <a:r>
              <a:rPr b="0" lang="vi-VN" sz="1800" spc="-1" strike="noStrike">
                <a:solidFill>
                  <a:srgbClr val="898989"/>
                </a:solidFill>
                <a:latin typeface="Arial"/>
              </a:rPr>
              <a:t>, projektni asistent, Forum za slobodu odgoj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595959"/>
                </a:solidFill>
                <a:latin typeface="Arial"/>
              </a:rPr>
              <a:t>Denis Čihor</a:t>
            </a:r>
            <a:r>
              <a:rPr b="0" lang="vi-VN" sz="1800" spc="-1" strike="noStrike">
                <a:solidFill>
                  <a:srgbClr val="898989"/>
                </a:solidFill>
                <a:latin typeface="Arial"/>
              </a:rPr>
              <a:t>, financijski i dokumentacijski koordinator, Forum za slobodu odgo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595959"/>
                </a:solidFill>
                <a:latin typeface="Calibri"/>
              </a:rPr>
              <a:t>KURIKULUMSKO PODRUČJE: </a:t>
            </a: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JEZIČNO-KOMUNIKACIJSKO</a:t>
            </a:r>
            <a:r>
              <a:rPr b="1" lang="hr-HR" sz="2500" spc="-1" strike="noStrike">
                <a:solidFill>
                  <a:srgbClr val="595959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595959"/>
                </a:solidFill>
                <a:latin typeface="Calibri"/>
              </a:rPr>
              <a:t>CIKLUS (razred):</a:t>
            </a: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 2. i 3. ciklus (5. – 8. razre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595959"/>
                </a:solidFill>
                <a:latin typeface="Calibri"/>
              </a:rPr>
              <a:t>CILJ:</a:t>
            </a: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hr-HR" sz="2500" spc="-1" strike="noStrike">
                <a:solidFill>
                  <a:srgbClr val="595959"/>
                </a:solidFill>
                <a:latin typeface="Calibri"/>
              </a:rPr>
              <a:t>Osposobiti učenike za suvislo usmeno i pisano izražavanje vlastitih misli, osjećaja i stavova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595959"/>
                </a:solidFill>
                <a:latin typeface="Calibri"/>
              </a:rPr>
              <a:t>OBRAZLOŽENJE CILJA:</a:t>
            </a: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Učenici ne znaju u potpunosti izražavati misli, izražavaju ih nesuvislo, nedovoljno vladaju pravogovornim i pravopisnim normama, osiromašen im je rječnik zbog nedovoljnog čitanj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595959"/>
                </a:solidFill>
                <a:latin typeface="Calibri"/>
              </a:rPr>
              <a:t>OČEKIVANI ISHODI/POSTIGNUĆA </a:t>
            </a: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(Učenik će moći)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- govorenjem i pisanjem izreći vlastito mišljenje, doživljaj ili stav u skladu sa svojom dob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- učenik će razlikovati i odabrati ključne riječi i ideje u skladu s temom, namjenom i oblikom te slušateljem i publik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4920" y="333360"/>
            <a:ext cx="8064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NAČIN REALIZACIJ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Oblik:</a:t>
            </a: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  redovna nastava, INA , dopunska i dodatna nastava (hrvatski jezik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Sudionici:</a:t>
            </a: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  učenici, učitelji, susret s piscima, </a:t>
            </a: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knjižničar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Načini učenja (što rade učenici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Oblikuju usmeno i pisano kratka izlaganja na temelju pročitanog ili viđenog, izrađuju rječnik manje poznatih riječi: odnos žargonizmi, lokalizmi – standardne riječ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Metode poučavanja (što rade učitelji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Demonstracija, izlaganje, davanje uputa za rad na odabranoj temi – izravno poučavanje, osiguravanje radnih materijala učenicima.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Trajanje izvedbe</a:t>
            </a: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: Tijekom nastavne godine ; 120 sati godišnje za 5. razrede, 120 sati godišnje za 6. razrede, 85 sati za 7. razrede, 85 sati za 8. razrede u šk. god. 2014./201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POTREBNI RESURSI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a) ljudski: </a:t>
            </a: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učitelji, učenici, </a:t>
            </a: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školska knjižničar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b) materijalni: </a:t>
            </a:r>
            <a:r>
              <a:rPr b="0" lang="hr-HR" sz="2200" spc="-1" strike="noStrike">
                <a:solidFill>
                  <a:srgbClr val="595959"/>
                </a:solidFill>
                <a:latin typeface="Calibri"/>
              </a:rPr>
              <a:t>udžbenici, knjige iz knjižnice, internet, časopisi, kazališne predstave</a:t>
            </a:r>
            <a:r>
              <a:rPr b="1" lang="hr-HR" sz="2200" spc="-1" strike="noStrike">
                <a:solidFill>
                  <a:srgbClr val="595959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4920" y="188640"/>
            <a:ext cx="8064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595959"/>
                </a:solidFill>
                <a:latin typeface="Calibri"/>
              </a:rPr>
              <a:t>MOGUĆE TEŠKOĆ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595959"/>
                </a:solidFill>
                <a:latin typeface="Calibri"/>
              </a:rPr>
              <a:t>Nedostatak knjiga, nemogućnost pristupa internetu, nedostatak motivacije učenika, nedovoljno poznavanje hrvatskoga standardnoga jezik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59595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59595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595959"/>
                </a:solidFill>
                <a:latin typeface="Calibri"/>
              </a:rPr>
              <a:t>MOGUĆNOST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595959"/>
                </a:solidFill>
                <a:latin typeface="Calibri"/>
              </a:rPr>
              <a:t>a) </a:t>
            </a:r>
            <a:r>
              <a:rPr b="1" lang="hr-HR" sz="1600" spc="-1" strike="noStrike">
                <a:solidFill>
                  <a:srgbClr val="595959"/>
                </a:solidFill>
                <a:latin typeface="Calibri"/>
              </a:rPr>
              <a:t>unutar škole</a:t>
            </a:r>
            <a:r>
              <a:rPr b="0" lang="hr-HR" sz="1600" spc="-1" strike="noStrike">
                <a:solidFill>
                  <a:srgbClr val="595959"/>
                </a:solidFill>
                <a:latin typeface="Calibri"/>
              </a:rPr>
              <a:t>: podrška ravnatelja, suradnja svih učitelja i učenika, kompetencije učitelja, prostorni uvje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595959"/>
                </a:solidFill>
                <a:latin typeface="Calibri"/>
              </a:rPr>
              <a:t>b) </a:t>
            </a:r>
            <a:r>
              <a:rPr b="1" lang="hr-HR" sz="1600" spc="-1" strike="noStrike">
                <a:solidFill>
                  <a:srgbClr val="595959"/>
                </a:solidFill>
                <a:latin typeface="Calibri"/>
              </a:rPr>
              <a:t>izvan škole</a:t>
            </a:r>
            <a:r>
              <a:rPr b="0" lang="hr-HR" sz="1600" spc="-1" strike="noStrike">
                <a:solidFill>
                  <a:srgbClr val="595959"/>
                </a:solidFill>
                <a:latin typeface="Calibri"/>
              </a:rPr>
              <a:t>: suradnja s roditeljima, članovima lokalne i šire zajednice (Knjižnica i čitaonica Kutina, Pučko otvoreno učilište Kutina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59595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595959"/>
                </a:solidFill>
                <a:latin typeface="Calibri"/>
              </a:rPr>
              <a:t>NAČIN PRAĆENJA I PROVJERE ISHODA/POSTIGNUĆ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595959"/>
                </a:solidFill>
                <a:latin typeface="Calibri"/>
              </a:rPr>
              <a:t>Inicijalna provjera znanja, pisane provjere znanja iz jezika i književnosti, izrađivanje rječnika, pisana i usmena izlaganja, provjera usvojenosti pravopisnih normi putem korelacije hrvatski   jezik – geografija i povijest, ispunjavanje administrativnih obrazaca, oblikovanje SMS poruka prema normama standardnog jezika, portfolio s pisanim radovima, javni nastupi, vrednovanje i samovrednovanje u grupnom i individualnom radu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59595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595959"/>
                </a:solidFill>
                <a:latin typeface="Calibri"/>
              </a:rPr>
              <a:t>ODGOVORNE OSOBE:</a:t>
            </a:r>
            <a:r>
              <a:rPr b="0" lang="hr-HR" sz="1600" spc="-1" strike="noStrike">
                <a:solidFill>
                  <a:srgbClr val="595959"/>
                </a:solidFill>
                <a:latin typeface="Calibri"/>
              </a:rPr>
              <a:t> Valerija Galic Antolić, prof. hrvatskoga jezika i književnosti i njemačkoga jezika i književnosti; Diana Kajganić, učiteljica hrvatskoga jezika, Spomenka Topić, prof. hrvatskoga jezik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59595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595959"/>
                </a:solidFill>
                <a:latin typeface="Calibri"/>
              </a:rPr>
              <a:t>OČEKIVANI REZULTATI: </a:t>
            </a:r>
            <a:r>
              <a:rPr b="0" lang="hr-HR" sz="1600" spc="-1" strike="noStrike">
                <a:solidFill>
                  <a:srgbClr val="595959"/>
                </a:solidFill>
                <a:latin typeface="Calibri"/>
              </a:rPr>
              <a:t>učenici će razvijati i unaprijediti kulturu govora, pisanja i izražavanj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024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Govorimo hrvatski – jezični savjeti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20150305_100919.jpg"/>
          <p:cNvPicPr/>
          <p:nvPr/>
        </p:nvPicPr>
        <p:blipFill>
          <a:blip r:embed="rId1"/>
          <a:stretch/>
        </p:blipFill>
        <p:spPr>
          <a:xfrm>
            <a:off x="468360" y="1052640"/>
            <a:ext cx="3281400" cy="5329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20150312_095121.jpg"/>
          <p:cNvPicPr/>
          <p:nvPr/>
        </p:nvPicPr>
        <p:blipFill>
          <a:blip r:embed="rId2"/>
          <a:stretch/>
        </p:blipFill>
        <p:spPr>
          <a:xfrm>
            <a:off x="4211640" y="907920"/>
            <a:ext cx="4392720" cy="259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20150312_094440.jpg"/>
          <p:cNvPicPr/>
          <p:nvPr/>
        </p:nvPicPr>
        <p:blipFill>
          <a:blip r:embed="rId3"/>
          <a:stretch/>
        </p:blipFill>
        <p:spPr>
          <a:xfrm>
            <a:off x="4211640" y="3716280"/>
            <a:ext cx="4392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Superviz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71640" y="2133720"/>
            <a:ext cx="741672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priprema integriranog teksta 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komunikacija e-poš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2 supervizora (trene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2 sastanka u školi - analiza, upute, ocj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88000" y="475920"/>
            <a:ext cx="406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Završna konferen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4608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595959"/>
                </a:solidFill>
                <a:latin typeface="Calibri"/>
              </a:rPr>
              <a:t>Opatija, 11. veljače 2015., Grand hotel Adriat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595959"/>
                </a:solidFill>
                <a:latin typeface="Calibri"/>
              </a:rPr>
              <a:t>cca 130 sudionika (treneri, predstavnici škola, AZOO, MZOS, Instituta, Forum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595959"/>
                </a:solidFill>
                <a:latin typeface="Calibri"/>
              </a:rPr>
              <a:t>predstavljeni dijelovi ŠK nastali u projek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595959"/>
                </a:solidFill>
                <a:latin typeface="Calibri"/>
              </a:rPr>
              <a:t>istaknuta </a:t>
            </a:r>
            <a:r>
              <a:rPr b="1" lang="hr-HR" sz="3000" spc="-1" strike="noStrike">
                <a:solidFill>
                  <a:srgbClr val="595959"/>
                </a:solidFill>
                <a:latin typeface="Calibri"/>
              </a:rPr>
              <a:t>komplementarnost i doprinos projekta u </a:t>
            </a:r>
            <a:r>
              <a:rPr b="0" lang="hr-HR" sz="3000" spc="-1" strike="noStrike">
                <a:solidFill>
                  <a:srgbClr val="595959"/>
                </a:solidFill>
                <a:latin typeface="Calibri"/>
              </a:rPr>
              <a:t>kontekstu Strategije obrazovanja i </a:t>
            </a:r>
            <a:r>
              <a:rPr b="1" lang="hr-HR" sz="3000" spc="-1" strike="noStrike">
                <a:solidFill>
                  <a:srgbClr val="595959"/>
                </a:solidFill>
                <a:latin typeface="Calibri"/>
              </a:rPr>
              <a:t>nove kurikularne refor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Slika_konferencija.jpg"/>
          <p:cNvPicPr/>
          <p:nvPr/>
        </p:nvPicPr>
        <p:blipFill>
          <a:blip r:embed="rId1"/>
          <a:stretch/>
        </p:blipFill>
        <p:spPr>
          <a:xfrm>
            <a:off x="4356000" y="2492280"/>
            <a:ext cx="453708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Završna evaluacija projek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39640" y="1401840"/>
            <a:ext cx="813600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42472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eu-skola.jpg"/>
          <p:cNvPicPr/>
          <p:nvPr/>
        </p:nvPicPr>
        <p:blipFill>
          <a:blip r:embed="rId1"/>
          <a:stretch/>
        </p:blipFill>
        <p:spPr>
          <a:xfrm>
            <a:off x="1284120" y="1341360"/>
            <a:ext cx="6959880" cy="4883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0" y="260280"/>
            <a:ext cx="4751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Evaluacija Š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787640" y="4221000"/>
            <a:ext cx="3384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100" spc="-1" strike="noStrike">
                <a:solidFill>
                  <a:srgbClr val="c00000"/>
                </a:solidFill>
                <a:latin typeface="Calibri"/>
              </a:rPr>
              <a:t>U TIJEKU!!!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Članovi ekspertnoga t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9280" y="1557360"/>
            <a:ext cx="820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558ed5"/>
                </a:solidFill>
                <a:latin typeface="Calibri"/>
              </a:rPr>
              <a:t>dr.sc. Branislava Baranović</a:t>
            </a:r>
            <a:r>
              <a:rPr b="0" lang="hr-HR" sz="26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1" lang="hr-HR" sz="2600" spc="-1" strike="noStrike">
                <a:solidFill>
                  <a:srgbClr val="558ed5"/>
                </a:solidFill>
                <a:latin typeface="Calibri"/>
              </a:rPr>
              <a:t>voditelj ekspertnoga tima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(Institut za društvena istraživanja u Zagrebu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1" lang="hr-HR" sz="2600" spc="-1" strike="noStrike">
                <a:solidFill>
                  <a:srgbClr val="404040"/>
                </a:solidFill>
                <a:latin typeface="Calibri"/>
              </a:rPr>
              <a:t>dr.sc. Mladen Domaz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1" lang="hr-HR" sz="2600" spc="-1" strike="noStrike">
                <a:solidFill>
                  <a:srgbClr val="404040"/>
                </a:solidFill>
                <a:latin typeface="Calibri"/>
              </a:rPr>
              <a:t>dr.sc. Iris Maruši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1" lang="hr-HR" sz="2600" spc="-1" strike="noStrike">
                <a:solidFill>
                  <a:srgbClr val="404040"/>
                </a:solidFill>
                <a:latin typeface="Calibri"/>
              </a:rPr>
              <a:t>dr.sc. Saša Puzi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1" lang="hr-HR" sz="2600" spc="-1" strike="noStrike">
                <a:solidFill>
                  <a:srgbClr val="404040"/>
                </a:solidFill>
                <a:latin typeface="Calibri"/>
              </a:rPr>
              <a:t>dr.sc. Vlasta Vizek Vidovi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(Institut za društvena istraživanja u Zagrebu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1" lang="hr-HR" sz="2600" spc="-1" strike="noStrike">
                <a:solidFill>
                  <a:srgbClr val="404040"/>
                </a:solidFill>
                <a:latin typeface="Calibri"/>
              </a:rPr>
              <a:t>dr.sc.Vlatka Domović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(Učiteljski fakultet Sveučilišta u Zagrebu)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Jezično-komunikacijsko područ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50920" y="1844640"/>
            <a:ext cx="80661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poboljšana učenička motivacija za 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uočena bolja postignuća u samostalnom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učenici su uspješniji u samostalnom čitan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treba raditi na zaključivanju na temelju izdvojenih činjenica, pažljivom čitanju uputa o rješavanju zadat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Zapažanja, komentari, proble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3" marL="1371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595959"/>
                </a:solidFill>
                <a:latin typeface="Calibri"/>
              </a:rPr>
              <a:t>          </a:t>
            </a:r>
            <a:r>
              <a:rPr b="1" lang="hr-HR" sz="2600" spc="-1" strike="noStrike">
                <a:solidFill>
                  <a:srgbClr val="595959"/>
                </a:solidFill>
                <a:latin typeface="Calibri"/>
              </a:rPr>
              <a:t>PROMJENE SU NUŽNE</a:t>
            </a:r>
            <a:r>
              <a:rPr b="0" lang="hr-HR" sz="2600" spc="-1" strike="noStrike">
                <a:solidFill>
                  <a:srgbClr val="595959"/>
                </a:solidFill>
                <a:latin typeface="Calibri"/>
              </a:rPr>
              <a:t>!  </a:t>
            </a:r>
            <a:r>
              <a:rPr b="1" lang="hr-HR" sz="2600" spc="-1" strike="noStrike">
                <a:solidFill>
                  <a:srgbClr val="595959"/>
                </a:solidFill>
                <a:latin typeface="Calibri"/>
              </a:rPr>
              <a:t>ALI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hr-HR" sz="2500" spc="-1" strike="noStrike">
                <a:solidFill>
                  <a:srgbClr val="595959"/>
                </a:solidFill>
                <a:latin typeface="Calibri"/>
              </a:rPr>
              <a:t>USKLAĐIVANJE</a:t>
            </a: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 (plan i program, zaduženja, potrebe i interesi učenika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financijska podrška (resursi) – neophod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traži se </a:t>
            </a:r>
            <a:r>
              <a:rPr b="1" lang="hr-HR" sz="2500" spc="-1" strike="noStrike">
                <a:solidFill>
                  <a:srgbClr val="595959"/>
                </a:solidFill>
                <a:latin typeface="Calibri"/>
              </a:rPr>
              <a:t>INOVATIVNOST, STRUČNOST, ODGOVORNOST,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595959"/>
                </a:solidFill>
                <a:latin typeface="Calibri"/>
              </a:rPr>
              <a:t>                </a:t>
            </a:r>
            <a:r>
              <a:rPr b="1" lang="hr-HR" sz="2500" spc="-1" strike="noStrike">
                <a:solidFill>
                  <a:srgbClr val="595959"/>
                </a:solidFill>
                <a:latin typeface="Calibri"/>
              </a:rPr>
              <a:t>PODUZETN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nedovoljna motivacija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uključiti sve dionike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papir trpi sve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učiti kako raditi u tim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rezultati – poboljšan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hr-HR" sz="2500" spc="-1" strike="noStrike">
                <a:solidFill>
                  <a:srgbClr val="595959"/>
                </a:solidFill>
                <a:latin typeface="Calibri"/>
              </a:rPr>
              <a:t>napredak – vidljiv, ali spor!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133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Mrežna stranica</a:t>
            </a:r>
            <a:br>
              <a:rPr sz="4400"/>
            </a:br>
            <a:br>
              <a:rPr sz="4400"/>
            </a:br>
            <a:r>
              <a:rPr b="1" lang="hr-HR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kolskikurikulum.hr</a:t>
            </a: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4751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Zaključa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7704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595959"/>
                </a:solidFill>
                <a:latin typeface="Calibri"/>
              </a:rPr>
              <a:t>Sklopljena knjiga je samo svežanj papira. </a:t>
            </a:r>
            <a:r>
              <a:rPr b="0" i="1" lang="hr-HR" sz="3200" spc="-1" strike="noStrike">
                <a:solidFill>
                  <a:srgbClr val="595959"/>
                </a:solidFill>
                <a:latin typeface="Calibri"/>
              </a:rPr>
              <a:t>(kineska poslov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Školski kurikulum treba biti poput otvorene i dobre knjige; što se više udubljuješ, to više počinje imati smisa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692316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Hvala na pažnji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smiley-face-journey.jpg"/>
          <p:cNvPicPr/>
          <p:nvPr/>
        </p:nvPicPr>
        <p:blipFill>
          <a:blip r:embed="rId1"/>
          <a:stretch/>
        </p:blipFill>
        <p:spPr>
          <a:xfrm>
            <a:off x="2411280" y="2492280"/>
            <a:ext cx="420048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O proje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Eksperimentalan, uključeno 60 škola iz 10 županija u 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Cilj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Osnažiti dionike obrazovnog sustava za djelotvoran razvoj, implementaciju i evaluaciju 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hr-po-zupanijama.BMP"/>
          <p:cNvPicPr/>
          <p:nvPr/>
        </p:nvPicPr>
        <p:blipFill>
          <a:blip r:embed="rId1"/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Sisačko-moslavačka župan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618920" y="1773000"/>
            <a:ext cx="5761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OŠ Vladimira Vidrića, Kut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OŠ Ludina, Velika Ludi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OŠ Viktorovac, Sis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OŠ Ivan Goran Kovačić, G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OŠ Gvozd, Gvoz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OŠ Braća Ribar, Sis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Očekivani rezulta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70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Edukacija nastavnika za razvoj ŠK koji su prilagođeni okruženju same škole te prenošenje stečenih iskustava na škole koje nisu bile uključene u projek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Aktiv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9640" y="1628280"/>
            <a:ext cx="8136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Predstavljanje projek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Trening za trene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Trening za učitelje, nastavnike i školske suradn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Izrada materijala o razvoju, implementaciji i evaluaciji 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95959"/>
                </a:solidFill>
                <a:latin typeface="Calibri"/>
              </a:rPr>
              <a:t>Završna konferen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1T06:57:15Z</dcterms:created>
  <dc:creator>Knjiznica</dc:creator>
  <dc:description/>
  <dc:language>en-US</dc:language>
  <cp:lastModifiedBy>bsusnjic</cp:lastModifiedBy>
  <dcterms:modified xsi:type="dcterms:W3CDTF">2015-07-03T12:08:47Z</dcterms:modified>
  <cp:revision>141</cp:revision>
  <dc:subject/>
  <dc:title>Slide 1</dc:title>
</cp:coreProperties>
</file>