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2BB-01A9-4596-852F-9CE3893A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FFE-1C8E-4F1C-B9D0-F6524186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0A1-F971-477D-84FC-80797443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D30-1034-4240-A5BC-2D291A78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AB81-7E23-453B-A696-979F56D9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578-8A71-4D6B-8EF1-708FB821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059-EA0A-418B-8417-6E4770F7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5E8-B31B-47B4-9B69-76D9A99C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856-E691-48BE-8363-C2A4906A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635-0904-46F5-9096-067912D5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E9A-25E9-4500-B580-16F84077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4CE-4285-4560-BB39-B16B2E14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B946-FC96-4EB0-AC4A-60CB55721398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arica"/>
          <p:cNvPicPr/>
          <p:nvPr/>
        </p:nvPicPr>
        <p:blipFill>
          <a:blip r:embed="rId2"/>
          <a:stretch/>
        </p:blipFill>
        <p:spPr>
          <a:xfrm>
            <a:off x="4562640" y="0"/>
            <a:ext cx="4581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95280" y="2492280"/>
            <a:ext cx="3745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aramond"/>
              </a:rPr>
              <a:t>TKO JE BIL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aramond"/>
              </a:rPr>
              <a:t>MARICA STANKOVIĆ 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ms"/>
          <p:cNvPicPr/>
          <p:nvPr/>
        </p:nvPicPr>
        <p:blipFill>
          <a:blip r:embed="rId2"/>
          <a:stretch/>
        </p:blipFill>
        <p:spPr>
          <a:xfrm rot="673800">
            <a:off x="826920" y="333000"/>
            <a:ext cx="3311640" cy="5904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643280" y="189000"/>
            <a:ext cx="4067280" cy="82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Garamond"/>
              </a:rPr>
              <a:t>Svojom pisanom riječi i nadasve svojim životom ulijevala je u ljude ljubav prema Bogu, Crkvi, Papi i domovini. Stekla je veliki ugled i mnoge simpatije te su je svi zvali sestra Marica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556000" y="404640"/>
            <a:ext cx="63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556000" y="333360"/>
            <a:ext cx="65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771640" y="6206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340000" y="0"/>
            <a:ext cx="66247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Garamond"/>
              </a:rPr>
              <a:t>Deset godina nakon smrti         dr. Ivana Merza,  1938. god. u   njegovom rodnom gradu Banja Luci,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995640" y="4581360"/>
            <a:ext cx="4464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Garamond"/>
              </a:rPr>
              <a:t>osniva prvi svjetovni institut u Crkvi u Hrvata.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tepinac"/>
          <p:cNvPicPr/>
          <p:nvPr/>
        </p:nvPicPr>
        <p:blipFill>
          <a:blip r:embed="rId2"/>
          <a:stretch/>
        </p:blipFill>
        <p:spPr>
          <a:xfrm>
            <a:off x="1476360" y="2781360"/>
            <a:ext cx="5886360" cy="3876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11280" y="260280"/>
            <a:ext cx="784836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Garamond"/>
              </a:rPr>
              <a:t>Ustanovu je blagoslovio zagrebački nadbiskup Alojzije Stepinac                      a sestra Marica joj je dala ime                          «Suradnice Krista Kralja».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can0052"/>
          <p:cNvPicPr/>
          <p:nvPr/>
        </p:nvPicPr>
        <p:blipFill>
          <a:blip r:embed="rId2"/>
          <a:stretch/>
        </p:blipFill>
        <p:spPr>
          <a:xfrm rot="21241200">
            <a:off x="5076720" y="765000"/>
            <a:ext cx="3765600" cy="5400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4000" y="1052640"/>
            <a:ext cx="4679640" cy="76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Garamond"/>
              </a:rPr>
              <a:t>Vođena apostolskim žarom u širenju Kristova Kraljevstva u dušama sestra Marica je mnogo putovala i pisala, držala brojna predavanja i posvuda svjedočila za Krista.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58-2"/>
          <p:cNvPicPr/>
          <p:nvPr/>
        </p:nvPicPr>
        <p:blipFill>
          <a:blip r:embed="rId2"/>
          <a:stretch/>
        </p:blipFill>
        <p:spPr>
          <a:xfrm>
            <a:off x="0" y="0"/>
            <a:ext cx="4780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4716360" y="907920"/>
            <a:ext cx="4211640" cy="56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Garamond"/>
              </a:rPr>
              <a:t>Papa Pijo XII. odlikovao ju je 1943. god. crkvenim odličjem «Pro Ecclesia et Pontifice –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Garamond"/>
              </a:rPr>
              <a:t>Za Crkvu i Papu».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1"/>
          <p:cNvPicPr/>
          <p:nvPr/>
        </p:nvPicPr>
        <p:blipFill>
          <a:blip r:embed="rId1"/>
          <a:stretch/>
        </p:blipFill>
        <p:spPr>
          <a:xfrm>
            <a:off x="0" y="0"/>
            <a:ext cx="44514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4788000" y="333360"/>
            <a:ext cx="3960720" cy="71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Osim brojnih članaka po mnogim časopisima objavila je 1944. god. knjigu «Mladost vedrine»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44514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4643280" y="333360"/>
            <a:ext cx="4176720" cy="71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i time ostavila dragocjeno svjedočanstvo o svome katoličkom odgojnom radu među ženskom mladeži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5148360" y="38160"/>
            <a:ext cx="3779640" cy="88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000000"/>
                </a:solidFill>
                <a:latin typeface="Garamond"/>
              </a:rPr>
              <a:t>Zbog svojih kršćanskih uvjerenja i velikog odgojnog utjecaja na mladež komunističke vlasti su je osudile na montiranom procesu na pet godina robije koje je provela od 1947. do 1952. u zatvoru u Požegi.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SAM_2318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Marica1A"/>
          <p:cNvPicPr/>
          <p:nvPr/>
        </p:nvPicPr>
        <p:blipFill>
          <a:blip r:embed="rId2"/>
          <a:stretch/>
        </p:blipFill>
        <p:spPr>
          <a:xfrm>
            <a:off x="2050920" y="3213000"/>
            <a:ext cx="5015160" cy="34606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68360" y="549360"/>
            <a:ext cx="806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aramond"/>
              </a:rPr>
              <a:t>Narušenog zdravlja od posljedica logora svoj je životni put završila svetom smrću 8. listopada 1957. god. u Zagrebu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311640" y="4753080"/>
            <a:ext cx="583236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ffffff"/>
                </a:solidFill>
                <a:latin typeface="Garamond"/>
              </a:rPr>
              <a:t>Pokopana je na zagrebačkom groblju Mirogoj.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468360" y="260280"/>
            <a:ext cx="86756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Garamond"/>
              </a:rPr>
              <a:t>Rođena je u Zagrebu 31.12.1900. god. od roditelja Fabijana i Terezije, rođ. Škvorc.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Zagreb"/>
          <p:cNvPicPr/>
          <p:nvPr/>
        </p:nvPicPr>
        <p:blipFill>
          <a:blip r:embed="rId2"/>
          <a:stretch/>
        </p:blipFill>
        <p:spPr>
          <a:xfrm>
            <a:off x="-541440" y="907920"/>
            <a:ext cx="5715000" cy="5457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5724360" y="189000"/>
            <a:ext cx="3168720" cy="70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Garamond"/>
              </a:rPr>
              <a:t>Osnovnu i učiteljsku školu završila je u Zagrebu kod Sestara milosrdnica. Pedagošku akademiju također je završila u Zagrebu.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4941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aramond"/>
              </a:rPr>
              <a:t>Službovala je u raznim mjestima diljem Hrvatske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4653000"/>
            <a:ext cx="9144000" cy="2014200"/>
          </a:xfrm>
          <a:prstGeom prst="rect">
            <a:avLst/>
          </a:prstGeom>
          <a:solidFill>
            <a:srgbClr val="ff9966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200" spc="-1" strike="noStrike">
                <a:solidFill>
                  <a:srgbClr val="000000"/>
                </a:solidFill>
                <a:latin typeface="Garamond"/>
              </a:rPr>
              <a:t>Već u školskim danima okušala se je u književnom radu pišući u školskim časopisima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Ivan_Merz"/>
          <p:cNvPicPr/>
          <p:nvPr/>
        </p:nvPicPr>
        <p:blipFill>
          <a:blip r:embed="rId2"/>
          <a:stretch/>
        </p:blipFill>
        <p:spPr>
          <a:xfrm>
            <a:off x="5148360" y="0"/>
            <a:ext cx="5254560" cy="7201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0" y="333360"/>
            <a:ext cx="521964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aramond"/>
              </a:rPr>
              <a:t>Na sletu orlovske mladeži u Mariboru godine 1920. susrela se s dr. Ivanom Merzom koji će kasnije imati veliki utjecaj na njezin život. Oduševila se za kršćanske ideale i rad u katoličkim organizacijama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MS"/>
          <p:cNvPicPr/>
          <p:nvPr/>
        </p:nvPicPr>
        <p:blipFill>
          <a:blip r:embed="rId2"/>
          <a:stretch/>
        </p:blipFill>
        <p:spPr>
          <a:xfrm>
            <a:off x="5003640" y="404640"/>
            <a:ext cx="4746960" cy="5977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179280" y="0"/>
            <a:ext cx="482436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aramond"/>
              </a:rPr>
              <a:t>Uređuje časopis   «Za vjeru i dom».  1927. god. postaje predsjednica katoličke ženske organizacije «Sveze hrvatskih orlica»,      a 1930. god. izabrana je za predsjednicu Velikog križarskog sestrinstva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arica-11"/>
          <p:cNvPicPr/>
          <p:nvPr/>
        </p:nvPicPr>
        <p:blipFill>
          <a:blip r:embed="rId2"/>
          <a:stretch/>
        </p:blipFill>
        <p:spPr>
          <a:xfrm>
            <a:off x="4140360" y="0"/>
            <a:ext cx="5529240" cy="7283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324000" y="1268280"/>
            <a:ext cx="46083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200" spc="-1" strike="noStrike">
                <a:solidFill>
                  <a:srgbClr val="000000"/>
                </a:solidFill>
                <a:latin typeface="Garamond"/>
              </a:rPr>
              <a:t>Posvećuje se duhovnoj obnovi i dosljednom kršćanskom odgoju ženske mladeži. 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Biskup_Mahnic"/>
          <p:cNvPicPr/>
          <p:nvPr/>
        </p:nvPicPr>
        <p:blipFill>
          <a:blip r:embed="rId2"/>
          <a:stretch/>
        </p:blipFill>
        <p:spPr>
          <a:xfrm>
            <a:off x="179280" y="189000"/>
            <a:ext cx="3113280" cy="4535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Ivan_Merz"/>
          <p:cNvPicPr/>
          <p:nvPr/>
        </p:nvPicPr>
        <p:blipFill>
          <a:blip r:embed="rId3"/>
          <a:stretch/>
        </p:blipFill>
        <p:spPr>
          <a:xfrm>
            <a:off x="6172200" y="2897280"/>
            <a:ext cx="2971800" cy="3960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3419640" y="1413000"/>
            <a:ext cx="511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aramond"/>
              </a:rPr>
              <a:t>Marica ostaje vjerna Mahnićevoj i Merzovoj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95280" y="4221000"/>
            <a:ext cx="568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1" lang="hr-HR" sz="4000" spc="-1" strike="noStrike">
                <a:solidFill>
                  <a:srgbClr val="000000"/>
                </a:solidFill>
                <a:latin typeface="Garamond"/>
              </a:rPr>
              <a:t>ideji                                     «obnoviti sve u Kristu»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0:16:01Z</dcterms:created>
  <dc:creator>PONTIFICIO ATENEO SALESIANO</dc:creator>
  <dc:description/>
  <dc:language>en-US</dc:language>
  <cp:lastModifiedBy>Župni ured</cp:lastModifiedBy>
  <dcterms:modified xsi:type="dcterms:W3CDTF">2012-08-31T07:54:44Z</dcterms:modified>
  <cp:revision>89</cp:revision>
  <dc:subject/>
  <dc:title>Diapositiva 1</dc:title>
</cp:coreProperties>
</file>