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13E-89C9-4096-A9BD-8C45E91B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E70-32AA-4C0C-9A7D-5BF1713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9DC-955B-4BEE-A9CF-58FEE6EA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F1F-7FB8-4858-A4E8-05B517B8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568-A83F-47E7-9081-7B191C6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BAD-50F7-4EA4-A19A-6CFE5D0F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694-0068-47CC-94F4-DC307CBB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2C8-0256-4BD8-9A1B-F15ACD4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246-CC67-407F-AD8A-9EBA315B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8E3-A7D7-4572-A016-C0EBE06C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C16-95C2-40E9-AD94-78F889E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2F7-17C0-4915-8EA0-7D548CE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1E13-7587-45A4-ABE0-D16426277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599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2133720"/>
            <a:ext cx="5410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ostolsko vjerov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599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0200" y="17524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jerujem u Boga, Oca svemogućega, Stvoritelja neba i zemlj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599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676520"/>
            <a:ext cx="6248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 Isusa Krista, Sina njegova jedinoga, Gospodina našega, koji je začet po Duhu Svet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599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16002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đen od Marije Djevice, mučen pod Poncijem Pilatom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599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14479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spet umro i pokopan; sašao nad pakao, treći dan uskrsnuo od mrtvih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599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1600" y="1600200"/>
            <a:ext cx="647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zašao na nebesa, sjedi o desnu Boga Oca svemogućega; odonud će doći suditi žive i mrt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599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71600" y="1371600"/>
            <a:ext cx="6781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jerujem u Duha Svetoga, svetu Crkvu katoličku, općinstvo svetih, oproštenje grijeha, uskrsnuće tijela , život vječn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599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3720" y="25146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esna Avsec</cp:lastModifiedBy>
  <dcterms:modified xsi:type="dcterms:W3CDTF">2012-08-17T06:09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