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5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dt" idx="64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 type="ftr" idx="65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 type="sldNum" idx="66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6834-88DC-4D54-8208-B5B951FA9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8784-2463-4E62-9A9C-8CE2548E4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2E53E-1FF6-4262-9698-234D6B18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17A2A-8FF8-44DC-AC11-25C3148F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A7FD0-C0F5-4703-8854-C84099F2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C7F53-F757-4721-BEBD-D56C816F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6722F-4E7E-4257-B984-9B8773B6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44511-2E82-4FEC-8B5A-5EA236FB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4CB07-4A87-429B-9282-C4F3D7BE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779BB-D586-4ECA-9E52-401043BB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D784B-168E-482F-99A4-95113F59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B652F-F863-4610-B5B8-BE3B9FD9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080EC-1256-42E2-926E-4E7BAF53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AA742-AF1C-4EA5-B5D2-F0946FFA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5134A-E163-4A35-A21E-F8961EEE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45568-F727-4F71-A79A-060444DC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BD552-0079-4A69-AA43-55D4F92A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22825-AFD2-4CC1-A0FF-63CB8C33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9BEB2-7B9D-4448-BD05-56CCEB75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99E6C-B718-4122-87FE-E037BE59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0803B-6971-49D2-9D4E-37251D4E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A76A7-DEAC-4A88-8281-41C49D76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34117-16D4-4A9B-9881-5108BED0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34EC5-6131-41FB-AA61-3B5CA17D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AB4DD-23C4-4887-9735-F9D5A4B0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66848-9E52-4F65-A65F-C3DCE7B9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0F1F6-9D27-4214-9710-8242798A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4B143-DD50-4BE5-B1F2-4DAD8852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0BCF4-2348-41A8-BAA6-970B1CA0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6D802-2230-46B8-92BB-B11DE4BD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C6845-EB5B-42C1-B064-FBAC847E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CECD0-6B8E-4BB7-8202-6D677829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B2730-D480-435F-868C-FE83305F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AEFC3-DD76-4525-945C-AA558D3E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5460E-B87D-4AE5-B677-D12CA521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3625D-825F-4F5E-8059-08BF4451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09A23-06E5-41B7-864F-9BE47E8F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42BA9-164A-4C4C-87FF-423DEA20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CA6FD-6681-45C5-8851-F6A9AFB4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FD119-01AA-430E-B0DA-324D10D8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43CA5-FCAD-4324-9B27-D12D21ED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C6719-3313-478E-AF90-30385618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59E26-E179-4D55-945D-39CA3D19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DF62D-86E6-467D-A5A3-7CB94389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9BFF5-1FA1-4DA6-AD93-45798A02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73869-2A9E-4522-8C4E-F0EED396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C9AC6-6D2C-484B-9939-5D467D68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62DE6-3E8C-46A3-8AB7-70FF21AA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06826-267C-4F66-8E03-CC381998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C030E-9A43-47E0-9FFC-81668DA4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B53BD-FC13-44A8-9066-3A7F22BE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448B8-D379-4A49-B46F-824600CE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02E1B-0C25-451B-B356-2ED04AAF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9C531-5306-48FD-8251-2FE96AB3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C8EE3-0257-4A3C-BEFE-3631570B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10FD1-C3C5-4AE2-84FD-56EE745B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BCB35-7F54-413D-AF85-C99FC987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0B6E7-7511-449D-899F-ADB42F74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9B3B2-8D38-45D1-857F-84323463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72FD5-2E2C-4613-86F4-7B3EACD3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FACBE-4AE8-473A-BF08-686749E8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9995E-A959-43FE-8E24-01F2D5A1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E3B7F-C90A-4309-AEEB-9B62444F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BC295-EF9F-4713-8911-D5A0CDC2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5BEB8-703C-4CD0-B585-C317E998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E11CD-C356-46E7-A713-134A41DF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8F4D2-296D-4D88-8738-C33E7C3E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27A22-BBC1-4BC5-8293-12329DEB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7A84E-0B79-4925-AA9B-B4C6C854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B4EBD-D6FD-47D5-B8E2-17898361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E42FD-006D-4DC7-8B09-D779A971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AFECB-AB41-4580-97EC-CF97E792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D805A-8776-4C01-92C9-DE3B78B7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931CB-7E79-4077-8E2D-CB75951F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31709-6B90-4ACF-A842-8F5B0511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34F69-5C79-4CE5-9640-CC41CF30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0C0C0-2858-4E3A-A6F4-464384E0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CBBEC-B99C-4DD6-9A62-B859EC25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AA239-4DC2-4F33-B191-438883C0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DAB61-80C8-4D8D-AEA1-3F3522AE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FE780-5CD5-4FDE-BE06-88BEC5A3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F9E1D-52CC-4317-8FC2-D5D37C38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71316-9EBD-4079-BBE1-BD701288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201B2-83D1-462C-AA37-880DADF0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A5070-08D5-4CF9-99AE-114713FD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5E0758-4309-427A-A1DB-B49A3602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9D0DF-92CE-4AF9-81C2-419F45AF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603AF-E641-4521-8925-46BB9B54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F671C-BB50-4243-8B60-F30599D0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B2ADC-CAEE-4BF2-88FC-CB91ECFB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AE904-8CE4-4D3C-9465-8BBD43E4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C38BA-8F02-4109-8B83-CDA18869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973FA-D4A4-4DA1-AB06-F1FDCDB3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46F7A-64A6-46C9-97C7-4811FC0E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7FF701-BAA9-4DB0-BC6D-1EB73B5D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67534-10E2-4A54-AB60-9A257D06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7246DE-3297-4987-84D2-0DA6C3ED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BF988-3A3D-4B86-8737-588659CF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CE5150-9CC8-4886-9042-068D38FA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6EA22-1E16-4196-B118-E3CD60A6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F517DF-0F8F-4F5A-9411-F6C338B6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CA38F-469B-47E4-838A-CAE82049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C8258C-707A-4FB7-B4A5-20D00B2E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44B2F3-BA88-462A-B13A-014965E4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903400-90BB-440D-805F-C9913E3D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A76AFC-4240-46EB-BAF9-A510F375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63AC28-68A7-431B-A416-7244CE8F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D073A1-36A5-414F-B189-77BF6E08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F7F333-C728-45A8-B444-4B8D7C7E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10ECD3-A004-4EB9-844B-1DE5BFC7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C2FB4F-A2E4-4D23-A18B-B9C8CA66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6CC86C-DF59-4B36-8067-0A749824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023948-47A9-4B61-8C12-8197DC37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2F74AE-4633-4710-B3B8-AAD67EE6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8DE3F4-9BFC-4C6B-BF31-698A4A11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509F5B-5163-4ADD-ABC0-8FF702AC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1456BF-E92E-4A50-9348-73743F09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FB9964-51B8-4DFD-9835-B1657491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C613AE-BCF5-4F4B-A1D4-7C0B3E31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250C2D-5251-4DA2-987C-42D4A41C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F85C26-B8AD-4735-838C-022AB0CF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8D8366-3ADB-41CD-BEE1-30EECD0B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2029C2-3EEB-4638-A2A3-BDF28F57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988BD9-D062-4188-A44A-1B26177A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B29B1F-65A1-4EF1-A456-407044F2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591F8F-B853-4E39-A5BD-CFA5B71E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371513-85E5-4949-8D7A-258EBBDB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77B0EC-040B-4964-A5F9-C23CED72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4AB888-857C-4BFD-B367-FE5161FB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41D754-3C16-4A37-90A4-23DACC7D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F88C61-0EDC-4EAC-8DF3-0894A8C2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50A5E2-3340-4E50-968D-204ECC75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B5A590-AF78-40F4-B516-7A51A763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1757C5-4C87-4B53-A1B9-1E29BA7A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C9DB8A-04C6-4D51-BEA9-0DD75FB1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0C4A6A-EB88-4A36-8ABD-F7F6A30F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DDFBA2-F95F-4BD2-9562-2CE42BFE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6457AD-9F72-4A92-90EA-FC2A9C79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B392A8-AC29-48EA-8290-7119DC0A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C54F82-8B95-42A6-B67B-684F7257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3A25FA-5B9E-4A92-BA25-099BA741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9A1A02-1D09-4DB2-A6C1-FA27B5CC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4378B0-C9AB-4480-80A5-B2A8063E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705BD4-CCDB-4412-965D-3AD39CDC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F542FB-3F33-401E-BB66-221C3CF1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682986-4788-4075-8D9F-9B934A4C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D10F5E-40AA-4E61-BA2B-464CB30B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CABF9B-D819-404E-9CAB-BDBC3EA5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838405-B5E2-4847-BC7D-132D55B0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D73908-2BAE-48E3-AA5F-C01148B4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AB954C-7395-4B98-8159-D5890C39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39B3E7-CAB4-4BB6-B5A0-7C189DFE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939143-653C-416D-B520-5F227E85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9E8DB2-B910-4CDD-AA86-4DFC499D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4DFF34-6058-49F1-8A77-1CF91B6A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203D8C-199C-4517-A991-CE10BB91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4EC4E7-EADA-4FE9-99C8-347497F0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6406FF-C82C-4918-88CA-97F147EB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90F235-C37C-40DB-8977-CE12553E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263313-2633-4AA5-BBFF-F86A8B95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F2AE6A-FC9B-46A1-8707-F852718E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06219E-43FC-41E8-9AE5-B17E2730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EC6B50-014E-4D3E-ACC7-90A71F63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F6BC13-D608-4F41-A16A-3000E180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0FB58F-3014-48DD-B235-A0A9B0D9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C01FBF-69B7-4947-870F-5196F149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CE8719-7CBC-43EF-8746-B8BDA7FA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BB0721-BD34-436D-ACB4-F255F378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842FB1-56AC-4BC1-984A-9EE52FFF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DF6288-2AD6-43D4-8AA2-E33B0C54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AB4915-8F0D-45C7-8E3F-51A2F53F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5C8EFC-C223-4A55-8DA3-3146D954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75124E-F460-4D86-9989-E82E57B3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9FAD58-4638-4161-B387-4D571BA1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6FCDBD-1297-4059-8AAF-1AAB97AF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C9CFD2-8141-40A3-8466-D6A8E741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5CE121-8F16-44BF-B368-777385C8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4DDFBC-671A-4DC3-B419-C1F9D7EE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3C4335-2266-4223-881E-03E286D5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B8ED5C-1FFA-4955-B858-DB94D775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FF5F1B-B3EA-4FE5-9637-CB42D897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58752C-19A9-47A7-90D7-31F52F5A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C0DC25-74B8-4D51-BDD0-AAE1C11A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177BE6-8EB2-44CE-890C-4363EDE2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23D6C3-BBDA-4C76-88F5-3E55E129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B317F0-07D5-4BFF-A196-094295C7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3DD082-8D9B-44D0-B322-AF1E7848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837BB7-05B7-4A0F-BE55-46B7DD9D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6E0C11-DA24-4EEF-99A9-0207FA7F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132C3B-221F-48FD-98E6-79BABBCE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19ED39-ABF9-4B77-B72E-8D345BE0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B46E-D164-4A88-B20C-DA2561E6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3F1-33BF-43F0-BD84-613CD1E4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BC67-5D2B-4A1F-A443-96B9849D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612C-27A1-43BB-BCA9-01E20912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D35-7663-4FA0-9573-384E0D04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98E-C7E8-4FB8-BAD8-982462F1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753A-E2FD-4C32-929F-CC0E91C0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AFF0-EB80-4D3D-8785-B9CF7AB0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362D-6695-458E-9D8A-FBBE24EC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FEC-3F4B-4985-A9F5-8286BE9A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E84-44B1-4BB1-AF72-4924D688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6D2-4BAA-403A-AD91-9D37C6A2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E2BA-BA51-42EB-B9CD-8476C720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7C96-E39F-48C8-93B9-EB7CECF1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CB5F-44D6-46DF-9E87-188BD458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CF29-8BD3-4D03-BD61-5B6497D0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55F2-FE23-443E-BCD4-F635420B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4231-A25A-4F8A-AC86-050CE310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F080-0D67-4F23-B0DA-AC8F547D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A94A-47E2-4248-8FC3-0AEA76F8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F019-2A48-4317-B463-95543CC3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3CE3-AC56-4F4E-8C85-EF105ED7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22D2-FFFD-4FD1-AE87-E499A553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4D66-5CB3-4019-900D-1D5E9D06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E9907-31FA-4633-926C-DE31197A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59A92-AF39-4904-B1BB-FCC36458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0475A-6192-417B-9BAB-202FE675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F38EA-2870-46DD-9B58-0A58B9D1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45D66-4C9F-4987-88BB-F9F08235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0434A-1AC0-49B0-8EDE-6EF3DAD7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54D81-9D3E-4285-BE36-54D94C18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A9133-20F3-4CC6-B4F5-2961A85F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130F3-8189-4CA5-9340-DC00236B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19E7A-A598-4874-AABD-CBB7FB39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9F84D-19E8-40A7-9B94-2C59BE7C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33F2C-F8E7-4988-A7E0-A987AF68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D6B8E-40D5-42A1-893A-9EED6D07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2B9AB-79C2-4630-98FB-67E599FE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429AD-E50B-49F6-A265-9F0B1A84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FDC80-AD3C-4AF4-88A9-38F2768A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74A78-C3DF-4284-A1DC-6566D7CF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59C4C-6BE5-4E4D-92A4-7F062E51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FC419-4F68-451E-8A35-1AD152B8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BAFBA-2A9B-434F-BF33-F726EB9F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C0254-D182-4295-8A1C-8D56AABF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2696B-46DA-4217-8E67-9DE6E23F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0540F-E85A-4F9B-8636-EC357E6C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F2396-50AB-472B-A3BD-81A6BD24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5BE6B-8722-45A0-BBD7-D880ADED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A2DE5-887B-4FF8-B12A-2D2799F2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C5B2A-32AF-4FF3-85A8-A6245839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8CEB9-30E7-4CF1-BA74-C296020F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0D872-0AEF-422B-98CC-9CA94743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51938-B5B4-48F7-B9E5-9B0B356B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22E9F-FD7B-4487-B213-FC947732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BDA2F-18B6-488C-8215-A89FE564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6B646-8BF2-454B-B501-E0E8C446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3640F-A100-4ECD-87BF-4D9CD3DD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5C459-47D7-45C4-B2FE-DA3DD83F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D30D2-A230-48CD-B9F2-AF054756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7BD16-C6C2-48F6-898B-25937BBF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8878B-D455-4764-AEA3-6FB1B0BC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D5F27-92ED-4310-A1C4-01B5703F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" name="Picture 5" descr="AZOO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9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0399-A58F-4FD3-BA3C-96C2D0CADB1A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4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4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FF19-5BDC-4826-B3EC-FB46F83BFD9A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8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E693-0984-460E-BF2E-4487A7F3E704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53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D5C5-F333-4FF2-8217-99F880DCF346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6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57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FE28-8324-4CFB-BB58-1AA67603781D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0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621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2229-DA29-41CF-8F67-759C61E14235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4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66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A428-92C3-413F-931B-FB62856573CF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8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0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C71E-BC62-463E-A556-DA1C1479392E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A707-F055-486D-B27A-AB3499231A21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6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9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178D-310A-4F8F-A7A5-946F7103A9A8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0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41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B2E8-D928-49D6-8636-BEF5475CDE1F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4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8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7CEE-D37F-476F-B2F2-B3B9F2DAF759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8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92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584E-0A0F-4E63-B284-22E7FEE9632C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97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F8B3-846B-461C-A92D-E09EFD32AE3D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ACFB-3B22-43D0-8AD0-45A3E46A3318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grpSp>
        <p:nvGrpSpPr>
          <p:cNvPr id="87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2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12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E0A3-7260-409F-BED9-C2D13D92386D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7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17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06A5-4E41-4DE2-A453-25D3C1431014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1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1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78EE-F8AF-47F5-A0C1-900717729099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6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6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1540-0C85-4398-8B75-1718F55A0CE9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0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0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FDBA-45F8-4435-A613-F834F534C165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5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A9DB-F0EF-4368-A76F-A09041099DA6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s://docs.google.com/forms/d/1skc1xhB-O3j8h0Kff7RJYw5gagcyRftR-5mBY-7hEdc/viewform" TargetMode="Externa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r-HR" sz="4000" spc="-1" strike="noStrike">
                <a:solidFill>
                  <a:srgbClr val="c00000"/>
                </a:solidFill>
                <a:latin typeface="Georgia"/>
              </a:rPr>
              <a:t>ICT kompetencije učitelja i nastavnika geografije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284360" y="2997360"/>
            <a:ext cx="4608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Georgia"/>
              </a:rPr>
              <a:t>Međužupanijski stručni skup za učitelje i nastavnike geografij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Georgia"/>
              </a:rPr>
              <a:t>Primjena ICT- a u nastavi geografij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Georgia"/>
              </a:rPr>
              <a:t>- edukativne igre i alati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5" name="Picture 4" descr="C:\Users\Sonja\Desktop\foto1\komp.jpg"/>
          <p:cNvPicPr/>
          <p:nvPr/>
        </p:nvPicPr>
        <p:blipFill>
          <a:blip r:embed="rId1"/>
          <a:stretch/>
        </p:blipFill>
        <p:spPr>
          <a:xfrm>
            <a:off x="324000" y="3429000"/>
            <a:ext cx="346680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2" descr="https://lh6.googleusercontent.com/0gbT75X7XF1YsJc9xiGFgjjsZduiJnDefxDvi6ykPBcTHr2FhMvzJBadKO-a54qqg6hvT8-1tgp6PqCLQv4DMVAeuTOrE0_1hB4iQC2t6chc7IvDRwc3Xu-DyPTh7PuEoa7a"/>
          <p:cNvPicPr/>
          <p:nvPr/>
        </p:nvPicPr>
        <p:blipFill>
          <a:blip r:embed="rId1"/>
          <a:stretch/>
        </p:blipFill>
        <p:spPr>
          <a:xfrm>
            <a:off x="571680" y="714240"/>
            <a:ext cx="8072280" cy="56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Picture 2" descr="Nikola Tesla.PNG"/>
          <p:cNvPicPr/>
          <p:nvPr/>
        </p:nvPicPr>
        <p:blipFill>
          <a:blip r:embed="rId1"/>
          <a:stretch/>
        </p:blipFill>
        <p:spPr>
          <a:xfrm>
            <a:off x="428760" y="428760"/>
            <a:ext cx="8286480" cy="59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Picture 2" descr="nastavnici_portal.PNG"/>
          <p:cNvPicPr/>
          <p:nvPr/>
        </p:nvPicPr>
        <p:blipFill>
          <a:blip r:embed="rId1"/>
          <a:stretch/>
        </p:blipFill>
        <p:spPr>
          <a:xfrm>
            <a:off x="357120" y="357120"/>
            <a:ext cx="857268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2" descr="Geografija.hr.PNG"/>
          <p:cNvPicPr/>
          <p:nvPr/>
        </p:nvPicPr>
        <p:blipFill>
          <a:blip r:embed="rId1"/>
          <a:stretch/>
        </p:blipFill>
        <p:spPr>
          <a:xfrm>
            <a:off x="357120" y="357120"/>
            <a:ext cx="8358120" cy="614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Picture 2" descr="Google Earth2.PNG"/>
          <p:cNvPicPr/>
          <p:nvPr/>
        </p:nvPicPr>
        <p:blipFill>
          <a:blip r:embed="rId1"/>
          <a:stretch/>
        </p:blipFill>
        <p:spPr>
          <a:xfrm>
            <a:off x="428760" y="500040"/>
            <a:ext cx="81439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Georgia"/>
              </a:rPr>
              <a:t>Elementi vrednovanja zadatak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0" name="Rectangle 2"/>
          <p:cNvSpPr/>
          <p:nvPr/>
        </p:nvSpPr>
        <p:spPr>
          <a:xfrm>
            <a:off x="500040" y="164304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hodi učenj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vezni sadržaji: postupak i rezult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zdanost/ točnost podatak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anje/ poznavanje teme/ način poznavanja te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000" spc="-1" strike="noStrike">
                <a:solidFill>
                  <a:srgbClr val="c00000"/>
                </a:solidFill>
                <a:latin typeface="Georgia"/>
              </a:rPr>
              <a:t>12 pitanja</a:t>
            </a:r>
            <a:r>
              <a:rPr b="1" lang="hr-HR" sz="3000" spc="-1" strike="noStrike">
                <a:solidFill>
                  <a:srgbClr val="c00000"/>
                </a:solidFill>
                <a:latin typeface="Georgia"/>
              </a:rPr>
              <a:t> na Google Drive-u </a:t>
            </a:r>
            <a:r>
              <a:rPr b="1" lang="hr-HR" sz="2000" spc="-1" strike="noStrike">
                <a:solidFill>
                  <a:srgbClr val="c00000"/>
                </a:solidFill>
                <a:latin typeface="Georgia"/>
              </a:rPr>
              <a:t>prema </a:t>
            </a:r>
            <a:r>
              <a:rPr b="1" lang="en-US" sz="2000" spc="-1" strike="noStrike">
                <a:solidFill>
                  <a:srgbClr val="c00000"/>
                </a:solidFill>
                <a:latin typeface="Georgia"/>
              </a:rPr>
              <a:t>Likertov</a:t>
            </a:r>
            <a:r>
              <a:rPr b="1" lang="hr-HR" sz="2000" spc="-1" strike="noStrike">
                <a:solidFill>
                  <a:srgbClr val="c00000"/>
                </a:solidFill>
                <a:latin typeface="Georgia"/>
              </a:rPr>
              <a:t>oj</a:t>
            </a:r>
            <a:r>
              <a:rPr b="1" lang="en-US" sz="2000" spc="-1" strike="noStrike">
                <a:solidFill>
                  <a:srgbClr val="c00000"/>
                </a:solidFill>
                <a:latin typeface="Georgia"/>
              </a:rPr>
              <a:t> skal</a:t>
            </a:r>
            <a:r>
              <a:rPr b="1" lang="hr-HR" sz="2000" spc="-1" strike="noStrike">
                <a:solidFill>
                  <a:srgbClr val="c00000"/>
                </a:solidFill>
                <a:latin typeface="Georgia"/>
              </a:rPr>
              <a:t>i</a:t>
            </a:r>
            <a:r>
              <a:rPr b="1" lang="en-US" sz="2000" spc="-1" strike="noStrike">
                <a:solidFill>
                  <a:srgbClr val="c00000"/>
                </a:solidFill>
                <a:latin typeface="Georgia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2" name="Rectangle 2"/>
          <p:cNvSpPr/>
          <p:nvPr/>
        </p:nvSpPr>
        <p:spPr>
          <a:xfrm>
            <a:off x="428760" y="1357200"/>
            <a:ext cx="785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3" name="Picture 2" descr="računalo.jpg"/>
          <p:cNvPicPr/>
          <p:nvPr/>
        </p:nvPicPr>
        <p:blipFill>
          <a:blip r:embed="rId1"/>
          <a:stretch/>
        </p:blipFill>
        <p:spPr>
          <a:xfrm>
            <a:off x="214200" y="0"/>
            <a:ext cx="92880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4" name=""/>
          <p:cNvGraphicFramePr/>
          <p:nvPr/>
        </p:nvGraphicFramePr>
        <p:xfrm>
          <a:off x="571680" y="2357280"/>
          <a:ext cx="7461000" cy="3872160"/>
        </p:xfrm>
        <a:graphic>
          <a:graphicData uri="http://schemas.openxmlformats.org/drawingml/2006/table">
            <a:tbl>
              <a:tblPr/>
              <a:tblGrid>
                <a:gridCol w="2487600"/>
                <a:gridCol w="2487600"/>
                <a:gridCol w="2485800"/>
              </a:tblGrid>
              <a:tr h="3524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5f497a"/>
                          </a:solidFill>
                          <a:latin typeface="Calibri"/>
                          <a:ea typeface="Calibri"/>
                        </a:rPr>
                        <a:t>Slaganj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5f497a"/>
                          </a:solidFill>
                          <a:latin typeface="Calibri"/>
                          <a:ea typeface="Calibri"/>
                        </a:rPr>
                        <a:t>Učestalos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5f497a"/>
                          </a:solidFill>
                          <a:latin typeface="Calibri"/>
                          <a:ea typeface="Calibri"/>
                        </a:rPr>
                        <a:t>Kvalitet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5f497a"/>
                          </a:solidFill>
                          <a:latin typeface="Calibri"/>
                          <a:ea typeface="Calibri"/>
                        </a:rPr>
                        <a:t>1. – u potpunosti se ne slaže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5f497a"/>
                          </a:solidFill>
                          <a:latin typeface="Calibri"/>
                          <a:ea typeface="Calibri"/>
                        </a:rPr>
                        <a:t>1. - nika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5f497a"/>
                          </a:solidFill>
                          <a:latin typeface="Calibri"/>
                          <a:ea typeface="Calibri"/>
                        </a:rPr>
                        <a:t>1. – mnogo lošije od prosjek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70488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5f497a"/>
                          </a:solidFill>
                          <a:latin typeface="Calibri"/>
                          <a:ea typeface="Calibri"/>
                        </a:rPr>
                        <a:t>2. – ne slažem 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5f497a"/>
                          </a:solidFill>
                          <a:latin typeface="Calibri"/>
                          <a:ea typeface="Calibri"/>
                        </a:rPr>
                        <a:t>2. - rijetk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5f497a"/>
                          </a:solidFill>
                          <a:latin typeface="Calibri"/>
                          <a:ea typeface="Calibri"/>
                        </a:rPr>
                        <a:t>2. - lošije od prosjek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5f497a"/>
                          </a:solidFill>
                          <a:latin typeface="Calibri"/>
                          <a:ea typeface="Calibri"/>
                        </a:rPr>
                        <a:t>3. – niti se slažem, niti se ne slaže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5f497a"/>
                          </a:solidFill>
                          <a:latin typeface="Calibri"/>
                          <a:ea typeface="Calibri"/>
                        </a:rPr>
                        <a:t>3. - poneka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5f497a"/>
                          </a:solidFill>
                          <a:latin typeface="Calibri"/>
                          <a:ea typeface="Calibri"/>
                        </a:rPr>
                        <a:t>3. - prosječn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70488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5f497a"/>
                          </a:solidFill>
                          <a:latin typeface="Calibri"/>
                          <a:ea typeface="Calibri"/>
                        </a:rPr>
                        <a:t>4. – slažem 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5f497a"/>
                          </a:solidFill>
                          <a:latin typeface="Calibri"/>
                          <a:ea typeface="Calibri"/>
                        </a:rPr>
                        <a:t>4. - čest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5f497a"/>
                          </a:solidFill>
                          <a:latin typeface="Calibri"/>
                          <a:ea typeface="Calibri"/>
                        </a:rPr>
                        <a:t>4. – bolje od prosjek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5f497a"/>
                          </a:solidFill>
                          <a:latin typeface="Calibri"/>
                          <a:ea typeface="Calibri"/>
                        </a:rPr>
                        <a:t>5. – u potpunosti se slaže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5f497a"/>
                          </a:solidFill>
                          <a:latin typeface="Calibri"/>
                          <a:ea typeface="Calibri"/>
                        </a:rPr>
                        <a:t>5. - uvijek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46440" rIns="46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5f497a"/>
                          </a:solidFill>
                          <a:latin typeface="Calibri"/>
                          <a:ea typeface="Calibri"/>
                        </a:rPr>
                        <a:t>5. – mnogo bolje od prosjek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8e8"/>
                    </a:solidFill>
                  </a:tcPr>
                </a:tc>
              </a:tr>
            </a:tbl>
          </a:graphicData>
        </a:graphic>
      </p:graphicFrame>
      <p:sp>
        <p:nvSpPr>
          <p:cNvPr id="1095" name="Rectangle 5"/>
          <p:cNvSpPr/>
          <p:nvPr/>
        </p:nvSpPr>
        <p:spPr>
          <a:xfrm>
            <a:off x="642960" y="1500120"/>
            <a:ext cx="800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ad1f1f"/>
                </a:solidFill>
                <a:uFillTx/>
                <a:latin typeface="Times New Roman"/>
                <a:hlinkClick r:id="rId2"/>
              </a:rPr>
              <a:t>https://docs.google.com/forms/d/1skc1xhB-O3j8h0Kff7RJYw5gagcyRftR-5mBY-7hEdc/viewform</a:t>
            </a:r>
            <a:r>
              <a:rPr b="1" lang="hr-HR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2"/>
          <p:cNvSpPr/>
          <p:nvPr/>
        </p:nvSpPr>
        <p:spPr>
          <a:xfrm>
            <a:off x="4071960" y="2143080"/>
            <a:ext cx="35719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Georgia"/>
              </a:rPr>
              <a:t>Zahvaljujem na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Georgia"/>
              </a:rPr>
              <a:t>sudjelovanju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7" name="Picture 4" descr="C:\Users\Sonja\Desktop\foto1\komp.jpg"/>
          <p:cNvPicPr/>
          <p:nvPr/>
        </p:nvPicPr>
        <p:blipFill>
          <a:blip r:embed="rId1"/>
          <a:stretch/>
        </p:blipFill>
        <p:spPr>
          <a:xfrm>
            <a:off x="1000080" y="3429000"/>
            <a:ext cx="34671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Times New Roman"/>
              </a:rPr>
              <a:t>Ciljevi izlaganja: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vojiti zakonske okvire koji propisuju stručno usavršavanj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esti kompetencije učitelja i nastavnika nakon stručnih usavršavanj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oznati potrebe za razvoj i širenje digitalnih kompetencij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irati načine primjene digitalnih kompetencija učitelja i učitelja i nastavnika u svakodnevnoj prak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8" name="Picture 4" descr="C:\Users\Sonja\Desktop\mamin facebook\tastatura.jpg"/>
          <p:cNvPicPr/>
          <p:nvPr/>
        </p:nvPicPr>
        <p:blipFill>
          <a:blip r:embed="rId1"/>
          <a:stretch/>
        </p:blipFill>
        <p:spPr>
          <a:xfrm>
            <a:off x="3214800" y="4857840"/>
            <a:ext cx="224928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Times New Roman"/>
              </a:rPr>
              <a:t>Ciljevi upitnika: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irati primjenu računala u nastavnom proces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vrditi povezanost nastavnih sadržaja geografije i IKT znanja i vješt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vojiti korelaciju geografije i drugih predmeta kroz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ne kompetencij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nalizirati primjenu računala u profesionalnom razvoju učitelja i nastavnik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1" name="Picture 5" descr="C:\Users\Sonja\Desktop\mamin facebook\globus.png"/>
          <p:cNvPicPr/>
          <p:nvPr/>
        </p:nvPicPr>
        <p:blipFill>
          <a:blip r:embed="rId1"/>
          <a:stretch/>
        </p:blipFill>
        <p:spPr>
          <a:xfrm>
            <a:off x="4500720" y="46432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Picture 3" descr="disk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pl-PL" sz="3200" spc="-1" strike="noStrike">
                <a:solidFill>
                  <a:srgbClr val="c00000"/>
                </a:solidFill>
                <a:latin typeface="Georgia"/>
              </a:rPr>
              <a:t>Zakon o odgoju i obrazovanju</a:t>
            </a:r>
            <a:br>
              <a:rPr sz="1800"/>
            </a:br>
            <a:r>
              <a:rPr b="0" lang="pl-PL" sz="1800" spc="-1" strike="noStrike">
                <a:solidFill>
                  <a:srgbClr val="c00000"/>
                </a:solidFill>
                <a:latin typeface="Georgia"/>
              </a:rPr>
              <a:t>Zakon o odgoju i obrazovanju (Narodne novine, 87/08, 86/09, 92/10, 105/10, 90/11, 5/12, 16/12, 86/12, 126/12 i 94/13)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4" name="Pravokutnik 3"/>
          <p:cNvSpPr/>
          <p:nvPr/>
        </p:nvSpPr>
        <p:spPr>
          <a:xfrm>
            <a:off x="395280" y="1628640"/>
            <a:ext cx="77040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STRUČNO OSPOSOBLJAVANJE, USAVRŠAVANJE, NAPREDOVANJE I IZDAVANJE LICENCIJ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Članak 115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(1) Učitelji, nastavnici, stručni suradnici i ravnatelji školske ustanove imaju </a:t>
            </a: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pravo i obvezu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 trajno se stručno osposobljavati i usavršavati kroz programe koje je odobrilo Ministarstvo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(2) Pod stalnim stručnim osposobljavanjem i usavršavanjem iz stavka 1. ovog članka podrazumijeva se pojedinačno i organizirano usavršavanje u matičnoj znanosti u području pedagogije, didaktike, obrazovne psihologije, metodike, i</a:t>
            </a: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nformacijsko-komunikacijskih tehnologija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, savjetodavnog rada, upravljanja, obrazovnih politika i drugih područja relevantnih za učinkovito i visokokvalitetno obavljanje odgojno-obrazovne djelatnosti u školskim ustanovam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(3) …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hr-HR" sz="3200" spc="-1" strike="noStrike">
                <a:solidFill>
                  <a:srgbClr val="c00000"/>
                </a:solidFill>
                <a:latin typeface="Georgia"/>
              </a:rPr>
              <a:t>Nacionalni okvirni kurikulum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6" name="Pravokutnik 3"/>
          <p:cNvSpPr/>
          <p:nvPr/>
        </p:nvSpPr>
        <p:spPr>
          <a:xfrm>
            <a:off x="324000" y="907920"/>
            <a:ext cx="8424720" cy="65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Times New Roman"/>
              </a:rPr>
              <a:t>Uporaba informacijske i komunikacijske tehnologij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Times New Roman"/>
              </a:rPr>
              <a:t>Opis međupredmetne te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Informacijska i komunikacijska tehnologija ima mogućnosti najsuvremenijega dostupnoga nastavnoga pomagala i sredstva u svim odgojno-obrazovnim područjima. Mogućnostima multimedijskih prikaza i pristupa računalnim mrežama, osobito internetu, omogućuje trenutačni pristup golemu i brzo rastućemu broju informacija iz cijeloga svijeta omogućujući ujedno i njihovo pretraživanje. Uz to, pridonosi razvoju učeničkih sposobnosti samostalnoga učenja i suradnje s drugima te njihovih komunikacijskih sposobnosti. Pridonosi razvoju pozitivnog odnosa prema učenju, unaprjeđenju načina na koji učenici prikazuju svoj rad te njihovim pristupima rješavanju problema i istraživanju. Isto tako učinkovita i racionalna primjena informacijske i komunikacijske tehnologije u različitim situacijama daje bitan doprinos razumijevanju temeljnih koncepata u području tehnike i informatike. Stoga je odgovarajući pristup informacijskoj i komunikacijskoj tehnologiji nužno omogućiti svim učenicima. Oni se tom tehnologijom trebaju služiti u svim predmetima i tako dobiti mogućnost za istraživanje i komunikaciju u lokalnoj sredini, ali i šire, kako bi stekli vještine razmjene ideja i podjele rada sa suradnicima te pristupa stručnim sadržajima različitim načinim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ravokutnik 3"/>
          <p:cNvSpPr/>
          <p:nvPr/>
        </p:nvSpPr>
        <p:spPr>
          <a:xfrm>
            <a:off x="324000" y="907920"/>
            <a:ext cx="842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3"/>
          <p:cNvSpPr/>
          <p:nvPr/>
        </p:nvSpPr>
        <p:spPr>
          <a:xfrm>
            <a:off x="0" y="10717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Učenici će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biti osposobljeni za prepoznavanje i izbor informacija potrebnih za određene situacije te vrjednovati odgovarajuće izvore informacij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- biti osposobljeni prikazati informacije na jasan, logičan, sažet i precizan nač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- razložno i učinkovito rabiti informacijsku i komunikacijsku tehnologiju za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 traženje i prikupljanje podataka te njihovu pohranu, pretraživanje, obradbu i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organizacij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analizu i sintezu strukturiranih informacij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 istraživanje, modeliranje i simuliranje različitih procesa i pojava u prirodi i društv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rješavanje problema u različitim situacijam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stvaranje i prikazivanje vlastitih ideja i materija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 učinkovito samostalno učenje služeći se računalom kao medije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 komunikaciju i suradnju s drugim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- razviti svijest o primjeni informacijske i komunikacijske tehnologije u društvu i njezini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posljedicam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- razviti kritičan i misaoni stav o pitanjima vezanima za valjanost i pouzdanost dostupni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informacija te o pravnim i etičkim načelima interaktivnoga korištenja tehnologijam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Times New Roman"/>
              </a:rPr>
              <a:t>informacijskoga društv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Georgia"/>
              </a:rPr>
              <a:t>Ciljevi međupredmetne tem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hr-HR" sz="3200" spc="-1" strike="noStrike">
                <a:solidFill>
                  <a:srgbClr val="c00000"/>
                </a:solidFill>
                <a:latin typeface="Georgia"/>
              </a:rPr>
              <a:t>AZOO skupovi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1" name="Rectangle 2"/>
          <p:cNvSpPr/>
          <p:nvPr/>
        </p:nvSpPr>
        <p:spPr>
          <a:xfrm>
            <a:off x="0" y="135720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zraditi dijagram dobno-spolne strukture, linijski dijagram, dijagram sa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pcima i kružni dijagra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 upotrijebiti Google Earth i Google Maps progra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 definirati elemente i kriterije vrednovanja grafičkih prikaza i prezentacij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 koristiti Portale u planiranju i programiranju nasta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 koristiti multimediju u PowerPoint program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 izraditi tematsku kart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 kreirati zadatke za učenike u Google Earth i Google Maps programim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 odrediti elemente i kriterije vrednovanja zadatak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 analizirati uporabu informacijskih i komunikacijskih tehnologija u nastavi geografij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 planirati i primijeniti edukativne računalne igre i alate u učenju i poučavanj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 objasniti primjenu geografsko informacijskog sustava (GIS) u nastavi i istraživanj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 koristiti sadržaje, načine i oblike vrednovanja i samovrednovanja digitalnih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petencija učitelja i nastavnik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 analizirati primjenu multimedije u izradi zadataka za učenik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 izdvojiti i koristiti relevantne izvore za sadržaje u nastavi geografij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Picture 2" descr="https://lh6.googleusercontent.com/C2as61TdjfWEdpyFwWxj08WVixj3ce6tOC5IXV00MMxiw-_vYdEgyhsNhT0uVd_bRqq61qFG0uwXkmnPQyjhQySU9_XXrEhsyQFJXWrwN6Ux9lE8Y9uZa810C2mB9etA-cbN"/>
          <p:cNvPicPr/>
          <p:nvPr/>
        </p:nvPicPr>
        <p:blipFill>
          <a:blip r:embed="rId1"/>
          <a:stretch/>
        </p:blipFill>
        <p:spPr>
          <a:xfrm>
            <a:off x="0" y="0"/>
            <a:ext cx="4643280" cy="30718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https://lh6.googleusercontent.com/t_BMoYLA3bsQqL53W2-iXjZBxfn2k-D55pTsFekw-8cuaitt_Xbl-qGVqavyrRg0E85cJ2Put50l3IZhj8PTAc1R25VkAdAYyfWAu-Te_B6-lr6PqK5vW_7ocIMu1ALtIr5X"/>
          <p:cNvPicPr/>
          <p:nvPr/>
        </p:nvPicPr>
        <p:blipFill>
          <a:blip r:embed="rId2"/>
          <a:stretch/>
        </p:blipFill>
        <p:spPr>
          <a:xfrm>
            <a:off x="4714920" y="3286080"/>
            <a:ext cx="4429080" cy="32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7:02:39Z</dcterms:created>
  <dc:creator>Korisnik</dc:creator>
  <dc:description/>
  <dc:language>en-US</dc:language>
  <cp:lastModifiedBy>Sonja</cp:lastModifiedBy>
  <dcterms:modified xsi:type="dcterms:W3CDTF">2014-08-26T17:48:37Z</dcterms:modified>
  <cp:revision>181</cp:revision>
  <dc:subject/>
  <dc:title>ULOGA RAVNATELJA U UVOĐENJU PRIPRAVNIKA U SAMOSTALAN RAD</dc:title>
</cp:coreProperties>
</file>