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690-F5AC-4407-B6C2-3D86EB61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8F26-35BB-4BEF-9F1F-62D07F92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1F89-B5D7-4BC8-AFDF-B43285DC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E41C-6850-49E7-9E48-B2246B6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3751-2657-4821-B4E2-2E0C56F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12D9B-34A2-4A86-A589-3711B7F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C096-7684-4818-B385-BCF7D86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B5AB-1318-4806-AC4D-67E687B5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B2EA9-BCFE-4A19-BE74-0C049BB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AC0E-C004-40BC-8FB0-62B9D662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144B-230E-4AA3-87B4-8096B8AE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78A5-A7F4-420F-802E-DA4FDF36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D61A-6B44-48DB-B3BB-38FD5E4B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B6FA-4D6F-4ED1-8F19-296376C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D710-C89C-43F2-96A1-C0D1391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9F74-A740-488A-94BF-8491BAFC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96A4-4BFC-4DF4-938A-76F8823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F1B3-9057-40E0-A31E-871EAE2B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396B-55E4-423B-8D25-280DD7D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12FD-7235-49E9-B1AD-C4B7F46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F7CF-1BF5-4F86-B706-F06BA7F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0B7A1-3D91-4376-9E38-F2353CD1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028E-3382-4B98-BD73-BB7A176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BEB1-296A-4740-9E55-7684B3FA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411B4-E0E8-47BE-AFA1-B4417B8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825A6-EB4B-45AE-872F-D27E01F3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DC1D-1551-4D12-9DD4-F305DC1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2B927-EAEE-46C3-9885-4801E40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4CC1-1F9F-45A7-B20C-C84071A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F2EDD-0C7B-4AFC-BB52-966540A2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6206-AE7A-47BE-A6B4-6766FD5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AFF0-FF6D-445E-83D1-16D76FB0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A3283-0FFD-49F6-9F03-9867290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51179-30CB-4807-A785-4A16F820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021F-7E61-441F-A088-09A163AD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B721-5178-4230-8EA1-27C7055E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1645D-7CBC-4BA5-8055-669D76F5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5489B-6DC5-48FD-92C2-34FAAC3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6BB47-E5B9-45FB-B8EF-84B3A61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9D9E0-CA67-4897-A98C-4A5BB134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D2BD2-7591-4B97-961A-203776F8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527BA-0B7D-423F-AEF9-7B876911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358DA-5044-4C05-AA5F-5BA9F40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77CD-51F5-48A3-B97F-0DDEE07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DDC5F-1B9D-4902-898D-90A8E21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3D96B-B7E5-42C4-9C2F-B04F4D6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11485-6EA8-40FC-8083-D1DC388C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2D45-6E40-473B-8379-4ECB55B5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A27C5-800C-4F89-A107-2057744F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A105A-2418-46B6-974B-D378C57E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6E3F1-4DD1-4C89-9F0E-23286193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7CDFA-75F8-4F5A-9317-D48959C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6FC5B-6259-406A-B3CA-2188F1A5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82A8C-E5E3-44AD-968B-1E2A312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C5242-307D-4D8D-A0BA-42C2EBE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652DE-F3B5-475F-ABE1-AC7958E2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14DE7-DECF-410B-B378-A964FEF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22AF4-ED27-44DC-8D43-E0A28B5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4C0CA-2D40-443D-913C-857D8BE4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42329-6B1A-4C04-979B-89DF8ACB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DA57A-D3A2-4BEC-B2A5-68A47DE8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D3F8-951D-4AAD-878B-CC520CC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8397E-E705-4D38-9EA7-AF327B28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91524-85C1-45A8-89ED-86367932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9A7D-0CCE-4AB1-8B65-9FCD1B7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9E8A-5D89-4D22-9B17-B3C0982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31241-3B22-44FE-8178-572D722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FDF9-3053-44AF-95FC-92FC6CB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15BA0-8F73-4990-8B81-95BA7E7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BA344-C3C0-4C49-B643-FC862A9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00B5-8C84-4CD5-B1CA-56B4CD0E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F95E5-B42F-4404-AF86-CAE1AA99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C8079-07DD-41F6-894B-953B791C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C8A16-F7DE-4675-93EC-1365EA3D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F5EEF-EF8B-4253-8C6E-7F69FA14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22B99-CE94-49BB-9DF7-F6F1275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EF217-4236-4A92-816E-DEF0513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7C4DB-FF5C-41A6-8ECE-D9E096BA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F3359-EA4A-4AE6-8ABA-0F7EC2D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6FCDF-2FFB-47DA-81F5-E80C6F1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C6E8E-4BD7-44D6-8BEF-81F7979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6EF1C-CC12-455A-A804-8C4CE542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F9C13-7231-445B-BCC2-2D8619F5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D39AE-B166-4ED6-A705-E399BE3F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E4C69-4BFE-4997-9BEB-1FB318F7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201AD-C6BB-4C9C-A490-3A754DF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770D4-D076-4927-9CC9-FFB6D72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5BEFB-6C96-4BE7-85F7-0AF0077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CEFBC-E27C-4282-A28E-50A6E827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58C74-E5D7-41A1-A8E0-EA111B4D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D9DA-312F-42E5-B484-C2D2F9A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FCFDE-264B-420C-A397-A26267E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B5550-0C82-4EFB-BCF9-5C384F4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4612E-DDF7-4A55-9F3C-4AF63EFF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147A3-BB04-4623-89FC-03610869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44614-9B1D-43DC-ABCB-D1EB3ED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C4BDE-DE5D-44EF-846C-2D1D2F4F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734EB-B1AE-408F-88A5-1C3C74D4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A43B3-67D0-43C5-8B62-40E8DB42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8C831-FDDC-49AC-AA09-91D5FB5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1CDAA-7F02-4E84-A6AF-7796DB1B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0762D-198F-418D-AEB9-B73E5956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934C2-E7AE-40CE-9789-AD4D512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E3382-1FAA-4F8A-83C4-9F284DB7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A8998-6E5A-47ED-945B-D802D4A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A2DEC-248D-49D8-9865-25AB488A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076F0-655C-4505-93B8-0777598D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14EB7-F6E3-4F9E-A6CE-F0143D52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F6B16-A68E-465E-9865-AE39DD5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99909B-F414-469F-959D-631F82D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6BF42-6D08-4087-8283-0F4EE916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59033-0E6E-49B2-8181-8AF1CEDB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D395C-2AB2-41A7-AC77-F27E0817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09A70-C217-496B-B85B-B7C7C3BA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93E06-1E84-4357-9760-8B1ADA5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6C813-7B68-4771-81AC-A97DF0C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B907F-6E79-48F7-BAD2-E4B57F3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D64BD-18A4-4225-8959-4B312AAB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63B1D-9602-4733-8773-1300E38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F018A-D51E-42B6-8186-CCE323AF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0FA87-E026-40B8-A1EF-22817A69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F2453-78A5-4821-BB81-A299E41E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8E0D5-1370-4E2C-A725-7D4260FB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1090B-33F8-48B3-85E5-9B43720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915CF-E0D6-4547-9312-D95C554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3449BA-FE21-4A70-B513-F1CD9FD5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7F300-BC41-45F8-9A25-DF8A8B5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3AC72-7BD6-4105-86A8-ED755BB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2CAE7-1DD1-43C5-BBEC-B33749E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CAD86-FFA9-4C89-A152-FE6F3E7E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C8316-B48E-4B50-974A-E54030AD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A04BB-F185-4D54-A72F-4AE85848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07058-53F9-42A1-8C29-42CC0C9C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B5980-0AFF-491D-A5FA-D2F340D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D733F-134F-47A1-906C-D78982B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CB690-E29F-4CBC-9AA0-EB6ED37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3A2B8-044E-4FE8-AF69-DA4A884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CB258-EA94-4315-AE60-BB653F5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641D2-2296-41C0-AAC5-AA253A9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A1ED5-569B-4CC7-99CF-14062282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B788A-43D9-4F78-8E1F-6887017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8152D-712D-4D4A-96DC-FAD6298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D8AF7-211F-4B8D-AB16-77D4E1FA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2CE9B-37C0-4592-9B69-2780816E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E2459-9143-42A7-86DB-F6F21C4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2D0E4-A295-4626-ABC9-C3E38D70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31BA7-1F40-4FE2-A44A-CFACFC4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49A3B-A439-472A-852C-407B058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DEC9B-C8AA-4AA2-9904-19148C1B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6C632-B588-4808-BF8A-67E42B5D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6D914-82D0-45EC-9662-D79ABCC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D9D83-921D-4D47-83DE-CAC4B84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ABC7E-B777-4709-9321-14AA23C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E27BB-0364-4D88-95D3-C66AC49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CA981-2FAC-4C16-B7CB-697262A9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E6E6C-DC4D-491F-92E3-43A9FDE4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754C1-8149-4E4F-AE0B-84B27C0C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700CE-0034-4AF8-AB6E-12962AB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344D0-A5B9-49C7-AF62-FF22A72F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CF0DD-90CC-49BA-9D9E-2D20155A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C8AFC-244E-40AF-8733-FAA7D8BF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5194A-CEE0-4101-8D0D-9DE4B2B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77F81-BBF4-49BF-AE14-C02E289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10B6B-9672-48EF-A8D6-A6ED2482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1A00F-F883-4FCC-A301-8CB7828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61B59-BB7F-4975-8820-1657EF7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6D070-BFFD-4FE4-A78D-970D7665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EB2D7-3B8D-462C-9B92-63CC048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230A0-5B35-49FD-93B4-8D9ECB90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30DA8-6CF9-4830-8C13-1DAC98C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DF0D4-E75A-4F07-BB59-9555D64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390E6-3A4E-44FC-97A1-47995CCE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07A6C-7B2F-4A66-AF74-1F808DD5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CBE17-522E-48E4-9B04-C1749AA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99F34-A61E-45E9-B2FA-D250D2C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13225-35C6-4478-90CF-9234E1F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1794A-9D3F-4AB0-BD2C-F5716F6D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A93DC-D8E5-4084-910D-73368D2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362D4E-A11E-4AF8-AFCC-62977EF9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F611A-7A69-43CF-ABB7-B36ABCCA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F1787-5038-4530-A531-7F95F902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9B453-74D3-45C7-8400-8DED407E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B9ACC-4C26-483F-954B-574EE559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5FFD4-0B4A-4C69-9115-22E4ACE0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FCF0E-0485-43D7-A1F8-1EB7EA6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1C463-02FB-4E67-86D6-2B0991BB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1732C-AE05-47D6-88E3-3753FD8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C2BC5-0DD2-422C-B358-21045D0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3ED94-EFAE-4B0F-9D92-38548B7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FDE21-3E99-4C4E-A291-81572B2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6C7B9-7BDD-466C-8EE2-FECDE32E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98B67-57F7-4F94-BCA2-46D9898C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C97-0402-4320-B038-D18E25AD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F91-AC14-43D6-A614-76B1FC98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351-6C3B-4145-89B8-01795A4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008-6C19-42F1-A6FF-D40D182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5D1-29A7-4045-962E-3AFC0B8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CC7-D4D3-4CA9-985E-A259B3F0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752-DF19-440F-8269-B2BF8FA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46F-D24B-4ED2-A259-B17089DC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C8D-3363-4024-B98F-C07C18F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82F-5BC2-4C0D-A3E0-6D9462A8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549-E2DD-4A89-A2F3-68B8CAB1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A66-4FD1-4DA5-964F-3F47E36E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83D-1ECB-4626-B5A6-1F401BE1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D30-9DDC-4FCD-8C96-4FEEC3ED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130-6C87-48EC-A104-135642F7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80F3-73C2-4038-8576-3783A96D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556E-774E-439C-B0A1-488B0AEE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5CC3-213F-4DD1-85FF-77FE3D0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7B07-EDD2-49FA-8C4A-DDD1E08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89F0-6184-4A5D-863B-BE218AD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420-E162-4D7D-AA37-1841C9E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8AFB-6BEA-45A6-89F0-A1D9F4F0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981B-4D59-481E-96C2-7DD4EB0F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9872-CFE4-4246-90C2-B3EF67CA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5484-2ECE-4D87-AC6D-BCCEC4AC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A933-E5A6-4C48-9C98-F41CC67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4B11-AED7-40FC-B35E-1D862FD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E7C1-4E51-4103-B294-922C4BE1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DDCC-A3F0-45DA-BA99-3595A355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069D-89CF-4CD2-818B-5023EAA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7E85-EEC6-4D46-8089-7DE89A2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AE67-C288-4D75-B2B8-3E740D3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BB47-D40B-48D8-A931-02815A8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DC72-694B-4EAE-AD23-8EE5F50D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8929-DA49-459E-8D92-B4296B69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28BC-72A8-4109-8D89-AD273D27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E0D4-4770-46DF-BE97-97C12B00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A95F-463F-469C-B860-168E30E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E383-D509-4113-9354-1AB66378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3A01-FFF3-4A84-87E9-8E2D279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1FDB-38B0-4DE7-8936-50F271A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FF7E-A0D1-4EA1-8353-7018995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DF30-238C-4101-92EA-C246B96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7488-44A3-45B1-83D5-BD019B1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463B-9697-4D7F-8972-103EF3F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CC3B-EB9B-4EC8-B9BA-96C6F9B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9E46-259F-4605-98F9-E8EC9868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DEFBA-B645-4AA9-88F5-53288445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78A2-2117-4EE1-A9B9-4965EBE5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724B-0B0F-4A45-BC55-B50B095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58D7-DEA4-432F-BA98-D66579E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1E25-F955-41C0-B674-AD14EE5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6760-E15D-410C-BABF-D9B78A7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C769-B711-487F-8B4F-0C8AB42A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8F5B-F24F-445E-8C34-D71012B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4C84-CCC5-4B41-91F4-C017DD8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610E-29FA-4E42-AA90-4227405F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1383-6688-4E8B-BB29-9BCA53D2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D67C-F124-4872-93DE-A36067BF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47A9-D605-4FA9-8D2F-556F6A45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65449-0010-4F09-8B80-D803CD4B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A795E-1D17-4ACD-B05F-660A33C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9C944-9983-4206-8A81-36333896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5E4C-3B32-44D7-B5D4-A2A3E188F89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E27-FF04-4B94-82AE-83043D55743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FA0-8751-462C-8124-882B56676A37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D4E-193A-4A4A-BAB0-DD2E9724835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B33-6CA9-492B-B3A9-F0BD639A15C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F910-84AC-437E-A54E-50443D8FB93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1F2-0CDA-490D-88F8-EC23A622A94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BFD9-21B2-426C-9970-60FC4EB1CCB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33CA-1238-42F4-95FA-D04CACFFA6F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5965-A333-44BC-A8C1-0CDBC295391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7BE-5506-4B2F-AA7E-8868D62D173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D24-7ACD-4A33-A3D2-E36768B4726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FB26-653B-4374-84D9-DA1F1F899E1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644F-78DB-4CA7-90F3-C1FCE6F59B7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EDE-F9A6-499C-B831-27F97A7ED2C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E22-E5FC-4907-9FF5-D94E0CD8173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D598-BF22-4321-B7EA-9043724EB9A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4EF9-7CE3-4759-BC5A-10D2EBD65CF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71A-A6DF-4773-AB15-0D20346A956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988-FB55-426B-8F20-366FF16BB2C2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D0F-D82D-45CA-AB8E-7CBEB363293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rednovanje zadataka </a:t>
            </a:r>
            <a:br>
              <a:rPr sz="3600"/>
            </a:b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nja Burčar, prof.</a:t>
            </a:r>
            <a:br>
              <a:rPr sz="2400"/>
            </a:b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OO</a:t>
            </a:r>
            <a:br>
              <a:rPr sz="2400"/>
            </a:b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500120" y="3643200"/>
            <a:ext cx="741672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eđužupanijski stručni sk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za </a:t>
            </a:r>
            <a:r>
              <a:rPr b="0" lang="hr-H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učitelje i nastavnike geografije</a:t>
            </a:r>
            <a:br>
              <a:rPr sz="1800"/>
            </a:br>
            <a:r>
              <a:rPr b="1" lang="hr-HR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rimjena ICT- a u nastavi geograf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</a:t>
            </a:r>
            <a:r>
              <a:rPr b="1" lang="hr-HR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oogle Earth i Google Maps</a:t>
            </a:r>
            <a:br>
              <a:rPr sz="2000"/>
            </a:br>
            <a:r>
              <a:rPr b="0" lang="hr-H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. gimnazija Osijek</a:t>
            </a:r>
            <a:br>
              <a:rPr sz="2000"/>
            </a:br>
            <a:r>
              <a:rPr b="0" i="1" lang="hr-HR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6. kolovoza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hodi učen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1080" name="Content Placeholder 3" descr=""/>
          <p:cNvPicPr/>
          <p:nvPr/>
        </p:nvPicPr>
        <p:blipFill>
          <a:blip r:embed="rId1"/>
          <a:stretch/>
        </p:blipFill>
        <p:spPr>
          <a:xfrm>
            <a:off x="450720" y="822240"/>
            <a:ext cx="856008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Glagoli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eljn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ira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a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a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ravi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oredi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ova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irat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64832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željn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je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jeni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amti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či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ijestit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r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a jedinica: Gibanja Zemlje</a:t>
            </a:r>
            <a:br>
              <a:rPr sz="2800"/>
            </a:br>
            <a:br>
              <a:rPr sz="2800"/>
            </a:b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 učenja: </a:t>
            </a:r>
            <a:r>
              <a:rPr b="1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jeti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banja Zemlje.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 učenja: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ati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zroke i posljedice gibanja Zemlje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vježba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adatku za učenike koji je pred Vama izdvojite ishode učenja (glagole) koji se odnose na obrazovna postignuća.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56760" y="1500120"/>
            <a:ext cx="4038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Zadaci za učeni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Pronađi Belgiju na političkoj karti Eur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Izdvoji države s kojima graniči teritorij Belgi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Pročitaj vrijednosti geografske dužine i širine za teritorij Belgi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572000" y="135684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adaci za učeni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Izračunajte udaljenost između Osijeka i Zagreba.  Označite na karti putanju (trasu)putovan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oredite dobivene rezultate s onima na kart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Pronađite najvažnije znamenitosti u gradu Osije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Pročitajte na Internetu/ literaturi osnovne informacije o nji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hodi uče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uočiti Belgiju na političkoj karti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izdvojiti na karti države s kojima graniči teritorij Bel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odrediti smještaj Belgije u stupanjskoj mrež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4832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izračunati udaljenost na karti koristeći se brojčanim i grafičkim mjeril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izdvojiti turističke znamenitosti Osij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opisati povijesni razvoj Osij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2" name=""/>
          <p:cNvGraphicFramePr/>
          <p:nvPr/>
        </p:nvGraphicFramePr>
        <p:xfrm>
          <a:off x="971640" y="115920"/>
          <a:ext cx="7561080" cy="658476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ODE PROCJENJIVAN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IMJER ZADATKA/ UPUTE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iza podata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risteći niz odgovarajućih statističkih metoda, opišite karakteristike prikazanih podatak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tope prirodnog kretanja stanovništva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aci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monstrirajte način korištenja navedene opreme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GPS ili komp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ertacija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išite rad na temu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Kulturno-rekreacijske potrebe i razvoj ponude u Osječko-baranjskoj županij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evnik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ite dnevnik na osnovi iskustva  praćenja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romjene temperature zraka tijekom mjeseca siječn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46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raživanj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edite istraživanje na osnovi anketnog upitnika koji ćete sami dizajnirati i analizirajte podatke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Dnevne migracije učenika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3" name=""/>
          <p:cNvGraphicFramePr/>
          <p:nvPr/>
        </p:nvGraphicFramePr>
        <p:xfrm>
          <a:off x="826920" y="333360"/>
          <a:ext cx="7561440" cy="599112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ODE PROCJENJIVAN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IMJER ZADATKA/ UPUTE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ču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Izračunajte udaljenost između dva mjesta na karti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izvo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dite i evaluirajte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Tematska karta: Gustoća naseljenosti Osječko-baranjske županij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vješć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išite analizu studija slučaja u obliku izvješća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tanje ekološke svijesti u Osijek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jmovni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zradite pojmovnik u kojem ćete objasniti ključne termine iz područja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Nastavna cjelina: Vrijeme i klim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er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zentirajte rezultate istraživanja na posteru.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rostorni i funkcionalni razvoj Osijek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  <a:tr h="4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zija, pregl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gledajte…Navedite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c6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nanje i vrednovanje zn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8584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vanje i primjena ključnih pojmova te razina usvojenosti obrazovnih postignuć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cjenjivanju (pridodavanju brojčane ocjene razini usvojenosti obrazovnih postignuća, poznavanju i primjeni ključnih pojmova) nastavnici geografije koriste sljedeće indikatore: točnost i kvaliteta odgovora; reakcija na postavljeno pitanje; samostalnost u kreiranju odgovora (bez pomoći nastavnika ili uz pomoć nastavnikovih potpitanj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eografske vještine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znajne (kognitivne) geografske vještine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amostalna ili od nastavn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đena analiza grafičkih prilog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matskih karata, profila, svih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a dijagrama, fotografij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teža, shema i tabl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umačenje prikazanih pojava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a te uočavanje zakonitost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nim pojavama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im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64832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čne geografske vještin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jentacija u prost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rada grafičkih priloga samostalnim radom ili radom u paru ili radom u skupini (modela, profila, tematskih karata, više vrsta dijagrama, powerpoint prezentacija, postera, plaka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</a:rPr>
              <a:t>Plan rada: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rha procjenjivanja i ocjenjivanje znanja i vješ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učenja u nastavi geograf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procjenjivanja i primjeri zadata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ri zadataka u Google Earthu i Google Map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vrednovanja zadata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vježb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ljuča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cjenjivanje geografskih vještin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ni napredak učen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čnost, preciznost, samostalnost, preglednost uradak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na statističkih i grafičkih metoda u geografij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ske vještin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rinos radu u paru ili skupin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st prema postavljenim zadaci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odobnost  rješavanja postavljenih zadata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Dijagram 4" descr=""/>
          <p:cNvPicPr/>
          <p:nvPr/>
        </p:nvPicPr>
        <p:blipFill>
          <a:blip r:embed="rId1"/>
          <a:stretch/>
        </p:blipFill>
        <p:spPr>
          <a:xfrm>
            <a:off x="1633680" y="1859040"/>
            <a:ext cx="617508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vježba: </a:t>
            </a: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357120" y="1714680"/>
            <a:ext cx="7848720" cy="44899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zrazite važnost elemenata vrednovanja zadataka 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stotnim vrijednostim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1. Obvezni sadržaji: postupak i rezultat.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2. Pouzdanost/ točnost podatak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nanje/ poznavanje teme/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ačin poznavanja te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4. _____________________________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100%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ementi vrednovanja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57200" y="1785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fske vješ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ografska pisme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mjesto zaključka ili domaća zadaća: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7" name="Rectangle 3"/>
          <p:cNvSpPr/>
          <p:nvPr/>
        </p:nvSpPr>
        <p:spPr>
          <a:xfrm>
            <a:off x="285840" y="157176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 Navedite i obrazložite kriterije prema kojima ćete ocjenjivati postignuće učenika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 Predložite način na koji ćete oblikovati konačnu ocjenu iz predmeta koji poučavat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 Navedite temeljna pitanja, dileme i nejasnoće vezane uz vašu buduću ulogu u procjenjivanju i ocjenjivanju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00000"/>
                </a:solidFill>
                <a:latin typeface="Times New Roman"/>
              </a:rPr>
              <a:t>Literatura i izvori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okvirni kurikulum za predškolski odgoj i obrazovanje te opće obvezno i srednjoškolsko obrazovanje, Ministarstvo znanosti, obrazovanja i športa, Zagreb, 201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k, R., Burčar, S.: Geografija: predmetni kurikulum u strukovnim školama (radna verzi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ić, Z.: Motivacija i ishodi učenja, ŽSV učitelja Brodsko-posavske županije, Slavonski Brod, prosinac 200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št, M.: Vrednovanje projekata i plakata, AZOO, Podružnica Osij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tkpula.hr/globe/projekti/miniprojek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ježana Koren: Samostalni istraživački radovi u osnovnoj i srednjim školama: hrcak.srce.h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jenjivanja i ocjenjivanje rezultata učenja: ahyco.ffri.hr/por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Hrvatskom kvalifikacijskom okviru; NN 22/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nik o načinima, postupcima i elementima vrednovanja učenika u osnovnoj i srednjoj školi, NN 112/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Box 3"/>
          <p:cNvSpPr/>
          <p:nvPr/>
        </p:nvSpPr>
        <p:spPr>
          <a:xfrm>
            <a:off x="1979640" y="2708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Zahvaljujem na sudjelovanju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Zaobljeni pravokutni oblačić 7"/>
          <p:cNvSpPr/>
          <p:nvPr/>
        </p:nvSpPr>
        <p:spPr>
          <a:xfrm>
            <a:off x="285840" y="4143240"/>
            <a:ext cx="2663640" cy="2305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je vrednovanje i ocjenjivanj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Zaobljeni pravokutni oblačić 10"/>
          <p:cNvSpPr/>
          <p:nvPr/>
        </p:nvSpPr>
        <p:spPr>
          <a:xfrm>
            <a:off x="2214720" y="2857680"/>
            <a:ext cx="3887640" cy="2277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0e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u temeljni razlozi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bog kojih procjenjujete i ocjenjujete učenik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Zaobljeni pravokutni oblačić 11"/>
          <p:cNvSpPr/>
          <p:nvPr/>
        </p:nvSpPr>
        <p:spPr>
          <a:xfrm>
            <a:off x="5072040" y="928800"/>
            <a:ext cx="3816360" cy="2536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je po Vašem mišljenju temeljna svrh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jenjivanja i ocjenjivanj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 txBox="1"/>
          <p:nvPr/>
        </p:nvSpPr>
        <p:spPr>
          <a:xfrm>
            <a:off x="2139120" y="2567880"/>
            <a:ext cx="5436360" cy="257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7f7f7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dnovanje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praćenje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provjeravanje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ocjenjivanje</a:t>
            </a:r>
            <a:br>
              <a:rPr sz="2800"/>
            </a:b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rha </a:t>
            </a:r>
            <a:br>
              <a:rPr sz="2800"/>
            </a:br>
            <a:r>
              <a:rPr b="1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 ciljevi</a:t>
            </a:r>
            <a:br>
              <a:rPr sz="2800"/>
            </a:b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Folded Corner 5"/>
          <p:cNvSpPr/>
          <p:nvPr/>
        </p:nvSpPr>
        <p:spPr>
          <a:xfrm>
            <a:off x="1357200" y="1500120"/>
            <a:ext cx="2643480" cy="1643040"/>
          </a:xfrm>
          <a:prstGeom prst="foldedCorner">
            <a:avLst>
              <a:gd name="adj" fmla="val 16666"/>
            </a:avLst>
          </a:prstGeom>
          <a:solidFill>
            <a:srgbClr val="c4c6b8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entagon 6"/>
          <p:cNvSpPr/>
          <p:nvPr/>
        </p:nvSpPr>
        <p:spPr>
          <a:xfrm>
            <a:off x="4500720" y="1857240"/>
            <a:ext cx="2857320" cy="150048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1500480"/>
              <a:gd name="textAreaBottom" fmla="*/ 150084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0" y="0"/>
                </a:lnTo>
                <a:lnTo>
                  <a:pt x="21600" y="10800"/>
                </a:lnTo>
                <a:lnTo>
                  <a:pt x="159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676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i/ nastavnic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Folded Corner 7"/>
          <p:cNvSpPr/>
          <p:nvPr/>
        </p:nvSpPr>
        <p:spPr>
          <a:xfrm>
            <a:off x="1357200" y="3643200"/>
            <a:ext cx="2643480" cy="1643040"/>
          </a:xfrm>
          <a:prstGeom prst="foldedCorner">
            <a:avLst>
              <a:gd name="adj" fmla="val 16666"/>
            </a:avLst>
          </a:prstGeom>
          <a:solidFill>
            <a:srgbClr val="c4c6b8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entagon 8"/>
          <p:cNvSpPr/>
          <p:nvPr/>
        </p:nvSpPr>
        <p:spPr>
          <a:xfrm>
            <a:off x="4500720" y="4000680"/>
            <a:ext cx="2857320" cy="150012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0" y="0"/>
                </a:lnTo>
                <a:lnTo>
                  <a:pt x="21600" y="10800"/>
                </a:lnTo>
                <a:lnTo>
                  <a:pt x="159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Dijagram 1" descr=""/>
          <p:cNvPicPr/>
          <p:nvPr/>
        </p:nvPicPr>
        <p:blipFill>
          <a:blip r:embed="rId1"/>
          <a:stretch/>
        </p:blipFill>
        <p:spPr>
          <a:xfrm>
            <a:off x="706320" y="963720"/>
            <a:ext cx="6877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Elipsasti oblačić 1"/>
          <p:cNvSpPr/>
          <p:nvPr/>
        </p:nvSpPr>
        <p:spPr>
          <a:xfrm>
            <a:off x="2428920" y="1714680"/>
            <a:ext cx="5113440" cy="3024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4c6b8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u razinu postignuća očekujete od učenik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 li nastavne ciljeve odredili u skladu 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kivanjim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Dijagram 3" descr=""/>
          <p:cNvPicPr/>
          <p:nvPr/>
        </p:nvPicPr>
        <p:blipFill>
          <a:blip r:embed="rId1"/>
          <a:stretch/>
        </p:blipFill>
        <p:spPr>
          <a:xfrm>
            <a:off x="963720" y="585720"/>
            <a:ext cx="6662520" cy="58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Dijagram 1" descr=""/>
          <p:cNvPicPr/>
          <p:nvPr/>
        </p:nvPicPr>
        <p:blipFill>
          <a:blip r:embed="rId1"/>
          <a:stretch/>
        </p:blipFill>
        <p:spPr>
          <a:xfrm>
            <a:off x="1036800" y="755640"/>
            <a:ext cx="6948360" cy="492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sburcar</cp:lastModifiedBy>
  <dcterms:modified xsi:type="dcterms:W3CDTF">2013-09-23T10:58:47Z</dcterms:modified>
  <cp:revision>97</cp:revision>
  <dc:subject/>
  <dc:title>ULOGA RAVNATELJA U UVOĐENJU PRIPRAVNIKA U SAMOSTALAN RAD</dc:title>
</cp:coreProperties>
</file>