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BDF-4FF6-44BB-819F-C839C436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62D-54D2-40D3-A256-DF8C45B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DB0-F387-488C-AA3C-B3FFFF95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235-E66C-4CB6-886A-35A9114D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19D-7BEA-4CDB-8811-1142AE1E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5E5-0CD1-4FF5-A00C-76BC5EBF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616-4447-4226-8075-E523C5D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D70-6207-487B-B21A-31870C70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4E6-FC4D-421B-99FA-353F96AE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BA9-0C1A-4928-853E-2A70ED0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E66-AE84-4474-8395-3A14EA6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6A8-5D93-450B-961B-F0B8B2E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EAB6-C82A-4864-AC52-C83362A0C37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z.hr/" TargetMode="External"/><Relationship Id="rId2" Type="http://schemas.openxmlformats.org/officeDocument/2006/relationships/hyperlink" Target="http://www.lijepa-nasa.hr/ekoloski-kviz" TargetMode="External"/><Relationship Id="rId3" Type="http://schemas.openxmlformats.org/officeDocument/2006/relationships/hyperlink" Target="http://www.kartografija.hr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2232000"/>
          </a:xfrm>
          <a:prstGeom prst="rect">
            <a:avLst/>
          </a:prstGeom>
          <a:solidFill>
            <a:srgbClr val="d3cecb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učni sk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itel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nastavni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eografije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Elementi, oblici i kriteriji vrednovanja i ocjenjivanja u nastavi geografije</a:t>
            </a:r>
            <a:br>
              <a:rPr sz="2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ijek,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nja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3885840"/>
            <a:ext cx="4897440" cy="1343160"/>
          </a:xfrm>
          <a:prstGeom prst="rect">
            <a:avLst/>
          </a:prstGeom>
          <a:solidFill>
            <a:srgbClr val="dfb8e6"/>
          </a:solidFill>
          <a:ln w="9360">
            <a:solidFill>
              <a:srgbClr val="cc3399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rednovanje plaka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 projek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ja Burčar, pro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916360" y="1916280"/>
            <a:ext cx="4392360" cy="119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Vježba br.3: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finirajte elemente vrednovanja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lakata. Izdvojite kriterije po elementima.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828800" y="1219320"/>
            <a:ext cx="4267080" cy="2871720"/>
          </a:xfrm>
          <a:prstGeom prst="rect">
            <a:avLst/>
          </a:prstGeom>
          <a:solidFill>
            <a:srgbClr val="dbe2f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hodi učenj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i područja: kognitivno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homotoričko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ktivno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d više ka nižoj razini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1397160"/>
          <a:ext cx="6504120" cy="4063680"/>
        </p:xfrm>
        <a:graphic>
          <a:graphicData uri="http://schemas.openxmlformats.org/drawingml/2006/table">
            <a:tbl>
              <a:tblPr/>
              <a:tblGrid>
                <a:gridCol w="1392480"/>
                <a:gridCol w="1008000"/>
                <a:gridCol w="1224000"/>
                <a:gridCol w="863640"/>
                <a:gridCol w="1081080"/>
                <a:gridCol w="934920"/>
              </a:tblGrid>
              <a:tr h="5810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VANJE PLAKA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lič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lo dob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volj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ov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627280" y="2421000"/>
            <a:ext cx="3384720" cy="916920"/>
          </a:xfrm>
          <a:prstGeom prst="rect">
            <a:avLst/>
          </a:prstGeom>
          <a:solidFill>
            <a:srgbClr val="efbda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a nastava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blemska nastava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traživačka nastav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012000" y="4869000"/>
            <a:ext cx="2700360" cy="916920"/>
          </a:xfrm>
          <a:prstGeom prst="rect">
            <a:avLst/>
          </a:prstGeom>
          <a:solidFill>
            <a:srgbClr val="c6d8c9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čujem – zaboravim.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vidim – pamtim.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uradim – znam.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24000" y="476280"/>
            <a:ext cx="4859280" cy="1191240"/>
          </a:xfrm>
          <a:prstGeom prst="rect">
            <a:avLst/>
          </a:prstGeom>
          <a:solidFill>
            <a:srgbClr val="f3eeab"/>
          </a:solidFill>
          <a:ln w="9360">
            <a:solidFill>
              <a:srgbClr val="e58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na, problemska i istraživačka nastava omogućuju učenicima da budu aktivni u procesu učenja, a time im daju priliku da uče s razumijevanjem.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468360" y="476280"/>
            <a:ext cx="3365280" cy="22885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tape projektne nastave: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a50021"/>
                </a:solidFill>
                <a:latin typeface="Arial"/>
              </a:rPr>
              <a:t>1. pronalaženje tem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2. formuliranje cilj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e58505"/>
                </a:solidFill>
                <a:latin typeface="Arial"/>
              </a:rPr>
              <a:t>3. planiranje, okvirno i detaljno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cc33"/>
                </a:solidFill>
                <a:latin typeface="Arial"/>
              </a:rPr>
              <a:t>4. provedba projek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66ff"/>
                </a:solidFill>
                <a:latin typeface="Arial"/>
              </a:rPr>
              <a:t>5. predstavljanje projek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6. refleksija o projektu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556000" y="3068640"/>
            <a:ext cx="6337080" cy="32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EOGRAFSKE VJEŠTINE KOJE RAZVIJAMO: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RIJENTACIJ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PRETACIJA I IZRADA TEMATSKIH KARA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PRETACIJA I IZRADA GRAFIKONA I DIJAGRAM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ČKA ANALIZ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KUPLJANJE PODATAK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ISANJE SEMINARSKIH RADOV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MUNIKACIJSK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ZENTACIJSK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79280" y="333360"/>
            <a:ext cx="87854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rada projektnog prijedloga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blemsko stablo                                                               Stablo ciljev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odrediti jedan ili dva glavna problema                     - određuje se glavni cilj                 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rediti probleme/ograničenja                                  - svrhu glavnog projek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analizirati i odrediti uzročno-posljedične veze            moramo 100% ostvariti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vjeriti logiku                                                         - posljedice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aju opći ciljevi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zraditi nacrt dijagrama                                            - uzroci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aju rezultati i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ivnosti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svi rezultati i aktivnosti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e ostvarivanju svrh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6" name="Picture 7" descr="tree"/>
          <p:cNvPicPr/>
          <p:nvPr/>
        </p:nvPicPr>
        <p:blipFill>
          <a:blip r:embed="rId1">
            <a:grayscl/>
          </a:blip>
          <a:stretch/>
        </p:blipFill>
        <p:spPr>
          <a:xfrm>
            <a:off x="2916360" y="393372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050920" y="1413000"/>
            <a:ext cx="4950000" cy="31431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TEGORIJE PROJEKATA:</a:t>
            </a: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istraživački učenički</a:t>
            </a: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istraživački, vođeni (uz mentora)</a:t>
            </a: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školski (npr. uređenje okoliša, smanjenje nasilja, štednja vode, Dani …)</a:t>
            </a: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kolski, u suradnji s lokalnom zajednicom (npr. uređenje poučne staze)</a:t>
            </a: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755640" y="836640"/>
            <a:ext cx="4032360" cy="109836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ukturiranje sadržaja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točnost podataka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interakcija i integracija sadržaja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mjena (izlaganje)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3213000"/>
            <a:ext cx="3671640" cy="2468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Usvojenost znanj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. Originalnost i samostalnost u izboru teme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. Povezivanje gradiva s temam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 Korištenje dodatnih sadržaj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 Osmišljenost nastup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. Način izlaganj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 Izgled prezentiranog rad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. Uključivanje učenik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9. Primjenjivost izabrane teme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0. Listići za ponavljanje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356000" y="2349360"/>
            <a:ext cx="4321440" cy="1797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prezentacijske sposobnosti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učenička kreativnost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izbor teme, spoznaja problema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. konkretan rad učenika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5. zaključak, mišljenje, prijedlozi za buduću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kciju, projekti 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6. doprinos podizanju razine ekološke svijesti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508720" y="1268280"/>
            <a:ext cx="2808360" cy="916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REDNOVANJA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219640" y="5157720"/>
            <a:ext cx="2951280" cy="1493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Znanje – poznavanje teme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Način izlaganja teme/nastup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Aktivnost – samoocjenjivanje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Kreativnost 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268360" y="2060640"/>
            <a:ext cx="4572000" cy="119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Vježba br.4: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finirajte elemente vrednovanja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ata. Izdvojite kriterije po elementima.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3880" y="1397160"/>
          <a:ext cx="6432840" cy="4063680"/>
        </p:xfrm>
        <a:graphic>
          <a:graphicData uri="http://schemas.openxmlformats.org/drawingml/2006/table">
            <a:tbl>
              <a:tblPr/>
              <a:tblGrid>
                <a:gridCol w="1392480"/>
                <a:gridCol w="1655640"/>
                <a:gridCol w="1295280"/>
                <a:gridCol w="1081080"/>
                <a:gridCol w="1008360"/>
              </a:tblGrid>
              <a:tr h="58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VANJE PROJEKAT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DOVOLJA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PJEŠ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RSTAN R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OV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836640"/>
            <a:ext cx="2950920" cy="868320"/>
          </a:xfrm>
          <a:prstGeom prst="rect">
            <a:avLst/>
          </a:prstGeom>
          <a:solidFill>
            <a:srgbClr val="d3cecb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lan rad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1280" y="2133720"/>
            <a:ext cx="4967280" cy="2303280"/>
          </a:xfrm>
          <a:prstGeom prst="rect">
            <a:avLst/>
          </a:prstGeom>
          <a:solidFill>
            <a:srgbClr val="f8a6a6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tiv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kati/ projek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le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edn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 vje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ljuč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trategije2"/>
          <p:cNvPicPr/>
          <p:nvPr/>
        </p:nvPicPr>
        <p:blipFill>
          <a:blip r:embed="rId1"/>
          <a:stretch/>
        </p:blipFill>
        <p:spPr>
          <a:xfrm>
            <a:off x="5651640" y="4941720"/>
            <a:ext cx="177300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teratura i izv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vačević, J. (2009): Vrednovanje i ocjenjivanje plakata, Hrvat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eografski glasnik 2/2009, 67-7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uk, R., Vranković, B.: Obrazovna postignuća učenika osmih razreda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eografije, Metodika.Vol.10, br.19 (2/2009), str.354-3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išt, Marina: Vrednovanje projekata i plakata, AZOO, Podružnica Osij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grebačko arhivističko društvo: </a:t>
            </a: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z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erijali sa stručnog skupa: Upravljanje projektnim ciklusom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greb 11.03.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ijepa-nasa.hr/ekoloski-kviz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artografija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netske stranice ško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.gimnazija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.OŠ Bjelo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Š Velika Ml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62120" y="2590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Bradley Hand ITC"/>
              </a:rPr>
              <a:t>Hvala na suradnji!</a:t>
            </a:r>
            <a:endParaRPr b="1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8" name="Picture 7" descr="C:\Documents and Settings\Administrator\My Documents\My Pictures\škola\cd2e79b4d9aa03b8f2f6b1c05f893270_content_large.jpg"/>
          <p:cNvPicPr/>
          <p:nvPr/>
        </p:nvPicPr>
        <p:blipFill>
          <a:blip r:embed="rId1"/>
          <a:stretch/>
        </p:blipFill>
        <p:spPr>
          <a:xfrm>
            <a:off x="4572000" y="3657600"/>
            <a:ext cx="3683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132000" y="1600200"/>
            <a:ext cx="3384720" cy="204480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Vježba br.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rtežom prikažite kako se ovog trenutka osjeć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vjerite, u paru, ima li Vaš crtež jasnu poru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63640" y="475920"/>
            <a:ext cx="2592360" cy="1143000"/>
          </a:xfrm>
          <a:prstGeom prst="rect">
            <a:avLst/>
          </a:prstGeom>
          <a:solidFill>
            <a:srgbClr val="f3eeab"/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kat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0560" y="1916280"/>
            <a:ext cx="59864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rtež je oduvijek bio sredstvo najlakšeg komuniciranja među ljudima, neovisno o stupnju obrazov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Nd9GcRTjVRCQKM1Rnf4-YDXTG9ZaOLihXp8EAT4_YSNxTddR-8IInVYHg"/>
          <p:cNvPicPr/>
          <p:nvPr/>
        </p:nvPicPr>
        <p:blipFill>
          <a:blip r:embed="rId1"/>
          <a:stretch/>
        </p:blipFill>
        <p:spPr>
          <a:xfrm>
            <a:off x="4788000" y="3716280"/>
            <a:ext cx="2543040" cy="17906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5364000" y="573408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ltamira,Španjolsk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16000" y="981000"/>
            <a:ext cx="2519280" cy="2952720"/>
          </a:xfrm>
          <a:prstGeom prst="rect">
            <a:avLst/>
          </a:prstGeom>
          <a:solidFill>
            <a:srgbClr val="d7dac4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MA NAMJE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LITIČ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DUKATIV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LOŽB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OSPODAR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ANIFESTACIJ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FILM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URISTIČ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ZALIŠ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NCERT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lakat6"/>
          <p:cNvPicPr/>
          <p:nvPr/>
        </p:nvPicPr>
        <p:blipFill>
          <a:blip r:embed="rId1"/>
          <a:stretch/>
        </p:blipFill>
        <p:spPr>
          <a:xfrm>
            <a:off x="4284720" y="3500280"/>
            <a:ext cx="2428920" cy="1886040"/>
          </a:xfrm>
          <a:prstGeom prst="rect">
            <a:avLst/>
          </a:prstGeom>
          <a:ln w="9360">
            <a:solidFill>
              <a:srgbClr val="6699ff"/>
            </a:solidFill>
            <a:miter/>
          </a:ln>
        </p:spPr>
      </p:pic>
      <p:sp>
        <p:nvSpPr>
          <p:cNvPr id="53" name="Rectangle 5"/>
          <p:cNvSpPr/>
          <p:nvPr/>
        </p:nvSpPr>
        <p:spPr>
          <a:xfrm>
            <a:off x="5508720" y="981000"/>
            <a:ext cx="3024000" cy="1797480"/>
          </a:xfrm>
          <a:prstGeom prst="rect">
            <a:avLst/>
          </a:prstGeom>
          <a:solidFill>
            <a:srgbClr val="dac4c9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ijest plakata: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ni i vjerski zakoni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grami kazališnih predstava i sportske vijesti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glasi i pozivi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eklame </a:t>
            </a:r>
            <a:endParaRPr b="1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700360" y="1628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916360" y="1916280"/>
            <a:ext cx="3078000" cy="2014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Vježba br.2: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plakat čini dobrim?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ji su plakati manje kvalitetni?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plakat mora imati?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780000" y="2924280"/>
            <a:ext cx="2016000" cy="64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nstantia"/>
              </a:rPr>
              <a:t>Što plakat mora imati?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7" name="Oval 3"/>
          <p:cNvSpPr/>
          <p:nvPr/>
        </p:nvSpPr>
        <p:spPr>
          <a:xfrm>
            <a:off x="1619280" y="3645000"/>
            <a:ext cx="237636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UOČLJIV, 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PREPOZNATLJIV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I LAKO ČITLJIV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LIKOVNI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PRIKAZ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8" name="Oval 4"/>
          <p:cNvSpPr/>
          <p:nvPr/>
        </p:nvSpPr>
        <p:spPr>
          <a:xfrm>
            <a:off x="5580000" y="3789360"/>
            <a:ext cx="237672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EKSPRESIVNU 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PORUKU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9" name="Oval 5"/>
          <p:cNvSpPr/>
          <p:nvPr/>
        </p:nvSpPr>
        <p:spPr>
          <a:xfrm>
            <a:off x="1403280" y="692280"/>
            <a:ext cx="237672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JASAN I ČITLJIV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TEKST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0" name="Oval 6"/>
          <p:cNvSpPr/>
          <p:nvPr/>
        </p:nvSpPr>
        <p:spPr>
          <a:xfrm>
            <a:off x="5651640" y="692280"/>
            <a:ext cx="237636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URAVNOTEŽEN 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ODNOS SLIKE I 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Engravers MT"/>
              </a:rPr>
              <a:t>TEKSTA</a:t>
            </a:r>
            <a:endParaRPr b="1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39640" y="47628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58920" y="1268280"/>
            <a:ext cx="3240000" cy="1620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. jasnoća poruk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. kvaliteta sadržaj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3. kreativn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. izgled i prikladnost prikaz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828800" y="333360"/>
            <a:ext cx="449568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REDNOVANJA)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LAKA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580000" y="1700280"/>
            <a:ext cx="2952720" cy="162000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n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redn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ikovna raznolik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riginaln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987640" y="3716280"/>
            <a:ext cx="3745080" cy="16200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nanje – poznavanje tem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čin izlaganja teme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tivn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eativnost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340000" y="1197000"/>
            <a:ext cx="5040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TEGORIJE PLAKATA: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rikaz istraživačkog projekta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informativni (nacionalni parkovi, krvne stanice, tehnološki procesi…)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romidžbeni (npr. uređenje okoliša, štednja vode, Dani …)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 /procesualni (plan, sistematizacija, kartiranje znanja, zaključci…)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1:53:36Z</dcterms:created>
  <dc:creator>sburcar</dc:creator>
  <dc:description/>
  <dc:language>en-US</dc:language>
  <cp:lastModifiedBy>Korisnik</cp:lastModifiedBy>
  <dcterms:modified xsi:type="dcterms:W3CDTF">2011-07-05T06:42:52Z</dcterms:modified>
  <cp:revision>37</cp:revision>
  <dc:subject/>
  <dc:title>Međužupanijski stručni skup za učitelje i nastavnike geografije Zagreb, 27. srpnja 2011.</dc:title>
</cp:coreProperties>
</file>