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68FD-394E-45F5-9D7A-DFBB909B62D9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E556-56E0-430B-80A6-7AA7EA6E7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91A-841B-418A-9CF6-814EE7E3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206-E60C-4BA4-8D2E-B9038BDB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C54-207F-4535-8014-69776518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048-F57C-4261-81A7-2CB352E3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E2EE-7768-4E7C-B76D-69BF47DE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7535-0911-4A3F-BC2C-EA773AEF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F756-948E-4AFD-886C-06746011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ACE4-3801-4269-BA70-42D6E8D0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EF80-995D-4C54-957F-AD3DFBB9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D549-4AD5-49B7-9FF9-7EE36898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D942-B5F6-43B1-9928-2EB0407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2D5-14AF-4B68-93A7-003B0B0D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BABB-DADA-4EE3-B86B-C78B6322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69DB-378A-4A9C-8BCF-5B83FFA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3315-797B-4482-B2AC-37670934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9CDA-B91A-47F0-BEAD-DED43CA2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6C38-AC6B-4D9A-9470-891F3F64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D3B-5982-4CCF-A308-4C6E9C11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EDE-5362-4E20-A4D1-FA6CC41D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1B2-7859-4831-8AC7-EAEA2809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D8F-826C-4C58-AD1A-C84748A8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248-7164-4AF0-8532-755B697E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CBC-F60A-4C08-9D21-B2000082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903-E7AB-4F6A-8A0B-24AFC311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4063-366A-43AA-8012-5EEC657E85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3EB4-C62C-406E-BCF7-60512E66A4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carnet.hr/casopis/40/clanci/2?CARNetweb=72bc04a11758" TargetMode="External"/><Relationship Id="rId2" Type="http://schemas.openxmlformats.org/officeDocument/2006/relationships/hyperlink" Target="http://www.carnet.hr/casopis/40/clanci/2?CARNetweb=72bc04a11758" TargetMode="External"/><Relationship Id="rId3" Type="http://schemas.openxmlformats.org/officeDocument/2006/relationships/hyperlink" Target="http://www.carnet.hr/casopis/40/clanci/2?CARNetweb=72bc04a11758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Comic Sans MS"/>
              </a:rPr>
              <a:t>BLOOMOVA TAKSONOMIJA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Stručni skup geograf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Vinkovci, Osijek, 2011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b200"/>
                </a:solidFill>
                <a:latin typeface="Comic Sans MS"/>
              </a:rPr>
              <a:t>Definiranje ciljev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ljevi poučavanja omogućuju nastavniku d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odabere odgovarajuću metodu poučavanja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lakše evaluira ishode učenja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6600"/>
                </a:solidFill>
                <a:latin typeface="Comic Sans MS"/>
                <a:ea typeface="Times New Roman"/>
              </a:rPr>
              <a:t>potakne učenike na ulaganje napora za postizanje ciljeva (osobnih i grupni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b200"/>
                </a:solidFill>
                <a:latin typeface="Comic Sans MS"/>
              </a:rPr>
              <a:t>Definiranje ciljev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radicionalna didaktik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okušala je problem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iljev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astave i njihove operacionalizacije postaviti u vidu triju skupina zadataka pa tako govorimo 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materijalnim (obrazovni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funkcionalnim (formativnim, formalni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b200"/>
                </a:solidFill>
                <a:latin typeface="Comic Sans MS"/>
              </a:rPr>
              <a:t>O</a:t>
            </a:r>
            <a:r>
              <a:rPr b="0" i="1" lang="hr-HR" sz="24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dgojni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Materijalni ili obrazovni </a:t>
            </a:r>
            <a:r>
              <a:rPr b="1" lang="hr-HR" sz="4400" spc="-1" strike="noStrike">
                <a:solidFill>
                  <a:srgbClr val="00b200"/>
                </a:solidFill>
                <a:latin typeface="Comic Sans MS"/>
              </a:rPr>
              <a:t>ciljevi nastave</a:t>
            </a:r>
            <a:r>
              <a:rPr b="1" lang="hr-HR" sz="3200" spc="-1" strike="noStrike">
                <a:solidFill>
                  <a:srgbClr val="00b2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dgovar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j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a pitanj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što učenik treba naučit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oja znanja, u kojem opsegu, dubini, koje vještine i navike treba učenik /usvojiti/ razvijat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svojiti – </a:t>
            </a:r>
            <a:r>
              <a:rPr b="0" lang="hr-HR" sz="2800" spc="-1" strike="noStrike" u="sng">
                <a:solidFill>
                  <a:srgbClr val="00b200"/>
                </a:solidFill>
                <a:uFillTx/>
                <a:latin typeface="Comic Sans MS"/>
              </a:rPr>
              <a:t>razviti aktivnim učenj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70848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Funkcionalni  ili formalni </a:t>
            </a:r>
            <a:r>
              <a:rPr b="1" lang="hr-HR" sz="4400" spc="-1" strike="noStrike">
                <a:solidFill>
                  <a:srgbClr val="00b200"/>
                </a:solidFill>
                <a:latin typeface="Comic Sans MS"/>
              </a:rPr>
              <a:t>cilj</a:t>
            </a:r>
            <a:r>
              <a:rPr b="1" lang="hr-HR" sz="44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evi nasta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dgovara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ju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a pitanj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oje spoznajne sposobnosti i forme misaonog procesa razvijamo u konkretnim uvjetima nastavnog proces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Odgojni </a:t>
            </a:r>
            <a:r>
              <a:rPr b="0" lang="hr-HR" sz="4400" spc="-1" strike="noStrike">
                <a:solidFill>
                  <a:srgbClr val="00b200"/>
                </a:solidFill>
                <a:latin typeface="Comic Sans MS"/>
              </a:rPr>
              <a:t>cilj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formiranje i samoformiranje ličnosti učenika</a:t>
            </a:r>
            <a:r>
              <a:rPr b="0" lang="hr-HR" sz="2800" spc="-1" strike="noStrike">
                <a:solidFill>
                  <a:srgbClr val="00b2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izgrađivanje karakternih i drugih osobina ličnosti učenik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dgojni zadatak nastave odgovara na pitanj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oje osobine ličnosti učenika </a:t>
            </a:r>
            <a:r>
              <a:rPr b="0" i="1" lang="hr-HR" sz="2800" spc="-1" strike="noStrike">
                <a:solidFill>
                  <a:srgbClr val="00b200"/>
                </a:solidFill>
                <a:latin typeface="Comic Sans MS"/>
              </a:rPr>
              <a:t>oblikujemo</a:t>
            </a:r>
            <a:r>
              <a:rPr b="0" i="1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samo</a:t>
            </a:r>
            <a:r>
              <a:rPr b="0" i="1" lang="hr-HR" sz="2800" spc="-1" strike="noStrike">
                <a:solidFill>
                  <a:srgbClr val="000000"/>
                </a:solidFill>
                <a:latin typeface="Comic Sans MS"/>
              </a:rPr>
              <a:t>oblikujemo</a:t>
            </a:r>
            <a:r>
              <a:rPr b="0" i="1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 konkretnim uvjetima nastave</a:t>
            </a:r>
            <a:r>
              <a:rPr b="0" i="1" lang="hr-HR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b200"/>
                </a:solidFill>
                <a:latin typeface="Comic Sans MS"/>
              </a:rPr>
              <a:t>Oblikujemo</a:t>
            </a:r>
            <a:r>
              <a:rPr b="0" i="1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Comic Sans MS"/>
              </a:rPr>
              <a:t>potičemo razvoj, dajemo podršku, cjelovitom razvoju i samoostvarenj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b200"/>
                </a:solidFill>
                <a:latin typeface="Comic Sans MS"/>
              </a:rPr>
              <a:t>Definiranje ciljeva – tradicionalna i suvremena didakti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Book Antiqua"/>
              </a:rPr>
              <a:t>Navedeni ciljevi su vrlo općeniti – </a:t>
            </a:r>
            <a:r>
              <a:rPr b="0" lang="hr-HR" sz="2800" spc="-1" strike="noStrike">
                <a:solidFill>
                  <a:srgbClr val="00b200"/>
                </a:solidFill>
                <a:latin typeface="Book Antiqua"/>
              </a:rPr>
              <a:t>tradicionalni prist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6600"/>
                </a:solidFill>
                <a:latin typeface="Book Antiqua"/>
                <a:ea typeface="Times New Roman"/>
              </a:rPr>
              <a:t>Eksplicitni ciljevi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 ukazuju na razvoj 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cifičn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ih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znanja i sposobnosti - </a:t>
            </a:r>
            <a:r>
              <a:rPr b="0" lang="hr-HR" sz="2800" spc="-1" strike="noStrike">
                <a:solidFill>
                  <a:srgbClr val="00b200"/>
                </a:solidFill>
                <a:latin typeface="Book Antiqua"/>
                <a:ea typeface="Times New Roman"/>
              </a:rPr>
              <a:t>suvremeni prist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ni 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su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precizna određenja toga što će učenik moći učiniti kao rezultat poučavanja i učenja. Eksplicitni ciljevi sadrže i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Book Antiqua"/>
                <a:ea typeface="Times New Roman"/>
              </a:rPr>
              <a:t>kriterij uspješnosti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koji se zahtijeva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b200"/>
                </a:solidFill>
                <a:latin typeface="Comic Sans MS"/>
              </a:rPr>
              <a:t>Definiranje ciljeva – suvremena didaktik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6600"/>
                </a:solidFill>
                <a:latin typeface="Book Antiqua"/>
                <a:ea typeface="Times New Roman"/>
              </a:rPr>
              <a:t>Situacija </a:t>
            </a:r>
            <a:r>
              <a:rPr b="1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li</a:t>
            </a:r>
            <a:r>
              <a:rPr b="1" lang="hr-HR" sz="3200" spc="-1" strike="noStrike">
                <a:solidFill>
                  <a:srgbClr val="cc6600"/>
                </a:solidFill>
                <a:latin typeface="Book Antiqua"/>
                <a:ea typeface="Times New Roman"/>
              </a:rPr>
              <a:t> uvjet izvođenja</a:t>
            </a:r>
            <a:r>
              <a:rPr b="0" i="1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–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i="1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reba biti </a:t>
            </a:r>
            <a:r>
              <a:rPr b="0" i="1" lang="hr-HR" sz="3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0" i="1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finira</a:t>
            </a:r>
            <a:r>
              <a:rPr b="0" i="1" lang="hr-HR" sz="3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hr-HR" sz="3200" spc="-1" strike="noStrike">
                <a:solidFill>
                  <a:srgbClr val="36a084"/>
                </a:solidFill>
                <a:latin typeface="Book Antiqua"/>
                <a:ea typeface="Times New Roman"/>
              </a:rPr>
              <a:t> (metodički pluralizam)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6600"/>
                </a:solidFill>
                <a:latin typeface="Book Antiqua"/>
                <a:ea typeface="Times New Roman"/>
              </a:rPr>
              <a:t>Kriterij </a:t>
            </a:r>
            <a:r>
              <a:rPr b="1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li</a:t>
            </a:r>
            <a:r>
              <a:rPr b="1" lang="hr-HR" sz="3200" spc="-1" strike="noStrike">
                <a:solidFill>
                  <a:srgbClr val="cc6600"/>
                </a:solidFill>
                <a:latin typeface="Book Antiqua"/>
                <a:ea typeface="Times New Roman"/>
              </a:rPr>
              <a:t> razina izvođenja</a:t>
            </a:r>
            <a:r>
              <a:rPr b="0" i="1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– 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a bi cilj bio potpuno jasan, </a:t>
            </a:r>
            <a:r>
              <a:rPr b="0" lang="hr-HR" sz="3200" spc="-1" strike="noStrike">
                <a:solidFill>
                  <a:srgbClr val="36a084"/>
                </a:solidFill>
                <a:latin typeface="Book Antiqua"/>
                <a:ea typeface="Times New Roman"/>
              </a:rPr>
              <a:t>potrebno je odrediti minimalnu prihvatljivu razinu izvođenja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b200"/>
                </a:solidFill>
                <a:latin typeface="Comic Sans MS"/>
              </a:rPr>
              <a:t>Bloomova taksonomi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snovni cilj Bloomove taksonomije ogleda se u </a:t>
            </a:r>
            <a:r>
              <a:rPr b="0" lang="hr-HR" sz="2800" spc="-1" strike="noStrike">
                <a:solidFill>
                  <a:srgbClr val="00b200"/>
                </a:solidFill>
                <a:latin typeface="Book Antiqua"/>
                <a:ea typeface="Times New Roman"/>
              </a:rPr>
              <a:t>izradi svrhovitog i dosljednog sustava koji bi polazio od logičko-sadržajnih, pedagoških i psiholoških zakonitosti i principa učenja i poučavanja uopće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akođer, svrha ove taksonomije je da olakša jednoznačno sporazumijevanje na području operacionalizacije ciljeva i zadataka odgojno-obrazovnih procesa, s posebnim naglaskom na područje nastave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Comic Sans MS"/>
              </a:rPr>
              <a:t>Definiranje obrazovnih ciljeva, zadataka, ishoda učenja/ kompetencij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3844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rijednosti koje učenik treba razviti nakon odslušanog predmeta  ili na kraju svog školovanja opisane su kroz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razovne ciljeve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hode učenja i kompetenci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 odnose se na aktivnosti koje će učenik znati obavljati/pokazati  nakon uspješnog procesa poučavanja i (samo)učenja te ostvarenja  programa teme/cjeline/predm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700280"/>
            <a:ext cx="83883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549360"/>
            <a:ext cx="822960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omic Sans MS"/>
              </a:rPr>
              <a:t>Obrazovni ciljevi ili ciljevi učenj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opisuju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što nastavnik čin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a bi učenici znali izvršiti na kraju određenog razdoblja učenja,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a prije nisu znali</a:t>
            </a:r>
            <a:br>
              <a:rPr sz="2400"/>
            </a:b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omic Sans MS"/>
              </a:rPr>
              <a:t>Ishodi učenj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za razliku od obrazovnih ciljeva definiraju ono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što bi učenik morao znati učiniti/izvest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okazati…,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a ne nastavnik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omic Sans MS"/>
              </a:rPr>
              <a:t>Zadatak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je sadržaj učenja ili vježba koju učenik razvija za vrijeme nastave ili samostalnog rada do razine koja je odabrana u definiciji ishoda učenja, pri čemu s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rezultat može mjeriti i ocjenjivati prema određenom kriter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9640" y="404640"/>
          <a:ext cx="7918200" cy="5903640"/>
        </p:xfrm>
        <a:graphic>
          <a:graphicData uri="http://schemas.openxmlformats.org/drawingml/2006/table">
            <a:tbl>
              <a:tblPr/>
              <a:tblGrid>
                <a:gridCol w="2639160"/>
                <a:gridCol w="2639520"/>
                <a:gridCol w="2639520"/>
              </a:tblGrid>
              <a:tr h="29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pored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ščlan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omentiraj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aključ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vjer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sud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cijen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astupaj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rednuj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aber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ombiniraj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organiziraj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vež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iraj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ksperimentiraj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enuj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red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broj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znač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iš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žm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jasn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dvid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lasificiraj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vedi primjer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ješ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rad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kaž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ijen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aberi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24920"/>
            <a:ext cx="830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hr-HR" sz="3600" spc="-1" strike="noStrike">
                <a:solidFill>
                  <a:srgbClr val="003366"/>
                </a:solidFill>
                <a:latin typeface="Comic Sans MS"/>
              </a:rPr>
              <a:t>Benjamin Bloom</a:t>
            </a:r>
            <a:br>
              <a:rPr sz="3600"/>
            </a:br>
            <a:r>
              <a:rPr b="0" lang="hr-HR" sz="1800" spc="-1" strike="noStrike">
                <a:solidFill>
                  <a:srgbClr val="003366"/>
                </a:solidFill>
                <a:latin typeface="Comic Sans MS"/>
              </a:rPr>
              <a:t>(1956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413000"/>
            <a:ext cx="83883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55736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Promatrao je učenje kao proces – nadograđujemo prethodna znanja u cilju razvoja složenijih razina razumi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Proveo je istraživanje – razvoj klasifikacije: razine ponašanja i razmišljanja u procesu uče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od najjednostavnijeg na najnižoj razini do evaluacije na najvišoj raz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NTEZA/VREDN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(zamjene raz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jčešće polazište za definiranje obrazovnih ciljeve,  ishoda učenja i  zadataka - </a:t>
            </a:r>
            <a:r>
              <a:rPr b="0" lang="hr-HR" sz="2000" spc="-1" strike="noStrike">
                <a:solidFill>
                  <a:srgbClr val="ff0000"/>
                </a:solidFill>
                <a:latin typeface="Comic Sans MS"/>
              </a:rPr>
              <a:t>razine postignuća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dijele u tri područja (kategorije)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5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kognitivno (područje znanja i razumijevanj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25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psihomotoričko (područje vještina – umijeć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25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afektivno (područje stavova i uvjerenj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2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vako područje sistematizirano je hijerarhijski od niže ka višoj razini  znanj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vaka razina pojedine kategorije sadrži </a:t>
            </a: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ključne  glagole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koji omogućavaju definiranje kvalitativnih i kvantitativnih ishoda učenj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78920" y="124920"/>
            <a:ext cx="830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Comic Sans MS"/>
              </a:rPr>
              <a:t>Bloomova taksonomij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341360"/>
            <a:ext cx="83883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66"/>
                </a:solidFill>
                <a:latin typeface="Comic Sans MS"/>
              </a:rPr>
              <a:t>Algoritam pisanja ishoda učenj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Algoritam pisanja ishoda učenja na razini predme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shodi učenja predmeta trebaju proizlaziti iz ciljeva iskazanih na razini progra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ishodi učenja iskazuju se uvijek u pisanom obl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četak rečenice kojom definiramo ishoda treba započeti frazom: "Nakon uspješno završenog učenja  učenik će moći: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rugi dio rečenice odnosi se na prihvatljivu razinu postignuća koja se iskazuje radnim glagolom  prema Bloomovoj taksonomij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vako napisani ishodi osnovno su polazište za definiranje mjerila kojima će se izvršiti rangiranje prihvatljive razine postignuća ocjenom od 2 do 5 (obrazovni standar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341360"/>
            <a:ext cx="83883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ografija - VII. razred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rema HN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em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Pojam, veličina, smještaj i položaj Euro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Ključni pojmovi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grafski položaj i smještaj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shodi učen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brazovna postignuća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isati uz pomoć geografs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rte pojam Europe i Euroazije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kazati na geografskoj karti krajnje točke Europe i istaknuti povoljan položaj i smještaj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porediti na grafikonu veličinu Europe s drugim kontinentim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66"/>
                </a:solidFill>
                <a:latin typeface="Comic Sans MS"/>
              </a:rPr>
              <a:t>Kontrolna lista za pisanje</a:t>
            </a:r>
            <a:br>
              <a:rPr sz="3600"/>
            </a:br>
            <a:r>
              <a:rPr b="1" lang="hr-HR" sz="3600" spc="-1" strike="noStrike">
                <a:solidFill>
                  <a:srgbClr val="000066"/>
                </a:solidFill>
                <a:latin typeface="Comic Sans MS"/>
              </a:rPr>
              <a:t>ishoda učenj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628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Comic Sans MS"/>
              </a:rPr>
              <a:t>Jesam li započeo svaki ishod glagolom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61800" indent="-361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Comic Sans MS"/>
              </a:rPr>
              <a:t>Izbjegavam li glagole kao što su znati, razumjeti, učiti, biti upoznat s, biti izložen, biti svjestan 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61800" indent="-361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Comic Sans MS"/>
              </a:rPr>
              <a:t>Jesam li uključio ishode učenja sukladno razinama Bloomove taksonomije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61800" indent="-361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Comic Sans MS"/>
              </a:rPr>
              <a:t>Jesu li moji ishodi učenja mjerljivi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61800" indent="-361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Comic Sans MS"/>
              </a:rPr>
              <a:t>Da li su svi ishodi u skladu s ciljevima i sadržajem predmeta/teme/cjelin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61800" indent="-361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Comic Sans MS"/>
              </a:rPr>
              <a:t>Jesam li koristio samo jedan glagol po ishodu u učenja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3883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539640" y="1828800"/>
          <a:ext cx="7156440" cy="3657240"/>
        </p:xfrm>
        <a:graphic>
          <a:graphicData uri="http://schemas.openxmlformats.org/drawingml/2006/table">
            <a:tbl>
              <a:tblPr/>
              <a:tblGrid>
                <a:gridCol w="3578040"/>
                <a:gridCol w="3578400"/>
              </a:tblGrid>
              <a:tr h="78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9900"/>
                          </a:solidFill>
                          <a:latin typeface="Comic Sans MS"/>
                          <a:ea typeface="Times New Roman"/>
                        </a:rPr>
                        <a:t>precizni glago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9900"/>
                          </a:solidFill>
                          <a:latin typeface="Comic Sans MS"/>
                          <a:ea typeface="Times New Roman"/>
                        </a:rPr>
                        <a:t>neprecizni glago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analizir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opis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definir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napravi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usporedi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razlikov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argumentir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zn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razumje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cijeni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zapamti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upozn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nauči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osvijesti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395280" y="1413000"/>
            <a:ext cx="83883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OGNITIVNA RAZI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0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ZNANJE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AZUMIJEVANJE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IMJENA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NALIZA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INTEZA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VREDNOVANJE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skolica"/>
          <p:cNvPicPr/>
          <p:nvPr/>
        </p:nvPicPr>
        <p:blipFill>
          <a:blip r:embed="rId1"/>
          <a:stretch/>
        </p:blipFill>
        <p:spPr>
          <a:xfrm>
            <a:off x="5435640" y="2276640"/>
            <a:ext cx="234324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1. ZNANJ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t vještina pomoću kojih učenici mogu pokazati stečeno znanj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raj              Sastavi pop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apamti                Imenuj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abilježi                Ponov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pričaj,opiši         Prisjeti s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zvije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2. RAZUMIJEVAN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t vještina uz pomoć kojih učenici mogu pokazati shvaćanje informacija: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žmi                 Objasn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ciraj       Izvijest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motri             Izraz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oznaj           Raspravljaj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jest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3. PRIMJE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t vještina s pomoću kojih učenici mogu pokazati primjenu znanja u rješavanju problema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zloži                 Vježbaj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mijeni            Ilustriraj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zvedi                Preved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umači         Intervjuiraj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kaž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5800" y="474840"/>
          <a:ext cx="7696080" cy="446544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LIZ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ALU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RE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MĆ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ZUMIJE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JENJI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4. ANALIZ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t vještina razdvajanja informacija kako bi se prilagodile novim situacijama: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luči                     Uspored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pravi inventuru     Riješ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aj                         Eksperimentiraj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pravi dijagram      Raspravljaj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erencira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5. SINTEZ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mjena informacija radi poboljšanja kvalitete neke situacije i život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loži                Ured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iraj           Kreiraj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stavi                 Klasificiraj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premi                Povež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ira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6. VREDNOVANJ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suđivanje korisnosti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zaberi                 Prosud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vidi                Procijen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ngiraj               Odredi priorite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rednuj                Izmjer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66"/>
                </a:solidFill>
                <a:latin typeface="Comic Sans MS"/>
              </a:rPr>
              <a:t>Razine postignuća</a:t>
            </a:r>
            <a:br>
              <a:rPr sz="3600"/>
            </a:br>
            <a:r>
              <a:rPr b="1" lang="hr-HR" sz="3600" spc="-1" strike="noStrike">
                <a:solidFill>
                  <a:srgbClr val="000066"/>
                </a:solidFill>
                <a:latin typeface="Comic Sans MS"/>
              </a:rPr>
              <a:t>-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Kognitivno područje (znanje i razumijevanje)</a:t>
            </a:r>
            <a:r>
              <a:rPr b="1" lang="hr-HR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395280" y="1844640"/>
            <a:ext cx="83883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132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1692360" y="530064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hvatljiva društvena razina je razi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imj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NANJ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čenici znaju reproducirati ili prepoznati informacije, ideje, koncepte i principe u obliku sličnom onome u kojem su ih učil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0400" indent="-59040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čenici pokazuju stečeno znan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0400" indent="-59040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čenici nauče i upamte podatke,  zatim ih reproduciraju ili ih samo prepoznaju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6870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40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ZUMIJEVANJE / OVLADAVANJ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niža razina razumijevanj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60880" indent="-56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čenici razumiju i mogu objasniti ili interpretirati informacije zasnovane na prethodno stečenim znanjima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04680" indent="-47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čenici pokazuju shvaćanje informac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4680" indent="-47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ema Bloomu postoje tri vrste razumijevanj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66480" indent="-3978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0000"/>
                </a:solidFill>
                <a:latin typeface="Comic Sans MS"/>
              </a:rPr>
              <a:t>prevođenje</a:t>
            </a: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 (translacija) – stečeno znanje izraziti svojim riječima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66480" indent="-39780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0000"/>
                </a:solidFill>
                <a:latin typeface="Comic Sans MS"/>
              </a:rPr>
              <a:t>interpretacija</a:t>
            </a: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 – tumačenje i pojašnjavanj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66480" indent="-39780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0000"/>
                </a:solidFill>
                <a:latin typeface="Comic Sans MS"/>
              </a:rPr>
              <a:t>ekstrapolacija</a:t>
            </a: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 – sposobnost procjenjivanja i predviđanja učinka, posljedica ili događaja</a:t>
            </a:r>
            <a:r>
              <a:rPr b="0" lang="hr-HR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69192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MJENA ZNANJ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viša razina razumijevanja)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čenici odabiru i upotrebljavaju naučene koncepte, principe, teorije i metode kako bi riješili problem ili zadatak u konkretnoj i novoj situaciji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0400" indent="-59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čenici  pokazuju  primjenu znanja u rješavanju problem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525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opisni glagoli: izloži, vježbaj, primijeni, ilustriraj, prikaži, prevedi, protumač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ALIZA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čenici su u stanju raščlaniti materijal na osnovne sastavnice tako da se može razumjeti njegova organizacijska struktura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7624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čenici razdvajaju informacije kako bi se prilagodili novim situacij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76240" indent="-455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isni glagoli: razluči, usporedi, riješi, razlikuj, izdvoji, identificiraj, rastavi, ilustriraj, zaključi, prikaž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TEZA / KREACIJA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čenici su u stanju objediniti (povezati, integrirati) dijelove (rezultate, znanja i vještine) u novu funkcionalnu cjelinu ili strukturu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ici stvaraju informacije radi pobolj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ja kvalitete neke situacije na osnovi prikupljenih informaci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isni glagol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dl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red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ganiziraj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reiraj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stav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lasificiraj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iprem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v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uliraj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VALUACIJA / VREDNOVANJ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25240" indent="-5252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čenici imaju sposobnost prosudbe vrijednosti materijala za određenu namjenu, u skladu s odabranim kriterijim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47440" indent="-4406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čenik prosuđuje  korisnost informaci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47440" indent="-4406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isni glagoli: procijeni, usporedi, zaključi, razlikuj, kritiziraj, diskriminiraj, objasni, prosudi, opravdaj, interpretiraj, podrž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5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42560" y="907920"/>
            <a:ext cx="665316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Comic Sans MS"/>
              </a:rPr>
              <a:t>Elementi i kriteriji vrednovanja učeničkih  postignuć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omic Sans MS"/>
              </a:rPr>
              <a:t>Poveznica Bloomova taksonomij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Comic Sans MS"/>
              </a:rPr>
              <a:t>CILJEVI, ZADACI I ISHODI UČENJA, KOMPETENCIJ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Comic Sans MS"/>
              </a:rPr>
              <a:t>INSTRUMENT VREDNOVANJA, EVALUACIJ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Comic Sans MS"/>
              </a:rPr>
              <a:t>KURIKUL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Comic Sans MS"/>
              </a:rPr>
              <a:t>MISIJA, VIZIJA, STRATEGIJA RAZVOJA, KVALITETA, IZVRSNOST, MARKETING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Comic Sans MS"/>
              </a:rPr>
              <a:t>KULURA ŠK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AFEKTIVNO PODRUČJ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3789360"/>
            <a:ext cx="769608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Odnosi se na interes, stajalište i vrednovanje učenika, njihov odnos i osjećaje prema predmetu jer na rad mogu biti prisiljeni ili rade iz vlastitih pobuda. Učenici nauče slušati i prihvaćati informacij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BLOOMOVA TAKSONOMIJA – AFEKTIVNA DOMENA </a:t>
            </a:r>
            <a:br>
              <a:rPr sz="1800"/>
            </a:b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(emocije, vrijednosti, stavovi; Krathwohl i suradnici, 1964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5" descr="brains"/>
          <p:cNvPicPr/>
          <p:nvPr/>
        </p:nvPicPr>
        <p:blipFill>
          <a:blip r:embed="rId1"/>
          <a:stretch/>
        </p:blipFill>
        <p:spPr>
          <a:xfrm>
            <a:off x="2411280" y="1125360"/>
            <a:ext cx="34578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LOOMOVA TAKSONOMIJA –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EKTIVNA DOME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etpostavlja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emocionalni (subjektivni) aspekt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našanja pri učenj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dnosi se n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sjećaj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međuljudske odnose i razumijevanje drug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av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vrijednos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ma važan utjecaj na izgradnju i razvoj velikog broja generičkih i određenog broja specifičnih kompetenc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B. S. Bloom i suradnici (1964) izdvajaju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5 osnovnih kategorij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aksonom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31360" cy="4309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66"/>
                </a:solidFill>
                <a:latin typeface="Comic Sans MS"/>
              </a:rPr>
              <a:t>Razine postignuća</a:t>
            </a:r>
            <a:br>
              <a:rPr sz="3600"/>
            </a:br>
            <a:r>
              <a:rPr b="1" lang="hr-HR" sz="3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Afektivno područje </a:t>
            </a:r>
            <a:br>
              <a:rPr sz="3600"/>
            </a:b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(stavovi i uvjerenj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468360" y="1844640"/>
            <a:ext cx="83883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476360" y="6093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hvatljiva društvena razina je razi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svajanja vrij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HVAĆAN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čenici svjesno i pažljivo prate i žele čuti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pitati, izabrati, opisati, dati, držati, identificirati, smjestiti, imenovati, ukazati, izabrati, odgovoriti, koristiti, upotrebljavati, prihvatiti, potvrditi, prepoznati, osvijestiti, slušati, bilježiti, pratiti, slijediti, uvažavat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GIRANJE / ODGOVARAN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učenici aktivno sudjeluju, pažljivo prate i reagiraju, motivirani su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odgovoriti, pomoći, sastaviti, prilagoditi se, složiti se, prihvatiti, pristati, brinuti se o/za, komunicirati, raspraviti, pozdraviti, označiti, izvesti, prakticirati, predstaviti, čitati dragovoljno, izvijestiti, izdvojiti, reći, napisati, doprinijeti, surađivati, slijediti, izvršavati, s voljom sudjelovati, posjetiti, volontira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VAJANJE VRIJED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učenici poštuju ili vrednuju osobu vezanu s određenim objektom, događajem ili ponašanjem, u rasponu od prihvaćanja do složenijeg stanja posvećivanj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vršiti, opisati, razlikovati, objasniti, slijediti, oblikovati, inicirati, pozvati, uključiti, opravdati, prosuditi, predložiti, izvijestiti, odabrati, podijeliti, proučiti, izraditi, usvojiti, suprotstaviti se, ponašati se u skladu s, posvetiti se, željeti, iskazati odanost, izraziti, tražiti, iskazati zabrinutost/brig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GANIZIRANJE VRIJED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703dff"/>
                </a:solidFill>
                <a:latin typeface="Comic Sans MS"/>
              </a:rPr>
              <a:t>učenik organizira vrijednosti po prioritetima proučavanjem kontrasta među različitim vrijednostima, rješavajući konflikt među njima; stvara jedinstveni sustav vrijednosti; naglasak je na usporedbi, proučavanju odnosa i sintezi vrijednos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lijediti, prihvatiti, mijenjati, prilagoditi, urediti, kombinirati, usporediti, dopuniti, obraniti, uravnotežiti, objasniti, generalizirati, poopćiti, identificirati, integrirati, poredati, staviti u odnos, modificirati, organizirati, grupirati, pripremiti, sintetizirati, konceptualizirati, formulirati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VAJANJE/RAZVOJ SUSTAVA VRIJEDNOSTI / INTEGRIT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učenik posjeduje sustav vrijednosti koji kontrolira njegovo ponašanje (karakter) i predstavlja njegovu osobnost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jelovati, razlikovati, prikazati, utjecati, slušati, modificirati, prilagoditi, izvesti, primijeniti, predložiti, kvalificirati, ispitati, revidirati, poslužiti, riješiti, koristiti, vrednovati, obraniti, održati, služiti, podržat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SIHOMOTORIČNO PODRUČJ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emelji se na psihomotornoj koordinaciji koja predstavlja bitnu komponentu svake fizičke aktivnosti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BLOOMOVA TAKSONOMIJA – PSIHOMOTORIČKA DOMENA 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Comic Sans MS"/>
              </a:rPr>
              <a:t>( Simpson, 197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5" descr="maths_lrg"/>
          <p:cNvPicPr/>
          <p:nvPr/>
        </p:nvPicPr>
        <p:blipFill>
          <a:blip r:embed="rId1"/>
          <a:stretch/>
        </p:blipFill>
        <p:spPr>
          <a:xfrm>
            <a:off x="5056200" y="1828800"/>
            <a:ext cx="2878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8748720" cy="32083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280" y="11736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66"/>
                </a:solidFill>
                <a:latin typeface="Comic Sans MS"/>
              </a:rPr>
              <a:t>Razine postignuća</a:t>
            </a:r>
            <a:br>
              <a:rPr sz="3600"/>
            </a:br>
            <a:r>
              <a:rPr b="1" lang="hr-HR" sz="3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Psihomotoričko područje</a:t>
            </a:r>
            <a:br>
              <a:rPr sz="3600"/>
            </a:b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vještine i umijeć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468360" y="2276640"/>
            <a:ext cx="83883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63640" y="566100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hvatljiva društvena razina je razin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ec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LOOMOVA TAKSONOMIJA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Taksonomija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je  sustav klasifikacije odgojno-obrazovnih cilje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Bloom je s grupom psihologa1956. godine  unutar kognitivne domene razvio podjelu na 6 razina učenja:  znanje, razumijevanje, primjena, analiza, sinteza i evaluacija. Svaka u nizu viša razina  uključuje u sebi sve niže razine učenj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ERCEPCIJA / MOĆ ZAPAŽAN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učenik upotrebljava osjetila kao vodstvo u motoričkim aktivnosti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zabrati, prepoznati, uočiti, izdvojiti, povezati, čuti, slušati, primijetiti, prepoznati, vidjeti, osjetiti, namirisati, okusiti, gledati, pratit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PREMNO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učenik je mentalno, emotivno i fizički spreman za aktivn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četi, objasniti, pokrenuti, nastaviti, reagirati, odgovorit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ĐENI RAZGOV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učenik oponaša i razvija vještine (vježba), često diskretnim koraci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onašati, kopirati, duplicirati, udvojiti, baratati uz vodstvo, izvršiti uz nadzor, vježbati, pokušati, ponoviti, prirediti, rastaviti, razdvojiti, sastavit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UTOMATIZIRANI ODGOV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učenik s povećanom efikasnošću, sigurnošću i okretnošću izvršava radnj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izvesti, konstruirati, podići, provesti, voditi, izvršiti, ubrzati, proizvest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LOŽENA OPERACIJA (AUTOMATIZACI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učenik automatizirano izvršava radn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praviti, izgraditi, upravljati, demonstrirati, kontrolirati, upravljati, voditi, održavati efikasnost, ovladat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ILAGODB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učenik prilagođava vještine problemskoj situacij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lagoditi, uskladiti, preokrenuti, revidirati reorganizirati, promijenit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RGANIZACIJA / STVARAN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učenik stvara nove obrasce za posebne situacije ili slučaje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izgraditi, konstruirati, urediti, sastaviti, izumiti, konstruirati, dizajnirati, kombinirati, inovirat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NAČAJ AKTIVNIH GLAGO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37702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CIZN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izir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is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r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pravi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poredi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likov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umentir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04800" y="1412640"/>
            <a:ext cx="4079880" cy="39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PRECIZ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n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umje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jeni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apamti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ozn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uči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vijestit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66"/>
                </a:solidFill>
                <a:latin typeface="Comic Sans MS"/>
              </a:rPr>
              <a:t>Veza između ishoda učenja i kompetencij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kompetenc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znanja, vještine i stavovi pomoću kojih je pojedinac osposobljen za izvršenje određenog posla. Kompetencije u tom smislu predstavljaju kombinaciju znanja i njegove primjene (vještina), stavova i odgovornosti koji opisuju ishode učenja obrazovnog program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1413000"/>
            <a:ext cx="83883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788000" y="1844640"/>
          <a:ext cx="4043160" cy="3932280"/>
        </p:xfrm>
        <a:graphic>
          <a:graphicData uri="http://schemas.openxmlformats.org/drawingml/2006/table">
            <a:tbl>
              <a:tblPr/>
              <a:tblGrid>
                <a:gridCol w="2160360"/>
                <a:gridCol w="1882800"/>
              </a:tblGrid>
              <a:tr h="533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ETEN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Ć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Č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posobnost analize i sintez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posobnost učenja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rješavanje problem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posobnost za primjenu znanja u praksi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posobnost prilagodbe novoj situaciji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briga za kvalitetu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vještine upravljanja informacijama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posobnost za samostalni rad i timski r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Konstruktivno povezivanje ishoda  učenja i metoda poučavanj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čekivani ishodi učenja i razine postignuća osnova su za planiran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ktivnosti učenika i nastavnika na nastav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čin procjenjivanja i ocjenjivanj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569080" cy="1079640"/>
          </a:xfrm>
          <a:prstGeom prst="rect">
            <a:avLst/>
          </a:prstGeom>
          <a:solidFill>
            <a:srgbClr val="f6f987"/>
          </a:solid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0000"/>
                </a:solidFill>
                <a:latin typeface="Times New Roman"/>
              </a:rPr>
              <a:t>Bloomova taksonomij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Kvalitetnije 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definiranje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 specifičnih 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ciljeva, zadataka i ishoda učenja te načina vrenova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3573360"/>
            <a:ext cx="8748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edna od </a:t>
            </a:r>
            <a:r>
              <a:rPr b="1" lang="hr-HR" sz="2600" spc="-1" strike="noStrike">
                <a:solidFill>
                  <a:srgbClr val="ff0000"/>
                </a:solidFill>
                <a:latin typeface="Arial"/>
              </a:rPr>
              <a:t>najprihvaćenijih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 klasifikacija zn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Times New Roman"/>
              </a:rPr>
              <a:t>1956., Benjamin Bloom, američki psiho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Times New Roman"/>
              </a:rPr>
              <a:t>2001., promijenjena verzija, Anderson i Krathwoh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zamijenjena hijerarhija dvije najviše razine zn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umjesto imenica koriste se glagoli </a:t>
            </a:r>
            <a:r>
              <a:rPr b="0" lang="hr-H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hr-HR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naglašen procesni karakter učenja (</a:t>
            </a:r>
            <a:r>
              <a:rPr b="0" i="1" lang="hr-HR" sz="2600" spc="-1" strike="noStrike">
                <a:solidFill>
                  <a:srgbClr val="ff0000"/>
                </a:solidFill>
                <a:latin typeface="Times New Roman"/>
                <a:ea typeface="Arial"/>
              </a:rPr>
              <a:t>vrste znanja</a:t>
            </a:r>
            <a:r>
              <a:rPr b="0" i="1" lang="hr-HR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-208080"/>
          <a:ext cx="9144000" cy="706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08080"/>
                    <a:ext cx="9144000" cy="70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0"/>
          <a:ext cx="9468000" cy="73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4680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ompetencije i ishodi učen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HOD UČEN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očekivani završni rezultat procesa realizacije nastave i učenja, pisan od strane nastavni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OMPETENC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namička kombinacija znanja, vještina, stavova i vrijednosti koja osobi pruža mogućnost odgovora na zahtjeve koji su bitni za neku funkciju ili ulog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izacija ishoda učenja, dokaz postignuć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zultat dostizanja očekivanih ishoda učen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jelimo ih n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ičke (opće) i specifič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395280" y="446040"/>
          <a:ext cx="72010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7201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971640" y="620640"/>
          <a:ext cx="705636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20640"/>
                    <a:ext cx="705636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Ishodi učenja - teorijska podloga </a:t>
            </a:r>
            <a:br>
              <a:rPr sz="2400"/>
            </a:br>
            <a:r>
              <a:rPr b="1" i="1" lang="hr-HR" sz="2400" spc="-1" strike="noStrike">
                <a:solidFill>
                  <a:srgbClr val="000000"/>
                </a:solidFill>
                <a:latin typeface="Comic Sans MS"/>
              </a:rPr>
              <a:t>Konstruktivno poravnanje</a:t>
            </a:r>
            <a:br>
              <a:rPr sz="2400"/>
            </a:br>
            <a:r>
              <a:rPr b="1" i="1" lang="hr-HR" sz="2400" spc="-1" strike="noStrike">
                <a:solidFill>
                  <a:srgbClr val="000000"/>
                </a:solidFill>
                <a:latin typeface="Comic Sans MS"/>
              </a:rPr>
              <a:t>(constructive aligne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Pristup poučavanju koji podrazumijeva da planiranj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kurikuluma započinje od potreba i jasne slikom o tome š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će učenici biti u stanju učiniti nakon zadovoljavanj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zahtjevima pojedinog područja/predmeta/teme, zati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slijedi utvrđivanje (poravnanje) organizacije programa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usklađivanje metoda poučavanja i na kraju se pristup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provjeri naučenog kako bi se potvrdilo je li učenje dovel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mic Sans MS"/>
              </a:rPr>
              <a:t>do željenih promjena u znanju, vještinama i uvjerenjim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</a:t>
            </a:r>
            <a:r>
              <a:rPr b="0" i="1" lang="hr-HR" sz="2200" spc="-1" strike="noStrike">
                <a:solidFill>
                  <a:srgbClr val="000000"/>
                </a:solidFill>
                <a:latin typeface="Comic Sans MS"/>
              </a:rPr>
              <a:t>(Biggs, 2001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ma Biggs i Tang (2007.) Postupci u konstruktivnome poravnanju jesu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isati željene ishode učenja pomoću aktivnih glago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reirati okolinu birajući aktivnosti učenja/poučavanja koje će potaknuti planirane ishode uče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oristiti pri vrednovanju ishoda zadatke koji se odnose na glagole vezane uz ish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esti vrednovanje u standardne ocje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ISHODI UČENJA (eng. learning outcomes)</a:t>
            </a:r>
            <a:br>
              <a:rPr sz="2400"/>
            </a:br>
            <a:r>
              <a:rPr b="1" lang="hr-HR" sz="2400" spc="-1" strike="noStrike">
                <a:solidFill>
                  <a:srgbClr val="703dff"/>
                </a:solidFill>
                <a:latin typeface="Comic Sans MS"/>
              </a:rPr>
              <a:t>Obrazovna postignuć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asno i precizn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pisana izjava o tome što bi učenik treba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nati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umjeti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ći napraviti (demonstrira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rednovati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 završetku procesa učenj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hodi učenj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hodi učenja su tvrdnje o tome što se od učenika očekuje da zna, razumije i/ili da je sposoban pokazati nakon završetka procesa učenj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hodi učenja moraju biti praćeni s prikladnim kriterijima vrednovanja prema kojima se može utvrditi je su li i ostvaren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Ishodi učenja su operacionalizacija kompetencija pomoću aktivnosti koje su mjerljive i vidlj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AŠTO SU ISHODI UČENJA VAŽ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66"/>
                </a:solidFill>
                <a:latin typeface="Comic Sans MS"/>
              </a:rPr>
              <a:t>Pomažu nastavniku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cizirati učenicima što se od njih očeku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ipremiti nastavne materijale, metode, oblike i načine provjere uč. postignuć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komunicirati s kolegama, učenicima, roditeljima i ostalim interesnim skupinama (eng. stakeholders) o ciljevima predmeta i njihovom odnosu prema kurikulum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RSTE ZNANJA 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J. BIGGS, 199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KLARATIVNO ZNAN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nati što, znati o nečemu – sadržaj znan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DURALNO ZNAN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nati kako (nešto činiti, radit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VJETNO ZNAN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nati kada i u kojoj situaciji (nešto činiti, radit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KCIONALNO ZNAN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nati kako upotrijebiti i iskoristiti prethodne tri vrste znanja kako bismo riješili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Pomažu nastavnik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određivanje: sadržaja koje će poučavati, nastavnih strategija i metoda koje će primjenjivati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određivanje aktivnosti koje učenici trebaju izvesti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efiniranje ispitnih zadataka za vrednovanje učeničkog uspjeha i napredovanja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vrednovanje ostvarenosti kurikulum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shodi učenja moraju biti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Comic Sans MS"/>
              </a:rPr>
              <a:t>S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– </a:t>
            </a:r>
            <a:r>
              <a:rPr b="0" i="1" lang="hr-HR" sz="2800" spc="-1" strike="noStrike">
                <a:solidFill>
                  <a:srgbClr val="003366"/>
                </a:solidFill>
                <a:latin typeface="Comic Sans MS"/>
              </a:rPr>
              <a:t>specific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- konkret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Comic Sans MS"/>
              </a:rPr>
              <a:t>M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– </a:t>
            </a:r>
            <a:r>
              <a:rPr b="0" i="1" lang="hr-HR" sz="2800" spc="-1" strike="noStrike">
                <a:solidFill>
                  <a:srgbClr val="003366"/>
                </a:solidFill>
                <a:latin typeface="Comic Sans MS"/>
              </a:rPr>
              <a:t>measurable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- mjerljiv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Comic Sans MS"/>
              </a:rPr>
              <a:t>A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– </a:t>
            </a:r>
            <a:r>
              <a:rPr b="0" i="1" lang="hr-HR" sz="2800" spc="-1" strike="noStrike">
                <a:solidFill>
                  <a:srgbClr val="003366"/>
                </a:solidFill>
                <a:latin typeface="Comic Sans MS"/>
              </a:rPr>
              <a:t>agreed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- dogovore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Comic Sans MS"/>
              </a:rPr>
              <a:t>R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– </a:t>
            </a:r>
            <a:r>
              <a:rPr b="0" i="1" lang="hr-HR" sz="2800" spc="-1" strike="noStrike">
                <a:solidFill>
                  <a:srgbClr val="003366"/>
                </a:solidFill>
                <a:latin typeface="Comic Sans MS"/>
              </a:rPr>
              <a:t>relevant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- relevant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Comic Sans MS"/>
              </a:rPr>
              <a:t>T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– </a:t>
            </a:r>
            <a:r>
              <a:rPr b="0" i="1" lang="hr-HR" sz="2800" spc="-1" strike="noStrike">
                <a:solidFill>
                  <a:srgbClr val="003366"/>
                </a:solidFill>
                <a:latin typeface="Comic Sans MS"/>
              </a:rPr>
              <a:t>timely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– vremenski izvediv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Ishodi učenja trebali bi biti i </a:t>
            </a:r>
            <a:r>
              <a:rPr b="1" lang="hr-HR" sz="2800" spc="-1" strike="noStrike">
                <a:solidFill>
                  <a:srgbClr val="003366"/>
                </a:solidFill>
                <a:latin typeface="Comic Sans MS"/>
              </a:rPr>
              <a:t>transparenti</a:t>
            </a: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 – prepoznati unutar i izvan Europe (Tuning, Gonzalez i Wagenaar, 2006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AŠTO SU ISHODI UČENJA VAŽ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Učenicim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užaju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nu i konkretnu sliku što će morati znati i umjeti na kraju pojedine teme, cjeline, razreda, odgojno-obrazovnog ciklusa, odnosno školovanj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an okvir koji usmjerava njihovo učenj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no artikuliranu osnovu za pripremanje za ispite, odnosno provjere njihovih postignuć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AŠTO SU ISHODI UČENJA VAŽ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0000"/>
                </a:solidFill>
                <a:latin typeface="Comic Sans MS"/>
              </a:rPr>
              <a:t>Roditeljima </a:t>
            </a:r>
            <a:r>
              <a:rPr b="1" lang="hr-HR" sz="3200" spc="-1" strike="noStrike">
                <a:solidFill>
                  <a:srgbClr val="ff0000"/>
                </a:solidFill>
                <a:latin typeface="Comic Sans MS"/>
              </a:rPr>
              <a:t>omogućuju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tjecanje jasne slike o tome koju vrstu i dubinu znanja, vještina i vrijednosti će djeca moći steći u školi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spješno pomaganje i praćenje napredovanja njihovog djeteta i d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vjeti uspješnog učenja</a:t>
            </a:r>
            <a:br>
              <a:rPr sz="3200"/>
            </a:br>
            <a:r>
              <a:rPr b="0" i="1" lang="hr-HR" sz="2000" spc="-1" strike="noStrike">
                <a:solidFill>
                  <a:srgbClr val="000000"/>
                </a:solidFill>
                <a:latin typeface="Comic Sans MS"/>
              </a:rPr>
              <a:t>(Cambourne, 1985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rijednost cil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nstracija ponašan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kazivanje povjerenja – visoka očekivan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icanje na odgovorn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gućnost uvježbavanja i transf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upnost napredovan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zitivne povratne informac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visoka uključen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visoko postignuć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395280" y="260280"/>
          <a:ext cx="8424720" cy="80438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ZINE POSTIGNUĆ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KTIVNOSTI UČENIKA I NASTAV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ČINI VREDN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Pamćenje činj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davanja, suradničko učenje, rad na tekstu, e-učenje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bjektivne metode procjene: usmeni odgovori,izlaganja i prezentacija, referati, eseji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adaci objektivnog ti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movrednova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Razumije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ženje i analizirane primjera, uspoređivanje pojmova, rasprava (traženje argumenata)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Prim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zraditi projekt, riješiti problem, prezentirati, prikazati, primijeniti u životnoj situac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Anali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prave, projekti, eseji, refer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Vredno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6. Vredno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8" descr=""/>
          <p:cNvPicPr/>
          <p:nvPr/>
        </p:nvPicPr>
        <p:blipFill>
          <a:blip r:embed="rId1"/>
          <a:srcRect l="24903" t="23440" r="21633" b="9178"/>
          <a:stretch/>
        </p:blipFill>
        <p:spPr>
          <a:xfrm>
            <a:off x="0" y="0"/>
            <a:ext cx="96123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poručene poveznice i literat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V. Kovač: Procjenjivanje i ocjenjivanje rezultata učenj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http://ahyco.ffri.hr/portal/Glavna.aspx?IDClanka=32&amp;IDKategorije=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www.carnet.hr/referalni/obrazovni/spzit/pismeni/teorija/blo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Dean Caplan: </a:t>
            </a:r>
            <a:r>
              <a:rPr b="0" lang="hr-HR" sz="1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Razvoj </a:t>
            </a:r>
            <a:r>
              <a:rPr b="0" lang="hr-HR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online</a:t>
            </a:r>
            <a:r>
              <a:rPr b="0" lang="hr-HR" sz="16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 kolegij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http://www.carnet.hr/referalni/obrazovni/mkod/metodik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Bloom, B.S. (Ed.) (1956) Taxonomy of educational objectives: The classification of educational goals: Handbook I, Cognitive domain. New York;Toronto: Longmans, Green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V Vizek Vidovi, V. Vlahović –Štetić, Majda Rijavec, Dubravka Miljković (2003). </a:t>
            </a:r>
            <a:r>
              <a:rPr b="0" i="1" lang="hr-HR" sz="1600" spc="-1" strike="noStrike">
                <a:solidFill>
                  <a:srgbClr val="000000"/>
                </a:solidFill>
                <a:latin typeface="Comic Sans MS"/>
              </a:rPr>
              <a:t>Psihologija obrazovanja, 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IEP-VERN’, Zagr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T. Grgin (1996). </a:t>
            </a:r>
            <a:r>
              <a:rPr b="0" i="1" lang="hr-HR" sz="1600" spc="-1" strike="noStrike">
                <a:solidFill>
                  <a:srgbClr val="000000"/>
                </a:solidFill>
                <a:latin typeface="Comic Sans MS"/>
              </a:rPr>
              <a:t>Edukacijska Psihologija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, Naklada Slap, Jastrebarsk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T. Grgin (2001), </a:t>
            </a:r>
            <a:r>
              <a:rPr b="0" i="1" lang="hr-HR" sz="1600" spc="-1" strike="noStrike">
                <a:solidFill>
                  <a:srgbClr val="000000"/>
                </a:solidFill>
                <a:latin typeface="Comic Sans MS"/>
              </a:rPr>
              <a:t>Školsko ocjenjivanje znanja</a:t>
            </a: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, Naklada Slap, Zagr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Anderson, L., Krathwohl, D. A. (2001). A taxonomy for learning, teaching and assessing: A revision of Bloom's Taxonomy of educational objectives. New York: Longma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Biggs J., Tang, C. (2007). Teaching for Quality Learning at University. Society for Research into Higher Education &amp; Open University Pres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omic Sans MS"/>
              </a:rPr>
              <a:t>Vlasta Vizek Vdovič (2008); Ishodi učenja u obrazovanju učitelja  nastavnika, NZZ-IUOUN projek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b200"/>
                </a:solidFill>
                <a:latin typeface="Times New Roman"/>
              </a:rPr>
              <a:t>1. Ciljevi poučavanja</a:t>
            </a:r>
            <a:r>
              <a:rPr b="1" lang="en-GB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6600"/>
                </a:solidFill>
                <a:latin typeface="Book Antiqua"/>
                <a:ea typeface="Times New Roman"/>
              </a:rPr>
              <a:t>Određivanje ciljeva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logi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č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n je po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č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tak procesa pou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č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vanja. Nastavnik 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sebi 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ostavlja pitanja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Što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im da učenici nauče? Kako će se te promjene manifestirati u ponašanju?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što su jasniji ciljevi bolji su i rezultati učenja i pou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č</a:t>
            </a:r>
            <a:r>
              <a:rPr b="0" lang="hr-HR" sz="3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vanja te precizniji instrumenti vrednovanj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b200"/>
                </a:solidFill>
                <a:latin typeface="Comic Sans MS"/>
              </a:rPr>
              <a:t>Definiranje ciljev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ilj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kazujemo kao odgojnu i kao obrazovnu namjeru kako za individualni tako i za društveni aspekt odgoja i obrazovanj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2:55:57Z</dcterms:created>
  <dc:creator>Sveučilište J. J. Strossmayera u Osijeku </dc:creator>
  <dc:description/>
  <dc:language>en-US</dc:language>
  <cp:lastModifiedBy>Sveučilište J. J. Strossmayera u Osijeku </cp:lastModifiedBy>
  <dcterms:modified xsi:type="dcterms:W3CDTF">2011-07-03T13:03:34Z</dcterms:modified>
  <cp:revision>11</cp:revision>
  <dc:subject/>
  <dc:title>BLOOMOVA TAKSONOMIJA</dc:title>
</cp:coreProperties>
</file>