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856788" cy="678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856800" cy="67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7032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582880" y="0"/>
            <a:ext cx="427212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3231720" y="509760"/>
            <a:ext cx="3390840" cy="25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6443640"/>
            <a:ext cx="427032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58288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B6A51E-8E37-4529-80FE-80DE2254864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7A2F07-98E1-4485-B512-ABCCE39C1C0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3E49F6-7EA2-4D73-AAED-4CBA6439F14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BBB397-B6D9-4937-99AB-23BC592864C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478822-3A95-4F8C-A8D5-F30E5555424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731702-A093-49AD-BAA1-A86E7009E62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2E0F98-D67B-4D70-89C6-4610BA6A090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6CF177-3C46-4BCB-B2DE-6D90E19C56B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AE73DF-83CA-4FE2-88AF-7E86C4560D1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B46203-0D0D-4371-BC99-A6F3909080C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E87A00-06B7-4A08-BF6B-9AD451B5E5E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66E177-870D-453E-9F5A-210E75C486A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98014F-4C83-4CE5-83C1-A0BF8E2F6F3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48F0DE-7907-4041-89B1-5426C3BD7FF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C53379-0EDB-4DBD-9065-539719E213B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8DAA55-9741-4DFE-B771-B20E82575E2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839272-DD6B-40B7-BC07-0A1084F14C0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559ADD-6115-4B1D-A6F3-BBF65FF1E68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7FAEB0-519D-49B9-AC12-31BE10A2BA8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E36C79-EB43-4595-AAC5-702BB34A4E0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0EAA24-8292-4C9C-B19C-071B56C9D8E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2E1E4C-19C1-4BE6-9DC3-55214660299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114A0D-25D8-4181-8010-8C6A07D9E51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61D49A-333B-45DA-92E4-042305E42AF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232080" y="509760"/>
            <a:ext cx="3390840" cy="2543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87480" y="3222720"/>
            <a:ext cx="788184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zervirano mjesto broja slajda 3"/>
          <p:cNvSpPr/>
          <p:nvPr/>
        </p:nvSpPr>
        <p:spPr>
          <a:xfrm>
            <a:off x="5583240" y="6443640"/>
            <a:ext cx="4272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70210D-9D0A-46F8-80CA-A4924B1B7ED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D72D-0549-471C-8AC5-0C37C504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3DCA-45D7-4E2F-AE50-315978DF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52FE-B29A-4915-A1E1-D7326AC7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663C-D110-495A-9585-A1C28220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3C3B-8E51-46D1-A070-AF550B2A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9242-96F5-4A10-9930-1BC0F175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632-13DD-4021-A00A-EB3D277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E967-6CD4-46AA-91B6-E219B453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B210-1299-47D3-9BC3-D8D7312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481A-7D72-491F-880A-27BBBEE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B11-1B64-46EA-8125-D9B8B8F3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D715-F768-4D17-8779-AEFC9C51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4080-74BD-41CA-B9AD-99CA7EC8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A9E6-59A4-4B00-86FA-8C5677D1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B91F-06D1-4DA4-ACE9-E0301A2E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18E6-C726-440C-9957-296A0049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E541-208A-4DBB-9ED4-F0706007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F439-2CFD-4177-9E5F-FA3CF350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DB86-E827-4ECB-AE69-AB40662D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80FD-6BB1-4D2F-A792-46843ACB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ADF8-8D77-4D37-BEF4-8CD765F8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3F0A-5468-4781-B579-ADAC346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E2E9-4BE4-4034-92F9-79A2990D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2B1A-A859-492A-84AF-807DBEA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0DD7-B1D1-40E6-84B0-D51494652F22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D496-D3ED-46C2-BAE6-119E9D0C5A08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VREDNOVANJE I OCJENJIVANJA USMENIH PROVJERA ZN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Mr. sc. Ružica Vuk, a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Sveučilište u Zagre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Prirodoslovno-matematički fakul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GEOGRAFSKI ODSJ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560" y="457200"/>
            <a:ext cx="89298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metno-geografski položaj Hrvatske</a:t>
            </a:r>
            <a:br>
              <a:rPr sz="60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obrazovna postign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004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razložiti pojam tranzit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menovati i pokazati na geografskoj karti prometne pravce te odrediti koje dijelove Europe i države povezuju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suditi važnost hrvatskoga praga za prome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menovati najvažnije pomorske, riječne i zračne luke i pokazati ih na geografskoj karti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rediti prometni položaj zavičaja u Republici Hrvatsk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ličina, granice i oblik teritorija Hrvatske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obrazovna postign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 karti pokazati i opisati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ranicu Hrvatske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azlikovati dijelove obalnoga mora (unutrašnje i teritorijalno more) i epikontinentski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ojas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sporediti povr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u Hrvatske s drugim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državama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pisati oblik Hrvatske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abrojiti i pokazati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 karti 20 županija i Grad Zagr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rste znanja i razine kognitivnih proces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revidirana Bloomova taksonomija)</a:t>
            </a:r>
            <a:br>
              <a:rPr sz="3200"/>
            </a:br>
            <a:r>
              <a:rPr b="1" lang="hr-HR" sz="3200" spc="-1" strike="noStrike">
                <a:solidFill>
                  <a:srgbClr val="1818ff"/>
                </a:solidFill>
                <a:latin typeface="Arial"/>
              </a:rPr>
              <a:t>1. i 2. skupina – 1. tema</a:t>
            </a:r>
            <a:br>
              <a:rPr sz="3200"/>
            </a:br>
            <a:r>
              <a:rPr b="1" lang="hr-HR" sz="3200" spc="-1" strike="noStrike">
                <a:solidFill>
                  <a:srgbClr val="ffc000"/>
                </a:solidFill>
                <a:latin typeface="Arial"/>
              </a:rPr>
              <a:t>3. i 4. skupina – 2. tema</a:t>
            </a:r>
            <a:br>
              <a:rPr sz="3200"/>
            </a:br>
            <a:r>
              <a:rPr b="1" lang="hr-HR" sz="3200" spc="-1" strike="noStrike">
                <a:solidFill>
                  <a:srgbClr val="92d050"/>
                </a:solidFill>
                <a:latin typeface="Arial"/>
              </a:rPr>
              <a:t>5. i 6. skupina – 3.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760" y="3285720"/>
            <a:ext cx="8229600" cy="32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svako postignuće u tablici odredit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vrstu znan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razinu kognitivnih proces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oje se očekuje od učenika nakon obrade triju odabranih nastavnih tema (u tablicu upišite znak </a:t>
            </a:r>
            <a:r>
              <a:rPr b="0" lang="hr-HR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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hr-HR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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aliza rezultata rada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ste znanja i razine kognitivnih proc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8760" y="1643040"/>
          <a:ext cx="8229600" cy="4541760"/>
        </p:xfrm>
        <a:graphic>
          <a:graphicData uri="http://schemas.openxmlformats.org/drawingml/2006/table">
            <a:tbl>
              <a:tblPr/>
              <a:tblGrid>
                <a:gridCol w="3071520"/>
                <a:gridCol w="51580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RSTE ZNANJ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ZINE KOGNITIVNIH PROC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njenično zna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PAMĆEN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RAZUMIJEVA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ceptualno znan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 PRIMJENJIVA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. ANALIZIRA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alno zna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EVALUIRA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. KREIRA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itanja za usmenu provjeru zn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ma obrazovnim postignućima, formulirajte pitanja za usmenu provjeru znanja (podijelite uloge u skupinama) tako da pitanjima možete ispitati troje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mijenite vaše uratke sa susjednom skup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jerite proizlaze li pitanja iz obrazovnih postign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ocjenjivanja usmenih provjera zn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071440"/>
            <a:ext cx="822960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temelju formuliranih pitanja, odredite kriterije ocjenjivanja i upišite ih u tablicu za pojedine brojčane oc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oredite kriterije ocjenjivanja sa susjednom skup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818ff"/>
                </a:solidFill>
                <a:latin typeface="Arial"/>
              </a:rPr>
              <a:t>Imate li potrebu nešto korigirati u nastavnoj praksi u usmenoj provje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2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itanja za pisanu provjeru zn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ma obrazovnim postignućima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za sve tri tem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formulirajte pitanja za PISANU provjeru znanja (podijelite uloge u skupina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mijenite vaše uratke sa susjednom skup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jerite proizlaze li pitanja iz obrazovnih postignu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2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ocjenjivanja pisanih provjera zn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071440"/>
            <a:ext cx="822960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temelju formuliranih pitanja, odredite kriterije ocjenjivanja i upišite ih na poleđinu papira sa zada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oredite kriterije ocjenjivanja sa susjednom skup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818ff"/>
                </a:solidFill>
                <a:latin typeface="Arial"/>
              </a:rPr>
              <a:t>Imate li potrebu nešto korigirati u nastavnoj praksi u pisanoj provje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rednovanje i ocjenjivanje zadataka za provjeru razvijenosti geografskih vješ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je vještine razvijamo u tri odabrane nastavne t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jim biste oblicima provjeravali razvijenost tih vješt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kupine 1 i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004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adite zadatak za izradu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profila kroz hrvatski p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zadatak mora biti uputa za rješ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adite ključ za odgovore i razradite sustav bod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e kriterije vrednovanja i ocjenjivanja praktičnog rada – izrada prof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329"/>
          <p:cNvSpPr/>
          <p:nvPr/>
        </p:nvSpPr>
        <p:spPr>
          <a:xfrm>
            <a:off x="-612720" y="1125360"/>
            <a:ext cx="961236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1"/>
          <p:cNvSpPr/>
          <p:nvPr/>
        </p:nvSpPr>
        <p:spPr>
          <a:xfrm>
            <a:off x="826920" y="41004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7d"/>
                </a:solidFill>
                <a:latin typeface="Arial"/>
                <a:ea typeface="Times New Roman"/>
              </a:rPr>
              <a:t>Nastava je jedinstven odgojno-obrazovni proces koji se odvija u 3 et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6"/>
          <p:cNvSpPr/>
          <p:nvPr/>
        </p:nvSpPr>
        <p:spPr>
          <a:xfrm>
            <a:off x="573120" y="1268280"/>
            <a:ext cx="8570880" cy="378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7"/>
          <p:cNvSpPr/>
          <p:nvPr/>
        </p:nvSpPr>
        <p:spPr>
          <a:xfrm>
            <a:off x="3146400" y="1549440"/>
            <a:ext cx="1536840" cy="592200"/>
          </a:xfrm>
          <a:prstGeom prst="rect">
            <a:avLst/>
          </a:prstGeom>
          <a:solidFill>
            <a:srgbClr val="cccce6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2. OSTVARIV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8"/>
          <p:cNvSpPr/>
          <p:nvPr/>
        </p:nvSpPr>
        <p:spPr>
          <a:xfrm>
            <a:off x="5011560" y="1571760"/>
            <a:ext cx="1989360" cy="569880"/>
          </a:xfrm>
          <a:prstGeom prst="rect">
            <a:avLst/>
          </a:prstGeom>
          <a:solidFill>
            <a:srgbClr val="cccce6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3.  PRAĆENJ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VRJEDN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9"/>
          <p:cNvSpPr/>
          <p:nvPr/>
        </p:nvSpPr>
        <p:spPr>
          <a:xfrm>
            <a:off x="1062000" y="1549440"/>
            <a:ext cx="1863720" cy="574560"/>
          </a:xfrm>
          <a:prstGeom prst="rect">
            <a:avLst/>
          </a:prstGeom>
          <a:solidFill>
            <a:srgbClr val="cccce6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1. PLANIRANJE I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PROGRAMIR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60"/>
          <p:cNvSpPr/>
          <p:nvPr/>
        </p:nvSpPr>
        <p:spPr>
          <a:xfrm>
            <a:off x="1352520" y="2597040"/>
            <a:ext cx="1425600" cy="200988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K                             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R                            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1"/>
          <p:cNvSpPr/>
          <p:nvPr/>
        </p:nvSpPr>
        <p:spPr>
          <a:xfrm>
            <a:off x="1611360" y="2849400"/>
            <a:ext cx="434880" cy="1417680"/>
          </a:xfrm>
          <a:prstGeom prst="rect">
            <a:avLst/>
          </a:prstGeom>
          <a:solidFill>
            <a:srgbClr val="cccce6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2"/>
          <p:cNvSpPr/>
          <p:nvPr/>
        </p:nvSpPr>
        <p:spPr>
          <a:xfrm>
            <a:off x="2049480" y="2141640"/>
            <a:ext cx="1440" cy="588960"/>
          </a:xfrm>
          <a:prstGeom prst="line">
            <a:avLst/>
          </a:prstGeom>
          <a:ln w="284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3"/>
          <p:cNvSpPr/>
          <p:nvPr/>
        </p:nvSpPr>
        <p:spPr>
          <a:xfrm>
            <a:off x="2916360" y="2637000"/>
            <a:ext cx="3730680" cy="144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4"/>
          <p:cNvSpPr/>
          <p:nvPr/>
        </p:nvSpPr>
        <p:spPr>
          <a:xfrm>
            <a:off x="2925720" y="4622760"/>
            <a:ext cx="3951360" cy="180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65"/>
          <p:cNvSpPr/>
          <p:nvPr/>
        </p:nvSpPr>
        <p:spPr>
          <a:xfrm flipV="1">
            <a:off x="6877080" y="3557160"/>
            <a:ext cx="547560" cy="106380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6"/>
          <p:cNvSpPr/>
          <p:nvPr/>
        </p:nvSpPr>
        <p:spPr>
          <a:xfrm>
            <a:off x="3805200" y="2141640"/>
            <a:ext cx="1800" cy="585720"/>
          </a:xfrm>
          <a:prstGeom prst="line">
            <a:avLst/>
          </a:prstGeom>
          <a:ln w="284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7"/>
          <p:cNvSpPr/>
          <p:nvPr/>
        </p:nvSpPr>
        <p:spPr>
          <a:xfrm flipH="1">
            <a:off x="2708280" y="2021040"/>
            <a:ext cx="2960640" cy="118260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8"/>
          <p:cNvSpPr/>
          <p:nvPr/>
        </p:nvSpPr>
        <p:spPr>
          <a:xfrm>
            <a:off x="6108840" y="2021040"/>
            <a:ext cx="1440" cy="1301760"/>
          </a:xfrm>
          <a:prstGeom prst="line">
            <a:avLst/>
          </a:prstGeom>
          <a:ln w="28440">
            <a:solidFill>
              <a:srgbClr val="00007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9"/>
          <p:cNvSpPr/>
          <p:nvPr/>
        </p:nvSpPr>
        <p:spPr>
          <a:xfrm>
            <a:off x="2925720" y="2849400"/>
            <a:ext cx="4610160" cy="1800"/>
          </a:xfrm>
          <a:prstGeom prst="line">
            <a:avLst/>
          </a:prstGeom>
          <a:ln w="28440">
            <a:solidFill>
              <a:srgbClr val="00007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0"/>
          <p:cNvSpPr/>
          <p:nvPr/>
        </p:nvSpPr>
        <p:spPr>
          <a:xfrm flipV="1">
            <a:off x="2925720" y="3203640"/>
            <a:ext cx="4608720" cy="144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1"/>
          <p:cNvSpPr/>
          <p:nvPr/>
        </p:nvSpPr>
        <p:spPr>
          <a:xfrm>
            <a:off x="2925720" y="3557520"/>
            <a:ext cx="4608720" cy="180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2"/>
          <p:cNvSpPr/>
          <p:nvPr/>
        </p:nvSpPr>
        <p:spPr>
          <a:xfrm>
            <a:off x="2925720" y="4032360"/>
            <a:ext cx="4608720" cy="144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3"/>
          <p:cNvSpPr/>
          <p:nvPr/>
        </p:nvSpPr>
        <p:spPr>
          <a:xfrm>
            <a:off x="2925720" y="4387680"/>
            <a:ext cx="4606920" cy="180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74"/>
          <p:cNvSpPr/>
          <p:nvPr/>
        </p:nvSpPr>
        <p:spPr>
          <a:xfrm>
            <a:off x="7643880" y="2849400"/>
            <a:ext cx="220680" cy="1159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75"/>
          <p:cNvSpPr/>
          <p:nvPr/>
        </p:nvSpPr>
        <p:spPr>
          <a:xfrm>
            <a:off x="7643880" y="3203640"/>
            <a:ext cx="220680" cy="1173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76"/>
          <p:cNvSpPr/>
          <p:nvPr/>
        </p:nvSpPr>
        <p:spPr>
          <a:xfrm>
            <a:off x="7643880" y="3440160"/>
            <a:ext cx="220680" cy="1173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77"/>
          <p:cNvSpPr/>
          <p:nvPr/>
        </p:nvSpPr>
        <p:spPr>
          <a:xfrm>
            <a:off x="7643880" y="3676680"/>
            <a:ext cx="220680" cy="1159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8"/>
          <p:cNvSpPr/>
          <p:nvPr/>
        </p:nvSpPr>
        <p:spPr>
          <a:xfrm>
            <a:off x="7643880" y="4267080"/>
            <a:ext cx="220680" cy="1191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9"/>
          <p:cNvSpPr/>
          <p:nvPr/>
        </p:nvSpPr>
        <p:spPr>
          <a:xfrm>
            <a:off x="7643880" y="4503600"/>
            <a:ext cx="220680" cy="1191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0"/>
          <p:cNvSpPr/>
          <p:nvPr/>
        </p:nvSpPr>
        <p:spPr>
          <a:xfrm>
            <a:off x="7643880" y="2612880"/>
            <a:ext cx="220680" cy="117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81"/>
          <p:cNvSpPr/>
          <p:nvPr/>
        </p:nvSpPr>
        <p:spPr>
          <a:xfrm>
            <a:off x="7643880" y="3911760"/>
            <a:ext cx="220680" cy="12204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82"/>
          <p:cNvSpPr/>
          <p:nvPr/>
        </p:nvSpPr>
        <p:spPr>
          <a:xfrm>
            <a:off x="7927920" y="2468520"/>
            <a:ext cx="1098720" cy="23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7d"/>
                </a:solidFill>
                <a:latin typeface="Arial"/>
              </a:rPr>
              <a:t>zn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7d"/>
                </a:solidFill>
                <a:latin typeface="Arial"/>
              </a:rPr>
              <a:t>vješt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7d"/>
                </a:solidFill>
                <a:latin typeface="Arial"/>
              </a:rPr>
              <a:t>navi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7d"/>
                </a:solidFill>
                <a:latin typeface="Arial"/>
              </a:rPr>
              <a:t>razvoj sposob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7d"/>
                </a:solidFill>
                <a:latin typeface="Arial"/>
              </a:rPr>
              <a:t>sustav vrijed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3"/>
          <p:cNvSpPr/>
          <p:nvPr/>
        </p:nvSpPr>
        <p:spPr>
          <a:xfrm>
            <a:off x="324000" y="2468520"/>
            <a:ext cx="988920" cy="351000"/>
          </a:xfrm>
          <a:prstGeom prst="rect">
            <a:avLst/>
          </a:prstGeom>
          <a:solidFill>
            <a:srgbClr val="cccce6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UČITE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4"/>
          <p:cNvSpPr/>
          <p:nvPr/>
        </p:nvSpPr>
        <p:spPr>
          <a:xfrm>
            <a:off x="324000" y="4475160"/>
            <a:ext cx="877680" cy="355680"/>
          </a:xfrm>
          <a:prstGeom prst="rect">
            <a:avLst/>
          </a:prstGeom>
          <a:solidFill>
            <a:srgbClr val="cccce6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UČE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5"/>
          <p:cNvSpPr/>
          <p:nvPr/>
        </p:nvSpPr>
        <p:spPr>
          <a:xfrm>
            <a:off x="395280" y="2924280"/>
            <a:ext cx="1440" cy="1535040"/>
          </a:xfrm>
          <a:prstGeom prst="line">
            <a:avLst/>
          </a:prstGeom>
          <a:ln w="284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6"/>
          <p:cNvSpPr/>
          <p:nvPr/>
        </p:nvSpPr>
        <p:spPr>
          <a:xfrm flipV="1">
            <a:off x="501480" y="3873600"/>
            <a:ext cx="878040" cy="590400"/>
          </a:xfrm>
          <a:prstGeom prst="line">
            <a:avLst/>
          </a:prstGeom>
          <a:ln w="284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7"/>
          <p:cNvSpPr/>
          <p:nvPr/>
        </p:nvSpPr>
        <p:spPr>
          <a:xfrm>
            <a:off x="501480" y="2936880"/>
            <a:ext cx="878040" cy="708120"/>
          </a:xfrm>
          <a:prstGeom prst="line">
            <a:avLst/>
          </a:prstGeom>
          <a:ln w="284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88"/>
          <p:cNvSpPr/>
          <p:nvPr/>
        </p:nvSpPr>
        <p:spPr>
          <a:xfrm flipV="1">
            <a:off x="2050920" y="4365360"/>
            <a:ext cx="1800" cy="53820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9"/>
          <p:cNvSpPr/>
          <p:nvPr/>
        </p:nvSpPr>
        <p:spPr>
          <a:xfrm flipV="1">
            <a:off x="4024440" y="4149720"/>
            <a:ext cx="1440" cy="70632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0"/>
          <p:cNvSpPr/>
          <p:nvPr/>
        </p:nvSpPr>
        <p:spPr>
          <a:xfrm flipH="1" flipV="1">
            <a:off x="6217920" y="4149720"/>
            <a:ext cx="717480" cy="77616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1"/>
          <p:cNvSpPr/>
          <p:nvPr/>
        </p:nvSpPr>
        <p:spPr>
          <a:xfrm>
            <a:off x="6656400" y="2612880"/>
            <a:ext cx="768240" cy="94464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92"/>
          <p:cNvSpPr/>
          <p:nvPr/>
        </p:nvSpPr>
        <p:spPr>
          <a:xfrm flipH="1">
            <a:off x="4858920" y="2060640"/>
            <a:ext cx="1025640" cy="1297080"/>
          </a:xfrm>
          <a:prstGeom prst="line">
            <a:avLst/>
          </a:prstGeom>
          <a:ln cap="rnd" w="2844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37"/>
          <p:cNvGrpSpPr/>
          <p:nvPr/>
        </p:nvGrpSpPr>
        <p:grpSpPr>
          <a:xfrm>
            <a:off x="250920" y="5013360"/>
            <a:ext cx="8642160" cy="1704960"/>
            <a:chOff x="250920" y="5013360"/>
            <a:chExt cx="8642160" cy="1704960"/>
          </a:xfrm>
        </p:grpSpPr>
        <p:sp>
          <p:nvSpPr>
            <p:cNvPr id="155" name="Rectangle 359"/>
            <p:cNvSpPr/>
            <p:nvPr/>
          </p:nvSpPr>
          <p:spPr>
            <a:xfrm>
              <a:off x="6732720" y="5530680"/>
              <a:ext cx="2160360" cy="1187640"/>
            </a:xfrm>
            <a:prstGeom prst="rect">
              <a:avLst/>
            </a:prstGeom>
            <a:noFill/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. Što mjerimo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 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znanje, vještine, …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. Kako mjerimo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a) opisno     b) brojč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c) ocjenjivačka rešet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8"/>
            <p:cNvSpPr/>
            <p:nvPr/>
          </p:nvSpPr>
          <p:spPr>
            <a:xfrm>
              <a:off x="6516720" y="5530680"/>
              <a:ext cx="21600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57"/>
            <p:cNvSpPr/>
            <p:nvPr/>
          </p:nvSpPr>
          <p:spPr>
            <a:xfrm>
              <a:off x="3059280" y="5530680"/>
              <a:ext cx="3457440" cy="1187640"/>
            </a:xfrm>
            <a:prstGeom prst="rect">
              <a:avLst/>
            </a:prstGeom>
            <a:noFill/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Nastavna strategije (subjekti u nastav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Nastavna tehnolo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Didaktičke strane nastav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 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spoznajna, psihološka, metodička, sociološk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Nastavni sustavi (tradicionalni suvremen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Nastavni mode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5"/>
            <p:cNvSpPr/>
            <p:nvPr/>
          </p:nvSpPr>
          <p:spPr>
            <a:xfrm>
              <a:off x="1692360" y="5530680"/>
              <a:ext cx="1079280" cy="1187640"/>
            </a:xfrm>
            <a:prstGeom prst="rect">
              <a:avLst/>
            </a:prstGeom>
            <a:noFill/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lphaLcParenR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global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lphaLcParenR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izvedbe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4"/>
            <p:cNvSpPr/>
            <p:nvPr/>
          </p:nvSpPr>
          <p:spPr>
            <a:xfrm>
              <a:off x="1476360" y="5530680"/>
              <a:ext cx="216000" cy="1187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53"/>
            <p:cNvSpPr/>
            <p:nvPr/>
          </p:nvSpPr>
          <p:spPr>
            <a:xfrm>
              <a:off x="250920" y="5530680"/>
              <a:ext cx="1225440" cy="1187640"/>
            </a:xfrm>
            <a:prstGeom prst="rect">
              <a:avLst/>
            </a:prstGeom>
            <a:noFill/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lphaLcParenR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uče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lphaLcParenR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poučava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lphaLcParenR"/>
                <a:tabLst>
                  <a:tab algn="l" pos="230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priprema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52"/>
            <p:cNvSpPr/>
            <p:nvPr/>
          </p:nvSpPr>
          <p:spPr>
            <a:xfrm>
              <a:off x="6732720" y="5013360"/>
              <a:ext cx="2160360" cy="5173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PRAĆENJE I OCJENJIVANJ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51"/>
            <p:cNvSpPr/>
            <p:nvPr/>
          </p:nvSpPr>
          <p:spPr>
            <a:xfrm>
              <a:off x="6516720" y="5013360"/>
              <a:ext cx="216000" cy="51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0"/>
            <p:cNvSpPr/>
            <p:nvPr/>
          </p:nvSpPr>
          <p:spPr>
            <a:xfrm>
              <a:off x="3059280" y="5013360"/>
              <a:ext cx="3457440" cy="517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ZNAČAJNE ODREDNICE NASTAV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48"/>
            <p:cNvSpPr/>
            <p:nvPr/>
          </p:nvSpPr>
          <p:spPr>
            <a:xfrm>
              <a:off x="1692360" y="5013360"/>
              <a:ext cx="1079280" cy="51732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PLANOV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47"/>
            <p:cNvSpPr/>
            <p:nvPr/>
          </p:nvSpPr>
          <p:spPr>
            <a:xfrm>
              <a:off x="1476360" y="5013360"/>
              <a:ext cx="216000" cy="51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46"/>
            <p:cNvSpPr/>
            <p:nvPr/>
          </p:nvSpPr>
          <p:spPr>
            <a:xfrm>
              <a:off x="250920" y="5013360"/>
              <a:ext cx="1225440" cy="517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PROCES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60"/>
            <p:cNvSpPr/>
            <p:nvPr/>
          </p:nvSpPr>
          <p:spPr>
            <a:xfrm>
              <a:off x="250920" y="5013360"/>
              <a:ext cx="122544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61"/>
            <p:cNvSpPr/>
            <p:nvPr/>
          </p:nvSpPr>
          <p:spPr>
            <a:xfrm>
              <a:off x="250920" y="6718320"/>
              <a:ext cx="122544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62"/>
            <p:cNvSpPr/>
            <p:nvPr/>
          </p:nvSpPr>
          <p:spPr>
            <a:xfrm>
              <a:off x="25092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63"/>
            <p:cNvSpPr/>
            <p:nvPr/>
          </p:nvSpPr>
          <p:spPr>
            <a:xfrm>
              <a:off x="889308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65"/>
            <p:cNvSpPr/>
            <p:nvPr/>
          </p:nvSpPr>
          <p:spPr>
            <a:xfrm>
              <a:off x="1476360" y="5013360"/>
              <a:ext cx="216000" cy="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66"/>
            <p:cNvSpPr/>
            <p:nvPr/>
          </p:nvSpPr>
          <p:spPr>
            <a:xfrm>
              <a:off x="250920" y="5530680"/>
              <a:ext cx="122544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68"/>
            <p:cNvSpPr/>
            <p:nvPr/>
          </p:nvSpPr>
          <p:spPr>
            <a:xfrm>
              <a:off x="147636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69"/>
            <p:cNvSpPr/>
            <p:nvPr/>
          </p:nvSpPr>
          <p:spPr>
            <a:xfrm>
              <a:off x="1692360" y="5013360"/>
              <a:ext cx="107928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70"/>
            <p:cNvSpPr/>
            <p:nvPr/>
          </p:nvSpPr>
          <p:spPr>
            <a:xfrm>
              <a:off x="1476360" y="5516640"/>
              <a:ext cx="7416720" cy="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71"/>
            <p:cNvSpPr/>
            <p:nvPr/>
          </p:nvSpPr>
          <p:spPr>
            <a:xfrm>
              <a:off x="169236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2"/>
            <p:cNvSpPr/>
            <p:nvPr/>
          </p:nvSpPr>
          <p:spPr>
            <a:xfrm>
              <a:off x="2771640" y="5013360"/>
              <a:ext cx="287640" cy="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74"/>
            <p:cNvSpPr/>
            <p:nvPr/>
          </p:nvSpPr>
          <p:spPr>
            <a:xfrm>
              <a:off x="277164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5"/>
            <p:cNvSpPr/>
            <p:nvPr/>
          </p:nvSpPr>
          <p:spPr>
            <a:xfrm>
              <a:off x="3059280" y="5013360"/>
              <a:ext cx="345744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77"/>
            <p:cNvSpPr/>
            <p:nvPr/>
          </p:nvSpPr>
          <p:spPr>
            <a:xfrm>
              <a:off x="305928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78"/>
            <p:cNvSpPr/>
            <p:nvPr/>
          </p:nvSpPr>
          <p:spPr>
            <a:xfrm>
              <a:off x="6516720" y="5013360"/>
              <a:ext cx="216000" cy="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80"/>
            <p:cNvSpPr/>
            <p:nvPr/>
          </p:nvSpPr>
          <p:spPr>
            <a:xfrm>
              <a:off x="651672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81"/>
            <p:cNvSpPr/>
            <p:nvPr/>
          </p:nvSpPr>
          <p:spPr>
            <a:xfrm>
              <a:off x="6732720" y="5013360"/>
              <a:ext cx="216036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3"/>
            <p:cNvSpPr/>
            <p:nvPr/>
          </p:nvSpPr>
          <p:spPr>
            <a:xfrm>
              <a:off x="6732720" y="5013360"/>
              <a:ext cx="0" cy="170496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86"/>
            <p:cNvSpPr/>
            <p:nvPr/>
          </p:nvSpPr>
          <p:spPr>
            <a:xfrm>
              <a:off x="1476360" y="6718320"/>
              <a:ext cx="216000" cy="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89"/>
            <p:cNvSpPr/>
            <p:nvPr/>
          </p:nvSpPr>
          <p:spPr>
            <a:xfrm>
              <a:off x="1692360" y="6718320"/>
              <a:ext cx="107928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94"/>
            <p:cNvSpPr/>
            <p:nvPr/>
          </p:nvSpPr>
          <p:spPr>
            <a:xfrm>
              <a:off x="2771640" y="6718320"/>
              <a:ext cx="287640" cy="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99"/>
            <p:cNvSpPr/>
            <p:nvPr/>
          </p:nvSpPr>
          <p:spPr>
            <a:xfrm>
              <a:off x="3059280" y="6718320"/>
              <a:ext cx="345744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404"/>
            <p:cNvSpPr/>
            <p:nvPr/>
          </p:nvSpPr>
          <p:spPr>
            <a:xfrm>
              <a:off x="6516720" y="6718320"/>
              <a:ext cx="216000" cy="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09"/>
            <p:cNvSpPr/>
            <p:nvPr/>
          </p:nvSpPr>
          <p:spPr>
            <a:xfrm>
              <a:off x="6732720" y="6718320"/>
              <a:ext cx="2160360" cy="0"/>
            </a:xfrm>
            <a:prstGeom prst="line">
              <a:avLst/>
            </a:prstGeom>
            <a:ln cap="rnd"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kupine 3 i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004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adite zadatak za izradu tematske karte (kartograma) –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prometni pravci, pomorske, zračne i riječne luke u Hrvatsk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zadatak mora biti uputa za rješ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adite ključ za odgovore i razradite sustav bod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e kriterije vrednovanja i ocjenjivanja praktičnog rada – izrada kartograma (tematske ka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kupine 5 i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4997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adite zadatak za izradu powerpoint prezentacije: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utjecaj kulturno-civilizacijskih krugova na Hrvat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zadatak mora biti uputa za iz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e indikatore i kriterije vrednovanja i ocjenjivanja praktičnog rada – izrada prez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RADA SKUP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entacija skupine 1 i usporedba sa skupino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entacija skupine 3 i usporedba sa skupino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entacija skupine 5 i usporedba sa skupino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Vrednovanje današnjega stručnog sk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akcije na postavljene zada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deje (verifikacija; kreac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alizacija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radnja u skupi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cijsko istraživa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2857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hvaljujem za pozornost i surad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lementi vrednovanja i ocjenjivanja – rad u skupin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981080"/>
            <a:ext cx="8543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DVOJITE ELEMENTE VREDNOVANJA I OCJENJIVANJA U NASTAVI GEOGRAFIJE I UPIŠITE IH U PRVI STUPAC TAB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DRUGI STUPAC UZ SVAKI ELEMENT UPIŠITE ODGOVARAJUĆI OPIS            (što vrednujete i ocjenjujete pojedinim element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" dur="1" fill="hold"/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Arial"/>
              </a:rPr>
              <a:t>Elementi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vrednovanja i ocjenjivanja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- rezultati rada u skupin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4200" y="1980720"/>
            <a:ext cx="878688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OREDBA REZULTATA RADA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HERENTNOST TEORIJE I PRAKSE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920" y="457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blici i indikatori vrednovanja i ocjenjivanja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 rad u skupi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981080"/>
            <a:ext cx="84726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TREĆI STUPAC ZA SVAKI ELEMENT UPIŠITE OBLIK/NAČIN VREDNOVANJA I OCJENJ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ČETVRTI STUPAC ZA SVAKI ELEMENT UPIŠITE INDIKATORE VREDNOVANJA I OCJENJ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e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4200" y="457200"/>
            <a:ext cx="87868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818ff"/>
                </a:solidFill>
                <a:latin typeface="Arial"/>
              </a:rPr>
              <a:t>Oblici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indikatori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vrednovanja i ocjenjivanja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- rezultati rada u skupin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1980720"/>
            <a:ext cx="878688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OREDBA REZULTATA RADA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HERENTNOST TEORIJE I PRAKSE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jedničke teme u svim ciklusima obrazo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rvatska - srednjoeuropska i sredozemna zem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metno-geografski položaj Hrvats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ličina, granice i oblik teritorija Hrvats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ljučni pojm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980720"/>
            <a:ext cx="847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rednjoeuropska i sredozemna zemlja, državnost, kulturno-civilizacijski krug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anzitni položaj Hrvatske – prometni pravci, hrvatski prag, prometna infra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granice na kopnu i moru, veličin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ritorija, hrvatska pot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Hrvatska - srednjoeuropska i sredozemna zemlja</a:t>
            </a:r>
            <a:br>
              <a:rPr sz="60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</a:rPr>
              <a:t>obrazovna postignuć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357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i geografski smještaj i položaj Hrvatske na geografskoj karti Eur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razložiti i pokazati na geografskoj karti zašto j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srednjoeuropska i sredozemna država te utjecaj kulturno-civilizacijskih krugov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ovati pojmove: državnost, suverenitet, međunarodno prizn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9:51:19Z</dcterms:created>
  <dc:creator>vmatas</dc:creator>
  <dc:description/>
  <dc:language>en-US</dc:language>
  <cp:lastModifiedBy>aaa</cp:lastModifiedBy>
  <dcterms:modified xsi:type="dcterms:W3CDTF">2011-06-28T01:47:25Z</dcterms:modified>
  <cp:revision>67</cp:revision>
  <dc:subject/>
  <dc:title>UVID U NASTAVU</dc:title>
</cp:coreProperties>
</file>