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912-D0D1-43BC-BF7A-AFED02A1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443F-1F04-45BB-A9F0-DA636BCB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304-64AD-4A02-9E2C-5A49C6CE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349-CB18-4297-AD66-3FBC68B2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0B4D-01CF-43F4-BCBA-A39BBCF4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D494-4BA2-4E6F-B0B5-A7E91432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8382-A06A-41DB-9151-5ACC0883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0C82-6AA8-4B60-94DA-94BEBE6B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0E5D-1899-4D00-9AF9-B6BF16D0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E437-06F5-4CD1-8145-FA5CE5C9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BC10-1396-43EB-A29A-7B66BD14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798-02FB-4AE0-B4C0-24E27CA9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A333-6E56-46D6-9089-CDC6FDE4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215F-9C97-4DE3-8D86-F8AF7F58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5087-47DB-40F1-ABED-16BA022C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0E98-1165-47C7-B45A-A5EE4556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F0E5-F8C6-42C1-813B-210376F0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B80-7B5E-4CBE-AD41-53109D73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FFE6-1871-4AE1-A3C1-0E3DC8B9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581-45E4-439E-8DBA-2A66A134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640D-3631-48FE-B840-2E30C165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7D55-02E9-42D8-9250-7D006517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BD94-BBC8-48C7-8423-C02737A9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88F-A45D-4EC0-A8AF-9E922426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C071-C126-4E08-AFCB-CCF9645FEA7F}" type="slidenum">
              <a:rPr b="1" lang="hr-H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20E4-778C-4C1E-93EA-2A191D486986}" type="slidenum">
              <a:rPr b="1" lang="hr-H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70920" y="1556640"/>
            <a:ext cx="73418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Arial"/>
              </a:rPr>
              <a:t>Ljudska prava, dostojanstvo, slobode i odgovornost</a:t>
            </a:r>
            <a:br>
              <a:rPr sz="3200"/>
            </a:br>
            <a:r>
              <a:rPr b="1" lang="hr-HR" sz="3200" spc="-1" strike="noStrike">
                <a:solidFill>
                  <a:srgbClr val="003366"/>
                </a:solidFill>
                <a:latin typeface="Arial"/>
              </a:rPr>
              <a:t> u sklopu razreda i ško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66"/>
                </a:solidFill>
                <a:latin typeface="Arial"/>
              </a:rPr>
              <a:t>mr.sc. Sanja Jelić, dipl.soc.pedagog - defektolo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Ško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spremnost da se zaštiti pravo drugo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povezan s osposobljavanjem učenika da toleriraju druge u njihovu drukčijem načinu život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povezano s ciljevima odgojno obrazovnih proce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Ciljevi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razvijati osjećaj za vlastito samopoštovanje i poštivanje drugi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razvijati stavove i ponašanje vezane uz osobnu odgovornost prema sebi i drugi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poštovanje i razumijevanje i uvažavanje kulture različitost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ŠTO SMO HTJEL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Da svi budu sret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Da djeca odrastaju u sretnim obitelji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Da svi mladi budu obrazovani, dobri ljudi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Da svi ljudi budu braća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ŠTO SMO ČINIL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Uveli smo puuuno stručnjaka da nam pomognu u odgoju djece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Natovarili im školske torbe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Donijeli puno zakona, dopuna zakona, dopuna dopunama zakona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Napisali puno nacionalnih strategija za borbu protiv...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40720" y="62136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Ima li nade za nas?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Im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Nije sve tako crn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Važno je razumjet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Ne odustat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Ne gubiti vjer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Kako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Arial"/>
              </a:rPr>
              <a:t>Sloboda:  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uključuje mogućnost biranj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što čovjek više čini dobro, to je slobodniji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ava je sloboda u služenju dobru i pravednost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čini čovjeka odgovornim za vlastite postupk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vježba se u međuljudskim odnosim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vaka ljudska osoba ima naravno pravo biti od drugih priznata slobodnim i odgovornim biće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avo na slobodu djelovanja neodvojivo od dostojanstva ljudske osob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Gdje smo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Sve velike priče o slobodi, dostojanstvu, odgovornosti svode se na pojedinca i njegovo djelovan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Cilj: priča o kočiji (putnik – pojedinac, kočijaš – inteligencija, uzde – razum, 5 konja – naša osjetila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ako pomoću odgoja i obrazovanja možemo razvijati vlastitu inteligenciju kontrolirati naša razmišljanja,shvaćan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Gdje smo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ako jačati osobne kapacite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ako kontrolirati svoja osjetila koja nas stalno udaljavaju od nas samih prema izvanjsk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Tek kad naučimo više o sebi, svojim mogućnostima, kad su nam jasnije naše želje i htijenja možemo govoriti o slobodi. Samo slobodan čovjek ima izb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Gdje smo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Nerijetko na planu pojedinca i njegovih kapaciteta i vještina padamo – jer smo više orijentirati na izvanjsko i gomilu informacija o svijetu, a vrlo malo ili ništa na razvoj osobnih vještina i kapaciteta, dakle na sebe sa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A kako naša osjetila idu samo u izvanjsko, prema van, slabije ili nikako ne učimo o tome kako biti svoj gospod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Što možemo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Priča o vuk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Arial"/>
              </a:rPr>
              <a:t>Dobar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: ljubav, poštovanje, briga, razumijevanje, potpora, tolerancija, opraštanje, strpljenje, radost, energija, smijeh (ali i suze), iskrenost, istina, pravednost, nada, autoritet, smisao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naše vrijeme, znanje, vještine, iskustvo.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Ljudska prav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i="1" lang="hr-HR" sz="2800" spc="-1" strike="noStrike">
                <a:solidFill>
                  <a:srgbClr val="003366"/>
                </a:solidFill>
                <a:latin typeface="Arial"/>
              </a:rPr>
              <a:t>Svi ljudi rođeni su slobodni, s jednakim dostojanstvom i pravima“</a:t>
            </a:r>
            <a:r>
              <a:rPr b="1" lang="hr-HR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početak</a:t>
            </a:r>
            <a:r>
              <a:rPr b="1" lang="hr-H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Opće deklaracije o ljudskim pravima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To znači da svi mi, od trenutka rođenja posjedujemo određena prava koja nazivamo </a:t>
            </a:r>
            <a:r>
              <a:rPr b="1" lang="hr-HR" sz="2800" spc="-1" strike="noStrike">
                <a:solidFill>
                  <a:srgbClr val="003366"/>
                </a:solidFill>
                <a:latin typeface="Arial"/>
              </a:rPr>
              <a:t>ljudskim pravima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. /zajamčena svakom čovjeku na temelju njegova postojanja kao čovjeka i ona su neotuđiva - nikome ne mogu biti oduzeta/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Što možemo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Arial"/>
              </a:rPr>
              <a:t>Loš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: Nemir, svađe, nestrpljivost, netolerancija, nerazumijevanje, grubost, laž, nepravda, bol, strahovi,nepoštivanje, nebriga,naš gubitak smisla u životu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nemamo vremena, sve drugo je važnij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neznanje, loša iskust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ne postojimo u njihovom život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Umjesto zaključ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pobjeđuje onaj kojeg mi sami hrani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odgoj je davan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da bi davali nešto, to moramo ima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dajemo samo ono što imamo i ako to želimo i znamo dati drug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Umjesto zaključ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o tome </a:t>
            </a: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</a:rPr>
              <a:t>kako djeca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doživljavaju to što im dajemo ovisi kvaliteta ODNO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akav je odnos odgajatelj-dijete. Taj se odnos mora uspostaviti, njegovati, održavati – </a:t>
            </a: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</a:rPr>
              <a:t>ljubav i sigurnost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odnos mora biti ugodan jer je za dijete jako važ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Umjesto zaključ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odgajatelj mora biti pogodan objekt za identifikaciju, vrijedan svakog poštov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roz takav odnos u dijete je moguće “usaditi” granice: što smije a što ne smije i prenositi bez otpora znanje i iskustv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zadovoljava osnovne potrebe djeteta: ljubav, moć, zabava i sloboda, pozitivan odnos s učiteljem, nastavnikom, razrednikom....je izuzetno važan!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vu nezrelost koju nosi iz obitelji dijete produbljuje (ili pozitivno mijenja) u škol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Umjesto zaključ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znanja, vještine, vrijednosti, stavovi i ponašanje na razini 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cilj: učiti i poticati dijete da </a:t>
            </a: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</a:rPr>
              <a:t>preuzima odgovornost za sebe i svoj život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, a ne da krivca za svoje nevolje uglavnom traži izvan se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Umjesto zaključ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prihvaćanje vlastite odgovornosti za probleme, poboljšanje razumijevanja problema, usvajanje novih postupaka djelovan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iskustva koja će voditi razumijevanju sebe, prihvaćanju sebe u odnosu s drugima, razumijevanju i prihvaćanju drugih, te isprobavanju, pronalaženju i usvajanju socijalno prihvatljivih ponašan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6600"/>
                </a:solidFill>
                <a:latin typeface="Arial"/>
              </a:rPr>
              <a:t>Uloga učitelja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usmjerava i koordini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olakšava grupne procese, mora biti zastupnik, posrednik, predstavnik i poučavatelj svi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vodi brigu za socio-emocionalne potrebe svi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00"/>
                </a:solidFill>
                <a:latin typeface="Arial"/>
              </a:rPr>
              <a:t>Što to znač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u komunikacijskom smislu – uvođenje tehnike pozitivnog feedbac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rješavanje konflikata bez “poraženih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omogućava razumijevanje onoga što se zbiva, sprječava eventualne nejasnoće ili nesporazu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ntervenira u cilju smanjenja napetosti, često tu pomaže koristiti se humor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održava i prihvaća svakog člana u grup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00"/>
                </a:solidFill>
                <a:latin typeface="Arial"/>
              </a:rPr>
              <a:t>Način komunikaci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aktivno slušanje –dijete zna da ga se čuje, vidi, da mu se vjeruje i želi pomoći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način govorenja – poticanje korištenje JA poruka gdje djeca iznose vlastita razmišljanja i stavove, direktno obraćanje međusobno, povratne informacije: opisne, konkretne, konstruktivne, odmjerene, upotrebljive, pravodobne, provjerlj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opažanje – verbalna i neverbalna komunikac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uporaba pitanja kako i što, a manje zaš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00"/>
                </a:solidFill>
                <a:latin typeface="Arial"/>
              </a:rPr>
              <a:t>Što kada dođe do sukoba u grup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ukob sam po sebi nije ni dobar ni loš, loš može biti samo način na koji se on riješ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mora se s njim suočiti i riješiti djelotvor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ntervencija takva da se njome potiče i olakšava grupna interakcija, nastojati da ne bude pobjednika i gubitn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objasniti zašto je do sukoba došlo i kako može djelovati na grupu (održava dobar odnos članov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uspostavljati djelotvornu komunikaciju, uče se vještine korisne za druge životne situac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Ljudska prav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vi smo rođeni slobodni i jednaki u dostojanstvu i pravima - ljudska prava su </a:t>
            </a:r>
            <a:r>
              <a:rPr b="0" lang="hr-HR" sz="2400" spc="-1" strike="noStrike" u="sng">
                <a:solidFill>
                  <a:srgbClr val="003366"/>
                </a:solidFill>
                <a:uFillTx/>
                <a:latin typeface="Arial"/>
              </a:rPr>
              <a:t>univerzal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ne mogu se oduzeti - nitko nema pravo lišiti drugu osobu prava iz bilo kojeg razloga. Ljudi imaju ljudska prava čak i kada ih zakoni njihove zemlje ne priznaju ili kada ih krše- ljudska prava su </a:t>
            </a:r>
            <a:r>
              <a:rPr b="0" lang="hr-HR" sz="2400" spc="-1" strike="noStrike" u="sng">
                <a:solidFill>
                  <a:srgbClr val="003366"/>
                </a:solidFill>
                <a:uFillTx/>
                <a:latin typeface="Arial"/>
              </a:rPr>
              <a:t>neotuđiv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ako bi živjela u dostojanstvu, sva ljudska bića imaju istovremeno pravo na slobodu, sigurnost i pristojan standard življenja- ljudska prava su </a:t>
            </a:r>
            <a:r>
              <a:rPr b="0" lang="hr-HR" sz="2400" spc="-1" strike="noStrike" u="sng">
                <a:solidFill>
                  <a:srgbClr val="003366"/>
                </a:solidFill>
                <a:uFillTx/>
                <a:latin typeface="Arial"/>
              </a:rPr>
              <a:t>nedjeljiva.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Slika 5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 rot="10800000">
            <a:off x="8608680" y="194040"/>
            <a:ext cx="72360" cy="75600"/>
          </a:xfrm>
          <a:prstGeom prst="rect">
            <a:avLst/>
          </a:prstGeom>
          <a:noFill/>
          <a:ln w="0">
            <a:noFill/>
          </a:ln>
        </p:spPr>
        <p:txBody>
          <a:bodyPr tIns="29880" bIns="298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Hvala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Ljudska prava - razvoj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ima svoje korijene u težnjama za slobodom i jednakošću svuda u svijet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mogu se pronaći u većini svjetskih religija i filozofij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Ljudska prava - razvoj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već u staroj grčkoj filozofiji, dakle prije više od 2000 godina, razvija se ideja o jednakosti svih ljudi, ideja o </a:t>
            </a: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</a:rPr>
              <a:t>prirodnom pravu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koje pripada svakom čovjeku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daljnji razvoj u </a:t>
            </a: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</a:rPr>
              <a:t>ranom kršćanstvu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i drugim religijama: Sve ljude Bog je stvorio jednakima i po uzoru na samoga sebe. Te dvije niti čine korijen ideje o ljudskim pravima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Ljudska prava - razvoj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</a:rPr>
              <a:t>engleski filozof John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</a:rPr>
              <a:t>Locke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čije je djelo značilo proboj ideje o neotuđivim ljudskim pravima - život, sloboda i privatno vlasništ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vodeću ulogu u daljnjem razvoju imala je </a:t>
            </a: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</a:rPr>
              <a:t>Engleska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dokumentom „Petition of Rights“ iz 1628. zajamčena je </a:t>
            </a: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</a:rPr>
              <a:t>nepovredivost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</a:rPr>
              <a:t>građanina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Ljudska prava - razvoj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atalog ljudskih prava“ – S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Francuska revolucija iz 1789. sa svojom parolom „liberte, egalite, fraternite“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1789. prihvaćena je „Povelja o ljudskim i građanskim pravima“ naglasak na </a:t>
            </a:r>
            <a:r>
              <a:rPr b="0" lang="hr-HR" sz="2400" spc="-1" strike="noStrike" u="sng">
                <a:solidFill>
                  <a:srgbClr val="003366"/>
                </a:solidFill>
                <a:uFillTx/>
                <a:latin typeface="Arial"/>
              </a:rPr>
              <a:t>univerzalnu važnost ljudskih prava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Opća deklaracija o ljudskim pravima“ -  10. prosinca 1948. - međunarodni standard za ljudska prav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Opća deklaracija o ljudskim pravim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svatko ima ista prava unatoč razlikama, kao što su boja kože, spol, vjera, jezik kojim govori, političko uvjerenje, podrijetlo i d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pravo na život i pravo živjeti slobodno i sigurno.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3366"/>
                </a:solidFill>
                <a:uFillTx/>
                <a:latin typeface="Arial"/>
              </a:rPr>
              <a:t>pravo ići u školu. Osnovno obrazovanje mora biti obvezno i besplatn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Ško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Odgoj za ljudska prava pomaže ljudima da </a:t>
            </a: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</a:rPr>
              <a:t>razumiju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što su to ljudska prava i dožive da su ona važna te da ih treba </a:t>
            </a: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</a:rPr>
              <a:t>poštivati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i za njih se </a:t>
            </a: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</a:rPr>
              <a:t>zalagati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tolerancija na različito shvaćanje i različite načine osiguravanja ljudskih prav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razvijanje i unapređenje sposobnosti prosuđivanja i kritičkog razmišljanj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8T09:27:08Z</dcterms:created>
  <dc:creator>sanja.jelic</dc:creator>
  <dc:description/>
  <dc:language>en-US</dc:language>
  <cp:lastModifiedBy>mcapar</cp:lastModifiedBy>
  <dcterms:modified xsi:type="dcterms:W3CDTF">2014-08-22T06:41:16Z</dcterms:modified>
  <cp:revision>4</cp:revision>
  <dc:subject/>
  <dc:title>Ljudska prava, dostojanstvo, slobode i odgovornost  u sklopu razreda i škole</dc:title>
</cp:coreProperties>
</file>