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8D7-BFA3-419B-8331-C4FFC8C87C3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7DA-0CD4-454E-9340-B23B116319E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 u="sng">
                <a:solidFill>
                  <a:srgbClr val="000000"/>
                </a:solidFill>
                <a:uFillTx/>
                <a:latin typeface="Arial"/>
              </a:rPr>
              <a:t>grupama.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U posebnoj odgojno-obrazovnoj grupi učenici iz stavka 1. ovoga članka svladavaju dijelove nastavnog programa, a preostali program u matičnom razrednom odjelu.Dijelove nastavnog programa koje učenici iz stavka 1. ovoga članka ne mogu svladati, svladavaju prema posebnom nastavnom planu i programu za učenike s lakom mentalnom retardacijom, a preostali program u matičnom razrednom odjelu uz maksimalnu individualizaciju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U posebnim razrednim odjelima iz stavka 1. ovoga članka učenici svladavaju posebni program za učenike s organski uvjetovanim poremećajima u ponašanju, a ostvaruju ga defektolozi odgovarajuće specijalnos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U redovnu osnovnu školu može se uključiti do 8% učenika s organski uvjetovanim poremećajima u ponašanju u odnosu na ukupan broj učenika ško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8A17-95C8-4716-8E21-8E6F911830B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792-406D-44B3-875E-2874A23F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16D-BB15-4A0E-A91F-11F00F7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CFF-CEB3-47D5-90A1-24802102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11C-6992-4AE4-9A38-2FA54C3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90C6-DB6D-46E9-904E-0E7E3875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C2BB-4AFA-4D7E-8D49-E0DF2DE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54FB-755A-49FF-A27B-56F477C8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F6A-CECD-4C64-A88C-1E707F54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230D-2CFD-41E7-8D2F-B5C0181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908-BF1D-419D-8A9A-5A8C357E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94F-ED7E-4380-B3D6-C4A7CB4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71E-E01E-4EB9-90E7-26B0082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D100-A675-4B4C-94BE-26878FB9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0380-027D-4ADE-841A-16383629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BB3-E5C6-43B1-9FFE-BF295E64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32B-6333-4E51-986D-93664BB3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C1C-E8FF-4D8C-A9FF-65698DAC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B12-BFB3-4055-B557-DEFCC87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C22-23B3-41EC-B19A-3D67EEBE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838-A22A-458D-9DCF-1D86E74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5DA-7E33-4EBC-8ED7-4199132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4B5-56A6-4B96-A922-4959AB0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6BC-0F46-4EAB-87CF-B84880C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26F-5000-417C-AA58-C2A7591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D37-1771-4A52-81F1-87F8E66FB3D3}" type="datetime">
              <a:rPr b="0" lang="sr-Latn-CS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257-3C80-48EF-84EC-510B40A7EC6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7167-4DE5-4385-8247-74F684B664EC}" type="datetime">
              <a:rPr b="0" lang="sr-Latn-CS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ECD-0A56-498B-823A-82C912C00BE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BCEF-5E4A-4631-8A13-CB4B3CAB73FF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333000"/>
            <a:ext cx="8243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ava djece s teškoćama u obrazovan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f.dr.sc. Ljiljana Igri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Zagreb,20.kolovoza 20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AZOO logo"/>
          <p:cNvPicPr/>
          <p:nvPr/>
        </p:nvPicPr>
        <p:blipFill>
          <a:blip r:embed="rId1"/>
          <a:stretch/>
        </p:blipFill>
        <p:spPr>
          <a:xfrm>
            <a:off x="395280" y="260280"/>
            <a:ext cx="6480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78CB-5ECC-4275-801D-1E71D3377653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Raspr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17C-FB98-4314-8F69-D16D453A512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Medicinski model invalidite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cinski model pristupa invaliditetu doprinosi isključivanju osoba s invaliditetom iz društva,zbog njihovih oštećenja ili poremećaja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z hrvatskog primjer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avilnik je odredio što je “normalno” i tko može ići u redoviti razred, a tko ne mož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91C2-3D32-4C54-A0C0-9A1F07F58F4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ocijalni model invalidit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lazi sa stanovišta o društvenoj konstrukciji „normi“ i oslobađa osobe s invaliditetom odgovornosti za njihov   invalidite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stiče  potrebe osoba s invaliditetom i djece s teškoćam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govornost društva za pružanje prilika za njihovo ostvare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3749-8F5D-4AA4-9D97-B7B1A0BEC4C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ocijalni model invalidit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validitet je determinira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ređenim osobinama individue (oštećenji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ocijalnim konstrukcijom nemogućnosti uslijed prepreka proizašlih iz fizičke i socijalne oko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je sprječavaju osobu da sudjeluje u potpunosti u životu zajednice (Bynoe, Oliver, Barnes, 1991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F7AE-64FC-4787-A5AA-B61A92E1ED8F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ocijalni model invalidit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štećenja i poremećaji su varijacije u ljudskim karakteristikama koje doprinose različitostima kao mogućem doprinosu pojedinaca u društvu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ruštveni kontekst odražava nefleksibilnost društva da se prilagodi različitim potrebama (Rioux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Carbert,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2003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E70-69E5-474A-83DD-86094266BE44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072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drška u zajednici=“kompenzacija” za oštećenj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sobe s invaliditetom i roditeljske udruge djece s teškoćam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traže sustave podrške u zajedn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značajno su utjecali na promjene pristupu invaliditetu i teškoćama u razvo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ruštvo postavlja pitanje isplativosti podrške kao vrste  kompenzacij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CE3-B479-43EA-99D5-624443CBFF84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40291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je kompenzacije potrebne građanima su “normalne”, razumne  i isplati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1640" y="-360"/>
            <a:ext cx="3825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je kompenzacije potrebne djeci s teškoćama i osobama s invaliditetom nisu razumne i isplativ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EA6-F9F9-4343-B7EC-43161C45ED3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96428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Međunarodni dokumenti za prava djece s teškoćama u obrazovanj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557360"/>
            <a:ext cx="8028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Konvencija o pravima djeteta</a:t>
            </a: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međunarodni standard za „obrazovanje za sve“(Generalna skupština UN, 1989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Standardna pravila o izjednačivanju mogućnosti za osobe s invaliditetom</a:t>
            </a: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ogram za promicanje inkluzije i ravnopravnog obrazovanja za djecu s teškoćama (Generalna skupština UN,1993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4EE7-D6F3-4C41-AF27-2B32584125D1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964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Međunarodni dokumenti za prava djece s teškoćama u obrazovanj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1557360"/>
            <a:ext cx="8567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Izjava i okvir za djelovanje iz Salamanke</a:t>
            </a: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(UNESCO, 1994.)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  „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nkluzivne škole trebaju biti prilagođene svoj djeci bez obzira na njihovo fizičko, intelektualno, socijalno, emocionalno, jezično ili neko drugo stanje. One trebaju uključiti djecu s teškoćama i nadarenu djecu, djecu iz zabačenih krajeva, nomadske populacije, djecu jezičnih, etničkih i kulturnih manjina i drugih skupina u nepovoljnom položaju ili pripadnika marginaliziranih skupina ili područja.“(članak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2DB-7359-464E-9D99-95C17E45499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Međunarodni dokumenti za prava djece s teškoćama u obrazovanj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Konvencija o pravima osoba s invaliditetom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(UN,2006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vi obrazovni sustavi trebaju biti inkluzivni na svim razinama, bez obzira na težinu invaliditeta učenika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7FEC-8E77-47D6-BE45-30AA53DEC8A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adržaj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13000"/>
            <a:ext cx="809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stupi obrazovanj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stupi invaliditetu i teškoćama u obrazovanj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đunarodni i hrvatski dokumenti u reguliranju prava na obrazovanje djece s teškoć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zazovi i “modeli” inkluzi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kluzivna ško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loga edukacijskih rehabilitatora u inkluzij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400-C1FB-44C7-B7B0-BF968A023A93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Istraživanja i doprinos pravim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djece s teškoćam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straživanja o inkluziji iz perspektive ključnih dionika učitelja, roditelja i učeni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straživanja o primjeni raznih modela potpore školi za provedbu inkluzije, posebno </a:t>
            </a:r>
            <a:r>
              <a:rPr b="0" lang="hr-HR" sz="3000" spc="-1" strike="noStrike" u="sng">
                <a:solidFill>
                  <a:srgbClr val="000000"/>
                </a:solidFill>
                <a:uFillTx/>
                <a:latin typeface="Verdana"/>
              </a:rPr>
              <a:t>suradničko poučava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5A5C-89B5-4F98-B144-F097900DAB71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ava u obrazovanju djece s teškoćama u Hrvatsk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280" y="1825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cionalni plan aktivnosti za djecu od 2007. do 2012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cionalna strategija za izjednačavanje mogućnosti oosba s invaliditetom od 2007. do 2015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Zajednički memorandum o socijalnom uključivanju  Republike  Hrvatske (2007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2039-1D35-48B6-AEE2-2919C36B7734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ava u obrazovanju djece s teškoćama u Hrvatsk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699920"/>
            <a:ext cx="87138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akon o odgoju i obrazovanju u osnovnim i srednjim školama (2008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akon o suzbijanju diskriminacije (2008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Državni pedagoški standard osnovnoškolskog sustava odgoja i obrazovanja (2008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Nacionalni okvirni kurikulum (2011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ilnik o postupku utvrđivanja psihofizičkoga stanja djeteta, učenika te sastavu stručnoga povjerenstva (2011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9B4-65AE-45CD-B651-CE2EF789ADE0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Izazovi provedbe “obrazovanja za sv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0920" y="1752120"/>
            <a:ext cx="7956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ije jasno istaknuta niti objašnjena teoretska i praktična osnova  inkluzije, tko će i na koji način imati koristi od 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mjene koje zahtjeva inkluzija su na tako širokom planu da ih učitelji ne mogu pratiti što im smanjuje motiviranost za inkluzi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ke se promjene dešavaju prebrzo, pa ih je teško prihvatiti, a učinci presporo postaju vidljivi, što izaziva nestrpljenje i odustajan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graničeni resursi za promjene, kao vremenski ograničeni projekti, s vremenski ograničenim financiranjem i gubitak potrebnih resursa za provođenje inkluzije s prestankom projekta ( McGregor i Vogelsberg 1998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2A8D-32C9-4586-B3C3-640B2145FC2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Modeli inkluzije” u praksi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izička integraci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čenik se treba prilagoditi uvjetima i aktivnostima razreda i ško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ma sposobnostima za učenje određuje se učeniku mjesto u škol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DA0-969F-4113-B692-EB388A87E7A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čenik s teškoćama je u redovitom razredu sa svojim vršnjacima i prima svu potrebnu podršku u razr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jena „srca i stavova okoline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jene u načinu i sredstvima procjena, metodama poučavanja i vođenja razre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F28-F95D-4CAF-8210-30D95C3B585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gurati učiteljima edukaci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za stjecanje  kompetencija za rad sa svim učenici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za poticanje, ne samo usvajanja novih akademskih znanja kod učenika, nego i za poticanje socijalno-emocionalnog razvoja dje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73B-F68F-43CB-BA42-1C82FAD5619E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Usporedimo li integraciju i inkluziju može se reći da se integracijom pružila ruka učenicima s oštećenjima, a inkluzijom se obogaćuju svi uključeni u obrazovanje (Befring, 2001.)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9611-25F8-4FE5-B4DB-E79CF128FC13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5589720"/>
            <a:ext cx="5443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rimjena inkluzije (Skjorten, 2001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Placeholder 6" descr="slika1"/>
          <p:cNvPicPr/>
          <p:nvPr/>
        </p:nvPicPr>
        <p:blipFill>
          <a:blip r:embed="rId1"/>
          <a:srcRect l="0" t="15572" r="0" b="15572"/>
          <a:stretch/>
        </p:blipFill>
        <p:spPr>
          <a:xfrm>
            <a:off x="1547640" y="404640"/>
            <a:ext cx="5731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DCD-CD40-4C64-8CA4-472F5959B91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0920" y="1752120"/>
            <a:ext cx="79563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Jedinstveni sistem podrške u kojem je različitost učenika izvor obogaćivanja i promje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ahtjeva maksimalnu podršku učiteljima u svakodnevnom rad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nanja iz edukacijsko-rehabilitacijske znanosti inkorporirana u opću pedagošku praksu kroz učinkovitu praksu poučavanja, suradničko dogovaranje i organizacijsko restrukturiran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7DD1-81E9-4A65-8928-AF6832F3AF3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stupi odgoju i obrazovanj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istup utemeljen na ljudskim pravima i društvenoj praved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konomski pristup - utemeljen na procjeni sposobnosti za učenje i sudjelovanje u obrazovanj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E2E2-8ADA-4D4B-A46B-534966BE598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Verdana"/>
              </a:rPr>
              <a:t>Filozofska osnova inkluzije  je uvjerenje da svaki smještaj učenika u određene edukacijske uvjete je opravdan njegovim potrebama, a ne kategorijom kojoj pripad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AC40-1A5E-40D7-8FA3-50A1A68B364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jeca s posebnim edukacijskim potrebama nisu samo djeca s oštećenjima i poremećajima, nego i  sva djeca pogođena raznim socijalnim faktori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istup poučavanju nekog djeteta s posebnim obrazovnim potrebama određuju brojni faktori, često važniji od vrste i stupnja oštećenja ili poremeća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403-65F1-49D0-8CCB-53B9CA8CB9B6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Faktori utje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kolina i stavovi prema djeci (nestimulativna okolina, učitelji ne poznaju procese učenje ili imaju pogrešna shvaćanja o njima, neprikladan sadržaj poučavanja, pristup učenju i didaktički materijal  te  nepovoljni opći socijalni,ekonomski i politički  uvje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sobine učenika, kao što su: znatiželja, motivacija, inicijativa, interakcija i komunikacija, socijalna  kompetencija, kreativnost, temperament, način i stil učenja te sposobnosti za uč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vrsta i težina oštećenja, ako je ono dio ukupne slike teškoć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4AB-CB41-4FFD-B6F0-18BD483A78D0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Inkluzivna škola-škola za sv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uradnjom stručnjaka za metode i tehnike poučavanja, za razne učeničke potrebe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čitelja koji dobro poznaje dije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že se pružiti prikladna holistički usmjerena podrška učenik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64C-FB2B-4A1E-8ACB-C13CA94D067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Inkluzivna škola 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uloga edukacijskih rehabilitator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ofesija edukacijsko-rehabilitacijskih stručnja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stručnjaci senzibilizirani za jedinstvenost svakog učeni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imaju kompetencije za diferenciranje pristupa u skladu sa potrebama učeni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imaju znanja iz raznih teorija učenja, korištenja razne opreme i tehnologije, znanja iz etike, zakonskih prava, tehnika opažanja, razvojne i kognitivne psihologije i metodike pouča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B5B2-ADD1-4624-8356-FE6C21BBB8B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Inkluzivna škola 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uloga edukacijskih rehabilitator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jena uloge edukacijskog rehabilitator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z uloge učitelja prelazi u ulogu  potpore i poticanja  u sustavu redovnih inkluzivnih škol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dukacijski rehabilitatori - aktivni zastupnici inkluzivnog obrazovanj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916-7E07-4438-9E5B-E04C9C1D799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Inkluzivna škola 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uloga edukacijskih rehabilitator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0920" y="1752480"/>
            <a:ext cx="79563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otrebne su brojne vještine za kompleksnu novu ulogu:učinkovito poučavanje, vještine komunikacije, uspostavljanje odnosa, pružanje potpore u timskom radu, identifikacija potreba i pružanje savje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Edukacijski rehabilitator kao suradnik u razredu obogaćuje spoznaje i vještine učitelja te s vremenom osigurava razvoj vlastitih strategija učitelja, dovodi do osnaživanja učitelja (West, 1990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2F65-ED13-4377-8CF5-C976ECE3FDA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loga edukacijskih rehabilitatora i posebnih odgojno-obrazovnih ustanova  u obrazovnoj inkluzij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lan deinstitucionalizacije i transformacije domova socijalne skrbi i drugih pravnih osoba koje obavljaju djelatnost socijalne skrbi u Republici Hrvatskoj za razdoblje od 2011. do 2018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akon o socijalnoj skrbi- od 1.1. 2014. definira pomoć pri uključivanju u programe odgoja i redovitog obrazovanja (integracija) i predviđa osnivanje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Centara za pružanje usluga u zajednic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541-49FF-43D7-BAED-D1FCA3B4040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Edukacjski rehabilitatori i obrazovna inkluzij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premnost za preuzimanje aktivne uloge nositelja inkluzije u njenoj provedbi u redovitim vrtićima i školama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li čekati da inkluziju razviju druge struke ( psiholozi, pedagozi, politolozi…) i definiraju ulogu edukacijskih rehabilitatora u inkluzivnim uvjetima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CB8-34E2-4A46-9544-3BD7FB90214C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3883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Više o obrazovnoj inkluziji u Jugoistočnoj Europi                    : http//pjp-eu.coe.int/web/inclusive -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vala na pažnji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ljiljana.igric@zg.htnet.h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D3EF-9C26-4C4F-A43E-3B79D5D47A5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istup obrazovanju utemeljen na pravim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Ljudska prava moraju biti okvir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a pedagošku teor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a pristupačnost vrtića, škola i fakult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a ispitivanje sposobnos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a mjerenje uspjeh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B89F-D97A-4476-AB22-F40167D5C6BC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istup obrazovanju utemeljen na pravim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Načela ljudskih prava su osnova z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reiranje, provedbu i vrednovanja politika i progr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obrazovne politike,  obrazovni programi i zakonske odredbe o odgoju i obrazovanju procjenjuju  s gledišta ljudskih pr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5B2C-66D9-4872-B3CC-B1758C7ED34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Pristup invaliditetu i društvo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cinski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ocijalni pristup utemeljen na ljudskim pravi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D79-96F5-42BC-BCA2-E3A72A5AD3E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imjer iz hrvatskog zakonodavstv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0920" y="1557000"/>
            <a:ext cx="795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Članak 4.Pravilnika o osnovnoškolskom odgoju i obrazovan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tpuna odgojno-obrazovna integracija ostvaruje se uključivanjem učenik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s lakšim teškoćam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u razvoju u razredni odjel osnovne škole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u pravilu od I. do IV. razreda.“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lanak 7.„Za učenike na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stupnju lake mentalne retardacije organizira se i djelomična integracija u posebnim odgojno-obrazovnim grupama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lanak l0.”Za učenike s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Verdana"/>
              </a:rPr>
              <a:t>organski uvjetovanim poremećajima u ponašanju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može se zavisno od stupnja teškoće organizirati osnovno školovanje u posebnim razrednim odjelima pri osnovnoj škol”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FDEF-FA53-4CBC-88CB-CF22D80E7BD7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imjer iz hrvatskog zakonodavst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1752120"/>
            <a:ext cx="8028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lanak 12.”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Verdana"/>
              </a:rPr>
              <a:t>Za učenike s većim teškoćama u razvoju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osnovno školovanje ostvaruje se u posebnim organizacijama odgoja i obrazovanja, a može se obavljati i u drugim organizacijama (zdravstva; socijalne skrbi i pravosuđa)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Učenici s većim teškoćama u razvoju s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čenici na stupnju lake mentalne retardacije s utjecajnim teškoćama u razvoju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čenici na stupnju umjerene i teže mentalne retardacij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čenici s oštećenjima vida i utjecajnim teškoćama u razvoj- učenici s oštećenjima sluha i utjecajnim teškoćama u razvoju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čenici s tjelesnom invalidnošću i utjecajnim teškoćama u razvoju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čenici s organski uvjetovanim poremećajima u ponašanju i utjecajnim teškoćama u razvoju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autistični učenici s utjecajnim teškoćama u razvo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195-1C97-4481-8A7F-DD0684CF232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Primjer iz hrvatskog zakonodavst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tjecajne teškoće su teškoće koje bitno smanjuju sposobnost djeteta za svladavanje odgojno-obrazovnog programa redovne osnovne ško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 posebne odgojno-obrazovne organizacije uključuju se učenici s većim teškoćama u razvoju iz stavka 2. ovoga člank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55:41Z</dcterms:created>
  <dc:creator>ured_03</dc:creator>
  <dc:description/>
  <dc:language>en-US</dc:language>
  <cp:lastModifiedBy>mcapar</cp:lastModifiedBy>
  <dcterms:modified xsi:type="dcterms:W3CDTF">2014-08-22T06:42:49Z</dcterms:modified>
  <cp:revision>136</cp:revision>
  <dc:subject/>
  <dc:title>Slajd 1</dc:title>
</cp:coreProperties>
</file>