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768D-2470-4192-9B82-E55D2C6A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4D1-F09F-4955-9725-DC69462C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10FD-3F68-43E0-8A97-5B3FA5D2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8FC6-9D6A-4298-B533-F7A1DDA0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1C0A-A34F-40E5-BA94-39F77614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7923-12FB-4FA9-9F84-8A97EC34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034F-9183-4B73-81A7-D3595FCE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D9E5-F407-406F-96B0-8D77C326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0B0C-E9FE-4B9D-8ECE-B30DE12F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1EE7-D585-4563-8A2A-F4E9A54E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1524-AF34-415E-A9F9-EAA0BF8F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25AB-C30D-449A-9C5E-16816621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88F5-CCC6-4EF8-8DCD-599B3237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EC84-458E-4BC7-886C-66C7CD40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6FED-F3AD-4507-B2CD-521AFCF6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F952-3913-49DB-BDFB-637FC4E9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4420-513B-4A33-A52E-C7B5E299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432-09E8-492F-88D8-445A7614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3D13-331A-40B9-A7F5-13746FD6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B0D4-E76A-4E75-8B55-91CBCE1F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86E-03EA-482F-9693-2520BBAC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10F-4A07-444D-B15C-80E640AE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C1E-3FF2-46F8-9A40-E7E35C41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A3DD-5714-4990-81BE-F25BFF6E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372A-D21D-4F0E-AFE1-45053E1B68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3184-5085-45C0-9F57-18E1295978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-27324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Tahoma"/>
              </a:rPr>
              <a:t>Mr.sc. Luka Majetić</a:t>
            </a:r>
            <a:r>
              <a:rPr b="0" lang="hr-H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hr-H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15640" y="2854080"/>
            <a:ext cx="7993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jam i definicija talen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jerne jedinice talen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lementi prepoznavanja talenta oso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zvoj talenta u psihofiziološkoj aktiv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blici psihofizičke aktivnosti u nastavi Tehničke kul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Zaključ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3333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ijeka, 1. rujna 20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341360"/>
            <a:ext cx="8136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Q  učenika  -  razvija nastava Tehničke k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1EED-B8C4-4B5D-B59B-D09A7EA766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79280" y="115920"/>
          <a:ext cx="8640720" cy="3230640"/>
        </p:xfrm>
        <a:graphic>
          <a:graphicData uri="http://schemas.openxmlformats.org/drawingml/2006/table">
            <a:tbl>
              <a:tblPr/>
              <a:tblGrid>
                <a:gridCol w="4392720"/>
                <a:gridCol w="4248000"/>
              </a:tblGrid>
              <a:tr h="32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. 3  Tjelesna aktivnost poveć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j veza između neuro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. 4  Smanjenjem tjelesne aktivnost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j veza među neuronima je man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26920" y="196920"/>
            <a:ext cx="3240360" cy="2440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03640" y="189000"/>
            <a:ext cx="3240360" cy="24019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365360"/>
            <a:ext cx="3745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Tahoma"/>
              </a:rPr>
              <a:t>grafomotoričke i </a:t>
            </a:r>
            <a:br>
              <a:rPr sz="3000"/>
            </a:br>
            <a:r>
              <a:rPr b="0" lang="hr-HR" sz="3000" spc="-1" strike="noStrike">
                <a:solidFill>
                  <a:srgbClr val="000000"/>
                </a:solidFill>
                <a:latin typeface="Tahoma"/>
              </a:rPr>
              <a:t>  tjelesne aktivnosti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2328840"/>
            <a:ext cx="5486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Slika 2" descr=""/>
          <p:cNvPicPr/>
          <p:nvPr/>
        </p:nvPicPr>
        <p:blipFill>
          <a:blip r:embed="rId3"/>
          <a:stretch/>
        </p:blipFill>
        <p:spPr>
          <a:xfrm>
            <a:off x="4995720" y="3860640"/>
            <a:ext cx="2600640" cy="220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4356000" y="3573360"/>
          <a:ext cx="4103640" cy="3132000"/>
        </p:xfrm>
        <a:graphic>
          <a:graphicData uri="http://schemas.openxmlformats.org/drawingml/2006/table">
            <a:tbl>
              <a:tblPr/>
              <a:tblGrid>
                <a:gridCol w="4103640"/>
              </a:tblGrid>
              <a:tr h="313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. 5  Simbol razvoja specifičnog tehničkog mišlje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F63A-4D8C-40B8-A4BB-F2D2DF284C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-387720"/>
            <a:ext cx="86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jelesnim fiziološkim vježbama razvija s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brzin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azmišljanja i zaključivanja funkcionalnog uporabnog znanja i zaštita razvoja darovitosti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843280" y="752400"/>
            <a:ext cx="5618160" cy="5772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112920" y="6490440"/>
            <a:ext cx="51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. 6  Poznati elementi povezani s aktivnosti čovjekova mozg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981000"/>
          <a:ext cx="2843280" cy="1727280"/>
        </p:xfrm>
        <a:graphic>
          <a:graphicData uri="http://schemas.openxmlformats.org/drawingml/2006/table">
            <a:tbl>
              <a:tblPr/>
              <a:tblGrid>
                <a:gridCol w="2843280"/>
              </a:tblGrid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9A79-2657-4C99-B4A7-B3653834A6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2575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Krajnji je cilj procesa obrazovanja kreativnost, a ne samo reproduktivno znanj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 kreativnost je potrebno razvijati IQ koeficijent učenika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A8E9-34E7-4396-A36D-0F2D84B4B8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79480" y="65880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00000"/>
                </a:solidFill>
                <a:latin typeface="Tahoma"/>
              </a:rPr>
              <a:t>Prevelika uporaba računala – suvremeno ometanje kreativnosti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Vrste psihomotorik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velika – gruba motorika,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itna – fina motorik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Glavni poznati oblici psihomotoričkih aktivnost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ječja igr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jelesna rekreativna kultur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portske neprofesionalne i profesionalne aktivnosti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likovno crtanje i bojenj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adne vježbe u nastavi tehničke kult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879480" y="595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- Gdje se razvija gruba, a gdje fina motorika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33F5-0D81-41E6-8C36-1FE3E03DB0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5. Oblici psihofizičke aktivnosti u  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   nastavi Tehničke kultu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2920" y="2017440"/>
            <a:ext cx="79120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U nastavi tehničke kul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azvija se fina psihofizička motorika učenika koja uključuje ove element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pokret, zahvat, manipulacija, operacija,  ključna točka, mjerenje, faza rad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ukčije rečeno, to je vježbanje razvoja fine motorike u izvođenju procesa tehnologije stvaranja nove vrijednost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nije rad "bez veze" već rad s vezom u kojem se stvaraju učeniku prepoznatljive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ove dugotrajne vrijednosti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8F76-8E0B-4C1E-89F1-20D6D537F7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ktične vježbe rada jesu: planski organizirana i programiran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nenormiran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ihofizička aktivnost; misleno vođeni i vizualno upravljani precizni pokreti tijela i prsti ruku u funkcionalnoj zadaći primjene znanj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kle, opisana tjelesna aktivnost je izrazito složena jer uključuje 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misleni i fiziološki pro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učenikova tijel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4C64-092D-47EB-8641-743ABB37AD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Tahoma"/>
              </a:rPr>
              <a:t>Oblici psihofizičkih aktivnosti u radnim vježbama nastave Tehničke kulture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ehnički pokus,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oblikovanje materijala,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konstrukcijski slogovi iz tipiziranih elemenata,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rojektni zadaci,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tupnjevita tematska natjecanj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2A86-60E3-466B-8B97-0CF43CA396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66760" y="439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imjer: Godišnje državno natjecanje  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              mladih tehničara RH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- kognitivni, psihomotorički i afektivni sloj razvoja   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 učenik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1988640"/>
            <a:ext cx="7772400" cy="33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Znanj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reproduktivno, je ništa ako iza toga ne slijedi njegova primjena u stvaranju izu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Iz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je ništa ako iza toga ne slijedi stvaranje tehnologij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Tehnologij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je ništa ako iza toga ne slijedi razvoje vještina njezinog izvođenja (TP i RP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5027760"/>
            <a:ext cx="8229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stava Tehničke kulture razvija IQ koeficijent i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“odgojnu spoznaju” učenika 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da je u stanju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što sasvim konkretno učiniti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417-9925-4998-96A0-8EBAF7DACF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6. Zaključa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0920" y="2017440"/>
            <a:ext cx="83437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 nastavnom programu Tehničke kulture valja učiniti slijedeć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800000"/>
                </a:solidFill>
                <a:latin typeface="Tahoma"/>
              </a:rPr>
              <a:t>osmisliti određeni broj kreativnih radnih vježbi,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Tahoma"/>
              </a:rPr>
              <a:t>u preambuli  nastavnog programa dopisati 10-ti doprinos nastave tehničke  kulture općem obrazovanju i razvoju učenika formuliranog ovako: </a:t>
            </a:r>
            <a:r>
              <a:rPr b="1" lang="hr-HR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1" lang="hr-HR" sz="25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1" lang="hr-HR" sz="2500" spc="-1" strike="noStrike">
                <a:solidFill>
                  <a:srgbClr val="800000"/>
                </a:solidFill>
                <a:latin typeface="Tahoma"/>
              </a:rPr>
              <a:t>IQ koeficijent učenika razvija nastava tehničke kulture u procesu izvođenja psihomotoričkih radnih vježbi primjene teoretskih znanja.</a:t>
            </a:r>
            <a:r>
              <a:rPr b="0" lang="hr-HR" sz="24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6031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Hvala na pozornosti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6CC1-C7CC-4A1E-B553-4D31E9BEBA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Q  učenika  -  razvija nastava Tehničke kul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104920"/>
            <a:ext cx="82296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Tahoma"/>
              </a:rPr>
              <a:t>Pojam i definicija talen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00"/>
                </a:solidFill>
                <a:latin typeface="Tahoma"/>
              </a:rPr>
              <a:t>Naziv "talent"</a:t>
            </a: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 dolazi od grč. talantan i lat. talentum u značenju: uman, nadaren, inteligentan, izrazito sposoban, od prirode nadaren dobrim svojstvima. Talent je naziv za starogrčku novčanu jedinicu i mjeru za težinu (1talent = 6 000 drahmi i 1 talent = 150 kg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00"/>
                </a:solidFill>
                <a:latin typeface="Tahoma"/>
              </a:rPr>
              <a:t>Zaključak</a:t>
            </a: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: Nije  dovoljna  početna  veličina  talenta  nego što od         toga možemo napraviti. Prirodni talent koji se ne razvija je izgubljen. Talent je dana vrijednost koja se može i treba povećati radom onoga tko ima tale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00"/>
                </a:solidFill>
                <a:latin typeface="Tahoma"/>
              </a:rPr>
              <a:t>Definicije:</a:t>
            </a: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a - Talent je prirodno dana i potom radom razvijena vrijednost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psihofizičkih osobina čovjeka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b - Miroslav Radman:  Talentirana  je  osoba  kojoj  brzo postan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dosadno, a dosadu ne može izdržat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7FC3-1888-4012-9971-889D6B7B9D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2. Mjerna jedinica talen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Q (Intelligenz Quotient) – koeficijent inteligencije, koji može bi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Q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Arial"/>
              </a:rPr>
              <a:t>≤,≥ 62 … 12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Arial"/>
              </a:rPr>
              <a:t>Izraz za prorač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Arial"/>
              </a:rPr>
              <a:t>određivanje IQ za djecu i odras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  <a:ea typeface="Arial"/>
              </a:rPr>
              <a:t>primjer za djec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995640" y="3803760"/>
                <a:ext cx="20163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S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995640" y="5389560"/>
                <a:ext cx="33130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CF79-A2E6-4EC6-B2B5-EB7788E16D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blica: IQ koeficijenti inteligencij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6308640"/>
            <a:ext cx="8229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9480" y="580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 Primjer sociologa Rickarda Ly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973160"/>
          <a:ext cx="8207280" cy="41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73160"/>
                    <a:ext cx="8207280" cy="41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28EA-DB62-4655-A86A-BB1D78D069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258920" y="188748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 – prirodno dana svojstva psihe i motori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B – radom razvijena svojstva psihomotori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hr-HR" sz="2400" spc="-1" strike="noStrike">
                <a:solidFill>
                  <a:srgbClr val="800000"/>
                </a:solidFill>
                <a:latin typeface="Tahoma"/>
              </a:rPr>
              <a:t>psih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: oštrina i preciznost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apažanja, moć razmišljanj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amćenje, mašta, emoci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hr-HR" sz="2400" spc="-1" strike="noStrike">
                <a:solidFill>
                  <a:srgbClr val="800000"/>
                </a:solidFill>
                <a:latin typeface="Tahoma"/>
              </a:rPr>
              <a:t>motorik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: vid, sluh, njuh, okus, op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it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hr-HR" sz="2400" spc="-1" strike="noStrike">
                <a:solidFill>
                  <a:srgbClr val="800000"/>
                </a:solidFill>
                <a:latin typeface="Tahoma"/>
              </a:rPr>
              <a:t>idej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, vještina kombiniranja, plan rješavanja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paženog, uzročno-posljedično induktivno i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eduktivno zaključivanj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hr-HR" sz="2400" spc="-1" strike="noStrike">
                <a:solidFill>
                  <a:srgbClr val="800000"/>
                </a:solidFill>
                <a:latin typeface="Tahoma"/>
              </a:rPr>
              <a:t>eksperimentalna provjer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rješenja idej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hr-HR" sz="2400" spc="-1" strike="noStrike">
                <a:solidFill>
                  <a:srgbClr val="800000"/>
                </a:solidFill>
                <a:latin typeface="Tahoma"/>
              </a:rPr>
              <a:t>praktičn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, korisna primjena znan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292428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2600" y="316692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92360" y="4940280"/>
            <a:ext cx="215640" cy="1513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0960" y="540072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765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3. Elementi prepoznavanja talent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os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E04-140E-4B71-838C-0C9003131B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emeljna područja djelatnosti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Matematika - apstrakcij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Znanost - prirodoslovlje, egzaktnost i   provjerljivost eksperimentom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Muzika - ritmika i slušne osobin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Atletika - psihomotorik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Umjetnost - emocije, doživljaj,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32C-CDC3-49F4-8C23-D53F727305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Elementi tehničkog talenta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torni zor tehničke mašte iskazan u tehničkom crtanju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lonost  kombinacijama  iznalaženja  različitih  rješenja od  jednakih elemenata (izumi, projektiranje i osmišljavanje tehnoloških procesa neke djelatnosti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znalaženje optimalnog rješenja zadaće koje se definira kao "najmanje loše rješenje"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 urednost i preciznost u pisanom izražavanju i ponašanj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9A4B-276F-4C53-A380-9DD7A59462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imjeri testa talenta za tehničko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crtanj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626520" cy="2232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476360" y="4221000"/>
            <a:ext cx="6767640" cy="215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C672-F9F0-46F2-A8EC-1ED27D79AE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reproduktivno = misleno i fiziološko = psihomotoričko učenj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fiziološkom tjelesnom aktivnošću </a:t>
            </a:r>
            <a:r>
              <a:rPr b="1" lang="hr-HR" sz="2200" spc="-1" strike="noStrike">
                <a:solidFill>
                  <a:srgbClr val="800000"/>
                </a:solidFill>
                <a:latin typeface="Tahoma"/>
              </a:rPr>
              <a:t>oživljavaju</a:t>
            </a: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se neuroni i </a:t>
            </a:r>
            <a:r>
              <a:rPr b="1" lang="hr-HR" sz="2200" spc="-1" strike="noStrike">
                <a:solidFill>
                  <a:srgbClr val="800000"/>
                </a:solidFill>
                <a:latin typeface="Tahoma"/>
              </a:rPr>
              <a:t>povećava broj</a:t>
            </a: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njihovih sinaps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3557520"/>
            <a:ext cx="3083040" cy="2967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622520" y="2033640"/>
            <a:ext cx="2949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22520" y="2033640"/>
            <a:ext cx="2949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22520" y="2033640"/>
            <a:ext cx="2949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22520" y="2033640"/>
            <a:ext cx="2949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9640" y="3357720"/>
          <a:ext cx="8064720" cy="3406680"/>
        </p:xfrm>
        <a:graphic>
          <a:graphicData uri="http://schemas.openxmlformats.org/drawingml/2006/table">
            <a:tbl>
              <a:tblPr/>
              <a:tblGrid>
                <a:gridCol w="4032360"/>
                <a:gridCol w="4032360"/>
              </a:tblGrid>
              <a:tr h="340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. 1  Razvoj mozga i formiranje neuronske mrež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. 2  Spoj dva završetka neuro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003640" y="3500280"/>
            <a:ext cx="3167280" cy="2995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60360" y="620640"/>
            <a:ext cx="77043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4. Razvoj talenta u psihofiziološko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aktiv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791F-0E23-4A88-8293-04DF5559E0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30T07:36:48Z</dcterms:created>
  <dc:creator>FVranic</dc:creator>
  <dc:description/>
  <dc:language>en-US</dc:language>
  <cp:lastModifiedBy>luka</cp:lastModifiedBy>
  <dcterms:modified xsi:type="dcterms:W3CDTF">2011-06-30T10:18:29Z</dcterms:modified>
  <cp:revision>6</cp:revision>
  <dc:subject/>
  <dc:title>Mr.sc. Luka Majetić</dc:title>
</cp:coreProperties>
</file>