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6AC-760E-4DDF-8919-092C701875E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Razjasniti, razgraničiti – ne kvalifik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E29B-87C7-4F51-918F-4EDCFC9BF3FD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ocijalne vještine, spoznajne vješ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poznaja o odupiranju materij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poz o cjeli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oc vj:podjela prib i alata, zaštita na ra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A0A-85EB-4105-95A1-D96BD1DBEAEE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lajdovi 789 tablica sintetizirati na a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23AA-583D-4082-9544-C84B9707E6DD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267-581F-480E-80F4-C05A1D58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5D2-507B-457A-BFD9-65F1F3B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193-8D0A-48CA-A9E2-8F9EDD95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D36-71DD-4D53-9700-A2675F87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7B0C-8091-4E38-BDCA-528D7F94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8630-75C6-4E53-9FA8-DD939471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BE59-7116-4FA4-80DE-BD1B235B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B671-5A22-49C3-B319-266770BE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058D-CD93-44D5-A1BD-6909371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17F0-39A8-4BAA-AF3C-B1BE0F87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72FD-3174-49F9-9EF8-402848B6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B48-F03E-4141-9356-59E6667E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4A8-EAA9-4401-A783-B56A1FB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7BC-D055-40EB-8594-21F7B501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D71E-C16B-445E-A60C-9AB99CE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FD4-8284-4DDB-88F8-92206785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5AE2-1C54-4404-9F97-FCC185F5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BEB-DA20-40CC-8A9A-4EF339EE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A6C-E566-4B94-9A89-9C7A376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151-3D27-4F28-BEE9-5D1D153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A0F-3836-4DCF-B878-DBDBE05B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3B8-5224-4224-9665-F8F0334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C7B-CB1F-4CF8-8454-F82C855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185-21CD-4A08-B461-86CBB59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0A5-A2DE-4414-9EBA-C7851F7A10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4550-B8DE-4A54-B43A-06A34BC1A2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99"/>
                </a:solidFill>
                <a:latin typeface="Arial Black"/>
              </a:rPr>
              <a:t>ELEMENTI VREDNOVANJA u nastavi tk</a:t>
            </a:r>
            <a:endParaRPr b="0" lang="en-US" sz="5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09320" y="480024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ijeka, 1. rujna 20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57400" y="2971800"/>
            <a:ext cx="5410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Stručni skup učitelja Tehničke k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loom B. S., Taxonomy of Educational Objectives, Handbook 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he Cognitive Domain. New York: David McKay Co Inc., </a:t>
            </a:r>
            <a:r>
              <a:rPr b="0" lang="hr-HR" sz="2800" spc="-1" strike="noStrike">
                <a:solidFill>
                  <a:srgbClr val="ff3305"/>
                </a:solidFill>
                <a:latin typeface="Arial"/>
              </a:rPr>
              <a:t>195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rathwohl, D. R.; Bloom, B. S.; Masia, B. B., Taxonomy of Educational Objectives, the Classifi cation of Educational Goals. Handbook II: Affective Domain, New York: David McKay Co., Inc., </a:t>
            </a:r>
            <a:r>
              <a:rPr b="0" lang="hr-HR" sz="2800" spc="-1" strike="noStrike">
                <a:solidFill>
                  <a:srgbClr val="ff3305"/>
                </a:solidFill>
                <a:latin typeface="Arial"/>
              </a:rPr>
              <a:t>197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ffff99"/>
                </a:solidFill>
                <a:latin typeface="Arial Black"/>
              </a:rPr>
              <a:t>Područja ishoda učenja: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2514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nanje (kogn dom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ZN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AZUMIJE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99"/>
                </a:solidFill>
                <a:latin typeface="Arial"/>
              </a:rPr>
              <a:t>PRIMJ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ALI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IN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REDNO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048120" y="1752480"/>
            <a:ext cx="3047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Vještine (psm, soc. spoz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MIT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ANIPUL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99"/>
                </a:solidFill>
                <a:latin typeface="Arial"/>
              </a:rPr>
              <a:t>PRECIZ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RTIKUL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NATURALIZ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019920" y="1752480"/>
            <a:ext cx="2666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fektivno područje (sam i od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HVAĆ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AGIR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ffff99"/>
                </a:solidFill>
                <a:latin typeface="Arial"/>
              </a:rPr>
              <a:t>USVAJANJE VRIJED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RGANIZIRANJE VRIJED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REDNOVANJE PERSONALIZ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99"/>
                </a:solidFill>
                <a:latin typeface="Arial Black"/>
              </a:rPr>
              <a:t>Članak 3.</a:t>
            </a:r>
            <a:br>
              <a:rPr sz="3600"/>
            </a:br>
            <a:br>
              <a:rPr sz="2800"/>
            </a:br>
            <a:r>
              <a:rPr b="1" lang="hr-HR" sz="2800" spc="-1" strike="noStrike">
                <a:solidFill>
                  <a:srgbClr val="ffff99"/>
                </a:solidFill>
                <a:latin typeface="Arial Black"/>
              </a:rPr>
              <a:t>Načini, postupci i elementi vrednovanja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(2) Elemente ocjenjivanja određenoga nastavnoga predmeta te načine i postupke vrednovanja izrađuje učitelj/nastavnik određenoga nastavnoga predmeta s učiteljima/nastavnicima istoga nastavnoga predmeta, odnosno odgojno-obrazovnoga područja na lokalnoj, regionalnoj, odnosno nacionalnoj razi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14400" y="1295280"/>
          <a:ext cx="7543800" cy="4496040"/>
        </p:xfrm>
        <a:graphic>
          <a:graphicData uri="http://schemas.openxmlformats.org/drawingml/2006/table">
            <a:tbl>
              <a:tblPr/>
              <a:tblGrid>
                <a:gridCol w="2155680"/>
                <a:gridCol w="1436760"/>
                <a:gridCol w="2198880"/>
                <a:gridCol w="603000"/>
                <a:gridCol w="646200"/>
                <a:gridCol w="503280"/>
              </a:tblGrid>
              <a:tr h="3049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OCJEN</a:t>
                      </a:r>
                      <a:r>
                        <a:rPr b="0" lang="hr-HR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A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ZNANJ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USV</a:t>
                      </a:r>
                      <a:r>
                        <a:rPr b="0" lang="hr-HR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OJENOST </a:t>
                      </a: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ROG</a:t>
                      </a:r>
                      <a:r>
                        <a:rPr b="0" lang="hr-HR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RAMSKIH</a:t>
                      </a: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hr-HR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 25</a:t>
                      </a: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KOGNITIV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ZNANJ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RAZUMIJEVANJ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RIMJEN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ANALIZ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SINTEZ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VREDNOVANJ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RIMJENA</a:t>
                      </a:r>
                      <a:r>
                        <a:rPr b="0" lang="hr-HR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VJEŽBE</a:t>
                      </a:r>
                      <a:r>
                        <a:rPr b="0" lang="hr-HR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R. RAD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SIHOMOTORIČK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IMITACIJ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MANIPULACIJ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RECIZACIJ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ARTIKULACIJA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NATURALIZACIJ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ODNOS, ZALAGANJE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AFEKTIV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PRIHVAĆANJ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REAGIRANJ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USVAJANJE VRIJEDNOSTI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ORGANIZIRANJE VRIJEDNOSTI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•</a:t>
                      </a:r>
                      <a:r>
                        <a:rPr b="0" lang="en-US" sz="9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VREDNOVANJE/PERSONALIZACIJ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a58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99"/>
                </a:solidFill>
                <a:latin typeface="Arial Black"/>
              </a:rPr>
              <a:t>HVALA!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99"/>
                </a:solidFill>
                <a:latin typeface="Arial Black"/>
              </a:rPr>
              <a:t>OKVIRI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CIONALNI OKVIRNI KURIK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RVATSKI KVALIFIKACIJSKI OKV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JMOVNIK H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KON O ODGOJU I OBRAZOVANJU U OSNOVNOJ I SREDNJOJ ŠK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AVILNIK O NAČINIMA, POSTUPCIMA I ELEMENTIMAVREDNOVANJA UČENIKA U OSNOVNOJ I SREDNJOJ ŠK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99"/>
                </a:solidFill>
                <a:latin typeface="Arial Black"/>
              </a:rPr>
              <a:t>Važni pojmovi HKO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Arial"/>
              </a:rPr>
              <a:t>Samostalnost i odgovorn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značavaju postignutu primjenu konkretnih znanja i vještina, u skladu s danim standardi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Arial"/>
              </a:rPr>
              <a:t>Opisnice/mjerljivi pokazatelji razin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pisi su ishoda učenja određene raz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99"/>
                </a:solidFill>
                <a:latin typeface="Arial Black"/>
              </a:rPr>
              <a:t>Važni pojmovi HKO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Arial"/>
              </a:rPr>
              <a:t>Samostaln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značava pravo na vlastito upravljanje, a temelj je za određivanje nečije odgovor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Arial"/>
              </a:rPr>
              <a:t>Odgovorn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značava preuzimanje obveze izvršenja preuzetih zadaća, a u skladu je sa samostalnosti izvršenja i upravljan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99"/>
                </a:solidFill>
                <a:latin typeface="Arial Black"/>
              </a:rPr>
              <a:t>Važni pojmovi HKO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ffffff"/>
                </a:solidFill>
                <a:latin typeface="Arial"/>
              </a:rPr>
              <a:t>Kompetencij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značavaju skup znanja i vještina te pripadajuću samostalnost i odgovorn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ffffff"/>
                </a:solidFill>
                <a:latin typeface="Arial"/>
              </a:rPr>
              <a:t>Ishodi učenja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 znanja i vještine te pripadajuća samostalnost i odgovornost koje je osoba stekla učenjem i dokazuje nakon postupka učenja ocjen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 Black"/>
              </a:rPr>
              <a:t>BLOOM-ova TAKSONOMIJA</a:t>
            </a:r>
            <a:br>
              <a:rPr sz="3600"/>
            </a:br>
            <a:r>
              <a:rPr b="0" lang="hr-HR" sz="3200" spc="-1" strike="noStrike">
                <a:solidFill>
                  <a:srgbClr val="ffff99"/>
                </a:solidFill>
                <a:latin typeface="Arial Black"/>
              </a:rPr>
              <a:t>Područja aktivnosti u obrazovanju: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GNITIVNO PODRUČ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nanje, usvojenost programskih sadrža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SIHOMOTORIČKO PODRUČ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aktični radovi, vještine (TK: nagl. psh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FEKTIVNO PODRUČ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nos prema radu, samostalnost, odgovor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ffff99"/>
                </a:solidFill>
                <a:latin typeface="Arial Black"/>
              </a:rPr>
              <a:t>Razine ishoda za kognitivno područje: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N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ZUMIJE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RIMJ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INT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REDN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 Black"/>
              </a:rPr>
              <a:t>Razine ishoda za psihomotoričko područje: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MI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ANIPUL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PREC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RTIKUL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ATURAL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Arial Black"/>
              </a:rPr>
              <a:t>Razine ishoda za afektivno područje :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HVAĆ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AG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Arial"/>
              </a:rPr>
              <a:t>USVAJANJE VRIJE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RGANIZIRANJE VRIJE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REDNOVANJE/PERSONAL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0:28:07Z</dcterms:created>
  <dc:creator>Eugen Ban</dc:creator>
  <dc:description/>
  <dc:language>en-US</dc:language>
  <cp:lastModifiedBy>eban</cp:lastModifiedBy>
  <dcterms:modified xsi:type="dcterms:W3CDTF">2011-09-07T08:49:31Z</dcterms:modified>
  <cp:revision>35</cp:revision>
  <dc:subject/>
  <dc:title>ISHODI UČEN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50</vt:lpwstr>
  </property>
</Properties>
</file>