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D5CB-5853-41CF-94EF-8C4A91FAA263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10FF-E031-4AD3-9077-2CA10C2B886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2FE4-E22E-405F-9EE6-5788C07848E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02A6-BC1D-4E06-B412-AA6A8A24215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4BE-CEC2-4A98-9EBF-495DC52C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7C1-3621-4EB6-9054-3F861E0D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50E-7745-4CA4-9B61-4B9C7257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1F8-AB3E-4B88-BB58-B77B66E0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C2A9-516C-427B-805E-B1A4D5FC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A67B-6B1B-4897-AE72-9DC3AA4F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ECCE-5949-4DE8-BECA-12FB3CEB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B70B-2972-42E2-80EF-39BA8464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D9C8-B0F5-4C01-8533-C04B2A07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B1B4-7D9E-40F2-BD39-426241F2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CF07-10C3-414D-B48D-D3D7295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2A5-5CF2-4043-BC0E-B135A210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FDF0-4387-4634-A03B-B8622AFC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7CE4-7A7F-4E9B-8073-39506837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8469-1B34-4074-88A2-87C3533B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5A65-4265-4222-9C49-EBD0CAB3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73F8-EF65-4D90-8820-BB9CAD9E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7D26-0331-44E2-871F-F313872E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C922-C06C-49C7-9891-1B3B58DB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D012-3F74-49EE-902B-FBF53FBB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2D198-FE18-489F-9C25-87E64758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4924A-3C74-4AC8-B466-6903A42D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B2A-06B3-4BB3-8003-4B25E49C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C64D-A071-461F-B1EA-1B9DC603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92B15-9A23-4537-B8AD-D1FC931E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7215-2DFA-451A-9DEE-DA8289A4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1E022-B9EA-4DFD-AF34-744DBF92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F448-05F7-46B4-8BD0-FADB33AC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0347-9EED-4121-9A13-7FAA41B8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1FA7-FC21-45F2-86A3-5506BE6E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D0F8C-0085-4A06-AF05-0AED5594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EE5F2-0332-4DB5-9B11-8CF96075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82324-E006-41DD-9C1E-D0161457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27E-258D-40B4-88E4-4D10CBE9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2E843-59E4-416A-B92F-386E009B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BAC40-5A40-4680-B1A0-A22F9493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B5E1F-9D0D-41AE-BF7C-3B98A612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CC798-63BC-4A33-9761-AF3A3763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06F47-860B-4B6C-AEBF-17C0440F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2CE01-8859-4A68-A598-D32D2F28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F321-6AA7-4FD0-9D17-FFB42CD0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BEE3E-4246-4335-885C-6FD90BC8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BD4E8-33FF-42CF-AF00-FEFC8B6A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78F-4D41-466C-9301-BD5BD59D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234-16E2-440C-B2BB-EDED3A4C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E68-2C07-4ECE-8A33-A349B081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65B-1BEC-4B7E-ACB1-B9F25089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992-EBD3-4AD9-B7B7-CD5F2E4B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37E2-B82C-480A-BC09-F4F7B4B6F8F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E59A-3362-4DA2-87DE-3BB4F19B3A9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AD30-132C-435C-9A81-449A69C44A4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BE80-5530-4CA8-8779-D875E23F17C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rebuchet MS"/>
              </a:rPr>
              <a:t>INKLUZIJA</a:t>
            </a:r>
            <a:r>
              <a:rPr b="0" lang="hr-HR" sz="3200" spc="-1" strike="noStrike">
                <a:solidFill>
                  <a:srgbClr val="9999ff"/>
                </a:solidFill>
                <a:latin typeface="Trebuchet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rebuchet MS"/>
              </a:rPr>
              <a:t>DJECE S RAZVOJNIM SMETNJAM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Trebuchet MS"/>
              </a:rPr>
              <a:t>U REDOVNI ODGOJNO-OBRAZOVNI SUSTAV  DV SUNCE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826560" y="3068280"/>
            <a:ext cx="597708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900" spc="-1" strike="noStrike">
                <a:solidFill>
                  <a:srgbClr val="009900"/>
                </a:solidFill>
                <a:latin typeface="Trebuchet MS"/>
              </a:rPr>
              <a:t>                    </a:t>
            </a:r>
            <a:r>
              <a:rPr b="0" lang="hr-HR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riredili:    Zlata Simić def. str. su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hr-HR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Orijana Krstić odgojitelj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hr-HR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ranka Mirković odgojitelj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hr-HR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Natalija Begonja odgojitelj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roditelje djece iz skupine defektolog i psiholog  su organizirali sastanak s ciljem senzibilizacije roditelja za teškoću novoupisanog djeteta. Na taj način smo im omogućili formiranje pozitivnog stava kod svoje djece kako bi ih potakli na razumijevanje različitosti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4" name="Picture 8" descr="Picture 434"/>
          <p:cNvPicPr/>
          <p:nvPr/>
        </p:nvPicPr>
        <p:blipFill>
          <a:blip r:embed="rId1"/>
          <a:stretch/>
        </p:blipFill>
        <p:spPr>
          <a:xfrm>
            <a:off x="1547640" y="1844640"/>
            <a:ext cx="5173920" cy="33847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0"/>
          <p:cNvSpPr/>
          <p:nvPr/>
        </p:nvSpPr>
        <p:spPr>
          <a:xfrm>
            <a:off x="465120" y="5516640"/>
            <a:ext cx="792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jekom perioda opservacije uočili smo djetetove slabe i jake strane. Na osnovu tih podataka članovi tima su stvorili Individualizirani odgojno- obrazovni program za dij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8000" y="188640"/>
            <a:ext cx="8766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kaz 2.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ječak oštećena sluha u vrtiću je od jasličke dobi. U doba njegova rođenja nije bilo moguće kod novorođenog djeteta otkriti oštećenje sluha (tri godine kasnije Bolnica Zadar, Odjel neonatologije dobio je aparat kojim je moguće  objektivnom  metodom provjeriti sluh djeteta)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8000" y="1929960"/>
            <a:ext cx="862164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jitelji su u dobi od četiri godine razgovarali s roditeljima o djetetovom “neobičnom” ponašanju. U suradnji s članovima tima sugeriran  im je niz liječničkih  pregleda koji bi doveli do dijagnoze te nam pojasnili stanje djeteta  (to je proces koji vremenski dugo traje, težak je za roditelje i odgojitelje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Picture 6" descr="clip_image002"/>
          <p:cNvPicPr/>
          <p:nvPr/>
        </p:nvPicPr>
        <p:blipFill>
          <a:blip r:embed="rId1"/>
          <a:stretch/>
        </p:blipFill>
        <p:spPr>
          <a:xfrm>
            <a:off x="2627280" y="3692520"/>
            <a:ext cx="40323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129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pet godina djeteta utvrdilo se kako je dijete nagluho te je uključeno u logopedski tretman. Roditelji su  odlučili završiti cijeli proces te su zatražili Nalaz i mišljenje o težini i vrsti invaliditeta-oštećenju funkcionalnih sposobnosti,  Zavoda za vještačenje, profesionalnu rehabilitaciju i zapošljavanje osoba s invaliditetom, kako bi ostvarili prava iz područja socijalne skrbi. U odgojnoj skupini smanjen je broj djece poštujući odredbe DPS predškolskog odgoja i naobrazbe.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6920" y="3428640"/>
            <a:ext cx="7694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 godini pred polazak u školu dijete je osim u logopedski tretman uključeno i u defektološki tretman pri vrtiću, u skupini je i dalje smanjen broj djece poštujući odredbe DP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jenivši jake i slabe strane djeteta članovi tima su radili na stvaranj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iziranog odgojno obrazovniog programa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vrtića prenio je informacije o oba djeteta školskim timovima s ciljem izbora najprimjerenijih učitelja za njihov optimalan napredak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755640" y="1291680"/>
            <a:ext cx="813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Zakon o predškolskom odgoju i obrazovanju, Narodne novine br: 10/97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/07,94/13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Državni pedagoški standard predškolskog odgoja i naobrazbe (2008). Zagre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arstvo znanosti obrazovanja i športa 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Daniels,R.E.,Stafford,K.,(2003).Kurikulum za inkluziju, Zagreb, Ma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Juul, J.,(2001).Vaše kompetentno dijete, Zagreb,  Edu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Heekin, S., Mengel, P., (1997). Novi prijatelji-priručnik za odgajatelje i uči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greb, Mali profe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Milanović,M.,Sekulić-Majurec,A.,(2000).Skrb za dijete i poticanje ranog razvo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jeteta u RH,  Zagreb, Tar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HURID,(2015). Razvoj inkluzivne prakse u dječjim vrtićima, Nacionalna zak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razvoj civilnog društ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132000" y="476280"/>
            <a:ext cx="25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6348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be s teškoćama kroz povijest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dnos društva prema osobama s teškoćama 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jenjao se kroz povijest):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 prvobitnoj zajednici smatrali su ih nekorisnima (nisu mogli sudjelovati 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cesu preživljavanja) pa su prepušteni “sami sebi”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 antičko doba u Sparti bacali su ih u klanac planine Tajge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 Starom Rimu djeca su se puštala u košari od pruća niz rijeku Tib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 srednjem vijeku stav se mijenja pod utjecajem ideologije kršćanstva, pri samostanima “niču” prve ustanove za njihovo zbrinjavan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d 14-16 stoljeća razni filozofi su dokazivali kako su osobe s teškoćama sposobne učiti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 17 i 18 stoljeću utemeljene su prve škole u Parizu, Velikoj Britaniji, SAD koje su koristile Itardovu posebnu metodu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935280" y="235440"/>
            <a:ext cx="734580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rebuchet MS"/>
              </a:rPr>
              <a:t>SEGREGACIJA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5760" y="1483920"/>
            <a:ext cx="8364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-92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1900.god. M. Montessori otvorila je SPECIJALNU DRŽAVNU ŠKOLU u kojoj  je koristila svoje metode i poznati montessori pribor (služi za poticanje razvoja osjetila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92160" indent="-92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u Rusiji 1917. god. utemeljen je sustav posebne izobrazbe tj. utemeljen je sustav SEGREGACIJE (to su dva sasvim odvojena, samostalna školska sustava, REDOVNI i SPECIJALNI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92160" indent="-92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na NEGATIVNE posljedice sustava segregacije upozorio je u svojim istraživanjima Vygotski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92160" indent="-92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</a:t>
            </a: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življenje djece po principima INTERNATSKOG odgoja                                   (daleko od obitelji i prijatelja) uzrokuje društveno  otupljivan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92160" indent="-92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djeca s teškoćama dodatno su oštećena jer nisu                                       zadovoljene  njihove osnovne društvene potrebe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357120"/>
            <a:ext cx="80643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.god. roditelji  djece s poteškoćama u razvoju: EUROPE, SAD i KANADE uključivali su svoju djecu u redovne odgojno-obrazovne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e kako bi izbjegli etiketiranje svoje djece. Tako se došlo na ideju INTEGRACIJE (uključivanje djece s razvojnim teškoćama u redovan proces odgoja i obrazovanja bez primjerenog odgojno-obrazovnog programa). Prednosti za: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99640" y="2349000"/>
            <a:ext cx="366876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-92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jecu sa razvojnim teškoćama su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92160" indent="-92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bolja mogućnost socijalizacije (vršnjaci su im model za komuniciranje i razvojno-primjereno ponašanje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92160" indent="-92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veća motivacija za aktivnosti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92160" indent="-92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mijenjaju stavove socijalne okoline (kroz osobne uspjehe) i time suzbijaju predrasude okoline prema sebi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0" y="2349000"/>
            <a:ext cx="367524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jecu bez razvojnih teškoća su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</a:t>
            </a:r>
            <a:r>
              <a:rPr b="1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poznaje o međusobnim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dividualnim razlikam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prihvaćanje različitosti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učenje socijalnoj toleranciji (imaju bolje odnose s ljudima koji su drukčiji od njih samih, razvijaju  društvenu odgovornost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92468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rebuchet MS"/>
              </a:rPr>
              <a:t>Konvencija o pravima djeteta (iz 1989.god.)</a:t>
            </a:r>
            <a:br>
              <a:rPr sz="2900"/>
            </a:br>
            <a:r>
              <a:rPr b="0" lang="hr-HR" sz="2900" spc="-1" strike="noStrike">
                <a:solidFill>
                  <a:srgbClr val="000000"/>
                </a:solidFill>
                <a:latin typeface="Trebuchet MS"/>
              </a:rPr>
              <a:t>kaže kako djeca s TUR imaju pravo na:</a:t>
            </a:r>
            <a:br>
              <a:rPr sz="2900"/>
            </a:br>
            <a:r>
              <a:rPr b="0" lang="hr-HR" sz="29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br>
              <a:rPr sz="2900"/>
            </a:br>
            <a:r>
              <a:rPr b="0" lang="hr-HR" sz="2900" spc="-1" strike="noStrike">
                <a:solidFill>
                  <a:srgbClr val="000000"/>
                </a:solidFill>
                <a:latin typeface="Trebuchet MS"/>
              </a:rPr>
              <a:t>                -društvo vršnjaka</a:t>
            </a:r>
            <a:br>
              <a:rPr sz="2900"/>
            </a:br>
            <a:r>
              <a:rPr b="0" lang="hr-HR" sz="2900" spc="-1" strike="noStrike">
                <a:solidFill>
                  <a:srgbClr val="000000"/>
                </a:solidFill>
                <a:latin typeface="Trebuchet MS"/>
              </a:rPr>
              <a:t>                -programe ranog odgoja i</a:t>
            </a:r>
            <a:br>
              <a:rPr sz="2900"/>
            </a:br>
            <a:r>
              <a:rPr b="0" lang="hr-HR" sz="2900" spc="-1" strike="noStrike">
                <a:solidFill>
                  <a:srgbClr val="000000"/>
                </a:solidFill>
                <a:latin typeface="Trebuchet MS"/>
              </a:rPr>
              <a:t>                 obrazovanja</a:t>
            </a:r>
            <a:br>
              <a:rPr sz="2900"/>
            </a:br>
            <a:r>
              <a:rPr b="0" lang="hr-HR" sz="2900" spc="-1" strike="noStrike">
                <a:solidFill>
                  <a:srgbClr val="000000"/>
                </a:solidFill>
                <a:latin typeface="Trebuchet MS"/>
              </a:rPr>
              <a:t>                -veselo i bezbrižno djetinjstvo</a:t>
            </a:r>
            <a:br>
              <a:rPr sz="2900"/>
            </a:br>
            <a:br>
              <a:rPr sz="2900"/>
            </a:br>
            <a:r>
              <a:rPr b="0" lang="hr-HR" sz="2900" spc="-1" strike="noStrike">
                <a:solidFill>
                  <a:srgbClr val="000000"/>
                </a:solidFill>
                <a:latin typeface="Trebuchet MS"/>
              </a:rPr>
              <a:t>MODEL INKLUZIVNE EDUKACIJE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2124000" y="4581360"/>
            <a:ext cx="42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(1994. god. UNESCO konferencija)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s mo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43280" y="4875120"/>
            <a:ext cx="75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RUŠTVO ZA SVE – EDUKACIJA ZA SVE – ŠKOLA ZA S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1042920" y="5084640"/>
            <a:ext cx="7817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971640" y="5445000"/>
            <a:ext cx="76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kacija koja  je usmjerena na djetetove mogućnosti ( interese, sposobnosti i potencijale). Sva djeca se upisuju</a:t>
            </a:r>
            <a:r>
              <a:rPr b="0" lang="hr-H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redovne  vrtiće i škole uz educiran kadar te individualno kreirane prog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993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LUZIVNE skupine  djeci: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1268280"/>
            <a:ext cx="85690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mogućavaju  razvoj sposobnosti putem individualiziranog poučavanj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siguravaju mogućnost izbora što ih potiče na daljnji razvoj i  učen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dgojitelj koji radi u  INKLUZIVNOJ skupini  usmjere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je na činjenic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 razvojnom putu djeca imaju više sličnosti nego razlik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itacijom djeca najbolje uč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 okruženju koje koje poštuje potrebe djece i omogućuje individualan rad ona se najbolje razvijaj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azličitim oblicima komunikacije pružanje podrške obiteljima u odgoju djec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049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rebuchet MS"/>
              </a:rPr>
              <a:t>Upoznajte djecu o kojoj ćemo govoriti u radionici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640" y="1571760"/>
            <a:ext cx="819648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ječak s oštećenjem vida – ima pet godina i potpuno izgubljen vid na jedno oko zbog genetske bolesti, vid na drugom oku je očuvan. Majka je Prijavi za upisu vrtić priložila  potpunu medicinsku dokumentaciju te Nalaz i mišljenje o težini i vrsti invaliditeta-oštećenju funkcionalnih sposobnosti,  Zavoda za vještačenje, profesionalnu rehabilitaciju i zapošljavanje osoba s invaliditetom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ječak s oštećenjem sluha – ima šest godina, nagluh je, kako bi mogao pratiti program skupine treba nositi slušne aparate na oba uha i to cijelo vrijeme boravka u vrtiću. U našoj Ustanovi  je od jasličke dobi. “Neobično” ponašanje zamijetili su odgojitelji i roditelji u petoj godini djeteta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ranje ove djece u programe vrtića određeno je Zakonom o predškolskom odgoju i naobrazbi te Državnim pedagoškim standardom predškolskog odgoja i naobrazbe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777888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rebuchet MS"/>
              </a:rPr>
              <a:t>Uloga tima u inkluziji ova dva dječak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8" name="Picture 7" descr="DSC00269"/>
          <p:cNvPicPr/>
          <p:nvPr/>
        </p:nvPicPr>
        <p:blipFill>
          <a:blip r:embed="rId1"/>
          <a:stretch/>
        </p:blipFill>
        <p:spPr>
          <a:xfrm>
            <a:off x="1619280" y="3143160"/>
            <a:ext cx="4881600" cy="35006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644400" y="907920"/>
            <a:ext cx="73836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kaz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ka dječaka oštećenog vida javila se u vrtić van upisnog roka. Ravnateljica je prikupila informacije o kakvoj teškoći djeteta se radi, te je odmah pozvala članove tima (defektologa, psihologa i pedagoga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 prvom susretu s majkom defektolog i psiholog su pratili ponašanje djeteta i njegov odnos s majk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289080"/>
            <a:ext cx="835812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drugom susretu s majkom i djetetom pokušale smo procijeniti u koju vrstu programa bi bilo najprimjerenije uključiti dijete.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žile smo se kako je najprimjerenije dijete uključiti u program predškole (DPS s obzirom na teškoću djetetu pruža mogućnost uključenja u vrtić dvije godine prije polaska u školu, starija djeca, mogućnost smanjenja broja djece u skupini). Članovi tima su senzibilizirali odgojiteljicu za teškoću djeteta.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86840" y="2276280"/>
            <a:ext cx="6688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trećem susretu upoznale smo odgojiteljicu s dječakom i majkom te dogovorile kroz koje aktivnosti će pripremati djecu skupine na dječakov dolazak</a:t>
            </a:r>
            <a:r>
              <a:rPr b="0" lang="hr-HR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7" descr="DSC00270"/>
          <p:cNvPicPr/>
          <p:nvPr/>
        </p:nvPicPr>
        <p:blipFill>
          <a:blip r:embed="rId1"/>
          <a:stretch/>
        </p:blipFill>
        <p:spPr>
          <a:xfrm>
            <a:off x="2556000" y="3429000"/>
            <a:ext cx="4319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2:11:27Z</dcterms:created>
  <dc:creator>M.J</dc:creator>
  <dc:description/>
  <dc:language>en-US</dc:language>
  <cp:lastModifiedBy>pc</cp:lastModifiedBy>
  <dcterms:modified xsi:type="dcterms:W3CDTF">2017-03-19T18:28:25Z</dcterms:modified>
  <cp:revision>148</cp:revision>
  <dc:subject/>
  <dc:title>INTEGRACIJA DJECE S TUR U ODGOJNO-OBRAZOVNI SUSTAV</dc:title>
</cp:coreProperties>
</file>