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139-2309-4E15-A4BB-2DADAC4C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85F-0EA3-44D9-87BE-12D410BA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379-C42E-4598-9F24-BC28B415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1BB-9A63-4B06-B5C3-2B6AC69C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A4B-309B-4075-8531-47796B04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82D-6FBD-412F-8DFA-D29F95FE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357-C17B-4745-A8DD-C197BC5E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BE6-1639-4987-91E9-D5E5E7B5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232-1EEB-4ED8-872B-79BA3C13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479-8565-4E40-AB28-7D2B6DE8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B20-C0ED-49E8-ADFF-D71ED44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FA9-A1AA-453A-8AA1-21AC23C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14D7-19BC-4D05-8440-C6392575A2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ethe-verlag.com/lehrersprache.htm" TargetMode="External"/><Relationship Id="rId2" Type="http://schemas.openxmlformats.org/officeDocument/2006/relationships/hyperlink" Target="http://www.the-english-academy.de/fileadmin/content_tea/pdf/lesestoff/PE2_10_46_48.pdf" TargetMode="External"/><Relationship Id="rId3" Type="http://schemas.openxmlformats.org/officeDocument/2006/relationships/hyperlink" Target="http://education.stateuniversity.com/pages/1916/Discourse.html" TargetMode="External"/><Relationship Id="rId4" Type="http://schemas.openxmlformats.org/officeDocument/2006/relationships/hyperlink" Target="http://education.stateuniversity.com/pages/1916/Discourse.html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ethe-verlag.com/lehrersprache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8320" y="54900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Razvijanje nastavnikove jezične kompetencije </a:t>
            </a:r>
            <a:br>
              <a:rPr sz="2900"/>
            </a:b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u razrednome diskursu</a:t>
            </a:r>
            <a:br>
              <a:rPr sz="2900"/>
            </a:b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Interaktivno izlaganje</a:t>
            </a:r>
            <a:br>
              <a:rPr sz="29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dr. sc. Marija Lütze-Miculinić, doc. 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Odsjek za germanistiku, FFZG Zagre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1042920" y="530064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Arial"/>
              </a:rPr>
              <a:t>Državn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Arial"/>
              </a:rPr>
              <a:t> struč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ni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Arial"/>
              </a:rPr>
              <a:t> skup za učitelje i nastavnike njemačkoga jezika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Arial"/>
              </a:rPr>
              <a:t>Zadar, 10. siječnja 201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916360" y="2997360"/>
            <a:ext cx="36781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030a0"/>
                </a:solidFill>
                <a:latin typeface="Calibri"/>
              </a:rPr>
              <a:t>US im Fremdsprachenunterr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= alle sprachlichen Ausdrücke und Äußerungen, mit denen Schüler und Lehrer auf dem Schulgelände (v.a. im Klassenzimmer) kommunizieren, wenn sie unterrichtsbezogene Inhalte und authentische Begebenheiten aus dem Schulalltag versprachli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030a0"/>
                </a:solidFill>
                <a:latin typeface="Calibri"/>
              </a:rPr>
              <a:t>Besonderheiten – US im Fremdsprachenunterr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prache als Lernmittel und Lerngegenstand (Medium und Objekt des Lerne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073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030a0"/>
                </a:solidFill>
                <a:latin typeface="Calibri"/>
              </a:rPr>
              <a:t>Besonderhei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orhersehbarer Teil der Lehrersprach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itualisiertes Unterrichtsgesprä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.B. Themenankündigungen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rufen schon bekannter Inhalt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ederholun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klärun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weis auf wichtige Fakten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alogsteuerun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wertung von Schüleraussagen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030a0"/>
                </a:solidFill>
                <a:latin typeface="Calibri"/>
              </a:rPr>
              <a:t>Besonderhei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) Unvorhersehbarkei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 wird der Schüler wohl fragen? Wie soll ich darauf reagie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bl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schwerte Unterrichtsvorberei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mprovisationen notwendi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klärungen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mmentar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fäll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ekdoten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030a0"/>
                </a:solidFill>
                <a:latin typeface="Calibri"/>
              </a:rPr>
              <a:t>Bezugsfel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Thema, Unterrichtsgegenstand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Tko je ov</a:t>
            </a:r>
            <a:r>
              <a:rPr b="0" i="1" lang="de-DE" sz="2700" spc="-1" strike="noStrike">
                <a:solidFill>
                  <a:srgbClr val="000000"/>
                </a:solidFill>
                <a:latin typeface="Calibri"/>
              </a:rPr>
              <a:t>o tu na slici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? Kako se zov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prache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Kako se to kaže na njemačko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Aufrechterhaltung der Verständigung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Jesi li to h</a:t>
            </a:r>
            <a:r>
              <a:rPr b="0" i="1" lang="de-DE" sz="2700" spc="-1" strike="noStrike">
                <a:solidFill>
                  <a:srgbClr val="000000"/>
                </a:solidFill>
                <a:latin typeface="Calibri"/>
              </a:rPr>
              <a:t>ti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o reći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Organisation der unterrichtlichen Arbeit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Tko će pročitati sljedeći zadatak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sziplin 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Slušajte me! Bez šalabahtera, molim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Realsituationen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2700" spc="-1" strike="noStrike">
                <a:solidFill>
                  <a:srgbClr val="000000"/>
                </a:solidFill>
                <a:latin typeface="Calibri"/>
              </a:rPr>
              <a:t>Jesi li ozdravio? Dobrodošao natrag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3-6 „</a:t>
            </a: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Nebenkommunikation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“ 15-35% der Unterrichtsze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Voss 2009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030a0"/>
                </a:solidFill>
                <a:latin typeface="Calibri"/>
              </a:rPr>
              <a:t>Nebenkommunik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ortei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uthentische Gesprächsanläs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überzeugende und zweckgemäß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orbereitung auf reale Interaktion in der Fremdspr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rhöhte Motivation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der Su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=&gt; spontane verbale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erbal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 Reaktio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pontaner Erwerb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ein mühsames Ler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uthentisch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mo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hä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höhere Sprachkompetenz des Lehrers und der 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2d050"/>
                </a:solidFill>
                <a:latin typeface="Calibri"/>
              </a:rPr>
              <a:t>Strategien und Technike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er Lehrer als Vorb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29068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635280" y="4292640"/>
            <a:ext cx="26956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2d050"/>
                </a:solidFill>
                <a:latin typeface="Calibri"/>
              </a:rPr>
              <a:t>Aufgekl</a:t>
            </a:r>
            <a:r>
              <a:rPr b="1" lang="de-DE" sz="4400" spc="-1" strike="noStrike">
                <a:solidFill>
                  <a:srgbClr val="92d050"/>
                </a:solidFill>
                <a:latin typeface="Calibri"/>
              </a:rPr>
              <a:t>ärte Einsprachigkeit: Sandwich-Technik</a:t>
            </a:r>
            <a:r>
              <a:rPr b="0" lang="de-DE" sz="4400" spc="-1" strike="noStrike">
                <a:solidFill>
                  <a:srgbClr val="92d050"/>
                </a:solidFill>
                <a:latin typeface="Calibri"/>
              </a:rPr>
              <a:t> </a:t>
            </a:r>
            <a:r>
              <a:rPr b="0" lang="hr-HR" sz="4400" spc="-1" strike="noStrike">
                <a:solidFill>
                  <a:srgbClr val="92d050"/>
                </a:solidFill>
                <a:latin typeface="Calibri"/>
              </a:rPr>
              <a:t>(Bsp. 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L2 ⇒ </a:t>
            </a:r>
            <a:r>
              <a:rPr b="0" lang="de-DE" sz="3600" spc="-1" strike="noStrike">
                <a:solidFill>
                  <a:srgbClr val="4f81bd"/>
                </a:solidFill>
                <a:latin typeface="Calibri"/>
              </a:rPr>
              <a:t>L1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⇒ L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hrer: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as ist denn los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3200" spc="-1" strike="noStrike">
                <a:solidFill>
                  <a:srgbClr val="4f81bd"/>
                </a:solidFill>
                <a:latin typeface="Calibri"/>
              </a:rPr>
              <a:t>Što te muči?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⇒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üler: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as ist denn 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ie Muttersprache kann der Tropfen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l sein, ohne den das Räderwerk der fremdsprachigen Kommunikation knirsch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d zum Stillstand kommt.“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Butzkamm 2007: 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75640" y="404640"/>
            <a:ext cx="16570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2d050"/>
                </a:solidFill>
                <a:latin typeface="Calibri"/>
              </a:rPr>
              <a:t>Sandwich-Technik</a:t>
            </a:r>
            <a:r>
              <a:rPr b="0" lang="de-DE" sz="4400" spc="-1" strike="noStrike">
                <a:solidFill>
                  <a:srgbClr val="92d050"/>
                </a:solidFill>
                <a:latin typeface="Calibri"/>
              </a:rPr>
              <a:t> </a:t>
            </a:r>
            <a:r>
              <a:rPr b="0" lang="hr-HR" sz="4400" spc="-1" strike="noStrike">
                <a:solidFill>
                  <a:srgbClr val="92d050"/>
                </a:solidFill>
                <a:latin typeface="Calibri"/>
              </a:rPr>
              <a:t>(Bsp.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L: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Morgen ist kein Deutsch. Morgen gibt es keine Deutschstunde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verneinende Geste!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Die Deutschstunde f</a:t>
            </a: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Calibri"/>
              </a:rPr>
              <a:t>ällt aus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de-DE" sz="2800" spc="-1" strike="noStrike">
                <a:solidFill>
                  <a:srgbClr val="376092"/>
                </a:solidFill>
                <a:latin typeface="Calibri"/>
              </a:rPr>
              <a:t>Sutra nema njema</a:t>
            </a:r>
            <a:r>
              <a:rPr b="0" i="1" lang="hr-HR" sz="2800" spc="-1" strike="noStrike">
                <a:solidFill>
                  <a:srgbClr val="376092"/>
                </a:solidFill>
                <a:latin typeface="Calibri"/>
              </a:rPr>
              <a:t>č</a:t>
            </a:r>
            <a:r>
              <a:rPr b="0" i="1" lang="de-DE" sz="2800" spc="-1" strike="noStrike">
                <a:solidFill>
                  <a:srgbClr val="376092"/>
                </a:solidFill>
                <a:latin typeface="Calibri"/>
              </a:rPr>
              <a:t>koga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376092"/>
                </a:solidFill>
                <a:latin typeface="Calibri"/>
              </a:rPr>
              <a:t>(leise) </a:t>
            </a: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Die Deutschstunde f</a:t>
            </a: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Calibri"/>
              </a:rPr>
              <a:t>ällt au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. (la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Ich bin nicht da. </a:t>
            </a: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Ich gehe auf eine Fortbildungstagung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2800" spc="-1" strike="noStrike">
                <a:solidFill>
                  <a:srgbClr val="376092"/>
                </a:solidFill>
                <a:latin typeface="Calibri"/>
              </a:rPr>
              <a:t>Idem na stručno usavršavanje.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376092"/>
                </a:solidFill>
                <a:latin typeface="Calibri"/>
              </a:rPr>
              <a:t>(lei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376092"/>
                </a:solidFill>
                <a:latin typeface="Calibri"/>
              </a:rPr>
              <a:t>stručno usavršavanje</a:t>
            </a:r>
            <a:r>
              <a:rPr b="0" i="1" lang="de-DE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376092"/>
                </a:solidFill>
                <a:latin typeface="Calibri"/>
              </a:rPr>
              <a:t>(leise)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Fortbildungstagung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(la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Also ist morgen Deutschunterricht oder nic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789600" y="476280"/>
            <a:ext cx="1659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2d050"/>
                </a:solidFill>
                <a:latin typeface="Calibri"/>
              </a:rPr>
              <a:t>Grammatische Vorwegnah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wendung schwieriger gram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tisch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Einheiten, bevor es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er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hrplan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rsieh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z.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ch h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ätte gerne eine genauere Antw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Könnte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hr 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bitte etwas lauter sprec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72bd3"/>
                </a:solidFill>
                <a:latin typeface="Calibri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Unterrichtsdisku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7030a0"/>
                </a:solidFill>
                <a:latin typeface="Calibri"/>
              </a:rPr>
              <a:t>Unterrichtsspr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000"/>
                </a:solidFill>
                <a:latin typeface="Calibri"/>
              </a:rPr>
              <a:t>Unterrichtssprache Deut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92d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2d050"/>
                </a:solidFill>
                <a:latin typeface="Calibri"/>
              </a:rPr>
              <a:t>Strategien und Techni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iteratur &amp; Anh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2d050"/>
                </a:solidFill>
                <a:latin typeface="Calibri"/>
              </a:rPr>
              <a:t>Gutes Deutsch = echtes Deuts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mgangssprache, Abtönungs- und Fragepartikeln, Redewendungen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Was soll denn der Krach dahin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Erzähl mir bloß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keine Geschich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Hört endlich auf, herumzualbe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Da liegst du goldrichti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707160" y="2565360"/>
            <a:ext cx="19270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2d050"/>
                </a:solidFill>
                <a:latin typeface="Calibri"/>
              </a:rPr>
              <a:t>Der Schüler soll mitr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Schülerzentrierter Unterricht schließt den S in den Unterricht ein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Mitbestimmung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orschläge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Fragen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ünsche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esprechungen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Einwände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Das wollte ich auch sag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Lasst mich doch mal ausrede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Herr Maras, können Sie uns diesmal nicht die Hausaufgaben erlass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Darf ich mal etwas auf Kroatisch sagen? Ich kann es leider nicht auf Deutsch sag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2d050"/>
                </a:solidFill>
                <a:latin typeface="Calibri"/>
              </a:rPr>
              <a:t>Der Schüler soll mitreden </a:t>
            </a:r>
            <a:br>
              <a:rPr sz="4000"/>
            </a:br>
            <a:r>
              <a:rPr b="1" lang="hr-HR" sz="4000" spc="-1" strike="noStrike">
                <a:solidFill>
                  <a:srgbClr val="92d050"/>
                </a:solidFill>
                <a:latin typeface="Calibri"/>
              </a:rPr>
              <a:t>+ </a:t>
            </a:r>
            <a:r>
              <a:rPr b="1" lang="de-DE" sz="4000" spc="-1" strike="noStrike">
                <a:solidFill>
                  <a:srgbClr val="92d050"/>
                </a:solidFill>
                <a:latin typeface="Calibri"/>
              </a:rPr>
              <a:t>Sandwich-Techni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To sam i ja htio reć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Wie bitte? Wie sagt man das auf Deutsch? Das kennen wir doch sch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 gibt Hilfe, wenn nötig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Das wollte ich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Das wollte ich auch sa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Du wolltest also dasselbe wie den Vorredner sa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2d050"/>
                </a:solidFill>
                <a:latin typeface="Calibri"/>
              </a:rPr>
              <a:t>Strategien und Techniken – Zf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er als sprachliches Vorb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geklärte Einsprachigkeit: Sandwich-Tech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orwegnahme noch unbearbeiteter Grammatikeinheiten im Rahmen der Nebenkommunik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: authentische Spra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: aktive Teilnahme der 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S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mulieren reale Situationen in Mini-Dialogen, stellen Fragen zu Themen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die ihnen wirklich etwas bedeuten, kommentieren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äußern ihre Meinung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hre Wünsche, lösen lebensnahe Aufgaben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uS tragen US-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sdrücke in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hr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Vokabelheft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Problembereich</a:t>
            </a:r>
            <a:br>
              <a:rPr sz="44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Pragmalinguis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rede: 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Jakove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, otvori prozor! Profesorice, on me zafrkav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=&gt;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 Jakov, mach doch mal bitte das Fenster auf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(Kein Vokativ im Deutsch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Frau Müller, er macht sich über mich lusti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rede: Herr/Frau + Nachn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580000" y="476280"/>
            <a:ext cx="17305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Problembereich</a:t>
            </a:r>
            <a:br>
              <a:rPr sz="44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Pragmalinguis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öflichkeit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üllwörter, Modalpartikeln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bitte, mal, doch, jetzt, vielleicht...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gesätze statt Befehle +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odalverben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öchte noch jemand was ergänz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orschläge statt Befehle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Jetzt kann Theo vielleicht weiter erzählen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Verbalmorph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602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84720" y="692280"/>
            <a:ext cx="19670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Verbalmorph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128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Trennbare Verben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orlesen, anfangen, abhängen, zuhören, hin</a:t>
            </a: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Calibri"/>
              </a:rPr>
              <a:t>zu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fügen, abschrei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flexive Verben: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sich etwas ansehen, sich etw. vorstellen, sich etw. aufschrei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Pogledajte ovaj primje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=&gt;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Seht euch mal dieses Beispiel a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ular Callout 6"/>
          <p:cNvSpPr/>
          <p:nvPr/>
        </p:nvSpPr>
        <p:spPr>
          <a:xfrm>
            <a:off x="4356000" y="1700280"/>
            <a:ext cx="914400" cy="612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ounded Rectangular Callout 13"/>
          <p:cNvSpPr/>
          <p:nvPr/>
        </p:nvSpPr>
        <p:spPr>
          <a:xfrm>
            <a:off x="3419640" y="1268280"/>
            <a:ext cx="2427120" cy="1405080"/>
          </a:xfrm>
          <a:prstGeom prst="wedgeRoundRectCallout">
            <a:avLst>
              <a:gd name="adj1" fmla="val 75000"/>
              <a:gd name="adj2" fmla="val -41666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360" y="1397160"/>
          <a:ext cx="2232000" cy="118872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ebe Kind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t fein ach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h hab´ euch etw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tgebracht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19080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Verbalmorph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Richtungs- und Ortsanga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2" descr=""/>
          <p:cNvPicPr/>
          <p:nvPr/>
        </p:nvPicPr>
        <p:blipFill>
          <a:blip r:embed="rId1"/>
          <a:stretch/>
        </p:blipFill>
        <p:spPr>
          <a:xfrm>
            <a:off x="317520" y="1530360"/>
            <a:ext cx="8369280" cy="459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6875640" y="2133720"/>
            <a:ext cx="1552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Calibri"/>
              </a:rPr>
              <a:t>Wie hei</a:t>
            </a: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ßt das auf Deuts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dući tjedan nećemo imati njemački jer idem na stručno usavršavanje u Zad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ächste Woch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fällt die Deutschstunde aus, weil ich zu einer Fortbildungstagung nach Zadar mu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Pronom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2" descr=""/>
          <p:cNvPicPr/>
          <p:nvPr/>
        </p:nvPicPr>
        <p:blipFill>
          <a:blip r:embed="rId1"/>
          <a:stretch/>
        </p:blipFill>
        <p:spPr>
          <a:xfrm>
            <a:off x="334800" y="1547640"/>
            <a:ext cx="8358480" cy="4840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627280" y="2781360"/>
            <a:ext cx="94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utzkamm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olfgang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(2007)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Unterrichtssprache Deutsch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 2. aktualisierte Auflage, München: Hueb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Čurković-Kalebić, Sanja (2008):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Teacher Talk in Foreign Language Teach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Split: Red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Gerčan, Oktavija i Menac, Antica (1974): 100 Zapovijedi razrednih. </a:t>
            </a:r>
            <a:r>
              <a:rPr b="0" i="1" lang="da-DK" sz="1800" spc="-1" strike="noStrike">
                <a:solidFill>
                  <a:srgbClr val="000000"/>
                </a:solidFill>
                <a:latin typeface="Calibri"/>
              </a:rPr>
              <a:t>Strani jezic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, 3 (4), str. 291-29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Lehrersprache im Deutschunterricht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oethe-verlag.com/lehrersprache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chröder, Konrad (2010): Problematischer Input. Der classroom doscourse wird im Englischunterricht häufig vernachlässigt in </a:t>
            </a: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Praxis Englisch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/2010.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-english-academy.de/fileadmin/content_tea/pdf/lesestoff/PE2_10_46_4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oss, Bernd (2009): </a:t>
            </a: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Zur Bedeutung der Unterrichtssprache im Fremdsprachenunterricht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 In: </a:t>
            </a: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Praktische Handreichung für Fremdsprachenlehrer.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g. Udo O. H. Jung, 5. durchges. Aufl., Frankfurt am Main: Peter Lang, S. 57–6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rhovac, Yvonne (2001)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ovorna komunikacija i interakcija na satu stranoga jezik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Zagreb: Naklada Ljev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education.stateuniversity.com/pages/1916/Discourse.html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(Zugriff: 7. Januar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Wie lauten die Entsprechung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71640" y="1595520"/>
          <a:ext cx="7272360" cy="4535280"/>
        </p:xfrm>
        <a:graphic>
          <a:graphicData uri="http://schemas.openxmlformats.org/drawingml/2006/table">
            <a:tbl>
              <a:tblPr/>
              <a:tblGrid>
                <a:gridCol w="3797280"/>
                <a:gridCol w="3475080"/>
              </a:tblGrid>
              <a:tr h="106920">
                <a:tc gridSpan="2"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terrichtssprache Deuts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ie lauten die</a:t>
                      </a:r>
                      <a:r>
                        <a:rPr b="1" lang="hr-HR" sz="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Entsprechungen</a:t>
                      </a:r>
                      <a:r>
                        <a:rPr b="1" lang="de-DE" sz="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o imamo za idući tjedan za zadaću iz njemačkog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je sad na redu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to je to. (na kraju izlaganja, ppt, referata i sl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orice, kako se to kaže na njemačkom? Profesorice, kako se na njemačkom kaže trajekt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gu li ja sad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je smo ono stali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ipe i Jakove, </a:t>
                      </a: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</a:t>
                      </a: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 li malo tiše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im te, prestani škljocati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ijelite radne listiće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pite listiće i vratite mi ih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pi listiće i vrati mi ih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ijeme je isteklo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ji je danas datum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pišite u bilježnice ono što ću vam sada diktirati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im te, dođi ovamo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je to piše? – U knjizi, na str. 7 gore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će nam sad ovu rečenicu prevesti na njemački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bi htio nešto dodati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ušajte me svi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</a:t>
                      </a: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</a:t>
                      </a: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ječnik?</a:t>
                      </a: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ko je ponio rječnik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i bilo sve za danas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o svi van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isi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Lösu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71640" y="1595520"/>
          <a:ext cx="7488000" cy="4535280"/>
        </p:xfrm>
        <a:graphic>
          <a:graphicData uri="http://schemas.openxmlformats.org/drawingml/2006/table">
            <a:tbl>
              <a:tblPr/>
              <a:tblGrid>
                <a:gridCol w="3909960"/>
                <a:gridCol w="3578040"/>
              </a:tblGrid>
              <a:tr h="106920">
                <a:tc gridSpan="2"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terrichtssprache Deuts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 lauten die</a:t>
                      </a: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ntsprechungen</a:t>
                      </a:r>
                      <a:r>
                        <a:rPr b="1" lang="de-DE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haben wir für nächste Woche in Deutsch auf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o imamo za idući tjedan za zadaću iz njemačkog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ist dran?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ist an der Reihe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je sad na redu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, das war's. Also, das war's dann wohl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 wär's dann wohl gewesen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to je to. (na kraju izlaganja, ppt, referata i sl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u Baždarić, wie heißt das auf Deutsch? Frau Baždarić, wie heißt trajekt auf Deutsch? Frau Baždarić, wie sagt man trajekt auf Deutsch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orice, kako se to kaže na njemačkom? Profesorice, kako se na njemačkom kaže trajekt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f ich jetzt ...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gu li ja sad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 waren wir letztes Mal stehengeblieben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 waren wir das letzte Mal stehengeblieben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je smo ono stali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ip und Jakov, geht das bitte auch etwas leiser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ipe i Jakove, može li malo tiše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önntest du bitte das Knipsen lassen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im te, prestani škljocati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ilt jetzt mal die Arbeitsblätter aus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ijelite radne listiće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melt bitte die Zettel ein und gebt sie mir zurück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mle bitte die Zettel ein und gib sie mir zurück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pite listiće i vratite mi ih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pi listiće i vrati mi ih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 Zeit ist um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ijeme je isteklo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 wievielten haben wir heute?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ches Datum haben wir heute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ji je danas datum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eibt jetzt mal ins Heft, was ich euch diktieren werde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pišite u bilježnice ono što ću vam sada diktirati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m doch mal her!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m mal bitte her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im te, dođi ovamo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 steht das? – [Das steht] im Lehrbuch oben auf Seite 7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je to piše? – U knjizi, na str. 7 gore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kann uns diesen Satz ins Deutsche übersetzen?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möchte jetzt diesen Satz ..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će nam sad ovu rečenicu prevesti na njemački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hat etwas hin</a:t>
                      </a:r>
                      <a:r>
                        <a:rPr b="1" lang="de-DE" sz="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u</a:t>
                      </a: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fügen?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m</a:t>
                      </a: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öchte noch etwas hin</a:t>
                      </a:r>
                      <a:r>
                        <a:rPr b="1" lang="hr-HR" sz="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u</a:t>
                      </a: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gen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bi htio nešto dodati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 mal herhören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ušajte me svi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hat ein Wörterbuch mit?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 von euch hat ein Wörterbuch dabei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o </a:t>
                      </a: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</a:t>
                      </a: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ječnik?</a:t>
                      </a:r>
                      <a:r>
                        <a:rPr b="0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ko je ponio rječnik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 wär's für heute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i bilo sve za danas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st uns jetzt alle hinausgehen / rausgehen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o svi van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mt drauf an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Das] Hängt davon ab, ob..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isi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Wie lauten folgende Sätze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in der 2. P. Pl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1280" y="1460520"/>
          <a:ext cx="7921440" cy="4805280"/>
        </p:xfrm>
        <a:graphic>
          <a:graphicData uri="http://schemas.openxmlformats.org/drawingml/2006/table">
            <a:tbl>
              <a:tblPr/>
              <a:tblGrid>
                <a:gridCol w="4136760"/>
                <a:gridCol w="3784680"/>
              </a:tblGrid>
              <a:tr h="112680">
                <a:tc gridSpan="2"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fällt Ihnen hier auf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chen Sie mal alle gemeinsam nach: 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ilen Sie sich bitte an diese drei Tische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schen Sie jetzt mal Ihre Übungsblätter aus und korrigieren Sie sich gegenseitig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en Sie das Fenster auf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6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en Sie mal jeder den Text leise für sich und unterstreichen Sie alle die Wörter, die Sie noch nicht kennen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te stören Sie nicht Ihre Mitschüler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ten Sie mal auf die Satzmelodie / Intonation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chreiben Sie zu diesem Bild, was Sie sehen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ke, Sie können sich wieder setzen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ögen Sie dieses Fach nich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en Sie mindestens vier Antworten auf jede Frage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 weit sind Sie denn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ilen Sie sich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en Sie Ihre Arbeit noch einmal durch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en Sie die Aufsätze jetzt bitte ab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fen Sie jeweils einen Mitschüler auf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nden Sie die folgenden Wendungen in Ihren Antworten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en Sie den Hauptgedanken der Erzählung auf Deutsch wieder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zählen Sie jetzt den neuen Text nach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1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 sollten sich das aufschreiben, sonst vergessen Sie das wieder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55640" y="1420920"/>
          <a:ext cx="7272360" cy="5189400"/>
        </p:xfrm>
        <a:graphic>
          <a:graphicData uri="http://schemas.openxmlformats.org/drawingml/2006/table">
            <a:tbl>
              <a:tblPr/>
              <a:tblGrid>
                <a:gridCol w="3240000"/>
                <a:gridCol w="4032360"/>
              </a:tblGrid>
              <a:tr h="158760">
                <a:tc gridSpan="2"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fällt Ihnen hier auf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f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ällt euch hier auf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chen Sie mal alle gemeinsam nach: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cht mal alle gemeinsam nach: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2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ilen Sie sich bitte an diese drei Tisch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ilt euch bitte an diese drei Tisch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schen Sie jetzt mal Ihre Übungsblätter aus und korrigieren Sie sich gegenseiti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sch jetzt mal eure Übungsblätter aus und korrigiert euch gegenseiti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en Sie das Fenster au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 / Macht das Fenster au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en Sie mal jeder den Text leise für sich und unterstreichen Sie alle die Wörter, die Sie noch nicht kenn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t mal den Text jeder leise für sich und unterstreicht alle Wörter, die ihr noch nicht ken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te stören Sie nicht Ihre Mitschül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te stört nicht eure Mitschül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ten Sie mal auf die Satzmelodie / Inton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tet mal auf die Satzmelodie / Inton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0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chreiben Sie zu diesem Bild, was Sie sehen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chreibt zu diesem Bild, was ihr seht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ke, Sie können sich wieder setz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ke, ihr könnt euch wieder setz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ögen Sie dieses Fach nich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ögt ihr dieses Fach nich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en Sie mindestens vier Antworten auf jede Frage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t mindestens vier Antworten auf jede Frage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 weit sind Sie den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 weit seid ihr den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ilen Sie sich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ilt euch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en Sie Ihre Arbeit noch einmal durch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t eure Arbeit noch einmal durch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en Sie die Aufsätze jetzt bitte ab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t die Aufsätze jetzt bitte ab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fen Sie jeweils einen Mitschüler au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ft jeweils einen Mitschüler au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nden Sie die folgenden Wendungen in Ihren Antworten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ndet die folgenden Wendungen in euren Antworten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en Sie den Hauptgedanken der Erzählung auf Deutsch wieder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t den Hauptgedanken der Erzählung auf Deutsch wieder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zählen Sie jetzt den neuen Text nach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zählt jetzt den neuen Text nach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 sollten sich das aufschreiben, sonst vergessen Sie das wied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hr solltet euch das aufschreiben, sonst vergesst ihr das wied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ös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Der Imperat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2" descr=""/>
          <p:cNvPicPr/>
          <p:nvPr/>
        </p:nvPicPr>
        <p:blipFill>
          <a:blip r:embed="rId1"/>
          <a:stretch/>
        </p:blipFill>
        <p:spPr>
          <a:xfrm>
            <a:off x="463680" y="1627200"/>
            <a:ext cx="8235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Der Imperat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sonderhei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mmvokaländerung von 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zu </a:t>
            </a:r>
            <a:r>
              <a:rPr b="0" i="1" lang="de-DE" sz="3200" spc="-1" strike="noStrike">
                <a:solidFill>
                  <a:srgbClr val="000000"/>
                </a:solidFill>
                <a:latin typeface="Calibri"/>
              </a:rPr>
              <a:t>i/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in der 2.P.Sg., aber nicht in der 2.P.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ben, essen, vergessen, sprechen, sehen, le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=&gt; gib, iss, vergiss, sprich, sieh, 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er =&gt; gebt, esst, vergesst, sprecht, seht, 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Der Imperat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räsensstamm auf 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d/t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, auf 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Konsonant + m/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&gt; Imperativ mit der Endung -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arten, achten, beachten, zeichnen =&gt; warte/wartet, achte/achtet, beachte/beachtet, zeichne/zeich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räsensstamm auf </a:t>
            </a: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ln/</a:t>
            </a: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r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&gt; -</a:t>
            </a: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fällt weg, stattdessen Endung -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iern, handeln, sammeln, einsammeln =&gt; fei(e)re, handle, sammle, sammle 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ber =&gt; feiert, handelt, sammelt, sammelt 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in =&gt; sei, seid, seien wir, seien S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ögen =&gt; mag, mögt, mögen wir, mögen S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Calibri"/>
              </a:rPr>
              <a:t>Wie hei</a:t>
            </a: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ßt das auf Deuts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a zad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ću dovršite riječi iz trećeg zadatka do kra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ls Hausaufgabe macht bitte die Vokabeln von der Aufgabe drei komplett fert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Calibri"/>
              </a:rPr>
              <a:t>Wie hei</a:t>
            </a: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ßt das auf Deuts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sad o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anu, was ist denn d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Unterrichtsdisk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lassenzimmer-Kommunik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er Classroom Discourse (CD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910.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enogram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930.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ondbandaufnahmen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ranskript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=&gt; Besonderheiten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des Unterrichtsdisk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utzkamm (197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hrersprache im Deutschunterricht </a:t>
            </a:r>
            <a:r>
              <a:rPr b="0" lang="de-DE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oethe-verlag.com/lehrersprache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Besonderheit</a:t>
            </a:r>
            <a:r>
              <a:rPr b="1" lang="hr-HR" sz="44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Paradox der Unterrichtskommunik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rage =&gt; Antwort &lt;= Rückmeld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≠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ormales Gesprä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987640" y="3427560"/>
            <a:ext cx="2809800" cy="162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938240" y="2808360"/>
            <a:ext cx="1579680" cy="85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5148360" y="3236760"/>
            <a:ext cx="151128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4"/>
          <a:stretch/>
        </p:blipFill>
        <p:spPr>
          <a:xfrm>
            <a:off x="3494160" y="2276640"/>
            <a:ext cx="2303280" cy="1309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97964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Was ist d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364000" y="3352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Eine Taf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997440" y="234648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Ja, genau! Richtig! Sehr gu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Besonderheit </a:t>
            </a:r>
            <a:r>
              <a:rPr b="1" lang="hr-HR" sz="44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de-DE" sz="4400" spc="-1" strike="noStrike">
                <a:solidFill>
                  <a:srgbClr val="ff0000"/>
                </a:solidFill>
                <a:latin typeface="Calibri"/>
              </a:rPr>
              <a:t> Mäeuti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e „sokratische Method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rektes Gesprä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zieltes Fragen =&gt; der Schüler erkennt wie von selbst die richtige Antw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lassisches Lehrer-Schüler-Gesprä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genteil des Frontalunterrichts, des Lehrervortra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227640" y="836640"/>
            <a:ext cx="22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de-DE" sz="4400" spc="-1" strike="noStrike">
                <a:solidFill>
                  <a:srgbClr val="7030a0"/>
                </a:solidFill>
                <a:latin typeface="Calibri"/>
              </a:rPr>
              <a:t>Unterrichtsspr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Sprache, in der der Unterricht in allen Fächern stattfindet (i.d.R. Amtssprach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S als US in verschiedenen Fächern (z.B. Englisch als Arbeitssprache im Matheunterricht; CL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ondersprache der institutionellen schulischen Kommunikation, bestehend aus: Lehreräußerungen und Schüleräuße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. Barkowski, Hans  &amp; Krumm, Hans-Jürgen (2010): Fachlexikon Deutsch als Fremd- und Zweitsprache, A. Francke Verlag, UTB, Tübingen und Basel, S. 34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6:29:36Z</dcterms:created>
  <dc:creator>Windows User</dc:creator>
  <dc:description/>
  <dc:language>en-US</dc:language>
  <cp:lastModifiedBy>Windows User</cp:lastModifiedBy>
  <dcterms:modified xsi:type="dcterms:W3CDTF">2017-01-13T09:27:05Z</dcterms:modified>
  <cp:revision>126</cp:revision>
  <dc:subject/>
  <dc:title>Seminar za pripremu nastavnoga sata  s težištem na razvijanju nastavnikove jezične kompetencije u razrednome diskursu doc.dr. sc. Marija Lütze-Miculinić</dc:title>
</cp:coreProperties>
</file>