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8E4-6DBE-44FB-A202-1DD36C55396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9C2A-3979-48B0-A918-06D1B522C88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B9E-2B0D-4D19-A0F1-AA89DD2D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507-30DC-4F07-BA2C-4098B137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528-1DE3-417D-8DDC-2A3992DD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653-B9AB-461F-B2EF-7CD159A0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D49-6640-4AC8-8F8A-61BAD75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2E46-AAF8-4A89-A756-317F067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2A2-1800-40AF-AF44-49998CF3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9D5-95AC-4D20-99E8-CABEC8B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95E-C450-4202-9064-048418BE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693-28FF-4C0C-B4B0-4C80BB2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314-ACEF-4037-A015-9913E67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F01-59EE-467E-8292-1B68F32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94F7-45DF-4F7E-8370-5B1B816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2198-9EE0-4758-BA10-23CAB98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49E-F165-433F-ADD0-97F6087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243-7AD3-435E-997E-9A667E32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E8E-AE30-4A9D-9180-F9F4A1C7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134-DA38-4EB7-AA1C-A322DD6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B52-5E6E-4F85-A829-2661A75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B28-97D5-4FDA-AE34-32EC7E84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FA2-21E2-457E-88BC-DD94CC44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129-A14A-4F33-A9C3-E0D7BF1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875-EEC6-4192-929D-0813011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5B2-541E-4193-A6BC-4A3C0E2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2" marL="79992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3" marL="111996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4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5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6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927B-4A2F-4B23-8960-26B567BAB34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2" marL="79992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3" marL="111996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4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5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6" marL="1440000" indent="-159840">
              <a:spcBef>
                <a:spcPts val="10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077-EEEE-4073-A49F-E7A25709707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06472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PISANJE ESEJA NA STRUČNOM ISPITU</a:t>
            </a:r>
            <a:br>
              <a:rPr sz="3200"/>
            </a:br>
            <a:br>
              <a:rPr sz="3200"/>
            </a:b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Seminar za školske knjižničare pripravnike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Zagreb, OŠ Bartola Kašića, 19. siječnja 2017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18920" y="5805360"/>
            <a:ext cx="60325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Štefanija Turković, prof.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ravokutnik 2"/>
          <p:cNvSpPr/>
          <p:nvPr/>
        </p:nvSpPr>
        <p:spPr>
          <a:xfrm>
            <a:off x="73080" y="836640"/>
            <a:ext cx="2881080" cy="58039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Comic Sans MS"/>
              </a:rPr>
              <a:t>Neodređene zamjenice tvorene s pomoću sastavnica ni i i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u izrazima s prijedlozima na, o, od, po, pred, s, u, za pišu s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ni </a:t>
            </a:r>
            <a:r>
              <a:rPr b="0" lang="pl-PL" sz="1600" spc="-1" strike="noStrike">
                <a:solidFill>
                  <a:srgbClr val="c00000"/>
                </a:solidFill>
                <a:latin typeface="Comic Sans MS"/>
              </a:rPr>
              <a:t>za </a:t>
            </a: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što, ni </a:t>
            </a:r>
            <a:r>
              <a:rPr b="0" lang="pl-PL" sz="1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 čim 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svoj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– pripadnost subjektu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njegov, njihov 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(sklonidba kao posvojni pridjev na –ov, -ev, -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ovaj, taj, onaj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(pokazne zamjenic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koji/kojega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(živo, neživ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sav, sva, sve; svi, sve, sva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(zamjenički pridje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ravokutnik 3"/>
          <p:cNvSpPr/>
          <p:nvPr/>
        </p:nvSpPr>
        <p:spPr>
          <a:xfrm>
            <a:off x="3033720" y="836640"/>
            <a:ext cx="2881440" cy="583236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gdje, kamo, kuda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mjesto, cilj, pravac kretanj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ovdje, tu, ondj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mjesni priloz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s mjesta/smjesta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sastavljeno i rastavljeno pisanj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na žalost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piše se rastavljen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više-manje,       koliko--toliko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polusloženic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ravokutnik 4"/>
          <p:cNvSpPr/>
          <p:nvPr/>
        </p:nvSpPr>
        <p:spPr>
          <a:xfrm>
            <a:off x="6012000" y="879480"/>
            <a:ext cx="2992320" cy="57610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jedan, dva/dvije, tri, četiri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sklonidb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dvojica, dvije, dvoj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brojevne imeni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oba, obj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brojevne imeni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Kasni modernizam traje od 40.-ih do 70.-ih godina 20. st.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pisanje broje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dvadesetak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(brojevni prilozi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pleonazam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oko dvadesetak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ravokutnik 5"/>
          <p:cNvSpPr/>
          <p:nvPr/>
        </p:nvSpPr>
        <p:spPr>
          <a:xfrm>
            <a:off x="324000" y="115920"/>
            <a:ext cx="2232000" cy="36036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Zamjen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ravokutnik 6"/>
          <p:cNvSpPr/>
          <p:nvPr/>
        </p:nvSpPr>
        <p:spPr>
          <a:xfrm>
            <a:off x="3276720" y="476280"/>
            <a:ext cx="2232000" cy="288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iloz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ravokutnik 7"/>
          <p:cNvSpPr/>
          <p:nvPr/>
        </p:nvSpPr>
        <p:spPr>
          <a:xfrm>
            <a:off x="6041880" y="485640"/>
            <a:ext cx="2232000" cy="28764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Brojev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aobljeni pravokutnik 1"/>
          <p:cNvSpPr/>
          <p:nvPr/>
        </p:nvSpPr>
        <p:spPr>
          <a:xfrm>
            <a:off x="1547640" y="341280"/>
            <a:ext cx="5616720" cy="1071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intaktič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030a0"/>
                </a:solidFill>
                <a:latin typeface="Comic Sans MS"/>
              </a:rPr>
              <a:t>(zakonitosti povezivanja jezičnih jedinica u sintagmu, rečenicu i tek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ravokutnik 2"/>
          <p:cNvSpPr/>
          <p:nvPr/>
        </p:nvSpPr>
        <p:spPr>
          <a:xfrm>
            <a:off x="395280" y="1413000"/>
            <a:ext cx="799308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ed riječi u našem jeziku prilično je sloboda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lski neobilježenim redom riječi smatra se poredak: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subjekt – predikat – objekt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odaci u rečenici stoje što bliže riječima koje su im otvorile mjes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Obvezatan red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iječi  se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primjenjuje na nenaglašene riječ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prednaglasnice i zanaglasnic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predugačke i nejasne rečen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-457200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ravokutnik 1"/>
          <p:cNvSpPr/>
          <p:nvPr/>
        </p:nvSpPr>
        <p:spPr>
          <a:xfrm>
            <a:off x="576360" y="1844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zbjegavati administrativni stil, preneseno značenje, ponavljanje, izbjegavanje nepotrebnoga pas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Zaobljeni pravokutnik 2"/>
          <p:cNvSpPr/>
          <p:nvPr/>
        </p:nvSpPr>
        <p:spPr>
          <a:xfrm>
            <a:off x="1547640" y="341280"/>
            <a:ext cx="5616720" cy="1071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istič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aobljeni pravokutnik 1"/>
          <p:cNvSpPr/>
          <p:nvPr/>
        </p:nvSpPr>
        <p:spPr>
          <a:xfrm>
            <a:off x="2852640" y="44280"/>
            <a:ext cx="316728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avopis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ravokutnik 2"/>
          <p:cNvSpPr/>
          <p:nvPr/>
        </p:nvSpPr>
        <p:spPr>
          <a:xfrm>
            <a:off x="611280" y="981000"/>
            <a:ext cx="8424720" cy="73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Među </a:t>
            </a: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pravopisnim pogreškama ističu s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omic Sans MS"/>
              </a:rPr>
              <a:t>Pravopisne pogreške: - dvoglas -ije, -je, -i (</a:t>
            </a:r>
            <a:r>
              <a:rPr b="1" lang="vi-VN" sz="2000" spc="-1" strike="noStrike" u="sng">
                <a:solidFill>
                  <a:srgbClr val="000000"/>
                </a:solidFill>
                <a:uFillTx/>
                <a:latin typeface="Comic Sans MS"/>
              </a:rPr>
              <a:t>uvijet</a:t>
            </a:r>
            <a:r>
              <a:rPr b="1" lang="vi-VN" sz="2000" spc="-1" strike="noStrike">
                <a:solidFill>
                  <a:srgbClr val="000000"/>
                </a:solidFill>
                <a:latin typeface="Comic Sans MS"/>
              </a:rPr>
              <a:t> – uvjet, </a:t>
            </a:r>
            <a:r>
              <a:rPr b="1" lang="vi-VN" sz="2000" spc="-1" strike="noStrike" u="sng">
                <a:solidFill>
                  <a:srgbClr val="000000"/>
                </a:solidFill>
                <a:uFillTx/>
                <a:latin typeface="Comic Sans MS"/>
              </a:rPr>
              <a:t>riješenja</a:t>
            </a:r>
            <a:r>
              <a:rPr b="1" lang="vi-VN" sz="2000" spc="-1" strike="noStrike">
                <a:solidFill>
                  <a:srgbClr val="000000"/>
                </a:solidFill>
                <a:latin typeface="Comic Sans MS"/>
              </a:rPr>
              <a:t> - rješenja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omic Sans MS"/>
              </a:rPr>
              <a:t>nedosljednost u bilježenju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Č i Ć (ne -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omic Sans MS"/>
              </a:rPr>
              <a:t>glasovi č, ć, dž, đ (postignuti – postignuće, oko – uočiti)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mic Sans MS"/>
              </a:rPr>
              <a:t>veliko slovo (osobito imena ustanova, zakona, pravilnika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pravopisni znakovi (najčešće pisanje zareza, točke iza rednoga broja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loženice i plusloženice te njihovo rastavljan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odgojno-obrazovno, osnovnoškolsk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Slovo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125000"/>
            <a:ext cx="83516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Pisani esej treba pisati školskim rukopisnim pismom, uredno, ne precrtavati pogrešno napisane riječi…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Obratiti pozornost na pisanje malih slova </a:t>
            </a:r>
            <a:r>
              <a:rPr b="1" lang="hr-HR" sz="3600" spc="-1" strike="noStrike">
                <a:solidFill>
                  <a:srgbClr val="ff0000"/>
                </a:solidFill>
                <a:latin typeface="Edwardian Script ITC"/>
              </a:rPr>
              <a:t>s , š  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(s,š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Veliko slovo u riječi treba grafički obilježiti većim znakom (često se u rukopisu pristupnika to ne vidi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avni poveznik 3"/>
          <p:cNvSpPr/>
          <p:nvPr/>
        </p:nvSpPr>
        <p:spPr>
          <a:xfrm flipH="1">
            <a:off x="636480" y="357336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avni poveznik 5"/>
          <p:cNvSpPr/>
          <p:nvPr/>
        </p:nvSpPr>
        <p:spPr>
          <a:xfrm>
            <a:off x="611280" y="3573360"/>
            <a:ext cx="503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omic Sans MS"/>
              </a:rPr>
              <a:t>Naslovna stranica pisanoga rada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7640" y="1844280"/>
            <a:ext cx="8567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me i prezime:</a:t>
            </a:r>
            <a:r>
              <a:rPr b="0" lang="hr-HR" sz="2400" spc="-1" strike="noStrike">
                <a:solidFill>
                  <a:srgbClr val="000000"/>
                </a:solidFill>
                <a:latin typeface="Edwardian Script ITC"/>
              </a:rPr>
              <a:t>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Edwardian Script ITC"/>
              </a:rPr>
              <a:t>Marija Jurić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Škola iz koje dolazi:  </a:t>
            </a:r>
            <a:r>
              <a:rPr b="1" lang="hr-HR" sz="2400" spc="-1" strike="noStrike">
                <a:solidFill>
                  <a:srgbClr val="000000"/>
                </a:solidFill>
                <a:latin typeface="Brush Script MT"/>
              </a:rPr>
              <a:t>OŠ  Augusta Šenoe </a:t>
            </a:r>
            <a:r>
              <a:rPr b="1" lang="hr-HR" sz="2400" spc="-1" strike="noStrike">
                <a:solidFill>
                  <a:srgbClr val="ff0000"/>
                </a:solidFill>
                <a:latin typeface="Brush Script MT"/>
              </a:rPr>
              <a:t>,</a:t>
            </a:r>
            <a:r>
              <a:rPr b="1" lang="hr-HR" sz="2400" spc="-1" strike="noStrike">
                <a:solidFill>
                  <a:srgbClr val="000000"/>
                </a:solidFill>
                <a:latin typeface="Brush Script MT"/>
              </a:rPr>
              <a:t> Oguli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ime škole, mjesto)</a:t>
            </a:r>
            <a:r>
              <a:rPr b="0" lang="hr-HR" sz="2400" spc="-1" strike="noStrike">
                <a:solidFill>
                  <a:srgbClr val="000000"/>
                </a:solidFill>
                <a:latin typeface="Edwardian Script ITC"/>
              </a:rPr>
              <a:t>            </a:t>
            </a:r>
            <a:r>
              <a:rPr b="1" lang="hr-HR" sz="2400" spc="-1" strike="noStrike">
                <a:solidFill>
                  <a:srgbClr val="000000"/>
                </a:solidFill>
                <a:latin typeface="Brush Script MT"/>
              </a:rPr>
              <a:t>OŠ   ,,August  Šenoa”</a:t>
            </a:r>
            <a:r>
              <a:rPr b="1" lang="hr-HR" sz="2400" spc="-1" strike="noStrike">
                <a:solidFill>
                  <a:srgbClr val="ff0000"/>
                </a:solidFill>
                <a:latin typeface="Brush Script MT"/>
              </a:rPr>
              <a:t>,</a:t>
            </a:r>
            <a:r>
              <a:rPr b="1" lang="hr-HR" sz="2400" spc="-1" strike="noStrike">
                <a:solidFill>
                  <a:srgbClr val="000000"/>
                </a:solidFill>
                <a:latin typeface="Brush Script MT"/>
              </a:rPr>
              <a:t>Oguli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tum/ nadnevak :        </a:t>
            </a: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U </a:t>
            </a:r>
            <a:r>
              <a:rPr b="1" lang="hr-HR" sz="2400" spc="-1" strike="noStrike">
                <a:solidFill>
                  <a:srgbClr val="ff0000"/>
                </a:solidFill>
                <a:latin typeface="Blackadder ITC"/>
              </a:rPr>
              <a:t> Z</a:t>
            </a: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agrebu 16. lipnja 2017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                                                                      </a:t>
            </a:r>
            <a:r>
              <a:rPr b="1" lang="hr-HR" sz="2400" spc="-1" strike="noStrike">
                <a:solidFill>
                  <a:srgbClr val="ff0000"/>
                </a:solidFill>
                <a:latin typeface="Blackadder ITC"/>
              </a:rPr>
              <a:t>Z</a:t>
            </a: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agreb</a:t>
            </a:r>
            <a:r>
              <a:rPr b="1" lang="hr-HR" sz="2400" spc="-1" strike="noStrike">
                <a:solidFill>
                  <a:srgbClr val="ff0000"/>
                </a:solidFill>
                <a:latin typeface="Blackadder ITC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16. lipnja 2017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                                                                      </a:t>
            </a:r>
            <a:r>
              <a:rPr b="1" lang="hr-HR" sz="2400" spc="-1" strike="noStrike">
                <a:solidFill>
                  <a:srgbClr val="ff0000"/>
                </a:solidFill>
                <a:latin typeface="Blackadder ITC"/>
              </a:rPr>
              <a:t>Z</a:t>
            </a:r>
            <a:r>
              <a:rPr b="1" lang="hr-HR" sz="2400" spc="-1" strike="noStrike">
                <a:solidFill>
                  <a:srgbClr val="000000"/>
                </a:solidFill>
                <a:latin typeface="Blackadder ITC"/>
              </a:rPr>
              <a:t>agreb</a:t>
            </a:r>
            <a:r>
              <a:rPr b="1" lang="hr-HR" sz="2400" spc="-1" strike="noStrike">
                <a:solidFill>
                  <a:srgbClr val="ff0000"/>
                </a:solidFill>
                <a:latin typeface="Blackadder ITC"/>
              </a:rPr>
              <a:t>, 16. 6. 2017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Brush Script MT"/>
              </a:rPr>
              <a:t>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54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LITERATURA - NAVOĐENJ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41264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Navođenjem izvora za neku svoju tvrdnju pristupnik pokazuje poznavanje litera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U pisanom radu češće je parafraziranje jer pristupnik nema uza se izvor i podatke o njem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Comic Sans MS"/>
              </a:rPr>
              <a:t>NAJČEŠĆE JEZIČNE POGREŠKE U PISANIM RADOVIMA NA STRUČNOM ISPITU KNJIŽNIČARA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hr-HR" sz="4000" spc="-1" strike="noStrike">
                <a:solidFill>
                  <a:srgbClr val="c00000"/>
                </a:solidFill>
                <a:latin typeface="Comic Sans MS"/>
              </a:rPr>
              <a:t>Primjeri iz prakse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36680" y="260280"/>
            <a:ext cx="81676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nternet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nternet stranica - NETOČN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nternet -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točn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iše se </a:t>
            </a:r>
            <a:r>
              <a:rPr b="1" i="1" lang="hr-HR" sz="2400" spc="-1" strike="noStrike">
                <a:solidFill>
                  <a:srgbClr val="c00000"/>
                </a:solidFill>
                <a:latin typeface="Comic Sans MS"/>
              </a:rPr>
              <a:t>malim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slovom jer je to opća imenica (npr. kao radio, televizija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Kada stoji u službi pridjeva ispred imenice, treba ga zamijeniti pridjevom internetski (internetska stranica, adresa, prodaja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Čitanje internetske adrese: www.hrt.hr (dvostruko ve dvostruko ve dvostruko ve točka ha er te točka ha er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spojnic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4920" y="960120"/>
            <a:ext cx="820908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ko se riječi koje se pišu sa spojnicom (polusloženice) prenose u novi redak, spojnica se zapisuje i na početku novoga retk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dgojno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brazovna ustanov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kulturno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javna djelatno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Šesterokut 1"/>
          <p:cNvSpPr/>
          <p:nvPr/>
        </p:nvSpPr>
        <p:spPr>
          <a:xfrm>
            <a:off x="3276720" y="615960"/>
            <a:ext cx="2563560" cy="14446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92d05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ISANI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Šesterokut 4"/>
          <p:cNvSpPr/>
          <p:nvPr/>
        </p:nvSpPr>
        <p:spPr>
          <a:xfrm>
            <a:off x="1042920" y="2637000"/>
            <a:ext cx="2233800" cy="158400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Šesterokut 5"/>
          <p:cNvSpPr/>
          <p:nvPr/>
        </p:nvSpPr>
        <p:spPr>
          <a:xfrm>
            <a:off x="3463920" y="2637000"/>
            <a:ext cx="2376360" cy="158400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7030a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TRUČNI ISP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Šesterokut 6"/>
          <p:cNvSpPr/>
          <p:nvPr/>
        </p:nvSpPr>
        <p:spPr>
          <a:xfrm>
            <a:off x="6156360" y="2637000"/>
            <a:ext cx="2232000" cy="158400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SMENI  DIO ISP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Šesterokut 7"/>
          <p:cNvSpPr/>
          <p:nvPr/>
        </p:nvSpPr>
        <p:spPr>
          <a:xfrm>
            <a:off x="3463920" y="4581360"/>
            <a:ext cx="2376360" cy="15116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VEDBA NASTAVNOG S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ravokutnik 2"/>
          <p:cNvSpPr/>
          <p:nvPr/>
        </p:nvSpPr>
        <p:spPr>
          <a:xfrm>
            <a:off x="1332000" y="2814480"/>
            <a:ext cx="16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ISA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IPRA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71640" y="188640"/>
            <a:ext cx="7696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omic Sans MS"/>
              </a:rPr>
              <a:t>Tuđice / leksik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Edukacija –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obrazovanje, izobrazb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Educirati (o čemu) –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poučiti, uputiti u što, izvijestit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Efikasnost (efikasne metode)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djelotvornost, uspješnost, učinkovit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Efektan (pano)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dojmljiv, uspješan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pobuđuje jak dojam, snažno djeluje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Dulji (duljina) =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odnosi se na vrijeme trajanj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Duži (dužina) =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odnosi se na prostor, udaljen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cesta je duža i lošija nego što smo mislili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Detaljno pril. –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potanko, opširno, opsežno, do pojedinost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detalj –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pojedinost, potankost, sitnica 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440" y="188640"/>
            <a:ext cx="827892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spekt (lat.) –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stajalište, gledište, motriš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plicirati –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ijaviti se 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/ javiti se na natječaj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evjerovatno,vjerovatno -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nevjerojatno, vjerojatn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o međutim (pleonazam)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– no, međuti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(ovaj izraz nije dobro rabiti za izricanje suprotnosti: On je to rekao javno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, no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ije priznao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n je to rekao javno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, međutim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ije priznao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11280" y="115560"/>
            <a:ext cx="8137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Nivo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hr-HR" sz="2000" spc="-1" strike="noStrike">
                <a:solidFill>
                  <a:srgbClr val="ff0000"/>
                </a:solidFill>
                <a:latin typeface="Comic Sans MS"/>
              </a:rPr>
              <a:t>razina, stupanj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Postepeno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 / postupno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Nastava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se odvija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u knjižnici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/se održava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Obadv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m. i s. r. –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ob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(To su zaključila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ob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stručnjaka). Br. dva i oba sklonjive su riječi i potrebno ih je sklanjati (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dva/dvaju; oba/obaju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Obadvije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ž.r. –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obje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(To su rekle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obje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žene.)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obje strane – objema stranama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S obzirom </a:t>
            </a:r>
            <a:r>
              <a:rPr b="1" i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da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/ S obzirom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na to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Ni / niti ne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i n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Veznik ni / niti nije dobro upotrebljavati za isticanje ispred negacije. Za to služi veznik </a:t>
            </a:r>
            <a:r>
              <a:rPr b="1" i="1" lang="hr-HR" sz="2000" spc="-1" strike="noStrike">
                <a:solidFill>
                  <a:srgbClr val="c00000"/>
                </a:solidFill>
                <a:latin typeface="Comic Sans MS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Ni ne razmišljaj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o tome.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I ne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razmišljaj 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tome.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260280"/>
            <a:ext cx="7696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Pripreme se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odvijaju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 prema planu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teku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du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o planu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Koncentriranost –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ozornost, 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usmjerenost, usredotočenost,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od uvjetom /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z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vjet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(uz imenice 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vjet, pogodba, obveza, prijetnja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bolje je uporabiti prijedlog</a:t>
            </a: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 UZ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ošto – vremenski veznik (nakon što)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e rabimo ga umjesto uzročnog (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Pošto nisi /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Comic Sans MS"/>
              </a:rPr>
              <a:t>Budući da nis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aučio, nećeš dobiti prolaznu ocjenu.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259920"/>
            <a:ext cx="7696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Tok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tijek –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pronalaženje vreme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Tijekom sata… U tijeku su radovi… Tijekom godine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Čitljiv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ukopis) koji se može čitati, kojemu se prepoznaju slov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Čitak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ridj. – koji se lako čita, razumljiv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Čitatelj / čitateljska publika / čitaonic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Ispred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škole pozdravljam …/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Uim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škol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zlikovanje priloga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gdje, kamo, kuda (griješi se u usmenom dijelu ispita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79280" y="152280"/>
            <a:ext cx="86407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Pismenost medi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medijska pismenost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hrv. standardnom jeziku prednost se daje izrazu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pridjev + imenica  (pravilo se ne primjenjuje ako izrazi nemaju isto značenje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Medijska pismenost = pismenost za medij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Pismenost medija = pismenost koju imaju mediji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jalni,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ngl.-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multimedijski (prostor, kultura)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pri posuđivanju riječi iz stranih jezika pravilo je da se posuđuje samo osnovna riječ, dok se njezine izvedenice prilagođuju hrv. tvorbi, ovdje je to tvorba sufiksom –ski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0920" y="765000"/>
            <a:ext cx="8353440" cy="59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Nasuprot, usprkos, unatoč - prijedlozi koje u standardnm jeziku rabimo uz 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u jeziku se u manje obvezujućim stilovima i u razgovoru često pojavljuju s genitivom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prkos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vojemu mišljenju (D) (viši stupanj protivljenja na koje možemo djelovati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natoč nevremenu (D), kiši 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asuprot predavaonici (D) 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Kroz - u standardnm jeziku ne rabimo za izricanje vremen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… zvoni kroz deset minuta / … zvoni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za …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152280"/>
            <a:ext cx="769608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d nastavom, pod satom /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za vrijeme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tijekom nastave, tijekom sat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prijedl.pod označuje se da se tko ili što nalazi s donje strane nečega – pod klupom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S namjerom d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veznički pleonazam) veznikom da izriče se namjera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tišli smo po profesora u zbornic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s     namjerom d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ga iznenadimo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. /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reba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… da ga iznenadimo, … kako bismo ga iznenadili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07640" y="152280"/>
            <a:ext cx="856764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a savjetnicom i s knjižničarim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omic Sans MS"/>
              </a:rPr>
              <a:t>Prijedlog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 s </a:t>
            </a:r>
            <a:r>
              <a:rPr b="0" lang="hr-HR" sz="2400" spc="-1" strike="noStrike">
                <a:solidFill>
                  <a:srgbClr val="002060"/>
                </a:solidFill>
                <a:latin typeface="Comic Sans MS"/>
              </a:rPr>
              <a:t>upotrebljava se ispred imenica u G ili I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omic Sans MS"/>
              </a:rPr>
              <a:t>U duljem obliku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(sa) </a:t>
            </a:r>
            <a:r>
              <a:rPr b="0" lang="hr-HR" sz="2400" spc="-1" strike="noStrike">
                <a:solidFill>
                  <a:srgbClr val="002060"/>
                </a:solidFill>
                <a:latin typeface="Comic Sans MS"/>
              </a:rPr>
              <a:t>dolazi kad se nalazi ispred riječi sa suglasničkim skupom koji je teško izgovoriti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(s, š, z, ž ili ako se ti glasovi nalaze na drugom mjestu u riječi – sa Ksenijom, sa pšenicom … 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k/ka – ka kući, k Domagoju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bog – prijedlog kojim se izriče uzrok (zbog toga što) Sretan sam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zbog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ocjena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di - prijedlog kojim se izriče namjer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radi toga što) Učim </a:t>
            </a: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rad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spravljanja ocjena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7640" y="151920"/>
            <a:ext cx="8273880" cy="65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arez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nizanju riječi, rečeničnih dijelova, nezavisnih i zavisnih rečenica koje se nižu, u inverziji ZS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aknadno dodanih ili umetnutih rečeničnih dijelov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za vokativa, iza potvrdne čestice da, iza usklik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 isticanju, ispred suprotnih, zaključnih, isključnih veznik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spred i iza atributa i apozicija kada oni stoje iza imeni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upravnom govoru iza navoda u kojemu je izjavna rečenic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za prvoga i drugoga dijela navod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pisanju  datuma Zagreb, 15. 1. 2017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9280" y="907560"/>
            <a:ext cx="7696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Esej (franc. essai – pokušaj) ili ogled književna je vrsta u kojoj biva ujedinjena znanstvena namjera u obradi određenoga životnoga ili znanstvenoga pitanja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Zadaci esejskoga tipa zahtijevaju da se nešto </a:t>
            </a:r>
            <a:r>
              <a:rPr b="1" lang="hr-HR" sz="2400" spc="-1" strike="noStrike">
                <a:solidFill>
                  <a:srgbClr val="7030a0"/>
                </a:solidFill>
                <a:latin typeface="Comic Sans MS"/>
              </a:rPr>
              <a:t>nabroji, opiše, protumači, usporedi, prikaže u osnovnim crtama, suprotstavi, kritizira, potkrijepi dokazima, analizira i komentira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Znanstveni stil odlikuje </a:t>
            </a:r>
            <a:r>
              <a:rPr b="1" lang="hr-HR" sz="2000" spc="-1" strike="noStrike">
                <a:solidFill>
                  <a:srgbClr val="7030a0"/>
                </a:solidFill>
                <a:latin typeface="Comic Sans MS"/>
              </a:rPr>
              <a:t>tumačenje; objasnidbene, često višestruko složene rečenice; prevladavaju prezent 3. l. jd. i apstraktne imenice te stručne riječi i izrazi (često stranoga podrijetla); objektivan pristup autora (jasne, jednoznačne riječi i izrazi); cjelovitost, točnost i preciznost izričaja (bez slikovitosti i prenesenoga značenja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4920" y="151920"/>
            <a:ext cx="828036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Primjer osvrta na pisani dio ispit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pisanom radu pristupnik jasno uobličenim mislima ostvaruje jasnu, razumljivu smislenu cjelinu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važavajući kompoziciju pisanoga rada, grafički odvaja sastavnic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avopisne i gramatičke zakonitosti primjenjuje uz povremena odstupanja: nedosljedno bilježenje glasova č/ć; pisanju velikog slova u nazivima dokumenata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brazovne ishode ne bilježi u infinitivu; pisanje F I. (krnji infinitiv + pomoćni glagol)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50920" y="549000"/>
            <a:ext cx="873576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pisanom radu pristupnik ne piše uredno, precrtava pogrešno napisane riječi što ne dolikuje ovako važnom ispitu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avopisno – gramatičke zakonitosti ne primjenjuje u pisanom obliku: pisanje polusloženica bez spojnice; griješi u pisanju rednog broja (01.); za izricanje vremena rabi prijedlog kroz (Kroz Mjesec hrvatske knjige / Tijekom Mjeseca hrvatske knjige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porabom višestruko složene rečenice u završnom dijelu ispita pristupnik nejasno oblikuje zaključak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030a0"/>
                </a:solidFill>
                <a:latin typeface="Comic Sans MS"/>
              </a:rPr>
              <a:t>SAVJET – nakon pisanja pročitajte svoj rad i  ispravite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030a0"/>
                </a:solidFill>
                <a:latin typeface="Comic Sans MS"/>
              </a:rPr>
              <a:t>pravopisne pogreške služeći se PRAVOPISOM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zervirano mjesto sadržaja 2" descr="http://www.24sata.hr/media/img/49/a5/653ef62f657229162006.jpeg"/>
          <p:cNvPicPr/>
          <p:nvPr/>
        </p:nvPicPr>
        <p:blipFill>
          <a:blip r:embed="rId1"/>
          <a:stretch/>
        </p:blipFill>
        <p:spPr>
          <a:xfrm>
            <a:off x="2195640" y="2708280"/>
            <a:ext cx="4822560" cy="2705040"/>
          </a:xfrm>
          <a:prstGeom prst="rect">
            <a:avLst/>
          </a:prstGeom>
          <a:ln w="0">
            <a:noFill/>
          </a:ln>
        </p:spPr>
      </p:pic>
      <p:sp>
        <p:nvSpPr>
          <p:cNvPr id="228" name="Pravokutnik 3"/>
          <p:cNvSpPr/>
          <p:nvPr/>
        </p:nvSpPr>
        <p:spPr>
          <a:xfrm>
            <a:off x="755640" y="836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Hvala što se pozorno pratili izlaganje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ADRŽAJNA RAZINA PISANOG RA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196640"/>
            <a:ext cx="892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Usklađenost teme i sadržaj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iz obilja pojedinosti koje tema nudi treba izabrati ono što je bitno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Konkretnost, preciznost i potpunost sadržaj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uporište u primjerima iz stručno-metodičke literature i iskustvenoj  praksi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Točnost sadržaja, činjenica i podatak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istinit i logičan redoslijed komponenata sadržaja prati redoslijed logičkog mišljenja: od postavljanja tvrdnje do njezinoga dokazivanja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Dinamičnost u iznošenju sadržaja, poštivanje načela progresij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Sadržajna povezanost rečenica i odjeljaka u cjelinu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17640"/>
            <a:ext cx="68709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Kompozicija ra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836640"/>
            <a:ext cx="7696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najava teme i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cilja ra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oblikovanje kontekst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navođenje nekoliko osnovnih misli ili teza, odnosno (problemskih) pitanj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stručno- metodičko oblikovanje te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opisivanje i objašnjavanje polazišnih te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navođenje tvrdnja iz literature, ali i svojih promišljanj</a:t>
            </a: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     </a:t>
            </a: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povezivanje glavnih te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   </a:t>
            </a:r>
            <a:r>
              <a:rPr b="1" lang="hr-HR" sz="2800" spc="-1" strike="noStrike">
                <a:solidFill>
                  <a:srgbClr val="333333"/>
                </a:solidFill>
                <a:latin typeface="Comic Sans MS"/>
                <a:ea typeface="Arial Narrow"/>
              </a:rPr>
              <a:t>oblikovanje zaključne misl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Zaobljeni pravokutnik 3" descr=""/>
          <p:cNvPicPr/>
          <p:nvPr/>
        </p:nvPicPr>
        <p:blipFill>
          <a:blip r:embed="rId1"/>
          <a:stretch/>
        </p:blipFill>
        <p:spPr>
          <a:xfrm>
            <a:off x="139680" y="749160"/>
            <a:ext cx="117648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Zaobljeni pravokutnik 4" descr=""/>
          <p:cNvPicPr/>
          <p:nvPr/>
        </p:nvPicPr>
        <p:blipFill>
          <a:blip r:embed="rId2"/>
          <a:stretch/>
        </p:blipFill>
        <p:spPr>
          <a:xfrm>
            <a:off x="139680" y="3236760"/>
            <a:ext cx="1176480" cy="2262240"/>
          </a:xfrm>
          <a:prstGeom prst="rect">
            <a:avLst/>
          </a:prstGeom>
          <a:ln w="0">
            <a:noFill/>
          </a:ln>
        </p:spPr>
      </p:pic>
      <p:sp>
        <p:nvSpPr>
          <p:cNvPr id="173" name="Zaobljeni pravokutnik 5"/>
          <p:cNvSpPr/>
          <p:nvPr/>
        </p:nvSpPr>
        <p:spPr>
          <a:xfrm>
            <a:off x="155520" y="6166800"/>
            <a:ext cx="1609920" cy="3042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Comic Sans MS"/>
              </a:rPr>
              <a:t>ZAKLJUČ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ČEKIVANE KOMPETENCIJE PRISTUPNIK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6640"/>
            <a:ext cx="84582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prikazati stručnu temu u pisanom obliku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pokazati komunikacijske vještin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pokazati dobro poznavanje aktualnih procesa u odgoju i obrazovanju te njihov utjecaj na školsko knjižničarstv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poznavati i primjenjivati dokumente koji se tiču knjižničar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" y="115920"/>
            <a:ext cx="835344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REDNOVANJE STRUČNO-METODIČKE RAZINE PISANOG RA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Profesor metodik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cjenjuje sadržaj pismenog rada s psihološkog, pedagoškog i metodičkog stajališt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Comic Sans MS"/>
              </a:rPr>
              <a:t>Profesor/ica hrvatskog jezik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cjenjuje pisani rad s jezičnog stajališta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3640" y="18864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70c0"/>
                </a:solidFill>
                <a:latin typeface="Comic Sans MS"/>
              </a:rPr>
              <a:t>Jezična pismenos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Zaobljeni pravokutnik 3"/>
          <p:cNvSpPr/>
          <p:nvPr/>
        </p:nvSpPr>
        <p:spPr>
          <a:xfrm>
            <a:off x="2120760" y="1773360"/>
            <a:ext cx="4464360" cy="1655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Gramatičke pogrešk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ijele se n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Zaobljeni pravokutnik 4"/>
          <p:cNvSpPr/>
          <p:nvPr/>
        </p:nvSpPr>
        <p:spPr>
          <a:xfrm>
            <a:off x="5962680" y="4083120"/>
            <a:ext cx="2592360" cy="13287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omic Sans MS"/>
              </a:rPr>
              <a:t>sintaktičk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Zaobljeni pravokutnik 5"/>
          <p:cNvSpPr/>
          <p:nvPr/>
        </p:nvSpPr>
        <p:spPr>
          <a:xfrm>
            <a:off x="3043080" y="4091040"/>
            <a:ext cx="2592720" cy="1297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tvorb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Zaobljeni pravokutnik 6"/>
          <p:cNvSpPr/>
          <p:nvPr/>
        </p:nvSpPr>
        <p:spPr>
          <a:xfrm>
            <a:off x="297000" y="4083120"/>
            <a:ext cx="2590560" cy="1295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morfološ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3" name="Ravni poveznik sa strelicom 8"/>
          <p:cNvCxnSpPr/>
          <p:nvPr/>
        </p:nvCxnSpPr>
        <p:spPr>
          <a:xfrm flipH="1">
            <a:off x="2120400" y="3428640"/>
            <a:ext cx="3643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Ravni poveznik sa strelicom 10"/>
          <p:cNvCxnSpPr/>
          <p:nvPr/>
        </p:nvCxnSpPr>
        <p:spPr>
          <a:xfrm flipH="1">
            <a:off x="4352400" y="3503160"/>
            <a:ext cx="15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Ravni poveznik sa strelicom 12"/>
          <p:cNvCxnSpPr/>
          <p:nvPr/>
        </p:nvCxnSpPr>
        <p:spPr>
          <a:xfrm>
            <a:off x="6235200" y="3428640"/>
            <a:ext cx="5688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Zaobljeni pravokutnik 3"/>
          <p:cNvSpPr/>
          <p:nvPr/>
        </p:nvSpPr>
        <p:spPr>
          <a:xfrm>
            <a:off x="2700360" y="189000"/>
            <a:ext cx="316692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Morfološ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ravokutnik 4"/>
          <p:cNvSpPr/>
          <p:nvPr/>
        </p:nvSpPr>
        <p:spPr>
          <a:xfrm>
            <a:off x="79200" y="1916280"/>
            <a:ext cx="4216680" cy="44082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) nenormativna uporaba padež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sobito </a:t>
            </a:r>
            <a:r>
              <a:rPr b="1" lang="hr-HR" sz="2400" spc="-1" strike="noStrike">
                <a:solidFill>
                  <a:srgbClr val="0070c0"/>
                </a:solidFill>
                <a:latin typeface="Comic Sans MS"/>
              </a:rPr>
              <a:t>instrumental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70c0"/>
                </a:solidFill>
                <a:latin typeface="Comic Sans MS"/>
              </a:rPr>
              <a:t>sredstva (uz nenormativno mjesto naveska): 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bavim se (sa) pjevanjem; volim se voziti (sa) bicikl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mic Sans MS"/>
              </a:rPr>
              <a:t>akuzativa: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volim igrati kompju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mic Sans MS"/>
              </a:rPr>
              <a:t>genitiva: 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idem kupiti kru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vrata - vratij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ravokutnik 5"/>
          <p:cNvSpPr/>
          <p:nvPr/>
        </p:nvSpPr>
        <p:spPr>
          <a:xfrm>
            <a:off x="4572000" y="1916280"/>
            <a:ext cx="4176720" cy="44082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b) nenormativno oblikovanje i uporaba glagolskih  vremena i način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sobito </a:t>
            </a:r>
            <a:r>
              <a:rPr b="1" lang="hr-HR" sz="2400" spc="-1" strike="noStrike">
                <a:solidFill>
                  <a:srgbClr val="0070c0"/>
                </a:solidFill>
                <a:latin typeface="Comic Sans MS"/>
              </a:rPr>
              <a:t>kondicionala: 1. l. jd.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željela bi, htio bi, volio bi živjet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70c0"/>
                </a:solidFill>
                <a:latin typeface="Comic Sans MS"/>
              </a:rPr>
              <a:t>futura I.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gledat (krnji infinitiv) ću / ću gledat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mic Sans MS"/>
              </a:rPr>
              <a:t>infinitiva uz prezent: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olim 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jest, čitat, ić, igrat, gledat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ravokutnik 2"/>
          <p:cNvSpPr/>
          <p:nvPr/>
        </p:nvSpPr>
        <p:spPr>
          <a:xfrm>
            <a:off x="395280" y="1044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(Sklonidba (deklinacija), stupnjevanje (komparacija),sprezanje (konjugacija), sročnost (kongruencij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ŠTEFANIJA</dc:creator>
  <dc:description/>
  <dc:language>en-US</dc:language>
  <cp:lastModifiedBy>Tukša</cp:lastModifiedBy>
  <dcterms:modified xsi:type="dcterms:W3CDTF">2017-01-24T15:06:37Z</dcterms:modified>
  <cp:revision>129</cp:revision>
  <dc:subject/>
  <dc:title>PowerPoint Presentation</dc:title>
</cp:coreProperties>
</file>