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F88-F87E-4A34-B2DA-55541448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E5E-5BB7-4BF2-9909-284BBB5A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EFE-B73E-468A-9330-EFE1E0DD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3CF-8782-4FC3-A579-EE8F3AD6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E2DC-4C60-42E6-BF14-FB67D58F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3F08-D864-465E-AB52-50EADD92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A231-FDA0-411F-93C9-59403553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44F4-A9B3-430E-9CEE-D6DC570F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8C03-178C-416A-A019-98297EE4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423E-5B05-40FA-A822-B6E27674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449B-E93A-4E26-9C52-88797360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3D9-2A46-4B9F-8D98-CC5B8F37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56E4-42C1-4F90-900F-10E0A40E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4F1D-C391-4C28-B89B-7A19E53D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F815-09B2-4842-93C3-75183052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5100-1BFC-4E55-A413-6C27C907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8ADB-EC5C-4240-AE2F-1F527F5A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338-2CA1-4364-8D9D-BA1808F2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DEF-52CA-4A24-B5C4-76410A3A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A7F-B44B-48DB-9DB5-246BCC4E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3C4-78A0-43A7-A545-8CD8327B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F3B-B08C-4CF2-ACDB-74ADD590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A40-8A0B-4A7F-ADC2-6BD7FA2E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7AA-4ED1-49F4-90BC-78764AD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644D-FAF6-431C-B7B6-F3EAA4538006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A785-E4E7-4746-8F9D-855E1A97F7E0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upload.wikimedia.org/wikipedia/commons/thumb/c/c8/Glagoljica_Vedi.svg/400px-Glagoljica_Vedi.svg.png&amp;imgrefurl=http://commons.wikimedia.org/wiki/File:Glagoljica_Vedi.svg&amp;usg=__2i_gBt-AT5lHv5655W5mXmCBrPs=&amp;h=310&amp;w=400&amp;sz=12&amp;hl=hr&amp;start=54&amp;tbnid=TjkhbKdl8Lo5iM:&amp;tbnh=96&amp;tbnw=124&amp;prev=/images%3Fq%3DGlagoljica%26start%3D40%26gbv%3D2%26ndsp%3D20%26hl%3Dhr%26sa%3DN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hr/imgres?imgurl=http://upload.wikimedia.org/wikipedia/commons/thumb/c/c8/Glagoljica_Vedi.svg/400px-Glagoljica_Vedi.svg.png&amp;imgrefurl=http://commons.wikimedia.org/wiki/File:Glagoljica_Vedi.svg&amp;usg=__2i_gBt-AT5lHv5655W5mXmCBrPs=&amp;h=310&amp;w=400&amp;sz=12&amp;hl=hr&amp;start=54&amp;tbnid=TjkhbKdl8Lo5iM:&amp;tbnh=96&amp;tbnw=124&amp;prev=/images%3Fq%3DGlagoljica%26start%3D40%26gbv%3D2%26ndsp%3D20%26hl%3Dhr%26sa%3DN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www.demidesign.magic-web.eu/user_images/cro%2520etno/pleter%25206x.jpg&amp;imgrefurl=http://www.demidesign.magic-web.eu/&amp;usg=__KeMHEw_pnLlP9IMj8_roGNTc6JU=&amp;h=74&amp;w=77&amp;sz=19&amp;hl=hr&amp;start=19&amp;tbnid=feMNwuj3mM0BGM:&amp;tbnh=69&amp;tbnw=72&amp;prev=/images%3Fq%3DHrvatski%2Bpleter%26gbv%3D2%26hl%3Dhr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i96.photobucket.com/albums/l161/zuki_1/OvdjesespominjeHrvatskoime.jpg&amp;imgrefurl=http://zuki1.bloger.hr/post/razvoj-kulture-u-doba-narodnih-vladara/60288.aspx&amp;usg=__a2rVT0v-LdNHYtJ1E7qhLWQhkMU=&amp;h=378&amp;w=283&amp;sz=49&amp;hl=hr&amp;start=15&amp;tbnid=VVco2wT27-yXlM:&amp;tbnh=122&amp;tbnw=91&amp;prev=/images%3Fq%3DHrvatski%2Bpisani%2Bspomenici%26gbv%3D2%26hl%3Dhr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e5ffff"/>
                </a:solidFill>
                <a:latin typeface="Tahoma"/>
              </a:rPr>
              <a:t>Agencija za odgoj i obrazovanje</a:t>
            </a:r>
            <a:br>
              <a:rPr sz="2000"/>
            </a:br>
            <a:r>
              <a:rPr b="1" lang="hr-HR" sz="2000" spc="-1" strike="noStrike">
                <a:solidFill>
                  <a:srgbClr val="e5ffff"/>
                </a:solidFill>
                <a:latin typeface="Tahoma"/>
              </a:rPr>
              <a:t>Zagreb</a:t>
            </a:r>
            <a:br>
              <a:rPr sz="2000"/>
            </a:br>
            <a:br>
              <a:rPr sz="2000"/>
            </a:br>
            <a:r>
              <a:rPr b="0" lang="hr-HR" sz="3600" spc="-1" strike="noStrike">
                <a:solidFill>
                  <a:srgbClr val="e5ffff"/>
                </a:solidFill>
                <a:latin typeface="Tahoma"/>
              </a:rPr>
              <a:t>Zakonodavstvo i pedagoška dokumentacija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ručni skup za stručne suradnike knjižnič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2411280" y="3933720"/>
          <a:ext cx="428652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933720"/>
                    <a:ext cx="428652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II. ZAKON O ODGOJU I OBRAZOVANJU U OSNOVNOJ I SREDNJOJ ŠKOL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598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acionalni kurikulum, nastavni planovi i programi te oblici r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rganizacija rada šk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aćenje i ocjenjivanje učeničkih postignuć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edagoške mj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snivanje i prestanak radnog odnosa u šk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pravljanje školskom ustanov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edagoška dokumentacija i eviden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pleter3"/>
          <p:cNvPicPr/>
          <p:nvPr/>
        </p:nvPicPr>
        <p:blipFill>
          <a:blip r:embed="rId1"/>
          <a:stretch/>
        </p:blipFill>
        <p:spPr>
          <a:xfrm>
            <a:off x="6804000" y="2924280"/>
            <a:ext cx="17272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31708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Najčešća pitanja iz ovog Zako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zbor i sastav Školskog odb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zbor i razrješenje ravnatelja ško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jelokrug rada stručnih organa ško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okumentacija trajne vrijednosti u škol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edagoške mj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tručno usavršavanje nastavnika i stručnih suradni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zvannastavne, izvanškolske aktivnosti, dodatna i dopunska nast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ako je organiziran odgojno-obrazovni rad u R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Školski kurikulum i Godišnji plan i program rada ško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rgani upravljanja u škol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laniranje i programiranje  odgojno-obrazovnog r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alendar rada ško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3" descr="glagoljica"/>
          <p:cNvPicPr/>
          <p:nvPr/>
        </p:nvPicPr>
        <p:blipFill>
          <a:blip r:embed="rId1"/>
          <a:stretch/>
        </p:blipFill>
        <p:spPr>
          <a:xfrm>
            <a:off x="7524720" y="5300640"/>
            <a:ext cx="870120" cy="957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glagoljica"/>
          <p:cNvPicPr/>
          <p:nvPr/>
        </p:nvPicPr>
        <p:blipFill>
          <a:blip r:embed="rId2"/>
          <a:stretch/>
        </p:blipFill>
        <p:spPr>
          <a:xfrm>
            <a:off x="179280" y="549360"/>
            <a:ext cx="58896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III. ZAKON O RAD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klapanje Ugovora o radu (zasnivanje i prestanak radnog odnos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adno vrijeme (puno radno vrijeme, nepuno radno vrijeme, prekovremeni r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mori i dopu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štita majčins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400px-Glagoljica_Ved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118116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400px-Glagoljica_Ved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5589720"/>
            <a:ext cx="11811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434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Kalendar rada 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PRAVILNIK O POČETKU I ZAVRŠETKU NASTAVNE GODINE, BROJU RADNIH DANA  I TRAJANJU ODMORA UČENIKA OSNOVNIH I SREDNJIH ŠKO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Donosi ministar znanosti i obrazovan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početak i završetak nastavne god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koliko nastavnih dana, (175), tjedana (3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godišnji plan i progra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Članak 4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(1) Školska godina počinje 1. rujna, a završava 31. kolovoza i ima dva polugodiš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(2) Tijekom školske godine učenici imaju pravo na zimski, proljetni i ljetni odm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(3) Odgojno-obrazovni rad ostvaruje se u pravilu u najmanje 175 nastavnih dana, odnosno u 35 nastavnih tjedana, a za učenike završnih razreda srednjih škola u najmanje 160 nastavnih dana, odnosno 32 nastavna tjed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8" descr="1121855640_5_31_photo"/>
          <p:cNvPicPr/>
          <p:nvPr/>
        </p:nvPicPr>
        <p:blipFill>
          <a:blip r:embed="rId1"/>
          <a:stretch/>
        </p:blipFill>
        <p:spPr>
          <a:xfrm>
            <a:off x="6735600" y="2222640"/>
            <a:ext cx="16732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Sustav obrazovanja u RH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stav obrazovanja u Republici Hrvatskoj sastoji se 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edškolskog odgo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snovnog obrazova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rednjeg obrazova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visoke naobrazb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Državni pedagoški standardi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ržavnim pedagoškim standardima utvrđuju se materijalni, kadrovski, zdravstveni, tehnički, informatički i drugi uvjeti za optimalno ostvarivanje nacionalnog kurikuluma i nastavnih planova i programa, radi osiguravanja jednakih uvjeta poučavanja i učenja te cjelovitog razvoja obrazovnog sustava u Republici Hrvatskoj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ržavne pedagoške standarde na prijedlog Vlade Republike Hrvatske donosi Hrvatski sab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5ffff"/>
                </a:solidFill>
                <a:latin typeface="Tahoma"/>
              </a:rPr>
              <a:t>NACIONALNI KURIKULUM, NASTAVNI PLANOVI I PROGRAMI TE OBLICI RADA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goj i obrazovanje u školi ostvaruje se na temelju nacionalnog kurikuluma, nastavnih planova i programa i školskog kurikulu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acionalni kurikulum utvrđuje vrijednosti, načela, općeobrazovne ciljeve i ciljeve poučavanja, koncepciju učenja i poučavanja, pristupe poučavanju, obrazovne ciljeve po obrazovnim područjima i predmetima definirane ishodima obrazovanja, odnosno kompetencijama te vrednovanje i ocjenjivan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acionalni kurikulum donosi minist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Što se utvrđuje nastavnim planom i programom?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stavnim planom i programom utvrđuje se tjedni i godišnji broj nastavnih sati za obvezne i izborne nastavne predmete, njihov raspored po razredima, tjedni broj nastavnih sati po predmetima i ukupni tjedni i godišnji broj sati te ciljevi, zadaće i sadržaji svakog nastavnog predm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Školski kurikulum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Školski kurikulum određuje nastavni plan i program izbornih predmeta, izvannastavne i izvanškolske aktivnosti i druge odgojno-obrazovne aktivnosti, programe i projek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Školskim kurikulumom se utvrđu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ktivnost, program i/ili proje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ciljevi aktivnosti, programa i/ili projek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mjena aktivnosti, programa i/ili projek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ositelji aktivnosti, programa i/ili projekta i njihova odgovorn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čin realizacije aktivnosti, programa i/ili projek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vremenik aktivnosti, programa i/ili projek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etaljan troškovnik aktivnosti, programa i/ili projekta– način vrednovanja i način korištenja rezultata vrednovanja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Školski kurikulum donosi školski odbor do 15. rujna tekuće školske godine na prijedlog učiteljskog, odnosno nastavničkog vijeć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I na kraju.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Želimo vam uspjeh u pripremi i realizaciji vašeg ispita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vo su bila samo temeljna znanja iz zakonodavne i pedagoške dokumentacije koje su potrebna u našem zvanju, no ne zaboravimo 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...Učitelj među učenicima ne daje od svoje mudrosti nego od svoje vjere i svoje ljubavi”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(Halil Džubr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idimo se na ispitu!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B_Omega"/>
          <p:cNvPicPr/>
          <p:nvPr/>
        </p:nvPicPr>
        <p:blipFill>
          <a:blip r:embed="rId1"/>
          <a:stretch/>
        </p:blipFill>
        <p:spPr>
          <a:xfrm>
            <a:off x="7020000" y="515304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8"/>
          <p:cNvGraphicFramePr/>
          <p:nvPr/>
        </p:nvGraphicFramePr>
        <p:xfrm>
          <a:off x="468360" y="404640"/>
          <a:ext cx="792000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7920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 Zakonu o odgoju i obrazovanju u osnovnoj i srednjoj školi  položeni stručni ispit je prva licenca za rad profesora u svojoj struci (članak 117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veza je profesora da se trajno stručno osposobljava (članak 115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Da bismo se uspješno pripremili za stručni ispit potrebno je ovladati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46083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avnom i pedagoškom terminologij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konskim i podzakonskim aktima hrvatskog pravnog sust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ustavom pedagoške dokumentacije školskih ustanova, načinima njezina vođe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Pleter2"/>
          <p:cNvPicPr/>
          <p:nvPr/>
        </p:nvPicPr>
        <p:blipFill>
          <a:blip r:embed="rId1"/>
          <a:stretch/>
        </p:blipFill>
        <p:spPr>
          <a:xfrm>
            <a:off x="5796000" y="2708280"/>
            <a:ext cx="2557440" cy="31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3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OBVEZNA LITERATU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9" descr="pleter3"/>
          <p:cNvPicPr/>
          <p:nvPr/>
        </p:nvPicPr>
        <p:blipFill>
          <a:blip r:embed="rId1"/>
          <a:stretch/>
        </p:blipFill>
        <p:spPr>
          <a:xfrm>
            <a:off x="684360" y="692280"/>
            <a:ext cx="1511280" cy="158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pleter3"/>
          <p:cNvPicPr/>
          <p:nvPr/>
        </p:nvPicPr>
        <p:blipFill>
          <a:blip r:embed="rId2"/>
          <a:stretch/>
        </p:blipFill>
        <p:spPr>
          <a:xfrm>
            <a:off x="6227640" y="4149720"/>
            <a:ext cx="151128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71280" y="380880"/>
            <a:ext cx="5915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1. Zakonodavna literatur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44956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Ustav Republike Hrvatsk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Zakon o odgoju i obrazovanju u osnovnim i srednjim škola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Zakon o rad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Hrvatski 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nacionalni obrazovni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 standar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Hrvatski nacionalni kurikulu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avilnik o načinu praćenja i ocjenjivanja učenika u srednjoj škol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avilnik o neposrednom odgojno-obrazovnom rad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avilnik o napredovanju učitelja i nastavnika u osnovnom i srednjem školstv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avilnik o polaganju stručnog ispita učitelja, nastavnika i stručnih suradnika u osnovnom i srednjem školstv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avilnik o stručnoj spremi i pedagoško-psihološkom obrazovanju nastavnika u osnovnom i srednjem školstv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avilnik o polaganju državne matu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1" descr="Pleter2"/>
          <p:cNvPicPr/>
          <p:nvPr/>
        </p:nvPicPr>
        <p:blipFill>
          <a:blip r:embed="rId1"/>
          <a:stretch/>
        </p:blipFill>
        <p:spPr>
          <a:xfrm>
            <a:off x="324000" y="189000"/>
            <a:ext cx="2232000" cy="14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2. Pedagoška dokumentacija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Matična knjiga učenik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Razredna knjig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e-mat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egled rada izvannastavnih aktivnost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Knjiga evidencija zamjena nenazočnih nastavnik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Zapisnik o razrednom, predmetnom, dopunskom ili razlikovnom ispit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ijavnica i zapisnik za popravni ispi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ijavnica za polaganje predmetnog ispit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Matična knjiga u učeničkom dom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Dnevnik rada odgojne skupine u učeničkom dom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pleter1"/>
          <p:cNvPicPr/>
          <p:nvPr/>
        </p:nvPicPr>
        <p:blipFill>
          <a:blip r:embed="rId1"/>
          <a:stretch/>
        </p:blipFill>
        <p:spPr>
          <a:xfrm>
            <a:off x="468360" y="5877000"/>
            <a:ext cx="81374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218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3. Nekoliko deklaracija koje se odnose na prava građana, ravnopravnosti spolova, a posebno Deklaracija o pravima djete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6" descr="pleter%25206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933720"/>
            <a:ext cx="237492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I. USTAV REPUBLIKE HRVATSK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5051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izvorišne osn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Temeljne odredbe (svih trinaest članaka treba poznavati i samostalno ih komentira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Zajedničke odredbe (članak 14. i 15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Osobne političke slobode i pr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Ustrojstvo državne vlast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1. Hrvatski Sabor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2. Predsjednik Republike 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    Hrvats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3. Vlada Republike Hrvats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4. Sudbena vl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5. Državno odvjetništ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Ustavni sud Republike Hrvats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pleter"/>
          <p:cNvPicPr/>
          <p:nvPr/>
        </p:nvPicPr>
        <p:blipFill>
          <a:blip r:embed="rId1"/>
          <a:stretch/>
        </p:blipFill>
        <p:spPr>
          <a:xfrm>
            <a:off x="6156360" y="1844640"/>
            <a:ext cx="2232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Koja su najčešća pitanja iz Ustava na stručnom ispitu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9560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Biranje zastupnika u Sabor R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adležnost Sabora R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Trodioba vlasti u R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lada Republike Hrvatske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dsjednik Republike Hrvats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vorišne osnove i temeljne odredbe Ustava R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udbeno ustrojstvo u R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Grb i himna R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292360" y="2205000"/>
            <a:ext cx="3024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OvdjesespominjeHrvatskoi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060640"/>
            <a:ext cx="32479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9:26:48Z</dcterms:created>
  <dc:creator>Klasicna</dc:creator>
  <dc:description/>
  <dc:language>en-US</dc:language>
  <cp:lastModifiedBy>Tukša</cp:lastModifiedBy>
  <dcterms:modified xsi:type="dcterms:W3CDTF">2017-01-24T15:04:06Z</dcterms:modified>
  <cp:revision>20</cp:revision>
  <dc:subject/>
  <dc:title>Predavanje</dc:title>
</cp:coreProperties>
</file>