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9A20-4B96-4648-AC97-B4D9CC7B4501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51AA-A4A6-4659-8B7C-2EBF9F6AEF21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EA3C-D6F9-4C5C-8791-74761A74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D83-6A7F-4DF9-B013-F4BC70A6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8C1F-0E81-4CD0-B1CC-4B1C29BE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4CA-4B8E-4D87-8309-676D517A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7060-6FC2-4128-A6E5-BF4A9A83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1562-E711-4AB1-95B0-5050DEC1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EB05-FFC3-416D-AAB1-F55A32F2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4A4F-FA80-411D-8BFB-63F033DE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7EB1-84AF-4EE6-B067-89E0E27D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F0CA-0067-4E4B-A758-54A42BE6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8D96-CF0C-4718-9DE9-3EFDE8DE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9B9-4F0D-411A-967B-8C8B522F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A74F-BCD1-468A-92DA-11BC7A39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2F56-A02D-40B9-943B-C04B520E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F307-2BF4-4DC0-97D7-6D5BB05E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F8D8-12DC-4956-B2C7-C26B3C4F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FFD8-6710-406F-88DA-B232FC22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1D3A-5729-4493-BC99-DCCB904B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3B75-60A2-40D0-ABCC-4C247580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A178-7B7B-4C38-9F6C-BE5794B6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088C-C3F3-4593-8DC0-57D6914B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791E-BB1B-49F8-9946-C135D387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F320-5D8C-49FA-BE6D-AA4F985D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B22-25A9-43CD-A621-C5EB2723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4A58-3EDB-49F7-A448-EEC231B8029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19EA-2AFE-4AF3-B249-9D21BC6A388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stack_of_books"/>
          <p:cNvPicPr/>
          <p:nvPr/>
        </p:nvPicPr>
        <p:blipFill>
          <a:blip r:embed="rId1"/>
          <a:stretch/>
        </p:blipFill>
        <p:spPr>
          <a:xfrm>
            <a:off x="6443640" y="0"/>
            <a:ext cx="2700360" cy="6524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353880" y="76500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Comic Sans MS"/>
              </a:rPr>
              <a:t>Denis Vince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dipl. knjižničar i dipl. novin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tručni suradnik knjižničar,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snovna škola Ante Kovačića Zlat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-459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Motivaci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ntelektual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emocionaln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-459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Vođeni razgovo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436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nternetski preglednic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nternetski pretraživa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-459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Igra detektiv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436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učenje kroz ig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11280" y="40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U kojoj se u ulici nalazi </a:t>
            </a: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Osnovna škola Belec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? Koji je broj pošte Belec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506520" y="1989000"/>
            <a:ext cx="77245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40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Što je </a:t>
            </a: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Medvednica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? Park prirode ili nacionalni par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0661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11280" y="40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Tko je napisao knjigu </a:t>
            </a: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Čuvaj se senjske ruke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495360" y="1995480"/>
            <a:ext cx="81090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11280" y="40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Tko je napisao knjigu </a:t>
            </a: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Veli Jože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7000" y="2487600"/>
            <a:ext cx="91170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1280" y="40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Pronađi na internetu </a:t>
            </a:r>
            <a:r>
              <a:rPr b="1" lang="hr-HR" sz="3200" spc="-1" strike="noStrike">
                <a:solidFill>
                  <a:srgbClr val="ff0000"/>
                </a:solidFill>
                <a:latin typeface="Comic Sans MS"/>
              </a:rPr>
              <a:t>Radio Zlatar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 i koje su pitanje postavili u ovotjednoj anketi! Ispuni anketu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124000" y="1967040"/>
            <a:ext cx="5543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11280" y="40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Koliko je duga </a:t>
            </a:r>
            <a:r>
              <a:rPr b="1" lang="hr-HR" sz="3200" spc="-1" strike="noStrike">
                <a:solidFill>
                  <a:srgbClr val="ff0000"/>
                </a:solidFill>
                <a:latin typeface="Comic Sans MS"/>
              </a:rPr>
              <a:t>rijeka Sava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08000" y="2098800"/>
            <a:ext cx="8670960" cy="895320"/>
          </a:xfrm>
          <a:prstGeom prst="rect">
            <a:avLst/>
          </a:prstGeom>
          <a:ln w="0">
            <a:noFill/>
          </a:ln>
        </p:spPr>
      </p:pic>
      <p:sp>
        <p:nvSpPr>
          <p:cNvPr id="211" name="TekstniOkvir 8"/>
          <p:cNvSpPr/>
          <p:nvPr/>
        </p:nvSpPr>
        <p:spPr>
          <a:xfrm>
            <a:off x="826920" y="299412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Izvor: https://hr.wikipedia.org/wiki/S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111240" y="3933720"/>
            <a:ext cx="8493120" cy="811440"/>
          </a:xfrm>
          <a:prstGeom prst="rect">
            <a:avLst/>
          </a:prstGeom>
          <a:ln w="0">
            <a:noFill/>
          </a:ln>
        </p:spPr>
      </p:pic>
      <p:sp>
        <p:nvSpPr>
          <p:cNvPr id="213" name="TekstniOkvir 11"/>
          <p:cNvSpPr/>
          <p:nvPr/>
        </p:nvSpPr>
        <p:spPr>
          <a:xfrm>
            <a:off x="979560" y="4840200"/>
            <a:ext cx="69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Izvor: http://www.prometna-zona.com/sava/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11280" y="40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Pronađi na mrežnoj stranici </a:t>
            </a:r>
            <a:r>
              <a:rPr b="1" lang="hr-HR" sz="3200" spc="-1" strike="noStrike">
                <a:solidFill>
                  <a:srgbClr val="ff0000"/>
                </a:solidFill>
                <a:latin typeface="Comic Sans MS"/>
              </a:rPr>
              <a:t>Gradske knjižnice Zlatar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koju su knjigu djeca najviše čitala u veljači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908000" y="1874880"/>
            <a:ext cx="64090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zervirano mjesto sadržaja 2"/>
          <p:cNvSpPr/>
          <p:nvPr/>
        </p:nvSpPr>
        <p:spPr>
          <a:xfrm>
            <a:off x="685800" y="1828800"/>
            <a:ext cx="769608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ano informacijsko opismenjavanje učenika pomoću računala</a:t>
            </a: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– izazov za školskog knjižničara i učenike četvrtih razre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11280" y="40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Pronađi na mrežnoj stranici </a:t>
            </a:r>
            <a:r>
              <a:rPr b="1" lang="hr-HR" sz="3200" spc="-1" strike="noStrike">
                <a:solidFill>
                  <a:srgbClr val="ff0000"/>
                </a:solidFill>
                <a:latin typeface="Comic Sans MS"/>
              </a:rPr>
              <a:t>Osnovne škole Ante Kovačića Zlatar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 koju knjigu će 3.b razred čitati za lektiru u svibnju! Pomoć: odgovor se nalazi u rubrici </a:t>
            </a:r>
            <a:r>
              <a:rPr b="1" lang="hr-HR" sz="3200" spc="-1" strike="noStrike">
                <a:solidFill>
                  <a:srgbClr val="ff0000"/>
                </a:solidFill>
                <a:latin typeface="Comic Sans MS"/>
              </a:rPr>
              <a:t>Knjižnica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7640" y="366840"/>
            <a:ext cx="77230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11280" y="40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Pomoću Googlea pronađi </a:t>
            </a:r>
            <a:r>
              <a:rPr b="1" lang="hr-HR" sz="3200" spc="-1" strike="noStrike">
                <a:solidFill>
                  <a:srgbClr val="ff0000"/>
                </a:solidFill>
                <a:latin typeface="Comic Sans MS"/>
              </a:rPr>
              <a:t>telefonski imenik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! Pronađi telefonski broj </a:t>
            </a:r>
            <a:r>
              <a:rPr b="1" lang="hr-HR" sz="3200" spc="-1" strike="noStrike">
                <a:solidFill>
                  <a:srgbClr val="ff0000"/>
                </a:solidFill>
                <a:latin typeface="Comic Sans MS"/>
              </a:rPr>
              <a:t>Srednje škole Zlatar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16000" y="1982880"/>
            <a:ext cx="8388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-459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Evaluaci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436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67 posto četvrtaša koristi se Googleom od doma svaki d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Google Chrome vs. Goog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kstniOkvir 3"/>
          <p:cNvSpPr/>
          <p:nvPr/>
        </p:nvSpPr>
        <p:spPr>
          <a:xfrm>
            <a:off x="179280" y="115920"/>
            <a:ext cx="7561440" cy="54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Comic Sans MS"/>
              </a:rPr>
              <a:t>Literatura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Comic Sans MS"/>
              </a:rPr>
              <a:t>Craver, Kathleen W. 1997.</a:t>
            </a:r>
            <a:r>
              <a:rPr b="0" i="1" lang="hr-HR" sz="1300" spc="-1" strike="noStrike">
                <a:solidFill>
                  <a:srgbClr val="000000"/>
                </a:solidFill>
                <a:latin typeface="Comic Sans MS"/>
              </a:rPr>
              <a:t> Teaching Electronic Literacy : A Concepts-Based Approach for School Library Media Specialists</a:t>
            </a:r>
            <a:r>
              <a:rPr b="0" lang="hr-HR" sz="1300" spc="-1" strike="noStrike">
                <a:solidFill>
                  <a:srgbClr val="000000"/>
                </a:solidFill>
                <a:latin typeface="Comic Sans MS"/>
              </a:rPr>
              <a:t>. Greenwood Press, Westport Co. London.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Comic Sans MS"/>
              </a:rPr>
              <a:t>Herring, James E. 2008. </a:t>
            </a:r>
            <a:r>
              <a:rPr b="0" i="1" lang="hr-HR" sz="1300" spc="-1" strike="noStrike">
                <a:solidFill>
                  <a:srgbClr val="000000"/>
                </a:solidFill>
                <a:latin typeface="Comic Sans MS"/>
              </a:rPr>
              <a:t>Internetske i informacijske vještine : priručnik za učitelje i školske knjižničare.</a:t>
            </a:r>
            <a:r>
              <a:rPr b="0" lang="hr-HR" sz="1300" spc="-1" strike="noStrike">
                <a:solidFill>
                  <a:srgbClr val="000000"/>
                </a:solidFill>
                <a:latin typeface="Comic Sans MS"/>
              </a:rPr>
              <a:t> Naklada Nediljko Dominović. Zagreb.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Comic Sans MS"/>
              </a:rPr>
              <a:t>Kovačević, Dinka; Lasić-Lazić, Jadranka; Lovrinčević, Jasmina. 2004. </a:t>
            </a:r>
            <a:r>
              <a:rPr b="0" i="1" lang="hr-HR" sz="1300" spc="-1" strike="noStrike">
                <a:solidFill>
                  <a:srgbClr val="000000"/>
                </a:solidFill>
                <a:latin typeface="Comic Sans MS"/>
              </a:rPr>
              <a:t>Školska knjižnica – korak dalje</a:t>
            </a:r>
            <a:r>
              <a:rPr b="0" lang="hr-HR" sz="1300" spc="-1" strike="noStrike">
                <a:solidFill>
                  <a:srgbClr val="000000"/>
                </a:solidFill>
                <a:latin typeface="Comic Sans MS"/>
              </a:rPr>
              <a:t>. Filozofski fakultet, Zavod za informacijske studije Odsjeka za informacijske znanosti : Altagama. Zagreb.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Comic Sans MS"/>
              </a:rPr>
              <a:t>Malley, Ian. 1984. </a:t>
            </a:r>
            <a:r>
              <a:rPr b="0" i="1" lang="hr-HR" sz="1300" spc="-1" strike="noStrike">
                <a:solidFill>
                  <a:srgbClr val="000000"/>
                </a:solidFill>
                <a:latin typeface="Comic Sans MS"/>
              </a:rPr>
              <a:t>The Basics of Information Skills Teaching.</a:t>
            </a:r>
            <a:r>
              <a:rPr b="0" lang="hr-HR" sz="1300" spc="-1" strike="noStrike">
                <a:solidFill>
                  <a:srgbClr val="000000"/>
                </a:solidFill>
                <a:latin typeface="Comic Sans MS"/>
              </a:rPr>
              <a:t> Clive Bingley. London.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Comic Sans MS"/>
              </a:rPr>
              <a:t>Matijević, Milan; Radovanović, Diana. 2011. </a:t>
            </a:r>
            <a:r>
              <a:rPr b="0" i="1" lang="hr-HR" sz="1300" spc="-1" strike="noStrike">
                <a:solidFill>
                  <a:srgbClr val="000000"/>
                </a:solidFill>
                <a:latin typeface="Comic Sans MS"/>
              </a:rPr>
              <a:t>Nastava usmjerena na učenika</a:t>
            </a:r>
            <a:r>
              <a:rPr b="0" lang="hr-HR" sz="1300" spc="-1" strike="noStrike">
                <a:solidFill>
                  <a:srgbClr val="000000"/>
                </a:solidFill>
                <a:latin typeface="Comic Sans MS"/>
              </a:rPr>
              <a:t>. Školske novine. Zagreb.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3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300" spc="-1" strike="noStrike">
                <a:solidFill>
                  <a:srgbClr val="000000"/>
                </a:solidFill>
                <a:latin typeface="Comic Sans MS"/>
              </a:rPr>
              <a:t>Nastavni plan i program za osnovnu školu</a:t>
            </a:r>
            <a:r>
              <a:rPr b="0" lang="hr-HR" sz="1300" spc="-1" strike="noStrike">
                <a:solidFill>
                  <a:srgbClr val="000000"/>
                </a:solidFill>
                <a:latin typeface="Comic Sans MS"/>
              </a:rPr>
              <a:t>. Zagreb. public.mzos.hr/fgs.axd?id=14181 (pristupljeno 1. veljače 2017.).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Comic Sans MS"/>
              </a:rPr>
              <a:t>Stričević, Ivanka. 2011. </a:t>
            </a:r>
            <a:r>
              <a:rPr b="0" i="1" lang="hr-HR" sz="1300" spc="-1" strike="noStrike">
                <a:solidFill>
                  <a:srgbClr val="000000"/>
                </a:solidFill>
                <a:latin typeface="Comic Sans MS"/>
              </a:rPr>
              <a:t>Informacijska pismenost i uloga dječjih knjižničara</a:t>
            </a:r>
            <a:r>
              <a:rPr b="0" lang="hr-HR" sz="1300" spc="-1" strike="noStrike">
                <a:solidFill>
                  <a:srgbClr val="000000"/>
                </a:solidFill>
                <a:latin typeface="Comic Sans MS"/>
              </a:rPr>
              <a:t>. (predstavljeno na Stručnom skupu </a:t>
            </a:r>
            <a:r>
              <a:rPr b="0" i="1" lang="hr-HR" sz="1300" spc="-1" strike="noStrike">
                <a:solidFill>
                  <a:srgbClr val="000000"/>
                </a:solidFill>
                <a:latin typeface="Comic Sans MS"/>
              </a:rPr>
              <a:t>Djeca na internetu u knjižnici</a:t>
            </a:r>
            <a:r>
              <a:rPr b="0" lang="hr-HR" sz="1300" spc="-1" strike="noStrike">
                <a:solidFill>
                  <a:srgbClr val="000000"/>
                </a:solidFill>
                <a:latin typeface="Comic Sans MS"/>
              </a:rPr>
              <a:t>, Zagreb, 2011.).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Comic Sans MS"/>
              </a:rPr>
              <a:t>Špiranec, Sonja; Banek Zorica, Mihaela. 2008. </a:t>
            </a:r>
            <a:r>
              <a:rPr b="0" i="1" lang="hr-HR" sz="1300" spc="-1" strike="noStrike">
                <a:solidFill>
                  <a:srgbClr val="000000"/>
                </a:solidFill>
                <a:latin typeface="Comic Sans MS"/>
              </a:rPr>
              <a:t>Informacijska pismenost : teorijski okvir i polazišta.</a:t>
            </a:r>
            <a:r>
              <a:rPr b="0" lang="hr-HR" sz="1300" spc="-1" strike="noStrike">
                <a:solidFill>
                  <a:srgbClr val="000000"/>
                </a:solidFill>
                <a:latin typeface="Comic Sans MS"/>
              </a:rPr>
              <a:t> Filozofski fakultet, Zavod za informacijske studije Odsjeka za informacijske znanosti. Zagreb.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-459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Računalo u nastav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36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nformatika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Hrvatski je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računa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436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retražujemo internet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školska knjižn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nformatička učion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-459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2011./1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-459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Ishodi učen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36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učenik zna prepoznati i definirati internetski preglednik i internetski pretraživa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zna objasniti razliku između nji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zna imenovati nekoliko internetskih pregledn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zna imenovati najpopularniji internetski pretraživač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-459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Big6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436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Definicija zadatka (osvještavanje informacijske potrebe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Strategije informacijskog pretraživanja (identifikacija izvora i odabir najboljih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Pronalaženje i pristup (lociranje izvora i pronalaženje informacije u njemu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Korištenje informacije (čitanje, slušanje, promatranje s ciljem da se dobije relevantna informacija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Sinteza (organiziranje dobivenih informacija i prezentiranje – uporaba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Evaluacija (procjena procesa i produkta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-459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Big6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436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55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0000"/>
                </a:solidFill>
                <a:latin typeface="Comic Sans MS"/>
              </a:rPr>
              <a:t>Definicija zadatka (osvještavanje informacijske potrebe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88520" indent="-488520">
              <a:spcBef>
                <a:spcPts val="55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0000"/>
                </a:solidFill>
                <a:latin typeface="Comic Sans MS"/>
              </a:rPr>
              <a:t>Strategije informacijskog pretraživanja (identifikacija izvora i odabir najboljih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Pronalaženje i pristup (lociranje izvora i pronalaženje informacije u njemu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Korištenje informacije (čitanje, slušanje, promatranje s ciljem da se dobije relevantna informacija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Sinteza (organiziranje dobivenih informacija i prezentiranje – uporaba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Evaluacija (procjena procesa i produkta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-459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Big6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436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55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0000"/>
                </a:solidFill>
                <a:latin typeface="Comic Sans MS"/>
              </a:rPr>
              <a:t>Definicija zadatka (osvještavanje informacijske potrebe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88520" indent="-488520">
              <a:spcBef>
                <a:spcPts val="55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0000"/>
                </a:solidFill>
                <a:latin typeface="Comic Sans MS"/>
              </a:rPr>
              <a:t>Strategije informacijskog pretraživanja (identifikacija izvora i odabir najboljih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Pronalaženje i pristup (lociranje izvora i pronalaženje informacije u njemu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Korištenje informacije (čitanje, slušanje, promatranje s ciljem da se dobije relevantna informacija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Sinteza (organiziranje dobivenih informacija i prezentiranje – uporaba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88520" indent="-488520">
              <a:spcBef>
                <a:spcPts val="550"/>
              </a:spcBef>
              <a:buClr>
                <a:srgbClr val="7030a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7030a0"/>
                </a:solidFill>
                <a:latin typeface="Comic Sans MS"/>
              </a:rPr>
              <a:t>Evaluacija (procjena procesa i produkta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-459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Big6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4000" y="1341360"/>
            <a:ext cx="8064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55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0000"/>
                </a:solidFill>
                <a:latin typeface="Comic Sans MS"/>
              </a:rPr>
              <a:t>Definicija zadatka (osvještavanje informacijske potrebe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88520" indent="-488520">
              <a:spcBef>
                <a:spcPts val="55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0000"/>
                </a:solidFill>
                <a:latin typeface="Comic Sans MS"/>
              </a:rPr>
              <a:t>Strategije informacijskog pretraživanja (identifikacija izvora i odabir najboljih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omic Sans MS"/>
              </a:rPr>
              <a:t>Pronalaženje i pristup (lociranje izvora i pronalaženje informacije u njemu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omic Sans MS"/>
              </a:rPr>
              <a:t>Korištenje informacije (čitanje, slušanje, promatranje s ciljem da se dobije relevantna informacija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omic Sans MS"/>
              </a:rPr>
              <a:t>Sinteza (organiziranje dobivenih informacija i prezentiranje – uporaba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88520" indent="-488520">
              <a:spcBef>
                <a:spcPts val="550"/>
              </a:spcBef>
              <a:buClr>
                <a:srgbClr val="7030a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7030a0"/>
                </a:solidFill>
                <a:latin typeface="Comic Sans MS"/>
              </a:rPr>
              <a:t>Evaluacija (procjena procesa i produkta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1619280" y="5967360"/>
            <a:ext cx="698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ljetna škola školskih knjižnič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rogir, 6. – 8. travnja 201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7:43:12Z</dcterms:created>
  <dc:creator>korisnik</dc:creator>
  <dc:description/>
  <dc:language>en-US</dc:language>
  <cp:lastModifiedBy>Korisnik</cp:lastModifiedBy>
  <dcterms:modified xsi:type="dcterms:W3CDTF">2017-04-04T09:48:18Z</dcterms:modified>
  <cp:revision>85</cp:revision>
  <dc:subject/>
  <dc:title>Pisanje seminara</dc:title>
</cp:coreProperties>
</file>