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D998-990A-4FA6-A7FE-FB008768A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14E0-609E-4ECD-A73C-DC061916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F789A-7860-45DA-901E-5D82BBC5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CCC49-4621-4468-982F-FD096A73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E9C39-9269-4F85-BE79-67A8B682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F317A-CD4B-44BC-AB17-A692567B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295D88-87CF-4D20-923B-CAB475EF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1D2413-832B-4B49-AC01-AEC6BA7C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769CA-24C3-4B7E-9A70-08352B20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A53C4-1D9D-4954-B336-D4010BBD7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60D3E-11B7-493C-9A50-DBDB52C70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0320C-DF56-4C72-A511-7C3FAA4FC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9029-D472-44D0-BCD0-56E485571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9B603E-D823-48E2-B7DA-157E2D7B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EB6FF8-DF73-43D9-AC36-A25A2427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D54515-57FD-4311-BFF5-66585555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E3FB5E-5DD7-4872-B49E-3BDF72EF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7B4E4-6AE5-4D30-893F-DC46633A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8779B4-25F9-4A2C-9DAE-BC4B034D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8A529-2A59-430C-A7C4-B4314D03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469742-B5EF-48E8-9344-6EB4241E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5C467-899E-4288-8E6F-A786D0C4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FE6EBA-8687-4041-BAB3-0E052419E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457C-71A9-40AC-A34C-794F4BCE8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2F83AD-002C-42A2-9881-358F8DCD8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2FF2-7E4C-4EE4-88F8-5A019A2B9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59BD-F966-482E-A302-48951086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9B26-D99D-4692-9973-ADACA7E2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20EA-4C46-43C7-846C-07CB8DFC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467E-0E18-454B-A8DB-6F59A18F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76C7-3070-4AED-B7F2-32B42A52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1564-C0F8-4106-BD3C-8DBE332A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0842-262C-4FA4-8B81-929E2214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5D53-DCFB-457A-8AB9-0BD2EDFB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3862-D252-40EF-96E8-E7BFF146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4A8CC-68FB-406F-BD2E-30356203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F980-D141-4AAC-B821-9E5C772B8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35FE-7E5B-45B0-AD60-1428BA0D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3FAE8-61BA-42F9-A2EE-84E84A712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84DD3-1B7C-43D7-8437-49776D99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C8E2B-631C-4EAD-8622-1E343E7E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2FEA4-D1AA-4495-861F-F3461618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D1DE7-1C6D-43F2-9561-C838D38A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174E-169D-4C04-B217-55B8A2C5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F5461-9032-43B6-B8B1-CBEAF09E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A3484-375F-4924-847E-33BA8754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0A901-A1D4-4803-9125-10D582CD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0FCEE-D44C-4D3A-BE1C-62234D3E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2380C-4F66-445E-9383-400A06D4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40ADD-AAF3-4715-9AFB-088414782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934B7-6263-44D9-B483-B3FA93BC6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8A872-910D-4468-85F9-1BDA2E4C0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F7106-B154-4B9A-A9C4-9A878D83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01880-D9D7-4807-A1C6-A5FBC8DE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BA5A-DC82-4042-81F4-8DF58FA4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5BFC6-AC44-4CCE-9E74-2A39D5AB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A70F6-F4C4-4D0C-B138-54EA6828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FAF5F-BAF2-4D6F-BDA7-E9F96D53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A95CB-72A8-4564-9C18-D6642C39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88022-296D-4D79-94B1-FAD93CAE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0C7A5-5304-4FD8-B513-6F424948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E7201-7627-475B-993D-E6B2352A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A3D8D-6323-4D66-B1D1-EA0883BDD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717D6-62BB-4020-865A-04709F028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EEA2B-2F6E-46B8-891A-D952D1D15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1314-5A58-480C-954E-7A16F684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47DB8-E05A-4A30-903C-E6BE97B8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06AF5-C0C6-4106-8A60-2B3EF3C1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DA782-268C-489B-81F7-3134832F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9EC9E-11A9-4AF2-B337-C3E4105A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DC47D-66F8-44D7-922E-2F67E091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4E60E-E901-496F-A742-70EEA66D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D18B4-8576-4537-BE56-8A65C8C6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614D3-35B3-481E-9973-EED17E18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D5FCD-E59F-49D2-8D2E-5EFF60B5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C086F-1CA4-47DE-9691-715086FE3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78F7-E6A8-4E46-9353-D4EDAC0A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AB270-C971-4C6E-BFCD-CA46C3DC3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793F1-F6D7-48B6-A8E8-0B78AE9CC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3D80F-C990-4BA3-B454-4F601483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1DB1A-851D-4F14-9BCE-1522D9DE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426B2-14FF-49B1-8654-6E4CC080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6940C-C3F7-4E0E-802F-4FA072DA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BCA18-B354-40DF-B0A0-DCEABC0C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B1208-8509-4D71-BD00-FF93654C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5E479-3230-4BD6-AF3D-0B75B481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18013-4577-448C-9707-8CDE42DC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28C7-32EB-4090-9951-41D275AD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596D6-112B-4153-8988-70D9C461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F7764-9A70-4A6C-BEFB-9159CEEA8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DB515-B9C8-41B6-96D7-663774D01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A4D75-E437-40F8-89C8-E863727D9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E13B0-74A8-4A3F-89A9-36630460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EB5C5-F96F-448F-9583-E10F2885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6838F-66B9-411C-B023-5A6AA0A2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192D1-19C5-4468-9DC0-31C4DBA9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D2C8F-71FD-4D9F-A43C-CB8604BA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9BAF8-7D4F-4E64-9E93-C7D6C4C4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0AFD-6B9B-4A72-820D-8C3DAFD5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6535B-A06C-4773-8525-82669859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46CED-2939-465D-80D8-EFF024DB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9E9DD-6ADE-4F20-A305-688DDDC9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7ED87-E63B-49FF-B7F0-FDECAD4FD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A15B0-0C7B-437B-B861-C2D1166FA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49422-A99D-41E6-9572-73B3D877B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A9191-52F9-4832-B00E-C8F325E6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96A0B-64E6-492E-82FC-441E889C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4C935-6553-4D18-B43F-4605808E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B70AF-E927-4172-AEDD-FF8C75BE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21B8-7638-4B5E-A8FD-4656B7B0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FCC7B-55C3-4DAF-88D0-575A7614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62D70-2908-4EFF-BE8C-FDFA8357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CBD6C-7E7F-483F-B5DE-5827D07A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2E4B7-C15B-4EC4-82B8-C8BA3B09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F6207-D9DC-48A7-AE3A-E2EF0171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1C0DA-22CB-4364-9B0C-92E0B13BC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EC62B-10D2-452A-AEDE-607D5847C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9C9F1-0375-460C-B378-4AE2B8B6C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D9DDE7-B6EA-44CD-88F7-97CFC8C8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31192-4363-4566-AF4E-76631AB8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3515-0691-4A4F-AD84-66C5D5A1F3EF}" type="slidenum">
              <a:rPr b="0" lang="en-US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2844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2844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traight Connector 8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traight Connector 10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D566-F567-4BA3-B32F-9135A974F007}" type="slidenum">
              <a:rPr b="0" lang="en-US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2844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2844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5" hidden="1"/>
          <p:cNvSpPr/>
          <p:nvPr/>
        </p:nvSpPr>
        <p:spPr>
          <a:xfrm>
            <a:off x="8688240" y="6826320"/>
            <a:ext cx="174600" cy="1332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f8f8f8"/>
                </a:solidFill>
                <a:latin typeface="Henderson BCG Sans"/>
              </a:rPr>
              <a:t>‹</a:t>
            </a:r>
            <a:r>
              <a:rPr b="0" lang="it-IT" sz="800" spc="-1" strike="noStrike">
                <a:solidFill>
                  <a:srgbClr val="f8f8f8"/>
                </a:solidFill>
                <a:latin typeface="Henderson BCG Sans"/>
              </a:rPr>
              <a:t>#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71640" y="2133720"/>
            <a:ext cx="7777080" cy="1871640"/>
          </a:xfrm>
          <a:prstGeom prst="rect">
            <a:avLst/>
          </a:prstGeom>
          <a:noFill/>
          <a:ln cap="rnd" w="64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000" y="5013360"/>
            <a:ext cx="7848720" cy="936720"/>
          </a:xfrm>
          <a:prstGeom prst="rect">
            <a:avLst/>
          </a:prstGeom>
          <a:noFill/>
          <a:ln cap="rnd" w="648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539640" y="2133720"/>
            <a:ext cx="432000" cy="1871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539640" y="5013360"/>
            <a:ext cx="432000" cy="936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CF16-F70C-45CE-B8B3-5F2D49E6BCD1}" type="slidenum">
              <a:rPr b="0" lang="en-US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2844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2844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4617b"/>
                </a:solidFill>
                <a:latin typeface="Times New Roman"/>
              </a:rPr>
              <a:t>I. Stričević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7038-82C5-4D01-BB41-546E3ED2163D}" type="slidenum">
              <a:rPr b="0" lang="en-US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bf5f9"/>
              </a:solidFill>
              <a:latin typeface="Bookman Old Sty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83D1-81AE-412B-9570-721AD7CBE55D}" type="slidenum">
              <a:rPr b="0" lang="en-US" sz="1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2844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2844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8" descr="logo_odjel.png"/>
          <p:cNvPicPr/>
          <p:nvPr/>
        </p:nvPicPr>
        <p:blipFill>
          <a:blip r:embed="rId2"/>
          <a:stretch/>
        </p:blipFill>
        <p:spPr>
          <a:xfrm>
            <a:off x="7451640" y="0"/>
            <a:ext cx="1513080" cy="2206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DCD8-66E0-4D7A-9AAE-810F4BDC143C}" type="slidenum">
              <a:rPr b="0" lang="en-US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2844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2844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Isosceles Triangle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9" descr="logo_odjel.png"/>
          <p:cNvPicPr/>
          <p:nvPr/>
        </p:nvPicPr>
        <p:blipFill>
          <a:blip r:embed="rId2"/>
          <a:stretch/>
        </p:blipFill>
        <p:spPr>
          <a:xfrm>
            <a:off x="7451640" y="0"/>
            <a:ext cx="1513080" cy="2206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529D-06FA-4D21-8FCB-1CEA82BE57F6}" type="slidenum">
              <a:rPr b="0" lang="en-US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traight Connector 8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812E-99A7-4B3A-889E-CECB14AB76E4}" type="slidenum">
              <a:rPr b="0" lang="en-US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traight Connector 8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04CA-F799-4FBE-96E9-A252C10B93DE}" type="slidenum">
              <a:rPr b="0" lang="en-US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Straight Connector 8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0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bf5f9"/>
              </a:solidFill>
              <a:latin typeface="Bookman Old Styl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9F85-BCFE-494C-B71D-5EF77E7E2DB5}" type="slidenum">
              <a:rPr b="0" lang="en-US" sz="1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68440" y="333000"/>
            <a:ext cx="81360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b5395"/>
                </a:solidFill>
                <a:latin typeface="Arial"/>
                <a:ea typeface="Arial"/>
              </a:rPr>
              <a:t>XXIX. Proljetna škola školskih knjižničara RH</a:t>
            </a:r>
            <a:br>
              <a:rPr sz="1400"/>
            </a:br>
            <a:br>
              <a:rPr sz="1400"/>
            </a:br>
            <a:r>
              <a:rPr b="0" lang="hr-HR" sz="1400" spc="-1" strike="noStrike">
                <a:solidFill>
                  <a:srgbClr val="0b5395"/>
                </a:solidFill>
                <a:latin typeface="Arial"/>
                <a:ea typeface="Arial"/>
              </a:rPr>
              <a:t> </a:t>
            </a:r>
            <a:r>
              <a:rPr b="1" lang="hr-HR" sz="1400" spc="-1" strike="noStrike">
                <a:solidFill>
                  <a:srgbClr val="0b5395"/>
                </a:solidFill>
                <a:latin typeface="Arial"/>
                <a:ea typeface="Arial"/>
              </a:rPr>
              <a:t>Kurikulum knjižničnog odgoja i obrazovanja </a:t>
            </a:r>
            <a:br>
              <a:rPr sz="1400"/>
            </a:br>
            <a:r>
              <a:rPr b="0" lang="hr-HR" sz="1400" spc="-1" strike="noStrike">
                <a:solidFill>
                  <a:srgbClr val="0b5395"/>
                </a:solidFill>
                <a:latin typeface="Arial"/>
                <a:ea typeface="Arial"/>
              </a:rPr>
              <a:t>- put prema kritičkom mišljenju, znanju i osobnom razvoju </a:t>
            </a:r>
            <a:br>
              <a:rPr sz="1400"/>
            </a:br>
            <a:r>
              <a:rPr b="0" lang="hr-HR" sz="1400" spc="-1" strike="noStrike">
                <a:solidFill>
                  <a:srgbClr val="0b5395"/>
                </a:solidFill>
                <a:latin typeface="Arial"/>
                <a:ea typeface="Arial"/>
              </a:rPr>
              <a:t>Trogir, </a:t>
            </a:r>
            <a:r>
              <a:rPr b="0" lang="pt-BR" sz="1400" spc="-1" strike="noStrike">
                <a:solidFill>
                  <a:srgbClr val="0b5395"/>
                </a:solidFill>
                <a:latin typeface="Arial"/>
                <a:ea typeface="Arial"/>
              </a:rPr>
              <a:t>6. do 8. travnja 2017. </a:t>
            </a:r>
            <a:br>
              <a:rPr sz="1400"/>
            </a:br>
            <a:br>
              <a:rPr sz="14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Informacijska pismenost </a:t>
            </a:r>
            <a:br>
              <a:rPr sz="2800"/>
            </a:b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i razvoj kritičkog mišljenja</a:t>
            </a:r>
            <a:br>
              <a:rPr sz="2500"/>
            </a:br>
            <a:r>
              <a:rPr b="0" lang="hr-HR" sz="2500" spc="-1" strike="noStrike">
                <a:solidFill>
                  <a:srgbClr val="000000"/>
                </a:solidFill>
                <a:latin typeface="Bookman Old Style"/>
              </a:rPr>
              <a:t> </a:t>
            </a:r>
            <a:endParaRPr b="0" lang="en-US" sz="25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71280" y="5157720"/>
            <a:ext cx="777708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Dr.</a:t>
            </a:r>
            <a:r>
              <a:rPr b="0" lang="hr-HR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sc. Ivanka Stričević</a:t>
            </a:r>
            <a:r>
              <a:rPr b="0" lang="hr-HR" sz="1600" spc="-1" strike="noStrike">
                <a:solidFill>
                  <a:srgbClr val="000000"/>
                </a:solidFill>
                <a:latin typeface="Gill Sans MT"/>
              </a:rPr>
              <a:t>, Sveučilište u Zadru, Odjel za informacijske znanosti, </a:t>
            </a:r>
            <a:r>
              <a:rPr b="0" lang="en-US" sz="1400" spc="-1" strike="noStrike">
                <a:solidFill>
                  <a:srgbClr val="0b5395"/>
                </a:solidFill>
                <a:latin typeface="Gill Sans MT"/>
              </a:rPr>
              <a:t>istricev@unizd.hr</a:t>
            </a:r>
            <a:r>
              <a:rPr b="0" lang="hr-HR" sz="1400" spc="-1" strike="noStrike">
                <a:solidFill>
                  <a:srgbClr val="0b5395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ill Sans MT"/>
              </a:rPr>
              <a:t>Ivana Perić, prof. i dipl. knjiž., OŠ Petra Preradovića, Zadar, </a:t>
            </a:r>
            <a:r>
              <a:rPr b="0" lang="hr-HR" sz="1400" spc="-1" strike="noStrike">
                <a:solidFill>
                  <a:srgbClr val="0b5395"/>
                </a:solidFill>
                <a:latin typeface="Gill Sans MT"/>
              </a:rPr>
              <a:t>iprelasperic@gmail.com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4617b"/>
                </a:solidFill>
                <a:latin typeface="Arial"/>
                <a:ea typeface="Arial"/>
              </a:rPr>
              <a:t>Vještine mišljenja višeg reda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Promišljan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Odabiran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Propitivanj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Analiz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Sintez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Usporedb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Logičko mišljen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Argumentirano zaključivan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Kreacija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Right Brace 3"/>
          <p:cNvSpPr/>
          <p:nvPr/>
        </p:nvSpPr>
        <p:spPr>
          <a:xfrm>
            <a:off x="4021200" y="2031840"/>
            <a:ext cx="1081080" cy="3413160"/>
          </a:xfrm>
          <a:custGeom>
            <a:avLst/>
            <a:gdLst>
              <a:gd name="textAreaLeft" fmla="*/ 0 w 1081080"/>
              <a:gd name="textAreaRight" fmla="*/ 390240 w 1081080"/>
              <a:gd name="textAreaTop" fmla="*/ 28080 h 3413160"/>
              <a:gd name="textAreaBottom" fmla="*/ 3385080 h 341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85"/>
                  <a:pt x="10800" y="570"/>
                </a:cubicBezTo>
                <a:lnTo>
                  <a:pt x="10800" y="10230"/>
                </a:lnTo>
                <a:cubicBezTo>
                  <a:pt x="10800" y="10515"/>
                  <a:pt x="16200" y="10800"/>
                  <a:pt x="21600" y="10800"/>
                </a:cubicBezTo>
                <a:cubicBezTo>
                  <a:pt x="16200" y="10800"/>
                  <a:pt x="10800" y="11085"/>
                  <a:pt x="10800" y="11370"/>
                </a:cubicBezTo>
                <a:lnTo>
                  <a:pt x="10800" y="21030"/>
                </a:lnTo>
                <a:cubicBezTo>
                  <a:pt x="10800" y="21315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4"/>
          <p:cNvSpPr/>
          <p:nvPr/>
        </p:nvSpPr>
        <p:spPr>
          <a:xfrm>
            <a:off x="5435640" y="3017880"/>
            <a:ext cx="2808360" cy="1441440"/>
          </a:xfrm>
          <a:prstGeom prst="ellipse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Gill Sans MT"/>
              </a:rPr>
              <a:t>kritičko mišlje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4617b"/>
                </a:solidFill>
                <a:latin typeface="Arial"/>
                <a:ea typeface="Arial"/>
              </a:rPr>
              <a:t>Razlika između pronalaženja činjenica i dubokog razumijevanja</a:t>
            </a:r>
            <a:endParaRPr b="0" lang="en-US" sz="28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pronalaženje činjenic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09040" indent="-253440" algn="ctr">
              <a:spcBef>
                <a:spcPts val="499"/>
              </a:spcBef>
              <a:buClr>
                <a:srgbClr val="009dd9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115964"/>
                </a:solidFill>
                <a:latin typeface="Gill Sans MT"/>
              </a:rPr>
              <a:t>ponavljanje činjenica</a:t>
            </a:r>
            <a:endParaRPr b="0" lang="en-US" sz="2300" spc="-1" strike="noStrike">
              <a:solidFill>
                <a:srgbClr val="04617b"/>
              </a:solidFill>
              <a:latin typeface="Gill Sans MT"/>
            </a:endParaRPr>
          </a:p>
          <a:p>
            <a:pPr lvl="1" marL="509040" indent="-253440" algn="ctr">
              <a:spcBef>
                <a:spcPts val="499"/>
              </a:spcBef>
              <a:buClr>
                <a:srgbClr val="009dd9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115964"/>
                </a:solidFill>
                <a:latin typeface="Gill Sans MT"/>
              </a:rPr>
              <a:t>reproduciranje na temelju prikupljenih informacija</a:t>
            </a:r>
            <a:endParaRPr b="0" lang="en-US" sz="2300" spc="-1" strike="noStrike">
              <a:solidFill>
                <a:srgbClr val="04617b"/>
              </a:solidFill>
              <a:latin typeface="Gill Sans MT"/>
            </a:endParaRPr>
          </a:p>
          <a:p>
            <a:pPr lvl="1" marL="509040" indent="-253440" algn="ctr">
              <a:spcBef>
                <a:spcPts val="499"/>
              </a:spcBef>
              <a:buClr>
                <a:srgbClr val="009dd9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4617b"/>
              </a:solidFill>
              <a:latin typeface="Gill Sans MT"/>
            </a:endParaRPr>
          </a:p>
          <a:p>
            <a:pPr lvl="1" marL="509040" indent="-253440" algn="ctr">
              <a:spcBef>
                <a:spcPts val="499"/>
              </a:spcBef>
              <a:buClr>
                <a:srgbClr val="009dd9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4617b"/>
              </a:solidFill>
              <a:latin typeface="Gill Sans MT"/>
            </a:endParaRPr>
          </a:p>
          <a:p>
            <a:pPr lvl="1" marL="509040" indent="-253440" algn="ctr">
              <a:spcBef>
                <a:spcPts val="499"/>
              </a:spcBef>
              <a:buClr>
                <a:srgbClr val="009dd9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4617b"/>
              </a:solidFill>
              <a:latin typeface="Gill Sans MT"/>
            </a:endParaRPr>
          </a:p>
          <a:p>
            <a:pPr algn="ctr">
              <a:spcBef>
                <a:spcPts val="601"/>
              </a:spcBef>
              <a:buClr>
                <a:srgbClr val="0f6fc6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115964"/>
                </a:solidFill>
                <a:latin typeface="Gill Sans MT"/>
              </a:rPr>
              <a:t>uloga knjižnice je na informacijskim izvorima i pretraživanju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duboko razumijevan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spcBef>
                <a:spcPts val="601"/>
              </a:spcBef>
              <a:buClr>
                <a:srgbClr val="0f6fc6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115964"/>
                </a:solidFill>
                <a:latin typeface="Gill Sans MT"/>
              </a:rPr>
              <a:t>razmišljaju i uče na temelju prikupljenih informaci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spcBef>
                <a:spcPts val="601"/>
              </a:spcBef>
              <a:buClr>
                <a:srgbClr val="0f6fc6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spcBef>
                <a:spcPts val="601"/>
              </a:spcBef>
              <a:buClr>
                <a:srgbClr val="0f6fc6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spcBef>
                <a:spcPts val="601"/>
              </a:spcBef>
              <a:buClr>
                <a:srgbClr val="0f6fc6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115964"/>
                </a:solidFill>
                <a:latin typeface="Gill Sans MT"/>
              </a:rPr>
              <a:t>uloga knjižnice je na procesuiranju informacija, refleksivnom mišljenju i stvaranju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spcBef>
                <a:spcPts val="601"/>
              </a:spcBef>
              <a:buClr>
                <a:srgbClr val="0f6fc6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525" name="Straight Arrow Connector 5"/>
          <p:cNvCxnSpPr/>
          <p:nvPr/>
        </p:nvCxnSpPr>
        <p:spPr>
          <a:xfrm>
            <a:off x="2477880" y="1688760"/>
            <a:ext cx="1080" cy="8643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26" name="Straight Arrow Connector 6"/>
          <p:cNvCxnSpPr/>
          <p:nvPr/>
        </p:nvCxnSpPr>
        <p:spPr>
          <a:xfrm>
            <a:off x="6587640" y="1628280"/>
            <a:ext cx="1080" cy="8643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27" name="Straight Arrow Connector 7"/>
          <p:cNvCxnSpPr/>
          <p:nvPr/>
        </p:nvCxnSpPr>
        <p:spPr>
          <a:xfrm flipV="1">
            <a:off x="2500200" y="3933360"/>
            <a:ext cx="8640" cy="936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28" name="Straight Arrow Connector 10"/>
          <p:cNvCxnSpPr/>
          <p:nvPr/>
        </p:nvCxnSpPr>
        <p:spPr>
          <a:xfrm flipV="1">
            <a:off x="6541560" y="4004640"/>
            <a:ext cx="9000" cy="937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4617b"/>
                </a:solidFill>
                <a:latin typeface="Arial"/>
                <a:ea typeface="Arial"/>
              </a:rPr>
              <a:t>Školska knjižnica 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Ne knjižnica u školi, nego škola u knjižnici” (Henri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531" name="Straight Arrow Connector 4"/>
          <p:cNvCxnSpPr/>
          <p:nvPr/>
        </p:nvCxnSpPr>
        <p:spPr>
          <a:xfrm>
            <a:off x="2195280" y="1844640"/>
            <a:ext cx="1080" cy="505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32" name="Rounded Rectangle 6"/>
          <p:cNvSpPr/>
          <p:nvPr/>
        </p:nvSpPr>
        <p:spPr>
          <a:xfrm>
            <a:off x="612720" y="2387520"/>
            <a:ext cx="3313080" cy="9352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Gill Sans MT"/>
              </a:rPr>
              <a:t>usmjerenost na izvore i pristu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ounded Rectangle 7"/>
          <p:cNvSpPr/>
          <p:nvPr/>
        </p:nvSpPr>
        <p:spPr>
          <a:xfrm>
            <a:off x="4319640" y="2284560"/>
            <a:ext cx="3673440" cy="16081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Gill Sans MT"/>
              </a:rPr>
              <a:t>usmjerenost na „što se s informacijama čin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Gill Sans MT"/>
              </a:rPr>
              <a:t>- od shvaćanja istraživačkog problema, procjene i evaluacije do stvaranja novog znanja na temelju informaci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4" name="Straight Arrow Connector 8"/>
          <p:cNvCxnSpPr/>
          <p:nvPr/>
        </p:nvCxnSpPr>
        <p:spPr>
          <a:xfrm>
            <a:off x="5579640" y="1773000"/>
            <a:ext cx="1080" cy="43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35" name="Straight Arrow Connector 11"/>
          <p:cNvCxnSpPr/>
          <p:nvPr/>
        </p:nvCxnSpPr>
        <p:spPr>
          <a:xfrm flipV="1">
            <a:off x="2195280" y="3955320"/>
            <a:ext cx="1080" cy="4626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36" name="Straight Arrow Connector 13"/>
          <p:cNvCxnSpPr/>
          <p:nvPr/>
        </p:nvCxnSpPr>
        <p:spPr>
          <a:xfrm flipV="1">
            <a:off x="6154200" y="4004640"/>
            <a:ext cx="1080" cy="4626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37" name="Oval 14"/>
          <p:cNvSpPr/>
          <p:nvPr/>
        </p:nvSpPr>
        <p:spPr>
          <a:xfrm>
            <a:off x="1403280" y="4552920"/>
            <a:ext cx="1584360" cy="1469880"/>
          </a:xfrm>
          <a:prstGeom prst="ellipse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Gill Sans MT"/>
              </a:rPr>
              <a:t>vještine mišljenja nižeg r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15"/>
          <p:cNvSpPr/>
          <p:nvPr/>
        </p:nvSpPr>
        <p:spPr>
          <a:xfrm>
            <a:off x="5327640" y="4575240"/>
            <a:ext cx="1655640" cy="1417680"/>
          </a:xfrm>
          <a:prstGeom prst="ellipse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Gill Sans MT"/>
              </a:rPr>
              <a:t>vještine mišljenja višeg r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ounded Rectangle 16"/>
          <p:cNvSpPr/>
          <p:nvPr/>
        </p:nvSpPr>
        <p:spPr>
          <a:xfrm>
            <a:off x="611280" y="6199200"/>
            <a:ext cx="8208720" cy="6588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Gill Sans MT"/>
              </a:rPr>
              <a:t>samoosvještavanje učenja u bogatom digitalnom okruženju ne događa se samo po se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4617b"/>
                </a:solidFill>
                <a:latin typeface="Arial"/>
                <a:ea typeface="Arial"/>
              </a:rPr>
              <a:t>Školski knjižničar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6840" y="1219320"/>
            <a:ext cx="670716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OD sabiranja informacija i informacijskih izvora …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…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DO knjižnice kao mjesta svjesnog učenj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Sinergijsko djelovanje knjižničara i nastavnika vodi u proces koji zahtijeva, ali i razvija kritičko mišljenje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Školski knjižničar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b5395"/>
                </a:solidFill>
                <a:latin typeface="Arial"/>
                <a:ea typeface="Arial"/>
              </a:rPr>
              <a:t>odgovornost za izvore</a:t>
            </a:r>
            <a:endParaRPr b="0" lang="en-US" sz="2000" spc="-1" strike="noStrike">
              <a:solidFill>
                <a:srgbClr val="04617b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b5395"/>
                </a:solidFill>
                <a:latin typeface="Arial"/>
                <a:ea typeface="Arial"/>
              </a:rPr>
              <a:t>odgovornost za </a:t>
            </a:r>
            <a:r>
              <a:rPr b="1" lang="hr-HR" sz="2000" spc="-1" strike="noStrike">
                <a:solidFill>
                  <a:srgbClr val="0b5395"/>
                </a:solidFill>
                <a:latin typeface="Arial"/>
                <a:ea typeface="Arial"/>
              </a:rPr>
              <a:t>stvaranje situacija učenja</a:t>
            </a:r>
            <a:r>
              <a:rPr b="0" lang="hr-HR" sz="2000" spc="-1" strike="noStrike">
                <a:solidFill>
                  <a:srgbClr val="0b5395"/>
                </a:solidFill>
                <a:latin typeface="Arial"/>
                <a:ea typeface="Arial"/>
              </a:rPr>
              <a:t> u kojima se učenike vodi prema vještinama mišljenja višeg reda</a:t>
            </a:r>
            <a:endParaRPr b="0" lang="en-US" sz="2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542" name="Picture 3" descr=""/>
          <p:cNvPicPr/>
          <p:nvPr/>
        </p:nvPicPr>
        <p:blipFill>
          <a:blip r:embed="rId1"/>
          <a:srcRect l="2294" t="2807" r="8179" b="12970"/>
          <a:stretch/>
        </p:blipFill>
        <p:spPr>
          <a:xfrm>
            <a:off x="6300720" y="2852640"/>
            <a:ext cx="2808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04617b"/>
              </a:solidFill>
              <a:latin typeface="Arial"/>
              <a:ea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  <a:ea typeface="Arial"/>
              </a:rPr>
              <a:t>Hvala!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4617b"/>
                </a:solidFill>
                <a:latin typeface="Arial"/>
                <a:ea typeface="Arial"/>
              </a:rPr>
              <a:t>Budućnost zapošljavanja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pic>
        <p:nvPicPr>
          <p:cNvPr id="482" name="Content Placeholder 3" descr=""/>
          <p:cNvPicPr/>
          <p:nvPr/>
        </p:nvPicPr>
        <p:blipFill>
          <a:blip r:embed="rId1"/>
          <a:srcRect l="35126" t="25746" r="9752" b="18257"/>
          <a:stretch/>
        </p:blipFill>
        <p:spPr>
          <a:xfrm>
            <a:off x="423720" y="1108080"/>
            <a:ext cx="851544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4617b"/>
                </a:solidFill>
                <a:latin typeface="Arial"/>
                <a:ea typeface="Arial"/>
              </a:rPr>
              <a:t>Vještine za budućnos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7160" y="4821120"/>
            <a:ext cx="853416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85" name="Picture 2" descr="https://weforum-assets-production.s3-eu-west-1.amazonaws.com/editor/bD4ikTLC2_fTr1843WCwYsZFbkCs-VwJBAQu2COD1rE.png"/>
          <p:cNvPicPr/>
          <p:nvPr/>
        </p:nvPicPr>
        <p:blipFill>
          <a:blip r:embed="rId1"/>
          <a:srcRect l="0" t="15989" r="0" b="30823"/>
          <a:stretch/>
        </p:blipFill>
        <p:spPr>
          <a:xfrm>
            <a:off x="34920" y="1181160"/>
            <a:ext cx="7203960" cy="35035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https://weforum-assets-production.s3-eu-west-1.amazonaws.com/editor/bD4ikTLC2_fTr1843WCwYsZFbkCs-VwJBAQu2COD1rE.png"/>
          <p:cNvPicPr/>
          <p:nvPr/>
        </p:nvPicPr>
        <p:blipFill>
          <a:blip r:embed="rId2"/>
          <a:srcRect l="87910" t="0" r="0" b="87985"/>
          <a:stretch/>
        </p:blipFill>
        <p:spPr>
          <a:xfrm>
            <a:off x="6586560" y="1181160"/>
            <a:ext cx="2259000" cy="2052720"/>
          </a:xfrm>
          <a:prstGeom prst="rect">
            <a:avLst/>
          </a:prstGeom>
          <a:ln w="0">
            <a:noFill/>
          </a:ln>
        </p:spPr>
      </p:pic>
      <p:cxnSp>
        <p:nvCxnSpPr>
          <p:cNvPr id="487" name="Straight Arrow Connector 4"/>
          <p:cNvCxnSpPr/>
          <p:nvPr/>
        </p:nvCxnSpPr>
        <p:spPr>
          <a:xfrm flipH="1" flipV="1">
            <a:off x="2268000" y="2923560"/>
            <a:ext cx="2448720" cy="2809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88" name="Straight Arrow Connector 7"/>
          <p:cNvCxnSpPr/>
          <p:nvPr/>
        </p:nvCxnSpPr>
        <p:spPr>
          <a:xfrm flipH="1" flipV="1">
            <a:off x="4466880" y="3330360"/>
            <a:ext cx="249840" cy="2402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89" name="Straight Arrow Connector 10"/>
          <p:cNvCxnSpPr/>
          <p:nvPr/>
        </p:nvCxnSpPr>
        <p:spPr>
          <a:xfrm flipV="1">
            <a:off x="4716360" y="4581000"/>
            <a:ext cx="432720" cy="1152000"/>
          </a:xfrm>
          <a:prstGeom prst="straightConnector1">
            <a:avLst/>
          </a:prstGeom>
          <a:ln w="936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490" name="Straight Arrow Connector 12"/>
          <p:cNvCxnSpPr/>
          <p:nvPr/>
        </p:nvCxnSpPr>
        <p:spPr>
          <a:xfrm flipH="1" flipV="1">
            <a:off x="1692000" y="3141000"/>
            <a:ext cx="3024720" cy="2591640"/>
          </a:xfrm>
          <a:prstGeom prst="straightConnector1">
            <a:avLst/>
          </a:prstGeom>
          <a:ln w="936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491" name="Straight Arrow Connector 14"/>
          <p:cNvCxnSpPr/>
          <p:nvPr/>
        </p:nvCxnSpPr>
        <p:spPr>
          <a:xfrm flipH="1" flipV="1">
            <a:off x="1186560" y="3789000"/>
            <a:ext cx="3529800" cy="1944000"/>
          </a:xfrm>
          <a:prstGeom prst="straightConnector1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04617b"/>
              </a:solidFill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4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ill Sans MT"/>
            </a:endParaRPr>
          </a:p>
          <a:p>
            <a:pPr lvl="1" marL="274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4617b"/>
                </a:solidFill>
                <a:latin typeface="Arial"/>
                <a:ea typeface="Arial"/>
              </a:rPr>
              <a:t>Informacijska pismenost i kritičko mišljenje</a:t>
            </a:r>
            <a:endParaRPr b="0" lang="en-US" sz="3000" spc="-1" strike="noStrike">
              <a:solidFill>
                <a:srgbClr val="04617b"/>
              </a:solidFill>
              <a:latin typeface="Gill Sans MT"/>
            </a:endParaRPr>
          </a:p>
          <a:p>
            <a:pPr lvl="1" marL="274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Gill Sans MT"/>
            </a:endParaRPr>
          </a:p>
          <a:p>
            <a:pPr lvl="1" marL="274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72428"/>
                </a:solidFill>
                <a:latin typeface="Arial"/>
                <a:ea typeface="Arial"/>
              </a:rPr>
              <a:t>Može li postojati jedno bez drugoga?</a:t>
            </a:r>
            <a:endParaRPr b="0" lang="en-US" sz="3000" spc="-1" strike="noStrike">
              <a:solidFill>
                <a:srgbClr val="04617b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94" name="Picture 1" descr=""/>
          <p:cNvPicPr/>
          <p:nvPr/>
        </p:nvPicPr>
        <p:blipFill>
          <a:blip r:embed="rId1"/>
          <a:stretch/>
        </p:blipFill>
        <p:spPr>
          <a:xfrm>
            <a:off x="2916360" y="3573360"/>
            <a:ext cx="362736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4617b"/>
                </a:solidFill>
                <a:latin typeface="Arial"/>
                <a:ea typeface="Arial"/>
              </a:rPr>
              <a:t>Pogled unatrag i naprijed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1974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4617b"/>
                </a:solidFill>
                <a:latin typeface="Arial"/>
                <a:ea typeface="Arial"/>
              </a:rPr>
              <a:t>IP – nove vještine potrebne za rješavanje problema na radnom mjestu s obzirom na tehnologije koje mijenjaju prirodu posla</a:t>
            </a:r>
            <a:endParaRPr b="0" lang="en-US" sz="2000" spc="-1" strike="noStrike">
              <a:solidFill>
                <a:srgbClr val="04617b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80-te godine prošlog stoljeć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4617b"/>
                </a:solidFill>
                <a:latin typeface="Arial"/>
                <a:ea typeface="Arial"/>
              </a:rPr>
              <a:t>Vještinama treba poučavati</a:t>
            </a:r>
            <a:endParaRPr b="0" lang="en-US" sz="2000" spc="-1" strike="noStrike">
              <a:solidFill>
                <a:srgbClr val="04617b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4617b"/>
                </a:solidFill>
                <a:latin typeface="Arial"/>
                <a:ea typeface="Arial"/>
              </a:rPr>
              <a:t>U središte dolazi područje obrazovanja</a:t>
            </a:r>
            <a:endParaRPr b="0" lang="en-US" sz="2000" spc="-1" strike="noStrike">
              <a:solidFill>
                <a:srgbClr val="04617b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4617b"/>
                </a:solidFill>
                <a:latin typeface="Arial"/>
                <a:ea typeface="Arial"/>
              </a:rPr>
              <a:t>Standardizacija vještina </a:t>
            </a:r>
            <a:endParaRPr b="0" lang="en-US" sz="2000" spc="-1" strike="noStrike">
              <a:solidFill>
                <a:srgbClr val="04617b"/>
              </a:solidFill>
              <a:latin typeface="Gill Sans MT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ristup, vrednovanje i korištenje informacija i ishodi učenja unutar tih vještin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4617b"/>
                </a:solidFill>
                <a:latin typeface="Arial"/>
                <a:ea typeface="Arial"/>
              </a:rPr>
              <a:t>Pristup – je li i danas primarno pitanje? </a:t>
            </a:r>
            <a:endParaRPr b="0" lang="en-US" sz="2000" spc="-1" strike="noStrike">
              <a:solidFill>
                <a:srgbClr val="04617b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Arial"/>
                <a:ea typeface="Arial"/>
              </a:rPr>
              <a:t>Što s informacijama činimo?</a:t>
            </a:r>
            <a:endParaRPr b="0" lang="en-US" sz="2000" spc="-1" strike="noStrike">
              <a:solidFill>
                <a:srgbClr val="04617b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4617b"/>
                </a:solidFill>
                <a:latin typeface="Arial"/>
                <a:ea typeface="Arial"/>
              </a:rPr>
              <a:t>Informacijska pismenost danas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24000" y="1268280"/>
            <a:ext cx="5688000" cy="38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4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transpismenost, multimodalna pismenost, nove pismenosti, višestruke pismenosti …</a:t>
            </a:r>
            <a:endParaRPr b="0" lang="en-US" sz="2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499" name="Picture 3" descr=""/>
          <p:cNvPicPr/>
          <p:nvPr/>
        </p:nvPicPr>
        <p:blipFill>
          <a:blip r:embed="rId1"/>
          <a:srcRect l="2601" t="0" r="0" b="15283"/>
          <a:stretch/>
        </p:blipFill>
        <p:spPr>
          <a:xfrm>
            <a:off x="468360" y="2001960"/>
            <a:ext cx="5730840" cy="351612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4"/>
          <p:cNvSpPr/>
          <p:nvPr/>
        </p:nvSpPr>
        <p:spPr>
          <a:xfrm>
            <a:off x="7380360" y="1628640"/>
            <a:ext cx="1655640" cy="45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Gill Sans MT"/>
              </a:rPr>
              <a:t>metapismenost = kritička informacijska pismenost </a:t>
            </a: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(Elmborg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razvoj kritičke osviještenosti tijekom koje učenici preuzimaju kontrolu nad svojim životom i aktivnim učenj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1" name="Straight Arrow Connector 6"/>
          <p:cNvCxnSpPr/>
          <p:nvPr/>
        </p:nvCxnSpPr>
        <p:spPr>
          <a:xfrm>
            <a:off x="8208720" y="3543120"/>
            <a:ext cx="1080" cy="43236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triangle" w="med"/>
          </a:ln>
        </p:spPr>
      </p:cxnSp>
      <p:sp>
        <p:nvSpPr>
          <p:cNvPr id="502" name="Rounded Rectangle 8"/>
          <p:cNvSpPr/>
          <p:nvPr/>
        </p:nvSpPr>
        <p:spPr>
          <a:xfrm>
            <a:off x="457200" y="5992920"/>
            <a:ext cx="8229600" cy="8208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Gill Sans MT"/>
              </a:rPr>
              <a:t>Informacijska pismenost je metapismenost za digitalno doba jer uključuje mišljenje višeg reda potrebno za korištenje višestrukih tipova dokumenata kroz različite formate medija u suradničkom okružen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3" name="Straight Arrow Connector 12"/>
          <p:cNvCxnSpPr/>
          <p:nvPr/>
        </p:nvCxnSpPr>
        <p:spPr>
          <a:xfrm>
            <a:off x="6345000" y="2246400"/>
            <a:ext cx="1080" cy="355968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04" name="Straight Arrow Connector 15"/>
          <p:cNvCxnSpPr/>
          <p:nvPr/>
        </p:nvCxnSpPr>
        <p:spPr>
          <a:xfrm flipH="1">
            <a:off x="5866560" y="2276280"/>
            <a:ext cx="505800" cy="108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4617b"/>
                </a:solidFill>
                <a:latin typeface="Arial"/>
                <a:ea typeface="Arial"/>
              </a:rPr>
              <a:t>Učenik u 21. stoljeću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naj koji traži informaci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300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ill Sans MT"/>
              </a:rPr>
              <a:t>ne samo odrediti koja je informacija potrebna nego promišljati i o formatu i načinu dijeljenja informacija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300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čenik u istraživačkom učenju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400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300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ill Sans MT"/>
              </a:rPr>
              <a:t>razumjeti vrstu formata i kako on funkcionira u interaktivnom okruženju društvenih medija i mrež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300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ill Sans MT"/>
              </a:rPr>
              <a:t>… </a:t>
            </a:r>
            <a:r>
              <a:rPr b="0" lang="hr-HR" sz="1600" spc="-1" strike="noStrike">
                <a:solidFill>
                  <a:srgbClr val="000000"/>
                </a:solidFill>
                <a:latin typeface="Gill Sans MT"/>
              </a:rPr>
              <a:t>da bi mogao promišljati o sadržaju i smjestiti ga u kontekst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300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b5395"/>
                </a:solidFill>
                <a:latin typeface="Arial"/>
                <a:ea typeface="Arial"/>
              </a:rPr>
              <a:t>Evaluacija informacija postaje konstanta u cijelom istraživačkom procesu koji uzima u obzir i sadržaj i format i  stvaranje novog znanja i dijeljen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507" name="Straight Arrow Connector 4"/>
          <p:cNvCxnSpPr/>
          <p:nvPr/>
        </p:nvCxnSpPr>
        <p:spPr>
          <a:xfrm>
            <a:off x="1258920" y="1700280"/>
            <a:ext cx="505440" cy="43416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triangle" w="med"/>
          </a:ln>
        </p:spPr>
      </p:cxnSp>
      <p:cxnSp>
        <p:nvCxnSpPr>
          <p:cNvPr id="508" name="Straight Arrow Connector 5"/>
          <p:cNvCxnSpPr/>
          <p:nvPr/>
        </p:nvCxnSpPr>
        <p:spPr>
          <a:xfrm>
            <a:off x="1258560" y="3357360"/>
            <a:ext cx="361080" cy="43236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triangle" w="med"/>
          </a:ln>
        </p:spPr>
      </p:cxnSp>
      <p:pic>
        <p:nvPicPr>
          <p:cNvPr id="509" name="Picture 9" descr="http://farm3.staticflickr.com/2204/5791320785_0af75e63e5.jpg"/>
          <p:cNvPicPr/>
          <p:nvPr/>
        </p:nvPicPr>
        <p:blipFill>
          <a:blip r:embed="rId1"/>
          <a:stretch/>
        </p:blipFill>
        <p:spPr>
          <a:xfrm>
            <a:off x="6804000" y="27000"/>
            <a:ext cx="230976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4617b"/>
                </a:solidFill>
                <a:latin typeface="Arial"/>
                <a:ea typeface="Arial"/>
              </a:rPr>
              <a:t>ACRL Framework </a:t>
            </a:r>
            <a:r>
              <a:rPr b="0" lang="en-US" sz="2800" spc="-1" strike="noStrike">
                <a:solidFill>
                  <a:srgbClr val="04617b"/>
                </a:solidFill>
                <a:latin typeface="Arial"/>
                <a:ea typeface="Arial"/>
              </a:rPr>
              <a:t>for Information Literacy for </a:t>
            </a:r>
            <a:r>
              <a:rPr b="1" lang="en-US" sz="2800" spc="-1" strike="noStrike">
                <a:solidFill>
                  <a:srgbClr val="04617b"/>
                </a:solidFill>
                <a:latin typeface="Arial"/>
                <a:ea typeface="Arial"/>
              </a:rPr>
              <a:t>Higher Education</a:t>
            </a:r>
            <a:endParaRPr b="0" lang="en-US" sz="28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nformacijska pismenost kao metapismenost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b5395"/>
                </a:solidFill>
                <a:latin typeface="Arial"/>
                <a:ea typeface="Arial"/>
              </a:rPr>
              <a:t>IP je sklop integriranih sposobnosti </a:t>
            </a:r>
            <a:r>
              <a:rPr b="0" lang="hr-HR" sz="2000" spc="-1" strike="noStrike">
                <a:solidFill>
                  <a:srgbClr val="0b5395"/>
                </a:solidFill>
                <a:latin typeface="Arial"/>
                <a:ea typeface="Arial"/>
              </a:rPr>
              <a:t>koji obuhvaća pronalaženje informacija, razumijevanje kako se informacije proizvode i vrednuju te korištenje informacija za stvaranje novog znanja i etičnu participaciju u </a:t>
            </a:r>
            <a:r>
              <a:rPr b="0" lang="hr-HR" sz="2000" spc="-1" strike="noStrike">
                <a:solidFill>
                  <a:srgbClr val="ff0000"/>
                </a:solidFill>
                <a:latin typeface="Arial"/>
                <a:ea typeface="Arial"/>
              </a:rPr>
              <a:t>zajednicama učenja</a:t>
            </a:r>
            <a:endParaRPr b="0" lang="en-US" sz="2000" spc="-1" strike="noStrike">
              <a:solidFill>
                <a:srgbClr val="04617b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ljučnih koncepata informacijske pismenost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itanja konteksta, kreiranja informacija kao procesa, vrijednosti informacija, istraživanja i istraživačkog učenja, znanstvene komunikacije i istraživanja informacija kroz strateški usmjereno pretraživanj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  <a:ea typeface="Arial"/>
              </a:rPr>
              <a:t>Učenje se usmjerava prema </a:t>
            </a:r>
            <a:r>
              <a:rPr b="1" lang="hr-HR" sz="1800" spc="-1" strike="noStrike">
                <a:solidFill>
                  <a:srgbClr val="ff0000"/>
                </a:solidFill>
                <a:latin typeface="Arial"/>
                <a:ea typeface="Arial"/>
              </a:rPr>
              <a:t>afektivnom području i razvoju stavova prema učenju</a:t>
            </a:r>
            <a:r>
              <a:rPr b="0" lang="hr-HR" sz="1800" spc="-1" strike="noStrike">
                <a:solidFill>
                  <a:srgbClr val="ff0000"/>
                </a:solidFill>
                <a:latin typeface="Arial"/>
                <a:ea typeface="Arial"/>
              </a:rPr>
              <a:t> pri čemu je nužna suradnja nastavnika i knjižničar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4617b"/>
                </a:solidFill>
                <a:latin typeface="Arial"/>
                <a:ea typeface="Arial"/>
              </a:rPr>
              <a:t>Aktivno učenje i osoba koja kritički misli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Osoba koja kritički misli (Enni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4617b"/>
                </a:solidFill>
                <a:latin typeface="Arial"/>
                <a:ea typeface="Arial"/>
              </a:rPr>
              <a:t>Otvorena je uma</a:t>
            </a:r>
            <a:endParaRPr b="0" lang="en-US" sz="1400" spc="-1" strike="noStrike">
              <a:solidFill>
                <a:srgbClr val="04617b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4617b"/>
                </a:solidFill>
                <a:latin typeface="Arial"/>
                <a:ea typeface="Arial"/>
              </a:rPr>
              <a:t>Trudi se biti informirana</a:t>
            </a:r>
            <a:endParaRPr b="0" lang="en-US" sz="1400" spc="-1" strike="noStrike">
              <a:solidFill>
                <a:srgbClr val="04617b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4617b"/>
                </a:solidFill>
                <a:latin typeface="Arial"/>
                <a:ea typeface="Arial"/>
              </a:rPr>
              <a:t>Provjerava kredibilitet izvora</a:t>
            </a:r>
            <a:endParaRPr b="0" lang="en-US" sz="1400" spc="-1" strike="noStrike">
              <a:solidFill>
                <a:srgbClr val="04617b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4617b"/>
                </a:solidFill>
                <a:latin typeface="Arial"/>
                <a:ea typeface="Arial"/>
              </a:rPr>
              <a:t>Razlikuje pretpostavke, razloge i zaključke</a:t>
            </a:r>
            <a:endParaRPr b="0" lang="en-US" sz="1400" spc="-1" strike="noStrike">
              <a:solidFill>
                <a:srgbClr val="04617b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4617b"/>
                </a:solidFill>
                <a:latin typeface="Arial"/>
                <a:ea typeface="Arial"/>
              </a:rPr>
              <a:t>Procjenjuje kvalitetu argumenata</a:t>
            </a:r>
            <a:endParaRPr b="0" lang="en-US" sz="1400" spc="-1" strike="noStrike">
              <a:solidFill>
                <a:srgbClr val="04617b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4617b"/>
                </a:solidFill>
                <a:latin typeface="Arial"/>
                <a:ea typeface="Arial"/>
              </a:rPr>
              <a:t>Može razviti i braniti logičko gledište</a:t>
            </a:r>
            <a:endParaRPr b="0" lang="en-US" sz="1400" spc="-1" strike="noStrike">
              <a:solidFill>
                <a:srgbClr val="04617b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4617b"/>
                </a:solidFill>
                <a:latin typeface="Arial"/>
                <a:ea typeface="Arial"/>
              </a:rPr>
              <a:t>Postavlja prikladna razjašnjavajuća pitanja</a:t>
            </a:r>
            <a:endParaRPr b="0" lang="en-US" sz="1400" spc="-1" strike="noStrike">
              <a:solidFill>
                <a:srgbClr val="04617b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4617b"/>
                </a:solidFill>
                <a:latin typeface="Arial"/>
                <a:ea typeface="Arial"/>
              </a:rPr>
              <a:t>Formulira hipoteze i planira provjere</a:t>
            </a:r>
            <a:endParaRPr b="0" lang="en-US" sz="1400" spc="-1" strike="noStrike">
              <a:solidFill>
                <a:srgbClr val="04617b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4617b"/>
                </a:solidFill>
                <a:latin typeface="Arial"/>
                <a:ea typeface="Arial"/>
              </a:rPr>
              <a:t>Uzima u obzir kontekst</a:t>
            </a:r>
            <a:endParaRPr b="0" lang="en-US" sz="1400" spc="-1" strike="noStrike">
              <a:solidFill>
                <a:srgbClr val="04617b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4617b"/>
                </a:solidFill>
                <a:latin typeface="Arial"/>
                <a:ea typeface="Arial"/>
              </a:rPr>
              <a:t>Zaključke donosi s oprezom</a:t>
            </a:r>
            <a:endParaRPr b="0" lang="en-US" sz="1400" spc="-1" strike="noStrike">
              <a:solidFill>
                <a:srgbClr val="04617b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4617b"/>
                </a:solidFill>
                <a:latin typeface="Arial"/>
                <a:ea typeface="Arial"/>
              </a:rPr>
              <a:t>Sve to integrira kod donošenja odluka</a:t>
            </a:r>
            <a:endParaRPr b="0" lang="en-US" sz="1400" spc="-1" strike="noStrike">
              <a:solidFill>
                <a:srgbClr val="04617b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4617b"/>
                </a:solidFill>
                <a:latin typeface="Arial"/>
                <a:ea typeface="Arial"/>
              </a:rPr>
              <a:t>vođeno istraživačko učenje </a:t>
            </a:r>
            <a:r>
              <a:rPr b="0" lang="hr-HR" sz="2000" spc="-1" strike="noStrike">
                <a:solidFill>
                  <a:srgbClr val="04617b"/>
                </a:solidFill>
                <a:latin typeface="Arial"/>
                <a:ea typeface="Arial"/>
              </a:rPr>
              <a:t>(Kuhlthau)</a:t>
            </a:r>
            <a:endParaRPr b="0" lang="en-US" sz="2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514" name="Right Brace 3"/>
          <p:cNvSpPr/>
          <p:nvPr/>
        </p:nvSpPr>
        <p:spPr>
          <a:xfrm>
            <a:off x="4540320" y="1268280"/>
            <a:ext cx="1079280" cy="3456000"/>
          </a:xfrm>
          <a:custGeom>
            <a:avLst/>
            <a:gdLst>
              <a:gd name="textAreaLeft" fmla="*/ 0 w 1079280"/>
              <a:gd name="textAreaRight" fmla="*/ 389520 w 1079280"/>
              <a:gd name="textAreaTop" fmla="*/ 28080 h 3456000"/>
              <a:gd name="textAreaBottom" fmla="*/ 3427920 h 34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81"/>
                  <a:pt x="10800" y="562"/>
                </a:cubicBezTo>
                <a:lnTo>
                  <a:pt x="10800" y="10238"/>
                </a:lnTo>
                <a:cubicBezTo>
                  <a:pt x="10800" y="10519"/>
                  <a:pt x="16200" y="10800"/>
                  <a:pt x="21600" y="10800"/>
                </a:cubicBezTo>
                <a:cubicBezTo>
                  <a:pt x="16200" y="10800"/>
                  <a:pt x="10800" y="11081"/>
                  <a:pt x="10800" y="11362"/>
                </a:cubicBezTo>
                <a:lnTo>
                  <a:pt x="10800" y="21038"/>
                </a:lnTo>
                <a:cubicBezTo>
                  <a:pt x="10800" y="21319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ounded Rectangle 4"/>
          <p:cNvSpPr/>
          <p:nvPr/>
        </p:nvSpPr>
        <p:spPr>
          <a:xfrm>
            <a:off x="5780160" y="1219320"/>
            <a:ext cx="2746440" cy="3313080"/>
          </a:xfrm>
          <a:custGeom>
            <a:avLst/>
            <a:gdLst>
              <a:gd name="textAreaLeft" fmla="*/ 133920 w 2746440"/>
              <a:gd name="textAreaRight" fmla="*/ 2612520 w 2746440"/>
              <a:gd name="textAreaTop" fmla="*/ 133920 h 3313080"/>
              <a:gd name="textAreaBottom" fmla="*/ 3179160 h 3313080"/>
            </a:gdLst>
            <a:ahLst/>
            <a:rect l="textAreaLeft" t="textAreaTop" r="textAreaRight" b="textAreaBottom"/>
            <a:pathLst>
              <a:path w="21600" h="26056">
                <a:moveTo>
                  <a:pt x="3600" y="0"/>
                </a:moveTo>
                <a:arcTo wR="3600" hR="3600" stAng="16200000" swAng="-5400000"/>
                <a:lnTo>
                  <a:pt x="0" y="22456"/>
                </a:lnTo>
                <a:arcTo wR="3600" hR="3600" stAng="10800000" swAng="-5400000"/>
                <a:lnTo>
                  <a:pt x="18000" y="260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Gill Sans MT"/>
              </a:rPr>
              <a:t>KLJUČNO Z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Gill Sans MT"/>
              </a:rPr>
              <a:t>promišljanje o informacijskom proble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Gill Sans MT"/>
              </a:rPr>
              <a:t>vrednovanje inform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Gill Sans MT"/>
              </a:rPr>
              <a:t>stvaranje znanja na temelju inform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Gill Sans MT"/>
              </a:rPr>
              <a:t>dijeljenje informacija s drug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ounded Rectangle 5"/>
          <p:cNvSpPr/>
          <p:nvPr/>
        </p:nvSpPr>
        <p:spPr>
          <a:xfrm>
            <a:off x="5435640" y="4653000"/>
            <a:ext cx="325116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Gill Sans MT"/>
              </a:rPr>
              <a:t>svjestan, a ne slučajan pro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ounded Rectangle 6"/>
          <p:cNvSpPr/>
          <p:nvPr/>
        </p:nvSpPr>
        <p:spPr>
          <a:xfrm>
            <a:off x="457200" y="5805360"/>
            <a:ext cx="8229600" cy="105264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Gill Sans MT"/>
              </a:rPr>
              <a:t>KWL okvir i met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Gill Sans MT"/>
              </a:rPr>
              <a:t>što znam, što želim znati, što sam nauč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Gill Sans MT"/>
              </a:rPr>
              <a:t>kako ću pronaći, kako ću podijeliti što sam naučio, što ću učiniti sljedeći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00:46:13Z</dcterms:created>
  <dc:creator>Ivanka</dc:creator>
  <dc:description/>
  <dc:language>en-US</dc:language>
  <cp:lastModifiedBy>istricev@unizd.hr</cp:lastModifiedBy>
  <dcterms:modified xsi:type="dcterms:W3CDTF">2017-04-04T17:05:56Z</dcterms:modified>
  <cp:revision>163</cp:revision>
  <dc:subject/>
  <dc:title>Oblici pismenosti</dc:title>
</cp:coreProperties>
</file>