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ADD-74EC-4B58-B4E8-655480E0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4E5-75EE-4A5B-A46D-7EF65AF2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111-7AD0-424B-BEB1-26EAE3F7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95D-0C78-4F8A-B0F8-E5B053CE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3E1-FEE8-43D6-9F67-A94C147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5DB-C991-48B7-8588-8AE9D9E1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2A7-5FDE-4080-92F8-51D066AA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AFA-33F6-4FD2-9D27-92E3AF21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A08-9E08-4C1C-AD0E-716C9DFC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5C7-A2BE-44E8-8725-5ACA08E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39A-9D11-48E7-BBA8-8A4FADA4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56A-07C1-4780-A375-F72E8D8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7551-D9EF-4E22-9361-5F3CF8CB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shodi učenja u kurikulumu knjižnično-informacijske pisme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na Barbar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tedra za bibliotek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sjek za informacijske i komunikacijske z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lozofski fakultet Sveučilišta u Zagreb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ag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irati, procijeniti, usporediti, razlikovati, komentirati, zaključiti, proračunati, provjeriti, preispitati, identificirati (motive, uzroke, posljedice), ispitati, izdvojiti, kategorizirati, komentirati, nacrtati, napraviti dijagram/graf/mapu, povezati, raščlaniti, riješiti, skicirati, sortirati, suprotstaviti, ustanoviti sličnost/razl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dn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orediti i pronaći sličnosti i razlike među idejama. Procijeniti valjanosti ideja i/ili kvalitete uratka na temelju poznatih kriterija. Otkriti nekonzistentnost unutar procesa ili produkta. Otkriti prikladnost postupaka s obzirom na zadatak ili problem, Dokazati vrijednost. Izabrati mogućnost i argumentirano obrazlož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dn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ag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cijeniti, zastupati mišljenje, izabrati opciju, poduprijeti, vrednovati, obraniti stav, kritički prosuđivati, ocijeniti, opravdati, podržati, predvidjeti, preispitati, preporučiti, rangirati, samovrednovati, valorizirati, zaključ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nt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ntetizirati bitno. Izvoditi generalizacije na temelju dobivenih podataka. Povezati znanje iz različitih područja. Kreativno ili divergentno koristiti postojeće znanje za stvaranje nove cjeline (kombinirati poznate dijelove u novu cjelinu). Stvarati nove ideje i rješenja. Uočavati nove obras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nt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ag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urediti, skupiti, stvoriti, predložiti, planirati, organizirati, razviti, formulirati, dizajnirati, integrirati, izgraditi, osmisliti, otkriti, konstruirati, kreirati, povezati, predložiti,prezentirati, razviti, skladati, stvoriti, voditi, izu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LA-ina definicija informacijske pismenosti (1989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formacijski pismene osobe naučile su kako učiti jer znaju kako je znanje organizirano, kako pronaći informacije i kako se koristiti njima na svima razumljiv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su osobe pripremljenije na učenje tijekom cijelog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LA-ina definicija informacijske pisme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tivno uključivanje učenika/studenata u obrazovni proces kako bi ih se potaklo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udu svjesni informacijske potre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poznaju informaciju koja može riješiti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nađu potrebnu inform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ednuju inform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rganiziraju inform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činkovito se koriste informacij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rvatske pri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tavni plan i program za osnovnu školu – MZOS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n Curriculum (2011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technology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and crea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and social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ic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tercultu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ještine za 21. stoljeće (Davies, Fidler, Gorbis, 2011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 and adap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ultural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-media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ciplin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min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loa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Hrvatsko knjižnično zakonodav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javljene 20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nistarstvo kulture 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o knjižnično vije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ategija hrvatskoga knjižničarstva (2017.)-20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vi Zakon o knjižnicama i knjižničnoj djela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dzakonski – standardi i pravil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Zakon o Hrvatskom kvalifikacijskom okvi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fikacija je naziv za objedinjene skupove ishoda učenja određenih razina, obujma, profila, vrste i kvalit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ptenecije su znanja i vještine te pripadajuća samostalnost i odgovor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hodi učenja su kompetencije koja je osoba stekla učenjem i dokazala nakon postupka uč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kup ishoda učenja je najmanji cjeloviti skup povezanih ishoda učenja iste razine, obujma i profi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sjeć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sjetiti se, prepoznati ili reproducirati informaciju, ideju ili princip u približno onakvom obliku u kojem su nauč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ag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brojati, opisati, poredati, ponoviti, imenovati, ispričati, izdvojiti, definirati – izreći definiciju, navesti, opisati,označiti, prepoznati, poredati, sastaviti pop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umije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očiti i povezati glavne ideje. Prevesti, razumjeti, objasniti ili interpretirati naučeni sadržaj. Opisani tijek događaja ili procesa. Izvesti logičan zaključak iz dostupnih informacija. Zaključiti o uzroku i predvidjeti poslje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umije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ag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lasificirati, prepoznati, izdvojiti,sažeti, preoblikovati, izraziti, objasniti, dati primjer, grupirati, identificirati, izračunati, izraziti svojim riječima, opisati, pokazati, predvidjeti, preoblikovati, raspraviti, razlikovati, sažeti, svrstati, uspored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ješavati probleme u novoj situaciji na nov način primjeren naučenom. Koristiti apstrakcije. Odabrati i primjeriti podatke i principe za rješavanje problema ili zadataka u drugom području uz minimum vođ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ag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ijeniti, izabrati, pokazati, upotrijebiti, izvesti, riješiti, isplanirati, prikazati, demonstrirati, ilustrirati, interpretirati, intervjuirati, istražiti, izabrati, koristiti, povezati, predvidjeti, prikupiti, prilagoditi, provesti, rukovati, skicirati, upotrijebiti, protumač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shodi učenja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ovati važne od nevažnih dijelova prezentiranog materijala. Raščlanjivati informacije kako bi se utvrdili dijelovi cjeline, njihovi međusobni odnosi, organizacijski principi, uzroci i posljedice, izveli dokazi i zaključci i podržale generalizacije. Uočiti obrazac. Prepoznati skrivena značenja. Razlikovati činjenice i zaključ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</cp:lastModifiedBy>
  <dcterms:modified xsi:type="dcterms:W3CDTF">2017-04-06T04:58:5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