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2021-DF67-4525-BB7C-855D4CF1518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B6F-23D9-4FB2-9B2B-5783C524C1C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6217-1C5F-415D-942F-60119369A40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A29E-18C5-45B2-9A9A-553D26FFE91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5696-60BE-49BD-AA72-22BE6BCAD4C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EF59-D5B3-4923-8908-E49B5F753BD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C059-8DB0-4E15-8A2C-F291D2F3605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AE24-4352-477C-85E4-EBB17FE8E0D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BA7D-BA89-4B4A-ADA3-222C2D99FA3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F2E2-0EA3-4495-9BB5-130B58720EA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4AF8-1E79-48B3-B160-18A11F894BE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daziv 40%, rezultati nisu reprezentativni, ali su indikativ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što se ne provode? Argumentirani odgovori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ismo educira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ismo obavez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isu predviđene školskim planom i programn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ema adekvatnih prostornih uvj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6325-9239-41EC-93AA-64F87061F72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ABB5-0898-4D6D-BC2E-15D64E6D8B3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8AF2-7E3D-4054-939F-A28DB248FA3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D0D-47A4-4B97-A56C-8D961E375EF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993C-DAB6-4736-8219-2D860B6A06F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AA97-C023-4105-B5AF-06E2982FD60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2B43-2FB2-4BBA-8D41-A2D4F44B8EB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E70E-2F00-418B-89C8-EB366B831F2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7621-E4E6-493C-BDCE-AD6039CAEA7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3ED4-0280-40D3-A882-793D22712C0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26D-CA17-4502-85C0-1EB53B06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0AE-7E9A-4D94-B8D6-74B9981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FD4-4BF0-42BE-B223-52A6E1B5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4C9-40F5-41F6-B065-F1384154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6C12-824E-408F-8A7B-1771DCA2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51D8-6D7B-4E91-B393-ED8548D3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7A9E-B00E-4749-85F2-9CECDF5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0AE8-2443-4858-AF77-B7D6E281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B65A-BFCD-4EEB-8BDA-944DD9DC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FC68-4715-4C8A-99F0-86D62818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F9E8-B9A7-4C62-B9BD-82F25B6F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FF2-E65C-428B-B8BE-3BA927DC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7671-6FAA-4F34-87D9-E87EBDD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B735-E539-4F5D-A535-35B173F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04E3-4E76-47E8-9F7E-0E6F54B6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B878-DABA-4C2D-B9CF-1FD62996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01CE-2FCA-4246-9962-19FE7DCA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9597-D4B0-48A8-8449-C47D690C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8100-BD2E-4DF2-9936-B29AAC8C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9C66-03FB-4535-B572-99BDE04B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5339-0BFE-4364-A76E-47978CE4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D50F-537E-4CD8-9585-A2A898E4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5FB-813A-4BE3-A00A-A5B5481E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4C0B-857B-4E40-BE57-8663C2A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0575-063F-4757-8722-A41BD99F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3D1D-77CA-4E00-B784-36A40721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BBDC-BD13-4173-B2A7-8731527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7BA7-16C0-4C95-934E-59625EC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9D14-6D9B-4116-A44B-562E846C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0FB3-3F17-42A4-97CE-5F0C8808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0536-9368-423C-9452-1C8012E2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0E89-82F8-4D38-B340-E7FC0D8A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5249-2879-419F-B183-269D6DB9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F80-A4EA-4EA2-8F46-59A11C32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080C-46CD-4093-A1CB-D3E7EE59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FF88-4F2A-44E3-879D-9BB9391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267C-1FDB-48D3-9B76-7BE5F28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34E7-6A74-4BAE-9B97-3279F47D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F84D-A0C4-47B0-9C05-86D401FB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9975-7283-4A10-8009-CB39B0D6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2B16-39AC-4382-9980-FD8B140C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8B9A-CE01-430F-A3DD-4C1BDD86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A5C4-67C7-4867-BB68-CAA984C4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775E2-3095-445A-BAED-2CF34D12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50B-B04D-4CFD-8848-08D2A78A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ECC6A-9086-4D91-8563-102FAC0B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52AB3-1B1A-41C8-93A1-95E31ECF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72F60-9DD7-4DDA-9448-352B4688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0DDE-2CE5-4638-BA62-B7E25835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E6C9-3171-4624-8A69-7B778624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D216-3670-4C09-8F01-03BAD285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D664-0DB6-4D58-B71A-05077C2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74BE-82D3-4726-90AE-1CBFE69D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47839-62BE-43F6-85E1-EA2C18A2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296D-B3CA-458E-921C-7C74785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7F4-DFE9-4BC1-B418-AB0CAA5A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D700-05F1-4BD4-961B-93DDBE77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5603-71CB-437E-80B8-7668B7AB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9F83-767C-4C3A-BD2D-DA1BA64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5640-FF73-492F-BD09-1A8330B3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53CF5-94BA-4585-9B5D-13A9B762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8DBF6-3266-46FC-A692-23592B76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443C-09A3-480D-95E2-21AFC316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AFEE-F1D4-40F8-A5CF-E7E7C637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0FB9F-04FB-45A9-9728-89591147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87544-C88E-4A8B-97F5-F6A6DB06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253-595A-48F5-84FF-880D7864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3DF2-D59F-42CB-A101-C5691DEA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3CDD-7144-4441-9C31-0E1FF613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8D26-6585-4D93-8826-7051EDD9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96CAA-E0F9-44C8-B212-E52DA043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4487E-DF6E-40CE-A1CC-BC486377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35D62-D2B5-4CF1-BA19-DC5943E8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D01F0-797D-4836-80B2-001F552D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97FA-57D7-4426-9CF3-A25DF601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54844-BF40-417E-BF7C-32843D37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69639-530C-44FE-8F14-7DE5947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341-06A3-41B1-B497-F042F96C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9133-5948-43F3-A365-BD98598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B4C93-C6E9-4585-813A-79481F3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695B3-46DA-4DB4-8779-5FE69781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48D4-4401-4429-B613-9EA1F635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8E0A-BC3B-4222-9BDE-B354F924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95082-863D-46EA-B92A-2945FE69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F5DA3-AC0F-473D-AA4B-F4103427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BC15-808C-4696-A908-1D9D27BF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ADFF5-4A80-4C9B-B09B-BA93DA9C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FE400-B47D-48D5-9974-5BC194CD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D83-2FE4-4944-8506-D417182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D85AA-B63F-4D69-8EA4-BDC49D8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89229-EF0C-4EB8-AD8C-D63C1A9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C2092-B32C-44E7-BFDE-7E9120E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4E761-ABEB-4F97-8AE3-9C5DFBAA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DF6DE-0DDD-4B79-9452-DC0AF993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37B9F-066F-45A6-96C0-384680F4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1B7C-515C-4835-9E99-103E7DFA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C7CC-5D6A-4DB9-A91E-A568F7FEB08E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AD0-2FC2-4297-BA39-122DF4675ABC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D986-5172-4E88-AA88-C38DED1B43A8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6913-24B6-45AC-AEF5-2340C4C6E8CC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30DA-A7B5-464F-9254-9B10F217F144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C1C-82F7-4D55-97DE-409B2416EC0B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450D-11DF-4650-ABB0-EC33DC018BC2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E99B-5FD2-4CF5-8425-1D15128A3CC7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zoo.hr/images/Kurikulum_gradanskog_odgoja_i_obrazovanja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Bookman Old Style"/>
              </a:rPr>
              <a:t>Školski knjižničari 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Bookman Old Style"/>
              </a:rPr>
              <a:t>i odgoj za demokracij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26920" y="4868640"/>
            <a:ext cx="734544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464653"/>
                </a:solidFill>
                <a:latin typeface="Bookman Old Style"/>
              </a:rPr>
              <a:t>29. Proljetna škola školskih knjižničara RH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464653"/>
                </a:solidFill>
                <a:latin typeface="Bookman Old Style"/>
              </a:rPr>
              <a:t>Hotel Medena, 6. – 8. travnja 2017</a:t>
            </a:r>
            <a:r>
              <a:rPr b="0" lang="hr-HR" sz="1900" spc="-1" strike="noStrike">
                <a:solidFill>
                  <a:srgbClr val="464653"/>
                </a:solidFill>
                <a:latin typeface="Bookman Old Styl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Subtitle 2"/>
          <p:cNvSpPr/>
          <p:nvPr/>
        </p:nvSpPr>
        <p:spPr>
          <a:xfrm>
            <a:off x="-252360" y="3860640"/>
            <a:ext cx="8353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98989"/>
                </a:solidFill>
                <a:latin typeface="Gill Sans MT"/>
              </a:rPr>
              <a:t>dr. sc. Nada Topić, viša knjižniča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98989"/>
                </a:solidFill>
                <a:latin typeface="Gill Sans MT"/>
              </a:rPr>
              <a:t>OŠ Vjekoslava Paraća, So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2005.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- Europska godina građanstva u obrazovanju -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„Učimo i živimo demokraciju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. - Ministarstvo znanosti, obrazovanja i športa RH započelo je s izradom kurikuluma Građanskog odgoja i obrazov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2014./2015.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- Kurikulum GOO se uvodi obvezno međupredmetno u sve razrede osnovne i srednje škole s ciljem razvijanja građanskih kompetencija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učeni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Kurikulum GOO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MEĐUPREDMETNE  TEME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oje pridonose razvijanju građanskih kompetencija 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učenik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ljudskopravne, političke, društvene, kulturne, gospodarske i ekološk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</a:rPr>
              <a:t>razvoj demokratske svijesti učeni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poticanje njihova </a:t>
            </a:r>
            <a:r>
              <a:rPr b="1" lang="vi-VN" sz="2600" spc="-1" strike="noStrike">
                <a:solidFill>
                  <a:srgbClr val="000000"/>
                </a:solidFill>
                <a:latin typeface="Calibri"/>
              </a:rPr>
              <a:t>aktivnog i učinkovitog sudjelovanja u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 r</a:t>
            </a:r>
            <a:r>
              <a:rPr b="1" lang="vi-VN" sz="2600" spc="-1" strike="noStrike">
                <a:solidFill>
                  <a:srgbClr val="000000"/>
                </a:solidFill>
                <a:latin typeface="Calibri"/>
              </a:rPr>
              <a:t>azvoju demokratskih odnosa u školi, lokalnoj zajednici i društvu u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 cjelin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Kurikulum GOO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7928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“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Suvremena djelatnost (školske) knjižnice usmjerena je na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informacijsku pismenost i poticanje čitanj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. 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...poučava učenike samostalnome projektno-istraživačkom radu, potiče ih na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stvaralačko i kritičko mišljenje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pri pronalaženju, selektiranju, vrjednovanju i primjeni informacija.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464653"/>
                </a:solidFill>
                <a:latin typeface="Bookman Old Style"/>
              </a:rPr>
              <a:t>Prijedlog nacionalnog kurikuluma (2016.)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Međupredmetne tem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Učiti kako učiti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2. Poduzetništv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3. Osobni i socijalni razvo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4. Zdravl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5. Održivi razvo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6. Upotreba informacijske i komunikacijske tehnologij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7. Građanski odgoj i obrazovanj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C:\Users\Korisnik\Desktop\1024px-Symbol_OK.svg.png"/>
          <p:cNvPicPr/>
          <p:nvPr/>
        </p:nvPicPr>
        <p:blipFill>
          <a:blip r:embed="rId1"/>
          <a:stretch/>
        </p:blipFill>
        <p:spPr>
          <a:xfrm>
            <a:off x="3348000" y="263700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Što sad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1" name="Picture 2" descr="C:\Users\Korisnik\Desktop\New-Directions-Blog-Indecisive-Young-Adult.jpg"/>
          <p:cNvPicPr/>
          <p:nvPr/>
        </p:nvPicPr>
        <p:blipFill>
          <a:blip r:embed="rId1"/>
          <a:stretch/>
        </p:blipFill>
        <p:spPr>
          <a:xfrm>
            <a:off x="1285920" y="1603440"/>
            <a:ext cx="69436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464653"/>
                </a:solidFill>
                <a:latin typeface="Bookman Old Style"/>
              </a:rPr>
              <a:t>Strategija provođenja odgoja za demokraciju u školskoj knjižnici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3" name="Picture 2" descr="C:\Users\Korisnik\Desktop\resources.jpg"/>
          <p:cNvPicPr/>
          <p:nvPr/>
        </p:nvPicPr>
        <p:blipFill>
          <a:blip r:embed="rId1"/>
          <a:stretch/>
        </p:blipFill>
        <p:spPr>
          <a:xfrm>
            <a:off x="2627280" y="1846440"/>
            <a:ext cx="3665520" cy="365436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468360" y="328464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Građa i izv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5552280" y="3284640"/>
            <a:ext cx="352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Gill Sans MT"/>
              </a:rPr>
              <a:t>Programi i aktivn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rađa i izvo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tiskana građa (knjige, časopisi, novine i sl.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audio-vizualna građa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elektronička građa i izvori (elektronički izvori informacija trebaju uključivati </a:t>
            </a:r>
            <a:r>
              <a:rPr b="1" lang="vi-VN" sz="2600" spc="-1" strike="noStrike">
                <a:solidFill>
                  <a:srgbClr val="000000"/>
                </a:solidFill>
                <a:latin typeface="Calibri"/>
              </a:rPr>
              <a:t>pristup internetu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, specijaliziranim referentnim bazama podataka i bazama podatka s cjelovitim tekstovima, kao i računalne softverske programe s obrazovnim sadržajima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didaktičke i društvene igr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rađa i izvo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raznoli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suvremen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razvojno primjeren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otpora odgojno-obrazovnom proces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odražava raznolike vrijednosti i mišlje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uvod u globalnu zajednic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Programi i aktivnost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samostalno i u suradnji s predmetnim učiteljima i stručnim suradnicima (multidisciplinarnost, korelac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na razini razrednog odjela, škole, lokalne zajednice, ši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KNJIŽNIČAR = KREA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3" name="Picture 3" descr="C:\Users\Korisnik\Desktop\o-CREATIVITY-facebook.jpg"/>
          <p:cNvPicPr/>
          <p:nvPr/>
        </p:nvPicPr>
        <p:blipFill>
          <a:blip r:embed="rId1"/>
          <a:stretch/>
        </p:blipFill>
        <p:spPr>
          <a:xfrm>
            <a:off x="1938240" y="3621240"/>
            <a:ext cx="51642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OO u školskim knjižnicama Splitsko-dalmatinske župani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39640" y="15573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vodite li u knjižnici aktivnosti vezane za GOO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DA – 67,2 %               NE – 32,8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Smatrate li da su knjižničari kompetentni za provođenje aktivnosti GOO-a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DA – 74,1 %               NE – 25,9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Smatrate li da bi se knjižničari trebali dodatno educirati za provođenje GOO-a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DA – 87,9 %               NE – 12,1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Prilagodba digitalnom dob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ruštveni prosto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stor za učenje i prezentacij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stor u kojem učenici žele boravi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2" descr="C:\Users\Korisnik\Desktop\duston school northampton.jpeg"/>
          <p:cNvPicPr/>
          <p:nvPr/>
        </p:nvPicPr>
        <p:blipFill>
          <a:blip r:embed="rId1"/>
          <a:stretch/>
        </p:blipFill>
        <p:spPr>
          <a:xfrm>
            <a:off x="468360" y="2852640"/>
            <a:ext cx="4289400" cy="27687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2009520" y="5805360"/>
            <a:ext cx="50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Duston school library, Northampton,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C:\Users\Korisnik\Desktop\1357557363DustonSchool-696x464.jpg"/>
          <p:cNvPicPr/>
          <p:nvPr/>
        </p:nvPicPr>
        <p:blipFill>
          <a:blip r:embed="rId2"/>
          <a:stretch/>
        </p:blipFill>
        <p:spPr>
          <a:xfrm>
            <a:off x="4788000" y="2852640"/>
            <a:ext cx="40701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OO u školskim knjižnicama Splitsko-dalmatinske župani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vođenje aktivnosti GOO-a razvija sljedeće učeničke građanske kompetencije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udskoprav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politič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društve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kultur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gospodarske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ekološ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skladu s tim, možete li konkretno nabrojiti aktivnosti koje ste provodili/provodite, a koje pridonose razvijanju nekih od nabrojenih kompetencija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OO u školskim knjižnicama Splitsko-dalmatinske župani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bilježavanje međunarodnih dana i obljetnica (radionice, plakati, izložbe, kvizovi, IZU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Humanitar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davanja (financijska pismenost, sigurnost na internetu..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ko projek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ebatni klubov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omicanje či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olontir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čeničke zadru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kolske nov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ramske skupin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usreti s književnicima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OO u školskim knjižnicama Splitsko-dalmatinske župani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4360" y="981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Sudjelujete li u nekom projektu na razini škole/općine/županije/šire, a koji je povezan s GOO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DA – 34,5 %               NE – 65,5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Projekt Straničnik za Međunarodni mjesec školskih knjižnica (ISLM Bookmark Projec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I ja želim čitati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Čitaj mi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Dječje gradsko vijeć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Blago našeg Marja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Dioklecijanova škrinj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Edukativni kamp preventivnog programa Nauči živjeti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Dobro je činiti dob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4" descr="C:\Users\Korisnik\Desktop\I-ja-želim-čitati.png"/>
          <p:cNvPicPr/>
          <p:nvPr/>
        </p:nvPicPr>
        <p:blipFill>
          <a:blip r:embed="rId1"/>
          <a:stretch/>
        </p:blipFill>
        <p:spPr>
          <a:xfrm>
            <a:off x="6443640" y="3716280"/>
            <a:ext cx="208908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OO u školskim knjižnicama Splitsko-dalmatinske župani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981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Otpad ili smeće? Od tebe sve kreće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Book Pikni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Zeleno selo naša budućno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Tragovima poljičke bašt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Putevima ljekovitog bilja do zvijezd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Knjigom na knjigu – čitanjem upoznajemo svijet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Eko ško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E-ško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Od starog pisma do novog prijateljstv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Mi djeca EU kažem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Manuški pričig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Dobrim djelima kroz 2017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SafetyNet..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5" name="Picture 4" descr="C:\Users\Korisnik\Desktop\n_25126.jpg"/>
          <p:cNvPicPr/>
          <p:nvPr/>
        </p:nvPicPr>
        <p:blipFill>
          <a:blip r:embed="rId1"/>
          <a:stretch/>
        </p:blipFill>
        <p:spPr>
          <a:xfrm>
            <a:off x="6659640" y="3807000"/>
            <a:ext cx="1666800" cy="19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Abeceda aktivnog građanstv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Mi smo u gradskom ko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Građanski inkuba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Inkluzija u obrazovanj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Projekt Građanin: To moj je, moj je sunčani dom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Pretežno vedr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Mala splitska debat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Škola govorništv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Kulturna baština otoka Brač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Upoznajmo EU i zemlje Euro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Mali poduzetnic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Školska klapa učenika i nastavnik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Noć knji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OO u školskim knjižnicama Splitsko-dalmatinske župani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8" name="Picture 2" descr="C:\Users\Korisnik\Desktop\w825f7ewbmwrtu87v5kgnf6w93e.jpg"/>
          <p:cNvPicPr/>
          <p:nvPr/>
        </p:nvPicPr>
        <p:blipFill>
          <a:blip r:embed="rId1"/>
          <a:stretch/>
        </p:blipFill>
        <p:spPr>
          <a:xfrm>
            <a:off x="6300720" y="5013360"/>
            <a:ext cx="20541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OO u školskim knjižnicama Splitsko-dalmatinske župani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Program knjižnično-informacijskog obrazovanja (KIO) dio je Građanskog odgoja i obrazovanja. Smatrate li da bi se školski knjižničari morali fokusirati isključivo na KIO, a ne na druge aspekte GOO-a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DA – 27,6 %                      NE – 72,4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4" descr="C:\Users\Korisnik\Desktop\173551.jpg"/>
          <p:cNvPicPr/>
          <p:nvPr/>
        </p:nvPicPr>
        <p:blipFill>
          <a:blip r:embed="rId1"/>
          <a:stretch/>
        </p:blipFill>
        <p:spPr>
          <a:xfrm>
            <a:off x="2730600" y="4267080"/>
            <a:ext cx="34257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GOO u školskim knjižnicama Splitsko-dalmatinske župani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oliko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računala za rad učeni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a posjeduje Vaša knjižnica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Gill Sans MT"/>
              </a:rPr>
              <a:t>                  </a:t>
            </a:r>
            <a:r>
              <a:rPr b="1" lang="hr-HR" sz="2600" spc="-1" strike="noStrike">
                <a:solidFill>
                  <a:srgbClr val="ff0000"/>
                </a:solidFill>
                <a:latin typeface="Gill Sans MT"/>
              </a:rPr>
              <a:t>0 – 37,9 %             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1 – 27,6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2 – 19 %                     3 – 3,4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&gt;3 – 10,3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Tijekom 2016. godine imali ste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osigurana sredstva za kupnju knjižnične građe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od stran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škola    48,3 %         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ministarstvo 12,1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općina/grad  19 %                          županija 6,9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onacije     10,3 %                         </a:t>
            </a:r>
            <a:r>
              <a:rPr b="1" lang="hr-HR" sz="2600" spc="-1" strike="noStrike">
                <a:solidFill>
                  <a:srgbClr val="ff0000"/>
                </a:solidFill>
                <a:latin typeface="Gill Sans MT"/>
              </a:rPr>
              <a:t>bez sredstava 29,3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464653"/>
                </a:solidFill>
                <a:latin typeface="Bookman Old Style"/>
              </a:rPr>
              <a:t>Školski knjižničar i odgoj za demokracij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njižničari = informacijski stručnjac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= učitelji i pedagoz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= predmetni stručnjac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= kreativc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sustavna podrška (redovito financiranje, opremljenost, uključivanje u strateške dokument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468360" y="12715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Information is the currency of democracy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— Thomas JEFFERSON (1743.-1826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6920" y="2276280"/>
            <a:ext cx="6634440" cy="19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000000"/>
                </a:solidFill>
                <a:latin typeface="Gill Sans MT"/>
              </a:rPr>
              <a:t>Hvala!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8" name="Picture 4" descr="C:\Users\Korisnik\Desktop\hands-jpeg tiny.jpg"/>
          <p:cNvPicPr/>
          <p:nvPr/>
        </p:nvPicPr>
        <p:blipFill>
          <a:blip r:embed="rId1"/>
          <a:stretch/>
        </p:blipFill>
        <p:spPr>
          <a:xfrm>
            <a:off x="2627280" y="1628640"/>
            <a:ext cx="36734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Knjižnice RH u 2013.</a:t>
            </a:r>
            <a:br>
              <a:rPr sz="3200"/>
            </a:br>
            <a:r>
              <a:rPr b="1" lang="hr-HR" sz="2700" spc="-1" strike="noStrike">
                <a:solidFill>
                  <a:srgbClr val="464653"/>
                </a:solidFill>
                <a:latin typeface="Bookman Old Style"/>
              </a:rPr>
              <a:t>(Državni zavod za statistiku – www.dzs.hr)</a:t>
            </a:r>
            <a:endParaRPr b="0" lang="en-US" sz="27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11280" y="1989000"/>
          <a:ext cx="7993080" cy="3333960"/>
        </p:xfrm>
        <a:graphic>
          <a:graphicData uri="http://schemas.openxmlformats.org/drawingml/2006/table">
            <a:tbl>
              <a:tblPr/>
              <a:tblGrid>
                <a:gridCol w="2252520"/>
                <a:gridCol w="2104920"/>
                <a:gridCol w="2122560"/>
                <a:gridCol w="1513080"/>
              </a:tblGrid>
              <a:tr h="58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9a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9a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Školske knjižni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9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oj knjižn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7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,4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oj korisni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366 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0 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,2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oj zaposleni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 0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3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,4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ih sveza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16 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 8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,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ŠKOLSKA KNJIŽN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io odgojno-obrazovnog susta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orisnička populacija (djeca i mladi, 7 - 18 godina =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građani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ŠKOLSKI KNJIŽNIČ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1. knjižničarske kompetencij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2. odgojno-obrazovne kompeten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3. stručne kompetencije određenog područ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(hrvatski jezik, povijest, sociologija, filozofija..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464653"/>
                </a:solidFill>
                <a:latin typeface="Bookman Old Style"/>
              </a:rPr>
              <a:t>KIO – Knjižnično-informacijsko obrazovan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gram poučavanja i osposobljavanja učenika za samostalni rad na izvorima informacija i znanja te poticanje uporabe knjige i drugih informacijskih medija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ALAT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za učenje i stjecanje kompetencija iz svih ostalih područja zn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3" descr="C:\Users\Korisnik\Desktop\tools.jpg"/>
          <p:cNvPicPr/>
          <p:nvPr/>
        </p:nvPicPr>
        <p:blipFill>
          <a:blip r:embed="rId1"/>
          <a:stretch/>
        </p:blipFill>
        <p:spPr>
          <a:xfrm>
            <a:off x="3348000" y="32846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464653"/>
                </a:solidFill>
                <a:latin typeface="Bookman Old Style"/>
              </a:rPr>
              <a:t>Standard za školske knjižnice </a:t>
            </a:r>
            <a:br>
              <a:rPr sz="2900"/>
            </a:br>
            <a:r>
              <a:rPr b="1" lang="hr-HR" sz="2600" spc="-1" strike="noStrike">
                <a:solidFill>
                  <a:srgbClr val="464653"/>
                </a:solidFill>
                <a:latin typeface="Bookman Old Style"/>
              </a:rPr>
              <a:t>(NN </a:t>
            </a:r>
            <a:r>
              <a:rPr b="1" lang="nn-NO" sz="2600" spc="-1" strike="noStrike">
                <a:solidFill>
                  <a:srgbClr val="464653"/>
                </a:solidFill>
                <a:latin typeface="Bookman Old Style"/>
              </a:rPr>
              <a:t>105/97, 5/98, 104/00 i 69/09</a:t>
            </a:r>
            <a:r>
              <a:rPr b="1" lang="hr-HR" sz="2600" spc="-1" strike="noStrike">
                <a:solidFill>
                  <a:srgbClr val="464653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Članak 3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Zadaće školske knjižnice su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poticanje odgoja za demokracij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poticanje duhovnog ozračja ško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464653"/>
                </a:solidFill>
                <a:latin typeface="Bookman Old Style"/>
              </a:rPr>
              <a:t>UNESCO-ov </a:t>
            </a:r>
            <a:br>
              <a:rPr sz="2900"/>
            </a:br>
            <a:r>
              <a:rPr b="1" lang="hr-HR" sz="2900" spc="-1" strike="noStrike">
                <a:solidFill>
                  <a:srgbClr val="464653"/>
                </a:solidFill>
                <a:latin typeface="Bookman Old Style"/>
              </a:rPr>
              <a:t>Manifest za školske knjižnice </a:t>
            </a:r>
            <a:r>
              <a:rPr b="1" lang="hr-HR" sz="2400" spc="-1" strike="noStrike">
                <a:solidFill>
                  <a:srgbClr val="464653"/>
                </a:solidFill>
                <a:latin typeface="Bookman Old Style"/>
              </a:rPr>
              <a:t>(1999.)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Temeljne zadaće školske knjižnic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organiziranje aktivnosti koje potiču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 kulturnu i društvenu svij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micanje načela da su sloboda mišljenja i slobodan pristup informacijama preduvjeti za uspješno i odgovorno sudjelovanje u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građanskom demokratskom društv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464653"/>
                </a:solidFill>
                <a:latin typeface="Bookman Old Style"/>
              </a:rPr>
              <a:t>IFLA-ine i UNESCO-ve smjernice za školske knjižnice </a:t>
            </a:r>
            <a:r>
              <a:rPr b="1" lang="hr-HR" sz="2400" spc="-1" strike="noStrike">
                <a:solidFill>
                  <a:srgbClr val="464653"/>
                </a:solidFill>
                <a:latin typeface="Bookman Old Style"/>
              </a:rPr>
              <a:t>(2. izdanje, 2015.)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Školska knjižnica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alibri"/>
              </a:rPr>
              <a:t>fizički i digitalni prostor škole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, otvoren i pristupačan svi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razvija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učeni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čke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ještine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cjeloživotno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 učenj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a i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njihovu maštu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te im 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time omoguć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je</a:t>
            </a:r>
            <a:r>
              <a:rPr b="0" lang="vi-VN" sz="2600" spc="-1" strike="noStrike">
                <a:solidFill>
                  <a:srgbClr val="000000"/>
                </a:solidFill>
                <a:latin typeface="Calibri"/>
              </a:rPr>
              <a:t> da žive kao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2600" spc="-1" strike="noStrike">
                <a:solidFill>
                  <a:srgbClr val="000000"/>
                </a:solidFill>
                <a:latin typeface="Calibri"/>
              </a:rPr>
              <a:t>odgovorni građan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mogućava otvoreni protok informacija i znanja za sve učeničke skupine kao način ostvarivanja 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</a:rPr>
              <a:t>demokratskih i ljudskih pra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53"/>
                </a:solidFill>
                <a:latin typeface="Bookman Old Style"/>
              </a:rPr>
              <a:t>Ciljevi odgoja za demokracij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Učenici/Građan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svjesni su svojih građanskih prava i dužnosti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obaviješteni su o socijalnim i političkim zbivanjima u svijetu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brinu o blagostanju drugi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izražavaju svoje mišljenje i stajališta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sposobni su utjecati na svijet u kojem žive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aktivni su u svojim zajednicam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odgovorni su u svom građanskom djelovanj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11:26:31Z</dcterms:created>
  <dc:creator>Korisnik</dc:creator>
  <dc:description/>
  <dc:language>en-US</dc:language>
  <cp:lastModifiedBy>Korisnik</cp:lastModifiedBy>
  <dcterms:modified xsi:type="dcterms:W3CDTF">2017-04-04T19:12:04Z</dcterms:modified>
  <cp:revision>64</cp:revision>
  <dc:subject/>
  <dc:title>Školska knjižnica</dc:title>
</cp:coreProperties>
</file>