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0ADF-ADC6-466C-B8F3-C7F9630E2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4EBF-6966-4DBE-94E8-74393FE75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6639-7206-4EE5-A4C1-A461CF274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00C9-CCC6-40E2-B2C1-078608486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6F6E0-1CE9-4DFD-A782-C23F2E79A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A2D0A-B930-4AA1-B3FB-8DB6ED935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1BB07-CE4B-46F9-BB16-15EADDA0D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6145E-5B4A-41FA-B5C7-C969B5856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C025B-9E94-4429-A176-ECCB70E0F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C7D77-C0CC-41EE-9BA2-FB2518029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B8EDB-D6AB-4FDE-B65C-B5509C3D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BAB6-D997-422C-A2B9-8F00E54C8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DBF94-2C3A-4B8F-90ED-716C5F5F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4948F-9E09-4169-BD0E-95F721B0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CF11F-3E32-4791-9515-C0E762978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B82F5-C627-4C4E-93DB-EC2184FCE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024EE-2EBC-4F4C-9631-660B63902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27CC9-B19C-46DC-A4F0-E8983A0FD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4B0DC-1606-4D68-9C80-266B9E60B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BBE0C-B614-4D65-96D6-6D7B804B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3AB34-FD3E-494F-A937-A67DDD938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4F178-BE32-44A1-B256-7BA329208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3BFE-4FFE-45C1-989E-BDF5BD39A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45DBC-9B89-4623-B94E-1DA786D32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1FC04-555E-4C40-8433-170727EF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548C6-EE53-400C-A890-BDD8321A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C9891-16A2-4419-B74E-DFA227AE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26154-05B3-46A7-AFC8-C85B7A1DD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0BEF2-A0A1-4235-988F-6D4237C9B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5B2C2-45F9-49D2-B540-567F85411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30199-FFA3-499D-9177-F3E5D6F82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217C0-A811-46F1-AD5C-FAD1E1F85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31522-DD74-4F0A-84EB-E541EDEAC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D990-7E72-400D-BE4B-50CE6F7AD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1BB86-8B01-4EA0-890C-2E0E9B428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100DE-3508-4C6C-A00E-DF9EBDD5B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2422F-7E7E-4310-BC21-EFC1001F4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7819A-CE36-4188-98BB-075F38E4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B6A25-28DD-4701-B83D-4C02E346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3E30A-5FEE-402E-97B7-C3778CD5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3B7AB-EDAC-44FA-BD57-827599CE4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AA47A-A639-4032-A644-B6BCBBF13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84D5B-1B0D-4AE6-B2D1-329B30A37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BD008-6669-47D3-A0F1-1FD1F787E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FF73-1CC9-4B63-9D26-4D5AD1D81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CAF9D-EED1-4D22-B53F-A71D4F9F8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2DE3C-5743-46E3-A144-85EF42B1F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2BB94-6133-40B8-8AA4-0F62D51C5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134F9-7EEA-45F8-A5F7-E66314BBC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5AC97-6E2C-4AA6-88DB-EF1D9F8CD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49EA9-7E7A-4E01-A5AD-195DE4AC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C7C32-0669-4DC0-A881-31727DFA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F12AC-DDF9-47B5-9595-0FFFDCD1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E3F1A1-6269-463D-8B8E-C6F12023B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2679F-320B-4E6D-9682-8C6372C21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0D5B-C763-49DB-AE9B-3434CF2B3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C543F-15A0-48D8-9468-6782D3F2F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011A7-7AAF-4887-B4A0-AB9C7EA0F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D1DDD-37A1-47ED-B321-F216309C4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59A1B-F0F8-4F6D-883B-3B0F3902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C41AD-A845-448D-A270-100927A8D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AD17F5-79FD-4FA7-8281-F1A8B12BB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7E267D-3465-4950-84F5-1F8749999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986C2-085D-42AA-8D67-91CD9E9D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5D9CE-0BB3-4C5D-B42F-2AC37F1F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B7283-E2F3-4050-B531-792EA39D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0811-3337-43D5-A0EF-C075F837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97EF7-D304-422C-AE68-83870D34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DF1E2-C227-4EEB-978E-B75A6B835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27D3A-7E8B-4B8F-A01D-0E4976E4E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0B474-C820-4492-85A4-B8F98033B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1B0F6C-75A4-41F6-B55F-27915E4B7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B1535-92BF-45BF-8248-D179E3FEE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49013E-3E3B-4B72-950F-0DB9D5958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5A3CCE-E055-42C4-9C11-F8D145F08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51BB26-BA55-42CE-B6DB-E8AFB00FA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7C01DA-026F-40EE-B649-4E38F0F0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D7C2-1ED9-443A-982D-4196330C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F494F9-0963-42FF-85D7-B3877398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2A4041-1E6E-42C4-A6C0-ADD242C3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5CE06-9B3C-4478-81A9-79A0E5A0F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4DEA11-FDD9-43AC-A5CF-4A374B344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B9CB3-A978-4D95-943D-E99F96ACC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520B-FD75-44C1-B138-6A0E1EFF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F0E8F-26A2-4ACA-A4AE-934217C3D495}" type="slidenum">
              <a:rPr b="0" lang="hr-HR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83A4B-A089-42CB-AAC8-941D84AA6E1D}" type="slidenum">
              <a:rPr b="0" lang="hr-HR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79F45-4545-4D40-A440-BFAA12E356E5}" type="slidenum">
              <a:rPr b="0" lang="hr-HR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A77E8-8692-4843-A35C-AB68BE4C8C71}" type="slidenum">
              <a:rPr b="0" lang="hr-HR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0B2FB-6FBB-4613-9442-190B6FB32909}" type="slidenum">
              <a:rPr b="0" lang="hr-HR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051DE-70E0-4849-A783-27D073EFC87C}" type="slidenum">
              <a:rPr b="0" lang="hr-HR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E40FD-4AB4-41C1-95A1-47E32B7FA358}" type="slidenum">
              <a:rPr b="0" lang="hr-HR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Title 1" descr=""/>
          <p:cNvPicPr/>
          <p:nvPr/>
        </p:nvPicPr>
        <p:blipFill>
          <a:blip r:embed="rId1"/>
          <a:stretch/>
        </p:blipFill>
        <p:spPr>
          <a:xfrm>
            <a:off x="566640" y="1328760"/>
            <a:ext cx="8070840" cy="2079720"/>
          </a:xfrm>
          <a:prstGeom prst="rect">
            <a:avLst/>
          </a:prstGeom>
          <a:ln w="0">
            <a:noFill/>
          </a:ln>
        </p:spPr>
      </p:pic>
      <p:pic>
        <p:nvPicPr>
          <p:cNvPr id="302" name="Subtitle 2" descr=""/>
          <p:cNvPicPr/>
          <p:nvPr/>
        </p:nvPicPr>
        <p:blipFill>
          <a:blip r:embed="rId2"/>
          <a:stretch/>
        </p:blipFill>
        <p:spPr>
          <a:xfrm>
            <a:off x="633240" y="3780000"/>
            <a:ext cx="817596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just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000" spc="-1" strike="noStrike">
                <a:solidFill>
                  <a:srgbClr val="ffffff"/>
                </a:solidFill>
                <a:latin typeface="Century Gothic"/>
              </a:rPr>
              <a:t>U Alberti (…) Ministarstvo obrazovanja (…) svim učenicima i nastavnicima u provinciji u potpunosti financira nabavu kvalitetnih </a:t>
            </a:r>
            <a:r>
              <a:rPr b="0" lang="hr-HR" sz="3000" spc="-1" strike="noStrike">
                <a:solidFill>
                  <a:srgbClr val="ffffff"/>
                </a:solidFill>
                <a:latin typeface="Century Gothic"/>
              </a:rPr>
              <a:t>online</a:t>
            </a:r>
            <a:r>
              <a:rPr b="0" i="1" lang="hr-HR" sz="3000" spc="-1" strike="noStrike">
                <a:solidFill>
                  <a:srgbClr val="ffffff"/>
                </a:solidFill>
                <a:latin typeface="Century Gothic"/>
              </a:rPr>
              <a:t> informacijskih resursa na engleskom i francuskom jeziku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 algn="just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just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000" spc="-1" strike="noStrike">
                <a:solidFill>
                  <a:srgbClr val="ffffff"/>
                </a:solidFill>
                <a:latin typeface="Century Gothic"/>
              </a:rPr>
              <a:t>U Francuskoj se učenike osposobljava za odgovorno korištenje interneta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 algn="just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 algn="just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 algn="just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 algn="just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entury Gothic"/>
              </a:rPr>
              <a:t>Rječnik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600" spc="-1" strike="noStrike">
                <a:solidFill>
                  <a:srgbClr val="ffffff"/>
                </a:solidFill>
                <a:latin typeface="Century Gothic"/>
              </a:rPr>
              <a:t>IFLA-in i UNESCO-ov Manifest za školske knjižnice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entury Gothic"/>
              </a:rPr>
              <a:t>Planiranje proračuna za školsku knjižnicu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entury Gothic"/>
              </a:rPr>
              <a:t>Modeli poučavanja za istraživačko učenje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Century Gothic"/>
              </a:rPr>
              <a:t>Uzorak kontrolne liste za vrednovanje knjižnice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entury Gothic"/>
              </a:rPr>
              <a:t>Lista vrednovanja školske knjižnice za ravnatelje škola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6600" spc="-1" strike="noStrike">
                <a:solidFill>
                  <a:srgbClr val="ffffff"/>
                </a:solidFill>
                <a:latin typeface="Century Gothic"/>
              </a:rPr>
              <a:t>HVALA NA PAŽNJI!</a:t>
            </a:r>
            <a:endParaRPr b="0" lang="en-US" sz="6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5" name="Picture 4" descr="Image result for smiley book transparent"/>
          <p:cNvPicPr/>
          <p:nvPr/>
        </p:nvPicPr>
        <p:blipFill>
          <a:blip r:embed="rId1"/>
          <a:stretch/>
        </p:blipFill>
        <p:spPr>
          <a:xfrm>
            <a:off x="2965320" y="3643200"/>
            <a:ext cx="286236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ffff"/>
                </a:solidFill>
                <a:latin typeface="Century Gothic"/>
              </a:rPr>
              <a:t>IFLA-ini standardi, smjernice, priručnici, načela i izvještaji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entury Gothic"/>
              </a:rPr>
              <a:t>bibliografska kontrola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 algn="just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entury Gothic"/>
              </a:rPr>
              <a:t>razvoj i povećanje kvalitete knjižničnih službi i usluga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 algn="just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entury Gothic"/>
              </a:rPr>
              <a:t>praćenje novih inicijativa i standarda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 algn="just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entury Gothic"/>
              </a:rPr>
              <a:t>zaštita građe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 algn="just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entury Gothic"/>
              </a:rPr>
              <a:t>dostupnost stručne literature, ispitna literatura za studente knjižničarstva i za pripremu stručnih ispita za knjižničarska zvanja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 algn="just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 algn="just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66320" cy="154764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entury Gothic"/>
              </a:rPr>
              <a:t>2004. 1. hrvatsko izdanje (HKD) – prijevod: Irena Kranjec, stručna redakcija prijevoda Vesna Kranjec-Čižmek, lektorica Mirjana Paić Jurinić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entury Gothic"/>
              </a:rPr>
              <a:t>2016. 2. hrvatsko izd. – prijevod Dina Mašina i Irena Gašparović, stručna redakcija prijevoda Ivana Vladilo, lektorica Silvija Brkić-Midžić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66320" cy="154764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ffff"/>
                </a:solidFill>
                <a:latin typeface="Century Gothic"/>
              </a:rPr>
              <a:t>preporuke za uspješnu i učinkovitu praksu i djelovanje u zajednici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ffff"/>
                </a:solidFill>
                <a:latin typeface="Century Gothic"/>
              </a:rPr>
              <a:t>opsežan pregled relevantne i recentne literatur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ffff"/>
                </a:solidFill>
                <a:latin typeface="Century Gothic"/>
              </a:rPr>
              <a:t>mrežni izvori - primjeri dobre prakse i istraživanja, smjernice, projekti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ffff"/>
                </a:solidFill>
                <a:latin typeface="Century Gothic"/>
              </a:rPr>
              <a:t>pomagala za planiranje i vrednovanj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Title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66320" cy="154764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ffff"/>
                </a:solidFill>
                <a:latin typeface="Century Gothic"/>
              </a:rPr>
              <a:t>holistički pristup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ffff"/>
                </a:solidFill>
                <a:latin typeface="Century Gothic"/>
              </a:rPr>
              <a:t>stručno usavršavanje - nove kompetencije knjižničara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ffff"/>
                </a:solidFill>
                <a:latin typeface="Century Gothic"/>
              </a:rPr>
              <a:t>osobe s posebnim potrebama i ugrožene skupine i pojedinci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ffff"/>
                </a:solidFill>
                <a:latin typeface="Century Gothic"/>
              </a:rPr>
              <a:t>adekvatan prosto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ffff"/>
                </a:solidFill>
                <a:latin typeface="Century Gothic"/>
              </a:rPr>
              <a:t>prošireni pojam zbirke, kriteriji za upravljanje digitalnim zbirkama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Title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66320" cy="15476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ffff"/>
                </a:solidFill>
                <a:latin typeface="Century Gothic"/>
              </a:rPr>
              <a:t>isticanje važnosti čitanja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ffff"/>
                </a:solidFill>
                <a:latin typeface="Century Gothic"/>
              </a:rPr>
              <a:t>medijska i informacijska pismenos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ffff"/>
                </a:solidFill>
                <a:latin typeface="Century Gothic"/>
              </a:rPr>
              <a:t>istraživačko učenj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ffff"/>
                </a:solidFill>
                <a:latin typeface="Century Gothic"/>
              </a:rPr>
              <a:t>vrednovanje knjižnica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ffff"/>
                </a:solidFill>
                <a:latin typeface="Century Gothic"/>
              </a:rPr>
              <a:t>javno zagovaranje, promidžba i marketing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66320" cy="154764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ffff"/>
                </a:solidFill>
                <a:latin typeface="Century Gothic"/>
              </a:rPr>
              <a:t>osiguravanje pristupa učinkovitim programima i uslugama školske knjižnic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ffff"/>
                </a:solidFill>
                <a:latin typeface="Century Gothic"/>
              </a:rPr>
              <a:t>odgovarajuće stručno osoblj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ffff"/>
                </a:solidFill>
                <a:latin typeface="Century Gothic"/>
              </a:rPr>
              <a:t>primjena zakonskih propisa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ffff"/>
                </a:solidFill>
                <a:latin typeface="Century Gothic"/>
              </a:rPr>
              <a:t>financiranje školskih knjižnica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ffff"/>
                </a:solidFill>
                <a:latin typeface="Century Gothic"/>
              </a:rPr>
              <a:t>odgovaranje na obrazovno i kulturno okruženje u stalnom razvoju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66320" cy="154764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ffff"/>
                </a:solidFill>
                <a:latin typeface="Century Gothic"/>
              </a:rPr>
              <a:t>Digitalni izvori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entury Gothic"/>
              </a:rPr>
              <a:t>osposobljavanje učenika za društvo informacija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entury Gothic"/>
              </a:rPr>
              <a:t>odgovarajuća oprema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entury Gothic"/>
              </a:rPr>
              <a:t>stvaranje informacijskih proizvoda – video blogovi, 3D projekti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entury Gothic"/>
              </a:rPr>
              <a:t>uključivanje knjižnice u šire mreže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entury Gothic"/>
              </a:rPr>
              <a:t>prilagodba knjižničnog kataloga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entury Gothic"/>
              </a:rPr>
              <a:t>dijeljenje resursa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Title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66320" cy="154764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ffff"/>
                </a:solidFill>
                <a:latin typeface="Century Gothic"/>
              </a:rPr>
              <a:t>Istraživačko učenj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entury Gothic"/>
              </a:rPr>
              <a:t>modeli istraživačkog učenja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entury Gothic"/>
              </a:rPr>
              <a:t>razvoj odgovarajućih učeničkih vještina (planiranje, pronalaženje i prikupljanje, odabiranje i organizacija, predstavljanje i dijeljenje, vrednovanje, samostalno učenje, suradnja)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entury Gothic"/>
              </a:rPr>
              <a:t>procesni pristup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2T09:12:55Z</dcterms:created>
  <dc:creator>Dina</dc:creator>
  <dc:description/>
  <dc:language>en-US</dc:language>
  <cp:lastModifiedBy>dmasina</cp:lastModifiedBy>
  <dcterms:modified xsi:type="dcterms:W3CDTF">2017-04-04T06:40:10Z</dcterms:modified>
  <cp:revision>21</cp:revision>
  <dc:subject/>
  <dc:title>IFLA-ine SMJERNICE ZA ŠKOLSKE KNJIŽNICE, 2. izd.</dc:title>
</cp:coreProperties>
</file>