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907588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6E3-7E26-4BB8-A5F3-5D8E03A1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8423280" cy="1143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81080"/>
            <a:ext cx="8423280" cy="1962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130640"/>
            <a:ext cx="8423280" cy="1962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6DB0-BEFE-403B-BB2C-44154DFF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8423280" cy="1143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81080"/>
            <a:ext cx="4110480" cy="1962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640" y="1981080"/>
            <a:ext cx="4110480" cy="1962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130640"/>
            <a:ext cx="4110480" cy="1962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640" y="4130640"/>
            <a:ext cx="4110480" cy="1962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064-F899-467C-9117-7F9AD0DD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8423280" cy="1143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81080"/>
            <a:ext cx="2711880" cy="1962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200" y="1981080"/>
            <a:ext cx="2711880" cy="1962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880" cy="1962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130640"/>
            <a:ext cx="2711880" cy="1962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200" y="4130640"/>
            <a:ext cx="2711880" cy="1962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880" cy="1962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1A0-BF25-4DEE-8E92-20795581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8423280" cy="1143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81080"/>
            <a:ext cx="842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F07-92EF-4A12-A5CC-2A643A66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8423280" cy="1143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81080"/>
            <a:ext cx="8423280" cy="411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FAB-8FDA-49AF-8A0E-84083DEA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8423280" cy="1143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81080"/>
            <a:ext cx="4110480" cy="411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640" y="1981080"/>
            <a:ext cx="4110480" cy="411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66B-C063-4401-9F13-32F22E32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8423280" cy="1143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006-9712-4805-87D4-8F6B1587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09120"/>
            <a:ext cx="842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807-7304-4597-9C8C-25D491C5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8423280" cy="1143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81080"/>
            <a:ext cx="4110480" cy="1962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640" y="1981080"/>
            <a:ext cx="4110480" cy="411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130640"/>
            <a:ext cx="4110480" cy="1962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323-851A-4548-8765-37F0B565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8423280" cy="1143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81080"/>
            <a:ext cx="4110480" cy="411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640" y="1981080"/>
            <a:ext cx="4110480" cy="1962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640" y="4130640"/>
            <a:ext cx="4110480" cy="1962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CA79-33E4-42D3-B5BD-B1AF2FB5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8423280" cy="1143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81080"/>
            <a:ext cx="4110480" cy="1962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640" y="1981080"/>
            <a:ext cx="4110480" cy="1962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130640"/>
            <a:ext cx="8423280" cy="1962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235-39C0-46A4-AA71-81D79F8C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09120"/>
            <a:ext cx="8423280" cy="1143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81080"/>
            <a:ext cx="8423280" cy="411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6000"/>
          </a:bodyPr>
          <a:p>
            <a:pPr marL="341280" indent="-341280">
              <a:spcBef>
                <a:spcPts val="825"/>
              </a:spcBef>
              <a:buClr>
                <a:srgbClr val="000000"/>
              </a:buClr>
              <a:buFont typeface="Trebuchet MS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lvl="1" marL="739080" indent="-283320">
              <a:spcBef>
                <a:spcPts val="825"/>
              </a:spcBef>
              <a:buClr>
                <a:srgbClr val="000000"/>
              </a:buClr>
              <a:buFont typeface="Trebuchet MS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lvl="2" marL="1136880" indent="-228600">
              <a:spcBef>
                <a:spcPts val="825"/>
              </a:spcBef>
              <a:buClr>
                <a:srgbClr val="000000"/>
              </a:buClr>
              <a:buFont typeface="Trebuchet MS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lvl="3" marL="1592280" indent="-228240">
              <a:spcBef>
                <a:spcPts val="825"/>
              </a:spcBef>
              <a:buClr>
                <a:srgbClr val="000000"/>
              </a:buClr>
              <a:buFont typeface="Trebuchet MS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lvl="4" marL="2045160" indent="-225360">
              <a:spcBef>
                <a:spcPts val="825"/>
              </a:spcBef>
              <a:buClr>
                <a:srgbClr val="000000"/>
              </a:buClr>
              <a:buFont typeface="Trebuchet MS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lvl="5" marL="2045160" indent="-225360">
              <a:spcBef>
                <a:spcPts val="825"/>
              </a:spcBef>
              <a:buClr>
                <a:srgbClr val="000000"/>
              </a:buClr>
              <a:buFont typeface="Trebuchet MS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lvl="6" marL="2045160" indent="-225360">
              <a:spcBef>
                <a:spcPts val="825"/>
              </a:spcBef>
              <a:buClr>
                <a:srgbClr val="000000"/>
              </a:buClr>
              <a:buFont typeface="Trebuchet MS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0880" y="6248160"/>
            <a:ext cx="2063880" cy="455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5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96B5-6D1C-4EF2-B18B-A6424828C008}" type="datetime"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28.07.26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5800" y="6248160"/>
            <a:ext cx="3133800" cy="455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5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1000" y="6248160"/>
            <a:ext cx="2063520" cy="455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1A2E-645D-4142-9733-6B8A4B227E58}" type="slidenum">
              <a:rPr b="0" lang="en-US" sz="15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de.wikipedia.org/w/index.php?title=Datei:Iceberg.jpg&amp;filetimestamp=20060711223912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images.google.hr/imgres?imgurl=http://www.spectrum.hr/arhiva/www.marsa-voce.hr/Slike/Jabuka_Granny-Smith.jpg&amp;imgrefurl=http://www.spectrum.hr/arhiva/www.marsa-voce.hr/Uzgojni%2520asortiman%2520Jabuka.htm&amp;usg=__wg2K__mFTR9PcaA06BwJ0_2TWyU=&amp;h=256&amp;w=250&amp;sz=5&amp;hl=hr&amp;start=8&amp;um=1&amp;itbs=1&amp;tbnid=1u85oaxLqVPrVM:&amp;tbnh=111&amp;tbnw=108&amp;prev=/images%3Fq%3Djabuka%2Bzelena,%2Bslike%26hl%3Dhr%26rlz%3D1W1ADBF_en%26um%3D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hr/imgres?imgurl=http://www.pyrus-mm.hr/images/upoznajmo_prirodu_slike/velike/jabuka.jpg&amp;imgrefurl=http://www.pyrus-mm.hr/podlinkovi_priroda/jabuka.htm&amp;usg=__-Xb4ya9tjkl1UseWj4Udk7uTCX4=&amp;h=327&amp;w=306&amp;sz=19&amp;hl=hr&amp;start=1&amp;um=1&amp;itbs=1&amp;tbnid=e0A4LyR9gfzn7M:&amp;tbnh=118&amp;tbnw=110&amp;prev=/images%3Fq%3Djabuka,%2Bslike%26hl%3Dhr%26rlz%3D1W1ADBF_en%26sa%3DX%26um%3D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36160" y="1599840"/>
            <a:ext cx="7512120" cy="2438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4400"/>
            </a:b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roljetna </a:t>
            </a: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kola </a:t>
            </a:r>
            <a:br>
              <a:rPr sz="4400"/>
            </a:b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kolskih knji</a:t>
            </a: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ni</a:t>
            </a: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ra</a:t>
            </a:r>
            <a:br>
              <a:rPr sz="4400"/>
            </a:b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odice</a:t>
            </a:r>
            <a:br>
              <a:rPr sz="4400"/>
            </a:b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15.</a:t>
            </a: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 travnja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2013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7240" y="2133720"/>
            <a:ext cx="9848880" cy="4248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5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Naš mozak je fokusiran na percipiranje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okolin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, s ciljem da što lakše vidimo razlike!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15800" y="1989000"/>
            <a:ext cx="9290160" cy="411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S time postižemo kvalitetniju optičku percepciju, što znači 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da naša stvarnost ovisi o našoj percepcij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i ne mora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odn. ne može objektivno biti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realna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819000" y="2421000"/>
            <a:ext cx="8420400" cy="4075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Nije bitno kakva je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tvarnost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oko nas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nego kako ju </a:t>
            </a:r>
            <a:r>
              <a:rPr b="1" lang="de-DE" sz="3600" spc="-1" strike="noStrike">
                <a:solidFill>
                  <a:srgbClr val="ffff00"/>
                </a:solidFill>
                <a:latin typeface="Arial"/>
              </a:rPr>
              <a:t>mi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vidimo!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819000" y="2421000"/>
            <a:ext cx="8420400" cy="4075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Kakve to veze ima s komunikacijom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44520" y="2133720"/>
            <a:ext cx="9344160" cy="395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v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što vidimo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ujemo ili osjetim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prolazi kroz filtere naše percepcije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i izravno utj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e na n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e pon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nje i 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time na na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 na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in komuniciranja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Footer Placeholder 3"/>
          <p:cNvSpPr/>
          <p:nvPr/>
        </p:nvSpPr>
        <p:spPr>
          <a:xfrm>
            <a:off x="3386160" y="6330960"/>
            <a:ext cx="3133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2160" y="1700280"/>
            <a:ext cx="9164520" cy="3960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de-DE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ffff00"/>
                </a:solidFill>
                <a:latin typeface="Arial"/>
              </a:rPr>
              <a:t>"Tek kada </a:t>
            </a:r>
            <a:r>
              <a:rPr b="1" lang="hr-HR" sz="36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lang="de-DE" sz="3600" spc="-1" strike="noStrike">
                <a:solidFill>
                  <a:srgbClr val="ffff00"/>
                </a:solidFill>
                <a:latin typeface="Arial"/>
              </a:rPr>
              <a:t>ujem odgovor, znam </a:t>
            </a:r>
            <a:r>
              <a:rPr b="1" lang="hr-HR" sz="36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1" lang="de-DE" sz="3600" spc="-1" strike="noStrike">
                <a:solidFill>
                  <a:srgbClr val="ffff00"/>
                </a:solidFill>
                <a:latin typeface="Arial"/>
              </a:rPr>
              <a:t>to sam rekao."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Paul Watzlawic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Footer Placeholder 3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4B55F28-4998-471B-8F36-D5D78FD4E5C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rebuchet MS"/>
              </a:rPr>
              <a:t>                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647800" y="5486400"/>
            <a:ext cx="34560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ktivno s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n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57240" y="901800"/>
            <a:ext cx="91105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Otok komunikaci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Oval 6"/>
          <p:cNvSpPr/>
          <p:nvPr/>
        </p:nvSpPr>
        <p:spPr>
          <a:xfrm>
            <a:off x="2577960" y="2781360"/>
            <a:ext cx="3743640" cy="159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016520" y="1720800"/>
            <a:ext cx="65088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Wingdings"/>
                <a:ea typeface="Wingdings"/>
              </a:rPr>
              <a:t></a:t>
            </a:r>
            <a:endParaRPr b="0" lang="en-US" sz="4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089240" y="4581360"/>
            <a:ext cx="72072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Wingdings"/>
                <a:ea typeface="Wingdings"/>
              </a:rPr>
              <a:t></a:t>
            </a:r>
            <a:endParaRPr b="0" lang="en-US" sz="4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720880" y="3068640"/>
            <a:ext cx="33847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Slu</a:t>
            </a:r>
            <a:r>
              <a:rPr b="1" lang="hr-HR" sz="3200" spc="-1" strike="noStrike">
                <a:solidFill>
                  <a:srgbClr val="0033cc"/>
                </a:solidFill>
                <a:latin typeface="Arial"/>
              </a:rPr>
              <a:t>š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am</a:t>
            </a:r>
            <a:r>
              <a:rPr b="1" lang="hr-HR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 ali ne </a:t>
            </a:r>
            <a:r>
              <a:rPr b="1" lang="hr-HR" sz="3200" spc="-1" strike="noStrike">
                <a:solidFill>
                  <a:srgbClr val="0033cc"/>
                </a:solidFill>
                <a:latin typeface="Arial"/>
              </a:rPr>
              <a:t>č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uj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712880" y="3213000"/>
            <a:ext cx="760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Wingdings"/>
                <a:ea typeface="Wingdings"/>
              </a:rPr>
              <a:t></a:t>
            </a:r>
            <a:endParaRPr b="0" lang="en-US" sz="4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6394320" y="3083040"/>
            <a:ext cx="914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endParaRPr b="0" lang="en-US" sz="4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7113600" y="2781360"/>
            <a:ext cx="2714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Filteri percipiranja i komuniciran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85680" y="3068640"/>
            <a:ext cx="2057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"4 uha"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Copyright Communitycation Akademie - 2008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84224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0FE4-828D-4064-B581-4A395E14F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71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m, ali ne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uj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5" name="Picture 1028" descr="C:\Dokumente und Einstellungen\Administrator\Dubravka\Eigene Bilder\Neuer Ordner\Kommunikation.gif"/>
          <p:cNvPicPr/>
          <p:nvPr/>
        </p:nvPicPr>
        <p:blipFill>
          <a:blip r:embed="rId1"/>
          <a:stretch/>
        </p:blipFill>
        <p:spPr>
          <a:xfrm>
            <a:off x="0" y="1123920"/>
            <a:ext cx="9906120" cy="5877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4876920" y="3352680"/>
            <a:ext cx="152280" cy="152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84224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396E-CF64-471D-8AEE-B5F2EB057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421840" cy="1143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Komunikacija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375920"/>
            <a:ext cx="8915400" cy="5124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lat.comunicare – zajedn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ka radnja, saop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nje, razumijevan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Razlikuje se verbalna i neverbalna komunikacija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Na svim razinama m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đ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uljudskih odnosa dolazi do njihovog prekida kada se prestane m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đ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usobno komunicirat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784224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E042-5A08-40F4-A33C-3825226CC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421840" cy="1143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Komunikacija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375920"/>
            <a:ext cx="8915400" cy="5124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Sukobi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 s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kao 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rezultat nekvalitetne komunikacije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 pretvaraju u svađ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Komunikacija koja se zasniva na kritici, primjeni m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napadu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razara samopouzdanje, stvara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ukobe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i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vrije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đ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a ljudsku osobnost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e samopouzdanje 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velikim dijelom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ovisi o komunikaciji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36160" y="1599840"/>
            <a:ext cx="7512120" cy="2438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4400"/>
            </a:b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Komunikacijske vje</a:t>
            </a: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tine</a:t>
            </a:r>
            <a:br>
              <a:rPr sz="4400"/>
            </a:br>
            <a:br>
              <a:rPr sz="4400"/>
            </a:br>
            <a:r>
              <a:rPr b="0" lang="de-DE" sz="4400" spc="-1" strike="noStrike" u="sng">
                <a:solidFill>
                  <a:srgbClr val="ffff00"/>
                </a:solidFill>
                <a:uFillTx/>
                <a:latin typeface="Arial"/>
              </a:rPr>
              <a:t>"Slu</a:t>
            </a:r>
            <a:r>
              <a:rPr b="0" lang="hr-HR" sz="4400" spc="-1" strike="noStrike" u="sng">
                <a:solidFill>
                  <a:srgbClr val="ffff00"/>
                </a:solidFill>
                <a:uFillTx/>
                <a:latin typeface="Arial"/>
              </a:rPr>
              <a:t>š</a:t>
            </a:r>
            <a:r>
              <a:rPr b="0" lang="de-DE" sz="4400" spc="-1" strike="noStrike" u="sng">
                <a:solidFill>
                  <a:srgbClr val="ffff00"/>
                </a:solidFill>
                <a:uFillTx/>
                <a:latin typeface="Arial"/>
              </a:rPr>
              <a:t>am, ali ne </a:t>
            </a:r>
            <a:r>
              <a:rPr b="0" lang="hr-HR" sz="4400" spc="-1" strike="noStrike" u="sng">
                <a:solidFill>
                  <a:srgbClr val="ffff00"/>
                </a:solidFill>
                <a:uFillTx/>
                <a:latin typeface="Arial"/>
              </a:rPr>
              <a:t>č</a:t>
            </a:r>
            <a:r>
              <a:rPr b="0" lang="de-DE" sz="4400" spc="-1" strike="noStrike" u="sng">
                <a:solidFill>
                  <a:srgbClr val="ffff00"/>
                </a:solidFill>
                <a:uFillTx/>
                <a:latin typeface="Arial"/>
              </a:rPr>
              <a:t>ujem"</a:t>
            </a:r>
            <a:br>
              <a:rPr sz="4400"/>
            </a:br>
            <a:br>
              <a:rPr sz="4400"/>
            </a:b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redava</a:t>
            </a: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: </a:t>
            </a:r>
            <a:br>
              <a:rPr sz="4400"/>
            </a:br>
            <a:r>
              <a:rPr b="0" lang="hr-HR" sz="44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eljko Kostelnik,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dipl.oec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0CC01A3-48C5-4979-9728-47649A007CA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2717640"/>
            <a:ext cx="99061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Str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njaci za komunikaciju polaze od tog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da se 10% komunicira rij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ima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30% tonalitetom, 60% tijelom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429F9C8-72DB-4629-A54F-BE3B7B2695E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4960" y="1447920"/>
            <a:ext cx="868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Paul Watzlawick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 je rekao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0" y="3505320"/>
            <a:ext cx="9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Ne mo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e se ne komunicirat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13600" y="765000"/>
            <a:ext cx="16048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7101000" y="6330960"/>
            <a:ext cx="2063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F9BEB90-CA9F-4CE5-9683-DE9C4260FA86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804960" y="2162160"/>
            <a:ext cx="868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Ne da samo ne m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emo ne komunicirati,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ovjek stvara sam sebi svjesno ili podsvjesno svoju realnost i utjece izravno na svoj n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in komuniciranja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7101000" y="6330960"/>
            <a:ext cx="2063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DE2585E-21D9-41CF-BED5-F583C8B4EF9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804960" y="2162160"/>
            <a:ext cx="868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Ukoliko svoju realnost ne stvorimo 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svjesno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- stvorit ćemo ju 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nesvjesno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- sa svim posljedicama za komunikaciju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4FC3E7F-F358-460B-84AD-DD503F962FD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7240" y="44280"/>
            <a:ext cx="98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sretan otok komunikaci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2289240" y="3933720"/>
            <a:ext cx="4608360" cy="16560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3800520" y="2924280"/>
            <a:ext cx="1008000" cy="20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3943440" y="2492280"/>
            <a:ext cx="720720" cy="57636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6A7E096-7240-4389-9495-880C8830011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7240" y="44280"/>
            <a:ext cx="98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sretan otok komunikaci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2289240" y="3933720"/>
            <a:ext cx="4608360" cy="16560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800520" y="2924280"/>
            <a:ext cx="1008000" cy="20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3943440" y="2492280"/>
            <a:ext cx="720720" cy="57636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01600" y="1474920"/>
            <a:ext cx="345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Filteri percipir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Iskustv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Predrasud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Osobna biografi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bijeg ili borb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uvjeren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5313240" y="1457280"/>
            <a:ext cx="432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ekivan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tandardna pon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n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Zadovoljstvo/ Raz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ren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Doppelpfeil 1595"/>
          <p:cNvSpPr/>
          <p:nvPr/>
        </p:nvSpPr>
        <p:spPr>
          <a:xfrm>
            <a:off x="1712880" y="981000"/>
            <a:ext cx="5111640" cy="0"/>
          </a:xfrm>
          <a:prstGeom prst="line">
            <a:avLst/>
          </a:prstGeom>
          <a:ln w="12708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05E2A3A-4653-42DA-B1B5-60AF8AF11930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7240" y="44280"/>
            <a:ext cx="984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sretan otok komunikaci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ituacija I: otoci se preklapaju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488880" y="3860640"/>
            <a:ext cx="4608720" cy="16574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1784520" y="2781360"/>
            <a:ext cx="1008000" cy="20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1928880" y="2349360"/>
            <a:ext cx="720720" cy="57636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3368520" y="3502080"/>
            <a:ext cx="4248360" cy="1873080"/>
          </a:xfrm>
          <a:prstGeom prst="flowChartConnector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5600880" y="2276640"/>
            <a:ext cx="1006200" cy="2016000"/>
          </a:xfrm>
          <a:prstGeom prst="flowChartExtra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5745240" y="1844640"/>
            <a:ext cx="720720" cy="576360"/>
          </a:xfrm>
          <a:prstGeom prst="smileyFace">
            <a:avLst>
              <a:gd name="adj" fmla="val 465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FDAEA46-9B2C-484D-871E-9342887A5FE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7240" y="44280"/>
            <a:ext cx="984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sretan otok komunikaci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ituacija II: otoci se 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ne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preklapaju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128520" y="3860640"/>
            <a:ext cx="4608720" cy="16574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1424160" y="2708280"/>
            <a:ext cx="1008000" cy="20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1568520" y="2276640"/>
            <a:ext cx="720720" cy="57600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5313240" y="3068640"/>
            <a:ext cx="4248360" cy="1873080"/>
          </a:xfrm>
          <a:prstGeom prst="flowChartConnector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7257960" y="1917720"/>
            <a:ext cx="1006560" cy="2016000"/>
          </a:xfrm>
          <a:prstGeom prst="flowChartExtra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400880" y="1484280"/>
            <a:ext cx="720720" cy="576360"/>
          </a:xfrm>
          <a:prstGeom prst="smileyFace">
            <a:avLst>
              <a:gd name="adj" fmla="val 465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Doppelpfeil 1551"/>
          <p:cNvSpPr/>
          <p:nvPr/>
        </p:nvSpPr>
        <p:spPr>
          <a:xfrm>
            <a:off x="3657600" y="2421000"/>
            <a:ext cx="2664000" cy="3600360"/>
          </a:xfrm>
          <a:prstGeom prst="line">
            <a:avLst/>
          </a:prstGeom>
          <a:ln w="127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488880" y="5753160"/>
            <a:ext cx="57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borba, bijeg, napad, sukob..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Doppelpfeil 758"/>
          <p:cNvSpPr/>
          <p:nvPr/>
        </p:nvSpPr>
        <p:spPr>
          <a:xfrm>
            <a:off x="2936880" y="3141720"/>
            <a:ext cx="4537080" cy="2448000"/>
          </a:xfrm>
          <a:prstGeom prst="line">
            <a:avLst/>
          </a:prstGeom>
          <a:ln w="101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C2B6319-2C2F-4317-B4A8-04476CCF737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7240" y="44280"/>
            <a:ext cx="984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sretan otok komunikaci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ituacija III: kako izgraditi most izmedju dva otok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128520" y="3860640"/>
            <a:ext cx="4608720" cy="16574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424160" y="2708280"/>
            <a:ext cx="1008000" cy="201600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1568520" y="2276640"/>
            <a:ext cx="720720" cy="57600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5313240" y="3068640"/>
            <a:ext cx="4248360" cy="1873080"/>
          </a:xfrm>
          <a:prstGeom prst="flowChartConnector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7257960" y="1917720"/>
            <a:ext cx="1006560" cy="201600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7400880" y="1484280"/>
            <a:ext cx="720720" cy="576360"/>
          </a:xfrm>
          <a:prstGeom prst="smileyFace">
            <a:avLst>
              <a:gd name="adj" fmla="val 465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AutoShape 12"/>
          <p:cNvSpPr/>
          <p:nvPr/>
        </p:nvSpPr>
        <p:spPr>
          <a:xfrm>
            <a:off x="3008160" y="3718080"/>
            <a:ext cx="3456000" cy="1079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965160" y="5718240"/>
            <a:ext cx="84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prihvatiti stav druge osobe ili njegovog otok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9518D12-7A27-4A54-8B80-AEA06ED90D3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804960" y="2162160"/>
            <a:ext cx="868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Kakav stav Vi imate prema drugim osobama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 pogotovo prema sebi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1EBD50D-6AAE-4D0F-BEA9-0A11D7C93F1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rebuchet MS"/>
              </a:rPr>
              <a:t>                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720880" y="5229360"/>
            <a:ext cx="40323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ktivno s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n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305080" y="1117440"/>
            <a:ext cx="45194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Otok komunikaci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2792520" y="2708280"/>
            <a:ext cx="3389040" cy="1593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4230720" y="1773360"/>
            <a:ext cx="64908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Wingdings"/>
                <a:ea typeface="Wingdings"/>
              </a:rPr>
              <a:t></a:t>
            </a:r>
            <a:endParaRPr b="0" lang="en-US" sz="4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4230720" y="4438800"/>
            <a:ext cx="722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Wingdings"/>
                <a:ea typeface="Wingdings"/>
              </a:rPr>
              <a:t></a:t>
            </a:r>
            <a:endParaRPr b="0" lang="en-US" sz="4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936880" y="2997360"/>
            <a:ext cx="312588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Slu</a:t>
            </a:r>
            <a:r>
              <a:rPr b="1" lang="hr-HR" sz="3200" spc="-1" strike="noStrike">
                <a:solidFill>
                  <a:srgbClr val="0033cc"/>
                </a:solidFill>
                <a:latin typeface="Arial"/>
              </a:rPr>
              <a:t>š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am</a:t>
            </a:r>
            <a:r>
              <a:rPr b="1" lang="hr-HR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 ali ne </a:t>
            </a:r>
            <a:r>
              <a:rPr b="1" lang="hr-HR" sz="3200" spc="-1" strike="noStrike">
                <a:solidFill>
                  <a:srgbClr val="0033cc"/>
                </a:solidFill>
                <a:latin typeface="Arial"/>
              </a:rPr>
              <a:t>č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uj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1857240" y="3139920"/>
            <a:ext cx="760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Wingdings"/>
                <a:ea typeface="Wingdings"/>
              </a:rPr>
              <a:t></a:t>
            </a:r>
            <a:endParaRPr b="0" lang="en-US" sz="4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6249960" y="3068640"/>
            <a:ext cx="914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endParaRPr b="0" lang="en-US" sz="4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7042320" y="2637000"/>
            <a:ext cx="286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Filteri percipiranja i komuniciran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200160" y="2852640"/>
            <a:ext cx="220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"4 uha"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176A7B8-2EDC-4317-873F-465EB3196D3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52600" y="536400"/>
            <a:ext cx="864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AutoShape 17"/>
          <p:cNvSpPr/>
          <p:nvPr/>
        </p:nvSpPr>
        <p:spPr>
          <a:xfrm>
            <a:off x="2124000" y="907920"/>
            <a:ext cx="5800680" cy="1295640"/>
          </a:xfrm>
          <a:prstGeom prst="wedgeRoundRectCallout">
            <a:avLst>
              <a:gd name="adj1" fmla="val 9111"/>
              <a:gd name="adj2" fmla="val 73652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108000"/>
                <a:tab algn="l" pos="42552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ši stavovi su poput neprikosnovenih zapovjedi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govore nam kako stvari stoje, što je moguće i što nije, što možemo učiniti, a što ne. </a:t>
            </a:r>
            <a:r>
              <a:rPr b="1" lang="en-US" sz="18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152280" y="3718080"/>
            <a:ext cx="2857680" cy="2301840"/>
          </a:xfrm>
          <a:prstGeom prst="wedgeRoundRectCallout">
            <a:avLst>
              <a:gd name="adj1" fmla="val 58986"/>
              <a:gd name="adj2" fmla="val 1083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108000"/>
                <a:tab algn="l" pos="42552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 moramo s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niti braniti niti napadati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želim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vo razumjeti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ek onda biti razumljeni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3138480" y="2637000"/>
            <a:ext cx="419112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8585a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ctr">
            <a:noAutofit/>
          </a:bodyPr>
          <a:p>
            <a:pPr marL="343080" indent="-343080"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254400" y="2770200"/>
            <a:ext cx="385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A SAM OK - TI NISI O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A NISAM OK - TI SI O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A NISAM OK - TI NISI O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868717D-BE0C-4E54-BA01-6F9D75983768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704880" y="2262240"/>
            <a:ext cx="8685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Konstruktivan stav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JA SAM OK -TI SI OK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AutoShape 16"/>
          <p:cNvSpPr/>
          <p:nvPr/>
        </p:nvSpPr>
        <p:spPr>
          <a:xfrm>
            <a:off x="7616880" y="4365720"/>
            <a:ext cx="2044800" cy="1360440"/>
          </a:xfrm>
          <a:prstGeom prst="wedgeRoundRectCallout">
            <a:avLst>
              <a:gd name="adj1" fmla="val -69814"/>
              <a:gd name="adj2" fmla="val -52333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108000"/>
                <a:tab algn="l" pos="42552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vjestan sta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izašao iz svjesne odluk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FAC412E-6B18-4D6C-84DA-7BFFB115B1B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04880" y="620640"/>
            <a:ext cx="8685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Konstruktivan stav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JA SAM OK -TI SI OK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"/>
          <p:cNvSpPr/>
          <p:nvPr/>
        </p:nvSpPr>
        <p:spPr>
          <a:xfrm>
            <a:off x="6826320" y="2852640"/>
            <a:ext cx="22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(re) - akci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"/>
          <p:cNvSpPr/>
          <p:nvPr/>
        </p:nvSpPr>
        <p:spPr>
          <a:xfrm>
            <a:off x="2433600" y="2421000"/>
            <a:ext cx="221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etiket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+/ -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"/>
          <p:cNvSpPr/>
          <p:nvPr/>
        </p:nvSpPr>
        <p:spPr>
          <a:xfrm>
            <a:off x="4594320" y="2421000"/>
            <a:ext cx="22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emoci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"/>
          <p:cNvSpPr/>
          <p:nvPr/>
        </p:nvSpPr>
        <p:spPr>
          <a:xfrm>
            <a:off x="344520" y="2830680"/>
            <a:ext cx="22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percepci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"/>
          <p:cNvSpPr/>
          <p:nvPr/>
        </p:nvSpPr>
        <p:spPr>
          <a:xfrm>
            <a:off x="3297240" y="3851280"/>
            <a:ext cx="295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0" spc="-1" strike="noStrike">
                <a:solidFill>
                  <a:srgbClr val="ffff00"/>
                </a:solidFill>
                <a:latin typeface="Webdings"/>
                <a:ea typeface="Webdings"/>
              </a:rPr>
              <a:t></a:t>
            </a:r>
            <a:endParaRPr b="0" lang="en-US" sz="1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"/>
          <p:cNvSpPr/>
          <p:nvPr/>
        </p:nvSpPr>
        <p:spPr>
          <a:xfrm>
            <a:off x="1641600" y="3718080"/>
            <a:ext cx="5832360" cy="358560"/>
          </a:xfrm>
          <a:custGeom>
            <a:avLst/>
            <a:gdLst>
              <a:gd name="textAreaLeft" fmla="*/ 729000 w 5832360"/>
              <a:gd name="textAreaRight" fmla="*/ 5103360 w 583236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"/>
          <p:cNvSpPr/>
          <p:nvPr/>
        </p:nvSpPr>
        <p:spPr>
          <a:xfrm>
            <a:off x="2575080" y="2276640"/>
            <a:ext cx="1728720" cy="100944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865600" y="2276640"/>
            <a:ext cx="1295280" cy="100944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C34C892-BEE7-493E-8E2A-E8180AC3797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804960" y="2217600"/>
            <a:ext cx="868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to utj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e na n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stav prema drugim osobama i time prema n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oj komunikaciji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455203F-51A1-4804-BC79-E5BD510DEDA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rebuchet MS"/>
              </a:rPr>
              <a:t>                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720880" y="5229360"/>
            <a:ext cx="40323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ktivno s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n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305080" y="1117440"/>
            <a:ext cx="45194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Otok komunikaci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2792520" y="2708280"/>
            <a:ext cx="3389040" cy="1593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4230720" y="1773360"/>
            <a:ext cx="64908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Wingdings"/>
                <a:ea typeface="Wingdings"/>
              </a:rPr>
              <a:t></a:t>
            </a:r>
            <a:endParaRPr b="0" lang="en-US" sz="4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4230720" y="4438800"/>
            <a:ext cx="722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Wingdings"/>
                <a:ea typeface="Wingdings"/>
              </a:rPr>
              <a:t></a:t>
            </a:r>
            <a:endParaRPr b="0" lang="en-US" sz="4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2936880" y="2997360"/>
            <a:ext cx="312588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Slu</a:t>
            </a:r>
            <a:r>
              <a:rPr b="1" lang="hr-HR" sz="3200" spc="-1" strike="noStrike">
                <a:solidFill>
                  <a:srgbClr val="0033cc"/>
                </a:solidFill>
                <a:latin typeface="Arial"/>
              </a:rPr>
              <a:t>š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am</a:t>
            </a:r>
            <a:r>
              <a:rPr b="1" lang="hr-HR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 ali ne </a:t>
            </a:r>
            <a:r>
              <a:rPr b="1" lang="hr-HR" sz="3200" spc="-1" strike="noStrike">
                <a:solidFill>
                  <a:srgbClr val="0033cc"/>
                </a:solidFill>
                <a:latin typeface="Arial"/>
              </a:rPr>
              <a:t>č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uj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1857240" y="3139920"/>
            <a:ext cx="760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Wingdings"/>
                <a:ea typeface="Wingdings"/>
              </a:rPr>
              <a:t></a:t>
            </a:r>
            <a:endParaRPr b="0" lang="en-US" sz="4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6249960" y="3068640"/>
            <a:ext cx="914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endParaRPr b="0" lang="en-US" sz="4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6897600" y="2637000"/>
            <a:ext cx="301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Filteri percipiranja i komuniciran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200160" y="2852640"/>
            <a:ext cx="220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"4 uha"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70C06EA-2826-4292-AF2D-16C6C99963E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668600" y="1486080"/>
            <a:ext cx="76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Filteri percepiranja i komuniciranja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ED8E644-07F2-4569-B53D-EA5EBE2A304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30320" y="189000"/>
            <a:ext cx="97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Filteri percipiranja i komuniciran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2363760" y="2306520"/>
            <a:ext cx="467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- Biol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ki filter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- Kulturol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ki filter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- Psihol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ki filter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C86F37F-B431-4615-A492-D0C754D19AEE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28520" y="189000"/>
            <a:ext cx="95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Psihol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ki filteri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3760" y="2306520"/>
            <a:ext cx="467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- osobni inter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- str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- nesvjesni program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BFC4B16-6B2C-4728-9A8F-C38BABCB394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909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Santa led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Zeljko Kostelnik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00160" y="981000"/>
            <a:ext cx="95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Model „sante leda“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(S. Freud/ R. Cohen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6" descr="H:\eisberg.jpg"/>
          <p:cNvPicPr/>
          <p:nvPr/>
        </p:nvPicPr>
        <p:blipFill>
          <a:blip r:embed="rId1"/>
          <a:stretch/>
        </p:blipFill>
        <p:spPr>
          <a:xfrm>
            <a:off x="533520" y="1676520"/>
            <a:ext cx="6019560" cy="41655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678168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9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ante leda nalaze se ispod povr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ine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6705720" y="19051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Samo 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sante leda nalaze se na povr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in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Line 12"/>
          <p:cNvSpPr/>
          <p:nvPr/>
        </p:nvSpPr>
        <p:spPr>
          <a:xfrm>
            <a:off x="0" y="3429000"/>
            <a:ext cx="99061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13" descr="http://upload.wikimedia.org/wikipedia/commons/thumb/a/ac/Iceberg.jpg/180px-Iceberg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701720"/>
            <a:ext cx="6597720" cy="50720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1"/>
          <p:cNvSpPr/>
          <p:nvPr/>
        </p:nvSpPr>
        <p:spPr>
          <a:xfrm>
            <a:off x="596880" y="203184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svjesn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488880" y="501336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nesvjesn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E2960CA-1A24-4A9A-9165-4560ED17655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30320" y="189000"/>
            <a:ext cx="96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Psiholoski filteri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2363760" y="2306520"/>
            <a:ext cx="467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- osobni inter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- str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- nesvjesni program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72520" y="2781000"/>
            <a:ext cx="9325080" cy="189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Tko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od vas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misli da dobro raspoznaje boj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095480" y="107172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Eksperimen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61FEEEF-02A9-48F8-B365-502727B6CBD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30320" y="189000"/>
            <a:ext cx="97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Psihol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ki filteri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2720880" y="2852640"/>
            <a:ext cx="46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Osobni inter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3430102-E619-4A1C-BF6A-26A68722973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30320" y="189000"/>
            <a:ext cx="97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Psihol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ki filteri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2143080" y="279396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tres - primjer obitelji Mar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114A4B4-80F5-4A94-BA32-8347352DC098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28520" y="189000"/>
            <a:ext cx="97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Psihol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ki filteri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2792520" y="2705040"/>
            <a:ext cx="46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nesvjesni program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101000" y="6330960"/>
            <a:ext cx="2063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FC484EE-7840-4641-B821-2D2E573C585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28520" y="189000"/>
            <a:ext cx="97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Psihol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ki filteri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001960" y="1549440"/>
            <a:ext cx="784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Nesvjesni program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- negativni programi i pozitivni program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- obj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njeni ili na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eni putem opon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n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...sa značajnim posljedicam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E17D2D2-EF42-4845-A5ED-224033F4D3A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57240" y="1946160"/>
            <a:ext cx="97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"Iluzija autonomije"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327CB8E-976C-47B0-91AE-C7D3F2304B1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201600" y="1946160"/>
            <a:ext cx="950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Samuel Johnson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"Najve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i apsurdi na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ega pona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anja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nastaju kada opona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amo ljude zato 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to zelimo biti kao oni"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DF78020-FAD6-4B71-826F-E8156235D5B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30320" y="189000"/>
            <a:ext cx="97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Kako pobolj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ti komunikaciju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641600" y="2306520"/>
            <a:ext cx="81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- Aktivno slu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an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- Prvo shvatiti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 onda tek biti shva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"model 4 uha"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F2DB840-C7C2-4CD7-9C06-AC0E1AE46B2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rebuchet MS"/>
              </a:rPr>
              <a:t>                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2720880" y="5229360"/>
            <a:ext cx="40323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Aktivno slu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an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305080" y="1117440"/>
            <a:ext cx="45194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Otok komunikaci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2792520" y="2708280"/>
            <a:ext cx="3389040" cy="1593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4230720" y="1773360"/>
            <a:ext cx="64908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Wingdings"/>
                <a:ea typeface="Wingdings"/>
              </a:rPr>
              <a:t></a:t>
            </a:r>
            <a:endParaRPr b="0" lang="en-US" sz="4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4230720" y="4438800"/>
            <a:ext cx="722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Wingdings"/>
                <a:ea typeface="Wingdings"/>
              </a:rPr>
              <a:t></a:t>
            </a:r>
            <a:endParaRPr b="0" lang="en-US" sz="4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2936880" y="2997360"/>
            <a:ext cx="312588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Slu</a:t>
            </a:r>
            <a:r>
              <a:rPr b="1" lang="hr-HR" sz="3200" spc="-1" strike="noStrike">
                <a:solidFill>
                  <a:srgbClr val="0033cc"/>
                </a:solidFill>
                <a:latin typeface="Arial"/>
              </a:rPr>
              <a:t>š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am</a:t>
            </a:r>
            <a:r>
              <a:rPr b="1" lang="hr-HR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 ali ne </a:t>
            </a:r>
            <a:r>
              <a:rPr b="1" lang="hr-HR" sz="3200" spc="-1" strike="noStrike">
                <a:solidFill>
                  <a:srgbClr val="0033cc"/>
                </a:solidFill>
                <a:latin typeface="Arial"/>
              </a:rPr>
              <a:t>č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uj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1857240" y="3139920"/>
            <a:ext cx="760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Wingdings"/>
                <a:ea typeface="Wingdings"/>
              </a:rPr>
              <a:t></a:t>
            </a:r>
            <a:endParaRPr b="0" lang="en-US" sz="4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6249960" y="3068640"/>
            <a:ext cx="914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endParaRPr b="0" lang="en-US" sz="4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7042320" y="2637000"/>
            <a:ext cx="286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Filteri percipiranja i komuniciran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200160" y="2852640"/>
            <a:ext cx="220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"4 uha"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784224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48CD-50D9-446C-AE6D-EA8F98BE2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117360"/>
            <a:ext cx="9906120" cy="93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Sposobnost aktivnog s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nja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- preduvjet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01240" y="980640"/>
            <a:ext cx="9504360" cy="547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9000"/>
          </a:bodyPr>
          <a:p>
            <a:pPr marL="352080" indent="-3520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S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nje s nepodijeljenom p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njom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(telefon,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ostala ometanj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52080" indent="-3520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Suosj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jno s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nje – hvatanje osj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ja, poimanje smisla, sveobuhvatno sudjelovanje - empati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52080" indent="-3520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Osoba koja s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 mora biti autent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52080" indent="-35208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Unutarnji otklon od vlastitih pogleda i namjer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0966A0A-B4E7-428D-8999-B6C8840A045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274680" y="189000"/>
            <a:ext cx="9577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ktivno s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nje (C. Rogers)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Parafraziranje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-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ponavljamo bitno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vojim rij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ima ili doslovn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- Poj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njavanje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jašnjavamo kada je izrečeno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nejasno ili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preopćenit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- Sondiran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postavljamo pitanja, zaintersirani smo i proaktivn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(verbalno i neverbalno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heckershadow_illusion4med"/>
          <p:cNvPicPr/>
          <p:nvPr/>
        </p:nvPicPr>
        <p:blipFill>
          <a:blip r:embed="rId1"/>
          <a:stretch/>
        </p:blipFill>
        <p:spPr>
          <a:xfrm>
            <a:off x="0" y="0"/>
            <a:ext cx="9493200" cy="6807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55BC46C-3D70-4770-9159-8AA5465B3BD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274680" y="189000"/>
            <a:ext cx="957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ktivno s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nje (C. Rogers)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Verbaliziranje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otkrivanje neizr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enih m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ljenja i emoci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- Reflektiranje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ponavljanje r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enog i feed-back na r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en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Sažima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n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Sažimamo glavne ideje i zaključk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AC2DA82-729B-467E-9CF9-2E3192DAA2DE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274680" y="189000"/>
            <a:ext cx="9577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Komuniciranje puta 4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- Komunikacija je v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edimenzinalni proc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- Do tog saznanja d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o je v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davnih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dana poznati filozof 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Bertram Russel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- Njegova saznanja su usavr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ili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komunikolozi 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Gregory Bates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Paul Watzlawick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689960" y="2316240"/>
            <a:ext cx="1647720" cy="19047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7689960" y="4292640"/>
            <a:ext cx="1647720" cy="2149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E83A047-3838-4F1F-9828-8C575EDA4C1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2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m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ali ne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uj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534960" y="1447920"/>
            <a:ext cx="868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Vratimo se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Paulu Watzlawicku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33240" y="2708280"/>
            <a:ext cx="9144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Svaka komunikacija ima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sadr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ajnu razinu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i emocionalnu odn.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razinu, koja opisuje odnose izme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đ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u ljudi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Odnos izmedju komunikatora od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uje o kvaliteti komunikacijskog procesa - 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osobni stav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761240" y="189000"/>
            <a:ext cx="1604880" cy="237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734CF0B-CD26-468D-945F-04ECF620AA9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97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m, ali ne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uj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534960" y="1447920"/>
            <a:ext cx="868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azina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predmet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i 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odnos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na primjeru jabuk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5" name="Picture 2" descr="http://t1.gstatic.com/images?q=tbn:1u85oaxLqVPrVM:http://www.spectrum.hr/arhiva/www.marsa-voce.hr/Slike/Jabuka_Granny-Smit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9960" y="2357280"/>
            <a:ext cx="2814840" cy="28926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http://t0.gstatic.com/images?q=tbn:e0A4LyR9gfzn7M:http://www.pyrus-mm.hr/images/upoznajmo_prirodu_slike/velike/jabuk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38440" y="3071880"/>
            <a:ext cx="2000160" cy="2146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15373DF-2482-477C-9255-FE24A6422C9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2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m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ali ne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uj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685800" y="1628640"/>
            <a:ext cx="85345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Ukoliko poruke na razini odnosa nisu jasne ili su dvosmislene, cijeli komunikacijski proces postaje upita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"Psiholo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ka magla"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to bolje poznajem n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eg sugovornik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to je stabilniji odnos i time i komunikacija jasni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610B55E-D1BA-4B0F-BE85-8683ADC769E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909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m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ali ne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uj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857240" y="3645000"/>
            <a:ext cx="5185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5" name="Picture 1028" descr="C:\Dokumente und Einstellungen\Administrator\Dubravka\Eigene Bilder\Neuer Ordner\Kommunikation.gif"/>
          <p:cNvPicPr/>
          <p:nvPr/>
        </p:nvPicPr>
        <p:blipFill>
          <a:blip r:embed="rId1"/>
          <a:stretch/>
        </p:blipFill>
        <p:spPr>
          <a:xfrm>
            <a:off x="0" y="765000"/>
            <a:ext cx="9906120" cy="6093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7"/>
          <p:cNvSpPr/>
          <p:nvPr/>
        </p:nvSpPr>
        <p:spPr>
          <a:xfrm>
            <a:off x="2550960" y="4724280"/>
            <a:ext cx="49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adržaj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2473200" y="544212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dno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Doppelpfeil 707"/>
          <p:cNvSpPr/>
          <p:nvPr/>
        </p:nvSpPr>
        <p:spPr>
          <a:xfrm>
            <a:off x="2360520" y="5372280"/>
            <a:ext cx="5184720" cy="1440"/>
          </a:xfrm>
          <a:prstGeom prst="line">
            <a:avLst/>
          </a:prstGeom>
          <a:ln w="127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39" name="AutoShape 10"/>
          <p:cNvCxnSpPr/>
          <p:nvPr/>
        </p:nvCxnSpPr>
        <p:spPr>
          <a:xfrm rot="5400000">
            <a:off x="4952160" y="6857640"/>
            <a:ext cx="3960" cy="3960"/>
          </a:xfrm>
          <a:prstGeom prst="curvedConnector5">
            <a:avLst>
              <a:gd name="adj1" fmla="val 7510000"/>
              <a:gd name="adj2" fmla="val 50000"/>
              <a:gd name="adj3" fmla="val 751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0" name="AutoShape 11"/>
          <p:cNvCxnSpPr/>
          <p:nvPr/>
        </p:nvCxnSpPr>
        <p:spPr>
          <a:xfrm>
            <a:off x="4952520" y="764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1" name="AutoShape 12"/>
          <p:cNvSpPr/>
          <p:nvPr/>
        </p:nvSpPr>
        <p:spPr>
          <a:xfrm>
            <a:off x="2577960" y="1127160"/>
            <a:ext cx="3886200" cy="4176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Text Box 13"/>
          <p:cNvSpPr/>
          <p:nvPr/>
        </p:nvSpPr>
        <p:spPr>
          <a:xfrm>
            <a:off x="3132000" y="2379600"/>
            <a:ext cx="261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sihološka magl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67CF36D-1D4B-43E0-9AC9-01682649AE6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m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ali ne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uj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685800" y="1052640"/>
            <a:ext cx="853452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"Psiholo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ka magla"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ometa razinu predmeta, p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to ju sugovornik v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e ne percipira u potpunosti nego razm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lja o poruci koju je percipirao na razini odnosa (OK-pozicije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Na taj n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in komunikacija 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izravno utje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e na na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e samopuzdanj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5B58AF6-A2CC-4711-A80C-7AEC9BDD908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440"/>
            <a:ext cx="9906120" cy="105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m, ali ne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uj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685800" y="133992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Budući da svaki komunikator proces komunikacije individualno interpretira i svoje pon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nje shv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 kao reakciju na izlaganja drugoga,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sto puta se ne m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 objektivno ocijeniti tko je zap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o sv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đ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u (bijeg, borba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762120" y="4149720"/>
            <a:ext cx="8304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Komunikacija se razlikuje ovisno o odnosu izm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đ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u komunikatora, ako se nalaze na istoj razini,  komunkacija je op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tenija ukoliko nisu komunikacija je napeti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784224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744D-2017-4228-8A14-70088F437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43040" y="188640"/>
            <a:ext cx="8423280" cy="731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  <a:ea typeface="BatangChe"/>
              </a:rPr>
              <a:t>S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  <a:ea typeface="BatangChe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  <a:ea typeface="BatangChe"/>
              </a:rPr>
              <a:t>am, ali ne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  <a:ea typeface="BatangChe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  <a:ea typeface="BatangChe"/>
              </a:rPr>
              <a:t>uj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44160" y="1857240"/>
            <a:ext cx="9164520" cy="411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to se mene t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, ja pl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m za sposobnost ispravnog ophodjenja s ljudima v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 nego za bilo koju drugu na ovome svijetu.“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John D. Rockefell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-3556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Postupati s ljudima u skladu s njihovim osobnim sklopom jeste klj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u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uspjeha. Kako u privatnom tako i  u poslovnom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ivot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– vidi “otok sretne komunikacije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rebuchet MS"/>
              </a:rPr>
              <a:t>                         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A49AE9C-F341-4942-BCF6-DC16C3F0804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2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lusam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ali ne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uj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57240" y="2421000"/>
            <a:ext cx="98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Prvo shvatit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 onda biti shva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30320" y="2854080"/>
            <a:ext cx="9648720" cy="187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Da li su boje kvadrata 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“A”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 “B”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jednake</a:t>
            </a:r>
            <a:r>
              <a:rPr b="0" lang="pt-BR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683A43D-E4ED-4D8F-90E9-FA03DB8F16D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rebuchet MS"/>
              </a:rPr>
              <a:t>                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2720880" y="5229360"/>
            <a:ext cx="40323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ktivno s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n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2305080" y="1117440"/>
            <a:ext cx="45194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Otok komunikaci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2792520" y="2708280"/>
            <a:ext cx="3389040" cy="1593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4230720" y="1773360"/>
            <a:ext cx="64908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Wingdings"/>
                <a:ea typeface="Wingdings"/>
              </a:rPr>
              <a:t></a:t>
            </a:r>
            <a:endParaRPr b="0" lang="en-US" sz="4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4230720" y="4438800"/>
            <a:ext cx="722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Wingdings"/>
                <a:ea typeface="Wingdings"/>
              </a:rPr>
              <a:t></a:t>
            </a:r>
            <a:endParaRPr b="0" lang="en-US" sz="4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2936880" y="2997360"/>
            <a:ext cx="312588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Slu</a:t>
            </a:r>
            <a:r>
              <a:rPr b="1" lang="hr-HR" sz="3200" spc="-1" strike="noStrike">
                <a:solidFill>
                  <a:srgbClr val="0033cc"/>
                </a:solidFill>
                <a:latin typeface="Arial"/>
              </a:rPr>
              <a:t>š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am</a:t>
            </a:r>
            <a:r>
              <a:rPr b="1" lang="hr-HR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 ali ne </a:t>
            </a:r>
            <a:r>
              <a:rPr b="1" lang="hr-HR" sz="3200" spc="-1" strike="noStrike">
                <a:solidFill>
                  <a:srgbClr val="0033cc"/>
                </a:solidFill>
                <a:latin typeface="Arial"/>
              </a:rPr>
              <a:t>č</a:t>
            </a:r>
            <a:r>
              <a:rPr b="1" lang="de-DE" sz="3200" spc="-1" strike="noStrike">
                <a:solidFill>
                  <a:srgbClr val="0033cc"/>
                </a:solidFill>
                <a:latin typeface="Arial"/>
              </a:rPr>
              <a:t>uj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1857240" y="3139920"/>
            <a:ext cx="760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Wingdings"/>
                <a:ea typeface="Wingdings"/>
              </a:rPr>
              <a:t></a:t>
            </a:r>
            <a:endParaRPr b="0" lang="en-US" sz="4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6249960" y="3068640"/>
            <a:ext cx="914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endParaRPr b="0" lang="en-US" sz="4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6897600" y="2637000"/>
            <a:ext cx="301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Filteri percipiranja i komuniciran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Text Box 22"/>
          <p:cNvSpPr/>
          <p:nvPr/>
        </p:nvSpPr>
        <p:spPr>
          <a:xfrm>
            <a:off x="200160" y="2852640"/>
            <a:ext cx="220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"4 uha"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9B55E7C-E7B9-4961-8E46-9EB11CDA549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lušam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ali ne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uj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rebuchet MS"/>
              </a:rPr>
              <a:t>                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Text Box 1033"/>
          <p:cNvSpPr/>
          <p:nvPr/>
        </p:nvSpPr>
        <p:spPr>
          <a:xfrm>
            <a:off x="3352680" y="3200400"/>
            <a:ext cx="2895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„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 uha“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D4F4BD5-4213-45EA-944C-6211EED3AD0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rebuchet MS"/>
              </a:rPr>
              <a:t>                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915840" y="333360"/>
            <a:ext cx="78552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Model 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4 uha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” ili kvadrat komunikaci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Arial"/>
              </a:rPr>
              <a:t>Friedeman Schulz von Thu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990720" y="20574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vaka informacija ima 4 razine ili aspekt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914400" y="3083040"/>
            <a:ext cx="900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Svaka reakcija ovisi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„uhu“ s kojim je primatelj informacije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u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izjavu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914400" y="4538520"/>
            <a:ext cx="886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Interpretacija informacije je individualna kao i „uho“ s kojim se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ula informacija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kao i očekivanja od strane pošaljitel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0C7E016-FE45-4AA4-8D86-5CD53D0EC75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rebuchet MS"/>
              </a:rPr>
              <a:t>                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915840" y="333360"/>
            <a:ext cx="78552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Model 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4 uha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” ili kvadrat komunikaci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Arial"/>
              </a:rPr>
              <a:t>Friedeman Schulz von Thu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57240" y="2565360"/>
            <a:ext cx="9850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S primjenjivanjem modela 4 uha vrlo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konstruktivno m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mo utjecati na komunikaciju i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uspj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no sprij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iti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ukob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C929244-9E67-4B84-A4A7-A647C52EBB6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05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Model "4 uha"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rebuchet MS"/>
              </a:rPr>
              <a:t>                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905120" y="1484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dr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j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/ predme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1905120" y="2421000"/>
            <a:ext cx="79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mootkrivanj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“ u pozitivno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smislu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1905120" y="357336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dnos izm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đ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u komunikator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1905120" y="479736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pel na 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kivanu reakciju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B2A13E4-7039-4E4D-8D39-62373EADDC8C}" type="slidenum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981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Model "4 uha"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rebuchet MS"/>
              </a:rPr>
              <a:t>                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990720" y="2209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Zv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i komplicirano...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4648320" y="3200400"/>
            <a:ext cx="28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...a uop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 nije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914400" y="4495680"/>
            <a:ext cx="44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..zato jedan primj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3743CE5-5BB6-4600-8F2C-F43691127E3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Model "4 uha" -primj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rebuchet MS"/>
              </a:rPr>
              <a:t>                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990720" y="14842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f sretne novog zaposlenika na ulazu u zgradu, mlad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kasni i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uri u svoj ured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914400" y="2997360"/>
            <a:ext cx="81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f mu se obr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 sa sljed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im rij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ima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990720" y="400536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 sati je i 7 minuta“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914400" y="4941720"/>
            <a:ext cx="845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Pogledajmo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mog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e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interpretacije ove izjave ovisno o tome koje „uho“ je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ulo informaciju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A15BB18-2627-4FCC-AF4D-84B81489A53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12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Model "4 uha"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rebuchet MS"/>
              </a:rPr>
              <a:t>                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1905120" y="2209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Razina sadr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ja/ predmet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609480" y="3581280"/>
            <a:ext cx="8991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Na razini sadr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ja ili predmeta razmjenjuju se isklj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ivo neutalne i objektivne izjave, to zn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i informacija obuhv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 izjavu da 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8 sati i 7 minut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2024795-CE14-4E16-813F-80228E47695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97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Model "4 uha"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rebuchet MS"/>
              </a:rPr>
              <a:t>                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1752480" y="20574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azina „samootkrivanja“ u pozitivn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rpretiranom smislu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685800" y="365760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f ovom izjavom izjavljuje:“... ja sam tvoj pretpostavljeni, ja sam bio u stanju d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i t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no na posao – ja sam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odgovoran, karakteran i pouzdan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(pozitivno samootkrivanje*)“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150840" y="5943600"/>
            <a:ext cx="9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*U izjavi „pozitivnog samootkrivanja“ krije se kompenzacija osje</a:t>
            </a:r>
            <a:r>
              <a:rPr b="0" lang="hr-HR" sz="18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aja manje vrijednost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38E6D4C-7E9A-4D0A-80E8-F56ED927545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Model "4 uha"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rebuchet MS"/>
              </a:rPr>
              <a:t>                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1830240" y="213372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Razina odnosa izm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đ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u komunikator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534960" y="3284640"/>
            <a:ext cx="8685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f bi mogao misliti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to se odnosa izm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đ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u njega i mladog zaposlenika t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: „... tek si p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o raditi kod nas i v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kasn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, kao tvoj pretpostavljeni m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ljenja sam da nisi dobar zaposlenik i da n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š dugo raditi kod nas!“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JA SAM OK - TI NISI OK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heckershadow_illusion4med"/>
          <p:cNvPicPr/>
          <p:nvPr/>
        </p:nvPicPr>
        <p:blipFill>
          <a:blip r:embed="rId1"/>
          <a:stretch/>
        </p:blipFill>
        <p:spPr>
          <a:xfrm>
            <a:off x="0" y="0"/>
            <a:ext cx="9493200" cy="6807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2E3128B-8CD1-417B-A981-1A00AFA43BB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Model "4 uha"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rebuchet MS"/>
              </a:rPr>
              <a:t>                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455760" y="3581280"/>
            <a:ext cx="929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to se apela na 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kivanu promjenu t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,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f bi mogao misliti:“...daj saberi se i ubud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ć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dođi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na vrijeme na posao!!“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1905120" y="220968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Razina apela na 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kivanu reakciju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3DD1C82-B6C5-47D3-BD7E-D18332863F3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Model "4 uha"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rebuchet MS"/>
              </a:rPr>
              <a:t>                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914400" y="2565360"/>
            <a:ext cx="8151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Koji put smo gluhi na nekom uhu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vjseno ili nesvjesn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EBAE133-F568-42AB-9326-3BCD8AC2624E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4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Model "4 uha"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rebuchet MS"/>
              </a:rPr>
              <a:t>                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3811680" y="2133720"/>
            <a:ext cx="19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Vje</a:t>
            </a: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b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914400" y="3352680"/>
            <a:ext cx="81518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M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ž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i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na voze se autom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(žena vozi)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i m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k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ni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</a:rPr>
              <a:t>semafor je crven!“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Slide Number Placeholder 5"/>
          <p:cNvSpPr/>
          <p:nvPr/>
        </p:nvSpPr>
        <p:spPr>
          <a:xfrm>
            <a:off x="7101000" y="6248520"/>
            <a:ext cx="2063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97201C9-3768-4022-8FB8-3DB4B410ABD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05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Model "4 uha"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rebuchet MS"/>
              </a:rPr>
              <a:t>                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905120" y="1484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dr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ž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j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/ predme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905120" y="2421000"/>
            <a:ext cx="78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amootkrivanj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“ u pozitivno smislu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1905120" y="357336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dnosa izm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đ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u komunikator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Text Box 9"/>
          <p:cNvSpPr/>
          <p:nvPr/>
        </p:nvSpPr>
        <p:spPr>
          <a:xfrm>
            <a:off x="1905120" y="479736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pel na 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ekivanu reakciju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784224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3975-D30A-4C8C-8BA9-CA9173A5A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344160" y="1428840"/>
            <a:ext cx="9164520" cy="3486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Ne postoje „te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ki“, nego samo razl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iti ljud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(K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onrad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 Adenauer)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0" y="6477120"/>
            <a:ext cx="25606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Trebuchet MS"/>
              </a:rPr>
              <a:t>                    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Slide Number Placeholder 6"/>
          <p:cNvSpPr/>
          <p:nvPr/>
        </p:nvSpPr>
        <p:spPr>
          <a:xfrm>
            <a:off x="784224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9A50-9E55-4FC1-991D-39C7E553A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345960" y="2728440"/>
            <a:ext cx="9312480" cy="1995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Komunikacija je poput balansiranja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1403280" y="380880"/>
            <a:ext cx="767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Nekoliko prijedloga za kraj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Slide Number Placeholder 6"/>
          <p:cNvSpPr/>
          <p:nvPr/>
        </p:nvSpPr>
        <p:spPr>
          <a:xfrm>
            <a:off x="784224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3B8A-EAC4-47CD-93DA-36B978781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345960" y="1215720"/>
            <a:ext cx="9312480" cy="487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Komunikacija je poput balansiranja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Arial"/>
              </a:rPr>
              <a:t>Samo vježba dovodi do uspjeha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403280" y="380880"/>
            <a:ext cx="767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Nekoliko prijedloga za kraj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Slide Number Placeholder 6"/>
          <p:cNvSpPr/>
          <p:nvPr/>
        </p:nvSpPr>
        <p:spPr>
          <a:xfrm>
            <a:off x="784224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3708-0037-443F-B448-98AD2F19A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345960" y="1215720"/>
            <a:ext cx="9312480" cy="487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Budite autenti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n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Prihvatite otok komunikacije Va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eg sugovornika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Prepoznajte svoje osobne filtere percipiranj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Odajte po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tovanj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jte s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4 uh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ktivno slu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j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403280" y="380880"/>
            <a:ext cx="767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Nekoliko prijedloga za kraj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5"/>
          <p:cNvSpPr/>
          <p:nvPr/>
        </p:nvSpPr>
        <p:spPr>
          <a:xfrm>
            <a:off x="3386160" y="6248520"/>
            <a:ext cx="3133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784224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A757-9F61-4314-81F2-691D45355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1981080" y="2489040"/>
            <a:ext cx="5715000" cy="581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Hvala na pozornost</a:t>
            </a:r>
            <a:r>
              <a:rPr b="0" lang="hr-HR" sz="3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heckershadow_illusion4med"/>
          <p:cNvPicPr/>
          <p:nvPr/>
        </p:nvPicPr>
        <p:blipFill>
          <a:blip r:embed="rId1"/>
          <a:stretch/>
        </p:blipFill>
        <p:spPr>
          <a:xfrm>
            <a:off x="0" y="0"/>
            <a:ext cx="9493200" cy="68151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 rot="757200">
            <a:off x="2528640" y="2736360"/>
            <a:ext cx="5155920" cy="804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Rectangle 4"/>
          <p:cNvSpPr/>
          <p:nvPr/>
        </p:nvSpPr>
        <p:spPr>
          <a:xfrm rot="757200">
            <a:off x="1263240" y="4041720"/>
            <a:ext cx="5958000" cy="1812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Rectangle 5"/>
          <p:cNvSpPr/>
          <p:nvPr/>
        </p:nvSpPr>
        <p:spPr>
          <a:xfrm rot="7871400">
            <a:off x="5359680" y="3445560"/>
            <a:ext cx="1411200" cy="1469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Rectangle 6"/>
          <p:cNvSpPr/>
          <p:nvPr/>
        </p:nvSpPr>
        <p:spPr>
          <a:xfrm rot="7871400">
            <a:off x="2733120" y="2371320"/>
            <a:ext cx="1253880" cy="185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Rectangle 7"/>
          <p:cNvSpPr/>
          <p:nvPr/>
        </p:nvSpPr>
        <p:spPr>
          <a:xfrm rot="757200">
            <a:off x="2641320" y="1279440"/>
            <a:ext cx="5157720" cy="804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Rectangle 8"/>
          <p:cNvSpPr/>
          <p:nvPr/>
        </p:nvSpPr>
        <p:spPr>
          <a:xfrm rot="7871400">
            <a:off x="5446080" y="1989000"/>
            <a:ext cx="1411200" cy="146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Rectangle 9"/>
          <p:cNvSpPr/>
          <p:nvPr/>
        </p:nvSpPr>
        <p:spPr>
          <a:xfrm rot="7871400">
            <a:off x="2860560" y="914400"/>
            <a:ext cx="1254240" cy="185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7240" y="2133720"/>
            <a:ext cx="9848880" cy="4248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5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Da li ste promijenili mi</a:t>
            </a:r>
            <a:r>
              <a:rPr b="0" lang="hr-HR" sz="36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ljenje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6:55:04Z</dcterms:created>
  <dc:creator>Zeljko</dc:creator>
  <dc:description/>
  <dc:language>en-US</dc:language>
  <cp:lastModifiedBy>DF</cp:lastModifiedBy>
  <dcterms:modified xsi:type="dcterms:W3CDTF">2013-04-20T08:12:06Z</dcterms:modified>
  <cp:revision>207</cp:revision>
  <dc:subject/>
  <dc:title>Motivacij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1-8.1.0.3333</vt:lpwstr>
  </property>
</Properties>
</file>