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10.png" ContentType="image/png"/>
  <Override PartName="/ppt/media/image9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C29-8AE7-485B-9E94-7CA6B92D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F9C-02EA-4DB0-A6C9-67C27F29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A8B34-68CC-4817-89C2-5D4FDEF7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DA4B-B437-4ABE-B367-A0CB2334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39B7C-5F45-462B-94CE-980F53DB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0BFC5-3D72-4D83-8B2C-3187C554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2A4A7-61BF-4E18-A1CF-2E7BDC4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9261-5BFE-4C2F-B3BB-F72D6F9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B542F-05D2-4BF8-B067-4E09C652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7B6AE-63CC-4B18-A7AB-BBD6D59D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C62F6-97E8-496B-9F11-6E61CE3A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6C22-AC68-4A01-BF91-DE88006F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31C-403C-4306-906B-151D3E8E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6EEB3-06B4-4DD1-9F79-A2B75FFC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116F5-C93E-4057-92EF-E3075FD2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6DDD4-3EAE-4529-8D19-DB5CC894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BF1F-1C25-4951-B505-7EA92B08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FF25F-4134-4B58-BE82-1E821461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AB51F-25DF-488F-A5A8-8D1B3E1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F2AB2-9D37-4A9E-9BC0-CD5B7DA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47ACB-C4AB-4A3A-997D-9D42EF4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23291-634E-400C-848E-7F79468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C5B59-911B-4361-862C-AC4B2848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708-61A3-45BD-96F3-2E2F10C2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AFE25-AEF1-43BC-AAE1-95EEA824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8F325-01EC-49BA-9425-B2801857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1FEEC-F915-4BD4-BEAB-B6066A91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3D33B-787E-4989-86F2-12741331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1DE46-71A5-4006-875D-315EC5B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436AF-797F-487C-A27F-C49DDE9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A4636-DB2A-4CC6-99BA-6EC69B96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0B21F-25DC-43F6-8552-2C459A1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F8C3C-86DE-414C-B118-A331CAE8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3C38E-6831-44A2-9EE7-D85904F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5892-2503-4B1E-8B7D-CE7B4F5B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D0CC2-0005-42F5-8E0C-024F312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0B934-8E36-4D77-AD41-9D816467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224B-E713-4A41-8A55-C48AE82B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9C79D-1C31-4CA9-B084-09997A81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5B611-E309-418D-A892-A49C8849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0F2F4-B75B-419E-992F-B91A1C32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A2853-FC51-40C1-9EFB-C96335A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29910-5198-4F62-B6F2-68158BE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92FEF-7A07-4434-AB3E-4F4D272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2B280-1483-4E74-B512-A08803D6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4D19-A2C0-4F4A-B318-236C718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3C652-412E-46D4-B96A-98DD7D7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05E0C-0900-4850-9607-1C1E7D2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AD69E-3686-4C30-B113-7F9CC35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86B37-6B3B-40E1-9980-BB657C5B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A2E3D-2FAE-4B3F-B772-E578F759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5009-F465-41D8-A280-282EA9E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7DDE3-01C8-42E9-840D-AD7A17AF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3FEA9-A81A-41A2-AABE-B63380A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3ABE8-F935-48F3-B063-41DA4C58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F66A-6BA1-4BA5-8EB0-186142C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1AC73-26B4-404D-8E41-89FEC344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6AD4E-6039-4AB6-92B9-D2E958D5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F4F82-8819-43FF-BA17-4E5ADEA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33C1F-3673-4F1B-A782-C652A04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349EE-8211-4974-8F52-79C4F541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36FCD-0940-453B-8AAB-B352121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090A5-7F7A-4119-80BA-2B643677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C2D90-0B75-438C-800D-511C6EFF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D01C2-E4EB-478C-B5D9-ABBD962B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BE99B-CD39-4D48-98F1-08C9B19F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B843-D9DD-40AC-B2D0-B4AA26A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969B91-C2F3-47AA-90A6-545005B6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23885-6895-4D26-AEAC-38396CFF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E00250-381C-48AD-B37E-0B3E8408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91E54-3744-4ADF-98FC-92F678BC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8655A-CC3A-4E35-B0DC-F2EAD68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B8F00-CD18-44AB-A731-F3C05D06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7D81D-6FF3-4E66-83BC-FD45020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09DCE-CBCB-468E-A816-84DD8B2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CBFE9-3AF4-4E43-9B02-7D0DA6CF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CF8BC-1B6B-4AD5-9AE0-22D14FFF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63A-FA59-4848-9DC2-C16BC56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E82F2-5213-40A7-AE59-3D3461B2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0A4DC9-1352-47FC-8499-1832A80C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29CF6-48D6-4AE9-8E5C-7FDC260C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84882-906E-4C99-BE51-9F1B924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7A799B-DAE7-4869-BFC3-26A37B7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67C18-643A-45E1-98A5-CFB2E8B8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773E3-5BA7-46F1-AD69-1E5472B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F1A6C-2907-4AA5-8496-CF577D3B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906E3-D3F1-40D1-926F-8259F10F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92A08-AC04-4C51-BA4D-B6AD116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F477-D2D7-49F7-A811-DF51C60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641BB-1E77-47DB-9686-F9A4A81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00D1D-C2A4-4497-A5C7-C0359276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61FBF7-9371-419D-8A05-C544142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778D6-3441-47A1-B91B-CCC37A17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6806CF-1211-452A-844A-A3A1CAB3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36A3B-CBA9-4C45-AE04-B090E8D0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60D230-9FB2-44DB-B5E6-1AF2F40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EBCA7-D0A7-4A1C-A7B1-CB55C8E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8E512-F5E3-474F-AC7E-4BC792C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9683A-0A2D-4C96-B7CE-91B7801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6DA-EB50-41BF-AAE5-012626E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F13-6E0B-41FF-9084-FD3F820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2E981E-1CE0-4CD1-8CAC-C3349578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C70B9-24FE-4BC9-A55F-BDFCE43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7D5CE-7967-46DD-B75C-11FAFE1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52CB6-FFF1-44E0-AA5B-DFB36DA5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F5340-CEA3-42CF-863E-B852A60D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8A5E-5C84-4908-A3F0-8467765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875FE-72B3-437F-A940-D69C6B6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0119B8-8E0F-4439-AE80-9832C90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8C723-7264-4551-9FAC-672CBE2F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540-D499-4C20-BE49-FCA46CA0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6A51B-58CB-4B8D-B560-B0E87F44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8F865-021F-44F5-8471-F68D8BAB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F3BA7-D379-4EE4-A9FD-FEC07D2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840D7-0336-462B-881D-3E43588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E8FD9-853E-4E22-AF81-5CD325E4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0BFCFC-752A-4B84-80A3-100BDE90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0D9B9-8D61-42D9-82B0-F59271E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2FCE5-723E-480B-B357-1121BF88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6A9C0-E212-402B-9197-A3F4332B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A6B59-E55D-48F8-9E8B-2B759CB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C5F1-14BA-4850-AA86-F743D97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05089-D66F-480D-9A20-1743C48C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6176D-54C6-4C15-A6F6-107F4D92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FDCD2-0943-4FCB-BFF7-7F2A6DBB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D9246-CFB4-4615-B45F-59901566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1BF65-6F21-4D48-91B5-699C716B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669C0-B672-4EB8-B32F-C2385DA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AB42F-B33C-4D5B-922F-247C40FB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89B24-0DD6-4BEA-8312-92A2399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8C922-C496-4444-8AA0-EDD8F77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13153-EE62-4726-A98B-6053F547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BDD3-1169-4169-A7BA-A294A41C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610FA-A519-4A5F-8856-17CAAE94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9EDEE6-0C5D-413C-B3EC-872D61EE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46E92-EE49-465F-A050-94049DA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A3F959-F317-4D79-BCDA-9F79A260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88FDF-F518-4E06-9DA1-AE4C9A16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50746-0FCE-469F-84C5-751AB9F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7BB23-856A-4600-BDE8-4468078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77681C-83F4-4033-9CB9-D4442DEF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1CBFE-E768-4880-A295-5909F1C1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5B6DF2-1DF6-4EB1-8811-4E7FD98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1B17-4886-44A0-A094-806D2277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81072A-C06F-473D-B4BC-1ED9C10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70CEA-A9AE-48A2-BD8D-88679136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903D0-8FE8-44D8-B083-C1564167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DDF19-F29A-4062-A5F4-6249235D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A5726-E36F-42C0-A19E-F19C5F01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46243-E113-4967-B4BF-68E69F4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C98932-6231-4012-A087-9C812013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90BB7-4BA7-44DF-A90E-3DF5E0D8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5C9A32-E3FC-4597-914B-1B70C8D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F10027-FC48-4C93-B0B0-218104DC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F514-EBB0-433F-A745-C079FBC8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5E37A-37C0-482C-8743-7B9B465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2BFE8-9E88-463C-93FB-42D8BA8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E49F97-F789-47B0-AC2F-92D0560F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502EA-5DB6-49BE-A9DD-D34A9E06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3F7D7-715B-4129-A68D-6C3E4F93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A82A-0F14-499E-8209-2721814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F99AF-D664-49A6-A040-7F204C50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EC27F-D19E-4106-A859-A7937A01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45250-B287-4555-8712-9F82DA53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A389C-70CD-486C-9CD9-38531EBC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181839-F3F1-43FD-AC4A-A654EC9E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51194-D7C7-42DF-B4A4-2D8E1FC0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548B9-2576-4352-A40D-7D172451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02B27C-F126-4048-BBEE-2C949899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D75139-B85E-40F7-A102-9B94AE5A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7544C-5C3E-4D22-898D-E03CEB9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7FF26-A8C5-41B1-9676-A24377FD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292A6-FD70-40F4-8AF4-1967BDF8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309DF-288D-4B6A-90C2-E02AC137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37C1CD-A1FB-400A-848D-234D5ED7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5979-F099-42E7-A296-DF73D2AC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C174B-58C4-4AC1-9664-0BB2A9DD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391836-825E-443B-9FB6-F894A8D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56B222-6E38-4EBD-8586-02C70B6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824C8-3939-422D-A1C7-4C922393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DD40DF-3336-4EAF-B898-1D9B986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C2586-6B1B-413F-8A55-780D60F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605FB-CBF4-4A10-92E7-9E8E674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F6505-FE53-431C-885B-A40C7B6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0359E-24AA-4F42-A796-FD1DA068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3AEEF-AB3D-43E9-9EAE-397F101D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CC0-11E1-4318-BDD2-0F1D044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ACDB-5FA3-4736-80DF-7C8C880B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6AD3DB-17B6-4CB7-ABF9-BCCAD573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F6D5ED-8615-4E3A-829D-E65D74D7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88065-1186-4FEE-AEAB-80B1E2A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BAF53C-A06F-4814-89A0-DD1352C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64B1B6-AA96-4F89-AE71-4976994B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7102D8-0BC3-485D-A071-E13943CB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5A027B-AB4C-4555-BF9A-ECC28A90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09AC5D-9E2C-4BEF-9496-7D6E826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4EC1EC-85F3-4E15-A844-C31429EE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E794DF-1BD3-4A2F-816A-52FC5BB4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4B5E-259F-45D5-8049-0B40226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B01FC4-29B3-4ABE-A273-B4C102C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2A221-9F8C-458A-8418-E6B84FC1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AE1EB-78B1-431D-8F81-E38C4198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ADD3A-0C46-47BB-B1D8-71C69E7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7DF5-86AE-4EA4-839F-A2550F6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5E71-FA4B-4861-9A3C-D00260D1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6B96-5CDA-41B3-A2AB-5A2E4B93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0046-D8A3-4D9C-88A2-4C453960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195C-F35A-4836-8941-A3EF0A69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14B4-AE7B-4F7B-A522-9C465A5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3FDB-D805-40DC-A737-857067B7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A4F-FE78-496D-86BF-3E332219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95EF-57A9-4490-AB64-2B26BFBD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6D44-136F-45E9-8C8A-7CEBEEB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4BBF-10E9-4EAF-914B-ADDB294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1D42-A886-4635-8538-78A65D1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6FB3-35BA-4AA8-9BCF-2F26F29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A67C4-C2A4-45AB-A858-02FDD82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A8065-AB4B-40CC-A82D-31837A0E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46CAD-FA74-4CDE-92B5-7EBD2B17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6338-F9E1-4038-BB15-16D45B87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E331D-017C-47F6-B207-A58DEF52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96B-3F58-445B-BA48-5AF0906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E137-0EEF-4FC7-8A3D-1E093F04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8A987-6688-4AA2-A8CF-F618B851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F4FC-E532-475B-B32B-47BA224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5631-16F6-479F-8E5F-E3D8520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C95CE-E903-4116-B764-AA26FF67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E9A6-5150-4D5E-83C2-536F5C08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D4AF-209D-470D-B061-988D990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2D56-0564-4B18-BEFE-5DA41D72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E839-88A3-436F-BC26-94803DB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C2EC2-E470-4401-A887-962C24F8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936-5D71-4711-A192-FDAB4EB8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B969-6465-4242-9DFE-EC2F5DDB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6D84-D91E-470E-9756-C95145A6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1CB4-FAE1-45F1-B8DE-1791DA3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90D3-1655-4EB6-A413-407483FC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172F-CCA7-441A-85FB-C2AB53C5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2D0A7-8CCC-4093-80EE-D04F3FF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6D56-F5E6-4CCC-BE7D-4B20AD4D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0820-D5AC-4743-B9A7-9BAAF851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4716B-3499-4308-99E3-EC44C47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8DCA-C327-4CC0-8AAF-D6C65C0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CB4-476B-43A2-91F8-1BB9CEAD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4806-ACC6-4A8D-82C8-CAD7E13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00C3B-2E56-4B73-8C74-16DC3634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06E0E-F392-4904-937C-52281D34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3D379-D6DA-4EB5-98E2-497E3DE5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33814-29D0-409C-9F82-BC2E36BA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52629-2070-4C06-9024-F190F80F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44D6A-B506-4DA4-B49A-C44F0F52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F5491-A190-4C64-A8D1-B8DD4D92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25E46-2777-4BFE-B2A3-0585067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3E37F-255C-468B-8050-3CE352C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1F7-6182-4C43-878D-0E7D8466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20CCA-BAC5-4031-BCDE-DFA149B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BC33-9AC7-4EB1-9C01-DB41AE70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A8AE-1C67-4968-9101-E88C484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A65D-1671-42A3-96C2-060CCEB0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BB9E-870D-49C4-A25A-B8D12845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A664-E8F2-4933-ACA1-BE36CE81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D6FB4-05E6-4447-8D22-70085DA7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4EFF-89C3-403E-9442-3C869DF5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D629-7EBC-4F30-8C20-C3CFE4BE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CC828-3092-4176-B3A7-B91415B4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E9C3-BBE0-44BE-83D3-A3EA8FB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3E30C-66FE-4F8C-B89F-317C65BB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F32F3-CAF3-4D70-A5D9-27FE79D0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E13D-AB5C-4574-9A46-3D5AC1D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34A2F-DB24-4C9D-ABC5-DC7F64D7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93B7-8CB4-416A-B825-5659A27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34ADA-A423-4470-B927-92A363AF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7384-2B02-4D45-9C0A-1958A4E9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5155-3507-4A2E-95E3-F635D8B7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0EAC-ECAF-44B4-AF53-06AF1A6E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71575-A472-4B97-95E1-FC47D7C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bc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2278-0AE0-46ED-9FB9-EE56343E413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7C1A-4C30-41A7-B683-941C06C3268C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rostoručno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bc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rostoručno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Pravokutni trokut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51" name="Pravokutni trokut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Ravni poveznik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454" name="Ševron 11"/>
          <p:cNvGrpSpPr/>
          <p:nvPr/>
        </p:nvGrpSpPr>
        <p:grpSpPr>
          <a:xfrm>
            <a:off x="8583480" y="4937040"/>
            <a:ext cx="335160" cy="378000"/>
            <a:chOff x="8583480" y="4937040"/>
            <a:chExt cx="335160" cy="378000"/>
          </a:xfrm>
        </p:grpSpPr>
        <p:pic>
          <p:nvPicPr>
            <p:cNvPr id="455" name="Ševron 11" descr=""/>
            <p:cNvPicPr/>
            <p:nvPr/>
          </p:nvPicPr>
          <p:blipFill>
            <a:blip r:embed="rId5"/>
            <a:stretch/>
          </p:blipFill>
          <p:spPr>
            <a:xfrm>
              <a:off x="858348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Ševron 12"/>
          <p:cNvGrpSpPr/>
          <p:nvPr/>
        </p:nvGrpSpPr>
        <p:grpSpPr>
          <a:xfrm>
            <a:off x="8400960" y="4937040"/>
            <a:ext cx="335160" cy="378000"/>
            <a:chOff x="8400960" y="4937040"/>
            <a:chExt cx="335160" cy="378000"/>
          </a:xfrm>
        </p:grpSpPr>
        <p:pic>
          <p:nvPicPr>
            <p:cNvPr id="458" name="Ševron 12" descr=""/>
            <p:cNvPicPr/>
            <p:nvPr/>
          </p:nvPicPr>
          <p:blipFill>
            <a:blip r:embed="rId6"/>
            <a:stretch/>
          </p:blipFill>
          <p:spPr>
            <a:xfrm>
              <a:off x="8400960" y="4937040"/>
              <a:ext cx="335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06C3-EAFA-43D7-8F17-642E920F24C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6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istrazivanjahr-black.jpg"/>
          <p:cNvPicPr/>
          <p:nvPr/>
        </p:nvPicPr>
        <p:blipFill>
          <a:blip r:embed="rId2"/>
          <a:stretch/>
        </p:blipFill>
        <p:spPr>
          <a:xfrm>
            <a:off x="1692360" y="189000"/>
            <a:ext cx="5124240" cy="68580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F45D-D060-40A6-92E9-94F59C9AF3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D902-1F68-4BE5-8A6A-D4F4061F8A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7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634E-FC05-43D9-A621-26A4C9AD2C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E6FC-21FB-4D8D-BBAB-9891D5561A7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istrazivanjahr-black.jpg"/>
          <p:cNvPicPr/>
          <p:nvPr/>
        </p:nvPicPr>
        <p:blipFill>
          <a:blip r:embed="rId2"/>
          <a:stretch/>
        </p:blipFill>
        <p:spPr>
          <a:xfrm>
            <a:off x="1692360" y="189000"/>
            <a:ext cx="5124240" cy="6858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111-182A-44EC-BF80-FC9EE4FFBE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D532-90BD-4BFF-A8F7-B38FF8AC441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ED3-3540-4451-80D0-15C1700284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1D0C-92D2-483C-B230-F7D30A3A34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6BAB-0C15-45DA-949F-EF63ADCAA6F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6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istrazivanjahr-black.jpg"/>
          <p:cNvPicPr/>
          <p:nvPr/>
        </p:nvPicPr>
        <p:blipFill>
          <a:blip r:embed="rId2"/>
          <a:stretch/>
        </p:blipFill>
        <p:spPr>
          <a:xfrm>
            <a:off x="1692360" y="189000"/>
            <a:ext cx="5124240" cy="6858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CAC-5448-4EB2-9AE4-BEA58D7F77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9ED-CFD3-4348-9CA1-32E1C2A664C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7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8270-60AC-4E41-9484-B3679621D3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6"/>
          <p:cNvSpPr/>
          <p:nvPr/>
        </p:nvSpPr>
        <p:spPr>
          <a:xfrm>
            <a:off x="44280" y="0"/>
            <a:ext cx="3603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istrazivanjahr-black.jpg"/>
          <p:cNvPicPr/>
          <p:nvPr/>
        </p:nvPicPr>
        <p:blipFill>
          <a:blip r:embed="rId2"/>
          <a:stretch/>
        </p:blipFill>
        <p:spPr>
          <a:xfrm>
            <a:off x="44280" y="1989000"/>
            <a:ext cx="360360" cy="2689200"/>
          </a:xfrm>
          <a:prstGeom prst="rect">
            <a:avLst/>
          </a:prstGeom>
          <a:ln w="0">
            <a:noFill/>
          </a:ln>
        </p:spPr>
      </p:pic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2AB-1210-4DF9-BC44-9312314EE27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945-D577-45F7-A241-797CBD3C14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F650-2F1D-4975-B171-99E4A49DCA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avokutni trokut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1629b"/>
              </a:gs>
              <a:gs pos="50000">
                <a:srgbClr val="68aaec"/>
              </a:gs>
              <a:gs pos="100000">
                <a:srgbClr val="21629b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upa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72" name="Prostoručno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bc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Prostoručno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Prostoručno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75" name="Prostoručno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Ravni poveznik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B9B-15AF-420C-A8CD-5DD17E267F43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bc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22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grpSp>
        <p:nvGrpSpPr>
          <p:cNvPr id="225" name="Ševron 6"/>
          <p:cNvGrpSpPr/>
          <p:nvPr/>
        </p:nvGrpSpPr>
        <p:grpSpPr>
          <a:xfrm>
            <a:off x="3560760" y="2955960"/>
            <a:ext cx="334800" cy="377640"/>
            <a:chOff x="3560760" y="2955960"/>
            <a:chExt cx="334800" cy="377640"/>
          </a:xfrm>
        </p:grpSpPr>
        <p:pic>
          <p:nvPicPr>
            <p:cNvPr id="226" name="Ševron 6" descr=""/>
            <p:cNvPicPr/>
            <p:nvPr/>
          </p:nvPicPr>
          <p:blipFill>
            <a:blip r:embed="rId5"/>
            <a:stretch/>
          </p:blipFill>
          <p:spPr>
            <a:xfrm>
              <a:off x="3560760" y="295596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Ševron 7"/>
          <p:cNvGrpSpPr/>
          <p:nvPr/>
        </p:nvGrpSpPr>
        <p:grpSpPr>
          <a:xfrm>
            <a:off x="3371760" y="2955960"/>
            <a:ext cx="335160" cy="377640"/>
            <a:chOff x="3371760" y="2955960"/>
            <a:chExt cx="335160" cy="377640"/>
          </a:xfrm>
        </p:grpSpPr>
        <p:pic>
          <p:nvPicPr>
            <p:cNvPr id="229" name="Ševron 7" descr=""/>
            <p:cNvPicPr/>
            <p:nvPr/>
          </p:nvPicPr>
          <p:blipFill>
            <a:blip r:embed="rId6"/>
            <a:stretch/>
          </p:blipFill>
          <p:spPr>
            <a:xfrm>
              <a:off x="3371760" y="2955960"/>
              <a:ext cx="3351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E5E2-6951-42A1-A0BA-0DDCB9CD6B8D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bc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2DE-9CE0-4A34-B464-00903540326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A922-7358-4657-BE09-D8E4A48F8D62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rostoručno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bc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rostoručno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3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ccbf9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accbf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297fd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B92A-E1C3-4B4D-B629-57D5A712F033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Naslov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352000" cy="221292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42852"/>
                </a:solidFill>
                <a:latin typeface="Arial"/>
              </a:rPr>
              <a:t>Dunja Seiter-Šverk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242852"/>
                </a:solidFill>
                <a:latin typeface="Arial"/>
              </a:rPr>
              <a:t>Nacionalna i sveučilišna knjižnica u Zag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115000"/>
              </a:lnSpc>
              <a:spcBef>
                <a:spcPts val="400"/>
              </a:spcBef>
              <a:spcAft>
                <a:spcPts val="1001"/>
              </a:spcAft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Nacionalna i sveučilišna knjižnica u Zagrebu živi i ulogu povezivanja prošlih i sadašnjih identiteta zajednice, vidjevši se i nadalje mjestom dijaloga sadašnjosti s prošlošću kao temelja budućnosti koja ishodište pronalazi u vlastitim vrijednostima i u vrijednostima drugih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Naslov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redište izvrsnosti za knjižničnu djelatnost (profesionalna, suvremena i tehnološki razvijena, korisnicima prijateljska i ekološki osviještena ustanov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ktivna uloga u javnim politikam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Obrazovanja, kulture, zna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Ekonomije, upravljanja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ktivna uloga u nacionalnoj inovacijskoj kultu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Naslov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1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1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oju ulogu je knjižnica imala u prošlosti, koju ima danas i koju ulogu će imati u budućnosti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oji oblik ustroja, koje kompetencije, koje razvojne strategije su potrebne danas a nije ih trebalo imati juče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Društvena uloga knjižnice jest u njezinoj sposobnosti da upotpuni put od tradicionalne uloge do moderne inačic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ikupljanje, čuvanje, (tumačenje informacija! Alberto Manguel), stvaranje novih sadržaja!, osiguranje dostupn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Naslov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Naslov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pic>
        <p:nvPicPr>
          <p:cNvPr id="1142" name="Rezervirano mjesto sadržaja 3" descr=""/>
          <p:cNvPicPr/>
          <p:nvPr/>
        </p:nvPicPr>
        <p:blipFill>
          <a:blip r:embed="rId2"/>
          <a:stretch/>
        </p:blipFill>
        <p:spPr>
          <a:xfrm>
            <a:off x="1825560" y="1481040"/>
            <a:ext cx="549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njiga - forma, format, ideja, komunikac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Sloboda čitanja; pravo na čitanje- intelektualna slob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Zbirke: prema vrsti građe i prema sadržaj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Zbirka r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ukopis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starih knjiga, zbirka periodike, zbirka grafi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kartografsk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zbirka, muzikalija, fotografija, gramofonskih ploča, mikrofilmova, sitnog tisk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posebne zbirk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(Domovinski rat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Inozemna Croatica)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zbirke knjižničarske literatur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, spomen zbirke…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Naslov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ntelektualne i emocionalne dimenzije čovjek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tjelesnost i duhovnost, individualni identitet i povijesno-društveni identit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Zbirke kao komunikacija; zbirke kao sadrža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Ako je knjižnica svjedočanstvo, knjižničari su svjedoci koji pokušavaju kontrolirati ka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Knjižnice su odgovorne za provedbu prava na čitan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Naslov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zbirke: nositelji identiteta nacionalnog i kulturno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Identiteti: tradicijski i suvreme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Calibri"/>
              </a:rPr>
              <a:t>zbirke zahtijevaju odgovoran odnos u smislu njihove zaštite, očuvanja, važnosti i prepoznatljivosti u širem društvenom okruže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Calibri"/>
              </a:rPr>
              <a:t>zbirke nose vrijednosti kao što su estetska, dokumentacijska, povije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Calibri"/>
              </a:rPr>
              <a:t>identifikacija, obrada i prezentacija zbirki,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Calibri"/>
              </a:rPr>
              <a:t>zbirke i koris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629dd1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Naslov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Cijena/financijski razlo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ostup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Deprecijacija vrijednosti ponovljenog čit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Jednostavnije je posuditi nego kupiti knjig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Jeftini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Ekonomični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bog visokih cijena knjiga na tržiš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Vrlo jednostavno, posudba je jeftinija od kupovine. Ukoliko mi se knjiga ne svidi, vratim i zaborav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Financijski razlozi, nedostupnost u knjižarama (rasprodano izdanje), knjiga koja je potrebna za vrlo kratko razdoblje tj, za jedan ispit, nedostatak prostora u stanu za knji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Nakon nekog vremena i najzabavnija knjiga postane dosadna. Bolje posuditi nego kasnije požaliti potrošeni nova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bog troška kupnje.Ako pojedincu treba samo uvid u neku tematiku ili određeni dio knjige nema potreba za kupnj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3492360" y="260280"/>
            <a:ext cx="56516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KORIS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4716360" y="907920"/>
            <a:ext cx="4427640" cy="5050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Razlog posudbe knj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vi su tamo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bog uvjeta za učenje koje nisam imala kod kuće, jer mi je uvijek nešto drugo odvratilo pažnju... U NSK je tišina i mir, svi uče pa učim i ja! Na kraju uvijek izađem zadovoljna, jer mi je dan bio učinkovi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bog svog napredovanja u srednjoj školi, unapređenja znanja i zanimljivosti koje me zanimaju, vezano uz medicinu. Zahvalila bi svima koji rade u NSK, jako su ljubazni i ja to poštivam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animala me količina i raznolikost literature s kojom raspolažu, te zatim zbog mogućnosti učenja u mirnom prostoru sa mogućnošću jendostavnom pristupu literaturi koja mi je potreb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Jer su svi cool ljudi učlanjeni u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Zbog usavršavanja, studija, istraživanja, interneta itd. osjećam da je NSK idealno mjesto u Zagrebu za učenje i studij. No, smatram da može biti još bolje i bio bi sretniji kad bi se dogodile promjene ma bolje što prij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uno mi je pomoglo noćno učenje u vašoj ustanovi, no zbog prekida noćnog sam izrazito nezadovoljan kao i većina studenata koje poznajem. Tako da vas ovim putem molim da vratite noćno učenje! Hva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3492360" y="260280"/>
            <a:ext cx="56516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KORIS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4"/>
          <p:cNvSpPr/>
          <p:nvPr/>
        </p:nvSpPr>
        <p:spPr>
          <a:xfrm>
            <a:off x="4716360" y="907920"/>
            <a:ext cx="4427640" cy="5050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Razlog dolaska u N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Uče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ocijalizacija / druže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ostupnost stručne i ispitne lit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bog poticanja na učen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bog dobrih uvjeta za učenje-lijepo okruženje, mir, red, restoran za ruč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bog mjesta za učenje,mira i tiš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jelomično zbog velikog broja kolega koji ovdje uče, a i zbog lit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Kada sam krenuo studirati ovo je bilo mjesto gdje je postojao mir, radna okolina, te također gdje bi se sreli kolege i prijatel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 preporuci koleg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ruštvo je tu i učim samo 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adi pronalaska referentne građe za svoje profesionalno usavršavan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bog mogućnosti noćnog učenja, za koje drugdje nemam uvje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3492360" y="260280"/>
            <a:ext cx="5651640" cy="504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KORIS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4716360" y="907920"/>
            <a:ext cx="4427640" cy="5050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Calibri"/>
              </a:rPr>
              <a:t>Razlog dolaska u N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17:52:06Z</dcterms:created>
  <dc:creator>Dunja Seiter-Šverko</dc:creator>
  <dc:description/>
  <dc:language>en-US</dc:language>
  <cp:lastModifiedBy>acapkovic</cp:lastModifiedBy>
  <dcterms:modified xsi:type="dcterms:W3CDTF">2013-04-18T10:23:26Z</dcterms:modified>
  <cp:revision>41</cp:revision>
  <dc:subject/>
  <dc:title>Knjižnice, čitanja, identiteti</dc:title>
</cp:coreProperties>
</file>