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DFCF-C51E-4E56-8B2A-22069038478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F78B-1B89-411C-ACB6-0C854233948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3,67 prosj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1C94-E87B-4A05-8626-FDA114F1E7D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C72-FBA0-4652-81D1-BAA89808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A22-867C-40F4-BCCD-D93F4F13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ECB-419A-4141-A808-74C0FA54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D30-E693-4F30-854E-9ED75931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AADF-1FC7-49E3-8EC1-4414939E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776-52F9-4515-8E21-2E0525C6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0979-4B10-48E3-8775-8AFF4253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E19-83BA-468A-9694-539BF2D4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291-3514-458F-A1C1-4B2F53F8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4AD-7B9D-4E6B-82BA-041163D2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2D1-923F-4ECB-B54B-B84B2C39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B6D-4AA6-479E-A598-43064FDC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3934-6FEF-490A-8B5A-907C7E80E1F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ttaedu.eu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71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Agencija za odgoj i obrazovanje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920" y="2923920"/>
            <a:ext cx="756000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Uloga u odgojno-obrazovnom sustavu Republike Hrvats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555920" y="4941720"/>
            <a:ext cx="64008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Ravnatelj Vinko Filipović, pro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35800" y="629748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Georgi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605C-175F-4D41-8559-C56F41A734A3}" type="datetime">
              <a:rPr b="0" lang="hr-H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14A8F0-B25B-4E47-817A-5B04C1FA4D88}" type="datetime10">
              <a:rPr b="0" lang="hr-HR" sz="1400" spc="-1" strike="noStrike">
                <a:solidFill>
                  <a:srgbClr val="000000"/>
                </a:solidFill>
                <a:latin typeface="Arial"/>
              </a:rPr>
              <a:t>21:47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Slide Number Placeholder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41FC-BB73-4CB2-85A7-7C6355C6174A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79280" y="503280"/>
          <a:ext cx="8713800" cy="1485720"/>
        </p:xfrm>
        <a:graphic>
          <a:graphicData uri="http://schemas.openxmlformats.org/drawingml/2006/table">
            <a:tbl>
              <a:tblPr/>
              <a:tblGrid>
                <a:gridCol w="3079800"/>
                <a:gridCol w="1322280"/>
                <a:gridCol w="1670040"/>
                <a:gridCol w="1320840"/>
                <a:gridCol w="1320840"/>
              </a:tblGrid>
              <a:tr h="366480">
                <a:tc>
                  <a:txBody>
                    <a:bodyPr lIns="0" rIns="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čitel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učni suradn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Ravnatel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ŽS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11924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Programi usavršavanja koje nudi AZOO ispunjavaju potrebe mog profesionalnog razvoja</a:t>
                      </a: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79280" y="2023920"/>
          <a:ext cx="8713800" cy="1627200"/>
        </p:xfrm>
        <a:graphic>
          <a:graphicData uri="http://schemas.openxmlformats.org/drawingml/2006/table">
            <a:tbl>
              <a:tblPr/>
              <a:tblGrid>
                <a:gridCol w="3079800"/>
                <a:gridCol w="1322280"/>
                <a:gridCol w="1670040"/>
                <a:gridCol w="1320840"/>
                <a:gridCol w="132084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čitel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učni suradn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Ravnatel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ŽS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2618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Dostupni programi stručnog usavršavanja organizirani su u prikladno vrijeme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79280" y="3741840"/>
          <a:ext cx="8713800" cy="1296720"/>
        </p:xfrm>
        <a:graphic>
          <a:graphicData uri="http://schemas.openxmlformats.org/drawingml/2006/table">
            <a:tbl>
              <a:tblPr/>
              <a:tblGrid>
                <a:gridCol w="3079800"/>
                <a:gridCol w="1322280"/>
                <a:gridCol w="1670040"/>
                <a:gridCol w="1320840"/>
                <a:gridCol w="132084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čitel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učni suradn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Ravnatel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ŽS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4608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AZOO nudi kvalitetne programe stručnog usavršavanj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79280" y="5084640"/>
          <a:ext cx="8713800" cy="1522440"/>
        </p:xfrm>
        <a:graphic>
          <a:graphicData uri="http://schemas.openxmlformats.org/drawingml/2006/table">
            <a:tbl>
              <a:tblPr/>
              <a:tblGrid>
                <a:gridCol w="3079800"/>
                <a:gridCol w="1322280"/>
                <a:gridCol w="1670040"/>
                <a:gridCol w="1320840"/>
                <a:gridCol w="1320840"/>
              </a:tblGrid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čitel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učni suradn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Ravnatel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ŽS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4608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AZOO pruža očekivanu podršku u procesu stručnog  usavrša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STRUČNI ISP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4114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U 2012. godi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6 890 predmeta vezanih za stažiranje i polaganje stručnog isp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1 439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odgojno-obrazovnih radnika iz predškolskih ustan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4 129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odgojno-obrazovnih radnika iz osnovnih šk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Georgia"/>
              </a:rPr>
              <a:t> 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1322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odgojno-obrazovnih radnika iz srednjih šk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933000" y="643716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" name="Picture 4" descr="1"/>
          <p:cNvPicPr/>
          <p:nvPr/>
        </p:nvPicPr>
        <p:blipFill>
          <a:blip r:embed="rId1"/>
          <a:stretch/>
        </p:blipFill>
        <p:spPr>
          <a:xfrm>
            <a:off x="5292720" y="1700280"/>
            <a:ext cx="3013200" cy="453528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NAPREDOVAN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404040"/>
                </a:solidFill>
                <a:latin typeface="Georgia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Broj odgojno obrazovnih radnika koji su napredovali u zvanje mentore i savjetni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2005. 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–</a:t>
            </a: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 3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2006. 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–</a:t>
            </a: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 1 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2007. 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–</a:t>
            </a: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  8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2008. 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–</a:t>
            </a: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  8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2009.</a:t>
            </a: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– 1 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2011. 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–</a:t>
            </a: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 1 7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2012. 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1407 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održane tri promocije, 20.travnja, 5. listopada i 7. prosinc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933000" y="643716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STRUČNO-PEDAGOŠKI R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Stručno-pedagoški nadzori (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Georgia"/>
              </a:rPr>
              <a:t>      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404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–predmeta stručno pedagoškog-nadz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               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246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– osnovne škole,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134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– srednje škole,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24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– predškolske ustan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išljenja na programe (2012.)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     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560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– predmeta stručnih mišljenja na prog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99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– osnovne škole,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76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– srednje škole,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276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– predškolske ustanov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109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– udruge, osta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Savjetodavni uvidi (2012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404040"/>
                </a:solidFill>
                <a:latin typeface="Georgia"/>
              </a:rPr>
              <a:t>    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101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– predmeta stručno-pedagoškog uvida stručne pomoći i savje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               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85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– osnovne škole,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 16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– srednje škole,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9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– predškolske ustan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933000" y="643716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NATJECANJA I SMOT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8412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Georgia"/>
              </a:rPr>
              <a:t>Agencija za odgoj i obrazovanje organizirala je </a:t>
            </a: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34 natjecanja i smotre</a:t>
            </a:r>
            <a:r>
              <a:rPr b="1" lang="hr-HR" sz="20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hr-HR" sz="2000" spc="-1" strike="noStrike">
                <a:solidFill>
                  <a:srgbClr val="404040"/>
                </a:solidFill>
                <a:latin typeface="Georgia"/>
              </a:rPr>
              <a:t>u suradnji s MZOS-om i brojnim strukovnim udrugama u 2011/2012. godi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800" indent="26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136 480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učenika </a:t>
            </a:r>
            <a:r>
              <a:rPr b="0" lang="hr-HR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školska raz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800" indent="26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33 014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učenika </a:t>
            </a:r>
            <a:r>
              <a:rPr b="0" lang="hr-HR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županijska raz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800" indent="263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8008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učenika </a:t>
            </a:r>
            <a:r>
              <a:rPr b="0" lang="hr-HR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državna raz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4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16. lipnja 2012.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održana je dodjela priznanja za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192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državnih prvaka i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156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mentora te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43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učenika koji su osvojili jedno od prva tri mjesta na 14 međunarodnih natjecanja, koje je pripremalo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27 ment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933000" y="643716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15" descr="prvaci"/>
          <p:cNvPicPr/>
          <p:nvPr/>
        </p:nvPicPr>
        <p:blipFill>
          <a:blip r:embed="rId1"/>
          <a:srcRect l="49951" t="6023" r="44" b="0"/>
          <a:stretch/>
        </p:blipFill>
        <p:spPr>
          <a:xfrm>
            <a:off x="395280" y="1700280"/>
            <a:ext cx="3384720" cy="4770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NATJECANJA I SMO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3640" y="1628280"/>
            <a:ext cx="418284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Natjecanja iz:</a:t>
            </a:r>
            <a:r>
              <a:rPr b="0" lang="hr-HR" sz="1800" spc="-1" strike="noStrike">
                <a:solidFill>
                  <a:srgbClr val="404040"/>
                </a:solidFill>
                <a:latin typeface="Georg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hrvatskoga, engleskoga, njemačkoga,  francuskoga, talijanskoga, španjolskoga, latinskog i grčkog jez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matematike, geografije, povijesti, logike i filozofije, deb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vjeronauka – vjeronaučna olimpij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Sigurno u prometu (bicik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LIK (vizualne umjetnosti i dizaj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glazbe i plesa (učenici i studen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Glazbene svečanosti hrvatske mladež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Smotra hrvatskog školskog fil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Mladež Hrvatskoga Crvenog križ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Content Placeholder 6" descr="LIK2012.jpg"/>
          <p:cNvPicPr/>
          <p:nvPr/>
        </p:nvPicPr>
        <p:blipFill>
          <a:blip r:embed="rId1"/>
          <a:stretch/>
        </p:blipFill>
        <p:spPr>
          <a:xfrm>
            <a:off x="4938840" y="1406520"/>
            <a:ext cx="3593880" cy="5118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5" name="Rectangle 4"/>
          <p:cNvSpPr/>
          <p:nvPr/>
        </p:nvSpPr>
        <p:spPr>
          <a:xfrm>
            <a:off x="3933000" y="643716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NATJECANJA I SMO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1640" y="1339560"/>
            <a:ext cx="41101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Natjecanje i smotra iz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fizike, biologije, astronomije, informatike-računalstva (Infokup) opisujemo sust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Hrvatske Globe – šk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00360" y="2879640"/>
            <a:ext cx="44701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Smot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LiDraNo – literarno, novinarsko i dramsko-scensko stvaralašt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Smotra projekata iz područja Nacionalnih programa odgoja i obrazovanja za ljudska prava i demokratsko građanstvo / Simulirano suđ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54. natjecanje mladih tehnič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Škola stvaralaštva „Novigradsko proljeć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Mala glagoljska akademija „Juri Žaka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Content Placeholder 5" descr="Lidrano2012.jpg"/>
          <p:cNvPicPr/>
          <p:nvPr/>
        </p:nvPicPr>
        <p:blipFill>
          <a:blip r:embed="rId1"/>
          <a:stretch/>
        </p:blipFill>
        <p:spPr>
          <a:xfrm>
            <a:off x="692280" y="1557360"/>
            <a:ext cx="3568680" cy="518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0" name="Rectangle 4"/>
          <p:cNvSpPr/>
          <p:nvPr/>
        </p:nvSpPr>
        <p:spPr>
          <a:xfrm>
            <a:off x="4261680" y="643716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Hvala na pažnji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ravnatelj Agencije za odgoj i obrazo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Vinko Filipović, pro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Georgia"/>
              </a:rPr>
              <a:t>vinko.filipovic@azoo.hr</a:t>
            </a:r>
            <a:r>
              <a:rPr b="0" lang="hr-HR" sz="2000" spc="-1" strike="noStrike">
                <a:solidFill>
                  <a:srgbClr val="40404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773440" y="6381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3300"/>
                </a:solidFill>
                <a:latin typeface="Arial Unicode MS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Agencija za odgoj i obrazovanje – djelokrug po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2251080"/>
          <a:ext cx="8229600" cy="3909960"/>
        </p:xfrm>
        <a:graphic>
          <a:graphicData uri="http://schemas.openxmlformats.org/drawingml/2006/table">
            <a:tbl>
              <a:tblPr/>
              <a:tblGrid>
                <a:gridCol w="1593720"/>
                <a:gridCol w="1800360"/>
                <a:gridCol w="1542960"/>
                <a:gridCol w="1646280"/>
                <a:gridCol w="1646280"/>
              </a:tblGrid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404040"/>
                          </a:solidFill>
                          <a:latin typeface="Georgia"/>
                        </a:rPr>
                        <a:t>Vrsta ustanove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404040"/>
                          </a:solidFill>
                          <a:latin typeface="Georgia"/>
                        </a:rPr>
                        <a:t>Broj ustanova u R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404040"/>
                          </a:solidFill>
                          <a:latin typeface="Georgia"/>
                        </a:rPr>
                        <a:t>Nastavno osoblj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404040"/>
                          </a:solidFill>
                          <a:latin typeface="Georgia"/>
                        </a:rPr>
                        <a:t>Nenastavno osoblj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404040"/>
                          </a:solidFill>
                          <a:latin typeface="Georgia"/>
                        </a:rPr>
                        <a:t>Broj djece/ učenik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Georgia"/>
                        </a:rPr>
                        <a:t>Predškolske ustan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          </a:t>
                      </a: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1 598 objekat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10 0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151 5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Georgia"/>
                        </a:rPr>
                        <a:t>Osnovne ško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35 9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10 4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385 5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Georgia"/>
                        </a:rPr>
                        <a:t>Srednje ško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18 0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4 6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187 6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Georgia"/>
                        </a:rPr>
                        <a:t>Učenički domov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Georgia"/>
                        </a:rPr>
                        <a:t>Glazbene i plesne ško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1 8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19 78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Georgia"/>
                        </a:rPr>
                        <a:t>UKUPN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65 8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15 1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    </a:t>
                      </a:r>
                      <a:r>
                        <a:rPr b="1" lang="hr-HR" sz="1400" spc="-1" strike="noStrike">
                          <a:solidFill>
                            <a:srgbClr val="404040"/>
                          </a:solidFill>
                          <a:latin typeface="Verdana"/>
                        </a:rPr>
                        <a:t>744 5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87"/>
          <p:cNvSpPr/>
          <p:nvPr/>
        </p:nvSpPr>
        <p:spPr>
          <a:xfrm>
            <a:off x="3818880" y="6353280"/>
            <a:ext cx="121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Arial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96"/>
          <p:cNvSpPr/>
          <p:nvPr/>
        </p:nvSpPr>
        <p:spPr>
          <a:xfrm>
            <a:off x="468360" y="525600"/>
            <a:ext cx="856764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DJELOKRUG RA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STRUČNO USAVRŠ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Dokument:</a:t>
            </a:r>
            <a:r>
              <a:rPr b="0" lang="hr-HR" sz="2000" spc="-1" strike="noStrike">
                <a:solidFill>
                  <a:srgbClr val="404040"/>
                </a:solidFill>
                <a:latin typeface="Georgia"/>
              </a:rPr>
              <a:t> Strategija razvoja stručnog usavršavanja u Agenciji za odgoj i obrazovanje 2009.–20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Cilj:</a:t>
            </a:r>
            <a:r>
              <a:rPr b="0" lang="hr-HR" sz="2000" spc="-1" strike="noStrike">
                <a:solidFill>
                  <a:srgbClr val="404040"/>
                </a:solidFill>
                <a:latin typeface="Georgia"/>
              </a:rPr>
              <a:t> Unapređivanje osobnih, profesionalnih i stručnih kompetencija odgojitelja, učitelja, nastavnika, ravnatelja i stručnih suradn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Georgia"/>
              </a:rPr>
              <a:t>    </a:t>
            </a:r>
            <a:r>
              <a:rPr b="0" lang="hr-HR" sz="1800" spc="-1" strike="noStrike">
                <a:solidFill>
                  <a:srgbClr val="404040"/>
                </a:solidFill>
                <a:latin typeface="Georgia"/>
              </a:rPr>
              <a:t>Državna raz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Georgia"/>
              </a:rPr>
              <a:t>    </a:t>
            </a:r>
            <a:r>
              <a:rPr b="0" lang="hr-HR" sz="1800" spc="-1" strike="noStrike">
                <a:solidFill>
                  <a:srgbClr val="404040"/>
                </a:solidFill>
                <a:latin typeface="Georgia"/>
              </a:rPr>
              <a:t>Regionalna razina – međužupanijska i županijs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04040"/>
                </a:solidFill>
                <a:latin typeface="Georgia"/>
              </a:rPr>
              <a:t>    </a:t>
            </a:r>
            <a:r>
              <a:rPr b="0" lang="hr-HR" sz="1800" spc="-1" strike="noStrike">
                <a:solidFill>
                  <a:srgbClr val="404040"/>
                </a:solidFill>
                <a:latin typeface="Georgia"/>
              </a:rPr>
              <a:t>Lokalna razina – u suradnji s voditeljima ŽSV-a (županijska stručna vijeća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1 555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- voditelj ŽSV-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925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 - voditelja ŽSV-a u osnovnim ško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487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- voditelja ŽSV-a u srednjim ško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43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 - voditelja ŽSV-a za školske preventivne progra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933000" y="630864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STRUČNO USAVRŠ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Podaci o broju održanih stručnih skupova (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Državna i regionalna razina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Georgia"/>
              </a:rPr>
              <a:t>  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1 020</a:t>
            </a:r>
            <a:r>
              <a:rPr b="1" lang="hr-HR" sz="16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-</a:t>
            </a:r>
            <a:r>
              <a:rPr b="1" lang="hr-HR" sz="16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stručnih skupova u organizaciji savjetnika AZOO-a </a:t>
            </a:r>
            <a:r>
              <a:rPr b="1" i="1" lang="hr-HR" sz="1600" spc="-1" strike="noStrike">
                <a:solidFill>
                  <a:srgbClr val="606060"/>
                </a:solidFill>
                <a:latin typeface="Georgia"/>
              </a:rPr>
              <a:t>(2011.- 87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63 889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- prijavljenih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46 652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–sudionika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26 319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–sudionika (fizičkih osob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606060"/>
                </a:solidFill>
                <a:latin typeface="Georgia"/>
              </a:rPr>
              <a:t>(2011. - 19 545 broj sudionika fizičkih osoba, 30 500 sudjelovanja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Lokalna razina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– u suradnji s voditeljima županijskih stručnih vijeća (ŽSV-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Georgia"/>
              </a:rPr>
              <a:t>  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5 616</a:t>
            </a:r>
            <a:r>
              <a:rPr b="1" lang="hr-HR" sz="16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-</a:t>
            </a:r>
            <a:r>
              <a:rPr b="1" lang="hr-HR" sz="16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stručnih skupova u organizaciji voditelja ŽSV-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91 787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- prijavljenih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70 233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–sudionika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32 631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–sudionika (fizičkih osob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ICT 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Georgia"/>
              </a:rPr>
              <a:t>      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66</a:t>
            </a:r>
            <a:r>
              <a:rPr b="1" lang="hr-HR" sz="16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-</a:t>
            </a:r>
            <a:r>
              <a:rPr b="1" lang="hr-HR" sz="16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stručnih skup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Georgia"/>
              </a:rPr>
              <a:t> 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4 779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- sudionika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3 967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– sudionika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3 683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–sudionika (fizičkih osob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Stručni suradnici (mentori i savjetni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Georgia"/>
              </a:rPr>
              <a:t>      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77</a:t>
            </a:r>
            <a:r>
              <a:rPr b="1" lang="hr-HR" sz="16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-</a:t>
            </a:r>
            <a:r>
              <a:rPr b="1" lang="hr-HR" sz="16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stručnih skup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2 641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- sudionika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2 641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– sudionika </a:t>
            </a:r>
            <a:r>
              <a:rPr b="1" lang="hr-HR" sz="16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1 957 </a:t>
            </a:r>
            <a:r>
              <a:rPr b="0" lang="hr-HR" sz="1600" spc="-1" strike="noStrike">
                <a:solidFill>
                  <a:srgbClr val="404040"/>
                </a:solidFill>
                <a:latin typeface="Georgia"/>
              </a:rPr>
              <a:t>–sudionika (fizičkih osob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933000" y="62928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STRUČNO USAVRŠ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Analiza postojećeg AZOO sustava stručnog usavršavanja odgojno obrazovnih radnika i procjene potreba za stručnim usavršavanje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404040"/>
                </a:solidFill>
                <a:latin typeface="Georgi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Glavni izvor informacija bila je anketa (upitnik) koja se odnosila na stručna usavršavanja u 2011. godini koja je ispitivala mišljenja različitih skupina odgojno-obrazovnih radnika o postojećem AZOO sustavu stručnog usavršavanja, o njihovim iskustvima te njihovim preferencijama u smislu ponude stručnih usavršavanja. </a:t>
            </a:r>
            <a:r>
              <a:rPr b="1" lang="hr-HR" sz="1600" spc="-1" strike="noStrike">
                <a:solidFill>
                  <a:srgbClr val="000000"/>
                </a:solidFill>
                <a:latin typeface="Georgia"/>
              </a:rPr>
              <a:t>Analiza je rađena u sklopu projekta IPA Poboljšanje sustava stručnog usavršavanja odgojno-obrazovnih radnik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Upitnike je ispunilo ukup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7 944 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učitel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546 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ravnatel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1 088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 stručnih surad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647 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VŽSV-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Georgia"/>
              </a:rPr>
              <a:t>71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 viši savjetnik AZOO-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eorgia"/>
              </a:rPr>
              <a:t>Odgovori su izvučeni iz sustava </a:t>
            </a:r>
            <a:r>
              <a:rPr b="0" i="1" lang="hr-HR" sz="1400" spc="-1" strike="noStrike">
                <a:solidFill>
                  <a:srgbClr val="000000"/>
                </a:solidFill>
                <a:latin typeface="Georgia"/>
              </a:rPr>
              <a:t>ettaedu</a:t>
            </a:r>
            <a:r>
              <a:rPr b="0" lang="hr-HR" sz="1400" spc="-1" strike="noStrike">
                <a:solidFill>
                  <a:srgbClr val="000000"/>
                </a:solidFill>
                <a:latin typeface="Georgia"/>
              </a:rPr>
              <a:t> u Excel tablicu te su analizirani  SPP statističkim softvero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933000" y="62928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04040"/>
                </a:solidFill>
                <a:latin typeface="Georgia"/>
              </a:rPr>
              <a:t>STRUČNO USAVRŠ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933000" y="62928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0000"/>
                </a:solidFill>
                <a:latin typeface="Verdana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1844640"/>
          <a:ext cx="8496360" cy="4416480"/>
        </p:xfrm>
        <a:graphic>
          <a:graphicData uri="http://schemas.openxmlformats.org/drawingml/2006/table">
            <a:tbl>
              <a:tblPr/>
              <a:tblGrid>
                <a:gridCol w="3382920"/>
                <a:gridCol w="1219320"/>
                <a:gridCol w="1263600"/>
                <a:gridCol w="1127160"/>
                <a:gridCol w="1503360"/>
              </a:tblGrid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Registrirani korisnici na </a:t>
                      </a:r>
                      <a:r>
                        <a:rPr b="0" lang="hr-HR" sz="1600" spc="-1" strike="noStrike" u="sng">
                          <a:solidFill>
                            <a:srgbClr val="009999"/>
                          </a:solidFill>
                          <a:uFillTx/>
                          <a:latin typeface="Georgia"/>
                          <a:ea typeface="MS Mincho"/>
                          <a:hlinkClick r:id="rId1"/>
                        </a:rPr>
                        <a:t>www.ettaedu.eu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 </a:t>
                      </a: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Predškolski odgojitel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,3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2,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6,7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Učitelji u osnovnoj ško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0,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6,4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6,9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3,3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Nastavnici u srednjoj ško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,6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6,4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,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2,1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Pomoćni odgojno-obrazovni radn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Stručni suradn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,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2,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,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,7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Ravnatel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,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2,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3,9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29,7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5,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59,3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08000" y="1190520"/>
          <a:ext cx="8929800" cy="5656320"/>
        </p:xfrm>
        <a:graphic>
          <a:graphicData uri="http://schemas.openxmlformats.org/drawingml/2006/table">
            <a:tbl>
              <a:tblPr/>
              <a:tblGrid>
                <a:gridCol w="2592360"/>
                <a:gridCol w="1295280"/>
                <a:gridCol w="1317600"/>
                <a:gridCol w="1244880"/>
                <a:gridCol w="1242720"/>
                <a:gridCol w="1236960"/>
              </a:tblGrid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lici stručnih usavršav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čitelji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astavn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učni suradn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Ravnatel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ŽS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iši savjetnici AZOO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4776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pedagoške radion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7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7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6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7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9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primjeri dobre prak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5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7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6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8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plenarna predav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7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7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7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9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usavršavanja u školam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5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modularna usavršav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2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2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5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terenski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učenje na dalj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osta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4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okrugli s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2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52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konzultativno-mentorski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2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superviz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4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studijske posj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trening za tren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1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9280" y="1149480"/>
          <a:ext cx="8785440" cy="5530680"/>
        </p:xfrm>
        <a:graphic>
          <a:graphicData uri="http://schemas.openxmlformats.org/drawingml/2006/table">
            <a:tbl>
              <a:tblPr/>
              <a:tblGrid>
                <a:gridCol w="2691000"/>
                <a:gridCol w="1055520"/>
                <a:gridCol w="1258920"/>
                <a:gridCol w="1260360"/>
                <a:gridCol w="1411560"/>
                <a:gridCol w="1108080"/>
              </a:tblGrid>
              <a:tr h="762120"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blici stručnog usavršav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čitelji/ nastavni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učni suradn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Ravnatel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ŽS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6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avjetnici AZOO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496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primjeri dobre prak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2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pedagoške radion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2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terenski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2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studijske posj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8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konzultativno-mentorski r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0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usavršavanja u školam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12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modularna usavršav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2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učenje na dalj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okrugli s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48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trening za tren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2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superviz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00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plenarna predav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79280" y="476280"/>
          <a:ext cx="8569440" cy="6251400"/>
        </p:xfrm>
        <a:graphic>
          <a:graphicData uri="http://schemas.openxmlformats.org/drawingml/2006/table">
            <a:tbl>
              <a:tblPr/>
              <a:tblGrid>
                <a:gridCol w="3816360"/>
                <a:gridCol w="1154160"/>
                <a:gridCol w="1198440"/>
                <a:gridCol w="1200240"/>
                <a:gridCol w="1200240"/>
              </a:tblGrid>
              <a:tr h="63108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1f1410"/>
                          </a:solidFill>
                          <a:latin typeface="Calibri"/>
                          <a:ea typeface="Times New Roman"/>
                        </a:rPr>
                        <a:t>Teme i područja koja bi trebala biti više zastuplj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Učitelji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astavnic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tručni suradn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Ravnatel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ŽS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98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rad sa djecom s posebnim potrebama (darovit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poznavanje predm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8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rad sa djecom s posebnim potrebama (teškoć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metodika nastavnog predm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psihološke t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pedagoške t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primjena IKT-a u nasta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preventivni progr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8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EU programi stručnog usavršavanja i fondovi E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80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razvoj kompetencija mentora i savjetn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08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opća didakt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24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školski menadž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4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08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politika odgoja i obrazov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8480">
                <a:tc>
                  <a:txBody>
                    <a:bodyPr lIns="0" rIns="0" tIns="0" bIns="0" anchor="ctr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andragog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2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81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600" spc="-1" strike="noStrike">
                          <a:solidFill>
                            <a:srgbClr val="000000"/>
                          </a:solidFill>
                          <a:latin typeface="Georgia"/>
                          <a:ea typeface="MS Mincho"/>
                        </a:rPr>
                        <a:t>3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1:24:40Z</dcterms:created>
  <dc:creator>acapkovic</dc:creator>
  <dc:description/>
  <dc:language>en-US</dc:language>
  <cp:lastModifiedBy>acapkovic</cp:lastModifiedBy>
  <dcterms:modified xsi:type="dcterms:W3CDTF">2013-04-12T06:35:07Z</dcterms:modified>
  <cp:revision>152</cp:revision>
  <dc:subject/>
  <dc:title>Slide 1</dc:title>
</cp:coreProperties>
</file>