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9C1-9C2F-48EF-871C-2A301EAF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B84-A21D-48BD-9D77-95B865EE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E9C-59F6-49BB-A84A-CB267B0A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4F6-6B4F-4F51-8FED-EE54C98D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241D-C0D8-470F-B1DA-2DE7FEE4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3DE2-7E41-41C2-A6E2-0360AFC0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8C78-E9B2-47E0-9C44-40F6D8F9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3B17-0BAB-4259-B0DD-1F8052A5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3E62-08C0-4E49-9F66-B52CBC7D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3A42-F46E-4EA7-AA75-F08BD90F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60AD-5F59-4F2C-ADA2-7FAC4254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FC5-59C6-4825-A8A7-BA25C760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E5DF-3451-45D5-97B9-16FBA2BE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A526-21C6-4BB3-8B9D-E00C405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53B5-844D-4842-B8EC-982DE31B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EECE-389A-483A-BD67-265A92FA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CD6A-6EA2-4564-BF34-28D6D718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793-4030-456D-BE3B-DA9562F1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DAA-80BE-4B59-9713-4BDCE755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02EC-1FD3-4196-B415-6A667B01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D77-5C74-4FF1-B596-67FBF1F6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E84-F6EF-49D5-BC7E-7CC27529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2DF-9CDA-447C-8BD9-28439BF1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89D-5473-423E-AE42-62024ED1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B933-2A17-4758-9F3E-4FC5076D2E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1F83-70D0-4282-B4D4-55E3FB120E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800" spc="-1" strike="noStrike">
                <a:solidFill>
                  <a:srgbClr val="999900"/>
                </a:solidFill>
                <a:latin typeface="Garamond"/>
              </a:rPr>
              <a:t>Prava korisnika u digitalnom vremenu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lka Horv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ilozofski fakultet u Zagreb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9900"/>
                </a:solidFill>
                <a:latin typeface="Garamond"/>
              </a:rPr>
              <a:t>Kodeks online pra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Zabranjeni su sadržaji koji potiču na mržnju usmjerenu prema određenoj rasi, spolu, vjeri ili nacionalnos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Građani bi trebali biti zaštićeni od spam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9900"/>
                </a:solidFill>
                <a:latin typeface="Garamond"/>
              </a:rPr>
              <a:t>Pravo na privatnost i zaštitu osobnih podatak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Građani imaju pravo uvida u baze podataka, datoteke, mrežna mjesta gdje se čuvaju njihovi osobni poda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Građani imaju pravo na povjerljivost svojih elektroničkih poru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Kad neko mrežno mjesto traži osobne podatke korisnika, korisnik mora najprije dati prista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9900"/>
                </a:solidFill>
                <a:latin typeface="Garamond"/>
              </a:rPr>
              <a:t>Pravo na zaborav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Građani imaju pravo tražiti da se nepotpuni, netočni ili nezakonito pribavljeni osobni podaci isprave, izbrišu ili blokiraj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Djeca i mlad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→ posebno osjetljiva skup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ruštvene mreže → izvor podataka za poslodavce, školske uprave it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daci koje pojedinci stavljaju na mrežu dostupni su, ali ne i namijenjeni svim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999900"/>
                </a:solidFill>
                <a:latin typeface="Garamond"/>
              </a:rPr>
              <a:t>Europe 2020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Strategija Europske unije do 2020. god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Digitalni plan za Europu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→ niz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mjera koje treba poduzeti da se strategija realizi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Korištenje svih usluga i službi u digitalnoj sredi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9900"/>
                </a:solidFill>
                <a:latin typeface="Garamond"/>
              </a:rPr>
              <a:t>Digitalni plan za Europu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Treba stvoriti pouzdanu i sigurnu sredin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Brzi i ultrabrzi inter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ovećanje digitalne pismenosti i unapređivanje digitalnih vještina građ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Samo 73% građana EU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→ internetski korisni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9900"/>
                </a:solidFill>
                <a:latin typeface="Garamond"/>
              </a:rPr>
              <a:t>Horizon 2020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Istraživački program koji će se aktivirati 2014. god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Digitalna inkluz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reduvjet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  <a:ea typeface="Arial"/>
              </a:rPr>
              <a:t>stečena digitalna pismen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inovaci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sigur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9900"/>
                </a:solidFill>
                <a:latin typeface="Garamond"/>
              </a:rPr>
              <a:t>Digitalna pismenos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oznavanje digitalnih izvora i načina njihova korište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Građani moraju znati kako se ponašati u digitalnoj sredi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Vlasti 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  <a:ea typeface="Arial"/>
              </a:rPr>
              <a:t>→ imaju odgovornost da građanima omoguće stjecanje digitalne pismenosti i da im osiguraju pravo sudjelovanja u društ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Škol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uči o društvu pa i o digitalno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9900"/>
                </a:solidFill>
                <a:latin typeface="Garamond"/>
              </a:rPr>
              <a:t>Pravo na pristup internetu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Infrastruk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avo na pristup internetu izvodi se iz prava na slobodu gov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Nadzor (države, korporacije, pojedinc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Kontrola interneta dio je nacionalne politike prema internetu uvjetovane kulturom, običajima i tradicijom pojedinih zemal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9900"/>
                </a:solidFill>
                <a:latin typeface="Garamond"/>
              </a:rPr>
              <a:t>Pravo na pristup internetu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U digitalnom društvu slobodan pristup internetu mora biti utvrđeno pra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Verdana"/>
              </a:rPr>
              <a:t>Kodeks online prava građana Europske unije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, 201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Dostupan na: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ttps://ec.europa.eu/digital-agenda/en/code-eu-online-righ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9900"/>
                </a:solidFill>
                <a:latin typeface="Garamond"/>
              </a:rPr>
              <a:t>Online prava ili digitalna prava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avo na pristup interne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avo na privatnost i zaštitu osobnih podata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avo na zabora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avo na sigur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9900"/>
                </a:solidFill>
                <a:latin typeface="Garamond"/>
              </a:rPr>
              <a:t>Kodeks online pra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Svatko mora imati pravo na pristup elektroničkim komunikacijskim mrežama koje trebaju biti kvalitetne i dostupn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→ načelo “otvorenosti i neutralnosti internet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aloljetnici moraju biti zaštićeni od sadržaja koji bi mogli ozbiljno naštetiti njihovu fizičkom, duševnom i moralnom razvitk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. proljetna škola školskih knjižničara Vodice, 14-17. travnja 2013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0:51:21Z</dcterms:created>
  <dc:creator>ahorvat</dc:creator>
  <dc:description/>
  <dc:language>en-US</dc:language>
  <cp:lastModifiedBy>ahorvat</cp:lastModifiedBy>
  <dcterms:modified xsi:type="dcterms:W3CDTF">2013-04-15T10:46:08Z</dcterms:modified>
  <cp:revision>3</cp:revision>
  <dc:subject/>
  <dc:title>Prava korisnika u digitalnom vremenu</dc:title>
</cp:coreProperties>
</file>