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1D43-6D37-4C01-8EB0-33169965440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E24B-188E-45D5-B9CE-68E4980331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C1EB-F873-4660-9A1A-2E68831E46DC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F562-03BF-470A-9418-6B3A9A14E674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Stabilna vlada, zajedničko ministarstvo, PD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98D2-9808-474C-B229-315258912D0D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B038-E596-4613-9703-6B7634962D15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25C8-08C3-49EE-AE6C-CD48C62476A2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7A6F-4B50-4230-9283-B8E6F487C2A8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A3BF-569C-47FD-940A-C4F5E54E2095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61CC-C1AE-4B55-AB6D-2321D5EFA1FC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Napredak, zastaje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736F-585F-4508-9EAA-77B354C217EE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2916-6A8A-4ED7-8B05-4E8428EE572D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657F-52C2-4B69-9611-E748D1988FC5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7CE1-3B88-447F-B623-A84BD38D0CB7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F59E-678A-485C-BC76-B6357FA703CE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30E0-4BD2-4191-B457-5C6FBD007A2E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1FE6-B0D4-4399-8AFF-A2831F1BAA65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4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03A-B600-4ABD-B285-4AC2BC16EF9B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E003-0BEC-4060-BA36-8EED95662650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4C7F-1E0D-49F5-BC8E-4D8CD900CA13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D18-126E-4CD5-ACA0-7A4C53B0A471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4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821E-1473-44C5-A768-671055159804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C72-C422-4EB2-8305-2B48484787A2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2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61A-01C6-4D3B-BCFD-B4E07DFDB29D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C5B-EEC6-40CC-ACA0-79C60BE56584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6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BC85-7A3B-4A2B-9E6D-6D6C7DAEC2B7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8C2B-8897-4A25-AA77-998D3D705A0D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8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66EE-E7F6-4760-8AB7-65A451494FDD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4667-BEF0-4812-9947-DED455E7D070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038-EC80-487C-B04D-571B0A13E01D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zervirano mjesto datuma 3"/>
          <p:cNvSpPr/>
          <p:nvPr/>
        </p:nvSpPr>
        <p:spPr>
          <a:xfrm>
            <a:off x="396252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7556-3498-40D8-B8CD-345EF79CCA9A}" type="datetime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Rezervirano mjesto broja slajda 4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D1CD-A713-4B9E-83C5-D93D01486F52}" type="slidenum">
              <a:rPr b="0" lang="en-GB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6D5-502A-4699-8142-F523743A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03E-78E8-4BEC-9E6B-D64E8CF5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D47-7323-4F3E-8D11-6D08D279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9B8-DAA3-42A4-BD86-4D030BC5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C6AC-F3EE-473B-9B98-93B28DE1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C191-44C2-4E13-BAA5-49CAF892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686B-1A3A-4CBC-82B0-9E0F5706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BD5C-1683-41D7-938E-CC0F660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C667-BB83-4908-8DDA-6BD9FC32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F22E-DBC2-4672-A12E-DE21A878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0088-0854-45F1-956D-1C935E4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3CB-FAA9-43D8-AB1E-A290837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D50D-E8CC-47B4-9B7A-8EC39F87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31B0-8BCB-450A-A6D3-A91E892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1F4D-B4E4-4ACC-872D-83B11E6C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DA0F-B1A3-48A0-8717-3A5341D4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074A-8EF1-4A81-882F-FB6E158F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011-A30C-470B-98E0-E1491BF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ED1-C8EC-4200-A2EA-33A1E58A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895-6618-413F-8FAB-57DDB394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221-29FF-4258-904B-C1D21458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178-7B61-4C47-A3F2-D77A867C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69F-DB7A-49C2-9C4D-4380270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AB7-CFAE-4A57-BD5C-08B8332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20AB-B859-4F77-AB39-E19F5E91E7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aliza izvještaja o stručnom radu Matičnih službi školskih knjiž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C654-E6A0-44B7-86BA-E198E83D0A8C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F543-1377-4C09-8DEB-995B83CC4145}" type="datetime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Analiza izvještaja o stručnom radu Matičnih službi školskih knjiž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B82D-F929-4B74-B2AD-D01B3DF1D81D}" type="slidenum"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vcelic@nsk.hr" TargetMode="External"/><Relationship Id="rId3" Type="http://schemas.openxmlformats.org/officeDocument/2006/relationships/image" Target="../media/image4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hyperlink" Target="http://www.nsk.hr/maticna-sluzba-za-skolske-knjiznice/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52680" y="1676520"/>
            <a:ext cx="4648320" cy="1752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hr-HR" sz="1600" spc="-1" strike="noStrike">
                <a:solidFill>
                  <a:srgbClr val="ffffe9"/>
                </a:solidFill>
                <a:latin typeface="Times New Roman"/>
              </a:rPr>
              <a:t>MOGUĆNOSTI RAZVOJA KNJIŽNICA U REPUBLICI HRVATSKOJ</a:t>
            </a:r>
            <a:br>
              <a:rPr sz="1600"/>
            </a:br>
            <a:r>
              <a:rPr b="1" lang="hr-HR" sz="1600" spc="-1" strike="noStrike">
                <a:solidFill>
                  <a:srgbClr val="ffffe9"/>
                </a:solidFill>
                <a:latin typeface="Times New Roman"/>
              </a:rPr>
              <a:t>I ZADAĆE NACIONALNE I SVEUČILIŠNE KNJIŽNICE U ZAGREBU</a:t>
            </a:r>
            <a:br>
              <a:rPr sz="1600"/>
            </a:br>
            <a:r>
              <a:rPr b="1" lang="hr-HR" sz="1600" spc="-1" strike="noStrike">
                <a:solidFill>
                  <a:srgbClr val="ffffe9"/>
                </a:solidFill>
                <a:latin typeface="Times New Roman"/>
              </a:rPr>
              <a:t>U ODNOSU NA PODSUSTAV ŠKOLSKIH KNJIŽNICA</a:t>
            </a: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987640" y="3860280"/>
            <a:ext cx="54705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Veronika Čelić-Tic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Nacionalna i sveučilišna knjižnica u Zagrebu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598bbd"/>
                </a:solidFill>
                <a:uFillTx/>
                <a:latin typeface="Times New Roman"/>
                <a:hlinkClick r:id="rId2"/>
              </a:rPr>
              <a:t>vcelic@nsk.hr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1" name="Picture 4" descr="BS00554_"/>
          <p:cNvPicPr/>
          <p:nvPr/>
        </p:nvPicPr>
        <p:blipFill>
          <a:blip r:embed="rId3"/>
          <a:stretch/>
        </p:blipFill>
        <p:spPr>
          <a:xfrm>
            <a:off x="685800" y="1235160"/>
            <a:ext cx="2514600" cy="2193840"/>
          </a:xfrm>
          <a:prstGeom prst="rect">
            <a:avLst/>
          </a:prstGeom>
          <a:ln w="0">
            <a:noFill/>
          </a:ln>
        </p:spPr>
      </p:pic>
      <p:sp>
        <p:nvSpPr>
          <p:cNvPr id="102" name="Rezervirano mjesto datuma 3"/>
          <p:cNvSpPr/>
          <p:nvPr/>
        </p:nvSpPr>
        <p:spPr>
          <a:xfrm>
            <a:off x="68580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264c"/>
                </a:solidFill>
                <a:latin typeface="Times New Roman"/>
              </a:rPr>
              <a:t>Vodice, 14. - 19. travnja 2013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Rezervirano mjesto podnožja 4"/>
          <p:cNvSpPr/>
          <p:nvPr/>
        </p:nvSpPr>
        <p:spPr>
          <a:xfrm>
            <a:off x="2987640" y="6237360"/>
            <a:ext cx="425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XXV. proljetna škola školskih knjižničar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8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32DD-FED7-4596-BFEE-11E86446F0DD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PEST analiza –</a:t>
            </a:r>
            <a:r>
              <a:rPr b="1" lang="hr-HR" sz="2400" spc="-1" strike="noStrike">
                <a:solidFill>
                  <a:srgbClr val="333333"/>
                </a:solidFill>
                <a:latin typeface="Times New Roman"/>
              </a:rPr>
              <a:t>POLITIKA (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1844640"/>
            <a:ext cx="777240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5"/>
          <a:stretch/>
        </p:blipFill>
        <p:spPr>
          <a:xfrm>
            <a:off x="6516720" y="1989000"/>
            <a:ext cx="1800360" cy="170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Picture 15" descr=""/>
          <p:cNvPicPr/>
          <p:nvPr/>
        </p:nvPicPr>
        <p:blipFill>
          <a:blip r:embed="rId6"/>
          <a:stretch/>
        </p:blipFill>
        <p:spPr>
          <a:xfrm>
            <a:off x="487440" y="1706400"/>
            <a:ext cx="2755800" cy="3646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7"/>
          <a:stretch/>
        </p:blipFill>
        <p:spPr>
          <a:xfrm>
            <a:off x="6035760" y="3676680"/>
            <a:ext cx="2724120" cy="270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8"/>
          <a:stretch/>
        </p:blipFill>
        <p:spPr>
          <a:xfrm>
            <a:off x="3371760" y="3359160"/>
            <a:ext cx="2657520" cy="303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9"/>
          <a:srcRect l="0" t="0" r="0" b="7978"/>
          <a:stretch/>
        </p:blipFill>
        <p:spPr>
          <a:xfrm>
            <a:off x="2963880" y="1992240"/>
            <a:ext cx="3267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BDD6-F1B1-49C1-96E2-FE468198414B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64924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99% škola ustrojeno je radno mjesto stručnog suradnika knjižničar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ve škole nemaju knjižničara s punim radnim vremenom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manjena sredstva za nabavu knjiga za školske knjižnice,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međutim sredstva su osigurana do 2015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PEST analiza –</a:t>
            </a:r>
            <a:r>
              <a:rPr b="1" lang="hr-HR" sz="2400" spc="-1" strike="noStrike">
                <a:solidFill>
                  <a:srgbClr val="333333"/>
                </a:solidFill>
                <a:latin typeface="Times New Roman"/>
              </a:rPr>
              <a:t>EKONOMIJA (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74640" y="2230560"/>
            <a:ext cx="68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nove usluge školske knjižnice oslanjaju se u većem dijelu na tradicionaln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odaci iz školske prakse govore da je sve više djece s teškoćama čitanja i pisan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školski programi i udžbenici neprilagođeni su djec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okolina u kojoj dijete živi i radi, nije sklona razumjeti teškoće koje dijete im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izradba ciljane građe lagane za čitanj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usvajanje programa o zaštiti okoliša, očuvanju kulturnih, etičkih i   religijskih  vrijednost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1104-9266-4923-B11B-FFC0FF1C736D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PEST analiza –</a:t>
            </a:r>
            <a:r>
              <a:rPr b="1" lang="hr-HR" sz="2400" spc="-1" strike="noStrike">
                <a:solidFill>
                  <a:srgbClr val="333333"/>
                </a:solidFill>
                <a:latin typeface="Times New Roman"/>
              </a:rPr>
              <a:t>SOCIOLOGIJA (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2708280"/>
            <a:ext cx="77724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1.491 računala u osnovnim školama i 5.171 OŠ i 905 SŠ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istup Internetu je  663 knjižnice OŠ, bez 35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istup Internetu 313 knjižnica SŠ, bez 18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knjižnični softveri koji se koriste u školskim knjižnicama su ZAKI X, ZAKI WEB, METEL, WIN,  ZAKI, OSA-ISIS CROLIST, ŽVANE, KIT, LIB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259  OŠ, 173  SŠ bez program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zastarjeli Standar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D998-2FCD-4275-9D74-E952EB13FA2C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PEST analiza –</a:t>
            </a:r>
            <a:r>
              <a:rPr b="1" lang="hr-HR" sz="2400" spc="-1" strike="noStrike">
                <a:solidFill>
                  <a:srgbClr val="333333"/>
                </a:solidFill>
                <a:latin typeface="Times New Roman"/>
              </a:rPr>
              <a:t>TEHNOLOGIJA (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zervirano mjesto sadržaja 7" descr=""/>
          <p:cNvPicPr/>
          <p:nvPr/>
        </p:nvPicPr>
        <p:blipFill>
          <a:blip r:embed="rId1"/>
          <a:stretch/>
        </p:blipFill>
        <p:spPr>
          <a:xfrm>
            <a:off x="1401840" y="2200320"/>
            <a:ext cx="6413400" cy="3822480"/>
          </a:xfrm>
          <a:prstGeom prst="rect">
            <a:avLst/>
          </a:prstGeom>
          <a:ln w="0">
            <a:noFill/>
          </a:ln>
        </p:spPr>
      </p:pic>
      <p:sp>
        <p:nvSpPr>
          <p:cNvPr id="152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3C4-DDF2-43DB-AEF2-B875DA1743FD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333333"/>
                </a:solidFill>
                <a:latin typeface="Times New Roman"/>
              </a:rPr>
              <a:t>SWOT</a:t>
            </a:r>
            <a:r>
              <a:rPr b="0" lang="hr-HR" sz="2400" spc="-1" strike="noStrike">
                <a:solidFill>
                  <a:srgbClr val="333333"/>
                </a:solidFill>
                <a:latin typeface="Times New Roman"/>
              </a:rPr>
              <a:t> analiza - utvrđivanje snaga i slabosti knjižnice te mogućnosti i prijetnje u  odnosu na okruženj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hr-HR" sz="2400" spc="-1" strike="noStrike">
                <a:solidFill>
                  <a:srgbClr val="333333"/>
                </a:solidFill>
                <a:latin typeface="Times New Roman"/>
              </a:rPr>
              <a:t>SWOT</a:t>
            </a:r>
            <a:r>
              <a:rPr b="0" lang="hr-HR" sz="2400" spc="-1" strike="noStrike">
                <a:solidFill>
                  <a:srgbClr val="333333"/>
                </a:solidFill>
                <a:latin typeface="Times New Roman"/>
              </a:rPr>
              <a:t> analiza – utvrđivanje snaga i slabosti knjižnice u odnosu na okruženj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360" y="2205000"/>
            <a:ext cx="777240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NAGE (S): osoblje školske knjižnice je njena glavna snag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LABOSTI (W): nedostatak prostora s obzirom na knjižnica ima nedovoljan prostor s obzirom na potrebe škol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MOGUĆNOSTI (O): planiranje preuređenja prostora, tečajevi za postizanje i/ili unapređivanje informacijske pismenosti, kupnja                   e-izvor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IJETNJE (T): financijska nesigurnost, smanjivanje broja stručnih djelatnika, rast korisničkih očekivanja, nemogućnost stručnoga rada i istraživanja, smanjivanje sredstava za informacijske izvor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9C12-F079-4244-990D-E12E85D1E7BE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989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Misija školske knjižni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osigurati dostupnost podatak o knjižničnoj građi svim korisnicima, pristup svima relevantnim informacijama te njegovanje posebnih odgojno-obrazovnih i komunikacijski potreba učenika i učitelja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razvijati sustav osiguranja kvalitete na svim razinama hrvatskoga odgoja i obrazovanja, znanosti i kulture te povezivanje s Europom i svijetom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B072-B280-4423-A724-F9AE1A918B52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Nacrt strategije razvoja školskih knjižnica u 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4320"/>
            <a:ext cx="85690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33"/>
                </a:solidFill>
                <a:latin typeface="Arial"/>
              </a:rPr>
              <a:t>Vizija školske knjižnice za cjeloživotno učenj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9200" y="1054080"/>
            <a:ext cx="9004320" cy="5737320"/>
          </a:xfrm>
          <a:prstGeom prst="rect">
            <a:avLst/>
          </a:prstGeom>
          <a:ln w="0">
            <a:noFill/>
          </a:ln>
        </p:spPr>
      </p:pic>
      <p:sp>
        <p:nvSpPr>
          <p:cNvPr id="162" name="Pravokutnik 1"/>
          <p:cNvSpPr/>
          <p:nvPr/>
        </p:nvSpPr>
        <p:spPr>
          <a:xfrm>
            <a:off x="194040" y="476280"/>
            <a:ext cx="756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33"/>
                </a:solidFill>
                <a:latin typeface="Arial"/>
              </a:rPr>
              <a:t>školska knjižnica </a:t>
            </a:r>
            <a:r>
              <a:rPr b="1" lang="hr-HR" sz="1400" spc="-1" strike="noStrike">
                <a:solidFill>
                  <a:srgbClr val="00264c"/>
                </a:solidFill>
                <a:latin typeface="Times New Roman"/>
              </a:rPr>
              <a:t>je intelektualno, informacijsko i kulturno središte škole  koje osim toga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1400" spc="-1" strike="noStrike">
                <a:solidFill>
                  <a:srgbClr val="00264c"/>
                </a:solidFill>
                <a:latin typeface="Times New Roman"/>
              </a:rPr>
              <a:t>njeguje i vrednuje odgojno-obrazovnu komponentu koja utječe na cjelokupni razvoj učenika.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33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Pravokutnik 4"/>
          <p:cNvSpPr/>
          <p:nvPr/>
        </p:nvSpPr>
        <p:spPr>
          <a:xfrm>
            <a:off x="694080" y="648180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3333"/>
                </a:solidFill>
                <a:latin typeface="Arial"/>
              </a:rPr>
              <a:t>Ilustracija: Mirko Ili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16286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Zakon o odgoju i obrazovanju u osnovnoj i srednjoj školi </a:t>
            </a:r>
            <a:br>
              <a:rPr sz="2000"/>
            </a:b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(Narodne novine, broj 87/08, 86/09, 92/10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Zakon o knjižnicama </a:t>
            </a:r>
            <a:br>
              <a:rPr sz="2000"/>
            </a:b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(Narodne novine, broj 105/97, 5/98, 104/00 i 69/09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Zakon o Agenciji za odgoj i obrazovanje</a:t>
            </a:r>
            <a:br>
              <a:rPr sz="2000"/>
            </a:b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(Narodne novine, broj 85/06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Državni pedagoški standard osnovnoškolskog sustava odgoja i obrazovanja (Narodne novine, broj 63/08 i 90/10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Državni pedagoški standard srednjoškolskog sustava odgoja i obrazovanja (Narodne novine, broj 63/08 i 90/10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tandard za školske knjižnice </a:t>
            </a:r>
            <a:br>
              <a:rPr sz="2000"/>
            </a:b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(Narodne novine, broj 34/00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avilnik o matičnoj djelatnosti knjižnica u Republici Hrvatskoj (Narodne novine, broj 43/01)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2F96-242F-4DDB-AED5-DF1BE40FCAED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Nacrt strategije razvoja školskih knjižnica u RH</a:t>
            </a:r>
            <a:br>
              <a:rPr sz="2800"/>
            </a:br>
            <a:r>
              <a:rPr b="1" lang="hr-HR" sz="2400" spc="-1" strike="noStrike">
                <a:solidFill>
                  <a:srgbClr val="333333"/>
                </a:solidFill>
                <a:latin typeface="Times New Roman"/>
              </a:rPr>
              <a:t>Zakonski okvir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Djelatnosti školske knjižni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odgojno-obrazovni rad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tručna knjižnična djelatnos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kulturna i javna djelatnost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D57-5486-4243-ACC7-BB514B71FF63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Nacrt strategije razvoja školskih knjižnica u 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4360" y="256536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901"/>
              </a:spcAft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Koji su ciljevi razvoja i djelovanja knjižnica i kojom se strategijom mogu ostvariti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901"/>
              </a:spcAft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Jesu li uspostavljeni ciljevi razvoja knjižnica na nacionalnoj razini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901"/>
              </a:spcAft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Je li strategija razvoja jedinstvena za sve vrste knjižnica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Je li uopće moguća jedna strategija za sve, ako se imaju u vidu, na primjer, školske knjižnice?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CB9A-833C-4C68-B1A0-2C884F388552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Pravokutnik 9"/>
          <p:cNvSpPr/>
          <p:nvPr/>
        </p:nvSpPr>
        <p:spPr>
          <a:xfrm>
            <a:off x="1218240" y="333360"/>
            <a:ext cx="65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MOGUĆNOSTI RAZVOJA KNJIŽNICA U REPUBLICI HRVATSKOJ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I ZADAĆE NACIONALNE I SVEUČILIŠNE KNJIŽNICE U ZAGREBU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U ODNOSU NA PODSUSTAV ŠKOLSKIH KNJIŽNIC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Zadaće školske knjižnic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ona prikuplja, obrađuje i stavlja u funkciju sve izvore znanja od knjige do Internet informacij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redišnjica je svih školskih odgojno-obrazovnih, javnih i kulturnih zbivan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mjesto je partnerskog odnosa učenika, nastavnika (učitelja), stručnih suradnika, roditelja i knjižničar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otvorena za promjen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29C-2E4C-4B57-8144-3724D59CF321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Nacrt strategije razvoja školskih knjižnica u 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BD36-6096-456E-8629-7359BCA1BBAE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Nacrt strategije razvoja školskih knjižnica u 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Pravokutnik 6"/>
          <p:cNvSpPr/>
          <p:nvPr/>
        </p:nvSpPr>
        <p:spPr>
          <a:xfrm>
            <a:off x="279360" y="2573280"/>
            <a:ext cx="1844640" cy="647640"/>
          </a:xfrm>
          <a:prstGeom prst="rect">
            <a:avLst/>
          </a:prstGeom>
          <a:solidFill>
            <a:srgbClr val="cdf1a9"/>
          </a:solidFill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33"/>
                </a:solidFill>
                <a:latin typeface="Times New Roman"/>
              </a:rPr>
              <a:t>korisnici i  usluge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Pravokutnik 7"/>
          <p:cNvSpPr/>
          <p:nvPr/>
        </p:nvSpPr>
        <p:spPr>
          <a:xfrm>
            <a:off x="281160" y="3581280"/>
            <a:ext cx="184608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informacijska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pismenost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Pravokutnik 8"/>
          <p:cNvSpPr/>
          <p:nvPr/>
        </p:nvSpPr>
        <p:spPr>
          <a:xfrm>
            <a:off x="277920" y="4292640"/>
            <a:ext cx="185400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odgojno-obrazovna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djelatnost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ravokutnik 9"/>
          <p:cNvSpPr/>
          <p:nvPr/>
        </p:nvSpPr>
        <p:spPr>
          <a:xfrm>
            <a:off x="281160" y="4992840"/>
            <a:ext cx="1842840" cy="4888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razvoj službi i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uslug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Pravokutnik 10"/>
          <p:cNvSpPr/>
          <p:nvPr/>
        </p:nvSpPr>
        <p:spPr>
          <a:xfrm>
            <a:off x="281160" y="5664240"/>
            <a:ext cx="1842840" cy="48240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prostor i opremanj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Pravokutnik 11"/>
          <p:cNvSpPr/>
          <p:nvPr/>
        </p:nvSpPr>
        <p:spPr>
          <a:xfrm>
            <a:off x="6804000" y="2585880"/>
            <a:ext cx="1994040" cy="649440"/>
          </a:xfrm>
          <a:prstGeom prst="rect">
            <a:avLst/>
          </a:prstGeom>
          <a:solidFill>
            <a:srgbClr val="cdf1a9"/>
          </a:solidFill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33"/>
                </a:solidFill>
                <a:latin typeface="Times New Roman"/>
              </a:rPr>
              <a:t>izgradnja i razvoj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33"/>
                </a:solidFill>
                <a:latin typeface="Times New Roman"/>
              </a:rPr>
              <a:t>zbirk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Pravokutnik 12"/>
          <p:cNvSpPr/>
          <p:nvPr/>
        </p:nvSpPr>
        <p:spPr>
          <a:xfrm>
            <a:off x="6811920" y="3605040"/>
            <a:ext cx="1994040" cy="5050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digitalna knjižnic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2" name="Pravokutnik 13"/>
          <p:cNvSpPr/>
          <p:nvPr/>
        </p:nvSpPr>
        <p:spPr>
          <a:xfrm>
            <a:off x="6811920" y="4991040"/>
            <a:ext cx="2011320" cy="50472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baštinske zbirk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3" name="Pravokutnik 14"/>
          <p:cNvSpPr/>
          <p:nvPr/>
        </p:nvSpPr>
        <p:spPr>
          <a:xfrm>
            <a:off x="6811920" y="4314960"/>
            <a:ext cx="1994040" cy="50472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zbirke za osobe s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posebnim potrebam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4" name="Pravokutnik 15"/>
          <p:cNvSpPr/>
          <p:nvPr/>
        </p:nvSpPr>
        <p:spPr>
          <a:xfrm>
            <a:off x="6811920" y="5675400"/>
            <a:ext cx="201132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zaštita knjižnične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građ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Pravokutnik 17"/>
          <p:cNvSpPr/>
          <p:nvPr/>
        </p:nvSpPr>
        <p:spPr>
          <a:xfrm>
            <a:off x="2306520" y="2573280"/>
            <a:ext cx="1994040" cy="647640"/>
          </a:xfrm>
          <a:prstGeom prst="rect">
            <a:avLst/>
          </a:prstGeom>
          <a:solidFill>
            <a:srgbClr val="cdf1a9"/>
          </a:solidFill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33"/>
                </a:solidFill>
                <a:latin typeface="Times New Roman"/>
              </a:rPr>
              <a:t>stručni suradnik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33"/>
                </a:solidFill>
                <a:latin typeface="Times New Roman"/>
              </a:rPr>
              <a:t>knjižničar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Pravokutnik 18"/>
          <p:cNvSpPr/>
          <p:nvPr/>
        </p:nvSpPr>
        <p:spPr>
          <a:xfrm>
            <a:off x="2314440" y="3592440"/>
            <a:ext cx="199404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stalno stručno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usavršavanj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7" name="Pravokutnik 19"/>
          <p:cNvSpPr/>
          <p:nvPr/>
        </p:nvSpPr>
        <p:spPr>
          <a:xfrm>
            <a:off x="2314440" y="4978440"/>
            <a:ext cx="201132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suradnja unutar i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izvan škol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Pravokutnik 20"/>
          <p:cNvSpPr/>
          <p:nvPr/>
        </p:nvSpPr>
        <p:spPr>
          <a:xfrm>
            <a:off x="2314440" y="4302000"/>
            <a:ext cx="199404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cjeloživotno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učenj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Pravokutnik 22"/>
          <p:cNvSpPr/>
          <p:nvPr/>
        </p:nvSpPr>
        <p:spPr>
          <a:xfrm>
            <a:off x="4572000" y="2577960"/>
            <a:ext cx="1994040" cy="648000"/>
          </a:xfrm>
          <a:prstGeom prst="rect">
            <a:avLst/>
          </a:prstGeom>
          <a:solidFill>
            <a:srgbClr val="cdf1a9"/>
          </a:solidFill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3333"/>
                </a:solidFill>
                <a:latin typeface="Times New Roman"/>
              </a:rPr>
              <a:t>financiranj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0" name="Pravokutnik 23"/>
          <p:cNvSpPr/>
          <p:nvPr/>
        </p:nvSpPr>
        <p:spPr>
          <a:xfrm>
            <a:off x="4579920" y="3597120"/>
            <a:ext cx="199404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državni proračun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(MZOS)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Pravokutnik 24"/>
          <p:cNvSpPr/>
          <p:nvPr/>
        </p:nvSpPr>
        <p:spPr>
          <a:xfrm>
            <a:off x="4579920" y="4983120"/>
            <a:ext cx="2011320" cy="5032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vlastita sredstva,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marketing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Pravokutnik 25"/>
          <p:cNvSpPr/>
          <p:nvPr/>
        </p:nvSpPr>
        <p:spPr>
          <a:xfrm>
            <a:off x="4579920" y="4307040"/>
            <a:ext cx="1994040" cy="50292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proračun lokalne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samouprav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3" name="Pravokutnik 26"/>
          <p:cNvSpPr/>
          <p:nvPr/>
        </p:nvSpPr>
        <p:spPr>
          <a:xfrm>
            <a:off x="4579920" y="5665680"/>
            <a:ext cx="2011320" cy="50508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donacije,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sponzorstva, zaklade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4" name="Pravokutnik 27"/>
          <p:cNvSpPr/>
          <p:nvPr/>
        </p:nvSpPr>
        <p:spPr>
          <a:xfrm>
            <a:off x="2314440" y="5661000"/>
            <a:ext cx="2011320" cy="504720"/>
          </a:xfrm>
          <a:prstGeom prst="rect">
            <a:avLst/>
          </a:prstGeom>
          <a:solidFill>
            <a:srgbClr val="ffffc0"/>
          </a:solidFill>
          <a:ln w="324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međunarodna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suradnj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Ravni poveznik 5"/>
          <p:cNvSpPr/>
          <p:nvPr/>
        </p:nvSpPr>
        <p:spPr>
          <a:xfrm>
            <a:off x="1193760" y="2397240"/>
            <a:ext cx="6599160" cy="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6" name="Ravni poveznik 33"/>
          <p:cNvSpPr/>
          <p:nvPr/>
        </p:nvSpPr>
        <p:spPr>
          <a:xfrm flipV="1">
            <a:off x="1201680" y="2396880"/>
            <a:ext cx="0" cy="17604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Ravni poveznik 41"/>
          <p:cNvSpPr/>
          <p:nvPr/>
        </p:nvSpPr>
        <p:spPr>
          <a:xfrm flipV="1">
            <a:off x="3298680" y="2393640"/>
            <a:ext cx="0" cy="17604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Ravni poveznik 42"/>
          <p:cNvSpPr/>
          <p:nvPr/>
        </p:nvSpPr>
        <p:spPr>
          <a:xfrm flipV="1">
            <a:off x="5568840" y="2395080"/>
            <a:ext cx="0" cy="17460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Ravni poveznik 43"/>
          <p:cNvSpPr/>
          <p:nvPr/>
        </p:nvSpPr>
        <p:spPr>
          <a:xfrm flipV="1">
            <a:off x="7788240" y="2400120"/>
            <a:ext cx="0" cy="17604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Ravni poveznik 44"/>
          <p:cNvSpPr/>
          <p:nvPr/>
        </p:nvSpPr>
        <p:spPr>
          <a:xfrm flipV="1">
            <a:off x="4427640" y="2219040"/>
            <a:ext cx="0" cy="17460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Ravni poveznik 45"/>
          <p:cNvSpPr/>
          <p:nvPr/>
        </p:nvSpPr>
        <p:spPr>
          <a:xfrm flipH="1" flipV="1">
            <a:off x="1193400" y="3220560"/>
            <a:ext cx="1800" cy="36036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2" name="Ravni poveznik 52"/>
          <p:cNvSpPr/>
          <p:nvPr/>
        </p:nvSpPr>
        <p:spPr>
          <a:xfrm flipH="1" flipV="1">
            <a:off x="3322800" y="3231720"/>
            <a:ext cx="1440" cy="36036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Ravni poveznik 53"/>
          <p:cNvSpPr/>
          <p:nvPr/>
        </p:nvSpPr>
        <p:spPr>
          <a:xfrm flipH="1" flipV="1">
            <a:off x="5567040" y="3231720"/>
            <a:ext cx="3240" cy="36036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Ravni poveznik 54"/>
          <p:cNvSpPr/>
          <p:nvPr/>
        </p:nvSpPr>
        <p:spPr>
          <a:xfrm flipH="1" flipV="1">
            <a:off x="7792560" y="3247560"/>
            <a:ext cx="3240" cy="360360"/>
          </a:xfrm>
          <a:prstGeom prst="line">
            <a:avLst/>
          </a:prstGeom>
          <a:ln w="12600">
            <a:solidFill>
              <a:srgbClr val="ff5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5" name="Pravokutnik 23567"/>
          <p:cNvSpPr/>
          <p:nvPr/>
        </p:nvSpPr>
        <p:spPr>
          <a:xfrm>
            <a:off x="2341440" y="1773360"/>
            <a:ext cx="4176720" cy="446040"/>
          </a:xfrm>
          <a:prstGeom prst="rect">
            <a:avLst/>
          </a:prstGeom>
          <a:noFill/>
          <a:ln w="12600">
            <a:solidFill>
              <a:srgbClr val="fb3b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Pravokutnik 23568"/>
          <p:cNvSpPr/>
          <p:nvPr/>
        </p:nvSpPr>
        <p:spPr>
          <a:xfrm>
            <a:off x="2341440" y="17510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5033"/>
                </a:solidFill>
                <a:latin typeface="Times New Roman"/>
              </a:rPr>
              <a:t>Ciljevi strategijskog razvoj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3600" y="2217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Zaključa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488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Strategija (u dva dijela)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ciljevi strategijskog razvoja pojedinih vrsta knjižnic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nacionalna politika koja određuje ekonomski, politički i pravni okvi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Strateški planovi određuj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tko je nositelj zadatak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konkretne ciljeve koji se trebaju postić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rokove do kada se očekuje realizacija cil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mjerila po kojima će se vrednovati ostvareno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otrebna financijska sredstva za postizanje zacrtanih ciljev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EB1-1BBD-40B9-9014-08B04FCEE85B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3320" y="28368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Županijske knjižnice koje unutar hrvatskog knjižničnog sustava obavljaju matičnu djelatnost </a:t>
            </a:r>
            <a:br>
              <a:rPr sz="2800"/>
            </a:b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za narodne i školske knjižni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1" name="Picture 3" descr="hrvatska_zupanije_hr"/>
          <p:cNvPicPr/>
          <p:nvPr/>
        </p:nvPicPr>
        <p:blipFill>
          <a:blip r:embed="rId1"/>
          <a:stretch/>
        </p:blipFill>
        <p:spPr>
          <a:xfrm>
            <a:off x="2030400" y="1916280"/>
            <a:ext cx="4565520" cy="45655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250920" y="198900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85840" y="2090880"/>
            <a:ext cx="194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Bjelova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Slavonski Brod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Dubrovni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Pu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Karlovac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Koprivni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Krapin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Gospi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Čakovec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Osij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093080" y="1916280"/>
            <a:ext cx="180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Požeg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Rijek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Sisa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Spli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Šibeni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Varaždi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Vinkovc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Viroviti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Zada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Zagreb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Zagrebačka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županij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AC4A-C6FC-4736-B6F0-7F21B7411EE7}" type="slidenum">
              <a:rPr b="0" lang="en-GB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e9"/>
                </a:solidFill>
                <a:latin typeface="Times New Roman"/>
              </a:rPr>
              <a:t>Hvala na pozornost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1AB-A949-4917-82CE-C9ACF63DFF4E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1969920"/>
            <a:ext cx="7991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ogram i plan rada Hrvatskoga knjižničnog vijeća za mandatno razdoblje 20l0.-20l4.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ogram znanstvene djelatnosti Nacionalne i sveučilišne knjižnice: 2011.-2015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avilnik o matičnoj djelatnosti knjižnica u Republici Hrvatskoj - obveza je Nacionalne i sveučilišne knjižnice u Zagrebu izraditi prijedloge planova razvoja knjižnične djelatnosti na razini države i podastrijeti ih Hrvatskom knjižničnom vijeću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ravokutnik 5"/>
          <p:cNvSpPr/>
          <p:nvPr/>
        </p:nvSpPr>
        <p:spPr>
          <a:xfrm>
            <a:off x="1218240" y="333360"/>
            <a:ext cx="65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MOGUĆNOSTI RAZVOJA KNJIŽNICA U REPUBLICI HRVATSKOJ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I ZADAĆE NACIONALNE I SVEUČILIŠNE KNJIŽNICE U ZAGREBU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U ODNOSU NA PODSUSTAV ŠKOLSKIH KNJIŽNIC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6ECF-A072-4522-9092-AB2BF231876F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269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Unatoč raznolikosti pojedinih vrsta knjižnica koje se moraju iskazati u strategijama njihova razvoja, u Hrvatskom zavodu za knjižničarstvo NSK dogovorena je njihova ujednačena struktura</a:t>
            </a:r>
            <a:r>
              <a:rPr b="0" lang="hr-HR" sz="1600" spc="-1" strike="noStrike">
                <a:solidFill>
                  <a:srgbClr val="00264c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uvod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analiza stanja – Klasična analiza, PEST analiza i SWOT analiz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misi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vizi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zakonski okvir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ravokutnik 5"/>
          <p:cNvSpPr/>
          <p:nvPr/>
        </p:nvSpPr>
        <p:spPr>
          <a:xfrm>
            <a:off x="1218240" y="333360"/>
            <a:ext cx="65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MOGUĆNOSTI RAZVOJA KNJIŽNICA U REPUBLICI HRVATSKOJ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I ZADAĆE NACIONALNE I SVEUČILIŠNE KNJIŽNICE U ZAGREBU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U ODNOSU NA PODSUSTAV ŠKOLSKIH KNJIŽNIC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9571-A0F1-4BB2-A947-B3EDDC941EE1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Pravokutnik 7"/>
          <p:cNvSpPr/>
          <p:nvPr/>
        </p:nvSpPr>
        <p:spPr>
          <a:xfrm>
            <a:off x="1098720" y="1557360"/>
            <a:ext cx="7488000" cy="37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Ciljevi strategijskog razvoja: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korisnici, usluge i obrazovanje korisnik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izgradnja i razvoj zbirk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funkcionalna povezanost knjižnic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talno stručno usavršavanje knjižničar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suradnja unutar knjižničnog sustava i međunarodna suradn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financiranje provedbe strategij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Pravokutnik 9"/>
          <p:cNvSpPr/>
          <p:nvPr/>
        </p:nvSpPr>
        <p:spPr>
          <a:xfrm>
            <a:off x="1218240" y="333360"/>
            <a:ext cx="65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MOGUĆNOSTI RAZVOJA KNJIŽNICA U REPUBLICI HRVATSKOJ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I ZADAĆE NACIONALNE I SVEUČILIŠNE KNJIŽNICE U ZAGREBU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264c"/>
                </a:solidFill>
                <a:latin typeface="Times New Roman"/>
              </a:rPr>
              <a:t>U ODNOSU NA PODSUSTAV ŠKOLSKIH KNJIŽNIC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5789-E5D5-4DEB-A114-9CDA13D4584C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Nacrt strategije razvoja školskih knjižnica u R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Uvod (analiza stanja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Misija i vizij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Zakonski okvir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                  </a:t>
            </a:r>
            <a:r>
              <a:rPr b="1" lang="hr-HR" sz="1800" spc="-1" strike="noStrike">
                <a:solidFill>
                  <a:srgbClr val="00264c"/>
                </a:solidFill>
                <a:latin typeface="Times New Roman"/>
              </a:rPr>
              <a:t>Ciljevi strategij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Korisnici i usluge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Izgradnja i razvoj zbirki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Funkcionalna povezanost knjižnic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Stalno stručno usavršavanje knjižničar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Suradnja unutar knjižničnog sustava i međunarodna suradnja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5545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64c"/>
                </a:solidFill>
                <a:latin typeface="Times New Roman"/>
              </a:rPr>
              <a:t>Financiranje provedbe strategije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1C0-2C11-416E-95D9-2BE50D89D98A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246708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2011./2012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. u Hrvatskoj je bilo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1.316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škola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491.433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učenika u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23.268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razrednih odjeljen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889 OŠ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325.857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učenika u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16.648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razrednih odjeljenj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427 SŠ, 165.576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učenika u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6.620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razrednih odjeljenja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55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učeničkih domov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44.568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nastavnika,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28.901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OŠ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,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15.667 SŠ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u školskim knjižnicama radilo je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966 VSS, 119 VŠS,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5 SS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i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djelatnika mr. s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Analiza stanj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ravokutnik 4"/>
          <p:cNvSpPr/>
          <p:nvPr/>
        </p:nvSpPr>
        <p:spPr>
          <a:xfrm>
            <a:off x="1055880" y="206064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Klasična analiz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EC00-B880-4DCA-B58C-5B01D77E32FB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292392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72.077,02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m</a:t>
            </a:r>
            <a:r>
              <a:rPr b="0" lang="hr-HR" sz="20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prostora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45.820,66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m</a:t>
            </a:r>
            <a:r>
              <a:rPr b="0" lang="hr-HR" sz="20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OŠ,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26.256,36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m</a:t>
            </a:r>
            <a:r>
              <a:rPr b="0" lang="hr-HR" sz="20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SŠ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2.396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računala,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1.491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računalo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OŠ, 905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računala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SŠ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pristup Internetu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663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knjižnice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OŠ,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313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knjižnica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SŠ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bez pristupa je bilo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53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škole –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35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osnovnih i </a:t>
            </a: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18</a:t>
            </a:r>
            <a:r>
              <a:rPr b="0" lang="hr-HR" sz="2000" spc="-1" strike="noStrike">
                <a:solidFill>
                  <a:srgbClr val="00264c"/>
                </a:solidFill>
                <a:latin typeface="Times New Roman"/>
              </a:rPr>
              <a:t> srednjih škola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64c"/>
                </a:solidFill>
                <a:latin typeface="Times New Roman"/>
              </a:rPr>
              <a:t>259 OŠ i 173 SŠ nemaju niti jedan od programa za računalnu obradu knjižnične građe.  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598bbd"/>
                </a:solidFill>
                <a:uFillTx/>
                <a:latin typeface="Times New Roman"/>
                <a:hlinkClick r:id="rId8"/>
              </a:rPr>
              <a:t>http://www.nsk.hr/maticna-sluzba-za-skolske-knjiznice/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Analiza stanj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ravokutnik 5"/>
          <p:cNvSpPr/>
          <p:nvPr/>
        </p:nvSpPr>
        <p:spPr>
          <a:xfrm>
            <a:off x="1055880" y="206064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64c"/>
                </a:solidFill>
                <a:latin typeface="Times New Roman"/>
              </a:rPr>
              <a:t>Klasična analiz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zervirano mjesto broja slajda 5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1FA5-0221-4D8F-8DC6-2C028F75EAED}" type="slidenum">
              <a:rPr b="0" lang="en-GB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328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33"/>
                </a:solidFill>
                <a:latin typeface="Times New Roman"/>
              </a:rPr>
              <a:t>PEST analiza - okruženje u kojem školska knjižnica djelu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ravokutnik 7"/>
          <p:cNvSpPr/>
          <p:nvPr/>
        </p:nvSpPr>
        <p:spPr>
          <a:xfrm>
            <a:off x="829440" y="335772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64c"/>
                </a:solidFill>
                <a:latin typeface="Times New Roman"/>
              </a:rPr>
              <a:t>POLITIKA (P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ravokutnik 8"/>
          <p:cNvSpPr/>
          <p:nvPr/>
        </p:nvSpPr>
        <p:spPr>
          <a:xfrm>
            <a:off x="3999600" y="2668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64c"/>
                </a:solidFill>
                <a:latin typeface="Times New Roman"/>
              </a:rPr>
              <a:t>EKONOMIJA (E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ravokutnik 9"/>
          <p:cNvSpPr/>
          <p:nvPr/>
        </p:nvSpPr>
        <p:spPr>
          <a:xfrm>
            <a:off x="5945400" y="498780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64c"/>
                </a:solidFill>
                <a:latin typeface="Times New Roman"/>
              </a:rPr>
              <a:t>SOCIOLOGIJA (S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ravokutnik 10"/>
          <p:cNvSpPr/>
          <p:nvPr/>
        </p:nvSpPr>
        <p:spPr>
          <a:xfrm>
            <a:off x="1625760" y="55497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64c"/>
                </a:solidFill>
                <a:latin typeface="Times New Roman"/>
              </a:rPr>
              <a:t>TEHNOLOGIJA (T)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Elipsa 11"/>
          <p:cNvSpPr/>
          <p:nvPr/>
        </p:nvSpPr>
        <p:spPr>
          <a:xfrm rot="20985000">
            <a:off x="2411280" y="3513240"/>
            <a:ext cx="4462560" cy="1788840"/>
          </a:xfrm>
          <a:prstGeom prst="ellipse">
            <a:avLst/>
          </a:prstGeom>
          <a:solidFill>
            <a:srgbClr val="c9e6e0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64c"/>
                </a:solidFill>
                <a:latin typeface="Times New Roman"/>
              </a:rPr>
              <a:t>ŠKOLSKE KNJIŽNI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eronika Čelić</dc:creator>
  <dc:description/>
  <dc:language>en-US</dc:language>
  <cp:lastModifiedBy>Veronika Čelić</cp:lastModifiedBy>
  <cp:lastPrinted>2013-04-05T09:24:28Z</cp:lastPrinted>
  <dcterms:modified xsi:type="dcterms:W3CDTF">2013-04-18T08:49:52Z</dcterms:modified>
  <cp:revision>236</cp:revision>
  <dc:subject/>
  <dc:title>PowerPoint Presentation</dc:title>
</cp:coreProperties>
</file>