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B10-D3FC-4DDA-A609-03898650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F65-FF3A-48CB-BF62-7A412C7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8AD-3DE4-4F21-B8D3-2C1A605A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D40-5CAF-4C2B-9108-8BC551C0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14C-D3CC-4D8F-9BAA-8E3A6D45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E66-AE8F-4D09-BF5C-A7783C2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02B-9B11-4BF8-AD07-64D9ADC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825-6FB9-43A8-ADCE-EE550D20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9C6-2BB7-4C4D-8F63-E7CF9A4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E5F-0E19-4363-8CFC-0946B2AF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F7F-0B1C-4A31-AD10-5C76E80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ED7-E523-47C4-A432-C2E1EC2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756-0AC8-4D7C-9459-D3BDBCCB1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2057400"/>
            <a:ext cx="44960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3300"/>
                </a:solidFill>
                <a:latin typeface="Times New Roman"/>
              </a:rPr>
              <a:t>Komunikacijski bipolariteti  u našim razgovor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Prim dr sci Pavao Brajša dr 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Psihijatar, psihoterapeut, komuniko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rajsa_vodice_m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5164200"/>
            <a:ext cx="7391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25. Proljetna škola školskih knjižnič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Vodice 14. 4. – 17. 4.  20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04920"/>
            <a:ext cx="838188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očinjemo vjerovati u svoju “neiskrenu iskrenost”, smatramo je apriornom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stinom. Mnoga “znanstvena” istraživanja komunikacije među ljudima nemaju nikakvu stvarnu vrijednost jer se prividna verbalna komunikacija uzima kao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varna i na njoj se zasniva “stručna analiza i procjena ”komunikacijske situacij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9072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sobno neugroženi slobodno komuniciramo bez potrebe da budemo neiskreni i da izbjegavamo razgovor. Slobodni možemo  komunicirati na različite načine, govoriti što stvarno mislimo, osjećamo i žel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320" y="380880"/>
            <a:ext cx="8915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Uz visoki stupanj individualne ugroženosti ima  malo mjesta za međusobnu iskrenost i stvarno  međusobno prihvaćanje. Dominira  lažno prihvaćanje sugovornika. U mnogim odnosima smo manje jer to slobodno želimo a više jer to moramo. Tu se pojavljuje potreba međusobnog izbjegavanja i neiskrenost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6095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1270080"/>
            <a:ext cx="86868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r-HR" sz="3600" spc="-1" strike="noStrike">
                <a:solidFill>
                  <a:srgbClr val="3333cc"/>
                </a:solidFill>
                <a:latin typeface="Times New Roman"/>
              </a:rPr>
              <a:t>Osjećaj neugroženosti isključuje  potrebu za neiskrenošću i </a:t>
            </a:r>
            <a:r>
              <a:rPr b="1" lang="hr-HR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r-HR" sz="3600" spc="-1" strike="noStrike">
                <a:solidFill>
                  <a:srgbClr val="3333cc"/>
                </a:solidFill>
                <a:latin typeface="Times New Roman"/>
              </a:rPr>
              <a:t>izbjegavanjem. Slobodni se možemo osjećati neugroženi. Iskreni i neugroženi se ne izbjegavamo. Kvalitetan razgovor je oaza naše sigurnosti, slobode i neugroženosti. Samo takav je osnova zdravih i uspješnih međuljudskih od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838080"/>
            <a:ext cx="85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sjećaj ugroženosti je pratnja prisilne komunikacije. Otežava iskrenost i  prihvaćanje. Neslobodni osjećamo se ugroženi, ne možemo biti iskreni, nismo u stanju druge prihvatiti. Razgovor je često mjesto teške ugroženosti slobode i autonomije sugovor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243080"/>
            <a:ext cx="8686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skreni, neugroženi i slobodni u stanju smo drugoga prihvatiti. Iskreno prenesene poruke uz poštivanje naše ličnosti i slobode možemo prihvatiti. Sigurni za sebe možemo se približavati drugome i dozvoliti mu, da se približi nam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990720"/>
            <a:ext cx="838224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Stvarno prihvaćena komunikacija je uspješna i djelotvorna, odgojna i ne samo informativna nego i formativna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Djeluje i na naše ponašanje i sudjeluje u formiranju naše ličnosti u smislu prenošenih poruk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06668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zbjegavanje je nužna pratnja prisilne komunikacije. Neslobodni osjećamo se ugroženi, a ugroženi ne možemo biti iskreni, a neiskreni nismo u stanju prihvatiti poslane poruke  niti njihove prenosioce, pa ih nužno izbjegava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66"/>
                </a:solidFill>
                <a:latin typeface="Tahoma"/>
              </a:rPr>
              <a:t>Komunikacija prisile i ugrožavanja se izbjegav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66"/>
                </a:solidFill>
                <a:latin typeface="Tahoma"/>
              </a:rPr>
              <a:t>Želimo biti slobodni i sigurni u komunikacij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66"/>
                </a:solidFill>
                <a:latin typeface="Tahoma"/>
              </a:rPr>
              <a:t>Ako se tako ne osjećamo, bježimo i napuštamo područje prisilne i ugrožavajuće komunikacij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5720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skrenost nam daje osjećaj neugroženosti i stvarne slobode unutar razgovora. Iskrenost nas približava stvarnosti, oslobađa ugroženosti i približava slobodi. Samo neugroženi, prihvaćeni i slobodni  u stanju smo biti iskreni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52280"/>
            <a:ext cx="4419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Razgovo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281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lobo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uvažavajuć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ihvatlj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sk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5238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risi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ugrožavajuć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prihvatlj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isk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371600"/>
            <a:ext cx="4800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zajedništ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osob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urad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</a:rPr>
              <a:t>sporazumijevanj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43792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23720" y="2743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19160" y="41148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980720" y="5410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676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743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038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6858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8380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143000" y="380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143000"/>
            <a:ext cx="5335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7080" y="1371600"/>
            <a:ext cx="5335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362320"/>
            <a:ext cx="5335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67080" y="2590920"/>
            <a:ext cx="5335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733920"/>
            <a:ext cx="5335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7080" y="3962520"/>
            <a:ext cx="5335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4800600"/>
            <a:ext cx="53316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360" y="5029200"/>
            <a:ext cx="5331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6019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8534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Često unutar naših razgovora dominira  prividna i lažna sloboda, neugroženost i  prihvaćenost. Uvjereni da moramo biti slobodni i osjećati se neugroženo i prihvaćeno, počinjemo u to vjerovati i potiskivati sve suprotne osjećaj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120348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Prividna i “neiskrena iskrenost” tipična je za mnoge naše razgovore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914400"/>
            <a:ext cx="86104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Neiskrena komunikacija omogućava izbjegavanje komunikacije s onima koji nas ugrožavaju i tako prividno stvara osjećaj neugroženosti i slobod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8380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eiskrenost nas udaljava od sugovornika i omogućuje “komunikaciju” s onima s kojima ne želimo a moramo komunicirati. Čuva vanjsku cjelinu  određene sredine, njeno formalno funkcioniranj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6172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609480"/>
            <a:ext cx="7848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“</a:t>
            </a: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Mrtve </a:t>
            </a:r>
            <a:r>
              <a:rPr b="1" lang="hr-HR" sz="4000" spc="-1" strike="noStrike">
                <a:solidFill>
                  <a:srgbClr val="ff0066"/>
                </a:solidFill>
                <a:latin typeface="Times New Roman"/>
              </a:rPr>
              <a:t>škole</a:t>
            </a: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”  se održavaju samo i jedino preko svojih </a:t>
            </a:r>
            <a:r>
              <a:rPr b="1" lang="hr-HR" sz="4000" spc="-1" strike="noStrike">
                <a:solidFill>
                  <a:srgbClr val="ff0066"/>
                </a:solidFill>
                <a:latin typeface="Times New Roman"/>
              </a:rPr>
              <a:t>vanjskih</a:t>
            </a: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 funkcija bez stvarnog unutarnjeg funkcioniranj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U njima se </a:t>
            </a:r>
            <a:r>
              <a:rPr b="1" lang="hr-HR" sz="4000" spc="-1" strike="noStrike">
                <a:solidFill>
                  <a:srgbClr val="ff0066"/>
                </a:solidFill>
                <a:latin typeface="Times New Roman"/>
              </a:rPr>
              <a:t>uči</a:t>
            </a: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,</a:t>
            </a:r>
            <a:r>
              <a:rPr b="1" lang="hr-HR" sz="4000" spc="-1" strike="noStrike">
                <a:solidFill>
                  <a:srgbClr val="ff0066"/>
                </a:solidFill>
                <a:latin typeface="Times New Roman"/>
              </a:rPr>
              <a:t> rješavaju testovi dobivaju ocjene i svjedožbe</a:t>
            </a:r>
            <a:r>
              <a:rPr b="1" lang="hr-HR" sz="4000" spc="-1" strike="noStrike">
                <a:solidFill>
                  <a:srgbClr val="ff0066"/>
                </a:solidFill>
                <a:latin typeface="Albertus Extra Bold"/>
              </a:rPr>
              <a:t> ali ne razgovara niti susreć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85800"/>
            <a:ext cx="8077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Kvalitetna komunikacija je  slobodna i iskrena, neugrožavajuća i  prihvaćajuća. Omogućuje stvarno zajedništvo,  osigurava autonomiju pojedinaca u njemu ,  razvija međusobnu suradnju i uspješno  sporazumijevanj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44792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Nekvalitetna komunikacija je  prisilna, ugrožavajuća, izbjegavajuća i neiskrena. Razbija zajedništvo, ugrožava autonomiju, onemogućuje suradnju i međusobni sporazu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990720"/>
            <a:ext cx="77724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33cc"/>
                </a:solidFill>
                <a:latin typeface="Times New Roman"/>
              </a:rPr>
              <a:t>Nekvalitetgna komunikacija je uvijek vezana uz poremećene odnose i pomoću nje se dade nekako “preživjeti” u njima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1079640"/>
            <a:ext cx="883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udući je nemoguće ne komunicirati, pogotovo  u dugom prisilnom odnosu, u kojemu smo ne zato jer želimo nego jer moramo, preostaje nam ili popraviti međusobne odnose ili nekvalitetno komunicirat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914400"/>
            <a:ext cx="70866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r-HR" sz="4800" spc="-1" strike="noStrike">
                <a:solidFill>
                  <a:srgbClr val="3333cc"/>
                </a:solidFill>
                <a:latin typeface="Times New Roman"/>
              </a:rPr>
              <a:t>Prihvaćanje i iskrenost u prisilnoj i ugrožavajućoj atmosferi poremećene i nekvalitetne komunikacije je neostvarivo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219320"/>
            <a:ext cx="784836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 razgovoru smo zajedno    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lobodno i prisiln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 razgovoru se osjećamo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ugroženi i ugrož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 razgovoru se međusob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rihvaćamo i izbjegav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 razgovoru se sporazumijevam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skreno i neiskren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990720"/>
            <a:ext cx="830556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66"/>
                </a:solidFill>
                <a:latin typeface="Times New Roman"/>
              </a:rPr>
              <a:t>U mnogim se školama previše nekvalitetno a premalo kvalitetno razgovara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0066"/>
                </a:solidFill>
                <a:latin typeface="Times New Roman"/>
              </a:rPr>
              <a:t>Previše nekvalitetne komunikacije čini veću štetu nego premalo kvalitetne komunikacij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6095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83808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đusobno su pozitivno povezane komunikacije u funkciji održavan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ajedništva i očuvanja individualne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osobnosti  kao i one u funkciji međusobne suradnje  i  međusobnog sporazumijevanja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1295280"/>
            <a:ext cx="83822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ajedništvo je potrebno za razvoj naše individualnosti, a  za suradnju  međusobno sporazumijevanj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914400"/>
            <a:ext cx="853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U mnogim sredinama dominiraju slobodna  i  neugrožavajuća  uz izbjegavajuću i neiskren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r-HR" sz="4000" spc="-1" strike="noStrike">
                <a:solidFill>
                  <a:srgbClr val="3333cc"/>
                </a:solidFill>
                <a:latin typeface="Times New Roman"/>
              </a:rPr>
              <a:t>komunikaciju. S drugima se osjećamo slobodno  i neugroženo uz izbjegavanje razgovora ili neiskrenost u njemu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838080"/>
            <a:ext cx="8229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nogi nas izbjegavaju i lažu da bi se osjećali slobodno i neugroženo. Svi smo posebno osjetljivi na ograničenja ali i dirigiranja odozgo. U našim se razgovorima često osjećamo ugroženi i sputani, pa moramo bježati ili lagati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838080"/>
            <a:ext cx="84582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Jačanjem slobode i neugroženosti smanjuje  se izbjegavanje i neiskrenost. Smanjivanjem  slobode i neugroženosti jačaju izbjegavanje i neiskrenost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295280"/>
            <a:ext cx="8610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tmosfera slobode i uvažavanja je jedina garancija slobodnog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jedinstva uz također slobodnu i uvaženu autonomiju i individualnost svakog u njem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457200"/>
            <a:ext cx="838224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 Black"/>
              </a:rPr>
              <a:t>Druge možemo zadržati u razgovoru i u njima dobiti iskrene sugovornike uz slobodu a nikako prisilu te uz iskreno uvažavanje njihove osobnosti i autonomije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1693800"/>
            <a:ext cx="883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Brajša P.: Interpersonelle Kommunikation und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Familie. Z.system.Ther. 9(2): 139-144,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Brajša P. : Komunikacija u obitelji.                               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Soc.psihijat.19:161-168,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Brajša P.: Interpersonalna komunikacija u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obitelji. Defektologija 29(2) :117-125,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Brajša P.: Problem komunikacije između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roditelja i djece. Riječki teološki časopis 10 : 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79-9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53352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Literatu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edag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145" name="manage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827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600200"/>
            <a:ext cx="861048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U prisilnoj komunikaciji svi moraju misliti i osjećati isto a u slobodnoj i različito!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6324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14%20ScanImage0011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284280" cy="4714920"/>
          </a:xfrm>
          <a:prstGeom prst="rect">
            <a:avLst/>
          </a:prstGeom>
          <a:ln w="0">
            <a:noFill/>
          </a:ln>
        </p:spPr>
      </p:pic>
      <p:pic>
        <p:nvPicPr>
          <p:cNvPr id="147" name="svadja" descr=""/>
          <p:cNvPicPr/>
          <p:nvPr/>
        </p:nvPicPr>
        <p:blipFill>
          <a:blip r:embed="rId2"/>
          <a:stretch/>
        </p:blipFill>
        <p:spPr>
          <a:xfrm flipH="1">
            <a:off x="4648320" y="1295280"/>
            <a:ext cx="320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snovne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149" name="razgovor" descr=""/>
          <p:cNvPicPr/>
          <p:nvPr/>
        </p:nvPicPr>
        <p:blipFill>
          <a:blip r:embed="rId2"/>
          <a:stretch/>
        </p:blipFill>
        <p:spPr>
          <a:xfrm flipH="1">
            <a:off x="4933440" y="762120"/>
            <a:ext cx="38293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edamsko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1" name="19%20ScanImage0035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27050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30%20ScanImage00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067200" cy="4514760"/>
          </a:xfrm>
          <a:prstGeom prst="rect">
            <a:avLst/>
          </a:prstGeom>
          <a:ln w="0">
            <a:noFill/>
          </a:ln>
        </p:spPr>
      </p:pic>
      <p:pic>
        <p:nvPicPr>
          <p:cNvPr id="153" name="31%20ScanImage0013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318132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20%20ScanImage0031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124080" cy="4457880"/>
          </a:xfrm>
          <a:prstGeom prst="rect">
            <a:avLst/>
          </a:prstGeom>
          <a:ln w="0">
            <a:noFill/>
          </a:ln>
        </p:spPr>
      </p:pic>
      <p:pic>
        <p:nvPicPr>
          <p:cNvPr id="155" name="34%20ScanImage0018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291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ABC%20dem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257640" cy="4753080"/>
          </a:xfrm>
          <a:prstGeom prst="rect">
            <a:avLst/>
          </a:prstGeom>
          <a:ln w="0">
            <a:noFill/>
          </a:ln>
        </p:spPr>
      </p:pic>
      <p:pic>
        <p:nvPicPr>
          <p:cNvPr id="157" name="39%20ScanImage005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30067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Vođenje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228840" cy="4562640"/>
          </a:xfrm>
          <a:prstGeom prst="rect">
            <a:avLst/>
          </a:prstGeom>
          <a:ln w="0">
            <a:noFill/>
          </a:ln>
        </p:spPr>
      </p:pic>
      <p:pic>
        <p:nvPicPr>
          <p:cNvPr id="159" name="moj%20tvoj%20nas%20seks%205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295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msotw9_temp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919680" cy="5638680"/>
          </a:xfrm>
          <a:prstGeom prst="rect">
            <a:avLst/>
          </a:prstGeom>
          <a:ln w="0">
            <a:noFill/>
          </a:ln>
        </p:spPr>
      </p:pic>
      <p:pic>
        <p:nvPicPr>
          <p:cNvPr id="161" name="bez%20razgovora%20se%20ne%20moze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718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83808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azgovor čuva ili ugrožava autonomiju i individualnost sugovornika, koristi mu ili šteti. U razgovoru se osjećamo sigurno ili nesigurno, zaštićeno ili nezaštićeno, žrtvovano ili sačuvan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106668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azgovor omogućuje ili onemogućuje, olakšava ili  otežava međusobnu suradnj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etvara razgovor u monologe ili dijalog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loboda i neugrožavanje omogućuje suradnju i prihvaćanje a prisila i ugrožavanje onemogućuju suradnju i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zrok su međusobnom izbjegavanj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838080"/>
            <a:ext cx="7696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Unutar prisilnog zajedništva s ugroženom autonomijom pojedinaca imamo prividnu suradničku komunikaciju u kojoj se  uredno  “dogovaramo” ali ništa ne ostvarujemo,  na sve pristajemo ali se toga ne drž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04920"/>
            <a:ext cx="8763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1011240"/>
            <a:ext cx="8077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omunikacija može biti prividno na van posve u redu a zapravo stvarno puna neslaganja i disharmoni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 vremenom se razvija mit zajedništva i slaganja koji se uredno i stereotipno riječima ponavlja  i u kojega s vremenom počinjemo vjerovati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91440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U iskrenoj komunikaciji govorimo što mislimo, osjećamo  i kako se ponašamo, a u neiskrenoj jedno govorimo drugo mislimo treće osjećamo a na četvrti se način ponašam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6172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© Pavao Brajš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4:12:44Z</dcterms:created>
  <dc:creator>.</dc:creator>
  <dc:description/>
  <dc:language>en-US</dc:language>
  <cp:lastModifiedBy>PC-BRAJSA</cp:lastModifiedBy>
  <dcterms:modified xsi:type="dcterms:W3CDTF">2013-04-04T06:16:32Z</dcterms:modified>
  <cp:revision>30</cp:revision>
  <dc:subject/>
  <dc:title>PowerPoint Presentation</dc:title>
</cp:coreProperties>
</file>