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E09-96C0-46BA-A795-A77AEA59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FD6-84B6-47F6-AC4A-CE839FAC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888-D4E6-4C6A-B1C2-7BF0E677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4B1-8227-4276-809B-596CADA6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F55-CBDF-40AD-9877-1D3CB758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E56-7ABB-4999-8538-69E6FAF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C0D-CE4C-4714-9E4B-6D78E893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D67-1BF5-4413-95CE-93F197C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7F7-1692-4E1D-B375-B97C5D44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582-C819-4B60-8605-81CCB3B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682-8C1A-48C8-86BE-10FD745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10F-4EBF-444D-B838-0742AC76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0760" y="5784840"/>
            <a:ext cx="379872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5784840"/>
            <a:ext cx="3411360" cy="1092240"/>
            <a:chOff x="-9360" y="5784840"/>
            <a:chExt cx="341136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9360" y="5784840"/>
              <a:ext cx="34113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80800" y="6421320"/>
              <a:ext cx="16984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5840" y="5772240"/>
            <a:ext cx="341784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12.10.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     Pokažite Profil/ EBWK-Akadem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BE1C-5D97-4C94-8DB3-586C09D4D4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8544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Komunikacija bez filt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470-A327-4168-9DA3-DCE13DA0AEF7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77756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ktivno sl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je – parafrazir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noviti 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č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o s vlasitim rij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č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Z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ntrola da li je sve shv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ć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v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ž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nje sugovornik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920" y="44280"/>
            <a:ext cx="88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Prijedlozi 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i tehnike </a:t>
            </a: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za uspješniju komunikaciju: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 Aktivno slu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  <a:ea typeface="Arial"/>
              </a:rPr>
              <a:t>š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836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Kommunuikation2.JPG"/>
          <p:cNvPicPr/>
          <p:nvPr/>
        </p:nvPicPr>
        <p:blipFill>
          <a:blip r:embed="rId1"/>
          <a:stretch/>
        </p:blipFill>
        <p:spPr>
          <a:xfrm>
            <a:off x="6805440" y="3284640"/>
            <a:ext cx="2087640" cy="307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27" name="Text Placeholder 29" descr=""/>
          <p:cNvPicPr/>
          <p:nvPr/>
        </p:nvPicPr>
        <p:blipFill>
          <a:blip r:embed="rId1"/>
          <a:stretch/>
        </p:blipFill>
        <p:spPr>
          <a:xfrm>
            <a:off x="-27000" y="0"/>
            <a:ext cx="91360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20840" y="3040200"/>
            <a:ext cx="6096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464646"/>
                </a:solidFill>
                <a:latin typeface="Arial"/>
              </a:rPr>
              <a:t>Vje</a:t>
            </a:r>
            <a:r>
              <a:rPr b="1" lang="de-DE" sz="4400" spc="-1" strike="noStrike">
                <a:solidFill>
                  <a:srgbClr val="464646"/>
                </a:solidFill>
                <a:latin typeface="Arial"/>
                <a:ea typeface="Arial"/>
              </a:rPr>
              <a:t>ž</a:t>
            </a:r>
            <a:r>
              <a:rPr b="1" lang="de-DE" sz="4400" spc="-1" strike="noStrike">
                <a:solidFill>
                  <a:srgbClr val="464646"/>
                </a:solidFill>
                <a:latin typeface="Arial"/>
              </a:rPr>
              <a:t>ba za komunikaciju u timu</a:t>
            </a: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102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Brodolom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52280" y="2057400"/>
            <a:ext cx="88394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lazite se na krstarenju na privatnoj jahti cca. 800 nautičkih milja jugoistočno od Južne Afrike. Na brodu je izbio požar i brod će uskoro potonu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 putnici (Vaš tim) imaju mjesto u brodu za spašavanje. Pošto je kapacitet broda ograničen imate mogućnost ponijeti svega nekoliko predm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izbor imate petnaest predmeta, međutim ne znate koliko od njih ćete moći stvarno ponijeti sa sobom. Osim toga neki članovi tima imaju nešto novaca (novčanice i kovanice) i šibice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Brodolom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2427120"/>
            <a:ext cx="883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š zadatak je složiti redoslijed predmeta prema korisnosti u datoj situaciji. Označite predmete prema prioritetima od broja 1 (najvažniji predmet) do 15 (najmanje važan predm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dite prvo redoslijed prema Vašem osobnom mišljenju, nakon toga definirajte redoslijed u t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u odluku o prioritetu molimo da obrazlož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dmet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sekstant bez dodatne dokumentac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ogledalo za brijanj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5 l pitke vo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velika mreža protiv komara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konzerva hrane (jednodnevni obrok) za svaku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ob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zemljopisna karta Indijskoga ocea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jastuk za napuhavanj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4 l dizel-gor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FM rad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l sredstva za obranu protiv napada morskih pa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0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plastične fol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,5 l Cognac-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5m najlonske vrp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00g čokolade (po osob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komplet opreme za peca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560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atka evaluacij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40" name="Text Placeholder 29" descr=""/>
          <p:cNvPicPr/>
          <p:nvPr/>
        </p:nvPicPr>
        <p:blipFill>
          <a:blip r:embed="rId1"/>
          <a:stretch/>
        </p:blipFill>
        <p:spPr>
          <a:xfrm>
            <a:off x="4284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7311-446E-469D-828D-A1200D232074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thema_2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6363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Hvala na pozornost</a:t>
            </a: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Asertivna – nenasilna komunikacij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KAKO SE ZAUZETI ZA SEB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Arial"/>
              </a:rPr>
              <a:t>A PRITOM NE POVRIJEDITI DRUGOG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425C5CC-911C-4892-819C-B336A3A1FA95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3240" y="-3240"/>
            <a:ext cx="9153720" cy="1460520"/>
            <a:chOff x="-3240" y="-3240"/>
            <a:chExt cx="9153720" cy="1460520"/>
          </a:xfrm>
        </p:grpSpPr>
        <p:pic>
          <p:nvPicPr>
            <p:cNvPr id="51" name="Rectangle 2" descr=""/>
            <p:cNvPicPr/>
            <p:nvPr/>
          </p:nvPicPr>
          <p:blipFill>
            <a:blip r:embed="rId1"/>
            <a:stretch/>
          </p:blipFill>
          <p:spPr>
            <a:xfrm>
              <a:off x="-3240" y="-3240"/>
              <a:ext cx="9153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-3240" y="-3240"/>
              <a:ext cx="9153720" cy="14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53" name="Text Box 6"/>
          <p:cNvSpPr/>
          <p:nvPr/>
        </p:nvSpPr>
        <p:spPr>
          <a:xfrm>
            <a:off x="0" y="21636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«Najlakše je osuditi nekoga, a najte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ž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e je shvatiti ga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F. Dostojevski</a:t>
            </a:r>
            <a:r>
              <a:rPr b="1" lang="de-DE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64646"/>
                </a:solidFill>
                <a:latin typeface="Arial"/>
              </a:rPr>
              <a:t>Kada su moje potrebe i potrebe drugih u konfliktu mogu reagirati: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agresivn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asivn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sertivno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 - nenasiln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46"/>
                </a:solidFill>
                <a:latin typeface="Arial"/>
              </a:rPr>
              <a:t>A</a:t>
            </a:r>
            <a:r>
              <a:rPr b="1" lang="de-DE" sz="3200" spc="-1" strike="noStrike">
                <a:solidFill>
                  <a:srgbClr val="464646"/>
                </a:solidFill>
                <a:latin typeface="Arial"/>
              </a:rPr>
              <a:t>gresivna reakcij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borbi za svoja prava ugrožavaju se prava drugi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vjerenje “da sam samo ja u pravu”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mjerenost na sebe, ja sam iznad drugi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ječem na druge, ali ne dopuštam nikome da utječe na me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ona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š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je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                      U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č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ci na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ugovornik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tuživ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pad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ižav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lonost dominacij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403848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jećaj poniženosti, povrijeđenos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ra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reba za obran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Želja za osvet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46"/>
                </a:solidFill>
                <a:latin typeface="Arial"/>
              </a:rPr>
              <a:t>P</a:t>
            </a:r>
            <a:r>
              <a:rPr b="1" lang="de-DE" sz="3200" spc="-1" strike="noStrike">
                <a:solidFill>
                  <a:srgbClr val="464646"/>
                </a:solidFill>
                <a:latin typeface="Arial"/>
              </a:rPr>
              <a:t>asivna reakcij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: izbjeći konflikt, biti na sigurn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tiskivanje svojih potreba, interesa, sposobnos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jerovanje da ne mogu postići uspjeh pa je najbolje biti u podređenom položaj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rugima prepuštam odgovornost i inicijativu, a dobivam pomoć ili suosjeć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ona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š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je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                     U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č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ci na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ugovornik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403848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asivno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amosažaljevanje i jadikovan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Često ispričavan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vrijeđenost” osjećaj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amoponižavanje uz istovremeno optuživanje drugi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jećaj krivnje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rustrirano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jutnj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eško im se suprotstaviti, a da ih se ne povrijedi, ispadne grub ili neprijateljski raspolož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64646"/>
                </a:solidFill>
                <a:latin typeface="Arial"/>
              </a:rPr>
              <a:t>A</a:t>
            </a:r>
            <a:r>
              <a:rPr b="1" lang="de-DE" sz="3200" spc="-1" strike="noStrike">
                <a:solidFill>
                  <a:srgbClr val="464646"/>
                </a:solidFill>
                <a:latin typeface="Arial"/>
              </a:rPr>
              <a:t>sertivnost – nenasilno komuniciranje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0928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variti svoj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 zahtje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bez ugrožavanja prava drugi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iti spreman na razgovor – biti spreman komunicira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jecati na druge koristeći svoje sposobnos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štivati sebe bez ponižavanja drugi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istiti tehniku nenasilne komunikaci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ona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š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nje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r-HR" sz="2900" spc="-1" strike="noStrike">
                <a:solidFill>
                  <a:srgbClr val="ff0000"/>
                </a:solidFill>
                <a:latin typeface="Lucida Sans Unicode"/>
              </a:rPr>
              <a:t>                    </a:t>
            </a: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  <a:ea typeface="Arial"/>
              </a:rPr>
              <a:t>č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inci na 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ugovornika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vrsto, ali ne i neprijateljsk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remnost za davanje informacija, objašnjen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tvoreno izražavanje vlastitih ciljeva i očekivan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7960" y="148104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jećaj informiranosti, da smo “u kontaktu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jećaj da se mogu s osobom ne slagati bez straha da će me vidjeti kao nesposobnu ili agresivnu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osob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jećaj uvaženost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4 koraka nenasilne komunikacije</a:t>
            </a:r>
            <a:br>
              <a:rPr sz="32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(Marshall Rosenberg)</a:t>
            </a:r>
            <a:endParaRPr b="1" lang="en-US" sz="1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30808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Zapa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  <a:ea typeface="Arial"/>
              </a:rPr>
              <a:t>ž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nje (bez vrednovanj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a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, osu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  <a:ea typeface="Arial"/>
              </a:rPr>
              <a:t>đ</a:t>
            </a:r>
            <a:r>
              <a:rPr b="1" lang="hr-H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ivanja)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4 koraka nenasilne komunikacije</a:t>
            </a:r>
            <a:br>
              <a:rPr sz="32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(Marshall Rosenberg)</a:t>
            </a:r>
            <a:endParaRPr b="1" lang="en-US" sz="1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30808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2.</a:t>
            </a:r>
            <a:r>
              <a:rPr b="1" lang="de-DE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Emocija (iskrena, «izvorna»)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4 koraka nenasilne komunikacije</a:t>
            </a:r>
            <a:br>
              <a:rPr sz="32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(Marshall Rosenberg)</a:t>
            </a:r>
            <a:endParaRPr b="1" lang="en-US" sz="1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30808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3.</a:t>
            </a:r>
            <a:r>
              <a:rPr b="1" lang="de-DE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Potreba (što 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  <a:ea typeface="Arial"/>
              </a:rPr>
              <a:t>ž</a:t>
            </a:r>
            <a:r>
              <a:rPr b="1" lang="hr-HR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elim, što mi je potrebno)</a:t>
            </a: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3011392-2774-4106-AC19-DF20D35C9217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3240" y="-3240"/>
            <a:ext cx="9153720" cy="1460520"/>
            <a:chOff x="-3240" y="-3240"/>
            <a:chExt cx="9153720" cy="1460520"/>
          </a:xfrm>
        </p:grpSpPr>
        <p:pic>
          <p:nvPicPr>
            <p:cNvPr id="56" name="Rectangle 2" descr=""/>
            <p:cNvPicPr/>
            <p:nvPr/>
          </p:nvPicPr>
          <p:blipFill>
            <a:blip r:embed="rId1"/>
            <a:stretch/>
          </p:blipFill>
          <p:spPr>
            <a:xfrm>
              <a:off x="-3240" y="-3240"/>
              <a:ext cx="9153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-3240" y="-3240"/>
              <a:ext cx="9153720" cy="14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lowchart: Magnetic Disk 7"/>
          <p:cNvSpPr/>
          <p:nvPr/>
        </p:nvSpPr>
        <p:spPr>
          <a:xfrm>
            <a:off x="2428920" y="4286160"/>
            <a:ext cx="4572000" cy="1500120"/>
          </a:xfrm>
          <a:prstGeom prst="flowChartMagneticDisk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lowchart: Extract 8"/>
          <p:cNvSpPr/>
          <p:nvPr/>
        </p:nvSpPr>
        <p:spPr>
          <a:xfrm>
            <a:off x="4429080" y="314316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miley Face 9"/>
          <p:cNvSpPr/>
          <p:nvPr/>
        </p:nvSpPr>
        <p:spPr>
          <a:xfrm>
            <a:off x="4572000" y="242892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un 10"/>
          <p:cNvSpPr/>
          <p:nvPr/>
        </p:nvSpPr>
        <p:spPr>
          <a:xfrm>
            <a:off x="6072120" y="785880"/>
            <a:ext cx="2428920" cy="2500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4 koraka nenasilne komunikacije</a:t>
            </a:r>
            <a:br>
              <a:rPr sz="3200"/>
            </a:b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(Marshall Rosenberg)</a:t>
            </a:r>
            <a:endParaRPr b="1" lang="en-US" sz="1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3080880"/>
            <a:ext cx="80773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4.</a:t>
            </a:r>
            <a:r>
              <a:rPr b="1" lang="de-DE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	</a:t>
            </a:r>
            <a:r>
              <a:rPr b="1" lang="de-DE" sz="2600" spc="-1" strike="noStrike">
                <a:solidFill>
                  <a:srgbClr val="000066"/>
                </a:solidFill>
                <a:latin typeface="Arial"/>
                <a:ea typeface="Arial"/>
              </a:rPr>
              <a:t>Ž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elja (što </a:t>
            </a:r>
            <a:r>
              <a:rPr b="1" lang="de-DE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z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elim da u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Arial"/>
              </a:rPr>
              <a:t>č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iniš, </a:t>
            </a:r>
            <a:r>
              <a:rPr b="1" lang="de-DE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z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elja </a:t>
            </a:r>
            <a:r>
              <a:rPr b="1" lang="hr-HR" sz="3200" spc="-1" strike="noStrike" u="sng">
                <a:solidFill>
                  <a:srgbClr val="000080"/>
                </a:solidFill>
                <a:uFillTx/>
                <a:latin typeface="Arial"/>
                <a:ea typeface="Times New Roman"/>
              </a:rPr>
              <a:t>ne</a:t>
            </a:r>
            <a:r>
              <a:rPr b="1" lang="hr-HR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zahtjev)</a:t>
            </a:r>
            <a:r>
              <a:rPr b="1" lang="de-DE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534C17A-92BB-4F11-A266-5A01A7676EC8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-3240" y="-3240"/>
            <a:ext cx="9153720" cy="1460520"/>
            <a:chOff x="-3240" y="-3240"/>
            <a:chExt cx="9153720" cy="1460520"/>
          </a:xfrm>
        </p:grpSpPr>
        <p:pic>
          <p:nvPicPr>
            <p:cNvPr id="65" name="Rectangle 2" descr=""/>
            <p:cNvPicPr/>
            <p:nvPr/>
          </p:nvPicPr>
          <p:blipFill>
            <a:blip r:embed="rId1"/>
            <a:stretch/>
          </p:blipFill>
          <p:spPr>
            <a:xfrm>
              <a:off x="-3240" y="-3240"/>
              <a:ext cx="9153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-3240" y="-3240"/>
              <a:ext cx="9153720" cy="14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67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miley Face 9"/>
          <p:cNvSpPr/>
          <p:nvPr/>
        </p:nvSpPr>
        <p:spPr>
          <a:xfrm>
            <a:off x="429264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860640"/>
            <a:ext cx="302400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lowchart: Extract 8"/>
          <p:cNvSpPr/>
          <p:nvPr/>
        </p:nvSpPr>
        <p:spPr>
          <a:xfrm>
            <a:off x="4151160" y="3213000"/>
            <a:ext cx="135756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0000" y="2349360"/>
            <a:ext cx="161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osob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biogra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9080" y="5013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33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podsvjesni progr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uvjerenja, neuro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733920"/>
            <a:ext cx="1798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3300"/>
                </a:solidFill>
                <a:latin typeface="Arial"/>
              </a:rPr>
              <a:t>osobni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3300"/>
                </a:solidFill>
                <a:latin typeface="Arial"/>
              </a:rPr>
              <a:t>fil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4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bijeg ili b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5516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santa le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un 10"/>
          <p:cNvSpPr/>
          <p:nvPr/>
        </p:nvSpPr>
        <p:spPr>
          <a:xfrm>
            <a:off x="6372360" y="333360"/>
            <a:ext cx="2232000" cy="187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1265E3B-B689-47FF-8CFF-EF8014C88270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-3240" y="-3240"/>
            <a:ext cx="9153720" cy="1460520"/>
            <a:chOff x="-3240" y="-3240"/>
            <a:chExt cx="9153720" cy="1460520"/>
          </a:xfrm>
        </p:grpSpPr>
        <p:pic>
          <p:nvPicPr>
            <p:cNvPr id="82" name="Rectangle 2" descr=""/>
            <p:cNvPicPr/>
            <p:nvPr/>
          </p:nvPicPr>
          <p:blipFill>
            <a:blip r:embed="rId1"/>
            <a:stretch/>
          </p:blipFill>
          <p:spPr>
            <a:xfrm>
              <a:off x="-3240" y="-3240"/>
              <a:ext cx="9153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-3240" y="-3240"/>
              <a:ext cx="9153720" cy="14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miley Face 9"/>
          <p:cNvSpPr/>
          <p:nvPr/>
        </p:nvSpPr>
        <p:spPr>
          <a:xfrm>
            <a:off x="111600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lowchart: Extract 8"/>
          <p:cNvSpPr/>
          <p:nvPr/>
        </p:nvSpPr>
        <p:spPr>
          <a:xfrm>
            <a:off x="971640" y="321300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miley Face 9"/>
          <p:cNvSpPr/>
          <p:nvPr/>
        </p:nvSpPr>
        <p:spPr>
          <a:xfrm>
            <a:off x="7027920" y="2349360"/>
            <a:ext cx="1000080" cy="71460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lowchart: Extract 8"/>
          <p:cNvSpPr/>
          <p:nvPr/>
        </p:nvSpPr>
        <p:spPr>
          <a:xfrm>
            <a:off x="6815160" y="314172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340000" y="836640"/>
            <a:ext cx="446544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8585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marL="343080" indent="-343080" algn="ctr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98100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A326DE9-156B-4153-B091-EAF3025F19A4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3240" y="-3240"/>
            <a:ext cx="9153720" cy="1460520"/>
            <a:chOff x="-3240" y="-3240"/>
            <a:chExt cx="9153720" cy="1460520"/>
          </a:xfrm>
        </p:grpSpPr>
        <p:pic>
          <p:nvPicPr>
            <p:cNvPr id="95" name="Rectangle 2" descr=""/>
            <p:cNvPicPr/>
            <p:nvPr/>
          </p:nvPicPr>
          <p:blipFill>
            <a:blip r:embed="rId1"/>
            <a:stretch/>
          </p:blipFill>
          <p:spPr>
            <a:xfrm>
              <a:off x="-3240" y="-3240"/>
              <a:ext cx="915372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-3240" y="-3240"/>
              <a:ext cx="9153720" cy="14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97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miley Face 9"/>
          <p:cNvSpPr/>
          <p:nvPr/>
        </p:nvSpPr>
        <p:spPr>
          <a:xfrm>
            <a:off x="111600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lowchart: Extract 8"/>
          <p:cNvSpPr/>
          <p:nvPr/>
        </p:nvSpPr>
        <p:spPr>
          <a:xfrm>
            <a:off x="971640" y="321300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miley Face 9"/>
          <p:cNvSpPr/>
          <p:nvPr/>
        </p:nvSpPr>
        <p:spPr>
          <a:xfrm>
            <a:off x="7027920" y="2349360"/>
            <a:ext cx="1000080" cy="71460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lowchart: Extract 8"/>
          <p:cNvSpPr/>
          <p:nvPr/>
        </p:nvSpPr>
        <p:spPr>
          <a:xfrm>
            <a:off x="6815160" y="314172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2340000" y="836640"/>
            <a:ext cx="446544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8585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marL="343080" indent="-343080" algn="ctr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98100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02560" y="2529360"/>
            <a:ext cx="865080" cy="3816360"/>
          </a:xfrm>
          <a:prstGeom prst="flowChartOnlineStorage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414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53232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moramo 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iti braniti niti napada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eli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rvo razumjeti,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a tek onda biti razumlje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Svjestan stav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proizašao iz svjesne odlu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031280" y="368640"/>
            <a:ext cx="865080" cy="3816360"/>
          </a:xfrm>
          <a:prstGeom prst="flowChartOnlineStorag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989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35323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uvjet za konstruktivnu komunikaciju i kvalitetnu surad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031280" y="368640"/>
            <a:ext cx="865080" cy="3816360"/>
          </a:xfrm>
          <a:prstGeom prst="flowChartOnlineStorage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1989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DC8C-9650-4AE5-9EE7-AAE75E4AA289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486080"/>
            <a:ext cx="77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utralan stav (JA SAM OK – TI SI OK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poznavanje podsvjesnih progra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ispitivanje osobnih stavova i uvjeren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ktivno slu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nje – parafraziran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920" y="4428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Prijedlozi za uspješniju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836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Kommunuikation2.JPG"/>
          <p:cNvPicPr/>
          <p:nvPr/>
        </p:nvPicPr>
        <p:blipFill>
          <a:blip r:embed="rId1"/>
          <a:stretch/>
        </p:blipFill>
        <p:spPr>
          <a:xfrm>
            <a:off x="6805440" y="3284640"/>
            <a:ext cx="2087640" cy="307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8:20:24Z</dcterms:created>
  <dc:creator>EBWK</dc:creator>
  <dc:description/>
  <dc:language>en-US</dc:language>
  <cp:lastModifiedBy>ZK</cp:lastModifiedBy>
  <dcterms:modified xsi:type="dcterms:W3CDTF">2013-04-15T12:55:01Z</dcterms:modified>
  <cp:revision>60</cp:revision>
  <dc:subject/>
  <dc:title>Faktori uspjeha zakoni za pobjedni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8.1.0.3333</vt:lpwstr>
  </property>
</Properties>
</file>