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ABA6-6BD6-4406-B8CB-7EE2F830BDDC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zervirano mjesto broja slajda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B71C-0FC7-470D-B71A-A1D0644E7418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5B1-4FBF-46F9-A072-81D7647C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E7A-7652-4F5E-A490-4B00C36A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777-ED33-4297-B98A-B6837B80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A69-7735-4EA4-914D-0396D394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EEC7-32DB-4776-9DFD-F1DAF775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9941-9068-4E79-B021-889709B1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521D-2C6A-42FE-9515-8229C71A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05E7-23B3-41B4-B36B-164D53FD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3C03-BFFB-422E-8337-D5E9C0D5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5367-5A6E-461D-9BA1-5AA94845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ADF8-219D-459E-8468-DC1B264A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D8C-36C3-4DB1-ADAC-CA2E9AA5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936C-6C10-4468-BCD9-F2C15FCE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B69C-7279-424C-81B1-12DEC65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DD5C-E320-4852-AF96-F57F3017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FFB3-53EE-45A9-A3CF-A63F1D4F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94F2-6B29-4BDC-9DCE-BD0A933E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8C09-DCD6-4C78-93EC-62CAC74D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8DF8-2AF0-4256-9C89-FFC3517A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B75A-0DB8-42E6-A02C-54CACFC8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A47D-4EE6-4040-8E01-A5FA1EFE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6307-4CA1-47DA-9014-03197E8C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7C8-A653-4ABD-B5E9-D0EB8021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FCC4-9C94-48C9-9DC8-E708AE65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50D9-EC33-4D18-A1F3-DE498C40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B1F8E-D186-4A70-BBE9-164EC416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0D8A-7CD5-4776-B1B4-8EDFBF9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593E-7F59-4D7C-9008-DA7D71DF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89B6-E852-474A-B16F-BF666555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F56D-7FBA-4D94-9854-0213F248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84C71-5B8F-401A-B2DD-0E281A75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F35CF-A78D-4072-BFD8-538EA6F7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604AC-C49D-4E6A-BAEB-9FF9CA07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45D-366D-4B1A-9E58-29A2AFD5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F6DB9-179D-4935-8A7C-FDE8B25C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A7BBF-84D9-4AB3-AE4E-9BA91728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DDF5-E02D-4418-BA19-2D028A08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46499-4641-4B23-A2A6-2BBA34AA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B15D-AB0F-4B7A-8217-C50F319F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CF379-CAB0-4088-8515-8ACAB70C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C938-C1E0-4404-B24F-9D6A9491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2F66-630E-4384-8379-BD9656AA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4642D-CC74-42D7-B2AD-6616608B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13F6-3CFA-4335-8064-29B239FE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F0C-7503-4207-B960-BD16A1D3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23FC1-E5CB-402D-BCF5-3EC1B917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1ED95-6EE5-47DA-8AC6-C0DC39B5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8A468-F3CD-41C5-9730-5EB71283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B51F9-F1D4-42BD-B4DE-F72D93C7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417D3-E433-4465-B638-72B00FE1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F02E6-CCA8-4D67-89B9-DBF56FA5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9D910-D4D7-42C6-83E1-6F130339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91EAC-8F12-408D-A9C8-D98FA81B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DBC6-0151-4671-96B0-3AF01EBB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52D75-EDE1-413D-9DE3-135177CF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B66-E621-45C4-8E7E-76FAA9F3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7A4DF-D4FD-4AEE-8562-75A20F17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7764-F8EB-4A91-8D91-F1933B0D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00F19-2ACA-4D31-9E3D-830A328A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0FDEB-EFC3-4542-ADE1-BFE63CE3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4833D-E9FD-417A-A6A5-CBE9DA6A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03734-04E5-46DB-8F83-88FC1E8C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6E05A-B15E-4CE8-84A5-23CDF9D0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0ED5-531C-445C-B780-6146759D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F35FC-866E-4663-8780-3A4855F9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26658-2567-409A-9C65-FB499FCE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F4B-3A89-4B89-A8CE-6DFFF09C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37F12-BC29-44CB-9CAB-D6D4F1A1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AD288-6AF0-41AE-B74B-C85E5B4C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10865-B910-4A71-A9CA-186D9540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9EFA8-01D2-48F9-88E2-F7A13709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2CF4E-6A65-4BB8-8AD1-3E5858CA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E2384-6D3C-4943-B5CC-C0752EB2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C5B0F-F18E-453C-8A17-694FD574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983E7-9125-4230-89A3-5613A39C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1ABF4-A8EA-41BA-9CFB-DE8C0BEE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78E3B-9597-44BA-8B86-8DF029AD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321B-CBA8-44E2-A0BB-3B2960F6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4E3F7-BA26-450A-A07E-FCFB934D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0015-09D0-4498-8FC3-EDCB8A29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1EDE3-21C1-4597-AB16-BCCC5321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4514A-3EA6-4B84-8D4F-F813B0C0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D7CD1-D681-4F7D-A153-7D3A3A4D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9B3F4-2978-47DA-859E-5A3BA706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4329B-B866-4FF4-B6DF-2FB51526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2738B-329A-4EF7-BC81-9D191A2E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BDB17-3B6B-4719-B437-74EBE037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86FD1-8C89-4985-9A8A-9282B80B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CDC-6768-4AFA-AF02-D013215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1F257-A2E9-4EF8-A11A-1507A9EE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F7E44-B4DA-4B12-B296-D5CB3FC6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C01DE-AF8D-4514-83AA-B076EEC0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5E018-9900-44A7-A212-80E56FCC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305FB-A47A-4121-B093-49AFA9A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8C07-9AF3-4DED-A075-A4C7FF00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F0317-710F-4BD8-A4BC-8CBACA6A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Ravni poveznik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01AC-846B-4610-BAB0-40AED8DE773F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kutni troku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Prostoručno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Prostoručno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Prostoručno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Prostoručno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Ravni poveznik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CB57-7C77-4A75-AE54-FBCF69C95125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Ravni poveznik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Š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Š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D131-2AB6-4185-A986-EA537CD1E69A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Ravni poveznik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CC0B-CC26-4D9B-89A8-B946D98D6966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2D4D-05D3-4B00-97B0-A2C3FEA4D78E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Pravokutni trokut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Ravni poveznik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9F0F-F146-4A44-9EF7-E9C657E69A0C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046C-FFCB-4EDA-80AB-15A8DB50C237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rostoručno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rostoručno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Pravokutni trokut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Pravokutni trokut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Ravni poveznik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Š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Š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6367-3DD7-407D-B93A-5287851EE1C0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google.hr/url?sa=i&amp;rct=j&amp;q=&amp;esrc=s&amp;frm=1&amp;source=images&amp;cd=&amp;cad=rja&amp;docid=Vu556-308l8xrM&amp;tbnid=szLUnc6EtHMcWM:&amp;ved=0CAUQjRw&amp;url=http%3A%2F%2Fwww.os-stanovi-zd.skole.hr%2Fnastava%2Fpredmeti%3Fnews_id%3D290&amp;ei=BEhUUYGACIrEPZnAgMgJ&amp;bvm=bv.44342787,d.bGE&amp;psig=AFQjCNGqWpNt0fQw2wLIzqbKiQadM5Fifg&amp;ust=1364564352127042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1189080" y="128520"/>
            <a:ext cx="8454960" cy="29386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11280" y="378936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" spc="-1" strike="noStrike">
                <a:solidFill>
                  <a:srgbClr val="464646"/>
                </a:solidFill>
                <a:latin typeface="Tahoma"/>
              </a:rPr>
              <a:t>	</a:t>
            </a:r>
            <a:r>
              <a:rPr b="0" lang="hr-HR" sz="600" spc="-1" strike="noStrike">
                <a:solidFill>
                  <a:srgbClr val="464646"/>
                </a:solidFill>
                <a:latin typeface="Tahoma"/>
              </a:rPr>
              <a:t>	</a:t>
            </a:r>
            <a:r>
              <a:rPr b="0" lang="hr-HR" sz="600" spc="-1" strike="noStrike">
                <a:solidFill>
                  <a:srgbClr val="464646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464646"/>
                </a:solidFill>
                <a:latin typeface="Tahoma"/>
              </a:rPr>
              <a:t>                           </a:t>
            </a:r>
            <a:r>
              <a:rPr b="1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Mira Zovko, prof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1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viša stručna savjetn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       </a:t>
            </a:r>
            <a:r>
              <a:rPr b="0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za školske knjižn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hr-HR" sz="28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hr-HR" sz="1900" spc="-1" strike="noStrike">
                <a:solidFill>
                  <a:srgbClr val="464646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hr-HR" sz="1900" spc="-1" strike="noStrike">
                <a:solidFill>
                  <a:srgbClr val="464646"/>
                </a:solidFill>
                <a:latin typeface="Arial"/>
                <a:ea typeface="Arial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64646"/>
                </a:solidFill>
                <a:latin typeface="Arial"/>
                <a:ea typeface="Arial"/>
              </a:rPr>
              <a:t>Vodice, 16. travnja 2013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64646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64646"/>
                </a:solidFill>
                <a:latin typeface="Arial"/>
                <a:ea typeface="Arial"/>
              </a:rPr>
              <a:t>	</a:t>
            </a:r>
            <a:r>
              <a:rPr b="0" lang="hr-HR" sz="2400" spc="-1" strike="noStrike">
                <a:solidFill>
                  <a:srgbClr val="464646"/>
                </a:solidFill>
                <a:latin typeface="Arial"/>
                <a:ea typeface="Arial"/>
              </a:rPr>
              <a:t>25. PROLJETNA ŠKOLA ŠKOLSKIH KNJIŽNIČAR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464646"/>
                </a:solidFill>
                <a:latin typeface="Lucida Sans Unicode"/>
              </a:rPr>
              <a:t>           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Timski rad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 pripremi i provedbi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vnih sa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reativnih radionic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kolskih projek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Tim za kvalitetu i izradu razvojnoga plana škol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4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ulturne ustanov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je organiziraju rad s djecom i mladi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zališ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ulturno-umjetnička društv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rodne i druge knjižni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ntegraci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kulturnih sadržaj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 nastavu pojedinih predmet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Hrvatski jezi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rani jezic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vije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ikovna kultu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lazbena kultura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200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Strukovne udru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Srodne instituci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omicanje općeljudskih vrijednos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Usklađivanje društveno-humanističkih vrijednos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Promicanje kulturno-povijesnih vrijednosti i osobitos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4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Javno komuniciran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asovno komuniciran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pic>
        <p:nvPicPr>
          <p:cNvPr id="406" name="irc_mi" descr="govo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852640"/>
            <a:ext cx="309564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adovoljiti korisničke potreb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brazovn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ijsk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obni razvoj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uradnj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vno osoblje i odgajatelj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ručni suradnic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irediti  u skladu 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NESCO-i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anifestom za školske knjižn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FLA-inim i UNESCO-vim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mjernicama za školske knjižnic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6084720" y="4233960"/>
            <a:ext cx="2016360" cy="2290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uradnj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itelji, nastavnici, odgajatelj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ručni suradnic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avnatelj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stanove u kultu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gojno-obrazovne ustanov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Školska raz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Županijska raz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Županijska stručna vijeća – AZOO, AS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Županijska vijeća – matične knjižni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ržavna raz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inistarstvo znanosti, obrazovanja i sporta 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gencija za odgoj i obrazovanj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vod za knjižničarstvo Nacionalne i sveučilišne knjižni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4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17040" y="1846080"/>
            <a:ext cx="792972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spostavit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lobalno konkurentan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valitetan 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rživ odgojno-obrazovni sustav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trukovne udru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Hrvatsko knjižničarsko društvo – HK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Hrvatska udruga školskih knjižničara – HUŠ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Hrvatska mreža školskih knjižničara - HMŠ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4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drazumijev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igurati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ostupnost podataka o knjižničnoj građi svim korisnicima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stup svim relevantnim informacijama 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jegovanje posebnih odgojno-obrazovnih i komunikacijskih potreba učenika i učitel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uvremena školska knjižn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34272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risnik – subjekt društva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342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brazovan za primanje i davanje informac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46080" indent="-342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ultimedijski koncipira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r-HR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komunikacijski protok društv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424" name="Strelica udesno 3"/>
          <p:cNvSpPr/>
          <p:nvPr/>
        </p:nvSpPr>
        <p:spPr>
          <a:xfrm>
            <a:off x="4859280" y="407664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zervirano mjesto sadržaja 3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024360" cy="2447640"/>
          </a:xfrm>
          <a:prstGeom prst="rect">
            <a:avLst/>
          </a:prstGeom>
          <a:ln w="0">
            <a:noFill/>
          </a:ln>
        </p:spPr>
      </p:pic>
      <p:pic>
        <p:nvPicPr>
          <p:cNvPr id="426" name="Naslov 1" descr=""/>
          <p:cNvPicPr/>
          <p:nvPr/>
        </p:nvPicPr>
        <p:blipFill>
          <a:blip r:embed="rId2"/>
          <a:stretch/>
        </p:blipFill>
        <p:spPr>
          <a:xfrm>
            <a:off x="208080" y="274680"/>
            <a:ext cx="8478720" cy="1230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C:\Users\mzovko\Pictures\strategija.jpg"/>
          <p:cNvPicPr/>
          <p:nvPr/>
        </p:nvPicPr>
        <p:blipFill>
          <a:blip r:embed="rId3"/>
          <a:stretch/>
        </p:blipFill>
        <p:spPr>
          <a:xfrm>
            <a:off x="4284720" y="3213000"/>
            <a:ext cx="297504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sigurati svim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ostupan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ohodan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nkurentan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sklađen sustav obrazovan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spjeh u radu škole/školske knjižn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snivač – MZ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ZOS – MK – NSK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46240"/>
          </a:xfrm>
          <a:prstGeom prst="rect">
            <a:avLst/>
          </a:prstGeom>
          <a:ln w="0">
            <a:noFill/>
          </a:ln>
        </p:spPr>
      </p:pic>
      <p:sp>
        <p:nvSpPr>
          <p:cNvPr id="385" name="Strelica udesno 4"/>
          <p:cNvSpPr/>
          <p:nvPr/>
        </p:nvSpPr>
        <p:spPr>
          <a:xfrm>
            <a:off x="3635280" y="2552760"/>
            <a:ext cx="73080" cy="460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Donošenj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a za školske knjižnice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Poticanje izrade i usvajanja strateških dokumenat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30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Strategija razvoja hrvatskih knjižnica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30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do 2015. godin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30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(narodnih, </a:t>
            </a:r>
            <a:r>
              <a:rPr b="0" i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školskih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, visokoškolskih i specijalnih)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Naslov 1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redište knjižničnoga sustava i središnja matična knjižn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0560" indent="-228600">
              <a:lnSpc>
                <a:spcPct val="100000"/>
              </a:lnSpc>
              <a:spcBef>
                <a:spcPts val="326"/>
              </a:spcBef>
              <a:buClr>
                <a:srgbClr val="39639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c6c6c"/>
                </a:solidFill>
                <a:latin typeface="Arial"/>
                <a:ea typeface="Arial"/>
              </a:rPr>
              <a:t>Zadaća</a:t>
            </a:r>
            <a:r>
              <a:rPr b="0" lang="hr-HR" sz="2400" spc="-1" strike="noStrike">
                <a:solidFill>
                  <a:srgbClr val="6c6c6c"/>
                </a:solidFill>
                <a:latin typeface="Arial"/>
                <a:ea typeface="Arial"/>
              </a:rPr>
              <a:t> - organiziranje i razvijanje sustava knjižnica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0560" indent="-228600">
              <a:lnSpc>
                <a:spcPct val="100000"/>
              </a:lnSpc>
              <a:spcBef>
                <a:spcPts val="326"/>
              </a:spcBef>
              <a:buClr>
                <a:srgbClr val="39639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20560" indent="-228600">
              <a:lnSpc>
                <a:spcPct val="100000"/>
              </a:lnSpc>
              <a:spcBef>
                <a:spcPts val="326"/>
              </a:spcBef>
              <a:buClr>
                <a:srgbClr val="39639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c6c6c"/>
                </a:solidFill>
                <a:latin typeface="Arial"/>
                <a:ea typeface="Arial"/>
              </a:rPr>
              <a:t>Cilj</a:t>
            </a:r>
            <a:r>
              <a:rPr b="0" lang="hr-HR" sz="2400" spc="-1" strike="noStrike">
                <a:solidFill>
                  <a:srgbClr val="6c6c6c"/>
                </a:solidFill>
                <a:latin typeface="Arial"/>
                <a:ea typeface="Arial"/>
              </a:rPr>
              <a:t> - osiguravanje kvalitetne knjižnične službe u znanosti, obrazovanju, kulturi i društvu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Naslov 1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tručni kriterij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jerila za promicanje kvalitet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ADAĆ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uradnja obrazovnih instituci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obilnost sudionika obrazovnoga proces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azvoj tolerancije i multikulturalnost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Naslov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36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d s učenici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uradnj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itelji, nastavnici, odgajatelj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ručni suradnic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avnatelj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tručni aktivi u škol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uradnja s roditeljim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napređenje rada školske knjižni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Naslov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2:06:03Z</dcterms:created>
  <dc:creator>Mira Zovko</dc:creator>
  <dc:description/>
  <dc:language>en-US</dc:language>
  <cp:lastModifiedBy>mira</cp:lastModifiedBy>
  <cp:lastPrinted>2013-04-12T12:06:22Z</cp:lastPrinted>
  <dcterms:modified xsi:type="dcterms:W3CDTF">2013-04-13T15:05:06Z</dcterms:modified>
  <cp:revision>202</cp:revision>
  <dc:subject/>
  <dc:title>standard</dc:title>
</cp:coreProperties>
</file>