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07AF-85EC-40ED-8B9C-35E35CE0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3C2-2850-4D39-B397-E45D6A0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815-63A0-45C9-AB22-B8F66AA0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F7B-0438-4ABF-94CC-D957A8B9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734-9B7C-4072-80DB-FE39DCB1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EFC-8D2D-4878-9D6F-45F6C9ED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99D-10DB-4C9D-A48F-A37D753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218-A021-4839-A620-4ECF6929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625-AA9A-4C87-8E25-91B7573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13D-4E26-4052-9012-8419E4C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A68-0AEC-4C76-94D3-09B09D25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98B-57EF-4B95-884D-4908AFD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47520" y="5784840"/>
            <a:ext cx="379548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6480" y="5784840"/>
            <a:ext cx="3408480" cy="1092240"/>
            <a:chOff x="-6480" y="5784840"/>
            <a:chExt cx="340848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84840"/>
              <a:ext cx="340848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83320" y="6421320"/>
              <a:ext cx="16970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2600" y="5772240"/>
            <a:ext cx="341460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12.10.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     Pokažite Profil/ EBWK-Akadem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928-4199-4BAD-BD2C-38B751370F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8544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Komunikacija bez filte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18F1-FCAB-4B10-BD96-8DFB3DADA384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777564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ktivno slu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š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je – parafrazir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noviti r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č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o s vlasitim rij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č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Z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š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ontrola da li je sve shv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ć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-536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v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ž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anje sugovornik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76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4920" y="44280"/>
            <a:ext cx="88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Arial"/>
              </a:rPr>
              <a:t>Prijedlozi 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</a:rPr>
              <a:t>i tehnike </a:t>
            </a:r>
            <a:r>
              <a:rPr b="0" lang="hr-HR" sz="3200" spc="-1" strike="noStrike">
                <a:solidFill>
                  <a:srgbClr val="464646"/>
                </a:solidFill>
                <a:latin typeface="Arial"/>
              </a:rPr>
              <a:t>za uspješniju komunikaciju: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</a:rPr>
              <a:t> Aktivno slu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  <a:ea typeface="Arial"/>
              </a:rPr>
              <a:t>š</a:t>
            </a:r>
            <a:r>
              <a:rPr b="0" lang="de-DE" sz="3200" spc="-1" strike="noStrike">
                <a:solidFill>
                  <a:srgbClr val="464646"/>
                </a:solidFill>
                <a:latin typeface="Arial"/>
              </a:rPr>
              <a:t>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836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000" y="213372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464646"/>
                </a:solidFill>
                <a:latin typeface="Arial"/>
              </a:rPr>
              <a:t>Vje</a:t>
            </a:r>
            <a:r>
              <a:rPr b="1" lang="de-DE" sz="4400" spc="-1" strike="noStrike">
                <a:solidFill>
                  <a:srgbClr val="464646"/>
                </a:solidFill>
                <a:latin typeface="Arial"/>
                <a:ea typeface="Arial"/>
              </a:rPr>
              <a:t>ž</a:t>
            </a:r>
            <a:r>
              <a:rPr b="1" lang="de-DE" sz="4400" spc="-1" strike="noStrike">
                <a:solidFill>
                  <a:srgbClr val="464646"/>
                </a:solidFill>
                <a:latin typeface="Arial"/>
              </a:rPr>
              <a:t>ba za komunikaciju u timu</a:t>
            </a:r>
            <a:endParaRPr b="1" lang="en-US" sz="4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Brodolom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057400"/>
            <a:ext cx="88394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lazite se na krstarenju na privatnoj jahti cca. 800 nautičkih milja jugoistočno od Južne Afrike. Na brodu je izbio požar i brod će uskoro potonu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 putnici (Vaš tim) imaju mjesto u brodu za spašavanje. Pošto je kapacitet broda ograničen imate mogućnost ponijeti svega nekoliko predme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 izbor imate petnaest predmeta, međutim ne znate koliko od njih ćete moći stvarno ponijeti sa sobom. Osim toga neki članovi tima imaju nešto novaca (novčanice i kovanice) i šibice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Arial"/>
              </a:rPr>
              <a:t>Brodolom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427120"/>
            <a:ext cx="883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š zadatak je složiti redoslijed predmeta prema korisnosti u datoj situaciji. Označite predmete prema prioritetima od broja 1 (najvažniji predmet) do 15 (najmanje važan predme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dite prvo redoslijed prema Vašem osobnom mišljenju, nakon toga definirajte redoslijed u t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vaku odluku o prioritetu molimo da obrazlož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dmet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sekstant bez dodatne dokumentac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ogledalo za brijanj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5 l pitke vo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velika mreža protiv komara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konzerva hrane (jednodnevni obrok) za svaku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obu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zemljopisna karta Indijskoga ocea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jastuk za napuhavanj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24 l dizel-goriv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FM rad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l sredstva za obranu protiv napada morskih pa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0m</a:t>
            </a:r>
            <a:r>
              <a:rPr b="0" lang="hr-H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plastične foli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,5 l Cognac-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5m najlonske vrp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400g čokolade (po osob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1 komplet opreme za pecanj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560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ratka evaluacij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E33E30C-44DC-4801-9030-CB350A2F22F8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1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9150480" cy="1457280"/>
            <a:chOff x="0" y="0"/>
            <a:chExt cx="9150480" cy="1457280"/>
          </a:xfrm>
        </p:grpSpPr>
        <p:pic>
          <p:nvPicPr>
            <p:cNvPr id="51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 txBox="1"/>
            <p:nvPr/>
          </p:nvSpPr>
          <p:spPr>
            <a:xfrm>
              <a:off x="0" y="0"/>
              <a:ext cx="9150480" cy="145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53" name="Text Box 6"/>
          <p:cNvSpPr/>
          <p:nvPr/>
        </p:nvSpPr>
        <p:spPr>
          <a:xfrm>
            <a:off x="0" y="21636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«Najlakše je osuditi nekoga, a najte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Arial"/>
              </a:rPr>
              <a:t>ž</a:t>
            </a: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e je shvatiti ga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F. Dostojevski</a:t>
            </a:r>
            <a:r>
              <a:rPr b="1" lang="de-DE" sz="32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1284D0C-2D17-4B68-A90E-85443DE502DA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9150480" cy="1457280"/>
            <a:chOff x="0" y="0"/>
            <a:chExt cx="9150480" cy="1457280"/>
          </a:xfrm>
        </p:grpSpPr>
        <p:pic>
          <p:nvPicPr>
            <p:cNvPr id="56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0" y="0"/>
              <a:ext cx="9150480" cy="145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lowchart: Magnetic Disk 7"/>
          <p:cNvSpPr/>
          <p:nvPr/>
        </p:nvSpPr>
        <p:spPr>
          <a:xfrm>
            <a:off x="2428920" y="4286160"/>
            <a:ext cx="4572000" cy="1500120"/>
          </a:xfrm>
          <a:prstGeom prst="flowChartMagneticDisk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lowchart: Extract 8"/>
          <p:cNvSpPr/>
          <p:nvPr/>
        </p:nvSpPr>
        <p:spPr>
          <a:xfrm>
            <a:off x="4429080" y="314316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miley Face 9"/>
          <p:cNvSpPr/>
          <p:nvPr/>
        </p:nvSpPr>
        <p:spPr>
          <a:xfrm>
            <a:off x="4572000" y="242892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un 10"/>
          <p:cNvSpPr/>
          <p:nvPr/>
        </p:nvSpPr>
        <p:spPr>
          <a:xfrm>
            <a:off x="6072120" y="785880"/>
            <a:ext cx="2428920" cy="2500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0E193CA-D76D-4BE3-BDFC-C35A85CFB09B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9150480" cy="1457280"/>
            <a:chOff x="0" y="0"/>
            <a:chExt cx="9150480" cy="1457280"/>
          </a:xfrm>
        </p:grpSpPr>
        <p:pic>
          <p:nvPicPr>
            <p:cNvPr id="6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0" y="0"/>
              <a:ext cx="9150480" cy="145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67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miley Face 9"/>
          <p:cNvSpPr/>
          <p:nvPr/>
        </p:nvSpPr>
        <p:spPr>
          <a:xfrm>
            <a:off x="4292640" y="242100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860640"/>
            <a:ext cx="302400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lowchart: Extract 8"/>
          <p:cNvSpPr/>
          <p:nvPr/>
        </p:nvSpPr>
        <p:spPr>
          <a:xfrm>
            <a:off x="4151160" y="3213000"/>
            <a:ext cx="135756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0000" y="2349360"/>
            <a:ext cx="161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osob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biogra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9080" y="5013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33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podsvjesni progra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uvjerenja, neuro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2492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733920"/>
            <a:ext cx="1798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cc3300"/>
                </a:solidFill>
                <a:latin typeface="Arial"/>
              </a:rPr>
              <a:t>osobni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cc3300"/>
                </a:solidFill>
                <a:latin typeface="Arial"/>
              </a:rPr>
              <a:t>filt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4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3300"/>
                </a:solidFill>
                <a:latin typeface="Arial"/>
              </a:rPr>
              <a:t>bijeg ili b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5516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hr-HR" sz="2400" spc="-1" strike="noStrike">
                <a:solidFill>
                  <a:srgbClr val="cc3300"/>
                </a:solidFill>
                <a:latin typeface="Arial"/>
              </a:rPr>
              <a:t>santa led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587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un 10"/>
          <p:cNvSpPr/>
          <p:nvPr/>
        </p:nvSpPr>
        <p:spPr>
          <a:xfrm>
            <a:off x="6372360" y="333360"/>
            <a:ext cx="2232000" cy="1871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DA0C298-34B4-4141-8C0A-A61F1CC14045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9150480" cy="1457280"/>
            <a:chOff x="0" y="0"/>
            <a:chExt cx="9150480" cy="1457280"/>
          </a:xfrm>
        </p:grpSpPr>
        <p:pic>
          <p:nvPicPr>
            <p:cNvPr id="82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0" y="0"/>
              <a:ext cx="9150480" cy="145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84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miley Face 9"/>
          <p:cNvSpPr/>
          <p:nvPr/>
        </p:nvSpPr>
        <p:spPr>
          <a:xfrm>
            <a:off x="1116000" y="242100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lowchart: Extract 8"/>
          <p:cNvSpPr/>
          <p:nvPr/>
        </p:nvSpPr>
        <p:spPr>
          <a:xfrm>
            <a:off x="971640" y="321300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miley Face 9"/>
          <p:cNvSpPr/>
          <p:nvPr/>
        </p:nvSpPr>
        <p:spPr>
          <a:xfrm>
            <a:off x="7027920" y="2349360"/>
            <a:ext cx="1000080" cy="71460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lowchart: Extract 8"/>
          <p:cNvSpPr/>
          <p:nvPr/>
        </p:nvSpPr>
        <p:spPr>
          <a:xfrm>
            <a:off x="6815160" y="314172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2340000" y="836640"/>
            <a:ext cx="446544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8585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marL="343080" indent="-343080" algn="ctr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98100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4880" y="6248520"/>
            <a:ext cx="1904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31BD6C0-7828-4897-955B-CA173FC79B06}" type="slidenum">
              <a:rPr b="0" lang="en-US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50480" cy="1457280"/>
            <a:chOff x="0" y="0"/>
            <a:chExt cx="9150480" cy="1457280"/>
          </a:xfrm>
        </p:grpSpPr>
        <p:pic>
          <p:nvPicPr>
            <p:cNvPr id="9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0" y="0"/>
              <a:ext cx="9150480" cy="145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100" spc="-1" strike="noStrike">
                <a:solidFill>
                  <a:srgbClr val="464646"/>
                </a:solidFill>
                <a:latin typeface="Lucida Sans Unicode"/>
              </a:endParaRPr>
            </a:p>
          </p:txBody>
        </p:sp>
      </p:grpSp>
      <p:sp>
        <p:nvSpPr>
          <p:cNvPr id="97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miley Face 9"/>
          <p:cNvSpPr/>
          <p:nvPr/>
        </p:nvSpPr>
        <p:spPr>
          <a:xfrm>
            <a:off x="1116000" y="2421000"/>
            <a:ext cx="1000080" cy="71424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lowchart: Extract 8"/>
          <p:cNvSpPr/>
          <p:nvPr/>
        </p:nvSpPr>
        <p:spPr>
          <a:xfrm>
            <a:off x="971640" y="321300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miley Face 9"/>
          <p:cNvSpPr/>
          <p:nvPr/>
        </p:nvSpPr>
        <p:spPr>
          <a:xfrm>
            <a:off x="7027920" y="2349360"/>
            <a:ext cx="1000080" cy="714600"/>
          </a:xfrm>
          <a:prstGeom prst="smileyFace">
            <a:avLst>
              <a:gd name="adj" fmla="val 4653"/>
            </a:avLst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3860640"/>
            <a:ext cx="3024360" cy="1584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lowchart: Extract 8"/>
          <p:cNvSpPr/>
          <p:nvPr/>
        </p:nvSpPr>
        <p:spPr>
          <a:xfrm>
            <a:off x="6815160" y="3141720"/>
            <a:ext cx="1357200" cy="1428840"/>
          </a:xfrm>
          <a:prstGeom prst="flowChartExtract">
            <a:avLst/>
          </a:prstGeom>
          <a:solidFill>
            <a:srgbClr val="00206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2340000" y="836640"/>
            <a:ext cx="4465440" cy="18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8585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marL="343080" indent="-343080" algn="ctr">
              <a:lnSpc>
                <a:spcPct val="1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98100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NISAM OK – TI NI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4102560" y="2529360"/>
            <a:ext cx="865080" cy="3816360"/>
          </a:xfrm>
          <a:prstGeom prst="flowChartOnlineStorage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414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53232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 moramo s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iti braniti niti napada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elim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prvo razumjeti,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a tek onda biti razumljen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Svjestan stav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proizašao iz svjesne odlu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031280" y="368640"/>
            <a:ext cx="865080" cy="3816360"/>
          </a:xfrm>
          <a:prstGeom prst="flowChartOnlineStorage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989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35323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uvjet za konstruktivnu komunikaciju i kvalitetnu surad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4031280" y="368640"/>
            <a:ext cx="865080" cy="3816360"/>
          </a:xfrm>
          <a:prstGeom prst="flowChartOnlineStorage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1989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r-HR" sz="2400" spc="-1" strike="noStrike">
                <a:solidFill>
                  <a:srgbClr val="da1f28"/>
                </a:solidFill>
                <a:latin typeface="Arial"/>
              </a:rPr>
              <a:t>JA SAM OK – TI SI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8000" y="11592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Calibri"/>
              </a:rPr>
              <a:t>Sretan otok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6B54-5F40-455D-943B-76BBC0E94EFA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1486080"/>
            <a:ext cx="77756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Neutralan stav (JA SAM OK – TI SI OK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poznavanje podsvjesnih progra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eispitivanje osobnih stavova i uvjeren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ktivno slu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  <a:ea typeface="Arial"/>
              </a:rPr>
              <a:t>š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nje – parafraziran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920" y="4428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64646"/>
                </a:solidFill>
                <a:latin typeface="Arial"/>
              </a:rPr>
              <a:t>Prijedlozi za uspješniju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83664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8:20:24Z</dcterms:created>
  <dc:creator>EBWK</dc:creator>
  <dc:description/>
  <dc:language>en-US</dc:language>
  <cp:lastModifiedBy>ZK</cp:lastModifiedBy>
  <dcterms:modified xsi:type="dcterms:W3CDTF">2013-04-20T08:04:00Z</dcterms:modified>
  <cp:revision>60</cp:revision>
  <dc:subject/>
  <dc:title>Faktori uspjeha zakoni za pobjedni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1-8.1.0.3333</vt:lpwstr>
  </property>
</Properties>
</file>