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0.gif" ContentType="image/gif"/>
  <Override PartName="/ppt/media/image9.gif" ContentType="image/gif"/>
  <Override PartName="/ppt/media/image22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8.gif" ContentType="image/gif"/>
  <Override PartName="/ppt/media/image21.wmf" ContentType="image/x-wmf"/>
  <Override PartName="/ppt/media/image19.wmf" ContentType="image/x-wmf"/>
  <Override PartName="/ppt/media/image5.wmf" ContentType="image/x-wmf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56E-DC60-40E6-A06A-2E19BD05C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7E6-AB21-4782-BDD8-BADB1158E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EAC-D945-4D38-BC7A-E5FB8925B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73F-F566-40E8-BC2E-F72DDDBAA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CDA-869D-4749-9806-B67C76C923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rocjenjuje se odgovor – nije uvijek razmjeran znan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čitelj je subjektivni mjerni instrument; što više zna i radi na sebi, postaje kvalitetniji (provjeravanje r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Greške kod ocjenjivanja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obna jednad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, halo efekt, logička pogreška, pogreška sredine,pogreška diferencijacije, pogreška sredine,prilagođavanje kriterija.....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čenikove osobine (snalažljivost, izgled, ranije stečena znanja, opće i specifične sposobnosti, psihofizičko stanje..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kolnosti okoline (mjesto, vrijeme, dio školske godine..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Nije utvrđena povezanost dužine staža i točnosti ocj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3333cc"/>
                </a:solidFill>
                <a:latin typeface="Times New Roman"/>
              </a:rPr>
              <a:t>*Načini kontrole pogrešaka: što češće ispitivati i ocjenjivati, stvoriti opuštenu atmosferu,ispitivati oko 6 minuta, dati dovoljno vremena, ispravljati pisane provjere “naslijepo”, podcrtati pogreške i tražiti da ih učenik sam ispravi, komentirati ocjenu, planirati pitanja i način ispitivanja, objektivno definirati obrazovna postignuća i mjerila ocjenjivanja u timu sa sustručnjacima i svim ih sudionicima objasniti , po mogućnosti koristiti tablice, ček listei skale procjene kao pomoć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83A-F665-49B1-B430-873EAA74F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Po pravilniku – NAJMANJE 2 ocjene po elementu u polugodiš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Što češće ocjenjivanje različitih elemenata – ne treba pretjerivati (uskladiti s brojem sa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smeno provjeravanje bez najavljivanja svaki sat; najviše iz 2 predmeta u d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ptimalno vrijeme trajanja; ravnomjerno raspoređena pit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isano provjeravanje najmanje 2 dana ranije najaviti, obavezno samo za HJ, strani jezik, matematiku i informati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Izvijestiti o opsegu gradiva, sastavnicama i mjerilima ocjenjivan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Max 3 u tjednu, 1 u d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bavezno dati na uvid učeniku i po zahtjevu roditel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Čuvati do kraja školske god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išeminutne kratke provjere u rubriku praće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NAJBOLJE JE KOMBINIRATI USMENI I PISANI NAČ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F3F-043A-4EF6-A730-FDD2594DD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040-C36E-4E6A-B521-D702DA5F41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8F2-BA35-4CE7-876A-C301BE1AA7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3D2-81C1-4552-865F-53BB65CF6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8226-20F6-46C8-A358-80725CB0F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225-3061-4C4D-980C-8088FFD8F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Vrednovanje je sustavno prikupljanje podataka u procesu učenja i postignutoj raz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ompetencija: znanjima, vještinama, sposobnostima, samostalnosti i odgovornosti p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radu, u skladu s unaprijed definiranim i prihvaćenim načinima, postupcima i elementi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 sastavnice su praćenje, provjeravanje i ocjenjivanj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A58-F35A-404D-856B-544483B12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66F4-248C-4859-BD96-72221CC9D3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BD8-FFB9-4FF2-B175-363C9382DA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D04-E25C-445A-9BF8-1791220A2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30B1-9FD4-4AF8-811F-5C05CB7921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115-3427-4CEA-B838-5311A92E4D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3F0-CCE4-43FD-A136-D44CB5ADD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7E4-9A6E-4564-8DD3-8884A4E503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DCA9-9870-4CDE-8FB9-57E925DA2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4D42-5EBE-41D8-89DA-705D6E3DD5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732-E8A6-4794-B9CE-6534AF734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9E3-A5DE-4FA6-BC14-BD3AEBDF06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pisuje se u rubriku bilježaka u imeni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zapažanja koja pomažu učitelju za donošenje zaključene ocj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čeniku, roditeljima, razredniku poticanje i ispravke u radu te razumijevanje zaključne ocj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datum, sadržaj, opas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rijedlog pedagoških mjera za poboljšanje suradnje i uspje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tijekom cijele god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410-AB99-485A-8B52-405C8FBDCD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03B-BAAD-46C6-80A5-C3EBE2880C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319-591A-4DA5-AD1C-3750A5749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843-104E-41D1-87C8-B8F9B48CBC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0BB2-D516-43DB-A109-38D6B9DAA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ještim kombiniranjem postupaka možemo u dovoljnoj mjeri udovoljiti i jednom i drug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oštivanje učenikove lič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oticanje samopouzdanja i osjećaja napredov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oticanje na aktivno sudjelovanje u nastavi i izvannastavnim aktivnos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mogućavanje samostalnog javljanja za provjeravanje zn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sposobljavanje za samostalno učenje, samoprocjenu znanja te znanja drugih uče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rste vrednovanja: sumativno, formativn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normativno, po mjerilima, interno, eksterno, neformalno, formalno, dijagnosti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ažna je svrha ocjenjivanja, a ne čistoća kvalifikaci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Načini kontrole pogrešaka: što češće ispitivati i ocjenjivati, stvoriti opuštenu atmosferu,ispitivati oko 6 minuta, dati dovoljno vremena, ispravljati pisane provjere “naslijepo”, podcrtati pogreške i tražiti da ih učenik sam ispravi, komentirati ocjenu, planirati pitanja i način ispitivanja, objektivno definirati obrazovna postignuća i mjerila ocjenjivanja u timu sa sustručnjacima i svim ih sudionicima objasniti , po mogućnosti koristiti tablice, ček liste i skale procjene kao pomoć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A81D-4259-463D-87BF-676C058E4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zaključno ocjenjivanje treba biti odraz cjelokupnih odgojno – obrazovnih postignuća tijekom šk. god.i utemeljeno na brojčanim ocjenama upisanim u imenik i bilješkama o praćenju uče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Zaključna ocjena iz pojedinog predmeta ne mora proizlaziti iz aritmetičke sredine upisanih ocjena u polugodištu; zaključuje se i objavljuje na posljednjem nastavnom s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7BF-167D-45A7-AD10-3711F04F85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1799-FF11-4FB6-B177-7CE406659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bilježe se ocjene od 1 do 5 u rešet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bez +, -, 0,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javno, nakon provjerav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ključni dio vrednovanja odgovara na pitanje </a:t>
            </a:r>
            <a:r>
              <a:rPr b="1" i="1" lang="hr-HR" sz="1200" spc="-1" strike="noStrike">
                <a:solidFill>
                  <a:srgbClr val="000000"/>
                </a:solidFill>
                <a:latin typeface="Comic Sans MS"/>
              </a:rPr>
              <a:t>što ocjenjujemo</a:t>
            </a: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 određujući time vrstu i količinu sadržaja (najčešće je to instrumentarij kojim se zadovoljavaju ciljevi nastave, odnosno sve ono što smo željeli postići s učenicim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C7C5-4EC3-40FD-9B1E-D0C7AFB67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Ministarstvu za odgoj i obrazovanje</a:t>
            </a: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zahtijeva dokaze da njihova ulaganja i prosvjetna politika postižu određene rezul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Ravnateljima</a:t>
            </a: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žele dokaze da se u njihovim školama dobro uč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Roditelji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žele znati da njihova djeca ostvaruju primjereni napred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Nastavnic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žele znati kakve rezultate postižu njihovi razredi u cjelini kao i pojedini učenici, što im pomaže u prilagođavanju načina, metoda i tempa poučav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Učenici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- žele dobiti informacije o uspjehu kako bi se mogli usporediti s vršnjacima i jasno, nastaviti školov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2B60-EFA4-4509-870C-7B4022154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391-9C67-4986-8D1E-0988DA5AC3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F56A-AF07-471E-B04B-5084086B9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0CF-EE08-42F8-B068-24CE8A1FB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poznavanje i razumijevanje nastavnih sadrž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Usmeno i pismeno izražav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Praktična primjena naučenih sadrž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Razvijenost vještina (govorničke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Načini sudjelovanja u usvajanju nastavnih sadrž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Specifično, ovisno o predme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OŠ zadano, SŠ otvo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0000"/>
                </a:solidFill>
                <a:latin typeface="Times New Roman"/>
              </a:rPr>
              <a:t>JASNI ZAHTJEVI ZA POJEDINE RAZINE POSTIGNUĆA (OCJENE) ZA ODREĐENE SADRŽ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F2A-6BC1-4572-9136-A9CA2A6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4C8-1561-4723-9B37-0E1DCAE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2E3-AD7D-4E72-9240-E00C1A9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199-9DEE-4758-B3FE-657B2CF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429E-5D26-4FD2-8EC5-4C08D322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55E-7D9E-462C-B194-A2D60E9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6D5-7C4F-4A98-B80B-162927B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DCF-5EF1-4E84-A695-B08FD569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8626-2577-45AD-843C-7F0AEE9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C2CC-0FB3-4F41-9506-1522B67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A96D-60AC-431B-82D9-C3CAC5B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A09-82AF-407C-AA40-9679D9D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BEE-BB17-441D-A0CE-505789F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8166-8F7E-4678-A703-27849B1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88D-D485-4065-840A-F0B6CAEF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D7A6-A4B2-4DDE-A697-9E749D4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3AFB-756E-426E-BBB6-02AC050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5BE8-817E-467B-A517-C050B880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448B-D05C-462F-B85B-A52BAA7B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DDDD-6626-4F20-A250-49DBBB7B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7C04-367B-4B8D-BADC-BA6C068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243D-CE90-4E3F-9078-02070F8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6FF-E474-43B2-92DF-08FBE4A6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685C-9D43-44EC-BD70-25E6A0D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3354-3130-4DF9-8448-E829B83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EF9E-E9A3-4BF6-ABDA-5E3A6D4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48B0-58C6-47B7-A32F-170DA69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912F-E55B-4869-B239-CC35408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109F-B7C0-4F7F-B41A-A182B76C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6DEA-58ED-45BC-AC4B-71A5B7E4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C23F-05D3-4C54-B524-CAC6B8F1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8EC5-1904-4719-BE68-65A3F98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1D37-CBBD-4208-9206-715ED466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8D9-5C79-4C92-907B-5631E20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F139-6D87-40E4-9C8B-15FBD69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17AC-3B23-4D1F-B1EE-D9ADA6A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E996-4014-4A6E-871C-BD3F9CAD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907E3-F231-4D54-BE30-7AEF3DA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AF78-2D92-4A69-B31D-2F47834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F30D-8F1E-451F-9CD2-B96408E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960B-7704-4A98-9451-E61C6C5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9C1E-BC7B-47DD-8152-B0CB5DF4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55B9-CC01-444A-9BDF-02E89498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39CA-F60B-4C7A-98C4-951737CA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487-BFD6-4932-9942-20ECB3C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73FE-9D0F-4C91-87CD-2D1A5C3A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7A5A-FD29-40F0-9EFB-EAABBF1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3CCB-5E17-40E5-9382-B4B0BFD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6A88-0989-4F1E-A940-588A468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5A21C-E228-47F7-A565-20E8E93B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6109-A5F3-4B45-819F-44025EA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F487-1553-4B1B-A187-9AB48F2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BCDC-D55F-45B0-828E-C74ACF2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514E-764B-4F2B-A57C-9F440AE4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AAA8-8E48-400F-A6E7-6E20FC38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904-BC69-4F34-A971-7453F4E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8DD1-B868-4C53-8D19-9BA709F0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BA7-C050-44AD-B833-D4E5EE9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938-F29B-4985-BB23-323F70D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B36-E89E-49D3-BBE7-A70B00D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1A1-6B07-45A0-8CEE-8FB52AE7F9FB}" type="slidenum">
              <a:rPr b="0" lang="en-GB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846-2746-41F0-ADD6-D36BE85F8B17}" type="slidenum">
              <a:rPr b="0" lang="en-GB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E848-7083-43DA-A980-E114EE4CE93E}" type="slidenum">
              <a:rPr b="0" lang="en-GB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BA8-4312-477D-94B6-7A0B4D4C3E10}" type="slidenum">
              <a:rPr b="0" lang="en-GB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516-983C-47BD-9E88-DE52F1F31160}" type="slidenum">
              <a:rPr b="0" lang="en-GB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Izabela.potnarmijic@azoo.hr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400" spc="-1" strike="noStrike">
                <a:solidFill>
                  <a:srgbClr val="31521b"/>
                </a:solidFill>
                <a:latin typeface="Comic Sans MS"/>
              </a:rPr>
              <a:t>Izabela Potnar Mijić, viša savjetnica za engleski i njemački jezik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400" spc="-1" strike="noStrike">
                <a:solidFill>
                  <a:srgbClr val="31521b"/>
                </a:solidFill>
                <a:latin typeface="Comic Sans MS"/>
              </a:rPr>
              <a:t>Agencija za odgoj i obrazovanje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400" spc="-1" strike="noStrike">
                <a:solidFill>
                  <a:srgbClr val="31521b"/>
                </a:solidFill>
                <a:latin typeface="Comic Sans MS"/>
              </a:rPr>
              <a:t>Podružnica Osijek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400" spc="-1" strike="noStrike">
                <a:solidFill>
                  <a:srgbClr val="31521b"/>
                </a:solidFill>
                <a:latin typeface="Comic Sans MS"/>
              </a:rPr>
              <a:t>Osijek, 1. listopada 2013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900" spc="-1" strike="noStrike">
                <a:solidFill>
                  <a:srgbClr val="455f51"/>
                </a:solidFill>
                <a:latin typeface="Calibri"/>
              </a:rPr>
              <a:t>Subjektivni i objektivni </a:t>
            </a:r>
            <a:r>
              <a:rPr b="1" lang="hr-HR" sz="4900" spc="-1" strike="noStrike">
                <a:solidFill>
                  <a:srgbClr val="455f51"/>
                </a:solidFill>
                <a:latin typeface="Calibri"/>
              </a:rPr>
              <a:t>č</a:t>
            </a:r>
            <a:r>
              <a:rPr b="1" lang="en-US" sz="4900" spc="-1" strike="noStrike">
                <a:solidFill>
                  <a:srgbClr val="455f51"/>
                </a:solidFill>
                <a:latin typeface="Calibri"/>
              </a:rPr>
              <a:t>imbe</a:t>
            </a:r>
            <a:r>
              <a:rPr b="1" lang="hr-HR" sz="4900" spc="-1" strike="noStrike">
                <a:solidFill>
                  <a:srgbClr val="455f51"/>
                </a:solidFill>
                <a:latin typeface="Calibri"/>
              </a:rPr>
              <a:t>nici </a:t>
            </a:r>
            <a:r>
              <a:rPr b="1" lang="en-US" sz="4900" spc="-1" strike="noStrike">
                <a:solidFill>
                  <a:srgbClr val="455f51"/>
                </a:solidFill>
                <a:latin typeface="Calibri"/>
              </a:rPr>
              <a:t>pri vrednovanju posti</a:t>
            </a:r>
            <a:r>
              <a:rPr b="1" lang="hr-HR" sz="4900" spc="-1" strike="noStrike">
                <a:solidFill>
                  <a:srgbClr val="455f51"/>
                </a:solidFill>
                <a:latin typeface="Calibri"/>
              </a:rPr>
              <a:t>gnuća učenika</a:t>
            </a:r>
            <a:endParaRPr b="0" lang="en-US" sz="49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620120" cy="1397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ZNANJE                          Ocjena</a:t>
            </a:r>
            <a:br>
              <a:rPr sz="3600"/>
            </a:b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235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1f4081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DIJAGNOSTIČKA</a:t>
            </a:r>
            <a:r>
              <a:rPr b="1" lang="hr-HR" sz="24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– ocjena je mjera znanja i drugih odgojno-obrazovnih postignuća usprkos svim poznatim ograničenjima koje im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ADMINISTRATIVNA</a:t>
            </a:r>
            <a:r>
              <a:rPr b="0" lang="hr-HR" sz="2400" spc="-1" strike="noStrike">
                <a:solidFill>
                  <a:srgbClr val="1f4081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 ocjena je povratna informacija učeniku, nastavniku i roditelj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MOTIVACIJSK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– ocjena  potiče (motivira učenika na daljnje učenje, ali ga može i demotivirati, odbiti od učenj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1f4081"/>
                </a:solidFill>
                <a:latin typeface="Calibri"/>
              </a:rPr>
              <a:t>ORIJENTACIJSKA</a:t>
            </a:r>
            <a:r>
              <a:rPr b="0" lang="hr-HR" sz="24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– ocjena ima važnu ulogu u promociji pojedinc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403280" y="1268280"/>
            <a:ext cx="56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UNKCIJE OCJ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4716360" y="112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77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i="1" lang="hr-HR" sz="2800" spc="-1" strike="noStrike">
              <a:solidFill>
                <a:srgbClr val="1f4081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77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455f51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“</a:t>
            </a: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Istraživanja jasno pokazuju da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ocjene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koje učenici dobivaju na ispitima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nisu ni objektivne, ni pouzdane ni valjane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i da je za učenika često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«važnije tko ga ispituje, 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nego koliko  je njegovo poznavanje predmeta» “</a:t>
            </a:r>
            <a:br>
              <a:rPr sz="2400"/>
            </a:b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1f4081"/>
                </a:solidFill>
                <a:latin typeface="Century Gothic"/>
              </a:rPr>
              <a:t>	</a:t>
            </a:r>
            <a:r>
              <a:rPr b="0" i="1" lang="hr-HR" sz="2400" spc="-1" strike="noStrike">
                <a:solidFill>
                  <a:srgbClr val="1f4081"/>
                </a:solidFill>
                <a:latin typeface="Century Gothic"/>
              </a:rPr>
              <a:t>(Bujas, 1943.)  </a:t>
            </a:r>
            <a:br>
              <a:rPr sz="4900"/>
            </a:br>
            <a:endParaRPr b="0" lang="en-US" sz="2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5000"/>
              </a:lnSpc>
              <a:spcAft>
                <a:spcPts val="1312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učitelj je u ulozi i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instrumenta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mjeritelja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35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definira značenje 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ocjene, definira</a:t>
            </a:r>
            <a:r>
              <a:rPr b="0" lang="hr-HR" sz="35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što mjeri i mjerila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Aft>
                <a:spcPts val="1312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brojčano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ista ocjena ima različito značenje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 kod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različitih učitelja</a:t>
            </a: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, a i kod </a:t>
            </a:r>
            <a:r>
              <a:rPr b="0" lang="hr-HR" sz="3500" spc="-1" strike="noStrike">
                <a:solidFill>
                  <a:srgbClr val="c00000"/>
                </a:solidFill>
                <a:latin typeface="Calibri"/>
              </a:rPr>
              <a:t>istog učitelja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Aft>
                <a:spcPts val="1312"/>
              </a:spcAft>
              <a:buClr>
                <a:srgbClr val="08a5ef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Aft>
                <a:spcPts val="270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UČITELJ/NASTAVNIK</a:t>
            </a:r>
            <a:br>
              <a:rPr sz="3600"/>
            </a:b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TEHNIKE MJERENJA</a:t>
            </a:r>
            <a:br>
              <a:rPr sz="3600"/>
            </a:br>
            <a:br>
              <a:rPr sz="3600"/>
            </a:br>
            <a:r>
              <a:rPr b="1" lang="hr-HR" sz="2900" spc="-1" strike="noStrike">
                <a:solidFill>
                  <a:srgbClr val="31521b"/>
                </a:solidFill>
                <a:latin typeface="Calibri"/>
              </a:rPr>
              <a:t>Načini vrednovanja postignuća</a:t>
            </a:r>
            <a:endParaRPr b="0" lang="en-US" sz="2900" spc="-1" strike="noStrike">
              <a:solidFill>
                <a:srgbClr val="31521b"/>
              </a:solidFill>
              <a:latin typeface="Century Gothic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600200" y="2209680"/>
          <a:ext cx="6095880" cy="436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me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sa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gov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t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lag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đenje praktičnoga rada uz objašnje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zna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šeminutni kontrolni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_s49165"/>
          <p:cNvSpPr/>
          <p:nvPr/>
        </p:nvSpPr>
        <p:spPr>
          <a:xfrm flipH="1">
            <a:off x="1908000" y="3860640"/>
            <a:ext cx="1727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_s49164"/>
          <p:cNvSpPr/>
          <p:nvPr/>
        </p:nvSpPr>
        <p:spPr>
          <a:xfrm>
            <a:off x="324000" y="4508640"/>
            <a:ext cx="2209680" cy="1873080"/>
          </a:xfrm>
          <a:prstGeom prst="ellips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Tehnike ispitivan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ocjenjiv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_s49163"/>
          <p:cNvSpPr/>
          <p:nvPr/>
        </p:nvSpPr>
        <p:spPr>
          <a:xfrm>
            <a:off x="5435640" y="378936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_s49162"/>
          <p:cNvSpPr/>
          <p:nvPr/>
        </p:nvSpPr>
        <p:spPr>
          <a:xfrm>
            <a:off x="6372360" y="4508640"/>
            <a:ext cx="2209680" cy="1873080"/>
          </a:xfrm>
          <a:prstGeom prst="ellips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čeničke os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snalaž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 ispitnoj situac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_s49161"/>
          <p:cNvSpPr/>
          <p:nvPr/>
        </p:nvSpPr>
        <p:spPr>
          <a:xfrm flipV="1">
            <a:off x="4535640" y="1298160"/>
            <a:ext cx="0" cy="17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_s49160"/>
          <p:cNvSpPr/>
          <p:nvPr/>
        </p:nvSpPr>
        <p:spPr>
          <a:xfrm>
            <a:off x="3419640" y="0"/>
            <a:ext cx="2160360" cy="1844640"/>
          </a:xfrm>
          <a:prstGeom prst="ellips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kao mjer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_s49159"/>
          <p:cNvSpPr/>
          <p:nvPr/>
        </p:nvSpPr>
        <p:spPr>
          <a:xfrm>
            <a:off x="3132000" y="2421000"/>
            <a:ext cx="3024360" cy="27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33"/>
                </a:solidFill>
                <a:latin typeface="Comic Sans MS"/>
              </a:rPr>
              <a:t>UZROCI SL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33"/>
                </a:solidFill>
                <a:latin typeface="Comic Sans MS"/>
              </a:rPr>
              <a:t>METRIJS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33"/>
                </a:solidFill>
                <a:latin typeface="Comic Sans MS"/>
              </a:rPr>
              <a:t>VRIJED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33"/>
                </a:solidFill>
                <a:latin typeface="Comic Sans MS"/>
              </a:rPr>
              <a:t>OCJ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65530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7"/>
          <p:cNvPicPr/>
          <p:nvPr/>
        </p:nvPicPr>
        <p:blipFill>
          <a:blip r:embed="rId1"/>
          <a:stretch/>
        </p:blipFill>
        <p:spPr>
          <a:xfrm>
            <a:off x="5219640" y="836640"/>
            <a:ext cx="146844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5-2"/>
          <p:cNvPicPr/>
          <p:nvPr/>
        </p:nvPicPr>
        <p:blipFill>
          <a:blip r:embed="rId2"/>
          <a:stretch/>
        </p:blipFill>
        <p:spPr>
          <a:xfrm>
            <a:off x="4643280" y="5300640"/>
            <a:ext cx="1938600" cy="1174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43"/>
          <p:cNvPicPr/>
          <p:nvPr/>
        </p:nvPicPr>
        <p:blipFill>
          <a:blip r:embed="rId3"/>
          <a:stretch/>
        </p:blipFill>
        <p:spPr>
          <a:xfrm>
            <a:off x="324000" y="342900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42560" y="2133720"/>
            <a:ext cx="7620120" cy="4309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sobni stav nastavnika (umjeren, strog, blag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Halo-efek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ogička pogrešk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greška sred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greška diferencijacij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greška kontras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lagođavanje kriterija skupini učenik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Uzroci slabe metrijske vrijednosti ocjena 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koji se odnose na učitelja/nastavnika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400" spc="-1" strike="noStrike">
                <a:solidFill>
                  <a:srgbClr val="31521b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000" y="0"/>
            <a:ext cx="3816360" cy="5191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PASIVNI TIP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UČITELJ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tavi pitanje i pasivno čeka odgov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valiteta odgovora ovisi o vještini govornog                           izražavanja, čuvstvenoj otpornosti, vještini                    prilagođavanja zahtjevima učitelja                                             i razumijevanju postavljenog pitanj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7640" y="0"/>
            <a:ext cx="373356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4894200" y="0"/>
            <a:ext cx="424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AKTIVNI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</a:rPr>
              <a:t>UČITE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tavlja broj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tpitanja i daje objašnj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čenika navodi na točan odgo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čenikovo je zn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često precijenj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1537560" y="5661000"/>
            <a:ext cx="6913800" cy="825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čitelji ispituju na različite načine,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vjereni da su upravo ti načini najprikladn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BD00146_"/>
          <p:cNvPicPr/>
          <p:nvPr/>
        </p:nvPicPr>
        <p:blipFill>
          <a:blip r:embed="rId1"/>
          <a:stretch/>
        </p:blipFill>
        <p:spPr>
          <a:xfrm>
            <a:off x="5435640" y="4149720"/>
            <a:ext cx="130644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066320" y="3068640"/>
            <a:ext cx="7620120" cy="27986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ednosti i loše strane svake tehnik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blik pitanj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Dužina trajanja ispitivanj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omic Sans MS"/>
              </a:rPr>
              <a:t>Uzroci slabe metrijske vrijednosti ocjena 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omic Sans MS"/>
              </a:rPr>
              <a:t>koji se odnose na tehniku ispitivanja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6000"/>
          </a:bodyPr>
          <a:p>
            <a:pPr marL="290880" indent="-290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omic Sans MS"/>
              </a:rPr>
              <a:t>Prednosti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: lakše se uočavaju kvalitativne razlike u znanju, bolja je provjera razumijevanja i slično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omic Sans MS"/>
              </a:rPr>
              <a:t>Loše stran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: vremenska neekonomičnost, subjektivnost i slično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900" spc="-1" strike="noStrike">
                <a:solidFill>
                  <a:srgbClr val="31521b"/>
                </a:solidFill>
                <a:latin typeface="Comic Sans MS"/>
              </a:rPr>
              <a:t>Usmeno ispitivanje </a:t>
            </a:r>
            <a:br>
              <a:rPr sz="2900"/>
            </a:br>
            <a:br>
              <a:rPr sz="2900"/>
            </a:br>
            <a:r>
              <a:rPr b="1" lang="hr-HR" sz="1800" spc="-1" strike="noStrike">
                <a:solidFill>
                  <a:srgbClr val="31521b"/>
                </a:solidFill>
                <a:latin typeface="Comic Sans MS"/>
              </a:rPr>
              <a:t>NAJČEŠĆI OBLIK PROVJERAVANJA ZNANJA U NAŠIM ŠKOLAMA</a:t>
            </a:r>
            <a:endParaRPr b="0" lang="en-US" sz="18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rednosti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: svi se učenici ispitaju odjednom, mogu se pripremiti različiti zadatci, prednost za učenike koji se teško usmeno izražavaju, …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Loše strane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: treba puno vremena za ispravljanje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620120" cy="1397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31521b"/>
                </a:solidFill>
                <a:latin typeface="Calibri"/>
              </a:rPr>
              <a:t>Pisani rad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AĆENJ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VJERAVANJE IL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CJENJIVANJ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CJENJIVA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VREDNOVANJE</a:t>
            </a:r>
            <a:br>
              <a:rPr sz="4000"/>
            </a:b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0" name="Picture 8" descr="BD04900_"/>
          <p:cNvPicPr/>
          <p:nvPr/>
        </p:nvPicPr>
        <p:blipFill>
          <a:blip r:embed="rId1"/>
          <a:stretch/>
        </p:blipFill>
        <p:spPr>
          <a:xfrm>
            <a:off x="7093080" y="1125360"/>
            <a:ext cx="151452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Sugestivn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itanja  - sadrže i odgovor ili ograničavaju odgovor na samo neke mogućnosti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lako je odgovori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Nesugestivn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itanja  - ne navode na odgov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reopširn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itanja - mogu navoditi na odgovor ili zbuniti učenik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rekratk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itanja - mogu biti nerazumljiv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Oblik pitanja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31521b"/>
                </a:solidFill>
                <a:latin typeface="Calibri"/>
              </a:rPr>
              <a:t>Dužina trajanja ispitivanja</a:t>
            </a:r>
            <a:br>
              <a:rPr sz="3600"/>
            </a:b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kratko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spitivanj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premalo informacija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a bi se moglo valjano i pouzdano zaključiti o kvaliteti znanj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dugo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ispitivanj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previše informacija </a:t>
            </a:r>
            <a:r>
              <a:rPr b="1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sud pod većim utjecajem prvih ili češće zadnjih odgovora </a:t>
            </a: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(bolje se pamte)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 algn="ctr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 algn="ctr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Optimaln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 algn="ctr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vrijeme trajanja usmenog ispitivanja u višim razredima iznos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 algn="ctr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6 minuta.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4" name="Picture 4" descr="BD04899_"/>
          <p:cNvPicPr/>
          <p:nvPr/>
        </p:nvPicPr>
        <p:blipFill>
          <a:blip r:embed="rId1"/>
          <a:stretch/>
        </p:blipFill>
        <p:spPr>
          <a:xfrm>
            <a:off x="7812000" y="981000"/>
            <a:ext cx="9921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32000" y="2743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dovoljna jasnoća i neodređenost odgovor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. učenikove verbalne mogućnost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3. mogućnost opažanja i vještog korištenja percipiranih podata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4. emocionalna otpornost učeni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Uzroci slabe metrijske vrijednosti ocjena koji se odnose na učenika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1619280" y="283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AKO UNAPRIJE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ZNANJA U ŠKO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31521b"/>
                </a:solidFill>
                <a:latin typeface="Calibri"/>
              </a:rPr>
              <a:t>Suvremeni pristup vrednovanju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3348000" y="1773360"/>
            <a:ext cx="3352680" cy="12952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7017d"/>
                </a:solidFill>
                <a:latin typeface="Comic Sans MS"/>
              </a:rPr>
              <a:t>Ciljevi obrazovanja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7017d"/>
                </a:solidFill>
                <a:latin typeface="Comic Sans MS"/>
              </a:rPr>
              <a:t>Očekivana postignuć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9900"/>
                </a:solidFill>
                <a:latin typeface="Comic Sans MS"/>
              </a:rPr>
              <a:t>Odgovarajući sadrža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5292720" y="3933720"/>
            <a:ext cx="3429000" cy="12956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7017d"/>
                </a:solidFill>
                <a:latin typeface="Comic Sans MS"/>
              </a:rPr>
              <a:t>Zadat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7017d"/>
                </a:solidFill>
                <a:latin typeface="Comic Sans MS"/>
              </a:rPr>
              <a:t>Instrumentarij vredno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9900"/>
                </a:solidFill>
                <a:latin typeface="Comic Sans MS"/>
              </a:rPr>
              <a:t>S obzirom na sadrža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1332000" y="4076640"/>
            <a:ext cx="3352680" cy="1219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7017d"/>
                </a:solidFill>
                <a:latin typeface="Comic Sans MS"/>
              </a:rPr>
              <a:t>Strategije pouča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9900"/>
                </a:solidFill>
                <a:latin typeface="Comic Sans MS"/>
              </a:rPr>
              <a:t>Za odgovarajući sadrža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 rot="18280200">
            <a:off x="1848960" y="2768760"/>
            <a:ext cx="1524240" cy="68580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/>
          <p:cNvSpPr/>
          <p:nvPr/>
        </p:nvSpPr>
        <p:spPr>
          <a:xfrm rot="3198000">
            <a:off x="6744600" y="2768760"/>
            <a:ext cx="1524240" cy="68580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8"/>
          <p:cNvSpPr/>
          <p:nvPr/>
        </p:nvSpPr>
        <p:spPr>
          <a:xfrm rot="10800000">
            <a:off x="4211280" y="5229000"/>
            <a:ext cx="1523880" cy="68580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4427640" y="3645000"/>
            <a:ext cx="1368360" cy="3985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3280 h 398520"/>
              <a:gd name="textAreaBottom" fmla="*/ 3452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0"/>
          <p:cNvSpPr/>
          <p:nvPr/>
        </p:nvSpPr>
        <p:spPr>
          <a:xfrm rot="13708200">
            <a:off x="5374080" y="3345480"/>
            <a:ext cx="952560" cy="398160"/>
          </a:xfrm>
          <a:custGeom>
            <a:avLst/>
            <a:gdLst>
              <a:gd name="textAreaLeft" fmla="*/ 166680 w 952560"/>
              <a:gd name="textAreaRight" fmla="*/ 690840 w 952560"/>
              <a:gd name="textAreaTop" fmla="*/ 53280 h 398160"/>
              <a:gd name="textAreaBottom" fmla="*/ 344880 h 398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1"/>
          <p:cNvSpPr/>
          <p:nvPr/>
        </p:nvSpPr>
        <p:spPr>
          <a:xfrm flipH="1" flipV="1" rot="18609000">
            <a:off x="3718080" y="3418920"/>
            <a:ext cx="952560" cy="398160"/>
          </a:xfrm>
          <a:custGeom>
            <a:avLst/>
            <a:gdLst>
              <a:gd name="textAreaLeft" fmla="*/ 166680 w 952560"/>
              <a:gd name="textAreaRight" fmla="*/ 690840 w 952560"/>
              <a:gd name="textAreaTop" fmla="*/ 53280 h 398160"/>
              <a:gd name="textAreaBottom" fmla="*/ 344880 h 398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b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Veza s općim </a:t>
            </a:r>
            <a:r>
              <a:rPr b="1" lang="hr-HR" sz="2800" spc="-1" strike="noStrike" u="sng">
                <a:solidFill>
                  <a:srgbClr val="c00000"/>
                </a:solidFill>
                <a:uFillTx/>
                <a:latin typeface="Calibri"/>
              </a:rPr>
              <a:t>ciljevima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brazovanja i ciljevima nastavnih program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Veza s pristupom obradi gradiva– </a:t>
            </a:r>
            <a:r>
              <a:rPr b="1" lang="hr-HR" sz="2800" spc="-1" strike="noStrike" u="sng">
                <a:solidFill>
                  <a:srgbClr val="c00000"/>
                </a:solidFill>
                <a:uFillTx/>
                <a:latin typeface="Calibri"/>
              </a:rPr>
              <a:t>strategijama poučavan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dređivanje </a:t>
            </a:r>
            <a:r>
              <a:rPr b="1" lang="hr-HR" sz="2800" spc="-1" strike="noStrike" u="sng">
                <a:solidFill>
                  <a:srgbClr val="c00000"/>
                </a:solidFill>
                <a:uFillTx/>
                <a:latin typeface="Calibri"/>
              </a:rPr>
              <a:t>kriterij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ocjenjivan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dnos razina postignuća i kriterija ocjenjivanja potrebno je pojasni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eb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nicim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roditeljim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31521b"/>
                </a:solidFill>
                <a:latin typeface="Calibri"/>
              </a:rPr>
              <a:t>Zašto valja razmišljati o </a:t>
            </a:r>
            <a:br>
              <a:rPr sz="3600"/>
            </a:br>
            <a:r>
              <a:rPr b="1" lang="hr-HR" sz="3600" spc="-1" strike="noStrike">
                <a:solidFill>
                  <a:srgbClr val="31521b"/>
                </a:solidFill>
                <a:latin typeface="Calibri"/>
              </a:rPr>
              <a:t>razinama učeničkih postignuća?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95280" y="259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hr-HR" sz="3200" spc="-1" strike="noStrike">
                <a:solidFill>
                  <a:srgbClr val="31521b"/>
                </a:solidFill>
                <a:latin typeface="Calibri"/>
              </a:rPr>
              <a:t>Koliki postotak znanja                                                                        zastari nakon…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00000" y="1773360"/>
          <a:ext cx="7345440" cy="4606920"/>
        </p:xfrm>
        <a:graphic>
          <a:graphicData uri="http://schemas.openxmlformats.org/drawingml/2006/table">
            <a:tbl>
              <a:tblPr/>
              <a:tblGrid>
                <a:gridCol w="2305080"/>
                <a:gridCol w="1654200"/>
                <a:gridCol w="1730520"/>
                <a:gridCol w="165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rsta zna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 g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 g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 g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škols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kultets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uč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 tehnolog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tič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Picture 40" descr="bs00559_"/>
          <p:cNvPicPr/>
          <p:nvPr/>
        </p:nvPicPr>
        <p:blipFill>
          <a:blip r:embed="rId1"/>
          <a:stretch/>
        </p:blipFill>
        <p:spPr>
          <a:xfrm>
            <a:off x="539640" y="115920"/>
            <a:ext cx="30243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620120" cy="1397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Metode vrednovanja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1701720"/>
            <a:ext cx="37339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TRADICIONAL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isani zadac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smeni zadac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aktični zadac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pažanje tijekom nastav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24280" y="1701720"/>
            <a:ext cx="37339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ALTERNATIVNE/ KOMPLEMENTAR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aćenje-promatranj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straživanje (učeničko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ojekt (učenički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ortfolio (učenički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amoocjenjivanj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71640" y="2276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Sadržaji portfolia, projekti i istraživanj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gu se vrednovati kao obrazovna postignuća – brojčano   i / ili   kao odgojna postignuća – opisno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REBA PRETHODNO DOGOVORITI 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Samoocjenjivanje znanja prema zadanim kriterijim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i uz kontrolu nastavnika) te ocjenjivanje vlastitog napretka – direktno u obrazovna postignuća ili u nekoj kombinacij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Samoocjenjivanje rada u grupi ili na nastavi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– psiho-motorička postignuća ili odgojna postignuća (za psiho-socijalnu i emocionalnu domenu razvoja, važno je zapažanje radi mogućih korekcija, a ne radi ocjene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Kombiniranje tradicionalnih i </a:t>
            </a:r>
            <a:br>
              <a:rPr sz="4000"/>
            </a:b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komplementarnih metoda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Praćenje i ocjenjivanje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1752120"/>
            <a:ext cx="3733920" cy="3908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9000"/>
          </a:bodyPr>
          <a:p>
            <a:pPr marL="299880" indent="-299880">
              <a:lnSpc>
                <a:spcPct val="7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AĆENJE – RUBRIKA BILJEŽAK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Opisno praćenje:</a:t>
            </a:r>
            <a:r>
              <a:rPr b="0" lang="hr-HR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rekcije učenja - sugestije, što ide slabije, a što bolje, na što više usmjeriti pažnju, ometajući čimbenici .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bavijest za roditelja i razrednik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rekcije poučavanja – individualizacij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952880" y="1752480"/>
            <a:ext cx="3733920" cy="3044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lvl="1" marL="730080" indent="-303120">
              <a:lnSpc>
                <a:spcPct val="7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70000"/>
              </a:lnSpc>
              <a:spcBef>
                <a:spcPts val="1063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BROJČANE OCJEN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Obrazovna postignuć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7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gnitivn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70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sihomotoričk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1619280" y="5877000"/>
            <a:ext cx="691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Opisna ocjena utječe na zaključnu 10 do 2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entury Gothic"/>
              </a:rPr>
              <a:t>PRAVILNIK O NAČINIMA, POSTUPCIMA I ELEMENTIMA VREDNOVANJA UČENIKA U OSNOVNOJ I SREDNJOJ ŠKOLI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 algn="just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(Narodne novine, broj 87/08., 86/09., 92/10. i 105/10.-ispr.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Članak 2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raćenje je sustavno uočavanje i bilježenje zapažanja o postignutoj razini kompetencija i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ostavljenim zadacima definiranim nacionalnim i predmetnim kurikulumom, nastavnim 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planom i programom te strukovnim i školskim kurikulumo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PRAĆENJE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3" name="Picture 4" descr="PE01457_"/>
          <p:cNvPicPr/>
          <p:nvPr/>
        </p:nvPicPr>
        <p:blipFill>
          <a:blip r:embed="rId1"/>
          <a:stretch/>
        </p:blipFill>
        <p:spPr>
          <a:xfrm>
            <a:off x="7358040" y="428760"/>
            <a:ext cx="1235160" cy="135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404640"/>
            <a:ext cx="7608960" cy="6048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6000"/>
          </a:bodyPr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hr-HR" sz="3300" spc="-1" strike="noStrike">
                <a:solidFill>
                  <a:srgbClr val="000000"/>
                </a:solidFill>
                <a:latin typeface="Calibri"/>
              </a:rPr>
              <a:t>Vrijedno je prisjetiti se: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rlo je važno objektivno definirati ciljeve rada i kriterije ocjenjivanja i informirati o tome učenike (i roditelj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unaprijed planirat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pitanja i način ispitivanj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tvoriti opuštenu atmosferu tijekom provjere znanj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-29088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što češće ispitivati i ocjenjivati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29088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3" name="Picture 8" descr="BD07210_"/>
          <p:cNvPicPr/>
          <p:nvPr/>
        </p:nvPicPr>
        <p:blipFill>
          <a:blip r:embed="rId1"/>
          <a:stretch/>
        </p:blipFill>
        <p:spPr>
          <a:xfrm>
            <a:off x="3780000" y="4365720"/>
            <a:ext cx="182088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682040" cy="5688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što prije ispraviti kontrolne rado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javno ocijeniti učenika i komentirati ocjen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podcrtati pogreške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i tražiti da ih učenik samostalno isprav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cijeniti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i nakon što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učenik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samostaln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spravi greške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ko je postig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definiranu razinu kvalitete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8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Picture 4" descr="J0078705"/>
          <p:cNvPicPr/>
          <p:nvPr/>
        </p:nvPicPr>
        <p:blipFill>
          <a:blip r:embed="rId1"/>
          <a:stretch/>
        </p:blipFill>
        <p:spPr>
          <a:xfrm>
            <a:off x="2556000" y="1773360"/>
            <a:ext cx="1288800" cy="1584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J0078718"/>
          <p:cNvPicPr/>
          <p:nvPr/>
        </p:nvPicPr>
        <p:blipFill>
          <a:blip r:embed="rId2"/>
          <a:stretch/>
        </p:blipFill>
        <p:spPr>
          <a:xfrm>
            <a:off x="5435640" y="1700280"/>
            <a:ext cx="139536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115640" y="17002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5000"/>
          </a:bodyPr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-28764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kad god učenik nije zadovoljan ocjenom, dati mu  priliku za ispravljanj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-28764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vaku ocjenu odmah upisati u imeni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-28764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provjeravati znanje na različite način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8764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8" name="Picture 5" descr="BD07033_"/>
          <p:cNvPicPr/>
          <p:nvPr/>
        </p:nvPicPr>
        <p:blipFill>
          <a:blip r:embed="rId1"/>
          <a:stretch/>
        </p:blipFill>
        <p:spPr>
          <a:xfrm>
            <a:off x="7451640" y="476280"/>
            <a:ext cx="1125720" cy="1649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BD04915_"/>
          <p:cNvPicPr/>
          <p:nvPr/>
        </p:nvPicPr>
        <p:blipFill>
          <a:blip r:embed="rId2"/>
          <a:stretch/>
        </p:blipFill>
        <p:spPr>
          <a:xfrm>
            <a:off x="7236000" y="3429000"/>
            <a:ext cx="8604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2" descr="J0078816"/>
          <p:cNvPicPr/>
          <p:nvPr/>
        </p:nvPicPr>
        <p:blipFill>
          <a:blip r:embed="rId1"/>
          <a:stretch/>
        </p:blipFill>
        <p:spPr>
          <a:xfrm>
            <a:off x="7093080" y="476280"/>
            <a:ext cx="1369800" cy="1143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537680" cy="5533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ndividualno informirati roditelj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raditi u timu sa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ustručnjacim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ovremno provjeravati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vlastiti kriterij ocjenjivanj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razvijati sposobnost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učenika za samoocjenjivanje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7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2" name="Picture 6" descr="BD19923_"/>
          <p:cNvPicPr/>
          <p:nvPr/>
        </p:nvPicPr>
        <p:blipFill>
          <a:blip r:embed="rId2"/>
          <a:stretch/>
        </p:blipFill>
        <p:spPr>
          <a:xfrm>
            <a:off x="4952880" y="1785960"/>
            <a:ext cx="3733920" cy="1914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78826"/>
          <p:cNvPicPr/>
          <p:nvPr/>
        </p:nvPicPr>
        <p:blipFill>
          <a:blip r:embed="rId3"/>
          <a:stretch/>
        </p:blipFill>
        <p:spPr>
          <a:xfrm>
            <a:off x="5083200" y="3886200"/>
            <a:ext cx="34732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OBJEKTIVNOST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rednovati u odnosu na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jedinstvena mjeril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oja se primjenjuju neovisno o osobinama učenika, okolnostima rada i osobinama učitelj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guće</a:t>
            </a:r>
            <a:r>
              <a:rPr b="0" lang="hr-H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hr-HR" sz="2400" spc="-1" strike="noStrike" u="sng">
                <a:solidFill>
                  <a:srgbClr val="c00000"/>
                </a:solidFill>
                <a:uFillTx/>
                <a:latin typeface="Calibri"/>
              </a:rPr>
              <a:t>uspoređivanj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čenik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Aft>
                <a:spcPts val="1500"/>
              </a:spcAft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INDIVIDUALIZACIJ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rinuti</a:t>
            </a:r>
            <a:r>
              <a:rPr b="0" lang="hr-H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o osobinam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a,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okolnostim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rada i učenikovom relativnom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napretku</a:t>
            </a:r>
            <a:r>
              <a:rPr b="0" lang="hr-H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 u="sng">
                <a:solidFill>
                  <a:srgbClr val="c00000"/>
                </a:solidFill>
                <a:uFillTx/>
                <a:latin typeface="Calibri"/>
              </a:rPr>
              <a:t>poticaj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na kvalitetniji rad 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vijanje SAMOPOŠTOVANJ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Zahtjevi o kojima treba brinuti pri ocjenjivanju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VAŽNO JE DA UČENIK DOBIJE ZASLUŽENU OCJENU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CILJ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Calibri"/>
              </a:rPr>
              <a:t>NIJE USPOREĐIVATI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I OTKRITI ŠTO</a:t>
            </a:r>
            <a:r>
              <a:rPr b="1" lang="hr-H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ČENIK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Calibri"/>
              </a:rPr>
              <a:t>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Calibri"/>
              </a:rPr>
              <a:t>NE MOŽE I NE ZNA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, VEĆ UTVRDITI ŠTO ZNA I ŠTO GA MOŽE POTAKNUTI NA BOLJI RA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ITELJI / NASTAVNICI I UČENICI SU SURADNICI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sr-Latn-C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358" name="Picture 6" descr="bd04972_"/>
          <p:cNvPicPr/>
          <p:nvPr/>
        </p:nvPicPr>
        <p:blipFill>
          <a:blip r:embed="rId1"/>
          <a:stretch/>
        </p:blipFill>
        <p:spPr>
          <a:xfrm>
            <a:off x="6156360" y="4724280"/>
            <a:ext cx="1727280" cy="12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sr-Latn-C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Izabela Potnar Mijić, prof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viša savjetnica za engleski i njemački jezi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Podružnica Osije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tel: 031/ 284 91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 u="sng">
                <a:solidFill>
                  <a:srgbClr val="ee7b08"/>
                </a:solidFill>
                <a:uFillTx/>
                <a:latin typeface="Century Gothic"/>
                <a:hlinkClick r:id="rId1"/>
              </a:rPr>
              <a:t>Izabela.potnarmijic@azoo.h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66320" y="1341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Vizek Vidović V.,Vlahović Štetić V., Rijavec M., Miljković D. (2003.).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Psihologija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obrazovanja,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Zagreb:IEP-VERN’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Jensen E.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Super- nastav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hr-HR" sz="1500" spc="-1" strike="noStrike">
                <a:solidFill>
                  <a:srgbClr val="000000"/>
                </a:solidFill>
                <a:latin typeface="Calibri"/>
              </a:rPr>
              <a:t>Nastavne strategije za kvalitetnu školu i uspješno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1500" spc="-1" strike="noStrike">
                <a:solidFill>
                  <a:srgbClr val="000000"/>
                </a:solidFill>
                <a:latin typeface="Calibri"/>
              </a:rPr>
              <a:t>učenje,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Zagreb: Educa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Kyriacou, C. (2001.).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Temeljna nastavna umjeć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, Zagreb: Educa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Grgin, T. (2001)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Školsko ocjenjivanje znanj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, Naklada Slap, Jastrebarsko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Mužić, V. (1979)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Metodologija pedagoških istraživanj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, Svjetlost, Sarajevo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Bognar, L., Matijević,M. (2002.).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Didaktik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, Zagreb: Školska knjiga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Furlan, I. (1970)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Upoznavanje ispitivanje i ocjenjivanje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učenika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, PKZ, Zagreb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Calibri"/>
              </a:rPr>
              <a:t>PP prezentacije</a:t>
            </a: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Đurđice Kaurloto Martinić, Luči Lončar, Diane Garašić ,Elvire Nimac i Marine Ništ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60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4400" spc="-1" strike="noStrike">
                <a:solidFill>
                  <a:srgbClr val="31521b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Ocjenjivanje je pridavanje brojčane ili opisne vrijednosti rezultatima praćenja 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Provjeravanje učenikovog rada prema sastavnicama ocjenjivanja svakoga nastavnog predmet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OCJENJIVANJE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6" name="Picture 4" descr="J0076136"/>
          <p:cNvPicPr/>
          <p:nvPr/>
        </p:nvPicPr>
        <p:blipFill>
          <a:blip r:embed="rId1"/>
          <a:stretch/>
        </p:blipFill>
        <p:spPr>
          <a:xfrm>
            <a:off x="7236000" y="1557360"/>
            <a:ext cx="115236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1071720" y="714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ROVJERAVANJE ILI PROCJENJIVAN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071720" y="2786040"/>
            <a:ext cx="76197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rovjeravanje podrazumijeva procjenu postignute razine kompetencija u nastav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redmetu ili području i drugim oblicima rada u školi tijekom školske god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3597480" y="542916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Što ocjenjujem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7"/>
          <p:cNvSpPr/>
          <p:nvPr/>
        </p:nvSpPr>
        <p:spPr>
          <a:xfrm>
            <a:off x="3564000" y="2749680"/>
            <a:ext cx="2232000" cy="1420560"/>
          </a:xfrm>
          <a:prstGeom prst="pi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0680" rIns="220680" tIns="220680" bIns="2206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KOME JE OCJENJIVANJE VAŽ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8"/>
          <p:cNvSpPr/>
          <p:nvPr/>
        </p:nvSpPr>
        <p:spPr>
          <a:xfrm rot="16200000">
            <a:off x="4446360" y="2258640"/>
            <a:ext cx="301680" cy="482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96480" bIns="9648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3851280" y="836640"/>
            <a:ext cx="156852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880" rIns="272880" tIns="272880" bIns="2728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M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0"/>
          <p:cNvSpPr/>
          <p:nvPr/>
        </p:nvSpPr>
        <p:spPr>
          <a:xfrm rot="19938600">
            <a:off x="5819400" y="2822040"/>
            <a:ext cx="299880" cy="48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96480" bIns="9648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6300720" y="1700280"/>
            <a:ext cx="215892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880" rIns="272880" tIns="272880" bIns="2728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RAVNATELJ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12"/>
          <p:cNvSpPr/>
          <p:nvPr/>
        </p:nvSpPr>
        <p:spPr>
          <a:xfrm rot="7690800">
            <a:off x="3623760" y="4103280"/>
            <a:ext cx="301680" cy="482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96480" bIns="9648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1714680" y="4437000"/>
            <a:ext cx="2112840" cy="1420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880" rIns="272880" tIns="272880" bIns="2728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RODITELJI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4"/>
          <p:cNvSpPr/>
          <p:nvPr/>
        </p:nvSpPr>
        <p:spPr>
          <a:xfrm rot="954000">
            <a:off x="3263760" y="2741760"/>
            <a:ext cx="301680" cy="482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0" tIns="96480" bIns="9648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1187280" y="1916280"/>
            <a:ext cx="177660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880" rIns="272880" tIns="272880" bIns="2728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UČEN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6"/>
          <p:cNvGrpSpPr/>
          <p:nvPr/>
        </p:nvGrpSpPr>
        <p:grpSpPr>
          <a:xfrm>
            <a:off x="5715000" y="4365720"/>
            <a:ext cx="1928880" cy="1420560"/>
            <a:chOff x="5715000" y="4365720"/>
            <a:chExt cx="1928880" cy="1420560"/>
          </a:xfrm>
        </p:grpSpPr>
        <p:sp>
          <p:nvSpPr>
            <p:cNvPr id="260" name="Oval 17"/>
            <p:cNvSpPr/>
            <p:nvPr/>
          </p:nvSpPr>
          <p:spPr>
            <a:xfrm>
              <a:off x="5715000" y="4365720"/>
              <a:ext cx="1928880" cy="1420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4"/>
            <p:cNvSpPr/>
            <p:nvPr/>
          </p:nvSpPr>
          <p:spPr>
            <a:xfrm>
              <a:off x="5792760" y="4573440"/>
              <a:ext cx="17193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Arial Narrow"/>
                </a:rPr>
                <a:t>UČITELJ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Freeform 19"/>
          <p:cNvSpPr/>
          <p:nvPr/>
        </p:nvSpPr>
        <p:spPr>
          <a:xfrm rot="1834200">
            <a:off x="5393880" y="4119120"/>
            <a:ext cx="301680" cy="48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96480" bIns="9648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Dvojbe pri ocjenjivanju</a:t>
            </a: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marL="303120" indent="-303120">
              <a:lnSpc>
                <a:spcPct val="90000"/>
              </a:lnSpc>
              <a:spcBef>
                <a:spcPts val="1500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0">
              <a:lnSpc>
                <a:spcPct val="90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Explosion 1 3"/>
          <p:cNvSpPr/>
          <p:nvPr/>
        </p:nvSpPr>
        <p:spPr>
          <a:xfrm>
            <a:off x="755640" y="3860640"/>
            <a:ext cx="5545080" cy="3600720"/>
          </a:xfrm>
          <a:prstGeom prst="irregularSeal1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ako zaključiti ocje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loud 4"/>
          <p:cNvSpPr/>
          <p:nvPr/>
        </p:nvSpPr>
        <p:spPr>
          <a:xfrm>
            <a:off x="4140360" y="1125360"/>
            <a:ext cx="3671640" cy="2232360"/>
          </a:xfrm>
          <a:prstGeom prst="pi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ojom ocjen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Cloud 5"/>
          <p:cNvSpPr/>
          <p:nvPr/>
        </p:nvSpPr>
        <p:spPr>
          <a:xfrm>
            <a:off x="1619280" y="2492280"/>
            <a:ext cx="3744720" cy="1944720"/>
          </a:xfrm>
          <a:prstGeom prst="pi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oja su mjeri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a ocjenjivan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Cloud 6"/>
          <p:cNvSpPr/>
          <p:nvPr/>
        </p:nvSpPr>
        <p:spPr>
          <a:xfrm>
            <a:off x="826920" y="981000"/>
            <a:ext cx="3745080" cy="1871640"/>
          </a:xfrm>
          <a:prstGeom prst="pi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to ocjenjuje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loud 7"/>
          <p:cNvSpPr/>
          <p:nvPr/>
        </p:nvSpPr>
        <p:spPr>
          <a:xfrm>
            <a:off x="5940360" y="4365720"/>
            <a:ext cx="2952720" cy="2303280"/>
          </a:xfrm>
          <a:prstGeom prst="pi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ako prove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cjenjivan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loud 8"/>
          <p:cNvSpPr/>
          <p:nvPr/>
        </p:nvSpPr>
        <p:spPr>
          <a:xfrm>
            <a:off x="5796000" y="2421000"/>
            <a:ext cx="2952720" cy="2160360"/>
          </a:xfrm>
          <a:prstGeom prst="pie">
            <a:avLst/>
          </a:prstGeom>
          <a:solidFill>
            <a:srgbClr val="99c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oliko č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cjenjiva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lvl="2" marL="914400">
              <a:lnSpc>
                <a:spcPct val="95000"/>
              </a:lnSpc>
              <a:spcAft>
                <a:spcPts val="200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dmet</a:t>
            </a:r>
            <a:r>
              <a:rPr b="1" lang="hr-HR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jerenj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(znanje – u širem smislu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>
              <a:lnSpc>
                <a:spcPct val="95000"/>
              </a:lnSpc>
              <a:spcAft>
                <a:spcPts val="200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instrument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kojim se mjeri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elj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/nastavnik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>
              <a:lnSpc>
                <a:spcPct val="95000"/>
              </a:lnSpc>
              <a:spcAft>
                <a:spcPts val="2001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tehnike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mjerenj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(različiti načini ispitivanja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31521b"/>
                </a:solidFill>
                <a:latin typeface="Calibri"/>
              </a:rPr>
              <a:t>Ocjenjivanje je </a:t>
            </a:r>
            <a:br>
              <a:rPr sz="4000"/>
            </a:br>
            <a:r>
              <a:rPr b="1" lang="hr-HR" sz="4200" spc="-1" strike="noStrike">
                <a:solidFill>
                  <a:srgbClr val="c00000"/>
                </a:solidFill>
                <a:latin typeface="Calibri"/>
              </a:rPr>
              <a:t>mjerenje</a:t>
            </a:r>
            <a:r>
              <a:rPr b="1" lang="hr-HR" sz="4000" spc="-1" strike="noStrike">
                <a:solidFill>
                  <a:srgbClr val="c00000"/>
                </a:solidFill>
                <a:latin typeface="Calibri"/>
              </a:rPr>
              <a:t> znanja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Aft>
                <a:spcPts val="314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ije izravno dostupno mjerenju –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osredno zaključujemo na temelju odgovor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astavnice(elementi) ocjenjivanja </a:t>
            </a:r>
            <a:r>
              <a:rPr b="0" lang="hr-HR" sz="3600" spc="-1" strike="noStrike">
                <a:solidFill>
                  <a:srgbClr val="c00000"/>
                </a:solidFill>
                <a:latin typeface="Calibri"/>
              </a:rPr>
              <a:t>(ŠTO?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Mjerila (kriteriji) ocjenjivanja </a:t>
            </a:r>
            <a:r>
              <a:rPr b="0" lang="hr-HR" sz="3600" spc="-1" strike="noStrike">
                <a:solidFill>
                  <a:srgbClr val="c00000"/>
                </a:solidFill>
                <a:latin typeface="Calibri"/>
              </a:rPr>
              <a:t>(KAKO?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Calibri"/>
              </a:rPr>
              <a:t>ZNANJE</a:t>
            </a:r>
            <a:br>
              <a:rPr sz="4000"/>
            </a:b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6:33:42Z</dcterms:created>
  <dc:creator>Nikolina Lauc</dc:creator>
  <dc:description/>
  <dc:language>en-US</dc:language>
  <cp:lastModifiedBy>Korisnik</cp:lastModifiedBy>
  <dcterms:modified xsi:type="dcterms:W3CDTF">2013-10-01T07:28:50Z</dcterms:modified>
  <cp:revision>181</cp:revision>
  <dc:subject/>
  <dc:title>Subjektivni i objektivni čimbenici </dc:title>
</cp:coreProperties>
</file>