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456-E8CD-4379-BC20-CA4F51EC91C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r.wikipedia.org/wiki/Narodne_novine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vidjelo se da ne postoji primjerena stručna potpora za specifične zadaće koje sa sobom nosi uloga razrednik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čitelji  ne dolaze na radno mjesto pripremljeni za poslove razrednika, već uče na radnome mjestu metodom pokušaja i pogrešak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900" spc="-1" strike="noStrike">
                <a:solidFill>
                  <a:srgbClr val="000000"/>
                </a:solidFill>
                <a:latin typeface="Calibri"/>
              </a:rPr>
              <a:t>(prof. dr. sc. Dubravka Maleš)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16B7-F38A-47E5-93AA-63A24377632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čenje: učenja, (vježbanje) životnih vještina, zajedništ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dgoj i obrazovanje za: nenasilno vladanje, snošljivost, demokratski građanski odgoj, i s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vencijski programi i projek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E60F-087D-46B5-B2F2-51ED5B6D29C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79A5-0F57-492C-9998-C4DB6CB7A12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Razrednik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je u hrvatskom obrazovnom sustavu stručni voditelj razrednog odjela i Razrednog vijeć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Poslovi i djelokrug rada razrednika određeni s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konom o odgoju i obrazovanju u osnovnoj i srednjoj školi (</a:t>
            </a:r>
            <a:r>
              <a:rPr b="0" lang="hr-H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N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, br. 87/08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olektivnim ugovorom za zaposlenike u osnovnoškolskim i srednjoškolskim ustanova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avilnikom o načinima, postupcima i elementima vrednovanja učenika u osnovnoj i srednjoj školi. (članak 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avilnikom o pedagoškoj mjeri OOPST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atutom šk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3601-B69B-444C-81D9-98D18BD01C2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AA0-CF69-4127-B864-7FDA1186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48E-FA86-4D60-9BBC-E2EC68F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5BF-5438-4634-BB09-31A8F7B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C47-C792-4F4E-B2BE-8B298911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CB56-560F-4441-B699-D8293016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78D-F68C-4D41-801B-E25C9AB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D595-25DF-4844-885B-DCBDAAF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5986-2E0C-44BB-A355-D1BFE7D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FABC-0906-4F98-8C18-3D0E188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A4A5-92BA-4152-ACF3-A5CA499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38B6-6E25-458D-8820-F7E9814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8F6-67D2-4F60-980F-B54E6CD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3BC4-75EE-407E-8453-D8B6CDF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F30-5B34-4677-A269-AEB2773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1BCD-AF86-426A-8BF5-C60E2F8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C1C8-224D-4A17-88C9-05BAC799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98F-EA26-4DDE-BB93-29AC540F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38BD-5BD5-408C-BF72-A98B380C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9FE4-92F2-48AC-AF58-1B72B21F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C9C4-74C6-4657-8DD9-D3395372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8BF5-B20F-46B2-96CD-0E1FA5A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1530-A7A2-4585-BF75-99DCEC14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69E-6A34-49F0-80EE-04B94F8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218C-9AAE-4941-851F-E2A0828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A9F8-B4FF-4231-8AF4-45D2FCE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4BA6-0CAC-4213-9269-3442477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73AD-388A-4FDC-85AF-0DC0944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6A6E-9065-4754-A453-9F5DDF8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437D-3FEA-40A7-9F1B-EB023E2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772A-4A46-4E60-82CB-3AD77509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DD705-79A7-4147-999E-0FDE8063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299E-6934-4BED-93E2-2507B858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8C13-2ADE-4785-8644-41954873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BDD-4E86-4C11-9896-0CB18F2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7C591-8756-4A99-A9A1-923FDF7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7ECD-AEEA-4EF5-AE7F-8A6DE5F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9B65-939B-4701-ACB2-AAE06608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26BE-ECF0-45E8-8EDD-FA22EBF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3EC1-4AA9-4B18-8FF0-F3633EF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16B8-78F2-47B5-8529-0CD21AA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7119-7871-4550-B408-3DB454B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D48E-15E4-4D0B-B538-6ED515A0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64AE-52EC-4AFA-A83C-43A49FBB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754E-190E-4E18-8A07-5A0CB085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05D-A5C6-4981-A2D3-FED618EC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9A9A-E821-48FE-8992-F8CE72BC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5EF8-F0D1-47FE-A9BD-2322C568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F15DB-7BB1-4036-9AAD-F51405D3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CC17-4BAE-4AB6-8051-92A1F107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EBD3-70B3-48B8-B537-293C636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4DB9-6023-47AC-8E30-F771482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201D-3593-4FDE-B0EC-8840D1F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85FA-6A30-4EFD-A2B2-D3608A5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21111-A4DB-4C44-9008-F7B135A0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43BC-827E-40D3-8BD5-1107AE49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D68-E4B5-4F82-B0F3-A9087517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7FB0-5682-4CF2-9F11-C0233469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B90-36DD-440C-B995-6500FFF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2D0-E789-41E5-A9FF-05AFC19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81D-C0F5-4CE8-B04A-EC5BA0B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0559-0E30-4B6B-B407-02B539C7471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8C7-CEC7-4B31-9ADF-26990CF673C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7650000" y="30240"/>
            <a:ext cx="13287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84" name="Rectangle 7"/>
          <p:cNvGrpSpPr/>
          <p:nvPr/>
        </p:nvGrpSpPr>
        <p:grpSpPr>
          <a:xfrm>
            <a:off x="-19080" y="1298520"/>
            <a:ext cx="9139320" cy="128520"/>
            <a:chOff x="-19080" y="1298520"/>
            <a:chExt cx="9139320" cy="128520"/>
          </a:xfrm>
        </p:grpSpPr>
        <p:pic>
          <p:nvPicPr>
            <p:cNvPr id="85" name="Rectangle 7" descr=""/>
            <p:cNvPicPr/>
            <p:nvPr/>
          </p:nvPicPr>
          <p:blipFill>
            <a:blip r:embed="rId3"/>
            <a:stretch/>
          </p:blipFill>
          <p:spPr>
            <a:xfrm>
              <a:off x="-19080" y="1298520"/>
              <a:ext cx="91393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1319040"/>
              <a:ext cx="9109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5934-F8E5-43E6-858D-51F582435DE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5D7-5A03-47DB-9228-75630AFBB131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7650000" y="30240"/>
            <a:ext cx="1328760" cy="1249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13DF-9CB9-4424-9CD6-88479E17197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Naslov 1" descr=""/>
          <p:cNvPicPr/>
          <p:nvPr/>
        </p:nvPicPr>
        <p:blipFill>
          <a:blip r:embed="rId1"/>
          <a:stretch/>
        </p:blipFill>
        <p:spPr>
          <a:xfrm>
            <a:off x="682560" y="1932120"/>
            <a:ext cx="7785000" cy="1744560"/>
          </a:xfrm>
          <a:prstGeom prst="rect">
            <a:avLst/>
          </a:prstGeom>
          <a:ln w="0">
            <a:noFill/>
          </a:ln>
        </p:spPr>
      </p:pic>
      <p:pic>
        <p:nvPicPr>
          <p:cNvPr id="220" name="Podnaslov 2" descr=""/>
          <p:cNvPicPr/>
          <p:nvPr/>
        </p:nvPicPr>
        <p:blipFill>
          <a:blip r:embed="rId2"/>
          <a:stretch/>
        </p:blipFill>
        <p:spPr>
          <a:xfrm>
            <a:off x="1401840" y="4754520"/>
            <a:ext cx="6237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-103320" y="-30240"/>
            <a:ext cx="9283680" cy="1322640"/>
          </a:xfrm>
          <a:prstGeom prst="rect">
            <a:avLst/>
          </a:prstGeom>
          <a:ln w="0">
            <a:noFill/>
          </a:ln>
        </p:spPr>
      </p:pic>
      <p:pic>
        <p:nvPicPr>
          <p:cNvPr id="258" name="Rezervirano mjesto sadržaja 4" descr=""/>
          <p:cNvPicPr/>
          <p:nvPr/>
        </p:nvPicPr>
        <p:blipFill>
          <a:blip r:embed="rId2"/>
          <a:stretch/>
        </p:blipFill>
        <p:spPr>
          <a:xfrm>
            <a:off x="401760" y="1889280"/>
            <a:ext cx="8364240" cy="4694040"/>
          </a:xfrm>
          <a:prstGeom prst="rect">
            <a:avLst/>
          </a:prstGeom>
          <a:ln w="0">
            <a:noFill/>
          </a:ln>
        </p:spPr>
      </p:pic>
      <p:sp>
        <p:nvSpPr>
          <p:cNvPr id="259" name="TekstniOkvir 5"/>
          <p:cNvSpPr/>
          <p:nvPr/>
        </p:nvSpPr>
        <p:spPr>
          <a:xfrm>
            <a:off x="2050920" y="5929200"/>
            <a:ext cx="452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9e0000"/>
                </a:solidFill>
                <a:latin typeface="Calibri"/>
              </a:rPr>
              <a:t>1. 1. Odgojno-obrazovno djelov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158760" y="249120"/>
            <a:ext cx="7083360" cy="1025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predovanje i uspjeh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ocijalno i obiteljsko stanj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rješavanje odgojnih slučajev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ostanc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edagoške mj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dodatni i dopunski r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rofesionalni razvoj učen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lobodno vrijeme učenika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1. 3. Analiza odgojno-obrazovnoga stanja u razrednome odj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3972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tignuća učenika i razrednoga odjela (uspjesi, izazovi…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iscipl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pterećenos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vike (radne, kulturne i sl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Rezervirano mjesto sadržaja 14" descr="DSC02165.JPG"/>
          <p:cNvPicPr/>
          <p:nvPr/>
        </p:nvPicPr>
        <p:blipFill>
          <a:blip r:embed="rId1"/>
          <a:stretch/>
        </p:blipFill>
        <p:spPr>
          <a:xfrm>
            <a:off x="4645080" y="2071800"/>
            <a:ext cx="404172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Naslov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004160" cy="1006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35720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aš razred ne mora biti savršen i život nije savrš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jetite se da su problemi prilika za ra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ristite vlastite resurse kako biste stvorili pozitivnu razrednu klim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razvijete dobar odnos sa svojim učenicima, oni će biti spremni držati se dogovora koje zajedno postigne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Postići samodisciplinu kod učenika sigurno je najveći znak nastavničkog uspje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7C61-32B1-43C8-9863-0985FE57A5F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089840" cy="1006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ražite ono najbolje u njima, kako biste dobili ono najbolje iz nj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ronađite dobro u njima i hvalite 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razgovarajte i slušajte svojeg učenika onako kako želite da on razgovara s vama i sluša v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6D2-901C-4931-9B89-4D52279627E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http://os-stanovi-zd.skole.hr/upload/os-stanovi-zd/images/newsimg/290/komunikacija%204.jpg"/>
          <p:cNvPicPr/>
          <p:nvPr/>
        </p:nvPicPr>
        <p:blipFill>
          <a:blip r:embed="rId2"/>
          <a:stretch/>
        </p:blipFill>
        <p:spPr>
          <a:xfrm>
            <a:off x="2357280" y="4286160"/>
            <a:ext cx="3786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aslov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6791400" cy="1006560"/>
          </a:xfrm>
          <a:prstGeom prst="rect">
            <a:avLst/>
          </a:prstGeom>
          <a:ln w="0">
            <a:noFill/>
          </a:ln>
        </p:spPr>
      </p:pic>
      <p:pic>
        <p:nvPicPr>
          <p:cNvPr id="275" name="Rezervirano mjesto sadržaja 3" descr=""/>
          <p:cNvPicPr/>
          <p:nvPr/>
        </p:nvPicPr>
        <p:blipFill>
          <a:blip r:embed="rId2"/>
          <a:stretch/>
        </p:blipFill>
        <p:spPr>
          <a:xfrm>
            <a:off x="573120" y="1627200"/>
            <a:ext cx="8132760" cy="4071960"/>
          </a:xfrm>
          <a:prstGeom prst="rect">
            <a:avLst/>
          </a:prstGeom>
          <a:ln w="0">
            <a:noFill/>
          </a:ln>
        </p:spPr>
      </p:pic>
      <p:sp>
        <p:nvSpPr>
          <p:cNvPr id="276" name="Pravokutnik 4"/>
          <p:cNvSpPr/>
          <p:nvPr/>
        </p:nvSpPr>
        <p:spPr>
          <a:xfrm>
            <a:off x="1571760" y="585792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obzira što Vi mislili da jeste Vi ste uvijek više od to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9a58ae"/>
                </a:solidFill>
                <a:latin typeface="Arial"/>
              </a:rPr>
              <a:t>Virginia Sa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3642840"/>
            <a:ext cx="77724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ŽELJNE OSOBINE RAZREDNIKA:</a:t>
            </a:r>
            <a:br>
              <a:rPr sz="2200"/>
            </a:b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POSOBNOST EMPATIJE, STRPLJIVOST I FLEKSIBILNOST, IZUZETNE INTERPERSONALNE VJEŠTINE, OTVORENOST ZA NOVE IDEJE, SVIJEST O POSTOJANJU INDIVIDUALNIH RAZLIKA MEĐU UČENICIMA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1642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Za uspješno obavljanje uloge razrednika odlučujuća je kvaliteta njegove ličnosti, ne samo znanje o tome što treba raditi već, uz to, i one osobine, svojstva i sposobnosti koje će omogućiti da to znanje dođe do izraža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ratanić prema Rađenović, Smiljan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Naslov 1" descr=""/>
          <p:cNvPicPr/>
          <p:nvPr/>
        </p:nvPicPr>
        <p:blipFill>
          <a:blip r:embed="rId1"/>
          <a:stretch/>
        </p:blipFill>
        <p:spPr>
          <a:xfrm>
            <a:off x="55440" y="-103320"/>
            <a:ext cx="8575920" cy="1474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os-stanovi-zd.skole.hr/upload/os-stanovi-zd/images/newsimg/290/Image/govor%200.jpg"/>
          <p:cNvPicPr/>
          <p:nvPr/>
        </p:nvPicPr>
        <p:blipFill>
          <a:blip r:embed="rId2"/>
          <a:stretch/>
        </p:blipFill>
        <p:spPr>
          <a:xfrm>
            <a:off x="2500200" y="2857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Rectangle 2" descr=""/>
          <p:cNvPicPr/>
          <p:nvPr/>
        </p:nvPicPr>
        <p:blipFill>
          <a:blip r:embed="rId1"/>
          <a:stretch/>
        </p:blipFill>
        <p:spPr>
          <a:xfrm>
            <a:off x="42840" y="60480"/>
            <a:ext cx="8783640" cy="1311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skladiti ciljeve, svrhu i aktivnosti surad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govarati na roditeljske potrebe fleksibilnim i kreativnim program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govarati o očekivanjima, ulogama i odgovornos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ključivati roditelje u donošenje odlu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5" descr="k"/>
          <p:cNvPicPr/>
          <p:nvPr/>
        </p:nvPicPr>
        <p:blipFill>
          <a:blip r:embed="rId2"/>
          <a:stretch/>
        </p:blipFill>
        <p:spPr>
          <a:xfrm>
            <a:off x="6715080" y="4714920"/>
            <a:ext cx="2241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42840" y="158760"/>
            <a:ext cx="9259920" cy="1030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laniranje i održavanje roditeljskih sasta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edagoške radionice s grupom roditelja i predavanja za roditel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dividualni razgovori s roditelji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smeno i pismeno obavješćivanje roditelja o napredovanju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ijeće rodite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eformalni oblici suradnje  s roditelj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250920" y="404640"/>
            <a:ext cx="3457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Što očekuju od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mene -razredn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čeni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ditel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le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86200" y="30492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kva je moja slika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astavnika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zredni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429000" y="5500800"/>
            <a:ext cx="27352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Što mogu ponudi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426360" y="2133720"/>
            <a:ext cx="2717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Što ja očekujem 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ditel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l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68360" y="23493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oje su poželjne osobine razred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286000" y="58579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Što trebam, što moram nauč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WordArt 10"/>
          <p:cNvGrpSpPr/>
          <p:nvPr/>
        </p:nvGrpSpPr>
        <p:grpSpPr>
          <a:xfrm>
            <a:off x="7296120" y="500040"/>
            <a:ext cx="1755720" cy="1596960"/>
            <a:chOff x="7296120" y="500040"/>
            <a:chExt cx="1755720" cy="1596960"/>
          </a:xfrm>
        </p:grpSpPr>
        <p:pic>
          <p:nvPicPr>
            <p:cNvPr id="228" name="WordArt 10" descr=""/>
            <p:cNvPicPr/>
            <p:nvPr/>
          </p:nvPicPr>
          <p:blipFill>
            <a:blip r:embed="rId1"/>
            <a:stretch/>
          </p:blipFill>
          <p:spPr>
            <a:xfrm>
              <a:off x="7296120" y="500040"/>
              <a:ext cx="17557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7924680" y="533520"/>
              <a:ext cx="10670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800" spc="-1" strike="noStrike">
                  <a:solidFill>
                    <a:srgbClr val="4f81bd"/>
                  </a:solidFill>
                  <a:latin typeface="Arial Blac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WordArt 11"/>
          <p:cNvGrpSpPr/>
          <p:nvPr/>
        </p:nvGrpSpPr>
        <p:grpSpPr>
          <a:xfrm>
            <a:off x="3602160" y="993600"/>
            <a:ext cx="2566800" cy="4632480"/>
            <a:chOff x="3602160" y="993600"/>
            <a:chExt cx="2566800" cy="4632480"/>
          </a:xfrm>
        </p:grpSpPr>
        <p:pic>
          <p:nvPicPr>
            <p:cNvPr id="231" name="WordArt 11" descr=""/>
            <p:cNvPicPr/>
            <p:nvPr/>
          </p:nvPicPr>
          <p:blipFill>
            <a:blip r:embed="rId2"/>
            <a:stretch/>
          </p:blipFill>
          <p:spPr>
            <a:xfrm>
              <a:off x="3602160" y="993600"/>
              <a:ext cx="2566800" cy="46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5400000">
              <a:off x="3238560" y="2704680"/>
              <a:ext cx="32767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800" spc="-1" strike="noStrike">
                  <a:solidFill>
                    <a:srgbClr val="ff6600"/>
                  </a:solidFill>
                  <a:latin typeface="Arial Blac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WordArt 12"/>
          <p:cNvSpPr txBox="1"/>
          <p:nvPr/>
        </p:nvSpPr>
        <p:spPr>
          <a:xfrm rot="2314800">
            <a:off x="7695720" y="5410080"/>
            <a:ext cx="80964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44000"/>
                </a:gradFill>
                <a:latin typeface="Impact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44000"/>
              </a:gradFill>
              <a:latin typeface="Impact"/>
              <a:ea typeface="Impact"/>
            </a:endParaRPr>
          </a:p>
        </p:txBody>
      </p:sp>
      <p:grpSp>
        <p:nvGrpSpPr>
          <p:cNvPr id="234" name="WordArt 13"/>
          <p:cNvGrpSpPr/>
          <p:nvPr/>
        </p:nvGrpSpPr>
        <p:grpSpPr>
          <a:xfrm>
            <a:off x="2157480" y="2584440"/>
            <a:ext cx="1785960" cy="1549440"/>
            <a:chOff x="2157480" y="2584440"/>
            <a:chExt cx="1785960" cy="1549440"/>
          </a:xfrm>
        </p:grpSpPr>
        <p:pic>
          <p:nvPicPr>
            <p:cNvPr id="235" name="WordArt 13" descr=""/>
            <p:cNvPicPr/>
            <p:nvPr/>
          </p:nvPicPr>
          <p:blipFill>
            <a:blip r:embed="rId3"/>
            <a:stretch/>
          </p:blipFill>
          <p:spPr>
            <a:xfrm>
              <a:off x="2157480" y="2584440"/>
              <a:ext cx="17859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2500400">
              <a:off x="2466720" y="2721960"/>
              <a:ext cx="7412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800" spc="-1" strike="noStrike">
                  <a:solidFill>
                    <a:srgbClr val="ff6600"/>
                  </a:solidFill>
                  <a:latin typeface="Arial Blac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kstniOkvir 13"/>
          <p:cNvSpPr/>
          <p:nvPr/>
        </p:nvSpPr>
        <p:spPr>
          <a:xfrm>
            <a:off x="285840" y="385776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Kako se pripremiti za sjednice razrednog/učiteljskog vijeć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zricanje pedagoških mj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kstniOkvir 15"/>
          <p:cNvSpPr/>
          <p:nvPr/>
        </p:nvSpPr>
        <p:spPr>
          <a:xfrm>
            <a:off x="5929200" y="50007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Kako kvalitetno pripremiti sat razrednog odje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kstniOkvir 16"/>
          <p:cNvSpPr/>
          <p:nvPr/>
        </p:nvSpPr>
        <p:spPr>
          <a:xfrm>
            <a:off x="3143160" y="128592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Što znači biti razrednik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Što sve rad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857920" y="3714840"/>
            <a:ext cx="26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Kako uspješno surađivati s roditelji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158760" y="-244440"/>
            <a:ext cx="7083360" cy="1609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812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boljem školskom uspjehu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buđenju zanimanja roditelja za odg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boljem razumijevanju školskog 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brazovanje roditelja za odgojnu funkc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bolja komunikacija i interakcija između učenika roditelja i učite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ećoj povezanosti škole i šire društvene  zajed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49120" y="-23760"/>
            <a:ext cx="8723520" cy="1309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udite osobn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avljajte što manje pitan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govorite se, budite određeni i konkretn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ka Vam izjave budu cjelovite i izrav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stavite dojam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kažite skrom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ovorite koliko je god to moguće samo o prisutnim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Čuvajte vlastite grani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spravljajte uvijek samo o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jednom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problem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ktivirajte klijentove potencijal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užajte dobre savjete (Naravno, ako ih imate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cjenjujte:  osobno, objektivno,  poticajn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Rectangle 1"/>
          <p:cNvGrpSpPr/>
          <p:nvPr/>
        </p:nvGrpSpPr>
        <p:grpSpPr>
          <a:xfrm>
            <a:off x="4005360" y="1438200"/>
            <a:ext cx="5016240" cy="482760"/>
            <a:chOff x="4005360" y="1438200"/>
            <a:chExt cx="5016240" cy="482760"/>
          </a:xfrm>
        </p:grpSpPr>
        <p:pic>
          <p:nvPicPr>
            <p:cNvPr id="291" name="Rectangle 1" descr=""/>
            <p:cNvPicPr/>
            <p:nvPr/>
          </p:nvPicPr>
          <p:blipFill>
            <a:blip r:embed="rId2"/>
            <a:stretch/>
          </p:blipFill>
          <p:spPr>
            <a:xfrm>
              <a:off x="4005360" y="1438200"/>
              <a:ext cx="50162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067280" y="1533600"/>
              <a:ext cx="48974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J. Juul, Razgovori s obiteljima, str. 78., 200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Naslov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6791400" cy="1006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područja rada razrednika želim unaprijediti u ovoj godi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i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čin i met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emenski rok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7" descr=""/>
          <p:cNvPicPr/>
          <p:nvPr/>
        </p:nvPicPr>
        <p:blipFill>
          <a:blip r:embed="rId1"/>
          <a:stretch/>
        </p:blipFill>
        <p:spPr>
          <a:xfrm>
            <a:off x="317520" y="585720"/>
            <a:ext cx="8655120" cy="773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Učenje i usavršavanje n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zbir znanja“ već sve bolje shvaćanje samoga sebe i drugih u svakodnevnom životu, kako bi se ostvarili bolji i humaniji uvjeti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E. Piršl, 2008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8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6791400" cy="1006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566280" y="148392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gnar, L i Matijević, M., DIDAKTIKA, Školska knjiga, Zagreb, 199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rajša, P., SEDAM TAJNI USPJEŠNE ŠKOLE, Šk. novine, Zagreb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rajša, P., PEDAGOŠKA KOMUNIKACIJA, Šk. novine, Zagreb, 199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ratinić, M., MIKROPEDAGOGIJA, Školska knjiga, Zagreb, 199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rdar, I.; Rijavec, M., ŠTO UČINITI KAD DIJETE DOBIJE LOŠU OCJENU?, IEP, Zagreb, 199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Cawley, S., TAJNE USPJEŠNOG RADA U RAZREDU, Školska knjiga, Zagreb, 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Chelmos Gossen, D., RESTITUCIJA PROBRAZMA ŠKOLSKE DISCIPLINE, Alinea, Zagreb, 199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Green, B., NOVE PARADIGME ZA STVARANJE KVALITETNIH ŠKOLA, Alinea, Zagreb, 1996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Glasser, W., NASTAVNIK U KVALITETNOJ ŠKOLI, Educa, Zagreb, 199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vanek, A., KREATIVNI RAZREDNIK/RAZREDNICA, Profil, Zagreb, 20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Jensen, E., SUPER-NASTAVA, Educa, Zagreb,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Jesper, J. , RAZGOVORI S OBITELJIMA:PERSPEKTIVE I PROCESI, Alinea, Zagreb,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Kyriacou, C., TEMELJNA NASTAVNA UMIJEĆA, Educa, Zagreb, 199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Longo, I., RODITELJSTVO SE MOŽE UČITI, Alinea, Zagreb,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Matijević, M., Radanović, D., NASTAVA USMJERENA NA UČENIKA, Šk. novine, Zagreb, 20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Mayer, H., DIDAKTIKA RAZREDNE KVAKE, Educa, Zagreb,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Stoll, L. I Fink D., MIJENJAJMO NAŠE ŠKOLE, Educa, Zagreb, 200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Rađenović, A.; Smiljanić, M., PRIRUČNIK ZA RAZREDNIKE, Alinea, Zagreb,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Rijavec, M., Miljković, D., POZITIVNA DISCIPLINA U RAZREDU, Iep, Zagreb,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Hvala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ivana.biljan@azoo.h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158760" y="249120"/>
            <a:ext cx="7083360" cy="102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rednik je stručni voditelj razrednog odjela i razrednog vijeć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hr-HR" sz="2000" spc="-1" strike="noStrike">
                <a:solidFill>
                  <a:srgbClr val="000000"/>
                </a:solidFill>
                <a:latin typeface="Calibri"/>
              </a:rPr>
              <a:t>Zakon o odgoju i obrazovanju u osnovnoj i srednjoj školi, čl. 124, st.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rednik je učitelj/nastavnik koji vrši funkciju </a:t>
            </a:r>
            <a:r>
              <a:rPr b="1" lang="hr-HR" sz="2800" spc="-1" strike="noStrike">
                <a:solidFill>
                  <a:srgbClr val="ef6c31"/>
                </a:solidFill>
                <a:latin typeface="Calibri"/>
              </a:rPr>
              <a:t>pedagoškog, organizacijskog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2800" spc="-1" strike="noStrike">
                <a:solidFill>
                  <a:srgbClr val="ef6c31"/>
                </a:solidFill>
                <a:latin typeface="Calibri"/>
              </a:rPr>
              <a:t>administrativnog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rukovodioca jednog odjeljenja učeni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F9E9-874A-4DA6-8AF7-5D6DDF3057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171360" y="133200"/>
            <a:ext cx="7772400" cy="939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68360" y="155736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ma ulogu učitelja koja se odnosi na vođenje povjerenoga razrednog odjela te komunikacijsko posredovanje između neposrednih i posrednih sudionika odgojno-obrazovne djelatnosti/procesa - učenika, učitelja, roditelja/skrbni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 početku školske godine razrednik izrađuje program rada svoga odje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Nastavni plan i program za osnovnu školu, str. 1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C7D6-2899-4214-B428-322FCA6EBD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01600" y="-79200"/>
            <a:ext cx="7236000" cy="1431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onska osn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brobit i razvoj svakog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pješna komunik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ermanentno stručno usavrš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158760" y="249120"/>
            <a:ext cx="7083360" cy="1025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rganizacijski poslovi i zad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dministrativni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edagoška funkcija/interakcijsko-komunikacij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189000" y="-231840"/>
            <a:ext cx="9601200" cy="1596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Vođenj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razredne knji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Š imenika učenika (razredna knjiga A)  dnevnika rada (razredna knjiga 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tična knjiga i registar, e-m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dodžbe, prijepis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pisnici popravnih, razrednih i predmetnih isp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pisnici o završnom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rganizacijski poslov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zervirano mjesto sadržaja 5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047160" cy="655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8" descr="chained"/>
          <p:cNvPicPr/>
          <p:nvPr/>
        </p:nvPicPr>
        <p:blipFill>
          <a:blip r:embed="rId2"/>
          <a:stretch/>
        </p:blipFill>
        <p:spPr>
          <a:xfrm>
            <a:off x="3000240" y="2714760"/>
            <a:ext cx="2724120" cy="22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Naslov 1" descr=""/>
          <p:cNvPicPr/>
          <p:nvPr/>
        </p:nvPicPr>
        <p:blipFill>
          <a:blip r:embed="rId1"/>
          <a:stretch/>
        </p:blipFill>
        <p:spPr>
          <a:xfrm>
            <a:off x="23760" y="133200"/>
            <a:ext cx="7920000" cy="939960"/>
          </a:xfrm>
          <a:prstGeom prst="rect">
            <a:avLst/>
          </a:prstGeom>
          <a:ln w="0">
            <a:noFill/>
          </a:ln>
        </p:spPr>
      </p:pic>
      <p:pic>
        <p:nvPicPr>
          <p:cNvPr id="256" name="Rezervirano mjesto sadržaja 3" descr=""/>
          <p:cNvPicPr/>
          <p:nvPr/>
        </p:nvPicPr>
        <p:blipFill>
          <a:blip r:embed="rId2"/>
          <a:stretch/>
        </p:blipFill>
        <p:spPr>
          <a:xfrm>
            <a:off x="268200" y="1523880"/>
            <a:ext cx="852192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0:17:38Z</dcterms:created>
  <dc:creator>dell1764</dc:creator>
  <dc:description/>
  <dc:language>en-US</dc:language>
  <cp:lastModifiedBy>ibiljan</cp:lastModifiedBy>
  <dcterms:modified xsi:type="dcterms:W3CDTF">2013-10-01T07:51:19Z</dcterms:modified>
  <cp:revision>45</cp:revision>
  <dc:subject/>
  <dc:title>UČITELJ/ NASTAVNIK  U ULOZI RAZREDNIKA</dc:title>
</cp:coreProperties>
</file>