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E10-9466-43AA-B058-A1009094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420-727C-4A1A-99B6-7E841F2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8D6-D1E1-45E0-AC7D-605E52E9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14B-F5D7-4A6F-A109-312A5453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DA4-7C88-4376-B64F-039406E4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D72B-4464-4B5F-A310-22BCEA7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D1F-CA76-44A1-81DD-28770B3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AE5A-BF38-4750-8B30-0D8564D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839-98EA-4168-90D0-D744BF8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561-4139-4E89-A412-D958CF71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FE2D-DAE8-4D21-9693-F472030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8A8-6889-44EE-93B5-BDCD2BC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209-75D0-40A6-BD10-A8AEFB10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0EDC-FFF1-49B3-96BC-555C7A6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8D0-9076-4090-9467-9920551C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DA03-BEF7-4417-9C47-B4B23DC9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DAFF-D41F-4302-8CA0-2C479A56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B3D-AB7C-468D-ACEB-9E9D174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E8E-158F-4671-B5CB-DEB8B3C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BD5-F025-4D53-B383-CF1C8E5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F9C-6F14-4885-87E4-F5A38B9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967-6179-430A-A8D8-57ED3DD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B32-D30D-4A75-AD5C-0E61100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170-3397-4D64-83BF-45B89FF4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46D6-8A7F-49D9-B210-A7DC03E59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7BC-0645-4539-874F-F574D5B8C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UT PREMA KRITIČKOM MIŠLJENJU U NASTAVI POVIJESTI – PET VJEŠTINA KOD UČENIK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r.sc. Marijana Mari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gencija za odgoj i 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. srpnja 20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1. VJEŠTINA KRONOLOŠKOG MIŠLJENJA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onološko mišljenje je srce povijesnog miš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ez jakog kronološkog osjećaja tj. redoslijeda događaja, učeniku je nemoguće istražiti odnose između tih događaja ili objasniti povijesni kauzalit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onologija nam pruža mentalni kostur za organizaciju povijesnog mišlje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KAZATELJI (1. VJEŠTINA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 Učenik razlikuje prošlost, sadašnjost i budućn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Učenik u povijesnoj priči uočava njezinu vremen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ruktur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Učenik je sposoban utvrditi  vremenski redoslijed 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nstruiranju vlastite povijesne prič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. Učenik je sposoban izmjeriti i izračunati kalendars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rije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5. Učenik može rekonstruirati tijek povijesn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gađaja i njegovo traja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6. Učenik je sposoban uspoređivati alternativ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odele periodiza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2. VJEŠTINA RAZUMIJEVANJA POVIJESNE NARACIJE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vija se  na udžbeničkim i znanstvenim tekstovima, pisanim povijesnim izvorima i ostalim povijesnim tekstovi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om povijesne naracije  razumijevamo povijesne događaje i procese i dajemo svoju ocjen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kle, nisu odlični oni učenici koji mogu najtočnije izreći o kojim povijesnim događajima i osobama tekst govori i najtočnije ponoviti što su pojedine osobe rekle, već su odlični oni učenici koji na temelju tih činjenica mogu raspravlja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kst nije predmet zapamćivanja, već sadržaj razgov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KAZATELJI (2. VJEŠTINA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Učenik može razlikovati literarni tekst s povijesnom podlogom od znanstvenog povijesnog teks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Učenik može identificirati središnje pitanje povijesne prič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Učenik se može uživjeti u povijesnu prič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Učenik može uočiti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vijesne perspektive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 se o sposobnosti opisivanja prošlosti njezin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jmovima, kroz oči i iskustva onih koji su tamo i tada živjeli. Ne smijemo suditi o prošlosti prema normativima i vrijednostima današnj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Učenik može pretvoriti podatke iz teksta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ični prika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Učenik zna koristiti vizualne i brojča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atke na povijesnim i geografsk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tama, grafikonima, tablicama i drug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fičkim prikaz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Učenik se zna služiti vizualnim podacim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 literarnim i glazbenim izvor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3. VJEŠTINA ANALIZE POVIJESNIH DOGAĐAJA I NJIHOVA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INTERPRETACI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dan od najčešćih problema u nastavi povijesti je poriv koji osjećaju učenici, a nerijetko i učitelji/nastavnici, da pronađu jedan pravi odgovor, jednu bitnu činjenicu, jednu autoritarnu interpretacij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i problemi su duboko ukorijenjeni u uobičajenom načinu koji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džbenic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stavljaju povijest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je niz događaja koji idu ravno prema predviđenoj interpretacij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vjesničari se razlikuju po izboru činjenica koje uključuju u svoju priču i po njihovoj        interpretaciji, te se mogu međusobno razilaziti u mišljenju kako su te činjenice interpretir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načne istine nema kaž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alm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"Čovjek je mudar dok traži istinu, postaje budala čim pomisli da ju je našao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KAZATELJI (3. VJEŠTINA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Učenik zna identificirati autora ili izvor povijesnog dokumenta odnosno prič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ik zna usporediti i suprotstaviti različite ideje, vrijednosti, osobe, ponašanja i ustan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ik zna razliku između povijesnih činjenica i povijesnih interpretac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ik uzima u obzir višestruke perspek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ik zna analizirati uzročno-posljedične odnose i višestruke uzroke uključujući važnost pojedinca, utjecaj ideja i ulogu slučaja u povijesnim događaj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čenik zna prosuditi argumente o povijesno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zbjež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čenik zna usporediti različite povijes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č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čenik zna da su povijesne interpretaci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ložne promjen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čenik zna uočiti i ocijeniti glavne dile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đu povjesničar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Učenik zna postavljati hipoteze o utjecaj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šlosti na sadašnj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4.VJEŠTINA POVIJESNOG ISTRAŽIVANJA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stvaranja povijesne priče" učenicima je vrlo zanimljivo i stvara u njima motivaciju za r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ostalni istraživački radovi učenika mogu nastati uvidom u povijesne dokumente, slušanjem priča živih svjedoka, čitanjem pisama, dnevnika, opisivanjem artefakata, fotografija, posjeta povijesnoj lokaciji, zapisima usmene povijesti ili drugih dokaza iz prošlosti te njihovom spretnom kombinacij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ŠTO SU KOMPETENCIJ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Kompetencije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edstavljaju dinamičnu kombinaciju intelektualnih vještina, znanja i razumijevanja, međuljudskih i praktičnih vještina, te etičkih vrijednos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čiti kako učiti (metakognitivno znanje) sastavni je dio svake kompetenci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KAZATELJI (4. VJEŠTINA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Učenik zna formulirati povijesna pitan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Učenik zna pronaći povijesne podat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Učenik zna preispitati povijesne izvore i interpretaci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Učenik zna identificirati praznine u dostupnim povijesnim izvorima, upotrebljavati  kontekstualno znanje i perspektive vremena i prostora i konstruirati razumnu povijesnu interpretacij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5. VJEŠTINA ANALIZE VRIJEDNOSNIH POVIJESNIH TEMA I ZAUZIMANJE STAVOV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 usredotočena na zauzimanje stavova i donošenje odluka dovode učenike u samo središte povijesnih dilema i problema s kojima su bili suočeni ljudi u kritičnim trenucima prošlosti i bliske sadašnj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azak u takve momente, suprotstavljanje posljedica ili problema onog vremena, analiza dostupnih alternativa, vrednovanje posljedica koje su mogle slijediti nakon takvih opcija i onih koje su se dogodile jesu aktivnosti koje unapređuju učenikovo duboko osobno uključivanje u te događ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OKAZATELJI (5. VJEŠTINA)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Učenik zna identificirati teme i probleme u prošl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Učenik se zna služiti izvorima o nekadašnjim događajima i suvremenim činjenicama  koji pridonose rješavanju problema i alternativnih tijekova ak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Učenik zna identificirati relevantne prethodne povijesne događa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Učenik zna vrednovati alternativne tijekove događ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Učenik zna formulirati utjecaj tijeka povijesnog događaja na povijesnu tem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Učenik zna vrednovati primjenu neke odlu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et navedenih vještina treba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Arial"/>
              </a:rPr>
              <a:t>kontinuirano i planski uvježbavati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s učenicima tijekom njihova višegodišnjeg školovanja. Jedino tako učenici mogu steći kompetenciju povijesnog mišlje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kvir za takav rad je taksonomska ta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Povijest svijeta je poput glavice luka, na kojoj moderni svijet čini tek vanjsku ljusku i koju u potrazi za povijesnim uvidom treba ljuštiti sloj po sloj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No otkrivanje slojeva očaravajuće je i izazovno i danas neizmjerno važno za nas koji iz prošlosti nastojimo izvući pouku za budućnos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ared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ŠTO SU ISHODI UČENJ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hod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čenj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jasno iskazane tvrdnje o tome što se od učenika očekuje da zna, razumije i/ili da je sposoban pokazati nakon završenog procesa učenj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hodi učenj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racionalizacija kompetencija pomoću aktivnosti koje su mjerljive i vidljiv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HODI UČENJA VS. NASTAVNIH SADRŽ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hodi učenja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Arial"/>
              </a:rPr>
              <a:t>nisu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kazi koji nabrajaju ili opisuju nastavne sadržaje kao što je npr. slučaj s nastavnim programima niti govore što učitelji ili nastavnici trebaju raditi u razred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hodi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Arial"/>
              </a:rPr>
              <a:t>su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Arial"/>
              </a:rPr>
              <a:t>usmjereni na učenik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i njihove aktivnosti i zato se uvijek 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iskazuju </a:t>
            </a:r>
            <a:r>
              <a:rPr b="1" lang="hr-HR" sz="3200" spc="-1" strike="noStrike" u="sng">
                <a:solidFill>
                  <a:srgbClr val="ffffff"/>
                </a:solidFill>
                <a:uFillTx/>
                <a:latin typeface="Arial"/>
              </a:rPr>
              <a:t>aktivnim glagolim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koji izražavaju učeničku aktivn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KTIVNI GLAGOL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ki vidljivi i mjerljivi aktivni glago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oznaj, ponovi, izdvoji, imenuj, definiraj, ponov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asni svojim riječima, interpretiraj, sažmi, uspored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ustriraj, izračunaj, načini grafikon, dramatiziraj, intervjuiraj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iraj, kategoriziraj, nacrtaj umnu mapu, ustanovi sličnost i razlik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iraj svoje mišljenje, kritički  prosudi, procijeni stav, rangiraj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truiraj, napiši scenarij ili esej, vodi raspravu, dizajniraj, uredi pano, uredi školski list na tem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NEVIDLJIVI I NEMJERLJIVI GLAGOL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jedeći glagoli ne mogu se upotrebljavati u opisu ishod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ATI, RAZUMJETI, VOLJETI, ŽELJETI,   UPOZNATI, SMATRAT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OJITI, SHVATITI, SPOZNAT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PAMTITI, STEĆI ZNANJA, NAUČITI, CIJENITI, OSVIJESTITI, OVLAD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JU KOMPETENCIJU RAZVIJAMO KOD UČENIKA U NASTAVI POVIJESTI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MPETENCIJU POVIJESNOG MIŠLJ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je dolazimo usvajanj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ELJNIH POVIJESNIH ZNAN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. poznavanjem najvažniji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jenica, datuma i povijesnih osoba, 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. razumijevanjem temeljnih povijesnih pojmov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o i stjecanj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T VJEŠT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ET VJEŠTINA ZA RAZVOJ POVIJESNOG KRITIČKOG MIŠLJEN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JEŠTINA KRONOLOŠKOG MIŠLJENJ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VJEŠTINA RAZUMIJEVANJA POVIJESN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RACI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VJEŠTINA ANALIZE POVIJESNIH DOGAĐAJA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JIHOVE INTERPRETACI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VJEŠTINA POVIJESNOG ISTRAŽIVANJ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VJEŠTINA ANALIZE VRIJEDNOSNIH POVIJES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A I ZAUZIMANJA STAV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vaka slijedeća vještina ovisi o dovoljno razvijeni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ještinama na prethodnim razinama - te su vještine, dakl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umulativ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EMELJNA POVIJESNA ZNANJA I RAZVOJ VJEŠTIN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meljna povijesna znan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n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 za razvijanje kompetencije povijesnog mišljen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etencija povijesnog mišljenj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je sa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vajanje temeljnih činjeničnih podataka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zumijevanje temeljni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vijesnih pojm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ć 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zvijanj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t temeljnih vještin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je će dovesti do toga da učenik stekn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ompetenciju povijesnog mišljen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1:37:03Z</dcterms:created>
  <dc:creator>mmarinovic</dc:creator>
  <dc:description/>
  <dc:language>en-US</dc:language>
  <cp:lastModifiedBy>mmarinovic</cp:lastModifiedBy>
  <dcterms:modified xsi:type="dcterms:W3CDTF">2013-07-03T07:15:14Z</dcterms:modified>
  <cp:revision>3</cp:revision>
  <dc:subject/>
  <dc:title>PUT PREMA KRITIČKOM MIŠLJENJU U NASTAVI POVIJESTI – PET VJEŠTINA KOD UČENIKA</dc:title>
</cp:coreProperties>
</file>