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CF4-0946-4C35-9383-3957BE10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38A-B5F0-4932-9981-5F5191ED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3F8-7A2F-4AAA-B0DA-57702B8B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A45-2F19-490E-9A00-3976270E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E7C-6043-459A-BA58-C3908EF2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F69-AA0C-45F3-8A5B-5494914F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341-CFC0-41FC-BF08-CD3AA46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EDE-709F-4C20-BA2F-A067DD4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840-9570-4A58-89FF-273F5A1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8FE-A2C9-425B-AA68-94864CC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A53-B335-467A-9023-020721F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858-A053-4E16-A981-65DD579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2975-25CB-49E2-8315-92E330A4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ODLIČNI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senka.sedmak1@ zg.t-com.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EMISTIFICIRANA MATEMATIK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priprema za matur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FORMULA SAMO SM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.   Četverostranoj piramidi su svi bočni bridovi jednako dugački. Dokaži da je bazi moguće opisati kružnic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4 sukladna trokuta (bridovi su hipotenuze, visina je zajednička kateta)  imaju jednake preostale katete – od nožišta visina do vrho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TUĐE ILI VLASTITE OČ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mpleksni broj   - i   zapiši u trigonometrijskom oblik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irektno sa slike: -i = cos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i sin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li  -i = cos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i sin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? Zaš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  tg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/x  ovdje samo smeta                  ( a zahtijeva dodata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TRIGONOMETRIJSKI OBLIK KOMPLEKSNOG BRO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ka 3" descr=""/>
          <p:cNvPicPr/>
          <p:nvPr/>
        </p:nvPicPr>
        <p:blipFill>
          <a:blip r:embed="rId1"/>
          <a:srcRect l="42350" t="31731" r="41759" b="31955"/>
          <a:stretch/>
        </p:blipFill>
        <p:spPr>
          <a:xfrm>
            <a:off x="3059280" y="2708280"/>
            <a:ext cx="316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HIPERBO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lika 3" descr=""/>
          <p:cNvPicPr/>
          <p:nvPr/>
        </p:nvPicPr>
        <p:blipFill>
          <a:blip r:embed="rId1"/>
          <a:srcRect l="27127" t="15803" r="31211" b="-504"/>
          <a:stretch/>
        </p:blipFill>
        <p:spPr>
          <a:xfrm>
            <a:off x="2414520" y="1981080"/>
            <a:ext cx="431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DOK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3.   Je li graf funkcije f:   f(x) = 1/x   hiperbola? Dokaži to što tvrdi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. raz: Ako jest, onda a=b=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 (asimptote okomite, tjemena udaljena 2√2). Fokus od ishodišta udaljen 2. 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√2,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√2),(de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az: Množenje sa z = cos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 sin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rotira ravninu za  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,(formula s nasta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KRAĆENI RAZLOMAK JE IS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 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inx+cos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) Skrati gornji razlom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) Odredi najmanji x takav da za njega izraz dobiven skraćivanjem postoji, a zadani razlomak ne posto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KOREKTNOST ZAP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 kojim od ponuđenih zapisa je ekvivalentna tvrdnja |x-2|&gt;1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)  x&lt;1  ili   x&gt;3     ( x-2&lt;-1   ili   x-2&gt;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)  1&lt;x&lt;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)  -1&gt;x-2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)  x-2&gt;0  i   x-2&gt;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UVOĐENJE VARIJ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ednakost   log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x = 2 log x  istinita 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) za sve realne brojev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) točno za dvije vrijednosti broj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) za sve pozitivne brojev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) za točno jednu vrijednost broj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esti novu varijablu, (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log x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VOJSTVA TRIGONOMETRIJSKE FUNKCI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3.   Za realne brojeve  x &gt; π/4, nejednakost           tg x &gt; tg π/4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)  je istina uvij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)  nije istina nik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)   istina ako je  x = π/4 + 2kπ, k cijeli bro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)   istina na beskonačno mnogo intervala,                                                                                                                                                                              neistina na beskonačno interva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GLEDATI SLIKU, NE FORM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 pravcu y = 2x-1 odredi onu točku koja je najbliža točki T(4,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in. kvadrata udaljenosti (x,2x-1) od (4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esjek pravca s okomicom kroz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iralište kružnice sa središtem T, polumjerom r = d(p,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Tangens je rastuća funkcij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lika 3" descr=""/>
          <p:cNvPicPr/>
          <p:nvPr/>
        </p:nvPicPr>
        <p:blipFill>
          <a:blip r:embed="rId1"/>
          <a:srcRect l="18857" t="12690" r="29558" b="7958"/>
          <a:stretch/>
        </p:blipFill>
        <p:spPr>
          <a:xfrm>
            <a:off x="1720800" y="1981080"/>
            <a:ext cx="57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oja točka pravca je najbliža T(4,0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lika 7" descr=""/>
          <p:cNvPicPr/>
          <p:nvPr/>
        </p:nvPicPr>
        <p:blipFill>
          <a:blip r:embed="rId1"/>
          <a:srcRect l="30269" t="16420" r="30219" b="14527"/>
          <a:stretch/>
        </p:blipFill>
        <p:spPr>
          <a:xfrm>
            <a:off x="2139840" y="2044800"/>
            <a:ext cx="4864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S  MINIMUMOM  TEOR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8.   Kružnica je opisana trokutu između koordinatnih osi i pravca  2x + 3y = 4 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)   Koliko iznosi promjer kružni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)  Navedi jednu točku koja nije vrh spomenutog trokuta, a leži na spomenutoj kružn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0,?),(?,0)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(0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2,0)→T(2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Kružnica opisana trokut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lika 5" descr=""/>
          <p:cNvPicPr/>
          <p:nvPr/>
        </p:nvPicPr>
        <p:blipFill>
          <a:blip r:embed="rId1"/>
          <a:srcRect l="31854" t="15866" r="36005" b="21750"/>
          <a:stretch/>
        </p:blipFill>
        <p:spPr>
          <a:xfrm>
            <a:off x="2593800" y="2236680"/>
            <a:ext cx="39564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UVJETI TEOR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1.   Je li f:   f(x) = tg x  strogo rastuća funkcija? Dokažite to što tvrd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ije. Dovoljan je kontraprimjer:               π/4  &lt;  3π/4  , ali  1 = f(π/4) &gt; f(3π/4) = 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riterij derivacije    f´(x) =  1/ cos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x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VOJSTVA RAČUNSKIH OPERA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.   Napišite 2.  član u binomnom razvoju izraza  (a + b)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a+b)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+5a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+10 a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+10a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+5ab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e li odgovor   5a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  toč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 u razvoju   (b + a)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ormulirati korektno pitanj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RAZMISLIMO O RUT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3.   Riješite jednadžbu   x – 1 = √ (x +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vjet:  x + 5 &gt; 0,   kvadriranjem:                   (x – 1)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= x + 5.  Oba rješ. 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= -1  , x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ovoljavaju uvjet, oba su rješenja jed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e!  Za razgov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efinicija korijena, ekvivalentonst jednad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NISMO TO UČI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4.   Izračunajte površinu četverokuta kojem su vrhovi sjecišta krivulje  x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+ 16y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 koordinatnim os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y = 0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</a:rPr>
              <a:t>+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x = 0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y =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1/2 .  Vrhovi su:  (1,0), (0,1/2), (-1,0), (0, -1/2). Površina je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Što znate o izgledu krivul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D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5.    Je li  f(x) = √(sin x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-2) parna realna funkcija? Obrazlož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ije funkcija, jer ne postoji ni za koji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KOD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e li zatvoreni interv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omena funkcije f(x) = sin x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. To je skup vrijednosti. Pojam kodomene je širi i zahtijeva struktu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di  članak S. Sedmak “Kodomena”, MI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.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ČITATI S RAZUMIJEVANJ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1.  Ako su α,β,γ kutovi istog trokuta i vrijedi sin α+sin β+sin γ = f(α) f(β) f(γ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dredi f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slije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i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i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co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akle:     f(x) = 4</a:t>
            </a:r>
            <a:r>
              <a:rPr b="0" lang="hr-HR" sz="3200" spc="-1" strike="noStrike" baseline="30000">
                <a:solidFill>
                  <a:srgbClr val="000000"/>
                </a:solidFill>
                <a:latin typeface="Times New Roman"/>
              </a:rPr>
              <a:t>1/3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s x/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jan Radman</dc:creator>
  <dc:description/>
  <dc:language>en-US</dc:language>
  <cp:lastModifiedBy>nlesar</cp:lastModifiedBy>
  <dcterms:modified xsi:type="dcterms:W3CDTF">2017-07-03T12:44:31Z</dcterms:modified>
  <cp:revision>15</cp:revision>
  <dc:subject/>
  <dc:title>PowerPoint Presentation</dc:title>
</cp:coreProperties>
</file>