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74-8D4B-4061-B93B-621F6CA9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F70-FE67-42A0-979B-A6D626F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6DB-E19F-4357-A016-352104B5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230-F5FB-471E-AD68-59294B8C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7EB-F8F6-457C-AA45-224242F2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2F7-A013-47E0-89A7-1DE7C2C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2DA6-C1A9-4DF2-B067-5A412C8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952E-F00D-41B7-8108-EC37015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94AD-2EE3-443D-B4C1-0858C012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2DB-13A3-44D3-B654-59E32C7C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869-A28B-4E30-8217-0D9FAB7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7CD-1D5D-45A1-9680-AFE4071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2A8D-8406-4E0D-A05F-2E3043E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713-E74F-4239-957D-5AA8DBB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E4B-1CCA-4ACA-8B13-EE7956D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D450-B021-4BA6-8FD9-D316A448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D7B-F5FA-4C81-9DFB-23D90D5F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0A62-17A6-4194-8B52-D1049A2C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ECDD-97A8-4793-BE9E-C141297E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9EF3-7CA6-40D2-93EC-FF4DCF2D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5A11-253E-49B4-9F4D-9B45362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67ED-6BC6-43A6-BB41-FB43CA02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D53-8653-44DB-BC9B-F148B485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D89D-C252-4BB0-B9D2-850D7E3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4964-D60F-43EC-8AC4-4CA988C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7A18-2BF6-41DD-BF1E-5FEAE8C4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5509-90C3-4004-B915-009A3B0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7187-8328-4FE7-942D-02D76DEA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B5D8-BBB4-4C49-AF40-FDF9C59D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DE28-5428-4592-B990-6A7BB974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6E00-64E4-4070-B415-443F8D14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D88F-E4CC-430A-A2D2-EEBD671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5D67-5054-4A9C-8B83-86FDF26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068-6933-487A-AB03-C38A7D9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0E73-AFB6-4EA3-BA52-CDF0AA1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96AF-C909-4E24-9485-18777C33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774F-E8FE-4CF0-964C-62128EAE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A77A-AFD3-427D-9638-746A886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FA7D-EF1C-4BEB-B323-161CB77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55B4-9BCC-4548-B9E8-2CC3CEF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E8BF-A0BD-4B1C-9271-E7DC7D2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D447-9A44-4F79-AE88-5322193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038C-BE04-4E14-96B6-2886D268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C2B8-E1BB-43ED-A957-AC9ED9D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733-2940-4241-8B3D-AC4251D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A3299-5843-4ED6-A1FC-4DA1955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2BA4-17BC-4352-B747-2CC3561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951C-953D-40FC-917A-69D65568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D3C3-95A4-487F-94ED-CC5DA21D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2C49-5DAA-4602-8B95-839448A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477E-48E8-44C5-A4D4-4B366B9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421A-3281-4FBB-BE6B-8851AF6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94C0-3AB6-4A20-B5AD-50F82CD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EE42-A3CF-4D15-8A96-162BC3F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ACD4-1A02-499D-BB27-68A2AD13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C0B-FB55-415A-B175-6D8A8F7E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603F8-434F-466C-8EC9-32B1F74A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BDE1-62BC-4A8C-938C-C278B004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FBE4-7592-4AE8-8FAA-5016C300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00AA-EA78-4695-AC3D-E91D984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D053-B544-48D4-BF83-F45F702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0BE0-927C-4F93-967D-451CD9C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993C-6D1D-41EC-B7BB-3C8837C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37014-02F4-44D1-88CF-BA966A0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2662-B4F1-44B2-853E-13ABB90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07F64-DDB1-402A-8ABF-03B425B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D91-2581-4E28-85E3-BC37D71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7660-8C9E-47C8-BDB3-C134E79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847B-6B9A-499B-A412-D074E589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823ED-ABDD-4155-9A29-F08B0FCA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5E43-E290-4F59-9CBB-A09BFA23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CF9C-B56A-41CB-AC71-AC313E4D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2DBC-8CC3-48F7-8ACB-0DED6E4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A2748-434A-4674-9387-878D82B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6AC0-3120-46EE-9027-55654EC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7CD8-38DF-4474-B02C-CD97FF4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9F0A-28CA-4C6C-92E9-FFE84B2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C1D-A00B-40AB-A536-7C1CA47F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0C55-394E-452B-BF87-E134C84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F0D5-D890-4CF8-A02B-24552E7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B2943-6154-4AC2-B91C-ED77D038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0E5A-E188-40BC-BFCF-CD61158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AD751-B5EF-4FAD-8836-AC7EE2FA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A924-ABFC-424C-BE9D-0CC25ABB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4EF4-F81E-43A6-B983-20B819FB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C4A8-E2CB-450E-9790-E64801F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2786B-9C06-4D65-B717-8BBD918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5125-B6CD-427B-A94D-52BC44DB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6F2-E61B-424C-8BD6-82A73B3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0C13-CCF6-4A95-A55E-EA086AE2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ADC3-DB5A-49B0-8D06-EC8D137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B214-6221-42A0-B3CA-107802D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AAFFB-1CD6-453C-A38F-0C234B4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2DE52-A436-41ED-9CC1-181C636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2513-290D-4C46-8522-82D85653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9B99-692B-48F3-851A-FD1703EC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591B-2E50-4C86-8A22-F0FF8E0B433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rostoručno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rostoručno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rostoručno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Prostoručno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avni poveznik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693-B89C-4E6F-983D-18DECB5DFE18}" type="slidenum">
              <a:rPr b="0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AD3-786C-46B2-A579-3C2CC1FED641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FB6-3E3F-4D6F-B1F3-E4913561DD25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66A-2CE9-44FA-AC2F-857CE9A45D50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F1B1-D852-40CA-9F20-7F27CA651019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BB4C-95A8-4190-AF5C-19E22FA90AD4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ručn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ručn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kutni trokut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kutni trokut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avni poveznik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Š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Š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AD88-F969-45AC-AF39-B08DB995F14E}" type="slidenum">
              <a:rPr b="0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9120" y="5286240"/>
            <a:ext cx="511488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Milena Mikulčić, učitelj mento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Š Podtur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Naslov 1" descr=""/>
          <p:cNvPicPr/>
          <p:nvPr/>
        </p:nvPicPr>
        <p:blipFill>
          <a:blip r:embed="rId1"/>
          <a:stretch/>
        </p:blipFill>
        <p:spPr>
          <a:xfrm>
            <a:off x="749160" y="463680"/>
            <a:ext cx="8242560" cy="2328840"/>
          </a:xfrm>
          <a:prstGeom prst="rect">
            <a:avLst/>
          </a:prstGeom>
          <a:ln w="0">
            <a:noFill/>
          </a:ln>
        </p:spPr>
      </p:pic>
      <p:sp>
        <p:nvSpPr>
          <p:cNvPr id="372" name="Pravokutnik 3"/>
          <p:cNvSpPr/>
          <p:nvPr/>
        </p:nvSpPr>
        <p:spPr>
          <a:xfrm>
            <a:off x="428760" y="250020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VREDNOVANJE UČENIKA S TEŠKOĆ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5-20 %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ukupnog broja učenika čine pripadnici </a:t>
            </a:r>
            <a:r>
              <a:rPr b="1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mske nacionaln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jin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 od toga 3-4% završava osnovnoškolsko obrazovanj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 razlog što je općina Podturen dobila status od posebne državne skrb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z primjerene oblike ra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ećina romske djece normalnih je psihofizičkih sposobnos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zrok postizanja slabog uspjeha ili neuspjeha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ocijalno deprivirana okolina i obitel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veoma nisko vrednovanje znanja-roditelji polupismeni ili nepismeni, najčešće nisu radili s djecom na razvijanju predčitalačkih i predmatematičkih vještina,ne kontroliraju izvršenje radnih ili domaćih zadataka, ne uključuju se primjereno u proces uče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009./2010.u OŠ Podturen provedena s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va projekt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a rješavanje slabe vertikalne prohodnosti učenika Roma-dodatna nastava hrvatskoga jezika i aktivnosti nakon nastave-ostvareni vrlo dobri rezultati, dobro prihvaćeni od strane učenika i roditel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jekt RO-KO Kotač koji povezuje ljud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d vodstvom ravnateljice i pedagoginje u sklopu fonda Europske komisije - uključena kao dio ciljne skupine učitelja u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etodnevno studijsko putovanje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Budimpeštu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edukacij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središtu Roma education fon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20-satn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rain Gym training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10-satnu edukaciju –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d s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nojezičnim učenicima-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jel za hrvatski jezik Sveučilišta u Z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7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učavanje i vrednovanje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a s teškoćama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ahtjevan je i složen radni zadatak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og odgojno obrazovnog djelatnika, iziskuje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a metodička znanja</a:t>
            </a: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zvijenu</a:t>
            </a: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patiju</a:t>
            </a: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sretljivost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disciplinarnu suradnj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a i stručnih suradnik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jete s teškoćam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učenju mora imati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ogućnost dobiti dobru ocjen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z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ptimalan otpor i trud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mu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čenje ne bi postalo frustrirajuć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slov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slov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013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C:\Users\Korisnik\Desktop\listić 3.jpg"/>
          <p:cNvPicPr/>
          <p:nvPr/>
        </p:nvPicPr>
        <p:blipFill>
          <a:blip r:embed="rId2"/>
          <a:stretch/>
        </p:blipFill>
        <p:spPr>
          <a:xfrm>
            <a:off x="2916360" y="981000"/>
            <a:ext cx="3311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slov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03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2"/>
          <a:stretch/>
        </p:blipFill>
        <p:spPr>
          <a:xfrm>
            <a:off x="2462040" y="1141560"/>
            <a:ext cx="42199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92d050"/>
                </a:solidFill>
                <a:latin typeface="Arial"/>
                <a:ea typeface="Arial"/>
              </a:rPr>
              <a:t>HVALA NA PAŽNJI !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Nismo svi stvoren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da radimo velike stvar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ali možemo radi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male stvari s puno ljubav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25160" indent="-363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hr-HR" sz="2400" spc="-1" strike="noStrike">
                <a:solidFill>
                  <a:srgbClr val="92d050"/>
                </a:solidFill>
                <a:latin typeface="Arial"/>
                <a:ea typeface="Arial"/>
              </a:rPr>
              <a:t>M.Terez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4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8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2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76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0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ea157a"/>
                </a:solidFill>
                <a:latin typeface="Arial"/>
                <a:ea typeface="Arial"/>
              </a:rPr>
              <a:t>     </a:t>
            </a:r>
            <a:r>
              <a:rPr b="1" lang="hr-HR" sz="2400" spc="-1" strike="noStrike">
                <a:solidFill>
                  <a:srgbClr val="b2e389"/>
                </a:solidFill>
                <a:latin typeface="Arial"/>
                <a:ea typeface="Arial"/>
              </a:rPr>
              <a:t>SVRHA VREDNOVAN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rednovanje je iznimno važan element suvremenog obrazovanj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čela dobrog vrednovanja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ređivanje cilja vrednovanja (što učenik zna i poticanje na kvalitetniji ra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stavljanje dijagnoze učenja i pouča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aćenje napretka učenik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dviđanje budućih postignuća (ISHODA),motiviranje učenik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efiniranje tehnike vrednovanja kao sredstva za prikupljanje podataka te obrade podatak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laniranje daljnjih koraka u pružanju primjerene pomoć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čenici s teškoćama u razvoju prema Pravilniku o osnovnoškolskom 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rednjoškolskom odgoju i obrazovanju ostvaruju pravo na primjeren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grame školovanja i primjerene oblike pomoći školo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7fd13b"/>
                </a:solidFill>
                <a:uFillTx/>
                <a:latin typeface="Arial"/>
                <a:ea typeface="Arial"/>
              </a:rPr>
              <a:t>1. Redoviti program uz prilagodbu sadržaja i individualizirane postup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ređuje se učenicima koji s obzirom na vrstu teškoće ne mogu svladati nastavni plan i program/kurikulum bez sadržajnog ograniča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d takvih učenika očituje se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manjena sposobnost razumijevanja,smetnje u komunikacij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porije i teže usvajanje vještine čitanja i pis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abija tjelesna i motorička sposobnost (slaba fina motorika ruku i prstiju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oša slika o sebi zbog stalnog doživljavanja neuspjeh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eže usvajaju apstraktne pojmove-odnos na prostor,vrijeme,količin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Naslov 1" descr=""/>
          <p:cNvPicPr/>
          <p:nvPr/>
        </p:nvPicPr>
        <p:blipFill>
          <a:blip r:embed="rId1"/>
          <a:stretch/>
        </p:blipFill>
        <p:spPr>
          <a:xfrm>
            <a:off x="420840" y="122400"/>
            <a:ext cx="82422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LAGODBA SADRŽA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adržaji se prilagođavaju djetetovim mogućnostima-možda će rješavati samo najjednostavnije ili uopće neće rješavati zadat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LAGODBA RADA I ISPITI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avati prednost verbalnoj komunikaciji i ispitivanj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prvi plan stavljati funkcionalno znanje-znanje za život, usvajanje vještina koje su zaista važne i potreb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empo učenje prilagoditi učeniku,provoditi nježan pristup u rad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iti multisenzoričko učenje-dolaziti do svakog učenika i pojačavati funkciju mozg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iti HANDLE pristup-manje je više, sporije je brž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avovremeno pripremiti sadržaje/zadatke koje učenik treba nauči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ešće provoditi neformalne provjere znanja,ispitivanje provoditi i na dopunskoj nastavi, ponekad dati samo zadatke koje će moći uspješno riješiti-MOTIVACIJA, potpitanja ne bi trebala negativno utjecati na ocjen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OMAĆI URADAK-usklađen sa sadržajima koje treba usvojit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isane provjere- davati zadatke odabira točnog odgovora (bira jedan točan odgovor), nadopunjavanja i povezivanja, davati zadatak po zadata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E MOGU BITI OCIJENJENI NEGATIVNOM OCJENO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neovisno u kojoj su godini obaveznog školo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7fd13b"/>
                </a:solidFill>
                <a:uFillTx/>
                <a:latin typeface="Arial"/>
                <a:ea typeface="Arial"/>
              </a:rPr>
              <a:t>2. Redoviti program uz individualizirane postup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ređuje se učenicima koji mogu svladati redoviti nastavni plan i program/kurikulum bez sadržajnog ograničavanja ali su im zbog specifičnosti u funkcioniranju potrebni individualizirani postupc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PORUČA S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avati prednost usmenom ispitivanj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koliko je potrebno dati učeniku plan ploče da ga zalijepi u bilježnic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pisanim provjerama tekst i zadatke oblikovati povećanim fontom slova i brojki-min 14 pt, pisati u kraćim rečenicama, brojke i slova masno otisnuta, koristiti dvostruki razma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aku rečenicu ili zadatak započeti u novom redu, izbjegavati podcrtavanje naslova ili nizova riječi – može uzrokovati vizualno spajanje riječ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rijeme rješavanja pisanih provjera produljiti za 30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ma potrebi pročitati učeniku zadatke/tekst i zabilježiti odgovor umjesto njeg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cjenjivati napredak i trud, ne ga uspoređivati s ostalom dje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iti zadatke zaokruživanja, može zalijepiti točan odgovor umjesto pis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sloboditi dijete ocjenjivanja specifičnih pogrešaka – sve računati kao jednu grešk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ko iz pisane provjere dobije lošu ocjenu, odmah ga ispitati usmeno i upisati bolju ocjen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REMEĆAJI U RAČUNANJU-diskalkulija,akalkuli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jelomičan poremećaj u procesu usvajanja matematike-posljedica disleksije-pojavljuje se u svim ili samo određenim matem.područji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ijete napreduje u usvajanju matematike ali mnogo sporije od svojih vršnjaka i neadekvatno svojoj mentalnoj dob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poruča se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lagoditi vremenski raspored rada, povremeno davati lakše zadatke, dati mogućnost temeljitije pripreme prije ocjenjiv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štivati djetetov individualni stil učenja i profil dominac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glasiti što će se učiti i završiti nastavni sat prikazom što se naučilo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manjiti nepotrebno pisanje, naglašavati važnost urednosti ali ne kažnjavati kada ne može bolje, negativnu primjedbu uvijek ublažiti pozitivnom-motivirajućom,paziti na kvalitetu nastavnih-ispitnih listić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užbeni dokument škole, izrađuje se za sve učenike s posebnim odgojno-obrazovnim potreba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BUHVAĆ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NICIJALNU PROCJEN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tvrđivanje sposobnost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 “Što učenik može učiniti?”) čitanja, slušanja,usmenog i pismenog izražavanja, računanje i geometrijsko predočavanje, prostorno i vremensko predočavanje,rukovanje sredstvima za rad te stjecanje radnih navika; </a:t>
            </a:r>
            <a:r>
              <a:rPr b="0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tvrđivanje interes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 “Što učenik voli/želi raditi?”) ; </a:t>
            </a:r>
            <a:r>
              <a:rPr b="0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tvrđivanje razine znan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 “Koliko i što učenik zna?”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LAN/PROGRAM PODRŠ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 izrađuje se nakon inicijalne procjene ukoliko je potrebno prilagođavati sadržaj programa djeteta, i ako da iz kojih predme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REDNOVANJE I OCJENJIV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načine, postupke i elemente vrednovanja prilagoditi teškoći i osobnosti,ocjenu popratiti opis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IOOP unosim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– podatke o učeniku, mjesec, sadržaj edukacije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ciljeve za učenika(ishodi),aktivnosti za učenika, strategije podršk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 postupci prilagođavanja-perceptivno,spoznajno, govorno,odab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ticaja,izvora spoznavanja,prilagođavanje zahtjeva)ostvareni zadac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Naslov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snovnu školu Podturen godišnje polazi 300-tinjak učenik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kolske godine 2016./17. prema primjerenom obliku školovanja bilo je 22 učenika (12-RN i 10-P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d primjerenih programa u  našoj školi zastupljeni su 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 redoviti program uz individualizirane postupke, redoviti program uz prilagodbu sadržaja i individualizirane postupke, nastava u kući, nastava u zdravstvenoj ustanovi, profesionalna potpora u školovanju te profesionalno usmjeravanje i potpora na kraju 8.r prilikom upisa u srednju škol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 svojih 15 godina rada stekla sam bogato radno iskustvo u radu s učenicima s teškoćama prema svim navedenim programima osim nastave u kući i nastave u zdravstvenoj ustanov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kolske godine 2016./17.poučavala sam matematiku u 2 peta i 2 šesta razre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Naslov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 ukupno 42 učenika petih razreda dvoje učenika školuje se po redovitom programu uz individualizirane postupke, dvoje po redovitom programu uz prilagodbu sadržaja i individualizirane postupke dok je jednom učeniku krajem šk.god utvrđen redoviti program uz individualizirane postup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na učenica 5.r školuje se uz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fesionalnu potpor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pomoćnica u nastavi)-cerebralna paraliza i grafomotorička nespretnost,slabo pokretna te s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reće u kolicima i scalamobilu ili uz pomoć, postiže natprosječne rezultat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teškoće se primjećuju u rješavanju zadataka geometrijskog tipa u crtanju i konstruiranju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eškoće u rukovanju geometrijskim pribor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trebno produljenje vremena u rješavanju zadataka ili manje zadataka kod pisanih provjer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im različite tipove zadata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uspoređivanje, zaokruživanje, dopunjavanje i sl.),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sme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maže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upućuju se na dopunsku nastavu gdje vježbaju što im je teže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bodno koriste pomagala u nastav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 kalkulator, mentalnu mapu, podsjetnik, tablicu množenja i dijeljenja, formule, slikovni rječnik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čenik koji radi po redovitom programu uz individualizirani pristup te smanjen broj zadataka na pisanim provjera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vrsno logički zaključuje te rješava zadatke s natjecan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7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07:36:59Z</dcterms:created>
  <dc:creator>Korisnik</dc:creator>
  <dc:description/>
  <dc:language>en-US</dc:language>
  <cp:lastModifiedBy>nlesar</cp:lastModifiedBy>
  <dcterms:modified xsi:type="dcterms:W3CDTF">2017-07-12T08:29:05Z</dcterms:modified>
  <cp:revision>140</cp:revision>
  <dc:subject/>
  <dc:title>Slajd 1</dc:title>
</cp:coreProperties>
</file>