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3E0-66D9-4469-BCCD-D89BB3DB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603A-B582-4269-A5A8-8FA554CF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E709-D537-470B-8585-A4B6341E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84F-C466-4DC8-9202-5D5D3CDB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2C5-C70D-40DE-A48C-08DC03EA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5E4-6D4C-4349-BD76-79091C2F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FBE-3B74-453B-BBE8-E65BEE14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A12-E0D8-4E05-AD95-E9164591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4A3-CD4D-4CCC-9F42-1B4BC3FC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A012-AE10-469E-B04C-3DFCCC8F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96C1-E688-442B-A7E0-175A75BB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2D97-7868-4537-B50B-57261FB7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D658-2D6D-4F40-BB94-82DCB5A90585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49600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00000"/>
                </a:solidFill>
                <a:latin typeface="Bookman Old Style"/>
              </a:rPr>
              <a:t>D O P U N S K I   R A D  I</a:t>
            </a:r>
            <a:br>
              <a:rPr sz="4400"/>
            </a:br>
            <a:r>
              <a:rPr b="1" lang="hr-HR" sz="4400" spc="-1" strike="noStrike">
                <a:solidFill>
                  <a:srgbClr val="c00000"/>
                </a:solidFill>
                <a:latin typeface="Bookman Old Style"/>
              </a:rPr>
              <a:t> </a:t>
            </a:r>
            <a:br>
              <a:rPr sz="3200"/>
            </a:br>
            <a:r>
              <a:rPr b="1" lang="hr-HR" sz="4400" spc="-1" strike="noStrike">
                <a:solidFill>
                  <a:srgbClr val="c00000"/>
                </a:solidFill>
                <a:latin typeface="Bookman Old Style"/>
              </a:rPr>
              <a:t>P O P R A V N I   I S P I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1640" y="5876640"/>
            <a:ext cx="399564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3333"/>
                </a:solidFill>
                <a:latin typeface="Monotype Corsiva"/>
              </a:rPr>
              <a:t>Neda Lesar, pro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3333"/>
                </a:solidFill>
                <a:latin typeface="Monotype Corsiva"/>
              </a:rPr>
              <a:t>Agencija za odgoj i obraz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5207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ookman Old Style"/>
              </a:rPr>
              <a:t>Primjeri poništenja popravnog isp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propusti u zapisniku (nema ocjena kod svakog usmenog odgovo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nije upisano vrijeme početka i završetka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propusti u organizaciji (npr. 20 zadataka, a svakom se pojedinom učeniku kaže koje zadatke treba rješavati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propusti u izboru zadataka u odnosu na Dnevnik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težina zadataka na pisanom i usmenom isp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Bookman Old Style"/>
              </a:rPr>
              <a:t>Svaki ispit treba zadovoljiti slijedeće princip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4328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valja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pouzda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transparent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autenti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utjecaj na na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prakti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10"/>
          <p:cNvSpPr/>
          <p:nvPr/>
        </p:nvSpPr>
        <p:spPr>
          <a:xfrm>
            <a:off x="468360" y="260280"/>
            <a:ext cx="2808360" cy="1224000"/>
          </a:xfrm>
          <a:prstGeom prst="rightArrow">
            <a:avLst>
              <a:gd name="adj1" fmla="val 50000"/>
              <a:gd name="adj2" fmla="val 57360"/>
            </a:avLst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00000"/>
                </a:solidFill>
                <a:latin typeface="Bookman Old Style"/>
              </a:rPr>
              <a:t>valja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2"/>
          <p:cNvSpPr/>
          <p:nvPr/>
        </p:nvSpPr>
        <p:spPr>
          <a:xfrm>
            <a:off x="468360" y="1916280"/>
            <a:ext cx="2808360" cy="1223640"/>
          </a:xfrm>
          <a:prstGeom prst="rightArrow">
            <a:avLst>
              <a:gd name="adj1" fmla="val 50000"/>
              <a:gd name="adj2" fmla="val 57377"/>
            </a:avLst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00000"/>
                </a:solidFill>
                <a:latin typeface="Bookman Old Style"/>
              </a:rPr>
              <a:t>pouzda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3"/>
          <p:cNvSpPr/>
          <p:nvPr/>
        </p:nvSpPr>
        <p:spPr>
          <a:xfrm>
            <a:off x="468360" y="3573360"/>
            <a:ext cx="2808360" cy="1224000"/>
          </a:xfrm>
          <a:prstGeom prst="rightArrow">
            <a:avLst>
              <a:gd name="adj1" fmla="val 50000"/>
              <a:gd name="adj2" fmla="val 57360"/>
            </a:avLst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Bookman Old Style"/>
              </a:rPr>
              <a:t>transparent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4"/>
          <p:cNvSpPr/>
          <p:nvPr/>
        </p:nvSpPr>
        <p:spPr>
          <a:xfrm>
            <a:off x="468360" y="5300640"/>
            <a:ext cx="2808360" cy="1224000"/>
          </a:xfrm>
          <a:prstGeom prst="rightArrow">
            <a:avLst>
              <a:gd name="adj1" fmla="val 50000"/>
              <a:gd name="adj2" fmla="val 57360"/>
            </a:avLst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00000"/>
                </a:solidFill>
                <a:latin typeface="Bookman Old Style"/>
              </a:rPr>
              <a:t>praktič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24000" y="0"/>
            <a:ext cx="4762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treba testirati ono što se poduča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format, sadržaj pitanja, duljina isp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koji se nastavni ishodi ispituju, trajanje ispita, bodovanje, kriterij ocjenj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učenici trebaju dobiti povratnu informaciju, i to u što kraćem ro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ookman Old Style"/>
              </a:rPr>
              <a:t>TREBA VODITI RAČUNA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na popravni ispit idu učenici slabijih sp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ili učenici solidnijih sposobnosti, ali nisu cijele nastavne godine dovoljno radili matematiku ili su se iz nekih drugih razloga našli u toj situac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TREBA VODITI RAČUNA I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c00000"/>
                </a:solidFill>
                <a:latin typeface="Bookman Old Style"/>
              </a:rPr>
              <a:t>zadaci trebaju pokazati koliko je nastavnih sadržaja učenik savladao i gdje počinje griješiti, a ne pokazati što ne zna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zadaci trebaju</a:t>
            </a: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biti jasno zad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poželjno je da podzadaci nisu vezani (ako se ne riješi pod a) nije moguće dalje rješavati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osim o težini testa, treba voditi računa i o izgledu t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ookman Old Style"/>
              </a:rPr>
              <a:t>KOLIKO OČEKIVATI OD UČENIKA?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Po Bloomovoj taksonomiji  od VI razina znanja tj. očekivane razine: izvedbe učenika - doći do dru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384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definirati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prepozn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nabroj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isprič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izračun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ponov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2492280"/>
            <a:ext cx="40384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protumač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razliko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navesti primj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pored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predvidje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označ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ookman Old Style"/>
              </a:rPr>
              <a:t>Prisjetimo s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00000"/>
                </a:solidFill>
                <a:latin typeface="Bookman Old Style"/>
              </a:rPr>
              <a:t>nedovoljan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 – učenik niti uz pomoć nastavnika ne može riješiti postavljeni zadatak (ili problem) do kr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00000"/>
                </a:solidFill>
                <a:latin typeface="Bookman Old Style"/>
              </a:rPr>
              <a:t>dovoljan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 – učenik uspjeva tek uz pomoć nastavnika riješiti postavljeni zadatak (ili problem) do kr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ookman Old Style"/>
              </a:rPr>
              <a:t>Što znači postavljeni probl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važnost za stru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važnost za nastavak školovanja (što će učenik studirati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nema kataloga zn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različiti kriter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ookman Old Style"/>
              </a:rPr>
              <a:t>Prijedlo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unaprijed pripremiti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odrediti zadatke, bodove za svaki zadatak, prag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učenike upoznati sa svim važnim informacijama (gradivo, bodovanje, trajanje ispita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pisani dio ispita ispraviti odmah nakon ispita i objaviti rezul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usmeni ispit – nakon 24 s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hr-HR" sz="3600" spc="-1" strike="noStrike">
                <a:solidFill>
                  <a:srgbClr val="000000"/>
                </a:solidFill>
                <a:latin typeface="Bookman Old Style"/>
              </a:rPr>
              <a:t>Hvala na pozorno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ookman Old Style"/>
              </a:rPr>
              <a:t>U Zakonu o odgoju i obrazovanju piš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Članak 7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Na osnovi praćenja i vrednovanja tijekom nastavne godine zaključnu ocjenu iz nastavnog predmeta utvrđuje učitel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Uspjeh učenika i zaključna ocjena utvrđuje se javno u razrednom odjelu na kraju nastavne god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ookman Old Style"/>
              </a:rPr>
              <a:t>nastavak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3640" y="83628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Članak 7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Za učenika koji na kraju nastavne godine ima zaključenu ocjenu nedovoljan (1) iz najviše dva nastavna predmeta, škola je dužna organizirati pomoć u učenju i nadoknađivanju znanja kroz dopunski rad koji je učenik dužan pohađ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Trajanje dopunskog rada utvrđuje nastavničko vijeće po nastavnim predmetima u trajanju od 10 do 25 s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ookman Old Style"/>
              </a:rPr>
              <a:t>Što kažu zakoni i pravilnici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c00000"/>
                </a:solidFill>
                <a:latin typeface="Bookman Old Style"/>
              </a:rPr>
              <a:t>M A L 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ookman Old Style"/>
              </a:rPr>
              <a:t>Pravilnik o polaganju 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Bookman Old Style"/>
              </a:rPr>
              <a:t>popravnog ispit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c00000"/>
                </a:solidFill>
                <a:latin typeface="Bookman Old Style"/>
              </a:rPr>
              <a:t>N E    P O S T O J I</a:t>
            </a:r>
            <a:r>
              <a:rPr b="0" lang="hr-HR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ookman Old Style"/>
              </a:rPr>
              <a:t>U Zakonu o srednjem školstvu piš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Članak 76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Učenik ili roditelj koji nije zadovoljan zaključnom ocjenom iz pojedinog nastavnog predmeta ima pravo </a:t>
            </a:r>
            <a:r>
              <a:rPr b="0" lang="hr-HR" sz="2800" spc="-1" strike="noStrike">
                <a:solidFill>
                  <a:srgbClr val="c00000"/>
                </a:solidFill>
                <a:latin typeface="Bookman Old Style"/>
              </a:rPr>
              <a:t>u roku od dva dana od završetka nastavne godine podnijeti zahtjev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nastavničkom vijeću </a:t>
            </a:r>
            <a:r>
              <a:rPr b="0" lang="hr-HR" sz="2800" spc="-1" strike="noStrike">
                <a:solidFill>
                  <a:srgbClr val="c00000"/>
                </a:solidFill>
                <a:latin typeface="Bookman Old Style"/>
              </a:rPr>
              <a:t>za polaganje ispita pred povjerenstvom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Polaganje ispita provodi se u roku od dva dana od dana podnošenja zahtje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00000"/>
                </a:solidFill>
                <a:latin typeface="Bookman Old Style"/>
              </a:rPr>
              <a:t>Ocjena povjerenstva je konačna</a:t>
            </a: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Pobliže odredbe o popravnom ispitu uređuju se </a:t>
            </a:r>
            <a:r>
              <a:rPr b="0" lang="hr-HR" sz="3200" spc="-1" strike="noStrike">
                <a:solidFill>
                  <a:srgbClr val="c00000"/>
                </a:solidFill>
                <a:latin typeface="Bookman Old Style"/>
              </a:rPr>
              <a:t>statutom </a:t>
            </a: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šk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ookman Old Style"/>
              </a:rPr>
              <a:t>Pravilnik o obrascima i sadržaju pedagoške dokumentacije i evidencije kaž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Č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lanak 1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hr-HR" sz="2600" spc="-1" strike="noStrike">
                <a:solidFill>
                  <a:srgbClr val="000000"/>
                </a:solidFill>
                <a:latin typeface="Bookman Old Style"/>
              </a:rPr>
              <a:t>Prijavnica i zapisnik za popravni ispit vodi se za svakog učenika koji se prijavljuje za popravni ispit i sadrž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hr-HR" sz="2600" spc="-1" strike="noStrike">
                <a:solidFill>
                  <a:srgbClr val="000000"/>
                </a:solidFill>
                <a:latin typeface="Bookman Old Style"/>
              </a:rPr>
              <a:t>1. prijavnica u koju se upisuje naziv škole i razrednog odjela, ime i prezime učenika, naziv predmeta i učenikov potpi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hr-HR" sz="2600" spc="-1" strike="noStrike">
                <a:solidFill>
                  <a:srgbClr val="000000"/>
                </a:solidFill>
                <a:latin typeface="Bookman Old Style"/>
              </a:rPr>
              <a:t>2. zapisnik o ispitu u koji se upisuje nadnevak ispita, ime i prezime te matični broj učenika, naziv predmeta, zadaće i pitanja na ispitu, ocjene uspjeha te popis i potpis članova ispitne komisij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U zapisnik se upisuju osobni podaci o učeniku, pitanja na pismenom i usmenom dijelu ispita (pisani rad – priložiti), ocjena pismenog dijela ispita i </a:t>
            </a:r>
            <a:r>
              <a:rPr b="0" lang="hr-HR" sz="2800" spc="-1" strike="noStrike">
                <a:solidFill>
                  <a:srgbClr val="c00000"/>
                </a:solidFill>
                <a:latin typeface="Bookman Old Style"/>
              </a:rPr>
              <a:t>ocjena za svaki usmeni odgovor na pitanje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U zapisnik se upisuje </a:t>
            </a:r>
            <a:r>
              <a:rPr b="0" lang="hr-HR" sz="2800" spc="-1" strike="noStrike">
                <a:solidFill>
                  <a:srgbClr val="c00000"/>
                </a:solidFill>
                <a:latin typeface="Bookman Old Style"/>
              </a:rPr>
              <a:t>vrijeme početka i završetka usmenog dijela ispita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Zapisnik potvrđuju svi članovi povjerenstva odmah nakon suglasnosti o zaključnoj ocjeni. Ako se član povjerenstva ne slaže s pojedinom ocjenom, u zapisniku će </a:t>
            </a:r>
            <a:r>
              <a:rPr b="0" lang="hr-HR" sz="2800" spc="-1" strike="noStrike">
                <a:solidFill>
                  <a:srgbClr val="c00000"/>
                </a:solidFill>
                <a:latin typeface="Bookman Old Style"/>
              </a:rPr>
              <a:t>potpisati svoje izdvojeno mišljenje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ookman Old Style"/>
              </a:rPr>
              <a:t>Ne piš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Bookman Old Style"/>
              </a:rPr>
              <a:t>Što se događa u praks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Pisani dio ispi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45, 60, 90 min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zadataka 10 do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najčešće - klasičan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bodovanje po klasičnom tes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rezultati neposredno prije usmenog isp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Usmeni dio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analiza pisanog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trajanje do 1 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zadaci visoke očekiva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objava konačne ocjene bez obrazlož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ponekad učenici ne znaju da popravni ispit trebaju prijaviti (propust razrednik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razmak između pisanog i usmenog dijela ispita - par min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iako je ocjena Povjerenstva konačna, neki ispiti se ponavljaju (tumačenje – ispit se poništav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ishod ponovljenog ispita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08:28:45Z</dcterms:created>
  <dc:creator>nlesar</dc:creator>
  <dc:description/>
  <dc:language>en-US</dc:language>
  <cp:lastModifiedBy>nlesar</cp:lastModifiedBy>
  <dcterms:modified xsi:type="dcterms:W3CDTF">2017-07-12T08:23:39Z</dcterms:modified>
  <cp:revision>88</cp:revision>
  <dc:subject/>
  <dc:title>1. razred</dc:title>
</cp:coreProperties>
</file>