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899-54D0-48D0-8C0A-D7E01D4E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27C-8D48-463F-AA4C-5469D3ED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355-9CEE-496A-A98E-9506E547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DE3-B4A3-4241-9070-2182435E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6C2-E34F-4CA2-A76C-6CEEB2CB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FAD-762F-42A2-B800-B89FDCF6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58F-0906-443D-AE94-846C198D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339-C8CB-40BD-A153-4C3B42EE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DF5-44A6-46A7-9980-6BD5B397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0C4-9097-4A5C-84F3-9DFA99D3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5BE-9540-4499-BA37-0C917279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6F5-2060-4819-92E9-C03E9BC1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8D38-92C6-48C3-9702-D183E34FC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ffri.uniri.hr/" TargetMode="External"/><Relationship Id="rId2" Type="http://schemas.openxmlformats.org/officeDocument/2006/relationships/hyperlink" Target="http://www.ffri.uniri.hr/" TargetMode="External"/><Relationship Id="rId3" Type="http://schemas.openxmlformats.org/officeDocument/2006/relationships/hyperlink" Target="http://www.ffri.uniri.hr/" TargetMode="External"/><Relationship Id="rId4" Type="http://schemas.openxmlformats.org/officeDocument/2006/relationships/hyperlink" Target="http://www.ffri.uniri.hr/" TargetMode="External"/><Relationship Id="rId5" Type="http://schemas.openxmlformats.org/officeDocument/2006/relationships/hyperlink" Target="http://www.ffri.uniri.hr/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ffri.uniri.hr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843680" cy="2160360"/>
          </a:xfrm>
          <a:prstGeom prst="rect">
            <a:avLst/>
          </a:prstGeom>
          <a:solidFill>
            <a:srgbClr val="cbd3cb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eđužupanijski stručni skup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čitelja i nastavnika geografije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dsko-posavske i Vukovarsko-srijemsk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upanije</a:t>
            </a:r>
            <a:br>
              <a:rPr sz="20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. rujna 2011., OŠ Vladimir Nazor, Slavonski B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71520"/>
          </a:xfrm>
          <a:prstGeom prst="rect">
            <a:avLst/>
          </a:prstGeom>
          <a:solidFill>
            <a:srgbClr val="f19797"/>
          </a:solidFill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ednovanje grafičkih prikaza i prezentacija u nastavi geograf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onja Burčar, prof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Z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04872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čki prikazi – standardi i zaht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00360" y="1916280"/>
            <a:ext cx="4114800" cy="3311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ovno – grafičk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egle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imjerenost uporabe b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rafički prikazi u funkciji zada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hničk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znakovi su grafički jas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rafički prikazi su čitlj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583272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i vrednovanja grafičkih prik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488000" cy="35892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bvezni sadržaji: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naslov metode, izvor podataka, osnovna grafič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uzdanost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očnost poda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gled i prikladnost prik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nanj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znavanje tem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čin poznavanja t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samovredno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24000" y="1197000"/>
          <a:ext cx="8569080" cy="4311720"/>
        </p:xfrm>
        <a:graphic>
          <a:graphicData uri="http://schemas.openxmlformats.org/drawingml/2006/table">
            <a:tbl>
              <a:tblPr/>
              <a:tblGrid>
                <a:gridCol w="1944360"/>
                <a:gridCol w="1366920"/>
                <a:gridCol w="1297080"/>
                <a:gridCol w="1305000"/>
                <a:gridCol w="1287360"/>
                <a:gridCol w="1368360"/>
              </a:tblGrid>
              <a:tr h="708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VANJE GRAFIČKIH PRIKA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3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I i bodovi           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lič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lo do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vol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vol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UPNO BODOVI  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– 20 =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– 18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4 =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9 =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5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692280"/>
            <a:ext cx="7848360" cy="528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ježba 1.: Izrazite važnost elemenata grafičkih prikaza u postotnim vrijednost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ezni sadržaji grafičkog prikaza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čnost podataka.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čki prikazi su u funkciji zadatka.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akovi su grafički jasni.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čki prikazi su čitljivi.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avanje t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692280"/>
            <a:ext cx="7848360" cy="5592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ježba 1.: Izrazite važnost elemenata grafičkih prikaza u postotnim vrijednost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ezni sadržaji grafičkog prikaza.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čnost podataka.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čki prikazi su u funkciji zadatka.                                 15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akovi su grafički jasni.                                                     -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čki prikazi su čitljivi.                                                    15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avanje teme.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</a:t>
            </a:r>
            <a:r>
              <a:rPr b="0" i="1" lang="en-US" sz="1600" spc="-1" strike="noStrike">
                <a:solidFill>
                  <a:srgbClr val="000000"/>
                </a:solidFill>
                <a:latin typeface="Baskerville Old Face"/>
              </a:rPr>
              <a:t>Osobni podac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97708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zentacija u nastavi geograf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116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čenička pozo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iplina u razr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z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ravljanje ocjene/prosj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na, istraživačka, problemska na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lok sat, više dana (tijekom nastavnih sati, nakon nastave, kod kuć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anučionička nastava ili integrirana ili otvorena na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dividualni ili grupni projektni zada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 ili više predmeta (team te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280" y="764640"/>
            <a:ext cx="597708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mo li vremena za učenič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kte u nastav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žemo li (smijemo li) od klasičnih predavanja (ob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va) “otkinuti” dio vremena za izvedbu učenički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maga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5445000"/>
            <a:ext cx="1824120" cy="1121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732720" y="3500280"/>
            <a:ext cx="2019240" cy="226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1376280" cy="13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492360" y="429264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ruka: 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tvarivati učeničke projekte i tijekom redovite nast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bor teme ili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o o tome već znamo/ možemo sazna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: što/ kako/ gdje/ k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cija i proved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kazivanje i interpretiranje rezult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ljuč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zentacija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o dalj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lementi i kriteriji vrednovanja i ocjenjivanja prezent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002440" cy="406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     4        3        2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ljevi prezentacije uspješno su ostvar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ržaj je strukturiran i uspješno 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loženi osnovni pojmovi i id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ržaj je prikazan na zanimljiv na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varena je primjerena verbaln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irano je produktivno i pozitivno ozrač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540036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Obrazac za samovrednovanje prezentacije seminarskog rada: </a:t>
            </a:r>
            <a:r>
              <a:rPr b="0" lang="hr-HR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hr-HR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fri</a:t>
            </a:r>
            <a:r>
              <a:rPr b="0" lang="hr-HR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hr-HR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ri</a:t>
            </a:r>
            <a:r>
              <a:rPr b="0" lang="hr-HR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i i kriteriji vrednovanja i ocjenjivanja prezent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002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kon održane prezentacije svakom kriteriju dodijelite određeni broj bod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način da ćete 5 bodova dodijeliti ako smatrate da je kriterij u potpu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varen, a 1 bod ako smatrate da kriterij uopće nije ostva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z svaki kriterij dodajte prostor za koment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3457440" cy="85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izlag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79640" y="1484280"/>
            <a:ext cx="5122800" cy="3673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fske vješ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čki prikazi u nastavi geograf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i vrednovanja grafičkih prik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teriji ocjenjivanja grafičkih prik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zentacija u nastavi geograf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i vrednovanja prezent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teriji ocjenjivanja prezent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vjež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anj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763640" y="2781360"/>
          <a:ext cx="4830840" cy="2465280"/>
        </p:xfrm>
        <a:graphic>
          <a:graphicData uri="http://schemas.openxmlformats.org/drawingml/2006/table">
            <a:tbl>
              <a:tblPr/>
              <a:tblGrid>
                <a:gridCol w="2415960"/>
                <a:gridCol w="241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tmetička sredina bod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jenski bod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–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– 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–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– 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–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11280" y="333360"/>
            <a:ext cx="813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čin pretvaranja bodova u ocjenske bodove: bodovi koji su dodijeljeni kriterijima zbrajaju se i izračunava se njihova aritmetička sred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ritmetičke sredine pretvaraju se u ocjenske bodove prema tabl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21080" y="1124640"/>
            <a:ext cx="60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KRITERIJI ZA VREDNOVANJE PREZEN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87280" y="1989000"/>
          <a:ext cx="6985080" cy="3508200"/>
        </p:xfrm>
        <a:graphic>
          <a:graphicData uri="http://schemas.openxmlformats.org/drawingml/2006/table">
            <a:tbl>
              <a:tblPr/>
              <a:tblGrid>
                <a:gridCol w="1022400"/>
                <a:gridCol w="596268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ov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Sadržaj i struktura izla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laganje ima jasnu strukturu (uvod, glavni dio, zaključak). Rečenice su precizne, jasne i gramatički korektne. Temeljne ideje, metodologija i rezultati istraživanja jasno su izloženi, povezani i potkrijepljeni adekvatnim primjerima, odabir terminologije prikladan, zaključci uvjerlji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laganje ima pregledni strukturu ali ne djeluje cjelovito. Temeljne ideje, metodologija rada i rezultati istraživanja djelomično su izneseni i argumentiran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laganje je loše povezano i nije pregledno. Nejasno su iznesene temeljne ideje, metodologija rada i/ili istraživanj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ija ne zadovoljava nijedan kriterij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1403280" y="5805360"/>
            <a:ext cx="6769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Snježana Koren: Samostalni istraživački radovi u osnovnoj i srednjim škol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hrcak.srce.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21080" y="907200"/>
            <a:ext cx="60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KRITERIJI ZA VREDNOVANJE PREZEN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03280" y="1628640"/>
          <a:ext cx="6769080" cy="3752640"/>
        </p:xfrm>
        <a:graphic>
          <a:graphicData uri="http://schemas.openxmlformats.org/drawingml/2006/table">
            <a:tbl>
              <a:tblPr/>
              <a:tblGrid>
                <a:gridCol w="792360"/>
                <a:gridCol w="597672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ov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Način  izla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ija je u okviru propisanog vremena i primjerena temi. Izgovor je razgovijetan, jačina glasa i tempo govora primjereni. Pozornost je usmjerena na slušatelje, gestikulacije primjerene i postignuta interaktivno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ija je vremenski adekvatna i uglavnom primjerena temi. Izgovor, tempo i jačina glasa su većim dijelom primjereni. Učenik/ca usmeno prezentira svoj tekst no nedostaje spontanosti i kontakta sa slušateljim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ija je u okviru propisanog vremena, ali je kratka i neadekvatna. Izgovor je nerazgovijetan, a tempo govora prebrz ili prespor. Učenik čita bilješke ili govori napamet naučeni tek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ija ne zadovoljava nijedan kriterij (duža je od 10 minuta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9800" y="1124640"/>
            <a:ext cx="60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KRITERIJI ZA VREDNOVANJE PREZEN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19280" y="1916280"/>
          <a:ext cx="6329160" cy="3508200"/>
        </p:xfrm>
        <a:graphic>
          <a:graphicData uri="http://schemas.openxmlformats.org/drawingml/2006/table">
            <a:tbl>
              <a:tblPr/>
              <a:tblGrid>
                <a:gridCol w="865080"/>
                <a:gridCol w="546408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ov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Korištenje med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nik/ca se suvereno služi odabranim medijima. Pisani i slikovni materijal je reprezentativan za provedeno istraživanje: prati tijek izlaganja, naglašene su ključne ideje rada, primjeri su dobro odabrani i odnose se na sadržaj predavanj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nik/ca se dobro služi odabranim medijima. Prezentirani materijal je uglavnom reprezentativan za provedeno istraživanje i većim dijelom prati izlaganj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ištenje odabranih medija je slabo, prezentirani materijal loš i tek dijelom prati izlaganj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ija ne zadovoljava nijedan kriterij (mediji se nisu koristili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94160" y="1483560"/>
            <a:ext cx="60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KRITERIJI ZA VREDNOVANJE PREZEN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19280" y="2637000"/>
          <a:ext cx="5897520" cy="1796760"/>
        </p:xfrm>
        <a:graphic>
          <a:graphicData uri="http://schemas.openxmlformats.org/drawingml/2006/table">
            <a:tbl>
              <a:tblPr/>
              <a:tblGrid>
                <a:gridCol w="792000"/>
                <a:gridCol w="51055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ov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Odgovori na pit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nik/ca u potpunosti je odgovorio/la na pitanj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nik/ca većinom je odgovorio/la na pitanj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nik/ca djelomično je odgovorio/la na pitanj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nik/ca nije odgovorio/la na pitanj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0" y="43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57200" y="1146240"/>
          <a:ext cx="8229600" cy="4567320"/>
        </p:xfrm>
        <a:graphic>
          <a:graphicData uri="http://schemas.openxmlformats.org/drawingml/2006/table">
            <a:tbl>
              <a:tblPr/>
              <a:tblGrid>
                <a:gridCol w="1781280"/>
                <a:gridCol w="1612800"/>
                <a:gridCol w="2162160"/>
                <a:gridCol w="1727280"/>
                <a:gridCol w="946080"/>
              </a:tblGrid>
              <a:tr h="689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VANJE  PREZENT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OVOLJIO     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PJEŠ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                 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RSTAN RAD          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47640" y="1268280"/>
          <a:ext cx="4753080" cy="4257720"/>
        </p:xfrm>
        <a:graphic>
          <a:graphicData uri="http://schemas.openxmlformats.org/drawingml/2006/table">
            <a:tbl>
              <a:tblPr/>
              <a:tblGrid>
                <a:gridCol w="2089440"/>
                <a:gridCol w="782640"/>
                <a:gridCol w="1098360"/>
                <a:gridCol w="782640"/>
              </a:tblGrid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ja (provedb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znavanje teme (2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ativnost (1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zualna pomagala (1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ljučak (1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ijske vještine (2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0" y="629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62064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KRITERIJI ZA VREDNOVANJE PREZENTA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5805360"/>
            <a:ext cx="6624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Shorter University, College of Adult and Professional Programs: Presentation Evaluation Crite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http://www.shorter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68360" y="1773360"/>
            <a:ext cx="3311640" cy="22284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terij ocjenjiv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ličan (5)  ..... 100-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lo dobar (4) .. 89 -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ar (3) ......... 79 -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voljan (2) ..... 69 -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ovoljan (1) ... 49 - 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268360" y="1557360"/>
          <a:ext cx="3384360" cy="3384360"/>
        </p:xfrm>
        <a:graphic>
          <a:graphicData uri="http://schemas.openxmlformats.org/drawingml/2006/table">
            <a:tbl>
              <a:tblPr/>
              <a:tblGrid>
                <a:gridCol w="846000"/>
                <a:gridCol w="846000"/>
                <a:gridCol w="846360"/>
                <a:gridCol w="846000"/>
              </a:tblGrid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ja (20%)                                        bod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znavanje teme (2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ativnost (1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zualna pomagala (1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ljučak (1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ijske vještine (2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629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76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ježba 2.: Ocjena prez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5229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kupno:  ____  bod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55640" y="1125360"/>
            <a:ext cx="7777080" cy="3353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ježba 3.: Upitnik o prezent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iljevi prezentacije uspješno su ostvareni.                           5  4  3  2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adržaj je strukturiran i uspješno su                                     5  4  3  2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loženi osnovni pojmovi i ide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adržaj je prikazan na zanimljiv način.                                 5 4  3  2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Ostvarena je primjerena verbalna i neverb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kacija.                                                                            5  4  3  2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Kreirano je produktivno i pozitivno ozračje.                          5  4  3  2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773360"/>
            <a:ext cx="230508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odi uče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0360" y="4292640"/>
            <a:ext cx="237672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atci nast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492280"/>
            <a:ext cx="2376360" cy="15721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ješ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v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a i izv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cionalni okvirni kurikulum za predškolski odgoj i obrazovanje te opće obvezno i srednjoškolsko obrazovanje, Ministarstvo znanosti, obrazovanja i športa, Zagreb, 201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Curić, Z.: Elementi, oblici i kriteriji vrednovanja i ocjenjivanja u nastavi geografije, Međužupanijski skup učitelja i nastavnika geografije, Zagreb, srpanj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Curić, Z.: Motivacija i ishodi učenja, ŽSV učitelja Brodsko-posavske županije, Slavonski Brod, prosinac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terc, S.: Grafičke metode u nastavi, Školska knjiga, Zagreb, 19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išt, M.: Vrednovanje projekata i plakata, AZOO, Podružnica Osij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http://www.stkpula.hr/globe/projekti/miniprojekt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brazac za samovrednovanje prezentacije seminarskog rada: </a:t>
            </a:r>
            <a:r>
              <a:rPr b="0" lang="hr-H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fri.uniri.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horter University, College of Adult and Professional Programs: Presentation Evaluation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http://www.shorter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nježana Koren: Samostalni istraživački radovi u osnovnoj i srednjim ško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hrcak.srce.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I.OŠ Bjelo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6920" y="2205000"/>
            <a:ext cx="6913800" cy="1557000"/>
          </a:xfrm>
          <a:prstGeom prst="rect">
            <a:avLst/>
          </a:prstGeom>
          <a:solidFill>
            <a:srgbClr val="cbd3c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Ljude ne možemo ničemu pouči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ožemo im samo pomoći da to otkriju u seb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alileo Galil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4797360"/>
            <a:ext cx="3095640" cy="368280"/>
          </a:xfrm>
          <a:prstGeom prst="rect">
            <a:avLst/>
          </a:prstGeom>
          <a:solidFill>
            <a:srgbClr val="f19797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vala na pozornos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1268280"/>
            <a:ext cx="4038480" cy="3097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Geografske vješt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rtanje i analiza dijagrama, klimadijagrama, kartograma, uporaba GPS uređaja, kartiranje, skiciranje, anketiranje, snimanje, izrada plakata, referati, prezentacije, snalaženje (orijentacija) u prostoru (terenska nastava)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532908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K – prirodoslovno područj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gojno – obrazovni ciljevi područ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čiti raspravljati o pokusima, analizirati, vrjednovati i tumačiti prikupljene podatke, znati prikazati rezultate opažanja i mjerenja grafikonom, tablicom, matematičkim izrazom, tematskom kar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zviti kartografsku pismenost, koristiti se informacijskom tehnologijom u prikupljanju, obradi i prikazivanju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čekivana učenička postignuća po obrazovnim ciklu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484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gi cikl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2. Istraživanja i komunic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kazati rezultate pokusa crtežom, tablicom ili jednostavnim grafiko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I.5. Predočavanje pojava i prostornih proc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očiti pojave i prostorne procese jednostavnijim grafikonima i tematskim kart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ći cikl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2. Istraživanja i komunic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kazati rezultate (opažanja i/ili mjerenja) tablicom, grafički, matematičkim izrazom,karto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kom objašnjavanja prirodnih pojava i procesa te prikazivanja rezultata pokusa (ili promatranja) koristiti se prirodoslovnim pojmovima i modelima te podatcima (dobivenim mjerenjem) predočenima u tablicama i grafiko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I.5. Predočavanje pojava i prostornih proc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temelju zadanih podataka predočiti pojave i prostorne procese nacrtima (skicama), grafikonima, tablicama i tematskim kart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čekivana učenička postignuća po obrazovnim ciklu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etvrti cik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. 2. Istraživanja i komuniciran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izirati primjere izvedenih pokusa i primijeniti metode obrade i prikazivanja rezult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I.5. Predočavanje prostornih pojava i proce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očiti pojave i prostorne procese na temelju zadanih podataka predočiti nacrtima (skicama), grafikonima, tablicama i tematskim kart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biti jednostavne računalne programe za predočavanje prostornih pojava i proc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8448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etvrti ciklus (gimnazij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.2. Istraživanja i komunicir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ristiti se informacijskom tehnologijom u sakupljanju, obradi i prikazivanju podata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I.5. Predočavanje prostornih pojava i proce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očiti pojave i prostorne procese na temelju zadanih i samostalno prikupljenih podataka koristeći se nacrtima (skicama), grafikonima, tablicama, tematskim kartama i računalnim program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biti jednostavne računalne programe za predočavanje prostornih pojava i proc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316872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fički prika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76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čki iz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e: izrav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zrav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476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inijski dij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bno-spolna pira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limadij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užni dijagra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3280" y="549000"/>
            <a:ext cx="3024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fički prika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84000" y="2276280"/>
            <a:ext cx="4248360" cy="2881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jagram je grafička predodžba kojom se pomoću točaka, linija, geometrijskih likova i tijela, razmjerno točno prema podacima, u prostornom i površinskom pravokutnom, polarnom i triangularnom sustavu ili izvan njih prikazuju stanja, strukture, veze, procesi i odno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07:43:23Z</dcterms:created>
  <dc:creator>sburcar</dc:creator>
  <dc:description/>
  <dc:language>en-US</dc:language>
  <cp:lastModifiedBy>PC</cp:lastModifiedBy>
  <dcterms:modified xsi:type="dcterms:W3CDTF">2011-09-01T02:18:02Z</dcterms:modified>
  <cp:revision>69</cp:revision>
  <dc:subject/>
  <dc:title>Međužupanijski stručni skup  učitelja i nastavnika geografije Virovitičko-podravske, Požeško-slavonske i Osječko-baranjske županije </dc:title>
</cp:coreProperties>
</file>